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9D31-E802-4015-A6BF-CB6E46F00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service (human readable) ??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service (human readable) ??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service (human readable) ??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service (human readable) ??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service (human readable) ??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 messages, in turn, refer back to OWL-S input/outpu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service (human readable) ??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service (human readable) ??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s: . W3C status . potential for wide adoption . well-defined semantics . large tool base, which will continue to grow and be supported . SWS require the use of domain ontologies, many will be rep'n in OWL. They will be easily exploited and integr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s: . restricted expressive power, in particular lack of variables, quantifiers.... means many aspects of SWS cannot be adequately expressed within the language . not clear the reasoning in typical DL-style reasoners results in the most natural formulation of problems SWS are interested 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ies to tie in with UDDI, etc., with a more expressive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 of properties that are important for match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nts: degree of dependence on IOPEs, degree of fidelity to proces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taxonom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SDL Bind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AP 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 GET / POST (see Section 4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E (see Section 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 from third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anna Bryson, AAMA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ent-Based Composite Services in OWL-S: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r-Oriented Design of an Intelligent Semantic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les Abela, David Butler (Georgia Te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service (human readable) ??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s: . W3C status . potential for wide adoption . well-defined semantics . large tool base, which will continue to grow and be supported . SWS require the use of domain ontologies, many will be rep'n in OWL. They will be easily exploited and integr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s: . restricted expressive power, in particular lack of variables, quantifiers.... means many aspects of SWS cannot be adequately expressed within the language . not clear the reasoning in typical DL-style reasoners results in the most natural formulation of problems SWS are interested 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s: . W3C status . potential for wide adoption . well-defined semantics . large tool base, which will continue to grow and be supported . SWS require the use of domain ontologies, many will be rep'n in OWL. They will be easily exploited and integr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s: . restricted expressive power, in particular lack of variables, quantifiers.... means many aspects of SWS cannot be adequately expressed within the language . not clear the reasoning in typical DL-style reasoners results in the most natural formulation of problems SWS are interested 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s: . W3C status . potential for wide adoption . well-defined semantics . large tool base, which will continue to grow and be supported . SWS require the use of domain ontologies, many will be rep'n in OWL. They will be easily exploited and integr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s: . restricted expressive power, in particular lack of variables, quantifiers.... means many aspects of SWS cannot be adequately expressed within the language . not clear the reasoning in typical DL-style reasoners results in the most natural formulation of problems SWS are interested 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service (human readable) ??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489-33DA-43A5-BAE8-12B52AF3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4B63-09D8-4C9B-AB19-B1D9254A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04BF-3538-4807-9CC0-34FFE138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6AF-559C-40E1-8B65-3B303901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20A-9048-4798-B41B-479B13B6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D19-A7B7-4BFA-B7DC-6B2B4741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A324-8C10-4F02-ABFA-BF2F67CE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E38E-72C6-4D4E-8C68-A56DF8C4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BB8-2142-4F58-BFC0-9175C7BF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C09-5AAC-4590-81C4-7E4990A6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3689-7646-403F-BD15-35E9226E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3CF9-667D-4564-B965-91CF0DF6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268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553080"/>
            <a:ext cx="350496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948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68D2-63BC-4253-9D86-286B70394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mygrid.man.ac.uk/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daml.org/services/" TargetMode="External"/><Relationship Id="rId2" Type="http://schemas.openxmlformats.org/officeDocument/2006/relationships/hyperlink" Target="http://www.daml.org/services/" TargetMode="External"/><Relationship Id="rId3" Type="http://schemas.openxmlformats.org/officeDocument/2006/relationships/hyperlink" Target="http://www.daml.org/services/" TargetMode="External"/><Relationship Id="rId4" Type="http://schemas.openxmlformats.org/officeDocument/2006/relationships/hyperlink" Target="http://mygrid.man.ac.uk/" TargetMode="External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daml.org/services/owl-s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77880"/>
            <a:ext cx="8305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OWL-S Straw Proposal</a:t>
            </a:r>
            <a:br>
              <a:rPr sz="40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Presentation to SWSL Committee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23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42667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vid Mart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 Burst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ew McDerm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 McGuin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eila McIlra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simo Paoluc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jan Par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EA5-2FE8-4F3F-837A-74630284196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47840" y="1287360"/>
            <a:ext cx="837216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pports 2 styles of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Class-hierarchical “yellow pages++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it capability characte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ngement of attributes on class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multiple 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es primarily on “non-functional”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Process summaries for planning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, outputs, preconditions,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reliance on formal hierarchical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zes process model sp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 leverages work on DL-based match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leverages work on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66"/>
                </a:solidFill>
                <a:uFillTx/>
                <a:latin typeface="Arial"/>
              </a:rPr>
              <a:t>Profile Features (1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5A4-755F-4DD0-A402-4C658958CE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28400" y="1488960"/>
            <a:ext cx="837252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can be multiple profiles for a service;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ach loosely related to 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for adverts tailored to different contexts and aud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for advertising at the right level of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y automatic generation and consistency checking of profile not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66"/>
                </a:solidFill>
                <a:uFillTx/>
                <a:latin typeface="Arial"/>
              </a:rPr>
              <a:t>Profile Features (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D5E-61DF-4CE1-AB05-888B90406E5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28400" y="1488960"/>
            <a:ext cx="837252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me representation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rvice adverti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rvice re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ful in constructing matchmakers, bro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66"/>
                </a:solidFill>
                <a:uFillTx/>
                <a:latin typeface="Arial"/>
              </a:rPr>
              <a:t>Profile Features (3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DCA9-31C2-4BD7-A128-042719BD0B2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6400" y="520200"/>
            <a:ext cx="77724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vice Model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How does it work?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39840" y="1445760"/>
            <a:ext cx="8804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pretable description of service provider’s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service user how and when to interact (read/write mess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amp; Pro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tology of process state; supports status que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tubbed out at pres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e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invocation, planning/composi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interop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monito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processe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s, outputs, preconditions and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/dataflow metaphor; action/process metap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it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22860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Process Model (overvie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31A5-8345-4928-980B-A8A06ACB892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Service Model / Process Model (overvi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8880" y="1284120"/>
            <a:ext cx="7488360" cy="518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0338-6000-4CB1-8C87-DE328A5D3A4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6400" y="520200"/>
            <a:ext cx="77724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vice Model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How does it work?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9840" y="2057400"/>
            <a:ext cx="88041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pression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lation between outputs and eff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ataflow and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rface syn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22860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Process Model: Recent Prog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FD8-56E6-43C7-93EB-93538523224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Process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process rdf:ID="order_movemen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asInpu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Input rdf:ID="des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parameterType rdf:ID="&amp;mil;location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Inpu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asInpu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asOutpu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Output rdf:ID="ackno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asOutpu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asPrecondition&gt;...&lt;/hasPrecondi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asResul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Result rdf:resource="#movement_success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Result rdf:resource="#movement_fai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asResul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proces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EF3B-9356-45F7-89F1-1123BD0420A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Result rdf:ID="movement_succe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inCondition rdf:datatype="&amp;xsd;#string“ lang=“Kif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@mil:motion_pos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inCondi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withOutpu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Bindin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heParam rdf:resource="ackno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valueForm rdf:datatype="&amp;xsd;#boolean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value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indin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withOutpu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asEffect rdf:datatype="&amp;xsd;#strin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ocation ?d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asEffec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Resul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E1A-3E8E-456E-9ED2-EBE0383BC08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edding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treat expressions in logical languages as literals, to avoid any danger of “accidental”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broad classes: XML literals and “oth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mer are for SWRL and DRS expressions, the latter for KiF, PDDL, etc. express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AED-CD9F-4DC7-9755-4BE528A1757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Result rdf:ID="movement_failur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inCondition rdf:parseType="Literal“ lang=“DRS”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rs:No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rs:term_args rdf:parseType="Collection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rs:Atomic_formul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rdf:predicate rdf:resource="&amp;mil;motion_possible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drs:Atomic_formul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drs:term_arg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drs:No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inCondi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withOut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inding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heParam rdf:resource="ackno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valueForm rdf:datatype="&amp;xsd;#boolean"&gt;false&lt;/valueForm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Binding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withOutpu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Resul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CD76-305F-4717-BC37-BACF65C4F7F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003320"/>
            <a:ext cx="8372520" cy="53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verview &amp; Features of OWL-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Proc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Gro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s with commercial Web service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, applications &amp; relate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ing to other SWSL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dmap for SWSL use of OWL-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2CCD-CDD0-4B35-A38F-46331893FD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equence rdf:parseType="Collection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Perform rdf:ID="step1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process rdf:resource="#Generate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Perform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Perform rdf:ID="step2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process rdf:resource="#Consum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hasBinding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InputBinding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heParam rdf:resource="#consumee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valueForm parseType="Literal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ValueOf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heVar rdf:resource="#producee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romProcess rdf:resource="#step1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ValueOf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valueForm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InputBinding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hasBinding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Perform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65840" y="13716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utp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duc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08640" y="2187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02640" y="279720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s input para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onsum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37240" y="355932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876920" y="16765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17524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933960" y="3200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800600" y="320040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3200" y="5029200"/>
            <a:ext cx="399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is this a Liter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ression can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3276360" y="4114440"/>
            <a:ext cx="1447560" cy="1143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B8D7-EE70-42DD-9F8F-ABAA7F99E3E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ty is great, but …RDF is tough to read and wr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1120" y="340992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1: Step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2(consumee &lt;= do1.produce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54E3-A639-4EED-BF1D-FF63836CD86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Synta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illa conventions; infix notation, more C-like than Lisp-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expressions now don’t have to be quoted in a funn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parameter values writt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ep.pa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parameter bindings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ram &lt;= 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5971-DAEE-4A05-B2C4-8EE7F3750A7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28400" y="1179360"/>
            <a:ext cx="837252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puts/outputs have OWL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OWL-S processes are part of the Semantic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Rich data modeling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Convenient and natural for (SW)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OWL and SWRL reasoners / tools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ness of DL-based (subsumption) reasoning with process modeling not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resolved issues about grounding of OWL types to WSDL messag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Process Model featur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B0E9-CB58-48A3-AD6B-E36ECA4E357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28400" y="1179360"/>
            <a:ext cx="837252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tology-based process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lows for inheritance hierarchy of processes (e.g. MIT process handbo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y be useful for tools (search?, internal representations, interch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WL expressiveness limitations force a cumbersome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Process Model featur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A11A-1DEC-44E0-8A58-7DD5104E39A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Service Grounding 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(overvi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9520" y="1465200"/>
            <a:ext cx="836748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-specif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formatting, transport mechanisms, protocols, serializations of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Model + Grounding give everything needed for using th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s upon WS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EF5E-3F7C-4DE7-8C2E-110E422DAC0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OWL-S / WSDL Grounding (overvi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6960" y="2095560"/>
            <a:ext cx="8366040" cy="354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0F0-DBA3-45A4-9F6A-2F2274F1438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28400" y="1179360"/>
            <a:ext cx="837252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liance on WS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Allows for use of SWS with 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Reuse of WSDL work on signatures, binding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details can be somewhat awkwa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use of XSLT scripts often 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 is needed on some aspects of the OWL-S / WSDL mapping (e.g., exceptions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DL 2.0 will allow arbitrary M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” has different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Grounding Featur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E89-4F1C-4696-8CEB-FFF13E7E128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28400" y="1179360"/>
            <a:ext cx="837252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pping of OWL-S IO to WSDL Message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Reuse of WSDL work on signatures, binding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resolved issues about grounding of OWL types to WSDL messag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Grounding Featur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C65-0F7D-4E35-83ED-CCC9EC46AFB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003320"/>
            <a:ext cx="8372520" cy="53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&amp; Features of OWL-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lationships with commercial Web service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75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Registry-based discovery work (e.g. UDDI) recognizes the need for a basis for matchm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Several matchmaking approaches have been developed using OWL-S and (at least one) integrated with UD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Organizing services in class hierarchies ties in with some industry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75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Grounded Atomic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, applications &amp; relate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ing to other SWSL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dmap for SWSL use of OWL-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AFF6-D437-4208-A9D6-E1B6830B9D8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28400" y="1166400"/>
            <a:ext cx="83725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sed on OWL (DL) ontology of services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th selected uses of rules (SWRL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OWL-S services are part of the Semantic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S require the use of domain ontologies; many will be rep'n in OWL; these will be easily exploited and integ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3C status; potential for wide ad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Can make direct use of OWL and SW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 data modeling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Convenient and natural for (SW)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OWL and SWRL reasoners / tools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ed expressive power: some aspects of SWS cannot be adequately expressed within th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General Features of OWL-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7A2-8D5F-4811-9162-0EC8AC95B2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flipH="1">
            <a:off x="841320" y="2583000"/>
            <a:ext cx="1160640" cy="59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78440" y="1625760"/>
            <a:ext cx="1160280" cy="59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11280" y="1612800"/>
            <a:ext cx="1160640" cy="59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67080" y="2552760"/>
            <a:ext cx="644400" cy="154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059080" y="2527200"/>
            <a:ext cx="22860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02400" y="2514600"/>
            <a:ext cx="273528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Exploiting Taxonomies of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1240" y="1224000"/>
            <a:ext cx="175212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6280" y="2201760"/>
            <a:ext cx="2120760" cy="7038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Provid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17200" y="3151080"/>
            <a:ext cx="179460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4400" y="5479920"/>
            <a:ext cx="182376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67320" y="2201760"/>
            <a:ext cx="173808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560" y="3165480"/>
            <a:ext cx="145476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89880" y="4108320"/>
            <a:ext cx="2008080" cy="7038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Produ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75880" y="4460760"/>
            <a:ext cx="93204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11760" y="2622600"/>
            <a:ext cx="986040" cy="18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98760" y="320688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duct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5080" y="4035600"/>
            <a:ext cx="1735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ysicalProduct+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nufacturer+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liveryRegion*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liveryProvider*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livery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56000" y="3121200"/>
            <a:ext cx="100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ysical_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duct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73320" y="5435640"/>
            <a:ext cx="191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ransportationMode+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ographicRegion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44280" y="453564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ysicalProduct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4200" y="5200560"/>
            <a:ext cx="41148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 in with UDDI, UNSPSC, 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L Basis for matchmak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profiles; multiple taxonom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95880" y="1087560"/>
            <a:ext cx="1643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vid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le+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gResponseTim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88040" y="1265400"/>
            <a:ext cx="152100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77000" y="1258920"/>
            <a:ext cx="146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eBasis+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ymentMethod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83360" y="1695600"/>
            <a:ext cx="306360" cy="59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784920" y="1719360"/>
            <a:ext cx="293760" cy="577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BEA-43DF-4C74-AC3C-AAA68E951DB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Grounded Atomic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12720" y="3081240"/>
            <a:ext cx="6515280" cy="30560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22280" y="1824120"/>
            <a:ext cx="6515280" cy="30556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99000" y="2293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esources/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51400" y="5925960"/>
            <a:ext cx="2342880" cy="52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75000" y="1600200"/>
            <a:ext cx="2343240" cy="52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OWL-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11240" y="230364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roc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25640" y="338940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Atomic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0920" y="417996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96000" y="4167360"/>
            <a:ext cx="23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81520" y="336708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nputs /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46200" y="51894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inding to SOAP, HT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87560" y="3819600"/>
            <a:ext cx="276480" cy="431640"/>
          </a:xfrm>
          <a:prstGeom prst="upDownArrow">
            <a:avLst>
              <a:gd name="adj1" fmla="val 50000"/>
              <a:gd name="adj2" fmla="val 3107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30840" y="3807000"/>
            <a:ext cx="274680" cy="431640"/>
          </a:xfrm>
          <a:prstGeom prst="upDownArrow">
            <a:avLst>
              <a:gd name="adj1" fmla="val 50000"/>
              <a:gd name="adj2" fmla="val 3128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915160" y="2711160"/>
            <a:ext cx="0" cy="57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046320" y="2759040"/>
            <a:ext cx="0" cy="58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690800" y="4573440"/>
            <a:ext cx="1104840" cy="554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19320" y="4599000"/>
            <a:ext cx="855720" cy="54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4BC1-548E-423B-947E-BF387901AEE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003320"/>
            <a:ext cx="8372520" cy="53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&amp; Features of OWL-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s with commercial Web service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ools, applications &amp; 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dging to other SWSL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admap for SWSL use of OWL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56F7-BEA7-4F6C-BDE0-CAF8B42D8D4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11320" y="1600200"/>
            <a:ext cx="628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WL-S Authoring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SL OWL-S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WSDL2OWL-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nd-Swap Onto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b Service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OWL-S/UDDI Matchm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SL Semantic Discovery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OWL-S Bro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OWL-S for P2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utomatic WS In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OWL-S Virtual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b Service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nd-Swap Compo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SL Composition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MU Computer Buy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WL-S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 &amp;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D2F3-424B-4A1E-911B-E7E0BF96DCD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 &amp;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-S is just another OWL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tools &amp; technologies for OWL are 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lso the accompanying slid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OWL-S Tools and Applic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lso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aml.org/servic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Tools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233-6DD6-4A36-B3DC-D1D872A3881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Applic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OWL-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AR-TS demo (shown at SWM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U demo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el planning, Electronic parts buying, DAMLzo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og composi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MyGrid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Courier New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Courier New"/>
                <a:hlinkClick r:id="rId2"/>
              </a:rPr>
              <a:t>mygrid.man.ac.uk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AgentCit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Courier New"/>
                <a:hlinkClick r:id="rId3"/>
              </a:rPr>
              <a:t>www.agentcities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Task Computing (Fujitsu Labs with MINDSW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r demo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(http://www.mindswap.org/~evren/composer/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MyCampus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Courier New"/>
                <a:hlinkClick r:id="rId4"/>
              </a:rPr>
              <a:t>http://128.2.199.68/pro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 Mobile Services (UMBC/Fin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B01A-2145-4121-BE8D-83736C3A4D8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36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ML-S/OWL-S 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nd varied, tying in with several research areas &amp;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aml.org/services/owl-s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partial l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Ilraith &amp; Narayanan: “Simulation, Verification and Automated Composition of Web Servic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kolekar, Huch, Sycara: “Concurrent Execution Semantics for DAML-S with Subtyp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BC9-5A26-4F21-B71A-B3AC071DDDD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003320"/>
            <a:ext cx="8372520" cy="53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&amp; Features of OWL-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s with commercial Web service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&amp; relate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Financial transactio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mazon example: see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WL-S-Amazon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ravel service scenario: see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WL-S-Composition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WS Discovery (propo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ing to other SWSL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dmap for SWSL use of OWL-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6951-8961-4207-A03F-81E5E2A83BA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003320"/>
            <a:ext cx="8372520" cy="53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&amp; Features of OWL-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s with commercial Web service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, applications &amp; 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idging to other SWSL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admap for SWSL use of OWL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35B-3074-4348-9D4D-C8D5EC56441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28400" y="1488960"/>
            <a:ext cx="837252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e of rules has potential to merge with Benjamin’s proposals re: contra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fine an “API” for composite process modeling (as suggested by Benja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Bridging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to other SWSL propos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C4C-3780-4CD4-9BBC-C5A5CBF7F37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28400" y="1166400"/>
            <a:ext cx="83725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sed on OWL (DL) ontology of services,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ith selected uses of rules (SWRL+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ness of DL-based reasoning with process modeling not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wieldy syntax (addressable by an OWL-S editor and/or surface languag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L has well-defined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L semantics do not capture all and only the intended interpretations of our OWL-S ontology (because we can't describe them within the language). Thus, there are unintended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General Features of OWL-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04A-F52E-471F-9444-07F8F7C064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003320"/>
            <a:ext cx="8372520" cy="53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&amp; Features of OWL-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s with commercial Web service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, applications &amp; 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dging to other SWSL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Roadmap for SWSL use of OWL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0E78-6C75-408B-AFB9-7774922DA46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003320"/>
            <a:ext cx="8372520" cy="53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he OWL-S Profile as the basis of our work on Advertising and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f it can be extended to provide a basis for contracting / negoti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he grounded atomic processes with I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oth out issues regarding OW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SDL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more natural approach for composite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ve it so as to accomodate IOPEs expressed using OWL / SWR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ge with grounded atomic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0117-C39C-416D-8FFB-0B32EA78B5C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28400" y="1166400"/>
            <a:ext cx="83725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ceptu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ly well-developed; represents significant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some rigour (could be addresse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General Features of OWL-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75E5-56AA-4AC8-90F7-672488655B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28400" y="1166400"/>
            <a:ext cx="83725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owing tool base and us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are what brings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se tools don't exploit the semantics of the language; they just use OWL-S as a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General Features of OWL-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E9AF-1745-41E8-9CCE-724A6F061C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28400" y="1166400"/>
            <a:ext cx="83725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level characterization/summary of a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hat does it do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ng advertisements, requi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ng service 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vice can have many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d service dis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selection (matchmak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0066"/>
                </a:solidFill>
                <a:uFillTx/>
                <a:latin typeface="Arial"/>
              </a:rPr>
              <a:t>Service Profile (overview)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29F2-E0F8-42DD-8E58-0D1333F425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Service Profile: Functionality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49200" y="1252440"/>
            <a:ext cx="7634520" cy="4978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5440" y="1555560"/>
            <a:ext cx="439416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Specification of what the service does in term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pre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s the top-leve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C83-DB87-45EB-A2ED-0F1AFFA178E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9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Service Profile: NonFunction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1647720"/>
            <a:ext cx="8007120" cy="5219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5932440"/>
            <a:ext cx="873612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supporting information about the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WL-S straw proposal for SW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AED-FAFA-4248-B28B-1952FECE4B5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03:14:07Z</dcterms:created>
  <dc:creator>sam</dc:creator>
  <dc:description/>
  <dc:language>en-US</dc:language>
  <cp:lastModifiedBy>David Martin</cp:lastModifiedBy>
  <dcterms:modified xsi:type="dcterms:W3CDTF">2004-05-23T06:56:32Z</dcterms:modified>
  <cp:revision>283</cp:revision>
  <dc:subject/>
  <dc:title>Draft Stick Proposal Presentation to SWSL Commmittee  May 13, 2004</dc:title>
</cp:coreProperties>
</file>