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CCC8-1372-4361-9063-FAEA1425207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s are given and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of them applies to the compositions of serv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 operations on services: Selected, Verified, Interoperated, Specified,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0AB-B8FB-48C3-ACF6-582DAB0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40A-9DD8-4CA2-AE46-B33382D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A5E-49C8-4EF5-83C6-54F93E16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14E-136D-4421-AC7F-77930568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098-AB9F-47EF-A4EC-3E85D9C4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C67-403C-4FB1-BFFC-C3764EE0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6B6-70E2-4CDD-86EA-182E664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1CC-FDEF-4EFB-BD88-E539089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459-21F4-4E1A-9D29-884B715E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57A-5E98-4C9F-A6E6-CC49F1B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04E-C53B-4A39-AEF2-CC1FDF1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753-6FCA-475B-A7A7-C2351E4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1A0B-DC64-4858-9596-4EB4896F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ahoma"/>
              </a:rPr>
              <a:t>OWL-S Tools and Application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349200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WL-S Coal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ssimo Paol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ch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2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Three Models of Discove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05520" y="1676520"/>
            <a:ext cx="3200400" cy="1600200"/>
            <a:chOff x="5105520" y="1676520"/>
            <a:chExt cx="3200400" cy="160020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105520" y="1676520"/>
              <a:ext cx="990360" cy="81576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67480" y="1676520"/>
              <a:ext cx="8384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172200" y="2590920"/>
              <a:ext cx="1143000" cy="685800"/>
            </a:xfrm>
            <a:prstGeom prst="can">
              <a:avLst>
                <a:gd name="adj" fmla="val 25000"/>
              </a:avLst>
            </a:prstGeom>
            <a:solidFill>
              <a:srgbClr val="8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chm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6" idx="2"/>
              <a:endCxn id="78" idx="2"/>
            </p:cNvCxnSpPr>
            <p:nvPr/>
          </p:nvCxnSpPr>
          <p:spPr>
            <a:xfrm>
              <a:off x="5600520" y="2492280"/>
              <a:ext cx="572040" cy="44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7" idx="2"/>
              <a:endCxn id="78" idx="4"/>
            </p:cNvCxnSpPr>
            <p:nvPr/>
          </p:nvCxnSpPr>
          <p:spPr>
            <a:xfrm flipH="1">
              <a:off x="7314840" y="2495160"/>
              <a:ext cx="572400" cy="438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76" idx="3"/>
              <a:endCxn id="77" idx="1"/>
            </p:cNvCxnSpPr>
            <p:nvPr/>
          </p:nvCxnSpPr>
          <p:spPr>
            <a:xfrm>
              <a:off x="6095880" y="2084400"/>
              <a:ext cx="13723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3819600"/>
            <a:ext cx="838080" cy="81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772400" y="3821040"/>
            <a:ext cx="990720" cy="81612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205680" y="3809880"/>
            <a:ext cx="880920" cy="838440"/>
          </a:xfrm>
          <a:prstGeom prst="rect">
            <a:avLst/>
          </a:prstGeom>
          <a:ln w="0">
            <a:noFill/>
          </a:ln>
        </p:spPr>
      </p:pic>
      <p:cxnSp>
        <p:nvCxnSpPr>
          <p:cNvPr id="85" name=""/>
          <p:cNvCxnSpPr>
            <a:stCxn id="82" idx="3"/>
            <a:endCxn id="84" idx="1"/>
          </p:cNvCxnSpPr>
          <p:nvPr/>
        </p:nvCxnSpPr>
        <p:spPr>
          <a:xfrm>
            <a:off x="5410080" y="4228920"/>
            <a:ext cx="796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4" idx="3"/>
            <a:endCxn id="83" idx="1"/>
          </p:cNvCxnSpPr>
          <p:nvPr/>
        </p:nvCxnSpPr>
        <p:spPr>
          <a:xfrm>
            <a:off x="7086240" y="4228920"/>
            <a:ext cx="686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7" name=""/>
          <p:cNvGrpSpPr/>
          <p:nvPr/>
        </p:nvGrpSpPr>
        <p:grpSpPr>
          <a:xfrm>
            <a:off x="4267080" y="4876920"/>
            <a:ext cx="4572000" cy="1838520"/>
            <a:chOff x="4267080" y="4876920"/>
            <a:chExt cx="4572000" cy="1838520"/>
          </a:xfrm>
        </p:grpSpPr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5105520" y="55530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5105520" y="608652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6019920" y="5562720"/>
              <a:ext cx="83808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tretch/>
          </p:blipFill>
          <p:spPr>
            <a:xfrm>
              <a:off x="7467480" y="541008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7467480" y="594360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1"/>
            <a:stretch/>
          </p:blipFill>
          <p:spPr>
            <a:xfrm>
              <a:off x="8458200" y="57150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2"/>
            <a:stretch/>
          </p:blipFill>
          <p:spPr>
            <a:xfrm>
              <a:off x="8458200" y="487692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8458200" y="52578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8458200" y="6172200"/>
              <a:ext cx="380880" cy="314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7" name=""/>
            <p:cNvCxnSpPr>
              <a:stCxn id="90" idx="3"/>
              <a:endCxn id="91" idx="1"/>
            </p:cNvCxnSpPr>
            <p:nvPr/>
          </p:nvCxnSpPr>
          <p:spPr>
            <a:xfrm flipV="1">
              <a:off x="6857640" y="5567040"/>
              <a:ext cx="610200" cy="405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90" idx="3"/>
              <a:endCxn id="92" idx="1"/>
            </p:cNvCxnSpPr>
            <p:nvPr/>
          </p:nvCxnSpPr>
          <p:spPr>
            <a:xfrm>
              <a:off x="6857640" y="5972040"/>
              <a:ext cx="610200" cy="129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stCxn id="91" idx="3"/>
              <a:endCxn id="94" idx="1"/>
            </p:cNvCxnSpPr>
            <p:nvPr/>
          </p:nvCxnSpPr>
          <p:spPr>
            <a:xfrm flipV="1">
              <a:off x="7848360" y="5033520"/>
              <a:ext cx="610200" cy="534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3"/>
              <a:endCxn id="95" idx="1"/>
            </p:cNvCxnSpPr>
            <p:nvPr/>
          </p:nvCxnSpPr>
          <p:spPr>
            <a:xfrm flipV="1">
              <a:off x="7848360" y="5414400"/>
              <a:ext cx="610200" cy="153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2" idx="3"/>
              <a:endCxn id="93" idx="1"/>
            </p:cNvCxnSpPr>
            <p:nvPr/>
          </p:nvCxnSpPr>
          <p:spPr>
            <a:xfrm flipV="1">
              <a:off x="7848360" y="5871600"/>
              <a:ext cx="610200" cy="22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2" idx="3"/>
              <a:endCxn id="96" idx="1"/>
            </p:cNvCxnSpPr>
            <p:nvPr/>
          </p:nvCxnSpPr>
          <p:spPr>
            <a:xfrm>
              <a:off x="7848360" y="6100560"/>
              <a:ext cx="610200" cy="229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267080" y="59342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267080" y="509580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267080" y="54770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267080" y="6391440"/>
              <a:ext cx="381240" cy="314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7" name=""/>
            <p:cNvCxnSpPr>
              <a:stCxn id="90" idx="1"/>
              <a:endCxn id="88" idx="3"/>
            </p:cNvCxnSpPr>
            <p:nvPr/>
          </p:nvCxnSpPr>
          <p:spPr>
            <a:xfrm flipH="1" flipV="1">
              <a:off x="5486040" y="5709960"/>
              <a:ext cx="534240" cy="26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88" idx="1"/>
              <a:endCxn id="104" idx="3"/>
            </p:cNvCxnSpPr>
            <p:nvPr/>
          </p:nvCxnSpPr>
          <p:spPr>
            <a:xfrm flipH="1" flipV="1">
              <a:off x="4647960" y="5252760"/>
              <a:ext cx="45792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88" idx="1"/>
              <a:endCxn id="105" idx="3"/>
            </p:cNvCxnSpPr>
            <p:nvPr/>
          </p:nvCxnSpPr>
          <p:spPr>
            <a:xfrm flipH="1" flipV="1">
              <a:off x="4647960" y="5634000"/>
              <a:ext cx="457920" cy="76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89" idx="1"/>
              <a:endCxn id="103" idx="3"/>
            </p:cNvCxnSpPr>
            <p:nvPr/>
          </p:nvCxnSpPr>
          <p:spPr>
            <a:xfrm flipH="1" flipV="1">
              <a:off x="4647960" y="6090480"/>
              <a:ext cx="457920" cy="153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89" idx="1"/>
              <a:endCxn id="106" idx="3"/>
            </p:cNvCxnSpPr>
            <p:nvPr/>
          </p:nvCxnSpPr>
          <p:spPr>
            <a:xfrm flipH="1">
              <a:off x="4647960" y="6243120"/>
              <a:ext cx="457920" cy="305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0" idx="1"/>
              <a:endCxn id="89" idx="3"/>
            </p:cNvCxnSpPr>
            <p:nvPr/>
          </p:nvCxnSpPr>
          <p:spPr>
            <a:xfrm flipH="1">
              <a:off x="5486040" y="5972040"/>
              <a:ext cx="534240" cy="2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4" idx="0"/>
              <a:endCxn id="90" idx="0"/>
            </p:cNvCxnSpPr>
            <p:nvPr/>
          </p:nvCxnSpPr>
          <p:spPr>
            <a:xfrm flipH="1" rot="16200000">
              <a:off x="5214600" y="4337640"/>
              <a:ext cx="467640" cy="1981800"/>
            </a:xfrm>
            <a:prstGeom prst="curvedConnector5">
              <a:avLst>
                <a:gd name="adj1" fmla="val -42449"/>
                <a:gd name="adj2" fmla="val 50000"/>
                <a:gd name="adj3" fmla="val -42449"/>
              </a:avLst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96" idx="2"/>
              <a:endCxn id="90" idx="2"/>
            </p:cNvCxnSpPr>
            <p:nvPr/>
          </p:nvCxnSpPr>
          <p:spPr>
            <a:xfrm flipV="1" rot="16200000">
              <a:off x="7490880" y="5328360"/>
              <a:ext cx="105480" cy="2210400"/>
            </a:xfrm>
            <a:prstGeom prst="curvedConnector5">
              <a:avLst>
                <a:gd name="adj1" fmla="val -218150"/>
                <a:gd name="adj2" fmla="val 49991"/>
                <a:gd name="adj3" fmla="val -218150"/>
              </a:avLst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atching Engin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of all discovery mechanism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 Eng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Requester descrip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b Service to interact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ments of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Engine finds Web Service(s) that more closely fit the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is a flexible matching which shows the relation between advertisement and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: matching on additional proper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security requirements of Requester and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OWL-S 4 UDD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DI is the de-facto standard registry for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DI Provides keyword search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 CAPABILIT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find a WS that do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WL-S 4 UD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grates OWL-S Matching engine within UD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PROVIDES CAPABILIT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s on OWL-S semantic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10280" y="380880"/>
            <a:ext cx="1524240" cy="914040"/>
            <a:chOff x="7010280" y="380880"/>
            <a:chExt cx="1524240" cy="9140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010280" y="380880"/>
              <a:ext cx="471600" cy="46620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8135280" y="380880"/>
              <a:ext cx="39924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18240" y="903240"/>
              <a:ext cx="544320" cy="391680"/>
            </a:xfrm>
            <a:prstGeom prst="can">
              <a:avLst>
                <a:gd name="adj" fmla="val 25000"/>
              </a:avLst>
            </a:prstGeom>
            <a:solidFill>
              <a:srgbClr val="8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chm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>
              <a:stCxn id="120" idx="2"/>
              <a:endCxn id="122" idx="2"/>
            </p:cNvCxnSpPr>
            <p:nvPr/>
          </p:nvCxnSpPr>
          <p:spPr>
            <a:xfrm>
              <a:off x="7245720" y="847080"/>
              <a:ext cx="272520" cy="25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1" idx="2"/>
              <a:endCxn id="122" idx="4"/>
            </p:cNvCxnSpPr>
            <p:nvPr/>
          </p:nvCxnSpPr>
          <p:spPr>
            <a:xfrm flipH="1">
              <a:off x="8062200" y="848520"/>
              <a:ext cx="27288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0" idx="3"/>
              <a:endCxn id="121" idx="1"/>
            </p:cNvCxnSpPr>
            <p:nvPr/>
          </p:nvCxnSpPr>
          <p:spPr>
            <a:xfrm>
              <a:off x="7481880" y="613800"/>
              <a:ext cx="653760" cy="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26" name=""/>
          <p:cNvSpPr/>
          <p:nvPr/>
        </p:nvSpPr>
        <p:spPr>
          <a:xfrm rot="19603800">
            <a:off x="387000" y="536400"/>
            <a:ext cx="110736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33520" y="1828800"/>
            <a:ext cx="8381520" cy="4578480"/>
            <a:chOff x="533520" y="1828800"/>
            <a:chExt cx="8381520" cy="45784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838152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33520" y="1835280"/>
              <a:ext cx="838152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52480" y="3276720"/>
            <a:ext cx="3353040" cy="30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828"/>
              </a:gs>
              <a:gs pos="50000">
                <a:srgbClr val="009999"/>
              </a:gs>
              <a:gs pos="100000">
                <a:srgbClr val="002828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981080"/>
            <a:ext cx="2590920" cy="4572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Tahoma"/>
              </a:rPr>
              <a:t>Publish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UDDI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981080"/>
            <a:ext cx="2590920" cy="4572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Tahoma"/>
              </a:rPr>
              <a:t>Inquiry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UDDI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2"/>
            <a:endCxn id="130" idx="1"/>
          </p:cNvCxnSpPr>
          <p:nvPr/>
        </p:nvCxnSpPr>
        <p:spPr>
          <a:xfrm>
            <a:off x="1752120" y="2438280"/>
            <a:ext cx="1677240" cy="820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30" idx="1"/>
            <a:endCxn id="133" idx="2"/>
          </p:cNvCxnSpPr>
          <p:nvPr/>
        </p:nvCxnSpPr>
        <p:spPr>
          <a:xfrm flipV="1">
            <a:off x="3429000" y="2437920"/>
            <a:ext cx="1296000" cy="820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30" idx="4"/>
            <a:endCxn id="137" idx="8"/>
          </p:cNvCxnSpPr>
          <p:nvPr/>
        </p:nvCxnSpPr>
        <p:spPr>
          <a:xfrm flipV="1">
            <a:off x="5124240" y="4481280"/>
            <a:ext cx="1657800" cy="319680"/>
          </a:xfrm>
          <a:prstGeom prst="straightConnector1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 rot="10800000">
            <a:off x="2819520" y="4113720"/>
            <a:ext cx="2209680" cy="685800"/>
          </a:xfrm>
          <a:prstGeom prst="foldedCorner">
            <a:avLst>
              <a:gd name="adj" fmla="val 23435"/>
            </a:avLst>
          </a:prstGeom>
          <a:solidFill>
            <a:srgbClr val="00999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Tahoma"/>
              </a:rPr>
              <a:t>Green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Tahoma"/>
              </a:rPr>
              <a:t>Busines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 rot="10800000">
            <a:off x="2361240" y="4723200"/>
            <a:ext cx="2057400" cy="762120"/>
          </a:xfrm>
          <a:prstGeom prst="foldedCorner">
            <a:avLst>
              <a:gd name="adj" fmla="val 23435"/>
            </a:avLst>
          </a:prstGeom>
          <a:solidFill>
            <a:srgbClr val="0099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ahoma"/>
              </a:rPr>
              <a:t>Service Properties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 rot="10800000">
            <a:off x="1904040" y="5333040"/>
            <a:ext cx="1981080" cy="685800"/>
          </a:xfrm>
          <a:prstGeom prst="foldedCorner">
            <a:avLst>
              <a:gd name="adj" fmla="val 23435"/>
            </a:avLst>
          </a:pr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Tahoma"/>
              </a:rPr>
              <a:t>White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Tahoma"/>
              </a:rPr>
              <a:t>Ports and Bi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5760" y="3429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ahoma"/>
              </a:rPr>
              <a:t>Business Registry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zzle3"/>
          <p:cNvSpPr/>
          <p:nvPr/>
        </p:nvSpPr>
        <p:spPr>
          <a:xfrm>
            <a:off x="7488360" y="3733920"/>
            <a:ext cx="777600" cy="769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zzle2"/>
          <p:cNvSpPr/>
          <p:nvPr/>
        </p:nvSpPr>
        <p:spPr>
          <a:xfrm>
            <a:off x="7261200" y="4294080"/>
            <a:ext cx="1243080" cy="7016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uzzle4"/>
          <p:cNvSpPr/>
          <p:nvPr/>
        </p:nvSpPr>
        <p:spPr>
          <a:xfrm>
            <a:off x="6780240" y="4286160"/>
            <a:ext cx="749160" cy="895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zzle1"/>
          <p:cNvSpPr/>
          <p:nvPr/>
        </p:nvSpPr>
        <p:spPr>
          <a:xfrm>
            <a:off x="6523200" y="3967200"/>
            <a:ext cx="1258560" cy="5335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8"/>
          </p:cNvCxnSpPr>
          <p:nvPr/>
        </p:nvCxnSpPr>
        <p:spPr>
          <a:xfrm flipH="1" flipV="1">
            <a:off x="7810200" y="2371320"/>
            <a:ext cx="56160" cy="1350000"/>
          </a:xfrm>
          <a:prstGeom prst="straightConnector1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rot="1712400">
            <a:off x="6485760" y="37339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OWL inside</a:t>
            </a:r>
            <a:r>
              <a:rPr b="0" i="1" lang="en-US" sz="24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81080"/>
            <a:ext cx="2133720" cy="4572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Tahoma"/>
              </a:rPr>
              <a:t>Capability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0280" y="380880"/>
            <a:ext cx="1524240" cy="914040"/>
            <a:chOff x="7010280" y="380880"/>
            <a:chExt cx="1524240" cy="91404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010280" y="380880"/>
              <a:ext cx="471600" cy="46620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135280" y="380880"/>
              <a:ext cx="39924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18240" y="903240"/>
              <a:ext cx="544320" cy="391680"/>
            </a:xfrm>
            <a:prstGeom prst="can">
              <a:avLst>
                <a:gd name="adj" fmla="val 25000"/>
              </a:avLst>
            </a:prstGeom>
            <a:solidFill>
              <a:srgbClr val="8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chm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9" idx="2"/>
              <a:endCxn id="151" idx="2"/>
            </p:cNvCxnSpPr>
            <p:nvPr/>
          </p:nvCxnSpPr>
          <p:spPr>
            <a:xfrm>
              <a:off x="7245720" y="847080"/>
              <a:ext cx="272520" cy="25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50" idx="2"/>
              <a:endCxn id="151" idx="4"/>
            </p:cNvCxnSpPr>
            <p:nvPr/>
          </p:nvCxnSpPr>
          <p:spPr>
            <a:xfrm flipH="1">
              <a:off x="8062200" y="848520"/>
              <a:ext cx="27288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9" idx="3"/>
              <a:endCxn id="150" idx="1"/>
            </p:cNvCxnSpPr>
            <p:nvPr/>
          </p:nvCxnSpPr>
          <p:spPr>
            <a:xfrm>
              <a:off x="7481880" y="613800"/>
              <a:ext cx="653760" cy="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 rot="19603800">
            <a:off x="387000" y="536400"/>
            <a:ext cx="110736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4724280"/>
            <a:ext cx="2133360" cy="38124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Matching Engin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630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WL-S encoded in UDDI allows an expansions of the registry functionalities adding capability-based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WL-S4UDDI provide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lear evidence of the contribution of Semantic web to Web service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ollaboration with Toshiba (Japan), the DAML-S matchmaker is currently available on the NTT UDDI registry (Main UDDI provider in Jap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010280" y="380880"/>
            <a:ext cx="1524240" cy="914040"/>
            <a:chOff x="7010280" y="380880"/>
            <a:chExt cx="1524240" cy="914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7010280" y="380880"/>
              <a:ext cx="471600" cy="46620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8135280" y="380880"/>
              <a:ext cx="39924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18240" y="903240"/>
              <a:ext cx="544320" cy="391680"/>
            </a:xfrm>
            <a:prstGeom prst="can">
              <a:avLst>
                <a:gd name="adj" fmla="val 25000"/>
              </a:avLst>
            </a:prstGeom>
            <a:solidFill>
              <a:srgbClr val="8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chm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0" idx="2"/>
              <a:endCxn id="162" idx="2"/>
            </p:cNvCxnSpPr>
            <p:nvPr/>
          </p:nvCxnSpPr>
          <p:spPr>
            <a:xfrm>
              <a:off x="7245720" y="847080"/>
              <a:ext cx="272520" cy="25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1" idx="2"/>
              <a:endCxn id="162" idx="4"/>
            </p:cNvCxnSpPr>
            <p:nvPr/>
          </p:nvCxnSpPr>
          <p:spPr>
            <a:xfrm flipH="1">
              <a:off x="8062200" y="848520"/>
              <a:ext cx="27288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5" name=""/>
            <p:cNvCxnSpPr>
              <a:stCxn id="160" idx="3"/>
              <a:endCxn id="161" idx="1"/>
            </p:cNvCxnSpPr>
            <p:nvPr/>
          </p:nvCxnSpPr>
          <p:spPr>
            <a:xfrm>
              <a:off x="7481880" y="613800"/>
              <a:ext cx="653760" cy="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6" name=""/>
          <p:cNvSpPr/>
          <p:nvPr/>
        </p:nvSpPr>
        <p:spPr>
          <a:xfrm rot="19603800">
            <a:off x="387000" y="536400"/>
            <a:ext cx="110736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Semantic Discovery Servic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gu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must embrace representation and reasoning ideas from Semantic Web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also recognize evolutionary influence of industry standards and machinery on Semantic Web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is viewpoint, we build on BPEL4WS, a leading choreograph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e Semantic Web technology to enable automated service discovery, customization, and semantic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efforts take the form of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mantic Discovery Servi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integrating the SDS with BPWS4J, the industrial system gained the following 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c, runtime binding of service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between multiple service partners based on user-defined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ion of service partners with syntactically distinct but semantically translatable service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automate composition of Web services, which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defined operational semantics describing functional behavior of service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reasoning machinery to manipul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OWL-S Brok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 performs both discovery and mediation for a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ing OWL-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L-S Process Model describes an interaction between 2 parties: a provider and a re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ker introduces third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0" y="304920"/>
            <a:ext cx="1980720" cy="456840"/>
            <a:chOff x="6858000" y="304920"/>
            <a:chExt cx="1980720" cy="4568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858000" y="310320"/>
              <a:ext cx="37980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8390160" y="310320"/>
              <a:ext cx="448560" cy="44568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7597080" y="304920"/>
              <a:ext cx="398880" cy="456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7" name=""/>
            <p:cNvCxnSpPr>
              <a:stCxn id="174" idx="3"/>
              <a:endCxn id="176" idx="1"/>
            </p:cNvCxnSpPr>
            <p:nvPr/>
          </p:nvCxnSpPr>
          <p:spPr>
            <a:xfrm>
              <a:off x="7237800" y="532800"/>
              <a:ext cx="360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  <a:endCxn id="175" idx="1"/>
            </p:cNvCxnSpPr>
            <p:nvPr/>
          </p:nvCxnSpPr>
          <p:spPr>
            <a:xfrm>
              <a:off x="7996320" y="532800"/>
              <a:ext cx="3945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79" name=""/>
          <p:cNvSpPr/>
          <p:nvPr/>
        </p:nvSpPr>
        <p:spPr>
          <a:xfrm rot="19603800">
            <a:off x="387000" y="536400"/>
            <a:ext cx="110736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Extension to OWL-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loading of the 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roker publishes an initial Proc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the interaction the Broker communicates a new Proc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roker and the Requester adopt to the new Process Model for the rest of thei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step toward multiparty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mechanism can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ing A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ing transactions requiring third 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automatic composition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58000" y="304920"/>
            <a:ext cx="1980720" cy="456840"/>
            <a:chOff x="6858000" y="304920"/>
            <a:chExt cx="1980720" cy="456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6858000" y="310320"/>
              <a:ext cx="37980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8390160" y="310320"/>
              <a:ext cx="448560" cy="445680"/>
            </a:xfrm>
            <a:prstGeom prst="rect">
              <a:avLst/>
            </a:prstGeom>
            <a:ln w="9360">
              <a:solidFill>
                <a:srgbClr val="666633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7597080" y="304920"/>
              <a:ext cx="398880" cy="456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6" name=""/>
            <p:cNvCxnSpPr>
              <a:stCxn id="183" idx="3"/>
              <a:endCxn id="185" idx="1"/>
            </p:cNvCxnSpPr>
            <p:nvPr/>
          </p:nvCxnSpPr>
          <p:spPr>
            <a:xfrm>
              <a:off x="7237800" y="532800"/>
              <a:ext cx="3600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85" idx="3"/>
              <a:endCxn id="184" idx="1"/>
            </p:cNvCxnSpPr>
            <p:nvPr/>
          </p:nvCxnSpPr>
          <p:spPr>
            <a:xfrm>
              <a:off x="7996320" y="532800"/>
              <a:ext cx="3945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88" name=""/>
          <p:cNvSpPr/>
          <p:nvPr/>
        </p:nvSpPr>
        <p:spPr>
          <a:xfrm rot="19603800">
            <a:off x="387000" y="536400"/>
            <a:ext cx="110736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P2P Discove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entralized reg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DDI/Match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 based on message passing between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 ad-hoc networks and ubiquitous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switch from file-sharing to service-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43800" y="109440"/>
            <a:ext cx="1294560" cy="1152360"/>
            <a:chOff x="7543800" y="109440"/>
            <a:chExt cx="1294560" cy="115236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780680" y="5864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7780680" y="8085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8040960" y="590400"/>
              <a:ext cx="236880" cy="34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8449920" y="5270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8449920" y="7488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8730720" y="6537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8730720" y="30492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8730720" y="4629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8730720" y="844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01" name=""/>
            <p:cNvCxnSpPr>
              <a:stCxn id="194" idx="3"/>
              <a:endCxn id="195" idx="1"/>
            </p:cNvCxnSpPr>
            <p:nvPr/>
          </p:nvCxnSpPr>
          <p:spPr>
            <a:xfrm flipV="1">
              <a:off x="8277480" y="591840"/>
              <a:ext cx="17244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4" idx="3"/>
              <a:endCxn id="196" idx="1"/>
            </p:cNvCxnSpPr>
            <p:nvPr/>
          </p:nvCxnSpPr>
          <p:spPr>
            <a:xfrm>
              <a:off x="8277480" y="761040"/>
              <a:ext cx="172440" cy="5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3" name=""/>
            <p:cNvCxnSpPr>
              <a:stCxn id="195" idx="3"/>
              <a:endCxn id="198" idx="1"/>
            </p:cNvCxnSpPr>
            <p:nvPr/>
          </p:nvCxnSpPr>
          <p:spPr>
            <a:xfrm flipV="1">
              <a:off x="8557920" y="369360"/>
              <a:ext cx="173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5" idx="3"/>
              <a:endCxn id="199" idx="1"/>
            </p:cNvCxnSpPr>
            <p:nvPr/>
          </p:nvCxnSpPr>
          <p:spPr>
            <a:xfrm flipV="1">
              <a:off x="8557920" y="528480"/>
              <a:ext cx="17352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5" name=""/>
            <p:cNvCxnSpPr>
              <a:stCxn id="196" idx="3"/>
              <a:endCxn id="197" idx="1"/>
            </p:cNvCxnSpPr>
            <p:nvPr/>
          </p:nvCxnSpPr>
          <p:spPr>
            <a:xfrm flipV="1">
              <a:off x="8557920" y="71856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6" name=""/>
            <p:cNvCxnSpPr>
              <a:stCxn id="196" idx="3"/>
              <a:endCxn id="200" idx="1"/>
            </p:cNvCxnSpPr>
            <p:nvPr/>
          </p:nvCxnSpPr>
          <p:spPr>
            <a:xfrm>
              <a:off x="8557920" y="81432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>
              <a:off x="7543800" y="745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>
              <a:off x="7543800" y="3960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9" name="" descr=""/>
            <p:cNvPicPr/>
            <p:nvPr/>
          </p:nvPicPr>
          <p:blipFill>
            <a:blip r:embed="rId12"/>
            <a:stretch/>
          </p:blipFill>
          <p:spPr>
            <a:xfrm>
              <a:off x="7543800" y="5544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>
              <a:off x="7543800" y="9356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11" name=""/>
            <p:cNvCxnSpPr>
              <a:stCxn id="194" idx="1"/>
              <a:endCxn id="192" idx="3"/>
            </p:cNvCxnSpPr>
            <p:nvPr/>
          </p:nvCxnSpPr>
          <p:spPr>
            <a:xfrm flipH="1" flipV="1">
              <a:off x="7887960" y="650880"/>
              <a:ext cx="153000" cy="10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2" name=""/>
            <p:cNvCxnSpPr>
              <a:stCxn id="192" idx="1"/>
              <a:endCxn id="208" idx="3"/>
            </p:cNvCxnSpPr>
            <p:nvPr/>
          </p:nvCxnSpPr>
          <p:spPr>
            <a:xfrm flipH="1" flipV="1">
              <a:off x="7651440" y="460800"/>
              <a:ext cx="129240" cy="19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3" name=""/>
            <p:cNvCxnSpPr>
              <a:stCxn id="192" idx="1"/>
              <a:endCxn id="209" idx="3"/>
            </p:cNvCxnSpPr>
            <p:nvPr/>
          </p:nvCxnSpPr>
          <p:spPr>
            <a:xfrm flipH="1" flipV="1">
              <a:off x="7651440" y="619920"/>
              <a:ext cx="129240" cy="3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4" name=""/>
            <p:cNvCxnSpPr>
              <a:stCxn id="193" idx="1"/>
              <a:endCxn id="207" idx="3"/>
            </p:cNvCxnSpPr>
            <p:nvPr/>
          </p:nvCxnSpPr>
          <p:spPr>
            <a:xfrm flipH="1" flipV="1">
              <a:off x="7651440" y="810000"/>
              <a:ext cx="12924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5" name=""/>
            <p:cNvCxnSpPr>
              <a:stCxn id="193" idx="1"/>
              <a:endCxn id="210" idx="3"/>
            </p:cNvCxnSpPr>
            <p:nvPr/>
          </p:nvCxnSpPr>
          <p:spPr>
            <a:xfrm flipH="1">
              <a:off x="7651440" y="873720"/>
              <a:ext cx="129240" cy="12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6" name=""/>
            <p:cNvCxnSpPr>
              <a:stCxn id="194" idx="1"/>
              <a:endCxn id="193" idx="3"/>
            </p:cNvCxnSpPr>
            <p:nvPr/>
          </p:nvCxnSpPr>
          <p:spPr>
            <a:xfrm flipH="1">
              <a:off x="7887960" y="760680"/>
              <a:ext cx="153000" cy="11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8" idx="0"/>
              <a:endCxn id="194" idx="0"/>
            </p:cNvCxnSpPr>
            <p:nvPr/>
          </p:nvCxnSpPr>
          <p:spPr>
            <a:xfrm flipH="1" rot="16200000">
              <a:off x="7781400" y="210600"/>
              <a:ext cx="194760" cy="563400"/>
            </a:xfrm>
            <a:prstGeom prst="curvedConnector5">
              <a:avLst>
                <a:gd name="adj1" fmla="val -146851"/>
                <a:gd name="adj2" fmla="val 50000"/>
                <a:gd name="adj3" fmla="val -14685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18" name=""/>
            <p:cNvCxnSpPr>
              <a:stCxn id="200" idx="2"/>
              <a:endCxn id="194" idx="2"/>
            </p:cNvCxnSpPr>
            <p:nvPr/>
          </p:nvCxnSpPr>
          <p:spPr>
            <a:xfrm flipV="1" rot="16200000">
              <a:off x="8450640" y="640080"/>
              <a:ext cx="43920" cy="625320"/>
            </a:xfrm>
            <a:prstGeom prst="curvedConnector5">
              <a:avLst>
                <a:gd name="adj1" fmla="val -659504"/>
                <a:gd name="adj2" fmla="val 50000"/>
                <a:gd name="adj3" fmla="val -659504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Organization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jitso Tas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DAMLz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WL-S for Ama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981080"/>
            <a:ext cx="342900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Basic idea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Adverti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services advertise using P2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ers may store advert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ers broadcast requests for services using P2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rs match their capabilities with the request and respond when the match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Gnutell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543800" y="109440"/>
            <a:ext cx="1294560" cy="1152360"/>
            <a:chOff x="7543800" y="109440"/>
            <a:chExt cx="1294560" cy="11523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780680" y="5864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7780680" y="8085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8040960" y="590400"/>
              <a:ext cx="236880" cy="34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8449920" y="5270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8449920" y="7488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8730720" y="6537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8" name="" descr=""/>
            <p:cNvPicPr/>
            <p:nvPr/>
          </p:nvPicPr>
          <p:blipFill>
            <a:blip r:embed="rId7"/>
            <a:stretch/>
          </p:blipFill>
          <p:spPr>
            <a:xfrm>
              <a:off x="8730720" y="30492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8730720" y="4629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30" name="" descr=""/>
            <p:cNvPicPr/>
            <p:nvPr/>
          </p:nvPicPr>
          <p:blipFill>
            <a:blip r:embed="rId9"/>
            <a:stretch/>
          </p:blipFill>
          <p:spPr>
            <a:xfrm>
              <a:off x="8730720" y="844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31" name=""/>
            <p:cNvCxnSpPr>
              <a:stCxn id="224" idx="3"/>
              <a:endCxn id="225" idx="1"/>
            </p:cNvCxnSpPr>
            <p:nvPr/>
          </p:nvCxnSpPr>
          <p:spPr>
            <a:xfrm flipV="1">
              <a:off x="8277480" y="591840"/>
              <a:ext cx="17244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2" name=""/>
            <p:cNvCxnSpPr>
              <a:stCxn id="224" idx="3"/>
              <a:endCxn id="226" idx="1"/>
            </p:cNvCxnSpPr>
            <p:nvPr/>
          </p:nvCxnSpPr>
          <p:spPr>
            <a:xfrm>
              <a:off x="8277480" y="761040"/>
              <a:ext cx="172440" cy="5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3" name=""/>
            <p:cNvCxnSpPr>
              <a:stCxn id="225" idx="3"/>
              <a:endCxn id="228" idx="1"/>
            </p:cNvCxnSpPr>
            <p:nvPr/>
          </p:nvCxnSpPr>
          <p:spPr>
            <a:xfrm flipV="1">
              <a:off x="8557920" y="369360"/>
              <a:ext cx="173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4" name=""/>
            <p:cNvCxnSpPr>
              <a:stCxn id="225" idx="3"/>
              <a:endCxn id="229" idx="1"/>
            </p:cNvCxnSpPr>
            <p:nvPr/>
          </p:nvCxnSpPr>
          <p:spPr>
            <a:xfrm flipV="1">
              <a:off x="8557920" y="528480"/>
              <a:ext cx="17352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5" name=""/>
            <p:cNvCxnSpPr>
              <a:stCxn id="226" idx="3"/>
              <a:endCxn id="227" idx="1"/>
            </p:cNvCxnSpPr>
            <p:nvPr/>
          </p:nvCxnSpPr>
          <p:spPr>
            <a:xfrm flipV="1">
              <a:off x="8557920" y="71856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6" name=""/>
            <p:cNvCxnSpPr>
              <a:stCxn id="226" idx="3"/>
              <a:endCxn id="230" idx="1"/>
            </p:cNvCxnSpPr>
            <p:nvPr/>
          </p:nvCxnSpPr>
          <p:spPr>
            <a:xfrm>
              <a:off x="8557920" y="81432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237" name="" descr=""/>
            <p:cNvPicPr/>
            <p:nvPr/>
          </p:nvPicPr>
          <p:blipFill>
            <a:blip r:embed="rId10"/>
            <a:stretch/>
          </p:blipFill>
          <p:spPr>
            <a:xfrm>
              <a:off x="7543800" y="745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38" name="" descr=""/>
            <p:cNvPicPr/>
            <p:nvPr/>
          </p:nvPicPr>
          <p:blipFill>
            <a:blip r:embed="rId11"/>
            <a:stretch/>
          </p:blipFill>
          <p:spPr>
            <a:xfrm>
              <a:off x="7543800" y="3960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39" name="" descr=""/>
            <p:cNvPicPr/>
            <p:nvPr/>
          </p:nvPicPr>
          <p:blipFill>
            <a:blip r:embed="rId12"/>
            <a:stretch/>
          </p:blipFill>
          <p:spPr>
            <a:xfrm>
              <a:off x="7543800" y="5544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0" name="" descr=""/>
            <p:cNvPicPr/>
            <p:nvPr/>
          </p:nvPicPr>
          <p:blipFill>
            <a:blip r:embed="rId13"/>
            <a:stretch/>
          </p:blipFill>
          <p:spPr>
            <a:xfrm>
              <a:off x="7543800" y="9356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41" name=""/>
            <p:cNvCxnSpPr>
              <a:stCxn id="224" idx="1"/>
              <a:endCxn id="222" idx="3"/>
            </p:cNvCxnSpPr>
            <p:nvPr/>
          </p:nvCxnSpPr>
          <p:spPr>
            <a:xfrm flipH="1" flipV="1">
              <a:off x="7887960" y="650880"/>
              <a:ext cx="153000" cy="10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2" name=""/>
            <p:cNvCxnSpPr>
              <a:stCxn id="222" idx="1"/>
              <a:endCxn id="238" idx="3"/>
            </p:cNvCxnSpPr>
            <p:nvPr/>
          </p:nvCxnSpPr>
          <p:spPr>
            <a:xfrm flipH="1" flipV="1">
              <a:off x="7651440" y="460800"/>
              <a:ext cx="129240" cy="19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3" name=""/>
            <p:cNvCxnSpPr>
              <a:stCxn id="222" idx="1"/>
              <a:endCxn id="239" idx="3"/>
            </p:cNvCxnSpPr>
            <p:nvPr/>
          </p:nvCxnSpPr>
          <p:spPr>
            <a:xfrm flipH="1" flipV="1">
              <a:off x="7651440" y="619920"/>
              <a:ext cx="129240" cy="3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4" name=""/>
            <p:cNvCxnSpPr>
              <a:stCxn id="223" idx="1"/>
              <a:endCxn id="237" idx="3"/>
            </p:cNvCxnSpPr>
            <p:nvPr/>
          </p:nvCxnSpPr>
          <p:spPr>
            <a:xfrm flipH="1" flipV="1">
              <a:off x="7651440" y="810000"/>
              <a:ext cx="12924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5" name=""/>
            <p:cNvCxnSpPr>
              <a:stCxn id="223" idx="1"/>
              <a:endCxn id="240" idx="3"/>
            </p:cNvCxnSpPr>
            <p:nvPr/>
          </p:nvCxnSpPr>
          <p:spPr>
            <a:xfrm flipH="1">
              <a:off x="7651440" y="873720"/>
              <a:ext cx="129240" cy="12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6" name=""/>
            <p:cNvCxnSpPr>
              <a:stCxn id="224" idx="1"/>
              <a:endCxn id="223" idx="3"/>
            </p:cNvCxnSpPr>
            <p:nvPr/>
          </p:nvCxnSpPr>
          <p:spPr>
            <a:xfrm flipH="1">
              <a:off x="7887960" y="760680"/>
              <a:ext cx="153000" cy="11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7" name=""/>
            <p:cNvCxnSpPr>
              <a:stCxn id="238" idx="0"/>
              <a:endCxn id="224" idx="0"/>
            </p:cNvCxnSpPr>
            <p:nvPr/>
          </p:nvCxnSpPr>
          <p:spPr>
            <a:xfrm flipH="1" rot="16200000">
              <a:off x="7781400" y="210600"/>
              <a:ext cx="194760" cy="563400"/>
            </a:xfrm>
            <a:prstGeom prst="curvedConnector5">
              <a:avLst>
                <a:gd name="adj1" fmla="val -146851"/>
                <a:gd name="adj2" fmla="val 50000"/>
                <a:gd name="adj3" fmla="val -14685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48" name=""/>
            <p:cNvCxnSpPr>
              <a:stCxn id="230" idx="2"/>
              <a:endCxn id="224" idx="2"/>
            </p:cNvCxnSpPr>
            <p:nvPr/>
          </p:nvCxnSpPr>
          <p:spPr>
            <a:xfrm flipV="1" rot="16200000">
              <a:off x="8450640" y="640080"/>
              <a:ext cx="43920" cy="625320"/>
            </a:xfrm>
            <a:prstGeom prst="curvedConnector5">
              <a:avLst>
                <a:gd name="adj1" fmla="val -659504"/>
                <a:gd name="adj2" fmla="val 50000"/>
                <a:gd name="adj3" fmla="val -659504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how OWL-S can be used in P2P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escribe a Web services discovery protocol that makes use of Gnutella for connectivity and OWL-S for capability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use of OWL-S in ad-hoc network and ubiquitous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switch from file-sharing to data/servic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543800" y="109440"/>
            <a:ext cx="1294560" cy="1152360"/>
            <a:chOff x="7543800" y="109440"/>
            <a:chExt cx="1294560" cy="115236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7780680" y="5864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7780680" y="8085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8040960" y="590400"/>
              <a:ext cx="236880" cy="34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8449920" y="5270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8449920" y="7488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8730720" y="6537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8730720" y="30492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tretch/>
          </p:blipFill>
          <p:spPr>
            <a:xfrm>
              <a:off x="8730720" y="46296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0" name="" descr=""/>
            <p:cNvPicPr/>
            <p:nvPr/>
          </p:nvPicPr>
          <p:blipFill>
            <a:blip r:embed="rId9"/>
            <a:stretch/>
          </p:blipFill>
          <p:spPr>
            <a:xfrm>
              <a:off x="8730720" y="844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61" name=""/>
            <p:cNvCxnSpPr>
              <a:stCxn id="254" idx="3"/>
              <a:endCxn id="255" idx="1"/>
            </p:cNvCxnSpPr>
            <p:nvPr/>
          </p:nvCxnSpPr>
          <p:spPr>
            <a:xfrm flipV="1">
              <a:off x="8277480" y="591840"/>
              <a:ext cx="172440" cy="16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2" name=""/>
            <p:cNvCxnSpPr>
              <a:stCxn id="254" idx="3"/>
              <a:endCxn id="256" idx="1"/>
            </p:cNvCxnSpPr>
            <p:nvPr/>
          </p:nvCxnSpPr>
          <p:spPr>
            <a:xfrm>
              <a:off x="8277480" y="761040"/>
              <a:ext cx="172440" cy="5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3" name=""/>
            <p:cNvCxnSpPr>
              <a:stCxn id="255" idx="3"/>
              <a:endCxn id="258" idx="1"/>
            </p:cNvCxnSpPr>
            <p:nvPr/>
          </p:nvCxnSpPr>
          <p:spPr>
            <a:xfrm flipV="1">
              <a:off x="8557920" y="369360"/>
              <a:ext cx="173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4" name=""/>
            <p:cNvCxnSpPr>
              <a:stCxn id="255" idx="3"/>
              <a:endCxn id="259" idx="1"/>
            </p:cNvCxnSpPr>
            <p:nvPr/>
          </p:nvCxnSpPr>
          <p:spPr>
            <a:xfrm flipV="1">
              <a:off x="8557920" y="528480"/>
              <a:ext cx="17352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5" name=""/>
            <p:cNvCxnSpPr>
              <a:stCxn id="256" idx="3"/>
              <a:endCxn id="257" idx="1"/>
            </p:cNvCxnSpPr>
            <p:nvPr/>
          </p:nvCxnSpPr>
          <p:spPr>
            <a:xfrm flipV="1">
              <a:off x="8557920" y="71856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6" name=""/>
            <p:cNvCxnSpPr>
              <a:stCxn id="256" idx="3"/>
              <a:endCxn id="260" idx="1"/>
            </p:cNvCxnSpPr>
            <p:nvPr/>
          </p:nvCxnSpPr>
          <p:spPr>
            <a:xfrm>
              <a:off x="8557920" y="814320"/>
              <a:ext cx="173520" cy="9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267" name="" descr=""/>
            <p:cNvPicPr/>
            <p:nvPr/>
          </p:nvPicPr>
          <p:blipFill>
            <a:blip r:embed="rId10"/>
            <a:stretch/>
          </p:blipFill>
          <p:spPr>
            <a:xfrm>
              <a:off x="7543800" y="7452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/>
            <p:cNvPicPr/>
            <p:nvPr/>
          </p:nvPicPr>
          <p:blipFill>
            <a:blip r:embed="rId11"/>
            <a:stretch/>
          </p:blipFill>
          <p:spPr>
            <a:xfrm>
              <a:off x="7543800" y="3960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9" name="" descr=""/>
            <p:cNvPicPr/>
            <p:nvPr/>
          </p:nvPicPr>
          <p:blipFill>
            <a:blip r:embed="rId12"/>
            <a:stretch/>
          </p:blipFill>
          <p:spPr>
            <a:xfrm>
              <a:off x="7543800" y="55440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0" name="" descr=""/>
            <p:cNvPicPr/>
            <p:nvPr/>
          </p:nvPicPr>
          <p:blipFill>
            <a:blip r:embed="rId13"/>
            <a:stretch/>
          </p:blipFill>
          <p:spPr>
            <a:xfrm>
              <a:off x="7543800" y="935640"/>
              <a:ext cx="107640" cy="130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cxnSp>
          <p:nvCxnSpPr>
            <p:cNvPr id="271" name=""/>
            <p:cNvCxnSpPr>
              <a:stCxn id="254" idx="1"/>
              <a:endCxn id="252" idx="3"/>
            </p:cNvCxnSpPr>
            <p:nvPr/>
          </p:nvCxnSpPr>
          <p:spPr>
            <a:xfrm flipH="1" flipV="1">
              <a:off x="7887960" y="650880"/>
              <a:ext cx="153000" cy="10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2" name=""/>
            <p:cNvCxnSpPr>
              <a:stCxn id="252" idx="1"/>
              <a:endCxn id="268" idx="3"/>
            </p:cNvCxnSpPr>
            <p:nvPr/>
          </p:nvCxnSpPr>
          <p:spPr>
            <a:xfrm flipH="1" flipV="1">
              <a:off x="7651440" y="460800"/>
              <a:ext cx="129240" cy="19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3" name=""/>
            <p:cNvCxnSpPr>
              <a:stCxn id="252" idx="1"/>
              <a:endCxn id="269" idx="3"/>
            </p:cNvCxnSpPr>
            <p:nvPr/>
          </p:nvCxnSpPr>
          <p:spPr>
            <a:xfrm flipH="1" flipV="1">
              <a:off x="7651440" y="619920"/>
              <a:ext cx="129240" cy="3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4" name=""/>
            <p:cNvCxnSpPr>
              <a:stCxn id="253" idx="1"/>
              <a:endCxn id="267" idx="3"/>
            </p:cNvCxnSpPr>
            <p:nvPr/>
          </p:nvCxnSpPr>
          <p:spPr>
            <a:xfrm flipH="1" flipV="1">
              <a:off x="7651440" y="810000"/>
              <a:ext cx="129240" cy="6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5" name=""/>
            <p:cNvCxnSpPr>
              <a:stCxn id="253" idx="1"/>
              <a:endCxn id="270" idx="3"/>
            </p:cNvCxnSpPr>
            <p:nvPr/>
          </p:nvCxnSpPr>
          <p:spPr>
            <a:xfrm flipH="1">
              <a:off x="7651440" y="873720"/>
              <a:ext cx="129240" cy="12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6" name=""/>
            <p:cNvCxnSpPr>
              <a:stCxn id="254" idx="1"/>
              <a:endCxn id="253" idx="3"/>
            </p:cNvCxnSpPr>
            <p:nvPr/>
          </p:nvCxnSpPr>
          <p:spPr>
            <a:xfrm flipH="1">
              <a:off x="7887960" y="760680"/>
              <a:ext cx="153000" cy="11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7" name=""/>
            <p:cNvCxnSpPr>
              <a:stCxn id="268" idx="0"/>
              <a:endCxn id="254" idx="0"/>
            </p:cNvCxnSpPr>
            <p:nvPr/>
          </p:nvCxnSpPr>
          <p:spPr>
            <a:xfrm flipH="1" rot="16200000">
              <a:off x="7781400" y="210600"/>
              <a:ext cx="194760" cy="563400"/>
            </a:xfrm>
            <a:prstGeom prst="curvedConnector5">
              <a:avLst>
                <a:gd name="adj1" fmla="val -146851"/>
                <a:gd name="adj2" fmla="val 50000"/>
                <a:gd name="adj3" fmla="val -14685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78" name=""/>
            <p:cNvCxnSpPr>
              <a:stCxn id="260" idx="2"/>
              <a:endCxn id="254" idx="2"/>
            </p:cNvCxnSpPr>
            <p:nvPr/>
          </p:nvCxnSpPr>
          <p:spPr>
            <a:xfrm flipV="1" rot="16200000">
              <a:off x="8450640" y="640080"/>
              <a:ext cx="43920" cy="625320"/>
            </a:xfrm>
            <a:prstGeom prst="curvedConnector5">
              <a:avLst>
                <a:gd name="adj1" fmla="val -659504"/>
                <a:gd name="adj2" fmla="val 50000"/>
                <a:gd name="adj3" fmla="val -659504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Moving On…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Automatic WS Interaction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jitso Tas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DAMLz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WL-S for Ama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3809880"/>
            <a:ext cx="36576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OWL-S Virtual Machin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L-S VM a generic processor for the OWL-S Process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interact with any OWL-S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 Process Model formal semantics(Ankolekar et al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its Web services technology such as Axis and WS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43600" y="3200400"/>
            <a:ext cx="2819520" cy="35053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13080" y="2514600"/>
            <a:ext cx="3373200" cy="41385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2080" y="4251240"/>
            <a:ext cx="2796840" cy="2279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7720" y="202572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7120" y="2362320"/>
            <a:ext cx="1477800" cy="3686040"/>
          </a:xfrm>
          <a:prstGeom prst="rect">
            <a:avLst/>
          </a:prstGeom>
          <a:solidFill>
            <a:srgbClr val="eaeaea">
              <a:alpha val="50000"/>
            </a:srgbClr>
          </a:solidFill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2514600"/>
            <a:ext cx="20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ervice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6000" y="3463920"/>
            <a:ext cx="1038240" cy="60480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0560" y="5173560"/>
            <a:ext cx="1063800" cy="73368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L-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4320" y="4362480"/>
            <a:ext cx="1085760" cy="73980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L-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85960" y="5294160"/>
            <a:ext cx="2627280" cy="1159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16720" y="53546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L Inference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8360" y="5864400"/>
            <a:ext cx="2394000" cy="264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8360" y="5599080"/>
            <a:ext cx="2394000" cy="266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L Jess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76600" y="4978440"/>
            <a:ext cx="264636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odel Execu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76600" y="4646520"/>
            <a:ext cx="2646360" cy="3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ing Execu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55800" y="434016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L-S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02080" y="2849400"/>
            <a:ext cx="2795400" cy="10749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8360" y="3129120"/>
            <a:ext cx="2384280" cy="39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s’s Web Serv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c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08360" y="3525840"/>
            <a:ext cx="2384280" cy="33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iceInv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49520" y="2859120"/>
            <a:ext cx="29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ervice Inv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loud"/>
          <p:cNvSpPr/>
          <p:nvPr/>
        </p:nvSpPr>
        <p:spPr>
          <a:xfrm>
            <a:off x="2133720" y="1295280"/>
            <a:ext cx="3736800" cy="685800"/>
          </a:xfrm>
          <a:prstGeom prst="pie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1880" y="1461960"/>
            <a:ext cx="1589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1" idx="3"/>
            <a:endCxn id="294" idx="3"/>
          </p:cNvCxnSpPr>
          <p:nvPr/>
        </p:nvCxnSpPr>
        <p:spPr>
          <a:xfrm flipH="1">
            <a:off x="5312880" y="3386160"/>
            <a:ext cx="84960" cy="2489400"/>
          </a:xfrm>
          <a:prstGeom prst="bentConnector3">
            <a:avLst>
              <a:gd name="adj1" fmla="val -2570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8" idx="3"/>
            <a:endCxn id="309" idx="1"/>
          </p:cNvCxnSpPr>
          <p:nvPr/>
        </p:nvCxnSpPr>
        <p:spPr>
          <a:xfrm>
            <a:off x="5322600" y="5143320"/>
            <a:ext cx="849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2808360" y="6121440"/>
            <a:ext cx="2394000" cy="266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87" idx="0"/>
            <a:endCxn id="301" idx="2"/>
          </p:cNvCxnSpPr>
          <p:nvPr/>
        </p:nvCxnSpPr>
        <p:spPr>
          <a:xfrm flipV="1">
            <a:off x="4000320" y="3924000"/>
            <a:ext cx="1080" cy="327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6172200" y="3733920"/>
            <a:ext cx="2384280" cy="28191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276720"/>
            <a:ext cx="23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33480" y="3537000"/>
            <a:ext cx="760320" cy="447480"/>
          </a:xfrm>
          <a:custGeom>
            <a:avLst/>
            <a:gdLst>
              <a:gd name="textAreaLeft" fmla="*/ 95040 w 760320"/>
              <a:gd name="textAreaRight" fmla="*/ 665280 w 760320"/>
              <a:gd name="textAreaTop" fmla="*/ 111960 h 447480"/>
              <a:gd name="textAreaBottom" fmla="*/ 335880 h 447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467200">
            <a:off x="1787040" y="5106600"/>
            <a:ext cx="936720" cy="433440"/>
          </a:xfrm>
          <a:custGeom>
            <a:avLst/>
            <a:gdLst>
              <a:gd name="textAreaLeft" fmla="*/ 117000 w 936720"/>
              <a:gd name="textAreaRight" fmla="*/ 819720 w 93672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1" idx="0"/>
            <a:endCxn id="305" idx="4"/>
          </p:cNvCxnSpPr>
          <p:nvPr/>
        </p:nvCxnSpPr>
        <p:spPr>
          <a:xfrm flipV="1">
            <a:off x="4000680" y="1980720"/>
            <a:ext cx="2160" cy="86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4493520" y="2571840"/>
            <a:ext cx="11696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L-S 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704400">
            <a:off x="1872720" y="4570560"/>
            <a:ext cx="855720" cy="433080"/>
          </a:xfrm>
          <a:custGeom>
            <a:avLst/>
            <a:gdLst>
              <a:gd name="textAreaLeft" fmla="*/ 106920 w 855720"/>
              <a:gd name="textAreaRight" fmla="*/ 748800 w 85572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L-S VM can be used to automatically invoke OWL-S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nforms with the OWL-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based on OWL inferenc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se of OWL-S does not result in a performance pen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nteractions with Amazon.com only 8% of time was devoted to the OWL-S V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Moving On…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Web Service Composition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jitso Tas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DAMLz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WL-S for Ama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267080"/>
            <a:ext cx="36576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5220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Tahoma"/>
              </a:rPr>
              <a:t>MindSwap’s Web Service Compos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851280" y="1600200"/>
            <a:ext cx="5113440" cy="3514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4000" y="1628640"/>
            <a:ext cx="35622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onstrates how tasks can be composed from different OWL-S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he user (via a web interface) through a top-down dynamic view of th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s a composition that is directly executable through WSDL ground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3680" y="580536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www.mindswap.org/~evren/compos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S compositio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SHOP2, a well established plan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an OWL-S execu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for many applications of WS composition ranging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KSL Automated WS Composition Tool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7200" y="1330200"/>
            <a:ext cx="8632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utomated Web Servic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.g., Make my travel arrangements for the DAML P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  Plan a sequences of services that realize user’s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P complete or w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. Customize reusable 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fine and archive reusabl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ustomize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r’s 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P complete or worse in a reduced search 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dvantages:  efficiency, ease of use,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OWL-S Edito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95040" y="1611360"/>
            <a:ext cx="917856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Go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ditor tailored to the markup of Web Services in OW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 just an ontology editor -- focus on end user needs and intu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raphical and form ent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WL-S &amp; Ontolin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nticipated User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 providers/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L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pproach: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editors (OILed Protégé) and reasoner behind th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Value added by reason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cation of properties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603800">
            <a:off x="276120" y="536400"/>
            <a:ext cx="133128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Status &amp; Challenges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000" y="1212840"/>
            <a:ext cx="881100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ML+OIL/DAML-S FOL -&gt; Ontolingua, Golog &amp; sit’n calculus in Pr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, Prolog, Ontolingua-DAML+OIL translator, OKB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ML-S to PDDL translator, bubble gum, scotch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sion to OWL-S and J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L-S-ize our work; Reduce number of repn’s requi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ion Monitoring &amp; Recovery,  Info vs. world-chging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 Service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synchronization, message passing and ground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MU Composition Architectur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oits Retsina Architecture for W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L-S/UDDI Matchmaker for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sina planner to control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terleaving of planning and execution to allow communication whil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L Rea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L-S Virtual Machine to communicate with other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a number of applications: travel domain, supply chai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omposition and execution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with autonomous ag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898880" y="1981080"/>
            <a:ext cx="3306960" cy="411480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5867280" y="6477120"/>
            <a:ext cx="3124440" cy="307080"/>
            <a:chOff x="5867280" y="6477120"/>
            <a:chExt cx="3124440" cy="30708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7918560" y="6526080"/>
              <a:ext cx="1073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867280" y="6477120"/>
              <a:ext cx="224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collaboration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Moving On…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Applications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jitso Tas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DAMLz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WL-S for Ama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5105520"/>
            <a:ext cx="36576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  <a:ea typeface="ＭＳ Ｐゴシック"/>
              </a:rPr>
              <a:t>Task Compu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r wants to do “Tasks” while on the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mail – printing – sharing documents – complex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rvices offered in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590920"/>
            <a:ext cx="725400" cy="2286000"/>
          </a:xfrm>
          <a:prstGeom prst="upDownArrow">
            <a:avLst>
              <a:gd name="adj1" fmla="val 50000"/>
              <a:gd name="adj2" fmla="val 6273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00280" y="3327480"/>
            <a:ext cx="61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p: the user should use configurations and “leg work” to use th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28880" y="632160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nP: Universal Plug and 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  <a:ea typeface="ＭＳ Ｐゴシック"/>
              </a:rPr>
              <a:t>Task Compu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  <a:ea typeface="ＭＳ Ｐゴシック"/>
              </a:rPr>
              <a:t>Task Compu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”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computation to fill the gap between a user’ tasks and the available 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elp users with access Services (Web based and not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scovery using UP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nipulated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execution ti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not a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desig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mantics (OWL-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Tahoma"/>
              </a:rPr>
              <a:t>Task Comput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733920" y="1773360"/>
            <a:ext cx="5246640" cy="3968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11280" y="638172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http://www.flacp.fujitsulabs.com/~rmasuoka/papers/Task-Computing-ISWC2003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3483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sk Computing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mplemented using RDF, OWL, DAML-S and pervasive computing discovery (UPnP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pports composition of services within a pervas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rates DAML-S process models which are then ena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AMLzon: DAML-S for Amazon.com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zon provides a publicly available 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-S was derived automatically using WSDL2DAM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-S VM used to interact with Amazon 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3120" y="5927760"/>
            <a:ext cx="34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ss Model for 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3657600"/>
            <a:ext cx="2590920" cy="2133720"/>
          </a:xfrm>
          <a:custGeom>
            <a:avLst/>
            <a:gdLst/>
            <a:ahLst/>
            <a:rect l="l" t="t" r="r" b="b"/>
            <a:pathLst>
              <a:path w="1268" h="1095">
                <a:moveTo>
                  <a:pt x="20" y="697"/>
                </a:moveTo>
                <a:cubicBezTo>
                  <a:pt x="68" y="763"/>
                  <a:pt x="147" y="805"/>
                  <a:pt x="207" y="860"/>
                </a:cubicBezTo>
                <a:cubicBezTo>
                  <a:pt x="247" y="896"/>
                  <a:pt x="275" y="946"/>
                  <a:pt x="327" y="965"/>
                </a:cubicBezTo>
                <a:cubicBezTo>
                  <a:pt x="347" y="981"/>
                  <a:pt x="369" y="992"/>
                  <a:pt x="394" y="999"/>
                </a:cubicBezTo>
                <a:cubicBezTo>
                  <a:pt x="426" y="1022"/>
                  <a:pt x="480" y="1021"/>
                  <a:pt x="519" y="1028"/>
                </a:cubicBezTo>
                <a:cubicBezTo>
                  <a:pt x="584" y="1040"/>
                  <a:pt x="647" y="1063"/>
                  <a:pt x="711" y="1076"/>
                </a:cubicBezTo>
                <a:cubicBezTo>
                  <a:pt x="746" y="1083"/>
                  <a:pt x="781" y="1086"/>
                  <a:pt x="816" y="1095"/>
                </a:cubicBezTo>
                <a:cubicBezTo>
                  <a:pt x="890" y="1091"/>
                  <a:pt x="959" y="1082"/>
                  <a:pt x="1032" y="1071"/>
                </a:cubicBezTo>
                <a:cubicBezTo>
                  <a:pt x="1069" y="1059"/>
                  <a:pt x="1106" y="1042"/>
                  <a:pt x="1143" y="1028"/>
                </a:cubicBezTo>
                <a:cubicBezTo>
                  <a:pt x="1160" y="1021"/>
                  <a:pt x="1191" y="999"/>
                  <a:pt x="1191" y="999"/>
                </a:cubicBezTo>
                <a:cubicBezTo>
                  <a:pt x="1217" y="954"/>
                  <a:pt x="1255" y="920"/>
                  <a:pt x="1268" y="869"/>
                </a:cubicBezTo>
                <a:cubicBezTo>
                  <a:pt x="1263" y="850"/>
                  <a:pt x="1259" y="837"/>
                  <a:pt x="1248" y="821"/>
                </a:cubicBezTo>
                <a:cubicBezTo>
                  <a:pt x="1239" y="790"/>
                  <a:pt x="1170" y="719"/>
                  <a:pt x="1138" y="697"/>
                </a:cubicBezTo>
                <a:cubicBezTo>
                  <a:pt x="1123" y="686"/>
                  <a:pt x="1090" y="668"/>
                  <a:pt x="1090" y="668"/>
                </a:cubicBezTo>
                <a:cubicBezTo>
                  <a:pt x="1052" y="616"/>
                  <a:pt x="1040" y="552"/>
                  <a:pt x="1004" y="500"/>
                </a:cubicBezTo>
                <a:cubicBezTo>
                  <a:pt x="991" y="482"/>
                  <a:pt x="976" y="471"/>
                  <a:pt x="960" y="457"/>
                </a:cubicBezTo>
                <a:cubicBezTo>
                  <a:pt x="948" y="446"/>
                  <a:pt x="937" y="435"/>
                  <a:pt x="927" y="423"/>
                </a:cubicBezTo>
                <a:cubicBezTo>
                  <a:pt x="921" y="415"/>
                  <a:pt x="915" y="406"/>
                  <a:pt x="908" y="399"/>
                </a:cubicBezTo>
                <a:cubicBezTo>
                  <a:pt x="888" y="379"/>
                  <a:pt x="881" y="382"/>
                  <a:pt x="864" y="361"/>
                </a:cubicBezTo>
                <a:cubicBezTo>
                  <a:pt x="855" y="349"/>
                  <a:pt x="835" y="306"/>
                  <a:pt x="831" y="298"/>
                </a:cubicBezTo>
                <a:cubicBezTo>
                  <a:pt x="820" y="274"/>
                  <a:pt x="800" y="255"/>
                  <a:pt x="788" y="231"/>
                </a:cubicBezTo>
                <a:cubicBezTo>
                  <a:pt x="772" y="199"/>
                  <a:pt x="766" y="159"/>
                  <a:pt x="754" y="125"/>
                </a:cubicBezTo>
                <a:cubicBezTo>
                  <a:pt x="736" y="74"/>
                  <a:pt x="663" y="8"/>
                  <a:pt x="610" y="1"/>
                </a:cubicBezTo>
                <a:cubicBezTo>
                  <a:pt x="460" y="9"/>
                  <a:pt x="290" y="0"/>
                  <a:pt x="144" y="49"/>
                </a:cubicBezTo>
                <a:cubicBezTo>
                  <a:pt x="130" y="63"/>
                  <a:pt x="106" y="97"/>
                  <a:pt x="106" y="97"/>
                </a:cubicBezTo>
                <a:cubicBezTo>
                  <a:pt x="96" y="136"/>
                  <a:pt x="80" y="176"/>
                  <a:pt x="63" y="212"/>
                </a:cubicBezTo>
                <a:cubicBezTo>
                  <a:pt x="52" y="263"/>
                  <a:pt x="30" y="311"/>
                  <a:pt x="15" y="361"/>
                </a:cubicBezTo>
                <a:cubicBezTo>
                  <a:pt x="5" y="394"/>
                  <a:pt x="3" y="427"/>
                  <a:pt x="0" y="461"/>
                </a:cubicBezTo>
                <a:cubicBezTo>
                  <a:pt x="2" y="519"/>
                  <a:pt x="2" y="576"/>
                  <a:pt x="5" y="634"/>
                </a:cubicBezTo>
                <a:cubicBezTo>
                  <a:pt x="6" y="656"/>
                  <a:pt x="20" y="675"/>
                  <a:pt x="20" y="697"/>
                </a:cubicBezTo>
                <a:close/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480" y="31240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66"/>
                </a:solidFill>
                <a:latin typeface="Times New Roman"/>
              </a:rPr>
              <a:t>Book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866560" y="3886200"/>
            <a:ext cx="2514600" cy="2057400"/>
          </a:xfrm>
          <a:custGeom>
            <a:avLst/>
            <a:gdLst/>
            <a:ahLst/>
            <a:rect l="l" t="t" r="r" b="b"/>
            <a:pathLst>
              <a:path w="1268" h="1095">
                <a:moveTo>
                  <a:pt x="20" y="697"/>
                </a:moveTo>
                <a:cubicBezTo>
                  <a:pt x="68" y="763"/>
                  <a:pt x="147" y="805"/>
                  <a:pt x="207" y="860"/>
                </a:cubicBezTo>
                <a:cubicBezTo>
                  <a:pt x="247" y="896"/>
                  <a:pt x="275" y="946"/>
                  <a:pt x="327" y="965"/>
                </a:cubicBezTo>
                <a:cubicBezTo>
                  <a:pt x="347" y="981"/>
                  <a:pt x="369" y="992"/>
                  <a:pt x="394" y="999"/>
                </a:cubicBezTo>
                <a:cubicBezTo>
                  <a:pt x="426" y="1022"/>
                  <a:pt x="480" y="1021"/>
                  <a:pt x="519" y="1028"/>
                </a:cubicBezTo>
                <a:cubicBezTo>
                  <a:pt x="584" y="1040"/>
                  <a:pt x="647" y="1063"/>
                  <a:pt x="711" y="1076"/>
                </a:cubicBezTo>
                <a:cubicBezTo>
                  <a:pt x="746" y="1083"/>
                  <a:pt x="781" y="1086"/>
                  <a:pt x="816" y="1095"/>
                </a:cubicBezTo>
                <a:cubicBezTo>
                  <a:pt x="890" y="1091"/>
                  <a:pt x="959" y="1082"/>
                  <a:pt x="1032" y="1071"/>
                </a:cubicBezTo>
                <a:cubicBezTo>
                  <a:pt x="1069" y="1059"/>
                  <a:pt x="1106" y="1042"/>
                  <a:pt x="1143" y="1028"/>
                </a:cubicBezTo>
                <a:cubicBezTo>
                  <a:pt x="1160" y="1021"/>
                  <a:pt x="1191" y="999"/>
                  <a:pt x="1191" y="999"/>
                </a:cubicBezTo>
                <a:cubicBezTo>
                  <a:pt x="1217" y="954"/>
                  <a:pt x="1255" y="920"/>
                  <a:pt x="1268" y="869"/>
                </a:cubicBezTo>
                <a:cubicBezTo>
                  <a:pt x="1263" y="850"/>
                  <a:pt x="1259" y="837"/>
                  <a:pt x="1248" y="821"/>
                </a:cubicBezTo>
                <a:cubicBezTo>
                  <a:pt x="1239" y="790"/>
                  <a:pt x="1170" y="719"/>
                  <a:pt x="1138" y="697"/>
                </a:cubicBezTo>
                <a:cubicBezTo>
                  <a:pt x="1123" y="686"/>
                  <a:pt x="1090" y="668"/>
                  <a:pt x="1090" y="668"/>
                </a:cubicBezTo>
                <a:cubicBezTo>
                  <a:pt x="1052" y="616"/>
                  <a:pt x="1040" y="552"/>
                  <a:pt x="1004" y="500"/>
                </a:cubicBezTo>
                <a:cubicBezTo>
                  <a:pt x="991" y="482"/>
                  <a:pt x="976" y="471"/>
                  <a:pt x="960" y="457"/>
                </a:cubicBezTo>
                <a:cubicBezTo>
                  <a:pt x="948" y="446"/>
                  <a:pt x="937" y="435"/>
                  <a:pt x="927" y="423"/>
                </a:cubicBezTo>
                <a:cubicBezTo>
                  <a:pt x="921" y="415"/>
                  <a:pt x="915" y="406"/>
                  <a:pt x="908" y="399"/>
                </a:cubicBezTo>
                <a:cubicBezTo>
                  <a:pt x="888" y="379"/>
                  <a:pt x="881" y="382"/>
                  <a:pt x="864" y="361"/>
                </a:cubicBezTo>
                <a:cubicBezTo>
                  <a:pt x="855" y="349"/>
                  <a:pt x="835" y="306"/>
                  <a:pt x="831" y="298"/>
                </a:cubicBezTo>
                <a:cubicBezTo>
                  <a:pt x="820" y="274"/>
                  <a:pt x="800" y="255"/>
                  <a:pt x="788" y="231"/>
                </a:cubicBezTo>
                <a:cubicBezTo>
                  <a:pt x="772" y="199"/>
                  <a:pt x="766" y="159"/>
                  <a:pt x="754" y="125"/>
                </a:cubicBezTo>
                <a:cubicBezTo>
                  <a:pt x="736" y="74"/>
                  <a:pt x="663" y="8"/>
                  <a:pt x="610" y="1"/>
                </a:cubicBezTo>
                <a:cubicBezTo>
                  <a:pt x="460" y="9"/>
                  <a:pt x="290" y="0"/>
                  <a:pt x="144" y="49"/>
                </a:cubicBezTo>
                <a:cubicBezTo>
                  <a:pt x="130" y="63"/>
                  <a:pt x="106" y="97"/>
                  <a:pt x="106" y="97"/>
                </a:cubicBezTo>
                <a:cubicBezTo>
                  <a:pt x="96" y="136"/>
                  <a:pt x="80" y="176"/>
                  <a:pt x="63" y="212"/>
                </a:cubicBezTo>
                <a:cubicBezTo>
                  <a:pt x="52" y="263"/>
                  <a:pt x="30" y="311"/>
                  <a:pt x="15" y="361"/>
                </a:cubicBezTo>
                <a:cubicBezTo>
                  <a:pt x="5" y="394"/>
                  <a:pt x="3" y="427"/>
                  <a:pt x="0" y="461"/>
                </a:cubicBezTo>
                <a:cubicBezTo>
                  <a:pt x="2" y="519"/>
                  <a:pt x="2" y="576"/>
                  <a:pt x="5" y="634"/>
                </a:cubicBezTo>
                <a:cubicBezTo>
                  <a:pt x="6" y="656"/>
                  <a:pt x="20" y="675"/>
                  <a:pt x="20" y="697"/>
                </a:cubicBezTo>
                <a:close/>
              </a:path>
            </a:pathLst>
          </a:custGeom>
          <a:noFill/>
          <a:ln w="763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1520" y="33670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Reserv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9603800">
            <a:off x="147240" y="485280"/>
            <a:ext cx="1595160" cy="7030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 </a:t>
            </a: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up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257800" y="1371600"/>
            <a:ext cx="35812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34120" y="1981080"/>
          <a:ext cx="261612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981080"/>
                    <a:ext cx="2616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VM client on browsing+reserving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d data by compu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quired by DAML-S VM to execute Proc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quired for data transformation to fit Amaz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quired to invoke an operation on Ama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 runs total over 4 days in varying load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in milli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0" y="5105520"/>
          <a:ext cx="4343400" cy="1333440"/>
        </p:xfrm>
        <a:graphic>
          <a:graphicData uri="http://schemas.openxmlformats.org/drawingml/2006/table">
            <a:tbl>
              <a:tblPr/>
              <a:tblGrid>
                <a:gridCol w="1066680"/>
                <a:gridCol w="847800"/>
                <a:gridCol w="1209600"/>
                <a:gridCol w="121932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rsf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d 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670572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38880" y="15382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L-S 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12080" y="1371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086240" y="1981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06520" y="335268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number of tools available or under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o OWL-S already under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umber of early adopters both from DAML program and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195640" y="1541520"/>
          <a:ext cx="643716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41520"/>
                    <a:ext cx="64371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8269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Tahoma"/>
              </a:rPr>
              <a:t>KSL OWL-S Editor </a:t>
            </a:r>
            <a:br>
              <a:rPr sz="4000"/>
            </a:br>
            <a:r>
              <a:rPr b="0" lang="en-GB" sz="2800" spc="-1" strike="noStrike">
                <a:solidFill>
                  <a:srgbClr val="ff9933"/>
                </a:solidFill>
                <a:latin typeface="Tahoma"/>
              </a:rPr>
              <a:t>Draw the control structure for composite servic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603800">
            <a:off x="276120" y="536400"/>
            <a:ext cx="1331280" cy="459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99320" y="290520"/>
            <a:ext cx="8035560" cy="63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pandedAcmeMovingServic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services/daml-s/2001/05/Process#Sequenc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services/daml-s/2001/05/Process#component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#PROCESS-LIST-14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OCESS-LIST-14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2001/03/daml+oil#firs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#AcmeConfirmMvRou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2001/03/daml+oil#res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#PROCESS-LIST-14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OCESS-LIST-14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, generate the OWL-S for t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ahoma"/>
              </a:rPr>
              <a:t>WSDL2OWL-S/OntoLink</a:t>
            </a:r>
            <a:endParaRPr b="0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91320" cy="417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9603800">
            <a:off x="147240" y="485280"/>
            <a:ext cx="1595160" cy="7030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EMO </a:t>
            </a: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up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943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daml.ri.cmu.edu/wsdldam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Mapping WSDL to OWL-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its relation between WSDL and OWL-S to generate (partial) OWL-S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generation of 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al generation of Process Model and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80% of work required to generate a OWL-S description is done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grammers to concentrate on the information that is really different between the two Web services descri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with Java2WSDL to provi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2OW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ntribu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 to facilitate generation of OW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y to generate OW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nstant use by the community since Spring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Moving On…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Tools for Web Service Discovery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jitso Tas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DAMLz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: OWL-S for Ama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743200"/>
            <a:ext cx="365760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2:05:14Z</dcterms:created>
  <dc:creator>paolucci</dc:creator>
  <dc:description/>
  <dc:language>en-US</dc:language>
  <cp:lastModifiedBy>pleiades</cp:lastModifiedBy>
  <dcterms:modified xsi:type="dcterms:W3CDTF">2003-10-16T18:09:09Z</dcterms:modified>
  <cp:revision>116</cp:revision>
  <dc:subject/>
  <dc:title>Toward Semantic Web  E-Commerce</dc:title>
</cp:coreProperties>
</file>