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886D-A78B-48A6-B4C6-BC25B47B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CF13-69E8-4A4E-8312-45C66FF7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662E-459A-4E26-8718-58719682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D2C7-D3BE-47E4-BA99-683CA975A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74AB-E9B7-4139-9B62-4CEE6E04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CC45-B644-44D3-BA8C-B48765DC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82C2-C469-4367-8532-C4168BAF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0283-9B83-4345-B409-5D520E11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3FFC-0A17-42FD-A2F8-8E7EC7C1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7F96-9D0D-4A7E-96C7-D511EED6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1B71-C128-4E09-BC01-E4A9ED1C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64D1-1E28-47C2-B8E5-672BD2F6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6822-A31A-4CD5-BCA1-245084794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: 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-S applied to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ardi-H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: Manager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ists (intvl - Time_interv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g(intvl) = min(min_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ps, (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p) beg(scheduled_time(p))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n_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ch, (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(m) beg(scheduled_time(m)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 end(intv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 max(max_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ps, (\\ (p) beg(scheduled_time(p))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x_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ch, (\\ (m) beg(scheduled_time(m)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: Manager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 exists (af_there af_back - Air_fl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 af_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 time (arg_ma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(f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fore(arrival_time(f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g(intvl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(f) beg(intv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arrival_time(f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 af_back =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 exists (h - Hot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_all (beg_date end_date - D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g_date =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 end_date =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&gt; hotel_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r, 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vex_hull(beg_date, end_date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kay, this looks hopelessly hairy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most of it is pure comput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maxes, mins, etc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Paradig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goal of user agent and match it against effects of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nditions become new goals; the planner must find services and inputs that achieve all the outstanding go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ition is auto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urist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 Hotel ?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 dist(?h, Pamplona) =&lt; 5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 cost_per_night(?h) =&lt; 100 E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 reserved(emh, Pamplona_Run_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 hotel_reserved(emh, ?h, d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 is Air_flight ?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 beg(?date) = day(start(Pamplona_Run_04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1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 end(?date) = day(start(Pamplona_Run_04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1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 ...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88080" y="125748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k_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791320" y="2209680"/>
            <a:ext cx="838080" cy="9144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64400" y="240048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dded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dition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k_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5486040" y="2362320"/>
            <a:ext cx="1143000" cy="38088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866920" y="2743200"/>
            <a:ext cx="76212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id the Composi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p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actions get instantiated, involving multiple web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der may be unimportant, or the Berardi-Hull argument may play a role (not clea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Book Flights Ahead of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74880" y="1868400"/>
            <a:ext cx="7302240" cy="39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you c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question: Why sometim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l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ing (e.g, use PriceLin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, we have to make explicit the time-dependence of pr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, we have to allow for optimization of objectiv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ning wrt Exist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sit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se an omnibus travel-agent process advertises its process mod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ine composite process S4tP(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ticipants: {customer}  // Plus the service itself, of co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s: {…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s: {…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  accept(open_sess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nd to customer (confirm_sess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un_a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parall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ticket process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te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event-booking process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hotel process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op_after accept from customer (close_session)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Decompose composite into individual control fl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state where needed.  Example: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pen_sess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s us in “session open”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hread through the process becomes a series of actions to plan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Web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1: book the plane ti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2: register for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3: book a hotel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e in ways corresponding to needs of tourist, researcher,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ri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-shot vs. reusable 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6680" y="2495520"/>
            <a:ext cx="6993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fine atomic process take_it_and_le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puts: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s: {okay - Boole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rrier_there, carrier_back - Airli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num_there - Flight_nu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cc_going - Flight_oc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num_back - Flight_nu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cc_returning - Flight_occ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sults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- continued below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ndling Conditions, Outputs, &amp;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sul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n (fl_there fl_back - Fl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ightly_scheduled(fl_there, fl_back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 available(fl_there,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 available(fl_back, 1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&gt; (exists (fl_there fl_back - Fl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ghtly_scheduled(fl_there, fl_ba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 air_reserved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(cust,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fl_ther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 air_reserved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(cust,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fl_back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: {okay = tru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rrier_there = fl_there.carri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rrier_back = fl_back.carri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num_there = fl_there.nu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num_back = fl_back.nu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cc_going = fl_there.occ_desi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cc_back = fl_back.occ_desig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935040" y="1600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65760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49150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219320" y="3504960"/>
            <a:ext cx="761760" cy="2286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828800" y="4495680"/>
            <a:ext cx="762120" cy="60984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477120" y="1981080"/>
            <a:ext cx="761760" cy="763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lure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ot (exists (fl_there fl_back - Fl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ghtly_scheduled(fl_there, fl_back)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: {okay = fals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xiliary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ghtly_scheduled(fl_there, fl_ba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f (flight_departs_from(fl_there, departure_pla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 flight_lands_at(fl_there, arrive_pla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 flight_departs_from(fl_there, arrive_pla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 flight_lands_at(fl_there, departure_pla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 flight_depart_time(fl_the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 max_over((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λ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(fl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ight_departs_from(fl1, departure_pla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 flight_lands_at(fl1, arrive_pla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 flight_depart_time(fl1) =&lt; date_leav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ight_depart_tim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 flight_depart_time(fl_bac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 min_over((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λ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(fl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ight_departs_from(fl1, departure_pla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 flight_lands_at(fl1, arrive_pla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 flight_arrive_time(fl1) &gt;= date_back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ight_depart_time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ine atomic process book_ho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s: {name_hotel – Strin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lace_hotel – Loca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ate_leave, date_back – Date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s: {okay - Boolea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ul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en (h - Hotel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ame(h) = name_ho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 located(h, place_hot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 (forall (d – Da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n_or_before(date_leave, 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 before(d, date_bac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&gt; hotel_available(h, d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&gt; hotel_reserved(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cust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vex_hull(date_leav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ay_before(date_back)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s: {okay = true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failure cas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okay = false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: Tour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erved(emh, Pamplona_Run_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 exists (date - Time_interv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g(date) = day(start(Pamplona_Run_04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1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 end(date) = day(start(Pamplona_Run_04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1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 exists(h - Hot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st(h, Pamplona) =&lt; 5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 cost_per_night(h) =&lt; 100 E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 reserved(emh, Pamplona_Run_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 hotel_reserved(emh, h, d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 exists(af - Air_f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: Ma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t e = pi_meeting(miracle_intelligence, qtr(2004,1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istered(rr,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t ps = set_of_all ((\\ (p) presentation(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 at_conf(p, 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 given_by(rr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 = set_of_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(\\ (m) small_group_discussion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 participant(m, 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 participant(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gram-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miracle_intelligence)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CONTINUED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2T20:08:51Z</dcterms:created>
  <dc:creator>Drew McDermott</dc:creator>
  <dc:description/>
  <dc:language>en-US</dc:language>
  <cp:lastModifiedBy>Drew McDermott</cp:lastModifiedBy>
  <dcterms:modified xsi:type="dcterms:W3CDTF">2004-05-22T23:42:34Z</dcterms:modified>
  <cp:revision>10</cp:revision>
  <dc:subject/>
  <dc:title>Use Case: Composition</dc:title>
</cp:coreProperties>
</file>