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39E-7084-41AA-9475-66F67414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929-E8AA-41E0-A7D0-D03FA296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CC3-21DE-436F-B0A6-CB9DE54C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630-5E3B-456D-8092-8987A658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B72-60CF-456A-A20D-352753F8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D5C-491C-4F61-88C4-5BA31D1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6B0-F3E9-4757-864C-E14ACEBB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732-CF35-46A7-AF32-511716D6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B3E-BF22-4F5C-985B-BDDCDBEA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E4B-E673-4418-BC42-06CD3A28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318-543E-422A-8A07-7975FBFA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164-553C-4FC1-BE5C-F47870FF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84BF-716A-43DB-B6C5-E46603096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L-S for Amaz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azon.com publishes a WS to browse its DB and reserv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time of this experiment Amazon published only the buyer 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limited to browsing the server DB and reserving products purchase had to be done through th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L-S description generated from the WSDL that describes the Amazon WS + further an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L-S VM has been used to interact with Amazon to find and reserve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 Problem: Amazon uses only keyword searches,  but each search can produce any produc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d to restrict to the type of searches that were guaranteed to return books and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roblem: translation from the Amazon’s data structure to the ontology used to describe 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azon describes all its products in the same data structure: no distinction between books and dvd 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ounding specification includes a mapping from the content of the Amazon’s messages to the books ontologies that w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ocess Model for Amazon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648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 allows three oper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Brow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e user to look for books available at Ama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Manage 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eck content of the shopping cart, add and remove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Sh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sequence of the previous two.  First browse to find the product, the put it in the shopping bas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61800" y="548640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cess Model for Amazo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2400" y="2895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56560" y="2971800"/>
            <a:ext cx="138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Manage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3657600"/>
            <a:ext cx="2514600" cy="1828800"/>
          </a:xfrm>
          <a:prstGeom prst="pentag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429000"/>
            <a:ext cx="2666880" cy="1981080"/>
          </a:xfrm>
          <a:prstGeom prst="triangle">
            <a:avLst>
              <a:gd name="adj" fmla="val 45894"/>
            </a:avLst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971800"/>
            <a:ext cx="1524240" cy="609480"/>
          </a:xfrm>
          <a:prstGeom prst="ellipse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1560" y="1523880"/>
            <a:ext cx="241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Shop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Browse+Manage 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3" idx="7"/>
            <a:endCxn id="54" idx="2"/>
          </p:cNvCxnSpPr>
          <p:nvPr/>
        </p:nvCxnSpPr>
        <p:spPr>
          <a:xfrm flipH="1" flipV="1" rot="5400000">
            <a:off x="7213320" y="2407680"/>
            <a:ext cx="807480" cy="442080"/>
          </a:xfrm>
          <a:prstGeom prst="curvedConnector5">
            <a:avLst>
              <a:gd name="adj1" fmla="val 53702"/>
              <a:gd name="adj2" fmla="val 49959"/>
              <a:gd name="adj3" fmla="val 53702"/>
            </a:avLst>
          </a:prstGeom>
          <a:ln w="9360">
            <a:solidFill>
              <a:srgbClr val="00ccff"/>
            </a:solidFill>
            <a:miter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for automatic processing: Handling Choi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419720" y="2666880"/>
            <a:ext cx="167616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267080" y="4190760"/>
            <a:ext cx="152640" cy="533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4267080"/>
            <a:ext cx="838080" cy="9907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3733920"/>
            <a:ext cx="1371600" cy="609480"/>
          </a:xfrm>
          <a:prstGeom prst="ellipse">
            <a:avLst/>
          </a:pr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743280"/>
            <a:ext cx="2895480" cy="1263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should select the correct path to obtain the results it des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209680"/>
            <a:ext cx="1447920" cy="533520"/>
          </a:xfrm>
          <a:prstGeom prst="ellipse">
            <a:avLst/>
          </a:pr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3962520"/>
            <a:ext cx="1371600" cy="609480"/>
          </a:xfrm>
          <a:prstGeom prst="ellipse">
            <a:avLst/>
          </a:pr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600" y="19810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choice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249876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 valid execution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f them has a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out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49240" y="51055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Find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4760" y="56386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Find 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926680" y="9448920"/>
            <a:ext cx="990612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(ProcessModel,In,Out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Process(Process,ProcessMod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(Process ,In,Out,In,Ou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926680" y="11734920"/>
            <a:ext cx="990612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(composite(Process,List,In,Out)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able(list,In)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ctedValue(oneOf(List),Ou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26680" y="14052600"/>
            <a:ext cx="99824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able(composite(Process,List),In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able(list,In)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926680" y="15697080"/>
            <a:ext cx="990612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pectedValue(composite(Process,List)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ctedValue(oneOf(List)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003000" y="18059400"/>
            <a:ext cx="99820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able(atomic(Process),In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puts(Proc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003000" y="19703880"/>
            <a:ext cx="99061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pectedValue(atomic(Process),Out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utputs(Proce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18148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57600" y="525744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638680"/>
            <a:ext cx="4572000" cy="1081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olved the problem by computing the path that lead to the expec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20:36:44Z</dcterms:created>
  <dc:creator>paolucci</dc:creator>
  <dc:description/>
  <dc:language>en-US</dc:language>
  <cp:lastModifiedBy>David Martin</cp:lastModifiedBy>
  <dcterms:modified xsi:type="dcterms:W3CDTF">2004-05-23T14:46:49Z</dcterms:modified>
  <cp:revision>8</cp:revision>
  <dc:subject/>
  <dc:title>OWL-S for Amazon.com</dc:title>
</cp:coreProperties>
</file>