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A3A-F8B9-42AD-A2F6-B1E37D38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8DC-D4A5-4279-9BBC-F1A6449C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154-30CF-4785-97C6-D09E8E41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E22-903D-4D7E-9644-359E26C7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8F4-293D-47E8-8679-DF799546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E1A-8E36-4CB1-8408-1F426CDB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EDE-C329-4586-A738-FE6ECDFA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7D8-4F08-4670-8BD7-19DA6D8A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029-DEE8-418C-91FF-7617938F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D78-0307-4BF8-84E9-A7352FC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2CD-DA5F-4E5C-ADCC-8299062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9E3-8FC9-462E-B97B-4CF1955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62514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/2004 SWSI F2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40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?*&amp;!  Straw Proposal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ormerly CTR++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Ki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*&amp;!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s (so somewhat at odds with the FOL-based proposa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pirit the same as Benjamin’s – essentially a significant (almost) extension of 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(I believe) express automata-based proposals (The Lucent &amp; Rome ga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-exist with parts of PSL (modulo first-order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*&amp;! Technical Found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-log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object-oriented logic; allows convenient frame-based representation of services as elements of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provides reification and important tractable higher-order features, which make lif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urrent Transaction Logic (CT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rovides process modeling capabilities, including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?*&amp;! Would Like 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ized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 Benjami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believe this is the only thing from Benjamin’s desiderata, which is not covered by the three technical pillars of  ?*&amp;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fication of process runs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y occurre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P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TR executions are not re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think capturing activity occurrences is just a matter of proper modeling of this concept – haven’t given it too much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tegration with the OW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t the level of D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ing OWL things as modules (this is loosely coupled, but acceptable, I belie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casing  ?*&amp;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us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transfer developed to a decent level of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iela/Rick’s travel 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ravel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 taken from W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Martin</cp:lastModifiedBy>
  <dcterms:modified xsi:type="dcterms:W3CDTF">2004-05-25T14:08:05Z</dcterms:modified>
  <cp:revision>8</cp:revision>
  <dc:subject/>
  <dc:title>PowerPoint Presentation</dc:title>
</cp:coreProperties>
</file>