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FCF1C-B98D-4E1C-8AC4-5005F9933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F1DB-5FCB-4137-A0CF-375D0EEE0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619AF-64F2-43BF-B3B6-91D7A2C71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4EDB-25B8-4CB7-9DE9-AD0DB383B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77B33-ECD1-4C17-8929-A2423167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E332D-D0EF-4B33-A121-862EA54B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40DCA-1DD0-4D74-AC85-368AE8B1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21891-FFD9-4086-9FB7-9BA98E6F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3BF5D-25D6-40F5-B57E-9908F6F1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1336C-0019-4836-ADBE-09DEA220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C64FF-CD90-42A3-A920-AB292AA5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5AB8-E76E-4232-828E-89DE052B0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288CD-600B-4406-8E7A-B39C76B7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16EB4-8CBF-4B85-94AE-04F95E4C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8DDE7-AAC7-4D89-977A-15ED2EEF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23854-0589-4FBE-A6E4-F9941176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9B243-420C-4034-AF3D-4286E50E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2ED49-05D6-4608-B8B3-A717E4D8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78929-C987-4434-842B-D5112130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775D4-8D49-491D-AB3E-FF8455A4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BBD3F-85B7-49F9-857B-8B409CC8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EBDCE-6D34-4705-8C06-358EF354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B5F79-DC2A-49AB-BB30-60CAEC974C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5FD32-4034-4B03-9287-BAB795F5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68E80-3529-440A-B8F0-D417B1BE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D2D3B-D932-4E55-814A-356C19DE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D2BE3-E49C-4FDA-8125-84B43BF7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03CB3-6A27-4AAC-9587-92025059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C6C6A-BF35-4851-933D-5E583F18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DF4E4-1788-4151-BA84-130AF01B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FBEFE-C46C-4D0E-AD30-3B2FC0AD0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A9B9-BF29-4A15-BC81-0279D3602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922F2-2D32-43D0-B2DF-0C94822F7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D24CA-9BB1-456A-809C-F258BE067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AA43E-4BEB-44CC-B88A-45364B8AD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33DF0-38CF-4AA7-A668-85AFB6E3E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Dieter Fens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aramond"/>
              </a:rPr>
              <a:t>dieter.fensel@deri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6932-D118-4103-B179-F03D23085A7D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484280"/>
            <a:ext cx="84960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1372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Dieter Fens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aramond"/>
              </a:rPr>
              <a:t>dieter.fensel@deri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B2AD-F1C0-4EB7-88C2-C8E17AA1FE77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2060640"/>
            <a:ext cx="84960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24360" y="33336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r>
              <a:rPr b="0" lang="nl-NL" sz="1400" spc="-1" strike="noStrike">
                <a:solidFill>
                  <a:srgbClr val="000000"/>
                </a:solidFill>
                <a:latin typeface="Garamond"/>
              </a:rPr>
              <a:t>14-06-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508720" y="692280"/>
          <a:ext cx="122400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692280"/>
                    <a:ext cx="12240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411280" y="692280"/>
          <a:ext cx="1224000" cy="12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692280"/>
                    <a:ext cx="12240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2060640"/>
            <a:ext cx="8496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r>
              <a:rPr b="0" lang="de-DE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Garamond"/>
              </a:rPr>
              <a:t>14-06-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Dieter Fens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aramond"/>
              </a:rPr>
              <a:t>dieter.fensel@deri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5A21-B07E-43C2-94F9-83BDB2CAED7D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smo.org/" TargetMode="External"/><Relationship Id="rId2" Type="http://schemas.openxmlformats.org/officeDocument/2006/relationships/hyperlink" Target="mailto:deri-wsmo@informatik.uibk.ac.at" TargetMode="External"/><Relationship Id="rId3" Type="http://schemas.openxmlformats.org/officeDocument/2006/relationships/hyperlink" Target="mailto:deri-wsmo-discussion@informatik.uibk.ac.at" TargetMode="External"/><Relationship Id="rId4" Type="http://schemas.openxmlformats.org/officeDocument/2006/relationships/hyperlink" Target="http://www.wsmo.org/2004/d6/d6.1/v1/" TargetMode="External"/><Relationship Id="rId5" Type="http://schemas.openxmlformats.org/officeDocument/2006/relationships/hyperlink" Target="http://www.wsmo.org/people.html" TargetMode="External"/><Relationship Id="rId6" Type="http://schemas.openxmlformats.org/officeDocument/2006/relationships/hyperlink" Target="http://www.wsmo.org/people.html" TargetMode="External"/><Relationship Id="rId7" Type="http://schemas.openxmlformats.org/officeDocument/2006/relationships/hyperlink" Target="http://www.wsmo.org/presentations.html" TargetMode="External"/><Relationship Id="rId8" Type="http://schemas.openxmlformats.org/officeDocument/2006/relationships/hyperlink" Target="http://www.wsmo.org/presentations.html" TargetMode="External"/><Relationship Id="rId9" Type="http://schemas.openxmlformats.org/officeDocument/2006/relationships/hyperlink" Target="http://www.wsmo.org/2004/index.html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smo.org/wsml" TargetMode="External"/><Relationship Id="rId2" Type="http://schemas.openxmlformats.org/officeDocument/2006/relationships/hyperlink" Target="mailto:deri-wsml@informatik.uibk.ac.at" TargetMode="External"/><Relationship Id="rId3" Type="http://schemas.openxmlformats.org/officeDocument/2006/relationships/hyperlink" Target="mailto:deri-wsmo-discussion@informatik.uibk.ac.at" TargetMode="External"/><Relationship Id="rId4" Type="http://schemas.openxmlformats.org/officeDocument/2006/relationships/hyperlink" Target="http://www.wsmo.org/2004/d6/d6.2/v1/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319120"/>
            <a:ext cx="7846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WSMO - revisit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WSL phone conference, 17-06-2004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ieter Fens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igital Enterprise Research Institu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ieter.fensel@deri.or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Links to SWS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ule language effor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horeography and orchestration languag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F54F-69DE-41DB-A81D-101CB9C275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Rule language effor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Six points I want to make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DL is an interesting subset of 1st order logic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HL is an interesting subset of 1st order logic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Full 1st order logic is an interesting languag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Pure logics are cumbersome tools for modeling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SWRL is crap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A useful rule language for the semantic web must follow a DL-minimalistic approach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FF68D-5FAA-4267-A9C9-FCE9BFD774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Garamond"/>
              </a:rPr>
              <a:t>(1) DL is interesting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because of its decidability/tractability propert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poken for the man on the street it is the fragment of logic that can be computationally explored around the existential quantifier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it is therefore worth to become standardized in OWL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besides the fact that I do not like at all OWL-Lite which is an overkill,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 smooth extension of RDFS would have been much more appropriat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Therefore we develope OWL-Flight (restricting OWL-Lite to DLP and extend it by RDF features).    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30EB6-42D2-47D9-99D7-2503D3A115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Garamond"/>
              </a:rPr>
              <a:t>(2) HL is interesting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because of its decidability/tractability propert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poken for the man on the street it is the fragment of logic that can be computationally explored around the all quantifi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without function symbols it is decidable and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with minimal-model semantics function symbols, non-monotinicity of negation, and even transitive closure (an extension of first order logic) can be expresse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It is therefore worth to become standardized by W3C, however, not in a way that destroy all features of rule languages by mixing it up too much with DL type of expression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Therefore we develope OWL-Flight (restricting OWL-Lite to DLP and extend it by rule features).  </a:t>
            </a: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Garamond"/>
              </a:rPr>
              <a:t>      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088FE-14F3-4050-A8C7-36E132C752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58560" y="549360"/>
            <a:ext cx="7885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Garamond"/>
              </a:rPr>
              <a:t>(3) First order logic is interesting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In oposition to DLs and HLs it provides significant more flexibility in writing down required axiom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This language is not fully mechanizable in terms of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reasoning support, however,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many interesting theorems can be proven and the theorem prover community has made significant progress over the last year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First order language could define the common umbrella, where DLs and HLs are sublanguages and unified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Therefore, we will redefine OWL-Full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9FA56-A3EE-4C0E-A7BB-B710E2FC20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4282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Garamond"/>
              </a:rPr>
              <a:t>(4) Pure logic is cumbersom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Pure logics is a cumbersome tool for modelin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Therefore, extensions like Flogic that allow quantification over classes and attributes are that helpful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W3C recommendations should care for this if they want to make their languages widely adopted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OWL-Flight provide these feature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7EB75-4015-4E0F-AB7C-DA094D8B00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Garamond"/>
              </a:rPr>
              <a:t>(5) I strongly dislike SWR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since it spoils the nice properties of rule languages for the price of defining the rule language as an extension of DLs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SWRL is meaningless since it defines a syntactical restriction of 1st order logic without any computational justification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SWRL is as undecidable and untractable as first order logic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Therefore, it is meaningless to syntactically restrict first order logic in that way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047E0-9157-4EB0-8C1C-22FE26F9BE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34560" y="368280"/>
            <a:ext cx="7427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aramond"/>
              </a:rPr>
              <a:t>(6) A useful rule language for the semantic web must follow a different approach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It should emply the full power of the HL fragment and include DL features only in case they do not harm this language type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Therefore, a HL language should be defined as an extension of RDFS and/or OWL-Lite (where OWL Lite is reduced to an actual lite subset of DL)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That is the rationale underlying OWL-Flight.</a:t>
            </a:r>
            <a:br>
              <a:rPr sz="2800"/>
            </a:b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1B4A-FD7A-4C1D-8A22-8A0D4FFFE1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horeography and orchestratio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aramond"/>
              </a:rPr>
              <a:t>Choreography is about communica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aramond"/>
              </a:rPr>
              <a:t>Orchestration is about task decomposi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aramond"/>
              </a:rPr>
              <a:t>Both elements require the specification of dynamic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aramond"/>
              </a:rPr>
              <a:t>We are using Abstract State Machines as a point of departure to formalize the basic principles for these language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aramond"/>
              </a:rPr>
              <a:t>And we are very eager to learn from you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D9C4-7C60-41AC-A157-4008607599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49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&lt;/ </a:t>
            </a: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WSMO 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32000" y="411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Q&amp;A&gt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Garamond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new structure and main deliverables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SMO Working Group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SML Working Group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SMX Working Group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nks to SWS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ule languag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horeography/Orchestration languag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FF482-6FB3-4F1E-A06B-F3AB067704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Garamond"/>
              </a:rPr>
              <a:t>Working Groups – general overview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87640" y="3105000"/>
            <a:ext cx="900360" cy="684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419640" y="1771560"/>
            <a:ext cx="1873080" cy="649440"/>
          </a:xfrm>
          <a:prstGeom prst="rect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SMO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4003560"/>
            <a:ext cx="1873080" cy="649440"/>
          </a:xfrm>
          <a:prstGeom prst="rect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WSMX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4003560"/>
            <a:ext cx="1873440" cy="64944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WSML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484360" y="241884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644720" y="241884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21080" y="43639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92720" y="206064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916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nceptual Model for S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465300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515772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Formal Language for W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92360" y="465300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51664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Rule-based Language for S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9440" y="465300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5157720"/>
            <a:ext cx="230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Execution Environment for W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735280" y="1773360"/>
            <a:ext cx="64764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863640" y="4005360"/>
          <a:ext cx="6476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005360"/>
                    <a:ext cx="647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201080" y="4005360"/>
          <a:ext cx="64764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01080" y="4005360"/>
                    <a:ext cx="647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3D92E-E1FD-473E-A29E-1219151367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Garamond"/>
              </a:rPr>
              <a:t>WSMO WG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eb sit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http://www.wsmo.org/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hairs: Christoph Bussler and Dieter Fensel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ailing list for group members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deri-wsmo@informatik.uibk.ac.a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ailing list for technical discussions: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deri-wsmo-discussion@informatik.uibk.ac.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ntact: dumitru.roman@deri.ie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ctivity sheet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4"/>
              </a:rPr>
              <a:t>http://www.wsmo.org/2004/d6/d6.1/v1/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ound 14 deliverables with defined editors and deadline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embers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5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6"/>
              </a:rPr>
              <a:t>www.wsmo.org/people.htm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urrently 58 member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esentations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7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8"/>
              </a:rPr>
              <a:t>www.wsmo.org/presentations.htm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urrently more than 45 presentations on related aspect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urrent working drafts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9"/>
              </a:rPr>
              <a:t>http://www.wsmo.org/2004/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7812000" y="404640"/>
            <a:ext cx="924120" cy="9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7968C-C902-43E9-9102-885F4BDCAE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Garamond"/>
              </a:rPr>
              <a:t>WSMO – main deliverabl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nceptual model for Semantic Web Servic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SMO Standard (D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SMO Lite (D1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SMO Full (D1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horeography (D14) and Orchestration (D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ot yet clearly defined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tention: use ASMs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howcasing: WSMO Primer (D3.1) and Case Studies (D3.2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nceptual Comparison WSMO/OWL-S (D4.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SMO Tutorial (D17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SMO in DIP(D19.1), KW(D19.2) and SEKT(D19.3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812000" y="404640"/>
            <a:ext cx="924120" cy="9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E4F5-6958-4BC7-9097-DD3FEDB02D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Garamond"/>
              </a:rPr>
              <a:t>WSML WG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eb sit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http://www.wsmo.org/wsm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hair: Dieter Fensel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ailing list for group members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deri-wsml@informatik.uibk.ac.a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ailing list for technical discussions: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deri-wsmo-discussion@informatik.uibk.ac.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ntact: dumitru.roman@deri.ie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ctivity sheet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4"/>
              </a:rPr>
              <a:t>http://www.wsmo.org/2004/d6/d6.2/v1/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ound 18 deliverables with defined editors and deadline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embers: http://www.wsmo.org/people.htm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urrently 16 member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esentations: http://www.wsmo.org/presentations.htm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urrently 13 presentations on related aspect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urrent working drafts: http://www.wsmo.org/2004/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12000" y="368280"/>
          <a:ext cx="973080" cy="97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12000" y="368280"/>
                    <a:ext cx="9730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A2C3-BFAF-4D22-B90E-99794DAF45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Garamond"/>
              </a:rPr>
              <a:t>WSML – main deliverabl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WSML languag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WSML User language (D16.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SML/XML (An XML Syntax for WSML) (D16.3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-logic/XML (An XML Syntax for F-logic) (D16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SML OWL Syntax (D16.5) – not yet defined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Inferencing with WSM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Inferencing support for SWS: Proof Obligations (D5.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ferencing Support for Semantic Web Services: Tools for Semantic Support (D5.2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anguage Evaluation and Comparison (D8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Mapping to OWL-S (D4.3) – not yet define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ntology Language API (D18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OWL-Lit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¯ (D20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812000" y="368280"/>
          <a:ext cx="973080" cy="9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368280"/>
                    <a:ext cx="9730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B7B77-AA49-4CE7-A122-0F282A9932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Garamond"/>
              </a:rPr>
              <a:t>WSMX WG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eb sit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 http://www.wsmx.org/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air: Christoph Bussler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iling list for group members: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ri-wsmx@informatik.uibk.ac.at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iling list for technical discuss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ri-wsmo-discussion@informatik.uibk.ac.a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act: michal.zaremba@deri.i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ctivity sheet: http://www.wsmo.org/2004/d6/d6.3/v1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round 12 deliverables with defined editors and deadline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embers: http://www.wsmo.org/people.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urrently 33 member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urrent working drafts: http://www.wsmo.org/2004/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812000" y="404640"/>
          <a:ext cx="90972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404640"/>
                    <a:ext cx="9097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4737C-6E2D-47F0-A0E2-B8080B7C8D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Garamond"/>
              </a:rPr>
              <a:t>WSMX – main deliverabl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WSMO Editor (D9)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WSMO Registry (D10)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verview and Scope of WSMX (D13.0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WSMX Conceptual Model (D13.1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WSMX Execution Semantics (D13.2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WSMX Mediation (D13.3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WSMX Architecture (D13.4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WSMX Implementation (D13.5) – first version expected end of June, 2004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812000" y="404640"/>
          <a:ext cx="90972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404640"/>
                    <a:ext cx="9097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8FAF5-3ADD-44D8-9ADC-5BC9FABD89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3:00:00Z</dcterms:created>
  <dc:creator/>
  <dc:description/>
  <dc:language>en-US</dc:language>
  <cp:lastModifiedBy/>
  <dcterms:modified xsi:type="dcterms:W3CDTF">2004-06-12T20:11:44Z</dcterms:modified>
  <cp:revision>2</cp:revision>
  <dc:subject/>
  <dc:title>WSMO - revisited </dc:title>
</cp:coreProperties>
</file>