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A13-DE5A-43BF-B023-156645B3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6AE-4AD5-41A1-8ADC-4B757012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AEF-6539-4EE6-8E98-9A5B3E54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14B-2779-4919-BE53-A6E52867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5D6-C882-48F3-A0FA-C8F284A6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7BD-979C-4023-81D8-21D0169B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FE1-EC01-4D80-99FF-B221B21A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0FB-3883-4749-BBC8-58D0C600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E1E-1827-400D-A802-BEE2386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D41-1402-4A2F-B9CC-722DA7A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3E8-E747-48B6-AE04-3EB9F1D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410-9B98-4935-84CA-C9E2094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092-CC7B-4931-B55C-728EA3BA2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25280"/>
            <a:ext cx="5181840" cy="78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6477120" y="88920"/>
          <a:ext cx="2581200" cy="825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88920"/>
                    <a:ext cx="2581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eve@enigmatec.net" TargetMode="External"/><Relationship Id="rId2" Type="http://schemas.openxmlformats.org/officeDocument/2006/relationships/hyperlink" Target="http://www.enigmatec.net/" TargetMode="External"/><Relationship Id="rId3" Type="http://schemas.openxmlformats.org/officeDocument/2006/relationships/hyperlink" Target="http://www.w3c.org/2002/ws/cg/" TargetMode="External"/><Relationship Id="rId4" Type="http://schemas.openxmlformats.org/officeDocument/2006/relationships/hyperlink" Target="http://www.w3c.org/2002/ws/chor/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w3.org/TR/2004/WD-ws-cdl-10-20040427/" TargetMode="External"/><Relationship Id="rId2" Type="http://schemas.openxmlformats.org/officeDocument/2006/relationships/hyperlink" Target="http://www.w3.org/TR/2004/WD-ws-chor-model-20040324/" TargetMode="External"/><Relationship Id="rId3" Type="http://schemas.openxmlformats.org/officeDocument/2006/relationships/hyperlink" Target="http://www.enigmatec.net/" TargetMode="External"/><Relationship Id="rId4" Type="http://schemas.openxmlformats.org/officeDocument/2006/relationships/hyperlink" Target="http://www.enigmatec.net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 Chore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th April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teve Ross-Tal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ef Scientist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nigmatec Corporation L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 W3C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eb Service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chair W3C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eb Services Chor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eographing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3C Web Services Choreography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Describing peer to peer interaction in a global model by means of a C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: Formalized description of external observable behavior across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or: Modeling cross domain protocols, protocol enforcement, skeletal code generation (i.e. for F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: Requirements document formally published, Model Overview document published to mailing list. Due to deliver end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hor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S-Chore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erns the collaboration protocols of cooperating Web Service particip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 act as pe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 interact in long-lived, stateful &amp; coordinated fash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S-Choreography description is a multi-participant contract that describes, from a Global Viewpoint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ble behavior of the collaborating WS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S-CDL is a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</a:rPr>
              <a:t>language in which such a contract is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ation underway in the W3C Choreography 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 WS-C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a common understanding between WS participa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guarantee conformanc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interoperability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robustnes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code skele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a WS-C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obust Web Services to be constructe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more effective interoperability of Web Services through behavioral multi-party contracts, which are choreography description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he cost of implementing Web Services by ensuring conformance to expected behaviou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utility of Web Services as they will be able to be shown to meet contractu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WS-C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ontract-like mechanisms are exhibited in the literature for cap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lock-freedom (Kobayashi, 99, 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ness (Kobayashi, 01; Yoshida, et al, 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(Abadi et al; Cardelli and Gordon; Berger, Honda, Yosh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management (Tofte; Kobayashi; Gordon and Dal Zillio; Yoshida, et 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tract language that guaranteed even basic versions of these properties (at the compatibility level) then that would be a significant advance over the state of the 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90920" y="3733920"/>
          <a:ext cx="4038480" cy="2657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service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es roughly what client wants it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imulation ‘approximation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aviorial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066680" y="2133720"/>
            <a:ext cx="7010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ork needs to be carried out using formal basis. To the extent possibl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sign deliberations can and should be a matter of calc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process calculi provide a natural candi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process calcul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828800"/>
          <a:ext cx="8229600" cy="4699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888920"/>
                <a:gridCol w="1401840"/>
                <a:gridCol w="164628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si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ing Mac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i 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4140360" cy="307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2514600" cy="300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95280" y="2286000"/>
            <a:ext cx="414036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181480" y="2590920"/>
            <a:ext cx="21877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642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chestration vs Chore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-B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-C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pin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410080" cy="2720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33920" y="2717640"/>
            <a:ext cx="42987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Glob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7432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equenti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(open,close,request,reply) 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.reques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reply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reques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reply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close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600" y="39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54800" y="388620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65400" y="39304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99120" y="392112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173400" y="4592520"/>
            <a:ext cx="3227400" cy="1668600"/>
            <a:chOff x="3173400" y="4592520"/>
            <a:chExt cx="3227400" cy="1668600"/>
          </a:xfrm>
        </p:grpSpPr>
        <p:sp>
          <p:nvSpPr>
            <p:cNvPr id="96" name=""/>
            <p:cNvSpPr/>
            <p:nvPr/>
          </p:nvSpPr>
          <p:spPr>
            <a:xfrm>
              <a:off x="4052880" y="4844880"/>
              <a:ext cx="1487520" cy="141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01280" y="530388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92480" y="550692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73400" y="5181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46480" y="525600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327480" y="5946480"/>
              <a:ext cx="82368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37840" y="57308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11640" y="580536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98840" y="4717800"/>
              <a:ext cx="66204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06120" y="45925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79920" y="4667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0400" y="5543280"/>
              <a:ext cx="8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8560" y="51670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Glob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7432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repetitiv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(open,close,request,reply) 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.reques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repl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reques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repl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close.Client(open,close,request,rep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173400" y="4960800"/>
            <a:ext cx="3227400" cy="1668600"/>
            <a:chOff x="3173400" y="4960800"/>
            <a:chExt cx="3227400" cy="1668600"/>
          </a:xfrm>
        </p:grpSpPr>
        <p:sp>
          <p:nvSpPr>
            <p:cNvPr id="112" name=""/>
            <p:cNvSpPr/>
            <p:nvPr/>
          </p:nvSpPr>
          <p:spPr>
            <a:xfrm>
              <a:off x="4052880" y="5213160"/>
              <a:ext cx="1487520" cy="141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1280" y="567216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2480" y="587520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3400" y="5549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6480" y="562428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327480" y="6314760"/>
              <a:ext cx="82368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37840" y="6099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11640" y="617364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98840" y="5086080"/>
              <a:ext cx="66204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6120" y="49608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79920" y="503532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40400" y="5911560"/>
              <a:ext cx="8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68560" y="55353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130400" y="42800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54800" y="427032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0200" y="427824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28616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Glob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cess with choices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leServer(o,req,rep,c) 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.BusyServer(o,req,rep,clo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syServer(o,req,rep,c) 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q.rep.BusyServer(o,req,rep,c)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.IdleServer(o,req,rep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44360" y="5289480"/>
            <a:ext cx="2366640" cy="1416240"/>
            <a:chOff x="1044360" y="5289480"/>
            <a:chExt cx="2366640" cy="1416240"/>
          </a:xfrm>
        </p:grpSpPr>
        <p:sp>
          <p:nvSpPr>
            <p:cNvPr id="132" name=""/>
            <p:cNvSpPr/>
            <p:nvPr/>
          </p:nvSpPr>
          <p:spPr>
            <a:xfrm>
              <a:off x="1923840" y="5289480"/>
              <a:ext cx="1487160" cy="141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83320" y="579744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dle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3440" y="595152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4360" y="562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05080" y="4992840"/>
            <a:ext cx="3162240" cy="1667880"/>
            <a:chOff x="5905080" y="4992840"/>
            <a:chExt cx="3162240" cy="1667880"/>
          </a:xfrm>
        </p:grpSpPr>
        <p:sp>
          <p:nvSpPr>
            <p:cNvPr id="137" name=""/>
            <p:cNvSpPr/>
            <p:nvPr/>
          </p:nvSpPr>
          <p:spPr>
            <a:xfrm>
              <a:off x="6719760" y="5245200"/>
              <a:ext cx="1486800" cy="141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4880" y="5753160"/>
              <a:ext cx="13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usy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994000" y="6346800"/>
              <a:ext cx="82368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05080" y="61308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65720" y="5118120"/>
              <a:ext cx="661320" cy="4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3000" y="499284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54880" y="5641920"/>
              <a:ext cx="53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06920" y="5943600"/>
              <a:ext cx="8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35080" y="55674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729320" y="42148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Glob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unication, Concurrency and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!Client | Idle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| Idle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| Busy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| Idle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| Busy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743200"/>
            <a:ext cx="267156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lien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s started an exchange with Idle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ther Client can then communicate with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Clien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s finished and the server is once again 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and the pi-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2362320"/>
          <a:ext cx="6095880" cy="42037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π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(y),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a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(y).P + b(x).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∑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π</a:t>
                      </a:r>
                      <a:r>
                        <a:rPr b="1" lang="en-GB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(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GB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r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={…..}.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et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et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|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urr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)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aps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6553080" y="3124080"/>
            <a:ext cx="2362320" cy="1143000"/>
          </a:xfrm>
          <a:prstGeom prst="wedgeRoundRectCallout">
            <a:avLst>
              <a:gd name="adj1" fmla="val -100069"/>
              <a:gd name="adj2" fmla="val -5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apse send and rece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act on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and the pi-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checking for livelock, deadlock and lea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types and caus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ust behavioral typ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-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here are we to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orking Draft V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oking for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ts of work with vertical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oking to last call end Q4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00360" y="190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DL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d con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 for end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for last call end of Q4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S-CDL Working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S-CDL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EL4W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Enigma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chestration vs Chor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dance with more than one dan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ancer has a set of steps that they will perform. They orchestrate their own steps because they are in complete control of their domain (their bod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oreographer ensures that the steps all of the dancers make is according to some overall scheme. We call this a chor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ncers have a single view point of the d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oreography has a multi-party or global view point of the d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chestration vs Chor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chestration is about describing and executing a single view point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reography is about describing and guiding a global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erive the single view point model from the global model by projecting based on particip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BPEL and WS-C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-B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chestration implies a centralized control mecha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-C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reography has no centralized control. Instead control is shared between 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chestration of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asis WS-BPEL 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Orchestration of web services and recursive composition there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: Scoped programming language (BPEL) with behavioural interfaces (Abstract BP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Orchestration of Web Services in a single domain of control (i.e. order flow within institu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: Currently X issues to resolve and based on WSDL1.1 and some proprietary specs. Due to deliver Q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: Licensing. Based on some proprietary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BP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Web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time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sed orche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end-poin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the necessary WSDL calls effecting message exchange betwee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reuse of WSDL col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BP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threa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 (Turing Comple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BPEL -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sed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form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calable (requires the concept of dual connectiv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ollabo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2:09:56Z</dcterms:created>
  <dc:creator>Sari Shein</dc:creator>
  <dc:description/>
  <dc:language>en-US</dc:language>
  <cp:lastModifiedBy>Sari Shein</cp:lastModifiedBy>
  <cp:lastPrinted>2004-02-01T18:05:26Z</cp:lastPrinted>
  <dcterms:modified xsi:type="dcterms:W3CDTF">2004-04-29T17:30:55Z</dcterms:modified>
  <cp:revision>46</cp:revision>
  <dc:subject/>
  <dc:title>RAND</dc:title>
</cp:coreProperties>
</file>