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34FA-2107-4D88-9649-1DE440A1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C4C-6DA9-4DDA-8C30-6408F5BE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3B4-4924-4445-B807-824AA268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05D-32A4-435F-B327-EE646B19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FFA-9B8C-4820-98F8-A2224797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999-77D3-418F-8991-74586208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278-C789-4EF2-9AFA-A384424D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9F3-E6C7-4F1A-AED1-BD2CE872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215-E683-4343-9986-E9F0F486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232-9E6B-4296-BE7B-351E415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127-44F4-4B89-BC7B-8A0522C2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C37-0D6D-4E30-9859-DB507176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SL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82AB-3834-472B-9E25-D069069CA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smo.org/2004/d20/v0.2/20040630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SL Rul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tch of the propose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G  &amp;  M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ervice Discovery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oFindService(?Goal)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Goal[inp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Input]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Serv[precondition(?Input)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Precond]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Precond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Goal[inp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FreshInput]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Serv[postcondition(?FreshInput)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PostCond]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rule{?PostCond}  and      // hypothetically assume post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heck if our goal is satisfied by th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Goal[inte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Intent] 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?I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 (write('Service ') and  write(?Serv) and writeln(' matches!')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Remove the hypothetically added facts and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rule{?PostCond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436-3C14-42E3-84EC-C52300DC4E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ughts on a Bridge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SL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(?Input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(?Input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process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${ (sand </a:t>
            </a: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int) </a:t>
            </a: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a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2286000"/>
            <a:ext cx="2971800" cy="380880"/>
          </a:xfrm>
          <a:prstGeom prst="wedgeRoundRectCallout">
            <a:avLst>
              <a:gd name="adj1" fmla="val -73611"/>
              <a:gd name="adj2" fmla="val 331666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model reified as a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280" y="4952880"/>
            <a:ext cx="71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odel could be a PSL statement or expressed in som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.  We assume it is some kind of a first-order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333-F473-40FE-A2B8-B2FE6CFA5E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ughts on a Bridge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123[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processQu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${ sand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s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n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057400"/>
            <a:ext cx="2971800" cy="380880"/>
          </a:xfrm>
          <a:prstGeom prst="wedgeRoundRectCallout">
            <a:avLst>
              <a:gd name="adj1" fmla="val -95351"/>
              <a:gd name="adj2" fmla="val 257083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ified as a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1000" y="4379760"/>
            <a:ext cx="71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ing of process query against process model can be done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order theorem prover, which can be treated as a proce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ment that takes 2 reified formulas and tells whether one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C70-496C-4810-99C6-9822883FBA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based with non-mon n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s, class hierarchy, instances of classes, classes as instances (some OWL-Full features for che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F-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-order syntax, first-order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can be anywhere (predicate, function positions) which allows introspection of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fication: rules, rule bodies, rul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H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4FE-1E78-4A4D-ADEC-31EEC89D67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Featur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priorities, constraints, negation in the rule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add expressive power, but lets the programmer specify complex cases of negation much more succinctly and cl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courteous LP approach by B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specifying complex policie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B2E-BDA4-469B-A03D-2E4E49100B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Featur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l att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changing operators (a la SQL bulk upd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ransaction Logic (and possibly some non-log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A92-80F4-4F36-ADF1-79B0D0ED61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 to O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OWL Lit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he paper by de Bruijn, Polleres, Fensel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smo.org/2004/d20/v0.2/20040630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 Lit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ncludes the most significant features of OWL 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some of the features of OWL 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as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ct intersection of SWSL Rules and OWL is not known at thi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1CD-1831-4B15-9529-D2C0A908CD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Travel Re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can sell tickets from city A to city B or sell citipasses for a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 sh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as a reified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goals (Boolean comb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in postconditions an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effects can depend on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/goals can include time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/services can contain universal qua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101-F929-4AE5-9F95-0E5E78B717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Tax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, france, europe, etc. – classes of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s, bonn, etc. –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ermany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sub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eur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ustria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sub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eur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rance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sub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eur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yrol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sub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aust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nsbruck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ty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ienz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ty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ienna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aust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onn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germ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rankfurt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germ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aris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f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ancy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f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987-6695-42F7-9EF3-D36DE8658D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A Service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1 sells tickets &amp; citip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1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ondition(?Input)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$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Input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l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?Req[from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From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To]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Req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quest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?From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rmany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?To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Input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l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?Req[citipa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?City]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Req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quest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?City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y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(?Input)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${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icket(?Req)[star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From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tina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To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imeran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2,18]]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Input 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l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?Req[from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From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T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?Req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ss(?Req)[loca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City]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Input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l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?Req[citipa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City]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City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yro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Req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1371600"/>
            <a:ext cx="1852560" cy="679320"/>
          </a:xfrm>
          <a:custGeom>
            <a:avLst/>
            <a:gdLst/>
            <a:ahLst/>
            <a:rect l="l" t="t" r="r" b="b"/>
            <a:pathLst>
              <a:path w="1167" h="428">
                <a:moveTo>
                  <a:pt x="0" y="0"/>
                </a:moveTo>
                <a:cubicBezTo>
                  <a:pt x="96" y="26"/>
                  <a:pt x="406" y="99"/>
                  <a:pt x="577" y="155"/>
                </a:cubicBezTo>
                <a:cubicBezTo>
                  <a:pt x="748" y="211"/>
                  <a:pt x="929" y="291"/>
                  <a:pt x="1027" y="336"/>
                </a:cubicBezTo>
                <a:cubicBezTo>
                  <a:pt x="1125" y="381"/>
                  <a:pt x="1138" y="409"/>
                  <a:pt x="1167" y="42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1295280"/>
            <a:ext cx="4127400" cy="1752840"/>
          </a:xfrm>
          <a:custGeom>
            <a:avLst/>
            <a:gdLst/>
            <a:ahLst/>
            <a:rect l="l" t="t" r="r" b="b"/>
            <a:pathLst>
              <a:path w="2552" h="1296">
                <a:moveTo>
                  <a:pt x="0" y="0"/>
                </a:moveTo>
                <a:cubicBezTo>
                  <a:pt x="380" y="64"/>
                  <a:pt x="760" y="128"/>
                  <a:pt x="1152" y="240"/>
                </a:cubicBezTo>
                <a:cubicBezTo>
                  <a:pt x="1544" y="352"/>
                  <a:pt x="2152" y="512"/>
                  <a:pt x="2352" y="672"/>
                </a:cubicBezTo>
                <a:cubicBezTo>
                  <a:pt x="2552" y="832"/>
                  <a:pt x="2464" y="1104"/>
                  <a:pt x="2352" y="1200"/>
                </a:cubicBezTo>
                <a:cubicBezTo>
                  <a:pt x="2240" y="1296"/>
                  <a:pt x="1880" y="1248"/>
                  <a:pt x="1680" y="1248"/>
                </a:cubicBezTo>
                <a:cubicBezTo>
                  <a:pt x="1480" y="1248"/>
                  <a:pt x="1316" y="1224"/>
                  <a:pt x="1152" y="1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1DD-DC3F-42CF-B0FF-94CC1DEC1B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A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ervices that can sell a pas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ty in Tyrol and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ty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123[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{_#1[citipass-&gt; ?_]} 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{?Pass[loca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X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ance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ca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X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ro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for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City  (</a:t>
            </a: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?City </a:t>
            </a: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ance </a:t>
            </a: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exi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Pass1  (?Pass1[loca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City]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#1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828800"/>
            <a:ext cx="1752480" cy="533520"/>
          </a:xfrm>
          <a:prstGeom prst="wedgeRoundRectCallout">
            <a:avLst>
              <a:gd name="adj1" fmla="val -158606"/>
              <a:gd name="adj2" fmla="val 94939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-generated new objec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2624040"/>
            <a:ext cx="444600" cy="347760"/>
          </a:xfrm>
          <a:custGeom>
            <a:avLst/>
            <a:gdLst/>
            <a:ahLst/>
            <a:rect l="l" t="t" r="r" b="b"/>
            <a:pathLst>
              <a:path w="301" h="252">
                <a:moveTo>
                  <a:pt x="225" y="0"/>
                </a:moveTo>
                <a:cubicBezTo>
                  <a:pt x="178" y="7"/>
                  <a:pt x="133" y="19"/>
                  <a:pt x="86" y="29"/>
                </a:cubicBezTo>
                <a:cubicBezTo>
                  <a:pt x="49" y="53"/>
                  <a:pt x="16" y="70"/>
                  <a:pt x="0" y="115"/>
                </a:cubicBezTo>
                <a:cubicBezTo>
                  <a:pt x="2" y="136"/>
                  <a:pt x="3" y="158"/>
                  <a:pt x="6" y="179"/>
                </a:cubicBezTo>
                <a:cubicBezTo>
                  <a:pt x="9" y="197"/>
                  <a:pt x="0" y="227"/>
                  <a:pt x="17" y="231"/>
                </a:cubicBezTo>
                <a:cubicBezTo>
                  <a:pt x="46" y="237"/>
                  <a:pt x="33" y="233"/>
                  <a:pt x="57" y="242"/>
                </a:cubicBezTo>
                <a:cubicBezTo>
                  <a:pt x="205" y="237"/>
                  <a:pt x="189" y="252"/>
                  <a:pt x="271" y="202"/>
                </a:cubicBezTo>
                <a:cubicBezTo>
                  <a:pt x="291" y="129"/>
                  <a:pt x="301" y="201"/>
                  <a:pt x="282" y="52"/>
                </a:cubicBezTo>
                <a:cubicBezTo>
                  <a:pt x="278" y="22"/>
                  <a:pt x="212" y="13"/>
                  <a:pt x="225" y="0"/>
                </a:cubicBezTo>
                <a:close/>
              </a:path>
            </a:pathLst>
          </a:custGeom>
          <a:noFill/>
          <a:ln w="93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840" y="5334120"/>
            <a:ext cx="42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: Is adding quantifiers a good id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DEE-02C3-481D-9BD3-5F56A4C272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4:21:01Z</dcterms:created>
  <dc:creator>Michael Kifer</dc:creator>
  <dc:description/>
  <dc:language>en-US</dc:language>
  <cp:lastModifiedBy>Michael Kifer</cp:lastModifiedBy>
  <dcterms:modified xsi:type="dcterms:W3CDTF">2004-07-02T23:41:44Z</dcterms:modified>
  <cp:revision>30</cp:revision>
  <dc:subject/>
  <dc:title>Service Discovery Using Transaction Logic Reasoning</dc:title>
</cp:coreProperties>
</file>