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A701-F434-4BA7-812A-719F29EDD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968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6BC9-445D-4023-8339-26BA90958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5560" y="134136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968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35560" y="3968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D8B3-9485-4E8B-B58F-C457C5B2F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8000" y="134136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96360" y="134136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968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88000" y="3968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96360" y="3968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C7DA-83AD-4F80-9206-5EAB977E6D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A0C2-A0CE-47EB-A5A1-30A6E576E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FEBC-F946-4D28-8934-80C160621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35560" y="134136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0E83-46C7-46BA-92DE-346451115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BD3B-E5F6-47C1-AA5D-21F6FEFE8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94ED-0F6C-46EA-AE04-4C7803ECB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5560" y="134136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968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5EEF-70F7-4E30-9893-F1CB404BE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5560" y="134136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35560" y="3968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1246-859A-49C3-877F-BE76AF3E9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5560" y="134136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968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5EE7-13C8-4764-A023-DE661B65E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476760"/>
            <a:ext cx="5867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©200</a:t>
            </a:r>
            <a:r>
              <a:rPr b="0" lang="fr-CH" sz="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, Karl Aberer, EPFL, School of Computer and Communication Scien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DB5A-6FFD-4E79-BF67-4EBC8CE9BA7E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Requirements for Semantic Web Seriv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CROSSFLOW and OPELI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rl Aberer - EPF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ope of B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257560" y="2895480"/>
            <a:ext cx="4495680" cy="274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62120" y="3124080"/>
            <a:ext cx="3103560" cy="19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14760" y="3352680"/>
            <a:ext cx="2033280" cy="120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0"/>
            <a:endCxn id="69" idx="3"/>
          </p:cNvCxnSpPr>
          <p:nvPr/>
        </p:nvCxnSpPr>
        <p:spPr>
          <a:xfrm flipH="1" flipV="1">
            <a:off x="3552480" y="2640960"/>
            <a:ext cx="180000" cy="71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6" idx="0"/>
            <a:endCxn id="71" idx="3"/>
          </p:cNvCxnSpPr>
          <p:nvPr/>
        </p:nvCxnSpPr>
        <p:spPr>
          <a:xfrm flipH="1" flipV="1">
            <a:off x="4085640" y="2285640"/>
            <a:ext cx="2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5" idx="0"/>
            <a:endCxn id="73" idx="3"/>
          </p:cNvCxnSpPr>
          <p:nvPr/>
        </p:nvCxnSpPr>
        <p:spPr>
          <a:xfrm flipV="1">
            <a:off x="4505040" y="1904400"/>
            <a:ext cx="1911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>
            <a:off x="1184400" y="248904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Information comme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0680" y="213372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Electronic comme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4880" y="1752480"/>
            <a:ext cx="28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Cooperation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267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4" idx="4"/>
            <a:endCxn id="76" idx="0"/>
          </p:cNvCxnSpPr>
          <p:nvPr/>
        </p:nvCxnSpPr>
        <p:spPr>
          <a:xfrm flipH="1">
            <a:off x="2980440" y="4419360"/>
            <a:ext cx="21996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2588400" y="64008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Netb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67040" y="3581280"/>
            <a:ext cx="3049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7" idx="4"/>
            <a:endCxn id="79" idx="0"/>
          </p:cNvCxnSpPr>
          <p:nvPr/>
        </p:nvCxnSpPr>
        <p:spPr>
          <a:xfrm flipH="1">
            <a:off x="1837440" y="4191120"/>
            <a:ext cx="11818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1604520" y="5943600"/>
            <a:ext cx="4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24240" y="3581280"/>
            <a:ext cx="99072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80" idx="4"/>
            <a:endCxn id="82" idx="0"/>
          </p:cNvCxnSpPr>
          <p:nvPr/>
        </p:nvCxnSpPr>
        <p:spPr>
          <a:xfrm>
            <a:off x="3819240" y="4952520"/>
            <a:ext cx="7642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3986640" y="65530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Rosett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90920" y="3124080"/>
            <a:ext cx="1828800" cy="221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22040" y="624852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KQ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3" idx="4"/>
            <a:endCxn id="84" idx="0"/>
          </p:cNvCxnSpPr>
          <p:nvPr/>
        </p:nvCxnSpPr>
        <p:spPr>
          <a:xfrm>
            <a:off x="5305320" y="5334120"/>
            <a:ext cx="14724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1952640" y="2590920"/>
            <a:ext cx="6019920" cy="3352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6" idx="0"/>
            <a:endCxn id="88" idx="2"/>
          </p:cNvCxnSpPr>
          <p:nvPr/>
        </p:nvCxnSpPr>
        <p:spPr>
          <a:xfrm flipV="1">
            <a:off x="4962240" y="1904400"/>
            <a:ext cx="1104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112000" y="1600200"/>
            <a:ext cx="190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Data and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2" idx="0"/>
            <a:endCxn id="86" idx="4"/>
          </p:cNvCxnSpPr>
          <p:nvPr/>
        </p:nvCxnSpPr>
        <p:spPr>
          <a:xfrm flipV="1">
            <a:off x="4583160" y="5942880"/>
            <a:ext cx="380160" cy="610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0" name=""/>
          <p:cNvCxnSpPr>
            <a:stCxn id="79" idx="0"/>
            <a:endCxn id="86" idx="4"/>
          </p:cNvCxnSpPr>
          <p:nvPr/>
        </p:nvCxnSpPr>
        <p:spPr>
          <a:xfrm>
            <a:off x="1837800" y="5943240"/>
            <a:ext cx="3125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1" name=""/>
          <p:cNvCxnSpPr>
            <a:stCxn id="76" idx="0"/>
            <a:endCxn id="86" idx="4"/>
          </p:cNvCxnSpPr>
          <p:nvPr/>
        </p:nvCxnSpPr>
        <p:spPr>
          <a:xfrm flipV="1">
            <a:off x="2981160" y="5943240"/>
            <a:ext cx="19821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92" name=""/>
          <p:cNvSpPr/>
          <p:nvPr/>
        </p:nvSpPr>
        <p:spPr>
          <a:xfrm>
            <a:off x="4191120" y="3276720"/>
            <a:ext cx="68580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22480" y="62485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FB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2" idx="4"/>
            <a:endCxn id="93" idx="0"/>
          </p:cNvCxnSpPr>
          <p:nvPr/>
        </p:nvCxnSpPr>
        <p:spPr>
          <a:xfrm>
            <a:off x="4533840" y="4952520"/>
            <a:ext cx="1395720" cy="129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2819520" y="3429000"/>
            <a:ext cx="1600200" cy="99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ope of B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52480" y="22096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5486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88760" y="56386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Verdana"/>
              </a:rPr>
              <a:t>Expressivity of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3880" y="1676520"/>
            <a:ext cx="39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Verdana"/>
              </a:rPr>
              <a:t>Reasoning on execution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17360" y="2835360"/>
            <a:ext cx="15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Secure 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91800" y="4800600"/>
            <a:ext cx="11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4520" y="4800600"/>
            <a:ext cx="148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Micro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mar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6080" y="480060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ICE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4960" y="3733920"/>
            <a:ext cx="5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Verdana"/>
              </a:rPr>
              <a:t>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ary: What's relevant for SWS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act no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ordination by specification of local intera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s also decentralized architect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nstructural properties of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particular their composition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ynamic process specif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ally evolving execution constraints and termination goa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 parameter determin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ing and Control capabilit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agmatic dimen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gotiation, obligation, conflict re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gal significance of service specif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ground CROSSFLOW - www.crossflow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FLOW – EU Project, Sep 98 – Sep 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ss-Organizational Workflow Support in Virtual Enterpris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975040"/>
            <a:ext cx="4438800" cy="333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05200" y="2584440"/>
            <a:ext cx="4438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ground OPELIX – www.opelix.o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LIX – EU Project: Jan 2000 – Jun 200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 Open Personalised Information Commerce Syste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9770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liminary: Basic Service Descri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ollowing is assumed to be standard in the follow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les of participa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sic actions/interactions (including data/message typ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itial and final state condi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traints on action-role assign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ecution constraints (pre- and postcondition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ssFlow Case Stud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urance Scena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stics Scena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5965560" cy="302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19640" y="4292640"/>
            <a:ext cx="52956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ntract) Requirements from CrossF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search and matchmaking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 as legal agreement (parties, duratio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y process structure and parame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multiple service instantiations (constraints on instances and tim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rate communciation links and invoke servi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oS Requirements (Quality of Servic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ch parameters, activities, aggregate information can be monitored at what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sh or pull access to monitored parameters, temporal constra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oC Requirements (Level of Contro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, abort, continue the provider proc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ensation capabili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ameter changes (which, whe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CC Requirements (Flexible Change Contro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non-structural goals of the service (duration, cost, quality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lative importance of non-structural vs. structural goals, activi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dering constraints between activities of the service (and their importanc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LIX Case Studies: Commercial Web Port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enario (both Logon and Cultural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b portal on object technology/software/ev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viding different categories of information depending on the user pro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exible definition of business models (offers, negotiation, order processing, paymen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fferent roles in i-commerce (Vendor, Broker, Buyer, Searching agent provider, Multiplier, Associations, Partners,Associates, Supplier, Virtual community, Third party marketplace, Mediator, Administrator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rious delivery modalities for information (push, pull, periodic, conditiona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Business Offer Language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l Conceptually typical information business activit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elling negotiation of offers, delivery modalities, dependencies and obligation, payment, authentication etc. uniformly treated as information servi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business mode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ign influenced 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gent communication languages, ICE standard, EDI protocols, deontic log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sic abstraction for state-change is a communciation a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sic primitives: who, what, ho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le-based specification of pre-condi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icit state changes (without communication) can be specified in contra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promise-request-delivery model to capture negotiation and obligation (-&gt; autonomy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ementation of execution environement exis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cise semantics in transaction logics currently elabora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soning using logic-based semanti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les: OMG_member, Logo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oods: base_info(at: TIME, url: URL) : Logon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MG_member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gistration(email: EMAIL) : OMG_member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o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ules: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quested(Logon, OMG-member, registration(e),t) and NOW &lt; t+1d -&gt; [deliver(OMG_member, Logon, registration(e))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Comic Sans MS"/>
              </a:rPr>
              <a:t>« After the request for registration the OMG member </a:t>
            </a:r>
            <a:r>
              <a:rPr b="1" lang="fr-CH" sz="16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0" lang="fr-CH" sz="1600" spc="-1" strike="noStrike">
                <a:solidFill>
                  <a:srgbClr val="000000"/>
                </a:solidFill>
                <a:latin typeface="Comic Sans MS"/>
              </a:rPr>
              <a:t> register within one day 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quested(OMG_member, Logon, base_info(t, https: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), t1) and delivered(OMG_member, Logon, registration(e)),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2) and t&gt;=t2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&gt; [deliver(Logon,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MG_member, base_info(NOW,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ttps: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))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Comic Sans MS"/>
              </a:rPr>
              <a:t>« After registration by OMG member, Logon </a:t>
            </a:r>
            <a:r>
              <a:rPr b="1" lang="fr-CH" sz="1600" spc="-1" strike="noStrike">
                <a:solidFill>
                  <a:srgbClr val="000000"/>
                </a:solidFill>
                <a:latin typeface="Comic Sans MS"/>
              </a:rPr>
              <a:t>must </a:t>
            </a:r>
            <a:r>
              <a:rPr b="0" lang="fr-CH" sz="1600" spc="-1" strike="noStrike">
                <a:solidFill>
                  <a:srgbClr val="000000"/>
                </a:solidFill>
                <a:latin typeface="Comic Sans MS"/>
              </a:rPr>
              <a:t>deliver the information any time it is requested provided the request refers to information related to time after registration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substitutio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deliver(OMG_member, Logon, payment(a, t))]^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=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deliver(OMG_member, Logon, payment(m*a, t))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fr-CH" sz="1600" spc="-1" strike="noStrike">
                <a:solidFill>
                  <a:srgbClr val="000000"/>
                </a:solidFill>
                <a:latin typeface="Comic Sans MS"/>
              </a:rPr>
              <a:t>this gives the OMG member the freedom to choose payment granularity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0:20:54Z</dcterms:created>
  <dc:creator>aberer</dc:creator>
  <dc:description/>
  <dc:language>en-US</dc:language>
  <cp:lastModifiedBy>aberer</cp:lastModifiedBy>
  <dcterms:modified xsi:type="dcterms:W3CDTF">2003-12-18T13:41:24Z</dcterms:modified>
  <cp:revision>9</cp:revision>
  <dc:subject/>
  <dc:title>"Semantic" Web Services Karl Aberer - EPF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0002517</vt:r8>
  </property>
  <property fmtid="{D5CDD505-2E9C-101B-9397-08002B2CF9AE}" pid="3" name="_AuthorEmail">
    <vt:lpwstr>aberer@pen.epfl.ch</vt:lpwstr>
  </property>
  <property fmtid="{D5CDD505-2E9C-101B-9397-08002B2CF9AE}" pid="4" name="_AuthorEmailDisplayName">
    <vt:lpwstr>Karl Aberer</vt:lpwstr>
  </property>
  <property fmtid="{D5CDD505-2E9C-101B-9397-08002B2CF9AE}" pid="5" name="_EmailSubject">
    <vt:lpwstr>Presentation for today</vt:lpwstr>
  </property>
</Properties>
</file>