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6B0-6962-4F34-8957-8123DCAE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F3E-1764-439B-AEC4-3D3F6AE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042-E60D-4DE0-A3E3-2D94EC54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68B-A70E-4C7B-BC1B-19B8AE0A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993-9D01-4DA1-B648-40B69D4F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677-FF09-4D30-9FBE-ABB16B61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12A-5E10-48D5-BABE-65B7D89B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21D-8258-4964-9172-A0AA0F34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27A-41AD-4086-B3F3-1BDE1FAE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9B7-29C3-4F29-AF24-386DC3DE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81F-12A2-4CAE-99DA-102564F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3A8-AD52-484D-BA26-E7CDA56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268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92040" y="6578280"/>
            <a:ext cx="48099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948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90D0-672E-4A68-8FBC-9C121906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brief from SWSL group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SWSI F2F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24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21240"/>
            <a:ext cx="640080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997-CA2F-4E17-9CD5-FA7D2CA9FD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ual Core Ontolog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ill-down for Vers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 approach “good” for policies and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 approach “good” for axioma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Provide a single ontology to support these and other specification/reasoning paradig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specify using set-theoretic form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layman to understan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axiomatizable in F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specifiable in 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succeed, then both FOL and LP can build out from the common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L-(outer)-core: exists mapping to set-theoretic for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able: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48C-BF17-4B0E-8A3C-BCAA837B00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LIGHTS FOLL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DD5-9486-43AD-93AC-AD92E1E711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document covering both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-S Profile + Atomic Process + Grounding, enhanced with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model with concepts from the core of PSL that replaces the OWL-S (composite) 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date: September 30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lace: W3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Member Submi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00A-70D6-4694-83EB-D7BE81DAD7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y and How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ar-term Impact in SWS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084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in Security/Trust, Contracts, Advertising,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rules + ontologies in 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OWL-S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process properties, compatibility; and enac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ordering constraints with pre-conditions/effects as in P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OWL-S grounded atomic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term: (semi-)automated compo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459-273D-468A-AFD2-285AF33607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532560"/>
            <a:ext cx="84549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and Conqu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760" y="701640"/>
            <a:ext cx="86742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bservation: LP better for some things, FOL for other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chnical approach based on LP, growing out of OWL-S profile is…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E” Technical Approach for “SCAMP” Tasks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es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ologies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vices:  Using LP KR as basi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CAMP =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urity,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racts,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ertis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es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horization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ing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iation for semantic interoperability, 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itor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vacy, and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points: OWL-S profile + RuleML + DLP OWL (and Horn SWRL) + HiLog/F-Logic extensions + additional PSL service ont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hort-term deliverable in space of specifying process-related aspects of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points: partial spec of process sequencing (Singh event algebra?) + pre-conditions/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FOL KR as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: That (1.) and (2.) inter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114-3F00-478D-AECA-3096FE3D94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DETAILS FOLL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383-4B5C-4C8F-9E03-2933EEA3BB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532560"/>
            <a:ext cx="84549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920" y="274320"/>
            <a:ext cx="89740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MP drill down: Goals of Version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920" y="909720"/>
            <a:ext cx="897408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specification and enfor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st: policies for security authorization, access, privacy/confidenti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s: pricing, delivery, refunds, cancellations, non-performance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agreements, proposals, requests for proposals, 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ing: task of enforcing policies (e.g., for trust or contracts), policies to handle exceptions &amp; non-compliance (compare results to promi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row from ebXML, EDI, XACML, P3P, LegalXML,…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from spirit and particulars of OWL-S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ore particular “service ontologi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ing good ru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ML with extensions, e.g., ontology import/incorporation (DLP OWL and later OO with default inheritance), HiLog, and F-Logic synta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a surface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work for nego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deliverable: technical document - proposal &amp; 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deliverable:  illustrative application scenario examp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r: Complex discovery/match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r?: “data mapp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CE2-2B29-4D24-90E6-05EAFAE22A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32560"/>
            <a:ext cx="84549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920" y="274320"/>
            <a:ext cx="89740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MP drill down:  Goals, cont.’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909720"/>
            <a:ext cx="889632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upper and middle ontology in selec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dvertising/disco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keywords, simple ontology, partial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plex dynamic discovery not focus of vers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apping”: not a focus for vers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than just semantic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groups working on it – XML, U Was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wait for dust to settle; can be incorpo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FC3-25C0-408B-97A8-05B917BE81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 modeling drill-dow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for Vers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7240" y="1221840"/>
            <a:ext cx="837396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: mechanism for blending different aspects of S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modifying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ordering constra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bstract than OWL-S 1.0 process model, Petri nets,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Ontology/language that permits specifying properties of services, incorporating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pplication: Verifying properties,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: other analysis; optimization; auto-composition;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components of PSL-(outer)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as powerful as Singh’s event algeb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conditions and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ab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ocument with proposal and r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r more exemplary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WSL outbrie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E9E-3732-4909-9483-D03001AAEA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3:14:07Z</dcterms:created>
  <dc:creator>sam</dc:creator>
  <dc:description/>
  <dc:language>en-US</dc:language>
  <cp:lastModifiedBy>Benjamin Grosoff</cp:lastModifiedBy>
  <dcterms:modified xsi:type="dcterms:W3CDTF">2004-06-04T12:16:16Z</dcterms:modified>
  <cp:revision>92</cp:revision>
  <dc:subject/>
  <dc:title>Draft Stick Proposal Presentation to SWSL Commmittee  May 13, 2004</dc:title>
</cp:coreProperties>
</file>