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F88-EDEC-4D12-9AA2-D44752F8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842B-8D3E-4BA8-B5C6-0AE34B2C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EDD-7527-4B9C-BEEF-62869EDA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FDF-9867-4D22-AF9D-66DCE1AD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DED-E463-4294-B20F-5C4C6D7D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7CE-B1D9-44E9-83F7-2D55D7BC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E9D-1E50-4A50-B907-8D4C1DF3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725-6666-4661-BB9A-DBEB66AF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95E-9F8E-40F1-A485-7AFC8E15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6736-AA9E-4AB9-9833-7E347779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4F6-0B9C-4C9C-8719-047C7DDF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48C8-85CB-4B2B-B172-0140F8AD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268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553080"/>
            <a:ext cx="350496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948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ED4B-EAC2-41B1-B121-D9DCB0726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discussion points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k H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/23/04 (with minor revisions since the discussion at 1:30-3 E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8520" indent="-398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is atomic.  What is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452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a “process” or a “web service” &lt;group decided on “process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452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examine and impact the fluents; does it in addition have an “internal state” &lt; the group decided “no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452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invoke it using WSDL or something el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messaging is important (to me, at le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452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ation example (see following sli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452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tually invoke web services we will have to get messages sen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452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in any case, we have to address the BPEL constructs of “waiting for a message” and “pic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ction between “core” model and “ground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452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think this is a second-level consideration.  We have to reason about the “grounding”, whatever that is.  So let’s get a model with everything we need, and as a refinement (if people want) we can separate “core” from “grou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on SWSL process model propos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BD4-7CAC-47B5-B771-CCFF3598954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43000" y="323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ry simple, drafty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abstract example of why including messages and message passing between services is important in a model of web services and how they process things and interact with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following 4 services that will intera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97280" y="2389320"/>
            <a:ext cx="1052640" cy="46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: bure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9640" y="3578400"/>
            <a:ext cx="1052640" cy="46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:payment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41920" y="4781520"/>
            <a:ext cx="1052280" cy="46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54440" y="3610080"/>
            <a:ext cx="1052640" cy="46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:payment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485880" y="2846520"/>
            <a:ext cx="672840" cy="73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40240" y="2844720"/>
            <a:ext cx="62064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73280" y="4051440"/>
            <a:ext cx="673200" cy="73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427640" y="4049640"/>
            <a:ext cx="62064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34200" y="3189240"/>
            <a:ext cx="280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rrows included as an intuitive aid, and indicate who is asking who to do someth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on SWSL process model propos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476-F9C5-41DA-8E64-DDE9368091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00240" y="2871720"/>
            <a:ext cx="0" cy="43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48000" y="3328920"/>
            <a:ext cx="1128600" cy="5587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58640" y="3760920"/>
            <a:ext cx="50004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76640" y="4414680"/>
            <a:ext cx="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06000" y="3957480"/>
            <a:ext cx="59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28200" y="400680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1600" y="4565520"/>
            <a:ext cx="76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!D: pay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30400" y="23972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(origi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5280" y="2959200"/>
            <a:ext cx="102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Activit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89480" y="2417760"/>
            <a:ext cx="14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(origi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46800" y="2838600"/>
            <a:ext cx="0" cy="43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94200" y="3295800"/>
            <a:ext cx="1128600" cy="5587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704840" y="3727440"/>
            <a:ext cx="50004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2840" y="438156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52200" y="3924360"/>
            <a:ext cx="59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74400" y="397368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17800" y="4532400"/>
            <a:ext cx="76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!D: pay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1480" y="2925720"/>
            <a:ext cx="99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Activit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62600" y="6010200"/>
            <a:ext cx="421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7400" y="319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240" y="2790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4280" y="3282840"/>
            <a:ext cx="109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!B:pay-Sheila-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1800" y="38656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9400" y="4030560"/>
            <a:ext cx="10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!C:pay-Rick-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2520" y="5479920"/>
            <a:ext cx="421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98680" y="3790800"/>
            <a:ext cx="462240" cy="1459080"/>
          </a:xfrm>
          <a:custGeom>
            <a:avLst/>
            <a:gdLst/>
            <a:ahLst/>
            <a:rect l="l" t="t" r="r" b="b"/>
            <a:pathLst>
              <a:path w="481" h="1288">
                <a:moveTo>
                  <a:pt x="174" y="0"/>
                </a:moveTo>
                <a:cubicBezTo>
                  <a:pt x="262" y="140"/>
                  <a:pt x="351" y="280"/>
                  <a:pt x="396" y="386"/>
                </a:cubicBezTo>
                <a:cubicBezTo>
                  <a:pt x="441" y="492"/>
                  <a:pt x="443" y="555"/>
                  <a:pt x="445" y="636"/>
                </a:cubicBezTo>
                <a:cubicBezTo>
                  <a:pt x="447" y="717"/>
                  <a:pt x="481" y="766"/>
                  <a:pt x="407" y="875"/>
                </a:cubicBezTo>
                <a:cubicBezTo>
                  <a:pt x="333" y="984"/>
                  <a:pt x="166" y="1136"/>
                  <a:pt x="0" y="1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01040" y="290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10880" y="250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69360" y="2994120"/>
            <a:ext cx="145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?S: pay-X-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think of S as a variable ranging over servic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99400" y="46814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68080" y="4846680"/>
            <a:ext cx="74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!D:pay-X-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53440" y="6203880"/>
            <a:ext cx="421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64280" y="3552840"/>
            <a:ext cx="1128960" cy="5587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860880" y="4033800"/>
            <a:ext cx="50004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08240" y="4230720"/>
            <a:ext cx="79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ney ava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00920" y="4022640"/>
            <a:ext cx="344520" cy="58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49000" y="4219560"/>
            <a:ext cx="98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ney not ava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96160" y="5369040"/>
            <a:ext cx="76680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41200" y="5481720"/>
            <a:ext cx="11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!S: I pa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ucces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686720" y="4649760"/>
            <a:ext cx="534960" cy="153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68160" y="476244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!S: I didn’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y (fai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4840" y="5218200"/>
            <a:ext cx="36216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763720" y="5284800"/>
            <a:ext cx="527040" cy="787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47280" y="455940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3120" y="4743360"/>
            <a:ext cx="1108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stuff on cleanup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, etc., n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t her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88800" y="5318280"/>
            <a:ext cx="1108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stuff on cleanup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, etc., n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t her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94480" y="3727440"/>
            <a:ext cx="461880" cy="1459080"/>
          </a:xfrm>
          <a:custGeom>
            <a:avLst/>
            <a:gdLst/>
            <a:ahLst/>
            <a:rect l="l" t="t" r="r" b="b"/>
            <a:pathLst>
              <a:path w="481" h="1288">
                <a:moveTo>
                  <a:pt x="174" y="0"/>
                </a:moveTo>
                <a:cubicBezTo>
                  <a:pt x="262" y="140"/>
                  <a:pt x="351" y="280"/>
                  <a:pt x="396" y="386"/>
                </a:cubicBezTo>
                <a:cubicBezTo>
                  <a:pt x="441" y="492"/>
                  <a:pt x="443" y="555"/>
                  <a:pt x="445" y="636"/>
                </a:cubicBezTo>
                <a:cubicBezTo>
                  <a:pt x="447" y="717"/>
                  <a:pt x="481" y="766"/>
                  <a:pt x="407" y="875"/>
                </a:cubicBezTo>
                <a:cubicBezTo>
                  <a:pt x="333" y="984"/>
                  <a:pt x="166" y="1136"/>
                  <a:pt x="0" y="1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30760" y="5103720"/>
            <a:ext cx="36180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219640" y="5170320"/>
            <a:ext cx="527040" cy="787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4720" y="5203800"/>
            <a:ext cx="1108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stuff on cleanup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, etc., n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t her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2000" y="6084720"/>
            <a:ext cx="421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6640" y="15876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one possible design for the insides of the 4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using a very ad hoc representation language/graphical notation, only to get the ideas across.  This is not intended to be some proposal for the SWSL process model ont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is design, there is no guarentee whether Rick or Sheila gets paid “first” or with “higher prior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on SWSL process model proposa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36A-6F83-4019-BD8C-C742DF0C624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93760" y="5344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d” design of B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ronization between B and C accomplished via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we assume that there are no deposits into the bank account, then we can infer that paying Sheila has higher priority than paying R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48240" y="549360"/>
            <a:ext cx="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95640" y="936720"/>
            <a:ext cx="1128600" cy="4730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906280" y="1301760"/>
            <a:ext cx="50004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06720" y="1309680"/>
            <a:ext cx="741600" cy="250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088880" y="3840120"/>
            <a:ext cx="536760" cy="1138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24280" y="185580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1320" y="250200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91040" y="3506760"/>
            <a:ext cx="4921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76360" y="3116160"/>
            <a:ext cx="1128960" cy="4716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53640" y="1468440"/>
            <a:ext cx="59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79160" y="211608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19240" y="1982880"/>
            <a:ext cx="76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!D: pay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89000" y="2725560"/>
            <a:ext cx="100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?D: succeed/fa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541600" y="3511440"/>
            <a:ext cx="14616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8000" y="3699000"/>
            <a:ext cx="59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97880" y="373212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76520" y="41799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6560" y="4344840"/>
            <a:ext cx="122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!C: you-can-proce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12880" y="4813200"/>
            <a:ext cx="1389240" cy="22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83400" y="4989600"/>
            <a:ext cx="421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000" y="26676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(rev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97200" y="4307040"/>
            <a:ext cx="362160" cy="730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74680" y="4675320"/>
            <a:ext cx="1108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stuff on cleanup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, etc., n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t her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81720" y="61128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activity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13560" y="53964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60960" y="925560"/>
            <a:ext cx="1128960" cy="4730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871960" y="1290600"/>
            <a:ext cx="50004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0" y="1298520"/>
            <a:ext cx="207720" cy="240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8960" y="1457280"/>
            <a:ext cx="59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1800" y="2228760"/>
            <a:ext cx="32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98320" y="2556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(rev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97520" y="244944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84920" y="3097080"/>
            <a:ext cx="0" cy="62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92480" y="2577960"/>
            <a:ext cx="76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!D: pay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2600" y="3319560"/>
            <a:ext cx="100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?D: succeed/fa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47040" y="60156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activity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97520" y="18381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3320" y="1965240"/>
            <a:ext cx="12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?B: you-can-proce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35680" y="3722760"/>
            <a:ext cx="361800" cy="730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424200" y="3706920"/>
            <a:ext cx="622440" cy="73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49640" y="3807000"/>
            <a:ext cx="1108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stuff on cleanup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, etc., n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ant her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62840" y="4456080"/>
            <a:ext cx="421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86720" y="1293840"/>
            <a:ext cx="14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: I’m not showing something like a time-out in connection with waiting for the message from B.  One can imagine something like the “pick” construct from BPE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tes on SWSL process model propos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929-E545-4A17-9EE5-F0B803C007A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 23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03:14:07Z</dcterms:created>
  <dc:creator>sam</dc:creator>
  <dc:description/>
  <dc:language>en-US</dc:language>
  <cp:lastModifiedBy>Rick Hull</cp:lastModifiedBy>
  <dcterms:modified xsi:type="dcterms:W3CDTF">2004-09-24T03:39:29Z</dcterms:modified>
  <cp:revision>54</cp:revision>
  <dc:subject/>
  <dc:title>Draft Stick Proposal Presentation to SWSL Commmittee  May 13, 2004</dc:title>
</cp:coreProperties>
</file>