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7.xml.rels" ContentType="application/vnd.openxmlformats-package.relationships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95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5400" y="0"/>
            <a:ext cx="3051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3184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5480" y="4419720"/>
            <a:ext cx="518652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40880"/>
            <a:ext cx="3049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5400" y="8840880"/>
            <a:ext cx="3051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7435-4B41-4EEE-9675-7122CA175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sldImg"/>
          </p:nvPr>
        </p:nvSpPr>
        <p:spPr>
          <a:xfrm>
            <a:off x="11318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118" name="PlaceHolder 2"/>
          <p:cNvSpPr>
            <a:spLocks noGrp="1"/>
          </p:cNvSpPr>
          <p:nvPr>
            <p:ph type="body"/>
          </p:nvPr>
        </p:nvSpPr>
        <p:spPr>
          <a:xfrm>
            <a:off x="915480" y="4419720"/>
            <a:ext cx="518652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automata-based approach for describing behavior of e-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s are the WSDL operations (input and/or outp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s are pairs of operations, with associated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 refers to type of documents passed as input or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of Mealy machine vs. WSCL machine remains 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ly machine formalism given above could be extended to include conditions based on types of documents pa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tates in WSCL machine bounded by number of WSDL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ealy machines (with conditions) appear more expressive than WSCL mach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5DD5-69B5-4FAC-8B4A-EC1C026E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9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852360"/>
            <a:ext cx="839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E37E-8B5B-4830-89E3-0D59D3BF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160" y="106632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85236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160" y="385236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8F4-549B-46F2-A3D7-634CFAFE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0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8760" y="1066320"/>
            <a:ext cx="270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7360" y="1066320"/>
            <a:ext cx="270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852360"/>
            <a:ext cx="270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8760" y="3852360"/>
            <a:ext cx="270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7360" y="3852360"/>
            <a:ext cx="270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CC33-E98B-4BDC-9A0E-9C3B2257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3948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1FC-EFBC-4B86-96B3-75D91FF0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9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A478-9ABC-4DDF-BD60-78AA038F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96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160" y="1066320"/>
            <a:ext cx="4096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E284-1113-4F8A-A2F4-F894EB1B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9CC6-0582-4087-B367-4BC5A311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2120" y="76320"/>
            <a:ext cx="8369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7A49-FAAD-45EC-8D4D-7E39D255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160" y="1066320"/>
            <a:ext cx="4096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85236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4B0-D04F-4CA3-A5F7-0CEFDBFB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96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160" y="106632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160" y="385236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14C-C4DC-4FD1-BC82-576D77C1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160" y="106632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852360"/>
            <a:ext cx="839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99D8-1EE1-4588-88A3-511BED60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39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524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25640" indent="-222480"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378080" indent="-235080"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1714680" indent="-222480">
              <a:spcBef>
                <a:spcPts val="524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1714680" indent="-222480">
              <a:spcBef>
                <a:spcPts val="524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1714680" indent="-222480">
              <a:spcBef>
                <a:spcPts val="524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8560" y="6614640"/>
            <a:ext cx="2079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240" y="6632280"/>
            <a:ext cx="3771720" cy="1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24880" y="6594120"/>
            <a:ext cx="129528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5A6A-C233-4625-B921-F712A0853AA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ell-labs" descr=""/>
          <p:cNvPicPr/>
          <p:nvPr/>
        </p:nvPicPr>
        <p:blipFill>
          <a:blip r:embed="rId2"/>
          <a:stretch/>
        </p:blipFill>
        <p:spPr>
          <a:xfrm>
            <a:off x="7362720" y="1440"/>
            <a:ext cx="1781280" cy="6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724880" y="6594120"/>
            <a:ext cx="129528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C5D5-E1F5-451B-A874-62D710E4B8D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649240" y="6632280"/>
            <a:ext cx="3771720" cy="1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8560" y="6614640"/>
            <a:ext cx="2079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37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E-Service Composition</a:t>
            </a:r>
            <a:br>
              <a:rPr sz="3700"/>
            </a:b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and Behavioral Signatures</a:t>
            </a:r>
            <a:br>
              <a:rPr sz="3700"/>
            </a:b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&lt;&lt; Presentation to Semantic Web Services Langauge Group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http://www.daml.org/services/swsl &gt;&gt;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39960" y="2106720"/>
            <a:ext cx="71625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</a:rPr>
              <a:t>Rick Hull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ll Labs Resear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5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5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370080" y="3278160"/>
            <a:ext cx="842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ober 18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ides will be available at http://db.bell-labs.com/user/h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46200" y="5338800"/>
            <a:ext cx="70074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cc"/>
                </a:solidFill>
                <a:latin typeface="Comic Sans MS"/>
              </a:rPr>
              <a:t>Michael Benedikt </a:t>
            </a:r>
            <a:r>
              <a:rPr b="1" lang="en-US" sz="2000" spc="-1" strike="noStrike">
                <a:solidFill>
                  <a:srgbClr val="cc00cc"/>
                </a:solidFill>
                <a:latin typeface="Comic Sans MS"/>
              </a:rPr>
              <a:t>(Bell L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cc"/>
                </a:solidFill>
                <a:latin typeface="Comic Sans MS"/>
              </a:rPr>
              <a:t>Vassilis Christophides </a:t>
            </a:r>
            <a:r>
              <a:rPr b="1" lang="en-US" sz="2000" spc="-1" strike="noStrike">
                <a:solidFill>
                  <a:srgbClr val="cc00cc"/>
                </a:solidFill>
                <a:latin typeface="Comic Sans MS"/>
              </a:rPr>
              <a:t>(FORTH, Gre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cc"/>
                </a:solidFill>
                <a:latin typeface="Comic Sans MS"/>
              </a:rPr>
              <a:t>Jianwen Su </a:t>
            </a:r>
            <a:r>
              <a:rPr b="1" lang="en-US" sz="2000" spc="-1" strike="noStrike">
                <a:solidFill>
                  <a:srgbClr val="cc00cc"/>
                </a:solidFill>
                <a:latin typeface="Comic Sans MS"/>
              </a:rPr>
              <a:t>(UC Santa Barba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960" y="4273560"/>
            <a:ext cx="79563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Comic Sans MS"/>
              </a:rPr>
              <a:t>Based in part on the PODS 2003 talk entitl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Comic Sans MS"/>
              </a:rPr>
              <a:t>“</a:t>
            </a:r>
            <a:r>
              <a:rPr b="1" lang="en-US" sz="2000" spc="-1" strike="noStrike">
                <a:solidFill>
                  <a:srgbClr val="cc00cc"/>
                </a:solidFill>
                <a:latin typeface="Comic Sans MS"/>
              </a:rPr>
              <a:t>E-Services: A Look Behind the Curtain”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Comic Sans MS"/>
              </a:rPr>
              <a:t>co-authored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240" y="-360"/>
            <a:ext cx="8369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wo perspectives on E-Servi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287280" y="760320"/>
            <a:ext cx="8856720" cy="56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218520" indent="-21852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ack box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Signatur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7252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 Services Description Language (WSD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680" indent="-21564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cus on input/output signature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7252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-/post condition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á l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OWL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7252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havior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680" indent="-21564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cus on sequencing of messages trans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6680" indent="-227880">
              <a:lnSpc>
                <a:spcPct val="95000"/>
              </a:lnSpc>
              <a:spcBef>
                <a:spcPts val="275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3C Choreography group working 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680" indent="-21564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cus on sequencing of actions per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3200" indent="-215640">
              <a:lnSpc>
                <a:spcPct val="55000"/>
              </a:lnSpc>
              <a:spcBef>
                <a:spcPts val="275"/>
              </a:spcBef>
              <a:buClr>
                <a:srgbClr val="80808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-21852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te box”: Implementation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7252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sence of WSFL, XLANG, BPEL4WS*, BPML, etc.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7252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WL-S process constr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7252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ly, parallel flowcharts with synchronization,   scopes, some event handling, internal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4200" y="6462720"/>
            <a:ext cx="6864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*BPEL4WS also supports a “black box” view of e-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9753800">
            <a:off x="7370280" y="2165040"/>
            <a:ext cx="1382760" cy="485640"/>
          </a:xfrm>
          <a:prstGeom prst="leftArrow">
            <a:avLst>
              <a:gd name="adj1" fmla="val 38667"/>
              <a:gd name="adj2" fmla="val 86289"/>
            </a:avLst>
          </a:prstGeom>
          <a:solidFill>
            <a:srgbClr val="cc00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E9B6-AC8B-4A11-B88C-6267903EBE9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deling I: Individual E-servi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904680"/>
            <a:ext cx="839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most general case, an e-service can be a Turing mach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444600" y="5627520"/>
            <a:ext cx="843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281880" indent="-2818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analysis, optimization, and automation it is useful to study more restricted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7360" y="2643120"/>
            <a:ext cx="137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input</a:t>
            </a:r>
            <a:br>
              <a:rPr sz="2000"/>
            </a:b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03360" y="2647800"/>
            <a:ext cx="135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to other</a:t>
            </a:r>
            <a:br>
              <a:rPr sz="2000"/>
            </a:b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e-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09680" y="1886040"/>
            <a:ext cx="4614840" cy="2305080"/>
            <a:chOff x="2209680" y="1886040"/>
            <a:chExt cx="4614840" cy="2305080"/>
          </a:xfrm>
        </p:grpSpPr>
        <p:sp>
          <p:nvSpPr>
            <p:cNvPr id="282" name=""/>
            <p:cNvSpPr/>
            <p:nvPr/>
          </p:nvSpPr>
          <p:spPr>
            <a:xfrm>
              <a:off x="2743200" y="1886040"/>
              <a:ext cx="3567240" cy="2305080"/>
            </a:xfrm>
            <a:prstGeom prst="roundRect">
              <a:avLst>
                <a:gd name="adj" fmla="val 24148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o until h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ondeterministic choic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ad an inpu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end an output to so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ther peer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al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nd cho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5120" y="2419560"/>
              <a:ext cx="500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029040"/>
              <a:ext cx="500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15120" y="3627720"/>
              <a:ext cx="500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09680" y="2419560"/>
              <a:ext cx="500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19400" y="3029040"/>
              <a:ext cx="500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09680" y="3627720"/>
              <a:ext cx="500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713560" y="4567320"/>
            <a:ext cx="1447560" cy="10666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Tahoma"/>
              </a:rPr>
              <a:t>local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rot="5400000">
            <a:off x="2819160" y="3714120"/>
            <a:ext cx="304920" cy="2438640"/>
          </a:xfrm>
          <a:prstGeom prst="can">
            <a:avLst>
              <a:gd name="adj" fmla="val 12694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sage 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82" idx="2"/>
            <a:endCxn id="290" idx="4"/>
          </p:cNvCxnSpPr>
          <p:nvPr/>
        </p:nvCxnSpPr>
        <p:spPr>
          <a:xfrm flipH="1">
            <a:off x="2971440" y="4204800"/>
            <a:ext cx="1556640" cy="5756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92" name=""/>
          <p:cNvCxnSpPr>
            <a:stCxn id="289" idx="1"/>
            <a:endCxn id="282" idx="2"/>
          </p:cNvCxnSpPr>
          <p:nvPr/>
        </p:nvCxnSpPr>
        <p:spPr>
          <a:xfrm flipH="1" flipV="1">
            <a:off x="4527360" y="4204800"/>
            <a:ext cx="1910160" cy="3484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A59B-1BFF-4C50-AC92-32383F1CB0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705816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4240" y="88920"/>
            <a:ext cx="8369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havioral signatures using message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37600" y="5146560"/>
            <a:ext cx="890604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model single or sequenced enactmen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s for analysis, e.g., verifying temporal properties, characterizing global behav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169640" y="2892600"/>
            <a:ext cx="4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?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61120" y="3191040"/>
            <a:ext cx="114120" cy="12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12840" y="3294000"/>
            <a:ext cx="419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03760" y="32418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20632800">
            <a:off x="6576480" y="2623680"/>
            <a:ext cx="11448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20632800">
            <a:off x="7142040" y="2940120"/>
            <a:ext cx="114480" cy="12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20632800">
            <a:off x="6843240" y="3533400"/>
            <a:ext cx="11448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6364080" y="2759040"/>
            <a:ext cx="235080" cy="421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07880" y="2724840"/>
            <a:ext cx="428760" cy="23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96120" y="3304440"/>
            <a:ext cx="452160" cy="244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6932520" y="3077640"/>
            <a:ext cx="236880" cy="433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7974800">
            <a:off x="6155640" y="2714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!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546800">
            <a:off x="6345720" y="33494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!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20632800">
            <a:off x="5694120" y="3193920"/>
            <a:ext cx="11412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20632800">
            <a:off x="7434000" y="3835440"/>
            <a:ext cx="11412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88920" y="3040920"/>
            <a:ext cx="428760" cy="23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81840" y="3625200"/>
            <a:ext cx="452520" cy="244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518240" y="3394080"/>
            <a:ext cx="236880" cy="4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546800">
            <a:off x="7360200" y="2820600"/>
            <a:ext cx="4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?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59600">
            <a:off x="6893640" y="3647880"/>
            <a:ext cx="4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?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7974800">
            <a:off x="6724080" y="30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!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7974800">
            <a:off x="7289280" y="3373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!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546800">
            <a:off x="6826680" y="25128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!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7686720" y="3254400"/>
            <a:ext cx="128520" cy="131400"/>
            <a:chOff x="7686720" y="3254400"/>
            <a:chExt cx="128520" cy="131400"/>
          </a:xfrm>
        </p:grpSpPr>
        <p:sp>
          <p:nvSpPr>
            <p:cNvPr id="320" name=""/>
            <p:cNvSpPr/>
            <p:nvPr/>
          </p:nvSpPr>
          <p:spPr>
            <a:xfrm>
              <a:off x="7686720" y="3254400"/>
              <a:ext cx="128520" cy="13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15160" y="3288600"/>
              <a:ext cx="64800" cy="61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732200" y="287352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03760" y="36720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02960" y="24289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12040" y="36878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rc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085240" y="368136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85240" y="2882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42200" y="24620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06480" y="368136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pym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7080" y="2873520"/>
            <a:ext cx="7160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8280" y="3672000"/>
            <a:ext cx="7160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360" y="24303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080" y="36781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rc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79760" y="368136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79760" y="2882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85960" y="24400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66440" y="36781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pym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92240" y="3232080"/>
            <a:ext cx="11412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22720" y="3220920"/>
            <a:ext cx="128520" cy="129960"/>
            <a:chOff x="3222720" y="3220920"/>
            <a:chExt cx="128520" cy="129960"/>
          </a:xfrm>
        </p:grpSpPr>
        <p:sp>
          <p:nvSpPr>
            <p:cNvPr id="340" name=""/>
            <p:cNvSpPr/>
            <p:nvPr/>
          </p:nvSpPr>
          <p:spPr>
            <a:xfrm>
              <a:off x="3222720" y="3220920"/>
              <a:ext cx="128520" cy="129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51160" y="3254760"/>
              <a:ext cx="6480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1001880" y="3290760"/>
            <a:ext cx="75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90200" y="28908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!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33400" y="3294000"/>
            <a:ext cx="41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12800" y="3232080"/>
            <a:ext cx="11448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37040" y="28908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?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79520" y="3294000"/>
            <a:ext cx="41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158920" y="3232080"/>
            <a:ext cx="11448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756520" y="2890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!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00440" y="3294000"/>
            <a:ext cx="419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79840" y="3232080"/>
            <a:ext cx="11412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25440" y="2897280"/>
            <a:ext cx="4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?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30920" y="3254400"/>
            <a:ext cx="419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960" y="434664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“cautious” 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15240" y="435132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“trusting” 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5360" y="758880"/>
            <a:ext cx="88520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43720" indent="-243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Mealy Pe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Finite State Automata with input/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33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lows spirit of process algebras, communicating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24040" y="2482920"/>
            <a:ext cx="2604960" cy="1662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1880" y="2484360"/>
            <a:ext cx="2665440" cy="1662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DCEF-FB04-4919-9CDB-A775AE5F370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705816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64880" y="76320"/>
            <a:ext cx="87454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deling II: A composition framewor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0" y="5186160"/>
            <a:ext cx="9144000" cy="11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pe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utonomous process executing an e-serv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ume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reliable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231280" y="797040"/>
            <a:ext cx="4536360" cy="4057560"/>
            <a:chOff x="2231280" y="797040"/>
            <a:chExt cx="4536360" cy="4057560"/>
          </a:xfrm>
        </p:grpSpPr>
        <p:grpSp>
          <p:nvGrpSpPr>
            <p:cNvPr id="363" name=""/>
            <p:cNvGrpSpPr/>
            <p:nvPr/>
          </p:nvGrpSpPr>
          <p:grpSpPr>
            <a:xfrm>
              <a:off x="3054240" y="944640"/>
              <a:ext cx="780840" cy="127080"/>
              <a:chOff x="3054240" y="944640"/>
              <a:chExt cx="780840" cy="127080"/>
            </a:xfrm>
          </p:grpSpPr>
          <p:sp>
            <p:nvSpPr>
              <p:cNvPr id="364" name=""/>
              <p:cNvSpPr/>
              <p:nvPr/>
            </p:nvSpPr>
            <p:spPr>
              <a:xfrm>
                <a:off x="3054240" y="944640"/>
                <a:ext cx="77472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54240" y="1071720"/>
                <a:ext cx="77472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700080" y="944640"/>
                <a:ext cx="135000" cy="12708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564720" y="944640"/>
                <a:ext cx="135000" cy="12708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429360" y="944640"/>
                <a:ext cx="135000" cy="12708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293640" y="944640"/>
                <a:ext cx="135360" cy="12708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158640" y="944640"/>
                <a:ext cx="135000" cy="12708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868560" y="797040"/>
              <a:ext cx="1387800" cy="696960"/>
            </a:xfrm>
            <a:prstGeom prst="roundRect">
              <a:avLst>
                <a:gd name="adj" fmla="val 24148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er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3054240" y="2217600"/>
              <a:ext cx="780840" cy="128880"/>
              <a:chOff x="3054240" y="2217600"/>
              <a:chExt cx="780840" cy="128880"/>
            </a:xfrm>
          </p:grpSpPr>
          <p:sp>
            <p:nvSpPr>
              <p:cNvPr id="373" name=""/>
              <p:cNvSpPr/>
              <p:nvPr/>
            </p:nvSpPr>
            <p:spPr>
              <a:xfrm>
                <a:off x="3054240" y="2217600"/>
                <a:ext cx="77472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54240" y="2346480"/>
                <a:ext cx="77472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00080" y="2217600"/>
                <a:ext cx="135000" cy="12888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564720" y="2217600"/>
                <a:ext cx="135000" cy="12888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429360" y="2217600"/>
                <a:ext cx="135000" cy="12888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93640" y="2217600"/>
                <a:ext cx="135360" cy="12888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58640" y="2217600"/>
                <a:ext cx="135000" cy="12888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3868560" y="1884240"/>
              <a:ext cx="1387800" cy="696960"/>
            </a:xfrm>
            <a:prstGeom prst="roundRect">
              <a:avLst>
                <a:gd name="adj" fmla="val 24148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er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83760" y="2992320"/>
              <a:ext cx="66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3051000" y="2014560"/>
              <a:ext cx="780840" cy="128520"/>
              <a:chOff x="3051000" y="2014560"/>
              <a:chExt cx="780840" cy="128520"/>
            </a:xfrm>
          </p:grpSpPr>
          <p:sp>
            <p:nvSpPr>
              <p:cNvPr id="383" name=""/>
              <p:cNvSpPr/>
              <p:nvPr/>
            </p:nvSpPr>
            <p:spPr>
              <a:xfrm>
                <a:off x="3051000" y="2014560"/>
                <a:ext cx="77472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051000" y="2143080"/>
                <a:ext cx="77472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696840" y="2014560"/>
                <a:ext cx="135000" cy="12852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561480" y="2014560"/>
                <a:ext cx="135000" cy="12852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426120" y="2014560"/>
                <a:ext cx="135000" cy="12852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290400" y="2014560"/>
                <a:ext cx="135360" cy="12852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55400" y="2014560"/>
                <a:ext cx="135000" cy="12852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3051000" y="4257720"/>
              <a:ext cx="780840" cy="127080"/>
              <a:chOff x="3051000" y="4257720"/>
              <a:chExt cx="780840" cy="127080"/>
            </a:xfrm>
          </p:grpSpPr>
          <p:sp>
            <p:nvSpPr>
              <p:cNvPr id="391" name=""/>
              <p:cNvSpPr/>
              <p:nvPr/>
            </p:nvSpPr>
            <p:spPr>
              <a:xfrm>
                <a:off x="3051000" y="4257720"/>
                <a:ext cx="77472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51000" y="4384800"/>
                <a:ext cx="77472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696840" y="4257720"/>
                <a:ext cx="135000" cy="12708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561480" y="4257720"/>
                <a:ext cx="135000" cy="12708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426120" y="4257720"/>
                <a:ext cx="135000" cy="12708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290400" y="4257720"/>
                <a:ext cx="135360" cy="12708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155400" y="4257720"/>
                <a:ext cx="135000" cy="12708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3051000" y="4460760"/>
              <a:ext cx="780840" cy="127080"/>
              <a:chOff x="3051000" y="4460760"/>
              <a:chExt cx="780840" cy="127080"/>
            </a:xfrm>
          </p:grpSpPr>
          <p:sp>
            <p:nvSpPr>
              <p:cNvPr id="399" name=""/>
              <p:cNvSpPr/>
              <p:nvPr/>
            </p:nvSpPr>
            <p:spPr>
              <a:xfrm>
                <a:off x="3051000" y="4460760"/>
                <a:ext cx="77472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051000" y="4587840"/>
                <a:ext cx="77472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696840" y="4460760"/>
                <a:ext cx="135000" cy="12708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561480" y="4460760"/>
                <a:ext cx="135000" cy="12708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426120" y="4460760"/>
                <a:ext cx="135000" cy="12708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290400" y="4460760"/>
                <a:ext cx="135360" cy="12708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155400" y="4460760"/>
                <a:ext cx="135000" cy="12708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2231280" y="1025640"/>
              <a:ext cx="4536360" cy="3566880"/>
              <a:chOff x="2231280" y="1025640"/>
              <a:chExt cx="4536360" cy="3566880"/>
            </a:xfrm>
          </p:grpSpPr>
          <p:cxnSp>
            <p:nvCxnSpPr>
              <p:cNvPr id="407" name=""/>
              <p:cNvCxnSpPr>
                <a:stCxn id="371" idx="3"/>
                <a:endCxn id="408" idx="0"/>
              </p:cNvCxnSpPr>
              <p:nvPr/>
            </p:nvCxnSpPr>
            <p:spPr>
              <a:xfrm flipH="1">
                <a:off x="2231640" y="1146240"/>
                <a:ext cx="3044160" cy="511920"/>
              </a:xfrm>
              <a:prstGeom prst="bentConnector4">
                <a:avLst>
                  <a:gd name="adj1" fmla="val -6883"/>
                  <a:gd name="adj2" fmla="val 85362"/>
                </a:avLst>
              </a:prstGeom>
              <a:ln w="28440">
                <a:solidFill>
                  <a:srgbClr val="0000ff"/>
                </a:solidFill>
                <a:miter/>
              </a:ln>
            </p:spPr>
          </p:cxnSp>
          <p:cxnSp>
            <p:nvCxnSpPr>
              <p:cNvPr id="409" name=""/>
              <p:cNvCxnSpPr>
                <a:stCxn id="380" idx="3"/>
              </p:cNvCxnSpPr>
              <p:nvPr/>
            </p:nvCxnSpPr>
            <p:spPr>
              <a:xfrm>
                <a:off x="5275440" y="2233440"/>
                <a:ext cx="692640" cy="875520"/>
              </a:xfrm>
              <a:prstGeom prst="bentConnector2">
                <a:avLst/>
              </a:prstGeom>
              <a:ln w="28440">
                <a:solidFill>
                  <a:srgbClr val="0000ff"/>
                </a:solidFill>
                <a:miter/>
              </a:ln>
            </p:spPr>
          </p:cxnSp>
          <p:sp>
            <p:nvSpPr>
              <p:cNvPr id="410" name=""/>
              <p:cNvSpPr/>
              <p:nvPr/>
            </p:nvSpPr>
            <p:spPr>
              <a:xfrm>
                <a:off x="2232000" y="1671480"/>
                <a:ext cx="0" cy="408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1" name=""/>
              <p:cNvCxnSpPr/>
              <p:nvPr/>
            </p:nvCxnSpPr>
            <p:spPr>
              <a:xfrm>
                <a:off x="2231640" y="2079360"/>
                <a:ext cx="756360" cy="3960"/>
              </a:xfrm>
              <a:prstGeom prst="straightConnector1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</p:cxnSp>
          <p:cxnSp>
            <p:nvCxnSpPr>
              <p:cNvPr id="412" name=""/>
              <p:cNvCxnSpPr/>
              <p:nvPr/>
            </p:nvCxnSpPr>
            <p:spPr>
              <a:xfrm flipV="1" rot="16200000">
                <a:off x="6422400" y="3023280"/>
                <a:ext cx="219960" cy="720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0000ff"/>
                </a:solidFill>
                <a:miter/>
              </a:ln>
            </p:spPr>
          </p:cxnSp>
          <p:cxnSp>
            <p:nvCxnSpPr>
              <p:cNvPr id="413" name=""/>
              <p:cNvCxnSpPr/>
              <p:nvPr/>
            </p:nvCxnSpPr>
            <p:spPr>
              <a:xfrm flipH="1">
                <a:off x="2231280" y="2911320"/>
                <a:ext cx="4275720" cy="5760"/>
              </a:xfrm>
              <a:prstGeom prst="straightConnector1">
                <a:avLst/>
              </a:prstGeom>
              <a:ln w="28440">
                <a:solidFill>
                  <a:srgbClr val="0000ff"/>
                </a:solidFill>
                <a:miter/>
              </a:ln>
            </p:spPr>
          </p:cxnSp>
          <p:cxnSp>
            <p:nvCxnSpPr>
              <p:cNvPr id="414" name=""/>
              <p:cNvCxnSpPr/>
              <p:nvPr/>
            </p:nvCxnSpPr>
            <p:spPr>
              <a:xfrm flipV="1">
                <a:off x="2231640" y="2284200"/>
                <a:ext cx="3960" cy="645120"/>
              </a:xfrm>
              <a:prstGeom prst="straightConnector1">
                <a:avLst/>
              </a:prstGeom>
              <a:ln w="28440">
                <a:solidFill>
                  <a:srgbClr val="0000ff"/>
                </a:solidFill>
                <a:miter/>
              </a:ln>
            </p:spPr>
          </p:cxnSp>
          <p:cxnSp>
            <p:nvCxnSpPr>
              <p:cNvPr id="415" name=""/>
              <p:cNvCxnSpPr/>
              <p:nvPr/>
            </p:nvCxnSpPr>
            <p:spPr>
              <a:xfrm>
                <a:off x="2231640" y="2266920"/>
                <a:ext cx="756360" cy="2160"/>
              </a:xfrm>
              <a:prstGeom prst="straightConnector1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</p:cxnSp>
          <p:sp>
            <p:nvSpPr>
              <p:cNvPr id="416" name=""/>
              <p:cNvSpPr/>
              <p:nvPr/>
            </p:nvSpPr>
            <p:spPr>
              <a:xfrm>
                <a:off x="5234040" y="3693960"/>
                <a:ext cx="1163520" cy="733680"/>
              </a:xfrm>
              <a:custGeom>
                <a:avLst/>
                <a:gdLst/>
                <a:ahLst/>
                <a:rect l="l" t="t" r="r" b="b"/>
                <a:pathLst>
                  <a:path w="304" h="285">
                    <a:moveTo>
                      <a:pt x="0" y="285"/>
                    </a:moveTo>
                    <a:lnTo>
                      <a:pt x="304" y="285"/>
                    </a:lnTo>
                    <a:lnTo>
                      <a:pt x="304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598840" y="3645000"/>
                <a:ext cx="3193920" cy="669960"/>
              </a:xfrm>
              <a:custGeom>
                <a:avLst/>
                <a:gdLst/>
                <a:ahLst/>
                <a:rect l="l" t="t" r="r" b="b"/>
                <a:pathLst>
                  <a:path w="899" h="420">
                    <a:moveTo>
                      <a:pt x="899" y="0"/>
                    </a:moveTo>
                    <a:lnTo>
                      <a:pt x="899" y="207"/>
                    </a:lnTo>
                    <a:lnTo>
                      <a:pt x="0" y="207"/>
                    </a:lnTo>
                    <a:lnTo>
                      <a:pt x="0" y="420"/>
                    </a:lnTo>
                    <a:lnTo>
                      <a:pt x="90" y="42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322360" y="3600360"/>
                <a:ext cx="600120" cy="906480"/>
              </a:xfrm>
              <a:custGeom>
                <a:avLst/>
                <a:gdLst/>
                <a:ahLst/>
                <a:rect l="l" t="t" r="r" b="b"/>
                <a:pathLst>
                  <a:path w="149" h="453">
                    <a:moveTo>
                      <a:pt x="0" y="0"/>
                    </a:moveTo>
                    <a:lnTo>
                      <a:pt x="0" y="453"/>
                    </a:lnTo>
                    <a:lnTo>
                      <a:pt x="149" y="453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234040" y="3746520"/>
                <a:ext cx="884160" cy="846000"/>
              </a:xfrm>
              <a:custGeom>
                <a:avLst/>
                <a:gdLst/>
                <a:ahLst/>
                <a:rect l="l" t="t" r="r" b="b"/>
                <a:pathLst>
                  <a:path w="246" h="395">
                    <a:moveTo>
                      <a:pt x="0" y="395"/>
                    </a:moveTo>
                    <a:lnTo>
                      <a:pt x="246" y="395"/>
                    </a:lnTo>
                    <a:lnTo>
                      <a:pt x="246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425680" y="1025640"/>
                <a:ext cx="4111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425680" y="1025640"/>
                <a:ext cx="0" cy="6969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425680" y="1722600"/>
                <a:ext cx="31752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600880" y="1722600"/>
                <a:ext cx="0" cy="13762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240160" y="1031760"/>
                <a:ext cx="14986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767640" y="1031760"/>
                <a:ext cx="0" cy="20844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3868560" y="4157640"/>
              <a:ext cx="1387800" cy="696960"/>
            </a:xfrm>
            <a:prstGeom prst="roundRect">
              <a:avLst>
                <a:gd name="adj" fmla="val 24148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er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6987-5985-41BF-AF79-45466E70AA2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228600" y="2260440"/>
            <a:ext cx="8337600" cy="2354760"/>
            <a:chOff x="228600" y="2260440"/>
            <a:chExt cx="8337600" cy="2354760"/>
          </a:xfrm>
        </p:grpSpPr>
        <p:cxnSp>
          <p:nvCxnSpPr>
            <p:cNvPr id="428" name=""/>
            <p:cNvCxnSpPr/>
            <p:nvPr/>
          </p:nvCxnSpPr>
          <p:spPr>
            <a:xfrm flipH="1">
              <a:off x="5428800" y="2565360"/>
              <a:ext cx="2550240" cy="2160"/>
            </a:xfrm>
            <a:prstGeom prst="straightConnector1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429" name=""/>
            <p:cNvCxnSpPr/>
            <p:nvPr/>
          </p:nvCxnSpPr>
          <p:spPr>
            <a:xfrm flipV="1">
              <a:off x="7957800" y="2922120"/>
              <a:ext cx="608760" cy="1551600"/>
            </a:xfrm>
            <a:prstGeom prst="straightConnector1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430" name=""/>
            <p:cNvCxnSpPr/>
            <p:nvPr/>
          </p:nvCxnSpPr>
          <p:spPr>
            <a:xfrm flipV="1">
              <a:off x="7570440" y="2945880"/>
              <a:ext cx="592920" cy="1559520"/>
            </a:xfrm>
            <a:prstGeom prst="straightConnector1">
              <a:avLst/>
            </a:prstGeom>
            <a:ln w="19080">
              <a:solidFill>
                <a:srgbClr val="0000ff"/>
              </a:solidFill>
              <a:miter/>
              <a:headEnd len="med" type="triangle" w="med"/>
            </a:ln>
          </p:spPr>
        </p:cxnSp>
        <p:cxnSp>
          <p:nvCxnSpPr>
            <p:cNvPr id="431" name=""/>
            <p:cNvCxnSpPr/>
            <p:nvPr/>
          </p:nvCxnSpPr>
          <p:spPr>
            <a:xfrm>
              <a:off x="4838760" y="2935080"/>
              <a:ext cx="519840" cy="1559520"/>
            </a:xfrm>
            <a:prstGeom prst="straightConnector1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432" name=""/>
            <p:cNvCxnSpPr/>
            <p:nvPr/>
          </p:nvCxnSpPr>
          <p:spPr>
            <a:xfrm flipH="1" flipV="1">
              <a:off x="5190480" y="2880720"/>
              <a:ext cx="531000" cy="1558080"/>
            </a:xfrm>
            <a:prstGeom prst="straightConnector1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433" name=""/>
            <p:cNvCxnSpPr/>
            <p:nvPr/>
          </p:nvCxnSpPr>
          <p:spPr>
            <a:xfrm>
              <a:off x="5400360" y="2965320"/>
              <a:ext cx="1757880" cy="1650240"/>
            </a:xfrm>
            <a:prstGeom prst="straightConnector1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434" name=""/>
            <p:cNvCxnSpPr/>
            <p:nvPr/>
          </p:nvCxnSpPr>
          <p:spPr>
            <a:xfrm flipH="1" flipV="1">
              <a:off x="5571720" y="2717280"/>
              <a:ext cx="1890000" cy="1776960"/>
            </a:xfrm>
            <a:prstGeom prst="straightConnector1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435" name=""/>
            <p:cNvCxnSpPr/>
            <p:nvPr/>
          </p:nvCxnSpPr>
          <p:spPr>
            <a:xfrm flipH="1">
              <a:off x="5843160" y="2717640"/>
              <a:ext cx="1938960" cy="1743840"/>
            </a:xfrm>
            <a:prstGeom prst="straightConnector1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436" name=""/>
            <p:cNvCxnSpPr/>
            <p:nvPr/>
          </p:nvCxnSpPr>
          <p:spPr>
            <a:xfrm flipV="1">
              <a:off x="6156360" y="2847600"/>
              <a:ext cx="1921680" cy="1705680"/>
            </a:xfrm>
            <a:prstGeom prst="straightConnector1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437" name=""/>
            <p:cNvCxnSpPr/>
            <p:nvPr/>
          </p:nvCxnSpPr>
          <p:spPr>
            <a:xfrm flipH="1">
              <a:off x="5547600" y="2260440"/>
              <a:ext cx="2453400" cy="2160"/>
            </a:xfrm>
            <a:prstGeom prst="straightConnector1">
              <a:avLst/>
            </a:prstGeom>
            <a:ln w="19080">
              <a:solidFill>
                <a:srgbClr val="0000ff"/>
              </a:solidFill>
              <a:miter/>
              <a:headEnd len="med" type="triangle" w="med"/>
            </a:ln>
          </p:spPr>
        </p:cxnSp>
        <p:sp>
          <p:nvSpPr>
            <p:cNvPr id="438" name=""/>
            <p:cNvSpPr/>
            <p:nvPr/>
          </p:nvSpPr>
          <p:spPr>
            <a:xfrm>
              <a:off x="228600" y="3089160"/>
              <a:ext cx="4371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293760" indent="-293760">
                <a:lnSpc>
                  <a:spcPct val="90000"/>
                </a:lnSpc>
                <a:spcBef>
                  <a:spcPts val="539"/>
                </a:spcBef>
                <a:buClr>
                  <a:srgbClr val="0000cc"/>
                </a:buClr>
                <a:buSzPct val="12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C</a:t>
              </a:r>
              <a:r>
                <a:rPr b="0" lang="en-US" sz="29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: finite set of peer-to-peer </a:t>
              </a:r>
              <a:r>
                <a:rPr b="0" lang="en-US" sz="2900" spc="-1" strike="noStrike">
                  <a:solidFill>
                    <a:srgbClr val="0000ff"/>
                  </a:solidFill>
                  <a:latin typeface="Comic Sans MS"/>
                  <a:ea typeface="宋体"/>
                </a:rPr>
                <a:t>channel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228600" y="838080"/>
            <a:ext cx="8686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9376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宋体"/>
              </a:rPr>
              <a:t>E-C schem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 is a tripl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Specifies the infrastructure of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E-Composition Sch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227160" y="1879560"/>
            <a:ext cx="8239680" cy="3263760"/>
            <a:chOff x="227160" y="1879560"/>
            <a:chExt cx="8239680" cy="3263760"/>
          </a:xfrm>
        </p:grpSpPr>
        <p:sp>
          <p:nvSpPr>
            <p:cNvPr id="442" name=""/>
            <p:cNvSpPr/>
            <p:nvPr/>
          </p:nvSpPr>
          <p:spPr>
            <a:xfrm>
              <a:off x="6105600" y="1879560"/>
              <a:ext cx="153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uthor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27160" y="4262400"/>
              <a:ext cx="390024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9000"/>
            </a:bodyPr>
            <a:p>
              <a:pPr marL="290520" indent="-290520">
                <a:lnSpc>
                  <a:spcPct val="90000"/>
                </a:lnSpc>
                <a:spcBef>
                  <a:spcPts val="539"/>
                </a:spcBef>
                <a:buClr>
                  <a:srgbClr val="008000"/>
                </a:buClr>
                <a:buSzPct val="12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M</a:t>
              </a:r>
              <a:r>
                <a:rPr b="0" lang="en-US" sz="29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: (finite) set of</a:t>
              </a:r>
              <a:br>
                <a:rPr sz="2900"/>
              </a:br>
              <a:r>
                <a:rPr b="0" lang="en-US" sz="29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</a:t>
              </a:r>
              <a:r>
                <a:rPr b="0" lang="en-US" sz="2900" spc="-1" strike="noStrike">
                  <a:solidFill>
                    <a:srgbClr val="008000"/>
                  </a:solidFill>
                  <a:latin typeface="Comic Sans MS"/>
                  <a:ea typeface="宋体"/>
                </a:rPr>
                <a:t>message classe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412320" y="21873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7275200">
              <a:off x="7680600" y="3356640"/>
              <a:ext cx="84456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bill</a:t>
              </a:r>
              <a:r>
                <a:rPr b="1" lang="en-US" sz="2000" spc="-1" strike="noStrike" baseline="-25000">
                  <a:solidFill>
                    <a:srgbClr val="0099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7536200">
              <a:off x="6963840" y="3376800"/>
              <a:ext cx="14479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payment</a:t>
              </a:r>
              <a:r>
                <a:rPr b="1" lang="en-US" sz="2000" spc="-1" strike="noStrike" baseline="-25000">
                  <a:solidFill>
                    <a:srgbClr val="0099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4326600">
              <a:off x="4824000" y="3602520"/>
              <a:ext cx="10414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order</a:t>
              </a:r>
              <a:r>
                <a:rPr b="1" lang="en-US" sz="2000" spc="-1" strike="noStrike" baseline="-25000">
                  <a:solidFill>
                    <a:srgbClr val="0099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4206600">
              <a:off x="5106960" y="3549960"/>
              <a:ext cx="117756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receipt</a:t>
              </a:r>
              <a:r>
                <a:rPr b="1" lang="en-US" sz="2000" spc="-1" strike="noStrike" baseline="-25000">
                  <a:solidFill>
                    <a:srgbClr val="0099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2620800">
              <a:off x="5632200" y="3139920"/>
              <a:ext cx="9748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order</a:t>
              </a:r>
              <a:r>
                <a:rPr b="1" lang="en-US" sz="2000" spc="-1" strike="noStrike" baseline="-25000">
                  <a:solidFill>
                    <a:srgbClr val="0099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2560200">
              <a:off x="5696280" y="2914560"/>
              <a:ext cx="117756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receipt</a:t>
              </a:r>
              <a:r>
                <a:rPr b="1" lang="en-US" sz="2000" spc="-1" strike="noStrike" baseline="-25000">
                  <a:solidFill>
                    <a:srgbClr val="0099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9133400">
              <a:off x="6475320" y="2737080"/>
              <a:ext cx="14623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payment</a:t>
              </a:r>
              <a:r>
                <a:rPr b="1" lang="en-US" sz="2000" spc="-1" strike="noStrike" baseline="-25000">
                  <a:solidFill>
                    <a:srgbClr val="0099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9116000">
              <a:off x="6878520" y="3093840"/>
              <a:ext cx="84456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bill</a:t>
              </a:r>
              <a:r>
                <a:rPr b="1" lang="en-US" sz="2000" spc="-1" strike="noStrike" baseline="-25000">
                  <a:solidFill>
                    <a:srgbClr val="0099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36520" y="1951200"/>
            <a:ext cx="8810640" cy="3549600"/>
            <a:chOff x="236520" y="1951200"/>
            <a:chExt cx="8810640" cy="3549600"/>
          </a:xfrm>
        </p:grpSpPr>
        <p:sp>
          <p:nvSpPr>
            <p:cNvPr id="454" name=""/>
            <p:cNvSpPr/>
            <p:nvPr/>
          </p:nvSpPr>
          <p:spPr>
            <a:xfrm>
              <a:off x="236520" y="1974960"/>
              <a:ext cx="434340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293760" indent="-293760">
                <a:lnSpc>
                  <a:spcPct val="90000"/>
                </a:lnSpc>
                <a:spcBef>
                  <a:spcPts val="539"/>
                </a:spcBef>
                <a:buClr>
                  <a:srgbClr val="ff0000"/>
                </a:buClr>
                <a:buSzPct val="12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29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: finite set of  </a:t>
              </a:r>
              <a:r>
                <a:rPr b="0" lang="en-US" sz="29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peers </a:t>
              </a:r>
              <a:r>
                <a:rPr b="0" lang="en-US" sz="29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(</a:t>
              </a:r>
              <a:r>
                <a:rPr b="0" lang="en-US" sz="29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e-services</a:t>
              </a:r>
              <a:r>
                <a:rPr b="0" lang="en-US" sz="29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32320" y="1962360"/>
              <a:ext cx="981000" cy="9158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066160" y="1951200"/>
              <a:ext cx="981000" cy="916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92760" y="4584960"/>
              <a:ext cx="1247760" cy="9158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ppli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9520" y="4575240"/>
              <a:ext cx="1309680" cy="916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pplie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20680" y="5489640"/>
            <a:ext cx="892332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7000"/>
          </a:bodyPr>
          <a:p>
            <a:pPr marL="167400" indent="-167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Many variations on this base model possible, e.g.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2400" indent="-1602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宋体"/>
              </a:rPr>
              <a:t>Different levels of granulariti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2400" indent="-1602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宋体"/>
              </a:rPr>
              <a:t>Assume finite domains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宋体"/>
              </a:rPr>
              <a:t> can model parameters explicit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FEEE-EECA-41A7-8086-7B4B159CD82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705816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8920" y="56880"/>
            <a:ext cx="8626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bining Peer and Composition Mode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5173200"/>
            <a:ext cx="839484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er fsa’s begin in their start st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476280" y="896760"/>
            <a:ext cx="3597120" cy="1521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17720" y="3112920"/>
            <a:ext cx="3078000" cy="1568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37200" y="3097080"/>
            <a:ext cx="3014640" cy="1600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276880" y="912960"/>
            <a:ext cx="3411360" cy="1492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03320" y="1652760"/>
            <a:ext cx="6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05120" y="1652760"/>
            <a:ext cx="63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71480" y="154296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38280" y="1620720"/>
            <a:ext cx="136440" cy="1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541600" y="155736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728440" y="1203840"/>
            <a:ext cx="504720" cy="37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65480" y="105408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42800" y="121428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805360" y="1819440"/>
            <a:ext cx="6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07160" y="1819440"/>
            <a:ext cx="63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473880" y="170964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343640" y="172404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530480" y="1370520"/>
            <a:ext cx="504720" cy="37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967520" y="122076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32440" y="150804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783520" y="1754280"/>
            <a:ext cx="454320" cy="43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5400000">
            <a:off x="3197160" y="210492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15160" y="3935520"/>
            <a:ext cx="68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551560" y="3919680"/>
            <a:ext cx="135000" cy="1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599400">
            <a:off x="6603480" y="383040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6824880" y="3469320"/>
            <a:ext cx="474120" cy="41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rot="599400">
            <a:off x="7267320" y="331272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01120" y="4012200"/>
            <a:ext cx="486720" cy="400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599400">
            <a:off x="7268760" y="434772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47640" y="3941640"/>
            <a:ext cx="63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84480" y="384660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82600" y="3925800"/>
            <a:ext cx="13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382840" y="3957480"/>
            <a:ext cx="63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19320" y="386244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57280" y="350532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7920" y="8398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1200" y="31212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ie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30751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i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343640" y="346536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60040" y="8730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664240" y="3778200"/>
            <a:ext cx="279360" cy="298440"/>
            <a:chOff x="5664240" y="3778200"/>
            <a:chExt cx="279360" cy="298440"/>
          </a:xfrm>
        </p:grpSpPr>
        <p:sp>
          <p:nvSpPr>
            <p:cNvPr id="503" name=""/>
            <p:cNvSpPr/>
            <p:nvPr/>
          </p:nvSpPr>
          <p:spPr>
            <a:xfrm>
              <a:off x="5664240" y="3778200"/>
              <a:ext cx="279360" cy="298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53160" y="3867120"/>
              <a:ext cx="108000" cy="1159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 rot="18334200">
            <a:off x="-144360" y="2069640"/>
            <a:ext cx="1320840" cy="666720"/>
          </a:xfrm>
          <a:prstGeom prst="rightArrow">
            <a:avLst>
              <a:gd name="adj1" fmla="val 50000"/>
              <a:gd name="adj2" fmla="val 49528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13320" y="1781280"/>
            <a:ext cx="135000" cy="1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023840" y="936720"/>
            <a:ext cx="2136600" cy="1504080"/>
            <a:chOff x="1023840" y="936720"/>
            <a:chExt cx="2136600" cy="1504080"/>
          </a:xfrm>
        </p:grpSpPr>
        <p:sp>
          <p:nvSpPr>
            <p:cNvPr id="508" name=""/>
            <p:cNvSpPr/>
            <p:nvPr/>
          </p:nvSpPr>
          <p:spPr>
            <a:xfrm rot="19053600">
              <a:off x="2440440" y="106128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23840" y="12412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30960" y="12193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2853600">
              <a:off x="2496600" y="180396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766120" y="1037520"/>
            <a:ext cx="2227680" cy="814320"/>
            <a:chOff x="5766120" y="1037520"/>
            <a:chExt cx="2227680" cy="814320"/>
          </a:xfrm>
        </p:grpSpPr>
        <p:sp>
          <p:nvSpPr>
            <p:cNvPr id="513" name=""/>
            <p:cNvSpPr/>
            <p:nvPr/>
          </p:nvSpPr>
          <p:spPr>
            <a:xfrm rot="19053600">
              <a:off x="7284600" y="117900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66120" y="13921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96000" y="13860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407240" y="3508200"/>
            <a:ext cx="1459440" cy="526320"/>
            <a:chOff x="1407240" y="3508200"/>
            <a:chExt cx="1459440" cy="526320"/>
          </a:xfrm>
        </p:grpSpPr>
        <p:sp>
          <p:nvSpPr>
            <p:cNvPr id="517" name=""/>
            <p:cNvSpPr/>
            <p:nvPr/>
          </p:nvSpPr>
          <p:spPr>
            <a:xfrm>
              <a:off x="1407240" y="350820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298960" y="352440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815440" y="3249360"/>
            <a:ext cx="1393560" cy="1469520"/>
            <a:chOff x="5815440" y="3249360"/>
            <a:chExt cx="1393560" cy="1469520"/>
          </a:xfrm>
        </p:grpSpPr>
        <p:sp>
          <p:nvSpPr>
            <p:cNvPr id="520" name=""/>
            <p:cNvSpPr/>
            <p:nvPr/>
          </p:nvSpPr>
          <p:spPr>
            <a:xfrm>
              <a:off x="5815440" y="349236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9092600">
              <a:off x="6525360" y="3367800"/>
              <a:ext cx="55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2146200">
              <a:off x="6545520" y="409068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467000" y="4065480"/>
            <a:ext cx="1747800" cy="405000"/>
            <a:chOff x="1467000" y="4065480"/>
            <a:chExt cx="1747800" cy="405000"/>
          </a:xfrm>
        </p:grpSpPr>
        <p:sp>
          <p:nvSpPr>
            <p:cNvPr id="524" name=""/>
            <p:cNvSpPr/>
            <p:nvPr/>
          </p:nvSpPr>
          <p:spPr>
            <a:xfrm>
              <a:off x="2408400" y="4459320"/>
              <a:ext cx="80640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67000" y="4065480"/>
              <a:ext cx="974520" cy="405000"/>
            </a:xfrm>
            <a:custGeom>
              <a:avLst/>
              <a:gdLst/>
              <a:ahLst/>
              <a:rect l="l" t="t" r="r" b="b"/>
              <a:pathLst>
                <a:path w="777" h="265">
                  <a:moveTo>
                    <a:pt x="777" y="259"/>
                  </a:moveTo>
                  <a:cubicBezTo>
                    <a:pt x="668" y="262"/>
                    <a:pt x="559" y="265"/>
                    <a:pt x="460" y="259"/>
                  </a:cubicBezTo>
                  <a:cubicBezTo>
                    <a:pt x="361" y="253"/>
                    <a:pt x="251" y="247"/>
                    <a:pt x="182" y="221"/>
                  </a:cubicBezTo>
                  <a:cubicBezTo>
                    <a:pt x="113" y="195"/>
                    <a:pt x="78" y="143"/>
                    <a:pt x="48" y="106"/>
                  </a:cubicBezTo>
                  <a:cubicBezTo>
                    <a:pt x="18" y="69"/>
                    <a:pt x="9" y="34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274760" y="3795840"/>
            <a:ext cx="279360" cy="298440"/>
            <a:chOff x="1274760" y="3795840"/>
            <a:chExt cx="279360" cy="298440"/>
          </a:xfrm>
        </p:grpSpPr>
        <p:sp>
          <p:nvSpPr>
            <p:cNvPr id="527" name=""/>
            <p:cNvSpPr/>
            <p:nvPr/>
          </p:nvSpPr>
          <p:spPr>
            <a:xfrm>
              <a:off x="1274760" y="3795840"/>
              <a:ext cx="279360" cy="298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63680" y="3884760"/>
              <a:ext cx="108000" cy="1159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856120" y="4035600"/>
            <a:ext cx="849600" cy="554040"/>
            <a:chOff x="5856120" y="4035600"/>
            <a:chExt cx="849600" cy="554040"/>
          </a:xfrm>
        </p:grpSpPr>
        <p:sp>
          <p:nvSpPr>
            <p:cNvPr id="530" name=""/>
            <p:cNvSpPr/>
            <p:nvPr/>
          </p:nvSpPr>
          <p:spPr>
            <a:xfrm>
              <a:off x="6313320" y="4581360"/>
              <a:ext cx="392400" cy="5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56120" y="4035600"/>
              <a:ext cx="473400" cy="554040"/>
            </a:xfrm>
            <a:custGeom>
              <a:avLst/>
              <a:gdLst/>
              <a:ahLst/>
              <a:rect l="l" t="t" r="r" b="b"/>
              <a:pathLst>
                <a:path w="777" h="265">
                  <a:moveTo>
                    <a:pt x="777" y="259"/>
                  </a:moveTo>
                  <a:cubicBezTo>
                    <a:pt x="668" y="262"/>
                    <a:pt x="559" y="265"/>
                    <a:pt x="460" y="259"/>
                  </a:cubicBezTo>
                  <a:cubicBezTo>
                    <a:pt x="361" y="253"/>
                    <a:pt x="251" y="247"/>
                    <a:pt x="182" y="221"/>
                  </a:cubicBezTo>
                  <a:cubicBezTo>
                    <a:pt x="113" y="195"/>
                    <a:pt x="78" y="143"/>
                    <a:pt x="48" y="106"/>
                  </a:cubicBezTo>
                  <a:cubicBezTo>
                    <a:pt x="18" y="69"/>
                    <a:pt x="9" y="34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79400" y="1531800"/>
            <a:ext cx="220680" cy="217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51560" y="1684440"/>
            <a:ext cx="220680" cy="2174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949480" y="1781280"/>
            <a:ext cx="3438720" cy="1452600"/>
            <a:chOff x="2949480" y="1781280"/>
            <a:chExt cx="3438720" cy="1452600"/>
          </a:xfrm>
        </p:grpSpPr>
        <p:sp>
          <p:nvSpPr>
            <p:cNvPr id="535" name=""/>
            <p:cNvSpPr/>
            <p:nvPr/>
          </p:nvSpPr>
          <p:spPr>
            <a:xfrm>
              <a:off x="4089240" y="1781280"/>
              <a:ext cx="1097280" cy="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43520" y="1978200"/>
              <a:ext cx="1103040" cy="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49480" y="2444760"/>
              <a:ext cx="460440" cy="62856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3166920" y="2433600"/>
              <a:ext cx="508320" cy="62856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4011480" y="2436840"/>
              <a:ext cx="1355760" cy="76824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3857400" y="2303640"/>
              <a:ext cx="1344600" cy="77940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89360" y="2455920"/>
              <a:ext cx="1357200" cy="77796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flipV="1">
              <a:off x="4019040" y="2390400"/>
              <a:ext cx="1265400" cy="72396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5447880" y="2455920"/>
              <a:ext cx="676440" cy="60624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5767560" y="2444760"/>
              <a:ext cx="620640" cy="59544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AE3D-1B1F-40F3-9AF7-61B48EAAD65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"/>
          <p:cNvGrpSpPr/>
          <p:nvPr/>
        </p:nvGrpSpPr>
        <p:grpSpPr>
          <a:xfrm>
            <a:off x="2949480" y="1781280"/>
            <a:ext cx="3438720" cy="1452600"/>
            <a:chOff x="2949480" y="1781280"/>
            <a:chExt cx="3438720" cy="1452600"/>
          </a:xfrm>
        </p:grpSpPr>
        <p:sp>
          <p:nvSpPr>
            <p:cNvPr id="546" name=""/>
            <p:cNvSpPr/>
            <p:nvPr/>
          </p:nvSpPr>
          <p:spPr>
            <a:xfrm>
              <a:off x="4089240" y="1781280"/>
              <a:ext cx="1097280" cy="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43520" y="1978200"/>
              <a:ext cx="1103040" cy="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949480" y="2444760"/>
              <a:ext cx="460440" cy="62856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flipV="1">
              <a:off x="3166920" y="2433600"/>
              <a:ext cx="508320" cy="62856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4011480" y="2436840"/>
              <a:ext cx="1355760" cy="76824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857400" y="2303640"/>
              <a:ext cx="1344600" cy="77940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789360" y="2455920"/>
              <a:ext cx="1357200" cy="77796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flipV="1">
              <a:off x="4019040" y="2390400"/>
              <a:ext cx="1265400" cy="72396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5447880" y="2455920"/>
              <a:ext cx="676440" cy="60624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5767560" y="2444760"/>
              <a:ext cx="620640" cy="59544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4898880" y="1184400"/>
            <a:ext cx="381240" cy="38088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05816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22120" y="7596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cuting a Mealy Composition (cont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476280" y="896760"/>
            <a:ext cx="3597120" cy="1521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17720" y="3112920"/>
            <a:ext cx="3078000" cy="1568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137200" y="3097080"/>
            <a:ext cx="3014640" cy="1600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76880" y="912960"/>
            <a:ext cx="3411360" cy="1492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003320" y="1652760"/>
            <a:ext cx="6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05120" y="1652760"/>
            <a:ext cx="63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38280" y="1620720"/>
            <a:ext cx="136440" cy="1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41600" y="155736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2728440" y="1203840"/>
            <a:ext cx="504720" cy="37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165480" y="105408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42800" y="121428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05360" y="1819440"/>
            <a:ext cx="6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707160" y="1819440"/>
            <a:ext cx="63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473880" y="170964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43640" y="172404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530480" y="1370520"/>
            <a:ext cx="504720" cy="37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967520" y="122076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732440" y="150804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83520" y="1754280"/>
            <a:ext cx="454320" cy="43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3197160" y="210492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915160" y="3935520"/>
            <a:ext cx="68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551560" y="3919680"/>
            <a:ext cx="135000" cy="1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rot="599400">
            <a:off x="6603480" y="383040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6824880" y="3469320"/>
            <a:ext cx="474120" cy="41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rot="599400">
            <a:off x="7267320" y="331272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01120" y="4012200"/>
            <a:ext cx="486720" cy="400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599400">
            <a:off x="7268760" y="434772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47640" y="3941640"/>
            <a:ext cx="63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14360" y="3832200"/>
            <a:ext cx="220680" cy="2174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184480" y="384660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82840" y="3957480"/>
            <a:ext cx="63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19320" y="386244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257280" y="350532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7920" y="8398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41200" y="31212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ie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30751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i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343640" y="346536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360040" y="8730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64240" y="3778200"/>
            <a:ext cx="279360" cy="298440"/>
            <a:chOff x="5664240" y="3778200"/>
            <a:chExt cx="279360" cy="298440"/>
          </a:xfrm>
        </p:grpSpPr>
        <p:sp>
          <p:nvSpPr>
            <p:cNvPr id="598" name=""/>
            <p:cNvSpPr/>
            <p:nvPr/>
          </p:nvSpPr>
          <p:spPr>
            <a:xfrm>
              <a:off x="5664240" y="3778200"/>
              <a:ext cx="279360" cy="298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753160" y="3867120"/>
              <a:ext cx="108000" cy="1159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1679400" y="1546200"/>
            <a:ext cx="220680" cy="2174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rot="18334200">
            <a:off x="4003560" y="1901160"/>
            <a:ext cx="1320840" cy="666720"/>
          </a:xfrm>
          <a:prstGeom prst="rightArrow">
            <a:avLst>
              <a:gd name="adj1" fmla="val 50000"/>
              <a:gd name="adj2" fmla="val 49528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18334200">
            <a:off x="502920" y="2069640"/>
            <a:ext cx="1320840" cy="666720"/>
          </a:xfrm>
          <a:prstGeom prst="rightArrow">
            <a:avLst>
              <a:gd name="adj1" fmla="val 50000"/>
              <a:gd name="adj2" fmla="val 49528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80520" y="5173200"/>
            <a:ext cx="839484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RE produces letter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sends to BAN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"/>
          <p:cNvSpPr/>
          <p:nvPr/>
        </p:nvSpPr>
        <p:spPr>
          <a:xfrm>
            <a:off x="1182600" y="3925800"/>
            <a:ext cx="13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413320" y="1781280"/>
            <a:ext cx="135000" cy="1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023840" y="936720"/>
            <a:ext cx="2136600" cy="1504080"/>
            <a:chOff x="1023840" y="936720"/>
            <a:chExt cx="2136600" cy="1504080"/>
          </a:xfrm>
        </p:grpSpPr>
        <p:sp>
          <p:nvSpPr>
            <p:cNvPr id="607" name=""/>
            <p:cNvSpPr/>
            <p:nvPr/>
          </p:nvSpPr>
          <p:spPr>
            <a:xfrm rot="19053600">
              <a:off x="2440440" y="106128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023840" y="12412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30960" y="12193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2853600">
              <a:off x="2496600" y="180396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5766120" y="1037520"/>
            <a:ext cx="2227680" cy="814320"/>
            <a:chOff x="5766120" y="1037520"/>
            <a:chExt cx="2227680" cy="814320"/>
          </a:xfrm>
        </p:grpSpPr>
        <p:sp>
          <p:nvSpPr>
            <p:cNvPr id="612" name=""/>
            <p:cNvSpPr/>
            <p:nvPr/>
          </p:nvSpPr>
          <p:spPr>
            <a:xfrm rot="19053600">
              <a:off x="7284600" y="117900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766120" y="13921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696000" y="13860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1407240" y="3508200"/>
            <a:ext cx="1459440" cy="526320"/>
            <a:chOff x="1407240" y="3508200"/>
            <a:chExt cx="1459440" cy="526320"/>
          </a:xfrm>
        </p:grpSpPr>
        <p:sp>
          <p:nvSpPr>
            <p:cNvPr id="616" name=""/>
            <p:cNvSpPr/>
            <p:nvPr/>
          </p:nvSpPr>
          <p:spPr>
            <a:xfrm>
              <a:off x="1407240" y="350820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298960" y="352440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815440" y="3249360"/>
            <a:ext cx="1393560" cy="1469520"/>
            <a:chOff x="5815440" y="3249360"/>
            <a:chExt cx="1393560" cy="1469520"/>
          </a:xfrm>
        </p:grpSpPr>
        <p:sp>
          <p:nvSpPr>
            <p:cNvPr id="619" name=""/>
            <p:cNvSpPr/>
            <p:nvPr/>
          </p:nvSpPr>
          <p:spPr>
            <a:xfrm>
              <a:off x="5815440" y="349236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9092600">
              <a:off x="6525360" y="3367800"/>
              <a:ext cx="55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2146200">
              <a:off x="6545520" y="409068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1274760" y="3795840"/>
            <a:ext cx="279360" cy="298440"/>
            <a:chOff x="1274760" y="3795840"/>
            <a:chExt cx="279360" cy="298440"/>
          </a:xfrm>
        </p:grpSpPr>
        <p:sp>
          <p:nvSpPr>
            <p:cNvPr id="623" name=""/>
            <p:cNvSpPr/>
            <p:nvPr/>
          </p:nvSpPr>
          <p:spPr>
            <a:xfrm>
              <a:off x="1274760" y="3795840"/>
              <a:ext cx="279360" cy="298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363680" y="3884760"/>
              <a:ext cx="108000" cy="1159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5548320" y="1695600"/>
            <a:ext cx="220680" cy="2174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87320" y="154296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467000" y="4065480"/>
            <a:ext cx="1747800" cy="405000"/>
            <a:chOff x="1467000" y="4065480"/>
            <a:chExt cx="1747800" cy="405000"/>
          </a:xfrm>
        </p:grpSpPr>
        <p:sp>
          <p:nvSpPr>
            <p:cNvPr id="628" name=""/>
            <p:cNvSpPr/>
            <p:nvPr/>
          </p:nvSpPr>
          <p:spPr>
            <a:xfrm>
              <a:off x="2408400" y="4459320"/>
              <a:ext cx="80640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67000" y="4065480"/>
              <a:ext cx="974520" cy="405000"/>
            </a:xfrm>
            <a:custGeom>
              <a:avLst/>
              <a:gdLst/>
              <a:ahLst/>
              <a:rect l="l" t="t" r="r" b="b"/>
              <a:pathLst>
                <a:path w="777" h="265">
                  <a:moveTo>
                    <a:pt x="777" y="259"/>
                  </a:moveTo>
                  <a:cubicBezTo>
                    <a:pt x="668" y="262"/>
                    <a:pt x="559" y="265"/>
                    <a:pt x="460" y="259"/>
                  </a:cubicBezTo>
                  <a:cubicBezTo>
                    <a:pt x="361" y="253"/>
                    <a:pt x="251" y="247"/>
                    <a:pt x="182" y="221"/>
                  </a:cubicBezTo>
                  <a:cubicBezTo>
                    <a:pt x="113" y="195"/>
                    <a:pt x="78" y="143"/>
                    <a:pt x="48" y="106"/>
                  </a:cubicBezTo>
                  <a:cubicBezTo>
                    <a:pt x="18" y="69"/>
                    <a:pt x="9" y="34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5856120" y="4035600"/>
            <a:ext cx="849600" cy="554040"/>
            <a:chOff x="5856120" y="4035600"/>
            <a:chExt cx="849600" cy="554040"/>
          </a:xfrm>
        </p:grpSpPr>
        <p:sp>
          <p:nvSpPr>
            <p:cNvPr id="631" name=""/>
            <p:cNvSpPr/>
            <p:nvPr/>
          </p:nvSpPr>
          <p:spPr>
            <a:xfrm>
              <a:off x="6313320" y="4581360"/>
              <a:ext cx="392400" cy="5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56120" y="4035600"/>
              <a:ext cx="473400" cy="554040"/>
            </a:xfrm>
            <a:custGeom>
              <a:avLst/>
              <a:gdLst/>
              <a:ahLst/>
              <a:rect l="l" t="t" r="r" b="b"/>
              <a:pathLst>
                <a:path w="777" h="265">
                  <a:moveTo>
                    <a:pt x="777" y="259"/>
                  </a:moveTo>
                  <a:cubicBezTo>
                    <a:pt x="668" y="262"/>
                    <a:pt x="559" y="265"/>
                    <a:pt x="460" y="259"/>
                  </a:cubicBezTo>
                  <a:cubicBezTo>
                    <a:pt x="361" y="253"/>
                    <a:pt x="251" y="247"/>
                    <a:pt x="182" y="221"/>
                  </a:cubicBezTo>
                  <a:cubicBezTo>
                    <a:pt x="113" y="195"/>
                    <a:pt x="78" y="143"/>
                    <a:pt x="48" y="106"/>
                  </a:cubicBezTo>
                  <a:cubicBezTo>
                    <a:pt x="18" y="69"/>
                    <a:pt x="9" y="34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72E3-2C96-4792-BE39-8A5B5B52338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"/>
          <p:cNvGrpSpPr/>
          <p:nvPr/>
        </p:nvGrpSpPr>
        <p:grpSpPr>
          <a:xfrm>
            <a:off x="2949480" y="1781280"/>
            <a:ext cx="3438720" cy="1452600"/>
            <a:chOff x="2949480" y="1781280"/>
            <a:chExt cx="3438720" cy="1452600"/>
          </a:xfrm>
        </p:grpSpPr>
        <p:sp>
          <p:nvSpPr>
            <p:cNvPr id="634" name=""/>
            <p:cNvSpPr/>
            <p:nvPr/>
          </p:nvSpPr>
          <p:spPr>
            <a:xfrm>
              <a:off x="4089240" y="1781280"/>
              <a:ext cx="1097280" cy="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043520" y="1978200"/>
              <a:ext cx="1103040" cy="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949480" y="2444760"/>
              <a:ext cx="460440" cy="62856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3166920" y="2433600"/>
              <a:ext cx="508320" cy="62856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4011480" y="2436840"/>
              <a:ext cx="1355760" cy="76824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3857400" y="2303640"/>
              <a:ext cx="1344600" cy="77940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89360" y="2455920"/>
              <a:ext cx="1357200" cy="77796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4019040" y="2390400"/>
              <a:ext cx="1265400" cy="72396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5447880" y="2455920"/>
              <a:ext cx="676440" cy="60624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767560" y="2444760"/>
              <a:ext cx="620640" cy="59544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705816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22120" y="7596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cuting a Mealy Composition (cont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1680" y="5103360"/>
            <a:ext cx="8763120" cy="16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NK consumes letter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ecution successful if all queues are empty and fsa’s in final s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476280" y="896760"/>
            <a:ext cx="3597120" cy="1521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17720" y="3112920"/>
            <a:ext cx="3078000" cy="1568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137200" y="3097080"/>
            <a:ext cx="3014640" cy="1600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276880" y="912960"/>
            <a:ext cx="3411360" cy="1492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003320" y="1652760"/>
            <a:ext cx="6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905120" y="1652760"/>
            <a:ext cx="63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8280" y="1620720"/>
            <a:ext cx="136440" cy="1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541600" y="155736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2728440" y="1203840"/>
            <a:ext cx="504720" cy="37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165480" y="105408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142800" y="121428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805360" y="1819440"/>
            <a:ext cx="6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707160" y="1819440"/>
            <a:ext cx="63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343640" y="172404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7530480" y="1370520"/>
            <a:ext cx="504720" cy="37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967520" y="122076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732440" y="150804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783520" y="1754280"/>
            <a:ext cx="454320" cy="43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5400000">
            <a:off x="3197160" y="210492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915160" y="3935520"/>
            <a:ext cx="68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51560" y="3919680"/>
            <a:ext cx="135000" cy="1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599400">
            <a:off x="6603480" y="383040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6824880" y="3469320"/>
            <a:ext cx="474120" cy="41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rot="599400">
            <a:off x="7267320" y="331272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01120" y="4012200"/>
            <a:ext cx="486720" cy="400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599400">
            <a:off x="7268760" y="434772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547640" y="3941640"/>
            <a:ext cx="63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14360" y="3832200"/>
            <a:ext cx="220680" cy="2174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184480" y="384660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82840" y="3957480"/>
            <a:ext cx="63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019320" y="386244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57280" y="350532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7920" y="8398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41200" y="31212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ie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81480" y="30751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i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343640" y="346536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360040" y="8730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5664240" y="3778200"/>
            <a:ext cx="279360" cy="298440"/>
            <a:chOff x="5664240" y="3778200"/>
            <a:chExt cx="279360" cy="298440"/>
          </a:xfrm>
        </p:grpSpPr>
        <p:sp>
          <p:nvSpPr>
            <p:cNvPr id="685" name=""/>
            <p:cNvSpPr/>
            <p:nvPr/>
          </p:nvSpPr>
          <p:spPr>
            <a:xfrm>
              <a:off x="5664240" y="3778200"/>
              <a:ext cx="279360" cy="298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753160" y="3867120"/>
              <a:ext cx="108000" cy="1159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1679400" y="1546200"/>
            <a:ext cx="220680" cy="2174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50120" y="1714680"/>
            <a:ext cx="220680" cy="2174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rot="18334200">
            <a:off x="5387760" y="2183760"/>
            <a:ext cx="1320840" cy="666720"/>
          </a:xfrm>
          <a:prstGeom prst="rightArrow">
            <a:avLst>
              <a:gd name="adj1" fmla="val 50000"/>
              <a:gd name="adj2" fmla="val 49528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182600" y="3925800"/>
            <a:ext cx="13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13320" y="1781280"/>
            <a:ext cx="135000" cy="1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023840" y="936720"/>
            <a:ext cx="2136600" cy="1504080"/>
            <a:chOff x="1023840" y="936720"/>
            <a:chExt cx="2136600" cy="1504080"/>
          </a:xfrm>
        </p:grpSpPr>
        <p:sp>
          <p:nvSpPr>
            <p:cNvPr id="693" name=""/>
            <p:cNvSpPr/>
            <p:nvPr/>
          </p:nvSpPr>
          <p:spPr>
            <a:xfrm rot="19053600">
              <a:off x="2440440" y="106128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023840" y="12412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30960" y="12193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2853600">
              <a:off x="2496600" y="180396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5766120" y="1037520"/>
            <a:ext cx="2227680" cy="814320"/>
            <a:chOff x="5766120" y="1037520"/>
            <a:chExt cx="2227680" cy="814320"/>
          </a:xfrm>
        </p:grpSpPr>
        <p:sp>
          <p:nvSpPr>
            <p:cNvPr id="698" name=""/>
            <p:cNvSpPr/>
            <p:nvPr/>
          </p:nvSpPr>
          <p:spPr>
            <a:xfrm rot="19053600">
              <a:off x="7284600" y="117900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66120" y="13921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696000" y="13860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407240" y="3508200"/>
            <a:ext cx="1459440" cy="526320"/>
            <a:chOff x="1407240" y="3508200"/>
            <a:chExt cx="1459440" cy="526320"/>
          </a:xfrm>
        </p:grpSpPr>
        <p:sp>
          <p:nvSpPr>
            <p:cNvPr id="702" name=""/>
            <p:cNvSpPr/>
            <p:nvPr/>
          </p:nvSpPr>
          <p:spPr>
            <a:xfrm>
              <a:off x="1407240" y="350820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98960" y="352440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5815440" y="3249360"/>
            <a:ext cx="1393560" cy="1469520"/>
            <a:chOff x="5815440" y="3249360"/>
            <a:chExt cx="1393560" cy="1469520"/>
          </a:xfrm>
        </p:grpSpPr>
        <p:sp>
          <p:nvSpPr>
            <p:cNvPr id="705" name=""/>
            <p:cNvSpPr/>
            <p:nvPr/>
          </p:nvSpPr>
          <p:spPr>
            <a:xfrm>
              <a:off x="5815440" y="349236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19092600">
              <a:off x="6525360" y="3367800"/>
              <a:ext cx="55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2146200">
              <a:off x="6545520" y="409068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1274760" y="3795840"/>
            <a:ext cx="279360" cy="298440"/>
            <a:chOff x="1274760" y="3795840"/>
            <a:chExt cx="279360" cy="298440"/>
          </a:xfrm>
        </p:grpSpPr>
        <p:sp>
          <p:nvSpPr>
            <p:cNvPr id="709" name=""/>
            <p:cNvSpPr/>
            <p:nvPr/>
          </p:nvSpPr>
          <p:spPr>
            <a:xfrm>
              <a:off x="1274760" y="3795840"/>
              <a:ext cx="279360" cy="298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363680" y="3884760"/>
              <a:ext cx="108000" cy="1159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773280" y="1527120"/>
            <a:ext cx="22032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559480" y="169380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1467000" y="4065480"/>
            <a:ext cx="1747800" cy="405000"/>
            <a:chOff x="1467000" y="4065480"/>
            <a:chExt cx="1747800" cy="405000"/>
          </a:xfrm>
        </p:grpSpPr>
        <p:sp>
          <p:nvSpPr>
            <p:cNvPr id="714" name=""/>
            <p:cNvSpPr/>
            <p:nvPr/>
          </p:nvSpPr>
          <p:spPr>
            <a:xfrm>
              <a:off x="2408400" y="4459320"/>
              <a:ext cx="80640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467000" y="4065480"/>
              <a:ext cx="974520" cy="405000"/>
            </a:xfrm>
            <a:custGeom>
              <a:avLst/>
              <a:gdLst/>
              <a:ahLst/>
              <a:rect l="l" t="t" r="r" b="b"/>
              <a:pathLst>
                <a:path w="777" h="265">
                  <a:moveTo>
                    <a:pt x="777" y="259"/>
                  </a:moveTo>
                  <a:cubicBezTo>
                    <a:pt x="668" y="262"/>
                    <a:pt x="559" y="265"/>
                    <a:pt x="460" y="259"/>
                  </a:cubicBezTo>
                  <a:cubicBezTo>
                    <a:pt x="361" y="253"/>
                    <a:pt x="251" y="247"/>
                    <a:pt x="182" y="221"/>
                  </a:cubicBezTo>
                  <a:cubicBezTo>
                    <a:pt x="113" y="195"/>
                    <a:pt x="78" y="143"/>
                    <a:pt x="48" y="106"/>
                  </a:cubicBezTo>
                  <a:cubicBezTo>
                    <a:pt x="18" y="69"/>
                    <a:pt x="9" y="34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856120" y="4035600"/>
            <a:ext cx="849600" cy="554040"/>
            <a:chOff x="5856120" y="4035600"/>
            <a:chExt cx="849600" cy="554040"/>
          </a:xfrm>
        </p:grpSpPr>
        <p:sp>
          <p:nvSpPr>
            <p:cNvPr id="717" name=""/>
            <p:cNvSpPr/>
            <p:nvPr/>
          </p:nvSpPr>
          <p:spPr>
            <a:xfrm>
              <a:off x="6313320" y="4581360"/>
              <a:ext cx="392400" cy="5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856120" y="4035600"/>
              <a:ext cx="473400" cy="554040"/>
            </a:xfrm>
            <a:custGeom>
              <a:avLst/>
              <a:gdLst/>
              <a:ahLst/>
              <a:rect l="l" t="t" r="r" b="b"/>
              <a:pathLst>
                <a:path w="777" h="265">
                  <a:moveTo>
                    <a:pt x="777" y="259"/>
                  </a:moveTo>
                  <a:cubicBezTo>
                    <a:pt x="668" y="262"/>
                    <a:pt x="559" y="265"/>
                    <a:pt x="460" y="259"/>
                  </a:cubicBezTo>
                  <a:cubicBezTo>
                    <a:pt x="361" y="253"/>
                    <a:pt x="251" y="247"/>
                    <a:pt x="182" y="221"/>
                  </a:cubicBezTo>
                  <a:cubicBezTo>
                    <a:pt x="113" y="195"/>
                    <a:pt x="78" y="143"/>
                    <a:pt x="48" y="106"/>
                  </a:cubicBezTo>
                  <a:cubicBezTo>
                    <a:pt x="18" y="69"/>
                    <a:pt x="9" y="34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 rot="18334200">
            <a:off x="4003560" y="1901160"/>
            <a:ext cx="1320840" cy="666720"/>
          </a:xfrm>
          <a:prstGeom prst="rightArrow">
            <a:avLst>
              <a:gd name="adj1" fmla="val 50000"/>
              <a:gd name="adj2" fmla="val 49528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FF0-AF3C-4B44-B8B2-5C23C247975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705816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36440" y="66600"/>
            <a:ext cx="836928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” and “Conversation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228600" y="4076640"/>
            <a:ext cx="876312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1880" indent="-28188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i="1" lang="en-US" sz="2800" spc="-1" strike="noStrike">
                <a:solidFill>
                  <a:srgbClr val="cc0066"/>
                </a:solidFill>
                <a:latin typeface="Comic Sans MS"/>
              </a:rPr>
              <a:t>state of the composi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based 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1320" indent="-26964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of each pe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1320" indent="-26964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ents of the que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880" indent="-281880">
              <a:spcBef>
                <a:spcPts val="524"/>
              </a:spcBef>
              <a:buClr>
                <a:srgbClr val="cc0066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66"/>
                </a:solidFill>
                <a:latin typeface="Comic Sans MS"/>
              </a:rPr>
              <a:t>Conversation</a:t>
            </a:r>
            <a:r>
              <a:rPr b="1" i="1" lang="en-US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one enactment of global proc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1320" indent="-26964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have “sub-conversations” of a convers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1320" indent="-26964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ttle known about formal properties of convers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"/>
          <p:cNvSpPr/>
          <p:nvPr/>
        </p:nvSpPr>
        <p:spPr>
          <a:xfrm>
            <a:off x="160200" y="1081080"/>
            <a:ext cx="365400" cy="4525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91200" y="3057480"/>
            <a:ext cx="380880" cy="4525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056200" y="885960"/>
            <a:ext cx="365040" cy="4633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700520" y="874800"/>
            <a:ext cx="365040" cy="47448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0560" y="3086280"/>
            <a:ext cx="381240" cy="4489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23800" y="765000"/>
            <a:ext cx="3597480" cy="1289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906480" y="2644920"/>
            <a:ext cx="3078000" cy="1330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581800" y="2630520"/>
            <a:ext cx="3014640" cy="1357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419800" y="777960"/>
            <a:ext cx="3411360" cy="1265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050840" y="1405080"/>
            <a:ext cx="6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952640" y="1405080"/>
            <a:ext cx="63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5800" y="1378080"/>
            <a:ext cx="136440" cy="14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589120" y="1324080"/>
            <a:ext cx="220680" cy="185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775960" y="996120"/>
            <a:ext cx="504360" cy="37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735200" y="1324080"/>
            <a:ext cx="220680" cy="185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90680" y="103356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948280" y="1546200"/>
            <a:ext cx="6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0080" y="1546200"/>
            <a:ext cx="63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648480" y="1452600"/>
            <a:ext cx="220680" cy="183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673400" y="1137240"/>
            <a:ext cx="504720" cy="37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110440" y="1039680"/>
            <a:ext cx="220680" cy="184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875360" y="128268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1071360" y="770040"/>
            <a:ext cx="2160360" cy="1397520"/>
            <a:chOff x="1071360" y="770040"/>
            <a:chExt cx="2160360" cy="1397520"/>
          </a:xfrm>
        </p:grpSpPr>
        <p:sp>
          <p:nvSpPr>
            <p:cNvPr id="746" name=""/>
            <p:cNvSpPr/>
            <p:nvPr/>
          </p:nvSpPr>
          <p:spPr>
            <a:xfrm rot="19053600">
              <a:off x="2511720" y="89460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071360" y="10591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78480" y="10378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2853600">
              <a:off x="2567880" y="153072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2831040" y="1459080"/>
            <a:ext cx="454680" cy="43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5400000">
            <a:off x="3261240" y="1772280"/>
            <a:ext cx="18756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359400" y="3341520"/>
            <a:ext cx="6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996160" y="3327480"/>
            <a:ext cx="134640" cy="14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270200" y="2914200"/>
            <a:ext cx="472680" cy="41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599400">
            <a:off x="7711560" y="2813040"/>
            <a:ext cx="220680" cy="185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247160" y="3375720"/>
            <a:ext cx="486720" cy="400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599400">
            <a:off x="7713360" y="3691080"/>
            <a:ext cx="220680" cy="185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6275880" y="2732040"/>
            <a:ext cx="1386000" cy="1361520"/>
            <a:chOff x="6275880" y="2732040"/>
            <a:chExt cx="1386000" cy="1361520"/>
          </a:xfrm>
        </p:grpSpPr>
        <p:sp>
          <p:nvSpPr>
            <p:cNvPr id="759" name=""/>
            <p:cNvSpPr/>
            <p:nvPr/>
          </p:nvSpPr>
          <p:spPr>
            <a:xfrm>
              <a:off x="6275880" y="296676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9092600">
              <a:off x="7011000" y="2850480"/>
              <a:ext cx="55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2146200">
              <a:off x="6983640" y="346536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1436760" y="3346560"/>
            <a:ext cx="63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895480" y="3267000"/>
            <a:ext cx="220680" cy="184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073240" y="3265560"/>
            <a:ext cx="220680" cy="185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1296000" y="2932200"/>
            <a:ext cx="1459440" cy="523800"/>
            <a:chOff x="1296000" y="2932200"/>
            <a:chExt cx="1459440" cy="523800"/>
          </a:xfrm>
        </p:grpSpPr>
        <p:sp>
          <p:nvSpPr>
            <p:cNvPr id="766" name=""/>
            <p:cNvSpPr/>
            <p:nvPr/>
          </p:nvSpPr>
          <p:spPr>
            <a:xfrm>
              <a:off x="1296000" y="293220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87720" y="294588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2271600" y="3360600"/>
            <a:ext cx="63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146040" y="297648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05440" y="7160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030320" y="26496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ie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26080" y="26100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i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787880" y="294336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02960" y="744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19480" y="901800"/>
            <a:ext cx="220680" cy="183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6102360" y="3218040"/>
            <a:ext cx="279000" cy="252000"/>
            <a:chOff x="6102360" y="3218040"/>
            <a:chExt cx="279000" cy="252000"/>
          </a:xfrm>
        </p:grpSpPr>
        <p:sp>
          <p:nvSpPr>
            <p:cNvPr id="777" name=""/>
            <p:cNvSpPr/>
            <p:nvPr/>
          </p:nvSpPr>
          <p:spPr>
            <a:xfrm>
              <a:off x="6102360" y="3218040"/>
              <a:ext cx="279000" cy="252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191640" y="3292920"/>
              <a:ext cx="107280" cy="972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7429680" y="1457280"/>
            <a:ext cx="220320" cy="1857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071720" y="3333600"/>
            <a:ext cx="139680" cy="3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556240" y="1514520"/>
            <a:ext cx="135000" cy="1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24360" y="3057480"/>
            <a:ext cx="365040" cy="4525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457880" y="3059280"/>
            <a:ext cx="365040" cy="45216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1176480" y="3218040"/>
            <a:ext cx="279000" cy="252000"/>
            <a:chOff x="1176480" y="3218040"/>
            <a:chExt cx="279000" cy="252000"/>
          </a:xfrm>
        </p:grpSpPr>
        <p:sp>
          <p:nvSpPr>
            <p:cNvPr id="785" name=""/>
            <p:cNvSpPr/>
            <p:nvPr/>
          </p:nvSpPr>
          <p:spPr>
            <a:xfrm>
              <a:off x="1176480" y="3218040"/>
              <a:ext cx="279000" cy="252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265760" y="3292920"/>
              <a:ext cx="107280" cy="972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5702400" y="1438200"/>
            <a:ext cx="220680" cy="185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14320" y="1295280"/>
            <a:ext cx="220680" cy="184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861160" y="853200"/>
            <a:ext cx="2254680" cy="793440"/>
            <a:chOff x="5861160" y="853200"/>
            <a:chExt cx="2254680" cy="793440"/>
          </a:xfrm>
        </p:grpSpPr>
        <p:sp>
          <p:nvSpPr>
            <p:cNvPr id="790" name=""/>
            <p:cNvSpPr/>
            <p:nvPr/>
          </p:nvSpPr>
          <p:spPr>
            <a:xfrm rot="19053600">
              <a:off x="7406640" y="99468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861160" y="118584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791040" y="1180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344600" y="3470400"/>
            <a:ext cx="1747800" cy="344520"/>
            <a:chOff x="1344600" y="3470400"/>
            <a:chExt cx="1747800" cy="344520"/>
          </a:xfrm>
        </p:grpSpPr>
        <p:sp>
          <p:nvSpPr>
            <p:cNvPr id="794" name=""/>
            <p:cNvSpPr/>
            <p:nvPr/>
          </p:nvSpPr>
          <p:spPr>
            <a:xfrm>
              <a:off x="2286000" y="3805200"/>
              <a:ext cx="806400" cy="2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44600" y="3470400"/>
              <a:ext cx="974520" cy="344520"/>
            </a:xfrm>
            <a:custGeom>
              <a:avLst/>
              <a:gdLst/>
              <a:ahLst/>
              <a:rect l="l" t="t" r="r" b="b"/>
              <a:pathLst>
                <a:path w="777" h="265">
                  <a:moveTo>
                    <a:pt x="777" y="259"/>
                  </a:moveTo>
                  <a:cubicBezTo>
                    <a:pt x="668" y="262"/>
                    <a:pt x="559" y="265"/>
                    <a:pt x="460" y="259"/>
                  </a:cubicBezTo>
                  <a:cubicBezTo>
                    <a:pt x="361" y="253"/>
                    <a:pt x="251" y="247"/>
                    <a:pt x="182" y="221"/>
                  </a:cubicBezTo>
                  <a:cubicBezTo>
                    <a:pt x="113" y="195"/>
                    <a:pt x="78" y="143"/>
                    <a:pt x="48" y="106"/>
                  </a:cubicBezTo>
                  <a:cubicBezTo>
                    <a:pt x="18" y="69"/>
                    <a:pt x="9" y="34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6278400" y="3454560"/>
            <a:ext cx="849600" cy="469800"/>
            <a:chOff x="6278400" y="3454560"/>
            <a:chExt cx="849600" cy="469800"/>
          </a:xfrm>
        </p:grpSpPr>
        <p:sp>
          <p:nvSpPr>
            <p:cNvPr id="797" name=""/>
            <p:cNvSpPr/>
            <p:nvPr/>
          </p:nvSpPr>
          <p:spPr>
            <a:xfrm>
              <a:off x="6735600" y="3917160"/>
              <a:ext cx="392400" cy="39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278400" y="3454560"/>
              <a:ext cx="473400" cy="469800"/>
            </a:xfrm>
            <a:custGeom>
              <a:avLst/>
              <a:gdLst/>
              <a:ahLst/>
              <a:rect l="l" t="t" r="r" b="b"/>
              <a:pathLst>
                <a:path w="777" h="265">
                  <a:moveTo>
                    <a:pt x="777" y="259"/>
                  </a:moveTo>
                  <a:cubicBezTo>
                    <a:pt x="668" y="262"/>
                    <a:pt x="559" y="265"/>
                    <a:pt x="460" y="259"/>
                  </a:cubicBezTo>
                  <a:cubicBezTo>
                    <a:pt x="361" y="253"/>
                    <a:pt x="251" y="247"/>
                    <a:pt x="182" y="221"/>
                  </a:cubicBezTo>
                  <a:cubicBezTo>
                    <a:pt x="113" y="195"/>
                    <a:pt x="78" y="143"/>
                    <a:pt x="48" y="106"/>
                  </a:cubicBezTo>
                  <a:cubicBezTo>
                    <a:pt x="18" y="69"/>
                    <a:pt x="9" y="34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927520" y="1514520"/>
            <a:ext cx="3929040" cy="1231560"/>
            <a:chOff x="2927520" y="1514520"/>
            <a:chExt cx="3929040" cy="1231560"/>
          </a:xfrm>
        </p:grpSpPr>
        <p:sp>
          <p:nvSpPr>
            <p:cNvPr id="800" name=""/>
            <p:cNvSpPr/>
            <p:nvPr/>
          </p:nvSpPr>
          <p:spPr>
            <a:xfrm>
              <a:off x="4229280" y="1514520"/>
              <a:ext cx="1141200" cy="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176720" y="1681200"/>
              <a:ext cx="1185840" cy="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27520" y="2077200"/>
              <a:ext cx="525240" cy="53280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flipV="1">
              <a:off x="3176280" y="2067480"/>
              <a:ext cx="579240" cy="53280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4140360" y="2079360"/>
              <a:ext cx="1498320" cy="64188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965040" y="2002680"/>
              <a:ext cx="1436760" cy="61524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887640" y="2086560"/>
              <a:ext cx="1551240" cy="65952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4149360" y="2030760"/>
              <a:ext cx="1446120" cy="61380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5781600" y="2086560"/>
              <a:ext cx="773280" cy="51408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6146640" y="2077200"/>
              <a:ext cx="709920" cy="50472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7048440" y="3249720"/>
            <a:ext cx="220680" cy="183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D6CA-3A88-4610-8F87-BA33897122D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7227720" y="0"/>
            <a:ext cx="19162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65240" y="290520"/>
            <a:ext cx="83692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portant Choices for         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ssage-based Composition Mod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5200" y="1425240"/>
            <a:ext cx="5575320" cy="52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1880" indent="-281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resentation formalism for peer implement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880" indent="-281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ve power of peer implement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880" indent="-281880">
              <a:lnSpc>
                <a:spcPct val="90000"/>
              </a:lnSpc>
              <a:spcBef>
                <a:spcPts val="524"/>
              </a:spcBef>
              <a:buClr>
                <a:srgbClr val="cc0066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Boun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s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unbounded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880" indent="-281880">
              <a:lnSpc>
                <a:spcPct val="90000"/>
              </a:lnSpc>
              <a:spcBef>
                <a:spcPts val="524"/>
              </a:spcBef>
              <a:buClr>
                <a:srgbClr val="cc0066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Several queu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s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one que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s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hea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s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880" indent="-281880">
              <a:lnSpc>
                <a:spcPct val="90000"/>
              </a:lnSpc>
              <a:spcBef>
                <a:spcPts val="524"/>
              </a:spcBef>
              <a:buClr>
                <a:srgbClr val="cc0066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s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closed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880" indent="-281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ted topologies/control: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peer-to-pe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hub-and-spok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hierarchic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880" indent="-281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w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full langua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subs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5562000" y="1168560"/>
            <a:ext cx="3404160" cy="4600080"/>
            <a:chOff x="5562000" y="1168560"/>
            <a:chExt cx="3404160" cy="4600080"/>
          </a:xfrm>
        </p:grpSpPr>
        <p:grpSp>
          <p:nvGrpSpPr>
            <p:cNvPr id="815" name=""/>
            <p:cNvGrpSpPr/>
            <p:nvPr/>
          </p:nvGrpSpPr>
          <p:grpSpPr>
            <a:xfrm>
              <a:off x="6179400" y="1335600"/>
              <a:ext cx="586080" cy="144000"/>
              <a:chOff x="6179400" y="1335600"/>
              <a:chExt cx="586080" cy="144000"/>
            </a:xfrm>
          </p:grpSpPr>
          <p:sp>
            <p:nvSpPr>
              <p:cNvPr id="816" name=""/>
              <p:cNvSpPr/>
              <p:nvPr/>
            </p:nvSpPr>
            <p:spPr>
              <a:xfrm>
                <a:off x="6179400" y="1335600"/>
                <a:ext cx="58140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179400" y="1479600"/>
                <a:ext cx="58140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663960" y="1335600"/>
                <a:ext cx="101520" cy="144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562440" y="1335600"/>
                <a:ext cx="101520" cy="144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460920" y="1335600"/>
                <a:ext cx="101520" cy="144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359040" y="1335600"/>
                <a:ext cx="101520" cy="144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257520" y="1335600"/>
                <a:ext cx="101520" cy="144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6790680" y="1168560"/>
              <a:ext cx="1041120" cy="790200"/>
            </a:xfrm>
            <a:prstGeom prst="roundRect">
              <a:avLst>
                <a:gd name="adj" fmla="val 24148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er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6179400" y="2778840"/>
              <a:ext cx="586080" cy="145800"/>
              <a:chOff x="6179400" y="2778840"/>
              <a:chExt cx="586080" cy="145800"/>
            </a:xfrm>
          </p:grpSpPr>
          <p:sp>
            <p:nvSpPr>
              <p:cNvPr id="825" name=""/>
              <p:cNvSpPr/>
              <p:nvPr/>
            </p:nvSpPr>
            <p:spPr>
              <a:xfrm>
                <a:off x="6179400" y="2778840"/>
                <a:ext cx="58140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179400" y="2924640"/>
                <a:ext cx="58140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663960" y="2778840"/>
                <a:ext cx="101520" cy="1458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562440" y="2778840"/>
                <a:ext cx="101520" cy="1458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60920" y="2778840"/>
                <a:ext cx="101520" cy="1458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359040" y="2778840"/>
                <a:ext cx="101520" cy="1458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257520" y="2778840"/>
                <a:ext cx="101520" cy="1458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2" name=""/>
            <p:cNvSpPr/>
            <p:nvPr/>
          </p:nvSpPr>
          <p:spPr>
            <a:xfrm>
              <a:off x="6790680" y="2401200"/>
              <a:ext cx="1041120" cy="790200"/>
            </a:xfrm>
            <a:prstGeom prst="roundRect">
              <a:avLst>
                <a:gd name="adj" fmla="val 24148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er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83920" y="3657240"/>
              <a:ext cx="66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"/>
            <p:cNvGrpSpPr/>
            <p:nvPr/>
          </p:nvGrpSpPr>
          <p:grpSpPr>
            <a:xfrm>
              <a:off x="6177240" y="2548800"/>
              <a:ext cx="586080" cy="145440"/>
              <a:chOff x="6177240" y="2548800"/>
              <a:chExt cx="586080" cy="145440"/>
            </a:xfrm>
          </p:grpSpPr>
          <p:sp>
            <p:nvSpPr>
              <p:cNvPr id="835" name=""/>
              <p:cNvSpPr/>
              <p:nvPr/>
            </p:nvSpPr>
            <p:spPr>
              <a:xfrm>
                <a:off x="6177240" y="2548800"/>
                <a:ext cx="58140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177240" y="2694240"/>
                <a:ext cx="58140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661800" y="2548800"/>
                <a:ext cx="101520" cy="14544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560280" y="2548800"/>
                <a:ext cx="101520" cy="14544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458760" y="2548800"/>
                <a:ext cx="101520" cy="14544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356880" y="2548800"/>
                <a:ext cx="101520" cy="14544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255360" y="2548800"/>
                <a:ext cx="101520" cy="14544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6177240" y="5092200"/>
              <a:ext cx="586080" cy="144000"/>
              <a:chOff x="6177240" y="5092200"/>
              <a:chExt cx="586080" cy="144000"/>
            </a:xfrm>
          </p:grpSpPr>
          <p:sp>
            <p:nvSpPr>
              <p:cNvPr id="843" name=""/>
              <p:cNvSpPr/>
              <p:nvPr/>
            </p:nvSpPr>
            <p:spPr>
              <a:xfrm>
                <a:off x="6177240" y="5092200"/>
                <a:ext cx="58140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177240" y="5236200"/>
                <a:ext cx="58140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661800" y="5092200"/>
                <a:ext cx="101520" cy="144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560280" y="5092200"/>
                <a:ext cx="101520" cy="144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458760" y="5092200"/>
                <a:ext cx="101520" cy="144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356880" y="5092200"/>
                <a:ext cx="101520" cy="144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255360" y="5092200"/>
                <a:ext cx="101520" cy="144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177240" y="5322240"/>
              <a:ext cx="586080" cy="144000"/>
              <a:chOff x="6177240" y="5322240"/>
              <a:chExt cx="586080" cy="144000"/>
            </a:xfrm>
          </p:grpSpPr>
          <p:sp>
            <p:nvSpPr>
              <p:cNvPr id="851" name=""/>
              <p:cNvSpPr/>
              <p:nvPr/>
            </p:nvSpPr>
            <p:spPr>
              <a:xfrm>
                <a:off x="6177240" y="5322240"/>
                <a:ext cx="58140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177240" y="5466240"/>
                <a:ext cx="58140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661800" y="5322240"/>
                <a:ext cx="101520" cy="144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560280" y="5322240"/>
                <a:ext cx="101520" cy="144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458760" y="5322240"/>
                <a:ext cx="101520" cy="144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356880" y="5322240"/>
                <a:ext cx="101520" cy="144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255360" y="5322240"/>
                <a:ext cx="101520" cy="144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5562000" y="1427400"/>
              <a:ext cx="3404160" cy="4043520"/>
              <a:chOff x="5562000" y="1427400"/>
              <a:chExt cx="3404160" cy="4043520"/>
            </a:xfrm>
          </p:grpSpPr>
          <p:cxnSp>
            <p:nvCxnSpPr>
              <p:cNvPr id="859" name=""/>
              <p:cNvCxnSpPr>
                <a:stCxn id="823" idx="3"/>
                <a:endCxn id="860" idx="0"/>
              </p:cNvCxnSpPr>
              <p:nvPr/>
            </p:nvCxnSpPr>
            <p:spPr>
              <a:xfrm flipH="1">
                <a:off x="5562000" y="1563480"/>
                <a:ext cx="2284200" cy="579960"/>
              </a:xfrm>
              <a:prstGeom prst="bentConnector4">
                <a:avLst>
                  <a:gd name="adj1" fmla="val -6872"/>
                  <a:gd name="adj2" fmla="val 85341"/>
                </a:avLst>
              </a:prstGeom>
              <a:ln w="28440">
                <a:solidFill>
                  <a:srgbClr val="0000ff"/>
                </a:solidFill>
                <a:miter/>
              </a:ln>
            </p:spPr>
          </p:cxnSp>
          <p:cxnSp>
            <p:nvCxnSpPr>
              <p:cNvPr id="861" name=""/>
              <p:cNvCxnSpPr>
                <a:stCxn id="832" idx="3"/>
              </p:cNvCxnSpPr>
              <p:nvPr/>
            </p:nvCxnSpPr>
            <p:spPr>
              <a:xfrm>
                <a:off x="7846200" y="2796480"/>
                <a:ext cx="519840" cy="992160"/>
              </a:xfrm>
              <a:prstGeom prst="bentConnector2">
                <a:avLst/>
              </a:prstGeom>
              <a:ln w="28440">
                <a:solidFill>
                  <a:srgbClr val="0000ff"/>
                </a:solidFill>
                <a:miter/>
              </a:ln>
            </p:spPr>
          </p:cxnSp>
          <p:sp>
            <p:nvSpPr>
              <p:cNvPr id="862" name=""/>
              <p:cNvSpPr/>
              <p:nvPr/>
            </p:nvSpPr>
            <p:spPr>
              <a:xfrm>
                <a:off x="5562720" y="2159280"/>
                <a:ext cx="0" cy="462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63" name=""/>
              <p:cNvCxnSpPr/>
              <p:nvPr/>
            </p:nvCxnSpPr>
            <p:spPr>
              <a:xfrm>
                <a:off x="5562360" y="2622240"/>
                <a:ext cx="567720" cy="3960"/>
              </a:xfrm>
              <a:prstGeom prst="straightConnector1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</p:cxnSp>
          <p:cxnSp>
            <p:nvCxnSpPr>
              <p:cNvPr id="864" name=""/>
              <p:cNvCxnSpPr/>
              <p:nvPr/>
            </p:nvCxnSpPr>
            <p:spPr>
              <a:xfrm flipV="1" rot="16200000">
                <a:off x="8664840" y="3693600"/>
                <a:ext cx="249120" cy="5400"/>
              </a:xfrm>
              <a:prstGeom prst="bentConnector3">
                <a:avLst>
                  <a:gd name="adj1" fmla="val 49927"/>
                </a:avLst>
              </a:prstGeom>
              <a:ln w="28440">
                <a:solidFill>
                  <a:srgbClr val="0000ff"/>
                </a:solidFill>
                <a:miter/>
              </a:ln>
            </p:spPr>
          </p:cxnSp>
          <p:cxnSp>
            <p:nvCxnSpPr>
              <p:cNvPr id="865" name=""/>
              <p:cNvCxnSpPr/>
              <p:nvPr/>
            </p:nvCxnSpPr>
            <p:spPr>
              <a:xfrm flipH="1">
                <a:off x="5562360" y="3564720"/>
                <a:ext cx="3208320" cy="6120"/>
              </a:xfrm>
              <a:prstGeom prst="straightConnector1">
                <a:avLst/>
              </a:prstGeom>
              <a:ln w="28440">
                <a:solidFill>
                  <a:srgbClr val="0000ff"/>
                </a:solidFill>
                <a:miter/>
              </a:ln>
            </p:spPr>
          </p:cxnSp>
          <p:cxnSp>
            <p:nvCxnSpPr>
              <p:cNvPr id="866" name=""/>
              <p:cNvCxnSpPr/>
              <p:nvPr/>
            </p:nvCxnSpPr>
            <p:spPr>
              <a:xfrm flipV="1">
                <a:off x="5562720" y="2853720"/>
                <a:ext cx="2880" cy="731160"/>
              </a:xfrm>
              <a:prstGeom prst="straightConnector1">
                <a:avLst/>
              </a:prstGeom>
              <a:ln w="28440">
                <a:solidFill>
                  <a:srgbClr val="0000ff"/>
                </a:solidFill>
                <a:miter/>
              </a:ln>
            </p:spPr>
          </p:cxnSp>
          <p:cxnSp>
            <p:nvCxnSpPr>
              <p:cNvPr id="867" name=""/>
              <p:cNvCxnSpPr/>
              <p:nvPr/>
            </p:nvCxnSpPr>
            <p:spPr>
              <a:xfrm>
                <a:off x="5562360" y="2834640"/>
                <a:ext cx="567720" cy="2160"/>
              </a:xfrm>
              <a:prstGeom prst="straightConnector1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</p:cxnSp>
          <p:sp>
            <p:nvSpPr>
              <p:cNvPr id="868" name=""/>
              <p:cNvSpPr/>
              <p:nvPr/>
            </p:nvSpPr>
            <p:spPr>
              <a:xfrm>
                <a:off x="7815240" y="4452480"/>
                <a:ext cx="873000" cy="831600"/>
              </a:xfrm>
              <a:custGeom>
                <a:avLst/>
                <a:gdLst/>
                <a:ahLst/>
                <a:rect l="l" t="t" r="r" b="b"/>
                <a:pathLst>
                  <a:path w="304" h="285">
                    <a:moveTo>
                      <a:pt x="0" y="285"/>
                    </a:moveTo>
                    <a:lnTo>
                      <a:pt x="304" y="285"/>
                    </a:lnTo>
                    <a:lnTo>
                      <a:pt x="304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837760" y="4396680"/>
                <a:ext cx="2396520" cy="759240"/>
              </a:xfrm>
              <a:custGeom>
                <a:avLst/>
                <a:gdLst/>
                <a:ahLst/>
                <a:rect l="l" t="t" r="r" b="b"/>
                <a:pathLst>
                  <a:path w="899" h="420">
                    <a:moveTo>
                      <a:pt x="899" y="0"/>
                    </a:moveTo>
                    <a:lnTo>
                      <a:pt x="899" y="207"/>
                    </a:lnTo>
                    <a:lnTo>
                      <a:pt x="0" y="207"/>
                    </a:lnTo>
                    <a:lnTo>
                      <a:pt x="0" y="420"/>
                    </a:lnTo>
                    <a:lnTo>
                      <a:pt x="90" y="42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630400" y="4346280"/>
                <a:ext cx="450000" cy="1027440"/>
              </a:xfrm>
              <a:custGeom>
                <a:avLst/>
                <a:gdLst/>
                <a:ahLst/>
                <a:rect l="l" t="t" r="r" b="b"/>
                <a:pathLst>
                  <a:path w="149" h="453">
                    <a:moveTo>
                      <a:pt x="0" y="0"/>
                    </a:moveTo>
                    <a:lnTo>
                      <a:pt x="0" y="453"/>
                    </a:lnTo>
                    <a:lnTo>
                      <a:pt x="149" y="453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815240" y="4511880"/>
                <a:ext cx="663120" cy="959040"/>
              </a:xfrm>
              <a:custGeom>
                <a:avLst/>
                <a:gdLst/>
                <a:ahLst/>
                <a:rect l="l" t="t" r="r" b="b"/>
                <a:pathLst>
                  <a:path w="246" h="395">
                    <a:moveTo>
                      <a:pt x="0" y="395"/>
                    </a:moveTo>
                    <a:lnTo>
                      <a:pt x="246" y="395"/>
                    </a:lnTo>
                    <a:lnTo>
                      <a:pt x="246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707800" y="1427400"/>
                <a:ext cx="3081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707800" y="1427400"/>
                <a:ext cx="0" cy="789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707800" y="2217240"/>
                <a:ext cx="23824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090640" y="2217240"/>
                <a:ext cx="0" cy="1560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819920" y="1434240"/>
                <a:ext cx="11242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966160" y="1434240"/>
                <a:ext cx="0" cy="23630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6790680" y="4978440"/>
              <a:ext cx="1041120" cy="790200"/>
            </a:xfrm>
            <a:prstGeom prst="roundRect">
              <a:avLst>
                <a:gd name="adj" fmla="val 24148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er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A51-B802-4787-A1BB-BBA5A0FBF13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-Services Paradig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7600" y="826560"/>
            <a:ext cx="8394480" cy="60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Simplify and/or automate e-servic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sition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chestration (invoke, monitor; “choreography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enance (e-science, recovery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mary roots of e-services paradig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Process description formalis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Distributed computing middlewar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) Data manag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makes e-services “new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ch more de-centralized than workf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flexible, less structured than CORB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 management has larger role in (a) and (b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ortance of standards to enable interoperation and analy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030120" y="1370160"/>
            <a:ext cx="5924520" cy="471240"/>
            <a:chOff x="3030120" y="1370160"/>
            <a:chExt cx="5924520" cy="471240"/>
          </a:xfrm>
        </p:grpSpPr>
        <p:sp>
          <p:nvSpPr>
            <p:cNvPr id="60" name=""/>
            <p:cNvSpPr/>
            <p:nvPr/>
          </p:nvSpPr>
          <p:spPr>
            <a:xfrm>
              <a:off x="3721680" y="1370160"/>
              <a:ext cx="5232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66"/>
                  </a:solidFill>
                  <a:latin typeface="Comic Sans MS"/>
                  <a:ea typeface="Times New Roman"/>
                </a:rPr>
                <a:t>Our focus: how to build, analy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030120" y="1590840"/>
              <a:ext cx="1165320" cy="25056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D57-595B-4899-A3F9-454A8B66E7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705816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480" y="75960"/>
            <a:ext cx="83692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osition Infrastructu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1400" y="1101240"/>
            <a:ext cx="839448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er-to-peer (distributed contro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"/>
          <p:cNvSpPr/>
          <p:nvPr/>
        </p:nvSpPr>
        <p:spPr>
          <a:xfrm>
            <a:off x="57240" y="5643720"/>
            <a:ext cx="9086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3760" indent="-293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PEL4WS, BPML, GSFL useful to define medi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sition of composition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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ierarchy 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6014880" y="458640"/>
            <a:ext cx="3044520" cy="2163600"/>
            <a:chOff x="6014880" y="458640"/>
            <a:chExt cx="3044520" cy="2163600"/>
          </a:xfrm>
        </p:grpSpPr>
        <p:sp>
          <p:nvSpPr>
            <p:cNvPr id="884" name=""/>
            <p:cNvSpPr/>
            <p:nvPr/>
          </p:nvSpPr>
          <p:spPr>
            <a:xfrm>
              <a:off x="6333840" y="1157040"/>
              <a:ext cx="456480" cy="967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6459480" y="1110960"/>
              <a:ext cx="456480" cy="9669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614280" y="1055880"/>
              <a:ext cx="1167120" cy="1104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6654240" y="928800"/>
              <a:ext cx="1251360" cy="1159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682320" y="673560"/>
              <a:ext cx="1758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6663240" y="808920"/>
              <a:ext cx="1717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7130160" y="1019520"/>
              <a:ext cx="1319400" cy="1058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7293960" y="1110960"/>
              <a:ext cx="1243800" cy="994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8158320" y="1184760"/>
              <a:ext cx="495000" cy="866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8304480" y="1229400"/>
              <a:ext cx="484200" cy="848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3971400">
              <a:off x="6063480" y="1457280"/>
              <a:ext cx="686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00cc00"/>
                  </a:solidFill>
                  <a:latin typeface="Arial"/>
                </a:rPr>
                <a:t>rder</a:t>
              </a:r>
              <a:r>
                <a:rPr b="1" lang="en-US" sz="1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368120" y="7729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1" lang="en-US" sz="1200" spc="-1" strike="noStrike">
                  <a:solidFill>
                    <a:srgbClr val="00cc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3980400">
              <a:off x="6364080" y="1316520"/>
              <a:ext cx="70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Arial"/>
                </a:rPr>
                <a:t>r</a:t>
              </a:r>
              <a:r>
                <a:rPr b="0" lang="en-US" sz="1200" spc="-1" strike="noStrike">
                  <a:solidFill>
                    <a:srgbClr val="00cc00"/>
                  </a:solidFill>
                  <a:latin typeface="Arial"/>
                </a:rPr>
                <a:t>eceipt</a:t>
              </a:r>
              <a:r>
                <a:rPr b="1" lang="en-US" sz="1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2620800">
              <a:off x="6775200" y="1481760"/>
              <a:ext cx="60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00cc00"/>
                  </a:solidFill>
                  <a:latin typeface="Arial"/>
                </a:rPr>
                <a:t>rder</a:t>
              </a:r>
              <a:r>
                <a:rPr b="1" lang="en-US" sz="14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2560200">
              <a:off x="6959160" y="1274400"/>
              <a:ext cx="70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Arial"/>
                </a:rPr>
                <a:t>r</a:t>
              </a:r>
              <a:r>
                <a:rPr b="0" lang="en-US" sz="1200" spc="-1" strike="noStrike">
                  <a:solidFill>
                    <a:srgbClr val="00cc00"/>
                  </a:solidFill>
                  <a:latin typeface="Arial"/>
                </a:rPr>
                <a:t>eceipt</a:t>
              </a:r>
              <a:r>
                <a:rPr b="1" lang="en-US" sz="14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18007200">
              <a:off x="8455680" y="1459080"/>
              <a:ext cx="502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Arial"/>
                </a:rPr>
                <a:t>b</a:t>
              </a:r>
              <a:r>
                <a:rPr b="0" lang="en-US" sz="1200" spc="-1" strike="noStrike">
                  <a:solidFill>
                    <a:srgbClr val="00cc00"/>
                  </a:solidFill>
                  <a:latin typeface="Arial"/>
                </a:rPr>
                <a:t>ill</a:t>
              </a:r>
              <a:r>
                <a:rPr b="1" lang="en-US" sz="14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rot="17983200">
              <a:off x="7894440" y="1282320"/>
              <a:ext cx="1056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Arial"/>
                </a:rPr>
                <a:t>p</a:t>
              </a:r>
              <a:r>
                <a:rPr b="0" lang="en-US" sz="1200" spc="-1" strike="noStrike">
                  <a:solidFill>
                    <a:srgbClr val="00cc00"/>
                  </a:solidFill>
                  <a:latin typeface="Arial"/>
                </a:rPr>
                <a:t>ayment</a:t>
              </a:r>
              <a:r>
                <a:rPr b="1" lang="en-US" sz="14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19283400">
              <a:off x="7785720" y="1492200"/>
              <a:ext cx="49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Arial"/>
                </a:rPr>
                <a:t>b</a:t>
              </a:r>
              <a:r>
                <a:rPr b="0" lang="en-US" sz="1200" spc="-1" strike="noStrike">
                  <a:solidFill>
                    <a:srgbClr val="00cc00"/>
                  </a:solidFill>
                  <a:latin typeface="Arial"/>
                </a:rPr>
                <a:t>ill</a:t>
              </a:r>
              <a:r>
                <a:rPr b="1" lang="en-US" sz="1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rot="19133400">
              <a:off x="7460640" y="1131840"/>
              <a:ext cx="1019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Arial"/>
                </a:rPr>
                <a:t>p</a:t>
              </a:r>
              <a:r>
                <a:rPr b="0" lang="en-US" sz="1200" spc="-1" strike="noStrike">
                  <a:solidFill>
                    <a:srgbClr val="00cc00"/>
                  </a:solidFill>
                  <a:latin typeface="Arial"/>
                </a:rPr>
                <a:t>ayment</a:t>
              </a:r>
              <a:r>
                <a:rPr b="1" lang="en-US" sz="1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206840" y="458640"/>
              <a:ext cx="90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Arial"/>
                </a:rPr>
                <a:t>a</a:t>
              </a:r>
              <a:r>
                <a:rPr b="0" lang="en-US" sz="1200" spc="-1" strike="noStrike">
                  <a:solidFill>
                    <a:srgbClr val="00cc00"/>
                  </a:solidFill>
                  <a:latin typeface="Arial"/>
                </a:rPr>
                <a:t>uthor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014880" y="594000"/>
              <a:ext cx="598320" cy="476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461080" y="566640"/>
              <a:ext cx="598320" cy="476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500880" y="2145960"/>
              <a:ext cx="816840" cy="476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ie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797960" y="2138760"/>
              <a:ext cx="816840" cy="476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ier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95400" y="1728720"/>
            <a:ext cx="8762760" cy="3841920"/>
            <a:chOff x="95400" y="1728720"/>
            <a:chExt cx="8762760" cy="3841920"/>
          </a:xfrm>
        </p:grpSpPr>
        <p:sp>
          <p:nvSpPr>
            <p:cNvPr id="909" name=""/>
            <p:cNvSpPr/>
            <p:nvPr/>
          </p:nvSpPr>
          <p:spPr>
            <a:xfrm>
              <a:off x="95400" y="5135400"/>
              <a:ext cx="87627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 marL="234720" indent="-23472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SzPct val="125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Hub-and-spoke (centralized control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760320" y="1728720"/>
              <a:ext cx="5133960" cy="3405240"/>
              <a:chOff x="760320" y="1728720"/>
              <a:chExt cx="5133960" cy="3405240"/>
            </a:xfrm>
          </p:grpSpPr>
          <p:sp>
            <p:nvSpPr>
              <p:cNvPr id="911" name=""/>
              <p:cNvSpPr/>
              <p:nvPr/>
            </p:nvSpPr>
            <p:spPr>
              <a:xfrm flipH="1" flipV="1">
                <a:off x="1701720" y="2571480"/>
                <a:ext cx="998640" cy="672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 flipV="1">
                <a:off x="1828440" y="2536560"/>
                <a:ext cx="858600" cy="6001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H="1" flipV="1">
                <a:off x="2050920" y="2307960"/>
                <a:ext cx="946080" cy="6411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 flipV="1">
                <a:off x="2031480" y="2157120"/>
                <a:ext cx="1127160" cy="785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135160" y="2435040"/>
                <a:ext cx="33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448000" y="2193840"/>
                <a:ext cx="49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k</a:t>
                </a:r>
                <a:r>
                  <a:rPr b="1" lang="en-US" sz="1800" spc="-1" strike="noStrike">
                    <a:solidFill>
                      <a:srgbClr val="009900"/>
                    </a:solidFill>
                    <a:latin typeface="Courier New"/>
                  </a:rPr>
                  <a:t>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438280" y="2720880"/>
                <a:ext cx="43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163600" y="2971800"/>
                <a:ext cx="43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 flipV="1">
                <a:off x="3523680" y="3852360"/>
                <a:ext cx="1079640" cy="7477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 flipV="1">
                <a:off x="3579480" y="3766680"/>
                <a:ext cx="1011240" cy="714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H="1" flipV="1">
                <a:off x="4025520" y="3681360"/>
                <a:ext cx="904680" cy="619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 flipV="1">
                <a:off x="4042800" y="3582720"/>
                <a:ext cx="1087560" cy="7333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89440" y="3686040"/>
                <a:ext cx="555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b</a:t>
                </a:r>
                <a:r>
                  <a:rPr b="1" lang="en-US" sz="1800" spc="-1" strike="noStrike" baseline="-25000">
                    <a:solidFill>
                      <a:srgbClr val="0099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189320" y="3421080"/>
                <a:ext cx="500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99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219560" y="3973320"/>
                <a:ext cx="555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r</a:t>
                </a:r>
                <a:r>
                  <a:rPr b="1" lang="en-US" sz="1800" spc="-1" strike="noStrike" baseline="-25000">
                    <a:solidFill>
                      <a:srgbClr val="0099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19600" y="4226040"/>
                <a:ext cx="555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o</a:t>
                </a:r>
                <a:r>
                  <a:rPr b="1" lang="en-US" sz="1800" spc="-1" strike="noStrike" baseline="-25000">
                    <a:solidFill>
                      <a:srgbClr val="0099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2108160" y="3878280"/>
                <a:ext cx="1079280" cy="7459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V="1">
                <a:off x="2120760" y="3813120"/>
                <a:ext cx="968400" cy="673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V="1">
                <a:off x="1798560" y="3695760"/>
                <a:ext cx="917640" cy="6220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1646280" y="3606480"/>
                <a:ext cx="1004760" cy="6937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>
                <a:off x="2413800" y="3709800"/>
                <a:ext cx="455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r</a:t>
                </a:r>
                <a:r>
                  <a:rPr b="1" lang="en-US" sz="1800" spc="-1" strike="noStrike" baseline="-25000">
                    <a:solidFill>
                      <a:srgbClr val="0099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2050200" y="3473280"/>
                <a:ext cx="498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o</a:t>
                </a:r>
                <a:r>
                  <a:rPr b="1" lang="en-US" sz="1800" spc="-1" strike="noStrike" baseline="-25000">
                    <a:solidFill>
                      <a:srgbClr val="0099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>
                <a:off x="2070720" y="4030560"/>
                <a:ext cx="546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b</a:t>
                </a:r>
                <a:r>
                  <a:rPr b="1" lang="en-US" sz="1800" spc="-1" strike="noStrike" baseline="-25000">
                    <a:solidFill>
                      <a:srgbClr val="0099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>
                <a:off x="2354040" y="4262400"/>
                <a:ext cx="571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99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V="1">
                <a:off x="4025880" y="2580840"/>
                <a:ext cx="946080" cy="6541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4038480" y="2515680"/>
                <a:ext cx="846000" cy="6001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3676680" y="2287440"/>
                <a:ext cx="985680" cy="6717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3524040" y="2157120"/>
                <a:ext cx="1148040" cy="785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>
                <a:off x="4221000" y="2435040"/>
                <a:ext cx="331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3844080" y="2238480"/>
                <a:ext cx="50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a</a:t>
                </a:r>
                <a:r>
                  <a:rPr b="1" lang="en-US" sz="1800" spc="-1" strike="noStrike">
                    <a:solidFill>
                      <a:srgbClr val="009900"/>
                    </a:solidFill>
                    <a:latin typeface="Courier New"/>
                  </a:rPr>
                  <a:t>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H="1">
                <a:off x="3909240" y="2765520"/>
                <a:ext cx="79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H="1">
                <a:off x="4160160" y="2971800"/>
                <a:ext cx="425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047600" y="1738440"/>
                <a:ext cx="912960" cy="75852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to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60320" y="4362480"/>
                <a:ext cx="1312920" cy="75888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uppli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643280" y="4375080"/>
                <a:ext cx="1251000" cy="75888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uppli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736880" y="1728720"/>
                <a:ext cx="912960" cy="75888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an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720880" y="3017880"/>
                <a:ext cx="1251000" cy="75888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66"/>
                    </a:solidFill>
                    <a:latin typeface="Arial"/>
                  </a:rPr>
                  <a:t>media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5EEA-7430-42D9-B808-91FB109DC56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704844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1320" y="75960"/>
            <a:ext cx="87296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PEL4WS: Example white-box languag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52280" y="5138640"/>
            <a:ext cx="86234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90800" indent="-190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owcharts “with parallelism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0800" indent="-190800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Pick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struct to enable waiting for input (or time ou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0800" indent="-19080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Synchroniz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in parallel threa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0800" indent="-19080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son of supported constructs: se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van der Aalst ’03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"/>
          <p:cNvSpPr/>
          <p:nvPr/>
        </p:nvSpPr>
        <p:spPr>
          <a:xfrm>
            <a:off x="1219320" y="828720"/>
            <a:ext cx="2009520" cy="399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698480" y="812880"/>
            <a:ext cx="695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228760" y="123336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84120" y="1447920"/>
            <a:ext cx="4456080" cy="3633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015640" y="23400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p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1762200" y="2795760"/>
            <a:ext cx="365040" cy="28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58880" y="2897280"/>
            <a:ext cx="992160" cy="59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36400" y="2324160"/>
            <a:ext cx="10544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_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27280" y="2741760"/>
            <a:ext cx="266760" cy="23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833400" y="2913120"/>
            <a:ext cx="760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a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905200" y="2367000"/>
            <a:ext cx="1104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917720" y="2208240"/>
            <a:ext cx="871560" cy="662040"/>
          </a:xfrm>
          <a:prstGeom prst="diamond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805040" y="2103480"/>
            <a:ext cx="1104840" cy="869760"/>
          </a:xfrm>
          <a:prstGeom prst="diamond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681280" y="2760840"/>
            <a:ext cx="985680" cy="750600"/>
          </a:xfrm>
          <a:prstGeom prst="diamond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815200" y="296532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2680920" y="3338640"/>
            <a:ext cx="260280" cy="23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411360" y="3316320"/>
            <a:ext cx="292320" cy="244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889280" y="3591000"/>
            <a:ext cx="1011240" cy="801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895400" y="3639960"/>
            <a:ext cx="3826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525840" y="3571920"/>
            <a:ext cx="1012680" cy="814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532320" y="3618000"/>
            <a:ext cx="382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425680" y="4648320"/>
            <a:ext cx="1541520" cy="322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563920" y="4587840"/>
            <a:ext cx="760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701800" y="4394160"/>
            <a:ext cx="230400" cy="22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3411000" y="4383000"/>
            <a:ext cx="271800" cy="23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13400" y="700200"/>
            <a:ext cx="1154160" cy="603000"/>
          </a:xfrm>
          <a:prstGeom prst="hexagon">
            <a:avLst>
              <a:gd name="adj" fmla="val 32352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502320" y="698400"/>
            <a:ext cx="9810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276880" y="1812960"/>
            <a:ext cx="1324080" cy="57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554800" y="1787400"/>
            <a:ext cx="6951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83240" y="2629080"/>
            <a:ext cx="6951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p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581800" y="3589200"/>
            <a:ext cx="6951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72440" y="1579680"/>
            <a:ext cx="1323720" cy="550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675560" y="1571760"/>
            <a:ext cx="695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72440" y="2374920"/>
            <a:ext cx="132372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669080" y="2363760"/>
            <a:ext cx="695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372440" y="3147840"/>
            <a:ext cx="1323720" cy="532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689960" y="3106800"/>
            <a:ext cx="695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372440" y="3909960"/>
            <a:ext cx="1323720" cy="517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689960" y="3868560"/>
            <a:ext cx="6951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ymen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6600600" y="3375000"/>
            <a:ext cx="771480" cy="395280"/>
          </a:xfrm>
          <a:prstGeom prst="line">
            <a:avLst/>
          </a:prstGeom>
          <a:ln w="76320">
            <a:solidFill>
              <a:srgbClr val="cc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114880" y="1501920"/>
            <a:ext cx="1647720" cy="299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219800" y="1501920"/>
            <a:ext cx="1648080" cy="299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039160" y="20876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039160" y="28605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8039160" y="3637080"/>
            <a:ext cx="0" cy="27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913360" y="23702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934240" y="325584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353280" y="4514760"/>
            <a:ext cx="31428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7315200" y="4494240"/>
            <a:ext cx="333360" cy="27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6353280" y="1228320"/>
            <a:ext cx="241200" cy="265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 flipV="1">
            <a:off x="7413120" y="1230480"/>
            <a:ext cx="235080" cy="26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443640" y="4691160"/>
            <a:ext cx="1138320" cy="604800"/>
          </a:xfrm>
          <a:prstGeom prst="hexagon">
            <a:avLst>
              <a:gd name="adj" fmla="val 31813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502320" y="4686480"/>
            <a:ext cx="9810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590840" y="1601640"/>
            <a:ext cx="1562040" cy="27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565280" y="1569960"/>
            <a:ext cx="87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until fl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355840" y="18669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297400" y="3616200"/>
            <a:ext cx="1324080" cy="57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288040" y="2664000"/>
            <a:ext cx="1323720" cy="57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E03-E1DD-4AEB-A6A3-EA688CE8A85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704844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WL-S Process Mod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80520" y="652320"/>
            <a:ext cx="8394840" cy="61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176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ss cl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150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omic, composite (mediator), or simple (virtu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150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s, outputs, eff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150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-conditions, post-cond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176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s for composite proces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150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150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urrency: Split; Split+Join; Unorde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150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150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150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ping: Repeat-Until; Iterate (non-deterministi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176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ta Fl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150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explicit variables, no internal data store, no wa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150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ate “sameValues” to match input of composite service and input of subordinate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176"/>
              </a:spcBef>
              <a:buClr>
                <a:srgbClr val="cc0066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Less refined than, e.g., BPEL4W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3A8-D13C-448D-BC8C-C5310DE72D9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9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ts, messages, and sequential behavior are facts of lif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utomata-based frame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524"/>
              </a:spcBef>
              <a:buClr>
                <a:srgbClr val="cc0066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Analysis “tool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cc0066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etri n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cc0066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Tools using temporal log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cc0066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ounded vs. unbounded que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atic compos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F0E0-5B2B-406F-9AFF-5EBE4664BF8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704844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6160" y="304920"/>
            <a:ext cx="899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erifying Properties of DAML-S Processes via Petri nets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[Narayanan+McIlraith ’02]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01520" y="1463400"/>
            <a:ext cx="8940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9000" indent="-2790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y a DAML-S semantics using a situation 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4480" indent="-266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Know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Kwheth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Kre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condition tes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4480" indent="-266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tures “completion assumptions”: essentially prevents world from changing without e-service knowing about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9000" indent="-2790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tional semantics via Petri n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4480" indent="-266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ume finite doma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4480" indent="-266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p to “1-safe” Petri nets, which corresponds to  bounded queue c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9000" indent="-2790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ify properties such as reachability, termin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9000" indent="-2790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lexity depends on constructs and mode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4480" indent="-266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ge from PTIME to EXPSPACE-ha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9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8128-ADC5-4DF9-8B6D-80110F8F678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476280" y="1125360"/>
            <a:ext cx="3597120" cy="1521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05816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93240" y="215640"/>
            <a:ext cx="7527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ifying Temporal Properties of Mealy Compos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47680" y="4970520"/>
            <a:ext cx="87948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46880" indent="-146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bel states with propos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4520" indent="-140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vel of indirection between states and “observabl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6880" indent="-146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 temporal formulas, e.g.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4520" indent="-140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ipment just made” only after  “line-of-credit avai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"/>
          <p:cNvSpPr/>
          <p:nvPr/>
        </p:nvSpPr>
        <p:spPr>
          <a:xfrm>
            <a:off x="1017720" y="3341520"/>
            <a:ext cx="3078000" cy="1568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137200" y="3325680"/>
            <a:ext cx="3591000" cy="1600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276880" y="1141560"/>
            <a:ext cx="3411360" cy="1492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003320" y="1881360"/>
            <a:ext cx="6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905120" y="1881360"/>
            <a:ext cx="63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38280" y="1849320"/>
            <a:ext cx="136440" cy="1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541600" y="178596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2728440" y="1432440"/>
            <a:ext cx="504720" cy="37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165480" y="128268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142800" y="144288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805360" y="2048040"/>
            <a:ext cx="6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707160" y="2048040"/>
            <a:ext cx="63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473880" y="193824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343640" y="195264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7530480" y="1599120"/>
            <a:ext cx="504720" cy="37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967520" y="144936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732440" y="173664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783520" y="1982880"/>
            <a:ext cx="454320" cy="43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rot="5400000">
            <a:off x="3197160" y="233352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915160" y="4164120"/>
            <a:ext cx="68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551560" y="4148280"/>
            <a:ext cx="135000" cy="1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599400">
            <a:off x="6603480" y="405900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6824880" y="3697920"/>
            <a:ext cx="474120" cy="41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599400">
            <a:off x="7267320" y="354132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01120" y="4240800"/>
            <a:ext cx="486720" cy="400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599400">
            <a:off x="7268760" y="457632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547640" y="4170240"/>
            <a:ext cx="63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184480" y="407520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382840" y="4186080"/>
            <a:ext cx="63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019320" y="409104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257280" y="373392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57920" y="10684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142280" y="334980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ehous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82560" y="33037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ehous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843680" y="422928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60040" y="11016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797040" y="1731960"/>
            <a:ext cx="279000" cy="298080"/>
            <a:chOff x="797040" y="1731960"/>
            <a:chExt cx="279000" cy="298080"/>
          </a:xfrm>
        </p:grpSpPr>
        <p:sp>
          <p:nvSpPr>
            <p:cNvPr id="1058" name=""/>
            <p:cNvSpPr/>
            <p:nvPr/>
          </p:nvSpPr>
          <p:spPr>
            <a:xfrm>
              <a:off x="797040" y="1731960"/>
              <a:ext cx="279000" cy="298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86320" y="1820520"/>
              <a:ext cx="107280" cy="1148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>
            <a:off x="1182600" y="4154400"/>
            <a:ext cx="13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413320" y="2009880"/>
            <a:ext cx="135000" cy="1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1023840" y="1165320"/>
            <a:ext cx="2136600" cy="1504080"/>
            <a:chOff x="1023840" y="1165320"/>
            <a:chExt cx="2136600" cy="1504080"/>
          </a:xfrm>
        </p:grpSpPr>
        <p:sp>
          <p:nvSpPr>
            <p:cNvPr id="1063" name=""/>
            <p:cNvSpPr/>
            <p:nvPr/>
          </p:nvSpPr>
          <p:spPr>
            <a:xfrm rot="19053600">
              <a:off x="2440440" y="128988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023840" y="1469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830960" y="14479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2853600">
              <a:off x="2496600" y="203256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5766120" y="1266120"/>
            <a:ext cx="2227680" cy="814320"/>
            <a:chOff x="5766120" y="1266120"/>
            <a:chExt cx="2227680" cy="814320"/>
          </a:xfrm>
        </p:grpSpPr>
        <p:sp>
          <p:nvSpPr>
            <p:cNvPr id="1068" name=""/>
            <p:cNvSpPr/>
            <p:nvPr/>
          </p:nvSpPr>
          <p:spPr>
            <a:xfrm rot="19053600">
              <a:off x="7284600" y="140760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766120" y="16207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696000" y="16146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1407240" y="3736800"/>
            <a:ext cx="1459440" cy="526320"/>
            <a:chOff x="1407240" y="3736800"/>
            <a:chExt cx="1459440" cy="526320"/>
          </a:xfrm>
        </p:grpSpPr>
        <p:sp>
          <p:nvSpPr>
            <p:cNvPr id="1072" name=""/>
            <p:cNvSpPr/>
            <p:nvPr/>
          </p:nvSpPr>
          <p:spPr>
            <a:xfrm>
              <a:off x="1407240" y="373680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298960" y="375300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5815800" y="3477960"/>
            <a:ext cx="1393560" cy="1469520"/>
            <a:chOff x="5815800" y="3477960"/>
            <a:chExt cx="1393560" cy="1469520"/>
          </a:xfrm>
        </p:grpSpPr>
        <p:sp>
          <p:nvSpPr>
            <p:cNvPr id="1075" name=""/>
            <p:cNvSpPr/>
            <p:nvPr/>
          </p:nvSpPr>
          <p:spPr>
            <a:xfrm>
              <a:off x="5815800" y="372096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rot="19092600">
              <a:off x="6525360" y="3596400"/>
              <a:ext cx="55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2146200">
              <a:off x="6545880" y="431928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8" name=""/>
          <p:cNvSpPr/>
          <p:nvPr/>
        </p:nvSpPr>
        <p:spPr>
          <a:xfrm>
            <a:off x="1657440" y="177012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672160" y="4017960"/>
            <a:ext cx="279000" cy="298080"/>
            <a:chOff x="5672160" y="4017960"/>
            <a:chExt cx="279000" cy="298080"/>
          </a:xfrm>
        </p:grpSpPr>
        <p:sp>
          <p:nvSpPr>
            <p:cNvPr id="1080" name=""/>
            <p:cNvSpPr/>
            <p:nvPr/>
          </p:nvSpPr>
          <p:spPr>
            <a:xfrm>
              <a:off x="5672160" y="4017960"/>
              <a:ext cx="279000" cy="298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61440" y="4106520"/>
              <a:ext cx="107280" cy="1148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535720" y="1884240"/>
            <a:ext cx="279000" cy="298080"/>
            <a:chOff x="5535720" y="1884240"/>
            <a:chExt cx="279000" cy="298080"/>
          </a:xfrm>
        </p:grpSpPr>
        <p:sp>
          <p:nvSpPr>
            <p:cNvPr id="1083" name=""/>
            <p:cNvSpPr/>
            <p:nvPr/>
          </p:nvSpPr>
          <p:spPr>
            <a:xfrm>
              <a:off x="5535720" y="1884240"/>
              <a:ext cx="279000" cy="298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625000" y="1972800"/>
              <a:ext cx="107280" cy="1148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1300320" y="4032360"/>
            <a:ext cx="279000" cy="298080"/>
            <a:chOff x="1300320" y="4032360"/>
            <a:chExt cx="279000" cy="298080"/>
          </a:xfrm>
        </p:grpSpPr>
        <p:sp>
          <p:nvSpPr>
            <p:cNvPr id="1086" name=""/>
            <p:cNvSpPr/>
            <p:nvPr/>
          </p:nvSpPr>
          <p:spPr>
            <a:xfrm>
              <a:off x="1300320" y="4032360"/>
              <a:ext cx="279000" cy="298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389600" y="4120920"/>
              <a:ext cx="107280" cy="1148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1498680" y="4309920"/>
            <a:ext cx="1747800" cy="405000"/>
            <a:chOff x="1498680" y="4309920"/>
            <a:chExt cx="1747800" cy="405000"/>
          </a:xfrm>
        </p:grpSpPr>
        <p:sp>
          <p:nvSpPr>
            <p:cNvPr id="1089" name=""/>
            <p:cNvSpPr/>
            <p:nvPr/>
          </p:nvSpPr>
          <p:spPr>
            <a:xfrm>
              <a:off x="2440080" y="4703760"/>
              <a:ext cx="80640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498680" y="4309920"/>
              <a:ext cx="974520" cy="405000"/>
            </a:xfrm>
            <a:custGeom>
              <a:avLst/>
              <a:gdLst/>
              <a:ahLst/>
              <a:rect l="l" t="t" r="r" b="b"/>
              <a:pathLst>
                <a:path w="777" h="265">
                  <a:moveTo>
                    <a:pt x="777" y="259"/>
                  </a:moveTo>
                  <a:cubicBezTo>
                    <a:pt x="668" y="262"/>
                    <a:pt x="559" y="265"/>
                    <a:pt x="460" y="259"/>
                  </a:cubicBezTo>
                  <a:cubicBezTo>
                    <a:pt x="361" y="253"/>
                    <a:pt x="251" y="247"/>
                    <a:pt x="182" y="221"/>
                  </a:cubicBezTo>
                  <a:cubicBezTo>
                    <a:pt x="113" y="195"/>
                    <a:pt x="78" y="143"/>
                    <a:pt x="48" y="106"/>
                  </a:cubicBezTo>
                  <a:cubicBezTo>
                    <a:pt x="18" y="69"/>
                    <a:pt x="9" y="34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5832360" y="4278240"/>
            <a:ext cx="849600" cy="554040"/>
            <a:chOff x="5832360" y="4278240"/>
            <a:chExt cx="849600" cy="554040"/>
          </a:xfrm>
        </p:grpSpPr>
        <p:sp>
          <p:nvSpPr>
            <p:cNvPr id="1092" name=""/>
            <p:cNvSpPr/>
            <p:nvPr/>
          </p:nvSpPr>
          <p:spPr>
            <a:xfrm>
              <a:off x="6289560" y="4824360"/>
              <a:ext cx="392400" cy="46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832360" y="4278240"/>
              <a:ext cx="473040" cy="554040"/>
            </a:xfrm>
            <a:custGeom>
              <a:avLst/>
              <a:gdLst/>
              <a:ahLst/>
              <a:rect l="l" t="t" r="r" b="b"/>
              <a:pathLst>
                <a:path w="777" h="265">
                  <a:moveTo>
                    <a:pt x="777" y="259"/>
                  </a:moveTo>
                  <a:cubicBezTo>
                    <a:pt x="668" y="262"/>
                    <a:pt x="559" y="265"/>
                    <a:pt x="460" y="259"/>
                  </a:cubicBezTo>
                  <a:cubicBezTo>
                    <a:pt x="361" y="253"/>
                    <a:pt x="251" y="247"/>
                    <a:pt x="182" y="221"/>
                  </a:cubicBezTo>
                  <a:cubicBezTo>
                    <a:pt x="113" y="195"/>
                    <a:pt x="78" y="143"/>
                    <a:pt x="48" y="106"/>
                  </a:cubicBezTo>
                  <a:cubicBezTo>
                    <a:pt x="18" y="69"/>
                    <a:pt x="9" y="34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7486920" y="3740760"/>
            <a:ext cx="486720" cy="400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7477560" y="4220640"/>
            <a:ext cx="473760" cy="415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rot="599400">
            <a:off x="7919640" y="4063680"/>
            <a:ext cx="220680" cy="217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rot="19092600">
            <a:off x="7178040" y="4118760"/>
            <a:ext cx="55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?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rot="2146200">
            <a:off x="7547760" y="353520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!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1050840" y="1589040"/>
            <a:ext cx="8016840" cy="2327400"/>
            <a:chOff x="1050840" y="1589040"/>
            <a:chExt cx="8016840" cy="2327400"/>
          </a:xfrm>
        </p:grpSpPr>
        <p:sp>
          <p:nvSpPr>
            <p:cNvPr id="1100" name=""/>
            <p:cNvSpPr/>
            <p:nvPr/>
          </p:nvSpPr>
          <p:spPr>
            <a:xfrm>
              <a:off x="1050840" y="2879640"/>
              <a:ext cx="1600200" cy="1036800"/>
            </a:xfrm>
            <a:prstGeom prst="wedgeRectCallout">
              <a:avLst>
                <a:gd name="adj1" fmla="val 47620"/>
                <a:gd name="adj2" fmla="val -134379"/>
              </a:avLst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ne-of-cred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vailabl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464600" y="1589040"/>
              <a:ext cx="1600200" cy="1036800"/>
            </a:xfrm>
            <a:prstGeom prst="wedgeRectCallout">
              <a:avLst>
                <a:gd name="adj1" fmla="val -15180"/>
                <a:gd name="adj2" fmla="val 188129"/>
              </a:avLst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hipm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ju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d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467480" y="1592280"/>
              <a:ext cx="1600200" cy="1036800"/>
            </a:xfrm>
            <a:prstGeom prst="wedgeRectCallout">
              <a:avLst>
                <a:gd name="adj1" fmla="val -52083"/>
                <a:gd name="adj2" fmla="val 136675"/>
              </a:avLst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hipm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ju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d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3036960" y="1741320"/>
            <a:ext cx="3254400" cy="1730520"/>
            <a:chOff x="3036960" y="1741320"/>
            <a:chExt cx="3254400" cy="1730520"/>
          </a:xfrm>
        </p:grpSpPr>
        <p:sp>
          <p:nvSpPr>
            <p:cNvPr id="1104" name=""/>
            <p:cNvSpPr/>
            <p:nvPr/>
          </p:nvSpPr>
          <p:spPr>
            <a:xfrm>
              <a:off x="4114800" y="1741320"/>
              <a:ext cx="1154160" cy="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062240" y="1973160"/>
              <a:ext cx="1152720" cy="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036960" y="2678040"/>
              <a:ext cx="434880" cy="63180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flipV="1">
              <a:off x="3243240" y="2666520"/>
              <a:ext cx="479520" cy="63180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4041720" y="2647800"/>
              <a:ext cx="1349280" cy="79560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3897000" y="2492280"/>
              <a:ext cx="1360440" cy="82728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832200" y="2689200"/>
              <a:ext cx="1284480" cy="78264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 flipV="1">
              <a:off x="4049280" y="2624040"/>
              <a:ext cx="1197000" cy="72864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5400360" y="2689200"/>
              <a:ext cx="641160" cy="60948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5703840" y="2677680"/>
              <a:ext cx="587520" cy="59868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36A0-BFE2-4B37-9F3B-B6AC46BABC6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704844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5160" y="155520"/>
            <a:ext cx="8321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sults on Temporal Verific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291600" y="888480"/>
            <a:ext cx="86806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312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ng history, e.g.,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[Clarke et.al. ’00]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verification for fsa’s and propositional LT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xity: PSPACE in size of formula + fs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ar time in size of f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 to Mealy compos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s apply to open and closed c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300"/>
              </a:spcBef>
              <a:buClr>
                <a:srgbClr val="cc00cc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Bounded que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25640" indent="-222480"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sition can be simulated as Mealy mach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25640" indent="-222480"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ification is decid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25640" indent="-222480"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ndard techniques to reduce c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300"/>
              </a:spcBef>
              <a:buClr>
                <a:srgbClr val="cc00cc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Unbounded que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25640" indent="-222480"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general, undecid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25640" indent="-222480"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roximation techniques can be appli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90EA-5EA0-4805-B113-CDDBA55CAC2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706752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4880" y="469800"/>
            <a:ext cx="7135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alitative Analysis of Unbounded Queue Compositio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8400" y="1309680"/>
            <a:ext cx="620856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1880" indent="-281880">
              <a:spcBef>
                <a:spcPts val="37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sation Languages”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Bultan et.al. WWW’03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880" indent="-28188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ume a “watcher” that observes all messages s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1320" indent="-26964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contrast to previous approach,  the “observables” here are simply the messages s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880" indent="-281880">
              <a:spcBef>
                <a:spcPts val="524"/>
              </a:spcBef>
              <a:buClr>
                <a:srgbClr val="cc0066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Language of peer implement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set of words formed by successful executions of the implemen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1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"/>
          <p:cNvSpPr/>
          <p:nvPr/>
        </p:nvSpPr>
        <p:spPr>
          <a:xfrm>
            <a:off x="152280" y="4562640"/>
            <a:ext cx="8658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90520" y="5043600"/>
            <a:ext cx="85629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6554160" y="1309680"/>
            <a:ext cx="2434320" cy="4024080"/>
            <a:chOff x="6554160" y="1309680"/>
            <a:chExt cx="2434320" cy="4024080"/>
          </a:xfrm>
        </p:grpSpPr>
        <p:grpSp>
          <p:nvGrpSpPr>
            <p:cNvPr id="1123" name=""/>
            <p:cNvGrpSpPr/>
            <p:nvPr/>
          </p:nvGrpSpPr>
          <p:grpSpPr>
            <a:xfrm>
              <a:off x="6995880" y="1455840"/>
              <a:ext cx="418680" cy="126000"/>
              <a:chOff x="6995880" y="1455840"/>
              <a:chExt cx="418680" cy="126000"/>
            </a:xfrm>
          </p:grpSpPr>
          <p:sp>
            <p:nvSpPr>
              <p:cNvPr id="1124" name=""/>
              <p:cNvSpPr/>
              <p:nvPr/>
            </p:nvSpPr>
            <p:spPr>
              <a:xfrm>
                <a:off x="6995880" y="1455840"/>
                <a:ext cx="41580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995880" y="1581840"/>
                <a:ext cx="41580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342200" y="1455840"/>
                <a:ext cx="72360" cy="126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269840" y="1455840"/>
                <a:ext cx="72360" cy="126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197120" y="1455840"/>
                <a:ext cx="72360" cy="126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124400" y="1455840"/>
                <a:ext cx="72720" cy="126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051680" y="1455840"/>
                <a:ext cx="72360" cy="126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1" name=""/>
            <p:cNvSpPr/>
            <p:nvPr/>
          </p:nvSpPr>
          <p:spPr>
            <a:xfrm>
              <a:off x="7432920" y="1309680"/>
              <a:ext cx="744480" cy="691200"/>
            </a:xfrm>
            <a:prstGeom prst="roundRect">
              <a:avLst>
                <a:gd name="adj" fmla="val 24148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er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2" name=""/>
            <p:cNvGrpSpPr/>
            <p:nvPr/>
          </p:nvGrpSpPr>
          <p:grpSpPr>
            <a:xfrm>
              <a:off x="6995880" y="2718360"/>
              <a:ext cx="418680" cy="127800"/>
              <a:chOff x="6995880" y="2718360"/>
              <a:chExt cx="418680" cy="127800"/>
            </a:xfrm>
          </p:grpSpPr>
          <p:sp>
            <p:nvSpPr>
              <p:cNvPr id="1133" name=""/>
              <p:cNvSpPr/>
              <p:nvPr/>
            </p:nvSpPr>
            <p:spPr>
              <a:xfrm>
                <a:off x="6995880" y="2718360"/>
                <a:ext cx="41580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995880" y="2846160"/>
                <a:ext cx="41580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342200" y="2718360"/>
                <a:ext cx="72360" cy="1278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269840" y="2718360"/>
                <a:ext cx="72360" cy="1278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197120" y="2718360"/>
                <a:ext cx="72360" cy="1278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124400" y="2718360"/>
                <a:ext cx="72720" cy="1278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051680" y="2718360"/>
                <a:ext cx="72360" cy="1278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32920" y="2387880"/>
              <a:ext cx="744480" cy="691200"/>
            </a:xfrm>
            <a:prstGeom prst="roundRect">
              <a:avLst>
                <a:gd name="adj" fmla="val 24148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er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9880" y="358776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.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2" name=""/>
            <p:cNvGrpSpPr/>
            <p:nvPr/>
          </p:nvGrpSpPr>
          <p:grpSpPr>
            <a:xfrm>
              <a:off x="6994080" y="2517120"/>
              <a:ext cx="418680" cy="127440"/>
              <a:chOff x="6994080" y="2517120"/>
              <a:chExt cx="418680" cy="127440"/>
            </a:xfrm>
          </p:grpSpPr>
          <p:sp>
            <p:nvSpPr>
              <p:cNvPr id="1143" name=""/>
              <p:cNvSpPr/>
              <p:nvPr/>
            </p:nvSpPr>
            <p:spPr>
              <a:xfrm>
                <a:off x="6994080" y="2517120"/>
                <a:ext cx="41580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994080" y="2644560"/>
                <a:ext cx="41580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340400" y="2517120"/>
                <a:ext cx="72360" cy="12744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268040" y="2517120"/>
                <a:ext cx="72360" cy="12744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195320" y="2517120"/>
                <a:ext cx="72360" cy="12744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122600" y="2517120"/>
                <a:ext cx="72720" cy="12744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049880" y="2517120"/>
                <a:ext cx="72360" cy="12744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6994080" y="4741920"/>
              <a:ext cx="418680" cy="126000"/>
              <a:chOff x="6994080" y="4741920"/>
              <a:chExt cx="418680" cy="126000"/>
            </a:xfrm>
          </p:grpSpPr>
          <p:sp>
            <p:nvSpPr>
              <p:cNvPr id="1151" name=""/>
              <p:cNvSpPr/>
              <p:nvPr/>
            </p:nvSpPr>
            <p:spPr>
              <a:xfrm>
                <a:off x="6994080" y="4741920"/>
                <a:ext cx="41580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994080" y="4867920"/>
                <a:ext cx="41580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340400" y="4741920"/>
                <a:ext cx="72360" cy="126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268040" y="4741920"/>
                <a:ext cx="72360" cy="126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195320" y="4741920"/>
                <a:ext cx="72360" cy="126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122600" y="4741920"/>
                <a:ext cx="72720" cy="126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049880" y="4741920"/>
                <a:ext cx="72360" cy="126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6994080" y="4943160"/>
              <a:ext cx="418680" cy="126000"/>
              <a:chOff x="6994080" y="4943160"/>
              <a:chExt cx="418680" cy="126000"/>
            </a:xfrm>
          </p:grpSpPr>
          <p:sp>
            <p:nvSpPr>
              <p:cNvPr id="1159" name=""/>
              <p:cNvSpPr/>
              <p:nvPr/>
            </p:nvSpPr>
            <p:spPr>
              <a:xfrm>
                <a:off x="6994080" y="4943160"/>
                <a:ext cx="41580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994080" y="5069160"/>
                <a:ext cx="41580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340400" y="4943160"/>
                <a:ext cx="72360" cy="126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268040" y="4943160"/>
                <a:ext cx="72360" cy="126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195320" y="4943160"/>
                <a:ext cx="72360" cy="126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122600" y="4943160"/>
                <a:ext cx="72720" cy="126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049880" y="4943160"/>
                <a:ext cx="72360" cy="1260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6554160" y="1536120"/>
              <a:ext cx="2434320" cy="3537360"/>
              <a:chOff x="6554160" y="1536120"/>
              <a:chExt cx="2434320" cy="3537360"/>
            </a:xfrm>
          </p:grpSpPr>
          <p:cxnSp>
            <p:nvCxnSpPr>
              <p:cNvPr id="1167" name=""/>
              <p:cNvCxnSpPr>
                <a:stCxn id="1131" idx="3"/>
                <a:endCxn id="1168" idx="0"/>
              </p:cNvCxnSpPr>
              <p:nvPr/>
            </p:nvCxnSpPr>
            <p:spPr>
              <a:xfrm flipH="1">
                <a:off x="6554520" y="1655640"/>
                <a:ext cx="1633680" cy="507600"/>
              </a:xfrm>
              <a:prstGeom prst="bentConnector4">
                <a:avLst>
                  <a:gd name="adj1" fmla="val -6876"/>
                  <a:gd name="adj2" fmla="val 85379"/>
                </a:avLst>
              </a:prstGeom>
              <a:ln w="28440">
                <a:solidFill>
                  <a:srgbClr val="0000ff"/>
                </a:solidFill>
                <a:miter/>
              </a:ln>
            </p:spPr>
          </p:cxnSp>
          <p:cxnSp>
            <p:nvCxnSpPr>
              <p:cNvPr id="1169" name=""/>
              <p:cNvCxnSpPr>
                <a:stCxn id="1140" idx="3"/>
              </p:cNvCxnSpPr>
              <p:nvPr/>
            </p:nvCxnSpPr>
            <p:spPr>
              <a:xfrm>
                <a:off x="8187480" y="2733840"/>
                <a:ext cx="371880" cy="868320"/>
              </a:xfrm>
              <a:prstGeom prst="bentConnector2">
                <a:avLst/>
              </a:prstGeom>
              <a:ln w="28440">
                <a:solidFill>
                  <a:srgbClr val="0000ff"/>
                </a:solidFill>
                <a:miter/>
              </a:ln>
            </p:spPr>
          </p:cxnSp>
          <p:sp>
            <p:nvSpPr>
              <p:cNvPr id="1170" name=""/>
              <p:cNvSpPr/>
              <p:nvPr/>
            </p:nvSpPr>
            <p:spPr>
              <a:xfrm>
                <a:off x="6554880" y="2176560"/>
                <a:ext cx="0" cy="404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71" name=""/>
              <p:cNvCxnSpPr/>
              <p:nvPr/>
            </p:nvCxnSpPr>
            <p:spPr>
              <a:xfrm>
                <a:off x="6554880" y="2581560"/>
                <a:ext cx="406080" cy="3600"/>
              </a:xfrm>
              <a:prstGeom prst="straightConnector1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</p:cxnSp>
          <p:cxnSp>
            <p:nvCxnSpPr>
              <p:cNvPr id="1172" name=""/>
              <p:cNvCxnSpPr/>
              <p:nvPr/>
            </p:nvCxnSpPr>
            <p:spPr>
              <a:xfrm flipV="1" rot="16200000">
                <a:off x="8753040" y="3519360"/>
                <a:ext cx="218160" cy="3960"/>
              </a:xfrm>
              <a:prstGeom prst="bentConnector3">
                <a:avLst>
                  <a:gd name="adj1" fmla="val 49917"/>
                </a:avLst>
              </a:prstGeom>
              <a:ln w="28440">
                <a:solidFill>
                  <a:srgbClr val="0000ff"/>
                </a:solidFill>
                <a:miter/>
              </a:ln>
            </p:spPr>
          </p:cxnSp>
          <p:cxnSp>
            <p:nvCxnSpPr>
              <p:cNvPr id="1173" name=""/>
              <p:cNvCxnSpPr/>
              <p:nvPr/>
            </p:nvCxnSpPr>
            <p:spPr>
              <a:xfrm flipH="1">
                <a:off x="6554160" y="3405960"/>
                <a:ext cx="2294280" cy="5400"/>
              </a:xfrm>
              <a:prstGeom prst="straightConnector1">
                <a:avLst/>
              </a:prstGeom>
              <a:ln w="28440">
                <a:solidFill>
                  <a:srgbClr val="0000ff"/>
                </a:solidFill>
                <a:miter/>
              </a:ln>
            </p:spPr>
          </p:cxnSp>
          <p:cxnSp>
            <p:nvCxnSpPr>
              <p:cNvPr id="1174" name=""/>
              <p:cNvCxnSpPr/>
              <p:nvPr/>
            </p:nvCxnSpPr>
            <p:spPr>
              <a:xfrm flipV="1">
                <a:off x="6554880" y="2783880"/>
                <a:ext cx="2160" cy="639720"/>
              </a:xfrm>
              <a:prstGeom prst="straightConnector1">
                <a:avLst/>
              </a:prstGeom>
              <a:ln w="28440">
                <a:solidFill>
                  <a:srgbClr val="0000ff"/>
                </a:solidFill>
                <a:miter/>
              </a:ln>
            </p:spPr>
          </p:cxnSp>
          <p:cxnSp>
            <p:nvCxnSpPr>
              <p:cNvPr id="1175" name=""/>
              <p:cNvCxnSpPr/>
              <p:nvPr/>
            </p:nvCxnSpPr>
            <p:spPr>
              <a:xfrm>
                <a:off x="6554880" y="2766600"/>
                <a:ext cx="406080" cy="1800"/>
              </a:xfrm>
              <a:prstGeom prst="straightConnector1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</p:cxnSp>
          <p:sp>
            <p:nvSpPr>
              <p:cNvPr id="1176" name=""/>
              <p:cNvSpPr/>
              <p:nvPr/>
            </p:nvSpPr>
            <p:spPr>
              <a:xfrm>
                <a:off x="8165520" y="4182480"/>
                <a:ext cx="624240" cy="727560"/>
              </a:xfrm>
              <a:custGeom>
                <a:avLst/>
                <a:gdLst/>
                <a:ahLst/>
                <a:rect l="l" t="t" r="r" b="b"/>
                <a:pathLst>
                  <a:path w="304" h="285">
                    <a:moveTo>
                      <a:pt x="0" y="285"/>
                    </a:moveTo>
                    <a:lnTo>
                      <a:pt x="304" y="285"/>
                    </a:lnTo>
                    <a:lnTo>
                      <a:pt x="304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751440" y="4133880"/>
                <a:ext cx="1713600" cy="664200"/>
              </a:xfrm>
              <a:custGeom>
                <a:avLst/>
                <a:gdLst/>
                <a:ahLst/>
                <a:rect l="l" t="t" r="r" b="b"/>
                <a:pathLst>
                  <a:path w="899" h="420">
                    <a:moveTo>
                      <a:pt x="899" y="0"/>
                    </a:moveTo>
                    <a:lnTo>
                      <a:pt x="899" y="207"/>
                    </a:lnTo>
                    <a:lnTo>
                      <a:pt x="0" y="207"/>
                    </a:lnTo>
                    <a:lnTo>
                      <a:pt x="0" y="420"/>
                    </a:lnTo>
                    <a:lnTo>
                      <a:pt x="90" y="42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603120" y="4089600"/>
                <a:ext cx="321840" cy="898920"/>
              </a:xfrm>
              <a:custGeom>
                <a:avLst/>
                <a:gdLst/>
                <a:ahLst/>
                <a:rect l="l" t="t" r="r" b="b"/>
                <a:pathLst>
                  <a:path w="149" h="453">
                    <a:moveTo>
                      <a:pt x="0" y="0"/>
                    </a:moveTo>
                    <a:lnTo>
                      <a:pt x="0" y="453"/>
                    </a:lnTo>
                    <a:lnTo>
                      <a:pt x="149" y="453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8165520" y="4234680"/>
                <a:ext cx="474120" cy="838800"/>
              </a:xfrm>
              <a:custGeom>
                <a:avLst/>
                <a:gdLst/>
                <a:ahLst/>
                <a:rect l="l" t="t" r="r" b="b"/>
                <a:pathLst>
                  <a:path w="246" h="395">
                    <a:moveTo>
                      <a:pt x="0" y="395"/>
                    </a:moveTo>
                    <a:lnTo>
                      <a:pt x="246" y="395"/>
                    </a:lnTo>
                    <a:lnTo>
                      <a:pt x="246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658560" y="1536120"/>
                <a:ext cx="2203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658560" y="1536120"/>
                <a:ext cx="0" cy="691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658560" y="2227320"/>
                <a:ext cx="17035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8362440" y="2227320"/>
                <a:ext cx="0" cy="1364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8168760" y="1541880"/>
                <a:ext cx="8038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8988480" y="1541880"/>
                <a:ext cx="0" cy="20671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>
              <a:off x="7432920" y="4642560"/>
              <a:ext cx="744480" cy="691200"/>
            </a:xfrm>
            <a:prstGeom prst="roundRect">
              <a:avLst>
                <a:gd name="adj" fmla="val 24148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er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5713560" y="5708520"/>
            <a:ext cx="3219480" cy="570960"/>
            <a:chOff x="5713560" y="5708520"/>
            <a:chExt cx="3219480" cy="570960"/>
          </a:xfrm>
        </p:grpSpPr>
        <p:grpSp>
          <p:nvGrpSpPr>
            <p:cNvPr id="1188" name=""/>
            <p:cNvGrpSpPr/>
            <p:nvPr/>
          </p:nvGrpSpPr>
          <p:grpSpPr>
            <a:xfrm>
              <a:off x="5713560" y="5788080"/>
              <a:ext cx="3219480" cy="491400"/>
              <a:chOff x="5713560" y="5788080"/>
              <a:chExt cx="3219480" cy="491400"/>
            </a:xfrm>
          </p:grpSpPr>
          <p:sp>
            <p:nvSpPr>
              <p:cNvPr id="1189" name=""/>
              <p:cNvSpPr/>
              <p:nvPr/>
            </p:nvSpPr>
            <p:spPr>
              <a:xfrm>
                <a:off x="6475320" y="5864040"/>
                <a:ext cx="381240" cy="38124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6856560" y="5864040"/>
                <a:ext cx="380880" cy="38124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237440" y="5864040"/>
                <a:ext cx="380880" cy="38124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618320" y="5864040"/>
                <a:ext cx="381240" cy="38124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094440" y="5864040"/>
                <a:ext cx="380880" cy="38124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713560" y="5864040"/>
                <a:ext cx="380880" cy="38124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715360" y="5788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cc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096240" y="5788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cc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481080" y="5788080"/>
                <a:ext cx="407520" cy="49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cc00"/>
                    </a:solidFill>
                    <a:latin typeface="Times New Roman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cc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243560" y="5788080"/>
                <a:ext cx="424440" cy="49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cc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cc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862320" y="5788080"/>
                <a:ext cx="407520" cy="49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cc00"/>
                    </a:solidFill>
                    <a:latin typeface="Times New Roman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cc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624440" y="5788080"/>
                <a:ext cx="424440" cy="49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cc00"/>
                    </a:solidFill>
                    <a:latin typeface="Times New Roman"/>
                  </a:rPr>
                  <a:t>p</a:t>
                </a:r>
                <a:r>
                  <a:rPr b="0" lang="en-US" sz="2000" spc="-1" strike="noStrike" baseline="-25000">
                    <a:solidFill>
                      <a:srgbClr val="00cc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8008920" y="5867280"/>
                <a:ext cx="91440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8007480" y="6240240"/>
                <a:ext cx="92556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3" name=""/>
            <p:cNvSpPr/>
            <p:nvPr/>
          </p:nvSpPr>
          <p:spPr>
            <a:xfrm>
              <a:off x="8126640" y="5708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4" name=""/>
          <p:cNvSpPr/>
          <p:nvPr/>
        </p:nvSpPr>
        <p:spPr>
          <a:xfrm>
            <a:off x="6664680" y="625464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175A-035E-400C-B39C-8FD936CF32C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5" name=""/>
          <p:cNvGrpSpPr/>
          <p:nvPr/>
        </p:nvGrpSpPr>
        <p:grpSpPr>
          <a:xfrm>
            <a:off x="3417840" y="1781280"/>
            <a:ext cx="2651040" cy="699840"/>
            <a:chOff x="3417840" y="1781280"/>
            <a:chExt cx="2651040" cy="699840"/>
          </a:xfrm>
        </p:grpSpPr>
        <p:sp>
          <p:nvSpPr>
            <p:cNvPr id="1206" name=""/>
            <p:cNvSpPr/>
            <p:nvPr/>
          </p:nvSpPr>
          <p:spPr>
            <a:xfrm>
              <a:off x="4284720" y="1781280"/>
              <a:ext cx="909720" cy="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46560" y="1895400"/>
              <a:ext cx="915840" cy="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417840" y="2112840"/>
              <a:ext cx="380880" cy="29376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 flipV="1">
              <a:off x="3598920" y="2108160"/>
              <a:ext cx="420480" cy="29376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4221000" y="2109960"/>
              <a:ext cx="1124280" cy="35856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4092480" y="2048040"/>
              <a:ext cx="1116000" cy="36324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037040" y="2117880"/>
              <a:ext cx="1125360" cy="36324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 flipV="1">
              <a:off x="4193640" y="2053800"/>
              <a:ext cx="1049400" cy="33804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5387760" y="2117880"/>
              <a:ext cx="461880" cy="26172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V="1">
              <a:off x="5576760" y="2112840"/>
              <a:ext cx="492120" cy="25560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1124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 Conversation Languag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258840" y="3819600"/>
            <a:ext cx="881856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4760" indent="-284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nguage:  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a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( (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*, (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(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* 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8160" indent="-27252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a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n a shuffle of orders against Supplier1  and orders against Supplier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160" indent="-27252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lier1 is “cautious” and Supplier2 is “trusting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760" indent="-284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language is regu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760" indent="-284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language for bounded or unbounded que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"/>
          <p:cNvSpPr/>
          <p:nvPr/>
        </p:nvSpPr>
        <p:spPr>
          <a:xfrm>
            <a:off x="996840" y="927000"/>
            <a:ext cx="3192480" cy="116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476360" y="2455920"/>
            <a:ext cx="2732040" cy="1204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132520" y="2417760"/>
            <a:ext cx="2676240" cy="1262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257800" y="939960"/>
            <a:ext cx="3027240" cy="11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463760" y="1508040"/>
            <a:ext cx="608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263680" y="1508040"/>
            <a:ext cx="5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1139760" y="1495440"/>
            <a:ext cx="12060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828880" y="1433520"/>
            <a:ext cx="196920" cy="1681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2996280" y="1140120"/>
            <a:ext cx="446400" cy="336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382920" y="1047600"/>
            <a:ext cx="195480" cy="1666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60600" y="12682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726160" y="1635120"/>
            <a:ext cx="608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526080" y="1635120"/>
            <a:ext cx="5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319800" y="1550880"/>
            <a:ext cx="195480" cy="1666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091280" y="1562040"/>
            <a:ext cx="196920" cy="1666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256880" y="1267920"/>
            <a:ext cx="448560" cy="335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45320" y="1176480"/>
            <a:ext cx="195480" cy="1666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434360" y="14940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043440" y="1559160"/>
            <a:ext cx="403920" cy="38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rot="5400000">
            <a:off x="3502800" y="1842120"/>
            <a:ext cx="168120" cy="1922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823000" y="3062160"/>
            <a:ext cx="608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500800" y="3049560"/>
            <a:ext cx="120600" cy="1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rot="599400">
            <a:off x="6435360" y="2980800"/>
            <a:ext cx="195120" cy="1666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6630840" y="2678400"/>
            <a:ext cx="420480" cy="37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rot="599400">
            <a:off x="7024320" y="2584080"/>
            <a:ext cx="195120" cy="1666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610680" y="3096720"/>
            <a:ext cx="431280" cy="35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rot="599400">
            <a:off x="7026120" y="3378240"/>
            <a:ext cx="195480" cy="1681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947960" y="3092400"/>
            <a:ext cx="558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513160" y="3019320"/>
            <a:ext cx="195120" cy="1666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689200" y="3105000"/>
            <a:ext cx="558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252960" y="3032280"/>
            <a:ext cx="196560" cy="1666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62480" y="2855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064160" y="8524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586520" y="243216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lie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171040" y="237024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lie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088040" y="279864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330520" y="8780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23960" y="3079800"/>
            <a:ext cx="1238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378400" y="1606680"/>
            <a:ext cx="119160" cy="11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rot="19053600">
            <a:off x="2795040" y="1050120"/>
            <a:ext cx="47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!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82840" y="1197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!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198880" y="11793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?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rot="2853600">
            <a:off x="2833920" y="1598400"/>
            <a:ext cx="47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!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5658120" y="1054440"/>
            <a:ext cx="1981080" cy="658440"/>
            <a:chOff x="5658120" y="1054440"/>
            <a:chExt cx="1981080" cy="658440"/>
          </a:xfrm>
        </p:grpSpPr>
        <p:sp>
          <p:nvSpPr>
            <p:cNvPr id="1262" name=""/>
            <p:cNvSpPr/>
            <p:nvPr/>
          </p:nvSpPr>
          <p:spPr>
            <a:xfrm rot="19053600">
              <a:off x="7060320" y="1172520"/>
              <a:ext cx="50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1800" spc="-1" strike="noStrike">
                  <a:solidFill>
                    <a:srgbClr val="00cc00"/>
                  </a:solidFill>
                  <a:latin typeface="Arial"/>
                </a:rPr>
                <a:t>b</a:t>
              </a:r>
              <a:r>
                <a:rPr b="1" lang="en-US" sz="18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658120" y="13446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1800" spc="-1" strike="noStrike">
                  <a:solidFill>
                    <a:srgbClr val="00cc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483600" y="13395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1800" spc="-1" strike="noStrike">
                  <a:solidFill>
                    <a:srgbClr val="00cc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1820880" y="2730600"/>
            <a:ext cx="1262520" cy="419040"/>
            <a:chOff x="1820880" y="2730600"/>
            <a:chExt cx="1262520" cy="419040"/>
          </a:xfrm>
        </p:grpSpPr>
        <p:sp>
          <p:nvSpPr>
            <p:cNvPr id="1266" name=""/>
            <p:cNvSpPr/>
            <p:nvPr/>
          </p:nvSpPr>
          <p:spPr>
            <a:xfrm>
              <a:off x="1820880" y="2730600"/>
              <a:ext cx="50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18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613240" y="2743920"/>
              <a:ext cx="47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1800" spc="-1" strike="noStrike">
                  <a:solidFill>
                    <a:srgbClr val="00cc00"/>
                  </a:solidFill>
                  <a:latin typeface="Arial"/>
                </a:rPr>
                <a:t>b</a:t>
              </a:r>
              <a:r>
                <a:rPr b="1" lang="en-US" sz="18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5734440" y="2512080"/>
            <a:ext cx="1229760" cy="1132200"/>
            <a:chOff x="5734440" y="2512080"/>
            <a:chExt cx="1229760" cy="1132200"/>
          </a:xfrm>
        </p:grpSpPr>
        <p:sp>
          <p:nvSpPr>
            <p:cNvPr id="1269" name=""/>
            <p:cNvSpPr/>
            <p:nvPr/>
          </p:nvSpPr>
          <p:spPr>
            <a:xfrm>
              <a:off x="5734440" y="2703600"/>
              <a:ext cx="50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1800" spc="-1" strike="noStrike">
                  <a:solidFill>
                    <a:srgbClr val="00cc00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19092600">
              <a:off x="6421680" y="2612520"/>
              <a:ext cx="456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</a:rPr>
                <a:t>?</a:t>
              </a:r>
              <a:r>
                <a:rPr b="1" lang="en-US" sz="1800" spc="-1" strike="noStrike">
                  <a:solidFill>
                    <a:srgbClr val="00cc00"/>
                  </a:solidFill>
                  <a:latin typeface="Arial"/>
                </a:rPr>
                <a:t>r</a:t>
              </a:r>
              <a:r>
                <a:rPr b="1" lang="en-US" sz="18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2146200">
              <a:off x="6419520" y="3139200"/>
              <a:ext cx="47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</a:rPr>
                <a:t>!</a:t>
              </a:r>
              <a:r>
                <a:rPr b="1" lang="en-US" sz="1800" spc="-1" strike="noStrike">
                  <a:solidFill>
                    <a:srgbClr val="00cc00"/>
                  </a:solidFill>
                  <a:latin typeface="Arial"/>
                </a:rPr>
                <a:t>b</a:t>
              </a:r>
              <a:r>
                <a:rPr b="1" lang="en-US" sz="1800" spc="-1" strike="noStrike" baseline="-25000">
                  <a:solidFill>
                    <a:srgbClr val="00cc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2044800" y="1422360"/>
            <a:ext cx="195120" cy="1666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3" name=""/>
          <p:cNvGrpSpPr/>
          <p:nvPr/>
        </p:nvGrpSpPr>
        <p:grpSpPr>
          <a:xfrm>
            <a:off x="5608800" y="2949480"/>
            <a:ext cx="246960" cy="228240"/>
            <a:chOff x="5608800" y="2949480"/>
            <a:chExt cx="246960" cy="228240"/>
          </a:xfrm>
        </p:grpSpPr>
        <p:sp>
          <p:nvSpPr>
            <p:cNvPr id="1274" name=""/>
            <p:cNvSpPr/>
            <p:nvPr/>
          </p:nvSpPr>
          <p:spPr>
            <a:xfrm>
              <a:off x="5608800" y="2949480"/>
              <a:ext cx="246960" cy="228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687640" y="3017520"/>
              <a:ext cx="95040" cy="878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1727280" y="2986200"/>
            <a:ext cx="247320" cy="228240"/>
            <a:chOff x="1727280" y="2986200"/>
            <a:chExt cx="247320" cy="228240"/>
          </a:xfrm>
        </p:grpSpPr>
        <p:sp>
          <p:nvSpPr>
            <p:cNvPr id="1277" name=""/>
            <p:cNvSpPr/>
            <p:nvPr/>
          </p:nvSpPr>
          <p:spPr>
            <a:xfrm>
              <a:off x="1727280" y="2986200"/>
              <a:ext cx="247320" cy="228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806480" y="3054240"/>
              <a:ext cx="95040" cy="878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"/>
          <p:cNvGrpSpPr/>
          <p:nvPr/>
        </p:nvGrpSpPr>
        <p:grpSpPr>
          <a:xfrm>
            <a:off x="1903320" y="3224160"/>
            <a:ext cx="1550880" cy="311040"/>
            <a:chOff x="1903320" y="3224160"/>
            <a:chExt cx="1550880" cy="311040"/>
          </a:xfrm>
        </p:grpSpPr>
        <p:sp>
          <p:nvSpPr>
            <p:cNvPr id="1280" name=""/>
            <p:cNvSpPr/>
            <p:nvPr/>
          </p:nvSpPr>
          <p:spPr>
            <a:xfrm>
              <a:off x="2738520" y="3526560"/>
              <a:ext cx="715680" cy="2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903320" y="3224160"/>
              <a:ext cx="864720" cy="311040"/>
            </a:xfrm>
            <a:custGeom>
              <a:avLst/>
              <a:gdLst/>
              <a:ahLst/>
              <a:rect l="l" t="t" r="r" b="b"/>
              <a:pathLst>
                <a:path w="777" h="265">
                  <a:moveTo>
                    <a:pt x="777" y="259"/>
                  </a:moveTo>
                  <a:cubicBezTo>
                    <a:pt x="668" y="262"/>
                    <a:pt x="559" y="265"/>
                    <a:pt x="460" y="259"/>
                  </a:cubicBezTo>
                  <a:cubicBezTo>
                    <a:pt x="361" y="253"/>
                    <a:pt x="251" y="247"/>
                    <a:pt x="182" y="221"/>
                  </a:cubicBezTo>
                  <a:cubicBezTo>
                    <a:pt x="113" y="195"/>
                    <a:pt x="78" y="143"/>
                    <a:pt x="48" y="106"/>
                  </a:cubicBezTo>
                  <a:cubicBezTo>
                    <a:pt x="18" y="69"/>
                    <a:pt x="9" y="34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5770440" y="3173400"/>
            <a:ext cx="753840" cy="425520"/>
            <a:chOff x="5770440" y="3173400"/>
            <a:chExt cx="753840" cy="425520"/>
          </a:xfrm>
        </p:grpSpPr>
        <p:sp>
          <p:nvSpPr>
            <p:cNvPr id="1283" name=""/>
            <p:cNvSpPr/>
            <p:nvPr/>
          </p:nvSpPr>
          <p:spPr>
            <a:xfrm>
              <a:off x="6176160" y="3592800"/>
              <a:ext cx="348120" cy="3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70440" y="3173400"/>
              <a:ext cx="419760" cy="425520"/>
            </a:xfrm>
            <a:custGeom>
              <a:avLst/>
              <a:gdLst/>
              <a:ahLst/>
              <a:rect l="l" t="t" r="r" b="b"/>
              <a:pathLst>
                <a:path w="777" h="265">
                  <a:moveTo>
                    <a:pt x="777" y="259"/>
                  </a:moveTo>
                  <a:cubicBezTo>
                    <a:pt x="668" y="262"/>
                    <a:pt x="559" y="265"/>
                    <a:pt x="460" y="259"/>
                  </a:cubicBezTo>
                  <a:cubicBezTo>
                    <a:pt x="361" y="253"/>
                    <a:pt x="251" y="247"/>
                    <a:pt x="182" y="221"/>
                  </a:cubicBezTo>
                  <a:cubicBezTo>
                    <a:pt x="113" y="195"/>
                    <a:pt x="78" y="143"/>
                    <a:pt x="48" y="106"/>
                  </a:cubicBezTo>
                  <a:cubicBezTo>
                    <a:pt x="18" y="69"/>
                    <a:pt x="9" y="34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5506920" y="1530360"/>
            <a:ext cx="195480" cy="1666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239840" y="1413000"/>
            <a:ext cx="195120" cy="1666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546-0F6B-461D-AA4E-DA7D86BA008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0" y="6575400"/>
            <a:ext cx="617544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988920" y="2057400"/>
            <a:ext cx="142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Stor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731760" y="2062080"/>
            <a:ext cx="18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Supplie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621480" y="2048040"/>
            <a:ext cx="136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) Bank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04844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95400" y="98280"/>
            <a:ext cx="88358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bounded Queu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nexpected Behav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52280" y="2959200"/>
            <a:ext cx="8991720" cy="35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61360" indent="-26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tract versions of previous e-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3080" indent="-250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, no “handshakes” for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-26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sation language 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3080" indent="-250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o*b* = { a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 }, i.e., L is not re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-26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 away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3080" indent="-250200">
              <a:lnSpc>
                <a:spcPct val="100000"/>
              </a:lnSpc>
              <a:spcBef>
                <a:spcPts val="451"/>
              </a:spcBef>
              <a:buClr>
                <a:srgbClr val="cc0066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ottom up” design of compositions may lead to          undesirable global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3080" indent="-250200">
              <a:lnSpc>
                <a:spcPct val="100000"/>
              </a:lnSpc>
              <a:spcBef>
                <a:spcPts val="451"/>
              </a:spcBef>
              <a:buClr>
                <a:srgbClr val="cc0066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Service mediators can have important role in preventing undesirable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4" name=""/>
          <p:cNvGrpSpPr/>
          <p:nvPr/>
        </p:nvGrpSpPr>
        <p:grpSpPr>
          <a:xfrm>
            <a:off x="604800" y="658800"/>
            <a:ext cx="8064360" cy="1780920"/>
            <a:chOff x="604800" y="658800"/>
            <a:chExt cx="8064360" cy="1780920"/>
          </a:xfrm>
        </p:grpSpPr>
        <p:sp>
          <p:nvSpPr>
            <p:cNvPr id="1295" name=""/>
            <p:cNvSpPr/>
            <p:nvPr/>
          </p:nvSpPr>
          <p:spPr>
            <a:xfrm>
              <a:off x="4457520" y="19544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!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260960" y="1065240"/>
              <a:ext cx="866520" cy="949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113360" y="1419120"/>
              <a:ext cx="1162080" cy="22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77080" y="1305000"/>
              <a:ext cx="24840" cy="11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 flipV="1">
              <a:off x="4267440" y="1624680"/>
              <a:ext cx="18720" cy="6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51520" y="1437120"/>
              <a:ext cx="149040" cy="1648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070520" y="1511280"/>
              <a:ext cx="9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363920" y="6588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?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557840" y="19407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?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7467480" y="1019880"/>
              <a:ext cx="811080" cy="978840"/>
              <a:chOff x="7467480" y="1019880"/>
              <a:chExt cx="811080" cy="978840"/>
            </a:xfrm>
          </p:grpSpPr>
          <p:sp>
            <p:nvSpPr>
              <p:cNvPr id="1305" name=""/>
              <p:cNvSpPr/>
              <p:nvPr/>
            </p:nvSpPr>
            <p:spPr>
              <a:xfrm flipV="1">
                <a:off x="7467480" y="1121040"/>
                <a:ext cx="811080" cy="87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801560" y="1019880"/>
                <a:ext cx="196560" cy="203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 flipV="1">
              <a:off x="7689960" y="1122840"/>
              <a:ext cx="110880" cy="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724800" y="1056240"/>
              <a:ext cx="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840360" y="974880"/>
              <a:ext cx="147960" cy="164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020000" y="1050120"/>
              <a:ext cx="78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058520" y="6598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?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2" name=""/>
            <p:cNvGrpSpPr/>
            <p:nvPr/>
          </p:nvGrpSpPr>
          <p:grpSpPr>
            <a:xfrm>
              <a:off x="4183200" y="1452240"/>
              <a:ext cx="215280" cy="205200"/>
              <a:chOff x="4183200" y="1452240"/>
              <a:chExt cx="215280" cy="205200"/>
            </a:xfrm>
          </p:grpSpPr>
          <p:sp>
            <p:nvSpPr>
              <p:cNvPr id="1313" name=""/>
              <p:cNvSpPr/>
              <p:nvPr/>
            </p:nvSpPr>
            <p:spPr>
              <a:xfrm>
                <a:off x="4183200" y="1452240"/>
                <a:ext cx="215280" cy="205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251960" y="1513440"/>
                <a:ext cx="82800" cy="7920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5" name=""/>
            <p:cNvSpPr/>
            <p:nvPr/>
          </p:nvSpPr>
          <p:spPr>
            <a:xfrm>
              <a:off x="1898280" y="19800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!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6" name=""/>
            <p:cNvGrpSpPr/>
            <p:nvPr/>
          </p:nvGrpSpPr>
          <p:grpSpPr>
            <a:xfrm>
              <a:off x="1747800" y="1074600"/>
              <a:ext cx="809280" cy="977040"/>
              <a:chOff x="1747800" y="1074600"/>
              <a:chExt cx="809280" cy="977040"/>
            </a:xfrm>
          </p:grpSpPr>
          <p:sp>
            <p:nvSpPr>
              <p:cNvPr id="1317" name=""/>
              <p:cNvSpPr/>
              <p:nvPr/>
            </p:nvSpPr>
            <p:spPr>
              <a:xfrm flipV="1">
                <a:off x="1747800" y="1175400"/>
                <a:ext cx="809280" cy="87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081160" y="1074600"/>
                <a:ext cx="195840" cy="203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 flipV="1">
              <a:off x="1967040" y="1175760"/>
              <a:ext cx="110880" cy="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001880" y="1109160"/>
              <a:ext cx="93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117440" y="1027440"/>
              <a:ext cx="149400" cy="1648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300320" y="1103040"/>
              <a:ext cx="78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365480" y="6886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!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4" name=""/>
            <p:cNvGrpSpPr/>
            <p:nvPr/>
          </p:nvGrpSpPr>
          <p:grpSpPr>
            <a:xfrm>
              <a:off x="7788240" y="994320"/>
              <a:ext cx="215640" cy="205200"/>
              <a:chOff x="7788240" y="994320"/>
              <a:chExt cx="215640" cy="205200"/>
            </a:xfrm>
          </p:grpSpPr>
          <p:sp>
            <p:nvSpPr>
              <p:cNvPr id="1325" name=""/>
              <p:cNvSpPr/>
              <p:nvPr/>
            </p:nvSpPr>
            <p:spPr>
              <a:xfrm>
                <a:off x="7788240" y="994320"/>
                <a:ext cx="215640" cy="205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857000" y="1055520"/>
                <a:ext cx="82800" cy="7920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2036880" y="1017000"/>
              <a:ext cx="215280" cy="205200"/>
              <a:chOff x="2036880" y="1017000"/>
              <a:chExt cx="215280" cy="205200"/>
            </a:xfrm>
          </p:grpSpPr>
          <p:sp>
            <p:nvSpPr>
              <p:cNvPr id="1328" name=""/>
              <p:cNvSpPr/>
              <p:nvPr/>
            </p:nvSpPr>
            <p:spPr>
              <a:xfrm>
                <a:off x="2036880" y="1017000"/>
                <a:ext cx="215280" cy="205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105640" y="1078200"/>
                <a:ext cx="82800" cy="7920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0" name=""/>
            <p:cNvSpPr/>
            <p:nvPr/>
          </p:nvSpPr>
          <p:spPr>
            <a:xfrm>
              <a:off x="604800" y="723600"/>
              <a:ext cx="2278080" cy="16750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514680" y="743400"/>
              <a:ext cx="2279520" cy="16750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91440" y="743400"/>
              <a:ext cx="2277720" cy="16750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779B-FB76-4F4F-A77A-D3FD119A8CAB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2120" y="75960"/>
            <a:ext cx="83692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4440" y="867960"/>
            <a:ext cx="839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ts, messaging, and sequential behavior are facts of lif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need a notion of “behavioral signatur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utomata-based frame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pired by CSPs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calculus, verification the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sis “tool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ral approaches avai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ated compos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ing a bridge to D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D49A-C16C-4D1D-8759-75880C2118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28160" y="181080"/>
            <a:ext cx="84358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bad is it 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208080" y="785520"/>
            <a:ext cx="87328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64240" indent="-2642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, conversation language with Mealy peers and unbounded queues is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context-sensi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30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pted by a quasi-realtime automaton with 3 que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240" indent="-2642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conversation languages are closed under two key proper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30132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if w is generated, then certain “shuffle products” of w are also gener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30132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ep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erchange order of input and output messages of a peer p under certain cond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240" indent="-2642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hierarchic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c-schema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"/>
          <p:cNvSpPr/>
          <p:nvPr/>
        </p:nvSpPr>
        <p:spPr>
          <a:xfrm>
            <a:off x="703440" y="5494320"/>
            <a:ext cx="325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peer is a Mealy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881600" y="5281560"/>
            <a:ext cx="377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sation language is join-prepone closure of a regular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996360" y="5397480"/>
            <a:ext cx="66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D3A-A700-4A8F-8A35-E1F4FF56F1A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9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ts, messaging, and sequential behavior are facts of lif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utomata-based frame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sis “tool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524"/>
              </a:spcBef>
              <a:buClr>
                <a:srgbClr val="cc0066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Automatic compos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cc0066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Hierarchical compos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cc0066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Results from DAML-S commun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cc0066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Results using Mealy mach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cc0066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A bridge to D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C77-E61E-47D2-AEE9-3BC01542AF7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2695680" y="547704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ff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2428920" y="1508040"/>
            <a:ext cx="2165400" cy="1887480"/>
            <a:chOff x="2428920" y="1508040"/>
            <a:chExt cx="2165400" cy="1887480"/>
          </a:xfrm>
        </p:grpSpPr>
        <p:sp>
          <p:nvSpPr>
            <p:cNvPr id="1342" name=""/>
            <p:cNvSpPr/>
            <p:nvPr/>
          </p:nvSpPr>
          <p:spPr>
            <a:xfrm>
              <a:off x="2428920" y="1508040"/>
              <a:ext cx="2165400" cy="1797120"/>
            </a:xfrm>
            <a:prstGeom prst="triangle">
              <a:avLst>
                <a:gd name="adj" fmla="val 5000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636640" y="2871720"/>
              <a:ext cx="414360" cy="436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668680" y="3274920"/>
              <a:ext cx="36972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5" name=""/>
            <p:cNvGrpSpPr/>
            <p:nvPr/>
          </p:nvGrpSpPr>
          <p:grpSpPr>
            <a:xfrm>
              <a:off x="3636720" y="2395440"/>
              <a:ext cx="547920" cy="947520"/>
              <a:chOff x="3636720" y="2395440"/>
              <a:chExt cx="547920" cy="947520"/>
            </a:xfrm>
          </p:grpSpPr>
          <p:sp>
            <p:nvSpPr>
              <p:cNvPr id="1346" name=""/>
              <p:cNvSpPr/>
              <p:nvPr/>
            </p:nvSpPr>
            <p:spPr>
              <a:xfrm>
                <a:off x="3636720" y="2395440"/>
                <a:ext cx="547920" cy="925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3656160" y="3290760"/>
                <a:ext cx="52128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111240" y="75960"/>
            <a:ext cx="83692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erarchical Composi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"/>
          <p:cNvSpPr/>
          <p:nvPr/>
        </p:nvSpPr>
        <p:spPr>
          <a:xfrm>
            <a:off x="434880" y="731880"/>
            <a:ext cx="83948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3760" indent="-293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ragmatic approach to automating e-service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2101680" y="1681200"/>
            <a:ext cx="2046240" cy="1825560"/>
            <a:chOff x="2101680" y="1681200"/>
            <a:chExt cx="2046240" cy="1825560"/>
          </a:xfrm>
        </p:grpSpPr>
        <p:sp>
          <p:nvSpPr>
            <p:cNvPr id="1351" name=""/>
            <p:cNvSpPr/>
            <p:nvPr/>
          </p:nvSpPr>
          <p:spPr>
            <a:xfrm>
              <a:off x="2101680" y="1681200"/>
              <a:ext cx="2046240" cy="1797120"/>
            </a:xfrm>
            <a:prstGeom prst="triangle">
              <a:avLst>
                <a:gd name="adj" fmla="val 5000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2" name=""/>
            <p:cNvGrpSpPr/>
            <p:nvPr/>
          </p:nvGrpSpPr>
          <p:grpSpPr>
            <a:xfrm>
              <a:off x="3017880" y="2776680"/>
              <a:ext cx="849240" cy="730080"/>
              <a:chOff x="3017880" y="2776680"/>
              <a:chExt cx="849240" cy="730080"/>
            </a:xfrm>
          </p:grpSpPr>
          <p:sp>
            <p:nvSpPr>
              <p:cNvPr id="1353" name=""/>
              <p:cNvSpPr/>
              <p:nvPr/>
            </p:nvSpPr>
            <p:spPr>
              <a:xfrm>
                <a:off x="3017880" y="2776680"/>
                <a:ext cx="849240" cy="70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3105000" y="3463920"/>
                <a:ext cx="736560" cy="4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2458800" y="2523960"/>
              <a:ext cx="807840" cy="982440"/>
              <a:chOff x="2458800" y="2523960"/>
              <a:chExt cx="807840" cy="982440"/>
            </a:xfrm>
          </p:grpSpPr>
          <p:sp>
            <p:nvSpPr>
              <p:cNvPr id="1356" name=""/>
              <p:cNvSpPr/>
              <p:nvPr/>
            </p:nvSpPr>
            <p:spPr>
              <a:xfrm>
                <a:off x="2458800" y="2523960"/>
                <a:ext cx="807840" cy="969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2482560" y="3460320"/>
                <a:ext cx="76212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8" name=""/>
          <p:cNvGrpSpPr/>
          <p:nvPr/>
        </p:nvGrpSpPr>
        <p:grpSpPr>
          <a:xfrm>
            <a:off x="1609560" y="1800360"/>
            <a:ext cx="2046240" cy="1877760"/>
            <a:chOff x="1609560" y="1800360"/>
            <a:chExt cx="2046240" cy="1877760"/>
          </a:xfrm>
        </p:grpSpPr>
        <p:sp>
          <p:nvSpPr>
            <p:cNvPr id="1359" name=""/>
            <p:cNvSpPr/>
            <p:nvPr/>
          </p:nvSpPr>
          <p:spPr>
            <a:xfrm>
              <a:off x="1609560" y="1800360"/>
              <a:ext cx="2046240" cy="1796760"/>
            </a:xfrm>
            <a:prstGeom prst="triangle">
              <a:avLst>
                <a:gd name="adj" fmla="val 5000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0" name=""/>
            <p:cNvGrpSpPr/>
            <p:nvPr/>
          </p:nvGrpSpPr>
          <p:grpSpPr>
            <a:xfrm>
              <a:off x="2851200" y="3154320"/>
              <a:ext cx="414360" cy="523800"/>
              <a:chOff x="2851200" y="3154320"/>
              <a:chExt cx="414360" cy="523800"/>
            </a:xfrm>
          </p:grpSpPr>
          <p:sp>
            <p:nvSpPr>
              <p:cNvPr id="1361" name=""/>
              <p:cNvSpPr/>
              <p:nvPr/>
            </p:nvSpPr>
            <p:spPr>
              <a:xfrm>
                <a:off x="2851200" y="3154320"/>
                <a:ext cx="414360" cy="436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882880" y="3557520"/>
                <a:ext cx="3700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1901880" y="2631960"/>
              <a:ext cx="807840" cy="982800"/>
              <a:chOff x="1901880" y="2631960"/>
              <a:chExt cx="807840" cy="982800"/>
            </a:xfrm>
          </p:grpSpPr>
          <p:sp>
            <p:nvSpPr>
              <p:cNvPr id="1364" name=""/>
              <p:cNvSpPr/>
              <p:nvPr/>
            </p:nvSpPr>
            <p:spPr>
              <a:xfrm>
                <a:off x="1901880" y="2631960"/>
                <a:ext cx="807840" cy="970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925640" y="3568680"/>
                <a:ext cx="76140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6" name=""/>
          <p:cNvSpPr/>
          <p:nvPr/>
        </p:nvSpPr>
        <p:spPr>
          <a:xfrm>
            <a:off x="2744640" y="3970440"/>
            <a:ext cx="676440" cy="72864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2319480" y="4022640"/>
            <a:ext cx="772560" cy="968400"/>
            <a:chOff x="2319480" y="4022640"/>
            <a:chExt cx="772560" cy="968400"/>
          </a:xfrm>
        </p:grpSpPr>
        <p:sp>
          <p:nvSpPr>
            <p:cNvPr id="1368" name=""/>
            <p:cNvSpPr/>
            <p:nvPr/>
          </p:nvSpPr>
          <p:spPr>
            <a:xfrm>
              <a:off x="2319480" y="4022640"/>
              <a:ext cx="772560" cy="92556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2453760" y="4465440"/>
              <a:ext cx="361440" cy="525600"/>
              <a:chOff x="2453760" y="4465440"/>
              <a:chExt cx="361440" cy="525600"/>
            </a:xfrm>
          </p:grpSpPr>
          <p:sp>
            <p:nvSpPr>
              <p:cNvPr id="1370" name=""/>
              <p:cNvSpPr/>
              <p:nvPr/>
            </p:nvSpPr>
            <p:spPr>
              <a:xfrm>
                <a:off x="2453760" y="4465440"/>
                <a:ext cx="361440" cy="479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479680" y="4914720"/>
                <a:ext cx="318960" cy="7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2" name=""/>
          <p:cNvGrpSpPr/>
          <p:nvPr/>
        </p:nvGrpSpPr>
        <p:grpSpPr>
          <a:xfrm>
            <a:off x="2860560" y="4010040"/>
            <a:ext cx="741240" cy="956880"/>
            <a:chOff x="2860560" y="4010040"/>
            <a:chExt cx="741240" cy="956880"/>
          </a:xfrm>
        </p:grpSpPr>
        <p:sp>
          <p:nvSpPr>
            <p:cNvPr id="1373" name=""/>
            <p:cNvSpPr/>
            <p:nvPr/>
          </p:nvSpPr>
          <p:spPr>
            <a:xfrm>
              <a:off x="2860560" y="4010040"/>
              <a:ext cx="741240" cy="92556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4" name=""/>
            <p:cNvGrpSpPr/>
            <p:nvPr/>
          </p:nvGrpSpPr>
          <p:grpSpPr>
            <a:xfrm>
              <a:off x="3068280" y="4714920"/>
              <a:ext cx="401400" cy="252000"/>
              <a:chOff x="3068280" y="4714920"/>
              <a:chExt cx="401400" cy="252000"/>
            </a:xfrm>
          </p:grpSpPr>
          <p:sp>
            <p:nvSpPr>
              <p:cNvPr id="1375" name=""/>
              <p:cNvSpPr/>
              <p:nvPr/>
            </p:nvSpPr>
            <p:spPr>
              <a:xfrm>
                <a:off x="3068280" y="4714920"/>
                <a:ext cx="401400" cy="230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097080" y="4930560"/>
                <a:ext cx="354240" cy="3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7" name=""/>
          <p:cNvGrpSpPr/>
          <p:nvPr/>
        </p:nvGrpSpPr>
        <p:grpSpPr>
          <a:xfrm>
            <a:off x="2427480" y="4133880"/>
            <a:ext cx="934920" cy="1019880"/>
            <a:chOff x="2427480" y="4133880"/>
            <a:chExt cx="934920" cy="1019880"/>
          </a:xfrm>
        </p:grpSpPr>
        <p:sp>
          <p:nvSpPr>
            <p:cNvPr id="1378" name=""/>
            <p:cNvSpPr/>
            <p:nvPr/>
          </p:nvSpPr>
          <p:spPr>
            <a:xfrm flipH="1">
              <a:off x="2427120" y="4133880"/>
              <a:ext cx="934920" cy="97524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9" name=""/>
            <p:cNvGrpSpPr/>
            <p:nvPr/>
          </p:nvGrpSpPr>
          <p:grpSpPr>
            <a:xfrm>
              <a:off x="2914560" y="4634280"/>
              <a:ext cx="285840" cy="519480"/>
              <a:chOff x="2914560" y="4634280"/>
              <a:chExt cx="285840" cy="519480"/>
            </a:xfrm>
          </p:grpSpPr>
          <p:sp>
            <p:nvSpPr>
              <p:cNvPr id="1380" name=""/>
              <p:cNvSpPr/>
              <p:nvPr/>
            </p:nvSpPr>
            <p:spPr>
              <a:xfrm flipH="1">
                <a:off x="2914560" y="4634280"/>
                <a:ext cx="285840" cy="474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H="1">
                <a:off x="2927880" y="5078520"/>
                <a:ext cx="252000" cy="7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2570040" y="4794480"/>
              <a:ext cx="258120" cy="325800"/>
              <a:chOff x="2570040" y="4794480"/>
              <a:chExt cx="258120" cy="325800"/>
            </a:xfrm>
          </p:grpSpPr>
          <p:sp>
            <p:nvSpPr>
              <p:cNvPr id="1383" name=""/>
              <p:cNvSpPr/>
              <p:nvPr/>
            </p:nvSpPr>
            <p:spPr>
              <a:xfrm flipH="1">
                <a:off x="2569680" y="4794480"/>
                <a:ext cx="258120" cy="297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H="1">
                <a:off x="2581920" y="5073120"/>
                <a:ext cx="227520" cy="4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5" name=""/>
          <p:cNvSpPr/>
          <p:nvPr/>
        </p:nvSpPr>
        <p:spPr>
          <a:xfrm>
            <a:off x="135000" y="1851120"/>
            <a:ext cx="1490760" cy="1036440"/>
          </a:xfrm>
          <a:prstGeom prst="wedgeRectCallout">
            <a:avLst>
              <a:gd name="adj1" fmla="val 76518"/>
              <a:gd name="adj2" fmla="val 36370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9840" y="3700440"/>
            <a:ext cx="1490760" cy="741240"/>
          </a:xfrm>
          <a:prstGeom prst="wedgeRectCallout">
            <a:avLst>
              <a:gd name="adj1" fmla="val 99731"/>
              <a:gd name="adj2" fmla="val 53000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 Tra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000240" y="542124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ff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828880" y="6172200"/>
            <a:ext cx="358920" cy="3826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6320" y="4700520"/>
            <a:ext cx="1609560" cy="741600"/>
          </a:xfrm>
          <a:prstGeom prst="wedgeRectCallout">
            <a:avLst>
              <a:gd name="adj1" fmla="val 106606"/>
              <a:gd name="adj2" fmla="val 60708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ir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825640" y="5365800"/>
            <a:ext cx="381240" cy="369720"/>
          </a:xfrm>
          <a:prstGeom prst="triangle">
            <a:avLst>
              <a:gd name="adj" fmla="val 50000"/>
            </a:avLst>
          </a:prstGeom>
          <a:solidFill>
            <a:srgbClr val="ff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9840" y="5711760"/>
            <a:ext cx="1741320" cy="741600"/>
          </a:xfrm>
          <a:prstGeom prst="wedgeRectCallout">
            <a:avLst>
              <a:gd name="adj1" fmla="val 101324"/>
              <a:gd name="adj2" fmla="val 34370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o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927520" y="6156360"/>
            <a:ext cx="358560" cy="3826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774880" y="6049800"/>
            <a:ext cx="282600" cy="47016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664000" y="6300720"/>
            <a:ext cx="468000" cy="2844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327800" y="1628640"/>
            <a:ext cx="1654200" cy="1013040"/>
          </a:xfrm>
          <a:prstGeom prst="wedgeRectCallout">
            <a:avLst>
              <a:gd name="adj1" fmla="val -60555"/>
              <a:gd name="adj2" fmla="val 10109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ustom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2979720" y="2367000"/>
            <a:ext cx="4917960" cy="2485800"/>
            <a:chOff x="2979720" y="2367000"/>
            <a:chExt cx="4917960" cy="2485800"/>
          </a:xfrm>
        </p:grpSpPr>
        <p:grpSp>
          <p:nvGrpSpPr>
            <p:cNvPr id="1397" name=""/>
            <p:cNvGrpSpPr/>
            <p:nvPr/>
          </p:nvGrpSpPr>
          <p:grpSpPr>
            <a:xfrm>
              <a:off x="5851440" y="2975040"/>
              <a:ext cx="2046240" cy="1877760"/>
              <a:chOff x="5851440" y="2975040"/>
              <a:chExt cx="2046240" cy="1877760"/>
            </a:xfrm>
          </p:grpSpPr>
          <p:sp>
            <p:nvSpPr>
              <p:cNvPr id="1398" name=""/>
              <p:cNvSpPr/>
              <p:nvPr/>
            </p:nvSpPr>
            <p:spPr>
              <a:xfrm>
                <a:off x="5851440" y="2975040"/>
                <a:ext cx="2046240" cy="1796760"/>
              </a:xfrm>
              <a:prstGeom prst="triangle">
                <a:avLst>
                  <a:gd name="adj" fmla="val 50000"/>
                </a:avLst>
              </a:prstGeom>
              <a:solidFill>
                <a:srgbClr val="0099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9" name=""/>
              <p:cNvGrpSpPr/>
              <p:nvPr/>
            </p:nvGrpSpPr>
            <p:grpSpPr>
              <a:xfrm>
                <a:off x="7093080" y="4329000"/>
                <a:ext cx="414360" cy="523800"/>
                <a:chOff x="7093080" y="4329000"/>
                <a:chExt cx="414360" cy="523800"/>
              </a:xfrm>
            </p:grpSpPr>
            <p:sp>
              <p:nvSpPr>
                <p:cNvPr id="1400" name=""/>
                <p:cNvSpPr/>
                <p:nvPr/>
              </p:nvSpPr>
              <p:spPr>
                <a:xfrm>
                  <a:off x="7093080" y="4329000"/>
                  <a:ext cx="414360" cy="436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7124760" y="4732200"/>
                  <a:ext cx="370080" cy="120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2" name=""/>
              <p:cNvGrpSpPr/>
              <p:nvPr/>
            </p:nvGrpSpPr>
            <p:grpSpPr>
              <a:xfrm>
                <a:off x="6143760" y="3806640"/>
                <a:ext cx="807840" cy="982800"/>
                <a:chOff x="6143760" y="3806640"/>
                <a:chExt cx="807840" cy="982800"/>
              </a:xfrm>
            </p:grpSpPr>
            <p:sp>
              <p:nvSpPr>
                <p:cNvPr id="1403" name=""/>
                <p:cNvSpPr/>
                <p:nvPr/>
              </p:nvSpPr>
              <p:spPr>
                <a:xfrm>
                  <a:off x="6143760" y="3806640"/>
                  <a:ext cx="807840" cy="970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6167520" y="4743360"/>
                  <a:ext cx="761400" cy="46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5" name=""/>
            <p:cNvSpPr/>
            <p:nvPr/>
          </p:nvSpPr>
          <p:spPr>
            <a:xfrm>
              <a:off x="2979720" y="2367000"/>
              <a:ext cx="3352680" cy="1093680"/>
            </a:xfrm>
            <a:custGeom>
              <a:avLst/>
              <a:gdLst/>
              <a:ahLst/>
              <a:rect l="l" t="t" r="r" b="b"/>
              <a:pathLst>
                <a:path w="2112" h="689">
                  <a:moveTo>
                    <a:pt x="0" y="209"/>
                  </a:moveTo>
                  <a:cubicBezTo>
                    <a:pt x="83" y="163"/>
                    <a:pt x="167" y="118"/>
                    <a:pt x="254" y="85"/>
                  </a:cubicBezTo>
                  <a:cubicBezTo>
                    <a:pt x="341" y="52"/>
                    <a:pt x="423" y="20"/>
                    <a:pt x="521" y="10"/>
                  </a:cubicBezTo>
                  <a:cubicBezTo>
                    <a:pt x="619" y="0"/>
                    <a:pt x="738" y="7"/>
                    <a:pt x="844" y="23"/>
                  </a:cubicBezTo>
                  <a:cubicBezTo>
                    <a:pt x="950" y="39"/>
                    <a:pt x="1045" y="66"/>
                    <a:pt x="1159" y="106"/>
                  </a:cubicBezTo>
                  <a:cubicBezTo>
                    <a:pt x="1273" y="146"/>
                    <a:pt x="1409" y="198"/>
                    <a:pt x="1529" y="263"/>
                  </a:cubicBezTo>
                  <a:cubicBezTo>
                    <a:pt x="1649" y="328"/>
                    <a:pt x="1782" y="426"/>
                    <a:pt x="1879" y="497"/>
                  </a:cubicBezTo>
                  <a:cubicBezTo>
                    <a:pt x="1976" y="568"/>
                    <a:pt x="2044" y="628"/>
                    <a:pt x="2112" y="689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6" name=""/>
          <p:cNvGrpSpPr/>
          <p:nvPr/>
        </p:nvGrpSpPr>
        <p:grpSpPr>
          <a:xfrm>
            <a:off x="3371760" y="3970440"/>
            <a:ext cx="3546360" cy="956880"/>
            <a:chOff x="3371760" y="3970440"/>
            <a:chExt cx="3546360" cy="956880"/>
          </a:xfrm>
        </p:grpSpPr>
        <p:grpSp>
          <p:nvGrpSpPr>
            <p:cNvPr id="1407" name=""/>
            <p:cNvGrpSpPr/>
            <p:nvPr/>
          </p:nvGrpSpPr>
          <p:grpSpPr>
            <a:xfrm>
              <a:off x="6176880" y="3970440"/>
              <a:ext cx="741240" cy="956880"/>
              <a:chOff x="6176880" y="3970440"/>
              <a:chExt cx="741240" cy="956880"/>
            </a:xfrm>
          </p:grpSpPr>
          <p:sp>
            <p:nvSpPr>
              <p:cNvPr id="1408" name=""/>
              <p:cNvSpPr/>
              <p:nvPr/>
            </p:nvSpPr>
            <p:spPr>
              <a:xfrm>
                <a:off x="6176880" y="3970440"/>
                <a:ext cx="741240" cy="9255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9" name=""/>
              <p:cNvGrpSpPr/>
              <p:nvPr/>
            </p:nvGrpSpPr>
            <p:grpSpPr>
              <a:xfrm>
                <a:off x="6384600" y="4675320"/>
                <a:ext cx="401400" cy="252000"/>
                <a:chOff x="6384600" y="4675320"/>
                <a:chExt cx="401400" cy="25200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384600" y="4675320"/>
                  <a:ext cx="401400" cy="230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413400" y="4890960"/>
                  <a:ext cx="354240" cy="36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2" name=""/>
            <p:cNvSpPr/>
            <p:nvPr/>
          </p:nvSpPr>
          <p:spPr>
            <a:xfrm>
              <a:off x="3371760" y="4040280"/>
              <a:ext cx="2884680" cy="550800"/>
            </a:xfrm>
            <a:custGeom>
              <a:avLst/>
              <a:gdLst/>
              <a:ahLst/>
              <a:rect l="l" t="t" r="r" b="b"/>
              <a:pathLst>
                <a:path w="1817" h="347">
                  <a:moveTo>
                    <a:pt x="0" y="347"/>
                  </a:moveTo>
                  <a:cubicBezTo>
                    <a:pt x="53" y="294"/>
                    <a:pt x="107" y="242"/>
                    <a:pt x="205" y="189"/>
                  </a:cubicBezTo>
                  <a:cubicBezTo>
                    <a:pt x="303" y="136"/>
                    <a:pt x="476" y="62"/>
                    <a:pt x="589" y="31"/>
                  </a:cubicBezTo>
                  <a:cubicBezTo>
                    <a:pt x="702" y="0"/>
                    <a:pt x="770" y="2"/>
                    <a:pt x="884" y="4"/>
                  </a:cubicBezTo>
                  <a:cubicBezTo>
                    <a:pt x="998" y="6"/>
                    <a:pt x="1152" y="23"/>
                    <a:pt x="1275" y="45"/>
                  </a:cubicBezTo>
                  <a:cubicBezTo>
                    <a:pt x="1398" y="67"/>
                    <a:pt x="1535" y="103"/>
                    <a:pt x="1625" y="134"/>
                  </a:cubicBezTo>
                  <a:cubicBezTo>
                    <a:pt x="1715" y="165"/>
                    <a:pt x="1766" y="197"/>
                    <a:pt x="1817" y="230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3174840" y="4452840"/>
            <a:ext cx="4308480" cy="1987560"/>
            <a:chOff x="3174840" y="4452840"/>
            <a:chExt cx="4308480" cy="1987560"/>
          </a:xfrm>
        </p:grpSpPr>
        <p:grpSp>
          <p:nvGrpSpPr>
            <p:cNvPr id="1414" name=""/>
            <p:cNvGrpSpPr/>
            <p:nvPr/>
          </p:nvGrpSpPr>
          <p:grpSpPr>
            <a:xfrm>
              <a:off x="6394320" y="4452840"/>
              <a:ext cx="1089000" cy="522360"/>
              <a:chOff x="6394320" y="4452840"/>
              <a:chExt cx="1089000" cy="522360"/>
            </a:xfrm>
          </p:grpSpPr>
          <p:sp>
            <p:nvSpPr>
              <p:cNvPr id="1415" name=""/>
              <p:cNvSpPr/>
              <p:nvPr/>
            </p:nvSpPr>
            <p:spPr>
              <a:xfrm>
                <a:off x="7124760" y="4452840"/>
                <a:ext cx="358560" cy="382680"/>
              </a:xfrm>
              <a:prstGeom prst="triangle">
                <a:avLst>
                  <a:gd name="adj" fmla="val 50000"/>
                </a:avLst>
              </a:prstGeom>
              <a:solidFill>
                <a:srgbClr val="33cc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394320" y="4746600"/>
                <a:ext cx="38124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3174840" y="4795920"/>
              <a:ext cx="4159440" cy="1644480"/>
              <a:chOff x="3174840" y="4795920"/>
              <a:chExt cx="4159440" cy="1644480"/>
            </a:xfrm>
          </p:grpSpPr>
          <p:sp>
            <p:nvSpPr>
              <p:cNvPr id="1418" name=""/>
              <p:cNvSpPr/>
              <p:nvPr/>
            </p:nvSpPr>
            <p:spPr>
              <a:xfrm>
                <a:off x="3251160" y="4795920"/>
                <a:ext cx="3179880" cy="774720"/>
              </a:xfrm>
              <a:custGeom>
                <a:avLst/>
                <a:gdLst/>
                <a:ahLst/>
                <a:rect l="l" t="t" r="r" b="b"/>
                <a:pathLst>
                  <a:path w="1955" h="488">
                    <a:moveTo>
                      <a:pt x="0" y="488"/>
                    </a:moveTo>
                    <a:cubicBezTo>
                      <a:pt x="40" y="452"/>
                      <a:pt x="81" y="417"/>
                      <a:pt x="151" y="371"/>
                    </a:cubicBezTo>
                    <a:cubicBezTo>
                      <a:pt x="221" y="325"/>
                      <a:pt x="317" y="262"/>
                      <a:pt x="419" y="214"/>
                    </a:cubicBezTo>
                    <a:cubicBezTo>
                      <a:pt x="521" y="166"/>
                      <a:pt x="647" y="116"/>
                      <a:pt x="762" y="83"/>
                    </a:cubicBezTo>
                    <a:cubicBezTo>
                      <a:pt x="877" y="50"/>
                      <a:pt x="988" y="29"/>
                      <a:pt x="1111" y="15"/>
                    </a:cubicBezTo>
                    <a:cubicBezTo>
                      <a:pt x="1234" y="1"/>
                      <a:pt x="1361" y="0"/>
                      <a:pt x="1502" y="1"/>
                    </a:cubicBezTo>
                    <a:cubicBezTo>
                      <a:pt x="1643" y="2"/>
                      <a:pt x="1875" y="16"/>
                      <a:pt x="1955" y="22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174840" y="4938480"/>
                <a:ext cx="4159440" cy="1501920"/>
              </a:xfrm>
              <a:custGeom>
                <a:avLst/>
                <a:gdLst/>
                <a:ahLst/>
                <a:rect l="l" t="t" r="r" b="b"/>
                <a:pathLst>
                  <a:path w="2620" h="946">
                    <a:moveTo>
                      <a:pt x="0" y="946"/>
                    </a:moveTo>
                    <a:cubicBezTo>
                      <a:pt x="88" y="940"/>
                      <a:pt x="176" y="935"/>
                      <a:pt x="323" y="919"/>
                    </a:cubicBezTo>
                    <a:cubicBezTo>
                      <a:pt x="470" y="903"/>
                      <a:pt x="666" y="887"/>
                      <a:pt x="885" y="850"/>
                    </a:cubicBezTo>
                    <a:cubicBezTo>
                      <a:pt x="1104" y="813"/>
                      <a:pt x="1416" y="755"/>
                      <a:pt x="1639" y="700"/>
                    </a:cubicBezTo>
                    <a:cubicBezTo>
                      <a:pt x="1862" y="645"/>
                      <a:pt x="2071" y="587"/>
                      <a:pt x="2222" y="521"/>
                    </a:cubicBezTo>
                    <a:cubicBezTo>
                      <a:pt x="2373" y="455"/>
                      <a:pt x="2478" y="389"/>
                      <a:pt x="2544" y="302"/>
                    </a:cubicBezTo>
                    <a:cubicBezTo>
                      <a:pt x="2610" y="215"/>
                      <a:pt x="2615" y="107"/>
                      <a:pt x="2620" y="0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F3A1-9487-4BBC-BFC6-912F24007CB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100080" y="76320"/>
            <a:ext cx="83692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erarchical Composition (cont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326520" y="111096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ach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ume a library of e-service “templates” and ground spe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d on input criteria select a root template, then fill in “gaps” with other templates and/or ground spe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Christophides et.al. ’01b]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es this for “structured workflow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524"/>
              </a:spcBef>
              <a:buClr>
                <a:srgbClr val="cc0066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ake-away: Hierarchical structuring is important for e-service formalis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to incorporate this into OWL-S, Mealy 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D594-CA1E-4C0D-9D3B-B559DFD6FCB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/>
          <p:nvPr/>
        </p:nvSpPr>
        <p:spPr>
          <a:xfrm>
            <a:off x="704844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84320" y="108000"/>
            <a:ext cx="8748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utomatic Composition for DAML-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0" y="687240"/>
            <a:ext cx="91440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Narayanan+McIlraith ’02]: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Search over all combin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all simulation of DAML-S via 1-safe Petri n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43840" indent="-33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set of atomic e-services, create Petri Net that represents all possible combinations of th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43840" indent="-33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y desired goal as a state of this Petri 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43840" indent="-33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if this goal state is reach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is framewor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hability is PSPACE- complete in size of Petri 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43840" indent="-33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tri net itself may be exponential in size of atomic             e-ser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43840" indent="-33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uristics can be used to avoid full constr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McIlraith+Son ’02]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cc0066"/>
                </a:solidFill>
                <a:latin typeface="Comic Sans MS"/>
              </a:rPr>
              <a:t>Generic compositions + customization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843840" indent="-33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velops mapping of DAML-S into ConGolog, and uses to create compos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43840" indent="-33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roach based on 2-level hierarchy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570-AE39-424D-925E-D6E022DBDBB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704844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00080" y="75960"/>
            <a:ext cx="8369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osition for Mealy Pe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88920" y="792000"/>
            <a:ext cx="8848800" cy="60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ditional synthesis problem statemen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34272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ec-schema and LTL formul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34272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: an fsa for each peer so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satisfi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19040" indent="-41904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thesis results for Mealy implementations with bounded que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342720">
              <a:spcBef>
                <a:spcPts val="451"/>
              </a:spcBef>
              <a:buClr>
                <a:srgbClr val="6600cc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Comic Sans MS"/>
              </a:rPr>
              <a:t>Closed composi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folklore results imply that synthesis is decid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276200" indent="-3045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sitional LTL descrip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276200" indent="-304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regular set represented as automat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342720">
              <a:spcBef>
                <a:spcPts val="374"/>
              </a:spcBef>
              <a:buClr>
                <a:srgbClr val="6600cc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Comic Sans MS"/>
              </a:rPr>
              <a:t>Open composi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Undecidable for LTL for arbitrary ec-schema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Pnueli+Rosner ’90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276200" indent="-304560">
              <a:spcBef>
                <a:spcPts val="374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dable for hierarchical topology, but non-elementary even for linear cas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Kupferman+Vardi ’01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6758-3349-4759-8739-3EBA90AF3AB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7240680" y="0"/>
            <a:ext cx="190332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53720" y="390240"/>
            <a:ext cx="8831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formulation of the Synthesis Problem to use extended “UDDI Repository”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193680" y="1499760"/>
            <a:ext cx="89503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DDI Repository: globally accessible store for web service descriptions and loc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342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agine that it supports Mealy descrip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19040" indent="-4190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sible approa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342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ec-schema, LTL formul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“UDDI repository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342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: peers in repository so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satisfi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276200" indent="-30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tion: allow creation of a mediator to choreograph the selected pe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19040" indent="-4190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tabase aspect of this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342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search across large space of Mealy description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342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appropriate query languag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E95-2B83-4418-AA7F-2B7EEB7F12B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704844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1560" y="344160"/>
            <a:ext cx="88851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thesis for Unbounded, Closed Case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Bultan et. al. ’03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208080" y="1244520"/>
            <a:ext cx="893592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7640" indent="-287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 conversation langua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express global behav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7640" indent="-287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1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tatemen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328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ec-schema and regular language L over mess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328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: an fsa for each peer so that composi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generates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L’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join-prepone closure of 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7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7640" indent="-287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1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: Mealy peers can be constructed whose composition gives global behavior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L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328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a “projection” on fsa accepting 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7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7640" indent="-287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again ask UDDI version of synthesis ques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7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2BB4-0F6F-41DE-ABCD-2C32A8466D3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0" y="6568920"/>
            <a:ext cx="617544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289640" y="0"/>
            <a:ext cx="1854360" cy="66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71360" y="38160"/>
            <a:ext cx="875664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ecent work from Lenzerini’s grou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L ’0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321840" y="642600"/>
            <a:ext cx="839484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d on a different model for pe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cus on sequences of actions, not mess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s a “user” who repeatedly makes choice (from limited set) about next action she w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actions “visible” at top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"/>
          <p:cNvSpPr/>
          <p:nvPr/>
        </p:nvSpPr>
        <p:spPr>
          <a:xfrm>
            <a:off x="322200" y="4811760"/>
            <a:ext cx="88218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28240" indent="-2282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tract behavior of the Serv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240" indent="-2282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until Client selects “E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31716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SzPct val="11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ive Client a choice of actions to be perform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31716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SzPct val="11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ait for Client cho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31716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SzPct val="11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rform action chosen by Cl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240" indent="-22824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H="1">
            <a:off x="3343320" y="3440160"/>
            <a:ext cx="7920" cy="514440"/>
          </a:xfrm>
          <a:prstGeom prst="line">
            <a:avLst/>
          </a:prstGeom>
          <a:ln w="28440">
            <a:solidFill>
              <a:srgbClr val="99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0" name=""/>
          <p:cNvGrpSpPr/>
          <p:nvPr/>
        </p:nvGrpSpPr>
        <p:grpSpPr>
          <a:xfrm>
            <a:off x="3098520" y="2789280"/>
            <a:ext cx="584640" cy="574200"/>
            <a:chOff x="3098520" y="2789280"/>
            <a:chExt cx="584640" cy="574200"/>
          </a:xfrm>
        </p:grpSpPr>
        <p:sp>
          <p:nvSpPr>
            <p:cNvPr id="1441" name=""/>
            <p:cNvSpPr/>
            <p:nvPr/>
          </p:nvSpPr>
          <p:spPr>
            <a:xfrm>
              <a:off x="3335040" y="2789280"/>
              <a:ext cx="136080" cy="11556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3334680" y="2913480"/>
              <a:ext cx="55080" cy="16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3098520" y="3083760"/>
              <a:ext cx="22644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325320" y="3083760"/>
              <a:ext cx="36360" cy="27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V="1">
              <a:off x="3098880" y="2977560"/>
              <a:ext cx="58428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6" name=""/>
          <p:cNvSpPr/>
          <p:nvPr/>
        </p:nvSpPr>
        <p:spPr>
          <a:xfrm>
            <a:off x="1979640" y="29275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871280" y="41972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54440" y="3983040"/>
            <a:ext cx="1003320" cy="7650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-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329000" y="2774880"/>
            <a:ext cx="4025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Actions that client can ask 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initiate,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li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b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92000" y="52236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Berardi et al ’0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CBCC-BEED-49D3-9CD1-88C5191948E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0" y="6568920"/>
            <a:ext cx="617544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34800" y="5667480"/>
            <a:ext cx="865692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218520" indent="-218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standard automata techniques: NEXP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-218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reduction to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AL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L: EXP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289640" y="0"/>
            <a:ext cx="1854360" cy="66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32840" y="101160"/>
            <a:ext cx="892188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olve composition by synthesizing mediator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322200" y="752040"/>
            <a:ext cx="8632800" cy="16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uming peers and spec are regular, ca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if a composition exi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one does, then select peers and construct media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"/>
          <p:cNvSpPr/>
          <p:nvPr/>
        </p:nvSpPr>
        <p:spPr>
          <a:xfrm>
            <a:off x="1220760" y="4059360"/>
            <a:ext cx="689040" cy="4064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492200" y="4302000"/>
            <a:ext cx="689040" cy="4064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531800" y="3886200"/>
            <a:ext cx="689040" cy="4064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981000" y="4305240"/>
            <a:ext cx="689040" cy="4064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961920" y="3805200"/>
            <a:ext cx="689040" cy="4078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684440" y="4016520"/>
            <a:ext cx="689040" cy="4060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949400" y="3900600"/>
            <a:ext cx="689040" cy="4064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rot="16200000">
            <a:off x="1338840" y="2391480"/>
            <a:ext cx="954000" cy="1050840"/>
          </a:xfrm>
          <a:prstGeom prst="foldedCorner">
            <a:avLst>
              <a:gd name="adj" fmla="val 24652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301760" y="2492280"/>
            <a:ext cx="115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 F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96960" y="4630680"/>
            <a:ext cx="2020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ed UD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34800" y="3584520"/>
            <a:ext cx="2784600" cy="15670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407200" y="4129200"/>
            <a:ext cx="688680" cy="4064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863960" y="2774880"/>
            <a:ext cx="452520" cy="2184480"/>
          </a:xfrm>
          <a:custGeom>
            <a:avLst/>
            <a:gdLst>
              <a:gd name="textAreaLeft" fmla="*/ 289080 w 452520"/>
              <a:gd name="textAreaRight" fmla="*/ 452880 w 452520"/>
              <a:gd name="textAreaTop" fmla="*/ 34920 h 2184480"/>
              <a:gd name="textAreaBottom" fmla="*/ 2149560 h 218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5"/>
                  <a:pt x="10800" y="1110"/>
                </a:cubicBezTo>
                <a:lnTo>
                  <a:pt x="10800" y="9589"/>
                </a:lnTo>
                <a:cubicBezTo>
                  <a:pt x="10800" y="10144"/>
                  <a:pt x="5400" y="10699"/>
                  <a:pt x="0" y="10699"/>
                </a:cubicBezTo>
                <a:cubicBezTo>
                  <a:pt x="5400" y="10699"/>
                  <a:pt x="10800" y="11254"/>
                  <a:pt x="10800" y="11809"/>
                </a:cubicBezTo>
                <a:lnTo>
                  <a:pt x="10800" y="20490"/>
                </a:lnTo>
                <a:cubicBezTo>
                  <a:pt x="10800" y="2104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3520440" y="2360520"/>
            <a:ext cx="452520" cy="2600280"/>
          </a:xfrm>
          <a:custGeom>
            <a:avLst/>
            <a:gdLst>
              <a:gd name="textAreaLeft" fmla="*/ 289080 w 452520"/>
              <a:gd name="textAreaRight" fmla="*/ 452880 w 452520"/>
              <a:gd name="textAreaTop" fmla="*/ 41760 h 2600280"/>
              <a:gd name="textAreaBottom" fmla="*/ 2558520 h 26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5"/>
                  <a:pt x="10800" y="1110"/>
                </a:cubicBezTo>
                <a:lnTo>
                  <a:pt x="10800" y="11284"/>
                </a:lnTo>
                <a:cubicBezTo>
                  <a:pt x="10800" y="11839"/>
                  <a:pt x="5400" y="12394"/>
                  <a:pt x="0" y="12394"/>
                </a:cubicBezTo>
                <a:cubicBezTo>
                  <a:pt x="5400" y="12394"/>
                  <a:pt x="10800" y="12949"/>
                  <a:pt x="10800" y="13504"/>
                </a:cubicBezTo>
                <a:lnTo>
                  <a:pt x="10800" y="20490"/>
                </a:lnTo>
                <a:cubicBezTo>
                  <a:pt x="10800" y="2104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18400" y="3533760"/>
            <a:ext cx="5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324480" y="4141800"/>
            <a:ext cx="689040" cy="4078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265880" y="4130640"/>
            <a:ext cx="689040" cy="4078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8232840" y="4121280"/>
            <a:ext cx="689040" cy="4078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576840" y="3094200"/>
            <a:ext cx="1203480" cy="577800"/>
          </a:xfrm>
          <a:prstGeom prst="roundRect">
            <a:avLst>
              <a:gd name="adj" fmla="val 16667"/>
            </a:avLst>
          </a:prstGeom>
          <a:solidFill>
            <a:srgbClr val="cc0099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5899320" y="3660480"/>
            <a:ext cx="801360" cy="469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6726240" y="3657600"/>
            <a:ext cx="237960" cy="4716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7277040" y="3670200"/>
            <a:ext cx="338040" cy="470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553160" y="3670200"/>
            <a:ext cx="889200" cy="451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022720" y="3087720"/>
            <a:ext cx="15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struc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789520" y="4527720"/>
            <a:ext cx="27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lected from “UDDI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1" name=""/>
          <p:cNvGrpSpPr/>
          <p:nvPr/>
        </p:nvGrpSpPr>
        <p:grpSpPr>
          <a:xfrm>
            <a:off x="6648480" y="2189160"/>
            <a:ext cx="689040" cy="577440"/>
            <a:chOff x="6648480" y="2189160"/>
            <a:chExt cx="689040" cy="577440"/>
          </a:xfrm>
        </p:grpSpPr>
        <p:sp>
          <p:nvSpPr>
            <p:cNvPr id="1482" name=""/>
            <p:cNvSpPr/>
            <p:nvPr/>
          </p:nvSpPr>
          <p:spPr>
            <a:xfrm>
              <a:off x="6927120" y="2189160"/>
              <a:ext cx="160200" cy="11628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6926760" y="2314080"/>
              <a:ext cx="65160" cy="16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6648480" y="2485080"/>
              <a:ext cx="267120" cy="15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915600" y="2485080"/>
              <a:ext cx="43200" cy="28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6648480" y="2378520"/>
              <a:ext cx="68904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7" name=""/>
          <p:cNvSpPr/>
          <p:nvPr/>
        </p:nvSpPr>
        <p:spPr>
          <a:xfrm>
            <a:off x="7140600" y="2589120"/>
            <a:ext cx="0" cy="480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CA60-0EFA-4176-8A56-0FE33B10211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05816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360" y="162000"/>
            <a:ext cx="869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b Services Definition Language (WSDL)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ssages and (traditional) I/O signa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6240" y="1300320"/>
            <a:ext cx="8897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-191880">
              <a:spcBef>
                <a:spcPts val="524"/>
              </a:spcBef>
              <a:buClr>
                <a:srgbClr val="cc0066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Peer-to-peer: e-service can act as client or ser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79880" indent="-191880">
              <a:spcBef>
                <a:spcPts val="414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active : send reques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47988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nd request, block till respons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479880" indent="-191880">
              <a:spcBef>
                <a:spcPts val="414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active :  receive request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47988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ceive request, send respons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625320" y="4079880"/>
            <a:ext cx="771840" cy="0"/>
          </a:xfrm>
          <a:prstGeom prst="line">
            <a:avLst/>
          </a:prstGeom>
          <a:ln w="2844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3360" y="4581360"/>
            <a:ext cx="771480" cy="0"/>
          </a:xfrm>
          <a:prstGeom prst="line">
            <a:avLst/>
          </a:prstGeom>
          <a:ln w="28440">
            <a:solidFill>
              <a:srgbClr val="66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59280" y="4605480"/>
            <a:ext cx="772920" cy="0"/>
          </a:xfrm>
          <a:prstGeom prst="line">
            <a:avLst/>
          </a:prstGeom>
          <a:ln w="28440">
            <a:solidFill>
              <a:srgbClr val="66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81240" y="4103640"/>
            <a:ext cx="771480" cy="0"/>
          </a:xfrm>
          <a:prstGeom prst="line">
            <a:avLst/>
          </a:prstGeom>
          <a:ln w="2844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400" y="36972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2040" y="45370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rece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4440" y="36957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96000" y="455148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pa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57840" y="4078440"/>
            <a:ext cx="771480" cy="0"/>
          </a:xfrm>
          <a:prstGeom prst="line">
            <a:avLst/>
          </a:prstGeom>
          <a:ln w="2844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35520" y="4579920"/>
            <a:ext cx="771480" cy="0"/>
          </a:xfrm>
          <a:prstGeom prst="line">
            <a:avLst/>
          </a:prstGeom>
          <a:ln w="28440">
            <a:solidFill>
              <a:srgbClr val="66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6160" y="36813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4560" y="45784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rece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99360" y="4610160"/>
            <a:ext cx="771480" cy="0"/>
          </a:xfrm>
          <a:prstGeom prst="line">
            <a:avLst/>
          </a:prstGeom>
          <a:ln w="28440">
            <a:solidFill>
              <a:srgbClr val="6600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87840" y="3611520"/>
            <a:ext cx="174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bill_pa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out: b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in: pa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760" y="5481720"/>
            <a:ext cx="88772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100000"/>
              </a:lnSpc>
              <a:spcBef>
                <a:spcPts val="524"/>
              </a:spcBef>
              <a:buClr>
                <a:srgbClr val="cc0066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Por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mechanism to cluster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200" indent="-207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t as unit of interoperation betwee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01840" y="3736800"/>
            <a:ext cx="1644480" cy="126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07000" y="3705120"/>
            <a:ext cx="1644840" cy="126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lie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9521-4C30-4DC4-87D6-8DD215A068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380520" y="917640"/>
            <a:ext cx="8394840" cy="57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quential behavior and messaging are a fact of lif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need a notion of “behavioral signatur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ata-based perspectiv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s formal framework that incorporates events and sequenc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draw on broad theory of analysis “tool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ers a framework for automated compos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represent (at least some) in DLs – link to OW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ata-based perspective should be exploited in semantic web servi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s suggest key challenges in compos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peers: queries over sets of pe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tor crucial: find/build the media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4CFF-9D67-4584-B22C-AD63ED5307D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71360" y="2556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are just getting started 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380520" y="712800"/>
            <a:ext cx="8582040" cy="60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hanced Mealy – can we incorpor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ssages + a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-/post-conditions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á l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OWL-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erarchical structure for messages (state charts?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oral constra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your favorite) PSL constru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sition of Meal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ch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we adapt the Roman approach 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gment traditional planning with approach for cyclic behavi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l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is-à-vis BPEL4WS, OWL-S process model, PSL, FIPA A-UML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ianwen Su et. al. developing tool for translating between Mealy and BPEL4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arching a large set of Meal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ignatu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appropriate query languag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ing relevant results from various communities: verification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calculus, planning, DL, DB, agent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F580-999F-4455-BB0A-590B79106AF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ackup Slid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0CBD-93E6-441B-A144-A4CF2F8C6A33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-Servi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266760" y="933480"/>
            <a:ext cx="878184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87360" indent="-3873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Web: Flexible human-machine intera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7360" indent="-3873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-services: Flexible machine-machine intera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7360" indent="-3873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king Definition: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Network-resident software services accessible via standardized protoco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47520" indent="-33300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Object Access Protocol (SOAP): very flexible remote procedure ca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475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7360" indent="-3873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ts of interest in trade press, academic community, standards bodies, . .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7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7360" indent="-3873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in e-commerce, telecom, science, GRID, government, education, . . 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7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E5D6-6B57-4484-8E36-62D3FACA54A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55520" y="56880"/>
            <a:ext cx="83692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-Sci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226800" y="4083120"/>
            <a:ext cx="8848440" cy="25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find best location for waste treatment pla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0520" indent="-290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sibly 100s of nodes, and running for wee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0520" indent="-290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ta size difference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1840" indent="-2782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Control and calibra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small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1840" indent="-2782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Experimental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arg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0520" indent="-290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enance: need to access derivation hist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7" name=""/>
          <p:cNvSpPr/>
          <p:nvPr/>
        </p:nvSpPr>
        <p:spPr>
          <a:xfrm>
            <a:off x="3317040" y="3024360"/>
            <a:ext cx="2422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tifications and/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xperimental da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2577960" y="2676240"/>
            <a:ext cx="1393920" cy="452520"/>
          </a:xfrm>
          <a:prstGeom prst="line">
            <a:avLst/>
          </a:prstGeom>
          <a:ln w="28440">
            <a:solidFill>
              <a:srgbClr val="00808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577960" y="3363840"/>
            <a:ext cx="3924360" cy="3240"/>
          </a:xfrm>
          <a:prstGeom prst="line">
            <a:avLst/>
          </a:prstGeom>
          <a:ln w="28440">
            <a:solidFill>
              <a:srgbClr val="00808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108400" y="2676240"/>
            <a:ext cx="1393920" cy="452520"/>
          </a:xfrm>
          <a:prstGeom prst="line">
            <a:avLst/>
          </a:prstGeom>
          <a:ln w="28440">
            <a:solidFill>
              <a:srgbClr val="00808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2352600" y="1180800"/>
            <a:ext cx="1581120" cy="1608120"/>
          </a:xfrm>
          <a:prstGeom prst="line">
            <a:avLst/>
          </a:prstGeom>
          <a:ln w="28440">
            <a:solidFill>
              <a:srgbClr val="66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flipV="1">
            <a:off x="5073120" y="1169640"/>
            <a:ext cx="1592280" cy="1609560"/>
          </a:xfrm>
          <a:prstGeom prst="line">
            <a:avLst/>
          </a:prstGeom>
          <a:ln w="28440">
            <a:solidFill>
              <a:srgbClr val="66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524480" y="1158840"/>
            <a:ext cx="0" cy="812880"/>
          </a:xfrm>
          <a:prstGeom prst="line">
            <a:avLst/>
          </a:prstGeom>
          <a:ln w="28440">
            <a:solidFill>
              <a:srgbClr val="66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244680" y="1461960"/>
            <a:ext cx="261144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805120" y="1382760"/>
            <a:ext cx="3390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trol and calibra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500120" y="2792520"/>
            <a:ext cx="1057320" cy="1003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tmo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pheri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imu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016520" y="1987560"/>
            <a:ext cx="1056960" cy="1003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ircu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518160" y="2792520"/>
            <a:ext cx="1057320" cy="1003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863880" y="155520"/>
            <a:ext cx="1297080" cy="981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8B71-6F4C-48A7-92C3-F3A7BB58993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b Services Protocol Stack*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"/>
          <p:cNvSpPr/>
          <p:nvPr/>
        </p:nvSpPr>
        <p:spPr>
          <a:xfrm>
            <a:off x="6051960" y="6230880"/>
            <a:ext cx="305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*Based on [van der Aalst ’03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058760" y="5051520"/>
            <a:ext cx="74358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 layer: HTTP, SMTP, FTP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055520" y="4116240"/>
            <a:ext cx="743616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messaging layer: 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055520" y="3170160"/>
            <a:ext cx="743616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 Description Layer: WSDL, 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WSC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WS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055520" y="955800"/>
            <a:ext cx="3643560" cy="2057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ser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FL, XLA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PEL4WS, BPM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W3C Chor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846680" y="1741320"/>
            <a:ext cx="3643200" cy="127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sh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ov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900000" y="925560"/>
            <a:ext cx="3938760" cy="2147760"/>
          </a:xfrm>
          <a:prstGeom prst="ellipse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65280" y="3164040"/>
            <a:ext cx="8167680" cy="900000"/>
          </a:xfrm>
          <a:prstGeom prst="ellipse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54FA-133A-4B6F-9CF3-777773E20B1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"/>
          <p:cNvSpPr/>
          <p:nvPr/>
        </p:nvSpPr>
        <p:spPr>
          <a:xfrm>
            <a:off x="706752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14480" y="123840"/>
            <a:ext cx="836928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e-/post-condi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46160" y="835200"/>
            <a:ext cx="8896320" cy="58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6683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ML-S provides for                                                      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pre- and post-cond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2560" indent="-232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6683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2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6683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valid client sends Order, then Bill is cre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2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6683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Payment is received, then Receipt is s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2560" indent="-232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6683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forming inference (“everything else fixed”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2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6683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ume a Bank service such that: if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bi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ceived and sufficient funds, then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pay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s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2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6683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we can infer that: “an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om a valid client with a sufficient account balance will result in a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2560" indent="-232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6683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soning with pre- and post-cond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2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6683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models will lead to different complex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2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6683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Narayanan+McIlraith ’02] axiomatization in situation calculus for a Petri-net based 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1520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6683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xity from PTIME to EXPSPACE-ha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"/>
          <p:cNvSpPr/>
          <p:nvPr/>
        </p:nvSpPr>
        <p:spPr>
          <a:xfrm>
            <a:off x="5184720" y="743040"/>
            <a:ext cx="9334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5148360" y="1294920"/>
            <a:ext cx="947520" cy="1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845480" y="1320840"/>
            <a:ext cx="9493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867800" y="768240"/>
            <a:ext cx="9334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193360" y="3618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122800" y="12841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rece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8015040" y="3747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893360" y="128736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pa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111720" y="411120"/>
            <a:ext cx="1766880" cy="126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4D5-4225-4F7F-9D96-A5893A34F8C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393840" y="313920"/>
            <a:ext cx="8369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b Servic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versation Language (WSCL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15440" y="1274760"/>
            <a:ext cx="83948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ternative automata-based approach for describing behavior of e-ser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374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s are the WSDL operations (input and/or outpu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374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itions are pairs of operations, with associated condi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25640" indent="-222480">
              <a:spcBef>
                <a:spcPts val="374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dition refers to type of documents passed as input or outpu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ionship of Mealy machine vs. WSCL machine remains op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374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ly machine formalism given above could be extended to include conditions based on types of documents pass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374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mber of states in WSCL machine bounded by number of WSDL oper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374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 Mealy machines (with conditions) appear more expressive than WSCL machi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F570-D469-441C-9F75-4D5F7766779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Technical Defini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"/>
          <p:cNvSpPr/>
          <p:nvPr/>
        </p:nvSpPr>
        <p:spPr>
          <a:xfrm>
            <a:off x="228600" y="1143000"/>
            <a:ext cx="86104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宋体"/>
              </a:rPr>
              <a:t>Mealy pe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 is an FS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3538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 : a set of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3538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: the initial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3538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 : a set of final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3538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: input messag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3538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u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: output messag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3538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: transition relation that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1276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  <a:ea typeface="宋体"/>
              </a:rPr>
              <a:t>consume</a:t>
            </a:r>
            <a:r>
              <a:rPr b="0" i="1" lang="en-US" sz="2800" spc="-1" strike="noStrike">
                <a:solidFill>
                  <a:srgbClr val="b2b2b2"/>
                </a:solidFill>
                <a:latin typeface="Comic Sans MS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an input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?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1276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  <a:ea typeface="宋体"/>
              </a:rPr>
              <a:t>produc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output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!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12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make an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  <a:ea typeface="宋体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 (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  <a:ea typeface="宋体"/>
              </a:rPr>
              <a:t>interna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) move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CBC-B983-479D-8063-BAB22A70E4B0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393840" y="18108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bstract model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-services with dat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380520" y="1226880"/>
            <a:ext cx="83948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37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ariation of relational transducer [Abiteboul et al  ’00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37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tend Mealy machine to (Q,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F, I, H, O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337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put schema I (can hold data associated with incoming messg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337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nal/hidden schema 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337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tput schema 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SzPct val="11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s tuples (q, q’, G, 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25640" indent="-222480">
              <a:spcBef>
                <a:spcPts val="337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 is “guard” -- boolean query on I and 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25640" indent="-222480">
              <a:spcBef>
                <a:spcPts val="337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 is “transform” - queries that create new H and output 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37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use different data models (relational, XML, 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37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l decision problems are undecid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337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, if use relational calculus as data manipulation langu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37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tricted cases are decidable, trac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337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, reachability of a state, if using conjunctive que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337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, “Spocus” transducers of [Abiteboul et al ’00] have PTIME decidability resul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0"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7E90-306B-4818-99DB-27E955C3512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227720" y="0"/>
            <a:ext cx="1916280" cy="67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2120" y="75960"/>
            <a:ext cx="83692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-Commerce: Patterns of Messag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351240" y="2014560"/>
            <a:ext cx="1067760" cy="1699200"/>
            <a:chOff x="3351240" y="2014560"/>
            <a:chExt cx="1067760" cy="1699200"/>
          </a:xfrm>
        </p:grpSpPr>
        <p:sp>
          <p:nvSpPr>
            <p:cNvPr id="87" name=""/>
            <p:cNvSpPr/>
            <p:nvPr/>
          </p:nvSpPr>
          <p:spPr>
            <a:xfrm>
              <a:off x="3351240" y="2014560"/>
              <a:ext cx="693720" cy="163152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3971400">
              <a:off x="3347640" y="2809440"/>
              <a:ext cx="1193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order</a:t>
              </a:r>
              <a:r>
                <a:rPr b="1" lang="en-US" sz="2400" spc="-1" strike="noStrike" baseline="-25000">
                  <a:solidFill>
                    <a:srgbClr val="0099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009680" y="1378080"/>
            <a:ext cx="2724120" cy="459720"/>
            <a:chOff x="4009680" y="1378080"/>
            <a:chExt cx="2724120" cy="459720"/>
          </a:xfrm>
        </p:grpSpPr>
        <p:sp>
          <p:nvSpPr>
            <p:cNvPr id="90" name=""/>
            <p:cNvSpPr/>
            <p:nvPr/>
          </p:nvSpPr>
          <p:spPr>
            <a:xfrm flipH="1">
              <a:off x="4009680" y="1495440"/>
              <a:ext cx="2724120" cy="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10560" y="13780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71640" y="1974600"/>
            <a:ext cx="1085760" cy="1625400"/>
            <a:chOff x="3671640" y="1974600"/>
            <a:chExt cx="1085760" cy="1625400"/>
          </a:xfrm>
        </p:grpSpPr>
        <p:sp>
          <p:nvSpPr>
            <p:cNvPr id="93" name=""/>
            <p:cNvSpPr/>
            <p:nvPr/>
          </p:nvSpPr>
          <p:spPr>
            <a:xfrm flipH="1" flipV="1">
              <a:off x="3671640" y="1974600"/>
              <a:ext cx="664920" cy="157140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3980400">
              <a:off x="3687120" y="2695320"/>
              <a:ext cx="119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receipt</a:t>
              </a:r>
              <a:r>
                <a:rPr b="1" lang="en-US" sz="2400" spc="-1" strike="noStrike" baseline="-25000">
                  <a:solidFill>
                    <a:srgbClr val="0099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946400" y="1957320"/>
            <a:ext cx="2136600" cy="1844640"/>
            <a:chOff x="4946400" y="1957320"/>
            <a:chExt cx="2136600" cy="1844640"/>
          </a:xfrm>
        </p:grpSpPr>
        <p:sp>
          <p:nvSpPr>
            <p:cNvPr id="96" name=""/>
            <p:cNvSpPr/>
            <p:nvPr/>
          </p:nvSpPr>
          <p:spPr>
            <a:xfrm flipH="1">
              <a:off x="4946400" y="1957320"/>
              <a:ext cx="2136600" cy="184464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9007400">
              <a:off x="5790240" y="2300760"/>
              <a:ext cx="779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bill</a:t>
              </a:r>
              <a:r>
                <a:rPr b="1" lang="en-US" sz="2400" spc="-1" strike="noStrike" baseline="-25000">
                  <a:solidFill>
                    <a:srgbClr val="0099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676760" y="1483200"/>
            <a:ext cx="2152800" cy="2080800"/>
            <a:chOff x="4676760" y="1483200"/>
            <a:chExt cx="2152800" cy="2080800"/>
          </a:xfrm>
        </p:grpSpPr>
        <p:sp>
          <p:nvSpPr>
            <p:cNvPr id="99" name=""/>
            <p:cNvSpPr/>
            <p:nvPr/>
          </p:nvSpPr>
          <p:spPr>
            <a:xfrm flipV="1">
              <a:off x="4676760" y="1749600"/>
              <a:ext cx="2152800" cy="181440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9133400">
              <a:off x="5306760" y="1907640"/>
              <a:ext cx="148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payment</a:t>
              </a:r>
              <a:r>
                <a:rPr b="1" lang="en-US" sz="2400" spc="-1" strike="noStrike" baseline="-25000">
                  <a:solidFill>
                    <a:srgbClr val="0099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040280" y="888840"/>
            <a:ext cx="2787480" cy="459720"/>
            <a:chOff x="4040280" y="888840"/>
            <a:chExt cx="2787480" cy="459720"/>
          </a:xfrm>
        </p:grpSpPr>
        <p:sp>
          <p:nvSpPr>
            <p:cNvPr id="102" name=""/>
            <p:cNvSpPr/>
            <p:nvPr/>
          </p:nvSpPr>
          <p:spPr>
            <a:xfrm>
              <a:off x="4040280" y="1265400"/>
              <a:ext cx="2787480" cy="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62360" y="888840"/>
              <a:ext cx="15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author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679400" y="1244520"/>
            <a:ext cx="1175040" cy="0"/>
          </a:xfrm>
          <a:prstGeom prst="line">
            <a:avLst/>
          </a:prstGeom>
          <a:ln w="2844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633680" y="1577880"/>
            <a:ext cx="1172880" cy="0"/>
          </a:xfrm>
          <a:prstGeom prst="line">
            <a:avLst/>
          </a:prstGeom>
          <a:ln w="2844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0440" y="1179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9560" y="83664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4440" y="4573440"/>
            <a:ext cx="839484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176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rtain patterns “acceptable”, others no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176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actments with different life-cyc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150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one credit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authoriz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many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48960" y="871560"/>
            <a:ext cx="576720" cy="555120"/>
            <a:chOff x="948960" y="871560"/>
            <a:chExt cx="576720" cy="555120"/>
          </a:xfrm>
        </p:grpSpPr>
        <p:sp>
          <p:nvSpPr>
            <p:cNvPr id="110" name=""/>
            <p:cNvSpPr/>
            <p:nvPr/>
          </p:nvSpPr>
          <p:spPr>
            <a:xfrm>
              <a:off x="1182240" y="871560"/>
              <a:ext cx="133920" cy="11160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181880" y="991800"/>
              <a:ext cx="5436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948960" y="1156320"/>
              <a:ext cx="223560" cy="15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72880" y="1156320"/>
              <a:ext cx="36000" cy="27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949320" y="1053720"/>
              <a:ext cx="576360" cy="1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163160" y="1278000"/>
            <a:ext cx="576720" cy="555120"/>
            <a:chOff x="1163160" y="1278000"/>
            <a:chExt cx="576720" cy="555120"/>
          </a:xfrm>
        </p:grpSpPr>
        <p:sp>
          <p:nvSpPr>
            <p:cNvPr id="116" name=""/>
            <p:cNvSpPr/>
            <p:nvPr/>
          </p:nvSpPr>
          <p:spPr>
            <a:xfrm>
              <a:off x="1396440" y="1278000"/>
              <a:ext cx="133920" cy="11160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396080" y="1398240"/>
              <a:ext cx="5436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163160" y="1562760"/>
              <a:ext cx="223560" cy="15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87080" y="1562760"/>
              <a:ext cx="36000" cy="27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163520" y="1460160"/>
              <a:ext cx="576360" cy="1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97960" y="1430280"/>
            <a:ext cx="576720" cy="555480"/>
            <a:chOff x="597960" y="1430280"/>
            <a:chExt cx="576720" cy="555480"/>
          </a:xfrm>
        </p:grpSpPr>
        <p:sp>
          <p:nvSpPr>
            <p:cNvPr id="122" name=""/>
            <p:cNvSpPr/>
            <p:nvPr/>
          </p:nvSpPr>
          <p:spPr>
            <a:xfrm>
              <a:off x="831240" y="1430280"/>
              <a:ext cx="133920" cy="11160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830880" y="1550520"/>
              <a:ext cx="54360" cy="15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97960" y="1715040"/>
              <a:ext cx="22356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21880" y="1715040"/>
              <a:ext cx="36000" cy="27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98320" y="1612440"/>
              <a:ext cx="576360" cy="1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36680" y="773280"/>
            <a:ext cx="576000" cy="555120"/>
            <a:chOff x="436680" y="773280"/>
            <a:chExt cx="576000" cy="555120"/>
          </a:xfrm>
        </p:grpSpPr>
        <p:sp>
          <p:nvSpPr>
            <p:cNvPr id="128" name=""/>
            <p:cNvSpPr/>
            <p:nvPr/>
          </p:nvSpPr>
          <p:spPr>
            <a:xfrm>
              <a:off x="669600" y="773280"/>
              <a:ext cx="133920" cy="11160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69240" y="893520"/>
              <a:ext cx="5436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36680" y="1058040"/>
              <a:ext cx="223200" cy="15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9880" y="1058040"/>
              <a:ext cx="36000" cy="27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36680" y="955440"/>
              <a:ext cx="576000" cy="1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887560" y="909720"/>
            <a:ext cx="1057320" cy="1003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21360" y="878040"/>
            <a:ext cx="1057320" cy="1003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70200" y="3630600"/>
            <a:ext cx="1282680" cy="1003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lie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06360" y="1679040"/>
            <a:ext cx="8837640" cy="4647240"/>
            <a:chOff x="306360" y="1679040"/>
            <a:chExt cx="8837640" cy="4647240"/>
          </a:xfrm>
        </p:grpSpPr>
        <p:grpSp>
          <p:nvGrpSpPr>
            <p:cNvPr id="137" name=""/>
            <p:cNvGrpSpPr/>
            <p:nvPr/>
          </p:nvGrpSpPr>
          <p:grpSpPr>
            <a:xfrm>
              <a:off x="306360" y="1679040"/>
              <a:ext cx="8837640" cy="4647240"/>
              <a:chOff x="306360" y="1679040"/>
              <a:chExt cx="8837640" cy="464724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3843360" y="1679040"/>
                <a:ext cx="3786120" cy="2210400"/>
                <a:chOff x="3843360" y="1679040"/>
                <a:chExt cx="3786120" cy="22104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3843360" y="1949400"/>
                  <a:ext cx="1940040" cy="1940040"/>
                </a:xfrm>
                <a:prstGeom prst="line">
                  <a:avLst/>
                </a:prstGeom>
                <a:ln w="28440">
                  <a:solidFill>
                    <a:srgbClr val="66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 flipV="1">
                  <a:off x="4022280" y="1679040"/>
                  <a:ext cx="1986120" cy="1955880"/>
                </a:xfrm>
                <a:prstGeom prst="line">
                  <a:avLst/>
                </a:prstGeom>
                <a:ln w="28440">
                  <a:solidFill>
                    <a:srgbClr val="66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6424560" y="2096640"/>
                  <a:ext cx="770040" cy="1430280"/>
                </a:xfrm>
                <a:prstGeom prst="line">
                  <a:avLst/>
                </a:prstGeom>
                <a:ln w="28440">
                  <a:solidFill>
                    <a:srgbClr val="6600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6815160" y="2022480"/>
                  <a:ext cx="814320" cy="1536480"/>
                </a:xfrm>
                <a:prstGeom prst="line">
                  <a:avLst/>
                </a:prstGeom>
                <a:ln w="28440">
                  <a:solidFill>
                    <a:srgbClr val="6600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2620800">
                  <a:off x="4205520" y="2352600"/>
                  <a:ext cx="991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9900"/>
                      </a:solidFill>
                      <a:latin typeface="Arial"/>
                    </a:rPr>
                    <a:t>order</a:t>
                  </a:r>
                  <a:r>
                    <a:rPr b="1" lang="en-US" sz="2400" spc="-1" strike="noStrike" baseline="-25000">
                      <a:solidFill>
                        <a:srgbClr val="0099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2560200">
                  <a:off x="4413960" y="2172240"/>
                  <a:ext cx="11941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9900"/>
                      </a:solidFill>
                      <a:latin typeface="Arial"/>
                    </a:rPr>
                    <a:t>receipt</a:t>
                  </a:r>
                  <a:r>
                    <a:rPr b="1" lang="en-US" sz="2400" spc="-1" strike="noStrike" baseline="-25000">
                      <a:solidFill>
                        <a:srgbClr val="0099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17927400">
                  <a:off x="6579720" y="2577960"/>
                  <a:ext cx="841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9900"/>
                      </a:solidFill>
                      <a:latin typeface="Arial"/>
                    </a:rPr>
                    <a:t>bill</a:t>
                  </a:r>
                  <a:r>
                    <a:rPr b="1" lang="en-US" sz="2400" spc="-1" strike="noStrike" baseline="-25000">
                      <a:solidFill>
                        <a:srgbClr val="0099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17983200">
                  <a:off x="5812200" y="2591640"/>
                  <a:ext cx="15084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9900"/>
                      </a:solidFill>
                      <a:latin typeface="Arial"/>
                    </a:rPr>
                    <a:t>payment</a:t>
                  </a:r>
                  <a:r>
                    <a:rPr b="1" lang="en-US" sz="2400" spc="-1" strike="noStrike" baseline="-25000">
                      <a:solidFill>
                        <a:srgbClr val="0099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306360" y="5843520"/>
                <a:ext cx="883764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48000"/>
              </a:bodyPr>
              <a:p>
                <a:pPr marL="140760" indent="-140760">
                  <a:lnSpc>
                    <a:spcPct val="100000"/>
                  </a:lnSpc>
                  <a:spcBef>
                    <a:spcPts val="524"/>
                  </a:spcBef>
                  <a:buClr>
                    <a:srgbClr val="000000"/>
                  </a:buClr>
                  <a:buSzPct val="125000"/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Add new services dynamically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330480" indent="-134640">
                  <a:lnSpc>
                    <a:spcPct val="100000"/>
                  </a:lnSpc>
                  <a:spcBef>
                    <a:spcPts val="150"/>
                  </a:spcBef>
                  <a:buClr>
                    <a:srgbClr val="000000"/>
                  </a:buClr>
                  <a:buSzPct val="115000"/>
                  <a:buFont typeface="Comic Sans MS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Does supplier2 fit?  (what if supplier2 uses “prepay”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5821200" y="3646440"/>
              <a:ext cx="1252800" cy="10033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pplie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7FDA-D209-461D-BD50-A5E17C64FB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"/>
          <p:cNvSpPr/>
          <p:nvPr/>
        </p:nvSpPr>
        <p:spPr>
          <a:xfrm>
            <a:off x="704844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77400" y="97920"/>
            <a:ext cx="8898120" cy="5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ta Transducers as White-Box Pe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0" y="664920"/>
            <a:ext cx="489744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database to fsa (XML, relationa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5080" indent="-23508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re e-service wi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0360" indent="-222480">
              <a:spcBef>
                <a:spcPts val="451"/>
              </a:spcBef>
              <a:buClr>
                <a:srgbClr val="cc0066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Customer_c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0360" indent="-222480">
              <a:spcBef>
                <a:spcPts val="451"/>
              </a:spcBef>
              <a:buClr>
                <a:srgbClr val="cc0066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Inventory_replenishment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0360" indent="-222480">
              <a:spcBef>
                <a:spcPts val="451"/>
              </a:spcBef>
              <a:buClr>
                <a:srgbClr val="cc0066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Store_database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as shared data sto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5080" indent="-235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f., X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Florescu et.al.’03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0360" indent="-22248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ss + XQuer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5080" indent="-23508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f., Relational Transduce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Abiteboul et. al. ’00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0360" indent="-222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alysis undecidable;  NEXPTIME for restri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0" name=""/>
          <p:cNvGrpSpPr/>
          <p:nvPr/>
        </p:nvGrpSpPr>
        <p:grpSpPr>
          <a:xfrm>
            <a:off x="6967440" y="4699080"/>
            <a:ext cx="865080" cy="889560"/>
            <a:chOff x="6967440" y="4699080"/>
            <a:chExt cx="865080" cy="889560"/>
          </a:xfrm>
        </p:grpSpPr>
        <p:grpSp>
          <p:nvGrpSpPr>
            <p:cNvPr id="1541" name=""/>
            <p:cNvGrpSpPr/>
            <p:nvPr/>
          </p:nvGrpSpPr>
          <p:grpSpPr>
            <a:xfrm>
              <a:off x="6967440" y="4699080"/>
              <a:ext cx="865080" cy="889560"/>
              <a:chOff x="6967440" y="4699080"/>
              <a:chExt cx="865080" cy="889560"/>
            </a:xfrm>
          </p:grpSpPr>
          <p:sp>
            <p:nvSpPr>
              <p:cNvPr id="1542" name=""/>
              <p:cNvSpPr/>
              <p:nvPr/>
            </p:nvSpPr>
            <p:spPr>
              <a:xfrm rot="5400000">
                <a:off x="7135560" y="4722120"/>
                <a:ext cx="720000" cy="673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rot="2668800">
                <a:off x="7007400" y="4977000"/>
                <a:ext cx="732240" cy="414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4" name=""/>
            <p:cNvSpPr/>
            <p:nvPr/>
          </p:nvSpPr>
          <p:spPr>
            <a:xfrm flipH="1">
              <a:off x="7264800" y="4762080"/>
              <a:ext cx="38160" cy="2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6624720" y="4684680"/>
            <a:ext cx="842400" cy="921960"/>
            <a:chOff x="6624720" y="4684680"/>
            <a:chExt cx="842400" cy="921960"/>
          </a:xfrm>
        </p:grpSpPr>
        <p:grpSp>
          <p:nvGrpSpPr>
            <p:cNvPr id="1546" name=""/>
            <p:cNvGrpSpPr/>
            <p:nvPr/>
          </p:nvGrpSpPr>
          <p:grpSpPr>
            <a:xfrm>
              <a:off x="6624720" y="4684680"/>
              <a:ext cx="842400" cy="921960"/>
              <a:chOff x="6624720" y="4684680"/>
              <a:chExt cx="842400" cy="921960"/>
            </a:xfrm>
          </p:grpSpPr>
          <p:sp>
            <p:nvSpPr>
              <p:cNvPr id="1547" name=""/>
              <p:cNvSpPr/>
              <p:nvPr/>
            </p:nvSpPr>
            <p:spPr>
              <a:xfrm>
                <a:off x="6624720" y="4684680"/>
                <a:ext cx="635760" cy="742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rot="18868800">
                <a:off x="6649920" y="5006880"/>
                <a:ext cx="807120" cy="366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9" name=""/>
            <p:cNvSpPr/>
            <p:nvPr/>
          </p:nvSpPr>
          <p:spPr>
            <a:xfrm>
              <a:off x="6677280" y="5271840"/>
              <a:ext cx="19080" cy="4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0" name=""/>
          <p:cNvGrpSpPr/>
          <p:nvPr/>
        </p:nvGrpSpPr>
        <p:grpSpPr>
          <a:xfrm>
            <a:off x="6985800" y="5169240"/>
            <a:ext cx="865440" cy="889560"/>
            <a:chOff x="6985800" y="5169240"/>
            <a:chExt cx="865440" cy="889560"/>
          </a:xfrm>
        </p:grpSpPr>
        <p:grpSp>
          <p:nvGrpSpPr>
            <p:cNvPr id="1551" name=""/>
            <p:cNvGrpSpPr/>
            <p:nvPr/>
          </p:nvGrpSpPr>
          <p:grpSpPr>
            <a:xfrm>
              <a:off x="6985800" y="5169240"/>
              <a:ext cx="865440" cy="889560"/>
              <a:chOff x="6985800" y="5169240"/>
              <a:chExt cx="865440" cy="889560"/>
            </a:xfrm>
          </p:grpSpPr>
          <p:sp>
            <p:nvSpPr>
              <p:cNvPr id="1552" name=""/>
              <p:cNvSpPr/>
              <p:nvPr/>
            </p:nvSpPr>
            <p:spPr>
              <a:xfrm flipV="1" rot="16200000">
                <a:off x="7154280" y="5361840"/>
                <a:ext cx="720000" cy="673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V="1" rot="18931200">
                <a:off x="7026120" y="5366160"/>
                <a:ext cx="732240" cy="414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4" name=""/>
            <p:cNvSpPr/>
            <p:nvPr/>
          </p:nvSpPr>
          <p:spPr>
            <a:xfrm flipH="1" flipV="1">
              <a:off x="7292880" y="5963760"/>
              <a:ext cx="38520" cy="2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6629400" y="5156280"/>
            <a:ext cx="842400" cy="921960"/>
            <a:chOff x="6629400" y="5156280"/>
            <a:chExt cx="842400" cy="921960"/>
          </a:xfrm>
        </p:grpSpPr>
        <p:grpSp>
          <p:nvGrpSpPr>
            <p:cNvPr id="1556" name=""/>
            <p:cNvGrpSpPr/>
            <p:nvPr/>
          </p:nvGrpSpPr>
          <p:grpSpPr>
            <a:xfrm>
              <a:off x="6629400" y="5156280"/>
              <a:ext cx="842400" cy="921960"/>
              <a:chOff x="6629400" y="5156280"/>
              <a:chExt cx="842400" cy="921960"/>
            </a:xfrm>
          </p:grpSpPr>
          <p:sp>
            <p:nvSpPr>
              <p:cNvPr id="1557" name=""/>
              <p:cNvSpPr/>
              <p:nvPr/>
            </p:nvSpPr>
            <p:spPr>
              <a:xfrm flipV="1">
                <a:off x="6629400" y="5335920"/>
                <a:ext cx="635760" cy="742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V="1" rot="2731200">
                <a:off x="6654600" y="5388840"/>
                <a:ext cx="807120" cy="366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9" name=""/>
            <p:cNvSpPr/>
            <p:nvPr/>
          </p:nvSpPr>
          <p:spPr>
            <a:xfrm flipV="1">
              <a:off x="6681960" y="5448240"/>
              <a:ext cx="19080" cy="4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6137280" y="5319720"/>
            <a:ext cx="11592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159680" y="4797360"/>
            <a:ext cx="11592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621560" y="5308560"/>
            <a:ext cx="11736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169040" y="5846760"/>
            <a:ext cx="11592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5665680" y="5373720"/>
            <a:ext cx="462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253200" y="5373720"/>
            <a:ext cx="425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6818400" y="4932000"/>
            <a:ext cx="345960" cy="376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280280" y="4932360"/>
            <a:ext cx="352440" cy="376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18400" y="5448240"/>
            <a:ext cx="369720" cy="398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7280280" y="5448240"/>
            <a:ext cx="352440" cy="387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rot="19053600">
            <a:off x="6718320" y="4834440"/>
            <a:ext cx="406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!</a:t>
            </a: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o</a:t>
            </a:r>
            <a:r>
              <a:rPr b="1" lang="en-US" sz="1400" spc="-1" strike="noStrike" baseline="-25000">
                <a:solidFill>
                  <a:srgbClr val="00cc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rot="2581200">
            <a:off x="6755400" y="5563080"/>
            <a:ext cx="406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!</a:t>
            </a: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o</a:t>
            </a:r>
            <a:r>
              <a:rPr b="1" lang="en-US" sz="14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rot="2513400">
            <a:off x="7622280" y="4541040"/>
            <a:ext cx="398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?</a:t>
            </a: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rot="19337400">
            <a:off x="6448680" y="4490640"/>
            <a:ext cx="398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?</a:t>
            </a: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00cc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rot="2581200">
            <a:off x="7358760" y="4862880"/>
            <a:ext cx="406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!</a:t>
            </a: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o</a:t>
            </a:r>
            <a:r>
              <a:rPr b="1" lang="en-US" sz="14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rot="18996000">
            <a:off x="7345800" y="5516640"/>
            <a:ext cx="406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!</a:t>
            </a: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o</a:t>
            </a:r>
            <a:r>
              <a:rPr b="1" lang="en-US" sz="1400" spc="-1" strike="noStrike" baseline="-25000">
                <a:solidFill>
                  <a:srgbClr val="00cc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rot="19337400">
            <a:off x="7626600" y="5833800"/>
            <a:ext cx="398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?</a:t>
            </a: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00cc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rot="2513400">
            <a:off x="6481080" y="5863320"/>
            <a:ext cx="398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?</a:t>
            </a: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682600" y="50832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!</a:t>
            </a: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217200" y="507852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?</a:t>
            </a: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443560" y="5369040"/>
            <a:ext cx="7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1" name=""/>
          <p:cNvGrpSpPr/>
          <p:nvPr/>
        </p:nvGrpSpPr>
        <p:grpSpPr>
          <a:xfrm>
            <a:off x="6686640" y="5310360"/>
            <a:ext cx="131400" cy="145440"/>
            <a:chOff x="6686640" y="5310360"/>
            <a:chExt cx="131400" cy="145440"/>
          </a:xfrm>
        </p:grpSpPr>
        <p:sp>
          <p:nvSpPr>
            <p:cNvPr id="1582" name=""/>
            <p:cNvSpPr/>
            <p:nvPr/>
          </p:nvSpPr>
          <p:spPr>
            <a:xfrm>
              <a:off x="6686640" y="5310360"/>
              <a:ext cx="131400" cy="14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15800" y="5348160"/>
              <a:ext cx="6660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4" name=""/>
          <p:cNvGrpSpPr/>
          <p:nvPr/>
        </p:nvGrpSpPr>
        <p:grpSpPr>
          <a:xfrm>
            <a:off x="5529240" y="5299200"/>
            <a:ext cx="131400" cy="145440"/>
            <a:chOff x="5529240" y="5299200"/>
            <a:chExt cx="131400" cy="145440"/>
          </a:xfrm>
        </p:grpSpPr>
        <p:sp>
          <p:nvSpPr>
            <p:cNvPr id="1585" name=""/>
            <p:cNvSpPr/>
            <p:nvPr/>
          </p:nvSpPr>
          <p:spPr>
            <a:xfrm>
              <a:off x="5529240" y="5299200"/>
              <a:ext cx="131400" cy="14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558400" y="5337000"/>
              <a:ext cx="6660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7488360" y="1441440"/>
            <a:ext cx="128520" cy="144000"/>
            <a:chOff x="7488360" y="1441440"/>
            <a:chExt cx="128520" cy="144000"/>
          </a:xfrm>
        </p:grpSpPr>
        <p:sp>
          <p:nvSpPr>
            <p:cNvPr id="1588" name=""/>
            <p:cNvSpPr/>
            <p:nvPr/>
          </p:nvSpPr>
          <p:spPr>
            <a:xfrm>
              <a:off x="7488360" y="1441440"/>
              <a:ext cx="128520" cy="14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516800" y="1478880"/>
              <a:ext cx="64800" cy="67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0" name=""/>
          <p:cNvSpPr/>
          <p:nvPr/>
        </p:nvSpPr>
        <p:spPr>
          <a:xfrm>
            <a:off x="5742000" y="1514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845320" y="1440000"/>
            <a:ext cx="117360" cy="150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273560" y="5315040"/>
            <a:ext cx="83988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4255920" y="5477040"/>
            <a:ext cx="8287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412160" y="5489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098960" y="494496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uthor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570560" y="1438200"/>
            <a:ext cx="5587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H="1">
            <a:off x="4532400" y="1598760"/>
            <a:ext cx="5587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450320" y="16160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521240" y="1092240"/>
            <a:ext cx="6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bu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8248680" y="485460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H="1">
            <a:off x="8229600" y="5014800"/>
            <a:ext cx="8287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8218080" y="4989600"/>
            <a:ext cx="95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eceipt</a:t>
            </a:r>
            <a:r>
              <a:rPr b="1" lang="en-US" sz="2000" spc="-1" strike="noStrike" baseline="-25000">
                <a:solidFill>
                  <a:srgbClr val="00cc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8229600" y="448164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rder</a:t>
            </a:r>
            <a:r>
              <a:rPr b="1" lang="en-US" sz="2000" spc="-1" strike="noStrike" baseline="-25000">
                <a:solidFill>
                  <a:srgbClr val="00cc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8248680" y="568332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H="1">
            <a:off x="8229600" y="5843520"/>
            <a:ext cx="8287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8195760" y="5848200"/>
            <a:ext cx="95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eceipt</a:t>
            </a:r>
            <a:r>
              <a:rPr b="1" lang="en-US" sz="20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8229600" y="5326200"/>
            <a:ext cx="90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rder</a:t>
            </a:r>
            <a:r>
              <a:rPr b="1" lang="en-US" sz="20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88680" y="122076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?</a:t>
            </a: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6934320" y="1230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!</a:t>
            </a: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228640" y="5794200"/>
            <a:ext cx="19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ntory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enis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5260320" y="184788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_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5878440" y="2763720"/>
            <a:ext cx="809280" cy="817200"/>
            <a:chOff x="5878440" y="2763720"/>
            <a:chExt cx="809280" cy="817200"/>
          </a:xfrm>
        </p:grpSpPr>
        <p:sp>
          <p:nvSpPr>
            <p:cNvPr id="1613" name=""/>
            <p:cNvSpPr/>
            <p:nvPr/>
          </p:nvSpPr>
          <p:spPr>
            <a:xfrm>
              <a:off x="5878440" y="2763720"/>
              <a:ext cx="809280" cy="81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878440" y="3000240"/>
              <a:ext cx="80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295680" y="2763720"/>
              <a:ext cx="0" cy="81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6" name=""/>
          <p:cNvSpPr/>
          <p:nvPr/>
        </p:nvSpPr>
        <p:spPr>
          <a:xfrm>
            <a:off x="5552640" y="24559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e_inven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852880" y="269244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258600" y="26924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254560" y="4486320"/>
            <a:ext cx="2827440" cy="194472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254560" y="882720"/>
            <a:ext cx="2827440" cy="134928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251320" y="2494080"/>
            <a:ext cx="2827440" cy="17240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961680" y="280368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253480" y="3789360"/>
            <a:ext cx="20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_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675480" y="1440000"/>
            <a:ext cx="117360" cy="150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978520" y="1514520"/>
            <a:ext cx="674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807240" y="1514520"/>
            <a:ext cx="674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135400" y="712800"/>
            <a:ext cx="3094200" cy="5884920"/>
          </a:xfrm>
          <a:custGeom>
            <a:avLst/>
            <a:gdLst>
              <a:gd name="textAreaLeft" fmla="*/ 88200 w 3094200"/>
              <a:gd name="textAreaRight" fmla="*/ 3006000 w 3094200"/>
              <a:gd name="textAreaTop" fmla="*/ 88200 h 5884920"/>
              <a:gd name="textAreaBottom" fmla="*/ 5796720 h 5884920"/>
            </a:gdLst>
            <a:ahLst/>
            <a:rect l="textAreaLeft" t="textAreaTop" r="textAreaRight" b="textAreaBottom"/>
            <a:pathLst>
              <a:path w="21600" h="41079">
                <a:moveTo>
                  <a:pt x="2106" y="0"/>
                </a:moveTo>
                <a:arcTo wR="2106" hR="2106" stAng="16200000" swAng="-5400000"/>
                <a:lnTo>
                  <a:pt x="0" y="38973"/>
                </a:lnTo>
                <a:arcTo wR="2106" hR="2106" stAng="10800000" swAng="-5400000"/>
                <a:lnTo>
                  <a:pt x="19494" y="41079"/>
                </a:lnTo>
                <a:arcTo wR="2106" hR="2106" stAng="5400000" swAng="-5400000"/>
                <a:lnTo>
                  <a:pt x="21600" y="2106"/>
                </a:lnTo>
                <a:arcTo wR="2106" hR="2106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6FFD-41FE-426D-BBD8-924C12A43FA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"/>
          <p:cNvSpPr/>
          <p:nvPr/>
        </p:nvSpPr>
        <p:spPr>
          <a:xfrm>
            <a:off x="0" y="6424560"/>
            <a:ext cx="72644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704844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100080" y="75960"/>
            <a:ext cx="83692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ting Challenge: Process + Dat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69840" y="615960"/>
            <a:ext cx="8704440" cy="4254120"/>
            <a:chOff x="69840" y="615960"/>
            <a:chExt cx="8704440" cy="4254120"/>
          </a:xfrm>
        </p:grpSpPr>
        <p:sp>
          <p:nvSpPr>
            <p:cNvPr id="1632" name=""/>
            <p:cNvSpPr/>
            <p:nvPr/>
          </p:nvSpPr>
          <p:spPr>
            <a:xfrm>
              <a:off x="676440" y="626760"/>
              <a:ext cx="947520" cy="838080"/>
            </a:xfrm>
            <a:prstGeom prst="can">
              <a:avLst>
                <a:gd name="adj" fmla="val 25000"/>
              </a:avLst>
            </a:prstGeom>
            <a:solidFill>
              <a:srgbClr val="cc00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623960" y="1039680"/>
              <a:ext cx="392040" cy="239400"/>
            </a:xfrm>
            <a:prstGeom prst="line">
              <a:avLst/>
            </a:prstGeom>
            <a:ln w="1015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640640" y="2947680"/>
              <a:ext cx="947880" cy="838080"/>
            </a:xfrm>
            <a:prstGeom prst="can">
              <a:avLst>
                <a:gd name="adj" fmla="val 25000"/>
              </a:avLst>
            </a:prstGeom>
            <a:solidFill>
              <a:srgbClr val="cc00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292880" y="3132000"/>
              <a:ext cx="392040" cy="239400"/>
            </a:xfrm>
            <a:prstGeom prst="line">
              <a:avLst/>
            </a:prstGeom>
            <a:ln w="1015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826400" y="615960"/>
              <a:ext cx="947880" cy="838080"/>
            </a:xfrm>
            <a:prstGeom prst="can">
              <a:avLst>
                <a:gd name="adj" fmla="val 25000"/>
              </a:avLst>
            </a:prstGeom>
            <a:solidFill>
              <a:srgbClr val="cc00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7477200" y="1160280"/>
              <a:ext cx="382680" cy="174240"/>
            </a:xfrm>
            <a:prstGeom prst="line">
              <a:avLst/>
            </a:prstGeom>
            <a:ln w="1015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947880" y="2979720"/>
              <a:ext cx="947520" cy="837720"/>
            </a:xfrm>
            <a:prstGeom prst="can">
              <a:avLst>
                <a:gd name="adj" fmla="val 25000"/>
              </a:avLst>
            </a:prstGeom>
            <a:solidFill>
              <a:srgbClr val="cc00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1895400" y="3174480"/>
              <a:ext cx="455760" cy="217080"/>
            </a:xfrm>
            <a:prstGeom prst="line">
              <a:avLst/>
            </a:prstGeom>
            <a:ln w="1015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9840" y="3868560"/>
              <a:ext cx="860112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93760" indent="-293760">
                <a:lnSpc>
                  <a:spcPct val="95000"/>
                </a:lnSpc>
                <a:spcBef>
                  <a:spcPts val="349"/>
                </a:spcBef>
                <a:buClr>
                  <a:srgbClr val="000000"/>
                </a:buClr>
                <a:buSzPct val="125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Develop a theory for e-service composition that incorporates process + da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9040" indent="-281160">
                <a:lnSpc>
                  <a:spcPct val="95000"/>
                </a:lnSpc>
                <a:spcBef>
                  <a:spcPts val="300"/>
                </a:spcBef>
                <a:buClr>
                  <a:srgbClr val="000000"/>
                </a:buClr>
                <a:buSzPct val="115000"/>
                <a:buFont typeface="Comic Sans M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2031840" y="1000080"/>
            <a:ext cx="2278080" cy="862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711880" y="12034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253120" y="1004760"/>
            <a:ext cx="2236680" cy="852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942520" y="11955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2363760" y="2554200"/>
            <a:ext cx="2043000" cy="959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415600" y="277668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ehous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7" name=""/>
          <p:cNvGrpSpPr/>
          <p:nvPr/>
        </p:nvGrpSpPr>
        <p:grpSpPr>
          <a:xfrm>
            <a:off x="3548160" y="1255680"/>
            <a:ext cx="2633400" cy="1344600"/>
            <a:chOff x="3548160" y="1255680"/>
            <a:chExt cx="2633400" cy="1344600"/>
          </a:xfrm>
        </p:grpSpPr>
        <p:sp>
          <p:nvSpPr>
            <p:cNvPr id="1648" name=""/>
            <p:cNvSpPr/>
            <p:nvPr/>
          </p:nvSpPr>
          <p:spPr>
            <a:xfrm>
              <a:off x="4432320" y="1255680"/>
              <a:ext cx="765000" cy="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352760" y="1419480"/>
              <a:ext cx="793800" cy="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548160" y="1886040"/>
              <a:ext cx="352440" cy="62856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 flipV="1">
              <a:off x="3714840" y="1874880"/>
              <a:ext cx="388800" cy="62856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4459320" y="1889280"/>
              <a:ext cx="906480" cy="68112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4276800" y="1798560"/>
              <a:ext cx="930240" cy="69228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92560" y="1897200"/>
              <a:ext cx="984240" cy="70308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 flipV="1">
              <a:off x="4344480" y="1809720"/>
              <a:ext cx="949320" cy="68112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5460840" y="1897200"/>
              <a:ext cx="519120" cy="60624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V="1">
              <a:off x="5705640" y="1886040"/>
              <a:ext cx="475920" cy="59544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8" name=""/>
          <p:cNvSpPr/>
          <p:nvPr/>
        </p:nvSpPr>
        <p:spPr>
          <a:xfrm>
            <a:off x="81000" y="4754520"/>
            <a:ext cx="9063000" cy="19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64240" indent="-26424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“Relational Mealy Machines” (or XML, . . .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9920" indent="-25272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f. Relational Transducers of [Abiteboul et. al. ’0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9920" indent="-25272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cus on restricted query/update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240" indent="-26424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nd results previously obtained to include variables, context, larg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221440" y="2543040"/>
            <a:ext cx="2043000" cy="959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5272920" y="27655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ehous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C11-21CD-47BA-9FF8-6C160373EFE5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"/>
          <p:cNvSpPr/>
          <p:nvPr/>
        </p:nvSpPr>
        <p:spPr>
          <a:xfrm>
            <a:off x="704844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2" name="" descr=""/>
          <p:cNvPicPr/>
          <p:nvPr/>
        </p:nvPicPr>
        <p:blipFill>
          <a:blip r:embed="rId1"/>
          <a:stretch/>
        </p:blipFill>
        <p:spPr>
          <a:xfrm>
            <a:off x="4892760" y="476280"/>
            <a:ext cx="4251240" cy="3421080"/>
          </a:xfrm>
          <a:prstGeom prst="rect">
            <a:avLst/>
          </a:prstGeom>
          <a:ln w="0">
            <a:noFill/>
          </a:ln>
        </p:spPr>
      </p:pic>
      <p:sp>
        <p:nvSpPr>
          <p:cNvPr id="1663" name="PlaceHolder 1"/>
          <p:cNvSpPr>
            <a:spLocks noGrp="1"/>
          </p:cNvSpPr>
          <p:nvPr>
            <p:ph/>
          </p:nvPr>
        </p:nvSpPr>
        <p:spPr>
          <a:xfrm>
            <a:off x="142920" y="1391760"/>
            <a:ext cx="4919760" cy="28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uterised facilitation or automation of a business process, in whole or part” [WfMC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lnSpc>
                <a:spcPct val="90000"/>
              </a:lnSpc>
              <a:spcBef>
                <a:spcPts val="524"/>
              </a:spcBef>
              <a:buClr>
                <a:srgbClr val="cc0066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Centralized contr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of conversation maintained by WF manag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 type="title"/>
          </p:nvPr>
        </p:nvSpPr>
        <p:spPr>
          <a:xfrm>
            <a:off x="9000" y="174240"/>
            <a:ext cx="8369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-service “Glue” Languag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Workflow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5" name=""/>
          <p:cNvSpPr/>
          <p:nvPr/>
        </p:nvSpPr>
        <p:spPr>
          <a:xfrm>
            <a:off x="168120" y="4284720"/>
            <a:ext cx="902340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258480" indent="-258480">
              <a:lnSpc>
                <a:spcPct val="100000"/>
              </a:lnSpc>
              <a:spcBef>
                <a:spcPts val="524"/>
              </a:spcBef>
              <a:buClr>
                <a:srgbClr val="cc0066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Delegation of “almost everything” to the app.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240" indent="-247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application data is not accessible to WF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8480" indent="-2584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kflow standardization has mixed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240" indent="-247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 services must interoper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ndard lik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240" indent="-247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uld focus on interfaces, not inter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020-A890-44B0-8703-4F3DB2CC666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704844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152280" y="244440"/>
            <a:ext cx="83692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ctiveXML: A data-centric white-box language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[Abiteboul et.al. ’03]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152280" y="1335240"/>
            <a:ext cx="541656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novel combination of data and web servic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ee ways to treat remote dat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te data is virtual, and materialized when queri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s data pointer as part of query respon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69" name=""/>
          <p:cNvGrpSpPr/>
          <p:nvPr/>
        </p:nvGrpSpPr>
        <p:grpSpPr>
          <a:xfrm>
            <a:off x="5331960" y="290520"/>
            <a:ext cx="3812040" cy="3882960"/>
            <a:chOff x="5331960" y="290520"/>
            <a:chExt cx="3812040" cy="3882960"/>
          </a:xfrm>
        </p:grpSpPr>
        <p:sp>
          <p:nvSpPr>
            <p:cNvPr id="1670" name=""/>
            <p:cNvSpPr/>
            <p:nvPr/>
          </p:nvSpPr>
          <p:spPr>
            <a:xfrm rot="743400">
              <a:off x="5554440" y="458640"/>
              <a:ext cx="1814400" cy="227340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943600" y="1044360"/>
              <a:ext cx="628560" cy="933480"/>
            </a:xfrm>
            <a:prstGeom prst="triangle">
              <a:avLst>
                <a:gd name="adj" fmla="val 50000"/>
              </a:avLst>
            </a:prstGeom>
            <a:solidFill>
              <a:srgbClr val="f8fd2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094600" y="2476440"/>
              <a:ext cx="1049400" cy="161604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227640" y="1317600"/>
              <a:ext cx="200160" cy="431640"/>
            </a:xfrm>
            <a:prstGeom prst="triangle">
              <a:avLst>
                <a:gd name="adj" fmla="val 50000"/>
              </a:avLst>
            </a:prstGeom>
            <a:solidFill>
              <a:srgbClr val="f8fd2f"/>
            </a:solidFill>
            <a:ln w="9360">
              <a:solidFill>
                <a:srgbClr val="f8fd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33960" y="1531800"/>
              <a:ext cx="228600" cy="289080"/>
            </a:xfrm>
            <a:prstGeom prst="triangle">
              <a:avLst>
                <a:gd name="adj" fmla="val 50000"/>
              </a:avLst>
            </a:prstGeom>
            <a:solidFill>
              <a:srgbClr val="f8fd2f"/>
            </a:solidFill>
            <a:ln w="9360">
              <a:solidFill>
                <a:srgbClr val="f8fd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958000" y="2550960"/>
              <a:ext cx="1141200" cy="161784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402240" y="3321000"/>
              <a:ext cx="228600" cy="339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7" name=""/>
            <p:cNvCxnSpPr>
              <a:stCxn id="1674" idx="3"/>
              <a:endCxn id="1676" idx="0"/>
            </p:cNvCxnSpPr>
            <p:nvPr/>
          </p:nvCxnSpPr>
          <p:spPr>
            <a:xfrm flipH="1" rot="16200000">
              <a:off x="5581440" y="2386440"/>
              <a:ext cx="1500840" cy="369000"/>
            </a:xfrm>
            <a:prstGeom prst="bentConnector3">
              <a:avLst>
                <a:gd name="adj1" fmla="val 4992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78" name=""/>
            <p:cNvSpPr/>
            <p:nvPr/>
          </p:nvSpPr>
          <p:spPr>
            <a:xfrm>
              <a:off x="7053120" y="2477880"/>
              <a:ext cx="1014480" cy="169560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459560" y="3125880"/>
              <a:ext cx="268560" cy="431640"/>
            </a:xfrm>
            <a:prstGeom prst="triangle">
              <a:avLst>
                <a:gd name="adj" fmla="val 50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0" name=""/>
            <p:cNvCxnSpPr>
              <a:stCxn id="1673" idx="3"/>
              <a:endCxn id="1679" idx="0"/>
            </p:cNvCxnSpPr>
            <p:nvPr/>
          </p:nvCxnSpPr>
          <p:spPr>
            <a:xfrm flipH="1" rot="16200000">
              <a:off x="6271920" y="1803960"/>
              <a:ext cx="1377360" cy="1267560"/>
            </a:xfrm>
            <a:prstGeom prst="bentConnector3">
              <a:avLst>
                <a:gd name="adj1" fmla="val 49934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1" name=""/>
            <p:cNvCxnSpPr>
              <a:stCxn id="1673" idx="3"/>
              <a:endCxn id="1682" idx="0"/>
            </p:cNvCxnSpPr>
            <p:nvPr/>
          </p:nvCxnSpPr>
          <p:spPr>
            <a:xfrm flipH="1" rot="16200000">
              <a:off x="6737400" y="1337760"/>
              <a:ext cx="1474200" cy="2296080"/>
            </a:xfrm>
            <a:prstGeom prst="bentConnector3">
              <a:avLst>
                <a:gd name="adj1" fmla="val 38886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82" name=""/>
            <p:cNvSpPr/>
            <p:nvPr/>
          </p:nvSpPr>
          <p:spPr>
            <a:xfrm>
              <a:off x="8488440" y="3222720"/>
              <a:ext cx="268200" cy="431640"/>
            </a:xfrm>
            <a:prstGeom prst="triangle">
              <a:avLst>
                <a:gd name="adj" fmla="val 50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3" name=""/>
          <p:cNvSpPr/>
          <p:nvPr/>
        </p:nvSpPr>
        <p:spPr>
          <a:xfrm>
            <a:off x="52560" y="4406760"/>
            <a:ext cx="902016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89040" indent="-281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erialize remote data period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ternative to control-flow based langua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81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er process flow” dictated by XML query language (and structure of dat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81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te procedure calls” embedded into XML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EC1A-9099-4489-9B2E-72502F904E4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"/>
          <p:cNvSpPr/>
          <p:nvPr/>
        </p:nvSpPr>
        <p:spPr>
          <a:xfrm>
            <a:off x="7020000" y="9360"/>
            <a:ext cx="210492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97920" y="56880"/>
            <a:ext cx="904572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White-box Analysis via XM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0" y="571680"/>
            <a:ext cx="9144000" cy="61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different kinds of constraints arise in BPEL4WS sp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92000" indent="-388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erential: service links refer to peers in compos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92000" indent="-388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dinality: for synchronization links, 1 source and 1 tar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92000" indent="-388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uctural: internal synchronization links don’t cross while sco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92000" indent="-388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lue-based: requests matched by respon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92000" indent="-388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Path: query on variable is subtype of a target vari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-28296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SzPct val="11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(a): XML Schema suffi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-2829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(b) - (d): se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Deutsch+Tannen ’01, Benedikt et.al. ’02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-28296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SzPct val="11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(e): Involves a combination of XPath and control flow analy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92000" indent="-388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XL used, then “everything” is XQuery, and so XQuery type-checker can assist with type correct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06E-8FCE-439C-9E26-F44ED4B908F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"/>
          <p:cNvSpPr/>
          <p:nvPr/>
        </p:nvSpPr>
        <p:spPr>
          <a:xfrm>
            <a:off x="704844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95040" y="194760"/>
            <a:ext cx="881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ZTEC: A white-box language for sessions and asynchronous even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Christophides et. al. ’01a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97920" y="1152000"/>
            <a:ext cx="5202360" cy="28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is hub-and-spok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tains state of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ses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cc0066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Richer than web-service notion of convers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ue for incoming asynchronous ev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"/>
          <p:cNvSpPr/>
          <p:nvPr/>
        </p:nvSpPr>
        <p:spPr>
          <a:xfrm>
            <a:off x="120600" y="3848040"/>
            <a:ext cx="879012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70000" indent="-2700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unches instance of event-handling flowchart for each external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chronization between flow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600" indent="-258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600" indent="-258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a sha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600" indent="-258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interrupt other flowcharts (e.g., if prepay account runs out of mon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1" name=""/>
          <p:cNvGrpSpPr/>
          <p:nvPr/>
        </p:nvGrpSpPr>
        <p:grpSpPr>
          <a:xfrm>
            <a:off x="4791240" y="1414440"/>
            <a:ext cx="4296600" cy="1983960"/>
            <a:chOff x="4791240" y="1414440"/>
            <a:chExt cx="4296600" cy="1983960"/>
          </a:xfrm>
        </p:grpSpPr>
        <p:sp>
          <p:nvSpPr>
            <p:cNvPr id="1692" name=""/>
            <p:cNvSpPr/>
            <p:nvPr/>
          </p:nvSpPr>
          <p:spPr>
            <a:xfrm flipH="1" flipV="1">
              <a:off x="7033320" y="1854720"/>
              <a:ext cx="597240" cy="1122480"/>
            </a:xfrm>
            <a:prstGeom prst="line">
              <a:avLst/>
            </a:prstGeom>
            <a:ln w="28440">
              <a:solidFill>
                <a:srgbClr val="66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3" name=""/>
            <p:cNvGrpSpPr/>
            <p:nvPr/>
          </p:nvGrpSpPr>
          <p:grpSpPr>
            <a:xfrm>
              <a:off x="5310000" y="2950920"/>
              <a:ext cx="432000" cy="339480"/>
              <a:chOff x="5310000" y="2950920"/>
              <a:chExt cx="432000" cy="339480"/>
            </a:xfrm>
          </p:grpSpPr>
          <p:sp>
            <p:nvSpPr>
              <p:cNvPr id="1694" name=""/>
              <p:cNvSpPr/>
              <p:nvPr/>
            </p:nvSpPr>
            <p:spPr>
              <a:xfrm>
                <a:off x="5388480" y="2954160"/>
                <a:ext cx="349200" cy="318600"/>
              </a:xfrm>
              <a:custGeom>
                <a:avLst/>
                <a:gdLst/>
                <a:ahLst/>
                <a:rect l="l" t="t" r="r" b="b"/>
                <a:pathLst>
                  <a:path w="264" h="193">
                    <a:moveTo>
                      <a:pt x="134" y="7"/>
                    </a:moveTo>
                    <a:lnTo>
                      <a:pt x="121" y="2"/>
                    </a:lnTo>
                    <a:lnTo>
                      <a:pt x="113" y="0"/>
                    </a:lnTo>
                    <a:lnTo>
                      <a:pt x="112" y="0"/>
                    </a:lnTo>
                    <a:lnTo>
                      <a:pt x="111" y="0"/>
                    </a:lnTo>
                    <a:lnTo>
                      <a:pt x="0" y="133"/>
                    </a:lnTo>
                    <a:lnTo>
                      <a:pt x="0" y="139"/>
                    </a:lnTo>
                    <a:lnTo>
                      <a:pt x="158" y="192"/>
                    </a:lnTo>
                    <a:lnTo>
                      <a:pt x="257" y="83"/>
                    </a:lnTo>
                    <a:lnTo>
                      <a:pt x="263" y="59"/>
                    </a:lnTo>
                    <a:lnTo>
                      <a:pt x="263" y="57"/>
                    </a:lnTo>
                    <a:lnTo>
                      <a:pt x="144" y="14"/>
                    </a:lnTo>
                    <a:lnTo>
                      <a:pt x="134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388480" y="2954160"/>
                <a:ext cx="349200" cy="318600"/>
              </a:xfrm>
              <a:custGeom>
                <a:avLst/>
                <a:gdLst/>
                <a:ahLst/>
                <a:rect l="l" t="t" r="r" b="b"/>
                <a:pathLst>
                  <a:path w="264" h="193">
                    <a:moveTo>
                      <a:pt x="134" y="7"/>
                    </a:moveTo>
                    <a:lnTo>
                      <a:pt x="121" y="2"/>
                    </a:lnTo>
                    <a:lnTo>
                      <a:pt x="113" y="0"/>
                    </a:lnTo>
                    <a:lnTo>
                      <a:pt x="112" y="0"/>
                    </a:lnTo>
                    <a:lnTo>
                      <a:pt x="111" y="0"/>
                    </a:lnTo>
                    <a:lnTo>
                      <a:pt x="0" y="133"/>
                    </a:lnTo>
                    <a:lnTo>
                      <a:pt x="0" y="139"/>
                    </a:lnTo>
                    <a:lnTo>
                      <a:pt x="158" y="192"/>
                    </a:lnTo>
                    <a:lnTo>
                      <a:pt x="257" y="83"/>
                    </a:lnTo>
                    <a:lnTo>
                      <a:pt x="263" y="59"/>
                    </a:lnTo>
                    <a:lnTo>
                      <a:pt x="263" y="57"/>
                    </a:lnTo>
                    <a:lnTo>
                      <a:pt x="144" y="14"/>
                    </a:lnTo>
                    <a:lnTo>
                      <a:pt x="134" y="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388480" y="3088080"/>
                <a:ext cx="66240" cy="88200"/>
              </a:xfrm>
              <a:custGeom>
                <a:avLst/>
                <a:gdLst/>
                <a:ahLst/>
                <a:rect l="l" t="t" r="r" b="b"/>
                <a:pathLst>
                  <a:path w="51" h="54">
                    <a:moveTo>
                      <a:pt x="0" y="52"/>
                    </a:moveTo>
                    <a:lnTo>
                      <a:pt x="6" y="53"/>
                    </a:lnTo>
                    <a:lnTo>
                      <a:pt x="5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490720" y="3036960"/>
                <a:ext cx="72360" cy="8460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0" y="46"/>
                    </a:moveTo>
                    <a:lnTo>
                      <a:pt x="15" y="51"/>
                    </a:lnTo>
                    <a:lnTo>
                      <a:pt x="16" y="51"/>
                    </a:lnTo>
                    <a:lnTo>
                      <a:pt x="18" y="51"/>
                    </a:lnTo>
                    <a:lnTo>
                      <a:pt x="19" y="50"/>
                    </a:lnTo>
                    <a:lnTo>
                      <a:pt x="53" y="9"/>
                    </a:lnTo>
                    <a:lnTo>
                      <a:pt x="53" y="8"/>
                    </a:lnTo>
                    <a:lnTo>
                      <a:pt x="52" y="7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495040" y="3123360"/>
                <a:ext cx="19080" cy="280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0"/>
                    </a:moveTo>
                    <a:lnTo>
                      <a:pt x="10" y="3"/>
                    </a:lnTo>
                    <a:lnTo>
                      <a:pt x="12" y="4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495040" y="3123360"/>
                <a:ext cx="19080" cy="280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0"/>
                    </a:moveTo>
                    <a:lnTo>
                      <a:pt x="10" y="3"/>
                    </a:lnTo>
                    <a:lnTo>
                      <a:pt x="12" y="4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415120" y="2950920"/>
                <a:ext cx="198360" cy="249840"/>
              </a:xfrm>
              <a:custGeom>
                <a:avLst/>
                <a:gdLst/>
                <a:ahLst/>
                <a:rect l="l" t="t" r="r" b="b"/>
                <a:pathLst>
                  <a:path w="149" h="152">
                    <a:moveTo>
                      <a:pt x="38" y="151"/>
                    </a:moveTo>
                    <a:lnTo>
                      <a:pt x="32" y="150"/>
                    </a:lnTo>
                    <a:lnTo>
                      <a:pt x="23" y="148"/>
                    </a:lnTo>
                    <a:lnTo>
                      <a:pt x="2" y="141"/>
                    </a:lnTo>
                    <a:lnTo>
                      <a:pt x="0" y="140"/>
                    </a:lnTo>
                    <a:lnTo>
                      <a:pt x="0" y="139"/>
                    </a:lnTo>
                    <a:lnTo>
                      <a:pt x="0" y="137"/>
                    </a:lnTo>
                    <a:lnTo>
                      <a:pt x="2" y="117"/>
                    </a:lnTo>
                    <a:lnTo>
                      <a:pt x="16" y="92"/>
                    </a:lnTo>
                    <a:lnTo>
                      <a:pt x="26" y="77"/>
                    </a:lnTo>
                    <a:lnTo>
                      <a:pt x="37" y="63"/>
                    </a:lnTo>
                    <a:lnTo>
                      <a:pt x="45" y="53"/>
                    </a:lnTo>
                    <a:lnTo>
                      <a:pt x="53" y="43"/>
                    </a:lnTo>
                    <a:lnTo>
                      <a:pt x="65" y="30"/>
                    </a:lnTo>
                    <a:lnTo>
                      <a:pt x="83" y="14"/>
                    </a:lnTo>
                    <a:lnTo>
                      <a:pt x="97" y="2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129" y="6"/>
                    </a:lnTo>
                    <a:lnTo>
                      <a:pt x="130" y="7"/>
                    </a:lnTo>
                    <a:lnTo>
                      <a:pt x="146" y="22"/>
                    </a:lnTo>
                    <a:lnTo>
                      <a:pt x="148" y="23"/>
                    </a:lnTo>
                    <a:lnTo>
                      <a:pt x="126" y="53"/>
                    </a:lnTo>
                    <a:lnTo>
                      <a:pt x="122" y="55"/>
                    </a:lnTo>
                    <a:lnTo>
                      <a:pt x="120" y="56"/>
                    </a:lnTo>
                    <a:lnTo>
                      <a:pt x="117" y="55"/>
                    </a:lnTo>
                    <a:lnTo>
                      <a:pt x="110" y="54"/>
                    </a:lnTo>
                    <a:lnTo>
                      <a:pt x="94" y="51"/>
                    </a:lnTo>
                    <a:lnTo>
                      <a:pt x="86" y="59"/>
                    </a:lnTo>
                    <a:lnTo>
                      <a:pt x="77" y="69"/>
                    </a:lnTo>
                    <a:lnTo>
                      <a:pt x="65" y="85"/>
                    </a:lnTo>
                    <a:lnTo>
                      <a:pt x="60" y="93"/>
                    </a:lnTo>
                    <a:lnTo>
                      <a:pt x="60" y="97"/>
                    </a:lnTo>
                    <a:lnTo>
                      <a:pt x="61" y="103"/>
                    </a:lnTo>
                    <a:lnTo>
                      <a:pt x="64" y="109"/>
                    </a:lnTo>
                    <a:lnTo>
                      <a:pt x="68" y="115"/>
                    </a:lnTo>
                    <a:lnTo>
                      <a:pt x="69" y="117"/>
                    </a:lnTo>
                    <a:lnTo>
                      <a:pt x="69" y="119"/>
                    </a:lnTo>
                    <a:lnTo>
                      <a:pt x="51" y="145"/>
                    </a:lnTo>
                    <a:lnTo>
                      <a:pt x="45" y="148"/>
                    </a:lnTo>
                    <a:lnTo>
                      <a:pt x="43" y="150"/>
                    </a:lnTo>
                    <a:lnTo>
                      <a:pt x="40" y="151"/>
                    </a:lnTo>
                    <a:lnTo>
                      <a:pt x="38" y="15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541120" y="3017880"/>
                <a:ext cx="45360" cy="19080"/>
              </a:xfrm>
              <a:custGeom>
                <a:avLst/>
                <a:gdLst/>
                <a:ahLst/>
                <a:rect l="l" t="t" r="r" b="b"/>
                <a:pathLst>
                  <a:path w="35" h="11">
                    <a:moveTo>
                      <a:pt x="0" y="10"/>
                    </a:moveTo>
                    <a:lnTo>
                      <a:pt x="5" y="5"/>
                    </a:lnTo>
                    <a:lnTo>
                      <a:pt x="8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4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545440" y="3028320"/>
                <a:ext cx="39960" cy="8640"/>
              </a:xfrm>
              <a:custGeom>
                <a:avLst/>
                <a:gdLst/>
                <a:ahLst/>
                <a:rect l="l" t="t" r="r" b="b"/>
                <a:pathLst>
                  <a:path w="31" h="5">
                    <a:moveTo>
                      <a:pt x="0" y="1"/>
                    </a:moveTo>
                    <a:lnTo>
                      <a:pt x="8" y="2"/>
                    </a:lnTo>
                    <a:lnTo>
                      <a:pt x="15" y="4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6" y="2"/>
                    </a:lnTo>
                    <a:lnTo>
                      <a:pt x="3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418000" y="2963160"/>
                <a:ext cx="168480" cy="193320"/>
              </a:xfrm>
              <a:custGeom>
                <a:avLst/>
                <a:gdLst/>
                <a:ahLst/>
                <a:rect l="l" t="t" r="r" b="b"/>
                <a:pathLst>
                  <a:path w="128" h="118">
                    <a:moveTo>
                      <a:pt x="0" y="109"/>
                    </a:moveTo>
                    <a:lnTo>
                      <a:pt x="25" y="117"/>
                    </a:lnTo>
                    <a:lnTo>
                      <a:pt x="26" y="117"/>
                    </a:lnTo>
                    <a:lnTo>
                      <a:pt x="28" y="117"/>
                    </a:lnTo>
                    <a:lnTo>
                      <a:pt x="30" y="115"/>
                    </a:lnTo>
                    <a:lnTo>
                      <a:pt x="38" y="99"/>
                    </a:lnTo>
                    <a:lnTo>
                      <a:pt x="46" y="87"/>
                    </a:lnTo>
                    <a:lnTo>
                      <a:pt x="57" y="71"/>
                    </a:lnTo>
                    <a:lnTo>
                      <a:pt x="66" y="59"/>
                    </a:lnTo>
                    <a:lnTo>
                      <a:pt x="77" y="46"/>
                    </a:lnTo>
                    <a:lnTo>
                      <a:pt x="85" y="37"/>
                    </a:lnTo>
                    <a:lnTo>
                      <a:pt x="96" y="25"/>
                    </a:lnTo>
                    <a:lnTo>
                      <a:pt x="107" y="14"/>
                    </a:lnTo>
                    <a:lnTo>
                      <a:pt x="120" y="4"/>
                    </a:lnTo>
                    <a:lnTo>
                      <a:pt x="12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466600" y="2984400"/>
                <a:ext cx="271080" cy="27612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0" y="136"/>
                    </a:moveTo>
                    <a:lnTo>
                      <a:pt x="109" y="2"/>
                    </a:lnTo>
                    <a:lnTo>
                      <a:pt x="110" y="1"/>
                    </a:lnTo>
                    <a:lnTo>
                      <a:pt x="111" y="1"/>
                    </a:lnTo>
                    <a:lnTo>
                      <a:pt x="112" y="0"/>
                    </a:lnTo>
                    <a:lnTo>
                      <a:pt x="113" y="0"/>
                    </a:lnTo>
                    <a:lnTo>
                      <a:pt x="114" y="0"/>
                    </a:lnTo>
                    <a:lnTo>
                      <a:pt x="196" y="23"/>
                    </a:lnTo>
                    <a:lnTo>
                      <a:pt x="197" y="24"/>
                    </a:lnTo>
                    <a:lnTo>
                      <a:pt x="204" y="33"/>
                    </a:lnTo>
                    <a:lnTo>
                      <a:pt x="204" y="37"/>
                    </a:lnTo>
                    <a:lnTo>
                      <a:pt x="97" y="166"/>
                    </a:lnTo>
                    <a:lnTo>
                      <a:pt x="96" y="166"/>
                    </a:lnTo>
                    <a:lnTo>
                      <a:pt x="95" y="167"/>
                    </a:lnTo>
                    <a:lnTo>
                      <a:pt x="0" y="13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466600" y="2984400"/>
                <a:ext cx="271080" cy="276120"/>
              </a:xfrm>
              <a:custGeom>
                <a:avLst/>
                <a:gdLst/>
                <a:ahLst/>
                <a:rect l="l" t="t" r="r" b="b"/>
                <a:pathLst>
                  <a:path w="205" h="168">
                    <a:moveTo>
                      <a:pt x="0" y="136"/>
                    </a:moveTo>
                    <a:lnTo>
                      <a:pt x="109" y="2"/>
                    </a:lnTo>
                    <a:lnTo>
                      <a:pt x="110" y="1"/>
                    </a:lnTo>
                    <a:lnTo>
                      <a:pt x="111" y="1"/>
                    </a:lnTo>
                    <a:lnTo>
                      <a:pt x="112" y="0"/>
                    </a:lnTo>
                    <a:lnTo>
                      <a:pt x="113" y="0"/>
                    </a:lnTo>
                    <a:lnTo>
                      <a:pt x="114" y="0"/>
                    </a:lnTo>
                    <a:lnTo>
                      <a:pt x="196" y="23"/>
                    </a:lnTo>
                    <a:lnTo>
                      <a:pt x="197" y="24"/>
                    </a:lnTo>
                    <a:lnTo>
                      <a:pt x="204" y="33"/>
                    </a:lnTo>
                    <a:lnTo>
                      <a:pt x="204" y="37"/>
                    </a:lnTo>
                    <a:lnTo>
                      <a:pt x="97" y="166"/>
                    </a:lnTo>
                    <a:lnTo>
                      <a:pt x="96" y="166"/>
                    </a:lnTo>
                    <a:lnTo>
                      <a:pt x="95" y="167"/>
                    </a:lnTo>
                    <a:lnTo>
                      <a:pt x="0" y="1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592600" y="3035520"/>
                <a:ext cx="149400" cy="230040"/>
              </a:xfrm>
              <a:custGeom>
                <a:avLst/>
                <a:gdLst/>
                <a:ahLst/>
                <a:rect l="l" t="t" r="r" b="b"/>
                <a:pathLst>
                  <a:path w="113" h="140">
                    <a:moveTo>
                      <a:pt x="0" y="135"/>
                    </a:moveTo>
                    <a:lnTo>
                      <a:pt x="109" y="2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2" y="8"/>
                    </a:lnTo>
                    <a:lnTo>
                      <a:pt x="2" y="139"/>
                    </a:lnTo>
                    <a:lnTo>
                      <a:pt x="0" y="13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592600" y="3035520"/>
                <a:ext cx="149400" cy="230040"/>
              </a:xfrm>
              <a:custGeom>
                <a:avLst/>
                <a:gdLst/>
                <a:ahLst/>
                <a:rect l="l" t="t" r="r" b="b"/>
                <a:pathLst>
                  <a:path w="113" h="140">
                    <a:moveTo>
                      <a:pt x="0" y="135"/>
                    </a:moveTo>
                    <a:lnTo>
                      <a:pt x="109" y="2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2" y="8"/>
                    </a:lnTo>
                    <a:lnTo>
                      <a:pt x="2" y="139"/>
                    </a:lnTo>
                    <a:lnTo>
                      <a:pt x="0" y="135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469840" y="3022920"/>
                <a:ext cx="260640" cy="227160"/>
              </a:xfrm>
              <a:custGeom>
                <a:avLst/>
                <a:gdLst/>
                <a:ahLst/>
                <a:rect l="l" t="t" r="r" b="b"/>
                <a:pathLst>
                  <a:path w="196" h="137">
                    <a:moveTo>
                      <a:pt x="0" y="108"/>
                    </a:moveTo>
                    <a:lnTo>
                      <a:pt x="86" y="136"/>
                    </a:lnTo>
                    <a:lnTo>
                      <a:pt x="87" y="136"/>
                    </a:lnTo>
                    <a:lnTo>
                      <a:pt x="89" y="136"/>
                    </a:lnTo>
                    <a:lnTo>
                      <a:pt x="90" y="135"/>
                    </a:lnTo>
                    <a:lnTo>
                      <a:pt x="195" y="1"/>
                    </a:lnTo>
                    <a:lnTo>
                      <a:pt x="1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483160" y="3008880"/>
                <a:ext cx="223560" cy="228600"/>
              </a:xfrm>
              <a:custGeom>
                <a:avLst/>
                <a:gdLst/>
                <a:ahLst/>
                <a:rect l="l" t="t" r="r" b="b"/>
                <a:pathLst>
                  <a:path w="168" h="139">
                    <a:moveTo>
                      <a:pt x="2" y="111"/>
                    </a:moveTo>
                    <a:lnTo>
                      <a:pt x="89" y="2"/>
                    </a:lnTo>
                    <a:lnTo>
                      <a:pt x="91" y="1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95" y="0"/>
                    </a:lnTo>
                    <a:lnTo>
                      <a:pt x="166" y="21"/>
                    </a:lnTo>
                    <a:lnTo>
                      <a:pt x="167" y="21"/>
                    </a:lnTo>
                    <a:lnTo>
                      <a:pt x="167" y="22"/>
                    </a:lnTo>
                    <a:lnTo>
                      <a:pt x="79" y="136"/>
                    </a:lnTo>
                    <a:lnTo>
                      <a:pt x="77" y="137"/>
                    </a:lnTo>
                    <a:lnTo>
                      <a:pt x="76" y="138"/>
                    </a:lnTo>
                    <a:lnTo>
                      <a:pt x="74" y="138"/>
                    </a:lnTo>
                    <a:lnTo>
                      <a:pt x="71" y="138"/>
                    </a:lnTo>
                    <a:lnTo>
                      <a:pt x="2" y="115"/>
                    </a:lnTo>
                    <a:lnTo>
                      <a:pt x="1" y="114"/>
                    </a:lnTo>
                    <a:lnTo>
                      <a:pt x="0" y="114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2" y="1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483160" y="3008880"/>
                <a:ext cx="223560" cy="228600"/>
              </a:xfrm>
              <a:custGeom>
                <a:avLst/>
                <a:gdLst/>
                <a:ahLst/>
                <a:rect l="l" t="t" r="r" b="b"/>
                <a:pathLst>
                  <a:path w="168" h="139">
                    <a:moveTo>
                      <a:pt x="2" y="111"/>
                    </a:moveTo>
                    <a:lnTo>
                      <a:pt x="89" y="2"/>
                    </a:lnTo>
                    <a:lnTo>
                      <a:pt x="91" y="1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95" y="0"/>
                    </a:lnTo>
                    <a:lnTo>
                      <a:pt x="166" y="21"/>
                    </a:lnTo>
                    <a:lnTo>
                      <a:pt x="167" y="21"/>
                    </a:lnTo>
                    <a:lnTo>
                      <a:pt x="167" y="22"/>
                    </a:lnTo>
                    <a:lnTo>
                      <a:pt x="79" y="136"/>
                    </a:lnTo>
                    <a:lnTo>
                      <a:pt x="77" y="137"/>
                    </a:lnTo>
                    <a:lnTo>
                      <a:pt x="76" y="138"/>
                    </a:lnTo>
                    <a:lnTo>
                      <a:pt x="74" y="138"/>
                    </a:lnTo>
                    <a:lnTo>
                      <a:pt x="71" y="138"/>
                    </a:lnTo>
                    <a:lnTo>
                      <a:pt x="2" y="115"/>
                    </a:lnTo>
                    <a:lnTo>
                      <a:pt x="1" y="114"/>
                    </a:lnTo>
                    <a:lnTo>
                      <a:pt x="0" y="114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2" y="1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570640" y="3033360"/>
                <a:ext cx="87120" cy="101880"/>
              </a:xfrm>
              <a:custGeom>
                <a:avLst/>
                <a:gdLst/>
                <a:ahLst/>
                <a:rect l="l" t="t" r="r" b="b"/>
                <a:pathLst>
                  <a:path w="67" h="62">
                    <a:moveTo>
                      <a:pt x="1" y="50"/>
                    </a:moveTo>
                    <a:lnTo>
                      <a:pt x="40" y="2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65" y="7"/>
                    </a:lnTo>
                    <a:lnTo>
                      <a:pt x="66" y="7"/>
                    </a:lnTo>
                    <a:lnTo>
                      <a:pt x="66" y="8"/>
                    </a:lnTo>
                    <a:lnTo>
                      <a:pt x="25" y="60"/>
                    </a:lnTo>
                    <a:lnTo>
                      <a:pt x="24" y="61"/>
                    </a:lnTo>
                    <a:lnTo>
                      <a:pt x="22" y="61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1" y="50"/>
                    </a:lnTo>
                  </a:path>
                </a:pathLst>
              </a:cu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570640" y="3033360"/>
                <a:ext cx="87120" cy="101880"/>
              </a:xfrm>
              <a:custGeom>
                <a:avLst/>
                <a:gdLst/>
                <a:ahLst/>
                <a:rect l="l" t="t" r="r" b="b"/>
                <a:pathLst>
                  <a:path w="67" h="62">
                    <a:moveTo>
                      <a:pt x="1" y="50"/>
                    </a:moveTo>
                    <a:lnTo>
                      <a:pt x="40" y="2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65" y="7"/>
                    </a:lnTo>
                    <a:lnTo>
                      <a:pt x="66" y="7"/>
                    </a:lnTo>
                    <a:lnTo>
                      <a:pt x="66" y="8"/>
                    </a:lnTo>
                    <a:lnTo>
                      <a:pt x="25" y="60"/>
                    </a:lnTo>
                    <a:lnTo>
                      <a:pt x="24" y="61"/>
                    </a:lnTo>
                    <a:lnTo>
                      <a:pt x="22" y="61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1" y="5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596920" y="3028320"/>
                <a:ext cx="20520" cy="136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4"/>
                    </a:moveTo>
                    <a:lnTo>
                      <a:pt x="3" y="0"/>
                    </a:lnTo>
                    <a:lnTo>
                      <a:pt x="15" y="3"/>
                    </a:lnTo>
                    <a:lnTo>
                      <a:pt x="12" y="7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589720" y="303912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0" y="4"/>
                    </a:moveTo>
                    <a:lnTo>
                      <a:pt x="3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582160" y="3047760"/>
                <a:ext cx="20520" cy="1368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0" y="4"/>
                    </a:moveTo>
                    <a:lnTo>
                      <a:pt x="3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563080" y="3077640"/>
                <a:ext cx="19080" cy="1368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0" y="4"/>
                    </a:moveTo>
                    <a:lnTo>
                      <a:pt x="3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5558760" y="3088080"/>
                <a:ext cx="19080" cy="1224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0" y="4"/>
                    </a:moveTo>
                    <a:lnTo>
                      <a:pt x="3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5551200" y="3096720"/>
                <a:ext cx="21960" cy="136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4"/>
                    </a:moveTo>
                    <a:lnTo>
                      <a:pt x="3" y="0"/>
                    </a:lnTo>
                    <a:lnTo>
                      <a:pt x="15" y="3"/>
                    </a:lnTo>
                    <a:lnTo>
                      <a:pt x="12" y="7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545440" y="3105720"/>
                <a:ext cx="20520" cy="136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4"/>
                    </a:moveTo>
                    <a:lnTo>
                      <a:pt x="3" y="0"/>
                    </a:lnTo>
                    <a:lnTo>
                      <a:pt x="15" y="3"/>
                    </a:lnTo>
                    <a:lnTo>
                      <a:pt x="12" y="7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596920" y="3065400"/>
                <a:ext cx="137520" cy="203760"/>
              </a:xfrm>
              <a:custGeom>
                <a:avLst/>
                <a:gdLst/>
                <a:ahLst/>
                <a:rect l="l" t="t" r="r" b="b"/>
                <a:pathLst>
                  <a:path w="104" h="124">
                    <a:moveTo>
                      <a:pt x="0" y="121"/>
                    </a:moveTo>
                    <a:lnTo>
                      <a:pt x="103" y="0"/>
                    </a:lnTo>
                    <a:lnTo>
                      <a:pt x="99" y="16"/>
                    </a:lnTo>
                    <a:lnTo>
                      <a:pt x="1" y="123"/>
                    </a:lnTo>
                    <a:lnTo>
                      <a:pt x="0" y="12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310000" y="3080880"/>
                <a:ext cx="136080" cy="209520"/>
              </a:xfrm>
              <a:custGeom>
                <a:avLst/>
                <a:gdLst/>
                <a:ahLst/>
                <a:rect l="l" t="t" r="r" b="b"/>
                <a:pathLst>
                  <a:path w="103" h="127">
                    <a:moveTo>
                      <a:pt x="102" y="0"/>
                    </a:moveTo>
                    <a:lnTo>
                      <a:pt x="93" y="6"/>
                    </a:lnTo>
                    <a:lnTo>
                      <a:pt x="84" y="6"/>
                    </a:lnTo>
                    <a:lnTo>
                      <a:pt x="63" y="12"/>
                    </a:lnTo>
                    <a:lnTo>
                      <a:pt x="42" y="12"/>
                    </a:lnTo>
                    <a:lnTo>
                      <a:pt x="39" y="12"/>
                    </a:lnTo>
                    <a:lnTo>
                      <a:pt x="35" y="18"/>
                    </a:lnTo>
                    <a:lnTo>
                      <a:pt x="31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6" y="24"/>
                    </a:lnTo>
                    <a:lnTo>
                      <a:pt x="9" y="30"/>
                    </a:lnTo>
                    <a:lnTo>
                      <a:pt x="4" y="36"/>
                    </a:lnTo>
                    <a:lnTo>
                      <a:pt x="3" y="48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3" y="72"/>
                    </a:lnTo>
                    <a:lnTo>
                      <a:pt x="6" y="78"/>
                    </a:lnTo>
                    <a:lnTo>
                      <a:pt x="14" y="84"/>
                    </a:lnTo>
                    <a:lnTo>
                      <a:pt x="23" y="90"/>
                    </a:lnTo>
                    <a:lnTo>
                      <a:pt x="26" y="96"/>
                    </a:lnTo>
                    <a:lnTo>
                      <a:pt x="29" y="96"/>
                    </a:lnTo>
                    <a:lnTo>
                      <a:pt x="32" y="102"/>
                    </a:lnTo>
                    <a:lnTo>
                      <a:pt x="36" y="102"/>
                    </a:lnTo>
                    <a:lnTo>
                      <a:pt x="47" y="108"/>
                    </a:lnTo>
                    <a:lnTo>
                      <a:pt x="50" y="114"/>
                    </a:lnTo>
                    <a:lnTo>
                      <a:pt x="53" y="114"/>
                    </a:lnTo>
                    <a:lnTo>
                      <a:pt x="63" y="120"/>
                    </a:lnTo>
                    <a:lnTo>
                      <a:pt x="67" y="126"/>
                    </a:lnTo>
                    <a:lnTo>
                      <a:pt x="71" y="126"/>
                    </a:lnTo>
                    <a:lnTo>
                      <a:pt x="77" y="126"/>
                    </a:lnTo>
                    <a:lnTo>
                      <a:pt x="82" y="126"/>
                    </a:lnTo>
                    <a:lnTo>
                      <a:pt x="91" y="120"/>
                    </a:lnTo>
                    <a:lnTo>
                      <a:pt x="93" y="120"/>
                    </a:lnTo>
                    <a:lnTo>
                      <a:pt x="96" y="114"/>
                    </a:lnTo>
                    <a:lnTo>
                      <a:pt x="96" y="102"/>
                    </a:lnTo>
                    <a:lnTo>
                      <a:pt x="96" y="96"/>
                    </a:lnTo>
                    <a:lnTo>
                      <a:pt x="93" y="84"/>
                    </a:lnTo>
                    <a:lnTo>
                      <a:pt x="91" y="78"/>
                    </a:lnTo>
                    <a:lnTo>
                      <a:pt x="87" y="78"/>
                    </a:lnTo>
                    <a:lnTo>
                      <a:pt x="81" y="72"/>
                    </a:lnTo>
                    <a:lnTo>
                      <a:pt x="81" y="66"/>
                    </a:lnTo>
                    <a:lnTo>
                      <a:pt x="83" y="60"/>
                    </a:lnTo>
                    <a:lnTo>
                      <a:pt x="87" y="54"/>
                    </a:lnTo>
                    <a:lnTo>
                      <a:pt x="93" y="54"/>
                    </a:lnTo>
                    <a:lnTo>
                      <a:pt x="96" y="54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5415120" y="2950920"/>
                <a:ext cx="198360" cy="249840"/>
              </a:xfrm>
              <a:custGeom>
                <a:avLst/>
                <a:gdLst/>
                <a:ahLst/>
                <a:rect l="l" t="t" r="r" b="b"/>
                <a:pathLst>
                  <a:path w="149" h="152">
                    <a:moveTo>
                      <a:pt x="38" y="151"/>
                    </a:moveTo>
                    <a:lnTo>
                      <a:pt x="32" y="150"/>
                    </a:lnTo>
                    <a:lnTo>
                      <a:pt x="23" y="148"/>
                    </a:lnTo>
                    <a:lnTo>
                      <a:pt x="2" y="141"/>
                    </a:lnTo>
                    <a:lnTo>
                      <a:pt x="0" y="140"/>
                    </a:lnTo>
                    <a:lnTo>
                      <a:pt x="0" y="139"/>
                    </a:lnTo>
                    <a:lnTo>
                      <a:pt x="0" y="137"/>
                    </a:lnTo>
                    <a:lnTo>
                      <a:pt x="2" y="117"/>
                    </a:lnTo>
                    <a:lnTo>
                      <a:pt x="16" y="92"/>
                    </a:lnTo>
                    <a:lnTo>
                      <a:pt x="26" y="77"/>
                    </a:lnTo>
                    <a:lnTo>
                      <a:pt x="37" y="63"/>
                    </a:lnTo>
                    <a:lnTo>
                      <a:pt x="45" y="53"/>
                    </a:lnTo>
                    <a:lnTo>
                      <a:pt x="53" y="43"/>
                    </a:lnTo>
                    <a:lnTo>
                      <a:pt x="65" y="30"/>
                    </a:lnTo>
                    <a:lnTo>
                      <a:pt x="83" y="14"/>
                    </a:lnTo>
                    <a:lnTo>
                      <a:pt x="97" y="2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129" y="6"/>
                    </a:lnTo>
                    <a:lnTo>
                      <a:pt x="130" y="7"/>
                    </a:lnTo>
                    <a:lnTo>
                      <a:pt x="146" y="22"/>
                    </a:lnTo>
                    <a:lnTo>
                      <a:pt x="148" y="23"/>
                    </a:lnTo>
                    <a:lnTo>
                      <a:pt x="126" y="53"/>
                    </a:lnTo>
                    <a:lnTo>
                      <a:pt x="122" y="55"/>
                    </a:lnTo>
                    <a:lnTo>
                      <a:pt x="120" y="56"/>
                    </a:lnTo>
                    <a:lnTo>
                      <a:pt x="117" y="55"/>
                    </a:lnTo>
                    <a:lnTo>
                      <a:pt x="110" y="54"/>
                    </a:lnTo>
                    <a:lnTo>
                      <a:pt x="94" y="51"/>
                    </a:lnTo>
                    <a:lnTo>
                      <a:pt x="86" y="59"/>
                    </a:lnTo>
                    <a:lnTo>
                      <a:pt x="77" y="69"/>
                    </a:lnTo>
                    <a:lnTo>
                      <a:pt x="65" y="85"/>
                    </a:lnTo>
                    <a:lnTo>
                      <a:pt x="60" y="93"/>
                    </a:lnTo>
                    <a:lnTo>
                      <a:pt x="60" y="97"/>
                    </a:lnTo>
                    <a:lnTo>
                      <a:pt x="61" y="103"/>
                    </a:lnTo>
                    <a:lnTo>
                      <a:pt x="64" y="109"/>
                    </a:lnTo>
                    <a:lnTo>
                      <a:pt x="68" y="115"/>
                    </a:lnTo>
                    <a:lnTo>
                      <a:pt x="69" y="117"/>
                    </a:lnTo>
                    <a:lnTo>
                      <a:pt x="69" y="119"/>
                    </a:lnTo>
                    <a:lnTo>
                      <a:pt x="51" y="145"/>
                    </a:lnTo>
                    <a:lnTo>
                      <a:pt x="45" y="148"/>
                    </a:lnTo>
                    <a:lnTo>
                      <a:pt x="43" y="150"/>
                    </a:lnTo>
                    <a:lnTo>
                      <a:pt x="40" y="151"/>
                    </a:lnTo>
                    <a:lnTo>
                      <a:pt x="38" y="15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23" name="" descr=""/>
            <p:cNvPicPr/>
            <p:nvPr/>
          </p:nvPicPr>
          <p:blipFill>
            <a:blip r:embed="rId1"/>
            <a:stretch/>
          </p:blipFill>
          <p:spPr>
            <a:xfrm>
              <a:off x="4791240" y="2892960"/>
              <a:ext cx="533520" cy="50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4" name="Old%20Black%20Phone" descr=""/>
            <p:cNvPicPr/>
            <p:nvPr/>
          </p:nvPicPr>
          <p:blipFill>
            <a:blip r:embed="rId2"/>
            <a:srcRect l="3855" t="0" r="5140" b="0"/>
            <a:stretch/>
          </p:blipFill>
          <p:spPr>
            <a:xfrm>
              <a:off x="6406920" y="2988000"/>
              <a:ext cx="382320" cy="2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5" name="" descr=""/>
            <p:cNvPicPr/>
            <p:nvPr/>
          </p:nvPicPr>
          <p:blipFill>
            <a:blip r:embed="rId3"/>
            <a:stretch/>
          </p:blipFill>
          <p:spPr>
            <a:xfrm>
              <a:off x="7477200" y="2952360"/>
              <a:ext cx="507960" cy="44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6" name=""/>
            <p:cNvSpPr/>
            <p:nvPr/>
          </p:nvSpPr>
          <p:spPr>
            <a:xfrm flipV="1">
              <a:off x="5243040" y="2515680"/>
              <a:ext cx="984240" cy="41904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H="1">
              <a:off x="6731280" y="2591280"/>
              <a:ext cx="628200" cy="41220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688800" y="2603520"/>
              <a:ext cx="795960" cy="38412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5752800" y="2515680"/>
              <a:ext cx="1501560" cy="48636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663680" y="2600280"/>
              <a:ext cx="346680" cy="34308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V="1">
              <a:off x="5923440" y="1699560"/>
              <a:ext cx="687960" cy="151200"/>
            </a:xfrm>
            <a:prstGeom prst="line">
              <a:avLst/>
            </a:prstGeom>
            <a:ln w="28440">
              <a:solidFill>
                <a:srgbClr val="66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306920" y="1733040"/>
              <a:ext cx="896760" cy="378720"/>
            </a:xfrm>
            <a:prstGeom prst="line">
              <a:avLst/>
            </a:prstGeom>
            <a:ln w="28440">
              <a:solidFill>
                <a:srgbClr val="66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6550920" y="1826640"/>
              <a:ext cx="269280" cy="341640"/>
            </a:xfrm>
            <a:prstGeom prst="line">
              <a:avLst/>
            </a:prstGeom>
            <a:ln w="28440">
              <a:solidFill>
                <a:srgbClr val="66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36280" y="1826640"/>
              <a:ext cx="380520" cy="315000"/>
            </a:xfrm>
            <a:prstGeom prst="line">
              <a:avLst/>
            </a:prstGeom>
            <a:ln w="28440">
              <a:solidFill>
                <a:srgbClr val="66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5154480" y="1766520"/>
              <a:ext cx="1560600" cy="1143720"/>
            </a:xfrm>
            <a:prstGeom prst="line">
              <a:avLst/>
            </a:prstGeom>
            <a:ln w="28440">
              <a:solidFill>
                <a:srgbClr val="66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8350200" y="1414440"/>
              <a:ext cx="508320" cy="419040"/>
            </a:xfrm>
            <a:prstGeom prst="can">
              <a:avLst>
                <a:gd name="adj" fmla="val 18879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364520" y="1616760"/>
              <a:ext cx="985320" cy="0"/>
            </a:xfrm>
            <a:prstGeom prst="line">
              <a:avLst/>
            </a:prstGeom>
            <a:ln w="28440">
              <a:solidFill>
                <a:srgbClr val="66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8" name=""/>
            <p:cNvGrpSpPr/>
            <p:nvPr/>
          </p:nvGrpSpPr>
          <p:grpSpPr>
            <a:xfrm>
              <a:off x="6762600" y="2466000"/>
              <a:ext cx="2325240" cy="866880"/>
              <a:chOff x="6762600" y="2466000"/>
              <a:chExt cx="2325240" cy="866880"/>
            </a:xfrm>
          </p:grpSpPr>
          <p:pic>
            <p:nvPicPr>
              <p:cNvPr id="1739" name="home_handspringvisor-small" descr=""/>
              <p:cNvPicPr/>
              <p:nvPr/>
            </p:nvPicPr>
            <p:blipFill>
              <a:blip r:embed="rId4"/>
              <a:stretch/>
            </p:blipFill>
            <p:spPr>
              <a:xfrm>
                <a:off x="8742960" y="2924280"/>
                <a:ext cx="344880" cy="40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0" name=""/>
              <p:cNvSpPr/>
              <p:nvPr/>
            </p:nvSpPr>
            <p:spPr>
              <a:xfrm>
                <a:off x="8650800" y="2466000"/>
                <a:ext cx="280080" cy="502200"/>
              </a:xfrm>
              <a:prstGeom prst="line">
                <a:avLst/>
              </a:prstGeom>
              <a:ln w="28440">
                <a:solidFill>
                  <a:srgbClr val="66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785360" y="2506680"/>
                <a:ext cx="997560" cy="459720"/>
              </a:xfrm>
              <a:prstGeom prst="line">
                <a:avLst/>
              </a:prstGeom>
              <a:ln w="2844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762600" y="2511720"/>
                <a:ext cx="1991880" cy="533880"/>
              </a:xfrm>
              <a:prstGeom prst="line">
                <a:avLst/>
              </a:prstGeom>
              <a:ln w="2844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43" name="samsung_3g_cell_phones_a400" descr=""/>
            <p:cNvPicPr/>
            <p:nvPr/>
          </p:nvPicPr>
          <p:blipFill>
            <a:blip r:embed="rId5">
              <a:lum contrast="36000"/>
            </a:blip>
            <a:stretch/>
          </p:blipFill>
          <p:spPr>
            <a:xfrm>
              <a:off x="7935120" y="2977200"/>
              <a:ext cx="25200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4" name=""/>
            <p:cNvSpPr/>
            <p:nvPr/>
          </p:nvSpPr>
          <p:spPr>
            <a:xfrm>
              <a:off x="8212320" y="2043360"/>
              <a:ext cx="632880" cy="4298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ese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244640" y="2177280"/>
              <a:ext cx="632520" cy="429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voic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186240" y="2184480"/>
              <a:ext cx="632880" cy="429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vide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296680" y="1687320"/>
              <a:ext cx="632880" cy="429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e-P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604200" y="1415880"/>
              <a:ext cx="736200" cy="429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s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ordina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EB8-B117-4826-889E-392E01DD3F5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gent UM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34800" y="816120"/>
            <a:ext cx="85075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1880" indent="-281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Odell ’00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880" indent="-28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exploration of different ways that UML can be used to capture agent intera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880" indent="-28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types based on KQML – request, assert, refuse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1320" indent="-2696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set of messages relevant to e-commerce, alerting services, long-running activities, supply chain life-cycle, manufacturing life-cycle, collaborative technologies, pervasive computing,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"/>
          <p:cNvSpPr/>
          <p:nvPr/>
        </p:nvSpPr>
        <p:spPr>
          <a:xfrm>
            <a:off x="2353680" y="6459480"/>
            <a:ext cx="4330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nograd-Flores perspective (classic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2" name="" descr=""/>
          <p:cNvPicPr/>
          <p:nvPr/>
        </p:nvPicPr>
        <p:blipFill>
          <a:blip r:embed="rId1"/>
          <a:stretch/>
        </p:blipFill>
        <p:spPr>
          <a:xfrm>
            <a:off x="2433600" y="3691080"/>
            <a:ext cx="4303800" cy="277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EB8-5033-49D6-B170-1CB820564174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0" y="6719760"/>
            <a:ext cx="809136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7277040" y="0"/>
            <a:ext cx="18669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171360" y="75960"/>
            <a:ext cx="83692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-UML: focus on model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"/>
          <p:cNvSpPr txBox="1"/>
          <p:nvPr/>
        </p:nvSpPr>
        <p:spPr>
          <a:xfrm>
            <a:off x="144360" y="617400"/>
            <a:ext cx="63136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46600" indent="-246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. levels: Global, interaction, inter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6600" indent="-246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cus not on analysis or automated compos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6600" indent="-246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3448080" y="4375080"/>
            <a:ext cx="2484000" cy="2265120"/>
            <a:chOff x="3448080" y="4375080"/>
            <a:chExt cx="2484000" cy="2265120"/>
          </a:xfrm>
        </p:grpSpPr>
        <p:pic>
          <p:nvPicPr>
            <p:cNvPr id="1758" name="" descr=""/>
            <p:cNvPicPr/>
            <p:nvPr/>
          </p:nvPicPr>
          <p:blipFill>
            <a:blip r:embed="rId1"/>
            <a:stretch/>
          </p:blipFill>
          <p:spPr>
            <a:xfrm>
              <a:off x="3475440" y="4375080"/>
              <a:ext cx="2427120" cy="22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9" name=""/>
            <p:cNvSpPr/>
            <p:nvPr/>
          </p:nvSpPr>
          <p:spPr>
            <a:xfrm>
              <a:off x="3448080" y="6478920"/>
              <a:ext cx="90000" cy="15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842080" y="6487200"/>
              <a:ext cx="90000" cy="15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475440" y="4436280"/>
              <a:ext cx="0" cy="241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233280" y="4462560"/>
            <a:ext cx="2913120" cy="2076480"/>
            <a:chOff x="233280" y="4462560"/>
            <a:chExt cx="2913120" cy="2076480"/>
          </a:xfrm>
        </p:grpSpPr>
        <p:pic>
          <p:nvPicPr>
            <p:cNvPr id="1763" name="" descr=""/>
            <p:cNvPicPr/>
            <p:nvPr/>
          </p:nvPicPr>
          <p:blipFill>
            <a:blip r:embed="rId2"/>
            <a:stretch/>
          </p:blipFill>
          <p:spPr>
            <a:xfrm>
              <a:off x="248400" y="4462560"/>
              <a:ext cx="289800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4" name=""/>
            <p:cNvSpPr/>
            <p:nvPr/>
          </p:nvSpPr>
          <p:spPr>
            <a:xfrm>
              <a:off x="233280" y="6091560"/>
              <a:ext cx="10800" cy="263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5" name=""/>
          <p:cNvSpPr/>
          <p:nvPr/>
        </p:nvSpPr>
        <p:spPr>
          <a:xfrm>
            <a:off x="406800" y="6353280"/>
            <a:ext cx="26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aboration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478560" y="3355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tivity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with Swim Lanes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 F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798000" y="658008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quence Ch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8" name="" descr=""/>
          <p:cNvPicPr/>
          <p:nvPr/>
        </p:nvPicPr>
        <p:blipFill>
          <a:blip r:embed="rId3"/>
          <a:stretch/>
        </p:blipFill>
        <p:spPr>
          <a:xfrm>
            <a:off x="6424560" y="750960"/>
            <a:ext cx="2562120" cy="2651040"/>
          </a:xfrm>
          <a:prstGeom prst="rect">
            <a:avLst/>
          </a:prstGeom>
          <a:ln w="0">
            <a:noFill/>
          </a:ln>
        </p:spPr>
      </p:pic>
      <p:pic>
        <p:nvPicPr>
          <p:cNvPr id="1769" name="" descr=""/>
          <p:cNvPicPr/>
          <p:nvPr/>
        </p:nvPicPr>
        <p:blipFill>
          <a:blip r:embed="rId4"/>
          <a:stretch/>
        </p:blipFill>
        <p:spPr>
          <a:xfrm>
            <a:off x="6529320" y="4429080"/>
            <a:ext cx="2327400" cy="2086200"/>
          </a:xfrm>
          <a:prstGeom prst="rect">
            <a:avLst/>
          </a:prstGeom>
          <a:ln w="0">
            <a:noFill/>
          </a:ln>
        </p:spPr>
      </p:pic>
      <p:sp>
        <p:nvSpPr>
          <p:cNvPr id="1770" name=""/>
          <p:cNvSpPr/>
          <p:nvPr/>
        </p:nvSpPr>
        <p:spPr>
          <a:xfrm>
            <a:off x="6224400" y="653580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sting (mix &amp; mat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1" name="" descr=""/>
          <p:cNvPicPr/>
          <p:nvPr/>
        </p:nvPicPr>
        <p:blipFill>
          <a:blip r:embed="rId5"/>
          <a:stretch/>
        </p:blipFill>
        <p:spPr>
          <a:xfrm>
            <a:off x="1479600" y="1724040"/>
            <a:ext cx="2908080" cy="1862280"/>
          </a:xfrm>
          <a:prstGeom prst="rect">
            <a:avLst/>
          </a:prstGeom>
          <a:ln w="0">
            <a:noFill/>
          </a:ln>
        </p:spPr>
      </p:pic>
      <p:sp>
        <p:nvSpPr>
          <p:cNvPr id="1772" name=""/>
          <p:cNvSpPr/>
          <p:nvPr/>
        </p:nvSpPr>
        <p:spPr>
          <a:xfrm>
            <a:off x="1500120" y="3568680"/>
            <a:ext cx="27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ckages (with nest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for global aspect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F63E-A06E-4B9F-8B33-043B3EECA3F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"/>
          <p:cNvSpPr/>
          <p:nvPr/>
        </p:nvSpPr>
        <p:spPr>
          <a:xfrm>
            <a:off x="7227720" y="0"/>
            <a:ext cx="19162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334440" y="286920"/>
            <a:ext cx="83696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“Roman” approach to composition that bridges to DL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Berardi et al ’03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3003480" y="3193920"/>
            <a:ext cx="1215720" cy="1545120"/>
            <a:chOff x="3003480" y="3193920"/>
            <a:chExt cx="1215720" cy="1545120"/>
          </a:xfrm>
        </p:grpSpPr>
        <p:sp>
          <p:nvSpPr>
            <p:cNvPr id="1776" name=""/>
            <p:cNvSpPr/>
            <p:nvPr/>
          </p:nvSpPr>
          <p:spPr>
            <a:xfrm>
              <a:off x="3467520" y="3193920"/>
              <a:ext cx="751680" cy="1425600"/>
            </a:xfrm>
            <a:prstGeom prst="line">
              <a:avLst/>
            </a:prstGeom>
            <a:ln w="28440">
              <a:solidFill>
                <a:srgbClr val="99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rot="3971400">
              <a:off x="3066120" y="3716280"/>
              <a:ext cx="1011960" cy="7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99"/>
                  </a:solidFill>
                  <a:latin typeface="Arial"/>
                </a:rPr>
                <a:t>fulfill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99"/>
                  </a:solidFill>
                  <a:latin typeface="Arial"/>
                </a:rPr>
                <a:t>order</a:t>
              </a:r>
              <a:r>
                <a:rPr b="1" lang="en-US" sz="2400" spc="-1" strike="noStrike" baseline="-25000">
                  <a:solidFill>
                    <a:srgbClr val="9900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8" name=""/>
          <p:cNvGrpSpPr/>
          <p:nvPr/>
        </p:nvGrpSpPr>
        <p:grpSpPr>
          <a:xfrm>
            <a:off x="4040280" y="2252520"/>
            <a:ext cx="2787480" cy="752040"/>
            <a:chOff x="4040280" y="2252520"/>
            <a:chExt cx="2787480" cy="752040"/>
          </a:xfrm>
        </p:grpSpPr>
        <p:sp>
          <p:nvSpPr>
            <p:cNvPr id="1779" name=""/>
            <p:cNvSpPr/>
            <p:nvPr/>
          </p:nvSpPr>
          <p:spPr>
            <a:xfrm>
              <a:off x="4040280" y="2995560"/>
              <a:ext cx="2787480" cy="0"/>
            </a:xfrm>
            <a:prstGeom prst="line">
              <a:avLst/>
            </a:prstGeom>
            <a:ln w="28440">
              <a:solidFill>
                <a:srgbClr val="99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497480" y="2252520"/>
              <a:ext cx="21780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99"/>
                  </a:solidFill>
                  <a:latin typeface="Arial"/>
                </a:rPr>
                <a:t>authorize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99"/>
                  </a:solidFill>
                  <a:latin typeface="Arial"/>
                </a:rPr>
                <a:t>line_of_cred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312840" y="5716080"/>
            <a:ext cx="868032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level of abstraction than mess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actments still have different life-cycl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2" name=""/>
          <p:cNvGrpSpPr/>
          <p:nvPr/>
        </p:nvGrpSpPr>
        <p:grpSpPr>
          <a:xfrm>
            <a:off x="261720" y="2703600"/>
            <a:ext cx="788760" cy="705960"/>
            <a:chOff x="261720" y="2703600"/>
            <a:chExt cx="788760" cy="705960"/>
          </a:xfrm>
        </p:grpSpPr>
        <p:sp>
          <p:nvSpPr>
            <p:cNvPr id="1783" name=""/>
            <p:cNvSpPr/>
            <p:nvPr/>
          </p:nvSpPr>
          <p:spPr>
            <a:xfrm>
              <a:off x="581040" y="2703600"/>
              <a:ext cx="183600" cy="14220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580680" y="2856240"/>
              <a:ext cx="74520" cy="20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261720" y="3065400"/>
              <a:ext cx="305640" cy="19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67720" y="3065400"/>
              <a:ext cx="49320" cy="34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262080" y="2935440"/>
              <a:ext cx="78840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8" name=""/>
          <p:cNvSpPr/>
          <p:nvPr/>
        </p:nvSpPr>
        <p:spPr>
          <a:xfrm>
            <a:off x="2887560" y="2459160"/>
            <a:ext cx="1057320" cy="100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921360" y="2427120"/>
            <a:ext cx="1057320" cy="1003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670200" y="4659480"/>
            <a:ext cx="1282680" cy="1002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lie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5821200" y="4662360"/>
            <a:ext cx="1252800" cy="1003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lie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2" name=""/>
          <p:cNvGrpSpPr/>
          <p:nvPr/>
        </p:nvGrpSpPr>
        <p:grpSpPr>
          <a:xfrm>
            <a:off x="4027320" y="3134880"/>
            <a:ext cx="2813040" cy="876960"/>
            <a:chOff x="4027320" y="3134880"/>
            <a:chExt cx="2813040" cy="876960"/>
          </a:xfrm>
        </p:grpSpPr>
        <p:sp>
          <p:nvSpPr>
            <p:cNvPr id="1793" name=""/>
            <p:cNvSpPr/>
            <p:nvPr/>
          </p:nvSpPr>
          <p:spPr>
            <a:xfrm flipH="1">
              <a:off x="4027320" y="3236760"/>
              <a:ext cx="2813040" cy="2520"/>
            </a:xfrm>
            <a:prstGeom prst="line">
              <a:avLst/>
            </a:prstGeom>
            <a:ln w="28440">
              <a:solidFill>
                <a:srgbClr val="99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rot="21597600">
              <a:off x="4781160" y="3135240"/>
              <a:ext cx="15969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99"/>
                  </a:solidFill>
                  <a:latin typeface="Arial"/>
                </a:rPr>
                <a:t>pay_ supplier</a:t>
              </a:r>
              <a:r>
                <a:rPr b="1" lang="en-US" sz="2400" spc="-1" strike="noStrike" baseline="-25000">
                  <a:solidFill>
                    <a:srgbClr val="9900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5" name=""/>
          <p:cNvSpPr/>
          <p:nvPr/>
        </p:nvSpPr>
        <p:spPr>
          <a:xfrm>
            <a:off x="334800" y="1293840"/>
            <a:ext cx="868068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d on an action-based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-commerce example, with focus on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1009800" y="3033720"/>
            <a:ext cx="1847880" cy="12600"/>
          </a:xfrm>
          <a:prstGeom prst="line">
            <a:avLst/>
          </a:prstGeom>
          <a:ln w="28440">
            <a:solidFill>
              <a:srgbClr val="99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120680" y="2643120"/>
            <a:ext cx="217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sell_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8521-27BB-4BB7-ACE0-8A149C68D58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/>
          <p:nvPr/>
        </p:nvSpPr>
        <p:spPr>
          <a:xfrm>
            <a:off x="705816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58400" y="202680"/>
            <a:ext cx="89852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cus on one Client, one Serv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00" name=""/>
          <p:cNvGrpSpPr/>
          <p:nvPr/>
        </p:nvGrpSpPr>
        <p:grpSpPr>
          <a:xfrm>
            <a:off x="1436400" y="2554200"/>
            <a:ext cx="788760" cy="706320"/>
            <a:chOff x="1436400" y="2554200"/>
            <a:chExt cx="788760" cy="706320"/>
          </a:xfrm>
        </p:grpSpPr>
        <p:sp>
          <p:nvSpPr>
            <p:cNvPr id="1801" name=""/>
            <p:cNvSpPr/>
            <p:nvPr/>
          </p:nvSpPr>
          <p:spPr>
            <a:xfrm>
              <a:off x="1755720" y="2554200"/>
              <a:ext cx="183600" cy="14220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1755360" y="2707200"/>
              <a:ext cx="74520" cy="20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1436400" y="2916360"/>
              <a:ext cx="305640" cy="19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742400" y="2916360"/>
              <a:ext cx="49320" cy="34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V="1">
              <a:off x="1436760" y="2786040"/>
              <a:ext cx="788400" cy="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6" name=""/>
          <p:cNvSpPr/>
          <p:nvPr/>
        </p:nvSpPr>
        <p:spPr>
          <a:xfrm>
            <a:off x="3643200" y="2046240"/>
            <a:ext cx="2160720" cy="160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ic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727440" y="2747880"/>
            <a:ext cx="944640" cy="816120"/>
          </a:xfrm>
          <a:prstGeom prst="roundRect">
            <a:avLst>
              <a:gd name="adj" fmla="val 2677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n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176040" y="846000"/>
            <a:ext cx="88059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46880" indent="-1468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ill down on customer buying C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6880" indent="-1468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ine sub-actions inside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sell_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756320" y="2735280"/>
            <a:ext cx="944280" cy="816120"/>
          </a:xfrm>
          <a:prstGeom prst="roundRect">
            <a:avLst>
              <a:gd name="adj" fmla="val 2677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 flipV="1">
            <a:off x="5705640" y="3108240"/>
            <a:ext cx="733320" cy="12960"/>
          </a:xfrm>
          <a:prstGeom prst="line">
            <a:avLst/>
          </a:prstGeom>
          <a:ln w="28440">
            <a:solidFill>
              <a:srgbClr val="99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 flipV="1">
            <a:off x="5692680" y="3260520"/>
            <a:ext cx="733680" cy="12600"/>
          </a:xfrm>
          <a:prstGeom prst="line">
            <a:avLst/>
          </a:prstGeom>
          <a:ln w="28440">
            <a:solidFill>
              <a:srgbClr val="99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619600" y="3500280"/>
            <a:ext cx="658800" cy="400320"/>
          </a:xfrm>
          <a:prstGeom prst="line">
            <a:avLst/>
          </a:prstGeom>
          <a:ln w="28440">
            <a:solidFill>
              <a:srgbClr val="99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2801520" y="4247640"/>
            <a:ext cx="6342120" cy="24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tract behavior of the Servi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until Client selects “End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8576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 Client a choice of actions to be perform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08576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it for Client cho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08576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form action chosen by Cli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4" name=""/>
          <p:cNvSpPr/>
          <p:nvPr/>
        </p:nvSpPr>
        <p:spPr>
          <a:xfrm flipH="1">
            <a:off x="2052720" y="5105520"/>
            <a:ext cx="7920" cy="514080"/>
          </a:xfrm>
          <a:prstGeom prst="line">
            <a:avLst/>
          </a:prstGeom>
          <a:ln w="28440">
            <a:solidFill>
              <a:srgbClr val="99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5" name=""/>
          <p:cNvGrpSpPr/>
          <p:nvPr/>
        </p:nvGrpSpPr>
        <p:grpSpPr>
          <a:xfrm>
            <a:off x="1807920" y="4454640"/>
            <a:ext cx="584280" cy="574200"/>
            <a:chOff x="1807920" y="4454640"/>
            <a:chExt cx="584280" cy="574200"/>
          </a:xfrm>
        </p:grpSpPr>
        <p:sp>
          <p:nvSpPr>
            <p:cNvPr id="1816" name=""/>
            <p:cNvSpPr/>
            <p:nvPr/>
          </p:nvSpPr>
          <p:spPr>
            <a:xfrm>
              <a:off x="2044440" y="4454640"/>
              <a:ext cx="135720" cy="11556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H="1">
              <a:off x="2044080" y="4578840"/>
              <a:ext cx="55080" cy="16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1807920" y="4749120"/>
              <a:ext cx="22644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034720" y="4749120"/>
              <a:ext cx="36360" cy="27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V="1">
              <a:off x="1808280" y="4642920"/>
              <a:ext cx="58392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1" name=""/>
          <p:cNvSpPr/>
          <p:nvPr/>
        </p:nvSpPr>
        <p:spPr>
          <a:xfrm>
            <a:off x="1601640" y="5689440"/>
            <a:ext cx="857520" cy="816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-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89040" y="45925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580680" y="58626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2421000" y="1824120"/>
            <a:ext cx="1214280" cy="2035800"/>
            <a:chOff x="2421000" y="1824120"/>
            <a:chExt cx="1214280" cy="2035800"/>
          </a:xfrm>
        </p:grpSpPr>
        <p:grpSp>
          <p:nvGrpSpPr>
            <p:cNvPr id="1825" name=""/>
            <p:cNvGrpSpPr/>
            <p:nvPr/>
          </p:nvGrpSpPr>
          <p:grpSpPr>
            <a:xfrm>
              <a:off x="2421000" y="1824120"/>
              <a:ext cx="1201680" cy="423000"/>
              <a:chOff x="2421000" y="1824120"/>
              <a:chExt cx="1201680" cy="423000"/>
            </a:xfrm>
          </p:grpSpPr>
          <p:sp>
            <p:nvSpPr>
              <p:cNvPr id="1826" name=""/>
              <p:cNvSpPr/>
              <p:nvPr/>
            </p:nvSpPr>
            <p:spPr>
              <a:xfrm>
                <a:off x="2448000" y="2200320"/>
                <a:ext cx="1174680" cy="0"/>
              </a:xfrm>
              <a:prstGeom prst="line">
                <a:avLst/>
              </a:prstGeom>
              <a:ln w="28440">
                <a:solidFill>
                  <a:srgbClr val="990099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2421000" y="1824120"/>
                <a:ext cx="11113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99"/>
                    </a:solidFill>
                    <a:latin typeface="Arial"/>
                  </a:rPr>
                  <a:t>initi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2421000" y="2154240"/>
              <a:ext cx="1201680" cy="423000"/>
              <a:chOff x="2421000" y="2154240"/>
              <a:chExt cx="1201680" cy="423000"/>
            </a:xfrm>
          </p:grpSpPr>
          <p:sp>
            <p:nvSpPr>
              <p:cNvPr id="1829" name=""/>
              <p:cNvSpPr/>
              <p:nvPr/>
            </p:nvSpPr>
            <p:spPr>
              <a:xfrm>
                <a:off x="2448000" y="2530440"/>
                <a:ext cx="1174680" cy="0"/>
              </a:xfrm>
              <a:prstGeom prst="line">
                <a:avLst/>
              </a:prstGeom>
              <a:ln w="28440">
                <a:solidFill>
                  <a:srgbClr val="990099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2421000" y="2154240"/>
                <a:ext cx="11113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99"/>
                    </a:solidFill>
                    <a:latin typeface="Arial"/>
                  </a:rPr>
                  <a:t>searc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1" name=""/>
            <p:cNvGrpSpPr/>
            <p:nvPr/>
          </p:nvGrpSpPr>
          <p:grpSpPr>
            <a:xfrm>
              <a:off x="2421000" y="2459160"/>
              <a:ext cx="1201680" cy="423000"/>
              <a:chOff x="2421000" y="2459160"/>
              <a:chExt cx="1201680" cy="423000"/>
            </a:xfrm>
          </p:grpSpPr>
          <p:sp>
            <p:nvSpPr>
              <p:cNvPr id="1832" name=""/>
              <p:cNvSpPr/>
              <p:nvPr/>
            </p:nvSpPr>
            <p:spPr>
              <a:xfrm>
                <a:off x="2448000" y="2835360"/>
                <a:ext cx="1174680" cy="0"/>
              </a:xfrm>
              <a:prstGeom prst="line">
                <a:avLst/>
              </a:prstGeom>
              <a:ln w="28440">
                <a:solidFill>
                  <a:srgbClr val="990099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421000" y="2459160"/>
                <a:ext cx="11113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99"/>
                    </a:solidFill>
                    <a:latin typeface="Arial"/>
                  </a:rPr>
                  <a:t>list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4" name=""/>
            <p:cNvGrpSpPr/>
            <p:nvPr/>
          </p:nvGrpSpPr>
          <p:grpSpPr>
            <a:xfrm>
              <a:off x="2421000" y="2776680"/>
              <a:ext cx="1201680" cy="423000"/>
              <a:chOff x="2421000" y="2776680"/>
              <a:chExt cx="1201680" cy="423000"/>
            </a:xfrm>
          </p:grpSpPr>
          <p:sp>
            <p:nvSpPr>
              <p:cNvPr id="1835" name=""/>
              <p:cNvSpPr/>
              <p:nvPr/>
            </p:nvSpPr>
            <p:spPr>
              <a:xfrm>
                <a:off x="2448000" y="3152880"/>
                <a:ext cx="1174680" cy="0"/>
              </a:xfrm>
              <a:prstGeom prst="line">
                <a:avLst/>
              </a:prstGeom>
              <a:ln w="28440">
                <a:solidFill>
                  <a:srgbClr val="990099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421000" y="2776680"/>
                <a:ext cx="11113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99"/>
                    </a:solidFill>
                    <a:latin typeface="Arial"/>
                  </a:rPr>
                  <a:t>car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7" name=""/>
            <p:cNvGrpSpPr/>
            <p:nvPr/>
          </p:nvGrpSpPr>
          <p:grpSpPr>
            <a:xfrm>
              <a:off x="2421000" y="3094200"/>
              <a:ext cx="1201680" cy="423000"/>
              <a:chOff x="2421000" y="3094200"/>
              <a:chExt cx="1201680" cy="423000"/>
            </a:xfrm>
          </p:grpSpPr>
          <p:sp>
            <p:nvSpPr>
              <p:cNvPr id="1838" name=""/>
              <p:cNvSpPr/>
              <p:nvPr/>
            </p:nvSpPr>
            <p:spPr>
              <a:xfrm>
                <a:off x="2448000" y="3470400"/>
                <a:ext cx="1174680" cy="0"/>
              </a:xfrm>
              <a:prstGeom prst="line">
                <a:avLst/>
              </a:prstGeom>
              <a:ln w="28440">
                <a:solidFill>
                  <a:srgbClr val="990099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421000" y="3094200"/>
                <a:ext cx="11113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99"/>
                    </a:solidFill>
                    <a:latin typeface="Arial"/>
                  </a:rPr>
                  <a:t>bu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0" name=""/>
            <p:cNvGrpSpPr/>
            <p:nvPr/>
          </p:nvGrpSpPr>
          <p:grpSpPr>
            <a:xfrm>
              <a:off x="2433600" y="3436920"/>
              <a:ext cx="1201680" cy="423000"/>
              <a:chOff x="2433600" y="3436920"/>
              <a:chExt cx="1201680" cy="423000"/>
            </a:xfrm>
          </p:grpSpPr>
          <p:sp>
            <p:nvSpPr>
              <p:cNvPr id="1841" name=""/>
              <p:cNvSpPr/>
              <p:nvPr/>
            </p:nvSpPr>
            <p:spPr>
              <a:xfrm>
                <a:off x="2460600" y="3813120"/>
                <a:ext cx="1174680" cy="0"/>
              </a:xfrm>
              <a:prstGeom prst="line">
                <a:avLst/>
              </a:prstGeom>
              <a:ln w="28440">
                <a:solidFill>
                  <a:srgbClr val="990099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2433600" y="3436920"/>
                <a:ext cx="11113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99"/>
                    </a:solidFill>
                    <a:latin typeface="Arial"/>
                  </a:rPr>
                  <a:t>e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F43-6F26-4459-AB4B-F6B73EA9C98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06752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7480" y="323640"/>
            <a:ext cx="8369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sing orde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fer IOPA properti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6160" y="1641240"/>
            <a:ext cx="8896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8520" indent="-218520">
              <a:spcBef>
                <a:spcPts val="524"/>
              </a:spcBef>
              <a:buClr>
                <a:srgbClr val="cc0066"/>
              </a:buClr>
              <a:buSzPct val="125000"/>
              <a:buFont typeface="Comic Sans MS"/>
              <a:buChar char="•"/>
              <a:tabLst>
                <a:tab algn="l" pos="6683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Conditions on input/outp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86080" indent="-21852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6683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valid client sends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n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bi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cre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080" indent="-21852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6683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pay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received, then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s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81600" indent="0">
              <a:lnSpc>
                <a:spcPct val="20000"/>
              </a:lnSpc>
              <a:spcBef>
                <a:spcPts val="451"/>
              </a:spcBef>
              <a:buNone/>
              <a:tabLst>
                <a:tab algn="l" pos="6683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8520" indent="-218520">
              <a:spcBef>
                <a:spcPts val="524"/>
              </a:spcBef>
              <a:buClr>
                <a:srgbClr val="cc0066"/>
              </a:buClr>
              <a:buSzPct val="125000"/>
              <a:buFont typeface="Comic Sans MS"/>
              <a:buChar char="•"/>
              <a:tabLst>
                <a:tab algn="l" pos="6683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Conditions on “state of world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86080" indent="-21852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6683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ount of $$ in line of cred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080" indent="-21852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6683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lier ships order when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pay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receiv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81600" indent="0">
              <a:lnSpc>
                <a:spcPct val="20000"/>
              </a:lnSpc>
              <a:spcBef>
                <a:spcPts val="451"/>
              </a:spcBef>
              <a:buNone/>
              <a:tabLst>
                <a:tab algn="l" pos="6683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8520" indent="-21852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6683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forming inference (“everything else fixed”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86080" indent="-21852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6683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ume the Bank satisfies: if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bi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ceived and sufficient funds, then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pay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s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080" indent="-21852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6683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er that: “an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om a valid client with sufficient funds will result in a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receip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shipment of the orde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5184720" y="603360"/>
            <a:ext cx="9334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148360" y="1155240"/>
            <a:ext cx="947520" cy="1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45480" y="1181160"/>
            <a:ext cx="9493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67800" y="628560"/>
            <a:ext cx="9334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93360" y="2221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22800" y="1144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rece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15040" y="2350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93360" y="114768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pa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1720" y="271440"/>
            <a:ext cx="1766880" cy="126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EBFF-65C2-482A-9F77-D1903BD3C6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"/>
          <p:cNvSpPr/>
          <p:nvPr/>
        </p:nvSpPr>
        <p:spPr>
          <a:xfrm>
            <a:off x="705816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2600" y="6513480"/>
            <a:ext cx="5561280" cy="293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158400" y="-12600"/>
            <a:ext cx="8745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cution Tree” in Roman mod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380880" y="585360"/>
            <a:ext cx="876312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Extern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execution tr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ll possible sequences of actions supported by serv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1494000" y="2692440"/>
            <a:ext cx="7920" cy="514440"/>
          </a:xfrm>
          <a:prstGeom prst="line">
            <a:avLst/>
          </a:prstGeom>
          <a:ln w="28440">
            <a:solidFill>
              <a:srgbClr val="99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8" name=""/>
          <p:cNvGrpSpPr/>
          <p:nvPr/>
        </p:nvGrpSpPr>
        <p:grpSpPr>
          <a:xfrm>
            <a:off x="1248840" y="2041560"/>
            <a:ext cx="584640" cy="574200"/>
            <a:chOff x="1248840" y="2041560"/>
            <a:chExt cx="584640" cy="574200"/>
          </a:xfrm>
        </p:grpSpPr>
        <p:sp>
          <p:nvSpPr>
            <p:cNvPr id="1849" name=""/>
            <p:cNvSpPr/>
            <p:nvPr/>
          </p:nvSpPr>
          <p:spPr>
            <a:xfrm>
              <a:off x="1485360" y="2041560"/>
              <a:ext cx="136080" cy="11556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1485000" y="2165760"/>
              <a:ext cx="55080" cy="16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>
              <a:off x="1248840" y="2336040"/>
              <a:ext cx="22644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475640" y="2336040"/>
              <a:ext cx="36360" cy="27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V="1">
              <a:off x="1249200" y="2229840"/>
              <a:ext cx="58428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4" name=""/>
          <p:cNvSpPr/>
          <p:nvPr/>
        </p:nvSpPr>
        <p:spPr>
          <a:xfrm>
            <a:off x="1042920" y="3276720"/>
            <a:ext cx="857160" cy="815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-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5" name=""/>
          <p:cNvGrpSpPr/>
          <p:nvPr/>
        </p:nvGrpSpPr>
        <p:grpSpPr>
          <a:xfrm>
            <a:off x="4087800" y="1682640"/>
            <a:ext cx="325440" cy="312840"/>
            <a:chOff x="4087800" y="1682640"/>
            <a:chExt cx="325440" cy="312840"/>
          </a:xfrm>
        </p:grpSpPr>
        <p:sp>
          <p:nvSpPr>
            <p:cNvPr id="1856" name=""/>
            <p:cNvSpPr/>
            <p:nvPr/>
          </p:nvSpPr>
          <p:spPr>
            <a:xfrm>
              <a:off x="4087800" y="1682640"/>
              <a:ext cx="325440" cy="312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146480" y="1735200"/>
              <a:ext cx="211320" cy="204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8" name=""/>
          <p:cNvSpPr/>
          <p:nvPr/>
        </p:nvSpPr>
        <p:spPr>
          <a:xfrm>
            <a:off x="4943520" y="3651120"/>
            <a:ext cx="325440" cy="312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9" name=""/>
          <p:cNvGrpSpPr/>
          <p:nvPr/>
        </p:nvGrpSpPr>
        <p:grpSpPr>
          <a:xfrm>
            <a:off x="4076640" y="2373480"/>
            <a:ext cx="325440" cy="312480"/>
            <a:chOff x="4076640" y="2373480"/>
            <a:chExt cx="325440" cy="312480"/>
          </a:xfrm>
        </p:grpSpPr>
        <p:sp>
          <p:nvSpPr>
            <p:cNvPr id="1860" name=""/>
            <p:cNvSpPr/>
            <p:nvPr/>
          </p:nvSpPr>
          <p:spPr>
            <a:xfrm>
              <a:off x="4076640" y="2373480"/>
              <a:ext cx="325440" cy="312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135320" y="2425680"/>
              <a:ext cx="211320" cy="204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2" name=""/>
          <p:cNvSpPr/>
          <p:nvPr/>
        </p:nvSpPr>
        <p:spPr>
          <a:xfrm>
            <a:off x="4251240" y="2008080"/>
            <a:ext cx="0" cy="35100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3" name=""/>
          <p:cNvGrpSpPr/>
          <p:nvPr/>
        </p:nvGrpSpPr>
        <p:grpSpPr>
          <a:xfrm>
            <a:off x="4078440" y="3063960"/>
            <a:ext cx="325440" cy="312480"/>
            <a:chOff x="4078440" y="3063960"/>
            <a:chExt cx="325440" cy="312480"/>
          </a:xfrm>
        </p:grpSpPr>
        <p:sp>
          <p:nvSpPr>
            <p:cNvPr id="1864" name=""/>
            <p:cNvSpPr/>
            <p:nvPr/>
          </p:nvSpPr>
          <p:spPr>
            <a:xfrm>
              <a:off x="4078440" y="3063960"/>
              <a:ext cx="325440" cy="312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137120" y="3116160"/>
              <a:ext cx="211320" cy="204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6" name=""/>
          <p:cNvSpPr/>
          <p:nvPr/>
        </p:nvSpPr>
        <p:spPr>
          <a:xfrm>
            <a:off x="4253040" y="2698920"/>
            <a:ext cx="0" cy="35064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7" name=""/>
          <p:cNvGrpSpPr/>
          <p:nvPr/>
        </p:nvGrpSpPr>
        <p:grpSpPr>
          <a:xfrm>
            <a:off x="3252960" y="3666960"/>
            <a:ext cx="325440" cy="312840"/>
            <a:chOff x="3252960" y="3666960"/>
            <a:chExt cx="325440" cy="312840"/>
          </a:xfrm>
        </p:grpSpPr>
        <p:sp>
          <p:nvSpPr>
            <p:cNvPr id="1868" name=""/>
            <p:cNvSpPr/>
            <p:nvPr/>
          </p:nvSpPr>
          <p:spPr>
            <a:xfrm>
              <a:off x="3252960" y="3666960"/>
              <a:ext cx="325440" cy="312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311640" y="3719520"/>
              <a:ext cx="211320" cy="204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0" name=""/>
          <p:cNvSpPr/>
          <p:nvPr/>
        </p:nvSpPr>
        <p:spPr>
          <a:xfrm flipH="1">
            <a:off x="3565440" y="3365640"/>
            <a:ext cx="550800" cy="33804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394160" y="3367080"/>
            <a:ext cx="550800" cy="33804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2716200" y="4484520"/>
            <a:ext cx="325440" cy="312840"/>
            <a:chOff x="2716200" y="4484520"/>
            <a:chExt cx="325440" cy="312840"/>
          </a:xfrm>
        </p:grpSpPr>
        <p:sp>
          <p:nvSpPr>
            <p:cNvPr id="1873" name=""/>
            <p:cNvSpPr/>
            <p:nvPr/>
          </p:nvSpPr>
          <p:spPr>
            <a:xfrm>
              <a:off x="2716200" y="4484520"/>
              <a:ext cx="325440" cy="312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774880" y="4537080"/>
              <a:ext cx="211320" cy="204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5" name=""/>
          <p:cNvSpPr/>
          <p:nvPr/>
        </p:nvSpPr>
        <p:spPr>
          <a:xfrm>
            <a:off x="3781440" y="4491000"/>
            <a:ext cx="325440" cy="312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H="1">
            <a:off x="2978280" y="3979800"/>
            <a:ext cx="325440" cy="50004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524400" y="3967200"/>
            <a:ext cx="325440" cy="50004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8" name=""/>
          <p:cNvGrpSpPr/>
          <p:nvPr/>
        </p:nvGrpSpPr>
        <p:grpSpPr>
          <a:xfrm>
            <a:off x="4422600" y="4498920"/>
            <a:ext cx="325440" cy="312840"/>
            <a:chOff x="4422600" y="4498920"/>
            <a:chExt cx="325440" cy="312840"/>
          </a:xfrm>
        </p:grpSpPr>
        <p:sp>
          <p:nvSpPr>
            <p:cNvPr id="1879" name=""/>
            <p:cNvSpPr/>
            <p:nvPr/>
          </p:nvSpPr>
          <p:spPr>
            <a:xfrm>
              <a:off x="4422600" y="4498920"/>
              <a:ext cx="325440" cy="312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481280" y="4551480"/>
              <a:ext cx="211320" cy="204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1" name=""/>
          <p:cNvSpPr/>
          <p:nvPr/>
        </p:nvSpPr>
        <p:spPr>
          <a:xfrm flipH="1">
            <a:off x="4684680" y="3981600"/>
            <a:ext cx="325440" cy="50004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5230800" y="3968640"/>
            <a:ext cx="325440" cy="50004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 rot="16200000">
            <a:off x="2358360" y="48499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 rot="16200000">
            <a:off x="3450600" y="48499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 rot="16200000">
            <a:off x="5104800" y="48499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4223160" y="196524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init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4235040" y="265572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651560" y="32227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3124080" y="325116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li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247480" y="398628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637080" y="39909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4318560" y="398952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b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389200" y="398628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30320" y="217980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21960" y="34495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888240" y="1800360"/>
            <a:ext cx="230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Action suppor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b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914520" y="270684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State at wh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client can 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903000" y="3587760"/>
            <a:ext cx="23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State at wh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client can not 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 rot="20926800">
            <a:off x="5108400" y="2193480"/>
            <a:ext cx="1884600" cy="374760"/>
          </a:xfrm>
          <a:custGeom>
            <a:avLst/>
            <a:gdLst/>
            <a:ahLst/>
            <a:rect l="l" t="t" r="r" b="b"/>
            <a:pathLst>
              <a:path w="1373" h="362">
                <a:moveTo>
                  <a:pt x="1373" y="0"/>
                </a:moveTo>
                <a:cubicBezTo>
                  <a:pt x="1065" y="23"/>
                  <a:pt x="758" y="47"/>
                  <a:pt x="615" y="71"/>
                </a:cubicBezTo>
                <a:cubicBezTo>
                  <a:pt x="472" y="95"/>
                  <a:pt x="512" y="125"/>
                  <a:pt x="513" y="142"/>
                </a:cubicBezTo>
                <a:cubicBezTo>
                  <a:pt x="514" y="159"/>
                  <a:pt x="592" y="164"/>
                  <a:pt x="623" y="173"/>
                </a:cubicBezTo>
                <a:cubicBezTo>
                  <a:pt x="654" y="182"/>
                  <a:pt x="682" y="183"/>
                  <a:pt x="702" y="197"/>
                </a:cubicBezTo>
                <a:cubicBezTo>
                  <a:pt x="722" y="211"/>
                  <a:pt x="765" y="244"/>
                  <a:pt x="741" y="260"/>
                </a:cubicBezTo>
                <a:cubicBezTo>
                  <a:pt x="717" y="276"/>
                  <a:pt x="683" y="274"/>
                  <a:pt x="560" y="291"/>
                </a:cubicBezTo>
                <a:cubicBezTo>
                  <a:pt x="437" y="308"/>
                  <a:pt x="93" y="350"/>
                  <a:pt x="0" y="36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 rot="597000">
            <a:off x="5311800" y="3553920"/>
            <a:ext cx="1633680" cy="352440"/>
          </a:xfrm>
          <a:custGeom>
            <a:avLst/>
            <a:gdLst/>
            <a:ahLst/>
            <a:rect l="l" t="t" r="r" b="b"/>
            <a:pathLst>
              <a:path w="1373" h="362">
                <a:moveTo>
                  <a:pt x="1373" y="0"/>
                </a:moveTo>
                <a:cubicBezTo>
                  <a:pt x="1065" y="23"/>
                  <a:pt x="758" y="47"/>
                  <a:pt x="615" y="71"/>
                </a:cubicBezTo>
                <a:cubicBezTo>
                  <a:pt x="472" y="95"/>
                  <a:pt x="512" y="125"/>
                  <a:pt x="513" y="142"/>
                </a:cubicBezTo>
                <a:cubicBezTo>
                  <a:pt x="514" y="159"/>
                  <a:pt x="592" y="164"/>
                  <a:pt x="623" y="173"/>
                </a:cubicBezTo>
                <a:cubicBezTo>
                  <a:pt x="654" y="182"/>
                  <a:pt x="682" y="183"/>
                  <a:pt x="702" y="197"/>
                </a:cubicBezTo>
                <a:cubicBezTo>
                  <a:pt x="722" y="211"/>
                  <a:pt x="765" y="244"/>
                  <a:pt x="741" y="260"/>
                </a:cubicBezTo>
                <a:cubicBezTo>
                  <a:pt x="717" y="276"/>
                  <a:pt x="683" y="274"/>
                  <a:pt x="560" y="291"/>
                </a:cubicBezTo>
                <a:cubicBezTo>
                  <a:pt x="437" y="308"/>
                  <a:pt x="93" y="350"/>
                  <a:pt x="0" y="36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rot="21301200">
            <a:off x="4441320" y="2917800"/>
            <a:ext cx="2494080" cy="223920"/>
          </a:xfrm>
          <a:custGeom>
            <a:avLst/>
            <a:gdLst/>
            <a:ahLst/>
            <a:rect l="l" t="t" r="r" b="b"/>
            <a:pathLst>
              <a:path w="1831" h="234">
                <a:moveTo>
                  <a:pt x="1831" y="64"/>
                </a:moveTo>
                <a:cubicBezTo>
                  <a:pt x="1604" y="40"/>
                  <a:pt x="1378" y="16"/>
                  <a:pt x="1247" y="8"/>
                </a:cubicBezTo>
                <a:cubicBezTo>
                  <a:pt x="1116" y="0"/>
                  <a:pt x="1080" y="6"/>
                  <a:pt x="1042" y="16"/>
                </a:cubicBezTo>
                <a:cubicBezTo>
                  <a:pt x="1004" y="26"/>
                  <a:pt x="1002" y="51"/>
                  <a:pt x="1018" y="71"/>
                </a:cubicBezTo>
                <a:cubicBezTo>
                  <a:pt x="1034" y="91"/>
                  <a:pt x="1100" y="123"/>
                  <a:pt x="1136" y="135"/>
                </a:cubicBezTo>
                <a:cubicBezTo>
                  <a:pt x="1172" y="147"/>
                  <a:pt x="1210" y="132"/>
                  <a:pt x="1231" y="142"/>
                </a:cubicBezTo>
                <a:cubicBezTo>
                  <a:pt x="1252" y="152"/>
                  <a:pt x="1275" y="184"/>
                  <a:pt x="1263" y="198"/>
                </a:cubicBezTo>
                <a:cubicBezTo>
                  <a:pt x="1251" y="212"/>
                  <a:pt x="1370" y="234"/>
                  <a:pt x="1160" y="229"/>
                </a:cubicBezTo>
                <a:cubicBezTo>
                  <a:pt x="950" y="224"/>
                  <a:pt x="475" y="195"/>
                  <a:pt x="0" y="16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80880" y="5391000"/>
            <a:ext cx="8263080" cy="146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3760" indent="-293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ildren labeled by distinct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ee is equivalent to a language over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81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ly, focus on regular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5407200" y="4491000"/>
            <a:ext cx="325440" cy="312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B85E-A5D7-433F-A4CC-E1FB69FC09C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"/>
          <p:cNvSpPr/>
          <p:nvPr/>
        </p:nvSpPr>
        <p:spPr>
          <a:xfrm>
            <a:off x="705816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222120" y="16524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osition in Roman Mode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sketch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380520" y="1063440"/>
            <a:ext cx="8394840" cy="14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524"/>
              </a:spcBef>
              <a:buClr>
                <a:srgbClr val="cc0066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Internal execution tr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olds actions by server and delegates of that ser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7" name=""/>
          <p:cNvSpPr/>
          <p:nvPr/>
        </p:nvSpPr>
        <p:spPr>
          <a:xfrm>
            <a:off x="2798640" y="2984400"/>
            <a:ext cx="3240" cy="1766880"/>
          </a:xfrm>
          <a:prstGeom prst="line">
            <a:avLst/>
          </a:prstGeom>
          <a:ln w="28440">
            <a:solidFill>
              <a:srgbClr val="99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8" name=""/>
          <p:cNvGrpSpPr/>
          <p:nvPr/>
        </p:nvGrpSpPr>
        <p:grpSpPr>
          <a:xfrm>
            <a:off x="2545920" y="2333520"/>
            <a:ext cx="584640" cy="574560"/>
            <a:chOff x="2545920" y="2333520"/>
            <a:chExt cx="584640" cy="574560"/>
          </a:xfrm>
        </p:grpSpPr>
        <p:sp>
          <p:nvSpPr>
            <p:cNvPr id="1909" name=""/>
            <p:cNvSpPr/>
            <p:nvPr/>
          </p:nvSpPr>
          <p:spPr>
            <a:xfrm>
              <a:off x="2782440" y="2333520"/>
              <a:ext cx="136080" cy="11556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2782080" y="2457720"/>
              <a:ext cx="55080" cy="16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2545920" y="2628000"/>
              <a:ext cx="22644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772720" y="2628000"/>
              <a:ext cx="36360" cy="28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2546280" y="2522160"/>
              <a:ext cx="58428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4" name=""/>
          <p:cNvSpPr/>
          <p:nvPr/>
        </p:nvSpPr>
        <p:spPr>
          <a:xfrm>
            <a:off x="2365200" y="3568680"/>
            <a:ext cx="857520" cy="816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-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284400" y="24717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176040" y="372888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-3240" y="4821120"/>
            <a:ext cx="13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deleg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434960" y="4797360"/>
            <a:ext cx="857520" cy="816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3324240" y="4813200"/>
            <a:ext cx="857160" cy="816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170080" y="2986200"/>
            <a:ext cx="573120" cy="1778040"/>
          </a:xfrm>
          <a:custGeom>
            <a:avLst/>
            <a:gdLst/>
            <a:ahLst/>
            <a:rect l="l" t="t" r="r" b="b"/>
            <a:pathLst>
              <a:path w="258" h="1128">
                <a:moveTo>
                  <a:pt x="253" y="0"/>
                </a:moveTo>
                <a:cubicBezTo>
                  <a:pt x="255" y="71"/>
                  <a:pt x="258" y="142"/>
                  <a:pt x="253" y="237"/>
                </a:cubicBezTo>
                <a:cubicBezTo>
                  <a:pt x="248" y="332"/>
                  <a:pt x="238" y="458"/>
                  <a:pt x="221" y="568"/>
                </a:cubicBezTo>
                <a:cubicBezTo>
                  <a:pt x="204" y="678"/>
                  <a:pt x="187" y="806"/>
                  <a:pt x="150" y="899"/>
                </a:cubicBezTo>
                <a:cubicBezTo>
                  <a:pt x="113" y="992"/>
                  <a:pt x="56" y="1060"/>
                  <a:pt x="0" y="1128"/>
                </a:cubicBezTo>
              </a:path>
            </a:pathLst>
          </a:custGeom>
          <a:noFill/>
          <a:ln w="28440">
            <a:solidFill>
              <a:srgbClr val="990099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flipH="1">
            <a:off x="2854440" y="2998800"/>
            <a:ext cx="596880" cy="1790640"/>
          </a:xfrm>
          <a:custGeom>
            <a:avLst/>
            <a:gdLst/>
            <a:ahLst/>
            <a:rect l="l" t="t" r="r" b="b"/>
            <a:pathLst>
              <a:path w="258" h="1128">
                <a:moveTo>
                  <a:pt x="253" y="0"/>
                </a:moveTo>
                <a:cubicBezTo>
                  <a:pt x="255" y="71"/>
                  <a:pt x="258" y="142"/>
                  <a:pt x="253" y="237"/>
                </a:cubicBezTo>
                <a:cubicBezTo>
                  <a:pt x="248" y="332"/>
                  <a:pt x="238" y="458"/>
                  <a:pt x="221" y="568"/>
                </a:cubicBezTo>
                <a:cubicBezTo>
                  <a:pt x="204" y="678"/>
                  <a:pt x="187" y="806"/>
                  <a:pt x="150" y="899"/>
                </a:cubicBezTo>
                <a:cubicBezTo>
                  <a:pt x="113" y="992"/>
                  <a:pt x="56" y="1060"/>
                  <a:pt x="0" y="1128"/>
                </a:cubicBezTo>
              </a:path>
            </a:pathLst>
          </a:custGeom>
          <a:noFill/>
          <a:ln w="28440">
            <a:solidFill>
              <a:srgbClr val="990099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84120" y="6018120"/>
            <a:ext cx="8531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3760" indent="-293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actions are “visible” to client; none “interna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4531680" y="2216160"/>
            <a:ext cx="4235040" cy="3817800"/>
            <a:chOff x="4531680" y="2216160"/>
            <a:chExt cx="4235040" cy="3817800"/>
          </a:xfrm>
        </p:grpSpPr>
        <p:grpSp>
          <p:nvGrpSpPr>
            <p:cNvPr id="1924" name=""/>
            <p:cNvGrpSpPr/>
            <p:nvPr/>
          </p:nvGrpSpPr>
          <p:grpSpPr>
            <a:xfrm>
              <a:off x="6421320" y="2216160"/>
              <a:ext cx="325440" cy="312840"/>
              <a:chOff x="6421320" y="2216160"/>
              <a:chExt cx="325440" cy="312840"/>
            </a:xfrm>
          </p:grpSpPr>
          <p:sp>
            <p:nvSpPr>
              <p:cNvPr id="1925" name=""/>
              <p:cNvSpPr/>
              <p:nvPr/>
            </p:nvSpPr>
            <p:spPr>
              <a:xfrm>
                <a:off x="6421320" y="2216160"/>
                <a:ext cx="325440" cy="312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480000" y="2268720"/>
                <a:ext cx="211320" cy="204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7" name=""/>
            <p:cNvSpPr/>
            <p:nvPr/>
          </p:nvSpPr>
          <p:spPr>
            <a:xfrm>
              <a:off x="7277040" y="4184640"/>
              <a:ext cx="325440" cy="312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8" name=""/>
            <p:cNvGrpSpPr/>
            <p:nvPr/>
          </p:nvGrpSpPr>
          <p:grpSpPr>
            <a:xfrm>
              <a:off x="6410160" y="2906640"/>
              <a:ext cx="325440" cy="312840"/>
              <a:chOff x="6410160" y="2906640"/>
              <a:chExt cx="325440" cy="312840"/>
            </a:xfrm>
          </p:grpSpPr>
          <p:sp>
            <p:nvSpPr>
              <p:cNvPr id="1929" name=""/>
              <p:cNvSpPr/>
              <p:nvPr/>
            </p:nvSpPr>
            <p:spPr>
              <a:xfrm>
                <a:off x="6410160" y="2906640"/>
                <a:ext cx="325440" cy="312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468840" y="2959200"/>
                <a:ext cx="211320" cy="204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1" name=""/>
            <p:cNvSpPr/>
            <p:nvPr/>
          </p:nvSpPr>
          <p:spPr>
            <a:xfrm>
              <a:off x="6585120" y="2541600"/>
              <a:ext cx="0" cy="35100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2" name=""/>
            <p:cNvGrpSpPr/>
            <p:nvPr/>
          </p:nvGrpSpPr>
          <p:grpSpPr>
            <a:xfrm>
              <a:off x="6411960" y="3597480"/>
              <a:ext cx="325440" cy="312480"/>
              <a:chOff x="6411960" y="3597480"/>
              <a:chExt cx="325440" cy="312480"/>
            </a:xfrm>
          </p:grpSpPr>
          <p:sp>
            <p:nvSpPr>
              <p:cNvPr id="1933" name=""/>
              <p:cNvSpPr/>
              <p:nvPr/>
            </p:nvSpPr>
            <p:spPr>
              <a:xfrm>
                <a:off x="6411960" y="3597480"/>
                <a:ext cx="325440" cy="3124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470640" y="3649680"/>
                <a:ext cx="211320" cy="2044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5" name=""/>
            <p:cNvSpPr/>
            <p:nvPr/>
          </p:nvSpPr>
          <p:spPr>
            <a:xfrm>
              <a:off x="6586560" y="3232080"/>
              <a:ext cx="0" cy="35100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6" name=""/>
            <p:cNvGrpSpPr/>
            <p:nvPr/>
          </p:nvGrpSpPr>
          <p:grpSpPr>
            <a:xfrm>
              <a:off x="5586480" y="4200480"/>
              <a:ext cx="325440" cy="312840"/>
              <a:chOff x="5586480" y="4200480"/>
              <a:chExt cx="325440" cy="312840"/>
            </a:xfrm>
          </p:grpSpPr>
          <p:sp>
            <p:nvSpPr>
              <p:cNvPr id="1937" name=""/>
              <p:cNvSpPr/>
              <p:nvPr/>
            </p:nvSpPr>
            <p:spPr>
              <a:xfrm>
                <a:off x="5586480" y="4200480"/>
                <a:ext cx="325440" cy="312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645160" y="4253040"/>
                <a:ext cx="211320" cy="204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9" name=""/>
            <p:cNvSpPr/>
            <p:nvPr/>
          </p:nvSpPr>
          <p:spPr>
            <a:xfrm flipH="1">
              <a:off x="5899320" y="3899160"/>
              <a:ext cx="550800" cy="33804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727680" y="3900600"/>
              <a:ext cx="551160" cy="33804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1" name=""/>
            <p:cNvGrpSpPr/>
            <p:nvPr/>
          </p:nvGrpSpPr>
          <p:grpSpPr>
            <a:xfrm>
              <a:off x="5049720" y="5018040"/>
              <a:ext cx="325440" cy="312840"/>
              <a:chOff x="5049720" y="5018040"/>
              <a:chExt cx="325440" cy="312840"/>
            </a:xfrm>
          </p:grpSpPr>
          <p:sp>
            <p:nvSpPr>
              <p:cNvPr id="1942" name=""/>
              <p:cNvSpPr/>
              <p:nvPr/>
            </p:nvSpPr>
            <p:spPr>
              <a:xfrm>
                <a:off x="5049720" y="5018040"/>
                <a:ext cx="325440" cy="312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5108400" y="5070600"/>
                <a:ext cx="211320" cy="204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4" name=""/>
            <p:cNvSpPr/>
            <p:nvPr/>
          </p:nvSpPr>
          <p:spPr>
            <a:xfrm>
              <a:off x="6114960" y="5024520"/>
              <a:ext cx="325440" cy="312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H="1">
              <a:off x="5311800" y="4513320"/>
              <a:ext cx="325440" cy="50004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857920" y="4500720"/>
              <a:ext cx="325440" cy="50004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7" name=""/>
            <p:cNvGrpSpPr/>
            <p:nvPr/>
          </p:nvGrpSpPr>
          <p:grpSpPr>
            <a:xfrm>
              <a:off x="6756480" y="5019840"/>
              <a:ext cx="325440" cy="312840"/>
              <a:chOff x="6756480" y="5019840"/>
              <a:chExt cx="325440" cy="312840"/>
            </a:xfrm>
          </p:grpSpPr>
          <p:sp>
            <p:nvSpPr>
              <p:cNvPr id="1948" name=""/>
              <p:cNvSpPr/>
              <p:nvPr/>
            </p:nvSpPr>
            <p:spPr>
              <a:xfrm>
                <a:off x="6756480" y="5019840"/>
                <a:ext cx="325440" cy="312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6815160" y="5072400"/>
                <a:ext cx="211320" cy="204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0" name=""/>
            <p:cNvSpPr/>
            <p:nvPr/>
          </p:nvSpPr>
          <p:spPr>
            <a:xfrm flipH="1">
              <a:off x="7018200" y="4515120"/>
              <a:ext cx="325440" cy="50004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564320" y="4502160"/>
              <a:ext cx="325440" cy="50004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rot="16200000">
              <a:off x="4691880" y="5370840"/>
              <a:ext cx="74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rot="16200000">
              <a:off x="5784120" y="5370840"/>
              <a:ext cx="74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rot="16200000">
              <a:off x="7438320" y="5370840"/>
              <a:ext cx="74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629400" y="2535480"/>
              <a:ext cx="15523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initiate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c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630120" y="3176640"/>
              <a:ext cx="15843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search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c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958080" y="3767400"/>
              <a:ext cx="12430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cart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c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854960" y="373536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listen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juk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531680" y="438012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search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c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932080" y="434520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cart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c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675840" y="4334040"/>
              <a:ext cx="73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buy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b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7749360" y="431964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search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c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756560" y="5011920"/>
              <a:ext cx="325440" cy="312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4" name=""/>
          <p:cNvSpPr/>
          <p:nvPr/>
        </p:nvSpPr>
        <p:spPr>
          <a:xfrm>
            <a:off x="2376360" y="4799160"/>
            <a:ext cx="857520" cy="815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ke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985B-0A7E-4905-9C8F-F9060B46D4B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"/>
          <p:cNvSpPr/>
          <p:nvPr/>
        </p:nvSpPr>
        <p:spPr>
          <a:xfrm>
            <a:off x="0" y="6431040"/>
            <a:ext cx="72644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164360" y="0"/>
            <a:ext cx="1979640" cy="6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31680" y="-38520"/>
            <a:ext cx="9112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mposition in Roman Propos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[Berardi et.al.’03]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330120" y="5222880"/>
            <a:ext cx="869328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rees “regular”, can build composition (if exists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es selecting delegates and constructing media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standard automata techniques: NEXP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reduction to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AL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L: EXP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9" name=""/>
          <p:cNvSpPr/>
          <p:nvPr/>
        </p:nvSpPr>
        <p:spPr>
          <a:xfrm flipH="1">
            <a:off x="7570800" y="1035000"/>
            <a:ext cx="7920" cy="1182600"/>
          </a:xfrm>
          <a:prstGeom prst="line">
            <a:avLst/>
          </a:prstGeom>
          <a:ln w="28440">
            <a:solidFill>
              <a:srgbClr val="99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0" name=""/>
          <p:cNvGrpSpPr/>
          <p:nvPr/>
        </p:nvGrpSpPr>
        <p:grpSpPr>
          <a:xfrm>
            <a:off x="7419960" y="633240"/>
            <a:ext cx="512640" cy="435240"/>
            <a:chOff x="7419960" y="633240"/>
            <a:chExt cx="512640" cy="435240"/>
          </a:xfrm>
        </p:grpSpPr>
        <p:sp>
          <p:nvSpPr>
            <p:cNvPr id="1971" name=""/>
            <p:cNvSpPr/>
            <p:nvPr/>
          </p:nvSpPr>
          <p:spPr>
            <a:xfrm>
              <a:off x="7627320" y="633240"/>
              <a:ext cx="119160" cy="8748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>
              <a:off x="7627320" y="727200"/>
              <a:ext cx="48240" cy="12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7419960" y="856440"/>
              <a:ext cx="198720" cy="11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618680" y="856440"/>
              <a:ext cx="32040" cy="21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V="1">
              <a:off x="7419960" y="775440"/>
              <a:ext cx="5126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6" name=""/>
          <p:cNvSpPr/>
          <p:nvPr/>
        </p:nvSpPr>
        <p:spPr>
          <a:xfrm>
            <a:off x="7197840" y="1293840"/>
            <a:ext cx="752400" cy="617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-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6375240" y="2185920"/>
            <a:ext cx="750960" cy="617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8045280" y="2198520"/>
            <a:ext cx="750960" cy="617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935760" y="1030320"/>
            <a:ext cx="593640" cy="1150920"/>
          </a:xfrm>
          <a:custGeom>
            <a:avLst/>
            <a:gdLst/>
            <a:ahLst/>
            <a:rect l="l" t="t" r="r" b="b"/>
            <a:pathLst>
              <a:path w="258" h="1128">
                <a:moveTo>
                  <a:pt x="253" y="0"/>
                </a:moveTo>
                <a:cubicBezTo>
                  <a:pt x="255" y="71"/>
                  <a:pt x="258" y="142"/>
                  <a:pt x="253" y="237"/>
                </a:cubicBezTo>
                <a:cubicBezTo>
                  <a:pt x="248" y="332"/>
                  <a:pt x="238" y="458"/>
                  <a:pt x="221" y="568"/>
                </a:cubicBezTo>
                <a:cubicBezTo>
                  <a:pt x="204" y="678"/>
                  <a:pt x="187" y="806"/>
                  <a:pt x="150" y="899"/>
                </a:cubicBezTo>
                <a:cubicBezTo>
                  <a:pt x="113" y="992"/>
                  <a:pt x="56" y="1060"/>
                  <a:pt x="0" y="1128"/>
                </a:cubicBezTo>
              </a:path>
            </a:pathLst>
          </a:custGeom>
          <a:noFill/>
          <a:ln w="28440">
            <a:solidFill>
              <a:srgbClr val="990099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 flipH="1">
            <a:off x="7625520" y="1036800"/>
            <a:ext cx="598680" cy="1131840"/>
          </a:xfrm>
          <a:custGeom>
            <a:avLst/>
            <a:gdLst/>
            <a:ahLst/>
            <a:rect l="l" t="t" r="r" b="b"/>
            <a:pathLst>
              <a:path w="258" h="1128">
                <a:moveTo>
                  <a:pt x="253" y="0"/>
                </a:moveTo>
                <a:cubicBezTo>
                  <a:pt x="255" y="71"/>
                  <a:pt x="258" y="142"/>
                  <a:pt x="253" y="237"/>
                </a:cubicBezTo>
                <a:cubicBezTo>
                  <a:pt x="248" y="332"/>
                  <a:pt x="238" y="458"/>
                  <a:pt x="221" y="568"/>
                </a:cubicBezTo>
                <a:cubicBezTo>
                  <a:pt x="204" y="678"/>
                  <a:pt x="187" y="806"/>
                  <a:pt x="150" y="899"/>
                </a:cubicBezTo>
                <a:cubicBezTo>
                  <a:pt x="113" y="992"/>
                  <a:pt x="56" y="1060"/>
                  <a:pt x="0" y="1128"/>
                </a:cubicBezTo>
              </a:path>
            </a:pathLst>
          </a:custGeom>
          <a:noFill/>
          <a:ln w="28440">
            <a:solidFill>
              <a:srgbClr val="990099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7207200" y="2198520"/>
            <a:ext cx="750960" cy="617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ke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141880" y="758880"/>
            <a:ext cx="452520" cy="4410000"/>
          </a:xfrm>
          <a:custGeom>
            <a:avLst/>
            <a:gdLst>
              <a:gd name="textAreaLeft" fmla="*/ 289080 w 452520"/>
              <a:gd name="textAreaRight" fmla="*/ 452880 w 452520"/>
              <a:gd name="textAreaTop" fmla="*/ 70920 h 4410000"/>
              <a:gd name="textAreaBottom" fmla="*/ 4339080 h 441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5"/>
                  <a:pt x="10800" y="1110"/>
                </a:cubicBezTo>
                <a:lnTo>
                  <a:pt x="10800" y="9690"/>
                </a:lnTo>
                <a:cubicBezTo>
                  <a:pt x="10800" y="10245"/>
                  <a:pt x="5400" y="10800"/>
                  <a:pt x="0" y="10800"/>
                </a:cubicBezTo>
                <a:cubicBezTo>
                  <a:pt x="5400" y="10800"/>
                  <a:pt x="10800" y="11355"/>
                  <a:pt x="10800" y="11910"/>
                </a:cubicBezTo>
                <a:lnTo>
                  <a:pt x="10800" y="20490"/>
                </a:lnTo>
                <a:cubicBezTo>
                  <a:pt x="10800" y="2104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 flipH="1">
            <a:off x="4009320" y="784080"/>
            <a:ext cx="452520" cy="4372200"/>
          </a:xfrm>
          <a:custGeom>
            <a:avLst/>
            <a:gdLst>
              <a:gd name="textAreaLeft" fmla="*/ 289080 w 452520"/>
              <a:gd name="textAreaRight" fmla="*/ 452880 w 452520"/>
              <a:gd name="textAreaTop" fmla="*/ 70200 h 4372200"/>
              <a:gd name="textAreaBottom" fmla="*/ 4302000 h 437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5"/>
                  <a:pt x="10800" y="1110"/>
                </a:cubicBezTo>
                <a:lnTo>
                  <a:pt x="10800" y="9690"/>
                </a:lnTo>
                <a:cubicBezTo>
                  <a:pt x="10800" y="10245"/>
                  <a:pt x="5400" y="10800"/>
                  <a:pt x="0" y="10800"/>
                </a:cubicBezTo>
                <a:cubicBezTo>
                  <a:pt x="5400" y="10800"/>
                  <a:pt x="10800" y="11355"/>
                  <a:pt x="10800" y="11910"/>
                </a:cubicBezTo>
                <a:lnTo>
                  <a:pt x="10800" y="20490"/>
                </a:lnTo>
                <a:cubicBezTo>
                  <a:pt x="10800" y="2104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520160" y="2590920"/>
            <a:ext cx="5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82800" y="1192320"/>
            <a:ext cx="118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e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6" name=""/>
          <p:cNvGrpSpPr/>
          <p:nvPr/>
        </p:nvGrpSpPr>
        <p:grpSpPr>
          <a:xfrm>
            <a:off x="1183680" y="701640"/>
            <a:ext cx="3054240" cy="2370600"/>
            <a:chOff x="1183680" y="701640"/>
            <a:chExt cx="3054240" cy="2370600"/>
          </a:xfrm>
        </p:grpSpPr>
        <p:grpSp>
          <p:nvGrpSpPr>
            <p:cNvPr id="1987" name=""/>
            <p:cNvGrpSpPr/>
            <p:nvPr/>
          </p:nvGrpSpPr>
          <p:grpSpPr>
            <a:xfrm>
              <a:off x="2554200" y="701640"/>
              <a:ext cx="241560" cy="192600"/>
              <a:chOff x="2554200" y="701640"/>
              <a:chExt cx="241560" cy="192600"/>
            </a:xfrm>
          </p:grpSpPr>
          <p:sp>
            <p:nvSpPr>
              <p:cNvPr id="1988" name=""/>
              <p:cNvSpPr/>
              <p:nvPr/>
            </p:nvSpPr>
            <p:spPr>
              <a:xfrm>
                <a:off x="2554200" y="701640"/>
                <a:ext cx="241560" cy="192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597760" y="733680"/>
                <a:ext cx="156600" cy="126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0" name=""/>
            <p:cNvSpPr/>
            <p:nvPr/>
          </p:nvSpPr>
          <p:spPr>
            <a:xfrm>
              <a:off x="3191040" y="1919880"/>
              <a:ext cx="242640" cy="19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1" name=""/>
            <p:cNvGrpSpPr/>
            <p:nvPr/>
          </p:nvGrpSpPr>
          <p:grpSpPr>
            <a:xfrm>
              <a:off x="2546280" y="1128600"/>
              <a:ext cx="241200" cy="194400"/>
              <a:chOff x="2546280" y="1128600"/>
              <a:chExt cx="241200" cy="194400"/>
            </a:xfrm>
          </p:grpSpPr>
          <p:sp>
            <p:nvSpPr>
              <p:cNvPr id="1992" name=""/>
              <p:cNvSpPr/>
              <p:nvPr/>
            </p:nvSpPr>
            <p:spPr>
              <a:xfrm>
                <a:off x="2546280" y="1128600"/>
                <a:ext cx="241200" cy="1944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589480" y="1161000"/>
                <a:ext cx="156600" cy="127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4" name=""/>
            <p:cNvSpPr/>
            <p:nvPr/>
          </p:nvSpPr>
          <p:spPr>
            <a:xfrm>
              <a:off x="2674800" y="902520"/>
              <a:ext cx="0" cy="21708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5" name=""/>
            <p:cNvGrpSpPr/>
            <p:nvPr/>
          </p:nvGrpSpPr>
          <p:grpSpPr>
            <a:xfrm>
              <a:off x="2546280" y="1555920"/>
              <a:ext cx="243000" cy="194040"/>
              <a:chOff x="2546280" y="1555920"/>
              <a:chExt cx="243000" cy="194040"/>
            </a:xfrm>
          </p:grpSpPr>
          <p:sp>
            <p:nvSpPr>
              <p:cNvPr id="1996" name=""/>
              <p:cNvSpPr/>
              <p:nvPr/>
            </p:nvSpPr>
            <p:spPr>
              <a:xfrm>
                <a:off x="2546280" y="1555920"/>
                <a:ext cx="243000" cy="1940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589840" y="1588320"/>
                <a:ext cx="157680" cy="127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8" name=""/>
            <p:cNvSpPr/>
            <p:nvPr/>
          </p:nvSpPr>
          <p:spPr>
            <a:xfrm>
              <a:off x="2676600" y="1330200"/>
              <a:ext cx="0" cy="21708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9" name=""/>
            <p:cNvGrpSpPr/>
            <p:nvPr/>
          </p:nvGrpSpPr>
          <p:grpSpPr>
            <a:xfrm>
              <a:off x="1932120" y="1929960"/>
              <a:ext cx="242640" cy="192600"/>
              <a:chOff x="1932120" y="1929960"/>
              <a:chExt cx="242640" cy="192600"/>
            </a:xfrm>
          </p:grpSpPr>
          <p:sp>
            <p:nvSpPr>
              <p:cNvPr id="2000" name=""/>
              <p:cNvSpPr/>
              <p:nvPr/>
            </p:nvSpPr>
            <p:spPr>
              <a:xfrm>
                <a:off x="1932120" y="1929960"/>
                <a:ext cx="242640" cy="192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975680" y="1962000"/>
                <a:ext cx="157320" cy="126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2" name=""/>
            <p:cNvSpPr/>
            <p:nvPr/>
          </p:nvSpPr>
          <p:spPr>
            <a:xfrm flipH="1">
              <a:off x="2165400" y="1742760"/>
              <a:ext cx="409680" cy="21024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781360" y="1744560"/>
              <a:ext cx="411120" cy="20844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4" name=""/>
            <p:cNvGrpSpPr/>
            <p:nvPr/>
          </p:nvGrpSpPr>
          <p:grpSpPr>
            <a:xfrm>
              <a:off x="1533600" y="2435760"/>
              <a:ext cx="241200" cy="194400"/>
              <a:chOff x="1533600" y="2435760"/>
              <a:chExt cx="241200" cy="194400"/>
            </a:xfrm>
          </p:grpSpPr>
          <p:sp>
            <p:nvSpPr>
              <p:cNvPr id="2005" name=""/>
              <p:cNvSpPr/>
              <p:nvPr/>
            </p:nvSpPr>
            <p:spPr>
              <a:xfrm>
                <a:off x="1533600" y="2435760"/>
                <a:ext cx="241200" cy="1944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576800" y="2468160"/>
                <a:ext cx="156600" cy="127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7" name=""/>
            <p:cNvSpPr/>
            <p:nvPr/>
          </p:nvSpPr>
          <p:spPr>
            <a:xfrm>
              <a:off x="2325600" y="2440080"/>
              <a:ext cx="243000" cy="19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H="1">
              <a:off x="1727280" y="2122920"/>
              <a:ext cx="242640" cy="30996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133720" y="2115720"/>
              <a:ext cx="242640" cy="30996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0" name=""/>
            <p:cNvGrpSpPr/>
            <p:nvPr/>
          </p:nvGrpSpPr>
          <p:grpSpPr>
            <a:xfrm>
              <a:off x="2803680" y="2437560"/>
              <a:ext cx="241200" cy="194040"/>
              <a:chOff x="2803680" y="2437560"/>
              <a:chExt cx="241200" cy="194040"/>
            </a:xfrm>
          </p:grpSpPr>
          <p:sp>
            <p:nvSpPr>
              <p:cNvPr id="2011" name=""/>
              <p:cNvSpPr/>
              <p:nvPr/>
            </p:nvSpPr>
            <p:spPr>
              <a:xfrm>
                <a:off x="2803680" y="2437560"/>
                <a:ext cx="241200" cy="1940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846880" y="2469960"/>
                <a:ext cx="156600" cy="127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3" name=""/>
            <p:cNvSpPr/>
            <p:nvPr/>
          </p:nvSpPr>
          <p:spPr>
            <a:xfrm flipH="1">
              <a:off x="2998800" y="2124360"/>
              <a:ext cx="241200" cy="30996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405240" y="2117520"/>
              <a:ext cx="241200" cy="30816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rot="16200000">
              <a:off x="1321200" y="260712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rot="16200000">
              <a:off x="2130840" y="260712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rot="16200000">
              <a:off x="3364200" y="260208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654280" y="841320"/>
              <a:ext cx="69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99"/>
                  </a:solidFill>
                  <a:latin typeface="Arial"/>
                </a:rPr>
                <a:t>initi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665080" y="126864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99"/>
                  </a:solidFill>
                  <a:latin typeface="Arial"/>
                </a:rPr>
                <a:t>sear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973240" y="162000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99"/>
                  </a:solidFill>
                  <a:latin typeface="Arial"/>
                </a:rPr>
                <a:t>c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833480" y="1638360"/>
              <a:ext cx="5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99"/>
                  </a:solidFill>
                  <a:latin typeface="Arial"/>
                </a:rPr>
                <a:t>lis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183680" y="209304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99"/>
                  </a:solidFill>
                  <a:latin typeface="Arial"/>
                </a:rPr>
                <a:t>sear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217600" y="209448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99"/>
                  </a:solidFill>
                  <a:latin typeface="Arial"/>
                </a:rPr>
                <a:t>c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726280" y="209448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99"/>
                  </a:solidFill>
                  <a:latin typeface="Arial"/>
                </a:rPr>
                <a:t>bu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520800" y="209304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99"/>
                  </a:solidFill>
                  <a:latin typeface="Arial"/>
                </a:rPr>
                <a:t>sear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581280" y="2417400"/>
              <a:ext cx="243000" cy="19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7" name=""/>
          <p:cNvGrpSpPr/>
          <p:nvPr/>
        </p:nvGrpSpPr>
        <p:grpSpPr>
          <a:xfrm>
            <a:off x="5983920" y="2970360"/>
            <a:ext cx="3161520" cy="2328840"/>
            <a:chOff x="5983920" y="2970360"/>
            <a:chExt cx="3161520" cy="2328840"/>
          </a:xfrm>
        </p:grpSpPr>
        <p:grpSp>
          <p:nvGrpSpPr>
            <p:cNvPr id="2028" name=""/>
            <p:cNvGrpSpPr/>
            <p:nvPr/>
          </p:nvGrpSpPr>
          <p:grpSpPr>
            <a:xfrm>
              <a:off x="7391520" y="2970360"/>
              <a:ext cx="242640" cy="189360"/>
              <a:chOff x="7391520" y="2970360"/>
              <a:chExt cx="242640" cy="189360"/>
            </a:xfrm>
          </p:grpSpPr>
          <p:sp>
            <p:nvSpPr>
              <p:cNvPr id="2029" name=""/>
              <p:cNvSpPr/>
              <p:nvPr/>
            </p:nvSpPr>
            <p:spPr>
              <a:xfrm>
                <a:off x="7391520" y="2970360"/>
                <a:ext cx="242640" cy="189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7435080" y="3002040"/>
                <a:ext cx="157320" cy="123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1" name=""/>
            <p:cNvSpPr/>
            <p:nvPr/>
          </p:nvSpPr>
          <p:spPr>
            <a:xfrm>
              <a:off x="8028000" y="4158360"/>
              <a:ext cx="243000" cy="189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2" name=""/>
            <p:cNvGrpSpPr/>
            <p:nvPr/>
          </p:nvGrpSpPr>
          <p:grpSpPr>
            <a:xfrm>
              <a:off x="7383600" y="3386880"/>
              <a:ext cx="241200" cy="189000"/>
              <a:chOff x="7383600" y="3386880"/>
              <a:chExt cx="241200" cy="189000"/>
            </a:xfrm>
          </p:grpSpPr>
          <p:sp>
            <p:nvSpPr>
              <p:cNvPr id="2033" name=""/>
              <p:cNvSpPr/>
              <p:nvPr/>
            </p:nvSpPr>
            <p:spPr>
              <a:xfrm>
                <a:off x="7383600" y="3386880"/>
                <a:ext cx="241200" cy="189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7426800" y="3418560"/>
                <a:ext cx="156600" cy="123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5" name=""/>
            <p:cNvSpPr/>
            <p:nvPr/>
          </p:nvSpPr>
          <p:spPr>
            <a:xfrm>
              <a:off x="7513560" y="3166560"/>
              <a:ext cx="0" cy="21132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6" name=""/>
            <p:cNvGrpSpPr/>
            <p:nvPr/>
          </p:nvGrpSpPr>
          <p:grpSpPr>
            <a:xfrm>
              <a:off x="7385040" y="3804480"/>
              <a:ext cx="241200" cy="187920"/>
              <a:chOff x="7385040" y="3804480"/>
              <a:chExt cx="241200" cy="187920"/>
            </a:xfrm>
          </p:grpSpPr>
          <p:sp>
            <p:nvSpPr>
              <p:cNvPr id="2037" name=""/>
              <p:cNvSpPr/>
              <p:nvPr/>
            </p:nvSpPr>
            <p:spPr>
              <a:xfrm>
                <a:off x="7385040" y="3804480"/>
                <a:ext cx="241200" cy="1879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7428240" y="3835800"/>
                <a:ext cx="156600" cy="123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9" name=""/>
            <p:cNvSpPr/>
            <p:nvPr/>
          </p:nvSpPr>
          <p:spPr>
            <a:xfrm>
              <a:off x="7513560" y="3583080"/>
              <a:ext cx="0" cy="21312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0" name=""/>
            <p:cNvGrpSpPr/>
            <p:nvPr/>
          </p:nvGrpSpPr>
          <p:grpSpPr>
            <a:xfrm>
              <a:off x="6770520" y="4168080"/>
              <a:ext cx="241560" cy="189000"/>
              <a:chOff x="6770520" y="4168080"/>
              <a:chExt cx="241560" cy="189000"/>
            </a:xfrm>
          </p:grpSpPr>
          <p:sp>
            <p:nvSpPr>
              <p:cNvPr id="2041" name=""/>
              <p:cNvSpPr/>
              <p:nvPr/>
            </p:nvSpPr>
            <p:spPr>
              <a:xfrm>
                <a:off x="6770520" y="4168080"/>
                <a:ext cx="241560" cy="189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6814080" y="4199760"/>
                <a:ext cx="156600" cy="123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3" name=""/>
            <p:cNvSpPr/>
            <p:nvPr/>
          </p:nvSpPr>
          <p:spPr>
            <a:xfrm flipH="1">
              <a:off x="7002360" y="3987000"/>
              <a:ext cx="409680" cy="20340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20120" y="3987000"/>
              <a:ext cx="409320" cy="20484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5" name=""/>
            <p:cNvGrpSpPr/>
            <p:nvPr/>
          </p:nvGrpSpPr>
          <p:grpSpPr>
            <a:xfrm>
              <a:off x="6370560" y="4662360"/>
              <a:ext cx="243000" cy="187920"/>
              <a:chOff x="6370560" y="4662360"/>
              <a:chExt cx="243000" cy="187920"/>
            </a:xfrm>
          </p:grpSpPr>
          <p:sp>
            <p:nvSpPr>
              <p:cNvPr id="2046" name=""/>
              <p:cNvSpPr/>
              <p:nvPr/>
            </p:nvSpPr>
            <p:spPr>
              <a:xfrm>
                <a:off x="6370560" y="4662360"/>
                <a:ext cx="243000" cy="1879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414120" y="4693680"/>
                <a:ext cx="157680" cy="123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8" name=""/>
            <p:cNvSpPr/>
            <p:nvPr/>
          </p:nvSpPr>
          <p:spPr>
            <a:xfrm>
              <a:off x="7162920" y="4666680"/>
              <a:ext cx="242640" cy="187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H="1">
              <a:off x="6566040" y="4357440"/>
              <a:ext cx="241200" cy="30204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972480" y="4349160"/>
              <a:ext cx="241200" cy="30204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1" name=""/>
            <p:cNvGrpSpPr/>
            <p:nvPr/>
          </p:nvGrpSpPr>
          <p:grpSpPr>
            <a:xfrm>
              <a:off x="7640640" y="4662360"/>
              <a:ext cx="243000" cy="189360"/>
              <a:chOff x="7640640" y="4662360"/>
              <a:chExt cx="243000" cy="189360"/>
            </a:xfrm>
          </p:grpSpPr>
          <p:sp>
            <p:nvSpPr>
              <p:cNvPr id="2052" name=""/>
              <p:cNvSpPr/>
              <p:nvPr/>
            </p:nvSpPr>
            <p:spPr>
              <a:xfrm>
                <a:off x="7640640" y="4662360"/>
                <a:ext cx="243000" cy="189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684200" y="4694040"/>
                <a:ext cx="157680" cy="123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4" name=""/>
            <p:cNvSpPr/>
            <p:nvPr/>
          </p:nvSpPr>
          <p:spPr>
            <a:xfrm flipH="1">
              <a:off x="7835400" y="4358880"/>
              <a:ext cx="243000" cy="30060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8242200" y="4350600"/>
              <a:ext cx="243000" cy="30204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rot="16200000">
              <a:off x="6155280" y="483408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rot="16200000">
              <a:off x="6969600" y="483408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 rot="16200000">
              <a:off x="8199720" y="483408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544160" y="3116520"/>
              <a:ext cx="11455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99"/>
                  </a:solidFill>
                  <a:latin typeface="Arial"/>
                </a:rPr>
                <a:t>initiate,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547040" y="3503520"/>
              <a:ext cx="11653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99"/>
                  </a:solidFill>
                  <a:latin typeface="Arial"/>
                </a:rPr>
                <a:t>search,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788960" y="3860280"/>
              <a:ext cx="92736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99"/>
                  </a:solidFill>
                  <a:latin typeface="Arial"/>
                </a:rPr>
                <a:t>cart,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222600" y="3854520"/>
              <a:ext cx="102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99"/>
                  </a:solidFill>
                  <a:latin typeface="Arial"/>
                </a:rPr>
                <a:t>listen,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ju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983920" y="4230720"/>
              <a:ext cx="767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99"/>
                  </a:solidFill>
                  <a:latin typeface="Arial"/>
                </a:rPr>
                <a:t>search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025760" y="4209840"/>
              <a:ext cx="5295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99"/>
                  </a:solidFill>
                  <a:latin typeface="Arial"/>
                </a:rPr>
                <a:t>cart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540920" y="4203000"/>
              <a:ext cx="567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99"/>
                  </a:solidFill>
                  <a:latin typeface="Arial"/>
                </a:rPr>
                <a:t>buy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b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8377920" y="4194360"/>
              <a:ext cx="767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99"/>
                  </a:solidFill>
                  <a:latin typeface="Arial"/>
                </a:rPr>
                <a:t>search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8386920" y="4651560"/>
              <a:ext cx="242640" cy="189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"/>
          <p:cNvGrpSpPr/>
          <p:nvPr/>
        </p:nvGrpSpPr>
        <p:grpSpPr>
          <a:xfrm>
            <a:off x="2768760" y="3483000"/>
            <a:ext cx="690480" cy="690480"/>
            <a:chOff x="2768760" y="3483000"/>
            <a:chExt cx="690480" cy="690480"/>
          </a:xfrm>
        </p:grpSpPr>
        <p:grpSp>
          <p:nvGrpSpPr>
            <p:cNvPr id="2069" name=""/>
            <p:cNvGrpSpPr/>
            <p:nvPr/>
          </p:nvGrpSpPr>
          <p:grpSpPr>
            <a:xfrm>
              <a:off x="2776680" y="3483000"/>
              <a:ext cx="241560" cy="214200"/>
              <a:chOff x="2776680" y="3483000"/>
              <a:chExt cx="241560" cy="214200"/>
            </a:xfrm>
          </p:grpSpPr>
          <p:sp>
            <p:nvSpPr>
              <p:cNvPr id="2070" name=""/>
              <p:cNvSpPr/>
              <p:nvPr/>
            </p:nvSpPr>
            <p:spPr>
              <a:xfrm>
                <a:off x="2776680" y="3483000"/>
                <a:ext cx="241560" cy="214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2820240" y="3519000"/>
                <a:ext cx="156600" cy="1400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2" name=""/>
            <p:cNvGrpSpPr/>
            <p:nvPr/>
          </p:nvGrpSpPr>
          <p:grpSpPr>
            <a:xfrm>
              <a:off x="2768760" y="3957480"/>
              <a:ext cx="241200" cy="216000"/>
              <a:chOff x="2768760" y="3957480"/>
              <a:chExt cx="241200" cy="216000"/>
            </a:xfrm>
          </p:grpSpPr>
          <p:sp>
            <p:nvSpPr>
              <p:cNvPr id="2073" name=""/>
              <p:cNvSpPr/>
              <p:nvPr/>
            </p:nvSpPr>
            <p:spPr>
              <a:xfrm>
                <a:off x="2768760" y="3957480"/>
                <a:ext cx="241200" cy="216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2811960" y="3993480"/>
                <a:ext cx="156600" cy="1414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5" name=""/>
            <p:cNvSpPr/>
            <p:nvPr/>
          </p:nvSpPr>
          <p:spPr>
            <a:xfrm>
              <a:off x="2897280" y="3706920"/>
              <a:ext cx="0" cy="24120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860920" y="3701880"/>
              <a:ext cx="5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99"/>
                  </a:solidFill>
                  <a:latin typeface="Arial"/>
                </a:rPr>
                <a:t>lis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7" name=""/>
          <p:cNvGrpSpPr/>
          <p:nvPr/>
        </p:nvGrpSpPr>
        <p:grpSpPr>
          <a:xfrm>
            <a:off x="3654360" y="3467160"/>
            <a:ext cx="565920" cy="694800"/>
            <a:chOff x="3654360" y="3467160"/>
            <a:chExt cx="565920" cy="694800"/>
          </a:xfrm>
        </p:grpSpPr>
        <p:grpSp>
          <p:nvGrpSpPr>
            <p:cNvPr id="2078" name=""/>
            <p:cNvGrpSpPr/>
            <p:nvPr/>
          </p:nvGrpSpPr>
          <p:grpSpPr>
            <a:xfrm>
              <a:off x="3659040" y="3946320"/>
              <a:ext cx="241200" cy="215640"/>
              <a:chOff x="3659040" y="3946320"/>
              <a:chExt cx="241200" cy="215640"/>
            </a:xfrm>
          </p:grpSpPr>
          <p:sp>
            <p:nvSpPr>
              <p:cNvPr id="2079" name=""/>
              <p:cNvSpPr/>
              <p:nvPr/>
            </p:nvSpPr>
            <p:spPr>
              <a:xfrm>
                <a:off x="3659040" y="3946320"/>
                <a:ext cx="241200" cy="215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3702240" y="3982320"/>
                <a:ext cx="156600" cy="141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1" name=""/>
            <p:cNvSpPr/>
            <p:nvPr/>
          </p:nvSpPr>
          <p:spPr>
            <a:xfrm>
              <a:off x="3787560" y="3695400"/>
              <a:ext cx="0" cy="24120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751560" y="369072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99"/>
                  </a:solidFill>
                  <a:latin typeface="Arial"/>
                </a:rPr>
                <a:t>bu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654360" y="3467160"/>
              <a:ext cx="242640" cy="21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4" name=""/>
          <p:cNvSpPr/>
          <p:nvPr/>
        </p:nvSpPr>
        <p:spPr>
          <a:xfrm>
            <a:off x="107280" y="3192480"/>
            <a:ext cx="1384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-car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kebox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5" name=""/>
          <p:cNvGrpSpPr/>
          <p:nvPr/>
        </p:nvGrpSpPr>
        <p:grpSpPr>
          <a:xfrm>
            <a:off x="1698480" y="3092400"/>
            <a:ext cx="948600" cy="2155680"/>
            <a:chOff x="1698480" y="3092400"/>
            <a:chExt cx="948600" cy="2155680"/>
          </a:xfrm>
        </p:grpSpPr>
        <p:sp>
          <p:nvSpPr>
            <p:cNvPr id="2086" name=""/>
            <p:cNvSpPr/>
            <p:nvPr/>
          </p:nvSpPr>
          <p:spPr>
            <a:xfrm rot="16200000">
              <a:off x="1632240" y="481356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7" name=""/>
            <p:cNvGrpSpPr/>
            <p:nvPr/>
          </p:nvGrpSpPr>
          <p:grpSpPr>
            <a:xfrm>
              <a:off x="1820880" y="3092400"/>
              <a:ext cx="241200" cy="214200"/>
              <a:chOff x="1820880" y="3092400"/>
              <a:chExt cx="241200" cy="214200"/>
            </a:xfrm>
          </p:grpSpPr>
          <p:sp>
            <p:nvSpPr>
              <p:cNvPr id="2088" name=""/>
              <p:cNvSpPr/>
              <p:nvPr/>
            </p:nvSpPr>
            <p:spPr>
              <a:xfrm>
                <a:off x="1820880" y="3092400"/>
                <a:ext cx="241200" cy="214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1864080" y="3128400"/>
                <a:ext cx="156600" cy="1400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0" name=""/>
            <p:cNvGrpSpPr/>
            <p:nvPr/>
          </p:nvGrpSpPr>
          <p:grpSpPr>
            <a:xfrm>
              <a:off x="1812960" y="3465360"/>
              <a:ext cx="241200" cy="216000"/>
              <a:chOff x="1812960" y="3465360"/>
              <a:chExt cx="241200" cy="216000"/>
            </a:xfrm>
          </p:grpSpPr>
          <p:sp>
            <p:nvSpPr>
              <p:cNvPr id="2091" name=""/>
              <p:cNvSpPr/>
              <p:nvPr/>
            </p:nvSpPr>
            <p:spPr>
              <a:xfrm>
                <a:off x="1812960" y="3465360"/>
                <a:ext cx="241200" cy="216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1856160" y="3501360"/>
                <a:ext cx="156600" cy="1414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3" name=""/>
            <p:cNvSpPr/>
            <p:nvPr/>
          </p:nvSpPr>
          <p:spPr>
            <a:xfrm>
              <a:off x="1941480" y="3316320"/>
              <a:ext cx="0" cy="16524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893960" y="3233880"/>
              <a:ext cx="69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99"/>
                  </a:solidFill>
                  <a:latin typeface="Arial"/>
                </a:rPr>
                <a:t>initi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904400" y="360684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99"/>
                  </a:solidFill>
                  <a:latin typeface="Arial"/>
                </a:rPr>
                <a:t>sear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914480" y="398304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99"/>
                  </a:solidFill>
                  <a:latin typeface="Arial"/>
                </a:rPr>
                <a:t>c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7" name=""/>
            <p:cNvGrpSpPr/>
            <p:nvPr/>
          </p:nvGrpSpPr>
          <p:grpSpPr>
            <a:xfrm>
              <a:off x="1812960" y="3846600"/>
              <a:ext cx="241200" cy="215640"/>
              <a:chOff x="1812960" y="3846600"/>
              <a:chExt cx="241200" cy="215640"/>
            </a:xfrm>
          </p:grpSpPr>
          <p:sp>
            <p:nvSpPr>
              <p:cNvPr id="2098" name=""/>
              <p:cNvSpPr/>
              <p:nvPr/>
            </p:nvSpPr>
            <p:spPr>
              <a:xfrm>
                <a:off x="1812960" y="3846600"/>
                <a:ext cx="241200" cy="215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1856160" y="3882600"/>
                <a:ext cx="156600" cy="141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0" name=""/>
            <p:cNvSpPr/>
            <p:nvPr/>
          </p:nvSpPr>
          <p:spPr>
            <a:xfrm>
              <a:off x="1941480" y="3697200"/>
              <a:ext cx="0" cy="16524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1812960" y="4227480"/>
              <a:ext cx="241200" cy="216000"/>
              <a:chOff x="1812960" y="4227480"/>
              <a:chExt cx="241200" cy="216000"/>
            </a:xfrm>
          </p:grpSpPr>
          <p:sp>
            <p:nvSpPr>
              <p:cNvPr id="2102" name=""/>
              <p:cNvSpPr/>
              <p:nvPr/>
            </p:nvSpPr>
            <p:spPr>
              <a:xfrm>
                <a:off x="1812960" y="4227480"/>
                <a:ext cx="241200" cy="216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1856160" y="4263480"/>
                <a:ext cx="156600" cy="1414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>
              <a:off x="1941480" y="4078440"/>
              <a:ext cx="0" cy="16488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5" name=""/>
            <p:cNvGrpSpPr/>
            <p:nvPr/>
          </p:nvGrpSpPr>
          <p:grpSpPr>
            <a:xfrm>
              <a:off x="1812960" y="4595760"/>
              <a:ext cx="241200" cy="216000"/>
              <a:chOff x="1812960" y="4595760"/>
              <a:chExt cx="241200" cy="216000"/>
            </a:xfrm>
          </p:grpSpPr>
          <p:sp>
            <p:nvSpPr>
              <p:cNvPr id="2106" name=""/>
              <p:cNvSpPr/>
              <p:nvPr/>
            </p:nvSpPr>
            <p:spPr>
              <a:xfrm>
                <a:off x="1812960" y="4595760"/>
                <a:ext cx="241200" cy="216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1856160" y="4631760"/>
                <a:ext cx="156600" cy="1414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8" name=""/>
            <p:cNvSpPr/>
            <p:nvPr/>
          </p:nvSpPr>
          <p:spPr>
            <a:xfrm>
              <a:off x="1941480" y="4446720"/>
              <a:ext cx="0" cy="16488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1929960" y="436896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99"/>
                  </a:solidFill>
                  <a:latin typeface="Arial"/>
                </a:rPr>
                <a:t>sear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0" name=""/>
          <p:cNvSpPr/>
          <p:nvPr/>
        </p:nvSpPr>
        <p:spPr>
          <a:xfrm>
            <a:off x="5510160" y="3138480"/>
            <a:ext cx="109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e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8DCF-A00A-4248-8A19-BC409447868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it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322200" y="791640"/>
            <a:ext cx="856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18520" indent="-2185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Abiteboul et. al. ’00] S. Abiteboul, V. Vianu, B. Fordham, and Y. Yesha.  Relational Transducers for electronic commerce.  JCSS, 61(2):236-269, 20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8520" indent="-2185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Abiteboul et.al. ’03] S. Abitegoul, A. Bonifati, G. Cobena, I. Manolescu, and T. Milo.  Dynamic XML documents with distribution and replication.  SIGMOD, 200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8520" indent="-2185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Benedikt et.al. ’02] M. Benedikt, G. Bruns, J. Gibson, R. Kuss, and A. Ng.  Automated update management for XML integrity constraints.  Proc. Workshop on Programming Languages for XML (PLAN-X), 200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8520" indent="-2185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Berardi et al ’03] D. Berardi, D. Calvanese, G. De Giacomo, M. Lenzerini, and M. Mecella.  E-Service Composition by Description Logics Based Reasoning.  Proc. 2003 Description Logics workshop (DL 2003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8520" indent="-2185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Bultan et.al. WWW’03]  T. Bultan, Z. Fu, R. Hull, and J. Su.  Conversation Specification: A new approach to design and analysis of e-service composition.  WWW, 200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8520" indent="-2185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Christophides et. al. ’01a] V. Christophides, R. Hull, G. Karnounarakis, A. Kumar, G. Tong, and M. Xiong.  Beyond discrete e-services: Composing session-oriented services in telecommunications.  Proc. Workshop on Technologies for E-Services (TES), Springer LNCS 2193, Sept, 200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9300-4CF6-4143-89C0-C67834CA214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itations (cont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322200" y="791640"/>
            <a:ext cx="856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Christophides et. al. ’01b] V. Christophides, R. Hull, and A. Kumar.  Querying and splicing of XML workflows.  CoopIS, 200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25360" indent="-225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Clarke et.al. ’00] E. Clarke, O. Grumberg, and D. Peled.  Model Checking.  MIT Press, 2000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25360" indent="-225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Deutsch+Tannen ’01] A. Deutsch and V. Tannen.  Containment for classes of XPath expressions under integrity constraints.  Proc. Workshop on Knowledge Representation meets Databases (KRDB), 200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25360" indent="-225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Florescu et.al.’03] D. Florescu, A. Gruhagen, and D. Kossmann.  XL: An XML programming language for web service specification and composition.  WWW, 200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25360" indent="-225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upferman+Vardi ’01] O. Kupferman and M. Y. Vardi.  Synthesizing distributed systems.  Proc. IEEE Symp. Logic in Computer Science (LICS), 200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25360" indent="-225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McIlraith+Son ’02] S. A. McIlraith and T. C. Son.  Adapting Golog for Composition of Semantic Web Services.  KR 200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25360" indent="-225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arayanan+McIlraith ’02] S. Narayanan and S. A. McIlraith.  Simulation, verification and automated composition of web services.  WWW 200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03B9-9E0F-4F92-A663-94C0507FE7C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itations (cont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322200" y="792000"/>
            <a:ext cx="8569440" cy="27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18520" indent="-2185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Odell ’00] J. Odell, Specifying Agent Interactions using UML.  Presentation to July, 2000, meeting of FIPA.  http://www.jamesodell.com/FIPA_UML-Aug_2000.pd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8520" indent="-2185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Pnueli+Rosner ’90] A. Pnueli and R. Rosner.  Distributed reactive systems are hard to synthesize.  FOCS, 199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8520" indent="-2185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van der Aalst ’03]  W. M. P. van der Aalst.  Don’t go with the flow:  Web services composition standards exposed.  IEEE Intelligent Systems, Jan/Feb, 200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8520" indent="-2185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WfMC]  Workflow Management Coalition.  http://www.wfmc.org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8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81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8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191-B6ED-4553-A17A-A27B26ABA66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rvices use ev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9484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ll” plane reservation service includes alerts if plane is delay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person fly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car rental service, to hotel service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ices may have to retain context over a period of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ll be “waiting” for incoming ev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t it into proper contex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ke appropriate a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PEL4WS has explicit constructs for asynchronous even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, wait, p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788-30D2-493E-94F7-5BAA4F81E8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6630840"/>
            <a:ext cx="761508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67520" y="0"/>
            <a:ext cx="207648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6360" y="75960"/>
            <a:ext cx="83692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lecom/Collaborative Servi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4880" y="3885840"/>
            <a:ext cx="89787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erging standards will enable flexible, dynamic invocation of services &amp; incorporation of feat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be viewed as a special case of web ser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Bear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affic vs.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signaling/contro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af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Asynchronous ev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call dropped, person becomes present,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Feature interac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ll screening, call waiting,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4562640" y="1240920"/>
            <a:ext cx="1008000" cy="1683000"/>
          </a:xfrm>
          <a:prstGeom prst="line">
            <a:avLst/>
          </a:prstGeom>
          <a:ln w="28440">
            <a:solidFill>
              <a:srgbClr val="66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655640" y="2882880"/>
            <a:ext cx="730080" cy="509400"/>
            <a:chOff x="1655640" y="2882880"/>
            <a:chExt cx="730080" cy="509400"/>
          </a:xfrm>
        </p:grpSpPr>
        <p:sp>
          <p:nvSpPr>
            <p:cNvPr id="169" name=""/>
            <p:cNvSpPr/>
            <p:nvPr/>
          </p:nvSpPr>
          <p:spPr>
            <a:xfrm>
              <a:off x="1788120" y="2887920"/>
              <a:ext cx="590400" cy="477000"/>
            </a:xfrm>
            <a:custGeom>
              <a:avLst/>
              <a:gdLst/>
              <a:ahLst/>
              <a:rect l="l" t="t" r="r" b="b"/>
              <a:pathLst>
                <a:path w="264" h="193">
                  <a:moveTo>
                    <a:pt x="134" y="7"/>
                  </a:moveTo>
                  <a:lnTo>
                    <a:pt x="121" y="2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11" y="0"/>
                  </a:lnTo>
                  <a:lnTo>
                    <a:pt x="0" y="133"/>
                  </a:lnTo>
                  <a:lnTo>
                    <a:pt x="0" y="139"/>
                  </a:lnTo>
                  <a:lnTo>
                    <a:pt x="158" y="192"/>
                  </a:lnTo>
                  <a:lnTo>
                    <a:pt x="257" y="83"/>
                  </a:lnTo>
                  <a:lnTo>
                    <a:pt x="263" y="59"/>
                  </a:lnTo>
                  <a:lnTo>
                    <a:pt x="263" y="57"/>
                  </a:lnTo>
                  <a:lnTo>
                    <a:pt x="144" y="14"/>
                  </a:lnTo>
                  <a:lnTo>
                    <a:pt x="134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88120" y="2887920"/>
              <a:ext cx="590400" cy="477000"/>
            </a:xfrm>
            <a:custGeom>
              <a:avLst/>
              <a:gdLst/>
              <a:ahLst/>
              <a:rect l="l" t="t" r="r" b="b"/>
              <a:pathLst>
                <a:path w="264" h="193">
                  <a:moveTo>
                    <a:pt x="134" y="7"/>
                  </a:moveTo>
                  <a:lnTo>
                    <a:pt x="121" y="2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11" y="0"/>
                  </a:lnTo>
                  <a:lnTo>
                    <a:pt x="0" y="133"/>
                  </a:lnTo>
                  <a:lnTo>
                    <a:pt x="0" y="139"/>
                  </a:lnTo>
                  <a:lnTo>
                    <a:pt x="158" y="192"/>
                  </a:lnTo>
                  <a:lnTo>
                    <a:pt x="257" y="83"/>
                  </a:lnTo>
                  <a:lnTo>
                    <a:pt x="263" y="59"/>
                  </a:lnTo>
                  <a:lnTo>
                    <a:pt x="263" y="57"/>
                  </a:lnTo>
                  <a:lnTo>
                    <a:pt x="144" y="14"/>
                  </a:lnTo>
                  <a:lnTo>
                    <a:pt x="134" y="7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88120" y="3087720"/>
              <a:ext cx="112680" cy="134280"/>
            </a:xfrm>
            <a:custGeom>
              <a:avLst/>
              <a:gdLst/>
              <a:ahLst/>
              <a:rect l="l" t="t" r="r" b="b"/>
              <a:pathLst>
                <a:path w="51" h="54">
                  <a:moveTo>
                    <a:pt x="0" y="52"/>
                  </a:moveTo>
                  <a:lnTo>
                    <a:pt x="6" y="53"/>
                  </a:lnTo>
                  <a:lnTo>
                    <a:pt x="5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815480" y="3161520"/>
              <a:ext cx="3672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61640" y="3012120"/>
              <a:ext cx="121320" cy="12708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0" y="46"/>
                  </a:moveTo>
                  <a:lnTo>
                    <a:pt x="15" y="51"/>
                  </a:lnTo>
                  <a:lnTo>
                    <a:pt x="16" y="51"/>
                  </a:lnTo>
                  <a:lnTo>
                    <a:pt x="18" y="51"/>
                  </a:lnTo>
                  <a:lnTo>
                    <a:pt x="19" y="50"/>
                  </a:lnTo>
                  <a:lnTo>
                    <a:pt x="53" y="9"/>
                  </a:lnTo>
                  <a:lnTo>
                    <a:pt x="53" y="8"/>
                  </a:lnTo>
                  <a:lnTo>
                    <a:pt x="52" y="7"/>
                  </a:lnTo>
                  <a:lnTo>
                    <a:pt x="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68480" y="3142800"/>
              <a:ext cx="32040" cy="41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10" y="3"/>
                  </a:lnTo>
                  <a:lnTo>
                    <a:pt x="12" y="4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8480" y="3142800"/>
              <a:ext cx="32040" cy="41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10" y="3"/>
                  </a:lnTo>
                  <a:lnTo>
                    <a:pt x="12" y="4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32040" y="2882880"/>
              <a:ext cx="334440" cy="375120"/>
            </a:xfrm>
            <a:custGeom>
              <a:avLst/>
              <a:gdLst/>
              <a:ahLst/>
              <a:rect l="l" t="t" r="r" b="b"/>
              <a:pathLst>
                <a:path w="149" h="152">
                  <a:moveTo>
                    <a:pt x="38" y="151"/>
                  </a:moveTo>
                  <a:lnTo>
                    <a:pt x="32" y="150"/>
                  </a:lnTo>
                  <a:lnTo>
                    <a:pt x="23" y="148"/>
                  </a:lnTo>
                  <a:lnTo>
                    <a:pt x="2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0" y="137"/>
                  </a:lnTo>
                  <a:lnTo>
                    <a:pt x="2" y="117"/>
                  </a:lnTo>
                  <a:lnTo>
                    <a:pt x="16" y="92"/>
                  </a:lnTo>
                  <a:lnTo>
                    <a:pt x="26" y="77"/>
                  </a:lnTo>
                  <a:lnTo>
                    <a:pt x="37" y="63"/>
                  </a:lnTo>
                  <a:lnTo>
                    <a:pt x="45" y="53"/>
                  </a:lnTo>
                  <a:lnTo>
                    <a:pt x="53" y="43"/>
                  </a:lnTo>
                  <a:lnTo>
                    <a:pt x="65" y="30"/>
                  </a:lnTo>
                  <a:lnTo>
                    <a:pt x="83" y="14"/>
                  </a:lnTo>
                  <a:lnTo>
                    <a:pt x="97" y="2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29" y="6"/>
                  </a:lnTo>
                  <a:lnTo>
                    <a:pt x="130" y="7"/>
                  </a:lnTo>
                  <a:lnTo>
                    <a:pt x="146" y="22"/>
                  </a:lnTo>
                  <a:lnTo>
                    <a:pt x="148" y="23"/>
                  </a:lnTo>
                  <a:lnTo>
                    <a:pt x="126" y="53"/>
                  </a:lnTo>
                  <a:lnTo>
                    <a:pt x="122" y="55"/>
                  </a:lnTo>
                  <a:lnTo>
                    <a:pt x="120" y="56"/>
                  </a:lnTo>
                  <a:lnTo>
                    <a:pt x="117" y="55"/>
                  </a:lnTo>
                  <a:lnTo>
                    <a:pt x="110" y="54"/>
                  </a:lnTo>
                  <a:lnTo>
                    <a:pt x="94" y="51"/>
                  </a:lnTo>
                  <a:lnTo>
                    <a:pt x="86" y="59"/>
                  </a:lnTo>
                  <a:lnTo>
                    <a:pt x="77" y="69"/>
                  </a:lnTo>
                  <a:lnTo>
                    <a:pt x="65" y="85"/>
                  </a:lnTo>
                  <a:lnTo>
                    <a:pt x="60" y="93"/>
                  </a:lnTo>
                  <a:lnTo>
                    <a:pt x="60" y="97"/>
                  </a:lnTo>
                  <a:lnTo>
                    <a:pt x="61" y="103"/>
                  </a:lnTo>
                  <a:lnTo>
                    <a:pt x="64" y="109"/>
                  </a:lnTo>
                  <a:lnTo>
                    <a:pt x="68" y="115"/>
                  </a:lnTo>
                  <a:lnTo>
                    <a:pt x="69" y="117"/>
                  </a:lnTo>
                  <a:lnTo>
                    <a:pt x="69" y="119"/>
                  </a:lnTo>
                  <a:lnTo>
                    <a:pt x="51" y="145"/>
                  </a:lnTo>
                  <a:lnTo>
                    <a:pt x="45" y="148"/>
                  </a:lnTo>
                  <a:lnTo>
                    <a:pt x="43" y="150"/>
                  </a:lnTo>
                  <a:lnTo>
                    <a:pt x="40" y="151"/>
                  </a:lnTo>
                  <a:lnTo>
                    <a:pt x="38" y="15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45880" y="2984400"/>
              <a:ext cx="77400" cy="2772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0" y="10"/>
                  </a:moveTo>
                  <a:lnTo>
                    <a:pt x="5" y="5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52360" y="2999880"/>
              <a:ext cx="68760" cy="1188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0" y="1"/>
                  </a:moveTo>
                  <a:lnTo>
                    <a:pt x="8" y="2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37080" y="2899800"/>
              <a:ext cx="286200" cy="29268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0" y="109"/>
                  </a:moveTo>
                  <a:lnTo>
                    <a:pt x="25" y="117"/>
                  </a:lnTo>
                  <a:lnTo>
                    <a:pt x="26" y="117"/>
                  </a:lnTo>
                  <a:lnTo>
                    <a:pt x="28" y="117"/>
                  </a:lnTo>
                  <a:lnTo>
                    <a:pt x="30" y="115"/>
                  </a:lnTo>
                  <a:lnTo>
                    <a:pt x="38" y="99"/>
                  </a:lnTo>
                  <a:lnTo>
                    <a:pt x="46" y="87"/>
                  </a:lnTo>
                  <a:lnTo>
                    <a:pt x="57" y="71"/>
                  </a:lnTo>
                  <a:lnTo>
                    <a:pt x="66" y="59"/>
                  </a:lnTo>
                  <a:lnTo>
                    <a:pt x="77" y="46"/>
                  </a:lnTo>
                  <a:lnTo>
                    <a:pt x="85" y="37"/>
                  </a:lnTo>
                  <a:lnTo>
                    <a:pt x="96" y="25"/>
                  </a:lnTo>
                  <a:lnTo>
                    <a:pt x="107" y="14"/>
                  </a:lnTo>
                  <a:lnTo>
                    <a:pt x="120" y="4"/>
                  </a:lnTo>
                  <a:lnTo>
                    <a:pt x="12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19520" y="2932560"/>
              <a:ext cx="459360" cy="415080"/>
            </a:xfrm>
            <a:custGeom>
              <a:avLst/>
              <a:gdLst/>
              <a:ahLst/>
              <a:rect l="l" t="t" r="r" b="b"/>
              <a:pathLst>
                <a:path w="205" h="168">
                  <a:moveTo>
                    <a:pt x="0" y="136"/>
                  </a:moveTo>
                  <a:lnTo>
                    <a:pt x="109" y="2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96" y="23"/>
                  </a:lnTo>
                  <a:lnTo>
                    <a:pt x="197" y="24"/>
                  </a:lnTo>
                  <a:lnTo>
                    <a:pt x="204" y="33"/>
                  </a:lnTo>
                  <a:lnTo>
                    <a:pt x="204" y="37"/>
                  </a:lnTo>
                  <a:lnTo>
                    <a:pt x="97" y="166"/>
                  </a:lnTo>
                  <a:lnTo>
                    <a:pt x="96" y="166"/>
                  </a:lnTo>
                  <a:lnTo>
                    <a:pt x="95" y="167"/>
                  </a:lnTo>
                  <a:lnTo>
                    <a:pt x="0" y="13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9520" y="2932560"/>
              <a:ext cx="459360" cy="415080"/>
            </a:xfrm>
            <a:custGeom>
              <a:avLst/>
              <a:gdLst/>
              <a:ahLst/>
              <a:rect l="l" t="t" r="r" b="b"/>
              <a:pathLst>
                <a:path w="205" h="168">
                  <a:moveTo>
                    <a:pt x="0" y="136"/>
                  </a:moveTo>
                  <a:lnTo>
                    <a:pt x="109" y="2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96" y="23"/>
                  </a:lnTo>
                  <a:lnTo>
                    <a:pt x="197" y="24"/>
                  </a:lnTo>
                  <a:lnTo>
                    <a:pt x="204" y="33"/>
                  </a:lnTo>
                  <a:lnTo>
                    <a:pt x="204" y="37"/>
                  </a:lnTo>
                  <a:lnTo>
                    <a:pt x="97" y="166"/>
                  </a:lnTo>
                  <a:lnTo>
                    <a:pt x="96" y="166"/>
                  </a:lnTo>
                  <a:lnTo>
                    <a:pt x="95" y="167"/>
                  </a:lnTo>
                  <a:lnTo>
                    <a:pt x="0" y="1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33360" y="3008520"/>
              <a:ext cx="252360" cy="345960"/>
            </a:xfrm>
            <a:custGeom>
              <a:avLst/>
              <a:gdLst/>
              <a:ahLst/>
              <a:rect l="l" t="t" r="r" b="b"/>
              <a:pathLst>
                <a:path w="113" h="140">
                  <a:moveTo>
                    <a:pt x="0" y="135"/>
                  </a:moveTo>
                  <a:lnTo>
                    <a:pt x="109" y="2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8"/>
                  </a:lnTo>
                  <a:lnTo>
                    <a:pt x="2" y="139"/>
                  </a:lnTo>
                  <a:lnTo>
                    <a:pt x="0" y="13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33360" y="3008520"/>
              <a:ext cx="252360" cy="345960"/>
            </a:xfrm>
            <a:custGeom>
              <a:avLst/>
              <a:gdLst/>
              <a:ahLst/>
              <a:rect l="l" t="t" r="r" b="b"/>
              <a:pathLst>
                <a:path w="113" h="140">
                  <a:moveTo>
                    <a:pt x="0" y="135"/>
                  </a:moveTo>
                  <a:lnTo>
                    <a:pt x="109" y="2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8"/>
                  </a:lnTo>
                  <a:lnTo>
                    <a:pt x="2" y="139"/>
                  </a:lnTo>
                  <a:lnTo>
                    <a:pt x="0" y="13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36600" y="3359880"/>
              <a:ext cx="32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03600" y="3218760"/>
              <a:ext cx="117360" cy="532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0" y="0"/>
                  </a:moveTo>
                  <a:lnTo>
                    <a:pt x="3" y="3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26360" y="2991240"/>
              <a:ext cx="439200" cy="339120"/>
            </a:xfrm>
            <a:custGeom>
              <a:avLst/>
              <a:gdLst/>
              <a:ahLst/>
              <a:rect l="l" t="t" r="r" b="b"/>
              <a:pathLst>
                <a:path w="196" h="137">
                  <a:moveTo>
                    <a:pt x="0" y="108"/>
                  </a:moveTo>
                  <a:lnTo>
                    <a:pt x="86" y="136"/>
                  </a:lnTo>
                  <a:lnTo>
                    <a:pt x="87" y="136"/>
                  </a:lnTo>
                  <a:lnTo>
                    <a:pt x="89" y="136"/>
                  </a:lnTo>
                  <a:lnTo>
                    <a:pt x="90" y="135"/>
                  </a:lnTo>
                  <a:lnTo>
                    <a:pt x="195" y="1"/>
                  </a:lnTo>
                  <a:lnTo>
                    <a:pt x="19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48320" y="2968920"/>
              <a:ext cx="376920" cy="343800"/>
            </a:xfrm>
            <a:custGeom>
              <a:avLst/>
              <a:gdLst/>
              <a:ahLst/>
              <a:rect l="l" t="t" r="r" b="b"/>
              <a:pathLst>
                <a:path w="168" h="139">
                  <a:moveTo>
                    <a:pt x="2" y="111"/>
                  </a:moveTo>
                  <a:lnTo>
                    <a:pt x="89" y="2"/>
                  </a:lnTo>
                  <a:lnTo>
                    <a:pt x="91" y="1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166" y="21"/>
                  </a:lnTo>
                  <a:lnTo>
                    <a:pt x="167" y="21"/>
                  </a:lnTo>
                  <a:lnTo>
                    <a:pt x="167" y="22"/>
                  </a:lnTo>
                  <a:lnTo>
                    <a:pt x="79" y="136"/>
                  </a:lnTo>
                  <a:lnTo>
                    <a:pt x="77" y="137"/>
                  </a:lnTo>
                  <a:lnTo>
                    <a:pt x="76" y="138"/>
                  </a:lnTo>
                  <a:lnTo>
                    <a:pt x="74" y="138"/>
                  </a:lnTo>
                  <a:lnTo>
                    <a:pt x="71" y="138"/>
                  </a:lnTo>
                  <a:lnTo>
                    <a:pt x="2" y="115"/>
                  </a:lnTo>
                  <a:lnTo>
                    <a:pt x="1" y="114"/>
                  </a:lnTo>
                  <a:lnTo>
                    <a:pt x="0" y="114"/>
                  </a:lnTo>
                  <a:lnTo>
                    <a:pt x="0" y="113"/>
                  </a:lnTo>
                  <a:lnTo>
                    <a:pt x="0" y="112"/>
                  </a:lnTo>
                  <a:lnTo>
                    <a:pt x="2" y="1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48320" y="2968920"/>
              <a:ext cx="376920" cy="343800"/>
            </a:xfrm>
            <a:custGeom>
              <a:avLst/>
              <a:gdLst/>
              <a:ahLst/>
              <a:rect l="l" t="t" r="r" b="b"/>
              <a:pathLst>
                <a:path w="168" h="139">
                  <a:moveTo>
                    <a:pt x="2" y="111"/>
                  </a:moveTo>
                  <a:lnTo>
                    <a:pt x="89" y="2"/>
                  </a:lnTo>
                  <a:lnTo>
                    <a:pt x="91" y="1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166" y="21"/>
                  </a:lnTo>
                  <a:lnTo>
                    <a:pt x="167" y="21"/>
                  </a:lnTo>
                  <a:lnTo>
                    <a:pt x="167" y="22"/>
                  </a:lnTo>
                  <a:lnTo>
                    <a:pt x="79" y="136"/>
                  </a:lnTo>
                  <a:lnTo>
                    <a:pt x="77" y="137"/>
                  </a:lnTo>
                  <a:lnTo>
                    <a:pt x="76" y="138"/>
                  </a:lnTo>
                  <a:lnTo>
                    <a:pt x="74" y="138"/>
                  </a:lnTo>
                  <a:lnTo>
                    <a:pt x="71" y="138"/>
                  </a:lnTo>
                  <a:lnTo>
                    <a:pt x="2" y="115"/>
                  </a:lnTo>
                  <a:lnTo>
                    <a:pt x="1" y="114"/>
                  </a:lnTo>
                  <a:lnTo>
                    <a:pt x="0" y="114"/>
                  </a:lnTo>
                  <a:lnTo>
                    <a:pt x="0" y="113"/>
                  </a:lnTo>
                  <a:lnTo>
                    <a:pt x="0" y="112"/>
                  </a:lnTo>
                  <a:lnTo>
                    <a:pt x="2" y="1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94840" y="3007080"/>
              <a:ext cx="149400" cy="15300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1" y="50"/>
                  </a:moveTo>
                  <a:lnTo>
                    <a:pt x="40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5" y="7"/>
                  </a:lnTo>
                  <a:lnTo>
                    <a:pt x="66" y="7"/>
                  </a:lnTo>
                  <a:lnTo>
                    <a:pt x="66" y="8"/>
                  </a:lnTo>
                  <a:lnTo>
                    <a:pt x="25" y="60"/>
                  </a:lnTo>
                  <a:lnTo>
                    <a:pt x="24" y="61"/>
                  </a:lnTo>
                  <a:lnTo>
                    <a:pt x="22" y="61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50"/>
                  </a:lnTo>
                </a:path>
              </a:pathLst>
            </a:custGeom>
            <a:solidFill>
              <a:srgbClr val="fff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94840" y="3007080"/>
              <a:ext cx="149400" cy="15300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1" y="50"/>
                  </a:moveTo>
                  <a:lnTo>
                    <a:pt x="40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5" y="7"/>
                  </a:lnTo>
                  <a:lnTo>
                    <a:pt x="66" y="7"/>
                  </a:lnTo>
                  <a:lnTo>
                    <a:pt x="66" y="8"/>
                  </a:lnTo>
                  <a:lnTo>
                    <a:pt x="25" y="60"/>
                  </a:lnTo>
                  <a:lnTo>
                    <a:pt x="24" y="61"/>
                  </a:lnTo>
                  <a:lnTo>
                    <a:pt x="22" y="61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5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57240" y="3192840"/>
              <a:ext cx="23400" cy="241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" y="3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9" y="9"/>
                  </a:lnTo>
                  <a:lnTo>
                    <a:pt x="7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57240" y="3192840"/>
              <a:ext cx="23400" cy="241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" y="3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9" y="9"/>
                  </a:lnTo>
                  <a:lnTo>
                    <a:pt x="7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30240" y="3196440"/>
              <a:ext cx="48600" cy="7560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8" y="2"/>
                  </a:moveTo>
                  <a:lnTo>
                    <a:pt x="18" y="1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11" y="29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0" y="23"/>
                  </a:lnTo>
                  <a:lnTo>
                    <a:pt x="19" y="22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4" y="20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13" y="23"/>
                  </a:lnTo>
                  <a:lnTo>
                    <a:pt x="14" y="23"/>
                  </a:lnTo>
                  <a:lnTo>
                    <a:pt x="10" y="22"/>
                  </a:lnTo>
                  <a:lnTo>
                    <a:pt x="9" y="20"/>
                  </a:lnTo>
                  <a:lnTo>
                    <a:pt x="7" y="17"/>
                  </a:lnTo>
                  <a:lnTo>
                    <a:pt x="7" y="12"/>
                  </a:lnTo>
                  <a:lnTo>
                    <a:pt x="6" y="10"/>
                  </a:lnTo>
                  <a:lnTo>
                    <a:pt x="7" y="7"/>
                  </a:lnTo>
                  <a:lnTo>
                    <a:pt x="8" y="5"/>
                  </a:lnTo>
                  <a:lnTo>
                    <a:pt x="11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8" y="2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40200" y="2999880"/>
              <a:ext cx="34920" cy="1872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4"/>
                  </a:moveTo>
                  <a:lnTo>
                    <a:pt x="3" y="0"/>
                  </a:lnTo>
                  <a:lnTo>
                    <a:pt x="15" y="3"/>
                  </a:lnTo>
                  <a:lnTo>
                    <a:pt x="12" y="7"/>
                  </a:lnTo>
                  <a:lnTo>
                    <a:pt x="0" y="4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22120" y="3152880"/>
              <a:ext cx="57240" cy="3456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6"/>
                  </a:moveTo>
                  <a:lnTo>
                    <a:pt x="6" y="0"/>
                  </a:lnTo>
                  <a:lnTo>
                    <a:pt x="24" y="6"/>
                  </a:lnTo>
                  <a:lnTo>
                    <a:pt x="18" y="13"/>
                  </a:lnTo>
                  <a:lnTo>
                    <a:pt x="0" y="6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05560" y="3177360"/>
              <a:ext cx="53640" cy="327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5" y="0"/>
                  </a:moveTo>
                  <a:lnTo>
                    <a:pt x="23" y="6"/>
                  </a:lnTo>
                  <a:lnTo>
                    <a:pt x="18" y="12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71720" y="3222000"/>
              <a:ext cx="53640" cy="3420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5" y="0"/>
                  </a:moveTo>
                  <a:lnTo>
                    <a:pt x="23" y="6"/>
                  </a:lnTo>
                  <a:lnTo>
                    <a:pt x="18" y="13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76120" y="3170160"/>
              <a:ext cx="57240" cy="3600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6" y="0"/>
                  </a:moveTo>
                  <a:lnTo>
                    <a:pt x="24" y="6"/>
                  </a:lnTo>
                  <a:lnTo>
                    <a:pt x="18" y="14"/>
                  </a:lnTo>
                  <a:lnTo>
                    <a:pt x="0" y="7"/>
                  </a:lnTo>
                  <a:lnTo>
                    <a:pt x="6" y="0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60640" y="3196440"/>
              <a:ext cx="54000" cy="3564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5" y="0"/>
                  </a:moveTo>
                  <a:lnTo>
                    <a:pt x="23" y="7"/>
                  </a:lnTo>
                  <a:lnTo>
                    <a:pt x="18" y="13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40840" y="3222000"/>
              <a:ext cx="55080" cy="327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4" y="0"/>
                  </a:moveTo>
                  <a:lnTo>
                    <a:pt x="24" y="7"/>
                  </a:lnTo>
                  <a:lnTo>
                    <a:pt x="19" y="12"/>
                  </a:lnTo>
                  <a:lnTo>
                    <a:pt x="0" y="6"/>
                  </a:lnTo>
                  <a:lnTo>
                    <a:pt x="4" y="0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33360" y="3189240"/>
              <a:ext cx="53640" cy="3420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5" y="0"/>
                  </a:moveTo>
                  <a:lnTo>
                    <a:pt x="23" y="6"/>
                  </a:lnTo>
                  <a:lnTo>
                    <a:pt x="17" y="13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15000" y="3215160"/>
              <a:ext cx="51840" cy="342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5" y="0"/>
                  </a:moveTo>
                  <a:lnTo>
                    <a:pt x="22" y="7"/>
                  </a:lnTo>
                  <a:lnTo>
                    <a:pt x="18" y="13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79360" y="3263400"/>
              <a:ext cx="55080" cy="3240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5" y="0"/>
                  </a:moveTo>
                  <a:lnTo>
                    <a:pt x="24" y="6"/>
                  </a:lnTo>
                  <a:lnTo>
                    <a:pt x="19" y="12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28320" y="3013560"/>
              <a:ext cx="33480" cy="2052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4"/>
                  </a:moveTo>
                  <a:lnTo>
                    <a:pt x="3" y="0"/>
                  </a:lnTo>
                  <a:lnTo>
                    <a:pt x="14" y="3"/>
                  </a:lnTo>
                  <a:lnTo>
                    <a:pt x="11" y="7"/>
                  </a:lnTo>
                  <a:lnTo>
                    <a:pt x="0" y="4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16440" y="3029040"/>
              <a:ext cx="33480" cy="1872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4"/>
                  </a:moveTo>
                  <a:lnTo>
                    <a:pt x="3" y="0"/>
                  </a:lnTo>
                  <a:lnTo>
                    <a:pt x="14" y="3"/>
                  </a:lnTo>
                  <a:lnTo>
                    <a:pt x="11" y="7"/>
                  </a:lnTo>
                  <a:lnTo>
                    <a:pt x="0" y="4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82960" y="3074040"/>
              <a:ext cx="33480" cy="1872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4"/>
                  </a:moveTo>
                  <a:lnTo>
                    <a:pt x="3" y="0"/>
                  </a:lnTo>
                  <a:lnTo>
                    <a:pt x="14" y="3"/>
                  </a:lnTo>
                  <a:lnTo>
                    <a:pt x="11" y="7"/>
                  </a:lnTo>
                  <a:lnTo>
                    <a:pt x="0" y="4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74320" y="3087720"/>
              <a:ext cx="33480" cy="2052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4"/>
                  </a:moveTo>
                  <a:lnTo>
                    <a:pt x="3" y="0"/>
                  </a:lnTo>
                  <a:lnTo>
                    <a:pt x="14" y="3"/>
                  </a:lnTo>
                  <a:lnTo>
                    <a:pt x="11" y="7"/>
                  </a:lnTo>
                  <a:lnTo>
                    <a:pt x="0" y="4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62800" y="3102840"/>
              <a:ext cx="36720" cy="190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4"/>
                  </a:moveTo>
                  <a:lnTo>
                    <a:pt x="3" y="0"/>
                  </a:lnTo>
                  <a:lnTo>
                    <a:pt x="15" y="3"/>
                  </a:lnTo>
                  <a:lnTo>
                    <a:pt x="12" y="7"/>
                  </a:lnTo>
                  <a:lnTo>
                    <a:pt x="0" y="4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2360" y="3115080"/>
              <a:ext cx="35280" cy="2052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4"/>
                  </a:moveTo>
                  <a:lnTo>
                    <a:pt x="3" y="0"/>
                  </a:lnTo>
                  <a:lnTo>
                    <a:pt x="15" y="3"/>
                  </a:lnTo>
                  <a:lnTo>
                    <a:pt x="12" y="7"/>
                  </a:lnTo>
                  <a:lnTo>
                    <a:pt x="0" y="4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56760" y="3152880"/>
              <a:ext cx="36720" cy="190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4"/>
                  </a:moveTo>
                  <a:lnTo>
                    <a:pt x="3" y="0"/>
                  </a:lnTo>
                  <a:lnTo>
                    <a:pt x="15" y="3"/>
                  </a:lnTo>
                  <a:lnTo>
                    <a:pt x="12" y="7"/>
                  </a:lnTo>
                  <a:lnTo>
                    <a:pt x="0" y="4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20960" y="3278880"/>
              <a:ext cx="32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26360" y="32580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40200" y="3053520"/>
              <a:ext cx="231840" cy="306360"/>
            </a:xfrm>
            <a:custGeom>
              <a:avLst/>
              <a:gdLst/>
              <a:ahLst/>
              <a:rect l="l" t="t" r="r" b="b"/>
              <a:pathLst>
                <a:path w="104" h="124">
                  <a:moveTo>
                    <a:pt x="0" y="121"/>
                  </a:moveTo>
                  <a:lnTo>
                    <a:pt x="103" y="0"/>
                  </a:lnTo>
                  <a:lnTo>
                    <a:pt x="99" y="16"/>
                  </a:lnTo>
                  <a:lnTo>
                    <a:pt x="1" y="123"/>
                  </a:lnTo>
                  <a:lnTo>
                    <a:pt x="0" y="12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55640" y="3079080"/>
              <a:ext cx="230400" cy="31320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102" y="0"/>
                  </a:moveTo>
                  <a:lnTo>
                    <a:pt x="93" y="6"/>
                  </a:lnTo>
                  <a:lnTo>
                    <a:pt x="84" y="6"/>
                  </a:lnTo>
                  <a:lnTo>
                    <a:pt x="63" y="12"/>
                  </a:lnTo>
                  <a:lnTo>
                    <a:pt x="42" y="12"/>
                  </a:lnTo>
                  <a:lnTo>
                    <a:pt x="39" y="12"/>
                  </a:lnTo>
                  <a:lnTo>
                    <a:pt x="35" y="18"/>
                  </a:lnTo>
                  <a:lnTo>
                    <a:pt x="31" y="18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16" y="24"/>
                  </a:lnTo>
                  <a:lnTo>
                    <a:pt x="9" y="30"/>
                  </a:lnTo>
                  <a:lnTo>
                    <a:pt x="4" y="36"/>
                  </a:lnTo>
                  <a:lnTo>
                    <a:pt x="3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3" y="72"/>
                  </a:lnTo>
                  <a:lnTo>
                    <a:pt x="6" y="78"/>
                  </a:lnTo>
                  <a:lnTo>
                    <a:pt x="14" y="84"/>
                  </a:lnTo>
                  <a:lnTo>
                    <a:pt x="23" y="90"/>
                  </a:lnTo>
                  <a:lnTo>
                    <a:pt x="26" y="96"/>
                  </a:lnTo>
                  <a:lnTo>
                    <a:pt x="29" y="96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7" y="108"/>
                  </a:lnTo>
                  <a:lnTo>
                    <a:pt x="50" y="114"/>
                  </a:lnTo>
                  <a:lnTo>
                    <a:pt x="53" y="114"/>
                  </a:lnTo>
                  <a:lnTo>
                    <a:pt x="63" y="120"/>
                  </a:lnTo>
                  <a:lnTo>
                    <a:pt x="67" y="126"/>
                  </a:lnTo>
                  <a:lnTo>
                    <a:pt x="71" y="126"/>
                  </a:lnTo>
                  <a:lnTo>
                    <a:pt x="77" y="126"/>
                  </a:lnTo>
                  <a:lnTo>
                    <a:pt x="82" y="126"/>
                  </a:lnTo>
                  <a:lnTo>
                    <a:pt x="91" y="120"/>
                  </a:lnTo>
                  <a:lnTo>
                    <a:pt x="93" y="120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3" y="84"/>
                  </a:lnTo>
                  <a:lnTo>
                    <a:pt x="91" y="78"/>
                  </a:lnTo>
                  <a:lnTo>
                    <a:pt x="87" y="78"/>
                  </a:lnTo>
                  <a:lnTo>
                    <a:pt x="81" y="72"/>
                  </a:lnTo>
                  <a:lnTo>
                    <a:pt x="81" y="66"/>
                  </a:lnTo>
                  <a:lnTo>
                    <a:pt x="83" y="60"/>
                  </a:lnTo>
                  <a:lnTo>
                    <a:pt x="87" y="54"/>
                  </a:lnTo>
                  <a:lnTo>
                    <a:pt x="93" y="54"/>
                  </a:lnTo>
                  <a:lnTo>
                    <a:pt x="96" y="54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32040" y="2882880"/>
              <a:ext cx="334440" cy="375120"/>
            </a:xfrm>
            <a:custGeom>
              <a:avLst/>
              <a:gdLst/>
              <a:ahLst/>
              <a:rect l="l" t="t" r="r" b="b"/>
              <a:pathLst>
                <a:path w="149" h="152">
                  <a:moveTo>
                    <a:pt x="38" y="151"/>
                  </a:moveTo>
                  <a:lnTo>
                    <a:pt x="32" y="150"/>
                  </a:lnTo>
                  <a:lnTo>
                    <a:pt x="23" y="148"/>
                  </a:lnTo>
                  <a:lnTo>
                    <a:pt x="2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0" y="137"/>
                  </a:lnTo>
                  <a:lnTo>
                    <a:pt x="2" y="117"/>
                  </a:lnTo>
                  <a:lnTo>
                    <a:pt x="16" y="92"/>
                  </a:lnTo>
                  <a:lnTo>
                    <a:pt x="26" y="77"/>
                  </a:lnTo>
                  <a:lnTo>
                    <a:pt x="37" y="63"/>
                  </a:lnTo>
                  <a:lnTo>
                    <a:pt x="45" y="53"/>
                  </a:lnTo>
                  <a:lnTo>
                    <a:pt x="53" y="43"/>
                  </a:lnTo>
                  <a:lnTo>
                    <a:pt x="65" y="30"/>
                  </a:lnTo>
                  <a:lnTo>
                    <a:pt x="83" y="14"/>
                  </a:lnTo>
                  <a:lnTo>
                    <a:pt x="97" y="2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29" y="6"/>
                  </a:lnTo>
                  <a:lnTo>
                    <a:pt x="130" y="7"/>
                  </a:lnTo>
                  <a:lnTo>
                    <a:pt x="146" y="22"/>
                  </a:lnTo>
                  <a:lnTo>
                    <a:pt x="148" y="23"/>
                  </a:lnTo>
                  <a:lnTo>
                    <a:pt x="126" y="53"/>
                  </a:lnTo>
                  <a:lnTo>
                    <a:pt x="122" y="55"/>
                  </a:lnTo>
                  <a:lnTo>
                    <a:pt x="120" y="56"/>
                  </a:lnTo>
                  <a:lnTo>
                    <a:pt x="117" y="55"/>
                  </a:lnTo>
                  <a:lnTo>
                    <a:pt x="110" y="54"/>
                  </a:lnTo>
                  <a:lnTo>
                    <a:pt x="94" y="51"/>
                  </a:lnTo>
                  <a:lnTo>
                    <a:pt x="86" y="59"/>
                  </a:lnTo>
                  <a:lnTo>
                    <a:pt x="77" y="69"/>
                  </a:lnTo>
                  <a:lnTo>
                    <a:pt x="65" y="85"/>
                  </a:lnTo>
                  <a:lnTo>
                    <a:pt x="60" y="93"/>
                  </a:lnTo>
                  <a:lnTo>
                    <a:pt x="60" y="97"/>
                  </a:lnTo>
                  <a:lnTo>
                    <a:pt x="61" y="103"/>
                  </a:lnTo>
                  <a:lnTo>
                    <a:pt x="64" y="109"/>
                  </a:lnTo>
                  <a:lnTo>
                    <a:pt x="68" y="115"/>
                  </a:lnTo>
                  <a:lnTo>
                    <a:pt x="69" y="117"/>
                  </a:lnTo>
                  <a:lnTo>
                    <a:pt x="69" y="119"/>
                  </a:lnTo>
                  <a:lnTo>
                    <a:pt x="51" y="145"/>
                  </a:lnTo>
                  <a:lnTo>
                    <a:pt x="45" y="148"/>
                  </a:lnTo>
                  <a:lnTo>
                    <a:pt x="43" y="150"/>
                  </a:lnTo>
                  <a:lnTo>
                    <a:pt x="40" y="151"/>
                  </a:lnTo>
                  <a:lnTo>
                    <a:pt x="38" y="1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79400" y="2798640"/>
            <a:ext cx="900000" cy="757440"/>
          </a:xfrm>
          <a:prstGeom prst="rect">
            <a:avLst/>
          </a:prstGeom>
          <a:ln w="0">
            <a:noFill/>
          </a:ln>
        </p:spPr>
      </p:pic>
      <p:pic>
        <p:nvPicPr>
          <p:cNvPr id="217" name="Old%20Black%20Phone" descr=""/>
          <p:cNvPicPr/>
          <p:nvPr/>
        </p:nvPicPr>
        <p:blipFill>
          <a:blip r:embed="rId2"/>
          <a:srcRect l="3855" t="0" r="5140" b="0"/>
          <a:stretch/>
        </p:blipFill>
        <p:spPr>
          <a:xfrm>
            <a:off x="3505320" y="2940120"/>
            <a:ext cx="644400" cy="44136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1279080" y="3494160"/>
            <a:ext cx="576720" cy="512640"/>
            <a:chOff x="1279080" y="3494160"/>
            <a:chExt cx="576720" cy="512640"/>
          </a:xfrm>
        </p:grpSpPr>
        <p:sp>
          <p:nvSpPr>
            <p:cNvPr id="219" name=""/>
            <p:cNvSpPr/>
            <p:nvPr/>
          </p:nvSpPr>
          <p:spPr>
            <a:xfrm>
              <a:off x="1512360" y="3494160"/>
              <a:ext cx="133920" cy="10296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512000" y="3605040"/>
              <a:ext cx="54360" cy="14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1279080" y="3756960"/>
              <a:ext cx="223560" cy="13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3000" y="3756960"/>
              <a:ext cx="36000" cy="24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279440" y="3662280"/>
              <a:ext cx="576360" cy="1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5310360" y="2887560"/>
            <a:ext cx="858600" cy="66384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3312720" y="3432240"/>
            <a:ext cx="576720" cy="512640"/>
            <a:chOff x="3312720" y="3432240"/>
            <a:chExt cx="576720" cy="512640"/>
          </a:xfrm>
        </p:grpSpPr>
        <p:sp>
          <p:nvSpPr>
            <p:cNvPr id="226" name=""/>
            <p:cNvSpPr/>
            <p:nvPr/>
          </p:nvSpPr>
          <p:spPr>
            <a:xfrm>
              <a:off x="3546000" y="3432240"/>
              <a:ext cx="133920" cy="10296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545640" y="3543120"/>
              <a:ext cx="54360" cy="14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312720" y="3695040"/>
              <a:ext cx="223560" cy="13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36640" y="3695040"/>
              <a:ext cx="36000" cy="24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313080" y="3600360"/>
              <a:ext cx="576360" cy="1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812920" y="3484440"/>
            <a:ext cx="576720" cy="512640"/>
            <a:chOff x="5812920" y="3484440"/>
            <a:chExt cx="576720" cy="512640"/>
          </a:xfrm>
        </p:grpSpPr>
        <p:sp>
          <p:nvSpPr>
            <p:cNvPr id="232" name=""/>
            <p:cNvSpPr/>
            <p:nvPr/>
          </p:nvSpPr>
          <p:spPr>
            <a:xfrm>
              <a:off x="6046200" y="3484440"/>
              <a:ext cx="133920" cy="10296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045840" y="3595320"/>
              <a:ext cx="54360" cy="14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812920" y="3747240"/>
              <a:ext cx="223560" cy="13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36840" y="3747240"/>
              <a:ext cx="36000" cy="24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813280" y="3652560"/>
              <a:ext cx="576360" cy="1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 flipV="1">
            <a:off x="1542960" y="2231640"/>
            <a:ext cx="1660680" cy="63036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052880" y="2347920"/>
            <a:ext cx="1062000" cy="61596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81600" y="2363760"/>
            <a:ext cx="1341360" cy="57456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401920" y="2232000"/>
            <a:ext cx="2533680" cy="73044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26080" y="2360520"/>
            <a:ext cx="585720" cy="5130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689200" y="1009800"/>
            <a:ext cx="1162080" cy="226800"/>
          </a:xfrm>
          <a:prstGeom prst="line">
            <a:avLst/>
          </a:prstGeom>
          <a:ln w="28440">
            <a:solidFill>
              <a:srgbClr val="66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747960" y="1198440"/>
            <a:ext cx="455760" cy="514440"/>
          </a:xfrm>
          <a:prstGeom prst="line">
            <a:avLst/>
          </a:prstGeom>
          <a:ln w="28440">
            <a:solidFill>
              <a:srgbClr val="66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392120" y="1111320"/>
            <a:ext cx="2633760" cy="1712880"/>
          </a:xfrm>
          <a:prstGeom prst="line">
            <a:avLst/>
          </a:prstGeom>
          <a:ln w="28440">
            <a:solidFill>
              <a:srgbClr val="66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83480" y="582480"/>
            <a:ext cx="858600" cy="628920"/>
          </a:xfrm>
          <a:prstGeom prst="can">
            <a:avLst>
              <a:gd name="adj" fmla="val 1887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21360" y="885960"/>
            <a:ext cx="1663560" cy="0"/>
          </a:xfrm>
          <a:prstGeom prst="line">
            <a:avLst/>
          </a:prstGeom>
          <a:ln w="28440">
            <a:solidFill>
              <a:srgbClr val="66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samsung_3g_cell_phones_a400" descr="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6084720" y="2924280"/>
            <a:ext cx="425520" cy="5270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551640" y="1525680"/>
            <a:ext cx="1068480" cy="64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17960" y="1727280"/>
            <a:ext cx="10684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vo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32000" y="1736640"/>
            <a:ext cx="1068480" cy="64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vide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31880" y="992160"/>
            <a:ext cx="1068480" cy="64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-P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38680" y="585720"/>
            <a:ext cx="1243080" cy="64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ord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194000" y="2238480"/>
            <a:ext cx="3321360" cy="788760"/>
            <a:chOff x="4194000" y="2238480"/>
            <a:chExt cx="3321360" cy="788760"/>
          </a:xfrm>
        </p:grpSpPr>
        <p:sp>
          <p:nvSpPr>
            <p:cNvPr id="254" name=""/>
            <p:cNvSpPr/>
            <p:nvPr/>
          </p:nvSpPr>
          <p:spPr>
            <a:xfrm>
              <a:off x="5958000" y="2254320"/>
              <a:ext cx="1557360" cy="65376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94000" y="2238480"/>
              <a:ext cx="3273480" cy="78876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099040" y="1095480"/>
            <a:ext cx="1438200" cy="531720"/>
          </a:xfrm>
          <a:prstGeom prst="line">
            <a:avLst/>
          </a:prstGeom>
          <a:ln w="28440">
            <a:solidFill>
              <a:srgbClr val="66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91440" y="2158920"/>
            <a:ext cx="474480" cy="750960"/>
          </a:xfrm>
          <a:prstGeom prst="line">
            <a:avLst/>
          </a:prstGeom>
          <a:ln w="28440">
            <a:solidFill>
              <a:srgbClr val="66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7448400" y="2844720"/>
            <a:ext cx="989280" cy="1041480"/>
            <a:chOff x="7448400" y="2844720"/>
            <a:chExt cx="989280" cy="1041480"/>
          </a:xfrm>
        </p:grpSpPr>
        <p:pic>
          <p:nvPicPr>
            <p:cNvPr id="259" name="home_handspringvisor-small" descr=""/>
            <p:cNvPicPr/>
            <p:nvPr/>
          </p:nvPicPr>
          <p:blipFill>
            <a:blip r:embed="rId5"/>
            <a:stretch/>
          </p:blipFill>
          <p:spPr>
            <a:xfrm>
              <a:off x="7448400" y="2844720"/>
              <a:ext cx="582840" cy="61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0" name=""/>
            <p:cNvGrpSpPr/>
            <p:nvPr/>
          </p:nvGrpSpPr>
          <p:grpSpPr>
            <a:xfrm>
              <a:off x="7860960" y="3373560"/>
              <a:ext cx="576720" cy="512640"/>
              <a:chOff x="7860960" y="3373560"/>
              <a:chExt cx="576720" cy="512640"/>
            </a:xfrm>
          </p:grpSpPr>
          <p:sp>
            <p:nvSpPr>
              <p:cNvPr id="261" name=""/>
              <p:cNvSpPr/>
              <p:nvPr/>
            </p:nvSpPr>
            <p:spPr>
              <a:xfrm>
                <a:off x="8094240" y="3373560"/>
                <a:ext cx="133920" cy="102960"/>
              </a:xfrm>
              <a:prstGeom prst="ellips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8093880" y="3484440"/>
                <a:ext cx="5436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7860960" y="3636360"/>
                <a:ext cx="223560" cy="13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084880" y="3636360"/>
                <a:ext cx="36000" cy="24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861320" y="3541680"/>
                <a:ext cx="576360" cy="1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4913280" y="1235160"/>
            <a:ext cx="644400" cy="473040"/>
          </a:xfrm>
          <a:prstGeom prst="line">
            <a:avLst/>
          </a:prstGeom>
          <a:ln w="28440">
            <a:solidFill>
              <a:srgbClr val="66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858840" y="1236600"/>
            <a:ext cx="1613160" cy="473040"/>
            <a:chOff x="3858840" y="1236600"/>
            <a:chExt cx="1613160" cy="473040"/>
          </a:xfrm>
        </p:grpSpPr>
        <p:sp>
          <p:nvSpPr>
            <p:cNvPr id="268" name=""/>
            <p:cNvSpPr/>
            <p:nvPr/>
          </p:nvSpPr>
          <p:spPr>
            <a:xfrm>
              <a:off x="4827600" y="1236600"/>
              <a:ext cx="644400" cy="473040"/>
            </a:xfrm>
            <a:prstGeom prst="line">
              <a:avLst/>
            </a:prstGeom>
            <a:ln w="28440">
              <a:solidFill>
                <a:srgbClr val="66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858840" y="1238400"/>
              <a:ext cx="382680" cy="434880"/>
            </a:xfrm>
            <a:prstGeom prst="line">
              <a:avLst/>
            </a:prstGeom>
            <a:ln w="28440">
              <a:solidFill>
                <a:srgbClr val="66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20A4-9D02-4B52-B859-B7BF57B095C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2120" y="7632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9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quential behavior and messaging are a fact of lif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need a notion of “behavioral signatur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524"/>
              </a:spcBef>
              <a:buClr>
                <a:srgbClr val="cc0066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An automata-based frame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cc0066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Uses a “black-box” perspe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cc0066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Contrast to “white-box” formalis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“tools” are avail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9040" indent="-281160">
              <a:spcBef>
                <a:spcPts val="451"/>
              </a:spcBef>
              <a:buClr>
                <a:srgbClr val="000000"/>
              </a:buClr>
              <a:buSzPct val="11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ing a bridge to D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3760" indent="-293760">
              <a:spcBef>
                <a:spcPts val="524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havioral Signatures and E-Service Composi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8BE-5527-4483-9C0B-775D8A2CFA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8, 2003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17:47:06Z</dcterms:created>
  <dc:creator>Rick Hull</dc:creator>
  <dc:description/>
  <dc:language>en-US</dc:language>
  <cp:lastModifiedBy>Lucent End User</cp:lastModifiedBy>
  <dcterms:modified xsi:type="dcterms:W3CDTF">2003-10-20T21:53:25Z</dcterms:modified>
  <cp:revision>185</cp:revision>
  <dc:subject/>
  <dc:title>E-Service Composition: Models and Frameworks</dc:title>
</cp:coreProperties>
</file>