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0716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292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0716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5292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440" y="9140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0716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529240" y="220932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0716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529240" y="4388400"/>
            <a:ext cx="23061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9140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56000" y="438840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56000" y="2209320"/>
            <a:ext cx="3495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4388400"/>
            <a:ext cx="7162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220932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219320" y="19810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9933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mailto:patrick.gannon@oasis-open.org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OASIS and Web Services Standards: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3886200"/>
            <a:ext cx="762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atrick J. Gann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resident and CE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lnSpc>
                <a:spcPct val="80000"/>
              </a:lnSpc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lnSpc>
                <a:spcPct val="80000"/>
              </a:lnSpc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1206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oasis-open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61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Semantic Web Services Architecture 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16292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Service Disco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Selection and Com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ion and Contrac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Web Community Support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Web Service Lifecycle and Resource Management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OASIS Opportunities with Semantic Web Service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6960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on new TC for practical eBusiness applications of S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isons with other WS TCs and Semantic TCs (DITA, Topic Ma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isons with industry consortia (RosettaNet, HL7, AIAG, ACORD, ISM, HR-XML, OAGi, OGC, WfMC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early, the time to forge a common framework based on Semantic interoperability standards and e-Business web services standards is now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4343400"/>
            <a:ext cx="4724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trick Gann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EO and President, O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aptive Information: Improving Business Through Semantic Interoperability, Grid Computing &amp; Enterprise Integration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ook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80520" y="914400"/>
            <a:ext cx="861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What is OASIS Saying about Semantic Web Services?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Web Services Standards: OASIS is Leading the Way for Widespread Adoption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99"/>
                </a:solidFill>
                <a:latin typeface="Arial Black"/>
              </a:rPr>
              <a:t>Dependencies for Web Services Deployment</a:t>
            </a:r>
            <a:endParaRPr b="0" lang="en-US" sz="31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20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s &amp; coordination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ndards: security, reliable messaging, transactions, business process and manage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ndards for specific communities and cross-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urity of key security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mands for 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developed through an op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al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Approved OASIS Standards for Web Service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D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Universal Description, Discovery &amp; Integ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a standard method for enterprises to dynamically discover and invoke Web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SR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eb Services for Remote Port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ing the consumption of Web services in portal front e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eb Services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ing a technical foundation for implementing integrity and confidentiality in higher-level Web services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OASIS Web Services Infrastructure Work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+ OASIS Technical Committees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AP: Asynchronous Service Access Protoc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ing the control of asynchronous or long-running Web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BPEL: Business Process Execution Language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ing users to describe business process activities as Web services and define how they can be connected to accomplish specific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-CAF: Composite Application Framework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an open framework for supporting applications that contain multiple Web services used in 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DM: Distributed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Web services architecture to manage distributed resour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OASIS Web Services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Infrastructure Work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SN: Notific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ing a pattern-based approach to allow Web services to disseminate information to one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SRM: Reliable Mess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ing a standard, interoperable way to guarantee message delivery to applications or Web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SRF: Resource Framework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an open framework for modeling and accessing stateful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ndardizing Web Services Implementat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munities and across indust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SOA: e-Business Service Oriented Archit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ing an e-business architecture that builds on ebXML and other Web services techn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WSI: Framework for WS Implem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ethods for broad, multi-platform, vendor-neutral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IX:  Open Building Information Xchan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ing mechanical and electrical systems in buildings to communicate with enterpris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ion WS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ng the translation and localization process as a Web ser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Identifying End User Solution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ASIS e-Government TC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a forum for governments internationally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 needs and requi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 work for relevant OASIS T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best practice document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the adoption of OASIS specs/standards within Gover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162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5e574e"/>
                </a:solidFill>
                <a:latin typeface="Century Schoolbook"/>
              </a:rPr>
              <a:t>OASIS drives the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6600"/>
                </a:solidFill>
                <a:latin typeface="Century Schoolbook"/>
              </a:rPr>
              <a:t>development,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6600"/>
                </a:solidFill>
                <a:latin typeface="Century Schoolbook"/>
              </a:rPr>
              <a:t>convergence and adoption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5e574e"/>
                </a:solidFill>
                <a:latin typeface="Century Schoolbook"/>
              </a:rPr>
              <a:t>of e-business standards.</a:t>
            </a:r>
            <a:r>
              <a:rPr b="0" lang="en-US" sz="5400" spc="-1" strike="noStrike">
                <a:solidFill>
                  <a:srgbClr val="5e574e"/>
                </a:solidFill>
                <a:latin typeface="Garamond"/>
              </a:rPr>
              <a:t> 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228240" y="632880"/>
            <a:ext cx="716292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99"/>
                </a:solidFill>
                <a:latin typeface="Arial Black"/>
              </a:rPr>
              <a:t>OASIS Mission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ASIS Standards for Securit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5000"/>
              </a:lnSpc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ML: Security Servi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the exchange of authentication and authorization information to enable single sign-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ML: Provisioning Services </a:t>
            </a:r>
            <a:br>
              <a:rPr sz="2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an XML framework for managing the allocation of syst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within and between organiz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ACML: Access Control </a:t>
            </a:r>
            <a:br>
              <a:rPr sz="2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ng and enforcing authorization policies for information access over 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CBF: Common Biometric Form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a standard way to describe information that verifies identity based on human characteristics such as DNA, fingerprints, iris scans, and hand geomet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SS: Web Services Secur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ing a technical foundation for implementing integrity and confidentiality in higher-level Web services applic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DL: Application Vulnerability</a:t>
            </a:r>
            <a:br>
              <a:rPr sz="2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ing the exchange of information on security vulnerabilities of applications exposed to networ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OASIS Security Work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SS: Digital Signature Servi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an XML interface to process digital signatures for Web services and other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KI: Public Key Infrastructure </a:t>
            </a:r>
            <a:br>
              <a:rPr sz="2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ing the use of digital certificates as a foundation for managing access to network resources and conducting electronic trans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ghts Langua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digital rights for resources that include digital content and Web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S: Web Application Secur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open data format to describe Web application security vulnerabilities, providing guidance for initial threat and risk ra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7010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99"/>
                </a:solidFill>
                <a:latin typeface="Arial Black"/>
              </a:rPr>
              <a:t>Compatibility and Convergence</a:t>
            </a:r>
            <a:endParaRPr b="0" lang="en-US" sz="31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391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y groups call for a migration/convergence path for WS, ebXML, and related standa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ices enters phase where business requirements and measurable interoperability drive standards development and converg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participation in standards drives convergence that will prevail over centrifugal pull of competitive pos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Open Standards Process: Essential to WS Adoption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s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res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for transpare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races full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a level playing field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s unfair first-to-market advantage for any one particip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s governmen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010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OASIS Open Proces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618920"/>
            <a:ext cx="807732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s a variety of projects to standardize methods from multipl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s convergence but does not mandat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fair data about projects being standardized, but doesn’t pick wi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eb Services Standards: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ading the Way for Widespread Adop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762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ces i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frastructu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tandards--security, transactions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saging, management</a:t>
            </a:r>
            <a:br>
              <a:rPr sz="2200"/>
            </a:br>
            <a:r>
              <a:rPr b="0" lang="en-US" sz="2200" spc="-1" strike="noStrike">
                <a:solidFill>
                  <a:srgbClr val="6600cc"/>
                </a:solidFill>
                <a:latin typeface="Arial"/>
              </a:rPr>
              <a:t>OASIS is the home for a very significant portion of this wor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aboration 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tandards for &amp; across industries</a:t>
            </a:r>
            <a:br>
              <a:rPr sz="2200"/>
            </a:br>
            <a:r>
              <a:rPr b="0" lang="en-US" sz="2200" spc="-1" strike="noStrike">
                <a:solidFill>
                  <a:srgbClr val="6600cc"/>
                </a:solidFill>
                <a:latin typeface="Arial"/>
              </a:rPr>
              <a:t>Communities define standards &amp; identify requirements at OA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urity of key security standards</a:t>
            </a:r>
            <a:br>
              <a:rPr sz="2200"/>
            </a:br>
            <a:r>
              <a:rPr b="0" lang="en-US" sz="2200" spc="-1" strike="noStrike">
                <a:solidFill>
                  <a:srgbClr val="6600cc"/>
                </a:solidFill>
                <a:latin typeface="Arial"/>
              </a:rPr>
              <a:t>The majority of these are work products of OASI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 demands for compatibility</a:t>
            </a:r>
            <a:br>
              <a:rPr sz="2200"/>
            </a:br>
            <a:r>
              <a:rPr b="0" lang="en-US" sz="2200" spc="-1" strike="noStrike">
                <a:solidFill>
                  <a:srgbClr val="6600cc"/>
                </a:solidFill>
                <a:latin typeface="Arial"/>
              </a:rPr>
              <a:t>User requirements drive OASIS develop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s developed through an open and neutral process </a:t>
            </a:r>
            <a:br>
              <a:rPr sz="2200"/>
            </a:br>
            <a:r>
              <a:rPr b="0" lang="en-US" sz="2200" spc="-1" strike="noStrike">
                <a:solidFill>
                  <a:srgbClr val="6600cc"/>
                </a:solidFill>
                <a:latin typeface="Arial"/>
              </a:rPr>
              <a:t>OASIS enables open collaboration, providing for fairness, transparency, and full participation from vendors, users, and government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rcRect l="14168" t="0" r="-4990" b="0"/>
          <a:stretch/>
        </p:blipFill>
        <p:spPr>
          <a:xfrm>
            <a:off x="320760" y="863640"/>
            <a:ext cx="8823240" cy="5684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944720"/>
            <a:ext cx="59436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Unicode MS"/>
              </a:rPr>
              <a:t>Contact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 Unicode MS"/>
              </a:rPr>
              <a:t>Patrick Gann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 Unicode MS"/>
              </a:rPr>
              <a:t>President &amp; C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 Unicode MS"/>
                <a:hlinkClick r:id="rId3"/>
              </a:rPr>
              <a:t>patrick.gannon@oasis-open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 Unicode MS"/>
              </a:rPr>
              <a:t>+1.978.761.35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123720" y="5562360"/>
            <a:ext cx="5715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w.oasis-open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617220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xml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61722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xml.coverpages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9880" y="761760"/>
            <a:ext cx="6786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Patrick J. Gannon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ASIS – C.E.O., President, Board Director (2001-Pres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ECE – Chair, Team of Specialists for Internet Enterprise Development (2000-2002, 2004-Pres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positions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 Systems – Sr. VP  Strategic Marke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fish Technologies – VP Industry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 Buying on the Internet (OBI) – Executive Dir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settaNet – First Project Leader (199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erceNet – VP Strategic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 eCommerce Evangelist (1997-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operable Catalog WG (1995-199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55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DX, CIAG, PVF Roundtable, CIMIS (1988-199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333399"/>
                </a:solidFill>
                <a:latin typeface="Arial Black"/>
              </a:rPr>
              <a:t>Current Member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0866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Software vend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User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Industry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Universities and Research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nd cooperation with other standards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ASIS Members Represent the Marketpla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80880" y="2340000"/>
          <a:ext cx="7480440" cy="3433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340000"/>
                    <a:ext cx="748044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315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Why OASIS and Semantic Web Services?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OASIS &amp; Semantic Web Service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ASIS is where convergence hap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SIS has history of applying foundational  methods from W3C and others to building accessible standards for practical eBusiness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SIS has a history of successfully hosting converging eff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WSDM and the recently-submitted GGF and Globus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OASIS &amp; Semantic Web Service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ASIS is where the use case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SIS hosts the two dominant standardized methods for SOA data discovery, UDDI and ebXML Registry -- both actively exploring semantic method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SIS has over 14 TCs working on web services work, including the core methods f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managem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control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al contracting an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OASIS &amp; Semantic Web Services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ASIS is where the use case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antic Standards (RDF, OWL) and emerging specs (WSMO, WSMX) need to be integrated into actual e-Business frameworks, many of which are developed through OA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SIS creates composable, modular standards that can be aggregated into recognizable e-Business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C Epidemiology demos in Fall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L and WS-Security access and security demos in early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ASIS Technical Committees &amp; Semantic Web Servic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201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DDI Specification 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L as the UDDI Taxonom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bXML Registry 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content registries provide a federated registry for the semantics of schemas, ontologies, and applications. Moving towards an OWL/RDF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 Life Cycle Support 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ing lifecycle ontologies soon to be OWL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9T16:56:32Z</dcterms:created>
  <dc:creator>Patrick Gannon</dc:creator>
  <dc:description>Delphi Summit - 10/29/02
</dc:description>
  <dc:language>en-US</dc:language>
  <cp:lastModifiedBy>Patrick Gannon</cp:lastModifiedBy>
  <cp:lastPrinted>2001-10-03T13:09:55Z</cp:lastPrinted>
  <dcterms:modified xsi:type="dcterms:W3CDTF">2004-08-17T14:22:49Z</dcterms:modified>
  <cp:revision>251</cp:revision>
  <dc:subject>Web Services</dc:subject>
  <dc:title>OASIS: Integrating Standards for Web Services, Business Processes &amp; Remote Portals</dc:title>
</cp:coreProperties>
</file>