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D017-691B-4D4D-A597-E81ACF38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600" y="402624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F7E-13A3-455C-81A2-F93B0E4E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24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08E-563A-437D-8409-9F76F9D4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484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344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660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484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344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1D59-C9EC-4C83-AB36-A69902E0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7680" y="194760"/>
            <a:ext cx="7332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7B5F-FF92-4161-81D8-C02F120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24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600" y="402624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24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84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440" y="127332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60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84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440" y="4026240"/>
            <a:ext cx="27028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36CB-4C10-497A-990F-17DB9A0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0A99-0887-4B4C-B802-DE708323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D7C0-7D2B-4944-B4FB-4CE2602B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37680" y="194760"/>
            <a:ext cx="7332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9F4D-C44A-4DC9-BD55-0BFD5D9C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3734-96CF-4BDF-A55E-3C75FF4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240" y="402624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667E-EA4A-47E0-A714-E79C6833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240" y="1273320"/>
            <a:ext cx="409644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600" y="4026240"/>
            <a:ext cx="8394480" cy="251388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1D96-9E62-47A8-ACC7-ED557F5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1" marL="471600" indent="-24444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2" marL="700200" indent="-2145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3" marL="1208160" indent="-18252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4" marL="1933560" indent="-2206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5" marL="1933560" indent="-2206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lvl="6" marL="1933560" indent="-2206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91240"/>
            <a:ext cx="9144000" cy="0"/>
          </a:xfrm>
          <a:prstGeom prst="line">
            <a:avLst/>
          </a:prstGeom>
          <a:ln w="9360">
            <a:solidFill>
              <a:srgbClr val="5a93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04280" y="6597360"/>
            <a:ext cx="40176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a93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a93b6"/>
                </a:solidFill>
                <a:latin typeface="Times New Roman"/>
              </a:rPr>
              <a:t>page </a:t>
            </a:r>
            <a:fld id="{EFDDE8E6-D4CD-44F8-8483-2E99EAE28F60}" type="slidenum">
              <a:rPr b="0" lang="en-US" sz="800" spc="-1" strike="noStrike">
                <a:solidFill>
                  <a:srgbClr val="5a93b6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244440" y="6658200"/>
            <a:ext cx="110808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a93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0F23-4D11-459D-BF94-F9FB51352DC8}" type="datetime3">
              <a:rPr b="0" lang="en-US" sz="800" spc="-1" strike="noStrike">
                <a:solidFill>
                  <a:srgbClr val="5a93b6"/>
                </a:solidFill>
                <a:latin typeface="Times New Roman"/>
              </a:rPr>
              <a:t>July 30, 20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555920" y="6648840"/>
            <a:ext cx="60228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a93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a93b6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5a93b6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66960" y="236520"/>
            <a:ext cx="5492880" cy="279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4" name=""/>
          <p:cNvSpPr/>
          <p:nvPr/>
        </p:nvSpPr>
        <p:spPr>
          <a:xfrm>
            <a:off x="5935680" y="6429240"/>
            <a:ext cx="32083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utura Bk"/>
              </a:rPr>
              <a:t>© 2003 Hewlett-Packard Development Company, L.P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</a:t>
            </a:r>
            <a:endParaRPr b="0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1890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465120" indent="20520" algn="ctr">
              <a:lnSpc>
                <a:spcPct val="90000"/>
              </a:lnSpc>
              <a:spcBef>
                <a:spcPts val="275"/>
              </a:spcBef>
              <a:spcAft>
                <a:spcPts val="825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3" marL="696960" indent="328680" algn="ctr">
              <a:lnSpc>
                <a:spcPct val="95000"/>
              </a:lnSpc>
              <a:spcBef>
                <a:spcPts val="224"/>
              </a:spcBef>
              <a:spcAft>
                <a:spcPts val="675"/>
              </a:spcAft>
              <a:buClr>
                <a:srgbClr val="ffffff"/>
              </a:buClr>
              <a:buFont typeface="Futura Bk"/>
              <a:buChar char="–"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4" marL="1933560" indent="-220680">
              <a:lnSpc>
                <a:spcPct val="95000"/>
              </a:lnSpc>
              <a:spcBef>
                <a:spcPts val="224"/>
              </a:spcBef>
              <a:spcAft>
                <a:spcPts val="675"/>
              </a:spcAft>
              <a:buClr>
                <a:srgbClr val="ffffff"/>
              </a:buClr>
              <a:buFont typeface="Futura Bk"/>
              <a:buChar char="–"/>
              <a:tabLst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5" marL="1933560" indent="-220680">
              <a:spcBef>
                <a:spcPts val="451"/>
              </a:spcBef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6" marL="1933560" indent="-220680">
              <a:spcBef>
                <a:spcPts val="451"/>
              </a:spcBef>
              <a:buClr>
                <a:srgbClr val="ffffff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66960" y="236520"/>
            <a:ext cx="5492880" cy="279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ocess Mediation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66960" y="3031920"/>
            <a:ext cx="5492880" cy="1549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274320" anchor="t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Stuart Williams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skw@hplb.hpl.hp.com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4960" y="1641600"/>
            <a:ext cx="21600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"/>
          <p:cNvSpPr/>
          <p:nvPr/>
        </p:nvSpPr>
        <p:spPr>
          <a:xfrm>
            <a:off x="264960" y="3009960"/>
            <a:ext cx="21600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"/>
          <p:cNvSpPr/>
          <p:nvPr/>
        </p:nvSpPr>
        <p:spPr>
          <a:xfrm>
            <a:off x="264960" y="5097600"/>
            <a:ext cx="21600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31" name=""/>
          <p:cNvCxnSpPr>
            <a:stCxn id="228" idx="4"/>
            <a:endCxn id="229" idx="0"/>
          </p:cNvCxnSpPr>
          <p:nvPr/>
        </p:nvCxnSpPr>
        <p:spPr>
          <a:xfrm>
            <a:off x="372600" y="1857240"/>
            <a:ext cx="1080" cy="1153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34800" y="1905120"/>
            <a:ext cx="270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req(Po=o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Seller, From=o.Buy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R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33" name=""/>
          <p:cNvCxnSpPr>
            <a:stCxn id="229" idx="6"/>
            <a:endCxn id="229" idx="5"/>
          </p:cNvCxnSpPr>
          <p:nvPr/>
        </p:nvCxnSpPr>
        <p:spPr>
          <a:xfrm flipH="1">
            <a:off x="448920" y="3117600"/>
            <a:ext cx="32400" cy="76680"/>
          </a:xfrm>
          <a:prstGeom prst="curvedConnector5">
            <a:avLst>
              <a:gd name="adj1" fmla="val -719101"/>
              <a:gd name="adj2" fmla="val 220754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94800" y="3057480"/>
            <a:ext cx="266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imeOut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Seller, From=o.Buyer,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R(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35" name=""/>
          <p:cNvCxnSpPr>
            <a:stCxn id="229" idx="4"/>
            <a:endCxn id="230" idx="0"/>
          </p:cNvCxnSpPr>
          <p:nvPr/>
        </p:nvCxnSpPr>
        <p:spPr>
          <a:xfrm>
            <a:off x="372600" y="3225600"/>
            <a:ext cx="1080" cy="18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409680" y="430524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A(Po=o,Acc=a) ) 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conf(Po=o,Accept=a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"/>
          <p:cNvSpPr/>
          <p:nvPr/>
        </p:nvSpPr>
        <p:spPr>
          <a:xfrm>
            <a:off x="4930920" y="1641600"/>
            <a:ext cx="21564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"/>
          <p:cNvSpPr/>
          <p:nvPr/>
        </p:nvSpPr>
        <p:spPr>
          <a:xfrm>
            <a:off x="4930920" y="3009960"/>
            <a:ext cx="21564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9" name=""/>
          <p:cNvSpPr/>
          <p:nvPr/>
        </p:nvSpPr>
        <p:spPr>
          <a:xfrm>
            <a:off x="4930920" y="5097600"/>
            <a:ext cx="21564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40" name=""/>
          <p:cNvCxnSpPr>
            <a:stCxn id="237" idx="4"/>
            <a:endCxn id="238" idx="0"/>
          </p:cNvCxnSpPr>
          <p:nvPr/>
        </p:nvCxnSpPr>
        <p:spPr>
          <a:xfrm>
            <a:off x="5038200" y="1857240"/>
            <a:ext cx="1080" cy="1153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036400" y="4251240"/>
            <a:ext cx="293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resp(Po=o,Accept=a)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Buyer, From=o.Sell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A(Po=o, Acc=a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42" name=""/>
          <p:cNvCxnSpPr>
            <a:stCxn id="238" idx="6"/>
            <a:endCxn id="238" idx="5"/>
          </p:cNvCxnSpPr>
          <p:nvPr/>
        </p:nvCxnSpPr>
        <p:spPr>
          <a:xfrm flipH="1">
            <a:off x="5114520" y="3117600"/>
            <a:ext cx="32400" cy="76680"/>
          </a:xfrm>
          <a:prstGeom prst="curvedConnector5">
            <a:avLst>
              <a:gd name="adj1" fmla="val -719101"/>
              <a:gd name="adj2" fmla="val 220754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4"/>
            <a:endCxn id="239" idx="0"/>
          </p:cNvCxnSpPr>
          <p:nvPr/>
        </p:nvCxnSpPr>
        <p:spPr>
          <a:xfrm>
            <a:off x="5038200" y="3225600"/>
            <a:ext cx="1080" cy="18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073480" y="1930320"/>
            <a:ext cx="358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Buyer, To=o.Sell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R(Po=o) 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ind(Po=o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45" name=""/>
          <p:cNvCxnSpPr>
            <a:stCxn id="230" idx="6"/>
            <a:endCxn id="230" idx="5"/>
          </p:cNvCxnSpPr>
          <p:nvPr/>
        </p:nvCxnSpPr>
        <p:spPr>
          <a:xfrm flipH="1">
            <a:off x="448920" y="5205240"/>
            <a:ext cx="32400" cy="76680"/>
          </a:xfrm>
          <a:prstGeom prst="curvedConnector5">
            <a:avLst>
              <a:gd name="adj1" fmla="val -719101"/>
              <a:gd name="adj2" fmla="val 221698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22400" y="5529240"/>
            <a:ext cx="38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A(Po=o,Acc=a) ) 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 duplicat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7" name=""/>
          <p:cNvSpPr/>
          <p:nvPr/>
        </p:nvSpPr>
        <p:spPr>
          <a:xfrm>
            <a:off x="5114880" y="3429000"/>
            <a:ext cx="405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Buyer, To= o.Sell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R(Po=o)  ) 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 Duplicat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48" name=""/>
          <p:cNvCxnSpPr>
            <a:stCxn id="239" idx="6"/>
            <a:endCxn id="239" idx="5"/>
          </p:cNvCxnSpPr>
          <p:nvPr/>
        </p:nvCxnSpPr>
        <p:spPr>
          <a:xfrm flipH="1">
            <a:off x="5114520" y="5205240"/>
            <a:ext cx="32400" cy="76680"/>
          </a:xfrm>
          <a:prstGeom prst="curvedConnector5">
            <a:avLst>
              <a:gd name="adj1" fmla="val -719101"/>
              <a:gd name="adj2" fmla="val 221698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4011480" y="5529240"/>
            <a:ext cx="501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Buyer, To= o.Seller, Msg=(POR(Po=o) ) 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Buyer, From=o.Seller, Msg=POA(Po=o,  Acc=a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0" name=""/>
          <p:cNvSpPr/>
          <p:nvPr/>
        </p:nvSpPr>
        <p:spPr>
          <a:xfrm>
            <a:off x="122040" y="118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uyer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1" name=""/>
          <p:cNvSpPr/>
          <p:nvPr/>
        </p:nvSpPr>
        <p:spPr>
          <a:xfrm>
            <a:off x="4713120" y="12556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eller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"/>
          <p:cNvSpPr/>
          <p:nvPr/>
        </p:nvSpPr>
        <p:spPr>
          <a:xfrm>
            <a:off x="2642760" y="1281240"/>
            <a:ext cx="133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Guard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Action(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Hv"/>
              </a:rPr>
              <a:t>Protocol X Buying and Selling Protocol Engine  Behaviours</a:t>
            </a:r>
            <a:endParaRPr b="0" lang="en-US" sz="2600" spc="-1" strike="noStrike">
              <a:solidFill>
                <a:srgbClr val="ffffff"/>
              </a:solidFill>
              <a:latin typeface="Futura Hv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70520" y="2055960"/>
            <a:ext cx="1501200" cy="1344240"/>
            <a:chOff x="7670520" y="2055960"/>
            <a:chExt cx="1501200" cy="1344240"/>
          </a:xfrm>
        </p:grpSpPr>
        <p:sp>
          <p:nvSpPr>
            <p:cNvPr id="255" name=""/>
            <p:cNvSpPr/>
            <p:nvPr/>
          </p:nvSpPr>
          <p:spPr>
            <a:xfrm>
              <a:off x="7744320" y="2084040"/>
              <a:ext cx="0" cy="104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03560" y="2105640"/>
              <a:ext cx="0" cy="105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4320" y="2212560"/>
              <a:ext cx="758880" cy="4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744320" y="2984760"/>
              <a:ext cx="758880" cy="4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20280" y="205596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82480" y="281268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(Po=x,Accept=?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0520" y="31539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432280" y="31539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b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333B-0BE4-4410-970F-32A370C037E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514A41F-1A9A-4B99-9D68-2AFDFA1623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otocol Y Buying Protocol Engine Behaviou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64" name=""/>
          <p:cNvSpPr/>
          <p:nvPr/>
        </p:nvSpPr>
        <p:spPr>
          <a:xfrm>
            <a:off x="4280040" y="1865160"/>
            <a:ext cx="21564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4280040" y="3233880"/>
            <a:ext cx="21564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4280040" y="4530600"/>
            <a:ext cx="21564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67" name=""/>
          <p:cNvCxnSpPr>
            <a:stCxn id="264" idx="4"/>
            <a:endCxn id="265" idx="0"/>
          </p:cNvCxnSpPr>
          <p:nvPr/>
        </p:nvCxnSpPr>
        <p:spPr>
          <a:xfrm>
            <a:off x="4387320" y="2081160"/>
            <a:ext cx="1080" cy="1153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351320" y="2057400"/>
            <a:ext cx="423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req(Po=o)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Seller, From=o.Buyer, Msg=POR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69" name=""/>
          <p:cNvCxnSpPr>
            <a:stCxn id="265" idx="7"/>
            <a:endCxn id="265" idx="6"/>
          </p:cNvCxnSpPr>
          <p:nvPr/>
        </p:nvCxnSpPr>
        <p:spPr>
          <a:xfrm flipH="1" rot="16200000">
            <a:off x="4441680" y="3286440"/>
            <a:ext cx="76680" cy="32400"/>
          </a:xfrm>
          <a:prstGeom prst="curvedConnector5">
            <a:avLst>
              <a:gd name="adj1" fmla="val -341509"/>
              <a:gd name="adj2" fmla="val 408988"/>
              <a:gd name="adj3" fmla="val -34150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4711680" y="2824200"/>
            <a:ext cx="43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imeOut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Seller, From=o.Buyer, Msg=POR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71" name=""/>
          <p:cNvCxnSpPr>
            <a:stCxn id="265" idx="4"/>
            <a:endCxn id="266" idx="0"/>
          </p:cNvCxnSpPr>
          <p:nvPr/>
        </p:nvCxnSpPr>
        <p:spPr>
          <a:xfrm>
            <a:off x="4387320" y="3449160"/>
            <a:ext cx="1080" cy="1081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925560" y="3968640"/>
            <a:ext cx="307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=POA(Po=o,Acc=a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op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conf(Po=o,Accept=a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.req(From=o.Buyer, To=o.Seller,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               </a:t>
            </a: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=POA_ACK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73" name=""/>
          <p:cNvCxnSpPr>
            <a:stCxn id="266" idx="7"/>
            <a:endCxn id="266" idx="6"/>
          </p:cNvCxnSpPr>
          <p:nvPr/>
        </p:nvCxnSpPr>
        <p:spPr>
          <a:xfrm flipH="1" rot="16200000">
            <a:off x="4441680" y="4583520"/>
            <a:ext cx="76680" cy="32400"/>
          </a:xfrm>
          <a:prstGeom prst="curvedConnector5">
            <a:avLst>
              <a:gd name="adj1" fmla="val -341509"/>
              <a:gd name="adj2" fmla="val 408988"/>
              <a:gd name="adj3" fmla="val -34150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3919320" y="140796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uyer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>
            <a:off x="5358960" y="1481040"/>
            <a:ext cx="133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Guard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Action(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>
            <a:off x="4280040" y="5681520"/>
            <a:ext cx="21564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77" name=""/>
          <p:cNvCxnSpPr>
            <a:stCxn id="266" idx="4"/>
            <a:endCxn id="276" idx="0"/>
          </p:cNvCxnSpPr>
          <p:nvPr/>
        </p:nvCxnSpPr>
        <p:spPr>
          <a:xfrm>
            <a:off x="4387320" y="4746240"/>
            <a:ext cx="1080" cy="9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6" idx="6"/>
            <a:endCxn id="276" idx="5"/>
          </p:cNvCxnSpPr>
          <p:nvPr/>
        </p:nvCxnSpPr>
        <p:spPr>
          <a:xfrm flipH="1">
            <a:off x="4463640" y="5789520"/>
            <a:ext cx="32400" cy="76680"/>
          </a:xfrm>
          <a:prstGeom prst="curvedConnector5">
            <a:avLst>
              <a:gd name="adj1" fmla="val -719101"/>
              <a:gd name="adj2" fmla="val 221698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4640400" y="5970600"/>
            <a:ext cx="466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 Msg=POA(Po=o,Acc=a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.req(From=o.Buyer, To=o.Seller, Msg=POA_ACK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>
            <a:off x="4351320" y="4890960"/>
            <a:ext cx="508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 Msg=POA(Po=o,Acc=a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conf(Po=o,Accept=a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.req(From=o.Buyer, To=o.Seller, Msg=POA_ACK(Po=o) 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>
            <a:off x="4424400" y="3594240"/>
            <a:ext cx="47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 To= o.Buyer, Msg=POR_ACK(Po=o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op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>
            <a:off x="4711680" y="4241880"/>
            <a:ext cx="459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 Msg=POR_ACK(Po=o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83" name=""/>
          <p:cNvCxnSpPr>
            <a:stCxn id="265" idx="2"/>
            <a:endCxn id="276" idx="1"/>
          </p:cNvCxnSpPr>
          <p:nvPr/>
        </p:nvCxnSpPr>
        <p:spPr>
          <a:xfrm flipH="1" flipV="1" rot="10800000">
            <a:off x="4279680" y="3340440"/>
            <a:ext cx="32400" cy="2372760"/>
          </a:xfrm>
          <a:prstGeom prst="curvedConnector5">
            <a:avLst>
              <a:gd name="adj1" fmla="val -1534831"/>
              <a:gd name="adj2" fmla="val 48118"/>
              <a:gd name="adj3" fmla="val -153483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6" idx="3"/>
            <a:endCxn id="276" idx="2"/>
          </p:cNvCxnSpPr>
          <p:nvPr/>
        </p:nvCxnSpPr>
        <p:spPr>
          <a:xfrm flipV="1" rot="16200000">
            <a:off x="4257360" y="5811480"/>
            <a:ext cx="76680" cy="32400"/>
          </a:xfrm>
          <a:prstGeom prst="curvedConnector5">
            <a:avLst>
              <a:gd name="adj1" fmla="val -342924"/>
              <a:gd name="adj2" fmla="val 408988"/>
              <a:gd name="adj3" fmla="val -3429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63360" y="6084720"/>
            <a:ext cx="451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From=o.Seller, To= o.Buyer, Msg=POR_ACK(Po=o) )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 delayed POR_ACK messag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54400" y="1433520"/>
            <a:ext cx="1661040" cy="2057760"/>
            <a:chOff x="554400" y="1433520"/>
            <a:chExt cx="1661040" cy="2057760"/>
          </a:xfrm>
        </p:grpSpPr>
        <p:sp>
          <p:nvSpPr>
            <p:cNvPr id="287" name=""/>
            <p:cNvSpPr/>
            <p:nvPr/>
          </p:nvSpPr>
          <p:spPr>
            <a:xfrm>
              <a:off x="741600" y="143352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05560" y="143352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1600" y="175752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48440" y="198936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43400" y="2621160"/>
              <a:ext cx="126360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1600" y="2836800"/>
              <a:ext cx="126396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5200" y="245124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(Po=x,Accept=?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560" y="149868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2640" y="2019240"/>
              <a:ext cx="11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28080" y="286704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80640" y="32450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b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4400" y="32450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4955-E9EF-46C5-B27D-C67E888453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FD82E9F-FD2D-4230-8255-CAAD3B262CE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otocol Y Selling Protocol Engine Behaviou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1967040"/>
            <a:ext cx="21600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1" name=""/>
          <p:cNvSpPr/>
          <p:nvPr/>
        </p:nvSpPr>
        <p:spPr>
          <a:xfrm>
            <a:off x="3706920" y="3119400"/>
            <a:ext cx="215640" cy="216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02" name=""/>
          <p:cNvCxnSpPr>
            <a:stCxn id="300" idx="4"/>
            <a:endCxn id="301" idx="0"/>
          </p:cNvCxnSpPr>
          <p:nvPr/>
        </p:nvCxnSpPr>
        <p:spPr>
          <a:xfrm flipH="1">
            <a:off x="3814560" y="2182680"/>
            <a:ext cx="2160" cy="937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3781080" y="2157480"/>
            <a:ext cx="457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R(Po=o) );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.req(To=o.Buyer, From=o.Seller, Msg=POR_ACK(Po=o)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ind(Po=o) 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04" name=""/>
          <p:cNvCxnSpPr>
            <a:stCxn id="301" idx="7"/>
            <a:endCxn id="301" idx="6"/>
          </p:cNvCxnSpPr>
          <p:nvPr/>
        </p:nvCxnSpPr>
        <p:spPr>
          <a:xfrm flipH="1" rot="16200000">
            <a:off x="3868560" y="3173040"/>
            <a:ext cx="76680" cy="32400"/>
          </a:xfrm>
          <a:prstGeom prst="curvedConnector5">
            <a:avLst>
              <a:gd name="adj1" fmla="val -342924"/>
              <a:gd name="adj2" fmla="val 408988"/>
              <a:gd name="adj3" fmla="val -3429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3347640" y="150984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eller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"/>
          <p:cNvSpPr/>
          <p:nvPr/>
        </p:nvSpPr>
        <p:spPr>
          <a:xfrm>
            <a:off x="4713840" y="1438200"/>
            <a:ext cx="115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uard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A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7" name=""/>
          <p:cNvSpPr/>
          <p:nvPr/>
        </p:nvSpPr>
        <p:spPr>
          <a:xfrm>
            <a:off x="3706920" y="4272120"/>
            <a:ext cx="21564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3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08" name=""/>
          <p:cNvCxnSpPr>
            <a:stCxn id="301" idx="4"/>
            <a:endCxn id="307" idx="0"/>
          </p:cNvCxnSpPr>
          <p:nvPr/>
        </p:nvCxnSpPr>
        <p:spPr>
          <a:xfrm>
            <a:off x="3814560" y="3335400"/>
            <a:ext cx="1080" cy="937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6"/>
            <a:endCxn id="307" idx="5"/>
          </p:cNvCxnSpPr>
          <p:nvPr/>
        </p:nvCxnSpPr>
        <p:spPr>
          <a:xfrm flipH="1">
            <a:off x="3890520" y="4379760"/>
            <a:ext cx="32400" cy="76680"/>
          </a:xfrm>
          <a:prstGeom prst="curvedConnector5">
            <a:avLst>
              <a:gd name="adj1" fmla="val -719101"/>
              <a:gd name="adj2" fmla="val 221698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4139640" y="2949480"/>
            <a:ext cx="45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R(Po=o) );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cc00"/>
                </a:solidFill>
                <a:latin typeface="Arial"/>
                <a:ea typeface="Arial"/>
              </a:rPr>
              <a:t>msg.req(To=o.Buyer,From=o.Seller, Msg=POR_ACK(Po=o))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1" name=""/>
          <p:cNvSpPr/>
          <p:nvPr/>
        </p:nvSpPr>
        <p:spPr>
          <a:xfrm>
            <a:off x="3846960" y="3525840"/>
            <a:ext cx="473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resp(Po=x, Accept=a) /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Buyer, From=o.Seller, Msg=POA(Po=o, Accept=a) );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2" name=""/>
          <p:cNvSpPr/>
          <p:nvPr/>
        </p:nvSpPr>
        <p:spPr>
          <a:xfrm>
            <a:off x="4134240" y="4272120"/>
            <a:ext cx="46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R(Po=o) );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Buyer,From=o.Seller, Msg=POA(Po=o, Accept=a));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3" name=""/>
          <p:cNvSpPr/>
          <p:nvPr/>
        </p:nvSpPr>
        <p:spPr>
          <a:xfrm>
            <a:off x="3706920" y="5423040"/>
            <a:ext cx="215640" cy="21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4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14" name=""/>
          <p:cNvCxnSpPr>
            <a:stCxn id="307" idx="4"/>
            <a:endCxn id="313" idx="0"/>
          </p:cNvCxnSpPr>
          <p:nvPr/>
        </p:nvCxnSpPr>
        <p:spPr>
          <a:xfrm>
            <a:off x="3814560" y="4487760"/>
            <a:ext cx="1080" cy="93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13" idx="6"/>
            <a:endCxn id="313" idx="5"/>
          </p:cNvCxnSpPr>
          <p:nvPr/>
        </p:nvCxnSpPr>
        <p:spPr>
          <a:xfrm flipH="1">
            <a:off x="3890520" y="5530680"/>
            <a:ext cx="32400" cy="76680"/>
          </a:xfrm>
          <a:prstGeom prst="curvedConnector5">
            <a:avLst>
              <a:gd name="adj1" fmla="val -719101"/>
              <a:gd name="adj2" fmla="val 221698"/>
              <a:gd name="adj3" fmla="val -71910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991680" y="4894200"/>
            <a:ext cx="447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A_ACK(Po=o) ); /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op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7" name=""/>
          <p:cNvSpPr/>
          <p:nvPr/>
        </p:nvSpPr>
        <p:spPr>
          <a:xfrm>
            <a:off x="4134600" y="5470560"/>
            <a:ext cx="447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A_ACK(Po=o) );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 redundant POA_ACK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18" name=""/>
          <p:cNvCxnSpPr>
            <a:stCxn id="313" idx="3"/>
            <a:endCxn id="313" idx="2"/>
          </p:cNvCxnSpPr>
          <p:nvPr/>
        </p:nvCxnSpPr>
        <p:spPr>
          <a:xfrm flipV="1" rot="16200000">
            <a:off x="3684240" y="5552640"/>
            <a:ext cx="76680" cy="32400"/>
          </a:xfrm>
          <a:prstGeom prst="curvedConnector5">
            <a:avLst>
              <a:gd name="adj1" fmla="val -548113"/>
              <a:gd name="adj2" fmla="val 408988"/>
              <a:gd name="adj3" fmla="val -54811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2984760" y="5973840"/>
            <a:ext cx="403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ind(To=o.Seller, From=o.Buyer, Msg=POR(Po=o) 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//Ignore *very* late POR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20" name=""/>
          <p:cNvCxnSpPr>
            <a:stCxn id="307" idx="3"/>
            <a:endCxn id="307" idx="2"/>
          </p:cNvCxnSpPr>
          <p:nvPr/>
        </p:nvCxnSpPr>
        <p:spPr>
          <a:xfrm flipV="1" rot="16200000">
            <a:off x="3684240" y="4401720"/>
            <a:ext cx="76680" cy="32400"/>
          </a:xfrm>
          <a:prstGeom prst="curvedConnector5">
            <a:avLst>
              <a:gd name="adj1" fmla="val -342924"/>
              <a:gd name="adj2" fmla="val 408988"/>
              <a:gd name="adj3" fmla="val -3429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89840" y="4173480"/>
            <a:ext cx="280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imeOut / 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sg.req(To=o.Buyer, From=o.Seller,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Msg=POA(Po=o, Accept=a) );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tartTimer;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71760" y="1535040"/>
            <a:ext cx="1661400" cy="2057760"/>
            <a:chOff x="671760" y="1535040"/>
            <a:chExt cx="1661400" cy="2057760"/>
          </a:xfrm>
        </p:grpSpPr>
        <p:sp>
          <p:nvSpPr>
            <p:cNvPr id="323" name=""/>
            <p:cNvSpPr/>
            <p:nvPr/>
          </p:nvSpPr>
          <p:spPr>
            <a:xfrm>
              <a:off x="858960" y="153504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23280" y="153504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8960" y="185904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65800" y="209088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860400" y="272268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8960" y="2938320"/>
              <a:ext cx="126396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2920" y="255276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(Po=x,Accept=?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920" y="160020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90360" y="2120760"/>
              <a:ext cx="11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5440" y="296856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98360" y="33465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b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1760" y="33465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197B-8FF3-4DC4-A050-F8A37E697C7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ABC0F27-7FE0-426A-B5B3-4BDE6AA54E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Mediation Behaviou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36" name=""/>
          <p:cNvSpPr/>
          <p:nvPr/>
        </p:nvSpPr>
        <p:spPr>
          <a:xfrm>
            <a:off x="1892160" y="3462480"/>
            <a:ext cx="289080" cy="2887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"/>
          <p:cNvSpPr/>
          <p:nvPr/>
        </p:nvSpPr>
        <p:spPr>
          <a:xfrm>
            <a:off x="1892160" y="4614840"/>
            <a:ext cx="28908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8" name=""/>
          <p:cNvSpPr/>
          <p:nvPr/>
        </p:nvSpPr>
        <p:spPr>
          <a:xfrm>
            <a:off x="1892160" y="5910120"/>
            <a:ext cx="28908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39" name=""/>
          <p:cNvCxnSpPr>
            <a:stCxn id="336" idx="4"/>
            <a:endCxn id="337" idx="0"/>
          </p:cNvCxnSpPr>
          <p:nvPr/>
        </p:nvCxnSpPr>
        <p:spPr>
          <a:xfrm>
            <a:off x="2036520" y="375084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7" idx="4"/>
            <a:endCxn id="338" idx="0"/>
          </p:cNvCxnSpPr>
          <p:nvPr/>
        </p:nvCxnSpPr>
        <p:spPr>
          <a:xfrm>
            <a:off x="2036520" y="4903560"/>
            <a:ext cx="1080" cy="1006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037600" y="3824280"/>
            <a:ext cx="2244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x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y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"/>
          <p:cNvSpPr/>
          <p:nvPr/>
        </p:nvSpPr>
        <p:spPr>
          <a:xfrm>
            <a:off x="2039400" y="5165640"/>
            <a:ext cx="3058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x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y(Poy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3" name=""/>
          <p:cNvSpPr/>
          <p:nvPr/>
        </p:nvSpPr>
        <p:spPr>
          <a:xfrm>
            <a:off x="1924560" y="1816200"/>
            <a:ext cx="16772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Po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Po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Accept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Accept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o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o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a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 a</a:t>
            </a:r>
            <a:r>
              <a:rPr b="0" lang="en-GB" sz="14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"/>
          <p:cNvSpPr/>
          <p:nvPr/>
        </p:nvSpPr>
        <p:spPr>
          <a:xfrm>
            <a:off x="3629160" y="1816200"/>
            <a:ext cx="161640" cy="604800"/>
          </a:xfrm>
          <a:custGeom>
            <a:avLst/>
            <a:gdLst>
              <a:gd name="textAreaLeft" fmla="*/ 0 w 161640"/>
              <a:gd name="textAreaRight" fmla="*/ 58320 w 161640"/>
              <a:gd name="textAreaTop" fmla="*/ 15480 h 604800"/>
              <a:gd name="textAreaBottom" fmla="*/ 58932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69"/>
                </a:lnTo>
                <a:cubicBezTo>
                  <a:pt x="10800" y="10269"/>
                  <a:pt x="16200" y="11169"/>
                  <a:pt x="21600" y="11169"/>
                </a:cubicBezTo>
                <a:cubicBezTo>
                  <a:pt x="16200" y="11169"/>
                  <a:pt x="10800" y="12069"/>
                  <a:pt x="10800" y="129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"/>
          <p:cNvSpPr/>
          <p:nvPr/>
        </p:nvSpPr>
        <p:spPr>
          <a:xfrm>
            <a:off x="3629160" y="2565360"/>
            <a:ext cx="161640" cy="604800"/>
          </a:xfrm>
          <a:custGeom>
            <a:avLst/>
            <a:gdLst>
              <a:gd name="textAreaLeft" fmla="*/ 0 w 161640"/>
              <a:gd name="textAreaRight" fmla="*/ 58320 w 161640"/>
              <a:gd name="textAreaTop" fmla="*/ 15480 h 604800"/>
              <a:gd name="textAreaBottom" fmla="*/ 58932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69"/>
                </a:lnTo>
                <a:cubicBezTo>
                  <a:pt x="10800" y="10269"/>
                  <a:pt x="16200" y="11169"/>
                  <a:pt x="21600" y="11169"/>
                </a:cubicBezTo>
                <a:cubicBezTo>
                  <a:pt x="16200" y="11169"/>
                  <a:pt x="10800" y="12069"/>
                  <a:pt x="10800" y="129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6" name=""/>
          <p:cNvSpPr/>
          <p:nvPr/>
        </p:nvSpPr>
        <p:spPr>
          <a:xfrm>
            <a:off x="3948480" y="1836720"/>
            <a:ext cx="2475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Schema/Ontology Mappin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7" name=""/>
          <p:cNvSpPr/>
          <p:nvPr/>
        </p:nvSpPr>
        <p:spPr>
          <a:xfrm>
            <a:off x="4029120" y="2741760"/>
            <a:ext cx="1689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Instance Mappin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"/>
          <p:cNvSpPr/>
          <p:nvPr/>
        </p:nvSpPr>
        <p:spPr>
          <a:xfrm>
            <a:off x="6378480" y="1836720"/>
            <a:ext cx="146160" cy="1301760"/>
          </a:xfrm>
          <a:custGeom>
            <a:avLst/>
            <a:gdLst>
              <a:gd name="textAreaLeft" fmla="*/ 0 w 146160"/>
              <a:gd name="textAreaRight" fmla="*/ 52560 w 146160"/>
              <a:gd name="textAreaTop" fmla="*/ 33840 h 1301760"/>
              <a:gd name="textAreaBottom" fmla="*/ 12679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"/>
          <p:cNvSpPr/>
          <p:nvPr/>
        </p:nvSpPr>
        <p:spPr>
          <a:xfrm>
            <a:off x="6558840" y="2344680"/>
            <a:ext cx="1467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Data Media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0" name=""/>
          <p:cNvSpPr/>
          <p:nvPr/>
        </p:nvSpPr>
        <p:spPr>
          <a:xfrm>
            <a:off x="6291360" y="5576760"/>
            <a:ext cx="609480" cy="3272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1" name=""/>
          <p:cNvSpPr/>
          <p:nvPr/>
        </p:nvSpPr>
        <p:spPr>
          <a:xfrm>
            <a:off x="6994440" y="5576760"/>
            <a:ext cx="608040" cy="3272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352" name=""/>
          <p:cNvCxnSpPr>
            <a:endCxn id="350" idx="1"/>
          </p:cNvCxnSpPr>
          <p:nvPr/>
        </p:nvCxnSpPr>
        <p:spPr>
          <a:xfrm flipV="1">
            <a:off x="5751360" y="5740200"/>
            <a:ext cx="540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3" name=""/>
          <p:cNvCxnSpPr>
            <a:stCxn id="351" idx="3"/>
          </p:cNvCxnSpPr>
          <p:nvPr/>
        </p:nvCxnSpPr>
        <p:spPr>
          <a:xfrm>
            <a:off x="7602120" y="5740560"/>
            <a:ext cx="540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6291360" y="5154480"/>
            <a:ext cx="1312920" cy="2336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ediat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5" name=""/>
          <p:cNvSpPr/>
          <p:nvPr/>
        </p:nvSpPr>
        <p:spPr>
          <a:xfrm>
            <a:off x="6620040" y="5388120"/>
            <a:ext cx="0" cy="188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6" name=""/>
          <p:cNvSpPr/>
          <p:nvPr/>
        </p:nvSpPr>
        <p:spPr>
          <a:xfrm>
            <a:off x="7323120" y="5388120"/>
            <a:ext cx="0" cy="188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7" name=""/>
          <p:cNvSpPr/>
          <p:nvPr/>
        </p:nvSpPr>
        <p:spPr>
          <a:xfrm>
            <a:off x="5916600" y="5486400"/>
            <a:ext cx="207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"/>
          <p:cNvSpPr/>
          <p:nvPr/>
        </p:nvSpPr>
        <p:spPr>
          <a:xfrm>
            <a:off x="5235480" y="4675320"/>
            <a:ext cx="390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o.ind_x(Po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-&gt; po.req_y(Po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o.conf_y(Po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-&gt; po.resp(Po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3B53-B544-4361-B224-76DF8A6E0FA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85142F-4069-4955-9D22-9F5EABC8BB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otocol X Buyer – Protocol Y Selle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0" name=""/>
          <p:cNvSpPr/>
          <p:nvPr/>
        </p:nvSpPr>
        <p:spPr>
          <a:xfrm>
            <a:off x="1136520" y="1595520"/>
            <a:ext cx="576360" cy="287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Buye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"/>
          <p:cNvSpPr/>
          <p:nvPr/>
        </p:nvSpPr>
        <p:spPr>
          <a:xfrm>
            <a:off x="2144880" y="2027160"/>
            <a:ext cx="50292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2" name=""/>
          <p:cNvSpPr/>
          <p:nvPr/>
        </p:nvSpPr>
        <p:spPr>
          <a:xfrm>
            <a:off x="3081240" y="2027160"/>
            <a:ext cx="43344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3" name=""/>
          <p:cNvSpPr/>
          <p:nvPr/>
        </p:nvSpPr>
        <p:spPr>
          <a:xfrm>
            <a:off x="4089240" y="1595520"/>
            <a:ext cx="719280" cy="287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ediat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"/>
          <p:cNvSpPr/>
          <p:nvPr/>
        </p:nvSpPr>
        <p:spPr>
          <a:xfrm>
            <a:off x="5168880" y="2098800"/>
            <a:ext cx="503280" cy="2156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"/>
          <p:cNvSpPr/>
          <p:nvPr/>
        </p:nvSpPr>
        <p:spPr>
          <a:xfrm>
            <a:off x="6105600" y="2098800"/>
            <a:ext cx="433440" cy="2156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6" name=""/>
          <p:cNvSpPr/>
          <p:nvPr/>
        </p:nvSpPr>
        <p:spPr>
          <a:xfrm>
            <a:off x="7329600" y="1522440"/>
            <a:ext cx="576000" cy="287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lle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424160" y="2459160"/>
            <a:ext cx="6192720" cy="3973320"/>
            <a:chOff x="1424160" y="2459160"/>
            <a:chExt cx="6192720" cy="3973320"/>
          </a:xfrm>
        </p:grpSpPr>
        <p:sp>
          <p:nvSpPr>
            <p:cNvPr id="368" name=""/>
            <p:cNvSpPr/>
            <p:nvPr/>
          </p:nvSpPr>
          <p:spPr>
            <a:xfrm>
              <a:off x="142416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6052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9724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7688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488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160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16880" y="2459160"/>
              <a:ext cx="0" cy="397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24160" y="2603520"/>
            <a:ext cx="936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"/>
          <p:cNvSpPr/>
          <p:nvPr/>
        </p:nvSpPr>
        <p:spPr>
          <a:xfrm>
            <a:off x="2360520" y="28195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"/>
          <p:cNvSpPr/>
          <p:nvPr/>
        </p:nvSpPr>
        <p:spPr>
          <a:xfrm>
            <a:off x="2360520" y="31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8" name=""/>
          <p:cNvSpPr/>
          <p:nvPr/>
        </p:nvSpPr>
        <p:spPr>
          <a:xfrm>
            <a:off x="3297240" y="325116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9" name=""/>
          <p:cNvSpPr/>
          <p:nvPr/>
        </p:nvSpPr>
        <p:spPr>
          <a:xfrm>
            <a:off x="4376880" y="339552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35384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89600" y="37544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2" name=""/>
          <p:cNvSpPr/>
          <p:nvPr/>
        </p:nvSpPr>
        <p:spPr>
          <a:xfrm>
            <a:off x="6321600" y="3683160"/>
            <a:ext cx="12952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3" name=""/>
          <p:cNvSpPr/>
          <p:nvPr/>
        </p:nvSpPr>
        <p:spPr>
          <a:xfrm>
            <a:off x="5384880" y="40435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384880" y="42591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321600" y="4475160"/>
            <a:ext cx="12952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889600" y="46911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84880" y="49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76880" y="497844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"/>
          <p:cNvSpPr/>
          <p:nvPr/>
        </p:nvSpPr>
        <p:spPr>
          <a:xfrm>
            <a:off x="5384880" y="51228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384880" y="5338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1" name=""/>
          <p:cNvSpPr/>
          <p:nvPr/>
        </p:nvSpPr>
        <p:spPr>
          <a:xfrm>
            <a:off x="5384880" y="54831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296880" y="505152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792520" y="51958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4" name=""/>
          <p:cNvSpPr/>
          <p:nvPr/>
        </p:nvSpPr>
        <p:spPr>
          <a:xfrm>
            <a:off x="2360520" y="5554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360520" y="58435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423800" y="6130800"/>
            <a:ext cx="936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"/>
          <p:cNvSpPr/>
          <p:nvPr/>
        </p:nvSpPr>
        <p:spPr>
          <a:xfrm>
            <a:off x="927000" y="2314440"/>
            <a:ext cx="13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8" name=""/>
          <p:cNvSpPr/>
          <p:nvPr/>
        </p:nvSpPr>
        <p:spPr>
          <a:xfrm>
            <a:off x="2433960" y="25779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9" name=""/>
          <p:cNvSpPr/>
          <p:nvPr/>
        </p:nvSpPr>
        <p:spPr>
          <a:xfrm>
            <a:off x="2507040" y="28656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"/>
          <p:cNvSpPr/>
          <p:nvPr/>
        </p:nvSpPr>
        <p:spPr>
          <a:xfrm>
            <a:off x="5600880" y="33228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"/>
          <p:cNvSpPr/>
          <p:nvPr/>
        </p:nvSpPr>
        <p:spPr>
          <a:xfrm>
            <a:off x="3297240" y="300996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2" name=""/>
          <p:cNvSpPr/>
          <p:nvPr/>
        </p:nvSpPr>
        <p:spPr>
          <a:xfrm>
            <a:off x="4305240" y="3152880"/>
            <a:ext cx="13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3" name=""/>
          <p:cNvSpPr/>
          <p:nvPr/>
        </p:nvSpPr>
        <p:spPr>
          <a:xfrm>
            <a:off x="6315120" y="344160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38736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5" name=""/>
          <p:cNvSpPr/>
          <p:nvPr/>
        </p:nvSpPr>
        <p:spPr>
          <a:xfrm>
            <a:off x="2360520" y="4114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"/>
          <p:cNvSpPr/>
          <p:nvPr/>
        </p:nvSpPr>
        <p:spPr>
          <a:xfrm>
            <a:off x="5384880" y="353844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7" name=""/>
          <p:cNvSpPr/>
          <p:nvPr/>
        </p:nvSpPr>
        <p:spPr>
          <a:xfrm>
            <a:off x="5384880" y="404352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8" name=""/>
          <p:cNvSpPr/>
          <p:nvPr/>
        </p:nvSpPr>
        <p:spPr>
          <a:xfrm>
            <a:off x="5384880" y="382752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9" name=""/>
          <p:cNvSpPr/>
          <p:nvPr/>
        </p:nvSpPr>
        <p:spPr>
          <a:xfrm>
            <a:off x="6538680" y="4230720"/>
            <a:ext cx="144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0" name=""/>
          <p:cNvSpPr/>
          <p:nvPr/>
        </p:nvSpPr>
        <p:spPr>
          <a:xfrm>
            <a:off x="5443560" y="447516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1" name=""/>
          <p:cNvSpPr/>
          <p:nvPr/>
        </p:nvSpPr>
        <p:spPr>
          <a:xfrm>
            <a:off x="5573880" y="469116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2" name=""/>
          <p:cNvSpPr/>
          <p:nvPr/>
        </p:nvSpPr>
        <p:spPr>
          <a:xfrm>
            <a:off x="5313240" y="492912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3" name=""/>
          <p:cNvSpPr/>
          <p:nvPr/>
        </p:nvSpPr>
        <p:spPr>
          <a:xfrm>
            <a:off x="5568840" y="512604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4" name=""/>
          <p:cNvSpPr/>
          <p:nvPr/>
        </p:nvSpPr>
        <p:spPr>
          <a:xfrm>
            <a:off x="5384880" y="5310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5" name=""/>
          <p:cNvSpPr/>
          <p:nvPr/>
        </p:nvSpPr>
        <p:spPr>
          <a:xfrm>
            <a:off x="3950640" y="454356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6" name=""/>
          <p:cNvSpPr/>
          <p:nvPr/>
        </p:nvSpPr>
        <p:spPr>
          <a:xfrm>
            <a:off x="2972880" y="4719600"/>
            <a:ext cx="144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7" name=""/>
          <p:cNvSpPr/>
          <p:nvPr/>
        </p:nvSpPr>
        <p:spPr>
          <a:xfrm>
            <a:off x="926280" y="584352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8" name=""/>
          <p:cNvSpPr/>
          <p:nvPr/>
        </p:nvSpPr>
        <p:spPr>
          <a:xfrm>
            <a:off x="2651400" y="4881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9" name=""/>
          <p:cNvSpPr/>
          <p:nvPr/>
        </p:nvSpPr>
        <p:spPr>
          <a:xfrm>
            <a:off x="2507040" y="53132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0" name=""/>
          <p:cNvSpPr/>
          <p:nvPr/>
        </p:nvSpPr>
        <p:spPr>
          <a:xfrm>
            <a:off x="2578320" y="56023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421" name=""/>
          <p:cNvCxnSpPr>
            <a:stCxn id="361" idx="3"/>
            <a:endCxn id="362" idx="1"/>
          </p:cNvCxnSpPr>
          <p:nvPr/>
        </p:nvCxnSpPr>
        <p:spPr>
          <a:xfrm>
            <a:off x="2647800" y="2134800"/>
            <a:ext cx="434160" cy="1080"/>
          </a:xfrm>
          <a:prstGeom prst="curvedConnector2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sm" type="triangle" w="lg"/>
          </a:ln>
        </p:spPr>
      </p:cxnSp>
      <p:cxnSp>
        <p:nvCxnSpPr>
          <p:cNvPr id="422" name=""/>
          <p:cNvCxnSpPr>
            <a:stCxn id="365" idx="1"/>
            <a:endCxn id="364" idx="3"/>
          </p:cNvCxnSpPr>
          <p:nvPr/>
        </p:nvCxnSpPr>
        <p:spPr>
          <a:xfrm flipH="1">
            <a:off x="5671800" y="2206440"/>
            <a:ext cx="4341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sm" type="triangle" w="lg"/>
          </a:ln>
        </p:spPr>
      </p:cxnSp>
      <p:sp>
        <p:nvSpPr>
          <p:cNvPr id="423" name=""/>
          <p:cNvSpPr/>
          <p:nvPr/>
        </p:nvSpPr>
        <p:spPr>
          <a:xfrm>
            <a:off x="3241800" y="1827360"/>
            <a:ext cx="1082520" cy="279360"/>
          </a:xfrm>
          <a:custGeom>
            <a:avLst/>
            <a:gdLst/>
            <a:ahLst/>
            <a:rect l="l" t="t" r="r" b="b"/>
            <a:pathLst>
              <a:path w="682" h="176">
                <a:moveTo>
                  <a:pt x="34" y="127"/>
                </a:moveTo>
                <a:cubicBezTo>
                  <a:pt x="42" y="107"/>
                  <a:pt x="0" y="0"/>
                  <a:pt x="82" y="7"/>
                </a:cubicBezTo>
                <a:cubicBezTo>
                  <a:pt x="164" y="14"/>
                  <a:pt x="426" y="164"/>
                  <a:pt x="526" y="170"/>
                </a:cubicBezTo>
                <a:cubicBezTo>
                  <a:pt x="626" y="176"/>
                  <a:pt x="651" y="109"/>
                  <a:pt x="682" y="42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4" name=""/>
          <p:cNvSpPr/>
          <p:nvPr/>
        </p:nvSpPr>
        <p:spPr>
          <a:xfrm>
            <a:off x="4608360" y="1841400"/>
            <a:ext cx="835200" cy="281160"/>
          </a:xfrm>
          <a:custGeom>
            <a:avLst/>
            <a:gdLst/>
            <a:ahLst/>
            <a:rect l="l" t="t" r="r" b="b"/>
            <a:pathLst>
              <a:path w="526" h="177">
                <a:moveTo>
                  <a:pt x="511" y="154"/>
                </a:moveTo>
                <a:cubicBezTo>
                  <a:pt x="504" y="129"/>
                  <a:pt x="526" y="0"/>
                  <a:pt x="462" y="3"/>
                </a:cubicBezTo>
                <a:cubicBezTo>
                  <a:pt x="398" y="6"/>
                  <a:pt x="204" y="165"/>
                  <a:pt x="127" y="171"/>
                </a:cubicBezTo>
                <a:cubicBezTo>
                  <a:pt x="50" y="177"/>
                  <a:pt x="25" y="108"/>
                  <a:pt x="0" y="3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5" name=""/>
          <p:cNvSpPr/>
          <p:nvPr/>
        </p:nvSpPr>
        <p:spPr>
          <a:xfrm>
            <a:off x="1359000" y="1747800"/>
            <a:ext cx="1111320" cy="378000"/>
          </a:xfrm>
          <a:custGeom>
            <a:avLst/>
            <a:gdLst/>
            <a:ahLst/>
            <a:rect l="l" t="t" r="r" b="b"/>
            <a:pathLst>
              <a:path w="700" h="238">
                <a:moveTo>
                  <a:pt x="50" y="87"/>
                </a:moveTo>
                <a:cubicBezTo>
                  <a:pt x="57" y="110"/>
                  <a:pt x="0" y="238"/>
                  <a:pt x="92" y="225"/>
                </a:cubicBezTo>
                <a:cubicBezTo>
                  <a:pt x="184" y="212"/>
                  <a:pt x="504" y="18"/>
                  <a:pt x="602" y="9"/>
                </a:cubicBezTo>
                <a:cubicBezTo>
                  <a:pt x="700" y="0"/>
                  <a:pt x="692" y="89"/>
                  <a:pt x="680" y="17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6" name=""/>
          <p:cNvSpPr/>
          <p:nvPr/>
        </p:nvSpPr>
        <p:spPr>
          <a:xfrm>
            <a:off x="6315120" y="181944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822" y="6"/>
                </a:moveTo>
                <a:cubicBezTo>
                  <a:pt x="808" y="33"/>
                  <a:pt x="855" y="169"/>
                  <a:pt x="738" y="168"/>
                </a:cubicBezTo>
                <a:cubicBezTo>
                  <a:pt x="621" y="167"/>
                  <a:pt x="240" y="0"/>
                  <a:pt x="120" y="0"/>
                </a:cubicBezTo>
                <a:cubicBezTo>
                  <a:pt x="0" y="0"/>
                  <a:pt x="39" y="133"/>
                  <a:pt x="18" y="16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C644-3E7A-43CF-A352-A1750E905A8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11E6107-C8B0-4E3C-9CB5-B701ECDEB5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otocol Y Buyer – Protocol X Selle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477800" y="2060640"/>
            <a:ext cx="6193080" cy="4467240"/>
            <a:chOff x="1477800" y="2060640"/>
            <a:chExt cx="6193080" cy="4467240"/>
          </a:xfrm>
        </p:grpSpPr>
        <p:sp>
          <p:nvSpPr>
            <p:cNvPr id="429" name=""/>
            <p:cNvSpPr/>
            <p:nvPr/>
          </p:nvSpPr>
          <p:spPr>
            <a:xfrm>
              <a:off x="147780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1452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5124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3052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3888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7524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70880" y="2060640"/>
              <a:ext cx="0" cy="446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77800" y="2205000"/>
            <a:ext cx="936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7" name=""/>
          <p:cNvSpPr/>
          <p:nvPr/>
        </p:nvSpPr>
        <p:spPr>
          <a:xfrm>
            <a:off x="2414520" y="2421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477800" y="5732640"/>
            <a:ext cx="936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9" name=""/>
          <p:cNvSpPr/>
          <p:nvPr/>
        </p:nvSpPr>
        <p:spPr>
          <a:xfrm>
            <a:off x="981000" y="1935000"/>
            <a:ext cx="13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0" name=""/>
          <p:cNvSpPr/>
          <p:nvPr/>
        </p:nvSpPr>
        <p:spPr>
          <a:xfrm>
            <a:off x="2487960" y="21798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1" name=""/>
          <p:cNvSpPr/>
          <p:nvPr/>
        </p:nvSpPr>
        <p:spPr>
          <a:xfrm>
            <a:off x="980280" y="544500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2" name=""/>
          <p:cNvSpPr/>
          <p:nvPr/>
        </p:nvSpPr>
        <p:spPr>
          <a:xfrm>
            <a:off x="2414520" y="2637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1924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4" name=""/>
          <p:cNvSpPr/>
          <p:nvPr/>
        </p:nvSpPr>
        <p:spPr>
          <a:xfrm>
            <a:off x="3351240" y="277956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5" name=""/>
          <p:cNvSpPr/>
          <p:nvPr/>
        </p:nvSpPr>
        <p:spPr>
          <a:xfrm>
            <a:off x="4430880" y="285264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6" name=""/>
          <p:cNvSpPr/>
          <p:nvPr/>
        </p:nvSpPr>
        <p:spPr>
          <a:xfrm>
            <a:off x="2414520" y="3068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14520" y="3284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8" name=""/>
          <p:cNvSpPr/>
          <p:nvPr/>
        </p:nvSpPr>
        <p:spPr>
          <a:xfrm>
            <a:off x="5438880" y="2997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9" name=""/>
          <p:cNvSpPr/>
          <p:nvPr/>
        </p:nvSpPr>
        <p:spPr>
          <a:xfrm>
            <a:off x="5438880" y="35719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3716280"/>
            <a:ext cx="1295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1" name=""/>
          <p:cNvSpPr/>
          <p:nvPr/>
        </p:nvSpPr>
        <p:spPr>
          <a:xfrm>
            <a:off x="5438880" y="414828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374880" y="4508640"/>
            <a:ext cx="1295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870520" y="4724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4" name=""/>
          <p:cNvSpPr/>
          <p:nvPr/>
        </p:nvSpPr>
        <p:spPr>
          <a:xfrm>
            <a:off x="5438880" y="494028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438520" y="515628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430880" y="522936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350880" y="530064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84652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414520" y="5661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0" name=""/>
          <p:cNvSpPr/>
          <p:nvPr/>
        </p:nvSpPr>
        <p:spPr>
          <a:xfrm>
            <a:off x="2414520" y="5948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1" name=""/>
          <p:cNvSpPr/>
          <p:nvPr/>
        </p:nvSpPr>
        <p:spPr>
          <a:xfrm>
            <a:off x="2414520" y="6380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14520" y="6164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3" name=""/>
          <p:cNvSpPr/>
          <p:nvPr/>
        </p:nvSpPr>
        <p:spPr>
          <a:xfrm>
            <a:off x="3355920" y="239220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4" name=""/>
          <p:cNvSpPr/>
          <p:nvPr/>
        </p:nvSpPr>
        <p:spPr>
          <a:xfrm>
            <a:off x="4430520" y="2538360"/>
            <a:ext cx="13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5" name=""/>
          <p:cNvSpPr/>
          <p:nvPr/>
        </p:nvSpPr>
        <p:spPr>
          <a:xfrm>
            <a:off x="6375240" y="332748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6" name=""/>
          <p:cNvSpPr/>
          <p:nvPr/>
        </p:nvSpPr>
        <p:spPr>
          <a:xfrm>
            <a:off x="2560680" y="23954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7" name=""/>
          <p:cNvSpPr/>
          <p:nvPr/>
        </p:nvSpPr>
        <p:spPr>
          <a:xfrm>
            <a:off x="2488320" y="261144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8" name=""/>
          <p:cNvSpPr/>
          <p:nvPr/>
        </p:nvSpPr>
        <p:spPr>
          <a:xfrm>
            <a:off x="2487960" y="28274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69" name=""/>
          <p:cNvSpPr/>
          <p:nvPr/>
        </p:nvSpPr>
        <p:spPr>
          <a:xfrm>
            <a:off x="2488320" y="30430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0" name=""/>
          <p:cNvSpPr/>
          <p:nvPr/>
        </p:nvSpPr>
        <p:spPr>
          <a:xfrm>
            <a:off x="5513760" y="27543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1" name=""/>
          <p:cNvSpPr/>
          <p:nvPr/>
        </p:nvSpPr>
        <p:spPr>
          <a:xfrm>
            <a:off x="5513760" y="3330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2" name=""/>
          <p:cNvSpPr/>
          <p:nvPr/>
        </p:nvSpPr>
        <p:spPr>
          <a:xfrm>
            <a:off x="5585040" y="390672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3" name=""/>
          <p:cNvSpPr/>
          <p:nvPr/>
        </p:nvSpPr>
        <p:spPr>
          <a:xfrm>
            <a:off x="6374520" y="423864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4" name=""/>
          <p:cNvSpPr/>
          <p:nvPr/>
        </p:nvSpPr>
        <p:spPr>
          <a:xfrm>
            <a:off x="5656320" y="4483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5" name=""/>
          <p:cNvSpPr/>
          <p:nvPr/>
        </p:nvSpPr>
        <p:spPr>
          <a:xfrm>
            <a:off x="5513760" y="46990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6" name=""/>
          <p:cNvSpPr/>
          <p:nvPr/>
        </p:nvSpPr>
        <p:spPr>
          <a:xfrm>
            <a:off x="5513760" y="4915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7" name=""/>
          <p:cNvSpPr/>
          <p:nvPr/>
        </p:nvSpPr>
        <p:spPr>
          <a:xfrm>
            <a:off x="3890160" y="472752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8" name=""/>
          <p:cNvSpPr/>
          <p:nvPr/>
        </p:nvSpPr>
        <p:spPr>
          <a:xfrm>
            <a:off x="2989080" y="4940280"/>
            <a:ext cx="144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9" name=""/>
          <p:cNvSpPr/>
          <p:nvPr/>
        </p:nvSpPr>
        <p:spPr>
          <a:xfrm>
            <a:off x="2632320" y="51307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0" name=""/>
          <p:cNvSpPr/>
          <p:nvPr/>
        </p:nvSpPr>
        <p:spPr>
          <a:xfrm>
            <a:off x="2560680" y="54198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1" name=""/>
          <p:cNvSpPr/>
          <p:nvPr/>
        </p:nvSpPr>
        <p:spPr>
          <a:xfrm>
            <a:off x="2488320" y="570708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2" name=""/>
          <p:cNvSpPr/>
          <p:nvPr/>
        </p:nvSpPr>
        <p:spPr>
          <a:xfrm>
            <a:off x="2488320" y="613872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ACK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3" name=""/>
          <p:cNvSpPr/>
          <p:nvPr/>
        </p:nvSpPr>
        <p:spPr>
          <a:xfrm>
            <a:off x="2560680" y="5923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4" name=""/>
          <p:cNvSpPr/>
          <p:nvPr/>
        </p:nvSpPr>
        <p:spPr>
          <a:xfrm>
            <a:off x="1136520" y="1230480"/>
            <a:ext cx="576360" cy="287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Buyer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5" name=""/>
          <p:cNvSpPr/>
          <p:nvPr/>
        </p:nvSpPr>
        <p:spPr>
          <a:xfrm>
            <a:off x="2144880" y="1662120"/>
            <a:ext cx="50292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6" name=""/>
          <p:cNvSpPr/>
          <p:nvPr/>
        </p:nvSpPr>
        <p:spPr>
          <a:xfrm>
            <a:off x="3081240" y="1662120"/>
            <a:ext cx="43344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7" name=""/>
          <p:cNvSpPr/>
          <p:nvPr/>
        </p:nvSpPr>
        <p:spPr>
          <a:xfrm>
            <a:off x="4089240" y="1230480"/>
            <a:ext cx="719280" cy="287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ediat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8" name=""/>
          <p:cNvSpPr/>
          <p:nvPr/>
        </p:nvSpPr>
        <p:spPr>
          <a:xfrm>
            <a:off x="5168880" y="1733400"/>
            <a:ext cx="50328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89" name=""/>
          <p:cNvSpPr/>
          <p:nvPr/>
        </p:nvSpPr>
        <p:spPr>
          <a:xfrm>
            <a:off x="6105600" y="1733400"/>
            <a:ext cx="433440" cy="21600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E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0" name=""/>
          <p:cNvSpPr/>
          <p:nvPr/>
        </p:nvSpPr>
        <p:spPr>
          <a:xfrm>
            <a:off x="7329600" y="1157400"/>
            <a:ext cx="576000" cy="287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ller_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491" name=""/>
          <p:cNvCxnSpPr>
            <a:stCxn id="485" idx="3"/>
            <a:endCxn id="486" idx="1"/>
          </p:cNvCxnSpPr>
          <p:nvPr/>
        </p:nvCxnSpPr>
        <p:spPr>
          <a:xfrm>
            <a:off x="2647800" y="1769760"/>
            <a:ext cx="434160" cy="1080"/>
          </a:xfrm>
          <a:prstGeom prst="curvedConnector2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sm" type="triangle" w="lg"/>
          </a:ln>
        </p:spPr>
      </p:cxnSp>
      <p:cxnSp>
        <p:nvCxnSpPr>
          <p:cNvPr id="492" name=""/>
          <p:cNvCxnSpPr>
            <a:stCxn id="489" idx="1"/>
            <a:endCxn id="488" idx="3"/>
          </p:cNvCxnSpPr>
          <p:nvPr/>
        </p:nvCxnSpPr>
        <p:spPr>
          <a:xfrm flipH="1">
            <a:off x="5671800" y="1841040"/>
            <a:ext cx="4341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sm" type="triangle" w="lg"/>
          </a:ln>
        </p:spPr>
      </p:cxnSp>
      <p:sp>
        <p:nvSpPr>
          <p:cNvPr id="493" name=""/>
          <p:cNvSpPr/>
          <p:nvPr/>
        </p:nvSpPr>
        <p:spPr>
          <a:xfrm>
            <a:off x="3241800" y="1461960"/>
            <a:ext cx="1082520" cy="279360"/>
          </a:xfrm>
          <a:custGeom>
            <a:avLst/>
            <a:gdLst/>
            <a:ahLst/>
            <a:rect l="l" t="t" r="r" b="b"/>
            <a:pathLst>
              <a:path w="682" h="176">
                <a:moveTo>
                  <a:pt x="34" y="127"/>
                </a:moveTo>
                <a:cubicBezTo>
                  <a:pt x="42" y="107"/>
                  <a:pt x="0" y="0"/>
                  <a:pt x="82" y="7"/>
                </a:cubicBezTo>
                <a:cubicBezTo>
                  <a:pt x="164" y="14"/>
                  <a:pt x="426" y="164"/>
                  <a:pt x="526" y="170"/>
                </a:cubicBezTo>
                <a:cubicBezTo>
                  <a:pt x="626" y="176"/>
                  <a:pt x="651" y="109"/>
                  <a:pt x="682" y="42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4" name=""/>
          <p:cNvSpPr/>
          <p:nvPr/>
        </p:nvSpPr>
        <p:spPr>
          <a:xfrm>
            <a:off x="4608360" y="1476360"/>
            <a:ext cx="835200" cy="281160"/>
          </a:xfrm>
          <a:custGeom>
            <a:avLst/>
            <a:gdLst/>
            <a:ahLst/>
            <a:rect l="l" t="t" r="r" b="b"/>
            <a:pathLst>
              <a:path w="526" h="177">
                <a:moveTo>
                  <a:pt x="511" y="154"/>
                </a:moveTo>
                <a:cubicBezTo>
                  <a:pt x="504" y="129"/>
                  <a:pt x="526" y="0"/>
                  <a:pt x="462" y="3"/>
                </a:cubicBezTo>
                <a:cubicBezTo>
                  <a:pt x="398" y="6"/>
                  <a:pt x="204" y="165"/>
                  <a:pt x="127" y="171"/>
                </a:cubicBezTo>
                <a:cubicBezTo>
                  <a:pt x="50" y="177"/>
                  <a:pt x="25" y="108"/>
                  <a:pt x="0" y="3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5" name=""/>
          <p:cNvSpPr/>
          <p:nvPr/>
        </p:nvSpPr>
        <p:spPr>
          <a:xfrm>
            <a:off x="1359000" y="1382760"/>
            <a:ext cx="1111320" cy="377640"/>
          </a:xfrm>
          <a:custGeom>
            <a:avLst/>
            <a:gdLst/>
            <a:ahLst/>
            <a:rect l="l" t="t" r="r" b="b"/>
            <a:pathLst>
              <a:path w="700" h="238">
                <a:moveTo>
                  <a:pt x="50" y="87"/>
                </a:moveTo>
                <a:cubicBezTo>
                  <a:pt x="57" y="110"/>
                  <a:pt x="0" y="238"/>
                  <a:pt x="92" y="225"/>
                </a:cubicBezTo>
                <a:cubicBezTo>
                  <a:pt x="184" y="212"/>
                  <a:pt x="504" y="18"/>
                  <a:pt x="602" y="9"/>
                </a:cubicBezTo>
                <a:cubicBezTo>
                  <a:pt x="700" y="0"/>
                  <a:pt x="692" y="89"/>
                  <a:pt x="680" y="17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6" name=""/>
          <p:cNvSpPr/>
          <p:nvPr/>
        </p:nvSpPr>
        <p:spPr>
          <a:xfrm>
            <a:off x="6315120" y="1454040"/>
            <a:ext cx="1357200" cy="26856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822" y="6"/>
                </a:moveTo>
                <a:cubicBezTo>
                  <a:pt x="808" y="33"/>
                  <a:pt x="855" y="169"/>
                  <a:pt x="738" y="168"/>
                </a:cubicBezTo>
                <a:cubicBezTo>
                  <a:pt x="621" y="167"/>
                  <a:pt x="240" y="0"/>
                  <a:pt x="120" y="0"/>
                </a:cubicBezTo>
                <a:cubicBezTo>
                  <a:pt x="0" y="0"/>
                  <a:pt x="39" y="133"/>
                  <a:pt x="18" y="16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7" name=""/>
          <p:cNvSpPr/>
          <p:nvPr/>
        </p:nvSpPr>
        <p:spPr>
          <a:xfrm>
            <a:off x="241200" y="4546440"/>
            <a:ext cx="1471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118" y="4000"/>
                </a:moveTo>
                <a:lnTo>
                  <a:pt x="-1421" y="4000"/>
                </a:lnTo>
                <a:lnTo>
                  <a:pt x="-1421" y="-20419"/>
                </a:lnTo>
                <a:lnTo>
                  <a:pt x="31806" y="-44888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Lost End-to-End Semantics. The request has not reached the Seller yet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4A08-3C59-4D25-AF71-D7EB825B82A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2091D4-6315-400B-BF90-16AEFA916C7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Extend Protocol Y Service Definition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99" name=""/>
          <p:cNvSpPr/>
          <p:nvPr/>
        </p:nvSpPr>
        <p:spPr>
          <a:xfrm>
            <a:off x="3836880" y="2368440"/>
            <a:ext cx="0" cy="179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0" name=""/>
          <p:cNvSpPr/>
          <p:nvPr/>
        </p:nvSpPr>
        <p:spPr>
          <a:xfrm>
            <a:off x="4489560" y="2368440"/>
            <a:ext cx="0" cy="179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1" name=""/>
          <p:cNvSpPr/>
          <p:nvPr/>
        </p:nvSpPr>
        <p:spPr>
          <a:xfrm>
            <a:off x="3203640" y="2543040"/>
            <a:ext cx="633240" cy="13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2" name=""/>
          <p:cNvSpPr/>
          <p:nvPr/>
        </p:nvSpPr>
        <p:spPr>
          <a:xfrm>
            <a:off x="4489560" y="2833560"/>
            <a:ext cx="633240" cy="16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489200" y="3637080"/>
            <a:ext cx="633240" cy="20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03280" y="4014720"/>
            <a:ext cx="633240" cy="20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5" name=""/>
          <p:cNvSpPr/>
          <p:nvPr/>
        </p:nvSpPr>
        <p:spPr>
          <a:xfrm>
            <a:off x="1860120" y="219852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utura Bk"/>
              </a:rPr>
              <a:t>purchaseOr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6" name=""/>
          <p:cNvSpPr/>
          <p:nvPr/>
        </p:nvSpPr>
        <p:spPr>
          <a:xfrm>
            <a:off x="4681800" y="26542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7" name=""/>
          <p:cNvSpPr/>
          <p:nvPr/>
        </p:nvSpPr>
        <p:spPr>
          <a:xfrm>
            <a:off x="4640760" y="370836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utura Bk"/>
              </a:rPr>
              <a:t>purchaseOr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8" name=""/>
          <p:cNvSpPr/>
          <p:nvPr/>
        </p:nvSpPr>
        <p:spPr>
          <a:xfrm>
            <a:off x="2071080" y="416736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utura Bk"/>
              </a:rPr>
              <a:t>purchaseOr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9" name=""/>
          <p:cNvSpPr/>
          <p:nvPr/>
        </p:nvSpPr>
        <p:spPr>
          <a:xfrm>
            <a:off x="3941640" y="2473200"/>
            <a:ext cx="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0" name=""/>
          <p:cNvSpPr/>
          <p:nvPr/>
        </p:nvSpPr>
        <p:spPr>
          <a:xfrm>
            <a:off x="3881520" y="2517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1" name=""/>
          <p:cNvSpPr/>
          <p:nvPr/>
        </p:nvSpPr>
        <p:spPr>
          <a:xfrm>
            <a:off x="3121560" y="4441680"/>
            <a:ext cx="232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ce Primitive Sequencin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489200" y="3079800"/>
            <a:ext cx="633240" cy="158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67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220560" y="3322800"/>
            <a:ext cx="631800" cy="1569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65520" bIns="65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4" name=""/>
          <p:cNvSpPr/>
          <p:nvPr/>
        </p:nvSpPr>
        <p:spPr>
          <a:xfrm>
            <a:off x="4682880" y="318456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status-notif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5" name=""/>
          <p:cNvSpPr/>
          <p:nvPr/>
        </p:nvSpPr>
        <p:spPr>
          <a:xfrm>
            <a:off x="1293120" y="318456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status-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6" name=""/>
          <p:cNvSpPr/>
          <p:nvPr/>
        </p:nvSpPr>
        <p:spPr>
          <a:xfrm>
            <a:off x="1454040" y="4917960"/>
            <a:ext cx="60213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Add service primitives for acknowledgement of receipt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Optionally used. Allow .response semantics to subsume acknowledgment of receipt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Also, it is philosophically right to expect acknowledgement to originate from the Selling client rather than the Protocol Engine – ie. from the entity that committed to responding to the request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68B5-0520-49C5-B8FD-7E730BE164E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B610AA4-75BD-4642-AD1A-6EEB12A9B7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Hv"/>
              </a:rPr>
              <a:t>Service Primitive Semantics – effects on partial shared state. (Revised)</a:t>
            </a:r>
            <a:endParaRPr b="0" lang="en-US" sz="26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18" name=""/>
          <p:cNvSpPr/>
          <p:nvPr/>
        </p:nvSpPr>
        <p:spPr>
          <a:xfrm>
            <a:off x="1933560" y="202392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9" name=""/>
          <p:cNvSpPr/>
          <p:nvPr/>
        </p:nvSpPr>
        <p:spPr>
          <a:xfrm>
            <a:off x="1933560" y="28162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0" name=""/>
          <p:cNvSpPr/>
          <p:nvPr/>
        </p:nvSpPr>
        <p:spPr>
          <a:xfrm>
            <a:off x="638280" y="48322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1" name=""/>
          <p:cNvSpPr/>
          <p:nvPr/>
        </p:nvSpPr>
        <p:spPr>
          <a:xfrm>
            <a:off x="3159000" y="497664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22" name=""/>
          <p:cNvCxnSpPr>
            <a:stCxn id="518" idx="4"/>
            <a:endCxn id="519" idx="0"/>
          </p:cNvCxnSpPr>
          <p:nvPr/>
        </p:nvCxnSpPr>
        <p:spPr>
          <a:xfrm>
            <a:off x="2114280" y="238428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1938240" y="41752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4" name=""/>
          <p:cNvSpPr/>
          <p:nvPr/>
        </p:nvSpPr>
        <p:spPr>
          <a:xfrm>
            <a:off x="632880" y="243036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5" name=""/>
          <p:cNvSpPr/>
          <p:nvPr/>
        </p:nvSpPr>
        <p:spPr>
          <a:xfrm>
            <a:off x="1357200" y="55548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yer Sid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6" name=""/>
          <p:cNvSpPr/>
          <p:nvPr/>
        </p:nvSpPr>
        <p:spPr>
          <a:xfrm>
            <a:off x="6337440" y="19540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7" name=""/>
          <p:cNvSpPr/>
          <p:nvPr/>
        </p:nvSpPr>
        <p:spPr>
          <a:xfrm>
            <a:off x="6337440" y="274644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8" name=""/>
          <p:cNvSpPr/>
          <p:nvPr/>
        </p:nvSpPr>
        <p:spPr>
          <a:xfrm>
            <a:off x="4861080" y="501336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9" name=""/>
          <p:cNvSpPr/>
          <p:nvPr/>
        </p:nvSpPr>
        <p:spPr>
          <a:xfrm>
            <a:off x="7688160" y="508644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0" name=""/>
          <p:cNvSpPr/>
          <p:nvPr/>
        </p:nvSpPr>
        <p:spPr>
          <a:xfrm>
            <a:off x="6337440" y="42130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1" name=""/>
          <p:cNvSpPr/>
          <p:nvPr/>
        </p:nvSpPr>
        <p:spPr>
          <a:xfrm>
            <a:off x="4702320" y="2384280"/>
            <a:ext cx="23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2" name=""/>
          <p:cNvSpPr/>
          <p:nvPr/>
        </p:nvSpPr>
        <p:spPr>
          <a:xfrm>
            <a:off x="5221440" y="522144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3" name=""/>
          <p:cNvSpPr/>
          <p:nvPr/>
        </p:nvSpPr>
        <p:spPr>
          <a:xfrm>
            <a:off x="241200" y="337500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4" name=""/>
          <p:cNvSpPr/>
          <p:nvPr/>
        </p:nvSpPr>
        <p:spPr>
          <a:xfrm>
            <a:off x="5869080" y="567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ller Sid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35" name=""/>
          <p:cNvCxnSpPr>
            <a:stCxn id="526" idx="4"/>
            <a:endCxn id="527" idx="0"/>
          </p:cNvCxnSpPr>
          <p:nvPr/>
        </p:nvCxnSpPr>
        <p:spPr>
          <a:xfrm flipV="1" rot="10800000">
            <a:off x="6517440" y="2314080"/>
            <a:ext cx="1080" cy="4327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19" idx="6"/>
            <a:endCxn id="521" idx="0"/>
          </p:cNvCxnSpPr>
          <p:nvPr/>
        </p:nvCxnSpPr>
        <p:spPr>
          <a:xfrm>
            <a:off x="2293920" y="2997360"/>
            <a:ext cx="1046880" cy="19800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19" idx="2"/>
            <a:endCxn id="520" idx="0"/>
          </p:cNvCxnSpPr>
          <p:nvPr/>
        </p:nvCxnSpPr>
        <p:spPr>
          <a:xfrm flipV="1" rot="10800000">
            <a:off x="818280" y="2996280"/>
            <a:ext cx="1115280" cy="18356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558160" y="1181160"/>
            <a:ext cx="378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 = Unknow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 = Sent (Buy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 = Received by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= Accepted by Seller (Buyer and Sell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 = Rejected by Seller (No Commitment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39" name=""/>
          <p:cNvCxnSpPr>
            <a:stCxn id="527" idx="4"/>
            <a:endCxn id="530" idx="0"/>
          </p:cNvCxnSpPr>
          <p:nvPr/>
        </p:nvCxnSpPr>
        <p:spPr>
          <a:xfrm flipV="1" rot="10800000">
            <a:off x="6517440" y="3106440"/>
            <a:ext cx="1080" cy="11070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6153480" y="466416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41" name=""/>
          <p:cNvCxnSpPr>
            <a:stCxn id="530" idx="2"/>
            <a:endCxn id="528" idx="6"/>
          </p:cNvCxnSpPr>
          <p:nvPr/>
        </p:nvCxnSpPr>
        <p:spPr>
          <a:xfrm flipV="1" rot="10800000">
            <a:off x="5220720" y="4393080"/>
            <a:ext cx="1116720" cy="801000"/>
          </a:xfrm>
          <a:prstGeom prst="curvedConnector5">
            <a:avLst>
              <a:gd name="adj1" fmla="val 49919"/>
              <a:gd name="adj2" fmla="val 50000"/>
              <a:gd name="adj3" fmla="val 4991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0" idx="6"/>
            <a:endCxn id="529" idx="2"/>
          </p:cNvCxnSpPr>
          <p:nvPr/>
        </p:nvCxnSpPr>
        <p:spPr>
          <a:xfrm>
            <a:off x="6697440" y="4393800"/>
            <a:ext cx="991080" cy="87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401920" y="3265560"/>
            <a:ext cx="17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44" name=""/>
          <p:cNvCxnSpPr>
            <a:stCxn id="519" idx="4"/>
            <a:endCxn id="523" idx="0"/>
          </p:cNvCxnSpPr>
          <p:nvPr/>
        </p:nvCxnSpPr>
        <p:spPr>
          <a:xfrm flipH="1" rot="16200000">
            <a:off x="1616760" y="3673440"/>
            <a:ext cx="999000" cy="540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23" idx="2"/>
            <a:endCxn id="520" idx="6"/>
          </p:cNvCxnSpPr>
          <p:nvPr/>
        </p:nvCxnSpPr>
        <p:spPr>
          <a:xfrm flipV="1" rot="10800000">
            <a:off x="997920" y="4355640"/>
            <a:ext cx="940320" cy="658080"/>
          </a:xfrm>
          <a:prstGeom prst="curvedConnector5">
            <a:avLst>
              <a:gd name="adj1" fmla="val 49980"/>
              <a:gd name="adj2" fmla="val 49972"/>
              <a:gd name="adj3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23" idx="6"/>
            <a:endCxn id="521" idx="2"/>
          </p:cNvCxnSpPr>
          <p:nvPr/>
        </p:nvCxnSpPr>
        <p:spPr>
          <a:xfrm>
            <a:off x="2298600" y="4355640"/>
            <a:ext cx="861120" cy="8024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1544760" y="4556160"/>
            <a:ext cx="17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8" name=""/>
          <p:cNvSpPr/>
          <p:nvPr/>
        </p:nvSpPr>
        <p:spPr>
          <a:xfrm>
            <a:off x="1001880" y="499284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49" name=""/>
          <p:cNvCxnSpPr>
            <a:stCxn id="527" idx="2"/>
            <a:endCxn id="528" idx="0"/>
          </p:cNvCxnSpPr>
          <p:nvPr/>
        </p:nvCxnSpPr>
        <p:spPr>
          <a:xfrm flipV="1" rot="10800000">
            <a:off x="5041080" y="2927160"/>
            <a:ext cx="1296360" cy="208656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27" idx="6"/>
            <a:endCxn id="529" idx="0"/>
          </p:cNvCxnSpPr>
          <p:nvPr/>
        </p:nvCxnSpPr>
        <p:spPr>
          <a:xfrm>
            <a:off x="6697800" y="2927160"/>
            <a:ext cx="1172160" cy="21596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7085520" y="266688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2" name=""/>
          <p:cNvSpPr/>
          <p:nvPr/>
        </p:nvSpPr>
        <p:spPr>
          <a:xfrm>
            <a:off x="4356000" y="320508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3" name=""/>
          <p:cNvSpPr/>
          <p:nvPr/>
        </p:nvSpPr>
        <p:spPr>
          <a:xfrm>
            <a:off x="5437080" y="366228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notif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4" name=""/>
          <p:cNvSpPr/>
          <p:nvPr/>
        </p:nvSpPr>
        <p:spPr>
          <a:xfrm>
            <a:off x="930240" y="383220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0F00-CA72-4EF9-9EE3-0F2B6755C38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2322A2-DED5-4F06-8BFC-BCE5F18A423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Revised Shared Perceptions of Order State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56" name=""/>
          <p:cNvSpPr/>
          <p:nvPr/>
        </p:nvSpPr>
        <p:spPr>
          <a:xfrm>
            <a:off x="3251160" y="2325600"/>
            <a:ext cx="368280" cy="265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|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7" name=""/>
          <p:cNvSpPr/>
          <p:nvPr/>
        </p:nvSpPr>
        <p:spPr>
          <a:xfrm>
            <a:off x="3251160" y="2906640"/>
            <a:ext cx="368280" cy="2113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8" name=""/>
          <p:cNvSpPr/>
          <p:nvPr/>
        </p:nvSpPr>
        <p:spPr>
          <a:xfrm>
            <a:off x="3251160" y="3487680"/>
            <a:ext cx="368280" cy="211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59" name=""/>
          <p:cNvSpPr/>
          <p:nvPr/>
        </p:nvSpPr>
        <p:spPr>
          <a:xfrm>
            <a:off x="6154560" y="3468600"/>
            <a:ext cx="370080" cy="2095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Rx|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0" name=""/>
          <p:cNvSpPr/>
          <p:nvPr/>
        </p:nvSpPr>
        <p:spPr>
          <a:xfrm>
            <a:off x="5656320" y="5016600"/>
            <a:ext cx="369720" cy="2109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|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1" name=""/>
          <p:cNvSpPr/>
          <p:nvPr/>
        </p:nvSpPr>
        <p:spPr>
          <a:xfrm>
            <a:off x="7213680" y="5016600"/>
            <a:ext cx="369720" cy="210960"/>
          </a:xfrm>
          <a:prstGeom prst="ellipse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Rx|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2" name=""/>
          <p:cNvSpPr/>
          <p:nvPr/>
        </p:nvSpPr>
        <p:spPr>
          <a:xfrm>
            <a:off x="5656320" y="6126120"/>
            <a:ext cx="369720" cy="211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Re|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5016600"/>
            <a:ext cx="368280" cy="2109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4" name=""/>
          <p:cNvSpPr/>
          <p:nvPr/>
        </p:nvSpPr>
        <p:spPr>
          <a:xfrm>
            <a:off x="3749760" y="5016600"/>
            <a:ext cx="368280" cy="210960"/>
          </a:xfrm>
          <a:prstGeom prst="ellipse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Rx|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6126120"/>
            <a:ext cx="368280" cy="211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|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66" name=""/>
          <p:cNvCxnSpPr>
            <a:stCxn id="556" idx="4"/>
            <a:endCxn id="557" idx="0"/>
          </p:cNvCxnSpPr>
          <p:nvPr/>
        </p:nvCxnSpPr>
        <p:spPr>
          <a:xfrm flipV="1" rot="10800000">
            <a:off x="3436200" y="2590560"/>
            <a:ext cx="1080" cy="3164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8" idx="2"/>
            <a:endCxn id="563" idx="0"/>
          </p:cNvCxnSpPr>
          <p:nvPr/>
        </p:nvCxnSpPr>
        <p:spPr>
          <a:xfrm flipV="1" rot="10800000">
            <a:off x="2393280" y="4225680"/>
            <a:ext cx="857880" cy="7912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8" idx="5"/>
            <a:endCxn id="560" idx="0"/>
          </p:cNvCxnSpPr>
          <p:nvPr/>
        </p:nvCxnSpPr>
        <p:spPr>
          <a:xfrm flipH="1" rot="16200000">
            <a:off x="4345560" y="3519720"/>
            <a:ext cx="716760" cy="2277360"/>
          </a:xfrm>
          <a:prstGeom prst="curvedConnector5">
            <a:avLst>
              <a:gd name="adj1" fmla="val 52060"/>
              <a:gd name="adj2" fmla="val 49992"/>
              <a:gd name="adj3" fmla="val 5206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3" idx="4"/>
            <a:endCxn id="565" idx="0"/>
          </p:cNvCxnSpPr>
          <p:nvPr/>
        </p:nvCxnSpPr>
        <p:spPr>
          <a:xfrm flipV="1" rot="10800000">
            <a:off x="2393280" y="5227200"/>
            <a:ext cx="1080" cy="8992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4" idx="4"/>
            <a:endCxn id="565" idx="6"/>
          </p:cNvCxnSpPr>
          <p:nvPr/>
        </p:nvCxnSpPr>
        <p:spPr>
          <a:xfrm rot="5400000">
            <a:off x="2759400" y="5058360"/>
            <a:ext cx="993240" cy="1356120"/>
          </a:xfrm>
          <a:prstGeom prst="curvedConnector2">
            <a:avLst/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cxnSp>
        <p:nvCxnSpPr>
          <p:cNvPr id="572" name=""/>
          <p:cNvCxnSpPr>
            <a:stCxn id="560" idx="4"/>
            <a:endCxn id="562" idx="0"/>
          </p:cNvCxnSpPr>
          <p:nvPr/>
        </p:nvCxnSpPr>
        <p:spPr>
          <a:xfrm flipV="1" rot="10800000">
            <a:off x="5841360" y="5227200"/>
            <a:ext cx="1080" cy="8992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1" idx="4"/>
            <a:endCxn id="562" idx="6"/>
          </p:cNvCxnSpPr>
          <p:nvPr/>
        </p:nvCxnSpPr>
        <p:spPr>
          <a:xfrm rot="5400000">
            <a:off x="6215760" y="5049360"/>
            <a:ext cx="993240" cy="1374120"/>
          </a:xfrm>
          <a:prstGeom prst="curvedConnector2">
            <a:avLst/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cxnSp>
        <p:nvCxnSpPr>
          <p:cNvPr id="574" name=""/>
          <p:cNvCxnSpPr>
            <a:stCxn id="557" idx="4"/>
            <a:endCxn id="558" idx="0"/>
          </p:cNvCxnSpPr>
          <p:nvPr/>
        </p:nvCxnSpPr>
        <p:spPr>
          <a:xfrm flipV="1" rot="10800000">
            <a:off x="3436200" y="3117600"/>
            <a:ext cx="1080" cy="3704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251160" y="4121280"/>
            <a:ext cx="368280" cy="2095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|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75" name=""/>
          <p:cNvCxnSpPr>
            <a:stCxn id="557" idx="6"/>
            <a:endCxn id="568" idx="7"/>
          </p:cNvCxnSpPr>
          <p:nvPr/>
        </p:nvCxnSpPr>
        <p:spPr>
          <a:xfrm flipH="1">
            <a:off x="3565080" y="3012840"/>
            <a:ext cx="54720" cy="1138680"/>
          </a:xfrm>
          <a:prstGeom prst="curvedConnector5">
            <a:avLst>
              <a:gd name="adj1" fmla="val -423178"/>
              <a:gd name="adj2" fmla="val 40860"/>
              <a:gd name="adj3" fmla="val -423178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7003800" y="2725200"/>
            <a:ext cx="579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>
            <a:off x="7003800" y="2936520"/>
            <a:ext cx="579960" cy="1080"/>
          </a:xfrm>
          <a:prstGeom prst="straightConnector1">
            <a:avLst/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7581240" y="259560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 X and 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9" name=""/>
          <p:cNvSpPr/>
          <p:nvPr/>
        </p:nvSpPr>
        <p:spPr>
          <a:xfrm>
            <a:off x="7581960" y="280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 Y onl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0" name=""/>
          <p:cNvSpPr/>
          <p:nvPr/>
        </p:nvSpPr>
        <p:spPr>
          <a:xfrm>
            <a:off x="3926520" y="1219320"/>
            <a:ext cx="3786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 = Unknow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 = Sent (Buy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 = Received by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= Accepted by Seller (Buyer and Sell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 = Rejected by Seller (No Commitment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yer |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1" name=""/>
          <p:cNvSpPr/>
          <p:nvPr/>
        </p:nvSpPr>
        <p:spPr>
          <a:xfrm>
            <a:off x="1686960" y="263196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2" name=""/>
          <p:cNvSpPr/>
          <p:nvPr/>
        </p:nvSpPr>
        <p:spPr>
          <a:xfrm>
            <a:off x="1552680" y="311796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3" name=""/>
          <p:cNvSpPr/>
          <p:nvPr/>
        </p:nvSpPr>
        <p:spPr>
          <a:xfrm>
            <a:off x="1156320" y="438480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4" name=""/>
          <p:cNvSpPr/>
          <p:nvPr/>
        </p:nvSpPr>
        <p:spPr>
          <a:xfrm>
            <a:off x="5473080" y="537840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5" name=""/>
          <p:cNvSpPr/>
          <p:nvPr/>
        </p:nvSpPr>
        <p:spPr>
          <a:xfrm>
            <a:off x="523800" y="5548320"/>
            <a:ext cx="18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6" name=""/>
          <p:cNvSpPr/>
          <p:nvPr/>
        </p:nvSpPr>
        <p:spPr>
          <a:xfrm>
            <a:off x="5328000" y="449280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87" name=""/>
          <p:cNvCxnSpPr>
            <a:stCxn id="568" idx="6"/>
            <a:endCxn id="559" idx="2"/>
          </p:cNvCxnSpPr>
          <p:nvPr/>
        </p:nvCxnSpPr>
        <p:spPr>
          <a:xfrm flipV="1">
            <a:off x="3619080" y="3572640"/>
            <a:ext cx="2523240" cy="653400"/>
          </a:xfrm>
          <a:prstGeom prst="curvedConnector5">
            <a:avLst>
              <a:gd name="adj1" fmla="val 50214"/>
              <a:gd name="adj2" fmla="val 50000"/>
              <a:gd name="adj3" fmla="val 50214"/>
            </a:avLst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88" name=""/>
          <p:cNvSpPr/>
          <p:nvPr/>
        </p:nvSpPr>
        <p:spPr>
          <a:xfrm>
            <a:off x="3801240" y="367812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589" name=""/>
          <p:cNvCxnSpPr>
            <a:stCxn id="559" idx="4"/>
            <a:endCxn id="564" idx="0"/>
          </p:cNvCxnSpPr>
          <p:nvPr/>
        </p:nvCxnSpPr>
        <p:spPr>
          <a:xfrm rot="5400000">
            <a:off x="4479840" y="3143880"/>
            <a:ext cx="1313280" cy="2407320"/>
          </a:xfrm>
          <a:prstGeom prst="curvedConnector5">
            <a:avLst>
              <a:gd name="adj1" fmla="val 49931"/>
              <a:gd name="adj2" fmla="val 50000"/>
              <a:gd name="adj3" fmla="val 49931"/>
            </a:avLst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cxnSp>
        <p:nvCxnSpPr>
          <p:cNvPr id="590" name=""/>
          <p:cNvCxnSpPr>
            <a:stCxn id="559" idx="6"/>
            <a:endCxn id="561" idx="0"/>
          </p:cNvCxnSpPr>
          <p:nvPr/>
        </p:nvCxnSpPr>
        <p:spPr>
          <a:xfrm>
            <a:off x="6536880" y="3573000"/>
            <a:ext cx="862920" cy="1430640"/>
          </a:xfrm>
          <a:prstGeom prst="curvedConnector2">
            <a:avLst/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cxnSp>
        <p:nvCxnSpPr>
          <p:cNvPr id="591" name=""/>
          <p:cNvCxnSpPr>
            <a:stCxn id="558" idx="4"/>
            <a:endCxn id="568" idx="0"/>
          </p:cNvCxnSpPr>
          <p:nvPr/>
        </p:nvCxnSpPr>
        <p:spPr>
          <a:xfrm>
            <a:off x="3435120" y="3698640"/>
            <a:ext cx="1080" cy="423000"/>
          </a:xfrm>
          <a:prstGeom prst="straightConnector1">
            <a:avLst/>
          </a:prstGeom>
          <a:ln w="2556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1021680" y="378936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notif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3" name=""/>
          <p:cNvSpPr/>
          <p:nvPr/>
        </p:nvSpPr>
        <p:spPr>
          <a:xfrm>
            <a:off x="7137720" y="376380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4" name=""/>
          <p:cNvSpPr/>
          <p:nvPr/>
        </p:nvSpPr>
        <p:spPr>
          <a:xfrm>
            <a:off x="4988520" y="392760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5" name=""/>
          <p:cNvSpPr/>
          <p:nvPr/>
        </p:nvSpPr>
        <p:spPr>
          <a:xfrm>
            <a:off x="6841440" y="581040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6" name=""/>
          <p:cNvSpPr/>
          <p:nvPr/>
        </p:nvSpPr>
        <p:spPr>
          <a:xfrm>
            <a:off x="2784600" y="5835600"/>
            <a:ext cx="186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7" name=""/>
          <p:cNvSpPr/>
          <p:nvPr/>
        </p:nvSpPr>
        <p:spPr>
          <a:xfrm>
            <a:off x="3772080" y="308124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235E-B189-4701-A06D-0C6B6B4F1F5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24246ED-8A09-4E33-90D1-65ED7465FA0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Update Mediator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9" name=""/>
          <p:cNvSpPr/>
          <p:nvPr/>
        </p:nvSpPr>
        <p:spPr>
          <a:xfrm>
            <a:off x="4746600" y="2224080"/>
            <a:ext cx="28908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0" name=""/>
          <p:cNvSpPr/>
          <p:nvPr/>
        </p:nvSpPr>
        <p:spPr>
          <a:xfrm>
            <a:off x="4746600" y="3376440"/>
            <a:ext cx="28908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1" name=""/>
          <p:cNvSpPr/>
          <p:nvPr/>
        </p:nvSpPr>
        <p:spPr>
          <a:xfrm>
            <a:off x="4746600" y="4672080"/>
            <a:ext cx="289080" cy="2887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602" name=""/>
          <p:cNvCxnSpPr>
            <a:stCxn id="599" idx="4"/>
            <a:endCxn id="600" idx="0"/>
          </p:cNvCxnSpPr>
          <p:nvPr/>
        </p:nvCxnSpPr>
        <p:spPr>
          <a:xfrm>
            <a:off x="4890600" y="2513160"/>
            <a:ext cx="1080" cy="86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600" idx="4"/>
            <a:endCxn id="601" idx="0"/>
          </p:cNvCxnSpPr>
          <p:nvPr/>
        </p:nvCxnSpPr>
        <p:spPr>
          <a:xfrm>
            <a:off x="4890600" y="3665520"/>
            <a:ext cx="1080" cy="100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4892040" y="2585880"/>
            <a:ext cx="2244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y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x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5" name=""/>
          <p:cNvSpPr/>
          <p:nvPr/>
        </p:nvSpPr>
        <p:spPr>
          <a:xfrm>
            <a:off x="4898160" y="3927600"/>
            <a:ext cx="42465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y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notify_y(Po</a:t>
            </a:r>
            <a:r>
              <a:rPr b="1" lang="en-GB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=o</a:t>
            </a:r>
            <a:r>
              <a:rPr b="1" lang="en-GB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,Status=received</a:t>
            </a:r>
            <a:r>
              <a:rPr b="1" lang="en-GB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x(Poy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6" name=""/>
          <p:cNvSpPr/>
          <p:nvPr/>
        </p:nvSpPr>
        <p:spPr>
          <a:xfrm>
            <a:off x="433440" y="2271600"/>
            <a:ext cx="28872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7" name=""/>
          <p:cNvSpPr/>
          <p:nvPr/>
        </p:nvSpPr>
        <p:spPr>
          <a:xfrm>
            <a:off x="433440" y="3424320"/>
            <a:ext cx="288720" cy="2887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8" name=""/>
          <p:cNvSpPr/>
          <p:nvPr/>
        </p:nvSpPr>
        <p:spPr>
          <a:xfrm>
            <a:off x="433440" y="4719600"/>
            <a:ext cx="288720" cy="2890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609" name=""/>
          <p:cNvCxnSpPr>
            <a:stCxn id="606" idx="4"/>
            <a:endCxn id="607" idx="0"/>
          </p:cNvCxnSpPr>
          <p:nvPr/>
        </p:nvCxnSpPr>
        <p:spPr>
          <a:xfrm>
            <a:off x="577440" y="256032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7" idx="4"/>
            <a:endCxn id="608" idx="0"/>
          </p:cNvCxnSpPr>
          <p:nvPr/>
        </p:nvCxnSpPr>
        <p:spPr>
          <a:xfrm>
            <a:off x="577440" y="3713040"/>
            <a:ext cx="1080" cy="100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584640" y="2633760"/>
            <a:ext cx="41533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y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purchaseOrder.status-notify_y(Po</a:t>
            </a:r>
            <a:r>
              <a:rPr b="1" lang="en-GB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=o</a:t>
            </a:r>
            <a:r>
              <a:rPr b="1" lang="en-GB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,Status=receive</a:t>
            </a:r>
            <a:r>
              <a:rPr b="1" lang="en-US" sz="1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x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2" name=""/>
          <p:cNvSpPr/>
          <p:nvPr/>
        </p:nvSpPr>
        <p:spPr>
          <a:xfrm>
            <a:off x="580320" y="3975120"/>
            <a:ext cx="3058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y(P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x(Poy=o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3" name=""/>
          <p:cNvSpPr/>
          <p:nvPr/>
        </p:nvSpPr>
        <p:spPr>
          <a:xfrm>
            <a:off x="4674600" y="5256360"/>
            <a:ext cx="4188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Synthesise acknowledgement with response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4" name=""/>
          <p:cNvSpPr/>
          <p:nvPr/>
        </p:nvSpPr>
        <p:spPr>
          <a:xfrm>
            <a:off x="262800" y="5256360"/>
            <a:ext cx="3387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Spoof acknowledgement on requ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(will behave as before)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5" name=""/>
          <p:cNvSpPr/>
          <p:nvPr/>
        </p:nvSpPr>
        <p:spPr>
          <a:xfrm>
            <a:off x="-90720" y="5986440"/>
            <a:ext cx="9484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NB. Original behaviour is not broken – we allow .response/.confirm to </a:t>
            </a: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subsume</a:t>
            </a: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 .status-notify/.status-indica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F4A4-9F7E-4C6B-8B92-7247C34FD3E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638F8D-93B3-499F-BC41-9A6F66647B9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Outline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Key Ideas/Principles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Scenario Outline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Service Definitions and Semantics(?) -  ‘What’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Protocol Descriptions – ‘How’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Mediation Behaviour and Traces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Enhancements (?)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-22536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"/>
              </a:rPr>
              <a:t>Wrap up and Discussion.</a:t>
            </a: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  <a:p>
            <a:pPr marL="225360" indent="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F6A6-8DCA-4691-9F15-2F6A17A8CE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CA02348-C72F-40B6-9401-4F8DF72138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336600" y="1273320"/>
            <a:ext cx="59356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 fontScale="91000"/>
          </a:bodyPr>
          <a:p>
            <a:pPr marL="204840" indent="-20484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Abstract Service Defn (Protocol Service Defn)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inc effects on partial shared state (Semantics?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Role and/or Combined perpectiv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04840" indent="-20484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Buyer and Seller Behaviours (Protocol Rules)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Event [Guard] / Action(s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Primitive invocations (linkage to effects/semantics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Message Arrivals and Transmission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Internal (layer) Events – Timeout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04840" indent="-20484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Mediation Behaviour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(but want to synthesise this from description)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-2221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Primitive Relaying and Subsumtion Relationship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29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048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Service Description Element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392880" y="960480"/>
            <a:ext cx="2593080" cy="1477080"/>
            <a:chOff x="6392880" y="960480"/>
            <a:chExt cx="2593080" cy="1477080"/>
          </a:xfrm>
        </p:grpSpPr>
        <p:sp>
          <p:nvSpPr>
            <p:cNvPr id="619" name=""/>
            <p:cNvSpPr/>
            <p:nvPr/>
          </p:nvSpPr>
          <p:spPr>
            <a:xfrm>
              <a:off x="7564320" y="960480"/>
              <a:ext cx="138240" cy="100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|U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64320" y="1179360"/>
              <a:ext cx="138240" cy="7956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|U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02560" y="1397160"/>
              <a:ext cx="138240" cy="79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|B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50240" y="1971720"/>
              <a:ext cx="139680" cy="792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|R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50240" y="2349360"/>
              <a:ext cx="139680" cy="79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|R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15120" y="1932120"/>
              <a:ext cx="139680" cy="792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|A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15120" y="2349360"/>
              <a:ext cx="139680" cy="79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|A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26" name=""/>
            <p:cNvCxnSpPr>
              <a:stCxn id="619" idx="4"/>
              <a:endCxn id="620" idx="0"/>
            </p:cNvCxnSpPr>
            <p:nvPr/>
          </p:nvCxnSpPr>
          <p:spPr>
            <a:xfrm flipV="1" rot="10800000">
              <a:off x="7633440" y="1060200"/>
              <a:ext cx="1080" cy="119520"/>
            </a:xfrm>
            <a:prstGeom prst="curvedConnector2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27" name=""/>
            <p:cNvCxnSpPr>
              <a:stCxn id="628" idx="3"/>
              <a:endCxn id="624" idx="0"/>
            </p:cNvCxnSpPr>
            <p:nvPr/>
          </p:nvCxnSpPr>
          <p:spPr>
            <a:xfrm rot="5400000">
              <a:off x="7320600" y="1667520"/>
              <a:ext cx="229320" cy="300600"/>
            </a:xfrm>
            <a:prstGeom prst="curvedConnector5">
              <a:avLst>
                <a:gd name="adj1" fmla="val 52358"/>
                <a:gd name="adj2" fmla="val 50000"/>
                <a:gd name="adj3" fmla="val 52358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8" idx="5"/>
              <a:endCxn id="622" idx="0"/>
            </p:cNvCxnSpPr>
            <p:nvPr/>
          </p:nvCxnSpPr>
          <p:spPr>
            <a:xfrm flipH="1" rot="16200000">
              <a:off x="7715880" y="1668240"/>
              <a:ext cx="268920" cy="338760"/>
            </a:xfrm>
            <a:prstGeom prst="curvedConnector5">
              <a:avLst>
                <a:gd name="adj1" fmla="val 52010"/>
                <a:gd name="adj2" fmla="val 50000"/>
                <a:gd name="adj3" fmla="val 5201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4" idx="4"/>
              <a:endCxn id="625" idx="0"/>
            </p:cNvCxnSpPr>
            <p:nvPr/>
          </p:nvCxnSpPr>
          <p:spPr>
            <a:xfrm flipV="1" rot="10800000">
              <a:off x="7284240" y="2010960"/>
              <a:ext cx="1080" cy="338760"/>
            </a:xfrm>
            <a:prstGeom prst="curvedConnector2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2" idx="4"/>
              <a:endCxn id="623" idx="0"/>
            </p:cNvCxnSpPr>
            <p:nvPr/>
          </p:nvCxnSpPr>
          <p:spPr>
            <a:xfrm flipV="1" rot="10800000">
              <a:off x="8019360" y="2050560"/>
              <a:ext cx="1080" cy="299160"/>
            </a:xfrm>
            <a:prstGeom prst="curvedConnector2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32" name=""/>
            <p:cNvCxnSpPr>
              <a:stCxn id="620" idx="4"/>
              <a:endCxn id="628" idx="0"/>
            </p:cNvCxnSpPr>
            <p:nvPr/>
          </p:nvCxnSpPr>
          <p:spPr>
            <a:xfrm flipV="1" rot="10800000">
              <a:off x="7633440" y="1258560"/>
              <a:ext cx="1080" cy="376920"/>
            </a:xfrm>
            <a:prstGeom prst="curvedConnector2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28" name=""/>
            <p:cNvSpPr/>
            <p:nvPr/>
          </p:nvSpPr>
          <p:spPr>
            <a:xfrm>
              <a:off x="7564320" y="1635120"/>
              <a:ext cx="138240" cy="7956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|Rx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82560" y="1150920"/>
              <a:ext cx="970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quest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3240" y="1447920"/>
              <a:ext cx="103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indication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51000" y="1695600"/>
              <a:ext cx="1029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20440" y="2160720"/>
              <a:ext cx="965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92880" y="2095560"/>
              <a:ext cx="1065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br>
                <a:rPr sz="600"/>
              </a:b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02000" y="1635120"/>
              <a:ext cx="1029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456240" y="2820960"/>
            <a:ext cx="2476440" cy="1771920"/>
            <a:chOff x="6456240" y="2820960"/>
            <a:chExt cx="2476440" cy="1771920"/>
          </a:xfrm>
        </p:grpSpPr>
        <p:sp>
          <p:nvSpPr>
            <p:cNvPr id="640" name=""/>
            <p:cNvSpPr/>
            <p:nvPr/>
          </p:nvSpPr>
          <p:spPr>
            <a:xfrm>
              <a:off x="6499080" y="3053880"/>
              <a:ext cx="64440" cy="6444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0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99080" y="3466080"/>
              <a:ext cx="64440" cy="6444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1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99080" y="4093920"/>
              <a:ext cx="64440" cy="6444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2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43" name=""/>
            <p:cNvCxnSpPr>
              <a:stCxn id="640" idx="4"/>
              <a:endCxn id="641" idx="0"/>
            </p:cNvCxnSpPr>
            <p:nvPr/>
          </p:nvCxnSpPr>
          <p:spPr>
            <a:xfrm>
              <a:off x="6530760" y="3117960"/>
              <a:ext cx="1080" cy="3477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44" name=""/>
            <p:cNvSpPr/>
            <p:nvPr/>
          </p:nvSpPr>
          <p:spPr>
            <a:xfrm>
              <a:off x="6519600" y="32169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urchaseOrder.req(Po=o) 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req(To=o.Seller, From=o.Buyer, 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R(Po=o) )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rtTimer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45" name=""/>
            <p:cNvCxnSpPr>
              <a:stCxn id="641" idx="6"/>
              <a:endCxn id="641" idx="5"/>
            </p:cNvCxnSpPr>
            <p:nvPr/>
          </p:nvCxnSpPr>
          <p:spPr>
            <a:xfrm flipH="1">
              <a:off x="6554520" y="3498120"/>
              <a:ext cx="9360" cy="21960"/>
            </a:xfrm>
            <a:prstGeom prst="curvedConnector5">
              <a:avLst>
                <a:gd name="adj1" fmla="val -720000"/>
                <a:gd name="adj2" fmla="val 220000"/>
                <a:gd name="adj3" fmla="val -72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46" name=""/>
            <p:cNvSpPr/>
            <p:nvPr/>
          </p:nvSpPr>
          <p:spPr>
            <a:xfrm>
              <a:off x="6627240" y="356472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meOut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req(To=o.Seller, From=o.Buyer,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R(o) )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rtTimer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47" name=""/>
            <p:cNvCxnSpPr>
              <a:stCxn id="641" idx="4"/>
              <a:endCxn id="642" idx="0"/>
            </p:cNvCxnSpPr>
            <p:nvPr/>
          </p:nvCxnSpPr>
          <p:spPr>
            <a:xfrm>
              <a:off x="6530760" y="3530520"/>
              <a:ext cx="1080" cy="5637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48" name=""/>
            <p:cNvCxnSpPr>
              <a:stCxn id="642" idx="6"/>
              <a:endCxn id="642" idx="5"/>
            </p:cNvCxnSpPr>
            <p:nvPr/>
          </p:nvCxnSpPr>
          <p:spPr>
            <a:xfrm flipH="1">
              <a:off x="6554520" y="4125600"/>
              <a:ext cx="9360" cy="24120"/>
            </a:xfrm>
            <a:prstGeom prst="curvedConnector5">
              <a:avLst>
                <a:gd name="adj1" fmla="val -720000"/>
                <a:gd name="adj2" fmla="val 219696"/>
                <a:gd name="adj3" fmla="val -72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49" name=""/>
            <p:cNvSpPr/>
            <p:nvPr/>
          </p:nvSpPr>
          <p:spPr>
            <a:xfrm>
              <a:off x="6456240" y="4224600"/>
              <a:ext cx="247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ind(From=o.Seller, To= o.Buyer,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A(Po=o,Acc=a) ) 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/Ignore duplicates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58400" y="2820960"/>
              <a:ext cx="61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yer(Po=o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14400" y="2849400"/>
              <a:ext cx="759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uard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ction(s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392880" y="5014800"/>
            <a:ext cx="2603880" cy="1299960"/>
            <a:chOff x="6392880" y="5014800"/>
            <a:chExt cx="2603880" cy="1299960"/>
          </a:xfrm>
        </p:grpSpPr>
        <p:sp>
          <p:nvSpPr>
            <p:cNvPr id="653" name=""/>
            <p:cNvSpPr/>
            <p:nvPr/>
          </p:nvSpPr>
          <p:spPr>
            <a:xfrm>
              <a:off x="6392880" y="5014800"/>
              <a:ext cx="120600" cy="13644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0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92880" y="5562360"/>
              <a:ext cx="120600" cy="136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1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92880" y="6176880"/>
              <a:ext cx="120600" cy="13788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2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56" name=""/>
            <p:cNvCxnSpPr>
              <a:stCxn id="653" idx="4"/>
              <a:endCxn id="654" idx="0"/>
            </p:cNvCxnSpPr>
            <p:nvPr/>
          </p:nvCxnSpPr>
          <p:spPr>
            <a:xfrm>
              <a:off x="6452640" y="5151240"/>
              <a:ext cx="1080" cy="41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54" idx="4"/>
              <a:endCxn id="655" idx="0"/>
            </p:cNvCxnSpPr>
            <p:nvPr/>
          </p:nvCxnSpPr>
          <p:spPr>
            <a:xfrm>
              <a:off x="6452640" y="5698800"/>
              <a:ext cx="1080" cy="478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58" name=""/>
            <p:cNvSpPr/>
            <p:nvPr/>
          </p:nvSpPr>
          <p:spPr>
            <a:xfrm>
              <a:off x="6454800" y="5260680"/>
              <a:ext cx="1217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ind_x(P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=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 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q_y(P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y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=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y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55160" y="5898960"/>
              <a:ext cx="1624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_x(P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=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,Accept=a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 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_y(Poy=o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y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,Accept=a</a:t>
              </a:r>
              <a:r>
                <a:rPr b="0" lang="en-GB" sz="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y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4920" y="6019560"/>
              <a:ext cx="253800" cy="15552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col X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gin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518320" y="6019560"/>
              <a:ext cx="252720" cy="15552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col Y</a:t>
              </a:r>
              <a:br>
                <a:rPr sz="600"/>
              </a:b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gin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62" name=""/>
            <p:cNvCxnSpPr>
              <a:endCxn id="660" idx="1"/>
            </p:cNvCxnSpPr>
            <p:nvPr/>
          </p:nvCxnSpPr>
          <p:spPr>
            <a:xfrm flipV="1">
              <a:off x="8001000" y="6096600"/>
              <a:ext cx="224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3" name=""/>
            <p:cNvCxnSpPr>
              <a:stCxn id="661" idx="3"/>
            </p:cNvCxnSpPr>
            <p:nvPr/>
          </p:nvCxnSpPr>
          <p:spPr>
            <a:xfrm>
              <a:off x="8771040" y="6096960"/>
              <a:ext cx="226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64" name=""/>
            <p:cNvSpPr/>
            <p:nvPr/>
          </p:nvSpPr>
          <p:spPr>
            <a:xfrm>
              <a:off x="8224920" y="5817960"/>
              <a:ext cx="547560" cy="11124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diator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61360" y="5929200"/>
              <a:ext cx="0" cy="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55120" y="5929200"/>
              <a:ext cx="0" cy="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69040" y="5976720"/>
              <a:ext cx="8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7CA3-5BDE-4623-BD77-87EC4063C7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42889EB-9667-48EE-8C82-B12B807E56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Preliminary Conclusions/Further Work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 fontScale="98000"/>
          </a:bodyPr>
          <a:p>
            <a:pPr marL="220680" indent="-22068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Mediation based on relaying semantics of abstract service primitives, rather than individual messages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-22068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Focussed on ‘man-in-middle’ style mediation… but much more interested what elements are essential to enable ‘self-mediation’ 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-22068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Agnostic to formalism for FSM’s – Process Algebra’s, Abstract State Machines (aka Evolving Algebra’s)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61880" indent="-23940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Good for checking liveness and safety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068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-22068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Further Work: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61880" indent="-23940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Tackle a more substantial examp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61880" indent="-23940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eCommerce basket/checkout scenario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686160" indent="-210240">
              <a:lnSpc>
                <a:spcPct val="7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Trading Partners (part of context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686160" indent="-210240">
              <a:lnSpc>
                <a:spcPct val="7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Template orders (shopping baskets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686160" indent="-210240">
              <a:lnSpc>
                <a:spcPct val="7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Submission, tracking and amendment of orders (including cancellations)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068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068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CE94-3F75-41A2-AF92-639E5BCB09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9CFDAF-BFE5-4DDF-928A-0550076A88E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Discussion/Question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 fontScale="94000"/>
          </a:bodyPr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What description elements are essential to enable: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Bk"/>
              </a:rPr>
              <a:t>Developer based mediation?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Bk"/>
              </a:rPr>
              <a:t>Automatic mediation?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Relationship between Protocol Service Primitives, Capabilities and Goals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Asynchronous Callbacks’, Interface Typing and Referencing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Concurrency and Transactions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Multi-party Interaction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Relationship with WS-Choreography/Orchestr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Box ‘colour’: Grey, Black, White, Transparent.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Exception handl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F712-627C-4712-B841-F289154633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ACD7E0-BFB8-4D8E-B717-A2509FA7EF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HP logo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3B9C-90C9-45A9-8608-1B4F45C64FE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052335-4406-4143-AA6D-B7095221DBA1}" type="datetime3">
              <a:rPr lang="en-US"/>
              <a:t>July 30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Futura Hv"/>
              </a:rPr>
              <a:t>Service Decription Element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5" name=""/>
          <p:cNvSpPr/>
          <p:nvPr/>
        </p:nvSpPr>
        <p:spPr>
          <a:xfrm>
            <a:off x="504720" y="1419120"/>
            <a:ext cx="3721320" cy="2316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Abstract Service Primitive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and Semantic(?) Effect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6" name=""/>
          <p:cNvSpPr/>
          <p:nvPr/>
        </p:nvSpPr>
        <p:spPr>
          <a:xfrm>
            <a:off x="4727520" y="1419120"/>
            <a:ext cx="3721320" cy="2316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Role Behaviours (Buyer, Seller…)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utura Bk"/>
              </a:rPr>
              <a:t>Protocol Rule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7" name=""/>
          <p:cNvSpPr/>
          <p:nvPr/>
        </p:nvSpPr>
        <p:spPr>
          <a:xfrm>
            <a:off x="504720" y="4038480"/>
            <a:ext cx="3721320" cy="2316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Mediation Behaviour, Relaying and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Subsumption Relationships between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Servic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8" name=""/>
          <p:cNvSpPr/>
          <p:nvPr/>
        </p:nvSpPr>
        <p:spPr>
          <a:xfrm>
            <a:off x="4727520" y="4038480"/>
            <a:ext cx="3721320" cy="2316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563400" y="2190600"/>
            <a:ext cx="3701160" cy="1404000"/>
            <a:chOff x="563400" y="2190600"/>
            <a:chExt cx="3701160" cy="1404000"/>
          </a:xfrm>
        </p:grpSpPr>
        <p:sp>
          <p:nvSpPr>
            <p:cNvPr id="680" name=""/>
            <p:cNvSpPr/>
            <p:nvPr/>
          </p:nvSpPr>
          <p:spPr>
            <a:xfrm>
              <a:off x="1222920" y="221184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22920" y="245376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7840" y="307008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00280" y="311400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84" name=""/>
            <p:cNvCxnSpPr>
              <a:stCxn id="680" idx="4"/>
              <a:endCxn id="681" idx="0"/>
            </p:cNvCxnSpPr>
            <p:nvPr/>
          </p:nvCxnSpPr>
          <p:spPr>
            <a:xfrm>
              <a:off x="1293120" y="2322000"/>
              <a:ext cx="1080" cy="13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1224720" y="286920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x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7480" y="2285640"/>
              <a:ext cx="970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quest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8280" y="3279960"/>
              <a:ext cx="588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yer Side Primitives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39040" y="219060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9040" y="243252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3760" y="312516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65720" y="314748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39040" y="2880720"/>
              <a:ext cx="140400" cy="10980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x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1840" y="2311200"/>
              <a:ext cx="930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indication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04880" y="318780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3400" y="2624040"/>
              <a:ext cx="7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57240" y="3317760"/>
              <a:ext cx="588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ller Side Primitives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697" name=""/>
            <p:cNvCxnSpPr>
              <a:stCxn id="688" idx="4"/>
              <a:endCxn id="689" idx="0"/>
            </p:cNvCxnSpPr>
            <p:nvPr/>
          </p:nvCxnSpPr>
          <p:spPr>
            <a:xfrm flipV="1" rot="10800000">
              <a:off x="3008880" y="2300040"/>
              <a:ext cx="1080" cy="13248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81" idx="6"/>
              <a:endCxn id="683" idx="0"/>
            </p:cNvCxnSpPr>
            <p:nvPr/>
          </p:nvCxnSpPr>
          <p:spPr>
            <a:xfrm>
              <a:off x="1363320" y="2509200"/>
              <a:ext cx="408240" cy="6055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81" idx="2"/>
              <a:endCxn id="682" idx="0"/>
            </p:cNvCxnSpPr>
            <p:nvPr/>
          </p:nvCxnSpPr>
          <p:spPr>
            <a:xfrm flipV="1" rot="10800000">
              <a:off x="787680" y="2508120"/>
              <a:ext cx="434880" cy="56124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89" idx="4"/>
              <a:endCxn id="692" idx="0"/>
            </p:cNvCxnSpPr>
            <p:nvPr/>
          </p:nvCxnSpPr>
          <p:spPr>
            <a:xfrm flipV="1" rot="10800000">
              <a:off x="3008880" y="2542320"/>
              <a:ext cx="1080" cy="33876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2869560" y="3041640"/>
              <a:ext cx="1029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02" name=""/>
            <p:cNvCxnSpPr>
              <a:stCxn id="692" idx="2"/>
              <a:endCxn id="690" idx="6"/>
            </p:cNvCxnSpPr>
            <p:nvPr/>
          </p:nvCxnSpPr>
          <p:spPr>
            <a:xfrm flipV="1" rot="10800000">
              <a:off x="2503440" y="2934720"/>
              <a:ext cx="435600" cy="244800"/>
            </a:xfrm>
            <a:prstGeom prst="curvedConnector5">
              <a:avLst>
                <a:gd name="adj1" fmla="val 49875"/>
                <a:gd name="adj2" fmla="val 49926"/>
                <a:gd name="adj3" fmla="val 49875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03" name=""/>
            <p:cNvCxnSpPr>
              <a:stCxn id="692" idx="6"/>
              <a:endCxn id="691" idx="2"/>
            </p:cNvCxnSpPr>
            <p:nvPr/>
          </p:nvCxnSpPr>
          <p:spPr>
            <a:xfrm>
              <a:off x="3079800" y="2935800"/>
              <a:ext cx="386640" cy="267120"/>
            </a:xfrm>
            <a:prstGeom prst="curvedConnector5">
              <a:avLst>
                <a:gd name="adj1" fmla="val 49953"/>
                <a:gd name="adj2" fmla="val 49932"/>
                <a:gd name="adj3" fmla="val 49953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1404720" y="2590560"/>
              <a:ext cx="70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05" name=""/>
            <p:cNvCxnSpPr>
              <a:stCxn id="681" idx="4"/>
              <a:endCxn id="685" idx="0"/>
            </p:cNvCxnSpPr>
            <p:nvPr/>
          </p:nvCxnSpPr>
          <p:spPr>
            <a:xfrm flipH="1" rot="16200000">
              <a:off x="1140840" y="2715120"/>
              <a:ext cx="305640" cy="252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06" name=""/>
            <p:cNvCxnSpPr>
              <a:stCxn id="685" idx="2"/>
              <a:endCxn id="682" idx="6"/>
            </p:cNvCxnSpPr>
            <p:nvPr/>
          </p:nvCxnSpPr>
          <p:spPr>
            <a:xfrm flipV="1" rot="10800000">
              <a:off x="857880" y="2923200"/>
              <a:ext cx="366840" cy="201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07" name=""/>
            <p:cNvCxnSpPr>
              <a:stCxn id="685" idx="6"/>
              <a:endCxn id="683" idx="2"/>
            </p:cNvCxnSpPr>
            <p:nvPr/>
          </p:nvCxnSpPr>
          <p:spPr>
            <a:xfrm>
              <a:off x="1364760" y="2924280"/>
              <a:ext cx="335880" cy="245520"/>
            </a:xfrm>
            <a:prstGeom prst="curvedConnector5">
              <a:avLst>
                <a:gd name="adj1" fmla="val 50000"/>
                <a:gd name="adj2" fmla="val 49926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08" name=""/>
            <p:cNvSpPr/>
            <p:nvPr/>
          </p:nvSpPr>
          <p:spPr>
            <a:xfrm>
              <a:off x="1071360" y="298584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0400" y="3119400"/>
              <a:ext cx="7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confirm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10" name=""/>
            <p:cNvCxnSpPr>
              <a:stCxn id="689" idx="2"/>
              <a:endCxn id="690" idx="0"/>
            </p:cNvCxnSpPr>
            <p:nvPr/>
          </p:nvCxnSpPr>
          <p:spPr>
            <a:xfrm flipV="1" rot="10800000">
              <a:off x="2433600" y="2487600"/>
              <a:ext cx="505440" cy="6379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689" idx="6"/>
              <a:endCxn id="691" idx="0"/>
            </p:cNvCxnSpPr>
            <p:nvPr/>
          </p:nvCxnSpPr>
          <p:spPr>
            <a:xfrm>
              <a:off x="3079800" y="2487960"/>
              <a:ext cx="457200" cy="66024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12" name=""/>
            <p:cNvSpPr/>
            <p:nvPr/>
          </p:nvSpPr>
          <p:spPr>
            <a:xfrm>
              <a:off x="3234960" y="2430000"/>
              <a:ext cx="1029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fals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66840" y="2573280"/>
              <a:ext cx="84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Order.response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[Accept=true]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89120" y="2701800"/>
              <a:ext cx="1006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urchaseOrder.status-notify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1600" y="2752560"/>
              <a:ext cx="10645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urchaseOrder.status-indication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573880" y="1928880"/>
            <a:ext cx="1915200" cy="1641600"/>
            <a:chOff x="5573880" y="1928880"/>
            <a:chExt cx="1915200" cy="1641600"/>
          </a:xfrm>
        </p:grpSpPr>
        <p:sp>
          <p:nvSpPr>
            <p:cNvPr id="717" name=""/>
            <p:cNvSpPr/>
            <p:nvPr/>
          </p:nvSpPr>
          <p:spPr>
            <a:xfrm>
              <a:off x="5639760" y="2139120"/>
              <a:ext cx="99000" cy="6048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0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39760" y="2513880"/>
              <a:ext cx="99000" cy="5868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1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39760" y="3084120"/>
              <a:ext cx="99000" cy="58680"/>
            </a:xfrm>
            <a:prstGeom prst="ellipse">
              <a:avLst/>
            </a:prstGeom>
            <a:solidFill>
              <a:srgbClr val="ff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2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20" name=""/>
            <p:cNvCxnSpPr>
              <a:stCxn id="717" idx="4"/>
              <a:endCxn id="718" idx="0"/>
            </p:cNvCxnSpPr>
            <p:nvPr/>
          </p:nvCxnSpPr>
          <p:spPr>
            <a:xfrm>
              <a:off x="5688720" y="2199600"/>
              <a:ext cx="1080" cy="314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21" name=""/>
            <p:cNvSpPr/>
            <p:nvPr/>
          </p:nvSpPr>
          <p:spPr>
            <a:xfrm>
              <a:off x="5669280" y="22881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urchaseOrder.req(Po=o) 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req(To=o.Seller, From=o.Buyer, 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R(Po=o) )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rtTimer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22" name=""/>
            <p:cNvCxnSpPr>
              <a:stCxn id="718" idx="6"/>
              <a:endCxn id="718" idx="5"/>
            </p:cNvCxnSpPr>
            <p:nvPr/>
          </p:nvCxnSpPr>
          <p:spPr>
            <a:xfrm flipH="1">
              <a:off x="5724000" y="2543400"/>
              <a:ext cx="15120" cy="21600"/>
            </a:xfrm>
            <a:prstGeom prst="curvedConnector5">
              <a:avLst>
                <a:gd name="adj1" fmla="val -719512"/>
                <a:gd name="adj2" fmla="val 220338"/>
                <a:gd name="adj3" fmla="val -71951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23" name=""/>
            <p:cNvSpPr/>
            <p:nvPr/>
          </p:nvSpPr>
          <p:spPr>
            <a:xfrm>
              <a:off x="5837040" y="260388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meOut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req(To=o.Seller, From=o.Buyer,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R(o) );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rtTimer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cxnSp>
          <p:nvCxnSpPr>
            <p:cNvPr id="724" name=""/>
            <p:cNvCxnSpPr>
              <a:stCxn id="718" idx="4"/>
              <a:endCxn id="719" idx="0"/>
            </p:cNvCxnSpPr>
            <p:nvPr/>
          </p:nvCxnSpPr>
          <p:spPr>
            <a:xfrm>
              <a:off x="5688720" y="2572200"/>
              <a:ext cx="1080" cy="511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25" name=""/>
            <p:cNvCxnSpPr>
              <a:stCxn id="719" idx="6"/>
              <a:endCxn id="719" idx="5"/>
            </p:cNvCxnSpPr>
            <p:nvPr/>
          </p:nvCxnSpPr>
          <p:spPr>
            <a:xfrm flipH="1">
              <a:off x="5724000" y="3114000"/>
              <a:ext cx="15120" cy="21600"/>
            </a:xfrm>
            <a:prstGeom prst="curvedConnector5">
              <a:avLst>
                <a:gd name="adj1" fmla="val -719512"/>
                <a:gd name="adj2" fmla="val 220338"/>
                <a:gd name="adj3" fmla="val -719512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26" name=""/>
            <p:cNvSpPr/>
            <p:nvPr/>
          </p:nvSpPr>
          <p:spPr>
            <a:xfrm>
              <a:off x="5573880" y="3202200"/>
              <a:ext cx="17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.ind(From=o.Seller, To= o.Buyer,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g=POA(Po=o,Acc=a) ) 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/Ignore duplicates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5320" y="1928880"/>
              <a:ext cx="612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yer(Po=o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29480" y="1954800"/>
              <a:ext cx="759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uard </a:t>
              </a:r>
              <a:r>
                <a:rPr b="1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ction(s)</a:t>
              </a:r>
              <a:endParaRPr b="0" lang="en-US" sz="6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324080" y="5300640"/>
            <a:ext cx="88920" cy="889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M0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0" name=""/>
          <p:cNvSpPr/>
          <p:nvPr/>
        </p:nvSpPr>
        <p:spPr>
          <a:xfrm>
            <a:off x="1324080" y="5656320"/>
            <a:ext cx="88920" cy="889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M1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1" name=""/>
          <p:cNvSpPr/>
          <p:nvPr/>
        </p:nvSpPr>
        <p:spPr>
          <a:xfrm>
            <a:off x="1324080" y="6056280"/>
            <a:ext cx="88920" cy="889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M2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732" name=""/>
          <p:cNvCxnSpPr>
            <a:stCxn id="729" idx="4"/>
            <a:endCxn id="730" idx="0"/>
          </p:cNvCxnSpPr>
          <p:nvPr/>
        </p:nvCxnSpPr>
        <p:spPr>
          <a:xfrm>
            <a:off x="1368000" y="5389200"/>
            <a:ext cx="1080" cy="267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30" idx="4"/>
            <a:endCxn id="731" idx="0"/>
          </p:cNvCxnSpPr>
          <p:nvPr/>
        </p:nvCxnSpPr>
        <p:spPr>
          <a:xfrm>
            <a:off x="1368000" y="5745240"/>
            <a:ext cx="108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1363680" y="5423040"/>
            <a:ext cx="1530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_x(P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_y(P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5" name=""/>
          <p:cNvSpPr/>
          <p:nvPr/>
        </p:nvSpPr>
        <p:spPr>
          <a:xfrm>
            <a:off x="1354680" y="5776920"/>
            <a:ext cx="162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_x(P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 /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_y(Poy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,Accept=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6" name=""/>
          <p:cNvSpPr/>
          <p:nvPr/>
        </p:nvSpPr>
        <p:spPr>
          <a:xfrm>
            <a:off x="1001160" y="4676760"/>
            <a:ext cx="8215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P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P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Accept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Accept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GB" sz="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GB" sz="600" spc="-1" strike="noStrike">
                <a:solidFill>
                  <a:srgbClr val="ffffff"/>
                </a:solidFill>
                <a:latin typeface="Futura Bk"/>
              </a:rPr>
              <a:t> 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Futura Bk"/>
              </a:rPr>
              <a:t>y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7" name=""/>
          <p:cNvSpPr/>
          <p:nvPr/>
        </p:nvSpPr>
        <p:spPr>
          <a:xfrm>
            <a:off x="1860480" y="4792680"/>
            <a:ext cx="49320" cy="185760"/>
          </a:xfrm>
          <a:custGeom>
            <a:avLst/>
            <a:gdLst>
              <a:gd name="textAreaLeft" fmla="*/ 0 w 49320"/>
              <a:gd name="textAreaRight" fmla="*/ 17640 w 49320"/>
              <a:gd name="textAreaTop" fmla="*/ 4680 h 185760"/>
              <a:gd name="textAreaBottom" fmla="*/ 18108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69"/>
                </a:lnTo>
                <a:cubicBezTo>
                  <a:pt x="10800" y="10269"/>
                  <a:pt x="16200" y="11169"/>
                  <a:pt x="21600" y="11169"/>
                </a:cubicBezTo>
                <a:cubicBezTo>
                  <a:pt x="16200" y="11169"/>
                  <a:pt x="10800" y="12069"/>
                  <a:pt x="10800" y="129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4960" bIns="849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8" name=""/>
          <p:cNvSpPr/>
          <p:nvPr/>
        </p:nvSpPr>
        <p:spPr>
          <a:xfrm>
            <a:off x="1860480" y="5022720"/>
            <a:ext cx="49320" cy="187560"/>
          </a:xfrm>
          <a:custGeom>
            <a:avLst/>
            <a:gdLst>
              <a:gd name="textAreaLeft" fmla="*/ 0 w 49320"/>
              <a:gd name="textAreaRight" fmla="*/ 17640 w 49320"/>
              <a:gd name="textAreaTop" fmla="*/ 4680 h 187560"/>
              <a:gd name="textAreaBottom" fmla="*/ 182880 h 1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69"/>
                </a:lnTo>
                <a:cubicBezTo>
                  <a:pt x="10800" y="10269"/>
                  <a:pt x="16200" y="11169"/>
                  <a:pt x="21600" y="11169"/>
                </a:cubicBezTo>
                <a:cubicBezTo>
                  <a:pt x="16200" y="11169"/>
                  <a:pt x="10800" y="12069"/>
                  <a:pt x="10800" y="129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86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9" name=""/>
          <p:cNvSpPr/>
          <p:nvPr/>
        </p:nvSpPr>
        <p:spPr>
          <a:xfrm>
            <a:off x="1954080" y="4761000"/>
            <a:ext cx="116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Futura Bk"/>
              </a:rPr>
              <a:t>Schema/Ontology Mapping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0" name=""/>
          <p:cNvSpPr/>
          <p:nvPr/>
        </p:nvSpPr>
        <p:spPr>
          <a:xfrm>
            <a:off x="1977480" y="5040360"/>
            <a:ext cx="82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Futura Bk"/>
              </a:rPr>
              <a:t>Instance Mapping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1" name=""/>
          <p:cNvSpPr/>
          <p:nvPr/>
        </p:nvSpPr>
        <p:spPr>
          <a:xfrm>
            <a:off x="2708280" y="4799160"/>
            <a:ext cx="46080" cy="401400"/>
          </a:xfrm>
          <a:custGeom>
            <a:avLst/>
            <a:gdLst>
              <a:gd name="textAreaLeft" fmla="*/ 0 w 46080"/>
              <a:gd name="textAreaRight" fmla="*/ 16560 w 46080"/>
              <a:gd name="textAreaTop" fmla="*/ 10440 h 401400"/>
              <a:gd name="textAreaBottom" fmla="*/ 39096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2" name=""/>
          <p:cNvSpPr/>
          <p:nvPr/>
        </p:nvSpPr>
        <p:spPr>
          <a:xfrm>
            <a:off x="2765160" y="4917960"/>
            <a:ext cx="73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Futura Bk"/>
              </a:rPr>
              <a:t>Data Mediation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3" name=""/>
          <p:cNvSpPr/>
          <p:nvPr/>
        </p:nvSpPr>
        <p:spPr>
          <a:xfrm>
            <a:off x="3262320" y="6056280"/>
            <a:ext cx="189000" cy="10152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Protocol X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4" name=""/>
          <p:cNvSpPr/>
          <p:nvPr/>
        </p:nvSpPr>
        <p:spPr>
          <a:xfrm>
            <a:off x="3479760" y="6056280"/>
            <a:ext cx="187200" cy="10152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Protocol Y</a:t>
            </a:r>
            <a:br>
              <a:rPr sz="600"/>
            </a:b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745" name=""/>
          <p:cNvCxnSpPr>
            <a:endCxn id="743" idx="1"/>
          </p:cNvCxnSpPr>
          <p:nvPr/>
        </p:nvCxnSpPr>
        <p:spPr>
          <a:xfrm flipV="1">
            <a:off x="3095280" y="6106320"/>
            <a:ext cx="167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746" name=""/>
          <p:cNvCxnSpPr>
            <a:stCxn id="744" idx="3"/>
          </p:cNvCxnSpPr>
          <p:nvPr/>
        </p:nvCxnSpPr>
        <p:spPr>
          <a:xfrm>
            <a:off x="3666600" y="6106680"/>
            <a:ext cx="167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747" name=""/>
          <p:cNvSpPr/>
          <p:nvPr/>
        </p:nvSpPr>
        <p:spPr>
          <a:xfrm>
            <a:off x="3262320" y="5925960"/>
            <a:ext cx="406440" cy="716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Mediator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8" name=""/>
          <p:cNvSpPr/>
          <p:nvPr/>
        </p:nvSpPr>
        <p:spPr>
          <a:xfrm>
            <a:off x="3363840" y="5997600"/>
            <a:ext cx="0" cy="58680"/>
          </a:xfrm>
          <a:prstGeom prst="line">
            <a:avLst/>
          </a:prstGeom>
          <a:ln w="936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9" name=""/>
          <p:cNvSpPr/>
          <p:nvPr/>
        </p:nvSpPr>
        <p:spPr>
          <a:xfrm>
            <a:off x="3581280" y="5997600"/>
            <a:ext cx="0" cy="58680"/>
          </a:xfrm>
          <a:prstGeom prst="line">
            <a:avLst/>
          </a:prstGeom>
          <a:ln w="936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0" name=""/>
          <p:cNvSpPr/>
          <p:nvPr/>
        </p:nvSpPr>
        <p:spPr>
          <a:xfrm>
            <a:off x="3147840" y="6027840"/>
            <a:ext cx="640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1" name=""/>
          <p:cNvSpPr/>
          <p:nvPr/>
        </p:nvSpPr>
        <p:spPr>
          <a:xfrm>
            <a:off x="2355840" y="5607000"/>
            <a:ext cx="195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o.ind_x(Po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 -&gt; po.req_y(Po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br>
              <a:rPr sz="600"/>
            </a:b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po.conf_y(Po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 -&gt; po.resp(Po=o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DFCF-F07F-42AF-813B-88C27F8570C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33F1968-0BB6-4297-8DA4-EEEFDA078F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Key Ideas/Principle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6600" y="1273320"/>
            <a:ext cx="839448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 fontScale="99000"/>
          </a:bodyPr>
          <a:p>
            <a:pPr marL="222840" indent="-22284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Separate the ‘what’ from the ‘how’ – abstraction from mechanism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-22284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Mediate the ‘whats’ – ie. relay meaning/effect (service primitives) not messages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-22284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For a protocol the ‘what’ can be modelled as abstract service primitives (cf. IEEE/OSI protocol service defns)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22840" indent="-222840">
              <a:lnSpc>
                <a:spcPct val="7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Hypothesis: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66560" indent="-2419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Bk"/>
              </a:rPr>
              <a:t>To enable automated Process Mediation… Semantic Web Service Descriptions need to contain: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46656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693000" indent="-212400">
              <a:lnSpc>
                <a:spcPct val="70000"/>
              </a:lnSpc>
              <a:spcBef>
                <a:spcPts val="275"/>
              </a:spcBef>
              <a:spcAft>
                <a:spcPts val="825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An abstraction of ‘what’ a service does – service primitives and the effect of their invocation on some shared model of the ‘world’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2" marL="693000" indent="-212400">
              <a:lnSpc>
                <a:spcPct val="70000"/>
              </a:lnSpc>
              <a:spcBef>
                <a:spcPts val="275"/>
              </a:spcBef>
              <a:spcAft>
                <a:spcPts val="825"/>
              </a:spcAft>
              <a:buClr>
                <a:srgbClr val="ffffff"/>
              </a:buClr>
              <a:buSzPct val="85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Futura Bk"/>
              </a:rPr>
              <a:t>A description of ‘how’ a protocol does ‘what’ it does – protocol mechanisms ie. rules for message exchanges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9DEC-EF95-4F61-9502-2993EF47A9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60145C-B859-44C0-BCD0-E0EA7978068C}" type="datetime3">
              <a:rPr lang="en-US"/>
              <a:t>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Hv"/>
              </a:rPr>
              <a:t>Exploration inspired by scenario in WSMF whitepaper</a:t>
            </a:r>
            <a:endParaRPr b="0" lang="en-US" sz="2600" spc="-1" strike="noStrike">
              <a:solidFill>
                <a:srgbClr val="ffffff"/>
              </a:solidFill>
              <a:latin typeface="Futura Hv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81080" y="1798560"/>
            <a:ext cx="6904080" cy="42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2613-5C88-4F47-8267-586AEF299C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A81D81-1926-4824-A442-FEC9123FCE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54360" y="2797200"/>
            <a:ext cx="54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"/>
          <p:cNvSpPr/>
          <p:nvPr/>
        </p:nvSpPr>
        <p:spPr>
          <a:xfrm>
            <a:off x="2100240" y="3105000"/>
            <a:ext cx="1230480" cy="5540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"/>
          <p:cNvSpPr/>
          <p:nvPr/>
        </p:nvSpPr>
        <p:spPr>
          <a:xfrm>
            <a:off x="5113440" y="3105000"/>
            <a:ext cx="1230120" cy="55404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3" name=""/>
          <p:cNvSpPr/>
          <p:nvPr/>
        </p:nvSpPr>
        <p:spPr>
          <a:xfrm>
            <a:off x="1854360" y="3903840"/>
            <a:ext cx="547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>
            <a:off x="3330720" y="3381120"/>
            <a:ext cx="1783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6783480" y="3867120"/>
            <a:ext cx="139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essagin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ervic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(msg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"/>
          <p:cNvSpPr/>
          <p:nvPr/>
        </p:nvSpPr>
        <p:spPr>
          <a:xfrm>
            <a:off x="6465960" y="2793960"/>
            <a:ext cx="139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ervic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(purchaseOrder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7" name=""/>
          <p:cNvSpPr/>
          <p:nvPr/>
        </p:nvSpPr>
        <p:spPr>
          <a:xfrm>
            <a:off x="3814560" y="2932200"/>
            <a:ext cx="8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ssag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"/>
          <p:cNvSpPr/>
          <p:nvPr/>
        </p:nvSpPr>
        <p:spPr>
          <a:xfrm>
            <a:off x="2430360" y="2381400"/>
            <a:ext cx="0" cy="71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35440" y="2381040"/>
            <a:ext cx="0" cy="71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"/>
          <p:cNvSpPr/>
          <p:nvPr/>
        </p:nvSpPr>
        <p:spPr>
          <a:xfrm>
            <a:off x="1854360" y="1444680"/>
            <a:ext cx="1658880" cy="9842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artner 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1" name=""/>
          <p:cNvSpPr/>
          <p:nvPr/>
        </p:nvSpPr>
        <p:spPr>
          <a:xfrm>
            <a:off x="2934000" y="240192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"/>
          <p:cNvSpPr/>
          <p:nvPr/>
        </p:nvSpPr>
        <p:spPr>
          <a:xfrm>
            <a:off x="1658880" y="2401920"/>
            <a:ext cx="8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"/>
          <p:cNvSpPr/>
          <p:nvPr/>
        </p:nvSpPr>
        <p:spPr>
          <a:xfrm>
            <a:off x="5454720" y="2381400"/>
            <a:ext cx="0" cy="71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2381040"/>
            <a:ext cx="0" cy="71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5" name=""/>
          <p:cNvSpPr/>
          <p:nvPr/>
        </p:nvSpPr>
        <p:spPr>
          <a:xfrm>
            <a:off x="5959440" y="2340000"/>
            <a:ext cx="8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/>
          <p:nvPr/>
        </p:nvSpPr>
        <p:spPr>
          <a:xfrm>
            <a:off x="4575240" y="2401920"/>
            <a:ext cx="95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"/>
          <p:cNvSpPr/>
          <p:nvPr/>
        </p:nvSpPr>
        <p:spPr>
          <a:xfrm>
            <a:off x="4867200" y="1444680"/>
            <a:ext cx="1660680" cy="9842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artner 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"/>
          <p:cNvSpPr/>
          <p:nvPr/>
        </p:nvSpPr>
        <p:spPr>
          <a:xfrm>
            <a:off x="2430360" y="367668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9" name=""/>
          <p:cNvSpPr/>
          <p:nvPr/>
        </p:nvSpPr>
        <p:spPr>
          <a:xfrm>
            <a:off x="5454720" y="367668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35440" y="367632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959440" y="367632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"/>
          <p:cNvSpPr/>
          <p:nvPr/>
        </p:nvSpPr>
        <p:spPr>
          <a:xfrm>
            <a:off x="1627200" y="3965400"/>
            <a:ext cx="8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3" name=""/>
          <p:cNvSpPr/>
          <p:nvPr/>
        </p:nvSpPr>
        <p:spPr>
          <a:xfrm>
            <a:off x="2935440" y="403704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/>
          <p:nvPr/>
        </p:nvSpPr>
        <p:spPr>
          <a:xfrm>
            <a:off x="5888160" y="39654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"/>
          <p:cNvSpPr/>
          <p:nvPr/>
        </p:nvSpPr>
        <p:spPr>
          <a:xfrm>
            <a:off x="4691160" y="396540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21160" y="4416480"/>
            <a:ext cx="2431080" cy="1814760"/>
            <a:chOff x="821160" y="4416480"/>
            <a:chExt cx="2431080" cy="1814760"/>
          </a:xfrm>
        </p:grpSpPr>
        <p:sp>
          <p:nvSpPr>
            <p:cNvPr id="117" name=""/>
            <p:cNvSpPr/>
            <p:nvPr/>
          </p:nvSpPr>
          <p:spPr>
            <a:xfrm>
              <a:off x="1567080" y="4611600"/>
              <a:ext cx="0" cy="122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59080" y="4611600"/>
              <a:ext cx="0" cy="122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5080" y="4683240"/>
              <a:ext cx="432000" cy="142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59080" y="5043600"/>
              <a:ext cx="431640" cy="142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358720" y="5332320"/>
              <a:ext cx="43164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135080" y="5619600"/>
              <a:ext cx="432000" cy="14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0160" y="44164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.request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18040" y="484812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.indication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99400" y="535320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.response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02880" y="571356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.confirm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8360" y="4683240"/>
              <a:ext cx="0" cy="36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2040" y="47052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1160" y="5954760"/>
              <a:ext cx="216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 Primitive Sequencing</a:t>
              </a:r>
              <a:endParaRPr b="0" lang="en-US" sz="12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Basic Model of Interaction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31" name=""/>
          <p:cNvSpPr/>
          <p:nvPr/>
        </p:nvSpPr>
        <p:spPr>
          <a:xfrm>
            <a:off x="3687840" y="4619520"/>
            <a:ext cx="500544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purchaseOrder.request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purchaseOrder.indication(Po=o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purchaseOrder.response(Po=o, Accept=a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purchaseOrder.confirm(Po=o,Accept=a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msg.request(To=t,From=f,Msg=m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utura Bk"/>
              </a:rPr>
              <a:t>msg.indication(To=t,From=f,Msg=m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5B51-870F-4453-B9F1-AE404B8FF5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9F361B6-9871-41F0-897F-C49295A634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Hv"/>
              </a:rPr>
              <a:t>Service Primitive Semantics – effects on partial shared state.</a:t>
            </a:r>
            <a:endParaRPr b="0" lang="en-US" sz="26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33" name=""/>
          <p:cNvSpPr/>
          <p:nvPr/>
        </p:nvSpPr>
        <p:spPr>
          <a:xfrm>
            <a:off x="2063880" y="217980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/>
          <p:nvPr/>
        </p:nvSpPr>
        <p:spPr>
          <a:xfrm>
            <a:off x="2063880" y="297180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"/>
          <p:cNvSpPr/>
          <p:nvPr/>
        </p:nvSpPr>
        <p:spPr>
          <a:xfrm>
            <a:off x="1128600" y="50608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2928960" y="513252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137" name=""/>
          <p:cNvCxnSpPr>
            <a:stCxn id="133" idx="4"/>
            <a:endCxn id="134" idx="0"/>
          </p:cNvCxnSpPr>
          <p:nvPr/>
        </p:nvCxnSpPr>
        <p:spPr>
          <a:xfrm>
            <a:off x="2244240" y="2539800"/>
            <a:ext cx="108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068560" y="433080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258588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"/>
          <p:cNvSpPr/>
          <p:nvPr/>
        </p:nvSpPr>
        <p:spPr>
          <a:xfrm>
            <a:off x="1487520" y="57801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yer Side Primitive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23056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/>
          <p:nvPr/>
        </p:nvSpPr>
        <p:spPr>
          <a:xfrm>
            <a:off x="7597800" y="298620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"/>
          <p:cNvSpPr/>
          <p:nvPr/>
        </p:nvSpPr>
        <p:spPr>
          <a:xfrm>
            <a:off x="5797440" y="511164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"/>
          <p:cNvSpPr/>
          <p:nvPr/>
        </p:nvSpPr>
        <p:spPr>
          <a:xfrm>
            <a:off x="7597800" y="518328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3814920"/>
            <a:ext cx="360360" cy="3603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/>
          <p:nvPr/>
        </p:nvSpPr>
        <p:spPr>
          <a:xfrm>
            <a:off x="5048280" y="3141720"/>
            <a:ext cx="19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"/>
          <p:cNvSpPr/>
          <p:nvPr/>
        </p:nvSpPr>
        <p:spPr>
          <a:xfrm>
            <a:off x="4751280" y="424656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"/>
          <p:cNvSpPr/>
          <p:nvPr/>
        </p:nvSpPr>
        <p:spPr>
          <a:xfrm>
            <a:off x="181080" y="3873600"/>
            <a:ext cx="206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583092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ller Side Primitive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150" name=""/>
          <p:cNvCxnSpPr>
            <a:stCxn id="141" idx="4"/>
            <a:endCxn id="145" idx="0"/>
          </p:cNvCxnSpPr>
          <p:nvPr/>
        </p:nvCxnSpPr>
        <p:spPr>
          <a:xfrm flipV="1" rot="10800000">
            <a:off x="6912720" y="2590560"/>
            <a:ext cx="1080" cy="12247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4" idx="5"/>
            <a:endCxn id="136" idx="0"/>
          </p:cNvCxnSpPr>
          <p:nvPr/>
        </p:nvCxnSpPr>
        <p:spPr>
          <a:xfrm flipH="1" rot="16200000">
            <a:off x="1813320" y="3836520"/>
            <a:ext cx="1853640" cy="739080"/>
          </a:xfrm>
          <a:prstGeom prst="curvedConnector5">
            <a:avLst>
              <a:gd name="adj1" fmla="val 51398"/>
              <a:gd name="adj2" fmla="val 50000"/>
              <a:gd name="adj3" fmla="val 5139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4" idx="3"/>
            <a:endCxn id="135" idx="0"/>
          </p:cNvCxnSpPr>
          <p:nvPr/>
        </p:nvCxnSpPr>
        <p:spPr>
          <a:xfrm rot="5400000">
            <a:off x="821520" y="3767040"/>
            <a:ext cx="1782000" cy="807120"/>
          </a:xfrm>
          <a:prstGeom prst="curvedConnector5">
            <a:avLst>
              <a:gd name="adj1" fmla="val 51424"/>
              <a:gd name="adj2" fmla="val 49977"/>
              <a:gd name="adj3" fmla="val 514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498040" y="1425600"/>
            <a:ext cx="378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 = Unknow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 = Sent (Buy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 = Received by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= Accepted by Seller (Buyer and Sell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 = Rejected by Seller (No Commitment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/>
          <p:nvPr/>
        </p:nvSpPr>
        <p:spPr>
          <a:xfrm>
            <a:off x="7088760" y="433080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155" name=""/>
          <p:cNvCxnSpPr>
            <a:stCxn id="145" idx="3"/>
            <a:endCxn id="143" idx="0"/>
          </p:cNvCxnSpPr>
          <p:nvPr/>
        </p:nvCxnSpPr>
        <p:spPr>
          <a:xfrm rot="5400000">
            <a:off x="5886720" y="4213440"/>
            <a:ext cx="989280" cy="807120"/>
          </a:xfrm>
          <a:prstGeom prst="curvedConnector5">
            <a:avLst>
              <a:gd name="adj1" fmla="val 52639"/>
              <a:gd name="adj2" fmla="val 49977"/>
              <a:gd name="adj3" fmla="val 526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5" idx="5"/>
            <a:endCxn id="144" idx="0"/>
          </p:cNvCxnSpPr>
          <p:nvPr/>
        </p:nvCxnSpPr>
        <p:spPr>
          <a:xfrm flipH="1" rot="16200000">
            <a:off x="6878520" y="4283640"/>
            <a:ext cx="1061280" cy="739080"/>
          </a:xfrm>
          <a:prstGeom prst="curvedConnector5">
            <a:avLst>
              <a:gd name="adj1" fmla="val 52392"/>
              <a:gd name="adj2" fmla="val 50000"/>
              <a:gd name="adj3" fmla="val 523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32240" y="3619440"/>
            <a:ext cx="18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2653-225E-4969-8365-30CE45DD95F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F00D25A-B12F-483B-8AD2-FE8826B747F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Shared Perceptions of State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9" name=""/>
          <p:cNvSpPr/>
          <p:nvPr/>
        </p:nvSpPr>
        <p:spPr>
          <a:xfrm>
            <a:off x="3651120" y="1998720"/>
            <a:ext cx="368280" cy="26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|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"/>
          <p:cNvSpPr/>
          <p:nvPr/>
        </p:nvSpPr>
        <p:spPr>
          <a:xfrm>
            <a:off x="3651120" y="2579760"/>
            <a:ext cx="368280" cy="2109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U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"/>
          <p:cNvSpPr/>
          <p:nvPr/>
        </p:nvSpPr>
        <p:spPr>
          <a:xfrm>
            <a:off x="4019400" y="3160800"/>
            <a:ext cx="368280" cy="210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B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/>
          <p:nvPr/>
        </p:nvSpPr>
        <p:spPr>
          <a:xfrm>
            <a:off x="4678200" y="4686480"/>
            <a:ext cx="370080" cy="21096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|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"/>
          <p:cNvSpPr/>
          <p:nvPr/>
        </p:nvSpPr>
        <p:spPr>
          <a:xfrm>
            <a:off x="4678200" y="5692680"/>
            <a:ext cx="370080" cy="211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Re|R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"/>
          <p:cNvSpPr/>
          <p:nvPr/>
        </p:nvSpPr>
        <p:spPr>
          <a:xfrm>
            <a:off x="2724120" y="4581360"/>
            <a:ext cx="368280" cy="2113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|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"/>
          <p:cNvSpPr/>
          <p:nvPr/>
        </p:nvSpPr>
        <p:spPr>
          <a:xfrm>
            <a:off x="2724120" y="5692680"/>
            <a:ext cx="368280" cy="211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|A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166" name=""/>
          <p:cNvCxnSpPr>
            <a:stCxn id="159" idx="4"/>
            <a:endCxn id="160" idx="0"/>
          </p:cNvCxnSpPr>
          <p:nvPr/>
        </p:nvCxnSpPr>
        <p:spPr>
          <a:xfrm flipV="1" rot="10800000">
            <a:off x="3836160" y="2263320"/>
            <a:ext cx="1080" cy="3168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8" idx="3"/>
            <a:endCxn id="164" idx="0"/>
          </p:cNvCxnSpPr>
          <p:nvPr/>
        </p:nvCxnSpPr>
        <p:spPr>
          <a:xfrm rot="5400000">
            <a:off x="3002040" y="3879000"/>
            <a:ext cx="608400" cy="797400"/>
          </a:xfrm>
          <a:prstGeom prst="curvedConnector5">
            <a:avLst>
              <a:gd name="adj1" fmla="val 52457"/>
              <a:gd name="adj2" fmla="val 50000"/>
              <a:gd name="adj3" fmla="val 5245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8" idx="5"/>
            <a:endCxn id="162" idx="0"/>
          </p:cNvCxnSpPr>
          <p:nvPr/>
        </p:nvCxnSpPr>
        <p:spPr>
          <a:xfrm flipH="1" rot="16200000">
            <a:off x="4058280" y="3880440"/>
            <a:ext cx="713520" cy="899280"/>
          </a:xfrm>
          <a:prstGeom prst="curvedConnector5">
            <a:avLst>
              <a:gd name="adj1" fmla="val 52094"/>
              <a:gd name="adj2" fmla="val 49979"/>
              <a:gd name="adj3" fmla="val 52094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4" idx="4"/>
            <a:endCxn id="165" idx="0"/>
          </p:cNvCxnSpPr>
          <p:nvPr/>
        </p:nvCxnSpPr>
        <p:spPr>
          <a:xfrm flipV="1" rot="10800000">
            <a:off x="2907720" y="4792320"/>
            <a:ext cx="1080" cy="90072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2" idx="4"/>
            <a:endCxn id="163" idx="0"/>
          </p:cNvCxnSpPr>
          <p:nvPr/>
        </p:nvCxnSpPr>
        <p:spPr>
          <a:xfrm flipV="1" rot="10800000">
            <a:off x="4863240" y="4897080"/>
            <a:ext cx="1080" cy="7959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0" idx="4"/>
            <a:endCxn id="168" idx="0"/>
          </p:cNvCxnSpPr>
          <p:nvPr/>
        </p:nvCxnSpPr>
        <p:spPr>
          <a:xfrm flipV="1" rot="10800000">
            <a:off x="3834720" y="2790000"/>
            <a:ext cx="1080" cy="1003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651120" y="3794040"/>
            <a:ext cx="368280" cy="2095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B|Rx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3" name=""/>
          <p:cNvSpPr/>
          <p:nvPr/>
        </p:nvSpPr>
        <p:spPr>
          <a:xfrm>
            <a:off x="4757040" y="1757520"/>
            <a:ext cx="3786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 = Unknow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 = Sent (Buy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x = Received by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= Accepted by Seller (Buyer and Seller Committed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 = Rejected by Seller (No Commitments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yer | Seller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"/>
          <p:cNvSpPr/>
          <p:nvPr/>
        </p:nvSpPr>
        <p:spPr>
          <a:xfrm>
            <a:off x="2098080" y="230508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"/>
          <p:cNvSpPr/>
          <p:nvPr/>
        </p:nvSpPr>
        <p:spPr>
          <a:xfrm>
            <a:off x="1963800" y="30970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"/>
          <p:cNvSpPr/>
          <p:nvPr/>
        </p:nvSpPr>
        <p:spPr>
          <a:xfrm>
            <a:off x="1506960" y="405936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7" name=""/>
          <p:cNvSpPr/>
          <p:nvPr/>
        </p:nvSpPr>
        <p:spPr>
          <a:xfrm>
            <a:off x="4861800" y="499104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5016600"/>
            <a:ext cx="18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confirm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tru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"/>
          <p:cNvSpPr/>
          <p:nvPr/>
        </p:nvSpPr>
        <p:spPr>
          <a:xfrm>
            <a:off x="4756680" y="4059360"/>
            <a:ext cx="187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urchaseOrder.respons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[Accept=false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CACA-02FA-4873-B3FC-C5F4B92CBD9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D2721C5-D2BD-4F31-8931-87134D858A7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Message Channel Assumption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9800" y="1320480"/>
            <a:ext cx="4120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137160" bIns="0" anchor="t">
            <a:normAutofit fontScale="94000"/>
          </a:bodyPr>
          <a:p>
            <a:pPr marL="211680" indent="-211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Fire and forget”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Delivery Characteristics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Reliability? 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Ordering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Single/Multiple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Bounded Lifetime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Status Reporting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None 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Failure to send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lvl="1" marL="443160" indent="-229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Failure to deliver?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  <a:p>
            <a:pPr marL="211680" indent="-21168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SzPct val="80000"/>
              <a:buFont typeface="Futura Bk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utura Bk"/>
              </a:rPr>
              <a:t>Protocol design must be robust to channel characteristics.</a:t>
            </a:r>
            <a:endParaRPr b="0" lang="en-US" sz="2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/>
          <p:nvPr/>
        </p:nvSpPr>
        <p:spPr>
          <a:xfrm>
            <a:off x="419040" y="3354480"/>
            <a:ext cx="2889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3416400"/>
            <a:ext cx="139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Messagin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Service Primitives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(msg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"/>
          <p:cNvSpPr/>
          <p:nvPr/>
        </p:nvSpPr>
        <p:spPr>
          <a:xfrm>
            <a:off x="1434960" y="312732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940040" y="3126960"/>
            <a:ext cx="0" cy="576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"/>
          <p:cNvSpPr/>
          <p:nvPr/>
        </p:nvSpPr>
        <p:spPr>
          <a:xfrm>
            <a:off x="1868400" y="341640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indica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"/>
          <p:cNvSpPr/>
          <p:nvPr/>
        </p:nvSpPr>
        <p:spPr>
          <a:xfrm>
            <a:off x="638280" y="341640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requ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CFCA-17B9-49D1-819B-097D2F0071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21A894-DF93-46A1-988A-BF6F5619D85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49280" y="1523880"/>
            <a:ext cx="1297080" cy="5749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rtner 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uye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9" name=""/>
          <p:cNvSpPr/>
          <p:nvPr/>
        </p:nvSpPr>
        <p:spPr>
          <a:xfrm>
            <a:off x="1530360" y="3468600"/>
            <a:ext cx="934920" cy="503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X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"/>
          <p:cNvSpPr/>
          <p:nvPr/>
        </p:nvSpPr>
        <p:spPr>
          <a:xfrm>
            <a:off x="3295800" y="3467160"/>
            <a:ext cx="934920" cy="503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X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4375080" y="3467160"/>
            <a:ext cx="935280" cy="503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6138720" y="3468600"/>
            <a:ext cx="935280" cy="50328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otocol 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193" name=""/>
          <p:cNvCxnSpPr>
            <a:stCxn id="189" idx="3"/>
            <a:endCxn id="190" idx="1"/>
          </p:cNvCxnSpPr>
          <p:nvPr/>
        </p:nvCxnSpPr>
        <p:spPr>
          <a:xfrm flipV="1">
            <a:off x="2464920" y="3719160"/>
            <a:ext cx="8312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91" idx="3"/>
            <a:endCxn id="192" idx="1"/>
          </p:cNvCxnSpPr>
          <p:nvPr/>
        </p:nvCxnSpPr>
        <p:spPr>
          <a:xfrm>
            <a:off x="5310000" y="3719520"/>
            <a:ext cx="8290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88" idx="4"/>
            <a:endCxn id="189" idx="0"/>
          </p:cNvCxnSpPr>
          <p:nvPr/>
        </p:nvCxnSpPr>
        <p:spPr>
          <a:xfrm>
            <a:off x="1998360" y="2098440"/>
            <a:ext cx="1080" cy="137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3295800" y="2819520"/>
            <a:ext cx="2016000" cy="358560"/>
          </a:xfrm>
          <a:prstGeom prst="rect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ediat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31780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/>
          <p:nvPr/>
        </p:nvSpPr>
        <p:spPr>
          <a:xfrm>
            <a:off x="4879800" y="31780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"/>
          <p:cNvSpPr/>
          <p:nvPr/>
        </p:nvSpPr>
        <p:spPr>
          <a:xfrm>
            <a:off x="5958000" y="1523880"/>
            <a:ext cx="1296720" cy="5749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rtner B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lle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cxnSp>
        <p:nvCxnSpPr>
          <p:cNvPr id="200" name=""/>
          <p:cNvCxnSpPr>
            <a:stCxn id="199" idx="4"/>
            <a:endCxn id="192" idx="0"/>
          </p:cNvCxnSpPr>
          <p:nvPr/>
        </p:nvCxnSpPr>
        <p:spPr>
          <a:xfrm>
            <a:off x="6606720" y="2098440"/>
            <a:ext cx="1080" cy="137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990720" y="3328920"/>
            <a:ext cx="70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>
            <a:off x="2719440" y="2314440"/>
            <a:ext cx="34560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o.ind_x(Po=o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-&gt; po.req_y(Po=o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po.conf_y(Po=o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) -&gt; po.resp(Po=o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,Acc=a</a:t>
            </a:r>
            <a:r>
              <a:rPr b="0" lang="en-GB" sz="1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39920" y="4245120"/>
            <a:ext cx="1564200" cy="2071800"/>
            <a:chOff x="2239920" y="4245120"/>
            <a:chExt cx="1564200" cy="2071800"/>
          </a:xfrm>
        </p:grpSpPr>
        <p:sp>
          <p:nvSpPr>
            <p:cNvPr id="204" name=""/>
            <p:cNvSpPr/>
            <p:nvPr/>
          </p:nvSpPr>
          <p:spPr>
            <a:xfrm>
              <a:off x="2355480" y="4270320"/>
              <a:ext cx="0" cy="176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34840" y="430668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55480" y="4486320"/>
              <a:ext cx="1179360" cy="7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355480" y="5783040"/>
              <a:ext cx="1179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75720" y="424512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14880" y="551808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(Po=x,Accept=?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9920" y="607068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1080" y="60706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2680" y="4829040"/>
            <a:ext cx="221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 = purchase order requ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 = purchase order acknowledg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943880" y="4259160"/>
            <a:ext cx="1661040" cy="2057760"/>
            <a:chOff x="4943880" y="4259160"/>
            <a:chExt cx="1661040" cy="2057760"/>
          </a:xfrm>
        </p:grpSpPr>
        <p:sp>
          <p:nvSpPr>
            <p:cNvPr id="214" name=""/>
            <p:cNvSpPr/>
            <p:nvPr/>
          </p:nvSpPr>
          <p:spPr>
            <a:xfrm>
              <a:off x="5130720" y="425916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95040" y="4259160"/>
              <a:ext cx="0" cy="17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0720" y="458316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37560" y="481500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32160" y="5446800"/>
              <a:ext cx="12639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30720" y="5662440"/>
              <a:ext cx="126396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34680" y="5276880"/>
              <a:ext cx="138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(Po=x,Accept=?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2680" y="432432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62120" y="4844880"/>
              <a:ext cx="11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7200" y="569268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A_ACK(Po=x)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0120" y="607068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b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3880" y="60706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b</a:t>
              </a:r>
              <a:endParaRPr b="0" lang="en-US" sz="10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541200" y="4665600"/>
            <a:ext cx="2529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 = purchase order requ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 = purchase order acknowledg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_ACK = acknowledge receipt of P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A_ACK = acknowledge receipt of POA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7680" y="194760"/>
            <a:ext cx="7332840" cy="822600"/>
          </a:xfrm>
          <a:prstGeom prst="rect">
            <a:avLst/>
          </a:prstGeom>
          <a:solidFill>
            <a:srgbClr val="215e9b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utura Hv"/>
              </a:rPr>
              <a:t>Mediation by Relaying Service Primitives</a:t>
            </a:r>
            <a:endParaRPr b="0" lang="en-US" sz="3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9469-9E42-4379-8958-623B26B5902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8368629-C06F-4698-BA86-370981FF49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09:47:44Z</dcterms:created>
  <dc:creator>Stuart Williams</dc:creator>
  <dc:description>rev. 4 - 4/18/03
© 2003 Hewlett-Packard Development Company. L.P.
The information contained herein is subject to change without notice</dc:description>
  <dc:language>en-US</dc:language>
  <cp:lastModifiedBy>Stuart Williams</cp:lastModifiedBy>
  <cp:lastPrinted>2003-04-17T16:43:04Z</cp:lastPrinted>
  <dcterms:modified xsi:type="dcterms:W3CDTF">2003-06-18T12:01:24Z</dcterms:modified>
  <cp:revision>20</cp:revision>
  <dc:subject/>
  <dc:title>Process Mediation</dc:title>
</cp:coreProperties>
</file>