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CEA-39E3-43D2-98B3-7E815C97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DD3-87ED-47E3-94A0-B596209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C8D-A642-4FA6-9B7C-69EE32A6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312-4883-4153-9718-AAF936A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629-F031-4BB7-841C-881EB749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A1B-357A-4ADA-A61B-4F5EC23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D5B-21EF-4309-979E-C088695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72C-A862-4FB5-BE1C-6C9F617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A41-B0CC-4BD6-B9C7-7AC4A5C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DBE-BCD5-4B39-87AB-D7229DC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D00-8C66-46EB-9D69-15E225F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E28-34B3-48CE-A2D8-EC85969F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54B7-9EF1-424F-87A6-E07C94826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@NY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Preliminary Agen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’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defining a few critical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Match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y and Mapping Lookup/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ctment/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 Functional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e and Match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Enac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, Status, Response,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and Con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, Authorization, Privacy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relationship modeling,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generation, status, resurection,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582040" cy="613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7480" y="5232240"/>
            <a:ext cx="7975800" cy="102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160" y="652320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 1: Basic DAML-S Us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3352680"/>
            <a:ext cx="189216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200400"/>
            <a:ext cx="175248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8120" y="582480"/>
            <a:ext cx="2438640" cy="17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791320" y="2057400"/>
            <a:ext cx="2777040" cy="1295280"/>
            <a:chOff x="5791320" y="2057400"/>
            <a:chExt cx="2777040" cy="1295280"/>
          </a:xfrm>
        </p:grpSpPr>
        <p:sp>
          <p:nvSpPr>
            <p:cNvPr id="70" name=""/>
            <p:cNvSpPr/>
            <p:nvPr/>
          </p:nvSpPr>
          <p:spPr>
            <a:xfrm flipH="1" flipV="1">
              <a:off x="5791320" y="2057400"/>
              <a:ext cx="129528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5560" y="2286000"/>
              <a:ext cx="224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1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Advertise Service Pro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765080" y="2057400"/>
            <a:ext cx="2197440" cy="1447920"/>
            <a:chOff x="1765080" y="2057400"/>
            <a:chExt cx="2197440" cy="1447920"/>
          </a:xfrm>
        </p:grpSpPr>
        <p:sp>
          <p:nvSpPr>
            <p:cNvPr id="73" name=""/>
            <p:cNvSpPr/>
            <p:nvPr/>
          </p:nvSpPr>
          <p:spPr>
            <a:xfrm flipV="1">
              <a:off x="2286000" y="2057400"/>
              <a:ext cx="1676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5080" y="2087640"/>
              <a:ext cx="193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2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Issue Service Qu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(Profile for Goal 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81120" y="2209680"/>
            <a:ext cx="3537000" cy="1419480"/>
            <a:chOff x="2481120" y="2209680"/>
            <a:chExt cx="3537000" cy="1419480"/>
          </a:xfrm>
        </p:grpSpPr>
        <p:sp>
          <p:nvSpPr>
            <p:cNvPr id="76" name=""/>
            <p:cNvSpPr/>
            <p:nvPr/>
          </p:nvSpPr>
          <p:spPr>
            <a:xfrm flipH="1">
              <a:off x="2481120" y="2209680"/>
              <a:ext cx="1633680" cy="141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3040" y="2557440"/>
              <a:ext cx="257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3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Return Match Candi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(Profiles w. Service Model UR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5867280"/>
            <a:ext cx="21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orldWide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362680" y="4754520"/>
            <a:ext cx="3714120" cy="662040"/>
            <a:chOff x="2362680" y="4754520"/>
            <a:chExt cx="3714120" cy="662040"/>
          </a:xfrm>
        </p:grpSpPr>
        <p:sp>
          <p:nvSpPr>
            <p:cNvPr id="80" name=""/>
            <p:cNvSpPr/>
            <p:nvPr/>
          </p:nvSpPr>
          <p:spPr>
            <a:xfrm>
              <a:off x="2602080" y="4754520"/>
              <a:ext cx="347472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2680" y="4876920"/>
              <a:ext cx="209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(5a) Get Service Model 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67240" y="3581280"/>
            <a:ext cx="4043160" cy="343080"/>
            <a:chOff x="2667240" y="3581280"/>
            <a:chExt cx="4043160" cy="343080"/>
          </a:xfrm>
        </p:grpSpPr>
        <p:sp>
          <p:nvSpPr>
            <p:cNvPr id="83" name=""/>
            <p:cNvSpPr/>
            <p:nvPr/>
          </p:nvSpPr>
          <p:spPr>
            <a:xfrm>
              <a:off x="2728800" y="3924360"/>
              <a:ext cx="398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7240" y="3581280"/>
              <a:ext cx="37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5b, 6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Construct, Issue Request (Goal or Qu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664000" y="4419720"/>
            <a:ext cx="38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8-10)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Apply Grounding, Translate, Interpret 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9920" y="5361120"/>
            <a:ext cx="1334880" cy="50940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ntology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8000" y="5283360"/>
            <a:ext cx="1279440" cy="509400"/>
          </a:xfrm>
          <a:prstGeom prst="flowChartPunchedTap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ntology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00560" y="5719680"/>
            <a:ext cx="1477800" cy="43488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WL-S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9360" y="4616280"/>
            <a:ext cx="2380680" cy="1208160"/>
            <a:chOff x="4959360" y="4616280"/>
            <a:chExt cx="2380680" cy="1208160"/>
          </a:xfrm>
        </p:grpSpPr>
        <p:sp>
          <p:nvSpPr>
            <p:cNvPr id="90" name=""/>
            <p:cNvSpPr/>
            <p:nvPr/>
          </p:nvSpPr>
          <p:spPr>
            <a:xfrm flipH="1">
              <a:off x="6154560" y="4616280"/>
              <a:ext cx="648000" cy="8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4800" y="48769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1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Publish Service Mode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6560" y="5456160"/>
              <a:ext cx="14828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Service Mode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15240" y="5599080"/>
              <a:ext cx="231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959360" y="5678640"/>
              <a:ext cx="466560" cy="14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037400" y="1752480"/>
            <a:ext cx="15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3)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Find Candida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8120" y="457200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4)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 Selec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25560" y="3962520"/>
            <a:ext cx="4011840" cy="337320"/>
            <a:chOff x="2725560" y="3962520"/>
            <a:chExt cx="4011840" cy="337320"/>
          </a:xfrm>
        </p:grpSpPr>
        <p:sp>
          <p:nvSpPr>
            <p:cNvPr id="98" name=""/>
            <p:cNvSpPr/>
            <p:nvPr/>
          </p:nvSpPr>
          <p:spPr>
            <a:xfrm>
              <a:off x="2725560" y="4287960"/>
              <a:ext cx="4011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3962520"/>
              <a:ext cx="28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7)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 Narrow"/>
                </a:rPr>
                <a:t> Perform Service, Generate 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24600" y="157320"/>
            <a:ext cx="3867120" cy="5486400"/>
          </a:xfrm>
          <a:custGeom>
            <a:avLst/>
            <a:gdLst>
              <a:gd name="textAreaLeft" fmla="*/ 188640 w 3867120"/>
              <a:gd name="textAreaRight" fmla="*/ 3678480 w 3867120"/>
              <a:gd name="textAreaTop" fmla="*/ 188640 h 5486400"/>
              <a:gd name="textAreaBottom" fmla="*/ 5297760 h 5486400"/>
            </a:gdLst>
            <a:ahLst/>
            <a:rect l="textAreaLeft" t="textAreaTop" r="textAreaRight" b="textAreaBottom"/>
            <a:pathLst>
              <a:path w="21600" h="30644">
                <a:moveTo>
                  <a:pt x="3600" y="0"/>
                </a:moveTo>
                <a:arcTo wR="3600" hR="3600" stAng="16200000" swAng="-5400000"/>
                <a:lnTo>
                  <a:pt x="0" y="27044"/>
                </a:lnTo>
                <a:arcTo wR="3600" hR="3600" stAng="10800000" swAng="-5400000"/>
                <a:lnTo>
                  <a:pt x="18000" y="30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68960" y="739800"/>
            <a:ext cx="3672000" cy="47610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520" y="856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s4Sal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182520"/>
            <a:ext cx="3757680" cy="4486320"/>
          </a:xfrm>
          <a:custGeom>
            <a:avLst/>
            <a:gdLst>
              <a:gd name="textAreaLeft" fmla="*/ 183240 w 3757680"/>
              <a:gd name="textAreaRight" fmla="*/ 3574440 w 3757680"/>
              <a:gd name="textAreaTop" fmla="*/ 183240 h 4486320"/>
              <a:gd name="textAreaBottom" fmla="*/ 4303080 h 4486320"/>
            </a:gdLst>
            <a:ahLst/>
            <a:rect l="textAreaLeft" t="textAreaTop" r="textAreaRight" b="textAreaBottom"/>
            <a:pathLst>
              <a:path w="21600" h="25788">
                <a:moveTo>
                  <a:pt x="3600" y="0"/>
                </a:moveTo>
                <a:arcTo wR="3600" hR="3600" stAng="16200000" swAng="-5400000"/>
                <a:lnTo>
                  <a:pt x="0" y="22188"/>
                </a:lnTo>
                <a:arcTo wR="3600" hR="3600" stAng="10800000" swAng="-5400000"/>
                <a:lnTo>
                  <a:pt x="18000" y="257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360" y="2001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09480"/>
            <a:ext cx="3790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Go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wns :owner Mark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:item &lt;Book :name “XML for Dummi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by  “Fat Parens”&gt;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B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ser MyAg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Mark :fullname “MarkB”…&gt;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wns Mark &lt;VHS :name “X Files”&gt;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cardOf Ma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MC cc1 :ccno “9876” :exp 03/03&gt;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cardOf Ma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VISA cc2 :ccno “1234” :exp ..&gt;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sidence Ma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dress :line1 “44 Sunny Ln” …&gt;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sing ontologi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life.owl, mystuff.owl, owl-s.ow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101.ow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19240" y="1464840"/>
            <a:ext cx="2540160" cy="597240"/>
            <a:chOff x="2919240" y="1464840"/>
            <a:chExt cx="2540160" cy="597240"/>
          </a:xfrm>
        </p:grpSpPr>
        <p:sp>
          <p:nvSpPr>
            <p:cNvPr id="107" name=""/>
            <p:cNvSpPr/>
            <p:nvPr/>
          </p:nvSpPr>
          <p:spPr>
            <a:xfrm flipV="1">
              <a:off x="3616200" y="1464120"/>
              <a:ext cx="1830600" cy="389160"/>
            </a:xfrm>
            <a:custGeom>
              <a:avLst/>
              <a:gdLst/>
              <a:ahLst/>
              <a:rect l="l" t="t" r="r" b="b"/>
              <a:pathLst>
                <a:path w="1410" h="111">
                  <a:moveTo>
                    <a:pt x="0" y="111"/>
                  </a:moveTo>
                  <a:lnTo>
                    <a:pt x="14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919240" y="1641600"/>
              <a:ext cx="2540160" cy="420480"/>
            </a:xfrm>
            <a:custGeom>
              <a:avLst/>
              <a:gdLst/>
              <a:ahLst/>
              <a:rect l="l" t="t" r="r" b="b"/>
              <a:pathLst>
                <a:path w="1828" h="110">
                  <a:moveTo>
                    <a:pt x="0" y="110"/>
                  </a:moveTo>
                  <a:lnTo>
                    <a:pt x="18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63680" y="2859120"/>
            <a:ext cx="3252960" cy="1089000"/>
          </a:xfrm>
          <a:custGeom>
            <a:avLst/>
            <a:gdLst/>
            <a:ahLst/>
            <a:rect l="l" t="t" r="r" b="b"/>
            <a:pathLst>
              <a:path w="2049" h="686">
                <a:moveTo>
                  <a:pt x="0" y="622"/>
                </a:moveTo>
                <a:lnTo>
                  <a:pt x="476" y="686"/>
                </a:lnTo>
                <a:lnTo>
                  <a:pt x="1335" y="677"/>
                </a:lnTo>
                <a:lnTo>
                  <a:pt x="20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79680" y="6235560"/>
            <a:ext cx="5735160" cy="534240"/>
            <a:chOff x="1579680" y="6235560"/>
            <a:chExt cx="5735160" cy="534240"/>
          </a:xfrm>
        </p:grpSpPr>
        <p:sp>
          <p:nvSpPr>
            <p:cNvPr id="111" name=""/>
            <p:cNvSpPr/>
            <p:nvPr/>
          </p:nvSpPr>
          <p:spPr>
            <a:xfrm>
              <a:off x="1579680" y="6235560"/>
              <a:ext cx="5735160" cy="51408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4720" y="6249600"/>
              <a:ext cx="559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con101.owl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fines OWNS, axioms for PURCHASE 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wl-S.owl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Defines Service Profile, Process, Gro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9280" y="4456080"/>
            <a:ext cx="1346400" cy="2219400"/>
          </a:xfrm>
          <a:custGeom>
            <a:avLst/>
            <a:gdLst/>
            <a:ahLst/>
            <a:rect l="l" t="t" r="r" b="b"/>
            <a:pathLst>
              <a:path w="1021" h="411">
                <a:moveTo>
                  <a:pt x="271" y="0"/>
                </a:moveTo>
                <a:cubicBezTo>
                  <a:pt x="245" y="53"/>
                  <a:pt x="0" y="249"/>
                  <a:pt x="125" y="318"/>
                </a:cubicBezTo>
                <a:cubicBezTo>
                  <a:pt x="250" y="387"/>
                  <a:pt x="625" y="401"/>
                  <a:pt x="1021" y="411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0320" y="852480"/>
            <a:ext cx="4514760" cy="2570040"/>
          </a:xfrm>
          <a:custGeom>
            <a:avLst/>
            <a:gdLst/>
            <a:ahLst/>
            <a:rect l="l" t="t" r="r" b="b"/>
            <a:pathLst>
              <a:path w="2844" h="1619">
                <a:moveTo>
                  <a:pt x="2844" y="1584"/>
                </a:moveTo>
                <a:cubicBezTo>
                  <a:pt x="2740" y="1580"/>
                  <a:pt x="2367" y="1619"/>
                  <a:pt x="2228" y="1558"/>
                </a:cubicBezTo>
                <a:cubicBezTo>
                  <a:pt x="2089" y="1497"/>
                  <a:pt x="2075" y="1442"/>
                  <a:pt x="2012" y="1215"/>
                </a:cubicBezTo>
                <a:cubicBezTo>
                  <a:pt x="1950" y="989"/>
                  <a:pt x="1948" y="392"/>
                  <a:pt x="1852" y="196"/>
                </a:cubicBezTo>
                <a:cubicBezTo>
                  <a:pt x="1756" y="0"/>
                  <a:pt x="1635" y="67"/>
                  <a:pt x="1436" y="39"/>
                </a:cubicBezTo>
                <a:cubicBezTo>
                  <a:pt x="1237" y="11"/>
                  <a:pt x="897" y="15"/>
                  <a:pt x="658" y="30"/>
                </a:cubicBezTo>
                <a:cubicBezTo>
                  <a:pt x="419" y="45"/>
                  <a:pt x="137" y="109"/>
                  <a:pt x="0" y="13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68520" y="2323800"/>
            <a:ext cx="3003480" cy="840240"/>
            <a:chOff x="2468520" y="2323800"/>
            <a:chExt cx="3003480" cy="840240"/>
          </a:xfrm>
        </p:grpSpPr>
        <p:sp>
          <p:nvSpPr>
            <p:cNvPr id="116" name=""/>
            <p:cNvSpPr/>
            <p:nvPr/>
          </p:nvSpPr>
          <p:spPr>
            <a:xfrm>
              <a:off x="2468520" y="2684520"/>
              <a:ext cx="2987640" cy="479520"/>
            </a:xfrm>
            <a:custGeom>
              <a:avLst/>
              <a:gdLst/>
              <a:ahLst/>
              <a:rect l="l" t="t" r="r" b="b"/>
              <a:pathLst>
                <a:path w="1882" h="302">
                  <a:moveTo>
                    <a:pt x="0" y="193"/>
                  </a:moveTo>
                  <a:lnTo>
                    <a:pt x="612" y="302"/>
                  </a:lnTo>
                  <a:lnTo>
                    <a:pt x="1206" y="293"/>
                  </a:lnTo>
                  <a:lnTo>
                    <a:pt x="18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36760" y="2323440"/>
              <a:ext cx="2235240" cy="160200"/>
            </a:xfrm>
            <a:custGeom>
              <a:avLst/>
              <a:gdLst/>
              <a:ahLst/>
              <a:rect l="l" t="t" r="r" b="b"/>
              <a:pathLst>
                <a:path w="1472" h="565">
                  <a:moveTo>
                    <a:pt x="0" y="565"/>
                  </a:moveTo>
                  <a:lnTo>
                    <a:pt x="457" y="428"/>
                  </a:lnTo>
                  <a:lnTo>
                    <a:pt x="14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318280" y="450720"/>
            <a:ext cx="357948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sh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y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Vars: ?item : &lt;Item&gt;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ccard : &lt;CreditCar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Title : string = ?item.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Author: string = ?item.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Qty: int = ?item.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ccname: string = ?ccard.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ccnum: string = ?ccard.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4Sshipto: a postal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ffect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wns :owner ?client :item ?it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hipped :item ?it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addr ?B4Sship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carrier ?B4Sc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bitCC :cc ?ccard :amt ?item.cos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sing ontologi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s4Sale.ow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ventory.owl, econ101.ow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ard.owl, shipping.owl, owl-s.owl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17880" y="509760"/>
            <a:ext cx="2344680" cy="325440"/>
            <a:chOff x="3017880" y="509760"/>
            <a:chExt cx="2344680" cy="325440"/>
          </a:xfrm>
        </p:grpSpPr>
        <p:sp>
          <p:nvSpPr>
            <p:cNvPr id="120" name=""/>
            <p:cNvSpPr/>
            <p:nvPr/>
          </p:nvSpPr>
          <p:spPr>
            <a:xfrm>
              <a:off x="3017880" y="611280"/>
              <a:ext cx="2344680" cy="223920"/>
            </a:xfrm>
            <a:custGeom>
              <a:avLst/>
              <a:gdLst/>
              <a:ahLst/>
              <a:rect l="l" t="t" r="r" b="b"/>
              <a:pathLst>
                <a:path w="1477" h="141">
                  <a:moveTo>
                    <a:pt x="0" y="0"/>
                  </a:moveTo>
                  <a:cubicBezTo>
                    <a:pt x="63" y="10"/>
                    <a:pt x="135" y="39"/>
                    <a:pt x="381" y="62"/>
                  </a:cubicBezTo>
                  <a:cubicBezTo>
                    <a:pt x="627" y="85"/>
                    <a:pt x="993" y="133"/>
                    <a:pt x="1477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4600" y="5097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238880" y="5410080"/>
            <a:ext cx="1905120" cy="1143000"/>
          </a:xfrm>
          <a:custGeom>
            <a:avLst/>
            <a:gdLst/>
            <a:ahLst/>
            <a:rect l="l" t="t" r="r" b="b"/>
            <a:pathLst>
              <a:path w="1253" h="677">
                <a:moveTo>
                  <a:pt x="1090" y="0"/>
                </a:moveTo>
                <a:cubicBezTo>
                  <a:pt x="1087" y="82"/>
                  <a:pt x="1253" y="381"/>
                  <a:pt x="1071" y="494"/>
                </a:cubicBezTo>
                <a:cubicBezTo>
                  <a:pt x="889" y="606"/>
                  <a:pt x="223" y="639"/>
                  <a:pt x="0" y="67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9520" y="4579920"/>
            <a:ext cx="3041640" cy="1373040"/>
            <a:chOff x="479520" y="4579920"/>
            <a:chExt cx="3041640" cy="1373040"/>
          </a:xfrm>
        </p:grpSpPr>
        <p:sp>
          <p:nvSpPr>
            <p:cNvPr id="124" name=""/>
            <p:cNvSpPr/>
            <p:nvPr/>
          </p:nvSpPr>
          <p:spPr>
            <a:xfrm>
              <a:off x="533160" y="472428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44480" y="4968720"/>
              <a:ext cx="2776680" cy="984240"/>
              <a:chOff x="744480" y="4968720"/>
              <a:chExt cx="2776680" cy="984240"/>
            </a:xfrm>
          </p:grpSpPr>
          <p:sp>
            <p:nvSpPr>
              <p:cNvPr id="126" name=""/>
              <p:cNvSpPr/>
              <p:nvPr/>
            </p:nvSpPr>
            <p:spPr>
              <a:xfrm>
                <a:off x="744480" y="4968720"/>
                <a:ext cx="2776680" cy="984240"/>
              </a:xfrm>
              <a:prstGeom prst="foldedCorner">
                <a:avLst>
                  <a:gd name="adj" fmla="val 125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92360" y="5000400"/>
                <a:ext cx="27061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ystuff-inventory-map.ow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ook ~&gt; Item (qty 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name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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 tit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y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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 auth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79520" y="4579920"/>
              <a:ext cx="269640" cy="841320"/>
            </a:xfrm>
            <a:custGeom>
              <a:avLst/>
              <a:gdLst/>
              <a:ahLst/>
              <a:rect l="l" t="t" r="r" b="b"/>
              <a:pathLst>
                <a:path w="1021" h="411">
                  <a:moveTo>
                    <a:pt x="271" y="0"/>
                  </a:moveTo>
                  <a:cubicBezTo>
                    <a:pt x="245" y="53"/>
                    <a:pt x="0" y="249"/>
                    <a:pt x="125" y="318"/>
                  </a:cubicBezTo>
                  <a:cubicBezTo>
                    <a:pt x="250" y="387"/>
                    <a:pt x="625" y="401"/>
                    <a:pt x="1021" y="4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711520" y="5251320"/>
            <a:ext cx="2471760" cy="975240"/>
            <a:chOff x="2711520" y="5251320"/>
            <a:chExt cx="2471760" cy="975240"/>
          </a:xfrm>
        </p:grpSpPr>
        <p:sp>
          <p:nvSpPr>
            <p:cNvPr id="130" name=""/>
            <p:cNvSpPr/>
            <p:nvPr/>
          </p:nvSpPr>
          <p:spPr>
            <a:xfrm>
              <a:off x="2711520" y="5251320"/>
              <a:ext cx="2471760" cy="91476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53280" y="5280120"/>
              <a:ext cx="240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mylife-ccard-map.ow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C ~&gt; Credi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older.fullname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cno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id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927920" y="6105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6360" y="61563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59480" y="1630440"/>
            <a:ext cx="1973160" cy="1646280"/>
          </a:xfrm>
          <a:custGeom>
            <a:avLst/>
            <a:gdLst/>
            <a:ahLst/>
            <a:rect l="l" t="t" r="r" b="b"/>
            <a:pathLst>
              <a:path w="1243" h="1037">
                <a:moveTo>
                  <a:pt x="1019" y="1037"/>
                </a:moveTo>
                <a:cubicBezTo>
                  <a:pt x="1099" y="929"/>
                  <a:pt x="1179" y="821"/>
                  <a:pt x="1211" y="701"/>
                </a:cubicBezTo>
                <a:cubicBezTo>
                  <a:pt x="1243" y="581"/>
                  <a:pt x="1235" y="397"/>
                  <a:pt x="1211" y="317"/>
                </a:cubicBezTo>
                <a:cubicBezTo>
                  <a:pt x="1187" y="237"/>
                  <a:pt x="1123" y="269"/>
                  <a:pt x="1067" y="221"/>
                </a:cubicBezTo>
                <a:cubicBezTo>
                  <a:pt x="1011" y="173"/>
                  <a:pt x="1003" y="53"/>
                  <a:pt x="875" y="29"/>
                </a:cubicBezTo>
                <a:cubicBezTo>
                  <a:pt x="747" y="5"/>
                  <a:pt x="425" y="0"/>
                  <a:pt x="299" y="77"/>
                </a:cubicBezTo>
                <a:cubicBezTo>
                  <a:pt x="173" y="154"/>
                  <a:pt x="0" y="430"/>
                  <a:pt x="119" y="491"/>
                </a:cubicBezTo>
                <a:cubicBezTo>
                  <a:pt x="238" y="552"/>
                  <a:pt x="856" y="489"/>
                  <a:pt x="1014" y="444"/>
                </a:cubicBezTo>
                <a:cubicBezTo>
                  <a:pt x="1172" y="399"/>
                  <a:pt x="1056" y="267"/>
                  <a:pt x="1067" y="2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185920"/>
            <a:ext cx="3352680" cy="3148200"/>
          </a:xfrm>
          <a:custGeom>
            <a:avLst/>
            <a:gdLst/>
            <a:ahLst/>
            <a:rect l="l" t="t" r="r" b="b"/>
            <a:pathLst>
              <a:path w="2112" h="1983">
                <a:moveTo>
                  <a:pt x="2112" y="63"/>
                </a:moveTo>
                <a:cubicBezTo>
                  <a:pt x="1976" y="106"/>
                  <a:pt x="1648" y="0"/>
                  <a:pt x="1296" y="320"/>
                </a:cubicBezTo>
                <a:cubicBezTo>
                  <a:pt x="944" y="640"/>
                  <a:pt x="270" y="1637"/>
                  <a:pt x="0" y="198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A Out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Document final comments incorporated for scheduled release Ju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METEOR-S tools for semantic annotation and matching w. WSDL, B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UMBC Trading Agent Game architecture as a use case for investigating SWSA protocol intera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Service Invocation and Transl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alternative matchmaking and brokering top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map and Document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s to pro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Note Submission to SWS-IG to augment current do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of building on exis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 W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ion of UDDI-like registr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map to stages/degrees of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Road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mensions/Issues: discovery, invocation, mapping, exception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1: Simple service invocation and response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directed manual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directed com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semantic interoperability during invocation and responses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: predefined, lossless, simple translation 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2: SWS with Automated Discovery and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haracterization for matchmaker querying and service selection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: add mapping infrastructure (registries), partial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3: Complex Discovery Models and Negotiation/Contr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/Broker based interac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forwarding of QoS and Privacy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otiation dialogs for refining discovery, establishing servi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Elements and Protocols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imitive elements and capabilitie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y mechanisms and associated protoco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(bootstrapping)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community registry seed discovery and us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inding Service registries and ontology mapping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internal SWS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goal description, process model interpretation, invocation reasoning, response interpretation, process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ontology mapping and alternative translation mechanisms (middleware and agent in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 to include support for communication of security, privacy (information ownership), QoS, Service Lifecycle and Ontology/Protocol Ver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A Requirements draft release Ju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Note by Au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Architecture Note by Sept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rchitecture Note by October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nday, May 23, 200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-1300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0-1330 Plenary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30-1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WSA Discu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30-14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view meeting goals and schedule, incl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-off on Requirement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for Upcoming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F Meet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30-1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EOR demonstration (Amit She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500-1530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30-18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WSA Discuss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of WSMO approach and trajectory wrt SW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A (Agent Trading Game) Demo and U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f SWSA requirements onto B2C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approaches to and roles for medi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 off on Requirements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bjectives for this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set of key protocols and ontologies to specify in next few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approach to layering on exis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or finishing small set of detailed use c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OR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t Sheth, Kunal Verma, U 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for acquiring semantics elements of WSDL definitions (in presence of multiple ont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to existing WS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mak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A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ng Agent Game in Agent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n as illustrative scenario for commercial use of Semantic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imilar use cases now being discussed by SWSL to identify language requirements,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A Agen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) represent individual customers with travel constraints and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vel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A) broker business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A) offer travel services (airline, lodging, entertai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lletin Board Ag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A) is the service matchmaker (between CA and 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ction Service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A) operate auctions (between CA and 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 Oversight Ag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A) monitors financial 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s,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 and T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BA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mbership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lay in game, be found, ma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ert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BA (matchm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y servic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QoS and reputation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matches candidat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 propos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ASAs, 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d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se s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package to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 attempt to purchase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fail resulting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ed transaction, 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day, May 24, 200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900-10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WSA Discussion: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 Architectur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and Translation during Invocation (M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1030-1100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00-12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aboration of SWSA Objectives fo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Discovery Architectures (Katia, Mass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S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elements to define this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s to existing Standards and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1200-1300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00-1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WSA Roadmap Discu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00-15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30-17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WSA Wrapup and Tasking for coming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700-180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lenary Session – Outbri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800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djo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-S Virtual Machine and Matchm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, Massimo Paolu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7:22:22Z</dcterms:created>
  <dc:creator>burstein</dc:creator>
  <dc:description/>
  <dc:language>en-US</dc:language>
  <cp:lastModifiedBy>burstein</cp:lastModifiedBy>
  <dcterms:modified xsi:type="dcterms:W3CDTF">2004-06-08T14:53:16Z</dcterms:modified>
  <cp:revision>9</cp:revision>
  <dc:subject/>
  <dc:title>SWSA@NYC</dc:title>
</cp:coreProperties>
</file>