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DB28-F640-42BE-828C-3647CB03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FC9-E098-4E4B-96AD-4FBC14D8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4F9-30DB-465A-86DA-EE1AA54F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597-9738-441B-B92E-EF18991C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BC43-A014-40A0-AB32-ED7AE616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E189-F34A-450D-927A-C50DB90C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097-EEE4-4050-A232-9BF207DA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E94-37AA-42F8-B201-827A5270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0186-DEDC-4036-9B36-3AFD9A16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1FB7-2070-4B01-B9B6-8A39F104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3021-EB17-407C-8F91-D72EFF85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C53D-D03E-422B-BEDB-A70F1FAF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DE20-7405-4122-82D1-53F4460B1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3.org/TR/ws-arch/" TargetMode="External"/><Relationship Id="rId3" Type="http://schemas.openxmlformats.org/officeDocument/2006/relationships/hyperlink" Target="http://www.w3.org/TR/ws-arch/" TargetMode="External"/><Relationship Id="rId4" Type="http://schemas.openxmlformats.org/officeDocument/2006/relationships/hyperlink" Target="http://www.w3.org/TR/ws-arch/" TargetMode="External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A@BB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y Agen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Discovery Protoc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 to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 Outline (first cu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of Requirements (from existing do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of how we build on existing ‘standard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3C WS Architecture &amp; SWS Conceptual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MO&amp;WS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L-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traction of UDDI-like registry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hing for Ubiq. Com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setta? E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admap to stages/degrees of SWS aut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Model used to lay out protoco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we safely build 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A N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WL, OWL-S, METE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and Privacy Ont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get ontology sharing and mediation into this pic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3C Web Service Architectu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76360" y="15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ServiceModel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381640" cy="4703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32280" y="6192720"/>
            <a:ext cx="641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2.8: Service Oriented Model (from 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w3.org/TR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s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-arch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ual Model 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Discovery for S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9880" y="6192720"/>
            <a:ext cx="627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“A conceptual model for semantic web services” Chris Priest, HP Lab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763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71600" y="2057400"/>
          <a:ext cx="6462720" cy="32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46272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 Agreemen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6228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828800" y="2057400"/>
          <a:ext cx="5467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057400"/>
                    <a:ext cx="5467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289880" y="6192720"/>
            <a:ext cx="627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“A conceptual model for semantic web services” Chris Priest, HP Lab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Deliver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9084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2133720"/>
          <a:ext cx="6043680" cy="37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33720"/>
                    <a:ext cx="6043680" cy="37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289880" y="6192720"/>
            <a:ext cx="627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“A conceptual model for semantic web services” Chris Priest, HP Lab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service description (interf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ontologies supporting service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service agent de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service discovery &amp; enac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ASIS WS for WS Mgmt is a place to look for lifecycle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cycle of Service De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sh (at URI or in Regist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sh Update (new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diffs from old ver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to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to choreograph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to ontologies us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ularity of versioning is a big 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 Nego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for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your interface? (at a U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you perform Task T with Quality Q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you sell X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you do 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requirements do you have to accept this reque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e/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 (w rea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–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ugust 16&amp;17, 2004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:00-1700 Each day: Make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 16 Aug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:30-9:00 Arrive, Co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:00-10:00 Discuss goals for producing SWSA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:00-12:00 Topics to cover in Note, Develop 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00-5:00 Issues discussion, Break into subgrou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 17 Aug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:30-9:00 Arrive, Co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:00-11:00 Sub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:00-1:00 Oasis overview and lu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00-4:00 Review subtopics and document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:00-5:00 Work plan assignments for S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pm - adjo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 and Assig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Cut at Request Protocol (Engageme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276720"/>
            <a:ext cx="762120" cy="685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2743200"/>
            <a:ext cx="762120" cy="685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3429000"/>
            <a:ext cx="762120" cy="685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3" idx="6"/>
            <a:endCxn id="94" idx="2"/>
          </p:cNvCxnSpPr>
          <p:nvPr/>
        </p:nvCxnSpPr>
        <p:spPr>
          <a:xfrm flipV="1">
            <a:off x="1614240" y="3085560"/>
            <a:ext cx="157212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1831320" y="312408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5257800"/>
            <a:ext cx="762120" cy="685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4" idx="3"/>
            <a:endCxn id="98" idx="1"/>
          </p:cNvCxnSpPr>
          <p:nvPr/>
        </p:nvCxnSpPr>
        <p:spPr>
          <a:xfrm rot="5400000">
            <a:off x="2196360" y="4228920"/>
            <a:ext cx="2000880" cy="22932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7"/>
            <a:endCxn id="94" idx="5"/>
          </p:cNvCxnSpPr>
          <p:nvPr/>
        </p:nvCxnSpPr>
        <p:spPr>
          <a:xfrm flipH="1" flipV="1" rot="5400000">
            <a:off x="2736360" y="4228560"/>
            <a:ext cx="2000880" cy="22932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2571120" y="419112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15560" y="4419720"/>
            <a:ext cx="6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2514600"/>
            <a:ext cx="761760" cy="685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31920" y="259092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rm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4" idx="6"/>
            <a:endCxn id="103" idx="2"/>
          </p:cNvCxnSpPr>
          <p:nvPr/>
        </p:nvCxnSpPr>
        <p:spPr>
          <a:xfrm flipV="1">
            <a:off x="3976200" y="2856960"/>
            <a:ext cx="134388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6263280" y="2971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 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3" idx="5"/>
            <a:endCxn id="95" idx="1"/>
          </p:cNvCxnSpPr>
          <p:nvPr/>
        </p:nvCxnSpPr>
        <p:spPr>
          <a:xfrm flipH="1" rot="16200000">
            <a:off x="6238800" y="2860200"/>
            <a:ext cx="400680" cy="90864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5486400" y="3809880"/>
            <a:ext cx="762120" cy="685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Fa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94" idx="6"/>
            <a:endCxn id="108" idx="1"/>
          </p:cNvCxnSpPr>
          <p:nvPr/>
        </p:nvCxnSpPr>
        <p:spPr>
          <a:xfrm>
            <a:off x="3976200" y="3086280"/>
            <a:ext cx="1621800" cy="8100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4322880" y="335268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use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51400" y="419112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use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95" idx="2"/>
            <a:endCxn id="108" idx="6"/>
          </p:cNvCxnSpPr>
          <p:nvPr/>
        </p:nvCxnSpPr>
        <p:spPr>
          <a:xfrm flipV="1" rot="10800000">
            <a:off x="6261840" y="3771720"/>
            <a:ext cx="50580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7010280" y="2057400"/>
            <a:ext cx="762120" cy="685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03" idx="6"/>
            <a:endCxn id="113" idx="2"/>
          </p:cNvCxnSpPr>
          <p:nvPr/>
        </p:nvCxnSpPr>
        <p:spPr>
          <a:xfrm flipV="1">
            <a:off x="6109920" y="2400120"/>
            <a:ext cx="88668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7543800" y="5029200"/>
            <a:ext cx="91440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4114800"/>
            <a:ext cx="91440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8" idx="5"/>
            <a:endCxn id="115" idx="2"/>
          </p:cNvCxnSpPr>
          <p:nvPr/>
        </p:nvCxnSpPr>
        <p:spPr>
          <a:xfrm flipH="1" rot="16200000">
            <a:off x="6332400" y="4213800"/>
            <a:ext cx="1000800" cy="1392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5" idx="6"/>
            <a:endCxn id="116" idx="1"/>
          </p:cNvCxnSpPr>
          <p:nvPr/>
        </p:nvCxnSpPr>
        <p:spPr>
          <a:xfrm>
            <a:off x="7557840" y="3771720"/>
            <a:ext cx="424440" cy="4402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6167520" y="2209680"/>
            <a:ext cx="6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3" idx="6"/>
            <a:endCxn id="115" idx="6"/>
          </p:cNvCxnSpPr>
          <p:nvPr/>
        </p:nvCxnSpPr>
        <p:spPr>
          <a:xfrm>
            <a:off x="7786440" y="2400480"/>
            <a:ext cx="686520" cy="3010320"/>
          </a:xfrm>
          <a:prstGeom prst="curvedConnector5">
            <a:avLst>
              <a:gd name="adj1" fmla="val 169674"/>
              <a:gd name="adj2" fmla="val 49994"/>
              <a:gd name="adj3" fmla="val 16967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sion by Mike Huh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46440" y="3317760"/>
            <a:ext cx="43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ngagementStateDiagram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of Short Version of N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ming approach to Protocols, Object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lying assumptions, architectural layer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ges of semantics ‘uptake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ocols in 4 are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ract Proto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covery and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gagement (Negotiation, Contract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 service model lookup here. May be a request to the servi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ctment (Execution and Monito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fecyc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de Protoco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/Authentication and Priv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sage Interpretation (Semantic confirm receip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Cla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ocols, Assig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 (Framing of discus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sler, Burstein, Willi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s ar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y (Advertise/Update, Query, Sel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gagement (Interpret Service Model, Request, Negotiate, Contra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ctment (Execution Monitoring, Results, Failure Recovery &amp; Compens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ketching Assign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oph – Intro (framing object 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hal-  Engagement &amp; Enac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art - Framing &amp; Enac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ke H - Contracting&amp;Negot,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 F - Discovery, C&amp;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imo - Enactment,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 – Intro, Enact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e Sept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SA Requirements draft release June 1(d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s Note to W2C by Aug 1 (dropp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Architecture Note by Sept 30 (still the go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Architecture Note by October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 Opportun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3C Workshop 13-14 October – Redwood Shores,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stuhl Sept 19-2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WC in 7-11 November in Hiroshima, 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DAML PI meeting 20 Nov – 2 Dec (tent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9996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protocols and ontologies to specify in next 6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approach to layering on existing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ine for No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status of use c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N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Submission to SWS-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hope to achieve the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S Working grou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be most usefu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on of roadmap with realistic goal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missing elements of WS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ment to SWS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riers to suc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 not have the usual ‘experience base’ on which standards are bui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 efforts are now a dime a do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Road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mensions/Issues: discovery, invocation, mapping, exception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1: Simple service invocation and response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directed manual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directed composi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suring semantic interoperability during invocation and responses exception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ping: predefined, lossless, simple translation eng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2: SWS with Automated Discovery and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haracterization for matchmaker querying and service selection reaso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ping: add mapping infrastructure (registries), partial m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3: Complex Discovery Models and Negotiation/Contra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xy/Broker based interaction proto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forwarding of QoS and Privacy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otiation dialogs for refining discovery, establishing service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A Functional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e and Match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Enac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, Invoke, Status, Response, 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 and Contracting (Engag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t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ship, Authorization, Privacy, 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relationship modeling,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generation, status, resurrection,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 management (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Elements and Protocols No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protocol elements: Focus on layering, primitive elements and capabil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overy mechanisms and associated protocol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 (bootstrapping)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antic community registry seed discovery and use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finding Service registries and ontology mapping regis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 internal SWS sup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goal description, process model interpretation, invocation reasoning, response interpretation, process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y mapping and alternative translation mechanisms (middleware and agent inter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s to include suppor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 of security, privacy (information ownership), Q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Lifecyc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tology/Protocol Vers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rotoco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 protoco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very: Advertising &amp; Service Match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cation-  Contract Negotiation &amp; Enac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ology and Mapping Lookup/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ctment/Manag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2T17:22:22Z</dcterms:created>
  <dc:creator>burstein</dc:creator>
  <dc:description/>
  <dc:language>en-US</dc:language>
  <cp:lastModifiedBy>burstein</cp:lastModifiedBy>
  <dcterms:modified xsi:type="dcterms:W3CDTF">2004-09-14T18:19:44Z</dcterms:modified>
  <cp:revision>16</cp:revision>
  <dc:subject/>
  <dc:title>SWSA@NYC</dc:title>
</cp:coreProperties>
</file>