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2BF9F-E225-4BA4-9705-B7CFA15B0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7327E-E54D-4092-8249-2F529B922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2AD50-7140-47BA-A6C3-9D657F873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A27BF-D9AA-4829-98F0-371B6821F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71452-740F-49D6-9EF2-4E6ECC087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FC6CC-17A7-46E5-9649-D6E8DDA5C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E218C-818C-448E-BFCD-DD6E2934D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B515C-F94A-4F8B-9612-66383ACCB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03199-6141-4A12-9E4E-2F41317A8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9E380-E5C8-4FBE-9C0F-9D2C3E144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57F1D-CC3C-407B-88C5-5F80F9F70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04211-2FB3-4F29-B3A6-23F74BB09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4A8A8-D3AA-4962-8DC8-01B370C2C3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brief of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SWSI Architecture Committe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2F</a:t>
            </a:r>
            <a:br>
              <a:rPr sz="4400"/>
            </a:br>
            <a:br>
              <a:rPr sz="4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t, April 12, 2003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ami, FL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57200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rk H. Burste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BN Technolog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ssible Architectural Use Ca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racting w. traditional web servic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Amazon, Travel, Shopping)  C2B2B, composed C2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rge-scale B2B commer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ke Oracle E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vasive Compu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space environmen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rvices appropriate to a roo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convert a file to make it printable, then print 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yGrid compu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mantics for long-lived distributed compu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3352680" y="2590920"/>
            <a:ext cx="1752840" cy="533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rver Process P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447920" y="2133720"/>
            <a:ext cx="1371600" cy="38088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put Dataset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447920" y="2743200"/>
            <a:ext cx="1371600" cy="38088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put Dataset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447920" y="3352680"/>
            <a:ext cx="1371600" cy="38124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put Dataset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819520" y="2362320"/>
            <a:ext cx="53316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2819520" y="2819160"/>
            <a:ext cx="53316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2819520" y="2819520"/>
            <a:ext cx="53316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959200" y="3236760"/>
            <a:ext cx="1250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Has in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(under condi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629400" y="2133720"/>
            <a:ext cx="1371600" cy="38088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uput Style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629400" y="2743200"/>
            <a:ext cx="1371600" cy="38088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uput Style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629400" y="3352680"/>
            <a:ext cx="1371600" cy="38124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uput Style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334120" y="2590920"/>
            <a:ext cx="838080" cy="533160"/>
          </a:xfrm>
          <a:prstGeom prst="flowChartDecision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nd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Outpu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105520" y="2819520"/>
            <a:ext cx="2286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6095880" y="2286000"/>
            <a:ext cx="533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095880" y="28195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095880" y="2895480"/>
            <a:ext cx="533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781680" y="3733920"/>
            <a:ext cx="838440" cy="1752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315200" y="5486400"/>
            <a:ext cx="1219320" cy="30492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752480" y="4267080"/>
            <a:ext cx="2819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Has grounding 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(with argument bindings &amp; translation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362320" y="3733920"/>
            <a:ext cx="838080" cy="175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895480" y="5486400"/>
            <a:ext cx="1219320" cy="30492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867280" y="4267080"/>
            <a:ext cx="2819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Has grounding 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(with argument bindings &amp; translation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200400" y="2209680"/>
            <a:ext cx="3048120" cy="1067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339000" y="2246400"/>
            <a:ext cx="1500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or Process P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400800" y="2057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670480" y="1752480"/>
            <a:ext cx="874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Disjunc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794560" y="1752480"/>
            <a:ext cx="874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Disjunc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200400" y="22860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739960" y="380880"/>
            <a:ext cx="3362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our spare time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tential Requirements for SWS</a:t>
            </a:r>
            <a:br>
              <a:rPr sz="36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the big pictur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WS, interpretation of XML seems essential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SWS, Agents must be able 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pret OWL (or equiv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 bridging by providing semantics for non-semantic ag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orporate of new classes, descriptions dynamical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mulate goals that can be satisfied by discovery (or possibly composition) of remote ser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ess internal knowledge to supply information required for service requests (e.g. credit card inf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tilize internal or external translation capabil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" y="1447920"/>
            <a:ext cx="8763120" cy="4724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SMF and Oracle EI approa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41200" y="2222640"/>
            <a:ext cx="3327480" cy="3327120"/>
          </a:xfrm>
          <a:prstGeom prst="ellipse">
            <a:avLst/>
          </a:prstGeom>
          <a:solidFill>
            <a:srgbClr val="3333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575320" y="2222640"/>
            <a:ext cx="3327480" cy="3327120"/>
          </a:xfrm>
          <a:prstGeom prst="ellipse">
            <a:avLst/>
          </a:prstGeom>
          <a:solidFill>
            <a:srgbClr val="3333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981080"/>
            <a:ext cx="0" cy="99072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3352680"/>
            <a:ext cx="0" cy="990720"/>
          </a:xfrm>
          <a:prstGeom prst="line">
            <a:avLst/>
          </a:prstGeom>
          <a:ln w="507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0" y="4724280"/>
            <a:ext cx="0" cy="990720"/>
          </a:xfrm>
          <a:prstGeom prst="line">
            <a:avLst/>
          </a:prstGeom>
          <a:ln w="507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174560" y="1722600"/>
            <a:ext cx="7444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ccff"/>
                </a:solidFill>
                <a:latin typeface="Arial"/>
              </a:rPr>
              <a:t>Inter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27560" y="4465800"/>
            <a:ext cx="5065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Arial"/>
              </a:rPr>
              <a:t>V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251240" y="3094200"/>
            <a:ext cx="6591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W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41200" y="2222640"/>
            <a:ext cx="3327480" cy="3327120"/>
          </a:xfrm>
          <a:prstGeom prst="ellipse">
            <a:avLst/>
          </a:prstGeom>
          <a:solidFill>
            <a:srgbClr val="3333cc"/>
          </a:solidFill>
          <a:ln w="255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575320" y="2222640"/>
            <a:ext cx="3327480" cy="3327120"/>
          </a:xfrm>
          <a:prstGeom prst="ellipse">
            <a:avLst/>
          </a:prstGeom>
          <a:solidFill>
            <a:srgbClr val="3333cc"/>
          </a:solidFill>
          <a:ln w="255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143000" y="3429000"/>
            <a:ext cx="914400" cy="30492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1143000" y="3962520"/>
            <a:ext cx="914400" cy="30456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98400" y="2984400"/>
            <a:ext cx="432000" cy="584280"/>
          </a:xfrm>
          <a:prstGeom prst="rect">
            <a:avLst/>
          </a:prstGeom>
          <a:solidFill>
            <a:srgbClr val="cc66ff"/>
          </a:solidFill>
          <a:ln w="255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98400" y="4051440"/>
            <a:ext cx="432000" cy="583920"/>
          </a:xfrm>
          <a:prstGeom prst="rect">
            <a:avLst/>
          </a:prstGeom>
          <a:solidFill>
            <a:srgbClr val="cc66ff"/>
          </a:solidFill>
          <a:ln w="255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162920" y="3962520"/>
            <a:ext cx="1066680" cy="15228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162920" y="4267080"/>
            <a:ext cx="380880" cy="45720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556400" y="4660920"/>
            <a:ext cx="432000" cy="584280"/>
          </a:xfrm>
          <a:prstGeom prst="rect">
            <a:avLst/>
          </a:prstGeom>
          <a:solidFill>
            <a:srgbClr val="cc66ff"/>
          </a:solidFill>
          <a:ln w="255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7162920" y="3276720"/>
            <a:ext cx="304560" cy="30456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162920" y="3428640"/>
            <a:ext cx="990360" cy="30492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480440" y="2755800"/>
            <a:ext cx="431640" cy="584280"/>
          </a:xfrm>
          <a:prstGeom prst="rect">
            <a:avLst/>
          </a:prstGeom>
          <a:solidFill>
            <a:srgbClr val="cc66ff"/>
          </a:solidFill>
          <a:ln w="255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242200" y="3898800"/>
            <a:ext cx="432000" cy="584280"/>
          </a:xfrm>
          <a:prstGeom prst="rect">
            <a:avLst/>
          </a:prstGeom>
          <a:solidFill>
            <a:srgbClr val="cc66ff"/>
          </a:solidFill>
          <a:ln w="255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8166240" y="3060720"/>
            <a:ext cx="431640" cy="584280"/>
          </a:xfrm>
          <a:prstGeom prst="rect">
            <a:avLst/>
          </a:prstGeom>
          <a:solidFill>
            <a:srgbClr val="cc66ff"/>
          </a:solidFill>
          <a:ln w="255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828800" y="3124080"/>
            <a:ext cx="228600" cy="30492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384200" y="2527200"/>
            <a:ext cx="432000" cy="584280"/>
          </a:xfrm>
          <a:prstGeom prst="rect">
            <a:avLst/>
          </a:prstGeom>
          <a:solidFill>
            <a:srgbClr val="cc66ff"/>
          </a:solidFill>
          <a:ln w="255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819520" y="2437920"/>
            <a:ext cx="1752480" cy="1143000"/>
          </a:xfrm>
          <a:prstGeom prst="line">
            <a:avLst/>
          </a:prstGeom>
          <a:ln w="25560">
            <a:solidFill>
              <a:srgbClr val="cccc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819520" y="3886200"/>
            <a:ext cx="1752480" cy="0"/>
          </a:xfrm>
          <a:prstGeom prst="line">
            <a:avLst/>
          </a:prstGeom>
          <a:ln w="25560">
            <a:solidFill>
              <a:srgbClr val="ffcc66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19520" y="4114800"/>
            <a:ext cx="1752480" cy="1219320"/>
          </a:xfrm>
          <a:prstGeom prst="line">
            <a:avLst/>
          </a:prstGeom>
          <a:ln w="25560">
            <a:solidFill>
              <a:srgbClr val="00cc99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070000" y="2527200"/>
            <a:ext cx="736560" cy="2718000"/>
          </a:xfrm>
          <a:prstGeom prst="rect">
            <a:avLst/>
          </a:prstGeom>
          <a:solidFill>
            <a:srgbClr val="00cccc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057400" y="3703680"/>
            <a:ext cx="7621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SM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572000" y="3886200"/>
            <a:ext cx="1828800" cy="0"/>
          </a:xfrm>
          <a:prstGeom prst="line">
            <a:avLst/>
          </a:prstGeom>
          <a:ln w="25560">
            <a:solidFill>
              <a:srgbClr val="ffcc66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4572000" y="2437920"/>
            <a:ext cx="1828800" cy="1219320"/>
          </a:xfrm>
          <a:prstGeom prst="line">
            <a:avLst/>
          </a:prstGeom>
          <a:ln w="25560">
            <a:solidFill>
              <a:srgbClr val="cccc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4572000" y="4114800"/>
            <a:ext cx="1828800" cy="1219320"/>
          </a:xfrm>
          <a:prstGeom prst="line">
            <a:avLst/>
          </a:prstGeom>
          <a:ln w="25560">
            <a:solidFill>
              <a:srgbClr val="00cc99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413400" y="2527200"/>
            <a:ext cx="736560" cy="2718000"/>
          </a:xfrm>
          <a:prstGeom prst="rect">
            <a:avLst/>
          </a:prstGeom>
          <a:solidFill>
            <a:srgbClr val="00cccc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400800" y="3703680"/>
            <a:ext cx="7621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SM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676520" y="4114800"/>
            <a:ext cx="457200" cy="1676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ent and Process Medi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293760" y="1230480"/>
            <a:ext cx="3507840" cy="2993760"/>
            <a:chOff x="293760" y="1230480"/>
            <a:chExt cx="3507840" cy="2993760"/>
          </a:xfrm>
        </p:grpSpPr>
        <p:sp>
          <p:nvSpPr>
            <p:cNvPr id="84" name=""/>
            <p:cNvSpPr/>
            <p:nvPr/>
          </p:nvSpPr>
          <p:spPr>
            <a:xfrm>
              <a:off x="293760" y="1608120"/>
              <a:ext cx="2489040" cy="2489040"/>
            </a:xfrm>
            <a:prstGeom prst="ellipse">
              <a:avLst/>
            </a:prstGeom>
            <a:solidFill>
              <a:srgbClr val="3333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38440" y="1424160"/>
              <a:ext cx="0" cy="742680"/>
            </a:xfrm>
            <a:prstGeom prst="line">
              <a:avLst/>
            </a:prstGeom>
            <a:ln w="507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538440" y="2452680"/>
              <a:ext cx="0" cy="743040"/>
            </a:xfrm>
            <a:prstGeom prst="line">
              <a:avLst/>
            </a:prstGeom>
            <a:ln w="507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538440" y="3481560"/>
              <a:ext cx="0" cy="742680"/>
            </a:xfrm>
            <a:prstGeom prst="line">
              <a:avLst/>
            </a:prstGeom>
            <a:ln w="507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240720" y="1230480"/>
              <a:ext cx="560880" cy="20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9840" rIns="69840" tIns="34920" bIns="349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1" lang="en-US" sz="900" spc="-1" strike="noStrike">
                  <a:solidFill>
                    <a:srgbClr val="ccccff"/>
                  </a:solidFill>
                  <a:latin typeface="Arial"/>
                </a:rPr>
                <a:t>Interne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355920" y="3287880"/>
              <a:ext cx="381240" cy="20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9840" rIns="69840" tIns="34920" bIns="349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1" lang="en-US" sz="900" spc="-1" strike="noStrike">
                  <a:solidFill>
                    <a:srgbClr val="00cc99"/>
                  </a:solidFill>
                  <a:latin typeface="Arial"/>
                </a:rPr>
                <a:t>VA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297960" y="2259000"/>
              <a:ext cx="497160" cy="20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9840" rIns="69840" tIns="34920" bIns="349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SWIF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93760" y="1608120"/>
              <a:ext cx="2489040" cy="2489040"/>
            </a:xfrm>
            <a:prstGeom prst="ellipse">
              <a:avLst/>
            </a:prstGeom>
            <a:solidFill>
              <a:srgbClr val="3333cc"/>
            </a:solidFill>
            <a:ln w="255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966960" y="2509920"/>
              <a:ext cx="685800" cy="228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V="1">
              <a:off x="966960" y="2909520"/>
              <a:ext cx="685800" cy="228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36480" y="2179800"/>
              <a:ext cx="317520" cy="431640"/>
            </a:xfrm>
            <a:prstGeom prst="rect">
              <a:avLst/>
            </a:prstGeom>
            <a:solidFill>
              <a:srgbClr val="cc66ff"/>
            </a:solidFill>
            <a:ln w="2556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36480" y="2979720"/>
              <a:ext cx="317520" cy="431640"/>
            </a:xfrm>
            <a:prstGeom prst="rect">
              <a:avLst/>
            </a:prstGeom>
            <a:solidFill>
              <a:srgbClr val="cc66ff"/>
            </a:solidFill>
            <a:ln w="2556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481040" y="2281320"/>
              <a:ext cx="171720" cy="228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150920" y="1836720"/>
              <a:ext cx="317520" cy="431640"/>
            </a:xfrm>
            <a:prstGeom prst="rect">
              <a:avLst/>
            </a:prstGeom>
            <a:solidFill>
              <a:srgbClr val="cc66ff"/>
            </a:solidFill>
            <a:ln w="2556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 flipV="1">
              <a:off x="2224080" y="1766520"/>
              <a:ext cx="1314360" cy="857160"/>
            </a:xfrm>
            <a:prstGeom prst="line">
              <a:avLst/>
            </a:prstGeom>
            <a:ln w="25560">
              <a:solidFill>
                <a:srgbClr val="ccccff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224080" y="2852640"/>
              <a:ext cx="1314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224080" y="3024360"/>
              <a:ext cx="1314360" cy="914400"/>
            </a:xfrm>
            <a:prstGeom prst="line">
              <a:avLst/>
            </a:prstGeom>
            <a:ln w="25560">
              <a:solidFill>
                <a:srgbClr val="00cc99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665360" y="1836720"/>
              <a:ext cx="546120" cy="2031840"/>
            </a:xfrm>
            <a:prstGeom prst="rect">
              <a:avLst/>
            </a:prstGeom>
            <a:solidFill>
              <a:srgbClr val="00cccc"/>
            </a:solidFill>
            <a:ln w="255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652760" y="2716200"/>
              <a:ext cx="571320" cy="20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9840" rIns="69840" tIns="34920" bIns="3492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WSMF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"/>
          <p:cNvSpPr/>
          <p:nvPr/>
        </p:nvSpPr>
        <p:spPr>
          <a:xfrm>
            <a:off x="2209680" y="4419720"/>
            <a:ext cx="129564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990720" y="4419720"/>
            <a:ext cx="68580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360880" y="4389480"/>
            <a:ext cx="9410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OAGIS 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926280" y="4389480"/>
            <a:ext cx="7624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SAP 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312200" y="5761080"/>
            <a:ext cx="15444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Process med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371600" y="5562720"/>
            <a:ext cx="1449360" cy="458640"/>
          </a:xfrm>
          <a:custGeom>
            <a:avLst/>
            <a:gdLst/>
            <a:ahLst/>
            <a:rect l="l" t="t" r="r" b="b"/>
            <a:pathLst>
              <a:path w="913" h="289">
                <a:moveTo>
                  <a:pt x="912" y="0"/>
                </a:moveTo>
                <a:lnTo>
                  <a:pt x="912" y="288"/>
                </a:lnTo>
                <a:lnTo>
                  <a:pt x="0" y="288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3333cc"/>
            </a:solidFill>
            <a:round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654000" y="1981080"/>
            <a:ext cx="5108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4440" indent="-334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cess Med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92000" indent="-34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ticipate and provide processes to handle ordering constraints between mediated 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4440" indent="-334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mantic Med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92000" indent="-34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rge semi-automated message format and term mapping syste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92000" indent="-34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ppings are necessarily PART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92000" indent="-34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ams of people to maintain them due to continuous version chan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209680" y="4648320"/>
            <a:ext cx="1295640" cy="0"/>
          </a:xfrm>
          <a:prstGeom prst="line">
            <a:avLst/>
          </a:prstGeom>
          <a:ln w="25560">
            <a:solidFill>
              <a:srgbClr val="3333cc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307600" y="4618080"/>
            <a:ext cx="10490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OAGIS A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09680" y="4876920"/>
            <a:ext cx="1295640" cy="0"/>
          </a:xfrm>
          <a:prstGeom prst="line">
            <a:avLst/>
          </a:prstGeom>
          <a:ln w="25560">
            <a:solidFill>
              <a:srgbClr val="3333cc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308320" y="4846680"/>
            <a:ext cx="1050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OAGIS PO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209680" y="5105520"/>
            <a:ext cx="129564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307600" y="5075280"/>
            <a:ext cx="10490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OAGIS A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990720" y="4876920"/>
            <a:ext cx="685800" cy="0"/>
          </a:xfrm>
          <a:prstGeom prst="line">
            <a:avLst/>
          </a:prstGeom>
          <a:ln w="25560">
            <a:solidFill>
              <a:srgbClr val="3333cc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71920" y="4846680"/>
            <a:ext cx="8722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SAP PO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668600" y="4114800"/>
            <a:ext cx="541080" cy="176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56133-A986-4BB8-9D9B-DC702EF363E0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/3/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levant Agent Architectures to Consider As Participating in the Semantic We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P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ABS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uga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tsi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A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ientific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rchitectures for Semantic Integratio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Whose ontologies are these anyway?)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ly Grail: Ontological Negoti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tus Qu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manual mappings, limited interlingua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Ontolog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ual Mapp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lingua Ontolog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Ontolog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685800" y="457200"/>
            <a:ext cx="7953480" cy="59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762120" y="762120"/>
            <a:ext cx="7391160" cy="55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ar-term Objec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velop full use cases in different environments, domai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ases with people interacting with services and not, providing ontology maintenance support at different points in the archite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view and determine feasibility of building on top of W3C WS Archite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ild some small feasibility prototyp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ls is the key iss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1T12:42:49Z</dcterms:created>
  <dc:creator>burstein</dc:creator>
  <dc:description/>
  <dc:language>en-US</dc:language>
  <cp:lastModifiedBy>burstein</cp:lastModifiedBy>
  <dcterms:modified xsi:type="dcterms:W3CDTF">2003-05-02T18:41:35Z</dcterms:modified>
  <cp:revision>4</cp:revision>
  <dc:subject/>
  <dc:title>Issues for SWS-Architecture</dc:title>
</cp:coreProperties>
</file>