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2E99-2827-4F85-8CE0-969C20416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83C7-D0DF-4560-8719-E6CD7CE5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57DD-395C-48FE-B60A-1D02A636D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BAC6-FB5D-4C91-8104-AF20A2D3D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ADB1-9E15-47D1-936B-9891EC773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1F46-A46E-470B-BB0F-30E042B1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29EA-EDEA-428F-B91C-222B78B4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5078-35A8-42D4-AE42-E227598F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9965-B79B-4D24-8EC8-06473D1A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016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D722-827D-4340-952B-E26F8E33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6906-6F6C-426D-BDA0-3721F843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41EE-DF99-4410-AB64-7E79D2FA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F740-C20E-4FA3-BEF4-A8D939F8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BDB9-7995-4334-B524-EEEC6826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1F52-5C67-404A-90A5-F6583F24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38ED-FEBB-4978-A510-D59812F98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6411-95D6-4001-BA48-6F04FCAFC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3F07-1035-4444-B737-7454262C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4932-371B-4E65-BC04-9CA70BBF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D1DD-6DFA-492B-AB29-19352902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016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C0BD-EBD5-461F-8E1A-07F2AB1E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C590-E953-41F6-9195-F3562C85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18BD-E461-4F06-BFCA-DE2BDE5D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C886-39C3-4CE2-941B-C11B4739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DE73-D74F-4E3B-BC04-381BCAC8E2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42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43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4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51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ntologies – Deborah L. McGuinn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0D87-F54D-41BD-95D5-0464E38D41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ksl.stanford.edu/people/dlm/papers/ontologies-come-of-age-abstract.html" TargetMode="External"/><Relationship Id="rId2" Type="http://schemas.openxmlformats.org/officeDocument/2006/relationships/hyperlink" Target="http://www.ksl.stanford.edu/people/dlm/papers/ontologies-and-online-commerce-abstract.html" TargetMode="External"/><Relationship Id="rId3" Type="http://schemas.openxmlformats.org/officeDocument/2006/relationships/hyperlink" Target="http://www.daml.org/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ksl.stanford.edu/projects/DAML/chimaera-jtp-cardinality-test1.da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ksl.stanford.edu/software/chimaera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cccc"/>
                </a:solidFill>
                <a:latin typeface="Times New Roman"/>
              </a:rPr>
              <a:t>Ontologies  (What they are; Why you should care; What you should know)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447920" y="2895480"/>
            <a:ext cx="72388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borah L. McGuin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ociate Director and Senior Research Scient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ledge Systems Labora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nford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nford, CA 943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50-723-977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lm@ksl.stanford.e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Some Pointers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tologies Come of Age Paper: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  <a:hlinkClick r:id="rId1"/>
              </a:rPr>
              <a:t>http://www.ksl.stanford.edu/people/dlm/papers/ontologies-come-of-age-abstract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tologies and Online Commerce Paper: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  <a:hlinkClick r:id="rId2"/>
              </a:rPr>
              <a:t>http://www.ksl.stanford.edu/people/dlm/papers/ontologies-and-online-commerce-abstract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ML+OIL: 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http://www.daml.org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Extras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3520" y="-2289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E-Commerce  Search </a:t>
            </a:r>
            <a:br>
              <a:rPr sz="4400"/>
            </a:br>
            <a:r>
              <a:rPr b="0" i="1" lang="en-US" sz="2000" spc="-1" strike="noStrike">
                <a:solidFill>
                  <a:srgbClr val="00cccc"/>
                </a:solidFill>
                <a:latin typeface="Times New Roman"/>
              </a:rPr>
              <a:t>(starting point Forrester Research modified by McGuinness)</a:t>
            </a:r>
            <a:endParaRPr b="0" i="1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lvl="2" marL="868680" indent="-17352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sk Queri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multiple search interfaces (surgical shoppers, advice seekers, window shoppe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et user expectations (interactive query refinement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nticipate anomal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-17352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et Answ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basic information (multiple sorts, filtering, structur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modify results (user defined parameters for refining, user profile info, narrow query, broaden query, disambiguate quer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uggest alternatives (suggest other comparable products even from competitor’s sit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-17352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ke Deci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manipulate results (enable side by side comparis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ive deeper (provide additional info, multimedia, other view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take action (bu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The Need For KB Analysis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11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rge-scale knowledge repositories will necessarily contain KBs produced by multiple authors in multiple setting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1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Bs for applications will typically be built by assembling and extending multiple modular KBs from repositorie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hat may not be consist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1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Bs developed by multiple authors will frequent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ress overlapping knowledge i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ifferent, possibly contradictory w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differing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ssumptio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ty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1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such KBs to be used as building blocks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hey must be reviewed for appropriateness and “correctnes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1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is, they must b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naly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Our KB Analysis Task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vie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KBs tha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re develope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sing differing stand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ay be syntactically but not semantically valid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y use differing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odel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representat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roduce KB logs (in interactive environmen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dentify provable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uggest possible problems in style and/or mode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re extensible by being user programm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   </a:t>
            </a:r>
            <a:br>
              <a:rPr sz="4400"/>
            </a:b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kb-upload-languages" descr=""/>
          <p:cNvPicPr/>
          <p:nvPr/>
        </p:nvPicPr>
        <p:blipFill>
          <a:blip r:embed="rId1"/>
          <a:srcRect l="0" t="0" r="3172" b="18944"/>
          <a:stretch/>
        </p:blipFill>
        <p:spPr>
          <a:xfrm>
            <a:off x="1828800" y="609480"/>
            <a:ext cx="67816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  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analysis-menu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419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   </a:t>
            </a:r>
            <a:br>
              <a:rPr sz="4400"/>
            </a:b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collage0" descr=""/>
          <p:cNvPicPr/>
          <p:nvPr/>
        </p:nvPicPr>
        <p:blipFill>
          <a:blip r:embed="rId1"/>
          <a:stretch/>
        </p:blipFill>
        <p:spPr>
          <a:xfrm>
            <a:off x="1828800" y="762120"/>
            <a:ext cx="6248520" cy="3171600"/>
          </a:xfrm>
          <a:prstGeom prst="rect">
            <a:avLst/>
          </a:prstGeom>
          <a:ln w="0">
            <a:noFill/>
          </a:ln>
        </p:spPr>
      </p:pic>
      <p:pic>
        <p:nvPicPr>
          <p:cNvPr id="153" name="collage1" descr=""/>
          <p:cNvPicPr/>
          <p:nvPr/>
        </p:nvPicPr>
        <p:blipFill>
          <a:blip r:embed="rId2"/>
          <a:stretch/>
        </p:blipFill>
        <p:spPr>
          <a:xfrm>
            <a:off x="2286000" y="4724280"/>
            <a:ext cx="443880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6705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What is an Ontology?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42900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34290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38280" y="3429000"/>
            <a:ext cx="16002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342900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429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4320" y="3429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0120" y="34290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0" y="2286000"/>
            <a:ext cx="138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talog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53120" y="1905120"/>
            <a:ext cx="1722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ra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840" y="3809880"/>
            <a:ext cx="136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rms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oss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8680" y="1523880"/>
            <a:ext cx="162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au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rro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rm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1120" y="190512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-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62720" y="182880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properti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1523880"/>
            <a:ext cx="1905120" cy="4114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15000" y="34290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77120" y="342900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36576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-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6576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38862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ue Rest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43800" y="3733920"/>
            <a:ext cx="160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jointness, Inverse, part-of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0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cccc"/>
                </a:solidFill>
                <a:latin typeface="Times New Roman"/>
              </a:rPr>
              <a:t>Ontologies and importance to E-Commerce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154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2" marL="1040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ontologies (taxonomies) provi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olled shared vocabulary  (search engines, authors, users, databases, programs/agents all speak same languag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te Organization and Navigation Sup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ectation setting  (left side of many web pag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mbrella” Upper Level Structures (for extens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owsing support (tagged structures such as Yahoo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arch support (query expansion approaches such as FindUR, e-Cy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se disambig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cccc"/>
                </a:solidFill>
                <a:latin typeface="Times New Roman"/>
              </a:rPr>
              <a:t>Ontologies and importance to E-Commerce  II</a:t>
            </a:r>
            <a:endParaRPr b="0" i="1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stency Chec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le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operability Sup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 for validation and verification testing  (e.g.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hlinkClick r:id="rId1"/>
              </a:rPr>
              <a:t>http://ksl.stanford.edu/projects/DAML/chimaera-jtp-cardinality-test1.daml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iguration sup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ed, “surgical” comparative customized 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lization/ Special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ndation for expansion and lever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-2286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cccc"/>
                </a:solidFill>
                <a:latin typeface="Times New Roman"/>
              </a:rPr>
              <a:t>A Few Observations about Ontologies</a:t>
            </a:r>
            <a:endParaRPr b="0" i="1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05280" y="533520"/>
            <a:ext cx="944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lvl="1" marL="527400" indent="-202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ple ontologies can be built by non-expe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11440" indent="-16200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ity’s Topic Editor, Collaborative Topic Builder, GFP, Chimaera, Protégé, OIL-ED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ntologies can be semi-automatically gener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11440" indent="-16200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 crawls of site such as yahoo!, amazon, excit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11440" indent="-16200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mi-structured sites can provide starting p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ntologies are exploding   (business pull instead of technology push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11440" indent="-16200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e-commerce sites are using them - MySimon, Amazon, Yahoo! Shopping, VerticalNet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11440" indent="-16200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led vocabularies (for the web) abound -  SIC codes,  UMLS, UN/SPSC, Open Directory (DMOZ), Rosetta Net, SU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11440" indent="-16200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siness interest expanding – ontology directors, business ontologies are becoming more complicated (roles, value restrictions, …), VC firms intereste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11440" indent="-16200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TDs are making more ontology information avail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11440" indent="-16200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kup Languages growing XML, RDF, DAML, RuleML, xx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11440" indent="-16200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l” ontologies are becoming more central to 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Implications and Needs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tology Language Syntax and Semantics (DAML+OI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ironments for Creation and Maintenance of  Ontolog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ining (Conceptual Modeling, reasoning implications, …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Issues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lvl="1" marL="579240" indent="-222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laboration among distributed te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connectivity with many systems/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alysis and diagn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sio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u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verse training levels /user sup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entation sty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fecy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nsi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90560" y="30456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himaera – A Ontology Environment Tool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130" name="chimaera" descr=""/>
          <p:cNvPicPr/>
          <p:nvPr/>
        </p:nvPicPr>
        <p:blipFill>
          <a:blip r:embed="rId1"/>
          <a:stretch/>
        </p:blipFill>
        <p:spPr>
          <a:xfrm>
            <a:off x="0" y="0"/>
            <a:ext cx="2066760" cy="15336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09440" y="1905120"/>
            <a:ext cx="9034560" cy="50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interactive web-based tool aimed at support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tology analysis (correctness, completeness, style, 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rging of ontological terms from varied 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taining ontologies over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idation of in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atures:   multiple I/O languages, loading and merging into multiple namespaces, collaborative distributed environment support, integrated browsing/editing environment, extensible diagnostic rule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d in commercial and academic enviro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ilable as a hosted service from www-ksl-svc.stanford.ed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ormation: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2"/>
              </a:rPr>
              <a:t>www.ksl.stanford.edu/software/chima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7560" y="-2289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Discussion/Conclusion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944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-257040">
              <a:lnSpc>
                <a:spcPct val="90000"/>
              </a:lnSpc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tologies are exploding;    core of many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siness “pull” is driving ontology language tools and langu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generation applications need more expressive ontologies and more back end reaso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generation users (the general public) need more support than previous users of KR&amp;R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tributed ontologies need more support: merging, analysis, incompleteness, versioning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le and distribution of the web force mind shi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one is in the game – US Government (DARPA, NSF, NIST, …), EU, W3C, consortiums, business,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THE time for ontology work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1T23:20:40Z</dcterms:created>
  <dc:creator>Deborah McGuinness, Ph.D.</dc:creator>
  <dc:description>TIC Talk - Post DAML PI meeting 2/16/01</dc:description>
  <dc:language>en-US</dc:language>
  <cp:lastModifiedBy>Thomas J. Martin</cp:lastModifiedBy>
  <cp:lastPrinted>1999-07-17T02:30:43Z</cp:lastPrinted>
  <dcterms:modified xsi:type="dcterms:W3CDTF">2003-04-16T22:28:29Z</dcterms:modified>
  <cp:revision>254</cp:revision>
  <dc:subject/>
  <dc:title>Ontologies (What they are, why you should care)</dc:title>
</cp:coreProperties>
</file>