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1.wmf" ContentType="image/x-wmf"/>
  <Override PartName="/ppt/media/image10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4.wmf" ContentType="image/x-wmf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87A1-7939-4188-AFF4-2C210C444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 from third pa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anna Bryson, AAM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ent-Based Composite Services in OWL-S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r-Oriented Design of an Intelligent Semantic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 Abela, David Butler (Georgia Te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 from third pa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anna Bryson, AAM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ent-Based Composite Services in OWL-S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r-Oriented Design of an Intelligent Semantic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 Abela, David Butler (Georgia Te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anna Bryson, AAM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ent-Based Composite Services in OWL-S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r-Oriented Design of an Intelligent Semantic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: de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it shows that the coalition is very much aware of what the industry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ing and trying to develop compatible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we can see explicitly what additional benefits OWL-S provides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ent "standards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F3A-CC28-4A7D-BD5A-F1AEDA18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1BC-7EE7-4635-AC7F-78C7E0F8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F03-A9FA-4A99-B60D-A75F0FF5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13C-3D4C-4838-AC72-BAE0DCF2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00F-1C8B-4BD6-B11E-71821FD4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375-BE6C-4D3F-8A85-99F5E869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3FE-70D3-45F8-832E-BDCBAA51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9D0-2928-48DC-9E5D-B50B0DF6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282-14A0-4201-BFC4-ACCBCC42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B34-D4ED-4F78-BCFB-9B7A5EB9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A06-3D42-4AD3-B406-D543ADD1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DB3-8CAA-4D88-B039-79BDCCA4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865F-8E68-4906-92B7-948758BBD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aml.org/services/" TargetMode="External"/><Relationship Id="rId2" Type="http://schemas.openxmlformats.org/officeDocument/2006/relationships/hyperlink" Target="http://www.mindswap.org/~evren/composer/" TargetMode="External"/><Relationship Id="rId3" Type="http://schemas.openxmlformats.org/officeDocument/2006/relationships/hyperlink" Target="http://128.2.199.68/project" TargetMode="External"/><Relationship Id="rId4" Type="http://schemas.openxmlformats.org/officeDocument/2006/relationships/hyperlink" Target="mailto:www-ws@w3.org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daml.org/services/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aml.org/services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aml.org/services/" TargetMode="External"/><Relationship Id="rId2" Type="http://schemas.openxmlformats.org/officeDocument/2006/relationships/hyperlink" Target="http://www.daml.org/services/" TargetMode="External"/><Relationship Id="rId3" Type="http://schemas.openxmlformats.org/officeDocument/2006/relationships/hyperlink" Target="http://www.daml.org/services/" TargetMode="External"/><Relationship Id="rId4" Type="http://schemas.openxmlformats.org/officeDocument/2006/relationships/hyperlink" Target="http://www.daml.org/services/" TargetMode="External"/><Relationship Id="rId5" Type="http://schemas.openxmlformats.org/officeDocument/2006/relationships/hyperlink" Target="http://www.daml.org/services/" TargetMode="External"/><Relationship Id="rId6" Type="http://schemas.openxmlformats.org/officeDocument/2006/relationships/hyperlink" Target="http://www.daml.org/services/" TargetMode="External"/><Relationship Id="rId7" Type="http://schemas.openxmlformats.org/officeDocument/2006/relationships/hyperlink" Target="http://www.daml.org/services/" TargetMode="External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ygrid.man.ac.uk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gentcities.org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lcentral.com/" TargetMode="External"/><Relationship Id="rId2" Type="http://schemas.openxmlformats.org/officeDocument/2006/relationships/hyperlink" Target="http://www.xmethods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rt III: Resources &amp;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 &amp;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ML-S Ed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5720" y="1295280"/>
            <a:ext cx="762228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ditor tailored to the markup of Web Services in DAML-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just an ontology editor -- focus on end user needs and intui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phical and form e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ML-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cipated User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ice provid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3rd party Web page develo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d-ary Web service provi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DAML commun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ac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ology editor and reasoner behind the sc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ill make it significan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lue added by reason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ation of properties of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of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5000" y="609480"/>
            <a:ext cx="7612200" cy="5486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Create new DAML-S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5000" y="609480"/>
            <a:ext cx="761220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5121360"/>
            <a:ext cx="9144000" cy="15570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Search Tap server for reusable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Inspect Class/Instance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(notice the inputs/outputs/pre/effect for subclasses of DAML-S P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944720" y="2430360"/>
            <a:ext cx="936720" cy="262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1933200" y="3877920"/>
            <a:ext cx="693720" cy="1236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970080" y="3414240"/>
            <a:ext cx="1654200" cy="174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5000" y="609480"/>
            <a:ext cx="7612200" cy="5486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121360"/>
            <a:ext cx="9144000" cy="8254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Expand the search results (view the subclasses of search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933560" y="3749400"/>
            <a:ext cx="798480" cy="132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5000" y="609480"/>
            <a:ext cx="7612200" cy="5486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Load reusable ontologies into J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05640" y="3125520"/>
            <a:ext cx="892080" cy="21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5000" y="609480"/>
            <a:ext cx="7612200" cy="5486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429912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Create new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54760"/>
            <a:ext cx="9144000" cy="8254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dd/remove new property, add/remove/modify property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73960" y="4851360"/>
            <a:ext cx="568080" cy="47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000760" y="5567040"/>
            <a:ext cx="4608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587520" y="152280"/>
          <a:ext cx="8099280" cy="65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152280"/>
                    <a:ext cx="80992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 flipH="1" flipV="1">
            <a:off x="2373120" y="2455920"/>
            <a:ext cx="463320" cy="74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1525680" y="561960"/>
            <a:ext cx="1270080" cy="781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332080" y="549360"/>
            <a:ext cx="463680" cy="74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8800" y="1311120"/>
            <a:ext cx="6653160" cy="119124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/edit a simple/composit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ify Control Flow of composit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ify Data Flow of composit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6440" y="4919760"/>
            <a:ext cx="5360760" cy="8254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llete of service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&amp; Control Flow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290680" y="4189320"/>
            <a:ext cx="463680" cy="74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28800" y="2986200"/>
            <a:ext cx="5067360" cy="8254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llete of connective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rol Flow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533520" y="162000"/>
          <a:ext cx="8099280" cy="65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2000"/>
                    <a:ext cx="80992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owse the Process Ontology to create/edit a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80880" y="152280"/>
          <a:ext cx="8099640" cy="65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809964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5121360"/>
            <a:ext cx="9144000" cy="8254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lect/subclass/sibling a servic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/Edit its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33520" y="162000"/>
          <a:ext cx="8099280" cy="65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2000"/>
                    <a:ext cx="80992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e the control structure for composit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imo Paolucci, Katia Syc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otics Institute, 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on DAML-S Matchmaker, DAML-S API, DAML-S Virtual Machine, WSDL2DAML-S, DAML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ila McIlraith, Honglei Zeng, Rob McC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Systems Lab, Stanfo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on DAML-S Editor, Automated Web Service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511200" y="162000"/>
          <a:ext cx="8099280" cy="65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162000"/>
                    <a:ext cx="80992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lect a service and inspect its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533520" y="162000"/>
          <a:ext cx="8099280" cy="65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2000"/>
                    <a:ext cx="80992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2895480" y="20574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23623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e the data flow within a composit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27440" y="297000"/>
            <a:ext cx="6799680" cy="61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dfs:Class rdf:ID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andedAcmeMovingServ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dfs:subClassOf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.daml.org/services/daml-s/2001/05/Process#Seq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  <a:hlinkClick r:id="rId1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ml:onProperty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.daml.org/services/daml-s/2001/05/Process#compon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ml:toClass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#PROCESS-LIST-14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rdfs:Class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rdfs:Class rdf:ID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-LIST-14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dfs:subClassOf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.daml.org/services/daml-s/2001/05/Process#Process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ml:onProperty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.daml.org/2001/03/daml+oil#fir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ml:toClass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#AcmeConfirmMvRou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ml:onProperty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.daml.org/2001/03/daml+oil#re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ml:toClass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#PROCESS-LIST-14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rdfs:Class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rdfs:Class rdf:ID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-LIST-14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dfs:subClassOf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.daml.org/services/daml-s/2001/05/Process#Process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ally, generate the DAML-S for th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Spot: Matchm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Triangle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38080" y="380880"/>
            <a:ext cx="7772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Spot: Matchm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5360" y="6095880"/>
            <a:ext cx="476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“Web Services Architecture W3C Working Draft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w3.org/TR/2002/WD-ws-arch-20021114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1219320"/>
            <a:ext cx="5639040" cy="1981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Spot: Matchm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atchmakers (and other forms of middle agents) have been a focus in work on softwar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ork on DL-based matchmaking predates D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emantic Web has brought renewed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.g. Paolucci/Sycara (CMU), Trastour (HP Labs), Lei/Horrocks (Manchester)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most or all SW Services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previous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also: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1"/>
              </a:rPr>
              <a:t>http://www.daml.org/service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ML-S Matchma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llow pages matching serv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eb services and agents advertise their capabilities or look for agents and Web services with a given capabilit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DAML-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present capability of 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ends UDD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gistry by adding capability matching which is impossible to do without semantic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hasis on flexible matching against services not known a pr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ML-S Matchmaker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Web interface to compile advertisements and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easier for human users to compile advertisements and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require profound knowledge of DAML and DAML-S synta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available 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ww.damlsmm.ri.cmu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Spot: Matchm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Triangle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380880"/>
            <a:ext cx="7772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Spot: Service Pro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5360" y="6095880"/>
            <a:ext cx="476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“Web Services Architecture W3C Working Draft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w3.org/TR/2002/WD-ws-arch-20021114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4343400"/>
            <a:ext cx="3657600" cy="1981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ML-S V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2895120"/>
            <a:ext cx="41907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L-S processor that allows any Web service to interact with Web services using only DAML-S specific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VMarchitecture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tures of DAML-S V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DAML-S as representation of Web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DAML to represent information to exchange between Web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ly adopts logic inference to reason about DAML-S and DAML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how to integrate DAML-S within Web services technology such as Axis and WS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36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site &amp; mailing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"/>
              </a:rPr>
              <a:t>http://www.daml.org/servic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54200" indent="-150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pages for collecting use cases, tools, samp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sw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-ws@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conference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L-S/OWL-S &amp; related pub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and va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daml.org/servic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3C Web services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, Architecture, Choreography W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discussion: Semantic Web  Services 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s: Katia Sycara, Jim Hendler, Bijan Pars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ML-S for P2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DAML-S to expand search mechanism on Gnutella P2P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capabilities in Gnutella restricted to keyword search – No Seman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e on Gnutel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dding semantics in DAML and capability representation in DAML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the need of centralized Regis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 DAML nodes allow requests to hop from node to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L nodes reason about the requests that they receive and decide whether to accept the ta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Spot: Matchm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Triangle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38080" y="380880"/>
            <a:ext cx="7772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Spot (?):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5360" y="6095880"/>
            <a:ext cx="476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“Web Services Architecture W3C Working Draft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w3.org/TR/2002/WD-ws-arch-20021114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4343400"/>
            <a:ext cx="7467840" cy="1981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Spot: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tanford Knowledge Systems Lab (McIlrai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MU Robotics Lab (Sycara/Paolucc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MINDSWAP (Hendler/Pars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ttp://www.mindswap.org/~evren/composer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als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daml.org/service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Stanford KSL</a:t>
            </a:r>
            <a:br>
              <a:rPr sz="4000"/>
            </a:b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Automated Web Service 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4120" y="1336680"/>
            <a:ext cx="83296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E.g., Arrange food for 500 people for 2 weeks in Dub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 Plan a sequences of services that realize user’s obj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P complete or wor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Customize reusable generic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fine and archive reusa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ic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ustomiz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’s constra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P complete or worse in a reduced search sp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dvantages:  efficiency, ease of use, 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371600" y="1600200"/>
            <a:ext cx="5867280" cy="4723920"/>
            <a:chOff x="1371600" y="1600200"/>
            <a:chExt cx="5867280" cy="4723920"/>
          </a:xfrm>
        </p:grpSpPr>
        <p:grpSp>
          <p:nvGrpSpPr>
            <p:cNvPr id="173" name=""/>
            <p:cNvGrpSpPr/>
            <p:nvPr/>
          </p:nvGrpSpPr>
          <p:grpSpPr>
            <a:xfrm>
              <a:off x="5486400" y="3258720"/>
              <a:ext cx="1752480" cy="1543680"/>
              <a:chOff x="5486400" y="3258720"/>
              <a:chExt cx="1752480" cy="1543680"/>
            </a:xfrm>
          </p:grpSpPr>
          <p:sp>
            <p:nvSpPr>
              <p:cNvPr id="174" name=""/>
              <p:cNvSpPr/>
              <p:nvPr/>
            </p:nvSpPr>
            <p:spPr>
              <a:xfrm>
                <a:off x="5486400" y="4282200"/>
                <a:ext cx="1752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DAML-enabled web pag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5903640" y="3258720"/>
                <a:ext cx="1001160" cy="977400"/>
                <a:chOff x="5903640" y="3258720"/>
                <a:chExt cx="1001160" cy="977400"/>
              </a:xfrm>
            </p:grpSpPr>
            <p:grpSp>
              <p:nvGrpSpPr>
                <p:cNvPr id="176" name=""/>
                <p:cNvGrpSpPr/>
                <p:nvPr/>
              </p:nvGrpSpPr>
              <p:grpSpPr>
                <a:xfrm>
                  <a:off x="6318000" y="3258720"/>
                  <a:ext cx="241560" cy="244440"/>
                  <a:chOff x="6318000" y="3258720"/>
                  <a:chExt cx="241560" cy="2444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6318000" y="325872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6352560" y="335016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6387120" y="335016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352560" y="338076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387120" y="338076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421320" y="338076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387120" y="341136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972400" y="3991680"/>
                  <a:ext cx="241560" cy="244440"/>
                  <a:chOff x="5972400" y="3991680"/>
                  <a:chExt cx="241560" cy="24444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972400" y="399168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6006960" y="40831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6041520" y="40831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006960" y="41137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6041520" y="41137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075720" y="41137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041520" y="41443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5903640" y="3533400"/>
                  <a:ext cx="241560" cy="244440"/>
                  <a:chOff x="5903640" y="3533400"/>
                  <a:chExt cx="241560" cy="24444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5903640" y="353340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5938200" y="36248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5972760" y="362484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5938200" y="36554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5972760" y="36554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006960" y="365544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5972760" y="36860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559560" y="3991680"/>
                  <a:ext cx="241560" cy="244440"/>
                  <a:chOff x="6559560" y="3991680"/>
                  <a:chExt cx="241560" cy="24444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6559560" y="399168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594120" y="40831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628680" y="40831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594120" y="41137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628680" y="41137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662880" y="41137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628680" y="41443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6318000" y="3686400"/>
                  <a:ext cx="241560" cy="244080"/>
                  <a:chOff x="6318000" y="3686400"/>
                  <a:chExt cx="241560" cy="2440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6318000" y="3686400"/>
                    <a:ext cx="241560" cy="24408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352560" y="37778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387120" y="377784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352560" y="38084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387120" y="38084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421320" y="380844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387120" y="38390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6663240" y="3533400"/>
                  <a:ext cx="241560" cy="244440"/>
                  <a:chOff x="6663240" y="3533400"/>
                  <a:chExt cx="241560" cy="24444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6663240" y="353340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697800" y="36248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732360" y="362484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697800" y="36554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732360" y="36554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766560" y="365544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6732360" y="36860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 flipH="1" flipV="1">
                  <a:off x="6041520" y="3746880"/>
                  <a:ext cx="6912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6110640" y="3441600"/>
                  <a:ext cx="20700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6144840" y="3503160"/>
                  <a:ext cx="241560" cy="51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>
                  <a:off x="6144840" y="3655800"/>
                  <a:ext cx="310680" cy="3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6559560" y="3686040"/>
                  <a:ext cx="10332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>
                  <a:off x="6559200" y="3441960"/>
                  <a:ext cx="103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6041160" y="3350160"/>
                  <a:ext cx="27612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 flipV="1">
                  <a:off x="6455520" y="3899520"/>
                  <a:ext cx="10332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214320" y="4083480"/>
                  <a:ext cx="345240" cy="3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6697800" y="3777840"/>
                  <a:ext cx="34560" cy="21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 flipV="1">
              <a:off x="3886200" y="4267080"/>
              <a:ext cx="304920" cy="53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95680" y="4267080"/>
              <a:ext cx="0" cy="60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876920" y="4267080"/>
              <a:ext cx="304560" cy="53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495680" y="31237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1905120" y="5257440"/>
              <a:ext cx="871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638680" y="3124080"/>
              <a:ext cx="30492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3352680" y="4952520"/>
              <a:ext cx="533520" cy="533160"/>
              <a:chOff x="3352680" y="4952520"/>
              <a:chExt cx="533520" cy="53316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3386160" y="5257440"/>
                <a:ext cx="468720" cy="228240"/>
                <a:chOff x="3386160" y="5257440"/>
                <a:chExt cx="468720" cy="228240"/>
              </a:xfrm>
            </p:grpSpPr>
            <p:sp>
              <p:nvSpPr>
                <p:cNvPr id="242" name=""/>
                <p:cNvSpPr/>
                <p:nvPr/>
              </p:nvSpPr>
              <p:spPr>
                <a:xfrm flipH="1">
                  <a:off x="3386160" y="5257440"/>
                  <a:ext cx="200880" cy="2282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654000" y="5257440"/>
                  <a:ext cx="200880" cy="2282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 flipV="1">
                <a:off x="3352680" y="4952160"/>
                <a:ext cx="533520" cy="456840"/>
              </a:xfrm>
              <a:custGeom>
                <a:avLst/>
                <a:gdLst>
                  <a:gd name="textAreaLeft" fmla="*/ 117360 w 533520"/>
                  <a:gd name="textAreaRight" fmla="*/ 416160 w 533520"/>
                  <a:gd name="textAreaTop" fmla="*/ 100440 h 456840"/>
                  <a:gd name="textAreaBottom" fmla="*/ 35640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9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20080" y="5028840"/>
                <a:ext cx="66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654000" y="5028840"/>
                <a:ext cx="66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520080" y="5143320"/>
                <a:ext cx="200520" cy="37800"/>
              </a:xfrm>
              <a:custGeom>
                <a:avLst/>
                <a:gdLst/>
                <a:ahLst/>
                <a:rect l="l" t="t" r="r" b="b"/>
                <a:pathLst>
                  <a:path w="288" h="48">
                    <a:moveTo>
                      <a:pt x="0" y="0"/>
                    </a:moveTo>
                    <a:cubicBezTo>
                      <a:pt x="48" y="24"/>
                      <a:pt x="96" y="48"/>
                      <a:pt x="144" y="48"/>
                    </a:cubicBezTo>
                    <a:cubicBezTo>
                      <a:pt x="192" y="48"/>
                      <a:pt x="264" y="8"/>
                      <a:pt x="288" y="0"/>
                    </a:cubicBezTo>
                  </a:path>
                </a:pathLst>
              </a:custGeom>
              <a:solidFill>
                <a:srgbClr val="990099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2743200" y="1600200"/>
              <a:ext cx="3505320" cy="1447560"/>
              <a:chOff x="2743200" y="1600200"/>
              <a:chExt cx="3505320" cy="1447560"/>
            </a:xfrm>
          </p:grpSpPr>
          <p:sp>
            <p:nvSpPr>
              <p:cNvPr id="249" name=""/>
              <p:cNvSpPr/>
              <p:nvPr/>
            </p:nvSpPr>
            <p:spPr>
              <a:xfrm>
                <a:off x="2781360" y="1600200"/>
                <a:ext cx="3429000" cy="1447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2743200" y="1692000"/>
                <a:ext cx="3505320" cy="1282320"/>
                <a:chOff x="2743200" y="1692000"/>
                <a:chExt cx="3505320" cy="12823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191120" y="20574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" name=""/>
                <p:cNvGrpSpPr/>
                <p:nvPr/>
              </p:nvGrpSpPr>
              <p:grpSpPr>
                <a:xfrm>
                  <a:off x="4648320" y="1692000"/>
                  <a:ext cx="1600200" cy="1282320"/>
                  <a:chOff x="4648320" y="1692000"/>
                  <a:chExt cx="1600200" cy="128232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4648320" y="2454120"/>
                    <a:ext cx="160020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Arial"/>
                      </a:rPr>
                      <a:t>Web Service Ontologi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4989600" y="1692000"/>
                    <a:ext cx="915840" cy="782640"/>
                    <a:chOff x="4989600" y="1692000"/>
                    <a:chExt cx="915840" cy="782640"/>
                  </a:xfrm>
                </p:grpSpPr>
                <p:grpSp>
                  <p:nvGrpSpPr>
                    <p:cNvPr id="255" name=""/>
                    <p:cNvGrpSpPr/>
                    <p:nvPr/>
                  </p:nvGrpSpPr>
                  <p:grpSpPr>
                    <a:xfrm>
                      <a:off x="5218200" y="1692000"/>
                      <a:ext cx="687240" cy="717480"/>
                      <a:chOff x="5218200" y="1692000"/>
                      <a:chExt cx="687240" cy="717480"/>
                    </a:xfrm>
                  </p:grpSpPr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5218200" y="1692000"/>
                        <a:ext cx="687240" cy="717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7" name=""/>
                      <p:cNvGrpSpPr/>
                      <p:nvPr/>
                    </p:nvGrpSpPr>
                    <p:grpSpPr>
                      <a:xfrm>
                        <a:off x="5310360" y="1742400"/>
                        <a:ext cx="457200" cy="536400"/>
                        <a:chOff x="5310360" y="1742400"/>
                        <a:chExt cx="457200" cy="536400"/>
                      </a:xfrm>
                    </p:grpSpPr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5671800" y="2188440"/>
                          <a:ext cx="91440" cy="90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H="1" flipV="1">
                          <a:off x="5538600" y="1879920"/>
                          <a:ext cx="4572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>
                          <a:off x="5584680" y="2062440"/>
                          <a:ext cx="136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5538960" y="2062440"/>
                          <a:ext cx="167760" cy="1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H="1">
                          <a:off x="5356080" y="2062440"/>
                          <a:ext cx="182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flipV="1">
                          <a:off x="5493240" y="1788480"/>
                          <a:ext cx="18288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 flipH="1" flipV="1">
                          <a:off x="5447160" y="1742400"/>
                          <a:ext cx="91440" cy="137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 flipH="1">
                          <a:off x="5447160" y="1879920"/>
                          <a:ext cx="91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>
                          <a:off x="5493240" y="2016720"/>
                          <a:ext cx="137160" cy="1368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>
                          <a:off x="5310360" y="201672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>
                          <a:off x="5676120" y="201672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>
                          <a:off x="5493240" y="1834200"/>
                          <a:ext cx="91440" cy="91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>
                          <a:off x="5630400" y="178848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>
                          <a:off x="5401800" y="183420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>
                          <a:off x="5447160" y="1742760"/>
                          <a:ext cx="4572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73" name=""/>
                    <p:cNvGrpSpPr/>
                    <p:nvPr/>
                  </p:nvGrpSpPr>
                  <p:grpSpPr>
                    <a:xfrm>
                      <a:off x="4989600" y="1757160"/>
                      <a:ext cx="687240" cy="717480"/>
                      <a:chOff x="4989600" y="1757160"/>
                      <a:chExt cx="687240" cy="717480"/>
                    </a:xfrm>
                  </p:grpSpPr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4989600" y="1757160"/>
                        <a:ext cx="687240" cy="717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75" name=""/>
                      <p:cNvGrpSpPr/>
                      <p:nvPr/>
                    </p:nvGrpSpPr>
                    <p:grpSpPr>
                      <a:xfrm>
                        <a:off x="5081760" y="1807560"/>
                        <a:ext cx="457200" cy="536400"/>
                        <a:chOff x="5081760" y="1807560"/>
                        <a:chExt cx="457200" cy="536400"/>
                      </a:xfrm>
                    </p:grpSpPr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>
                          <a:off x="5443200" y="2253600"/>
                          <a:ext cx="91440" cy="90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flipH="1" flipV="1">
                          <a:off x="5310000" y="1945080"/>
                          <a:ext cx="4572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>
                          <a:off x="5356080" y="2127600"/>
                          <a:ext cx="136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>
                          <a:off x="5310360" y="2127600"/>
                          <a:ext cx="167760" cy="1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 flipH="1">
                          <a:off x="5127480" y="2127600"/>
                          <a:ext cx="182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 flipV="1">
                          <a:off x="5264640" y="1853640"/>
                          <a:ext cx="18288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flipH="1" flipV="1">
                          <a:off x="5218560" y="1807560"/>
                          <a:ext cx="91440" cy="137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 flipH="1">
                          <a:off x="5218560" y="1945080"/>
                          <a:ext cx="91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>
                          <a:off x="5264640" y="2081880"/>
                          <a:ext cx="137160" cy="1368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>
                          <a:off x="5081760" y="208188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>
                          <a:off x="5447520" y="208188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>
                          <a:off x="5264640" y="1899360"/>
                          <a:ext cx="91440" cy="91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>
                          <a:off x="5401800" y="185364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>
                          <a:off x="5173200" y="189936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>
                          <a:off x="5218560" y="1807920"/>
                          <a:ext cx="4572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2743200" y="1692000"/>
                  <a:ext cx="1600200" cy="1282320"/>
                  <a:chOff x="2743200" y="1692000"/>
                  <a:chExt cx="1600200" cy="128232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2743200" y="2454120"/>
                    <a:ext cx="160020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Arial"/>
                      </a:rPr>
                      <a:t>Web Procedures Ontologi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3084480" y="1692000"/>
                    <a:ext cx="915840" cy="782640"/>
                    <a:chOff x="3084480" y="1692000"/>
                    <a:chExt cx="915840" cy="782640"/>
                  </a:xfrm>
                </p:grpSpPr>
                <p:grpSp>
                  <p:nvGrpSpPr>
                    <p:cNvPr id="294" name=""/>
                    <p:cNvGrpSpPr/>
                    <p:nvPr/>
                  </p:nvGrpSpPr>
                  <p:grpSpPr>
                    <a:xfrm>
                      <a:off x="3313080" y="1692000"/>
                      <a:ext cx="687240" cy="717480"/>
                      <a:chOff x="3313080" y="1692000"/>
                      <a:chExt cx="687240" cy="717480"/>
                    </a:xfrm>
                  </p:grpSpPr>
                  <p:sp>
                    <p:nvSpPr>
                      <p:cNvPr id="295" name=""/>
                      <p:cNvSpPr/>
                      <p:nvPr/>
                    </p:nvSpPr>
                    <p:spPr>
                      <a:xfrm>
                        <a:off x="3313080" y="1692000"/>
                        <a:ext cx="687240" cy="717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96" name=""/>
                      <p:cNvGrpSpPr/>
                      <p:nvPr/>
                    </p:nvGrpSpPr>
                    <p:grpSpPr>
                      <a:xfrm>
                        <a:off x="3405240" y="1742400"/>
                        <a:ext cx="457200" cy="536400"/>
                        <a:chOff x="3405240" y="1742400"/>
                        <a:chExt cx="457200" cy="536400"/>
                      </a:xfrm>
                    </p:grpSpPr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3766680" y="2188440"/>
                          <a:ext cx="91440" cy="90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 flipH="1" flipV="1">
                          <a:off x="3633480" y="1879920"/>
                          <a:ext cx="4572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3679560" y="2062440"/>
                          <a:ext cx="136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3633840" y="2062440"/>
                          <a:ext cx="167760" cy="1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 flipH="1">
                          <a:off x="3450960" y="2062440"/>
                          <a:ext cx="182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 flipV="1">
                          <a:off x="3588120" y="1788480"/>
                          <a:ext cx="18288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 flipH="1" flipV="1">
                          <a:off x="3542040" y="1742400"/>
                          <a:ext cx="91440" cy="137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 flipH="1">
                          <a:off x="3542040" y="1879920"/>
                          <a:ext cx="91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3588120" y="2016720"/>
                          <a:ext cx="137160" cy="1368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3405240" y="201672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3771000" y="201672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>
                          <a:off x="3588120" y="1834200"/>
                          <a:ext cx="91440" cy="91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>
                          <a:off x="3725280" y="178848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3496680" y="183420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>
                          <a:off x="3542040" y="1742760"/>
                          <a:ext cx="4572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3084480" y="1757160"/>
                      <a:ext cx="687240" cy="717480"/>
                      <a:chOff x="3084480" y="1757160"/>
                      <a:chExt cx="687240" cy="717480"/>
                    </a:xfrm>
                  </p:grpSpPr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3084480" y="1757160"/>
                        <a:ext cx="687240" cy="717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14" name=""/>
                      <p:cNvGrpSpPr/>
                      <p:nvPr/>
                    </p:nvGrpSpPr>
                    <p:grpSpPr>
                      <a:xfrm>
                        <a:off x="3176640" y="1807560"/>
                        <a:ext cx="457200" cy="536400"/>
                        <a:chOff x="3176640" y="1807560"/>
                        <a:chExt cx="457200" cy="536400"/>
                      </a:xfrm>
                    </p:grpSpPr>
                    <p:sp>
                      <p:nvSpPr>
                        <p:cNvPr id="315" name=""/>
                        <p:cNvSpPr/>
                        <p:nvPr/>
                      </p:nvSpPr>
                      <p:spPr>
                        <a:xfrm>
                          <a:off x="3538080" y="2253600"/>
                          <a:ext cx="91440" cy="90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6" name=""/>
                        <p:cNvSpPr/>
                        <p:nvPr/>
                      </p:nvSpPr>
                      <p:spPr>
                        <a:xfrm flipH="1" flipV="1">
                          <a:off x="3404880" y="1945080"/>
                          <a:ext cx="4572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>
                          <a:off x="3450960" y="2127600"/>
                          <a:ext cx="136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>
                          <a:off x="3405240" y="2127600"/>
                          <a:ext cx="167760" cy="1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9" name=""/>
                        <p:cNvSpPr/>
                        <p:nvPr/>
                      </p:nvSpPr>
                      <p:spPr>
                        <a:xfrm flipH="1">
                          <a:off x="3222360" y="2127600"/>
                          <a:ext cx="182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0" name=""/>
                        <p:cNvSpPr/>
                        <p:nvPr/>
                      </p:nvSpPr>
                      <p:spPr>
                        <a:xfrm flipV="1">
                          <a:off x="3359520" y="1853640"/>
                          <a:ext cx="18288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1" name=""/>
                        <p:cNvSpPr/>
                        <p:nvPr/>
                      </p:nvSpPr>
                      <p:spPr>
                        <a:xfrm flipH="1" flipV="1">
                          <a:off x="3313440" y="1807560"/>
                          <a:ext cx="91440" cy="137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 flipH="1">
                          <a:off x="3313440" y="1945080"/>
                          <a:ext cx="91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>
                          <a:off x="3359520" y="2081880"/>
                          <a:ext cx="137160" cy="1368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3176640" y="208188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>
                          <a:off x="3542400" y="208188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>
                          <a:off x="3359520" y="1899360"/>
                          <a:ext cx="91440" cy="91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>
                          <a:off x="3496680" y="185364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>
                          <a:off x="3268080" y="189936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>
                          <a:off x="3313440" y="1807920"/>
                          <a:ext cx="4572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330" name=""/>
            <p:cNvSpPr/>
            <p:nvPr/>
          </p:nvSpPr>
          <p:spPr>
            <a:xfrm>
              <a:off x="5257800" y="38098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3657240"/>
              <a:ext cx="1295640" cy="533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895480" y="5257440"/>
              <a:ext cx="38124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35400" y="495288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-m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371600" y="3288960"/>
              <a:ext cx="2286000" cy="1726920"/>
              <a:chOff x="1371600" y="3288960"/>
              <a:chExt cx="2286000" cy="172692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1981080" y="3288960"/>
                <a:ext cx="1001880" cy="977760"/>
                <a:chOff x="1981080" y="3288960"/>
                <a:chExt cx="1001880" cy="97776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2395440" y="3288960"/>
                  <a:ext cx="241560" cy="244440"/>
                  <a:chOff x="2395440" y="3288960"/>
                  <a:chExt cx="241560" cy="244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2395440" y="328896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2430000" y="338040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464560" y="338040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430000" y="341100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464560" y="341100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498760" y="341100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464560" y="344160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049840" y="4022280"/>
                  <a:ext cx="241920" cy="244440"/>
                  <a:chOff x="2049840" y="4022280"/>
                  <a:chExt cx="241920" cy="24444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049840" y="4022280"/>
                    <a:ext cx="24192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084400" y="411372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118960" y="41137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084400" y="41443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118960" y="414432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153520" y="41443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118960" y="41749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1981080" y="3563640"/>
                  <a:ext cx="241560" cy="244440"/>
                  <a:chOff x="1981080" y="3563640"/>
                  <a:chExt cx="241560" cy="24444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1981080" y="356364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015640" y="36550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050200" y="36550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015640" y="36856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050200" y="3685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084400" y="36856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050200" y="3716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2637360" y="4022280"/>
                  <a:ext cx="241920" cy="244440"/>
                  <a:chOff x="2637360" y="4022280"/>
                  <a:chExt cx="241920" cy="24444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2637360" y="4022280"/>
                    <a:ext cx="24192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671920" y="411372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706480" y="41137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671920" y="41443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706480" y="414432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741040" y="41443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706480" y="41749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395440" y="3716640"/>
                  <a:ext cx="241560" cy="244080"/>
                  <a:chOff x="2395440" y="3716640"/>
                  <a:chExt cx="241560" cy="2440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395440" y="3716640"/>
                    <a:ext cx="241560" cy="24408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430000" y="38080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464560" y="380808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430000" y="38386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2464560" y="3838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2498760" y="383868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2464560" y="3869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2741040" y="3563640"/>
                  <a:ext cx="241920" cy="244440"/>
                  <a:chOff x="2741040" y="3563640"/>
                  <a:chExt cx="241920" cy="2444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2741040" y="3563640"/>
                    <a:ext cx="24192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2775600" y="365508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810160" y="36550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775600" y="36856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810160" y="368568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844720" y="36856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810160" y="3716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4" name=""/>
                <p:cNvSpPr/>
                <p:nvPr/>
              </p:nvSpPr>
              <p:spPr>
                <a:xfrm flipH="1" flipV="1">
                  <a:off x="2118960" y="3777480"/>
                  <a:ext cx="6912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2188080" y="3471840"/>
                  <a:ext cx="20700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>
                  <a:off x="2222640" y="3533400"/>
                  <a:ext cx="241920" cy="51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flipV="1">
                  <a:off x="2222280" y="3685680"/>
                  <a:ext cx="31068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V="1">
                  <a:off x="2637360" y="3716280"/>
                  <a:ext cx="10332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2637000" y="3472200"/>
                  <a:ext cx="103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>
                  <a:off x="2118960" y="3380400"/>
                  <a:ext cx="27648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2533320" y="3930120"/>
                  <a:ext cx="10332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291760" y="4113720"/>
                  <a:ext cx="34524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2775600" y="3808440"/>
                  <a:ext cx="34560" cy="21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371600" y="4282560"/>
                <a:ext cx="2286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DAML-enabled personal/company constraints and pref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3048120" y="38098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048120" y="3124080"/>
              <a:ext cx="30456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75280" y="4800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mo: Dynamic UI with DAML+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66960" y="1457280"/>
          <a:ext cx="541008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457280"/>
                    <a:ext cx="541008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r Interface auto-generated from DAML+OI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049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ehind the Sc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9514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43000" y="182880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917960"/>
            <a:ext cx="9144000" cy="17031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r Constraints+Generic Procedures+deduction=composition **or*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r constraints + Goal + deduction =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lk to Web services through O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ent e-mails itinerary to customer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612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41480" y="1482840"/>
            <a:ext cx="7340400" cy="49179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143000" y="259092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ail the user travel plans when don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ent creates expense claim for customer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612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553080" cy="54151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te expense cla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KSL Service Composition:</a:t>
            </a:r>
            <a:br>
              <a:rPr sz="3200"/>
            </a:br>
            <a:r>
              <a:rPr b="0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Status &amp;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1752480"/>
            <a:ext cx="855180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Web Service Composition is working n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+OIL/DAML-S FOL -&gt; Ontolingua, Golog &amp; sit’n calculus in Pro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, Prolog, Ontolingua-DAML+OIL translator, OKB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-S to PDDL translator, bubble gum, scotch t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tanding DAML-S representation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-S-ize our work; Reduce number of repn’s required; Reason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Monitoring &amp; Recovery,  Info vs. world-chging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 Service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level synchronization, message passing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pplications Using DAML-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AR-TS demo (shown at SWM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U demo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 planning, Electronic parts buying, DAMLz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ford KSL 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yGri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Courier New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Courier New"/>
                <a:hlinkClick r:id="rId2"/>
              </a:rPr>
              <a:t>mygrid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Courier New"/>
                <a:hlinkClick r:id="rId3"/>
              </a:rPr>
              <a:t>.man.ac.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Courier New"/>
                <a:hlinkClick r:id="rId4"/>
              </a:rPr>
              <a:t>uk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gentCit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Courier New"/>
                <a:hlinkClick r:id="rId5"/>
              </a:rPr>
              <a:t>www.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Courier New"/>
                <a:hlinkClick r:id="rId6"/>
              </a:rPr>
              <a:t>agentcities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ea typeface="Courier New"/>
                <a:hlinkClick r:id="rId7"/>
              </a:rPr>
              <a:t>.o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ask Computing (Fujitsu Labs with MINDSW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er demo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(http://www.mindswap.org/~evren/composer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yCampu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ttp://128.2.199.68/pro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Mobile Services (UMBC/Fin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 &amp; Components: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L-S Match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available 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damlsmm.ri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L-S API, WSDL2DAML-S, DAML-S VM, DAML-S for P2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yet publically released; contact Katia Syc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L-S Ed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being rewrit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DAML+OIL with OW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oit new ontology 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yet publically released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Sheila McIlra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 rot="16200000">
            <a:off x="-114120" y="3390480"/>
            <a:ext cx="25146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-228600" y="4723920"/>
            <a:ext cx="167652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23880" y="5791320"/>
            <a:ext cx="6782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47920" y="6019920"/>
            <a:ext cx="64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   …    Deployment   …   Use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00400" y="1371600"/>
            <a:ext cx="2057400" cy="53352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2743200"/>
            <a:ext cx="2057400" cy="53352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3505320"/>
            <a:ext cx="2057400" cy="53316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9880" y="2133720"/>
            <a:ext cx="2057400" cy="53316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91120" y="3657600"/>
            <a:ext cx="2057400" cy="53352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23880" y="990720"/>
            <a:ext cx="6782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24280" y="3090960"/>
            <a:ext cx="2057400" cy="30456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24280" y="2862360"/>
            <a:ext cx="2057400" cy="30456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95680" y="4572000"/>
            <a:ext cx="3810240" cy="30492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4343400"/>
            <a:ext cx="3810240" cy="30492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10240" y="4376880"/>
            <a:ext cx="34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, Inter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5680" y="5334120"/>
            <a:ext cx="3810240" cy="30456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95680" y="5105520"/>
            <a:ext cx="3810240" cy="30456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10240" y="5138640"/>
            <a:ext cx="34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ing,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200000">
            <a:off x="-380880" y="1828800"/>
            <a:ext cx="198144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3880" y="990720"/>
            <a:ext cx="0" cy="480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00200" y="4267080"/>
            <a:ext cx="2057400" cy="53352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1981080"/>
            <a:ext cx="2590920" cy="1524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23880" y="2666880"/>
            <a:ext cx="213372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2520" y="4267080"/>
            <a:ext cx="464796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00200" y="304920"/>
            <a:ext cx="64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“Sweet Spo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14800" y="3581280"/>
            <a:ext cx="2209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53760" y="1414080"/>
            <a:ext cx="7770600" cy="36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rvice paradigm will b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u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t of the 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L-S supports service descriptions that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other Semantic Web meta-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L-S aims to enable automati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covery, selection, invocation, composition, monito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description ontology (Profile, Process, and Grounding) is available, in use, and ev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extremely useful building blocks have been created and are i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ublications and other resources are available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daml.org/service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nd of Part III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xtra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MLzon: DAML-S for Amazon.c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DL2DAML-S used to generate DAML-S for Amazon’s Web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L-S VM used to interact with Amazon Web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AmazonPM" descr=""/>
          <p:cNvPicPr/>
          <p:nvPr/>
        </p:nvPicPr>
        <p:blipFill>
          <a:blip r:embed="rId1"/>
          <a:stretch/>
        </p:blipFill>
        <p:spPr>
          <a:xfrm>
            <a:off x="4572000" y="21718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4871160" y="5154480"/>
            <a:ext cx="34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cess Model for Amazo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56160" y="3276720"/>
            <a:ext cx="1996920" cy="1676160"/>
          </a:xfrm>
          <a:custGeom>
            <a:avLst/>
            <a:gdLst/>
            <a:ahLst/>
            <a:rect l="l" t="t" r="r" b="b"/>
            <a:pathLst>
              <a:path w="1268" h="1095">
                <a:moveTo>
                  <a:pt x="20" y="697"/>
                </a:moveTo>
                <a:cubicBezTo>
                  <a:pt x="68" y="763"/>
                  <a:pt x="147" y="805"/>
                  <a:pt x="207" y="860"/>
                </a:cubicBezTo>
                <a:cubicBezTo>
                  <a:pt x="247" y="896"/>
                  <a:pt x="275" y="946"/>
                  <a:pt x="327" y="965"/>
                </a:cubicBezTo>
                <a:cubicBezTo>
                  <a:pt x="347" y="981"/>
                  <a:pt x="369" y="992"/>
                  <a:pt x="394" y="999"/>
                </a:cubicBezTo>
                <a:cubicBezTo>
                  <a:pt x="426" y="1022"/>
                  <a:pt x="480" y="1021"/>
                  <a:pt x="519" y="1028"/>
                </a:cubicBezTo>
                <a:cubicBezTo>
                  <a:pt x="584" y="1040"/>
                  <a:pt x="647" y="1063"/>
                  <a:pt x="711" y="1076"/>
                </a:cubicBezTo>
                <a:cubicBezTo>
                  <a:pt x="746" y="1083"/>
                  <a:pt x="781" y="1086"/>
                  <a:pt x="816" y="1095"/>
                </a:cubicBezTo>
                <a:cubicBezTo>
                  <a:pt x="890" y="1091"/>
                  <a:pt x="959" y="1082"/>
                  <a:pt x="1032" y="1071"/>
                </a:cubicBezTo>
                <a:cubicBezTo>
                  <a:pt x="1069" y="1059"/>
                  <a:pt x="1106" y="1042"/>
                  <a:pt x="1143" y="1028"/>
                </a:cubicBezTo>
                <a:cubicBezTo>
                  <a:pt x="1160" y="1021"/>
                  <a:pt x="1191" y="999"/>
                  <a:pt x="1191" y="999"/>
                </a:cubicBezTo>
                <a:cubicBezTo>
                  <a:pt x="1217" y="954"/>
                  <a:pt x="1255" y="920"/>
                  <a:pt x="1268" y="869"/>
                </a:cubicBezTo>
                <a:cubicBezTo>
                  <a:pt x="1263" y="850"/>
                  <a:pt x="1259" y="837"/>
                  <a:pt x="1248" y="821"/>
                </a:cubicBezTo>
                <a:cubicBezTo>
                  <a:pt x="1239" y="790"/>
                  <a:pt x="1170" y="719"/>
                  <a:pt x="1138" y="697"/>
                </a:cubicBezTo>
                <a:cubicBezTo>
                  <a:pt x="1123" y="686"/>
                  <a:pt x="1090" y="668"/>
                  <a:pt x="1090" y="668"/>
                </a:cubicBezTo>
                <a:cubicBezTo>
                  <a:pt x="1052" y="616"/>
                  <a:pt x="1040" y="552"/>
                  <a:pt x="1004" y="500"/>
                </a:cubicBezTo>
                <a:cubicBezTo>
                  <a:pt x="991" y="482"/>
                  <a:pt x="976" y="471"/>
                  <a:pt x="960" y="457"/>
                </a:cubicBezTo>
                <a:cubicBezTo>
                  <a:pt x="948" y="446"/>
                  <a:pt x="937" y="435"/>
                  <a:pt x="927" y="423"/>
                </a:cubicBezTo>
                <a:cubicBezTo>
                  <a:pt x="921" y="415"/>
                  <a:pt x="915" y="406"/>
                  <a:pt x="908" y="399"/>
                </a:cubicBezTo>
                <a:cubicBezTo>
                  <a:pt x="888" y="379"/>
                  <a:pt x="881" y="382"/>
                  <a:pt x="864" y="361"/>
                </a:cubicBezTo>
                <a:cubicBezTo>
                  <a:pt x="855" y="349"/>
                  <a:pt x="835" y="306"/>
                  <a:pt x="831" y="298"/>
                </a:cubicBezTo>
                <a:cubicBezTo>
                  <a:pt x="820" y="274"/>
                  <a:pt x="800" y="255"/>
                  <a:pt x="788" y="231"/>
                </a:cubicBezTo>
                <a:cubicBezTo>
                  <a:pt x="772" y="199"/>
                  <a:pt x="766" y="159"/>
                  <a:pt x="754" y="125"/>
                </a:cubicBezTo>
                <a:cubicBezTo>
                  <a:pt x="736" y="74"/>
                  <a:pt x="663" y="8"/>
                  <a:pt x="610" y="1"/>
                </a:cubicBezTo>
                <a:cubicBezTo>
                  <a:pt x="460" y="9"/>
                  <a:pt x="290" y="0"/>
                  <a:pt x="144" y="49"/>
                </a:cubicBezTo>
                <a:cubicBezTo>
                  <a:pt x="130" y="63"/>
                  <a:pt x="106" y="97"/>
                  <a:pt x="106" y="97"/>
                </a:cubicBezTo>
                <a:cubicBezTo>
                  <a:pt x="96" y="136"/>
                  <a:pt x="80" y="176"/>
                  <a:pt x="63" y="212"/>
                </a:cubicBezTo>
                <a:cubicBezTo>
                  <a:pt x="52" y="263"/>
                  <a:pt x="30" y="311"/>
                  <a:pt x="15" y="361"/>
                </a:cubicBezTo>
                <a:cubicBezTo>
                  <a:pt x="5" y="394"/>
                  <a:pt x="3" y="427"/>
                  <a:pt x="0" y="461"/>
                </a:cubicBezTo>
                <a:cubicBezTo>
                  <a:pt x="2" y="519"/>
                  <a:pt x="2" y="576"/>
                  <a:pt x="5" y="634"/>
                </a:cubicBezTo>
                <a:cubicBezTo>
                  <a:pt x="6" y="656"/>
                  <a:pt x="20" y="675"/>
                  <a:pt x="20" y="697"/>
                </a:cubicBezTo>
                <a:close/>
              </a:path>
            </a:pathLst>
          </a:custGeom>
          <a:noFill/>
          <a:ln w="7632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99320" y="290988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66"/>
                </a:solidFill>
                <a:latin typeface="Times New Roman"/>
              </a:rPr>
              <a:t>Book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476400" y="3352680"/>
            <a:ext cx="1996920" cy="1676520"/>
          </a:xfrm>
          <a:custGeom>
            <a:avLst/>
            <a:gdLst/>
            <a:ahLst/>
            <a:rect l="l" t="t" r="r" b="b"/>
            <a:pathLst>
              <a:path w="1268" h="1095">
                <a:moveTo>
                  <a:pt x="20" y="697"/>
                </a:moveTo>
                <a:cubicBezTo>
                  <a:pt x="68" y="763"/>
                  <a:pt x="147" y="805"/>
                  <a:pt x="207" y="860"/>
                </a:cubicBezTo>
                <a:cubicBezTo>
                  <a:pt x="247" y="896"/>
                  <a:pt x="275" y="946"/>
                  <a:pt x="327" y="965"/>
                </a:cubicBezTo>
                <a:cubicBezTo>
                  <a:pt x="347" y="981"/>
                  <a:pt x="369" y="992"/>
                  <a:pt x="394" y="999"/>
                </a:cubicBezTo>
                <a:cubicBezTo>
                  <a:pt x="426" y="1022"/>
                  <a:pt x="480" y="1021"/>
                  <a:pt x="519" y="1028"/>
                </a:cubicBezTo>
                <a:cubicBezTo>
                  <a:pt x="584" y="1040"/>
                  <a:pt x="647" y="1063"/>
                  <a:pt x="711" y="1076"/>
                </a:cubicBezTo>
                <a:cubicBezTo>
                  <a:pt x="746" y="1083"/>
                  <a:pt x="781" y="1086"/>
                  <a:pt x="816" y="1095"/>
                </a:cubicBezTo>
                <a:cubicBezTo>
                  <a:pt x="890" y="1091"/>
                  <a:pt x="959" y="1082"/>
                  <a:pt x="1032" y="1071"/>
                </a:cubicBezTo>
                <a:cubicBezTo>
                  <a:pt x="1069" y="1059"/>
                  <a:pt x="1106" y="1042"/>
                  <a:pt x="1143" y="1028"/>
                </a:cubicBezTo>
                <a:cubicBezTo>
                  <a:pt x="1160" y="1021"/>
                  <a:pt x="1191" y="999"/>
                  <a:pt x="1191" y="999"/>
                </a:cubicBezTo>
                <a:cubicBezTo>
                  <a:pt x="1217" y="954"/>
                  <a:pt x="1255" y="920"/>
                  <a:pt x="1268" y="869"/>
                </a:cubicBezTo>
                <a:cubicBezTo>
                  <a:pt x="1263" y="850"/>
                  <a:pt x="1259" y="837"/>
                  <a:pt x="1248" y="821"/>
                </a:cubicBezTo>
                <a:cubicBezTo>
                  <a:pt x="1239" y="790"/>
                  <a:pt x="1170" y="719"/>
                  <a:pt x="1138" y="697"/>
                </a:cubicBezTo>
                <a:cubicBezTo>
                  <a:pt x="1123" y="686"/>
                  <a:pt x="1090" y="668"/>
                  <a:pt x="1090" y="668"/>
                </a:cubicBezTo>
                <a:cubicBezTo>
                  <a:pt x="1052" y="616"/>
                  <a:pt x="1040" y="552"/>
                  <a:pt x="1004" y="500"/>
                </a:cubicBezTo>
                <a:cubicBezTo>
                  <a:pt x="991" y="482"/>
                  <a:pt x="976" y="471"/>
                  <a:pt x="960" y="457"/>
                </a:cubicBezTo>
                <a:cubicBezTo>
                  <a:pt x="948" y="446"/>
                  <a:pt x="937" y="435"/>
                  <a:pt x="927" y="423"/>
                </a:cubicBezTo>
                <a:cubicBezTo>
                  <a:pt x="921" y="415"/>
                  <a:pt x="915" y="406"/>
                  <a:pt x="908" y="399"/>
                </a:cubicBezTo>
                <a:cubicBezTo>
                  <a:pt x="888" y="379"/>
                  <a:pt x="881" y="382"/>
                  <a:pt x="864" y="361"/>
                </a:cubicBezTo>
                <a:cubicBezTo>
                  <a:pt x="855" y="349"/>
                  <a:pt x="835" y="306"/>
                  <a:pt x="831" y="298"/>
                </a:cubicBezTo>
                <a:cubicBezTo>
                  <a:pt x="820" y="274"/>
                  <a:pt x="800" y="255"/>
                  <a:pt x="788" y="231"/>
                </a:cubicBezTo>
                <a:cubicBezTo>
                  <a:pt x="772" y="199"/>
                  <a:pt x="766" y="159"/>
                  <a:pt x="754" y="125"/>
                </a:cubicBezTo>
                <a:cubicBezTo>
                  <a:pt x="736" y="74"/>
                  <a:pt x="663" y="8"/>
                  <a:pt x="610" y="1"/>
                </a:cubicBezTo>
                <a:cubicBezTo>
                  <a:pt x="460" y="9"/>
                  <a:pt x="290" y="0"/>
                  <a:pt x="144" y="49"/>
                </a:cubicBezTo>
                <a:cubicBezTo>
                  <a:pt x="130" y="63"/>
                  <a:pt x="106" y="97"/>
                  <a:pt x="106" y="97"/>
                </a:cubicBezTo>
                <a:cubicBezTo>
                  <a:pt x="96" y="136"/>
                  <a:pt x="80" y="176"/>
                  <a:pt x="63" y="212"/>
                </a:cubicBezTo>
                <a:cubicBezTo>
                  <a:pt x="52" y="263"/>
                  <a:pt x="30" y="311"/>
                  <a:pt x="15" y="361"/>
                </a:cubicBezTo>
                <a:cubicBezTo>
                  <a:pt x="5" y="394"/>
                  <a:pt x="3" y="427"/>
                  <a:pt x="0" y="461"/>
                </a:cubicBezTo>
                <a:cubicBezTo>
                  <a:pt x="2" y="519"/>
                  <a:pt x="2" y="576"/>
                  <a:pt x="5" y="634"/>
                </a:cubicBezTo>
                <a:cubicBezTo>
                  <a:pt x="6" y="656"/>
                  <a:pt x="20" y="675"/>
                  <a:pt x="20" y="697"/>
                </a:cubicBezTo>
                <a:close/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28954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Reserve 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mance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mpared the performance of using DAML-S in its interaction with Amazon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xperi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Amazon client with DAML-S VM client on browsing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d DAML-S VM client on browsing+reserving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ient for Browsing+Reserving provided by Ama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Experi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886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d Amazon client with DAML-S VM client on browsing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8 runs total over 4 day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varying load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in milli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4800600" y="2057400"/>
          <a:ext cx="4038480" cy="1316160"/>
        </p:xfrm>
        <a:graphic>
          <a:graphicData uri="http://schemas.openxmlformats.org/drawingml/2006/table">
            <a:tbl>
              <a:tblPr/>
              <a:tblGrid>
                <a:gridCol w="971640"/>
                <a:gridCol w="1314360"/>
                <a:gridCol w="1752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azon Cli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ML-S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 execution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y 14 ms 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d Dev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 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6 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3733920" y="35812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3733920" y="3925800"/>
          <a:ext cx="5105160" cy="27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925800"/>
                    <a:ext cx="5105160" cy="27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"/>
          <p:cNvGraphicFramePr/>
          <p:nvPr/>
        </p:nvGraphicFramePr>
        <p:xfrm>
          <a:off x="5029200" y="3119400"/>
          <a:ext cx="3886200" cy="343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119400"/>
                    <a:ext cx="388620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Experimen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L-S VM client on browsing+reserving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client for Browsing+Reserving provided by Ama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d data by comput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 required by DAML-S VM to execute Proces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 required for data transformation to fit Amazon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 required to invoke an operation on Ama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 runs total over 4 days in varying load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ults in milli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4648320" y="1843200"/>
          <a:ext cx="4343400" cy="1542960"/>
        </p:xfrm>
        <a:graphic>
          <a:graphicData uri="http://schemas.openxmlformats.org/drawingml/2006/table">
            <a:tbl>
              <a:tblPr/>
              <a:tblGrid>
                <a:gridCol w="1085760"/>
                <a:gridCol w="1085760"/>
                <a:gridCol w="1085760"/>
                <a:gridCol w="10861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ML-S 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of data transfor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ocation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d d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 &amp;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WL-S is just another OWL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tools &amp; technologies for OWL are rele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s &amp; components specialized for OWL-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m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provision (execution)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compositio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also: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1"/>
              </a:rPr>
              <a:t>http://www.daml.org/service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ublications,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rot="16200000">
            <a:off x="-114120" y="3390480"/>
            <a:ext cx="25146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-228600" y="4723920"/>
            <a:ext cx="167652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5791320"/>
            <a:ext cx="6782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6019920"/>
            <a:ext cx="64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   …    Deployment   …   Use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2057400" cy="53352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2743200"/>
            <a:ext cx="2057400" cy="53352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3505320"/>
            <a:ext cx="2057400" cy="53316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2133720"/>
            <a:ext cx="2057400" cy="53316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3657600"/>
            <a:ext cx="2057400" cy="53352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990720"/>
            <a:ext cx="6782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24280" y="3090960"/>
            <a:ext cx="2057400" cy="30456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24280" y="2862360"/>
            <a:ext cx="2057400" cy="30456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4572000"/>
            <a:ext cx="3810240" cy="30492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4343400"/>
            <a:ext cx="3810240" cy="30492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10240" y="4376880"/>
            <a:ext cx="34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, Inter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5334120"/>
            <a:ext cx="3810240" cy="30456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5105520"/>
            <a:ext cx="3810240" cy="30456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10240" y="5138640"/>
            <a:ext cx="34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ing,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-380880" y="1828800"/>
            <a:ext cx="198144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990720"/>
            <a:ext cx="0" cy="480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4267080"/>
            <a:ext cx="2057400" cy="53352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1981080"/>
            <a:ext cx="2590920" cy="1524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666880"/>
            <a:ext cx="213372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4267080"/>
            <a:ext cx="464796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304920"/>
            <a:ext cx="64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“Sweet Spo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3581280"/>
            <a:ext cx="2209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Spot: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L-S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DL2DAML-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L-S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also: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1"/>
              </a:rPr>
              <a:t>http://www.daml.org/service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ublications,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ML-S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easy way to process DAML-S in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es DAML-S ontologies into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Java class for each DAML-S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ors for each property in DAML-S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implementation of DAML-S 0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DL2DAML-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DL widely used to describe 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repositories of WSDL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1"/>
              </a:rPr>
              <a:t>www.salcentral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www.xmethod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DL2DAMLS allows easy derivation of DAML-S code from WSDL docu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generation of G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generation of Process Model and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80% of work required to generate a DAML-S description is done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d with Java2WSDL to provi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va2DAML-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5:10:35Z</dcterms:created>
  <dc:creator>paolucci</dc:creator>
  <dc:description/>
  <dc:language>en-US</dc:language>
  <cp:lastModifiedBy>AIC</cp:lastModifiedBy>
  <dcterms:modified xsi:type="dcterms:W3CDTF">2003-05-08T13:50:53Z</dcterms:modified>
  <cp:revision>184</cp:revision>
  <dc:subject/>
  <dc:title>PowerPoint Presentation</dc:title>
</cp:coreProperties>
</file>