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4338-7AF0-4B12-A2E3-66AF687BC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service (human readable) 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tie in with UDDI, etc., with a more expressive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 of properties that are important for matchm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nts: degree of dependence on IOPEs, degree of fidelity to proces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taxonom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DL Bind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P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GET / POST (see Section 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ME (see Section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DL Bind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P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GET / POST (see Section 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ME (see Section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essages, in turn, refer back to OWL-S input/output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essages, in turn, refer back to OWL-S input/output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anna Bryson, AAM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ent-Based Composite Services in OWL-S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r-Oriented Design of an Intelligent Semantic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: de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it shows that the coalition is very much aware of what the industr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ing and trying to develop compatible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we can see explicitly what additional benefits OWL-S provides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"standards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service (human readable) 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-S is joint work with Stanford, CMU, BBN, Nokia (see last slid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service (human readable) 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A13-60E6-4F66-B946-46F15DC4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E4F-1F87-4BD5-985B-D56ACA21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D17-A714-4F51-9B1F-0D95D659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283-368C-41A9-816A-9056FD1A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70A-D10D-47AF-9949-094CB38C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577-4AE7-4F46-918D-D350EBE7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798-8BA0-46B9-AF49-CDE10BC3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5C0-BEDF-408D-AB95-8509FF27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5A6-F5D2-4585-A8FB-AF707FA4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540-4F45-4531-ACDE-F6E7EACE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CE7-F1CC-4917-BCD9-C7FBA1C0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A97-E584-47B7-8CA2-7970A999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2120" y="6418440"/>
            <a:ext cx="8756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avid Martin for DAML-S Coalition                                                                                                                                                             05/08/2003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60AA-F730-4C60-8B01-1ADFA0EED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160" y="582120"/>
            <a:ext cx="78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0066"/>
                </a:solidFill>
                <a:uFillTx/>
                <a:latin typeface="Arial"/>
              </a:rPr>
              <a:t>Part II: OWL-S</a:t>
            </a:r>
            <a:br>
              <a:rPr sz="4800"/>
            </a:br>
            <a:r>
              <a:rPr b="0" lang="en-US" sz="4800" spc="-1" strike="noStrike" u="sng">
                <a:solidFill>
                  <a:srgbClr val="660066"/>
                </a:solidFill>
                <a:uFillTx/>
                <a:latin typeface="Arial"/>
              </a:rPr>
              <a:t>Technical Over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4120" y="2475000"/>
            <a:ext cx="777060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le, Process &amp; Grounding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 &amp; 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SI, SWSL &amp; SW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Service Pro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70040" y="1457280"/>
            <a:ext cx="7867440" cy="5127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8560" y="1271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on Functional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8560" y="56307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Functionality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2080" y="2905200"/>
            <a:ext cx="8404200" cy="2574720"/>
          </a:xfrm>
          <a:custGeom>
            <a:avLst/>
            <a:gdLst/>
            <a:ahLst/>
            <a:rect l="l" t="t" r="r" b="b"/>
            <a:pathLst>
              <a:path w="5294" h="1622">
                <a:moveTo>
                  <a:pt x="0" y="0"/>
                </a:moveTo>
                <a:cubicBezTo>
                  <a:pt x="151" y="164"/>
                  <a:pt x="526" y="826"/>
                  <a:pt x="905" y="987"/>
                </a:cubicBezTo>
                <a:cubicBezTo>
                  <a:pt x="1284" y="1148"/>
                  <a:pt x="1966" y="877"/>
                  <a:pt x="2277" y="969"/>
                </a:cubicBezTo>
                <a:cubicBezTo>
                  <a:pt x="2588" y="1061"/>
                  <a:pt x="2267" y="1452"/>
                  <a:pt x="2770" y="1537"/>
                </a:cubicBezTo>
                <a:cubicBezTo>
                  <a:pt x="3273" y="1622"/>
                  <a:pt x="4768" y="1493"/>
                  <a:pt x="5294" y="1481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Service Profile: Functionality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49200" y="1252440"/>
            <a:ext cx="7634520" cy="4978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5440" y="1555560"/>
            <a:ext cx="43941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Specification of what the service provides in terms of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bclass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pre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s the top-leve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9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Service Profile: NonFunctional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4360" y="1647720"/>
            <a:ext cx="8007120" cy="5219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5932440"/>
            <a:ext cx="873612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supporting information about the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9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Service Profile: NonFunctional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560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incl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servic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text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quality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service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service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contact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35280" y="1949400"/>
            <a:ext cx="538164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9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Service Profile: NonFunctional Properties - A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35040" y="1468440"/>
            <a:ext cx="641052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28400" y="1179360"/>
            <a:ext cx="837252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-hierarchical yellow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 capability characte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ment of attributes on class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es primarily on “non-functional”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summaries for planning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l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, outputs, preconditions,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reliance on formal hierarchical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s process model spe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es primarily on functional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Service Profile:</a:t>
            </a: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Styles of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Exploiting Profile Hierarch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4200" y="2496960"/>
            <a:ext cx="246852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 in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DI, UNSPSC, 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 Basis for matchmaking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rofiles; multiple taxonom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19240" y="1333440"/>
            <a:ext cx="681372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Upper Ontology of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90520" y="2185920"/>
            <a:ext cx="6810480" cy="3108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86520" y="3763800"/>
            <a:ext cx="3092400" cy="2059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6400" y="52020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rvice Model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How does it work?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9840" y="1445760"/>
            <a:ext cx="8804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able description of service provider’s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service user how and when to interact (read/write messa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Pro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tology of process state; supports status que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tubbed out at pres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invocation, planning/composi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interop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rocesses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, outputs, preconditions and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/dataflow metaphor; action/process metap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ite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2860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Process Model: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“How does it work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Service Model / Process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8880" y="1284120"/>
            <a:ext cx="7488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DAML-S Web Services Coal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8840" y="1109520"/>
            <a:ext cx="84582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B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 Bur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U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atia Sycara, Massimo Paolucci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rini Naraya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yland / College Pa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ijan Par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ki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a Las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ford KS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eila McIlraith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I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vid Martin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thampt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y Payn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C-ISI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rry Hob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ew McDerm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91200" y="5972040"/>
            <a:ext cx="2743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ontributor to these s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794120" y="3743280"/>
            <a:ext cx="438120" cy="1116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492280" y="3441240"/>
            <a:ext cx="414360" cy="1116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1520" y="2736720"/>
            <a:ext cx="1963800" cy="238068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 Bo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 Sh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Function/Dataflow Metaph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1760" y="1778040"/>
            <a:ext cx="887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33360" y="2332080"/>
            <a:ext cx="2149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27120" y="17780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63080" y="4370400"/>
            <a:ext cx="23187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197840" y="3043080"/>
            <a:ext cx="965160" cy="49536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97840" y="3851280"/>
            <a:ext cx="960480" cy="5126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48440" y="3257640"/>
            <a:ext cx="1933200" cy="916920"/>
          </a:xfrm>
          <a:prstGeom prst="rect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ruck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valid 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69520" y="3184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00120" y="3822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78400" y="3538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5720" y="2205000"/>
            <a:ext cx="209484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AI-inspired Action/Process Metaph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1760" y="1622520"/>
            <a:ext cx="887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In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11040" y="1246320"/>
            <a:ext cx="2149560" cy="70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onfirmation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27120" y="12207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40760" y="4370400"/>
            <a:ext cx="2318760" cy="70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ailure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48440" y="3257640"/>
            <a:ext cx="1933200" cy="916920"/>
          </a:xfrm>
          <a:prstGeom prst="rect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ruck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valid 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69320" y="3184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79400" y="3822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78400" y="3538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3759120"/>
            <a:ext cx="196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on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5720" y="2049480"/>
            <a:ext cx="209484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ustome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ickup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720" y="4186080"/>
            <a:ext cx="211464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6640" y="2127240"/>
            <a:ext cx="26449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s a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uccess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card debite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36480" y="21304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22440" y="4773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31800" y="52992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96680" y="5289480"/>
            <a:ext cx="1665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no effect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86680" y="3911760"/>
            <a:ext cx="663480" cy="461880"/>
          </a:xfrm>
          <a:custGeom>
            <a:avLst/>
            <a:gdLst/>
            <a:ahLst/>
            <a:rect l="l" t="t" r="r" b="b"/>
            <a:pathLst>
              <a:path w="418" h="291">
                <a:moveTo>
                  <a:pt x="0" y="0"/>
                </a:moveTo>
                <a:lnTo>
                  <a:pt x="418" y="0"/>
                </a:lnTo>
                <a:lnTo>
                  <a:pt x="418" y="291"/>
                </a:ln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182000" y="3134520"/>
            <a:ext cx="663480" cy="461880"/>
          </a:xfrm>
          <a:custGeom>
            <a:avLst/>
            <a:gdLst/>
            <a:ahLst/>
            <a:rect l="l" t="t" r="r" b="b"/>
            <a:pathLst>
              <a:path w="418" h="291">
                <a:moveTo>
                  <a:pt x="0" y="0"/>
                </a:moveTo>
                <a:lnTo>
                  <a:pt x="418" y="0"/>
                </a:lnTo>
                <a:lnTo>
                  <a:pt x="418" y="291"/>
                </a:ln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492280" y="2736720"/>
            <a:ext cx="2739960" cy="2380680"/>
            <a:chOff x="2492280" y="2736720"/>
            <a:chExt cx="2739960" cy="2380680"/>
          </a:xfrm>
        </p:grpSpPr>
        <p:sp>
          <p:nvSpPr>
            <p:cNvPr id="160" name=""/>
            <p:cNvSpPr/>
            <p:nvPr/>
          </p:nvSpPr>
          <p:spPr>
            <a:xfrm>
              <a:off x="4794120" y="3743280"/>
              <a:ext cx="438120" cy="11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492280" y="3441240"/>
              <a:ext cx="414360" cy="11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91520" y="2736720"/>
              <a:ext cx="1963800" cy="238068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me Book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uck Shi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527200" y="4687560"/>
              <a:ext cx="414360" cy="11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31840" y="1224000"/>
            <a:ext cx="6840720" cy="484884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meTruckSh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26400" y="3936960"/>
            <a:ext cx="598320" cy="1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52840" y="4322880"/>
            <a:ext cx="598320" cy="1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80120" y="1870200"/>
            <a:ext cx="598680" cy="1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6120" y="4819680"/>
            <a:ext cx="700560" cy="587160"/>
          </a:xfrm>
          <a:prstGeom prst="rect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www.acmeair.com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ook flight ser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90400" y="4800600"/>
            <a:ext cx="660600" cy="54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ustomer nam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light number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dit card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73640" y="4440240"/>
            <a:ext cx="674280" cy="245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firmation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59960" y="5381640"/>
            <a:ext cx="715680" cy="321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ailure notifica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errror informa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55680" y="5060880"/>
            <a:ext cx="3137040" cy="963720"/>
          </a:xfrm>
          <a:custGeom>
            <a:avLst/>
            <a:gdLst/>
            <a:ahLst/>
            <a:rect l="l" t="t" r="r" b="b"/>
            <a:pathLst>
              <a:path w="3202" h="723">
                <a:moveTo>
                  <a:pt x="2982" y="397"/>
                </a:moveTo>
                <a:lnTo>
                  <a:pt x="3202" y="397"/>
                </a:lnTo>
                <a:lnTo>
                  <a:pt x="3202" y="723"/>
                </a:lnTo>
                <a:lnTo>
                  <a:pt x="0" y="723"/>
                </a:lnTo>
                <a:lnTo>
                  <a:pt x="0" y="0"/>
                </a:lnTo>
                <a:lnTo>
                  <a:pt x="238" y="0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65400" y="5035680"/>
            <a:ext cx="166680" cy="144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7240" y="4870440"/>
            <a:ext cx="273600" cy="2764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73320" y="5033880"/>
            <a:ext cx="123840" cy="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494160" y="4686480"/>
            <a:ext cx="469440" cy="696600"/>
            <a:chOff x="3494160" y="4686480"/>
            <a:chExt cx="469440" cy="696600"/>
          </a:xfrm>
        </p:grpSpPr>
        <p:sp>
          <p:nvSpPr>
            <p:cNvPr id="177" name=""/>
            <p:cNvSpPr/>
            <p:nvPr/>
          </p:nvSpPr>
          <p:spPr>
            <a:xfrm>
              <a:off x="3497040" y="5032440"/>
              <a:ext cx="466560" cy="3506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494160" y="4686480"/>
              <a:ext cx="466560" cy="3506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631840" y="4435560"/>
            <a:ext cx="767520" cy="587160"/>
          </a:xfrm>
          <a:prstGeom prst="rect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www.acmehotel.com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ook hotel ser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18240" y="4416480"/>
            <a:ext cx="674280" cy="4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firmation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oom typ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dit card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00760" y="4056120"/>
            <a:ext cx="674280" cy="245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firmation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87440" y="4997520"/>
            <a:ext cx="715680" cy="245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ailure notifica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83160" y="4676760"/>
            <a:ext cx="3136680" cy="963720"/>
          </a:xfrm>
          <a:custGeom>
            <a:avLst/>
            <a:gdLst/>
            <a:ahLst/>
            <a:rect l="l" t="t" r="r" b="b"/>
            <a:pathLst>
              <a:path w="3202" h="723">
                <a:moveTo>
                  <a:pt x="2982" y="397"/>
                </a:moveTo>
                <a:lnTo>
                  <a:pt x="3202" y="397"/>
                </a:lnTo>
                <a:lnTo>
                  <a:pt x="3202" y="723"/>
                </a:lnTo>
                <a:lnTo>
                  <a:pt x="0" y="723"/>
                </a:lnTo>
                <a:lnTo>
                  <a:pt x="0" y="0"/>
                </a:lnTo>
                <a:lnTo>
                  <a:pt x="238" y="0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95760" y="4649760"/>
            <a:ext cx="125640" cy="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34720" y="4486320"/>
            <a:ext cx="273600" cy="2764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4649760"/>
            <a:ext cx="123840" cy="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821640" y="4301640"/>
            <a:ext cx="466560" cy="697320"/>
            <a:chOff x="6821640" y="4301640"/>
            <a:chExt cx="466560" cy="697320"/>
          </a:xfrm>
        </p:grpSpPr>
        <p:sp>
          <p:nvSpPr>
            <p:cNvPr id="188" name=""/>
            <p:cNvSpPr/>
            <p:nvPr/>
          </p:nvSpPr>
          <p:spPr>
            <a:xfrm>
              <a:off x="6821640" y="4648320"/>
              <a:ext cx="466560" cy="3506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821640" y="4301640"/>
              <a:ext cx="466560" cy="3510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805000" y="2351160"/>
            <a:ext cx="718560" cy="587160"/>
          </a:xfrm>
          <a:prstGeom prst="rect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www.acmecar.com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ook car ser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70160" y="2332080"/>
            <a:ext cx="660600" cy="54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ustomer nam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ar typ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dit card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53400" y="1959120"/>
            <a:ext cx="674280" cy="245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firmation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9720" y="2913120"/>
            <a:ext cx="715680" cy="245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ailure notifica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35440" y="2592360"/>
            <a:ext cx="3137040" cy="963720"/>
          </a:xfrm>
          <a:custGeom>
            <a:avLst/>
            <a:gdLst/>
            <a:ahLst/>
            <a:rect l="l" t="t" r="r" b="b"/>
            <a:pathLst>
              <a:path w="3202" h="723">
                <a:moveTo>
                  <a:pt x="2982" y="397"/>
                </a:moveTo>
                <a:lnTo>
                  <a:pt x="3202" y="397"/>
                </a:lnTo>
                <a:lnTo>
                  <a:pt x="3202" y="723"/>
                </a:lnTo>
                <a:lnTo>
                  <a:pt x="0" y="723"/>
                </a:lnTo>
                <a:lnTo>
                  <a:pt x="0" y="0"/>
                </a:lnTo>
                <a:lnTo>
                  <a:pt x="238" y="0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4000" y="2560680"/>
            <a:ext cx="150840" cy="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87000" y="2401920"/>
            <a:ext cx="273600" cy="2764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2557440"/>
            <a:ext cx="123840" cy="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83080" y="2490840"/>
            <a:ext cx="3222720" cy="1666800"/>
          </a:xfrm>
          <a:custGeom>
            <a:avLst/>
            <a:gdLst/>
            <a:ahLst/>
            <a:rect l="l" t="t" r="r" b="b"/>
            <a:pathLst>
              <a:path w="2030" h="1050">
                <a:moveTo>
                  <a:pt x="1888" y="1050"/>
                </a:moveTo>
                <a:lnTo>
                  <a:pt x="2030" y="1050"/>
                </a:lnTo>
                <a:lnTo>
                  <a:pt x="2030" y="812"/>
                </a:lnTo>
                <a:lnTo>
                  <a:pt x="0" y="812"/>
                </a:lnTo>
                <a:lnTo>
                  <a:pt x="0" y="0"/>
                </a:lnTo>
                <a:lnTo>
                  <a:pt x="309" y="0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51160" y="4572000"/>
            <a:ext cx="663840" cy="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972480" y="2209320"/>
            <a:ext cx="466560" cy="697320"/>
            <a:chOff x="6972480" y="2209320"/>
            <a:chExt cx="466560" cy="697320"/>
          </a:xfrm>
        </p:grpSpPr>
        <p:sp>
          <p:nvSpPr>
            <p:cNvPr id="201" name=""/>
            <p:cNvSpPr/>
            <p:nvPr/>
          </p:nvSpPr>
          <p:spPr>
            <a:xfrm>
              <a:off x="6972480" y="2556000"/>
              <a:ext cx="466560" cy="3506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72480" y="2209320"/>
              <a:ext cx="466560" cy="3510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8382600" y="3983040"/>
            <a:ext cx="318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Composite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3800" y="2025720"/>
            <a:ext cx="4348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618760" y="3843360"/>
            <a:ext cx="376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1280" y="2071800"/>
            <a:ext cx="76644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32040" y="4894200"/>
            <a:ext cx="555480" cy="46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77640" y="4029120"/>
            <a:ext cx="273600" cy="276480"/>
          </a:xfrm>
          <a:prstGeom prst="rect">
            <a:avLst/>
          </a:prstGeom>
          <a:solidFill>
            <a:srgbClr val="cc99ff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62760" y="4172040"/>
            <a:ext cx="52884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2120" y="2178000"/>
            <a:ext cx="43488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6080" y="1184400"/>
            <a:ext cx="202464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73040" y="1068480"/>
            <a:ext cx="138456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92320" y="1906560"/>
            <a:ext cx="318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28480" y="1766880"/>
            <a:ext cx="376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2320" y="1420920"/>
            <a:ext cx="214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Atomic Proce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2320" y="1420920"/>
            <a:ext cx="214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146240"/>
            <a:ext cx="8381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&lt;!– Atomic Process Definition - GetDesiredFlightDetails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  <a:ea typeface="Courier New"/>
              </a:rPr>
              <a:t> </a:t>
            </a: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Class rdf:</a:t>
            </a:r>
            <a:r>
              <a:rPr b="0" lang="en-US" sz="1400" spc="-1" strike="noStrike">
                <a:solidFill>
                  <a:srgbClr val="800000"/>
                </a:solidFill>
                <a:latin typeface="Tahoma"/>
              </a:rPr>
              <a:t>ID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etDesiredFlightDetail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subClassOf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resourc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www.daml.org/Process#AtomicProces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Clas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5338800"/>
            <a:ext cx="1523880" cy="580680"/>
          </a:xfrm>
          <a:prstGeom prst="rect">
            <a:avLst/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tDesired Flight 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5186520"/>
            <a:ext cx="15238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5872320"/>
            <a:ext cx="15238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51102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artureAirport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594828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boundDate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276720" y="5795640"/>
            <a:ext cx="22096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5338800"/>
            <a:ext cx="22096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2147760"/>
            <a:ext cx="8381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&lt;!– (sample) Inputs used by atomic process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  <a:ea typeface="Courier New"/>
              </a:rPr>
              <a:t> 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GetDesiredFlightDetails</a:t>
            </a: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Property rdf:ID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partureAirport_In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subPropertyOf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resourc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www.daml.org/Process#input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Courier New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domai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resourc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GetDesiredFlightDetail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Courier New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rang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resourc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www.daml.ri.cmu.edu/on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AML-S/concepts.daml#Airport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Property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8120" y="3732120"/>
            <a:ext cx="838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Property rdf:ID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utbounDate_In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subPropertyOf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resourc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www.daml.org/Process#input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domain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resourc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GetDesiredFlightDetail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 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rang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resourc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www.daml.ri.cmu.edu/on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AML-S/concepts.daml#FlightDat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Property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Composite Proce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2320" y="1420920"/>
            <a:ext cx="214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2520" y="1139760"/>
            <a:ext cx="8153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Class rdf:ID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ookFlight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subClassOf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resourc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CompositeProces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subClassOf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resourc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www.daml.org/Process#Sequenc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daml:subClassOf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daml:Restriction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daml:onProperty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:resourc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www.daml.org/Process#component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daml:toClas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daml:subClassOf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daml:unionOf rdf:parseType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aml:collection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Clas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about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GetFlightDetail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Clas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about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GetContactDetail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Clas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about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ReserveFlight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Clas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about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ConfirmReservation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daml:unionOf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daml:subClassOf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daml:toClas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daml:Restriction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daml:subClassOf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rdfs:Class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1000" y="40752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osite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62800" y="5560920"/>
            <a:ext cx="1371600" cy="459000"/>
          </a:xfrm>
          <a:prstGeom prst="rect">
            <a:avLst/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firm Re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14680" y="4456080"/>
            <a:ext cx="2210040" cy="337320"/>
          </a:xfrm>
          <a:prstGeom prst="rect">
            <a:avLst/>
          </a:prstGeom>
          <a:solidFill>
            <a:srgbClr val="8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ok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5200" y="5560920"/>
            <a:ext cx="1371600" cy="459000"/>
          </a:xfrm>
          <a:prstGeom prst="rect">
            <a:avLst/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t Contac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67320" y="61326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55720" y="4824360"/>
            <a:ext cx="2121120" cy="717480"/>
          </a:xfrm>
          <a:custGeom>
            <a:avLst/>
            <a:gdLst/>
            <a:ahLst/>
            <a:rect l="l" t="t" r="r" b="b"/>
            <a:pathLst>
              <a:path w="1336" h="452">
                <a:moveTo>
                  <a:pt x="1336" y="0"/>
                </a:moveTo>
                <a:lnTo>
                  <a:pt x="1336" y="124"/>
                </a:lnTo>
                <a:lnTo>
                  <a:pt x="0" y="124"/>
                </a:lnTo>
                <a:lnTo>
                  <a:pt x="4" y="45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13320" y="4824360"/>
            <a:ext cx="1841760" cy="723960"/>
          </a:xfrm>
          <a:custGeom>
            <a:avLst/>
            <a:gdLst/>
            <a:ahLst/>
            <a:rect l="l" t="t" r="r" b="b"/>
            <a:pathLst>
              <a:path w="1160" h="456">
                <a:moveTo>
                  <a:pt x="0" y="0"/>
                </a:moveTo>
                <a:lnTo>
                  <a:pt x="4" y="124"/>
                </a:lnTo>
                <a:lnTo>
                  <a:pt x="1156" y="124"/>
                </a:lnTo>
                <a:lnTo>
                  <a:pt x="1160" y="45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76400" y="5560920"/>
            <a:ext cx="1371600" cy="459000"/>
          </a:xfrm>
          <a:prstGeom prst="rect">
            <a:avLst/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t Fligh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4000" y="5651640"/>
            <a:ext cx="1371600" cy="276480"/>
          </a:xfrm>
          <a:prstGeom prst="rect">
            <a:avLst/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erve 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6120" y="61326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48000" y="5827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2200" y="6132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76800" y="5827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05600" y="5827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57680" y="4836960"/>
            <a:ext cx="781200" cy="787680"/>
          </a:xfrm>
          <a:custGeom>
            <a:avLst/>
            <a:gdLst/>
            <a:ahLst/>
            <a:rect l="l" t="t" r="r" b="b"/>
            <a:pathLst>
              <a:path w="492" h="496">
                <a:moveTo>
                  <a:pt x="1" y="0"/>
                </a:moveTo>
                <a:lnTo>
                  <a:pt x="0" y="240"/>
                </a:lnTo>
                <a:lnTo>
                  <a:pt x="488" y="240"/>
                </a:lnTo>
                <a:lnTo>
                  <a:pt x="492" y="49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97480" y="4836960"/>
            <a:ext cx="907920" cy="711360"/>
          </a:xfrm>
          <a:custGeom>
            <a:avLst/>
            <a:gdLst/>
            <a:ahLst/>
            <a:rect l="l" t="t" r="r" b="b"/>
            <a:pathLst>
              <a:path w="572" h="448">
                <a:moveTo>
                  <a:pt x="572" y="0"/>
                </a:moveTo>
                <a:lnTo>
                  <a:pt x="568" y="240"/>
                </a:lnTo>
                <a:lnTo>
                  <a:pt x="0" y="236"/>
                </a:lnTo>
                <a:lnTo>
                  <a:pt x="0" y="44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Simple and Composite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52560" y="1674720"/>
            <a:ext cx="7940520" cy="4962600"/>
            <a:chOff x="952560" y="1674720"/>
            <a:chExt cx="7940520" cy="4962600"/>
          </a:xfrm>
        </p:grpSpPr>
        <p:grpSp>
          <p:nvGrpSpPr>
            <p:cNvPr id="250" name=""/>
            <p:cNvGrpSpPr/>
            <p:nvPr/>
          </p:nvGrpSpPr>
          <p:grpSpPr>
            <a:xfrm>
              <a:off x="4514760" y="1796760"/>
              <a:ext cx="3784680" cy="4559040"/>
              <a:chOff x="4514760" y="1796760"/>
              <a:chExt cx="3784680" cy="4559040"/>
            </a:xfrm>
          </p:grpSpPr>
          <p:sp>
            <p:nvSpPr>
              <p:cNvPr id="251" name=""/>
              <p:cNvSpPr/>
              <p:nvPr/>
            </p:nvSpPr>
            <p:spPr>
              <a:xfrm>
                <a:off x="5673600" y="2706120"/>
                <a:ext cx="1933200" cy="916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</a:rPr>
                  <a:t>truck availab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</a:rPr>
                  <a:t>valid credit car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88080" y="3612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31080" y="2747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981320" y="1796760"/>
                <a:ext cx="3318120" cy="490320"/>
              </a:xfrm>
              <a:prstGeom prst="rect">
                <a:avLst/>
              </a:prstGeom>
              <a:solidFill>
                <a:srgbClr val="cc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firm Shipping Reg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981320" y="4061880"/>
                <a:ext cx="3318120" cy="490320"/>
              </a:xfrm>
              <a:prstGeom prst="rect">
                <a:avLst/>
              </a:prstGeom>
              <a:solidFill>
                <a:srgbClr val="cc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et Quot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4514760" y="2040840"/>
                <a:ext cx="1130400" cy="1181160"/>
                <a:chOff x="4514760" y="2040840"/>
                <a:chExt cx="1130400" cy="1181160"/>
              </a:xfrm>
            </p:grpSpPr>
            <p:sp>
              <p:nvSpPr>
                <p:cNvPr id="257" name=""/>
                <p:cNvSpPr/>
                <p:nvPr/>
              </p:nvSpPr>
              <p:spPr>
                <a:xfrm rot="16200000">
                  <a:off x="4155120" y="2400480"/>
                  <a:ext cx="1181160" cy="461880"/>
                </a:xfrm>
                <a:custGeom>
                  <a:avLst/>
                  <a:gdLst/>
                  <a:ahLst/>
                  <a:rect l="l" t="t" r="r" b="b"/>
                  <a:pathLst>
                    <a:path w="418" h="291">
                      <a:moveTo>
                        <a:pt x="0" y="0"/>
                      </a:moveTo>
                      <a:lnTo>
                        <a:pt x="418" y="0"/>
                      </a:lnTo>
                      <a:lnTo>
                        <a:pt x="418" y="291"/>
                      </a:lnTo>
                    </a:path>
                  </a:pathLst>
                </a:custGeom>
                <a:noFill/>
                <a:ln w="28440">
                  <a:solidFill>
                    <a:srgbClr val="99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524120" y="3212640"/>
                  <a:ext cx="112104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6640200" y="5479560"/>
                <a:ext cx="0" cy="3794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81320" y="4959000"/>
                <a:ext cx="3318120" cy="490320"/>
              </a:xfrm>
              <a:prstGeom prst="rect">
                <a:avLst/>
              </a:prstGeom>
              <a:solidFill>
                <a:srgbClr val="cc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et Shipping Date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81320" y="5865480"/>
                <a:ext cx="3318120" cy="490320"/>
              </a:xfrm>
              <a:prstGeom prst="rect">
                <a:avLst/>
              </a:prstGeom>
              <a:solidFill>
                <a:srgbClr val="cc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ook Truck Ship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40200" y="4586040"/>
                <a:ext cx="0" cy="3794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640200" y="3666600"/>
                <a:ext cx="0" cy="3794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40200" y="2326320"/>
                <a:ext cx="0" cy="3790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130640" y="1674720"/>
              <a:ext cx="4762440" cy="496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52560" y="2766960"/>
              <a:ext cx="1171440" cy="317340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u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ipp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92320" y="4181400"/>
              <a:ext cx="204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57640" y="368748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xpa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4160" y="120168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meTruckSh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92160" y="1201680"/>
            <a:ext cx="42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edAcmeTruckSh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Upper Ontology of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90520" y="2185920"/>
            <a:ext cx="6810480" cy="31082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41520" y="3624120"/>
            <a:ext cx="3092400" cy="2059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Service Grounding: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“How to access 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9520" y="1465200"/>
            <a:ext cx="836748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-specif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formatting, transport mechanisms, protocols, serializations of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Model + Grounding give everything needed for using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s upon WS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OWL-S / WSDL Grou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9520" y="1465200"/>
            <a:ext cx="836748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ervices Description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ed by IBM, Ariba, 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f W3C Web Services Description W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message syntax accepted/generated by communication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nd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opular message/transport standards (SOAP, HTTP, M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“types”; extensibility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lement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OWL-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OWL-S / WSDL Grou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12720" y="3081240"/>
            <a:ext cx="6515280" cy="3056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22280" y="1824120"/>
            <a:ext cx="6515280" cy="3055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99000" y="2293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sources/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51400" y="5925960"/>
            <a:ext cx="234288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5000" y="1600200"/>
            <a:ext cx="234324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WL-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11240" y="23036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25640" y="33894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tom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417996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96000" y="4167360"/>
            <a:ext cx="23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1520" y="336708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nputs /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46200" y="5189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inding to SOAP, HTTP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87560" y="3819600"/>
            <a:ext cx="276480" cy="431640"/>
          </a:xfrm>
          <a:prstGeom prst="upDownArrow">
            <a:avLst>
              <a:gd name="adj1" fmla="val 50000"/>
              <a:gd name="adj2" fmla="val 310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30840" y="3807000"/>
            <a:ext cx="274680" cy="431640"/>
          </a:xfrm>
          <a:prstGeom prst="upDownArrow">
            <a:avLst>
              <a:gd name="adj1" fmla="val 50000"/>
              <a:gd name="adj2" fmla="val 312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915160" y="2711160"/>
            <a:ext cx="0" cy="57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046320" y="2759040"/>
            <a:ext cx="0" cy="58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690800" y="4573440"/>
            <a:ext cx="1104840" cy="554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19320" y="4599000"/>
            <a:ext cx="85572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What is OWL-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120" y="1143000"/>
            <a:ext cx="8589960" cy="58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olog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uag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WL ontology/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(formally) describing properties and capabilities of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roach that draws on many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process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www.daml.org/servic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OWL-S / WSDL Grounding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26960" y="2095560"/>
            <a:ext cx="836604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630600" y="3168720"/>
            <a:ext cx="2505240" cy="14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643200" y="4247640"/>
            <a:ext cx="2549520" cy="1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05000" y="4987440"/>
            <a:ext cx="302292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59200" y="26938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l-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22840" y="460836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wl-s-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25520" y="2954160"/>
            <a:ext cx="2195640" cy="459000"/>
          </a:xfrm>
          <a:prstGeom prst="parallelogram">
            <a:avLst>
              <a:gd name="adj" fmla="val 119588"/>
            </a:avLst>
          </a:prstGeom>
          <a:noFill/>
          <a:ln w="5724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nput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40280" y="38070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l-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57200" y="3995640"/>
            <a:ext cx="2195640" cy="459000"/>
          </a:xfrm>
          <a:prstGeom prst="parallelogram">
            <a:avLst>
              <a:gd name="adj" fmla="val 119588"/>
            </a:avLst>
          </a:prstGeom>
          <a:solidFill>
            <a:srgbClr val="ffffff"/>
          </a:solidFill>
          <a:ln w="5724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outp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65320" y="4921200"/>
            <a:ext cx="163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tomic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7240" y="1241280"/>
            <a:ext cx="2490840" cy="5078520"/>
          </a:xfrm>
          <a:prstGeom prst="flowChartAlternateProcess">
            <a:avLst/>
          </a:prstGeom>
          <a:noFill/>
          <a:ln w="5724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6200" y="1255680"/>
            <a:ext cx="2470320" cy="495288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03920" y="1298520"/>
            <a:ext cx="271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SDL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62760" y="2563920"/>
            <a:ext cx="230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message …&gt;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&lt;part …&gt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message …&gt;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&lt;part …&gt;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operation …&gt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binding …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OWL-S / WSDL Grounding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Review:  Upper Ontology of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190520" y="2185920"/>
            <a:ext cx="68104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Path of Ev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3760" y="1414080"/>
            <a:ext cx="7770600" cy="36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0.5 (May 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Profile &amp; Process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0.6 (December 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ments to Profile &amp; Process; Resources ontolo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0.7 (October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DAML-S/WSDL Grounding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, Process Model refinements; more complet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0.9 (May 2003) 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ust annou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-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WL-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ing: greater generality, flex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work on expressing conditions,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munity support (contributions pa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wards 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veness issues; exceptions, lifecycle; process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28400" y="1179360"/>
            <a:ext cx="837252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-fi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ntrol Ontology (lifecycle mgm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, explicit mess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langu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DL 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0066"/>
                </a:solidFill>
                <a:uFillTx/>
                <a:latin typeface="Arial"/>
              </a:rPr>
              <a:t>Critical Path to 1.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Web Services Initiative (SWSI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.swsi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I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880" y="161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together US and European Semantic Web Services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age in collaborative standardization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 Services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-S as a primary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ttention to working with industry standards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 Services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collaboration with W3C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ice Choreography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 Services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ly outcome is a W3C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WSI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ory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ray Burke, Hans-Georg Stork, Jim He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chairs: Dieter Fensel and Katia Syc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Advisor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chairs: Michael Uschold and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Technical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chairs: David Martin and Michael Ki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 Technical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chairs: Mark Burstein and Christoph Buss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nd of Part II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xtra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07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0956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s: relationship with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modeling: man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ility of public/private aspects of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ing to offline (sub)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ing to multiple r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,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d how to g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y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W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between DL ontology, logical expressions, algorithm/workflow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with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ing compelling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mising too m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an incremental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Layered Approach to Language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62480" y="3046320"/>
            <a:ext cx="3789360" cy="60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AML-???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(Rules, FOL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336680" y="3859200"/>
            <a:ext cx="6820560" cy="2503080"/>
            <a:chOff x="1336680" y="3859200"/>
            <a:chExt cx="6820560" cy="2503080"/>
          </a:xfrm>
        </p:grpSpPr>
        <p:sp>
          <p:nvSpPr>
            <p:cNvPr id="58" name=""/>
            <p:cNvSpPr/>
            <p:nvPr/>
          </p:nvSpPr>
          <p:spPr>
            <a:xfrm>
              <a:off x="1336680" y="5756400"/>
              <a:ext cx="6816600" cy="60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40458c"/>
                  </a:solidFill>
                  <a:latin typeface="Arial"/>
                </a:rPr>
                <a:t>XML  </a:t>
              </a:r>
              <a:r>
                <a:rPr b="1" lang="en-US" sz="2000" spc="-1" strike="noStrike">
                  <a:solidFill>
                    <a:srgbClr val="40458c"/>
                  </a:solidFill>
                  <a:latin typeface="Arial"/>
                </a:rPr>
                <a:t>(Extensible Markup Language)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5840" y="5122800"/>
              <a:ext cx="5974920" cy="60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40458c"/>
                  </a:solidFill>
                  <a:latin typeface="Arial"/>
                </a:rPr>
                <a:t>RDF  </a:t>
              </a:r>
              <a:r>
                <a:rPr b="1" lang="en-US" sz="2000" spc="-1" strike="noStrike">
                  <a:solidFill>
                    <a:srgbClr val="40458c"/>
                  </a:solidFill>
                  <a:latin typeface="Arial"/>
                </a:rPr>
                <a:t>(Resource Description Framework)</a:t>
              </a:r>
              <a:r>
                <a:rPr b="1" lang="en-US" sz="2400" spc="-1" strike="noStrike">
                  <a:solidFill>
                    <a:srgbClr val="40458c"/>
                  </a:solidFill>
                  <a:latin typeface="Arial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33640" y="4492800"/>
              <a:ext cx="5223600" cy="60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Arial"/>
                </a:rPr>
                <a:t>             </a:t>
              </a:r>
              <a:r>
                <a:rPr b="1" lang="en-US" sz="2400" spc="-1" strike="noStrike">
                  <a:solidFill>
                    <a:srgbClr val="40458c"/>
                  </a:solidFill>
                  <a:latin typeface="Arial"/>
                </a:rPr>
                <a:t>RDFS  </a:t>
              </a:r>
              <a:r>
                <a:rPr b="1" lang="en-US" sz="2000" spc="-1" strike="noStrike">
                  <a:solidFill>
                    <a:srgbClr val="40458c"/>
                  </a:solidFill>
                  <a:latin typeface="Arial"/>
                </a:rPr>
                <a:t>(RDF Schema)</a:t>
              </a:r>
              <a:r>
                <a:rPr b="1" lang="en-US" sz="2400" spc="-1" strike="noStrike">
                  <a:solidFill>
                    <a:srgbClr val="40458c"/>
                  </a:solidFill>
                  <a:latin typeface="Arial"/>
                </a:rPr>
                <a:t>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2200" y="3859200"/>
              <a:ext cx="4393080" cy="60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Arial"/>
                </a:rPr>
                <a:t>DAML+OIL </a:t>
              </a:r>
              <a:r>
                <a:rPr b="1" lang="en-US" sz="2400" spc="-1" strike="noStrike">
                  <a:solidFill>
                    <a:srgbClr val="40458c"/>
                  </a:solidFill>
                  <a:latin typeface="Wingdings"/>
                  <a:ea typeface="Wingdings"/>
                </a:rPr>
                <a:t></a:t>
              </a:r>
              <a:r>
                <a:rPr b="1" lang="en-US" sz="2400" spc="-1" strike="noStrike">
                  <a:solidFill>
                    <a:srgbClr val="40458c"/>
                  </a:solidFill>
                  <a:latin typeface="Arial"/>
                </a:rPr>
                <a:t> OWL  </a:t>
              </a:r>
              <a:r>
                <a:rPr b="1" lang="en-US" sz="2000" spc="-1" strike="noStrike">
                  <a:solidFill>
                    <a:srgbClr val="40458c"/>
                  </a:solidFill>
                  <a:latin typeface="Arial"/>
                </a:rPr>
                <a:t>(Ontolog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231160" y="2247840"/>
            <a:ext cx="2896560" cy="605880"/>
          </a:xfrm>
          <a:prstGeom prst="rect">
            <a:avLst/>
          </a:prstGeom>
          <a:solidFill>
            <a:srgbClr val="ffffff"/>
          </a:solidFill>
          <a:ln w="540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WL-S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(Service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560" y="1195560"/>
            <a:ext cx="81054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-S: a major application of O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versions will build upon emerging lay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(e.g. DAML-Ru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(Some) Related Work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280" y="1138320"/>
            <a:ext cx="869472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Industrial Initiativ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D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eb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D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L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Biztalk, e-speak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XML-based initiatives are largely complementary to OWL-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L-S aims to build on top of these efforts enabling increased expressiveness, semantics, and inference enabling auto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Academic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Algebras (e.g., Pi Calcu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Specification Language (Hoare Logic, PS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Domain Definition Language (PDD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rocess Modeling (e.g., BM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Web Process Modeling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OWL-S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880" y="1487520"/>
            <a:ext cx="7770960" cy="36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 of service use by softwar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: full-fledged use of services never before encounte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, selection, composition, invocation, monitoring,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in the “real worl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indust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explo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reasoning/planning about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On-the-fly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use with information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use; powerful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Automation Enabled by OWL-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4280" y="1387440"/>
            <a:ext cx="860760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Find me a shipping service that transports goods to Dub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Buy me 500 lbs. powdered milk from www.acmemo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Arrange food for 500 people for 2 weeks in Dub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cution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Has the powdered milk been ordered and paid for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rot="16200000">
            <a:off x="-114120" y="3390480"/>
            <a:ext cx="25146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228600" y="4723920"/>
            <a:ext cx="167652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79132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5943600"/>
            <a:ext cx="64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   …    Deployment   …   Use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371600"/>
            <a:ext cx="2057400" cy="53352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2743200"/>
            <a:ext cx="2057400" cy="5335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505320"/>
            <a:ext cx="2057400" cy="53316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2133720"/>
            <a:ext cx="2057400" cy="53316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3657600"/>
            <a:ext cx="2057400" cy="5335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99072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9680" y="380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24280" y="3090960"/>
            <a:ext cx="2057400" cy="30456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24280" y="2862360"/>
            <a:ext cx="2057400" cy="30456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572000"/>
            <a:ext cx="3810240" cy="30492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4343400"/>
            <a:ext cx="3810240" cy="3049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0240" y="4376880"/>
            <a:ext cx="34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, Inter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5334120"/>
            <a:ext cx="3810240" cy="30456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5105520"/>
            <a:ext cx="3810240" cy="30456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10240" y="5138640"/>
            <a:ext cx="34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ing,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-380880" y="1828800"/>
            <a:ext cx="198144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990720"/>
            <a:ext cx="0" cy="480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Upper Ontology of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90520" y="2185920"/>
            <a:ext cx="6810480" cy="3108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21240" y="1763640"/>
            <a:ext cx="3092400" cy="2059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77400" y="5654520"/>
            <a:ext cx="335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ntology images compliments of Terry Payne,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iversity of South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8400" y="1166400"/>
            <a:ext cx="83725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level characterization/summary of a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ng service regi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vice can have many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service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selection (matchma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an der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advertis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60066"/>
                </a:solidFill>
                <a:uFillTx/>
                <a:latin typeface="Arial"/>
              </a:rPr>
              <a:t>Service Profile: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“What does it d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8:21:49Z</dcterms:created>
  <dc:creator>Sheila McIlraith</dc:creator>
  <dc:description/>
  <dc:language>en-US</dc:language>
  <cp:lastModifiedBy>AIC</cp:lastModifiedBy>
  <dcterms:modified xsi:type="dcterms:W3CDTF">2003-05-08T12:19:25Z</dcterms:modified>
  <cp:revision>549</cp:revision>
  <dc:subject/>
  <dc:title>DAML-S Briefing</dc:title>
</cp:coreProperties>
</file>