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3C1-8359-4134-8253-F11DBEDB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anna Bryson, AAM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-Based Composite Services in OWL-S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-Oriented Design of an Intelligent Semantic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: d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it shows that the coalition is very much aware of what the indust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ing and trying to develop compatibl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we can see explicitly what additional benefits OWL-S provides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"standards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99A-7EC9-4DB0-A4A9-1F1CB86E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58B-17BE-48C4-BE76-C195E818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1DA-4CB7-41C5-A172-298CE76B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B29-25F3-4E10-9C7C-A2B70013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6C8-DA02-4081-9D92-C0AFA0C7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56E-A45C-4606-ADE2-4D6055D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EA5-D166-4195-A965-1DA336A1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6BE-F3CA-4FE1-AEFC-7508ED2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3C5-E1EF-4C7A-A877-F585C5ED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8F0-A5EF-43C8-9151-E8360DA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823-337B-4B73-8347-17079991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567-2F27-404D-B0E2-BAB8927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120" y="6418440"/>
            <a:ext cx="8756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avid Martin for DAML-S Coalition                                                                                                                                                             05/08/2003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032-6E59-40E8-A90C-F89D07130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8967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66"/>
                </a:solidFill>
                <a:uFillTx/>
                <a:latin typeface="Arial"/>
              </a:rPr>
              <a:t>OWL-S:</a:t>
            </a:r>
            <a:br>
              <a:rPr sz="5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Bringing Services to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the Semantic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231444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tin@ai.sri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981440" cy="96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04040" y="65160"/>
            <a:ext cx="31208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 are a new breed of Web application. They are self-contained, self-describing, modular applications that can be published, located, and invoked across the Web. Web services perform functions, which can be anything from simple requests to complicated business processes.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a Web service is deployed, other applications (and other Web services) can discover and invoke the deployed service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BM web service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0680" y="280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: 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93760" y="178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services can be completely decentralized and distributed over the Internet and accessed by a wide variety of communications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will become a global common platform where organizations and individuals communicate among each other to carry out various commercial activities and to provide value-adde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enterprise and dynamic value chains become achievable and possibly even mandatory for competitive advan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5840" y="364680"/>
            <a:ext cx="791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: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Business 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: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Emerg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762120"/>
            <a:ext cx="1295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6600" y="4121280"/>
            <a:ext cx="10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28840" y="410544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58760" y="4094280"/>
            <a:ext cx="14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98720" y="2444760"/>
            <a:ext cx="14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8840" y="242892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29240" y="2417760"/>
            <a:ext cx="14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89280" y="30747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11880" y="3087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14720" y="3061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b is organized around URIs, HTML, and HT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Is provide defined ids to refer to elements on the we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provides a standardized way to describe document structures (allowing browsers to render information for the human reader)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defines a protocol to retrieve information from the w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&gt; Not surprisingly, web services require a similar infrastructure around UDDI, WSDL, and SO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762120"/>
            <a:ext cx="1295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DD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mechanism for clients to find web serv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DDI registry is similar to a CORBA trader, or it can be thought of as a DNS service for business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hite pages: Who is the service provid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Yellow pages: What is the service provi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reen pages: How can I make use of the serv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762120"/>
            <a:ext cx="1295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SD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services as collections of network endpoints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efinition of endpoints and messages is separated from their concrete network deployment or data format bin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protocol and data format specifications for a particular port type constitu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rt is defined by associating a network address with a binding; a collection of ports defin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762120"/>
            <a:ext cx="1295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A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message layout specification that defines a uniform way of passing XML-encoded da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lso defines a way to bind to HTTP as the underlying communication protocol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AP is basically a technology to allow for “RPC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ver the we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762120"/>
            <a:ext cx="1295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Triangle" descr=""/>
          <p:cNvPicPr/>
          <p:nvPr/>
        </p:nvPicPr>
        <p:blipFill>
          <a:blip r:embed="rId1"/>
          <a:stretch/>
        </p:blipFill>
        <p:spPr>
          <a:xfrm>
            <a:off x="0" y="184320"/>
            <a:ext cx="9142560" cy="6856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5360" y="6095880"/>
            <a:ext cx="476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“Web Services Architecture W3C Working Draf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3.org/TR/2002/WD-ws-arch-20021114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0040" y="352440"/>
            <a:ext cx="7915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:</a:t>
            </a:r>
            <a:br>
              <a:rPr sz="3600"/>
            </a:b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Basi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2800" y="380880"/>
            <a:ext cx="713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mmercial Web Services: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DI, WSDL, and SOAP are important steps into the direction of a web populated by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y only address part of the overall stack that needs to be available in order to achieve the above vision event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ly, syntax and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s required to maximize reasoning &amp; automation of Web service provision &amp; use across the WS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, discovery, selection, composition, monitoring, mediation, execution, monitoring &amp; recover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762120"/>
            <a:ext cx="1295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3880" y="1022040"/>
            <a:ext cx="84139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slides will be available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458c"/>
                </a:solidFill>
                <a:uFillTx/>
                <a:latin typeface="Arial"/>
              </a:rPr>
              <a:t>www.daml.org/services/materials/sw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will be linked from the SWMU Agenda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36320"/>
            <a:ext cx="78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8840" y="1690560"/>
            <a:ext cx="6868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on “Why Semantic Web Servic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 “Commercial Web Servic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d from a ISWC 2002 tuto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with kind permiss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er Fensel (U. of Innsbruck) &amp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off Bussler (Ora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Arial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3760" y="1414440"/>
            <a:ext cx="7770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&amp;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emantic Web Servi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, UDDI, SOAP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-S Technical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, Process &amp; Grounding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 &amp; Futur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SI, SWSL &amp; SW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&amp; Building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, Tools,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632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Convergence on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7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vendors, media, forecast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, not 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 Web services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Web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L-S/OWL-S; WSMF &amp; other EU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WC 2002: 10 services-related papers, 7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 computing (OG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quitous computing (de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access to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markabl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behavioral intelligence to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00200" y="5181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560" y="52578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4960" y="481968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-1523520" y="-2134440"/>
            <a:ext cx="8838720" cy="731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800000"/>
            </a:solidFill>
            <a:custDash>
              <a:ds d="100000" sp="1000"/>
            </a:custDash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73240"/>
            <a:ext cx="34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500 millio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more than </a:t>
            </a:r>
            <a:r>
              <a:rPr b="1" lang="de-DE" sz="2400" spc="-1" strike="noStrike">
                <a:solidFill>
                  <a:srgbClr val="6600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billion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Why Semantic Web Servi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762120"/>
            <a:ext cx="108756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anks to Dieter Fensel (U. of Innsbruck)</a:t>
            </a:r>
            <a:br>
              <a:rPr sz="2000"/>
            </a:b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for use of this mate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518148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520" y="52992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6160" y="48196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209680"/>
            <a:ext cx="1981080" cy="3200400"/>
          </a:xfrm>
          <a:prstGeom prst="line">
            <a:avLst/>
          </a:prstGeom>
          <a:ln w="76320">
            <a:solidFill>
              <a:srgbClr val="660033"/>
            </a:solidFill>
            <a:prstDash val="sys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17400" y="1603440"/>
            <a:ext cx="44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Serious Problems i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ex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repres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nd mai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876920"/>
            <a:ext cx="24382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86200" y="4876920"/>
            <a:ext cx="3733920" cy="1143000"/>
            <a:chOff x="3886200" y="4876920"/>
            <a:chExt cx="3733920" cy="1143000"/>
          </a:xfrm>
        </p:grpSpPr>
        <p:grpSp>
          <p:nvGrpSpPr>
            <p:cNvPr id="75" name=""/>
            <p:cNvGrpSpPr/>
            <p:nvPr/>
          </p:nvGrpSpPr>
          <p:grpSpPr>
            <a:xfrm>
              <a:off x="3886200" y="4876920"/>
              <a:ext cx="3733920" cy="1066680"/>
              <a:chOff x="3886200" y="4876920"/>
              <a:chExt cx="3733920" cy="1066680"/>
            </a:xfrm>
          </p:grpSpPr>
          <p:sp>
            <p:nvSpPr>
              <p:cNvPr id="76" name=""/>
              <p:cNvSpPr/>
              <p:nvPr/>
            </p:nvSpPr>
            <p:spPr>
              <a:xfrm>
                <a:off x="3886200" y="55627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5029200" y="4876920"/>
                <a:ext cx="2590920" cy="1066680"/>
                <a:chOff x="5029200" y="4876920"/>
                <a:chExt cx="2590920" cy="10666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257800" y="5181480"/>
                  <a:ext cx="22096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DF, RDF(S), OW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029200" y="4876920"/>
                  <a:ext cx="2590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660033"/>
                      </a:solidFill>
                      <a:latin typeface="Times New Roman"/>
                    </a:rPr>
                    <a:t>Semantic Web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>
              <a:off x="5029200" y="4952880"/>
              <a:ext cx="259092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Why Semantic Web Servi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762120"/>
            <a:ext cx="108756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anks to Dieter Fensel (U. of Innsbruck)</a:t>
            </a:r>
            <a:br>
              <a:rPr sz="2000"/>
            </a:b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for use of this mate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520" y="52992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64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19810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Bringing the computer back as a device for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76360" y="3276720"/>
            <a:ext cx="1447560" cy="1371600"/>
          </a:xfrm>
          <a:prstGeom prst="line">
            <a:avLst/>
          </a:prstGeom>
          <a:ln w="76320">
            <a:solidFill>
              <a:srgbClr val="660033"/>
            </a:solidFill>
            <a:prstDash val="sys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18148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6160" y="48196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876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876920"/>
            <a:ext cx="24382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952880"/>
            <a:ext cx="259092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7920" y="2514600"/>
            <a:ext cx="2590560" cy="2361960"/>
            <a:chOff x="1447920" y="2514600"/>
            <a:chExt cx="2590560" cy="2361960"/>
          </a:xfrm>
        </p:grpSpPr>
        <p:sp>
          <p:nvSpPr>
            <p:cNvPr id="96" name=""/>
            <p:cNvSpPr/>
            <p:nvPr/>
          </p:nvSpPr>
          <p:spPr>
            <a:xfrm>
              <a:off x="1676520" y="2895480"/>
              <a:ext cx="220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DDI, WSDL, SO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520" y="2544840"/>
              <a:ext cx="24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33"/>
                  </a:solidFill>
                  <a:latin typeface="Times New Roman"/>
                </a:rPr>
                <a:t>Web Servi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209680" y="35809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2514600"/>
              <a:ext cx="2590560" cy="106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Why Semantic Web Servi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762120"/>
            <a:ext cx="108756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anks to Dieter Fensel (U. of Innsbruck)</a:t>
            </a:r>
            <a:br>
              <a:rPr sz="2000"/>
            </a:b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for use of this mate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191120" y="1752480"/>
            <a:ext cx="1295280" cy="685800"/>
          </a:xfrm>
          <a:prstGeom prst="line">
            <a:avLst/>
          </a:prstGeom>
          <a:ln w="76320">
            <a:solidFill>
              <a:srgbClr val="660033"/>
            </a:solidFill>
            <a:prstDash val="sys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4720" y="1219320"/>
            <a:ext cx="48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Bringing the web to its full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520" y="52992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64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895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DI, WSDL, 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520" y="254484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0968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18148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5181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6160" y="48196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876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76920"/>
            <a:ext cx="24382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4952880"/>
            <a:ext cx="259092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2514600"/>
            <a:ext cx="259056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8480" y="2590920"/>
            <a:ext cx="3581640" cy="1066680"/>
            <a:chOff x="4038480" y="2590920"/>
            <a:chExt cx="3581640" cy="1066680"/>
          </a:xfrm>
        </p:grpSpPr>
        <p:sp>
          <p:nvSpPr>
            <p:cNvPr id="119" name=""/>
            <p:cNvSpPr/>
            <p:nvPr/>
          </p:nvSpPr>
          <p:spPr>
            <a:xfrm>
              <a:off x="5257800" y="2743200"/>
              <a:ext cx="220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0033"/>
                  </a:solidFill>
                  <a:latin typeface="Times New Roman"/>
                </a:rPr>
                <a:t>Intelligent We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660033"/>
                  </a:solidFill>
                  <a:latin typeface="Times New Roman"/>
                </a:rPr>
                <a:t>Servic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8480" y="3124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2880" y="2590920"/>
              <a:ext cx="2667240" cy="106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6324480" y="3657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Why Semantic Web Servi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762120"/>
            <a:ext cx="108756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anks to Dieter Fensel (U. of Innsbruck)</a:t>
            </a:r>
            <a:br>
              <a:rPr sz="2000"/>
            </a:b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for use of this mate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8:21:49Z</dcterms:created>
  <dc:creator>Sheila McIlraith</dc:creator>
  <dc:description/>
  <dc:language>en-US</dc:language>
  <cp:lastModifiedBy>AIC</cp:lastModifiedBy>
  <dcterms:modified xsi:type="dcterms:W3CDTF">2003-05-08T14:05:11Z</dcterms:modified>
  <cp:revision>567</cp:revision>
  <dc:subject/>
  <dc:title>DAML-S Briefing</dc:title>
</cp:coreProperties>
</file>