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513280" y="41400"/>
            <a:ext cx="816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80533-E6F2-48A2-B5C1-47AD541577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63360" y="-228600"/>
            <a:ext cx="390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ger L. Costello, David B. Jacobs.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2003 The MITRE Corporation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953480" y="133200"/>
            <a:ext cx="755640" cy="36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Five Minute Intro to X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ger L. Costel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ITRE Corpo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OWL you can define the Camera Class (which is used in the XML docume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345400" y="1895400"/>
            <a:ext cx="4672080" cy="94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owl:Class rdf:ID="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mer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"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81000" y="4575240"/>
            <a:ext cx="2409840" cy="2282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62080" y="4819680"/>
            <a:ext cx="2107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d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W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856040" y="4602240"/>
            <a:ext cx="2409840" cy="2282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037120" y="4646520"/>
            <a:ext cx="2107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d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D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282680" y="2295000"/>
            <a:ext cx="1371600" cy="18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-2520" y="2273400"/>
            <a:ext cx="2404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Qualify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lass) to indic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it is provi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OW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23760" y="4127400"/>
            <a:ext cx="562320" cy="620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942600" y="2411280"/>
            <a:ext cx="2328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Qualify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ttrib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D) to indic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it is provi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RD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 flipV="1">
            <a:off x="4978080" y="2338560"/>
            <a:ext cx="2020680" cy="388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968880" y="4300560"/>
            <a:ext cx="664920" cy="663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80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use XM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52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a universally accepted standard way of structuring data (syntax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a W3C recommendation (W3C = World Wide Web Consortiu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rketplace supports it with a lot of free/inexpensive too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lternative to using XML is to define your own proprietary data syntax, and then build your own proprietary tools to support the proprietary syntax (Not a very appealing idea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Quick Introduction t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WL Web Ontology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158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ger L. Costel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vid B. Jaco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ITRE Corpo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he creation of this tutorial was sponsored by DARP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5800" y="552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OW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4000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23440" y="1717560"/>
            <a:ext cx="8050680" cy="1373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swer: OWL is a set of XML elements and attribute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 standardized meaning, that are used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terms and their relationshi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21520" y="5256360"/>
            <a:ext cx="1355760" cy="1313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Class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56440" y="3763800"/>
            <a:ext cx="2120760" cy="1313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quivalentProp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eIndividua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442480" y="4959360"/>
            <a:ext cx="376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WL elements and 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, OWL Vocabula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9960" y="3189240"/>
            <a:ext cx="42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WL extends RDF Schem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93800" y="5195880"/>
            <a:ext cx="2322360" cy="1457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87320" y="3732120"/>
            <a:ext cx="2322720" cy="1457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74920" y="5632560"/>
            <a:ext cx="196920" cy="554040"/>
          </a:xfrm>
          <a:custGeom>
            <a:avLst/>
            <a:gdLst>
              <a:gd name="textAreaLeft" fmla="*/ 0 w 196920"/>
              <a:gd name="textAreaRight" fmla="*/ 70920 w 196920"/>
              <a:gd name="textAreaTop" fmla="*/ 14400 h 554040"/>
              <a:gd name="textAreaBottom" fmla="*/ 539640 h 55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587760" y="5713560"/>
            <a:ext cx="154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DF Sch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60880" y="3724200"/>
            <a:ext cx="361800" cy="1355760"/>
          </a:xfrm>
          <a:custGeom>
            <a:avLst/>
            <a:gdLst>
              <a:gd name="textAreaLeft" fmla="*/ 0 w 361800"/>
              <a:gd name="textAreaRight" fmla="*/ 130680 w 361800"/>
              <a:gd name="textAreaTop" fmla="*/ 35280 h 1355760"/>
              <a:gd name="textAreaBottom" fmla="*/ 1320480 h 1355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690360" y="419724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W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000760" y="3724200"/>
            <a:ext cx="446040" cy="2928960"/>
          </a:xfrm>
          <a:custGeom>
            <a:avLst/>
            <a:gdLst>
              <a:gd name="textAreaLeft" fmla="*/ 0 w 446040"/>
              <a:gd name="textAreaRight" fmla="*/ 160920 w 446040"/>
              <a:gd name="textAreaTop" fmla="*/ 76320 h 2928960"/>
              <a:gd name="textAreaBottom" fmla="*/ 2852640 h 292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of using OWL to define two terms and their relation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91124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80360" y="2163600"/>
            <a:ext cx="746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Define the terms "Camera" and "SLR"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that SLRs are a type of Came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85360" y="4667400"/>
            <a:ext cx="34711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owl:Class rdf:ID="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mer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00120" y="5238720"/>
            <a:ext cx="53452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owl:Class rdf:ID="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L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rdfs:subClassOf rdf:resource="#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mer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owl:Class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60920" y="3535200"/>
            <a:ext cx="739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e's how these two terms (classes) and the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onship is defined using the OWL vocabular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ick Intro Cont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is quick intro we present an example to demonstrate one of the utilities of OW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xample shows how OWL can be used to bridge terminology differences and thus enhance interoperability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152568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Bridging the Terminology Gap using OW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key problem in achieving interoperability is to be able to recognize that two pieces of data are talking about the same thing, even though different terminology is being us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ollowing slides presents an example to show how OWL may be used to bridge the "terminology gap"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188280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3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ested 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rchasing a Came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595520"/>
            <a:ext cx="7772400" cy="1257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42000"/>
          </a:bodyPr>
          <a:p>
            <a:pPr marL="144000" indent="-144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enari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11760" indent="-1198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am interested in purchasing a camera with a 75-300mm zoom lens size, that has an aperture of 4.5-5.6, and a shutter speed that ranges from 1/500 sec. to 1.0 se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11760" indent="-1198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launch my personal "Web Bot" which crawls the Web looking for Web sites that can fulfill my requ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11760" indent="-1198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 that there exists an OWL Camera Ontology, which the Web Bot can "consult" upon its travels across the We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149688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480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 this document releva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28120" y="1401840"/>
            <a:ext cx="5123160" cy="5387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PhotographyStore rdf:ID="Hunts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mlns:rdf="http://www.w3.org/1999/02/22-rdf-syntax-ns#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store-location&gt;Malden, MA&lt;/store-location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phone&gt;617-555-1234&lt;/phon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catalog rdf:parseType="Collection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SLR rdf:ID="Olympus-OM-10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xmlns="http://www.camera.org#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len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Len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cal-length&gt;75-300mm zoom&lt;/focal-lengt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-stop&gt;4.5-5.6&lt;/f-stop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/Len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/len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shutter-speed rdf:parseType="Resource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min&gt;0.002&lt;/min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max&gt;1.0&lt;/max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units&gt;seconds&lt;/unit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/shutter-speed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/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/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cost rdf:parseType="Resource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rdf:value&gt;325&lt;/rdf:valu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currency&gt;USD&lt;/currenc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/cos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/SL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/catalog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/PhotographyStor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4880" y="1539720"/>
            <a:ext cx="2571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Web Bo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s th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 at 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b si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04480" y="5635800"/>
            <a:ext cx="26344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it relevant?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Note: SLR = Single Le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32552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3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Match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762360" y="311472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c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531440" y="5562720"/>
            <a:ext cx="7073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determine if there is a match, these questions must be answere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What's the relationship between "SLR" and "Camera"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What's the relationship between "focal-length" and "size"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What's the relationship between "f-stop" and "aperture"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3525480" y="3324240"/>
            <a:ext cx="297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82960" y="333864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86832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2480" y="1052640"/>
            <a:ext cx="3400560" cy="451008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PhotographyStore rdf:ID="Hunts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mlns:rdf="&amp;rdf;#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store-location&gt;Malden, MA&lt;/store-location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phone&gt;617-555-1234&lt;/phon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catalog rdf:parseType="Collection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LR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rdf:ID="Olympus-OM-10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mlns="http://www.camera.org#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lens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Lens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ocal-length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gt;75-300mm zoom&lt;/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ocal-length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-stop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gt;4.5-5.6&lt;/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-stop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Lens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lens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body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Body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shutter-speed rdf:parseType="Resource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min&gt;0.002&lt;/min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max&gt;1.0&lt;/max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units&gt;seconds&lt;/units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shutter-speed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Body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body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cost rdf:parseType="Resource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rdf:value&gt;325&lt;/rdf:valu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currency&gt;USD&lt;/currency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cost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LR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catalog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PhotographySto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47840" y="1851120"/>
            <a:ext cx="3058920" cy="3363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87160" y="2874960"/>
            <a:ext cx="3789720" cy="946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 am interested in purchasing a camera with 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5-300mm zoom lens size, that has an aperture o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.5-5.6, and a shutter speed that ranges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/500 sec. to 1.0 se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369200" y="2886120"/>
            <a:ext cx="606240" cy="303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13520" y="3117960"/>
            <a:ext cx="649440" cy="274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48560" y="3141720"/>
            <a:ext cx="331560" cy="2300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147760" y="2860560"/>
            <a:ext cx="4435560" cy="3868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ou have data …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ow should you structure it?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96400" y="3949560"/>
            <a:ext cx="257796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on-Sure-Shot-Z15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403880" y="4632480"/>
            <a:ext cx="193320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7-155mm zo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828520" y="5002200"/>
            <a:ext cx="10342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8-11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35920" y="5699160"/>
            <a:ext cx="126720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318 US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54000" y="2306520"/>
            <a:ext cx="680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e's some data about a Canon camer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ship betwe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LR and Camer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20800" y="2055960"/>
            <a:ext cx="824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Web Bot "consults" the OWL Camera Ontology.  Th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WL statement tells the Web Bot that a SLR is a type of Came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32600" y="2963880"/>
            <a:ext cx="54172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owl:Class rdf:ID="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L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rdfs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bClassO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df:resource="#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mer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owl:Class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4416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176832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19040" y="4946760"/>
            <a:ext cx="1838520" cy="1189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PhotographySt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df:ID="Hunts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SL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/SL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/PhotographyStor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8280" y="6130800"/>
            <a:ext cx="167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unts.x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637080" y="5019840"/>
            <a:ext cx="1385640" cy="1184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63880" y="5133960"/>
            <a:ext cx="93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65480" y="5540400"/>
            <a:ext cx="1385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470280" y="5211720"/>
            <a:ext cx="2285640" cy="45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owl:Class rdf:ID="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LR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"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rdfs: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ubClassOf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rdf:resource="#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Camera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"/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/owl:Class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765120" y="5683320"/>
            <a:ext cx="190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mera.ow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037120" y="5410080"/>
            <a:ext cx="1442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5006880" y="5568840"/>
            <a:ext cx="1487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84560" y="4875120"/>
            <a:ext cx="1802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"Relationship betwe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mera and SLR?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001120" y="5611680"/>
            <a:ext cx="1415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"SLR is a type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mera.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360" y="456876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592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ship betwe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cal-length and lens siz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2320" y="2087640"/>
            <a:ext cx="6522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OWL statement  tells the Web Bot th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cal-length is equivalent to lens siz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461960" y="3174840"/>
            <a:ext cx="5845320" cy="1618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owl:DatatypeProperty rdf:ID="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cal-leng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owl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quivalentProper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df:resource="#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z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rdfs:domain rdf:resource="#Lens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rdfs:range rdf:resource="&amp;xsd;#string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owl:DatatypePropert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188280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088280" y="5045040"/>
            <a:ext cx="6608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"focal-length is synonymous with (lens) siz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cal-length is to be used within a Le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cal-length has a value that is a string.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56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ship betwe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-stop and apertu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1600" y="1890720"/>
            <a:ext cx="7442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OWL statement  tells the Web Bot that f-sto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equivalent to apertu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460880" y="2878200"/>
            <a:ext cx="6398640" cy="1618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owl:DatatypeProperty rdf:ID="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-sto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owl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quivalentProper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df:resource="#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ertu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rdfs:domain rdf:resource="#Lens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rdfs:range rdf:resource="&amp;xsd;#string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owl:DatatypePropert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55560" y="4662360"/>
            <a:ext cx="823824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ot now recognizes that the XML document it found at the Web si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talking about Cameras, and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does show the lens size, and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does show the aperture for the camera,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the values for lens size, aperture, and shutter speed are m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us, the Web Bot recognizes that the XML document is a match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183996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509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antic Definitions Separate from Application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2240" y="2425680"/>
            <a:ext cx="2778840" cy="277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LR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rdf:ID="Olympus-OM-10"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xmlns="http://www.camera.org#"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lens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Lens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focal-length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gt;75-300mm zoom&lt;/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focal-length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f-stop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gt;4.5-5.6&lt;/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f-stop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/Lens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/lens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body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Body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shutter-speed rdf:parseType="Resource"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min&gt;0.002&lt;/min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max&gt;1.0&lt;/max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units&gt;seconds&lt;/units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/shutter-speed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/Body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/body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cost rdf:parseType="Resource"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rdf:value&gt;325&lt;/rdf:valu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currency&gt;USD&lt;/currency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/cost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LR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2880" y="5148360"/>
            <a:ext cx="167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unts.x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184560" y="3308400"/>
            <a:ext cx="149076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 B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pplic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373800" y="2421000"/>
            <a:ext cx="2684880" cy="3257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owl:Class rdf:ID="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LR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"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rdfs: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ubClassOf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rdf:resource="#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Camera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"/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/owl:Class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owl:DatatypeProperty rdf:ID="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focal-length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"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owl: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equivalentProperty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rdf:resource="#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iz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"/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rdfs:domain rdf:resource="#Lens"/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rdfs:range rdf:resource="&amp;xsd;#string"/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/owl:DatatypeProperty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owl:DatatypeProperty rdf:ID="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f-stop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"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owl: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equivalentProperty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rdf:resource="#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apertur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"/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rdfs:domain rdf:resource="#Lens"/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rdfs:range rdf:resource="&amp;xsd;#string"/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/owl:DatatypeProperty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705200" y="2676600"/>
            <a:ext cx="1646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4675320" y="2835360"/>
            <a:ext cx="170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624200" y="2141640"/>
            <a:ext cx="1802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"Relationship betwe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mera and SLR?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669200" y="2878200"/>
            <a:ext cx="1415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"SLR is a type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mera.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89240" y="1824120"/>
            <a:ext cx="1486080" cy="43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714920" y="3971880"/>
            <a:ext cx="1646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4684680" y="4130640"/>
            <a:ext cx="170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605120" y="3436920"/>
            <a:ext cx="1802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"Relationship betwe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perture and f-stop?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632120" y="4173480"/>
            <a:ext cx="1789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"f-stop is synonymo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th aperture.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738680" y="5253120"/>
            <a:ext cx="1646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4708440" y="5411880"/>
            <a:ext cx="170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628880" y="4718160"/>
            <a:ext cx="1826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"Relationship betwe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ze and focal-length?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657680" y="5454720"/>
            <a:ext cx="1495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"focal-length i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ynonymous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ze.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706440" y="5605560"/>
            <a:ext cx="190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mera.ow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871720" y="383076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04920" y="6334200"/>
            <a:ext cx="810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e the article "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Why use OWL?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" for a discussion of why it is good practice to separate the semantic defin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rom the applica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342480" y="1996920"/>
            <a:ext cx="27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mantic Defin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: Interoperability despite terminology differences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xample demonstrated how a Web Bot application was able to dynamically process an XML document from a Web site, despite the fact that the XML document used terminology different than was used to express the request.  This interoperability was achieved by using the OWL Camera Ontology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example also demonstrated the architectural design principle of cleanly separating the application code (e.g., Web Bot) from the semantic definitions (e.g., Camera.owl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188280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mo of interoperability in a heterogeneous data environ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753240" y="3386160"/>
            <a:ext cx="1803240" cy="2295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06440" y="5665680"/>
            <a:ext cx="190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mera.ow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40200" y="3933720"/>
            <a:ext cx="1860120" cy="94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m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36720" y="2489040"/>
            <a:ext cx="1052280" cy="982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089000" y="2641680"/>
            <a:ext cx="1052640" cy="982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73440" y="3587760"/>
            <a:ext cx="125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unts.x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135160" y="3257640"/>
            <a:ext cx="895320" cy="663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5160" y="2895480"/>
            <a:ext cx="1082880" cy="102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906800" y="4179960"/>
            <a:ext cx="1832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857840" y="3552840"/>
            <a:ext cx="193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at do you kn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out SL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906440" y="4584600"/>
            <a:ext cx="1846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914720" y="4564080"/>
            <a:ext cx="167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LR is a type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me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mo - searching for Camera, lens size, aperture inf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amera Application is searching for documents that meet this desi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am interested in purchasing a Camera with a 75-300mm zoom lens size, that has an aperture of 4.5-5.6, and a shutter speed that ranges from 1/500 sec. to 1.0 s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amera Application understands the terms (i.e., elements) Camera, lens size, and aper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 document uses terms that it does not understand, then the Camera application "consults" the Camera Ontolo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267160" y="2944800"/>
            <a:ext cx="1068480" cy="417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09880" y="3333600"/>
            <a:ext cx="519120" cy="360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786280" y="3333600"/>
            <a:ext cx="1097280" cy="390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unts.xml - uses unfamiliar termi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748880" y="1879560"/>
            <a:ext cx="5016240" cy="478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PhotographyStor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catalog rdf:parseType="Collection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LR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rdf:ID="Olympus-OM-10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mlns="http://www.xfront.com/owl/ontologies/camera/#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lens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Lens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ocal-length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75-300mm zoom&lt;/focal-length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-stop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4.5-5.6&lt;/f-stop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Lens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lens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body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Body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shutter-speed rdf:parseType="Resource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min&gt;0.002&lt;/min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max&gt;1.0&lt;/max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units&gt;seconds&lt;/units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shutter-speed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Body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body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SL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catalog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PhotographyStor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" y="2711520"/>
            <a:ext cx="40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51040" y="2511360"/>
            <a:ext cx="128412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51040" y="3030480"/>
            <a:ext cx="1977840" cy="289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65080" y="3030480"/>
            <a:ext cx="1949400" cy="490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052400" y="3213000"/>
            <a:ext cx="1959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ult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m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tology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ikPhoto.xml - uses familiar terminolog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424160" y="1974960"/>
            <a:ext cx="5196240" cy="4757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mer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lens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Lens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iz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75-300mm zoom&lt;/siz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pertu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4.5-5.6&lt;/apertur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Lens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lens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hutter-spee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rdf:parseType="Resource"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min&gt;0.002&lt;/min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max&gt;1.0&lt;/max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units&gt;seconds&lt;/units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shutter-speed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Camera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051680" y="3213000"/>
            <a:ext cx="1971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need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ult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m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tolog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sson Learn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53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amera Application is able to process documents that uses unfamiliar terminolog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2720" y="3627720"/>
            <a:ext cx="4452120" cy="2117520"/>
          </a:xfrm>
          <a:prstGeom prst="cloudCallout">
            <a:avLst>
              <a:gd name="adj1" fmla="val -28407"/>
              <a:gd name="adj2" fmla="val 42078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unity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s terms SLR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-stop, focal-leng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782240" y="3549960"/>
            <a:ext cx="4515480" cy="2117520"/>
          </a:xfrm>
          <a:prstGeom prst="cloudCallout">
            <a:avLst>
              <a:gd name="adj1" fmla="val -41208"/>
              <a:gd name="adj2" fmla="val 314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unity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s terms Camer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erture, lens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068480" y="6076800"/>
            <a:ext cx="6926040" cy="547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755800" y="6041880"/>
            <a:ext cx="412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WL Camera Ont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097160" y="4622760"/>
            <a:ext cx="1184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702600" y="3368520"/>
            <a:ext cx="215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operate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554200" y="5715000"/>
            <a:ext cx="260280" cy="376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6651720" y="5700600"/>
            <a:ext cx="217440" cy="40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XML approach is to "wrap" each data item in start/end t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8840" y="2576520"/>
            <a:ext cx="8631000" cy="301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Camera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name&gt;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non-Sure-Shot-Z15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/na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f-stop&gt;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8-11.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/f-stop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focal-length&gt;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7-155mm zoo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/focal-length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cos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gt;$318 US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/cos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/Camera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367800" y="5497560"/>
            <a:ext cx="219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non.xm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523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's Using Ontologi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852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l estate investment agencies are using Ontologies to exchange data with regulatory agencies (Data Consortium - Real Estate Data Standard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uter's Health is using Ontologies to describe the content of articles and sort them into various news feeds (using SNOMED Ontology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ctric utilities describe their networks using Ontologies for exchange purposes (CIM/XML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N has a large knowledge management initiative called swoRDfish that uses Ontolog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145404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ed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174400" y="3368520"/>
            <a:ext cx="4376160" cy="916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Why use OWL?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" by Adam Pe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www.xfront.com/why-use-owl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194840" y="4684680"/>
            <a:ext cx="6408000" cy="916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sing OWL to Avoid Syntactic Rigor Morti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" by Roger L. Costel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www.xfront.com/avoiding-syntactic-rigor-mortis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151128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767600" y="2178000"/>
            <a:ext cx="5193000" cy="916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Why use OWL?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" by Roger L. Costel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www.xfront.com/owl/motivation/sld001.h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4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OWL Camera Ontolog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  Onlin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158256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366920" y="1793880"/>
            <a:ext cx="6991560" cy="4757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re is the URL to a pictorial view of the Camera Ontolog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www.xfront.com/owl/ontologies/camera/sld001.h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re is the URL to the camera.owl documen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www.xfront.com/owl/ontologies/camera/camera.ow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re are the URLs to 7 physical expressions (instance documents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www.xfront.com/owl/ontologies/camera/Query1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www.xfront.com/owl/ontologies/camera/Hunts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www.xfront.com/owl/ontologies/camera/Query2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www.xfront.com/owl/ontologies/camera/Hunts2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www.xfront.com/owl/ontologies/camera/RJs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www.xfront.com/owl/ontologies/camera/OlympusOutletStore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www.xfront.com/owl/ontologies/camera/OlympusCorp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obber and the Spee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1371600" y="3158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ger L. Costel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vid B. Jaco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ITRE Corpo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he creation of this tutorial was sponsored by DARP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55480" y="62352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OWL Ontology can be used to answer questions that are implicit in your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771560" y="3005280"/>
            <a:ext cx="6709320" cy="33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GunLicens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registeredGun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Gun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erial&gt;ABCD&lt;/seria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Gun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registeredGun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holde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Person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driversLicenseNumber&gt;ZXYZXY&lt;/driversLicenseNumbe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Person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holde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GunLicens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3889080" y="3446640"/>
            <a:ext cx="533160" cy="390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381200" y="3247920"/>
            <a:ext cx="412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ow many guns can have this serial number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5319360" y="4645080"/>
            <a:ext cx="374760" cy="5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77560" y="4402080"/>
            <a:ext cx="268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ow many people can ha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is driver's license number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684440" y="3735360"/>
            <a:ext cx="663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28040" y="3551400"/>
            <a:ext cx="1301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an this gu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e registe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 other gu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icense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41600" y="2508120"/>
            <a:ext cx="417240" cy="563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55040" y="2251080"/>
            <a:ext cx="13802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ow man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uns/peo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re registe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 a gu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icens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54800" y="2962440"/>
            <a:ext cx="303120" cy="303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580000" y="29494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40600" y="4052880"/>
            <a:ext cx="303120" cy="303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265800" y="40402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84360" y="4587840"/>
            <a:ext cx="303120" cy="303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09200" y="45752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14240" y="2003400"/>
            <a:ext cx="303480" cy="303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39440" y="19908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181116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685800" y="552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OWL Gun License Ontology answers the questions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599840" y="2671920"/>
            <a:ext cx="6709320" cy="33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GunLicens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registeredGun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Gun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erial&gt;ABCD&lt;/seria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Gun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registeredGun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holde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Person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driversLicenseNumber&gt;ZXYZXY&lt;/driversLicenseNumbe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Person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holde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GunLicens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3717720" y="3112920"/>
            <a:ext cx="533160" cy="390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210920" y="2914560"/>
            <a:ext cx="383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nly one gun can have this serial numb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5148360" y="4311720"/>
            <a:ext cx="374400" cy="5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04040" y="4068720"/>
            <a:ext cx="2829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nly one person can have thi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river's license numb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512720" y="3402000"/>
            <a:ext cx="663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54520" y="3218040"/>
            <a:ext cx="1312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 gun can 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gistered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nly one gu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icen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514520" y="2203560"/>
            <a:ext cx="372960" cy="534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82600" y="1917720"/>
            <a:ext cx="1329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 gun lice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gisters 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un to o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s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183996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83080" y="2685960"/>
            <a:ext cx="303480" cy="303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408280" y="26733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075360" y="3754440"/>
            <a:ext cx="303120" cy="303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100560" y="37418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76280" y="4287960"/>
            <a:ext cx="303120" cy="303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01480" y="42750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587600" y="1905120"/>
            <a:ext cx="303120" cy="303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612800" y="18921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obber and the Spee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the next few slides is an example that shows how an OWL Ontology provides the necessary information to link a robber and a speed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nks to Ian Davis for this exampl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bber drops gun while flee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06520" y="1792440"/>
            <a:ext cx="80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of all a robbery takes place. The robber drops his gun wh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eeing. This report is filed by the investigating offic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877760" y="2701800"/>
            <a:ext cx="4844160" cy="375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RobberyEven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date&gt;...&lt;/dat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description&gt;...&lt;/description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evidenc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Gun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serial&gt;ABCD&lt;/serial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/Gun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evidenc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robbe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Person /&gt; &lt;!-- an unknown person --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robbe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RobberyEven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153972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eder stopp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75200" y="1689120"/>
            <a:ext cx="816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equently a car is pulled over for speeding. The traffic offi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s this report electronically while issuing a tick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05240" y="2633760"/>
            <a:ext cx="7803720" cy="314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SpeedingOffenc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date&gt;...&lt;/dat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description&gt;...&lt;/description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speede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Person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ame&gt;Fred Blogs&lt;/na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driversLicenseNumber&gt;ZXYZXY&lt;/driversLicenseNumbe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/Person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speede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SpeedingOffenc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153972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speeder owns a gun with th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ame serial number as the robbery gun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03640" y="1619280"/>
            <a:ext cx="818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police headquarters (HQ), a computer analyzes each repo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it is filed. The computer uses the driver's license in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look up any other records it has about Fred Blogs (the speed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discovers this gun licen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046160" y="3182760"/>
            <a:ext cx="7035480" cy="33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GunLicens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registeredGun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Gun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serial&gt;ABCD&lt;/seria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/Gun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registeredGun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holde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Person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driversLicenseNumber&gt;ZXYZXY&lt;/driversLicenseNumbe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/Person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holde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GunLicens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153972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Termi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11400" y="2266920"/>
            <a:ext cx="680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name&gt;Canon-Sure-Shot-Z155&lt;/na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001960" y="2886120"/>
            <a:ext cx="0" cy="753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39640" y="3705120"/>
            <a:ext cx="103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7097760" y="2895120"/>
            <a:ext cx="0" cy="754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535800" y="3714840"/>
            <a:ext cx="96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d 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165560" y="2857680"/>
            <a:ext cx="0" cy="1635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33280" y="451476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5400000">
            <a:off x="4283280" y="2310480"/>
            <a:ext cx="341280" cy="5886360"/>
          </a:xfrm>
          <a:custGeom>
            <a:avLst/>
            <a:gdLst>
              <a:gd name="textAreaLeft" fmla="*/ 0 w 341280"/>
              <a:gd name="textAreaRight" fmla="*/ 123120 w 341280"/>
              <a:gd name="textAreaTop" fmla="*/ 153360 h 5886360"/>
              <a:gd name="textAreaBottom" fmla="*/ 5733000 h 588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30840" y="5510160"/>
            <a:ext cx="102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se Solve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yet!  These questions must be answered before the speeder can be arrested as the robbery suspec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multiple guns have the same serial number?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so, then just because Fred Blogs owns a gun with the same serial number as the robbery gun does not mean it was his gun that was used in the robb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multiple people have the same driver's license numb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so, then the gun license information may be for someone el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a gun be registered in multiple gun licens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so, then the other gun licenses may show the holder of the gun to be someone other than Fred Blog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a gun license have multiple holders of a registered gu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so, then there may be another gun license document (not available at the police HQ) which shows the same registered gun but with a different hold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WL Gun License Ontology provides the information needed to answer these question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131112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865080" y="2347920"/>
            <a:ext cx="303480" cy="303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90280" y="2335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46000" y="3286080"/>
            <a:ext cx="303480" cy="303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871200" y="32734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41320" y="3924360"/>
            <a:ext cx="303120" cy="303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66520" y="39117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22240" y="4834080"/>
            <a:ext cx="303120" cy="303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47440" y="48211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 multiple guns ha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ame serial numb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15720" y="2085840"/>
            <a:ext cx="843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OWL statement tells the computer at police HQ that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ach g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uniquely identified by its serial numb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58840" y="3138480"/>
            <a:ext cx="8604000" cy="131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owl:InverseFunctionalProperty rdf:ID="serial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rdfs:domain rdf:resource="Gun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rdfs:range  rdf:resource="http://www.w3.org/2000/01/rdf-schema#Literal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owl:InverseFunctionalPropert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183996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73600" y="5626080"/>
            <a:ext cx="2853720" cy="916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Gun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erial&gt;ABCD&lt;/seria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Gun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3717720" y="5527800"/>
            <a:ext cx="533160" cy="390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210920" y="5329080"/>
            <a:ext cx="383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nly one gun can have this serial numb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383080" y="5100480"/>
            <a:ext cx="303480" cy="303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408280" y="50878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400" y="481968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 multiple people ha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ame driver's license numb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28400" y="2036880"/>
            <a:ext cx="804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llowing OWL statement tells the computer tha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driver'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cense number is unique to a 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36880" y="3083040"/>
            <a:ext cx="8604000" cy="131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owl:InverseFunctionalProperty rdf:ID="driversLicenseNumber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rdfs:domain rdf:resource="Person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rdfs:range  rdf:resource="http://www.w3.org/2000/01/rdf-schema#Literal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owl:InverseFunctionalPropert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179712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4145040" y="5450040"/>
            <a:ext cx="374400" cy="5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500720" y="5207040"/>
            <a:ext cx="2829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nly one person can have thi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river's license numb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072040" y="4892760"/>
            <a:ext cx="303120" cy="303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097240" y="48798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87680" y="5742000"/>
            <a:ext cx="6361920" cy="916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Person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driversLicenseNumber&gt;ZXYZXY&lt;/driversLicenseNumbe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Person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00" y="474804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 a gun be registered in multiple gun licens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12400" y="1692360"/>
            <a:ext cx="884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ext OWL statement tells the computer that the registeredGu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erty uniquely identifies a GunLicense, i.e.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ach gun is assoc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th only a single GunLic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10120" y="2927520"/>
            <a:ext cx="6138000" cy="131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owl:InverseFunctionalProperty rdf:ID="registeredGun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rdfs:domain rdf:resource="GunLicense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rdfs:range  rdf:resource="Gun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owl:InverseFunctionalPropert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162576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634840" y="4470480"/>
            <a:ext cx="3201120" cy="2288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GunLicens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registeredGun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Gun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erial&gt;ABCD&lt;/seria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Gun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registeredGun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GunLicens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205640" y="5021280"/>
            <a:ext cx="1312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 gun can 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gistered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nly one gu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icen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427040" y="6091200"/>
            <a:ext cx="303480" cy="303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452240" y="60786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496960" y="5210280"/>
            <a:ext cx="677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4400" y="434808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n a gun license hav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ultiple holders of a registered gu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040" y="2054160"/>
            <a:ext cx="9213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olice computer uses the following OWL statement to determine that the gun on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cense is the same gun used in the robbery. This final statement seals the speeder's fat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tells the computer tha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ach GunLicense applies to only one gun and one per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So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 is no doubt that the speeder is the person who owns the gu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30840" y="3490920"/>
            <a:ext cx="5047200" cy="3014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owl:Class rdf:ID="GunLicense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owl:intersectionOf rdf:parseType="Collection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owl:Restriction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owl:onProperty rdf:resource="#registeredGun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owl:cardinality&gt;1&lt;/owl:cardinalit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owl:Restriction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owl:Restriction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owl:onProperty rdf:resource="#holder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owl:cardinality&gt;1&lt;/owl:cardinalit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owl:Restriction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owl:intersectionOf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owl:Class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189720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902640" y="4700520"/>
            <a:ext cx="1968120" cy="1739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GunLicens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registeredGun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holde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GunLicens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808680" y="4251240"/>
            <a:ext cx="374760" cy="534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78560" y="3965400"/>
            <a:ext cx="1329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 gun lice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gisters 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un to o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s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883560" y="3952800"/>
            <a:ext cx="303120" cy="303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908400" y="39402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556240" y="3551400"/>
            <a:ext cx="0" cy="3306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541840" y="3535200"/>
            <a:ext cx="36021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WL Ontology provides additional information about your data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The Gun License Ontology provided the data needed for the police computer to link the Robber and the Speed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WL is intended to be used when processing Web documents.  Thus, OWL enables an ad-hoc exploitation of Web documents, i.e., the Semantic Web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's the dat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00200" y="2522520"/>
            <a:ext cx="356868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date&gt;05-10-99&lt;/date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15560" y="3618000"/>
            <a:ext cx="55238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XML tags are generally 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in describing properties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ata.  However, in this case mo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needed.  That is, more data ab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ata (metadata) is nee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Attribu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337400" y="2338560"/>
            <a:ext cx="688212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dat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mat="dd-mm-yy"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05-10-99&lt;/date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rot="16200000">
            <a:off x="3740040" y="1534680"/>
            <a:ext cx="312840" cy="3256200"/>
          </a:xfrm>
          <a:custGeom>
            <a:avLst/>
            <a:gdLst>
              <a:gd name="textAreaLeft" fmla="*/ 199800 w 312840"/>
              <a:gd name="textAreaRight" fmla="*/ 313200 w 312840"/>
              <a:gd name="textAreaTop" fmla="*/ 84600 h 3256200"/>
              <a:gd name="textAreaBottom" fmla="*/ 3171600 h 325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19480" y="3349800"/>
            <a:ext cx="136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71880" y="4287960"/>
            <a:ext cx="6927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ngs to no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Attributes are "bundled" in with the start ta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Attributes take this form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ttribute-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ttribute-val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on Design Pattern: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tify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09600" y="2268360"/>
            <a:ext cx="5423400" cy="1923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Camer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name&gt;Canon-Sure-Shot-Z155&lt;/na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f-stop&gt;4.8-11.7&lt;/f-stop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focal-length&gt;37-155mm zoom&lt;/focal-length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cost&gt;$318 USD&lt;/cos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Camer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03000" y="1755720"/>
            <a:ext cx="22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th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19320" y="5006880"/>
            <a:ext cx="5423400" cy="1618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Camer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Canon-Sure-Shot-Z155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f-stop&gt;4.8-11.7&lt;/f-stop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focal-length&gt;37-155mm zoom&lt;/focal-length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cost&gt;$318 USD&lt;/cos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Camer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12360" y="4494240"/>
            <a:ext cx="251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ign like th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eneral Design Patte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37520" y="1886040"/>
            <a:ext cx="7070760" cy="301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Class ID="instance"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property1&gt;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ata valu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/property1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property2&gt;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ata valu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/property2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property-n&gt;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ata valu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/property-n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/Class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01240" y="5138640"/>
            <a:ext cx="8728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ngs to no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Names of Classes by convention begin with upperc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Names of properties by convention begin with lowerc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60520" y="1117440"/>
            <a:ext cx="6191280" cy="4972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CameraStor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unts-Camera-Sto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location&gt;Malden, MA&lt;/location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inventor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Camer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non-Sure-Shot-Z15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f-stop&gt;4.8-11.7&lt;/f-stop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focal-length&gt;37-155mm zoom&lt;/focal-length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cost&gt;$318 USD&lt;/cos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Camer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Camer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lympus-mju-I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f-stop&gt;2.8&lt;/f-stop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focal-length&gt;35mm&lt;/focal-length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cost&gt;$178 USD&lt;/cos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Camer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inventor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CameraStor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320640" y="6081840"/>
            <a:ext cx="167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unts.x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7T11:43:42Z</dcterms:created>
  <dc:creator>Roger L. Costello</dc:creator>
  <dc:description/>
  <dc:language>en-US</dc:language>
  <cp:lastModifiedBy>Roger Costello</cp:lastModifiedBy>
  <cp:lastPrinted>2003-03-24T22:08:54Z</cp:lastPrinted>
  <dcterms:modified xsi:type="dcterms:W3CDTF">2003-05-12T20:15:28Z</dcterms:modified>
  <cp:revision>1949</cp:revision>
  <dc:subject/>
  <dc:title>Resource Description Framework  (RDF)</dc:title>
</cp:coreProperties>
</file>