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0284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0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0284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196560"/>
            <a:ext cx="702648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60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02840" y="10238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60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60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02840" y="2822040"/>
            <a:ext cx="248868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196560"/>
            <a:ext cx="7026480" cy="20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6720" y="28220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6720" y="1023840"/>
            <a:ext cx="377172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000" y="2822040"/>
            <a:ext cx="7729560" cy="1641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6000" y="1023840"/>
            <a:ext cx="7729560" cy="3442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2221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28920" indent="-16992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70040" y="6630840"/>
            <a:ext cx="21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MU Conference May 2003    (</a:t>
            </a:r>
            <a:fld id="{B97EB911-52E7-4E42-ABA3-D3EDF500B2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185760"/>
            <a:ext cx="10141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038240" y="666720"/>
            <a:ext cx="705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53560" y="154080"/>
            <a:ext cx="10159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 algn="ctr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24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75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59000" algn="ctr">
              <a:lnSpc>
                <a:spcPts val="1800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59000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59000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Cover Slide</a:t>
            </a:r>
            <a:endParaRPr b="1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1041120" y="3164040"/>
            <a:ext cx="718056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~ Semantic Web Pilot Program Elements 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a Atkinson – B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71840" y="781200"/>
            <a:ext cx="4000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Purpose of Brief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1520" y="1611360"/>
            <a:ext cx="7827840" cy="2085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7760" indent="-34776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 key elements of potential Semantic Web Pilo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a pilo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didate Pilot Program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vailabl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Why Do A Pilot Program?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9080" y="947880"/>
            <a:ext cx="8642160" cy="45594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 of information on the web is growing much faster than our ability to use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of information exploitation processes has significantly outpaced the human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agents will be required to find, assess and exploit available information to effectively manage complex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web technology allows software agents to understand more about the data allowing finely targeted searches/ assess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web technology allows data/knowledge to be maintained in a distributed dynamic environment separate from the processes that use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" y="5597640"/>
            <a:ext cx="8893080" cy="1020600"/>
          </a:xfrm>
          <a:prstGeom prst="roundRect">
            <a:avLst>
              <a:gd name="adj" fmla="val 16667"/>
            </a:avLst>
          </a:prstGeom>
          <a:solidFill>
            <a:srgbClr val="b1cff1"/>
          </a:solidFill>
          <a:ln w="1260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mantic Web is coming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ith it a paradigm shift in knowledge management capabilit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Pilot Program Element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360" y="1023480"/>
            <a:ext cx="7891200" cy="546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didate pilot programs for leveraging Semantic Web technologies will be characterized by information / knowledge management requirements that go beyond off-the-shelf solutions; and include some or all of the following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integrate information across multiple distributed data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quickly build and manage tailored, semantically rich knowledge 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quickly and efficiently drill down through massive data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traverse data sources by analyzing statements about 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infer non-specified information from specifi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translate information instances and context across multiple data sources and knowledge 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easily and quickly monitor, integrate and exploit new data sources as they become available anywhere on the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96560"/>
            <a:ext cx="7026480" cy="447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Next Steps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1023480"/>
            <a:ext cx="7729560" cy="546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nd bound the problem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critical data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may b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will have to be generated, trans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mechanism for accessing th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d knowledge 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client sid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vs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faces/port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Clr>
                <a:srgbClr val="2163ab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candidate tools as required to jumpstart the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Agents /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2480">
              <a:lnSpc>
                <a:spcPts val="1998"/>
              </a:lnSpc>
              <a:spcBef>
                <a:spcPts val="300"/>
              </a:spcBef>
              <a:spcAft>
                <a:spcPts val="300"/>
              </a:spcAft>
              <a:buClr>
                <a:srgbClr val="2163ab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ence eng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0200" y="1728720"/>
            <a:ext cx="6637320" cy="803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Leverage Available Resources to Jump-start the Pilot Program 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7760" y="3890880"/>
            <a:ext cx="7729560" cy="905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5080"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to Resources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 algn="ctr">
              <a:lnSpc>
                <a:spcPts val="2398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Mike D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14:28:04Z</dcterms:created>
  <dc:creator/>
  <dc:description/>
  <dc:language>en-US</dc:language>
  <cp:lastModifiedBy>Cola Atkinson</cp:lastModifiedBy>
  <dcterms:modified xsi:type="dcterms:W3CDTF">2003-05-04T23:50:58Z</dcterms:modified>
  <cp:revision>145</cp:revision>
  <dc:subject/>
  <dc:title>PowerPoint Presentation</dc:title>
</cp:coreProperties>
</file>