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672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144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77676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-144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77676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40B60F8B-3EAD-438C-A7EB-67A405CE8E2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885600" y="4660560"/>
            <a:ext cx="4894200" cy="4127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"/>
          <p:cNvSpPr/>
          <p:nvPr/>
        </p:nvSpPr>
        <p:spPr>
          <a:xfrm>
            <a:off x="2672280" y="9339120"/>
            <a:ext cx="13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920" bIns="43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Schoolbook"/>
              </a:rPr>
              <a:t>Page </a:t>
            </a:r>
            <a:fld id="{DABA7C84-1BE0-44C1-8134-333801811DA6}" type="slidenum">
              <a:rPr b="0" lang="en-GB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037880" y="848880"/>
            <a:ext cx="459108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77676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33601849-8D93-44B3-B807-F9AF3876450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144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144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7676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88840" y="4657320"/>
            <a:ext cx="4888080" cy="4116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Img"/>
          </p:nvPr>
        </p:nvSpPr>
        <p:spPr>
          <a:xfrm>
            <a:off x="1047600" y="85716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77676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E47AEA3B-4097-4033-B8B3-3704F25D6F8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144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144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77676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888840" y="4657320"/>
            <a:ext cx="4888080" cy="4116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ldImg"/>
          </p:nvPr>
        </p:nvSpPr>
        <p:spPr>
          <a:xfrm>
            <a:off x="1047600" y="85716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7676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E0610979-0B13-4A0F-BF4D-A7AD79A8DD3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144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144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7676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888840" y="4657320"/>
            <a:ext cx="4888080" cy="4116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ldImg"/>
          </p:nvPr>
        </p:nvSpPr>
        <p:spPr>
          <a:xfrm>
            <a:off x="1047600" y="85716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77676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5D368EED-7720-4844-ADDA-36B7C47B505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144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144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7676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888840" y="4657320"/>
            <a:ext cx="4888080" cy="4116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1047600" y="85716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676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7B02A402-26DC-40A4-8151-90298FF0C1C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144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144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676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888840" y="4657320"/>
            <a:ext cx="4888080" cy="4116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047600" y="85716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676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EFB8EEF0-8452-484F-A867-650642B59FA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144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144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676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888840" y="4657320"/>
            <a:ext cx="4888080" cy="4116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047600" y="85716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676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98E41082-0332-4625-8811-BF90F80DBFD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144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144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676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888840" y="4657320"/>
            <a:ext cx="4888080" cy="4116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047600" y="85716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676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398055AA-8E83-4835-9780-6C58A2FD811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144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144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676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888840" y="4657320"/>
            <a:ext cx="4888080" cy="4116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047600" y="85716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77676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CCFD517D-BB56-4498-931F-A1F2F73515B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1440" y="933624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144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776760" y="4320"/>
            <a:ext cx="2890800" cy="4590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888840" y="4657320"/>
            <a:ext cx="4888080" cy="4116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1047600" y="85716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690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2640" y="3792240"/>
            <a:ext cx="76690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742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2400" y="1523520"/>
            <a:ext cx="3742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2640" y="3792240"/>
            <a:ext cx="3742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2400" y="3792240"/>
            <a:ext cx="3742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2469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5720" y="1523520"/>
            <a:ext cx="2469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8800" y="1523520"/>
            <a:ext cx="2469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2640" y="3792240"/>
            <a:ext cx="2469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5720" y="3792240"/>
            <a:ext cx="2469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8800" y="3792240"/>
            <a:ext cx="2469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2640" y="1523520"/>
            <a:ext cx="7669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6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742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2400" y="1523520"/>
            <a:ext cx="3742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670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742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2400" y="1523520"/>
            <a:ext cx="3742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2640" y="3792240"/>
            <a:ext cx="3742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742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2400" y="1523520"/>
            <a:ext cx="3742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2400" y="3792240"/>
            <a:ext cx="3742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742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2400" y="1523520"/>
            <a:ext cx="3742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2640" y="3792240"/>
            <a:ext cx="76690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23520"/>
            <a:ext cx="766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fe9b03"/>
              </a:buClr>
              <a:buSzPct val="59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130400" y="5991120"/>
            <a:ext cx="1047600" cy="449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310960" y="645480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589E-5536-456C-AFDE-B7FD6E4C25FB}" type="slidenum">
              <a:rPr b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36520" y="5931000"/>
            <a:ext cx="769140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52520" y="5969160"/>
            <a:ext cx="584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ficial Intelligence Applications Institute,   University of Edinbur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itute for Human &amp; Machine Cognition, University of West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31840" y="1297080"/>
            <a:ext cx="769140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45520" y="5962680"/>
            <a:ext cx="433440" cy="55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7088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oSAR-T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20840" y="2031840"/>
            <a:ext cx="6543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alition Search and Resc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sk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o – 2003-04-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PA DAML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AI/IH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hievements to Dat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6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itial Coalition SAR Scenario def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NAT ENP data base extended with Binni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rect DAML file processing from I-X to SONAT via HP JENA Toolk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AP Access to SAR Resources from KAoS and I-X via CMU MatchMaker and sample MM client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oS policy-governed access to SAR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itial demonstration framework with CoSAR and US-SAR  I-X Panels and 2 Information Access Ag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gration of BBN OpenMap with I-X Process Pa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454040" y="2356920"/>
            <a:ext cx="6734160" cy="288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aiai.ed.ac.uk/project/cosar-t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coginst.uwf.edu/kao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i-x.in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binni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7088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urther Informa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454040" y="2356920"/>
            <a:ext cx="6734160" cy="288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 Sli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7088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dditional Detail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DAML Ontology Reference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5400" y="2209680"/>
            <a:ext cx="76788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DAML-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69328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KAoS DAML Policy Fragment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305000"/>
            <a:ext cx="76690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rdfs:Class rdf:ID='policy-6ef00f45-00f4-0000-8000-0000deadbeefAction' daml:label='coginst_ActionClassName'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subClassOf rdf:resource='http://ontology.coginst.uwf.edu/CoSAR-TS/RescueResources.daml#ReturnResultQueryRescueResourcesAction'/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subClassOf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Restriction rdf:ID='policy-6ef00f45-00f4-0000-8000-0000deadbeefActorRestriction0'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onProperty rdf:resource='http://ontology.coginst.uwf.edu/Action.daml#performedBy'/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toClass rdf:resource='#MembersOfDomainBinni'/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/daml:Restriction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/daml:subClassOf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subClassOf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Restriction rdf:ID='policy-6ef00f45-00f4-0000-8000-0000deadbeefTargetRestriction0'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onProperty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ObjectProperty rdf:about='http://ontology.coginst.uwf.edu/CoSAR-TS/RescueResources.daml#hasHomeCountry'/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/daml:onProperty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toClass rdf:resource='#policy-6ef00f45-00f4-0000-8000-0000deadbeefTargetInstances0'/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/daml:Restriction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/daml:subClassOf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subClassOf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Restriction rdf:ID='policy-6ef00f45-00f4-0000-8000-0000deadbeefTargetRestriction1'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onProperty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ObjectProperty rdf:about='http://ontology.coginst.uwf.edu/CoSAR-TS/RescueResources.daml#hasRescueDestination'/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/daml:onProperty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ml:toClass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rdfs:Class rdf:about='#policy-6ef00f45-00f4-0000-8000-0000deadbeefTargetInstances1'/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/daml:toClass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/daml:Restriction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/daml:subClassOf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/rdfs:Class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RDFNsId1:NegAuthorizationPolicy rdf:ID='policy-6ef00f45-00f4-0000-8000-0000deadbeef'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DFNsId1:hasName='CoSAR-TS1'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DFNsId1:hasPriority='1'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DFNsId1:hasUpdateTimeStamp='1049833307991'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RDFNsId1:controls rdf:resource='#policy-6ef00f45-00f4-0000-8000-0000deadbeefAction'/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/RDFNsId1:NegAuthorizationPolicy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/rdf:RDF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KAoS DAML Policy Exampl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6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defines negative authorization for CMU Matchmaker to return Gao Rescue Resources if the destination hospital is in Arabe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rcement provid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Matchmak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various reasons, either the MM service, the Coalition, or Gao may be motivated to define and manage such a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ay be in the defining party’s interest not to disclose the policy to the other pa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licy will need to be enforced by some component that belongs to the defining party, not necessarily to the subject or target of the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dependence of the policy reasoning mechanisms provides a check against buggy, malicious, or poorly-designed code in the agents and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7088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Binni SAR Scenario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1920" y="0"/>
            <a:ext cx="860112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7088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AR Joint Publication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90520" y="1355760"/>
            <a:ext cx="2925720" cy="434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60680" y="1501920"/>
            <a:ext cx="2949480" cy="4375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702400" y="1355760"/>
            <a:ext cx="292896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7088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oSAR-TS Demo Architectur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1080" y="219240"/>
            <a:ext cx="8748720" cy="64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9080" y="768240"/>
            <a:ext cx="2217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ABS Grid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9720" y="1700280"/>
            <a:ext cx="23194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KAoS Policy Admin.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4960" y="1179360"/>
            <a:ext cx="4505400" cy="430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11600" y="2089080"/>
            <a:ext cx="6046560" cy="4481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394000" y="264960"/>
            <a:ext cx="44416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main &amp; Policy Manage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79640" y="1047600"/>
            <a:ext cx="7162560" cy="5513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45360" y="922320"/>
            <a:ext cx="1447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cess 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37600" y="5162400"/>
            <a:ext cx="1371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omain E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3280" y="1163520"/>
            <a:ext cx="1371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vity E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69840" y="5695920"/>
            <a:ext cx="1067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sse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97520" y="6243480"/>
            <a:ext cx="762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94000" y="264960"/>
            <a:ext cx="44416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sk Suppor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7088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oABS Grid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84240" y="-22320"/>
            <a:ext cx="7203960" cy="68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7088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KAoS Policy Admin. Tool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7088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-X Process Panel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10:40:39Z</dcterms:created>
  <dc:creator>AIAI</dc:creator>
  <dc:description/>
  <dc:language>en-US</dc:language>
  <cp:lastModifiedBy>Cola Atkinson</cp:lastModifiedBy>
  <cp:lastPrinted>1999-01-21T16:07:04Z</cp:lastPrinted>
  <dcterms:modified xsi:type="dcterms:W3CDTF">2003-05-19T19:07:17Z</dcterms:modified>
  <cp:revision>159</cp:revision>
  <dc:subject/>
  <dc:title>AIAI Presentation</dc:title>
</cp:coreProperties>
</file>