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000" y="28220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3672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284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00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284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680" y="196560"/>
            <a:ext cx="702648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3672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000" y="28220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3672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960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0284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600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960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0284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196560"/>
            <a:ext cx="702648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3672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221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2221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28920" indent="-1699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28920" indent="-1699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28920" indent="-1699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070040" y="6630840"/>
            <a:ext cx="21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MU Conference May 2003    (</a:t>
            </a:r>
            <a:fld id="{10691672-6F47-413C-B678-94CC9483F87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320" y="185760"/>
            <a:ext cx="1014120" cy="458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038240" y="666720"/>
            <a:ext cx="705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53560" y="154080"/>
            <a:ext cx="10159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 algn="ctr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algn="ctr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2400" algn="ctr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75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59000" algn="ctr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59000"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59000"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Cover Slide</a:t>
            </a:r>
            <a:endParaRPr b="1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2724480" y="3164040"/>
            <a:ext cx="37789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~ DAML Experiment 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a Atkinson – BB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71840" y="781200"/>
            <a:ext cx="40003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67000" y="5457960"/>
            <a:ext cx="6324480" cy="1160280"/>
          </a:xfrm>
          <a:prstGeom prst="roundRect">
            <a:avLst>
              <a:gd name="adj" fmla="val 16667"/>
            </a:avLst>
          </a:prstGeom>
          <a:solidFill>
            <a:srgbClr val="b1cff1"/>
          </a:solidFill>
          <a:ln w="1260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DAML Experiment Proces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04800" y="992160"/>
            <a:ext cx="7848720" cy="4343400"/>
            <a:chOff x="604800" y="992160"/>
            <a:chExt cx="7848720" cy="4343400"/>
          </a:xfrm>
        </p:grpSpPr>
        <p:sp>
          <p:nvSpPr>
            <p:cNvPr id="190" name=""/>
            <p:cNvSpPr/>
            <p:nvPr/>
          </p:nvSpPr>
          <p:spPr>
            <a:xfrm>
              <a:off x="3770280" y="2617920"/>
              <a:ext cx="827280" cy="409320"/>
            </a:xfrm>
            <a:prstGeom prst="rightArrow">
              <a:avLst>
                <a:gd name="adj1" fmla="val 50000"/>
                <a:gd name="adj2" fmla="val 50528"/>
              </a:avLst>
            </a:prstGeom>
            <a:solidFill>
              <a:srgbClr val="216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2160" y="1332000"/>
              <a:ext cx="1265400" cy="409320"/>
            </a:xfrm>
            <a:prstGeom prst="rightArrow">
              <a:avLst>
                <a:gd name="adj1" fmla="val 50000"/>
                <a:gd name="adj2" fmla="val 77287"/>
              </a:avLst>
            </a:prstGeom>
            <a:solidFill>
              <a:srgbClr val="216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32160" y="3979800"/>
              <a:ext cx="1265400" cy="409680"/>
            </a:xfrm>
            <a:prstGeom prst="rightArrow">
              <a:avLst>
                <a:gd name="adj1" fmla="val 50000"/>
                <a:gd name="adj2" fmla="val 77219"/>
              </a:avLst>
            </a:prstGeom>
            <a:solidFill>
              <a:srgbClr val="216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95520" y="992160"/>
              <a:ext cx="26226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63ab"/>
                </a:gs>
                <a:gs pos="100000">
                  <a:srgbClr val="ffba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AR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mantic Web 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oals &amp; Objecti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95520" y="3659040"/>
              <a:ext cx="257652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63ab"/>
                </a:gs>
                <a:gs pos="100000">
                  <a:srgbClr val="ffba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JFCOM J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perational Net Assess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cep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23040" y="1770120"/>
              <a:ext cx="2286000" cy="2111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ba00"/>
                </a:gs>
                <a:gs pos="100000">
                  <a:srgbClr val="216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A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peri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95520" y="2287440"/>
              <a:ext cx="2593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63ab"/>
                </a:gs>
                <a:gs pos="100000">
                  <a:srgbClr val="ffba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ARPA / DA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earch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14840" y="1525680"/>
              <a:ext cx="0" cy="2666880"/>
            </a:xfrm>
            <a:prstGeom prst="line">
              <a:avLst/>
            </a:prstGeom>
            <a:ln w="76320">
              <a:solidFill>
                <a:srgbClr val="2163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91400" y="2820960"/>
              <a:ext cx="762120" cy="0"/>
            </a:xfrm>
            <a:prstGeom prst="line">
              <a:avLst/>
            </a:prstGeom>
            <a:ln w="3816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53520" y="2820960"/>
              <a:ext cx="0" cy="2514600"/>
            </a:xfrm>
            <a:prstGeom prst="line">
              <a:avLst/>
            </a:prstGeom>
            <a:ln w="3816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04800" y="5335560"/>
              <a:ext cx="7848720" cy="0"/>
            </a:xfrm>
            <a:prstGeom prst="line">
              <a:avLst/>
            </a:prstGeom>
            <a:ln w="3816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4800" y="1425240"/>
              <a:ext cx="0" cy="3909960"/>
            </a:xfrm>
            <a:prstGeom prst="line">
              <a:avLst/>
            </a:prstGeom>
            <a:ln w="3816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040" y="4043520"/>
              <a:ext cx="1054080" cy="409320"/>
            </a:xfrm>
            <a:prstGeom prst="rightArrow">
              <a:avLst>
                <a:gd name="adj1" fmla="val 50000"/>
                <a:gd name="adj2" fmla="val 64380"/>
              </a:avLst>
            </a:prstGeom>
            <a:solidFill>
              <a:srgbClr val="ffba00"/>
            </a:solidFill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5960" y="2625840"/>
              <a:ext cx="1054080" cy="409320"/>
            </a:xfrm>
            <a:prstGeom prst="rightArrow">
              <a:avLst>
                <a:gd name="adj1" fmla="val 50000"/>
                <a:gd name="adj2" fmla="val 64380"/>
              </a:avLst>
            </a:prstGeom>
            <a:solidFill>
              <a:srgbClr val="ffba00"/>
            </a:solidFill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6600" y="1320840"/>
              <a:ext cx="1054080" cy="409680"/>
            </a:xfrm>
            <a:prstGeom prst="rightArrow">
              <a:avLst>
                <a:gd name="adj1" fmla="val 50000"/>
                <a:gd name="adj2" fmla="val 64323"/>
              </a:avLst>
            </a:prstGeom>
            <a:solidFill>
              <a:srgbClr val="ffba00"/>
            </a:solidFill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2617920"/>
              <a:ext cx="826920" cy="409320"/>
            </a:xfrm>
            <a:prstGeom prst="rightArrow">
              <a:avLst>
                <a:gd name="adj1" fmla="val 50000"/>
                <a:gd name="adj2" fmla="val 50506"/>
              </a:avLst>
            </a:prstGeom>
            <a:solidFill>
              <a:srgbClr val="216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523880" y="5703840"/>
            <a:ext cx="5220000" cy="914400"/>
            <a:chOff x="1523880" y="5703840"/>
            <a:chExt cx="5220000" cy="914400"/>
          </a:xfrm>
        </p:grpSpPr>
        <p:sp>
          <p:nvSpPr>
            <p:cNvPr id="207" name=""/>
            <p:cNvSpPr/>
            <p:nvPr/>
          </p:nvSpPr>
          <p:spPr>
            <a:xfrm>
              <a:off x="1523880" y="5703840"/>
              <a:ext cx="2295720" cy="914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t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nowledge Base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Ontologies + Instance Data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48160" y="5703840"/>
              <a:ext cx="2295720" cy="914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ge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Developmental &amp; Operational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14680" y="54007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SONAT Objectives 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7680" y="766800"/>
            <a:ext cx="8218440" cy="6013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ct val="100000"/>
              </a:lnSpc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nalysis of known Elements of National Power (ENP) to identify potential vulnerabilities of enemy countries (PMES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 potential enemy’s ENP as a system-of-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causes and eff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potential friendly actions (D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lom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ct val="100000"/>
              </a:lnSpc>
              <a:spcAft>
                <a:spcPts val="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effects to tasks lin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 relative imp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CO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cus at CINC/JTF leve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676520" y="846000"/>
            <a:ext cx="5762520" cy="3324240"/>
            <a:chOff x="1676520" y="846000"/>
            <a:chExt cx="5762520" cy="3324240"/>
          </a:xfrm>
        </p:grpSpPr>
        <p:sp>
          <p:nvSpPr>
            <p:cNvPr id="213" name="Cloud"/>
            <p:cNvSpPr/>
            <p:nvPr/>
          </p:nvSpPr>
          <p:spPr>
            <a:xfrm>
              <a:off x="1676520" y="846000"/>
              <a:ext cx="5762520" cy="3324240"/>
            </a:xfrm>
            <a:prstGeom prst="ellipse">
              <a:avLst/>
            </a:prstGeom>
            <a:solidFill>
              <a:srgbClr val="ffba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117880" y="2181240"/>
              <a:ext cx="1847520" cy="1477800"/>
              <a:chOff x="2117880" y="2181240"/>
              <a:chExt cx="1847520" cy="1477800"/>
            </a:xfrm>
          </p:grpSpPr>
          <p:sp>
            <p:nvSpPr>
              <p:cNvPr id="215" name="Cloud"/>
              <p:cNvSpPr/>
              <p:nvPr/>
            </p:nvSpPr>
            <p:spPr>
              <a:xfrm>
                <a:off x="2117880" y="2181240"/>
                <a:ext cx="1847520" cy="1477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91840" y="2365920"/>
                <a:ext cx="14698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79c82"/>
                    </a:solidFill>
                    <a:latin typeface="Arial"/>
                  </a:rPr>
                  <a:t>Enemy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79c82"/>
                    </a:solidFill>
                    <a:latin typeface="Arial"/>
                  </a:rPr>
                  <a:t>of National Pow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59600" y="2662920"/>
                <a:ext cx="1036080" cy="8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Politic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Inform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Militar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149800" y="2328840"/>
              <a:ext cx="1995480" cy="1255680"/>
              <a:chOff x="5149800" y="2328840"/>
              <a:chExt cx="1995480" cy="12556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5149800" y="2328840"/>
                <a:ext cx="1995480" cy="1255680"/>
                <a:chOff x="5149800" y="2328840"/>
                <a:chExt cx="1995480" cy="1255680"/>
              </a:xfrm>
            </p:grpSpPr>
            <p:sp>
              <p:nvSpPr>
                <p:cNvPr id="220" name="Cloud"/>
                <p:cNvSpPr/>
                <p:nvPr/>
              </p:nvSpPr>
              <p:spPr>
                <a:xfrm>
                  <a:off x="5149800" y="2328840"/>
                  <a:ext cx="1995480" cy="12556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651640" y="2476440"/>
                  <a:ext cx="103860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179c82"/>
                      </a:solidFill>
                      <a:latin typeface="Arial"/>
                    </a:rPr>
                    <a:t>Friendl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179c82"/>
                      </a:solidFill>
                      <a:latin typeface="Arial"/>
                    </a:rPr>
                    <a:t>Capabiliti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5739480" y="2796480"/>
                <a:ext cx="1036080" cy="6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Diplomati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Inform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Militar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751200" y="1581120"/>
              <a:ext cx="1625400" cy="960480"/>
              <a:chOff x="3751200" y="1581120"/>
              <a:chExt cx="1625400" cy="960480"/>
            </a:xfrm>
          </p:grpSpPr>
          <p:sp>
            <p:nvSpPr>
              <p:cNvPr id="224" name="Cloud"/>
              <p:cNvSpPr/>
              <p:nvPr/>
            </p:nvSpPr>
            <p:spPr>
              <a:xfrm>
                <a:off x="3751200" y="1581120"/>
                <a:ext cx="1625400" cy="960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77200" y="1827000"/>
                <a:ext cx="14227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79c82"/>
                    </a:solidFill>
                    <a:latin typeface="Arial"/>
                  </a:rPr>
                  <a:t>Goals/Objectiv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94000" y="1987560"/>
                <a:ext cx="88740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Secure…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Defeat…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Engage…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304920" y="4646520"/>
            <a:ext cx="8258040" cy="0"/>
          </a:xfrm>
          <a:prstGeom prst="line">
            <a:avLst/>
          </a:prstGeom>
          <a:ln w="7632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6880" y="415440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ledge Representation – Distributed, Web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90520" y="6181560"/>
            <a:ext cx="3164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and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roces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648400" y="4781520"/>
            <a:ext cx="838080" cy="838080"/>
            <a:chOff x="5648400" y="4781520"/>
            <a:chExt cx="838080" cy="838080"/>
          </a:xfrm>
        </p:grpSpPr>
        <p:sp>
          <p:nvSpPr>
            <p:cNvPr id="231" name=""/>
            <p:cNvSpPr/>
            <p:nvPr/>
          </p:nvSpPr>
          <p:spPr>
            <a:xfrm>
              <a:off x="5648400" y="4781520"/>
              <a:ext cx="838080" cy="83808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75480" y="5096520"/>
              <a:ext cx="598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925640" y="5776920"/>
            <a:ext cx="842400" cy="833400"/>
            <a:chOff x="1925640" y="5776920"/>
            <a:chExt cx="842400" cy="833400"/>
          </a:xfrm>
        </p:grpSpPr>
        <p:sp>
          <p:nvSpPr>
            <p:cNvPr id="234" name=""/>
            <p:cNvSpPr/>
            <p:nvPr/>
          </p:nvSpPr>
          <p:spPr>
            <a:xfrm>
              <a:off x="1925640" y="5776920"/>
              <a:ext cx="837000" cy="83340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1120" y="6091560"/>
              <a:ext cx="8269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ag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12720" y="4856040"/>
            <a:ext cx="1086120" cy="762120"/>
            <a:chOff x="6912720" y="4856040"/>
            <a:chExt cx="1086120" cy="762120"/>
          </a:xfrm>
        </p:grpSpPr>
        <p:sp>
          <p:nvSpPr>
            <p:cNvPr id="237" name=""/>
            <p:cNvSpPr/>
            <p:nvPr/>
          </p:nvSpPr>
          <p:spPr>
            <a:xfrm>
              <a:off x="7042320" y="4856040"/>
              <a:ext cx="787320" cy="76212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12720" y="5149440"/>
              <a:ext cx="1086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789440"/>
            <a:ext cx="838080" cy="838080"/>
            <a:chOff x="2590920" y="4789440"/>
            <a:chExt cx="838080" cy="838080"/>
          </a:xfrm>
        </p:grpSpPr>
        <p:sp>
          <p:nvSpPr>
            <p:cNvPr id="240" name=""/>
            <p:cNvSpPr/>
            <p:nvPr/>
          </p:nvSpPr>
          <p:spPr>
            <a:xfrm>
              <a:off x="2590920" y="4789440"/>
              <a:ext cx="838080" cy="83808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61120" y="5123880"/>
              <a:ext cx="7066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ff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348240" y="5732640"/>
            <a:ext cx="914400" cy="877680"/>
            <a:chOff x="6348240" y="5732640"/>
            <a:chExt cx="914400" cy="877680"/>
          </a:xfrm>
        </p:grpSpPr>
        <p:sp>
          <p:nvSpPr>
            <p:cNvPr id="243" name=""/>
            <p:cNvSpPr/>
            <p:nvPr/>
          </p:nvSpPr>
          <p:spPr>
            <a:xfrm>
              <a:off x="6348240" y="5732640"/>
              <a:ext cx="914400" cy="87768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9880" y="6033600"/>
              <a:ext cx="776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hoo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618320" y="5694480"/>
            <a:ext cx="914400" cy="914400"/>
            <a:chOff x="7618320" y="5694480"/>
            <a:chExt cx="914400" cy="914400"/>
          </a:xfrm>
        </p:grpSpPr>
        <p:sp>
          <p:nvSpPr>
            <p:cNvPr id="246" name=""/>
            <p:cNvSpPr/>
            <p:nvPr/>
          </p:nvSpPr>
          <p:spPr>
            <a:xfrm>
              <a:off x="7618320" y="5694480"/>
              <a:ext cx="914400" cy="91440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89680" y="6032520"/>
              <a:ext cx="598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371600" y="4809960"/>
            <a:ext cx="838080" cy="817560"/>
            <a:chOff x="1371600" y="4809960"/>
            <a:chExt cx="838080" cy="817560"/>
          </a:xfrm>
        </p:grpSpPr>
        <p:sp>
          <p:nvSpPr>
            <p:cNvPr id="249" name=""/>
            <p:cNvSpPr/>
            <p:nvPr/>
          </p:nvSpPr>
          <p:spPr>
            <a:xfrm>
              <a:off x="1371600" y="4809960"/>
              <a:ext cx="838080" cy="81756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1200" y="5117760"/>
              <a:ext cx="598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28600" y="912960"/>
            <a:ext cx="627120" cy="636120"/>
            <a:chOff x="228600" y="912960"/>
            <a:chExt cx="627120" cy="636120"/>
          </a:xfrm>
        </p:grpSpPr>
        <p:grpSp>
          <p:nvGrpSpPr>
            <p:cNvPr id="252" name=""/>
            <p:cNvGrpSpPr/>
            <p:nvPr/>
          </p:nvGrpSpPr>
          <p:grpSpPr>
            <a:xfrm>
              <a:off x="228600" y="912960"/>
              <a:ext cx="609120" cy="636120"/>
              <a:chOff x="228600" y="912960"/>
              <a:chExt cx="609120" cy="63612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" y="912960"/>
                <a:ext cx="609120" cy="63612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28600" y="912960"/>
                <a:ext cx="609120" cy="16056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8600" y="912960"/>
                <a:ext cx="609120" cy="63612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8600" y="988560"/>
                <a:ext cx="609120" cy="8460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77560" y="1084320"/>
              <a:ext cx="57816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P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unt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838080" y="1522440"/>
            <a:ext cx="683640" cy="609120"/>
            <a:chOff x="838080" y="1522440"/>
            <a:chExt cx="683640" cy="609120"/>
          </a:xfrm>
        </p:grpSpPr>
        <p:grpSp>
          <p:nvGrpSpPr>
            <p:cNvPr id="259" name=""/>
            <p:cNvGrpSpPr/>
            <p:nvPr/>
          </p:nvGrpSpPr>
          <p:grpSpPr>
            <a:xfrm>
              <a:off x="838080" y="1522440"/>
              <a:ext cx="683640" cy="609120"/>
              <a:chOff x="838080" y="1522440"/>
              <a:chExt cx="683640" cy="609120"/>
            </a:xfrm>
          </p:grpSpPr>
          <p:sp>
            <p:nvSpPr>
              <p:cNvPr id="260" name=""/>
              <p:cNvSpPr/>
              <p:nvPr/>
            </p:nvSpPr>
            <p:spPr>
              <a:xfrm>
                <a:off x="838080" y="1522440"/>
                <a:ext cx="683640" cy="60912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38080" y="1522440"/>
                <a:ext cx="683640" cy="15372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38080" y="1522440"/>
                <a:ext cx="683640" cy="60912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8080" y="1594800"/>
                <a:ext cx="683640" cy="8100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885600" y="1689120"/>
              <a:ext cx="60408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efs of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62120" y="2741760"/>
            <a:ext cx="532800" cy="532440"/>
            <a:chOff x="762120" y="2741760"/>
            <a:chExt cx="532800" cy="532440"/>
          </a:xfrm>
        </p:grpSpPr>
        <p:grpSp>
          <p:nvGrpSpPr>
            <p:cNvPr id="266" name=""/>
            <p:cNvGrpSpPr/>
            <p:nvPr/>
          </p:nvGrpSpPr>
          <p:grpSpPr>
            <a:xfrm>
              <a:off x="762120" y="2741760"/>
              <a:ext cx="532800" cy="532440"/>
              <a:chOff x="762120" y="2741760"/>
              <a:chExt cx="532800" cy="532440"/>
            </a:xfrm>
          </p:grpSpPr>
          <p:sp>
            <p:nvSpPr>
              <p:cNvPr id="267" name=""/>
              <p:cNvSpPr/>
              <p:nvPr/>
            </p:nvSpPr>
            <p:spPr>
              <a:xfrm>
                <a:off x="762120" y="2741760"/>
                <a:ext cx="532800" cy="53244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2120" y="2741760"/>
                <a:ext cx="532800" cy="13428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2120" y="2741760"/>
                <a:ext cx="532800" cy="53244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2120" y="2804760"/>
                <a:ext cx="532800" cy="7092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790200" y="2978280"/>
              <a:ext cx="48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TJ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28600" y="2131920"/>
            <a:ext cx="603000" cy="639360"/>
            <a:chOff x="228600" y="2131920"/>
            <a:chExt cx="603000" cy="639360"/>
          </a:xfrm>
        </p:grpSpPr>
        <p:grpSp>
          <p:nvGrpSpPr>
            <p:cNvPr id="273" name=""/>
            <p:cNvGrpSpPr/>
            <p:nvPr/>
          </p:nvGrpSpPr>
          <p:grpSpPr>
            <a:xfrm>
              <a:off x="228600" y="2131920"/>
              <a:ext cx="603000" cy="622080"/>
              <a:chOff x="228600" y="2131920"/>
              <a:chExt cx="603000" cy="62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228600" y="2131920"/>
                <a:ext cx="603000" cy="62208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28600" y="2131920"/>
                <a:ext cx="603000" cy="15696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8600" y="2131920"/>
                <a:ext cx="603000" cy="62208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600" y="2205720"/>
                <a:ext cx="603000" cy="8280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284400" y="2333520"/>
              <a:ext cx="48384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03040" y="3395520"/>
            <a:ext cx="914400" cy="641160"/>
            <a:chOff x="203040" y="3395520"/>
            <a:chExt cx="914400" cy="641160"/>
          </a:xfrm>
        </p:grpSpPr>
        <p:grpSp>
          <p:nvGrpSpPr>
            <p:cNvPr id="280" name=""/>
            <p:cNvGrpSpPr/>
            <p:nvPr/>
          </p:nvGrpSpPr>
          <p:grpSpPr>
            <a:xfrm>
              <a:off x="316080" y="3395520"/>
              <a:ext cx="673920" cy="641160"/>
              <a:chOff x="316080" y="3395520"/>
              <a:chExt cx="673920" cy="641160"/>
            </a:xfrm>
          </p:grpSpPr>
          <p:sp>
            <p:nvSpPr>
              <p:cNvPr id="281" name=""/>
              <p:cNvSpPr/>
              <p:nvPr/>
            </p:nvSpPr>
            <p:spPr>
              <a:xfrm>
                <a:off x="316080" y="3395520"/>
                <a:ext cx="673920" cy="64116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080" y="3395520"/>
                <a:ext cx="673920" cy="16164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6080" y="3395520"/>
                <a:ext cx="673920" cy="64116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6080" y="3471480"/>
                <a:ext cx="673920" cy="8532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03040" y="3554280"/>
              <a:ext cx="91440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l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 Bo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543800" y="836640"/>
            <a:ext cx="777240" cy="607680"/>
            <a:chOff x="7543800" y="836640"/>
            <a:chExt cx="777240" cy="607680"/>
          </a:xfrm>
        </p:grpSpPr>
        <p:grpSp>
          <p:nvGrpSpPr>
            <p:cNvPr id="287" name=""/>
            <p:cNvGrpSpPr/>
            <p:nvPr/>
          </p:nvGrpSpPr>
          <p:grpSpPr>
            <a:xfrm>
              <a:off x="7543800" y="836640"/>
              <a:ext cx="777240" cy="607680"/>
              <a:chOff x="7543800" y="836640"/>
              <a:chExt cx="777240" cy="607680"/>
            </a:xfrm>
          </p:grpSpPr>
          <p:sp>
            <p:nvSpPr>
              <p:cNvPr id="288" name=""/>
              <p:cNvSpPr/>
              <p:nvPr/>
            </p:nvSpPr>
            <p:spPr>
              <a:xfrm>
                <a:off x="7543800" y="836640"/>
                <a:ext cx="777240" cy="60768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43800" y="836640"/>
                <a:ext cx="777240" cy="15336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43800" y="836640"/>
                <a:ext cx="777240" cy="60768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543800" y="908640"/>
                <a:ext cx="777240" cy="8100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7608600" y="1078200"/>
              <a:ext cx="639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da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305920" y="1370160"/>
            <a:ext cx="609120" cy="609120"/>
            <a:chOff x="8305920" y="1370160"/>
            <a:chExt cx="609120" cy="609120"/>
          </a:xfrm>
        </p:grpSpPr>
        <p:grpSp>
          <p:nvGrpSpPr>
            <p:cNvPr id="294" name=""/>
            <p:cNvGrpSpPr/>
            <p:nvPr/>
          </p:nvGrpSpPr>
          <p:grpSpPr>
            <a:xfrm>
              <a:off x="8305920" y="1370160"/>
              <a:ext cx="609120" cy="609120"/>
              <a:chOff x="8305920" y="1370160"/>
              <a:chExt cx="609120" cy="609120"/>
            </a:xfrm>
          </p:grpSpPr>
          <p:sp>
            <p:nvSpPr>
              <p:cNvPr id="295" name=""/>
              <p:cNvSpPr/>
              <p:nvPr/>
            </p:nvSpPr>
            <p:spPr>
              <a:xfrm>
                <a:off x="8305920" y="1370160"/>
                <a:ext cx="609120" cy="60912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305920" y="1370160"/>
                <a:ext cx="609120" cy="15372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05920" y="1370160"/>
                <a:ext cx="609120" cy="60912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05920" y="1442520"/>
                <a:ext cx="609120" cy="8100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8413920" y="1533600"/>
              <a:ext cx="4093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u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da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315200" y="3656160"/>
            <a:ext cx="777240" cy="532800"/>
            <a:chOff x="7315200" y="3656160"/>
            <a:chExt cx="777240" cy="532800"/>
          </a:xfrm>
        </p:grpSpPr>
        <p:grpSp>
          <p:nvGrpSpPr>
            <p:cNvPr id="301" name=""/>
            <p:cNvGrpSpPr/>
            <p:nvPr/>
          </p:nvGrpSpPr>
          <p:grpSpPr>
            <a:xfrm>
              <a:off x="7315200" y="3656160"/>
              <a:ext cx="777240" cy="532800"/>
              <a:chOff x="7315200" y="3656160"/>
              <a:chExt cx="777240" cy="532800"/>
            </a:xfrm>
          </p:grpSpPr>
          <p:sp>
            <p:nvSpPr>
              <p:cNvPr id="302" name=""/>
              <p:cNvSpPr/>
              <p:nvPr/>
            </p:nvSpPr>
            <p:spPr>
              <a:xfrm>
                <a:off x="7315200" y="3656160"/>
                <a:ext cx="777240" cy="53280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15200" y="3656160"/>
                <a:ext cx="777240" cy="13428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15200" y="3656160"/>
                <a:ext cx="777240" cy="53280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15200" y="3719520"/>
                <a:ext cx="777240" cy="7092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467480" y="3866760"/>
              <a:ext cx="468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da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8366040" y="3503520"/>
            <a:ext cx="777240" cy="532800"/>
            <a:chOff x="8366040" y="3503520"/>
            <a:chExt cx="777240" cy="532800"/>
          </a:xfrm>
        </p:grpSpPr>
        <p:grpSp>
          <p:nvGrpSpPr>
            <p:cNvPr id="308" name=""/>
            <p:cNvGrpSpPr/>
            <p:nvPr/>
          </p:nvGrpSpPr>
          <p:grpSpPr>
            <a:xfrm>
              <a:off x="8366040" y="3503520"/>
              <a:ext cx="777240" cy="532800"/>
              <a:chOff x="8366040" y="3503520"/>
              <a:chExt cx="777240" cy="532800"/>
            </a:xfrm>
          </p:grpSpPr>
          <p:sp>
            <p:nvSpPr>
              <p:cNvPr id="309" name=""/>
              <p:cNvSpPr/>
              <p:nvPr/>
            </p:nvSpPr>
            <p:spPr>
              <a:xfrm>
                <a:off x="8366040" y="3503520"/>
                <a:ext cx="777240" cy="53280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66040" y="3503520"/>
                <a:ext cx="777240" cy="13428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66040" y="3503520"/>
                <a:ext cx="777240" cy="53280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366040" y="3566880"/>
                <a:ext cx="777240" cy="7092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8543880" y="3714480"/>
              <a:ext cx="4093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t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8001000" y="2055960"/>
            <a:ext cx="776880" cy="685080"/>
            <a:chOff x="8001000" y="2055960"/>
            <a:chExt cx="776880" cy="685080"/>
          </a:xfrm>
        </p:grpSpPr>
        <p:grpSp>
          <p:nvGrpSpPr>
            <p:cNvPr id="315" name=""/>
            <p:cNvGrpSpPr/>
            <p:nvPr/>
          </p:nvGrpSpPr>
          <p:grpSpPr>
            <a:xfrm>
              <a:off x="8001000" y="2055960"/>
              <a:ext cx="776880" cy="685080"/>
              <a:chOff x="8001000" y="2055960"/>
              <a:chExt cx="776880" cy="685080"/>
            </a:xfrm>
          </p:grpSpPr>
          <p:sp>
            <p:nvSpPr>
              <p:cNvPr id="316" name=""/>
              <p:cNvSpPr/>
              <p:nvPr/>
            </p:nvSpPr>
            <p:spPr>
              <a:xfrm>
                <a:off x="8001000" y="2055960"/>
                <a:ext cx="776880" cy="68508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001000" y="2055960"/>
                <a:ext cx="776880" cy="1728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001000" y="2055960"/>
                <a:ext cx="776880" cy="68508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001000" y="2137320"/>
                <a:ext cx="776880" cy="9144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8054280" y="2232000"/>
              <a:ext cx="66204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tiz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8153280" y="2894040"/>
            <a:ext cx="777240" cy="458280"/>
            <a:chOff x="8153280" y="2894040"/>
            <a:chExt cx="777240" cy="458280"/>
          </a:xfrm>
        </p:grpSpPr>
        <p:grpSp>
          <p:nvGrpSpPr>
            <p:cNvPr id="322" name=""/>
            <p:cNvGrpSpPr/>
            <p:nvPr/>
          </p:nvGrpSpPr>
          <p:grpSpPr>
            <a:xfrm>
              <a:off x="8153280" y="2894040"/>
              <a:ext cx="777240" cy="458280"/>
              <a:chOff x="8153280" y="2894040"/>
              <a:chExt cx="777240" cy="458280"/>
            </a:xfrm>
          </p:grpSpPr>
          <p:sp>
            <p:nvSpPr>
              <p:cNvPr id="323" name=""/>
              <p:cNvSpPr/>
              <p:nvPr/>
            </p:nvSpPr>
            <p:spPr>
              <a:xfrm>
                <a:off x="8153280" y="2894040"/>
                <a:ext cx="777240" cy="45828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153280" y="2894040"/>
                <a:ext cx="777240" cy="11556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153280" y="2894040"/>
                <a:ext cx="777240" cy="45828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153280" y="2948400"/>
                <a:ext cx="777240" cy="6120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8367480" y="3075120"/>
              <a:ext cx="342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p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990720" y="1141560"/>
            <a:ext cx="129528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175104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243684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447920" y="2817720"/>
            <a:ext cx="53316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143000" y="3274560"/>
            <a:ext cx="83808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933960" y="137016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15200" y="1827360"/>
            <a:ext cx="9144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7238520" y="2817720"/>
            <a:ext cx="83844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7086240" y="312264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6781680" y="3579480"/>
            <a:ext cx="4572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238880" y="2436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355760" y="3656160"/>
            <a:ext cx="624960" cy="532800"/>
            <a:chOff x="1355760" y="3656160"/>
            <a:chExt cx="624960" cy="532800"/>
          </a:xfrm>
        </p:grpSpPr>
        <p:grpSp>
          <p:nvGrpSpPr>
            <p:cNvPr id="340" name=""/>
            <p:cNvGrpSpPr/>
            <p:nvPr/>
          </p:nvGrpSpPr>
          <p:grpSpPr>
            <a:xfrm>
              <a:off x="1355760" y="3656160"/>
              <a:ext cx="624960" cy="532800"/>
              <a:chOff x="1355760" y="3656160"/>
              <a:chExt cx="624960" cy="532800"/>
            </a:xfrm>
          </p:grpSpPr>
          <p:sp>
            <p:nvSpPr>
              <p:cNvPr id="341" name=""/>
              <p:cNvSpPr/>
              <p:nvPr/>
            </p:nvSpPr>
            <p:spPr>
              <a:xfrm>
                <a:off x="1355760" y="3656160"/>
                <a:ext cx="624960" cy="53280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55760" y="3656160"/>
                <a:ext cx="624960" cy="13428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24"/>
                    </a:moveTo>
                    <a:lnTo>
                      <a:pt x="2" y="30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30" y="44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80" y="51"/>
                    </a:lnTo>
                    <a:lnTo>
                      <a:pt x="101" y="51"/>
                    </a:lnTo>
                    <a:lnTo>
                      <a:pt x="122" y="51"/>
                    </a:lnTo>
                    <a:lnTo>
                      <a:pt x="141" y="49"/>
                    </a:lnTo>
                    <a:lnTo>
                      <a:pt x="157" y="45"/>
                    </a:lnTo>
                    <a:lnTo>
                      <a:pt x="172" y="44"/>
                    </a:lnTo>
                    <a:lnTo>
                      <a:pt x="184" y="38"/>
                    </a:lnTo>
                    <a:lnTo>
                      <a:pt x="193" y="35"/>
                    </a:lnTo>
                    <a:lnTo>
                      <a:pt x="200" y="30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55760" y="3656160"/>
                <a:ext cx="624960" cy="532800"/>
              </a:xfrm>
              <a:custGeom>
                <a:avLst/>
                <a:gdLst/>
                <a:ahLst/>
                <a:rect l="l" t="t" r="r" b="b"/>
                <a:pathLst>
                  <a:path w="202" h="202">
                    <a:moveTo>
                      <a:pt x="101" y="0"/>
                    </a:moveTo>
                    <a:lnTo>
                      <a:pt x="80" y="0"/>
                    </a:lnTo>
                    <a:lnTo>
                      <a:pt x="61" y="2"/>
                    </a:lnTo>
                    <a:lnTo>
                      <a:pt x="45" y="4"/>
                    </a:lnTo>
                    <a:lnTo>
                      <a:pt x="30" y="7"/>
                    </a:lnTo>
                    <a:lnTo>
                      <a:pt x="17" y="11"/>
                    </a:lnTo>
                    <a:lnTo>
                      <a:pt x="9" y="14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9" y="188"/>
                    </a:lnTo>
                    <a:lnTo>
                      <a:pt x="17" y="191"/>
                    </a:lnTo>
                    <a:lnTo>
                      <a:pt x="30" y="195"/>
                    </a:lnTo>
                    <a:lnTo>
                      <a:pt x="45" y="198"/>
                    </a:lnTo>
                    <a:lnTo>
                      <a:pt x="61" y="200"/>
                    </a:lnTo>
                    <a:lnTo>
                      <a:pt x="80" y="202"/>
                    </a:lnTo>
                    <a:lnTo>
                      <a:pt x="101" y="202"/>
                    </a:lnTo>
                    <a:lnTo>
                      <a:pt x="122" y="202"/>
                    </a:lnTo>
                    <a:lnTo>
                      <a:pt x="141" y="200"/>
                    </a:lnTo>
                    <a:lnTo>
                      <a:pt x="157" y="198"/>
                    </a:lnTo>
                    <a:lnTo>
                      <a:pt x="172" y="195"/>
                    </a:lnTo>
                    <a:lnTo>
                      <a:pt x="184" y="191"/>
                    </a:lnTo>
                    <a:lnTo>
                      <a:pt x="193" y="188"/>
                    </a:lnTo>
                    <a:lnTo>
                      <a:pt x="200" y="183"/>
                    </a:lnTo>
                    <a:lnTo>
                      <a:pt x="202" y="177"/>
                    </a:lnTo>
                    <a:lnTo>
                      <a:pt x="202" y="24"/>
                    </a:lnTo>
                    <a:lnTo>
                      <a:pt x="200" y="19"/>
                    </a:lnTo>
                    <a:lnTo>
                      <a:pt x="193" y="14"/>
                    </a:lnTo>
                    <a:lnTo>
                      <a:pt x="184" y="11"/>
                    </a:lnTo>
                    <a:lnTo>
                      <a:pt x="172" y="7"/>
                    </a:lnTo>
                    <a:lnTo>
                      <a:pt x="157" y="4"/>
                    </a:lnTo>
                    <a:lnTo>
                      <a:pt x="141" y="2"/>
                    </a:lnTo>
                    <a:lnTo>
                      <a:pt x="122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55760" y="3719520"/>
                <a:ext cx="624960" cy="70920"/>
              </a:xfrm>
              <a:custGeom>
                <a:avLst/>
                <a:gdLst/>
                <a:ahLst/>
                <a:rect l="l" t="t" r="r" b="b"/>
                <a:pathLst>
                  <a:path w="202" h="27">
                    <a:moveTo>
                      <a:pt x="0" y="0"/>
                    </a:moveTo>
                    <a:lnTo>
                      <a:pt x="2" y="6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30" y="20"/>
                    </a:lnTo>
                    <a:lnTo>
                      <a:pt x="45" y="21"/>
                    </a:lnTo>
                    <a:lnTo>
                      <a:pt x="61" y="25"/>
                    </a:lnTo>
                    <a:lnTo>
                      <a:pt x="80" y="27"/>
                    </a:lnTo>
                    <a:lnTo>
                      <a:pt x="101" y="27"/>
                    </a:lnTo>
                    <a:lnTo>
                      <a:pt x="122" y="27"/>
                    </a:lnTo>
                    <a:lnTo>
                      <a:pt x="141" y="25"/>
                    </a:lnTo>
                    <a:lnTo>
                      <a:pt x="157" y="21"/>
                    </a:lnTo>
                    <a:lnTo>
                      <a:pt x="172" y="20"/>
                    </a:lnTo>
                    <a:lnTo>
                      <a:pt x="184" y="14"/>
                    </a:lnTo>
                    <a:lnTo>
                      <a:pt x="193" y="11"/>
                    </a:lnTo>
                    <a:lnTo>
                      <a:pt x="200" y="6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419840" y="3866760"/>
              <a:ext cx="492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da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>
            <a:off x="2057040" y="357984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772080" y="4875120"/>
            <a:ext cx="1600200" cy="11732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22200" y="330120"/>
            <a:ext cx="825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5984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Semantic Operational Net Assessment Tool</a:t>
            </a:r>
            <a:endParaRPr b="1" lang="en-US" sz="2000" spc="-1" strike="noStrike">
              <a:solidFill>
                <a:srgbClr val="000099"/>
              </a:solidFill>
              <a:latin typeface="Arial Black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65280" y="5732640"/>
            <a:ext cx="914400" cy="877680"/>
            <a:chOff x="665280" y="5732640"/>
            <a:chExt cx="914400" cy="877680"/>
          </a:xfrm>
        </p:grpSpPr>
        <p:sp>
          <p:nvSpPr>
            <p:cNvPr id="351" name=""/>
            <p:cNvSpPr/>
            <p:nvPr/>
          </p:nvSpPr>
          <p:spPr>
            <a:xfrm>
              <a:off x="665280" y="5732640"/>
              <a:ext cx="914400" cy="87768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960" y="6033600"/>
              <a:ext cx="732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C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176640" y="915840"/>
            <a:ext cx="2768400" cy="619200"/>
            <a:chOff x="3176640" y="915840"/>
            <a:chExt cx="2768400" cy="619200"/>
          </a:xfrm>
        </p:grpSpPr>
        <p:sp>
          <p:nvSpPr>
            <p:cNvPr id="354" name=""/>
            <p:cNvSpPr/>
            <p:nvPr/>
          </p:nvSpPr>
          <p:spPr>
            <a:xfrm>
              <a:off x="3176640" y="915840"/>
              <a:ext cx="276840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baf57"/>
                </a:gs>
                <a:gs pos="50000">
                  <a:srgbClr val="ffcc66"/>
                </a:gs>
                <a:gs pos="100000">
                  <a:srgbClr val="dbaf5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87440" y="1128600"/>
              <a:ext cx="2752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ructured    •  Refer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emi Structured    •  Work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-15120" y="4821120"/>
            <a:ext cx="1186560" cy="817560"/>
            <a:chOff x="-15120" y="4821120"/>
            <a:chExt cx="1186560" cy="817560"/>
          </a:xfrm>
        </p:grpSpPr>
        <p:sp>
          <p:nvSpPr>
            <p:cNvPr id="357" name=""/>
            <p:cNvSpPr/>
            <p:nvPr/>
          </p:nvSpPr>
          <p:spPr>
            <a:xfrm>
              <a:off x="144720" y="4821120"/>
              <a:ext cx="838800" cy="81756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-15120" y="5128920"/>
              <a:ext cx="11865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su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8190000" y="4869000"/>
            <a:ext cx="797040" cy="761760"/>
            <a:chOff x="8190000" y="4869000"/>
            <a:chExt cx="797040" cy="761760"/>
          </a:xfrm>
        </p:grpSpPr>
        <p:sp>
          <p:nvSpPr>
            <p:cNvPr id="360" name=""/>
            <p:cNvSpPr/>
            <p:nvPr/>
          </p:nvSpPr>
          <p:spPr>
            <a:xfrm>
              <a:off x="8190000" y="4869000"/>
              <a:ext cx="786960" cy="761760"/>
            </a:xfrm>
            <a:prstGeom prst="pentagon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0c0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20960" y="5162040"/>
              <a:ext cx="766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tr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SONAT Demonstration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79160" y="1198080"/>
            <a:ext cx="8186760" cy="517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knowledge base of elements of national power (PMES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d KB to include relationships / effects between el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knowledge base of friendly capabilities (D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knowledge base of operational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d knowledge base to contain ENP-to-Objective relationsh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knowledge base of cause &amp; effect relationships between tasks and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prioritize tasks based on expected effect against overall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 tasks based on organizational capabilities and relationsh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07720"/>
            <a:ext cx="7026480" cy="803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New Capability Integration Goals for 2003 Experimen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4320" y="1035000"/>
            <a:ext cx="7729560" cy="5477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L – JB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A ontologies mapped to OpenCyc &amp; SU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ontologies (daml-spatial, daml-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&amp; utilize UJTL K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Topics data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roDAML NL processing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tical constraint che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L-S  (Ser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L Query Language (DQ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development &amp; visualization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Beyond the Experimen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22000" y="707760"/>
            <a:ext cx="7729560" cy="5311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AT shows ‘one’ way to assemble agents and applications exploiting ontologies, data and knowledge bases to provide a specific type of operational suppo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L Experiment is contributing to a growing inventory of resources usable by the broader semantic web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s &amp;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tool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L Experiment agents and applications use semantics and instance data in the ontologies, but are not embedded within the knowledge base . . . 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ources / knowledge bases maintained by ow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used for entirely different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Key DAML Experiment Goal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6920" y="1495080"/>
            <a:ext cx="6715440" cy="3876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Provide focus and context for integration and demonstration of DAML technolog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Identify and measure relevant metr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tress DAML technolo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Provide feedback to researchers</a:t>
            </a:r>
            <a:br>
              <a:rPr sz="1800"/>
            </a:b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Develop a real-world scale prototype application that demonstrates the potential of semantic web technologies to meet key military needs</a:t>
            </a:r>
            <a:br>
              <a:rPr sz="2000"/>
            </a:b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future transition eff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Potential 2003 Transition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Opportunitie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1285920"/>
            <a:ext cx="367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coordination with JFCOM to support 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00720" y="54309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y interested in DAML use in Army Knowledge Online (AK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525760" y="1533600"/>
            <a:ext cx="4067280" cy="3750840"/>
            <a:chOff x="2525760" y="1533600"/>
            <a:chExt cx="4067280" cy="3750840"/>
          </a:xfrm>
        </p:grpSpPr>
        <p:sp>
          <p:nvSpPr>
            <p:cNvPr id="374" name=""/>
            <p:cNvSpPr/>
            <p:nvPr/>
          </p:nvSpPr>
          <p:spPr>
            <a:xfrm>
              <a:off x="3382920" y="1533600"/>
              <a:ext cx="2352960" cy="2330640"/>
            </a:xfrm>
            <a:prstGeom prst="ellipse">
              <a:avLst/>
            </a:prstGeom>
            <a:solidFill>
              <a:srgbClr val="ffba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N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525760" y="2953440"/>
              <a:ext cx="4067280" cy="2331000"/>
              <a:chOff x="2525760" y="2953440"/>
              <a:chExt cx="4067280" cy="2331000"/>
            </a:xfrm>
          </p:grpSpPr>
          <p:sp>
            <p:nvSpPr>
              <p:cNvPr id="376" name=""/>
              <p:cNvSpPr/>
              <p:nvPr/>
            </p:nvSpPr>
            <p:spPr>
              <a:xfrm>
                <a:off x="4240440" y="2953440"/>
                <a:ext cx="2352600" cy="2331000"/>
              </a:xfrm>
              <a:prstGeom prst="ellipse">
                <a:avLst/>
              </a:prstGeom>
              <a:solidFill>
                <a:srgbClr val="308c3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M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25760" y="2953440"/>
                <a:ext cx="2352600" cy="2331000"/>
              </a:xfrm>
              <a:prstGeom prst="ellipse">
                <a:avLst/>
              </a:prstGeom>
              <a:solidFill>
                <a:srgbClr val="cc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504720" y="54309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ce community interested in DAML for knowled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19040" y="1285920"/>
            <a:ext cx="28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for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into J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Summary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1520" y="1611000"/>
            <a:ext cx="7827840" cy="2873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elements of DARPA DAML Experim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s &amp;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 (SONA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yond the Experi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AT software demonstration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fterno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 by requ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3527280"/>
            <a:ext cx="702612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BACKUP SLIDE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7729560" cy="2759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Purpose of Brief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1520" y="1611000"/>
            <a:ext cx="7827840" cy="245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key elements of DARPA DAML Experim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s &amp;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 (SONA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yond the Experi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participation in the SONAT software demonstration opportunity this eve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Metrics Agent Outpu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s metrics on ontologies and content used in DAML Experi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447920" y="2200320"/>
          <a:ext cx="5657760" cy="3591000"/>
        </p:xfrm>
        <a:graphic>
          <a:graphicData uri="http://schemas.openxmlformats.org/drawingml/2006/table">
            <a:tbl>
              <a:tblPr/>
              <a:tblGrid>
                <a:gridCol w="2876400"/>
                <a:gridCol w="1405080"/>
                <a:gridCol w="137628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,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2285280" y="5943600"/>
            <a:ext cx="42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ghanistan ENP an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52760" y="1781280"/>
            <a:ext cx="27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571680"/>
                <a:tab algn="ctr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 ’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 ‘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8277120" y="743040"/>
            <a:ext cx="704880" cy="476280"/>
          </a:xfrm>
          <a:custGeom>
            <a:avLst/>
            <a:gdLst>
              <a:gd name="textAreaLeft" fmla="*/ 30600 w 704880"/>
              <a:gd name="textAreaRight" fmla="*/ 674280 w 7048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960" h="21600">
                <a:moveTo>
                  <a:pt x="0" y="0"/>
                </a:moveTo>
                <a:lnTo>
                  <a:pt x="31960" y="0"/>
                </a:lnTo>
                <a:lnTo>
                  <a:pt x="31960" y="21600"/>
                </a:lnTo>
                <a:lnTo>
                  <a:pt x="0" y="21600"/>
                </a:lnTo>
                <a:close/>
              </a:path>
              <a:path fill="lightenLess" w="31960" h="21600">
                <a:moveTo>
                  <a:pt x="0" y="0"/>
                </a:moveTo>
                <a:lnTo>
                  <a:pt x="31960" y="0"/>
                </a:lnTo>
                <a:lnTo>
                  <a:pt x="30560" y="1400"/>
                </a:lnTo>
                <a:lnTo>
                  <a:pt x="1400" y="1400"/>
                </a:lnTo>
                <a:close/>
              </a:path>
              <a:path fill="darken" w="31960" h="21600">
                <a:moveTo>
                  <a:pt x="31960" y="0"/>
                </a:moveTo>
                <a:lnTo>
                  <a:pt x="31960" y="21600"/>
                </a:lnTo>
                <a:lnTo>
                  <a:pt x="30560" y="20200"/>
                </a:lnTo>
                <a:lnTo>
                  <a:pt x="30560" y="1400"/>
                </a:lnTo>
                <a:close/>
              </a:path>
              <a:path fill="darkenLess" w="31960" h="21600">
                <a:moveTo>
                  <a:pt x="31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0" y="20200"/>
                </a:lnTo>
                <a:close/>
              </a:path>
              <a:path fill="lighten" w="31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0" h="21600">
                <a:moveTo>
                  <a:pt x="8973" y="7493"/>
                </a:moveTo>
                <a:lnTo>
                  <a:pt x="12481" y="7493"/>
                </a:lnTo>
                <a:lnTo>
                  <a:pt x="12481" y="12828"/>
                </a:lnTo>
                <a:cubicBezTo>
                  <a:pt x="12481" y="13751"/>
                  <a:pt x="13282" y="14482"/>
                  <a:pt x="14317" y="14482"/>
                </a:cubicBezTo>
                <a:lnTo>
                  <a:pt x="15980" y="14482"/>
                </a:lnTo>
                <a:cubicBezTo>
                  <a:pt x="17015" y="14482"/>
                  <a:pt x="17816" y="13751"/>
                  <a:pt x="17816" y="12828"/>
                </a:cubicBezTo>
                <a:lnTo>
                  <a:pt x="17816" y="7493"/>
                </a:lnTo>
                <a:lnTo>
                  <a:pt x="15980" y="7493"/>
                </a:lnTo>
                <a:lnTo>
                  <a:pt x="19487" y="3985"/>
                </a:lnTo>
                <a:lnTo>
                  <a:pt x="23160" y="7493"/>
                </a:lnTo>
                <a:lnTo>
                  <a:pt x="21324" y="7493"/>
                </a:lnTo>
                <a:lnTo>
                  <a:pt x="21324" y="12828"/>
                </a:lnTo>
                <a:cubicBezTo>
                  <a:pt x="21324" y="15596"/>
                  <a:pt x="18748" y="18155"/>
                  <a:pt x="15980" y="18155"/>
                </a:cubicBezTo>
                <a:lnTo>
                  <a:pt x="14317" y="18155"/>
                </a:lnTo>
                <a:cubicBezTo>
                  <a:pt x="11550" y="18155"/>
                  <a:pt x="8973" y="15596"/>
                  <a:pt x="8973" y="12828"/>
                </a:cubicBezTo>
                <a:close/>
              </a:path>
            </a:pathLst>
          </a:custGeom>
          <a:noFill/>
          <a:ln w="12600">
            <a:solidFill>
              <a:srgbClr val="2163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Key DAML Experiment Goal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1495080"/>
            <a:ext cx="6715440" cy="3876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focus and context for integration and demonstration of DAML technolog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and measure relevant metr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DAML technolo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feedback to research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real-world scale prototype application that demonstrates the potential of semantic web technologies to meet key military nee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future transition eff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Key DAML Experiment Goal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495080"/>
            <a:ext cx="6715440" cy="3876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focus and context for integration and demonstration of DAML technolog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and measure relevant metr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DAML technolo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feedback to research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Develop a real-world scale prototype application that demonstrates the potential of semantic web technologies to meet key military needs</a:t>
            </a:r>
            <a:br>
              <a:rPr sz="2000"/>
            </a:b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Support future transition eff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8000" y="758880"/>
            <a:ext cx="8272440" cy="6032520"/>
          </a:xfrm>
          <a:prstGeom prst="roundRect">
            <a:avLst>
              <a:gd name="adj" fmla="val 16667"/>
            </a:avLst>
          </a:prstGeom>
          <a:solidFill>
            <a:srgbClr val="b1cff1"/>
          </a:solidFill>
          <a:ln w="1260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DAML Researcher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09520" y="1406520"/>
            <a:ext cx="3787920" cy="528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63ab"/>
                </a:solidFill>
                <a:uFillTx/>
                <a:latin typeface="Arial"/>
              </a:rPr>
              <a:t>DAML Ont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DR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University of Roche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63ab"/>
                </a:solidFill>
                <a:uFillTx/>
                <a:latin typeface="Arial"/>
              </a:rPr>
              <a:t>DAML Trans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Cycor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GRC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Y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63ab"/>
                </a:solidFill>
                <a:uFillTx/>
                <a:latin typeface="Arial"/>
              </a:rPr>
              <a:t>DAML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BB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U. of Edinburg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63ab"/>
                </a:solidFill>
                <a:uFillTx/>
                <a:latin typeface="Arial"/>
              </a:rPr>
              <a:t>DAML Ag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CM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LMC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UMB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84920" y="1391760"/>
            <a:ext cx="3789360" cy="5108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63ab"/>
                </a:solidFill>
                <a:uFillTx/>
                <a:latin typeface="Arial"/>
              </a:rPr>
              <a:t>DAML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MIT/W3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CM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Olin Colle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U. of West Flori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63ab"/>
                </a:solidFill>
                <a:uFillTx/>
                <a:latin typeface="Arial"/>
              </a:rPr>
              <a:t>DAML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Stanford KB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Teknowled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UMC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I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63ab"/>
                </a:solidFill>
                <a:uFillTx/>
                <a:latin typeface="Arial"/>
              </a:rPr>
              <a:t>DAML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CM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KS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3ab"/>
                </a:solidFill>
                <a:latin typeface="Arial"/>
              </a:rPr>
              <a:t>SR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3840" y="901800"/>
            <a:ext cx="61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163ab"/>
                </a:solidFill>
                <a:uFillTx/>
                <a:latin typeface="Arial"/>
              </a:rPr>
              <a:t>DAML Integration - B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f33"/>
                </a:solidFill>
                <a:uFillTx/>
                <a:latin typeface="Arial Black"/>
                <a:hlinkClick r:id="rId1" action="ppaction://hlinksldjump"/>
              </a:rPr>
              <a:t>Metric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5800" y="1271160"/>
            <a:ext cx="7729560" cy="4575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ity of ont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22120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h, breath, # classes/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ont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ume of instanc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ag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/mer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trieval precision/rec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Metrics: How well do the analy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 enemy’s elements of national power system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ffects that will influence decision mak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how to effect what the enemy values most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Key DAML Experiment Goal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920" y="1495080"/>
            <a:ext cx="6715440" cy="3876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Provide focus and context for integration and demonstration of DAML technolog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Identify and measure relevant metr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Stress DAML technolo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Provide feedback to researchers</a:t>
            </a:r>
            <a:br>
              <a:rPr sz="1800"/>
            </a:b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real-world scale prototype application that demonstrates the potential of semantic web technologies to meet key military nee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Support future transition eff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Experiment Problem Space = ONA / EBO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6000" y="1226880"/>
            <a:ext cx="7729560" cy="344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Net Assessmen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 . a continuous and collaborative process that provides a coherent knowledge base about ourselves, the adversary, how the adversary views us, and the environment.”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-Based Operation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 . focuses on obtaining a desired strategic objective by producing effects through the application of the full range of military and non-military capabilities”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361120"/>
            <a:ext cx="8364240" cy="888840"/>
          </a:xfrm>
          <a:prstGeom prst="roundRect">
            <a:avLst>
              <a:gd name="adj" fmla="val 16667"/>
            </a:avLst>
          </a:prstGeom>
          <a:solidFill>
            <a:srgbClr val="b1cff1"/>
          </a:solidFill>
          <a:ln w="1260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is a key characteristic of future joint op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 critical attribute for rapid decisive operation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38360" y="330120"/>
            <a:ext cx="587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702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bdeb"/>
                </a:solidFill>
                <a:latin typeface="Times New Roman"/>
              </a:rPr>
              <a:t>ONA/EBO Business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 rot="10800000">
            <a:off x="977400" y="990000"/>
            <a:ext cx="7682760" cy="518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74" y="21"/>
                </a:moveTo>
                <a:arcTo wR="10800" hR="10800" stAng="-5185281" swAng="5185281"/>
                <a:lnTo>
                  <a:pt x="10800" y="10800"/>
                </a:lnTo>
                <a:close/>
              </a:path>
              <a:path fill="none" w="21600" h="21600">
                <a:moveTo>
                  <a:pt x="11474" y="21"/>
                </a:moveTo>
                <a:arcTo wR="10800" hR="10800" stAng="-5185281" swAng="5185281"/>
              </a:path>
            </a:pathLst>
          </a:custGeom>
          <a:noFill/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 rot="10800000">
            <a:off x="533880" y="969480"/>
            <a:ext cx="8276760" cy="52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8" y="104"/>
                </a:moveTo>
                <a:arcTo wR="10800" hR="10800" stAng="-4921626" swAng="4921626"/>
                <a:lnTo>
                  <a:pt x="10800" y="10800"/>
                </a:lnTo>
                <a:close/>
              </a:path>
              <a:path fill="none" w="21600" h="21600">
                <a:moveTo>
                  <a:pt x="12298" y="104"/>
                </a:moveTo>
                <a:arcTo wR="10800" hR="10800" stAng="-4921626" swAng="4921626"/>
              </a:path>
            </a:pathLst>
          </a:custGeom>
          <a:noFill/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10800000">
            <a:off x="545400" y="1065960"/>
            <a:ext cx="8127720" cy="54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79" y="21"/>
                </a:moveTo>
                <a:arcTo wR="10800" hR="10800" stAng="-5183802" swAng="5183802"/>
                <a:lnTo>
                  <a:pt x="10800" y="10800"/>
                </a:lnTo>
                <a:close/>
              </a:path>
              <a:path fill="none" w="21600" h="21600">
                <a:moveTo>
                  <a:pt x="11479" y="21"/>
                </a:moveTo>
                <a:arcTo wR="10800" hR="10800" stAng="-5183802" swAng="5183802"/>
              </a:path>
            </a:pathLst>
          </a:custGeom>
          <a:noFill/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33520" y="1065600"/>
            <a:ext cx="8127720" cy="547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8" y="104"/>
                </a:moveTo>
                <a:arcTo wR="10800" hR="10800" stAng="-4921626" swAng="4921626"/>
                <a:lnTo>
                  <a:pt x="10800" y="10800"/>
                </a:lnTo>
                <a:close/>
              </a:path>
              <a:path fill="none" w="21600" h="21600">
                <a:moveTo>
                  <a:pt x="12298" y="104"/>
                </a:moveTo>
                <a:arcTo wR="10800" hR="10800" stAng="-4921626" swAng="4921626"/>
              </a:path>
            </a:pathLst>
          </a:custGeom>
          <a:noFill/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9880" y="762120"/>
            <a:ext cx="1108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 Black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83000" y="1000080"/>
            <a:ext cx="2376360" cy="1256400"/>
            <a:chOff x="3483000" y="1000080"/>
            <a:chExt cx="2376360" cy="1256400"/>
          </a:xfrm>
        </p:grpSpPr>
        <p:sp>
          <p:nvSpPr>
            <p:cNvPr id="109" name=""/>
            <p:cNvSpPr/>
            <p:nvPr/>
          </p:nvSpPr>
          <p:spPr>
            <a:xfrm>
              <a:off x="3932280" y="1665360"/>
              <a:ext cx="1477800" cy="5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Destroy Bridge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Seize Assets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Neutralize C2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483000" y="1000080"/>
              <a:ext cx="2376360" cy="689040"/>
              <a:chOff x="3483000" y="1000080"/>
              <a:chExt cx="2376360" cy="689040"/>
            </a:xfrm>
          </p:grpSpPr>
          <p:sp>
            <p:nvSpPr>
              <p:cNvPr id="111" name=""/>
              <p:cNvSpPr/>
              <p:nvPr/>
            </p:nvSpPr>
            <p:spPr>
              <a:xfrm>
                <a:off x="3489480" y="1000080"/>
                <a:ext cx="2363760" cy="689040"/>
              </a:xfrm>
              <a:prstGeom prst="roundRect">
                <a:avLst>
                  <a:gd name="adj" fmla="val 16667"/>
                </a:avLst>
              </a:prstGeom>
              <a:solidFill>
                <a:srgbClr val="b1cf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87720" y="1012680"/>
                <a:ext cx="13939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Develop Op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65120" y="1419120"/>
                <a:ext cx="1230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f0000"/>
                    </a:solidFill>
                    <a:latin typeface="Arial"/>
                  </a:rPr>
                  <a:t>Potential Op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0800000">
                <a:off x="3785040" y="1222920"/>
                <a:ext cx="58968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83000" y="1246320"/>
                <a:ext cx="1389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nemy Vulnerabil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62200" y="1246320"/>
                <a:ext cx="2217960" cy="36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16320" y="1246320"/>
                <a:ext cx="743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S Goal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967640" y="1221840"/>
                <a:ext cx="58968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6370560" y="6095880"/>
            <a:ext cx="2286000" cy="5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Neutralize C2 – TLAM2-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Destroy Bridge – F-15E/GB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217200" y="5403960"/>
            <a:ext cx="2374560" cy="703080"/>
            <a:chOff x="6217200" y="5403960"/>
            <a:chExt cx="2374560" cy="703080"/>
          </a:xfrm>
        </p:grpSpPr>
        <p:sp>
          <p:nvSpPr>
            <p:cNvPr id="121" name=""/>
            <p:cNvSpPr/>
            <p:nvPr/>
          </p:nvSpPr>
          <p:spPr>
            <a:xfrm>
              <a:off x="6222960" y="5403960"/>
              <a:ext cx="2363760" cy="703080"/>
            </a:xfrm>
            <a:prstGeom prst="roundRect">
              <a:avLst>
                <a:gd name="adj" fmla="val 16667"/>
              </a:avLst>
            </a:prstGeom>
            <a:solidFill>
              <a:srgbClr val="b1cf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98920" y="5418000"/>
              <a:ext cx="22928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arget Planning/Eng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7200" y="5629320"/>
              <a:ext cx="142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ortioned Targ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5840" y="5826240"/>
              <a:ext cx="110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0000"/>
                  </a:solidFill>
                  <a:latin typeface="Arial"/>
                </a:rPr>
                <a:t>Task Exec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6594840" y="5626440"/>
              <a:ext cx="58968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62680" y="5629320"/>
              <a:ext cx="82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628400" y="5625360"/>
              <a:ext cx="58968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96040" y="5626080"/>
              <a:ext cx="2217600" cy="40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049640" y="6375240"/>
            <a:ext cx="110808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 Black"/>
              </a:rPr>
              <a:t>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33520" y="5416560"/>
            <a:ext cx="3394080" cy="1116000"/>
            <a:chOff x="533520" y="5416560"/>
            <a:chExt cx="3394080" cy="1116000"/>
          </a:xfrm>
        </p:grpSpPr>
        <p:sp>
          <p:nvSpPr>
            <p:cNvPr id="131" name=""/>
            <p:cNvSpPr/>
            <p:nvPr/>
          </p:nvSpPr>
          <p:spPr>
            <a:xfrm>
              <a:off x="533520" y="6108840"/>
              <a:ext cx="339408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C2 Neutralized: 2 weeks to repai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Minor Bridge Damage: Operational, Re-strik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03720" y="5416560"/>
              <a:ext cx="2373840" cy="703080"/>
              <a:chOff x="603720" y="5416560"/>
              <a:chExt cx="2373840" cy="703080"/>
            </a:xfrm>
          </p:grpSpPr>
          <p:sp>
            <p:nvSpPr>
              <p:cNvPr id="133" name=""/>
              <p:cNvSpPr/>
              <p:nvPr/>
            </p:nvSpPr>
            <p:spPr>
              <a:xfrm>
                <a:off x="606600" y="5416560"/>
                <a:ext cx="2365200" cy="703080"/>
              </a:xfrm>
              <a:prstGeom prst="roundRect">
                <a:avLst>
                  <a:gd name="adj" fmla="val 16667"/>
                </a:avLst>
              </a:prstGeom>
              <a:solidFill>
                <a:srgbClr val="b1cf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040" y="5637240"/>
                <a:ext cx="1108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ask Execu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57320" y="5834160"/>
                <a:ext cx="148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f0000"/>
                    </a:solidFill>
                    <a:latin typeface="Arial"/>
                  </a:rPr>
                  <a:t>Updated Value/Statu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0800000">
                <a:off x="829080" y="5637600"/>
                <a:ext cx="58968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48160" y="5637240"/>
                <a:ext cx="1229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Observation/B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2158920" y="5636520"/>
                <a:ext cx="59040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1120" y="5637240"/>
                <a:ext cx="2216160" cy="407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3720" y="5427720"/>
                <a:ext cx="23724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Assess Damage/Target Stat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3267000" y="2398680"/>
            <a:ext cx="745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22960" y="2325600"/>
            <a:ext cx="745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67480" y="1512720"/>
            <a:ext cx="2913120" cy="1256400"/>
            <a:chOff x="267480" y="1512720"/>
            <a:chExt cx="2913120" cy="1256400"/>
          </a:xfrm>
        </p:grpSpPr>
        <p:sp>
          <p:nvSpPr>
            <p:cNvPr id="144" name=""/>
            <p:cNvSpPr/>
            <p:nvPr/>
          </p:nvSpPr>
          <p:spPr>
            <a:xfrm>
              <a:off x="681120" y="2178000"/>
              <a:ext cx="2068560" cy="59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Political Alliances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Financial Assets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Mobile Launch Systems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67480" y="1512720"/>
              <a:ext cx="2913120" cy="689040"/>
              <a:chOff x="267480" y="1512720"/>
              <a:chExt cx="2913120" cy="689040"/>
            </a:xfrm>
          </p:grpSpPr>
          <p:sp>
            <p:nvSpPr>
              <p:cNvPr id="146" name=""/>
              <p:cNvSpPr/>
              <p:nvPr/>
            </p:nvSpPr>
            <p:spPr>
              <a:xfrm>
                <a:off x="369720" y="1512720"/>
                <a:ext cx="2733840" cy="689040"/>
              </a:xfrm>
              <a:prstGeom prst="roundRect">
                <a:avLst>
                  <a:gd name="adj" fmla="val 16667"/>
                </a:avLst>
              </a:prstGeom>
              <a:solidFill>
                <a:srgbClr val="b1cf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7480" y="1525680"/>
                <a:ext cx="29131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Identify/Weigh Enemy National Pow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1040" y="1758960"/>
                <a:ext cx="1122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alue to Enem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61560" y="1932120"/>
                <a:ext cx="1494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f0000"/>
                    </a:solidFill>
                    <a:latin typeface="Arial"/>
                  </a:rPr>
                  <a:t>Enemy Vulnerabili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0800000">
                <a:off x="740160" y="1735560"/>
                <a:ext cx="58968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2880" y="1758960"/>
                <a:ext cx="124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ources of Pow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070000" y="1734480"/>
                <a:ext cx="59040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2200" y="1758960"/>
                <a:ext cx="2216160" cy="36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1420920" y="847800"/>
            <a:ext cx="171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NCs/Services/Ag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43400" y="847800"/>
            <a:ext cx="84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NC/CJT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82520" y="4319640"/>
            <a:ext cx="130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JTF/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2920" y="431964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l Sources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TF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40640" y="4836960"/>
            <a:ext cx="7308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575040" y="1585800"/>
            <a:ext cx="2438640" cy="1276920"/>
            <a:chOff x="6575040" y="1585800"/>
            <a:chExt cx="2438640" cy="1276920"/>
          </a:xfrm>
        </p:grpSpPr>
        <p:sp>
          <p:nvSpPr>
            <p:cNvPr id="160" name=""/>
            <p:cNvSpPr/>
            <p:nvPr/>
          </p:nvSpPr>
          <p:spPr>
            <a:xfrm>
              <a:off x="6813720" y="2271600"/>
              <a:ext cx="2199960" cy="59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Neutralize C2 - (Info &amp; Do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Destroy Bridge - (Do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741240"/>
                  <a:tab algn="l" pos="1482840"/>
                  <a:tab algn="l" pos="2224080"/>
                  <a:tab algn="l" pos="2965320"/>
                  <a:tab algn="l" pos="3706920"/>
                  <a:tab algn="l" pos="4448160"/>
                  <a:tab algn="l" pos="5189400"/>
                  <a:tab algn="l" pos="5931000"/>
                  <a:tab algn="l" pos="6672240"/>
                  <a:tab algn="l" pos="7413480"/>
                  <a:tab algn="l" pos="8155080"/>
                  <a:tab algn="l" pos="8896320"/>
                  <a:tab algn="l" pos="9637560"/>
                  <a:tab algn="l" pos="1037916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Seize Assets - (Commerc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575040" y="1585800"/>
              <a:ext cx="2398680" cy="714600"/>
              <a:chOff x="6575040" y="1585800"/>
              <a:chExt cx="2398680" cy="714600"/>
            </a:xfrm>
          </p:grpSpPr>
          <p:sp>
            <p:nvSpPr>
              <p:cNvPr id="162" name=""/>
              <p:cNvSpPr/>
              <p:nvPr/>
            </p:nvSpPr>
            <p:spPr>
              <a:xfrm>
                <a:off x="6591240" y="1585800"/>
                <a:ext cx="23637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b1cf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99240" y="1598760"/>
                <a:ext cx="21985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Prioritize/Apportion Targ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71120" y="2004840"/>
                <a:ext cx="1427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f0000"/>
                    </a:solidFill>
                    <a:latin typeface="Arial"/>
                  </a:rPr>
                  <a:t>Apportioned Targe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72480" y="1808280"/>
                <a:ext cx="1101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US Capabili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8142480" y="1807560"/>
                <a:ext cx="59328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64320" y="1808280"/>
                <a:ext cx="2217600" cy="417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75040" y="1808280"/>
                <a:ext cx="1230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otential Op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6814080" y="1808640"/>
                <a:ext cx="59256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1714680" y="2246400"/>
            <a:ext cx="5762520" cy="3324240"/>
            <a:chOff x="1714680" y="2246400"/>
            <a:chExt cx="5762520" cy="3324240"/>
          </a:xfrm>
        </p:grpSpPr>
        <p:sp>
          <p:nvSpPr>
            <p:cNvPr id="171" name="Cloud"/>
            <p:cNvSpPr/>
            <p:nvPr/>
          </p:nvSpPr>
          <p:spPr>
            <a:xfrm>
              <a:off x="1714680" y="2246400"/>
              <a:ext cx="5762520" cy="3324240"/>
            </a:xfrm>
            <a:prstGeom prst="ellipse">
              <a:avLst/>
            </a:prstGeom>
            <a:solidFill>
              <a:srgbClr val="ffba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19400" y="2620800"/>
              <a:ext cx="3197160" cy="314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32000" y="3581280"/>
              <a:ext cx="1847880" cy="1478160"/>
              <a:chOff x="2232000" y="3581280"/>
              <a:chExt cx="1847880" cy="1478160"/>
            </a:xfrm>
          </p:grpSpPr>
          <p:sp>
            <p:nvSpPr>
              <p:cNvPr id="174" name="Cloud"/>
              <p:cNvSpPr/>
              <p:nvPr/>
            </p:nvSpPr>
            <p:spPr>
              <a:xfrm>
                <a:off x="2232000" y="3581280"/>
                <a:ext cx="1847880" cy="1478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06320" y="3765960"/>
                <a:ext cx="14698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79c82"/>
                    </a:solidFill>
                    <a:latin typeface="Arial"/>
                  </a:rPr>
                  <a:t>Enemy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79c82"/>
                    </a:solidFill>
                    <a:latin typeface="Arial"/>
                  </a:rPr>
                  <a:t>of National Pow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73720" y="4062960"/>
                <a:ext cx="1036080" cy="8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Politic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Inform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Militar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187960" y="3728880"/>
              <a:ext cx="1995480" cy="1256040"/>
              <a:chOff x="5187960" y="3728880"/>
              <a:chExt cx="1995480" cy="12560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187960" y="3728880"/>
                <a:ext cx="1995480" cy="1256040"/>
                <a:chOff x="5187960" y="3728880"/>
                <a:chExt cx="1995480" cy="1256040"/>
              </a:xfrm>
            </p:grpSpPr>
            <p:sp>
              <p:nvSpPr>
                <p:cNvPr id="179" name="Cloud"/>
                <p:cNvSpPr/>
                <p:nvPr/>
              </p:nvSpPr>
              <p:spPr>
                <a:xfrm>
                  <a:off x="5187960" y="3728880"/>
                  <a:ext cx="1995480" cy="12560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689800" y="3876840"/>
                  <a:ext cx="1038600" cy="3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179c82"/>
                      </a:solidFill>
                      <a:latin typeface="Arial"/>
                    </a:rPr>
                    <a:t>Friendl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179c82"/>
                      </a:solidFill>
                      <a:latin typeface="Arial"/>
                    </a:rPr>
                    <a:t>Capabiliti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5777640" y="4196880"/>
                <a:ext cx="1036080" cy="6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Diplomati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Inform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Militar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932280" y="2990880"/>
              <a:ext cx="1625400" cy="960480"/>
              <a:chOff x="3932280" y="2990880"/>
              <a:chExt cx="1625400" cy="960480"/>
            </a:xfrm>
          </p:grpSpPr>
          <p:sp>
            <p:nvSpPr>
              <p:cNvPr id="183" name="Cloud"/>
              <p:cNvSpPr/>
              <p:nvPr/>
            </p:nvSpPr>
            <p:spPr>
              <a:xfrm>
                <a:off x="3932280" y="2990880"/>
                <a:ext cx="1625400" cy="960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58280" y="3236760"/>
                <a:ext cx="14227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79c82"/>
                    </a:solidFill>
                    <a:latin typeface="Arial"/>
                  </a:rPr>
                  <a:t>Goals/Objectiv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75080" y="3397320"/>
                <a:ext cx="88740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Secure…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Defeat…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741240"/>
                    <a:tab algn="l" pos="1482840"/>
                    <a:tab algn="l" pos="2224080"/>
                    <a:tab algn="l" pos="2965320"/>
                    <a:tab algn="l" pos="3706920"/>
                    <a:tab algn="l" pos="4448160"/>
                    <a:tab algn="l" pos="5189400"/>
                    <a:tab algn="l" pos="5931000"/>
                    <a:tab algn="l" pos="6672240"/>
                    <a:tab algn="l" pos="7413480"/>
                    <a:tab algn="l" pos="8155080"/>
                    <a:tab algn="l" pos="8896320"/>
                    <a:tab algn="l" pos="9637560"/>
                    <a:tab algn="l" pos="1037916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Engage…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3348720" y="502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sonat.daml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14:28:04Z</dcterms:created>
  <dc:creator/>
  <dc:description/>
  <dc:language>en-US</dc:language>
  <cp:lastModifiedBy>Cola Atkinson</cp:lastModifiedBy>
  <dcterms:modified xsi:type="dcterms:W3CDTF">2003-05-07T17:57:52Z</dcterms:modified>
  <cp:revision>143</cp:revision>
  <dc:subject/>
  <dc:title>PowerPoint Presentation</dc:title>
</cp:coreProperties>
</file>