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13280" y="4140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15C-7E02-4087-9AAC-C92B4E2C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63360" y="-22860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ger L. Costello, David B. Jacob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2003 The MITRE Corpor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53480" y="133200"/>
            <a:ext cx="7556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wo Minute Intro to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8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B. Jac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creation of this tutorial was sponsored by D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is XML snippet talking about, i.e., what are the seman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3240" y="3456000"/>
            <a:ext cx="21344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edato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edato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1240" y="2786040"/>
            <a:ext cx="37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Predat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ator - which 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: a medium-altitude, long-endurance unmanned aerial vehic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 : one that victimizes, plunders, or destroys, especially for one's own 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 : an organism that lives by preying on other org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: a company which specializes in camouflage att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: a video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: software for machine networ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ator: a chain of paintball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ving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few slides presents an approach that applications can take for understanding the meaning of data.  This approach is often taken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then examine the disadvantages of the approach, and then offer a better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appl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per-application b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320" y="4591080"/>
            <a:ext cx="21344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redato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Predato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2040" y="5010120"/>
            <a:ext cx="199260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57360" y="5291280"/>
            <a:ext cx="9954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3200" y="2488320"/>
            <a:ext cx="3608640" cy="2174760"/>
          </a:xfrm>
          <a:prstGeom prst="wedgeRoundRectCallout">
            <a:avLst>
              <a:gd name="adj1" fmla="val -43388"/>
              <a:gd name="adj2" fmla="val 7017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 Predator is typ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cr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These actions must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ed on the Predator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ground control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termine onboard sens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termine ordn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3640" y="3171960"/>
            <a:ext cx="36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(semantics) appl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per-application b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9600" y="2498760"/>
            <a:ext cx="1197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90000" y="4251240"/>
            <a:ext cx="1972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nterpret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4589640"/>
            <a:ext cx="19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126040"/>
            <a:ext cx="19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57320" y="3146400"/>
            <a:ext cx="1052280" cy="109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9400" y="3146400"/>
            <a:ext cx="129852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7120" y="4260960"/>
            <a:ext cx="1972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nterpret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1880" y="4599000"/>
            <a:ext cx="19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1880" y="5135400"/>
            <a:ext cx="19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with attaching semantics on a per-application b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26360" y="1893960"/>
            <a:ext cx="1972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nterpret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2232000"/>
            <a:ext cx="19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1480" y="2768760"/>
            <a:ext cx="19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7840" y="2247840"/>
            <a:ext cx="74880" cy="519120"/>
          </a:xfrm>
          <a:custGeom>
            <a:avLst/>
            <a:gdLst>
              <a:gd name="textAreaLeft" fmla="*/ 0 w 74880"/>
              <a:gd name="textAreaRight" fmla="*/ 27000 w 74880"/>
              <a:gd name="textAreaTop" fmla="*/ 13320 h 519120"/>
              <a:gd name="textAreaBottom" fmla="*/ 50580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19200" y="2298600"/>
            <a:ext cx="586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 with burying semantic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each appl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plicate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ach application must express the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bility of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ach application can take its own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xample: Mars probe disaster - on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reted the data in inches, another 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reted the data in centime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ad-hoc discovery and explo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pplications have the semantics pre-wired.  Th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new data (e.g., new type of aircraft) is encou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pplication may not be able to effectively process i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akes for brittle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35760" y="6093000"/>
            <a:ext cx="595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a better approa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ter approach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Extricate semantic definitions from applic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Express semantic definitions in a standard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25640" y="2313000"/>
            <a:ext cx="1197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7840" y="4065480"/>
            <a:ext cx="1727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90800" y="4397400"/>
            <a:ext cx="170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28600" y="2960640"/>
            <a:ext cx="1066680" cy="11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5080" y="2960640"/>
            <a:ext cx="129852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44960" y="4075200"/>
            <a:ext cx="1727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d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th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7920" y="4421160"/>
            <a:ext cx="170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70440" y="6012000"/>
            <a:ext cx="21711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WL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87720" y="6335640"/>
            <a:ext cx="216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4994280"/>
            <a:ext cx="995400" cy="10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17800" y="4994280"/>
            <a:ext cx="1068120" cy="10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400" y="1252440"/>
            <a:ext cx="8443440" cy="544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se that an application is looking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formation, and encount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d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 the steps the application takes to process the 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Parse the data (this is a syntax issu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Determine the relationship betwe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d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his is a semantic issue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where the following relationship must be made know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.1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d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 type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this information is made known to the application it can then do the following (action) ste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 If the document co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then d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do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s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uld the semantic definition (2.1) b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hardcoded and buried within each applic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, should it b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claratively stated in a separate document, using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eed-upon, well-defined vocabulary (i.e., OWL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4560" y="6219720"/>
            <a:ext cx="87120" cy="447840"/>
          </a:xfrm>
          <a:custGeom>
            <a:avLst/>
            <a:gdLst>
              <a:gd name="textAreaLeft" fmla="*/ 0 w 87120"/>
              <a:gd name="textAreaRight" fmla="*/ 31320 w 87120"/>
              <a:gd name="textAreaTop" fmla="*/ 11520 h 447840"/>
              <a:gd name="textAreaBottom" fmla="*/ 43632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8200" y="62420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WL provides an agreed-upon vocabulary for expressing 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" y="1951200"/>
            <a:ext cx="46897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ampling of the OWL Vocabu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280" y="2484360"/>
            <a:ext cx="821124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Class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is OWL element is used to assert that one cl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tems is a subset of another class of i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d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Class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alProper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is OWL element is used to assert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perty has a uniqu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nso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alProper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nso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uniqu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ivalent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is OWL element is used to assert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is equivalent to another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tfor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quivalent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irc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WL Enables Machines to Understand Dat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06760" y="3797280"/>
            <a:ext cx="2062080" cy="90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/DTD/XML 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94280" y="29005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2000" y="3811680"/>
            <a:ext cx="199800" cy="876240"/>
          </a:xfrm>
          <a:custGeom>
            <a:avLst/>
            <a:gdLst>
              <a:gd name="textAreaLeft" fmla="*/ 0 w 199800"/>
              <a:gd name="textAreaRight" fmla="*/ 72000 w 19980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4560" y="4014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4760" y="2535120"/>
            <a:ext cx="266760" cy="1219320"/>
          </a:xfrm>
          <a:custGeom>
            <a:avLst/>
            <a:gdLst>
              <a:gd name="textAreaLeft" fmla="*/ 0 w 266760"/>
              <a:gd name="textAreaRight" fmla="*/ 96120 w 266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4960" y="2871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7200" y="5122800"/>
            <a:ext cx="68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WL enables machine-processable seman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11440" y="2554200"/>
            <a:ext cx="2063880" cy="12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is an Acron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ing for: 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y (defini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ntology is the collection of semantic definitions for a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n Aircraft Ontology is the set of semantic definitions for the Aircraft domain, 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d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Class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cr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so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al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t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quivalent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ircra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o application develop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ode to write (save $$$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hance of misinterpretation (save $$$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o community at lar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can understand each other's data's semantics, since they are in a common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 uses the XML syntax to express semantics, i.e., it builds on an existing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't have to learn new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XML tools (e.g., parsers) can work o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 will soon be a W3C recommen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15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B. Jac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creation of this tutorial was sponsored by D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of the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9800" y="2749680"/>
            <a:ext cx="477576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xfront.com/ow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4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out of the OWL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7080" y="915840"/>
            <a:ext cx="50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-use-OWL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L-quick-intro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-of-OWL-Capabilitie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ME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obberAndTheSpeeder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8760" y="2500920"/>
            <a:ext cx="2829960" cy="642600"/>
          </a:xfrm>
          <a:prstGeom prst="wedgeRectCallout">
            <a:avLst>
              <a:gd name="adj1" fmla="val -53574"/>
              <a:gd name="adj2" fmla="val 19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owerpoint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s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WL Tuto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04400" y="2243880"/>
            <a:ext cx="2500560" cy="642600"/>
          </a:xfrm>
          <a:prstGeom prst="wedgeRectCallout">
            <a:avLst>
              <a:gd name="adj1" fmla="val -123467"/>
              <a:gd name="adj2" fmla="val 2848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recommend that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this docu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7720" y="4287240"/>
            <a:ext cx="2461320" cy="1191600"/>
          </a:xfrm>
          <a:prstGeom prst="wedgeRectCallout">
            <a:avLst>
              <a:gd name="adj1" fmla="val -80592"/>
              <a:gd name="adj2" fmla="val 2501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"cheat sheet"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s (briefly) al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WL cap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this docu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240" y="1015920"/>
            <a:ext cx="0" cy="574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240" y="9748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160" y="675972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2560" y="1219680"/>
            <a:ext cx="4093200" cy="368640"/>
          </a:xfrm>
          <a:prstGeom prst="wedgeRectCallout">
            <a:avLst>
              <a:gd name="adj1" fmla="val -49888"/>
              <a:gd name="adj2" fmla="val 1190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allyOccurringWaterSource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1160" y="1823040"/>
            <a:ext cx="1816200" cy="368640"/>
          </a:xfrm>
          <a:prstGeom prst="wedgeRectCallout">
            <a:avLst>
              <a:gd name="adj1" fmla="val -93222"/>
              <a:gd name="adj2" fmla="val 6043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era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73840" y="3377160"/>
            <a:ext cx="2701440" cy="642600"/>
          </a:xfrm>
          <a:prstGeom prst="wedgeRectCallout">
            <a:avLst>
              <a:gd name="adj1" fmla="val -124736"/>
              <a:gd name="adj2" fmla="val 15912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recommend that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this docu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4440" y="6148440"/>
            <a:ext cx="190440" cy="709560"/>
          </a:xfrm>
          <a:custGeom>
            <a:avLst/>
            <a:gdLst>
              <a:gd name="textAreaLeft" fmla="*/ 0 w 190440"/>
              <a:gd name="textAreaRight" fmla="*/ 68760 w 19044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960" y="63151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examples using OW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hanks to Joe Rockmore for his excellent insight and input into the creation of this document.  Thanks Jo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47760" y="2860560"/>
            <a:ext cx="4435560" cy="386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have data …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should you structure i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0600" y="3821040"/>
            <a:ext cx="36432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-altitude, long-endu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manned aerial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4880" y="4762440"/>
            <a:ext cx="1370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7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8240" y="5232240"/>
            <a:ext cx="1648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2 kil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1440" y="5424480"/>
            <a:ext cx="1054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 kn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12720" y="2306520"/>
            <a:ext cx="58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's some data about an aircraf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7840" y="5965920"/>
            <a:ext cx="20476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nautical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XML approach is to "wrap" each data item in start/end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1320" y="1881360"/>
            <a:ext cx="8117640" cy="435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Aircraf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ingspan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8 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wingspa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weight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2 kil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weigh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ruise-speed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 kn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cruise-spee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400 nautical m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rang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descrip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um-altitude, long-endurance un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rial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descrip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Aircraf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4080" y="615960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Q-1.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81080" y="221616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wingspan&gt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8 met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/wingspan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01960" y="288612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9640" y="370512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097760" y="28951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35800" y="371484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65560" y="2857680"/>
            <a:ext cx="0" cy="16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33280" y="4514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283280" y="2310480"/>
            <a:ext cx="341280" cy="5886360"/>
          </a:xfrm>
          <a:custGeom>
            <a:avLst/>
            <a:gdLst>
              <a:gd name="textAreaLeft" fmla="*/ 0 w 341280"/>
              <a:gd name="textAreaRight" fmla="*/ 123120 w 341280"/>
              <a:gd name="textAreaTop" fmla="*/ 153360 h 5886360"/>
              <a:gd name="textAreaBottom" fmla="*/ 5733000 h 588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30840" y="551016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universally accepted standard way of structuring data (synta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W3C recommendation (W3C = World Wide Web Consort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place supports it with a lot of free/inexpensive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ternative to using XML is to define your own proprietary data syntax, and then build your own proprietary tools to support the proprietary syntax (Not a very appealing ide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15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B. Jac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 creation of this tutorial was sponsored by D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OW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this document is to describe the role that OWL plays in data interoperability. [Note: this is not the only use of OWL, but it is an important one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Syntax versus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that shows why standardizing syntax is necessary but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ng from defining semantics on a per-application basis to standardize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 versus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95400"/>
            <a:ext cx="7772400" cy="30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the structure of you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XML mandates that you structure your data by "wrapping" each data item within a start tag and an end tag pair, with the end tag being preceded by / and both tags in &lt;…&gt; bracket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XML specifies the syntax of your data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s: the meaning of you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ditions necessary for interoper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81960" y="4549680"/>
            <a:ext cx="73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dopt a common syntax:this enables application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provides a common syntax, and thus is a critical first step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dopt a means for understanding the semantics: this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data. OWL provides a standard w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ng the semantic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11:43:42Z</dcterms:created>
  <dc:creator>Roger L. Costello</dc:creator>
  <dc:description/>
  <dc:language>en-US</dc:language>
  <cp:lastModifiedBy>Roger Costello</cp:lastModifiedBy>
  <cp:lastPrinted>2003-03-24T22:08:54Z</cp:lastPrinted>
  <dcterms:modified xsi:type="dcterms:W3CDTF">2003-05-12T20:15:54Z</dcterms:modified>
  <cp:revision>1961</cp:revision>
  <dc:subject/>
  <dc:title>Resource Description Framework  (RDF)</dc:title>
</cp:coreProperties>
</file>