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58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958920" y="-360"/>
            <a:ext cx="30258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90520" y="690480"/>
            <a:ext cx="4608720" cy="34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31680" y="4376880"/>
            <a:ext cx="5121000" cy="4224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829360"/>
            <a:ext cx="30258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958920" y="8829360"/>
            <a:ext cx="30258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61DEF35-486A-4E29-A839-0C03483C3952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931680" y="4404960"/>
            <a:ext cx="5121000" cy="4172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- Check the web sites?  Are they still goo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L adds an additional kind of markup consistent with XM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llows us to formally define what the XML tags mean and how they interrelate.  In a way that computer software can process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ther more we can hyperlink these definitions as well as use deductive inference to bridge betgween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tologies allow us to define the basic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ule language enables us to use this terminology to perform deductive inte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have a logic we can exchange proo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roofs we can have t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5840" y="193320"/>
            <a:ext cx="66974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34680" y="1218960"/>
            <a:ext cx="7899480" cy="24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444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34680" y="3921120"/>
            <a:ext cx="7899480" cy="24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444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5840" y="193320"/>
            <a:ext cx="66974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4680" y="1218960"/>
            <a:ext cx="3854880" cy="24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444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2520" y="1218960"/>
            <a:ext cx="3854880" cy="24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444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34680" y="3921120"/>
            <a:ext cx="3854880" cy="24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444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2520" y="3921120"/>
            <a:ext cx="3854880" cy="24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444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5840" y="193320"/>
            <a:ext cx="66974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34680" y="1218960"/>
            <a:ext cx="2543400" cy="24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444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05520" y="1218960"/>
            <a:ext cx="2543400" cy="24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444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76720" y="1218960"/>
            <a:ext cx="2543400" cy="24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444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34680" y="3921120"/>
            <a:ext cx="2543400" cy="24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444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05520" y="3921120"/>
            <a:ext cx="2543400" cy="24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444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76720" y="3921120"/>
            <a:ext cx="2543400" cy="24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444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85840" y="193320"/>
            <a:ext cx="66974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34680" y="1218960"/>
            <a:ext cx="7899480" cy="51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5840" y="193320"/>
            <a:ext cx="66974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34680" y="1218960"/>
            <a:ext cx="7899480" cy="517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444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5840" y="193320"/>
            <a:ext cx="66974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34680" y="1218960"/>
            <a:ext cx="3854880" cy="517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444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2520" y="1218960"/>
            <a:ext cx="3854880" cy="517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444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5840" y="193320"/>
            <a:ext cx="66974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85840" y="193320"/>
            <a:ext cx="6697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5840" y="193320"/>
            <a:ext cx="66974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34680" y="1218960"/>
            <a:ext cx="3854880" cy="24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444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2520" y="1218960"/>
            <a:ext cx="3854880" cy="517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444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34680" y="3921120"/>
            <a:ext cx="3854880" cy="24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444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5840" y="193320"/>
            <a:ext cx="66974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34680" y="1218960"/>
            <a:ext cx="3854880" cy="517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444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2520" y="1218960"/>
            <a:ext cx="3854880" cy="24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444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2520" y="3921120"/>
            <a:ext cx="3854880" cy="24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444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5840" y="193320"/>
            <a:ext cx="66974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34680" y="1218960"/>
            <a:ext cx="3854880" cy="24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444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2520" y="1218960"/>
            <a:ext cx="3854880" cy="24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444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34680" y="3921120"/>
            <a:ext cx="7899480" cy="24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444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34680" y="1218960"/>
            <a:ext cx="7899480" cy="517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44440" indent="0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44440" indent="-244440">
              <a:lnSpc>
                <a:spcPct val="85000"/>
              </a:lnSpc>
              <a:spcBef>
                <a:spcPts val="901"/>
              </a:spcBef>
              <a:buClr>
                <a:srgbClr val="008000"/>
              </a:buClr>
              <a:buSzPct val="85000"/>
              <a:buFont typeface="Webdings" charset="2"/>
              <a:buChar char="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44440" indent="-2444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44440" indent="-2444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ebdings" charset="2"/>
              <a:buChar char="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44440" indent="-244440">
              <a:lnSpc>
                <a:spcPct val="85000"/>
              </a:lnSpc>
              <a:spcBef>
                <a:spcPts val="901"/>
              </a:spcBef>
              <a:buClr>
                <a:srgbClr val="790015"/>
              </a:buClr>
              <a:buFont typeface="Webding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44440" indent="-2444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44440" indent="-2444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85840" y="193320"/>
            <a:ext cx="66974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7102440" y="152280"/>
            <a:ext cx="673200" cy="33192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7950240" y="274680"/>
            <a:ext cx="1112760" cy="479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daml.org/meetings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90520"/>
            <a:ext cx="7772400" cy="81972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mantic Web for the Military User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y 7-8, 200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635280"/>
            <a:ext cx="6400800" cy="990720"/>
          </a:xfrm>
          <a:prstGeom prst="rect">
            <a:avLst/>
          </a:prstGeom>
          <a:solidFill>
            <a:srgbClr val="009900"/>
          </a:solidFill>
          <a:ln w="0">
            <a:noFill/>
          </a:ln>
          <a:effectLst>
            <a:outerShdw dist="107932" dir="2700000" blurRad="0" rotWithShape="0">
              <a:srgbClr val="0099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Preparing the Military for the Rev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of the Semantic We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90760" y="5070600"/>
            <a:ext cx="436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urray Bur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ML Program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703) 696-2303, mburke@darpa.m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69920" y="1033560"/>
            <a:ext cx="1371600" cy="7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285840" y="193320"/>
            <a:ext cx="66974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WMU Agenda May 7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634680" y="1053720"/>
            <a:ext cx="8180280" cy="505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3220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00-19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220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cktails and Light Refreshmen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220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ed Early Adopter Demonst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3000" indent="-262080">
              <a:lnSpc>
                <a:spcPct val="95000"/>
              </a:lnSpc>
              <a:spcBef>
                <a:spcPts val="751"/>
              </a:spcBef>
              <a:buClr>
                <a:srgbClr val="008000"/>
              </a:buClr>
              <a:buSzPct val="8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alition Search and Resc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3000" indent="-262080">
              <a:lnSpc>
                <a:spcPct val="95000"/>
              </a:lnSpc>
              <a:spcBef>
                <a:spcPts val="751"/>
              </a:spcBef>
              <a:buClr>
                <a:srgbClr val="008000"/>
              </a:buClr>
              <a:buSzPct val="8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us (Intelink Management Offic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3000" indent="-262080">
              <a:lnSpc>
                <a:spcPct val="95000"/>
              </a:lnSpc>
              <a:spcBef>
                <a:spcPts val="751"/>
              </a:spcBef>
              <a:buClr>
                <a:srgbClr val="008000"/>
              </a:buClr>
              <a:buSzPct val="8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mantic Operational Net Assessment (SONA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3000" indent="-262080">
              <a:lnSpc>
                <a:spcPct val="95000"/>
              </a:lnSpc>
              <a:spcBef>
                <a:spcPts val="751"/>
              </a:spcBef>
              <a:buClr>
                <a:srgbClr val="008000"/>
              </a:buClr>
              <a:buSzPct val="8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C/Foreign Clearance Guidance and No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3000" indent="-262080">
              <a:lnSpc>
                <a:spcPct val="95000"/>
              </a:lnSpc>
              <a:spcBef>
                <a:spcPts val="751"/>
              </a:spcBef>
              <a:buClr>
                <a:srgbClr val="008000"/>
              </a:buClr>
              <a:buSzPct val="8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C/Airmen and Mariners (Airborne Mobility Comman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3000" indent="-262080">
              <a:lnSpc>
                <a:spcPct val="95000"/>
              </a:lnSpc>
              <a:spcBef>
                <a:spcPts val="751"/>
              </a:spcBef>
              <a:buClr>
                <a:srgbClr val="008000"/>
              </a:buClr>
              <a:buSzPct val="8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DSWAP To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3000" indent="-262080">
              <a:lnSpc>
                <a:spcPct val="95000"/>
              </a:lnSpc>
              <a:spcBef>
                <a:spcPts val="751"/>
              </a:spcBef>
              <a:buClr>
                <a:srgbClr val="008000"/>
              </a:buClr>
              <a:buSzPct val="8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otopics in DA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3000" indent="-262080">
              <a:lnSpc>
                <a:spcPct val="95000"/>
              </a:lnSpc>
              <a:spcBef>
                <a:spcPts val="751"/>
              </a:spcBef>
              <a:buClr>
                <a:srgbClr val="008000"/>
              </a:buClr>
              <a:buSzPct val="8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mantic Web Database Scala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3000" indent="-262080">
              <a:lnSpc>
                <a:spcPct val="95000"/>
              </a:lnSpc>
              <a:spcBef>
                <a:spcPts val="751"/>
              </a:spcBef>
              <a:buClr>
                <a:srgbClr val="008000"/>
              </a:buClr>
              <a:buSzPct val="8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mantic Sear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220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itional demonstrations may be arrang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3544200" y="6221520"/>
            <a:ext cx="23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OFFICIAL USE ON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285840" y="193320"/>
            <a:ext cx="66974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WMU Agenda May 8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634680" y="1218960"/>
            <a:ext cx="7899480" cy="517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4444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ailed DAML Tutori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276120">
              <a:lnSpc>
                <a:spcPct val="85000"/>
              </a:lnSpc>
              <a:spcBef>
                <a:spcPts val="1049"/>
              </a:spcBef>
              <a:buClr>
                <a:srgbClr val="008000"/>
              </a:buClr>
              <a:buSzPct val="8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: Ontologi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800-0930, 1300-143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276120">
              <a:lnSpc>
                <a:spcPct val="85000"/>
              </a:lnSpc>
              <a:spcBef>
                <a:spcPts val="1049"/>
              </a:spcBef>
              <a:buClr>
                <a:srgbClr val="008000"/>
              </a:buClr>
              <a:buSzPct val="8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: Tool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800-0930, 1300-143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276120">
              <a:lnSpc>
                <a:spcPct val="85000"/>
              </a:lnSpc>
              <a:spcBef>
                <a:spcPts val="1049"/>
              </a:spcBef>
              <a:buClr>
                <a:srgbClr val="008000"/>
              </a:buClr>
              <a:buSzPct val="8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: Servic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00-1130, 1500-163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276120">
              <a:lnSpc>
                <a:spcPct val="85000"/>
              </a:lnSpc>
              <a:spcBef>
                <a:spcPts val="1049"/>
              </a:spcBef>
              <a:buClr>
                <a:srgbClr val="008000"/>
              </a:buClr>
              <a:buSzPct val="8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: Languag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00-1130, 1500-163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"/>
          <p:cNvSpPr/>
          <p:nvPr/>
        </p:nvSpPr>
        <p:spPr>
          <a:xfrm>
            <a:off x="868320" y="1835280"/>
            <a:ext cx="663480" cy="90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285840" y="193320"/>
            <a:ext cx="67183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WMU Meeting - Admin Remark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2" name="" descr=""/>
          <p:cNvPicPr/>
          <p:nvPr/>
        </p:nvPicPr>
        <p:blipFill>
          <a:blip r:embed="rId2"/>
          <a:stretch/>
        </p:blipFill>
        <p:spPr>
          <a:xfrm>
            <a:off x="3166920" y="985680"/>
            <a:ext cx="4662720" cy="546588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/>
          <p:nvPr/>
        </p:nvSpPr>
        <p:spPr>
          <a:xfrm>
            <a:off x="3862440" y="2220840"/>
            <a:ext cx="691920" cy="882720"/>
          </a:xfrm>
          <a:prstGeom prst="rect">
            <a:avLst/>
          </a:prstGeom>
          <a:solidFill>
            <a:srgbClr val="0033cc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4" name=""/>
          <p:cNvGrpSpPr/>
          <p:nvPr/>
        </p:nvGrpSpPr>
        <p:grpSpPr>
          <a:xfrm>
            <a:off x="855720" y="1554120"/>
            <a:ext cx="1949400" cy="1465560"/>
            <a:chOff x="855720" y="1554120"/>
            <a:chExt cx="1949400" cy="1465560"/>
          </a:xfrm>
        </p:grpSpPr>
        <p:sp>
          <p:nvSpPr>
            <p:cNvPr id="1275" name=""/>
            <p:cNvSpPr/>
            <p:nvPr/>
          </p:nvSpPr>
          <p:spPr>
            <a:xfrm>
              <a:off x="855720" y="1822320"/>
              <a:ext cx="690480" cy="927360"/>
            </a:xfrm>
            <a:prstGeom prst="rect">
              <a:avLst/>
            </a:prstGeom>
            <a:solidFill>
              <a:srgbClr val="0033cc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684440" y="1554120"/>
              <a:ext cx="11206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in meeting room and Tutori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855720" y="4449600"/>
            <a:ext cx="1901880" cy="925560"/>
            <a:chOff x="855720" y="4449600"/>
            <a:chExt cx="1901880" cy="925560"/>
          </a:xfrm>
        </p:grpSpPr>
        <p:grpSp>
          <p:nvGrpSpPr>
            <p:cNvPr id="1278" name=""/>
            <p:cNvGrpSpPr/>
            <p:nvPr/>
          </p:nvGrpSpPr>
          <p:grpSpPr>
            <a:xfrm>
              <a:off x="855720" y="4449600"/>
              <a:ext cx="690480" cy="925560"/>
              <a:chOff x="855720" y="4449600"/>
              <a:chExt cx="690480" cy="925560"/>
            </a:xfrm>
          </p:grpSpPr>
          <p:sp>
            <p:nvSpPr>
              <p:cNvPr id="1279" name=""/>
              <p:cNvSpPr/>
              <p:nvPr/>
            </p:nvSpPr>
            <p:spPr>
              <a:xfrm>
                <a:off x="868680" y="4462200"/>
                <a:ext cx="663480" cy="90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855720" y="4449600"/>
                <a:ext cx="690480" cy="925560"/>
              </a:xfrm>
              <a:prstGeom prst="rect">
                <a:avLst/>
              </a:prstGeom>
              <a:solidFill>
                <a:srgbClr val="009900">
                  <a:alpha val="4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1" name=""/>
            <p:cNvSpPr/>
            <p:nvPr/>
          </p:nvSpPr>
          <p:spPr>
            <a:xfrm>
              <a:off x="1635120" y="4454280"/>
              <a:ext cx="1122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unch (both day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2" name=""/>
          <p:cNvSpPr/>
          <p:nvPr/>
        </p:nvSpPr>
        <p:spPr>
          <a:xfrm>
            <a:off x="5594400" y="2220840"/>
            <a:ext cx="684000" cy="881280"/>
          </a:xfrm>
          <a:prstGeom prst="rect">
            <a:avLst/>
          </a:prstGeom>
          <a:solidFill>
            <a:srgbClr val="00990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3" name=""/>
          <p:cNvGrpSpPr/>
          <p:nvPr/>
        </p:nvGrpSpPr>
        <p:grpSpPr>
          <a:xfrm>
            <a:off x="855720" y="3149640"/>
            <a:ext cx="1895400" cy="927000"/>
            <a:chOff x="855720" y="3149640"/>
            <a:chExt cx="1895400" cy="927000"/>
          </a:xfrm>
        </p:grpSpPr>
        <p:grpSp>
          <p:nvGrpSpPr>
            <p:cNvPr id="1284" name=""/>
            <p:cNvGrpSpPr/>
            <p:nvPr/>
          </p:nvGrpSpPr>
          <p:grpSpPr>
            <a:xfrm>
              <a:off x="855720" y="3149640"/>
              <a:ext cx="690480" cy="927000"/>
              <a:chOff x="855720" y="3149640"/>
              <a:chExt cx="690480" cy="927000"/>
            </a:xfrm>
          </p:grpSpPr>
          <p:sp>
            <p:nvSpPr>
              <p:cNvPr id="1285" name=""/>
              <p:cNvSpPr/>
              <p:nvPr/>
            </p:nvSpPr>
            <p:spPr>
              <a:xfrm>
                <a:off x="868680" y="3162240"/>
                <a:ext cx="663480" cy="90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855720" y="3149640"/>
                <a:ext cx="690480" cy="927000"/>
              </a:xfrm>
              <a:prstGeom prst="rect">
                <a:avLst/>
              </a:prstGeom>
              <a:solidFill>
                <a:srgbClr val="ff0000">
                  <a:alpha val="4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7" name=""/>
            <p:cNvSpPr/>
            <p:nvPr/>
          </p:nvSpPr>
          <p:spPr>
            <a:xfrm>
              <a:off x="1629000" y="3292560"/>
              <a:ext cx="112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mo Ro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8" name=""/>
          <p:cNvSpPr/>
          <p:nvPr/>
        </p:nvSpPr>
        <p:spPr>
          <a:xfrm>
            <a:off x="4719600" y="1771560"/>
            <a:ext cx="717480" cy="1335240"/>
          </a:xfrm>
          <a:prstGeom prst="rect">
            <a:avLst/>
          </a:prstGeom>
          <a:solidFill>
            <a:srgbClr val="ff000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285840" y="193320"/>
            <a:ext cx="66974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WMU Meeting - Admin Remark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34680" y="1218960"/>
            <a:ext cx="7899480" cy="517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120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reless L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40560">
              <a:lnSpc>
                <a:spcPct val="85000"/>
              </a:lnSpc>
              <a:spcBef>
                <a:spcPts val="1049"/>
              </a:spcBef>
              <a:buClr>
                <a:srgbClr val="008000"/>
              </a:buClr>
              <a:buSzPct val="8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5280" indent="-2192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5280" indent="-2192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t/discussion (logg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5280" indent="-2192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40560">
              <a:lnSpc>
                <a:spcPct val="85000"/>
              </a:lnSpc>
              <a:spcBef>
                <a:spcPts val="1049"/>
              </a:spcBef>
              <a:buClr>
                <a:srgbClr val="008000"/>
              </a:buClr>
              <a:buSzPct val="8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ML IR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5280" indent="-2192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: irc.daml.or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5280" indent="-2192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sword: isox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5280" indent="-2192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m: da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40560">
              <a:lnSpc>
                <a:spcPct val="85000"/>
              </a:lnSpc>
              <a:spcBef>
                <a:spcPts val="1049"/>
              </a:spcBef>
              <a:buClr>
                <a:srgbClr val="008000"/>
              </a:buClr>
              <a:buSzPct val="8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you have further questions see Cola Atkinson (here at the conference) or email him at cola@bbn.c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285840" y="193320"/>
            <a:ext cx="66974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WMU Meeting - Admin Remark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634680" y="1218960"/>
            <a:ext cx="7899480" cy="517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716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iefings will be available on DAML Web Site after the me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04760">
              <a:lnSpc>
                <a:spcPct val="85000"/>
              </a:lnSpc>
              <a:spcBef>
                <a:spcPts val="1049"/>
              </a:spcBef>
              <a:buClr>
                <a:srgbClr val="008000"/>
              </a:buClr>
              <a:buSzPct val="8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  <a:hlinkClick r:id="rId2"/>
              </a:rPr>
              <a:t>http://www.daml.org/meetings/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opter Presentation Questions – please defer to demos this evening if possi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mos on Thursday by Reque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04760">
              <a:lnSpc>
                <a:spcPct val="85000"/>
              </a:lnSpc>
              <a:spcBef>
                <a:spcPts val="1049"/>
              </a:spcBef>
              <a:buClr>
                <a:srgbClr val="008000"/>
              </a:buClr>
              <a:buSzPct val="8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parallel with Tutori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5840" y="193320"/>
            <a:ext cx="66974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mantic Web - Outli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34680" y="1218960"/>
            <a:ext cx="7899480" cy="517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8040" indent="0">
              <a:lnSpc>
                <a:spcPct val="8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’s it all abou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49200">
              <a:lnSpc>
                <a:spcPct val="85000"/>
              </a:lnSpc>
              <a:spcBef>
                <a:spcPts val="1576"/>
              </a:spcBef>
              <a:buClr>
                <a:srgbClr val="008000"/>
              </a:buClr>
              <a:buSzPct val="8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are the DARPA Agent Markup Language (DAML) and Ontology Web Language (OWL)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49200">
              <a:lnSpc>
                <a:spcPct val="85000"/>
              </a:lnSpc>
              <a:spcBef>
                <a:spcPts val="1576"/>
              </a:spcBef>
              <a:buClr>
                <a:srgbClr val="008000"/>
              </a:buClr>
              <a:buSzPct val="8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me for this meeting: Preparing the Military for the Revolution of the Semantic We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49200">
              <a:lnSpc>
                <a:spcPct val="85000"/>
              </a:lnSpc>
              <a:spcBef>
                <a:spcPts val="1576"/>
              </a:spcBef>
              <a:buClr>
                <a:srgbClr val="008000"/>
              </a:buClr>
              <a:buSzPct val="8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Selected Examples of Semantic Web adoptions in the Milit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49200">
              <a:lnSpc>
                <a:spcPct val="85000"/>
              </a:lnSpc>
              <a:spcBef>
                <a:spcPts val="1576"/>
              </a:spcBef>
              <a:buClr>
                <a:srgbClr val="008000"/>
              </a:buClr>
              <a:buSzPct val="8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you will see in the next couple d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5840" y="193320"/>
            <a:ext cx="66974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ML and OW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17520" y="927000"/>
            <a:ext cx="4424400" cy="517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296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ARPA Agent Markup Language (DAML) Prog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6880" indent="-259200">
              <a:lnSpc>
                <a:spcPct val="95000"/>
              </a:lnSpc>
              <a:spcBef>
                <a:spcPts val="751"/>
              </a:spcBef>
              <a:buClr>
                <a:srgbClr val="008000"/>
              </a:buClr>
              <a:buSzPct val="8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“agent” communication at a Web-wide sca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6880" indent="-259200">
              <a:lnSpc>
                <a:spcPct val="95000"/>
              </a:lnSpc>
              <a:spcBef>
                <a:spcPts val="751"/>
              </a:spcBef>
              <a:buClr>
                <a:srgbClr val="008000"/>
              </a:buClr>
              <a:buSzPct val="8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mantic language that ties information on a page to machine readable semantics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tolog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3C, including Tim Berners-Lee: Enthusiastic Partn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6880" indent="-259200">
              <a:lnSpc>
                <a:spcPct val="95000"/>
              </a:lnSpc>
              <a:spcBef>
                <a:spcPts val="751"/>
              </a:spcBef>
              <a:buClr>
                <a:srgbClr val="008000"/>
              </a:buClr>
              <a:buSzPct val="8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out to release Ontology Web Language (OW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6880" indent="-259200">
              <a:lnSpc>
                <a:spcPct val="95000"/>
              </a:lnSpc>
              <a:spcBef>
                <a:spcPts val="751"/>
              </a:spcBef>
              <a:buClr>
                <a:srgbClr val="008000"/>
              </a:buClr>
              <a:buSzPct val="8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ed on DAML-OIL (Ontology Inference Layer), International Partnership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992840" y="2460600"/>
            <a:ext cx="4062240" cy="2346480"/>
            <a:chOff x="4992840" y="2460600"/>
            <a:chExt cx="4062240" cy="2346480"/>
          </a:xfrm>
        </p:grpSpPr>
        <p:grpSp>
          <p:nvGrpSpPr>
            <p:cNvPr id="56" name=""/>
            <p:cNvGrpSpPr/>
            <p:nvPr/>
          </p:nvGrpSpPr>
          <p:grpSpPr>
            <a:xfrm>
              <a:off x="4992840" y="2460600"/>
              <a:ext cx="4062240" cy="2346480"/>
              <a:chOff x="4992840" y="2460600"/>
              <a:chExt cx="4062240" cy="2346480"/>
            </a:xfrm>
          </p:grpSpPr>
          <p:grpSp>
            <p:nvGrpSpPr>
              <p:cNvPr id="57" name=""/>
              <p:cNvGrpSpPr/>
              <p:nvPr/>
            </p:nvGrpSpPr>
            <p:grpSpPr>
              <a:xfrm>
                <a:off x="4992840" y="2460600"/>
                <a:ext cx="4062240" cy="2338560"/>
                <a:chOff x="4992840" y="2460600"/>
                <a:chExt cx="4062240" cy="233856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5000760" y="2460600"/>
                  <a:ext cx="4054320" cy="2338560"/>
                </a:xfrm>
                <a:custGeom>
                  <a:avLst/>
                  <a:gdLst/>
                  <a:ahLst/>
                  <a:rect l="l" t="t" r="r" b="b"/>
                  <a:pathLst>
                    <a:path w="7662" h="4417">
                      <a:moveTo>
                        <a:pt x="1787" y="4417"/>
                      </a:moveTo>
                      <a:lnTo>
                        <a:pt x="1759" y="4417"/>
                      </a:lnTo>
                      <a:lnTo>
                        <a:pt x="1732" y="4402"/>
                      </a:lnTo>
                      <a:lnTo>
                        <a:pt x="1704" y="4402"/>
                      </a:lnTo>
                      <a:lnTo>
                        <a:pt x="1676" y="4385"/>
                      </a:lnTo>
                      <a:lnTo>
                        <a:pt x="1635" y="4370"/>
                      </a:lnTo>
                      <a:lnTo>
                        <a:pt x="1607" y="4370"/>
                      </a:lnTo>
                      <a:lnTo>
                        <a:pt x="1580" y="4355"/>
                      </a:lnTo>
                      <a:lnTo>
                        <a:pt x="1552" y="4338"/>
                      </a:lnTo>
                      <a:lnTo>
                        <a:pt x="1524" y="4323"/>
                      </a:lnTo>
                      <a:lnTo>
                        <a:pt x="1497" y="4306"/>
                      </a:lnTo>
                      <a:lnTo>
                        <a:pt x="1469" y="4306"/>
                      </a:lnTo>
                      <a:lnTo>
                        <a:pt x="1441" y="4291"/>
                      </a:lnTo>
                      <a:lnTo>
                        <a:pt x="1414" y="4276"/>
                      </a:lnTo>
                      <a:lnTo>
                        <a:pt x="1386" y="4259"/>
                      </a:lnTo>
                      <a:lnTo>
                        <a:pt x="1358" y="4244"/>
                      </a:lnTo>
                      <a:lnTo>
                        <a:pt x="1331" y="4227"/>
                      </a:lnTo>
                      <a:lnTo>
                        <a:pt x="1289" y="4212"/>
                      </a:lnTo>
                      <a:lnTo>
                        <a:pt x="1261" y="4197"/>
                      </a:lnTo>
                      <a:lnTo>
                        <a:pt x="1234" y="4180"/>
                      </a:lnTo>
                      <a:lnTo>
                        <a:pt x="1206" y="4165"/>
                      </a:lnTo>
                      <a:lnTo>
                        <a:pt x="1178" y="4148"/>
                      </a:lnTo>
                      <a:lnTo>
                        <a:pt x="1151" y="4133"/>
                      </a:lnTo>
                      <a:lnTo>
                        <a:pt x="1137" y="4118"/>
                      </a:lnTo>
                      <a:lnTo>
                        <a:pt x="1109" y="4101"/>
                      </a:lnTo>
                      <a:lnTo>
                        <a:pt x="1082" y="4086"/>
                      </a:lnTo>
                      <a:lnTo>
                        <a:pt x="1054" y="4070"/>
                      </a:lnTo>
                      <a:lnTo>
                        <a:pt x="1025" y="4054"/>
                      </a:lnTo>
                      <a:lnTo>
                        <a:pt x="997" y="4039"/>
                      </a:lnTo>
                      <a:lnTo>
                        <a:pt x="970" y="4007"/>
                      </a:lnTo>
                      <a:lnTo>
                        <a:pt x="942" y="3991"/>
                      </a:lnTo>
                      <a:lnTo>
                        <a:pt x="928" y="3975"/>
                      </a:lnTo>
                      <a:lnTo>
                        <a:pt x="900" y="3960"/>
                      </a:lnTo>
                      <a:lnTo>
                        <a:pt x="873" y="3944"/>
                      </a:lnTo>
                      <a:lnTo>
                        <a:pt x="845" y="3912"/>
                      </a:lnTo>
                      <a:lnTo>
                        <a:pt x="817" y="3897"/>
                      </a:lnTo>
                      <a:lnTo>
                        <a:pt x="804" y="3881"/>
                      </a:lnTo>
                      <a:lnTo>
                        <a:pt x="776" y="3850"/>
                      </a:lnTo>
                      <a:lnTo>
                        <a:pt x="748" y="3833"/>
                      </a:lnTo>
                      <a:lnTo>
                        <a:pt x="721" y="3818"/>
                      </a:lnTo>
                      <a:lnTo>
                        <a:pt x="707" y="3786"/>
                      </a:lnTo>
                      <a:lnTo>
                        <a:pt x="679" y="3771"/>
                      </a:lnTo>
                      <a:lnTo>
                        <a:pt x="651" y="3739"/>
                      </a:lnTo>
                      <a:lnTo>
                        <a:pt x="624" y="3724"/>
                      </a:lnTo>
                      <a:lnTo>
                        <a:pt x="610" y="3707"/>
                      </a:lnTo>
                      <a:lnTo>
                        <a:pt x="582" y="3675"/>
                      </a:lnTo>
                      <a:lnTo>
                        <a:pt x="555" y="3660"/>
                      </a:lnTo>
                      <a:lnTo>
                        <a:pt x="541" y="3628"/>
                      </a:lnTo>
                      <a:lnTo>
                        <a:pt x="513" y="3613"/>
                      </a:lnTo>
                      <a:lnTo>
                        <a:pt x="499" y="3581"/>
                      </a:lnTo>
                      <a:lnTo>
                        <a:pt x="472" y="3566"/>
                      </a:lnTo>
                      <a:lnTo>
                        <a:pt x="444" y="3534"/>
                      </a:lnTo>
                      <a:lnTo>
                        <a:pt x="430" y="3502"/>
                      </a:lnTo>
                      <a:lnTo>
                        <a:pt x="402" y="3487"/>
                      </a:lnTo>
                      <a:lnTo>
                        <a:pt x="389" y="3455"/>
                      </a:lnTo>
                      <a:lnTo>
                        <a:pt x="361" y="3423"/>
                      </a:lnTo>
                      <a:lnTo>
                        <a:pt x="347" y="3408"/>
                      </a:lnTo>
                      <a:lnTo>
                        <a:pt x="333" y="3376"/>
                      </a:lnTo>
                      <a:lnTo>
                        <a:pt x="306" y="3345"/>
                      </a:lnTo>
                      <a:lnTo>
                        <a:pt x="292" y="3313"/>
                      </a:lnTo>
                      <a:lnTo>
                        <a:pt x="278" y="3297"/>
                      </a:lnTo>
                      <a:lnTo>
                        <a:pt x="250" y="3266"/>
                      </a:lnTo>
                      <a:lnTo>
                        <a:pt x="235" y="3234"/>
                      </a:lnTo>
                      <a:lnTo>
                        <a:pt x="221" y="3202"/>
                      </a:lnTo>
                      <a:lnTo>
                        <a:pt x="207" y="3172"/>
                      </a:lnTo>
                      <a:lnTo>
                        <a:pt x="194" y="3140"/>
                      </a:lnTo>
                      <a:lnTo>
                        <a:pt x="166" y="3108"/>
                      </a:lnTo>
                      <a:lnTo>
                        <a:pt x="152" y="3076"/>
                      </a:lnTo>
                      <a:lnTo>
                        <a:pt x="138" y="3044"/>
                      </a:lnTo>
                      <a:lnTo>
                        <a:pt x="124" y="3014"/>
                      </a:lnTo>
                      <a:lnTo>
                        <a:pt x="124" y="2982"/>
                      </a:lnTo>
                      <a:lnTo>
                        <a:pt x="111" y="2950"/>
                      </a:lnTo>
                      <a:lnTo>
                        <a:pt x="97" y="2918"/>
                      </a:lnTo>
                      <a:lnTo>
                        <a:pt x="83" y="2887"/>
                      </a:lnTo>
                      <a:lnTo>
                        <a:pt x="83" y="2856"/>
                      </a:lnTo>
                      <a:lnTo>
                        <a:pt x="69" y="2824"/>
                      </a:lnTo>
                      <a:lnTo>
                        <a:pt x="55" y="2777"/>
                      </a:lnTo>
                      <a:lnTo>
                        <a:pt x="55" y="2745"/>
                      </a:lnTo>
                      <a:lnTo>
                        <a:pt x="41" y="2714"/>
                      </a:lnTo>
                      <a:lnTo>
                        <a:pt x="28" y="2667"/>
                      </a:lnTo>
                      <a:lnTo>
                        <a:pt x="28" y="2635"/>
                      </a:lnTo>
                      <a:lnTo>
                        <a:pt x="14" y="2588"/>
                      </a:lnTo>
                      <a:lnTo>
                        <a:pt x="14" y="2556"/>
                      </a:lnTo>
                      <a:lnTo>
                        <a:pt x="0" y="2509"/>
                      </a:lnTo>
                      <a:lnTo>
                        <a:pt x="0" y="2477"/>
                      </a:lnTo>
                      <a:lnTo>
                        <a:pt x="0" y="2445"/>
                      </a:lnTo>
                      <a:lnTo>
                        <a:pt x="0" y="2398"/>
                      </a:lnTo>
                      <a:lnTo>
                        <a:pt x="0" y="2366"/>
                      </a:lnTo>
                      <a:lnTo>
                        <a:pt x="0" y="2334"/>
                      </a:lnTo>
                      <a:lnTo>
                        <a:pt x="0" y="2304"/>
                      </a:lnTo>
                      <a:lnTo>
                        <a:pt x="0" y="2256"/>
                      </a:lnTo>
                      <a:lnTo>
                        <a:pt x="0" y="2225"/>
                      </a:lnTo>
                      <a:lnTo>
                        <a:pt x="0" y="2193"/>
                      </a:lnTo>
                      <a:lnTo>
                        <a:pt x="0" y="2145"/>
                      </a:lnTo>
                      <a:lnTo>
                        <a:pt x="0" y="2114"/>
                      </a:lnTo>
                      <a:lnTo>
                        <a:pt x="0" y="2066"/>
                      </a:lnTo>
                      <a:lnTo>
                        <a:pt x="0" y="2036"/>
                      </a:lnTo>
                      <a:lnTo>
                        <a:pt x="0" y="1987"/>
                      </a:lnTo>
                      <a:lnTo>
                        <a:pt x="14" y="1940"/>
                      </a:lnTo>
                      <a:lnTo>
                        <a:pt x="14" y="1893"/>
                      </a:lnTo>
                      <a:lnTo>
                        <a:pt x="28" y="1846"/>
                      </a:lnTo>
                      <a:lnTo>
                        <a:pt x="28" y="1799"/>
                      </a:lnTo>
                      <a:lnTo>
                        <a:pt x="41" y="1767"/>
                      </a:lnTo>
                      <a:lnTo>
                        <a:pt x="41" y="1735"/>
                      </a:lnTo>
                      <a:lnTo>
                        <a:pt x="55" y="1703"/>
                      </a:lnTo>
                      <a:lnTo>
                        <a:pt x="55" y="1672"/>
                      </a:lnTo>
                      <a:lnTo>
                        <a:pt x="69" y="1641"/>
                      </a:lnTo>
                      <a:lnTo>
                        <a:pt x="69" y="1609"/>
                      </a:lnTo>
                      <a:lnTo>
                        <a:pt x="83" y="1578"/>
                      </a:lnTo>
                      <a:lnTo>
                        <a:pt x="97" y="1546"/>
                      </a:lnTo>
                      <a:lnTo>
                        <a:pt x="111" y="1514"/>
                      </a:lnTo>
                      <a:lnTo>
                        <a:pt x="111" y="1483"/>
                      </a:lnTo>
                      <a:lnTo>
                        <a:pt x="124" y="1452"/>
                      </a:lnTo>
                      <a:lnTo>
                        <a:pt x="138" y="1420"/>
                      </a:lnTo>
                      <a:lnTo>
                        <a:pt x="152" y="1388"/>
                      </a:lnTo>
                      <a:lnTo>
                        <a:pt x="166" y="1356"/>
                      </a:lnTo>
                      <a:lnTo>
                        <a:pt x="180" y="1326"/>
                      </a:lnTo>
                      <a:lnTo>
                        <a:pt x="194" y="1294"/>
                      </a:lnTo>
                      <a:lnTo>
                        <a:pt x="207" y="1262"/>
                      </a:lnTo>
                      <a:lnTo>
                        <a:pt x="221" y="1247"/>
                      </a:lnTo>
                      <a:lnTo>
                        <a:pt x="235" y="1198"/>
                      </a:lnTo>
                      <a:lnTo>
                        <a:pt x="264" y="1168"/>
                      </a:lnTo>
                      <a:lnTo>
                        <a:pt x="278" y="1136"/>
                      </a:lnTo>
                      <a:lnTo>
                        <a:pt x="292" y="1120"/>
                      </a:lnTo>
                      <a:lnTo>
                        <a:pt x="306" y="1089"/>
                      </a:lnTo>
                      <a:lnTo>
                        <a:pt x="333" y="1057"/>
                      </a:lnTo>
                      <a:lnTo>
                        <a:pt x="347" y="1041"/>
                      </a:lnTo>
                      <a:lnTo>
                        <a:pt x="361" y="1010"/>
                      </a:lnTo>
                      <a:lnTo>
                        <a:pt x="389" y="978"/>
                      </a:lnTo>
                      <a:lnTo>
                        <a:pt x="402" y="962"/>
                      </a:lnTo>
                      <a:lnTo>
                        <a:pt x="430" y="931"/>
                      </a:lnTo>
                      <a:lnTo>
                        <a:pt x="444" y="915"/>
                      </a:lnTo>
                      <a:lnTo>
                        <a:pt x="472" y="883"/>
                      </a:lnTo>
                      <a:lnTo>
                        <a:pt x="485" y="852"/>
                      </a:lnTo>
                      <a:lnTo>
                        <a:pt x="513" y="836"/>
                      </a:lnTo>
                      <a:lnTo>
                        <a:pt x="527" y="804"/>
                      </a:lnTo>
                      <a:lnTo>
                        <a:pt x="555" y="789"/>
                      </a:lnTo>
                      <a:lnTo>
                        <a:pt x="568" y="757"/>
                      </a:lnTo>
                      <a:lnTo>
                        <a:pt x="596" y="742"/>
                      </a:lnTo>
                      <a:lnTo>
                        <a:pt x="624" y="725"/>
                      </a:lnTo>
                      <a:lnTo>
                        <a:pt x="638" y="695"/>
                      </a:lnTo>
                      <a:lnTo>
                        <a:pt x="665" y="678"/>
                      </a:lnTo>
                      <a:lnTo>
                        <a:pt x="679" y="646"/>
                      </a:lnTo>
                      <a:lnTo>
                        <a:pt x="707" y="631"/>
                      </a:lnTo>
                      <a:lnTo>
                        <a:pt x="734" y="616"/>
                      </a:lnTo>
                      <a:lnTo>
                        <a:pt x="762" y="584"/>
                      </a:lnTo>
                      <a:lnTo>
                        <a:pt x="776" y="567"/>
                      </a:lnTo>
                      <a:lnTo>
                        <a:pt x="804" y="552"/>
                      </a:lnTo>
                      <a:lnTo>
                        <a:pt x="831" y="537"/>
                      </a:lnTo>
                      <a:lnTo>
                        <a:pt x="859" y="505"/>
                      </a:lnTo>
                      <a:lnTo>
                        <a:pt x="873" y="489"/>
                      </a:lnTo>
                      <a:lnTo>
                        <a:pt x="900" y="473"/>
                      </a:lnTo>
                      <a:lnTo>
                        <a:pt x="928" y="458"/>
                      </a:lnTo>
                      <a:lnTo>
                        <a:pt x="956" y="426"/>
                      </a:lnTo>
                      <a:lnTo>
                        <a:pt x="970" y="410"/>
                      </a:lnTo>
                      <a:lnTo>
                        <a:pt x="997" y="395"/>
                      </a:lnTo>
                      <a:lnTo>
                        <a:pt x="1025" y="379"/>
                      </a:lnTo>
                      <a:lnTo>
                        <a:pt x="1054" y="363"/>
                      </a:lnTo>
                      <a:lnTo>
                        <a:pt x="1082" y="347"/>
                      </a:lnTo>
                      <a:lnTo>
                        <a:pt x="1109" y="331"/>
                      </a:lnTo>
                      <a:lnTo>
                        <a:pt x="1137" y="300"/>
                      </a:lnTo>
                      <a:lnTo>
                        <a:pt x="1165" y="284"/>
                      </a:lnTo>
                      <a:lnTo>
                        <a:pt x="1192" y="269"/>
                      </a:lnTo>
                      <a:lnTo>
                        <a:pt x="1220" y="252"/>
                      </a:lnTo>
                      <a:lnTo>
                        <a:pt x="1248" y="237"/>
                      </a:lnTo>
                      <a:lnTo>
                        <a:pt x="1275" y="222"/>
                      </a:lnTo>
                      <a:lnTo>
                        <a:pt x="1303" y="205"/>
                      </a:lnTo>
                      <a:lnTo>
                        <a:pt x="1344" y="190"/>
                      </a:lnTo>
                      <a:lnTo>
                        <a:pt x="1372" y="173"/>
                      </a:lnTo>
                      <a:lnTo>
                        <a:pt x="1414" y="158"/>
                      </a:lnTo>
                      <a:lnTo>
                        <a:pt x="1441" y="143"/>
                      </a:lnTo>
                      <a:lnTo>
                        <a:pt x="1469" y="126"/>
                      </a:lnTo>
                      <a:lnTo>
                        <a:pt x="1497" y="126"/>
                      </a:lnTo>
                      <a:lnTo>
                        <a:pt x="1524" y="111"/>
                      </a:lnTo>
                      <a:lnTo>
                        <a:pt x="1566" y="94"/>
                      </a:lnTo>
                      <a:lnTo>
                        <a:pt x="1593" y="79"/>
                      </a:lnTo>
                      <a:lnTo>
                        <a:pt x="1635" y="64"/>
                      </a:lnTo>
                      <a:lnTo>
                        <a:pt x="1676" y="47"/>
                      </a:lnTo>
                      <a:lnTo>
                        <a:pt x="1704" y="32"/>
                      </a:lnTo>
                      <a:lnTo>
                        <a:pt x="1745" y="15"/>
                      </a:lnTo>
                      <a:lnTo>
                        <a:pt x="1773" y="15"/>
                      </a:lnTo>
                      <a:lnTo>
                        <a:pt x="1787" y="0"/>
                      </a:lnTo>
                      <a:lnTo>
                        <a:pt x="1815" y="0"/>
                      </a:lnTo>
                      <a:lnTo>
                        <a:pt x="1844" y="0"/>
                      </a:lnTo>
                      <a:lnTo>
                        <a:pt x="1885" y="0"/>
                      </a:lnTo>
                      <a:lnTo>
                        <a:pt x="1913" y="0"/>
                      </a:lnTo>
                      <a:lnTo>
                        <a:pt x="1940" y="0"/>
                      </a:lnTo>
                      <a:lnTo>
                        <a:pt x="1968" y="0"/>
                      </a:lnTo>
                      <a:lnTo>
                        <a:pt x="1996" y="0"/>
                      </a:lnTo>
                      <a:lnTo>
                        <a:pt x="2037" y="0"/>
                      </a:lnTo>
                      <a:lnTo>
                        <a:pt x="2065" y="0"/>
                      </a:lnTo>
                      <a:lnTo>
                        <a:pt x="2093" y="0"/>
                      </a:lnTo>
                      <a:lnTo>
                        <a:pt x="2120" y="0"/>
                      </a:lnTo>
                      <a:lnTo>
                        <a:pt x="2148" y="0"/>
                      </a:lnTo>
                      <a:lnTo>
                        <a:pt x="2176" y="0"/>
                      </a:lnTo>
                      <a:lnTo>
                        <a:pt x="2217" y="0"/>
                      </a:lnTo>
                      <a:lnTo>
                        <a:pt x="2245" y="0"/>
                      </a:lnTo>
                      <a:lnTo>
                        <a:pt x="2272" y="0"/>
                      </a:lnTo>
                      <a:lnTo>
                        <a:pt x="2300" y="0"/>
                      </a:lnTo>
                      <a:lnTo>
                        <a:pt x="2328" y="0"/>
                      </a:lnTo>
                      <a:lnTo>
                        <a:pt x="2355" y="0"/>
                      </a:lnTo>
                      <a:lnTo>
                        <a:pt x="2397" y="0"/>
                      </a:lnTo>
                      <a:lnTo>
                        <a:pt x="2425" y="0"/>
                      </a:lnTo>
                      <a:lnTo>
                        <a:pt x="2452" y="0"/>
                      </a:lnTo>
                      <a:lnTo>
                        <a:pt x="2480" y="0"/>
                      </a:lnTo>
                      <a:lnTo>
                        <a:pt x="2508" y="0"/>
                      </a:lnTo>
                      <a:lnTo>
                        <a:pt x="2535" y="0"/>
                      </a:lnTo>
                      <a:lnTo>
                        <a:pt x="2577" y="0"/>
                      </a:lnTo>
                      <a:lnTo>
                        <a:pt x="2604" y="0"/>
                      </a:lnTo>
                      <a:lnTo>
                        <a:pt x="2632" y="0"/>
                      </a:lnTo>
                      <a:lnTo>
                        <a:pt x="2661" y="0"/>
                      </a:lnTo>
                      <a:lnTo>
                        <a:pt x="2689" y="0"/>
                      </a:lnTo>
                      <a:lnTo>
                        <a:pt x="2716" y="0"/>
                      </a:lnTo>
                      <a:lnTo>
                        <a:pt x="2758" y="0"/>
                      </a:lnTo>
                      <a:lnTo>
                        <a:pt x="2786" y="0"/>
                      </a:lnTo>
                      <a:lnTo>
                        <a:pt x="2813" y="0"/>
                      </a:lnTo>
                      <a:lnTo>
                        <a:pt x="2841" y="0"/>
                      </a:lnTo>
                      <a:lnTo>
                        <a:pt x="2869" y="0"/>
                      </a:lnTo>
                      <a:lnTo>
                        <a:pt x="2896" y="0"/>
                      </a:lnTo>
                      <a:lnTo>
                        <a:pt x="2938" y="0"/>
                      </a:lnTo>
                      <a:lnTo>
                        <a:pt x="2965" y="0"/>
                      </a:lnTo>
                      <a:lnTo>
                        <a:pt x="2993" y="0"/>
                      </a:lnTo>
                      <a:lnTo>
                        <a:pt x="3021" y="0"/>
                      </a:lnTo>
                      <a:lnTo>
                        <a:pt x="3048" y="0"/>
                      </a:lnTo>
                      <a:lnTo>
                        <a:pt x="3090" y="0"/>
                      </a:lnTo>
                      <a:lnTo>
                        <a:pt x="3118" y="0"/>
                      </a:lnTo>
                      <a:lnTo>
                        <a:pt x="3145" y="0"/>
                      </a:lnTo>
                      <a:lnTo>
                        <a:pt x="3173" y="0"/>
                      </a:lnTo>
                      <a:lnTo>
                        <a:pt x="3201" y="0"/>
                      </a:lnTo>
                      <a:lnTo>
                        <a:pt x="3228" y="0"/>
                      </a:lnTo>
                      <a:lnTo>
                        <a:pt x="3270" y="0"/>
                      </a:lnTo>
                      <a:lnTo>
                        <a:pt x="3297" y="0"/>
                      </a:lnTo>
                      <a:lnTo>
                        <a:pt x="3325" y="0"/>
                      </a:lnTo>
                      <a:lnTo>
                        <a:pt x="3353" y="0"/>
                      </a:lnTo>
                      <a:lnTo>
                        <a:pt x="3380" y="0"/>
                      </a:lnTo>
                      <a:lnTo>
                        <a:pt x="3408" y="0"/>
                      </a:lnTo>
                      <a:lnTo>
                        <a:pt x="3451" y="0"/>
                      </a:lnTo>
                      <a:lnTo>
                        <a:pt x="3479" y="0"/>
                      </a:lnTo>
                      <a:lnTo>
                        <a:pt x="3506" y="0"/>
                      </a:lnTo>
                      <a:lnTo>
                        <a:pt x="3534" y="0"/>
                      </a:lnTo>
                      <a:lnTo>
                        <a:pt x="3562" y="0"/>
                      </a:lnTo>
                      <a:lnTo>
                        <a:pt x="3589" y="0"/>
                      </a:lnTo>
                      <a:lnTo>
                        <a:pt x="3631" y="0"/>
                      </a:lnTo>
                      <a:lnTo>
                        <a:pt x="3658" y="0"/>
                      </a:lnTo>
                      <a:lnTo>
                        <a:pt x="3686" y="0"/>
                      </a:lnTo>
                      <a:lnTo>
                        <a:pt x="3714" y="0"/>
                      </a:lnTo>
                      <a:lnTo>
                        <a:pt x="3741" y="0"/>
                      </a:lnTo>
                      <a:lnTo>
                        <a:pt x="3769" y="0"/>
                      </a:lnTo>
                      <a:lnTo>
                        <a:pt x="3810" y="0"/>
                      </a:lnTo>
                      <a:lnTo>
                        <a:pt x="3838" y="0"/>
                      </a:lnTo>
                      <a:lnTo>
                        <a:pt x="3866" y="0"/>
                      </a:lnTo>
                      <a:lnTo>
                        <a:pt x="3893" y="0"/>
                      </a:lnTo>
                      <a:lnTo>
                        <a:pt x="3921" y="0"/>
                      </a:lnTo>
                      <a:lnTo>
                        <a:pt x="3963" y="0"/>
                      </a:lnTo>
                      <a:lnTo>
                        <a:pt x="4004" y="0"/>
                      </a:lnTo>
                      <a:lnTo>
                        <a:pt x="4032" y="0"/>
                      </a:lnTo>
                      <a:lnTo>
                        <a:pt x="4059" y="0"/>
                      </a:lnTo>
                      <a:lnTo>
                        <a:pt x="4087" y="0"/>
                      </a:lnTo>
                      <a:lnTo>
                        <a:pt x="4115" y="0"/>
                      </a:lnTo>
                      <a:lnTo>
                        <a:pt x="4156" y="0"/>
                      </a:lnTo>
                      <a:lnTo>
                        <a:pt x="4184" y="0"/>
                      </a:lnTo>
                      <a:lnTo>
                        <a:pt x="4212" y="0"/>
                      </a:lnTo>
                      <a:lnTo>
                        <a:pt x="4241" y="0"/>
                      </a:lnTo>
                      <a:lnTo>
                        <a:pt x="4268" y="0"/>
                      </a:lnTo>
                      <a:lnTo>
                        <a:pt x="4296" y="0"/>
                      </a:lnTo>
                      <a:lnTo>
                        <a:pt x="4337" y="0"/>
                      </a:lnTo>
                      <a:lnTo>
                        <a:pt x="4365" y="0"/>
                      </a:lnTo>
                      <a:lnTo>
                        <a:pt x="4393" y="0"/>
                      </a:lnTo>
                      <a:lnTo>
                        <a:pt x="4420" y="0"/>
                      </a:lnTo>
                      <a:lnTo>
                        <a:pt x="4448" y="0"/>
                      </a:lnTo>
                      <a:lnTo>
                        <a:pt x="4476" y="0"/>
                      </a:lnTo>
                      <a:lnTo>
                        <a:pt x="4517" y="0"/>
                      </a:lnTo>
                      <a:lnTo>
                        <a:pt x="4545" y="0"/>
                      </a:lnTo>
                      <a:lnTo>
                        <a:pt x="4573" y="0"/>
                      </a:lnTo>
                      <a:lnTo>
                        <a:pt x="4600" y="0"/>
                      </a:lnTo>
                      <a:lnTo>
                        <a:pt x="4628" y="0"/>
                      </a:lnTo>
                      <a:lnTo>
                        <a:pt x="4656" y="0"/>
                      </a:lnTo>
                      <a:lnTo>
                        <a:pt x="4697" y="0"/>
                      </a:lnTo>
                      <a:lnTo>
                        <a:pt x="4725" y="0"/>
                      </a:lnTo>
                      <a:lnTo>
                        <a:pt x="4752" y="0"/>
                      </a:lnTo>
                      <a:lnTo>
                        <a:pt x="4780" y="0"/>
                      </a:lnTo>
                      <a:lnTo>
                        <a:pt x="4808" y="0"/>
                      </a:lnTo>
                      <a:lnTo>
                        <a:pt x="4849" y="0"/>
                      </a:lnTo>
                      <a:lnTo>
                        <a:pt x="4877" y="0"/>
                      </a:lnTo>
                      <a:lnTo>
                        <a:pt x="4905" y="0"/>
                      </a:lnTo>
                      <a:lnTo>
                        <a:pt x="4932" y="0"/>
                      </a:lnTo>
                      <a:lnTo>
                        <a:pt x="4960" y="0"/>
                      </a:lnTo>
                      <a:lnTo>
                        <a:pt x="4988" y="0"/>
                      </a:lnTo>
                      <a:lnTo>
                        <a:pt x="5030" y="0"/>
                      </a:lnTo>
                      <a:lnTo>
                        <a:pt x="5058" y="0"/>
                      </a:lnTo>
                      <a:lnTo>
                        <a:pt x="5086" y="0"/>
                      </a:lnTo>
                      <a:lnTo>
                        <a:pt x="5113" y="0"/>
                      </a:lnTo>
                      <a:lnTo>
                        <a:pt x="5141" y="0"/>
                      </a:lnTo>
                      <a:lnTo>
                        <a:pt x="5169" y="0"/>
                      </a:lnTo>
                      <a:lnTo>
                        <a:pt x="5210" y="0"/>
                      </a:lnTo>
                      <a:lnTo>
                        <a:pt x="5238" y="0"/>
                      </a:lnTo>
                      <a:lnTo>
                        <a:pt x="5266" y="0"/>
                      </a:lnTo>
                      <a:lnTo>
                        <a:pt x="5293" y="0"/>
                      </a:lnTo>
                      <a:lnTo>
                        <a:pt x="5321" y="0"/>
                      </a:lnTo>
                      <a:lnTo>
                        <a:pt x="5349" y="0"/>
                      </a:lnTo>
                      <a:lnTo>
                        <a:pt x="5390" y="0"/>
                      </a:lnTo>
                      <a:lnTo>
                        <a:pt x="5418" y="0"/>
                      </a:lnTo>
                      <a:lnTo>
                        <a:pt x="5445" y="0"/>
                      </a:lnTo>
                      <a:lnTo>
                        <a:pt x="5473" y="0"/>
                      </a:lnTo>
                      <a:lnTo>
                        <a:pt x="5501" y="0"/>
                      </a:lnTo>
                      <a:lnTo>
                        <a:pt x="5528" y="0"/>
                      </a:lnTo>
                      <a:lnTo>
                        <a:pt x="5570" y="0"/>
                      </a:lnTo>
                      <a:lnTo>
                        <a:pt x="5597" y="0"/>
                      </a:lnTo>
                      <a:lnTo>
                        <a:pt x="5625" y="0"/>
                      </a:lnTo>
                      <a:lnTo>
                        <a:pt x="5653" y="0"/>
                      </a:lnTo>
                      <a:lnTo>
                        <a:pt x="5680" y="0"/>
                      </a:lnTo>
                      <a:lnTo>
                        <a:pt x="5722" y="0"/>
                      </a:lnTo>
                      <a:lnTo>
                        <a:pt x="5750" y="0"/>
                      </a:lnTo>
                      <a:lnTo>
                        <a:pt x="5777" y="0"/>
                      </a:lnTo>
                      <a:lnTo>
                        <a:pt x="5805" y="0"/>
                      </a:lnTo>
                      <a:lnTo>
                        <a:pt x="5834" y="0"/>
                      </a:lnTo>
                      <a:lnTo>
                        <a:pt x="5862" y="0"/>
                      </a:lnTo>
                      <a:lnTo>
                        <a:pt x="5875" y="15"/>
                      </a:lnTo>
                      <a:lnTo>
                        <a:pt x="5917" y="15"/>
                      </a:lnTo>
                      <a:lnTo>
                        <a:pt x="5945" y="32"/>
                      </a:lnTo>
                      <a:lnTo>
                        <a:pt x="5986" y="47"/>
                      </a:lnTo>
                      <a:lnTo>
                        <a:pt x="6028" y="64"/>
                      </a:lnTo>
                      <a:lnTo>
                        <a:pt x="6055" y="79"/>
                      </a:lnTo>
                      <a:lnTo>
                        <a:pt x="6097" y="94"/>
                      </a:lnTo>
                      <a:lnTo>
                        <a:pt x="6124" y="111"/>
                      </a:lnTo>
                      <a:lnTo>
                        <a:pt x="6152" y="126"/>
                      </a:lnTo>
                      <a:lnTo>
                        <a:pt x="6180" y="126"/>
                      </a:lnTo>
                      <a:lnTo>
                        <a:pt x="6221" y="143"/>
                      </a:lnTo>
                      <a:lnTo>
                        <a:pt x="6249" y="158"/>
                      </a:lnTo>
                      <a:lnTo>
                        <a:pt x="6277" y="173"/>
                      </a:lnTo>
                      <a:lnTo>
                        <a:pt x="6304" y="190"/>
                      </a:lnTo>
                      <a:lnTo>
                        <a:pt x="6332" y="205"/>
                      </a:lnTo>
                      <a:lnTo>
                        <a:pt x="6360" y="222"/>
                      </a:lnTo>
                      <a:lnTo>
                        <a:pt x="6401" y="237"/>
                      </a:lnTo>
                      <a:lnTo>
                        <a:pt x="6429" y="252"/>
                      </a:lnTo>
                      <a:lnTo>
                        <a:pt x="6456" y="269"/>
                      </a:lnTo>
                      <a:lnTo>
                        <a:pt x="6484" y="284"/>
                      </a:lnTo>
                      <a:lnTo>
                        <a:pt x="6512" y="300"/>
                      </a:lnTo>
                      <a:lnTo>
                        <a:pt x="6539" y="331"/>
                      </a:lnTo>
                      <a:lnTo>
                        <a:pt x="6567" y="347"/>
                      </a:lnTo>
                      <a:lnTo>
                        <a:pt x="6595" y="363"/>
                      </a:lnTo>
                      <a:lnTo>
                        <a:pt x="6624" y="379"/>
                      </a:lnTo>
                      <a:lnTo>
                        <a:pt x="6651" y="395"/>
                      </a:lnTo>
                      <a:lnTo>
                        <a:pt x="6679" y="410"/>
                      </a:lnTo>
                      <a:lnTo>
                        <a:pt x="6707" y="426"/>
                      </a:lnTo>
                      <a:lnTo>
                        <a:pt x="6734" y="458"/>
                      </a:lnTo>
                      <a:lnTo>
                        <a:pt x="6748" y="473"/>
                      </a:lnTo>
                      <a:lnTo>
                        <a:pt x="6776" y="489"/>
                      </a:lnTo>
                      <a:lnTo>
                        <a:pt x="6804" y="505"/>
                      </a:lnTo>
                      <a:lnTo>
                        <a:pt x="6831" y="537"/>
                      </a:lnTo>
                      <a:lnTo>
                        <a:pt x="6845" y="552"/>
                      </a:lnTo>
                      <a:lnTo>
                        <a:pt x="6873" y="567"/>
                      </a:lnTo>
                      <a:lnTo>
                        <a:pt x="6900" y="584"/>
                      </a:lnTo>
                      <a:lnTo>
                        <a:pt x="6928" y="616"/>
                      </a:lnTo>
                      <a:lnTo>
                        <a:pt x="6942" y="631"/>
                      </a:lnTo>
                      <a:lnTo>
                        <a:pt x="6970" y="646"/>
                      </a:lnTo>
                      <a:lnTo>
                        <a:pt x="6997" y="678"/>
                      </a:lnTo>
                      <a:lnTo>
                        <a:pt x="7011" y="695"/>
                      </a:lnTo>
                      <a:lnTo>
                        <a:pt x="7039" y="725"/>
                      </a:lnTo>
                      <a:lnTo>
                        <a:pt x="7066" y="742"/>
                      </a:lnTo>
                      <a:lnTo>
                        <a:pt x="7080" y="757"/>
                      </a:lnTo>
                      <a:lnTo>
                        <a:pt x="7108" y="789"/>
                      </a:lnTo>
                      <a:lnTo>
                        <a:pt x="7122" y="804"/>
                      </a:lnTo>
                      <a:lnTo>
                        <a:pt x="7149" y="836"/>
                      </a:lnTo>
                      <a:lnTo>
                        <a:pt x="7163" y="852"/>
                      </a:lnTo>
                      <a:lnTo>
                        <a:pt x="7191" y="883"/>
                      </a:lnTo>
                      <a:lnTo>
                        <a:pt x="7205" y="915"/>
                      </a:lnTo>
                      <a:lnTo>
                        <a:pt x="7232" y="931"/>
                      </a:lnTo>
                      <a:lnTo>
                        <a:pt x="7246" y="962"/>
                      </a:lnTo>
                      <a:lnTo>
                        <a:pt x="7274" y="978"/>
                      </a:lnTo>
                      <a:lnTo>
                        <a:pt x="7288" y="1010"/>
                      </a:lnTo>
                      <a:lnTo>
                        <a:pt x="7315" y="1041"/>
                      </a:lnTo>
                      <a:lnTo>
                        <a:pt x="7329" y="1057"/>
                      </a:lnTo>
                      <a:lnTo>
                        <a:pt x="7343" y="1089"/>
                      </a:lnTo>
                      <a:lnTo>
                        <a:pt x="7357" y="1120"/>
                      </a:lnTo>
                      <a:lnTo>
                        <a:pt x="7384" y="1136"/>
                      </a:lnTo>
                      <a:lnTo>
                        <a:pt x="7398" y="1168"/>
                      </a:lnTo>
                      <a:lnTo>
                        <a:pt x="7412" y="1198"/>
                      </a:lnTo>
                      <a:lnTo>
                        <a:pt x="7427" y="1247"/>
                      </a:lnTo>
                      <a:lnTo>
                        <a:pt x="7441" y="1262"/>
                      </a:lnTo>
                      <a:lnTo>
                        <a:pt x="7455" y="1294"/>
                      </a:lnTo>
                      <a:lnTo>
                        <a:pt x="7483" y="1326"/>
                      </a:lnTo>
                      <a:lnTo>
                        <a:pt x="7496" y="1356"/>
                      </a:lnTo>
                      <a:lnTo>
                        <a:pt x="7496" y="1388"/>
                      </a:lnTo>
                      <a:lnTo>
                        <a:pt x="7510" y="1420"/>
                      </a:lnTo>
                      <a:lnTo>
                        <a:pt x="7524" y="1452"/>
                      </a:lnTo>
                      <a:lnTo>
                        <a:pt x="7538" y="1483"/>
                      </a:lnTo>
                      <a:lnTo>
                        <a:pt x="7552" y="1514"/>
                      </a:lnTo>
                      <a:lnTo>
                        <a:pt x="7566" y="1546"/>
                      </a:lnTo>
                      <a:lnTo>
                        <a:pt x="7566" y="1578"/>
                      </a:lnTo>
                      <a:lnTo>
                        <a:pt x="7579" y="1609"/>
                      </a:lnTo>
                      <a:lnTo>
                        <a:pt x="7593" y="1641"/>
                      </a:lnTo>
                      <a:lnTo>
                        <a:pt x="7593" y="1672"/>
                      </a:lnTo>
                      <a:lnTo>
                        <a:pt x="7607" y="1703"/>
                      </a:lnTo>
                      <a:lnTo>
                        <a:pt x="7607" y="1735"/>
                      </a:lnTo>
                      <a:lnTo>
                        <a:pt x="7621" y="1767"/>
                      </a:lnTo>
                      <a:lnTo>
                        <a:pt x="7621" y="1799"/>
                      </a:lnTo>
                      <a:lnTo>
                        <a:pt x="7635" y="1846"/>
                      </a:lnTo>
                      <a:lnTo>
                        <a:pt x="7635" y="1893"/>
                      </a:lnTo>
                      <a:lnTo>
                        <a:pt x="7649" y="1940"/>
                      </a:lnTo>
                      <a:lnTo>
                        <a:pt x="7649" y="1987"/>
                      </a:lnTo>
                      <a:lnTo>
                        <a:pt x="7662" y="2036"/>
                      </a:lnTo>
                      <a:lnTo>
                        <a:pt x="7662" y="2066"/>
                      </a:lnTo>
                      <a:lnTo>
                        <a:pt x="7662" y="2114"/>
                      </a:lnTo>
                      <a:lnTo>
                        <a:pt x="7662" y="2145"/>
                      </a:lnTo>
                      <a:lnTo>
                        <a:pt x="7662" y="2193"/>
                      </a:lnTo>
                      <a:lnTo>
                        <a:pt x="7662" y="2225"/>
                      </a:lnTo>
                      <a:lnTo>
                        <a:pt x="7662" y="2256"/>
                      </a:lnTo>
                      <a:lnTo>
                        <a:pt x="7662" y="2304"/>
                      </a:lnTo>
                      <a:lnTo>
                        <a:pt x="7662" y="2334"/>
                      </a:lnTo>
                      <a:lnTo>
                        <a:pt x="7662" y="2366"/>
                      </a:lnTo>
                      <a:lnTo>
                        <a:pt x="7662" y="2398"/>
                      </a:lnTo>
                      <a:lnTo>
                        <a:pt x="7662" y="2445"/>
                      </a:lnTo>
                      <a:lnTo>
                        <a:pt x="7649" y="2477"/>
                      </a:lnTo>
                      <a:lnTo>
                        <a:pt x="7649" y="2509"/>
                      </a:lnTo>
                      <a:lnTo>
                        <a:pt x="7649" y="2556"/>
                      </a:lnTo>
                      <a:lnTo>
                        <a:pt x="7635" y="2588"/>
                      </a:lnTo>
                      <a:lnTo>
                        <a:pt x="7635" y="2635"/>
                      </a:lnTo>
                      <a:lnTo>
                        <a:pt x="7621" y="2667"/>
                      </a:lnTo>
                      <a:lnTo>
                        <a:pt x="7621" y="2714"/>
                      </a:lnTo>
                      <a:lnTo>
                        <a:pt x="7607" y="2745"/>
                      </a:lnTo>
                      <a:lnTo>
                        <a:pt x="7593" y="2777"/>
                      </a:lnTo>
                      <a:lnTo>
                        <a:pt x="7593" y="2824"/>
                      </a:lnTo>
                      <a:lnTo>
                        <a:pt x="7579" y="2856"/>
                      </a:lnTo>
                      <a:lnTo>
                        <a:pt x="7566" y="2887"/>
                      </a:lnTo>
                      <a:lnTo>
                        <a:pt x="7552" y="2918"/>
                      </a:lnTo>
                      <a:lnTo>
                        <a:pt x="7552" y="2950"/>
                      </a:lnTo>
                      <a:lnTo>
                        <a:pt x="7538" y="2982"/>
                      </a:lnTo>
                      <a:lnTo>
                        <a:pt x="7524" y="3014"/>
                      </a:lnTo>
                      <a:lnTo>
                        <a:pt x="7510" y="3044"/>
                      </a:lnTo>
                      <a:lnTo>
                        <a:pt x="7496" y="3076"/>
                      </a:lnTo>
                      <a:lnTo>
                        <a:pt x="7483" y="3108"/>
                      </a:lnTo>
                      <a:lnTo>
                        <a:pt x="7469" y="3140"/>
                      </a:lnTo>
                      <a:lnTo>
                        <a:pt x="7455" y="3172"/>
                      </a:lnTo>
                      <a:lnTo>
                        <a:pt x="7441" y="3202"/>
                      </a:lnTo>
                      <a:lnTo>
                        <a:pt x="7412" y="3234"/>
                      </a:lnTo>
                      <a:lnTo>
                        <a:pt x="7398" y="3266"/>
                      </a:lnTo>
                      <a:lnTo>
                        <a:pt x="7384" y="3297"/>
                      </a:lnTo>
                      <a:lnTo>
                        <a:pt x="7371" y="3313"/>
                      </a:lnTo>
                      <a:lnTo>
                        <a:pt x="7343" y="3345"/>
                      </a:lnTo>
                      <a:lnTo>
                        <a:pt x="7329" y="3376"/>
                      </a:lnTo>
                      <a:lnTo>
                        <a:pt x="7315" y="3408"/>
                      </a:lnTo>
                      <a:lnTo>
                        <a:pt x="7288" y="3423"/>
                      </a:lnTo>
                      <a:lnTo>
                        <a:pt x="7274" y="3455"/>
                      </a:lnTo>
                      <a:lnTo>
                        <a:pt x="7246" y="3487"/>
                      </a:lnTo>
                      <a:lnTo>
                        <a:pt x="7232" y="3502"/>
                      </a:lnTo>
                      <a:lnTo>
                        <a:pt x="7205" y="3534"/>
                      </a:lnTo>
                      <a:lnTo>
                        <a:pt x="7177" y="3566"/>
                      </a:lnTo>
                      <a:lnTo>
                        <a:pt x="7163" y="3581"/>
                      </a:lnTo>
                      <a:lnTo>
                        <a:pt x="7135" y="3613"/>
                      </a:lnTo>
                      <a:lnTo>
                        <a:pt x="7122" y="3628"/>
                      </a:lnTo>
                      <a:lnTo>
                        <a:pt x="7094" y="3660"/>
                      </a:lnTo>
                      <a:lnTo>
                        <a:pt x="7066" y="3675"/>
                      </a:lnTo>
                      <a:lnTo>
                        <a:pt x="7053" y="3707"/>
                      </a:lnTo>
                      <a:lnTo>
                        <a:pt x="7025" y="3724"/>
                      </a:lnTo>
                      <a:lnTo>
                        <a:pt x="6997" y="3739"/>
                      </a:lnTo>
                      <a:lnTo>
                        <a:pt x="6983" y="3771"/>
                      </a:lnTo>
                      <a:lnTo>
                        <a:pt x="6956" y="3786"/>
                      </a:lnTo>
                      <a:lnTo>
                        <a:pt x="6928" y="3818"/>
                      </a:lnTo>
                      <a:lnTo>
                        <a:pt x="6900" y="3833"/>
                      </a:lnTo>
                      <a:lnTo>
                        <a:pt x="6887" y="3850"/>
                      </a:lnTo>
                      <a:lnTo>
                        <a:pt x="6859" y="3881"/>
                      </a:lnTo>
                      <a:lnTo>
                        <a:pt x="6831" y="3897"/>
                      </a:lnTo>
                      <a:lnTo>
                        <a:pt x="6804" y="3912"/>
                      </a:lnTo>
                      <a:lnTo>
                        <a:pt x="6776" y="3944"/>
                      </a:lnTo>
                      <a:lnTo>
                        <a:pt x="6762" y="3960"/>
                      </a:lnTo>
                      <a:lnTo>
                        <a:pt x="6734" y="3975"/>
                      </a:lnTo>
                      <a:lnTo>
                        <a:pt x="6707" y="3991"/>
                      </a:lnTo>
                      <a:lnTo>
                        <a:pt x="6679" y="4007"/>
                      </a:lnTo>
                      <a:lnTo>
                        <a:pt x="6651" y="4039"/>
                      </a:lnTo>
                      <a:lnTo>
                        <a:pt x="6609" y="4054"/>
                      </a:lnTo>
                      <a:lnTo>
                        <a:pt x="6595" y="4070"/>
                      </a:lnTo>
                      <a:lnTo>
                        <a:pt x="6567" y="4086"/>
                      </a:lnTo>
                      <a:lnTo>
                        <a:pt x="6539" y="4101"/>
                      </a:lnTo>
                      <a:lnTo>
                        <a:pt x="6512" y="4118"/>
                      </a:lnTo>
                      <a:lnTo>
                        <a:pt x="6484" y="4133"/>
                      </a:lnTo>
                      <a:lnTo>
                        <a:pt x="6456" y="4148"/>
                      </a:lnTo>
                      <a:lnTo>
                        <a:pt x="6429" y="4165"/>
                      </a:lnTo>
                      <a:lnTo>
                        <a:pt x="6401" y="4180"/>
                      </a:lnTo>
                      <a:lnTo>
                        <a:pt x="6373" y="4197"/>
                      </a:lnTo>
                      <a:lnTo>
                        <a:pt x="6346" y="4212"/>
                      </a:lnTo>
                      <a:lnTo>
                        <a:pt x="6318" y="4227"/>
                      </a:lnTo>
                      <a:lnTo>
                        <a:pt x="6290" y="4244"/>
                      </a:lnTo>
                      <a:lnTo>
                        <a:pt x="6263" y="4259"/>
                      </a:lnTo>
                      <a:lnTo>
                        <a:pt x="6235" y="4276"/>
                      </a:lnTo>
                      <a:lnTo>
                        <a:pt x="6207" y="4291"/>
                      </a:lnTo>
                      <a:lnTo>
                        <a:pt x="6180" y="4306"/>
                      </a:lnTo>
                      <a:lnTo>
                        <a:pt x="6152" y="4306"/>
                      </a:lnTo>
                      <a:lnTo>
                        <a:pt x="6124" y="4323"/>
                      </a:lnTo>
                      <a:lnTo>
                        <a:pt x="6097" y="4338"/>
                      </a:lnTo>
                      <a:lnTo>
                        <a:pt x="6069" y="4355"/>
                      </a:lnTo>
                      <a:lnTo>
                        <a:pt x="6041" y="4370"/>
                      </a:lnTo>
                      <a:lnTo>
                        <a:pt x="6014" y="4370"/>
                      </a:lnTo>
                      <a:lnTo>
                        <a:pt x="5986" y="4385"/>
                      </a:lnTo>
                      <a:lnTo>
                        <a:pt x="5958" y="4402"/>
                      </a:lnTo>
                      <a:lnTo>
                        <a:pt x="5931" y="4402"/>
                      </a:lnTo>
                      <a:lnTo>
                        <a:pt x="5903" y="4417"/>
                      </a:lnTo>
                      <a:lnTo>
                        <a:pt x="5862" y="4417"/>
                      </a:lnTo>
                      <a:lnTo>
                        <a:pt x="5834" y="4417"/>
                      </a:lnTo>
                      <a:lnTo>
                        <a:pt x="5805" y="4417"/>
                      </a:lnTo>
                      <a:lnTo>
                        <a:pt x="5777" y="4417"/>
                      </a:lnTo>
                      <a:lnTo>
                        <a:pt x="5750" y="4417"/>
                      </a:lnTo>
                      <a:lnTo>
                        <a:pt x="5722" y="4417"/>
                      </a:lnTo>
                      <a:lnTo>
                        <a:pt x="5680" y="4417"/>
                      </a:lnTo>
                      <a:lnTo>
                        <a:pt x="5653" y="4417"/>
                      </a:lnTo>
                      <a:lnTo>
                        <a:pt x="5625" y="4417"/>
                      </a:lnTo>
                      <a:lnTo>
                        <a:pt x="5597" y="4417"/>
                      </a:lnTo>
                      <a:lnTo>
                        <a:pt x="5570" y="4417"/>
                      </a:lnTo>
                      <a:lnTo>
                        <a:pt x="5528" y="4417"/>
                      </a:lnTo>
                      <a:lnTo>
                        <a:pt x="5501" y="4417"/>
                      </a:lnTo>
                      <a:lnTo>
                        <a:pt x="5473" y="4417"/>
                      </a:lnTo>
                      <a:lnTo>
                        <a:pt x="5445" y="4417"/>
                      </a:lnTo>
                      <a:lnTo>
                        <a:pt x="5418" y="4417"/>
                      </a:lnTo>
                      <a:lnTo>
                        <a:pt x="5390" y="4417"/>
                      </a:lnTo>
                      <a:lnTo>
                        <a:pt x="5349" y="4417"/>
                      </a:lnTo>
                      <a:lnTo>
                        <a:pt x="5321" y="4417"/>
                      </a:lnTo>
                      <a:lnTo>
                        <a:pt x="5293" y="4417"/>
                      </a:lnTo>
                      <a:lnTo>
                        <a:pt x="5266" y="4417"/>
                      </a:lnTo>
                      <a:lnTo>
                        <a:pt x="5238" y="4417"/>
                      </a:lnTo>
                      <a:lnTo>
                        <a:pt x="5210" y="4417"/>
                      </a:lnTo>
                      <a:lnTo>
                        <a:pt x="5169" y="4417"/>
                      </a:lnTo>
                      <a:lnTo>
                        <a:pt x="5141" y="4417"/>
                      </a:lnTo>
                      <a:lnTo>
                        <a:pt x="5113" y="4417"/>
                      </a:lnTo>
                      <a:lnTo>
                        <a:pt x="5086" y="4417"/>
                      </a:lnTo>
                      <a:lnTo>
                        <a:pt x="5058" y="4417"/>
                      </a:lnTo>
                      <a:lnTo>
                        <a:pt x="5030" y="4417"/>
                      </a:lnTo>
                      <a:lnTo>
                        <a:pt x="4988" y="4417"/>
                      </a:lnTo>
                      <a:lnTo>
                        <a:pt x="4960" y="4417"/>
                      </a:lnTo>
                      <a:lnTo>
                        <a:pt x="4932" y="4417"/>
                      </a:lnTo>
                      <a:lnTo>
                        <a:pt x="4905" y="4417"/>
                      </a:lnTo>
                      <a:lnTo>
                        <a:pt x="4877" y="4417"/>
                      </a:lnTo>
                      <a:lnTo>
                        <a:pt x="4849" y="4417"/>
                      </a:lnTo>
                      <a:lnTo>
                        <a:pt x="4808" y="4417"/>
                      </a:lnTo>
                      <a:lnTo>
                        <a:pt x="4780" y="4417"/>
                      </a:lnTo>
                      <a:lnTo>
                        <a:pt x="4752" y="4417"/>
                      </a:lnTo>
                      <a:lnTo>
                        <a:pt x="4725" y="4417"/>
                      </a:lnTo>
                      <a:lnTo>
                        <a:pt x="4697" y="4417"/>
                      </a:lnTo>
                      <a:lnTo>
                        <a:pt x="4656" y="4417"/>
                      </a:lnTo>
                      <a:lnTo>
                        <a:pt x="4628" y="4417"/>
                      </a:lnTo>
                      <a:lnTo>
                        <a:pt x="4600" y="4417"/>
                      </a:lnTo>
                      <a:lnTo>
                        <a:pt x="4573" y="4417"/>
                      </a:lnTo>
                      <a:lnTo>
                        <a:pt x="4545" y="4417"/>
                      </a:lnTo>
                      <a:lnTo>
                        <a:pt x="4517" y="4417"/>
                      </a:lnTo>
                      <a:lnTo>
                        <a:pt x="4476" y="4417"/>
                      </a:lnTo>
                      <a:lnTo>
                        <a:pt x="4448" y="4417"/>
                      </a:lnTo>
                      <a:lnTo>
                        <a:pt x="4420" y="4417"/>
                      </a:lnTo>
                      <a:lnTo>
                        <a:pt x="4393" y="4417"/>
                      </a:lnTo>
                      <a:lnTo>
                        <a:pt x="4365" y="4417"/>
                      </a:lnTo>
                      <a:lnTo>
                        <a:pt x="4337" y="4417"/>
                      </a:lnTo>
                      <a:lnTo>
                        <a:pt x="4296" y="4417"/>
                      </a:lnTo>
                      <a:lnTo>
                        <a:pt x="4268" y="4417"/>
                      </a:lnTo>
                      <a:lnTo>
                        <a:pt x="4241" y="4417"/>
                      </a:lnTo>
                      <a:lnTo>
                        <a:pt x="4212" y="4417"/>
                      </a:lnTo>
                      <a:lnTo>
                        <a:pt x="4184" y="4417"/>
                      </a:lnTo>
                      <a:lnTo>
                        <a:pt x="4156" y="4417"/>
                      </a:lnTo>
                      <a:lnTo>
                        <a:pt x="4115" y="4417"/>
                      </a:lnTo>
                      <a:lnTo>
                        <a:pt x="4087" y="4417"/>
                      </a:lnTo>
                      <a:lnTo>
                        <a:pt x="4059" y="4417"/>
                      </a:lnTo>
                      <a:lnTo>
                        <a:pt x="4032" y="4417"/>
                      </a:lnTo>
                      <a:lnTo>
                        <a:pt x="4004" y="4417"/>
                      </a:lnTo>
                      <a:lnTo>
                        <a:pt x="3963" y="4417"/>
                      </a:lnTo>
                      <a:lnTo>
                        <a:pt x="3921" y="4417"/>
                      </a:lnTo>
                      <a:lnTo>
                        <a:pt x="3893" y="4417"/>
                      </a:lnTo>
                      <a:lnTo>
                        <a:pt x="3866" y="4417"/>
                      </a:lnTo>
                      <a:lnTo>
                        <a:pt x="3838" y="4417"/>
                      </a:lnTo>
                      <a:lnTo>
                        <a:pt x="3810" y="4417"/>
                      </a:lnTo>
                      <a:lnTo>
                        <a:pt x="3769" y="4417"/>
                      </a:lnTo>
                      <a:lnTo>
                        <a:pt x="3741" y="4417"/>
                      </a:lnTo>
                      <a:lnTo>
                        <a:pt x="3714" y="4417"/>
                      </a:lnTo>
                      <a:lnTo>
                        <a:pt x="3686" y="4417"/>
                      </a:lnTo>
                      <a:lnTo>
                        <a:pt x="3658" y="4417"/>
                      </a:lnTo>
                      <a:lnTo>
                        <a:pt x="3631" y="4417"/>
                      </a:lnTo>
                      <a:lnTo>
                        <a:pt x="3589" y="4417"/>
                      </a:lnTo>
                      <a:lnTo>
                        <a:pt x="3562" y="4417"/>
                      </a:lnTo>
                      <a:lnTo>
                        <a:pt x="3534" y="4417"/>
                      </a:lnTo>
                      <a:lnTo>
                        <a:pt x="3506" y="4417"/>
                      </a:lnTo>
                      <a:lnTo>
                        <a:pt x="3479" y="4417"/>
                      </a:lnTo>
                      <a:lnTo>
                        <a:pt x="3451" y="4417"/>
                      </a:lnTo>
                      <a:lnTo>
                        <a:pt x="3408" y="4417"/>
                      </a:lnTo>
                      <a:lnTo>
                        <a:pt x="3380" y="4417"/>
                      </a:lnTo>
                      <a:lnTo>
                        <a:pt x="3353" y="4417"/>
                      </a:lnTo>
                      <a:lnTo>
                        <a:pt x="3325" y="4417"/>
                      </a:lnTo>
                      <a:lnTo>
                        <a:pt x="3297" y="4417"/>
                      </a:lnTo>
                      <a:lnTo>
                        <a:pt x="3270" y="4417"/>
                      </a:lnTo>
                      <a:lnTo>
                        <a:pt x="3228" y="4417"/>
                      </a:lnTo>
                      <a:lnTo>
                        <a:pt x="3201" y="4417"/>
                      </a:lnTo>
                      <a:lnTo>
                        <a:pt x="3173" y="4417"/>
                      </a:lnTo>
                      <a:lnTo>
                        <a:pt x="3145" y="4417"/>
                      </a:lnTo>
                      <a:lnTo>
                        <a:pt x="3118" y="4417"/>
                      </a:lnTo>
                      <a:lnTo>
                        <a:pt x="3090" y="4417"/>
                      </a:lnTo>
                      <a:lnTo>
                        <a:pt x="3048" y="4417"/>
                      </a:lnTo>
                      <a:lnTo>
                        <a:pt x="3021" y="4417"/>
                      </a:lnTo>
                      <a:lnTo>
                        <a:pt x="2993" y="4417"/>
                      </a:lnTo>
                      <a:lnTo>
                        <a:pt x="2965" y="4417"/>
                      </a:lnTo>
                      <a:lnTo>
                        <a:pt x="2938" y="4417"/>
                      </a:lnTo>
                      <a:lnTo>
                        <a:pt x="2896" y="4417"/>
                      </a:lnTo>
                      <a:lnTo>
                        <a:pt x="2869" y="4417"/>
                      </a:lnTo>
                      <a:lnTo>
                        <a:pt x="2841" y="4417"/>
                      </a:lnTo>
                      <a:lnTo>
                        <a:pt x="2813" y="4417"/>
                      </a:lnTo>
                      <a:lnTo>
                        <a:pt x="2786" y="4417"/>
                      </a:lnTo>
                      <a:lnTo>
                        <a:pt x="2758" y="4417"/>
                      </a:lnTo>
                      <a:lnTo>
                        <a:pt x="2716" y="4417"/>
                      </a:lnTo>
                      <a:lnTo>
                        <a:pt x="2689" y="4417"/>
                      </a:lnTo>
                      <a:lnTo>
                        <a:pt x="2661" y="4417"/>
                      </a:lnTo>
                      <a:lnTo>
                        <a:pt x="2632" y="4417"/>
                      </a:lnTo>
                      <a:lnTo>
                        <a:pt x="2604" y="4417"/>
                      </a:lnTo>
                      <a:lnTo>
                        <a:pt x="2577" y="4417"/>
                      </a:lnTo>
                      <a:lnTo>
                        <a:pt x="2535" y="4417"/>
                      </a:lnTo>
                      <a:lnTo>
                        <a:pt x="2508" y="4417"/>
                      </a:lnTo>
                      <a:lnTo>
                        <a:pt x="2480" y="4417"/>
                      </a:lnTo>
                      <a:lnTo>
                        <a:pt x="2452" y="4417"/>
                      </a:lnTo>
                      <a:lnTo>
                        <a:pt x="2425" y="4417"/>
                      </a:lnTo>
                      <a:lnTo>
                        <a:pt x="2397" y="4417"/>
                      </a:lnTo>
                      <a:lnTo>
                        <a:pt x="2355" y="4417"/>
                      </a:lnTo>
                      <a:lnTo>
                        <a:pt x="2328" y="4417"/>
                      </a:lnTo>
                      <a:lnTo>
                        <a:pt x="2300" y="4417"/>
                      </a:lnTo>
                      <a:lnTo>
                        <a:pt x="2272" y="4417"/>
                      </a:lnTo>
                      <a:lnTo>
                        <a:pt x="2245" y="4417"/>
                      </a:lnTo>
                      <a:lnTo>
                        <a:pt x="2217" y="4417"/>
                      </a:lnTo>
                      <a:lnTo>
                        <a:pt x="2176" y="4417"/>
                      </a:lnTo>
                      <a:lnTo>
                        <a:pt x="2148" y="4417"/>
                      </a:lnTo>
                      <a:lnTo>
                        <a:pt x="2120" y="4417"/>
                      </a:lnTo>
                      <a:lnTo>
                        <a:pt x="2093" y="4417"/>
                      </a:lnTo>
                      <a:lnTo>
                        <a:pt x="2065" y="4417"/>
                      </a:lnTo>
                      <a:lnTo>
                        <a:pt x="2037" y="4417"/>
                      </a:lnTo>
                      <a:lnTo>
                        <a:pt x="1996" y="4417"/>
                      </a:lnTo>
                      <a:lnTo>
                        <a:pt x="1968" y="4417"/>
                      </a:lnTo>
                      <a:lnTo>
                        <a:pt x="1940" y="4417"/>
                      </a:lnTo>
                      <a:lnTo>
                        <a:pt x="1913" y="4417"/>
                      </a:lnTo>
                      <a:lnTo>
                        <a:pt x="1885" y="4417"/>
                      </a:lnTo>
                      <a:lnTo>
                        <a:pt x="1844" y="4417"/>
                      </a:lnTo>
                      <a:lnTo>
                        <a:pt x="1815" y="4417"/>
                      </a:lnTo>
                      <a:lnTo>
                        <a:pt x="1787" y="4417"/>
                      </a:lnTo>
                      <a:close/>
                    </a:path>
                  </a:pathLst>
                </a:cu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" name=""/>
                <p:cNvGrpSpPr/>
                <p:nvPr/>
              </p:nvGrpSpPr>
              <p:grpSpPr>
                <a:xfrm>
                  <a:off x="5000760" y="2460600"/>
                  <a:ext cx="4054320" cy="2338560"/>
                  <a:chOff x="5000760" y="2460600"/>
                  <a:chExt cx="4054320" cy="2338560"/>
                </a:xfrm>
              </p:grpSpPr>
              <p:sp>
                <p:nvSpPr>
                  <p:cNvPr id="60" name=""/>
                  <p:cNvSpPr/>
                  <p:nvPr/>
                </p:nvSpPr>
                <p:spPr>
                  <a:xfrm>
                    <a:off x="5000760" y="2460600"/>
                    <a:ext cx="4054320" cy="2338560"/>
                  </a:xfrm>
                  <a:custGeom>
                    <a:avLst/>
                    <a:gdLst/>
                    <a:ahLst/>
                    <a:rect l="l" t="t" r="r" b="b"/>
                    <a:pathLst>
                      <a:path w="7662" h="4417">
                        <a:moveTo>
                          <a:pt x="1787" y="4417"/>
                        </a:moveTo>
                        <a:lnTo>
                          <a:pt x="1759" y="4417"/>
                        </a:lnTo>
                        <a:lnTo>
                          <a:pt x="1732" y="4402"/>
                        </a:lnTo>
                        <a:lnTo>
                          <a:pt x="1704" y="4402"/>
                        </a:lnTo>
                        <a:lnTo>
                          <a:pt x="1676" y="4385"/>
                        </a:lnTo>
                        <a:lnTo>
                          <a:pt x="1635" y="4370"/>
                        </a:lnTo>
                        <a:lnTo>
                          <a:pt x="1607" y="4370"/>
                        </a:lnTo>
                        <a:lnTo>
                          <a:pt x="1580" y="4355"/>
                        </a:lnTo>
                        <a:lnTo>
                          <a:pt x="1552" y="4338"/>
                        </a:lnTo>
                        <a:lnTo>
                          <a:pt x="1524" y="4323"/>
                        </a:lnTo>
                        <a:lnTo>
                          <a:pt x="1497" y="4306"/>
                        </a:lnTo>
                        <a:lnTo>
                          <a:pt x="1469" y="4306"/>
                        </a:lnTo>
                        <a:lnTo>
                          <a:pt x="1441" y="4291"/>
                        </a:lnTo>
                        <a:lnTo>
                          <a:pt x="1414" y="4276"/>
                        </a:lnTo>
                        <a:lnTo>
                          <a:pt x="1386" y="4259"/>
                        </a:lnTo>
                        <a:lnTo>
                          <a:pt x="1358" y="4244"/>
                        </a:lnTo>
                        <a:lnTo>
                          <a:pt x="1331" y="4227"/>
                        </a:lnTo>
                        <a:lnTo>
                          <a:pt x="1289" y="4212"/>
                        </a:lnTo>
                        <a:lnTo>
                          <a:pt x="1261" y="4197"/>
                        </a:lnTo>
                        <a:lnTo>
                          <a:pt x="1234" y="4180"/>
                        </a:lnTo>
                        <a:lnTo>
                          <a:pt x="1206" y="4165"/>
                        </a:lnTo>
                        <a:lnTo>
                          <a:pt x="1178" y="4148"/>
                        </a:lnTo>
                        <a:lnTo>
                          <a:pt x="1151" y="4133"/>
                        </a:lnTo>
                        <a:lnTo>
                          <a:pt x="1137" y="4118"/>
                        </a:lnTo>
                        <a:lnTo>
                          <a:pt x="1109" y="4101"/>
                        </a:lnTo>
                        <a:lnTo>
                          <a:pt x="1082" y="4086"/>
                        </a:lnTo>
                        <a:lnTo>
                          <a:pt x="1054" y="4070"/>
                        </a:lnTo>
                        <a:lnTo>
                          <a:pt x="1025" y="4054"/>
                        </a:lnTo>
                        <a:lnTo>
                          <a:pt x="997" y="4039"/>
                        </a:lnTo>
                        <a:lnTo>
                          <a:pt x="970" y="4007"/>
                        </a:lnTo>
                        <a:lnTo>
                          <a:pt x="942" y="3991"/>
                        </a:lnTo>
                        <a:lnTo>
                          <a:pt x="928" y="3975"/>
                        </a:lnTo>
                        <a:lnTo>
                          <a:pt x="900" y="3960"/>
                        </a:lnTo>
                        <a:lnTo>
                          <a:pt x="873" y="3944"/>
                        </a:lnTo>
                        <a:lnTo>
                          <a:pt x="845" y="3912"/>
                        </a:lnTo>
                        <a:lnTo>
                          <a:pt x="817" y="3897"/>
                        </a:lnTo>
                        <a:lnTo>
                          <a:pt x="804" y="3881"/>
                        </a:lnTo>
                        <a:lnTo>
                          <a:pt x="776" y="3850"/>
                        </a:lnTo>
                        <a:lnTo>
                          <a:pt x="748" y="3833"/>
                        </a:lnTo>
                        <a:lnTo>
                          <a:pt x="721" y="3818"/>
                        </a:lnTo>
                        <a:lnTo>
                          <a:pt x="707" y="3786"/>
                        </a:lnTo>
                        <a:lnTo>
                          <a:pt x="679" y="3771"/>
                        </a:lnTo>
                        <a:lnTo>
                          <a:pt x="651" y="3739"/>
                        </a:lnTo>
                        <a:lnTo>
                          <a:pt x="624" y="3724"/>
                        </a:lnTo>
                        <a:lnTo>
                          <a:pt x="610" y="3707"/>
                        </a:lnTo>
                        <a:lnTo>
                          <a:pt x="582" y="3675"/>
                        </a:lnTo>
                        <a:lnTo>
                          <a:pt x="555" y="3660"/>
                        </a:lnTo>
                        <a:lnTo>
                          <a:pt x="541" y="3628"/>
                        </a:lnTo>
                        <a:lnTo>
                          <a:pt x="513" y="3613"/>
                        </a:lnTo>
                        <a:lnTo>
                          <a:pt x="499" y="3581"/>
                        </a:lnTo>
                        <a:lnTo>
                          <a:pt x="472" y="3566"/>
                        </a:lnTo>
                        <a:lnTo>
                          <a:pt x="444" y="3534"/>
                        </a:lnTo>
                        <a:lnTo>
                          <a:pt x="430" y="3502"/>
                        </a:lnTo>
                        <a:lnTo>
                          <a:pt x="402" y="3487"/>
                        </a:lnTo>
                        <a:lnTo>
                          <a:pt x="389" y="3455"/>
                        </a:lnTo>
                        <a:lnTo>
                          <a:pt x="361" y="3423"/>
                        </a:lnTo>
                        <a:lnTo>
                          <a:pt x="347" y="3408"/>
                        </a:lnTo>
                        <a:lnTo>
                          <a:pt x="333" y="3376"/>
                        </a:lnTo>
                        <a:lnTo>
                          <a:pt x="306" y="3345"/>
                        </a:lnTo>
                        <a:lnTo>
                          <a:pt x="292" y="3313"/>
                        </a:lnTo>
                        <a:lnTo>
                          <a:pt x="278" y="3297"/>
                        </a:lnTo>
                        <a:lnTo>
                          <a:pt x="250" y="3266"/>
                        </a:lnTo>
                        <a:lnTo>
                          <a:pt x="235" y="3234"/>
                        </a:lnTo>
                        <a:lnTo>
                          <a:pt x="221" y="3202"/>
                        </a:lnTo>
                        <a:lnTo>
                          <a:pt x="207" y="3172"/>
                        </a:lnTo>
                        <a:lnTo>
                          <a:pt x="194" y="3140"/>
                        </a:lnTo>
                        <a:lnTo>
                          <a:pt x="166" y="3108"/>
                        </a:lnTo>
                        <a:lnTo>
                          <a:pt x="152" y="3076"/>
                        </a:lnTo>
                        <a:lnTo>
                          <a:pt x="138" y="3044"/>
                        </a:lnTo>
                        <a:lnTo>
                          <a:pt x="124" y="3014"/>
                        </a:lnTo>
                        <a:lnTo>
                          <a:pt x="124" y="2982"/>
                        </a:lnTo>
                        <a:lnTo>
                          <a:pt x="111" y="2950"/>
                        </a:lnTo>
                        <a:lnTo>
                          <a:pt x="97" y="2918"/>
                        </a:lnTo>
                        <a:lnTo>
                          <a:pt x="83" y="2887"/>
                        </a:lnTo>
                        <a:lnTo>
                          <a:pt x="83" y="2856"/>
                        </a:lnTo>
                        <a:lnTo>
                          <a:pt x="69" y="2824"/>
                        </a:lnTo>
                        <a:lnTo>
                          <a:pt x="55" y="2777"/>
                        </a:lnTo>
                        <a:lnTo>
                          <a:pt x="55" y="2745"/>
                        </a:lnTo>
                        <a:lnTo>
                          <a:pt x="41" y="2714"/>
                        </a:lnTo>
                        <a:lnTo>
                          <a:pt x="28" y="2667"/>
                        </a:lnTo>
                        <a:lnTo>
                          <a:pt x="28" y="2635"/>
                        </a:lnTo>
                        <a:lnTo>
                          <a:pt x="14" y="2588"/>
                        </a:lnTo>
                        <a:lnTo>
                          <a:pt x="14" y="2556"/>
                        </a:lnTo>
                        <a:lnTo>
                          <a:pt x="0" y="2509"/>
                        </a:lnTo>
                        <a:lnTo>
                          <a:pt x="0" y="2477"/>
                        </a:lnTo>
                        <a:lnTo>
                          <a:pt x="0" y="2445"/>
                        </a:lnTo>
                        <a:lnTo>
                          <a:pt x="0" y="2398"/>
                        </a:lnTo>
                        <a:lnTo>
                          <a:pt x="0" y="2366"/>
                        </a:lnTo>
                        <a:lnTo>
                          <a:pt x="0" y="2334"/>
                        </a:lnTo>
                        <a:lnTo>
                          <a:pt x="0" y="2304"/>
                        </a:lnTo>
                        <a:lnTo>
                          <a:pt x="0" y="2256"/>
                        </a:lnTo>
                        <a:lnTo>
                          <a:pt x="0" y="2225"/>
                        </a:lnTo>
                        <a:lnTo>
                          <a:pt x="0" y="2193"/>
                        </a:lnTo>
                        <a:lnTo>
                          <a:pt x="0" y="2145"/>
                        </a:lnTo>
                        <a:lnTo>
                          <a:pt x="0" y="2114"/>
                        </a:lnTo>
                        <a:lnTo>
                          <a:pt x="0" y="2066"/>
                        </a:lnTo>
                        <a:lnTo>
                          <a:pt x="0" y="2036"/>
                        </a:lnTo>
                        <a:lnTo>
                          <a:pt x="0" y="1987"/>
                        </a:lnTo>
                        <a:lnTo>
                          <a:pt x="14" y="1940"/>
                        </a:lnTo>
                        <a:lnTo>
                          <a:pt x="14" y="1893"/>
                        </a:lnTo>
                        <a:lnTo>
                          <a:pt x="28" y="1846"/>
                        </a:lnTo>
                        <a:lnTo>
                          <a:pt x="28" y="1799"/>
                        </a:lnTo>
                        <a:lnTo>
                          <a:pt x="41" y="1767"/>
                        </a:lnTo>
                        <a:lnTo>
                          <a:pt x="41" y="1735"/>
                        </a:lnTo>
                        <a:lnTo>
                          <a:pt x="55" y="1703"/>
                        </a:lnTo>
                        <a:lnTo>
                          <a:pt x="55" y="1672"/>
                        </a:lnTo>
                        <a:lnTo>
                          <a:pt x="69" y="1641"/>
                        </a:lnTo>
                        <a:lnTo>
                          <a:pt x="69" y="1609"/>
                        </a:lnTo>
                        <a:lnTo>
                          <a:pt x="83" y="1578"/>
                        </a:lnTo>
                        <a:lnTo>
                          <a:pt x="97" y="1546"/>
                        </a:lnTo>
                        <a:lnTo>
                          <a:pt x="111" y="1514"/>
                        </a:lnTo>
                        <a:lnTo>
                          <a:pt x="111" y="1483"/>
                        </a:lnTo>
                        <a:lnTo>
                          <a:pt x="124" y="1452"/>
                        </a:lnTo>
                        <a:lnTo>
                          <a:pt x="138" y="1420"/>
                        </a:lnTo>
                        <a:lnTo>
                          <a:pt x="152" y="1388"/>
                        </a:lnTo>
                        <a:lnTo>
                          <a:pt x="166" y="1356"/>
                        </a:lnTo>
                        <a:lnTo>
                          <a:pt x="180" y="1326"/>
                        </a:lnTo>
                        <a:lnTo>
                          <a:pt x="194" y="1294"/>
                        </a:lnTo>
                        <a:lnTo>
                          <a:pt x="207" y="1262"/>
                        </a:lnTo>
                        <a:lnTo>
                          <a:pt x="221" y="1247"/>
                        </a:lnTo>
                        <a:lnTo>
                          <a:pt x="235" y="1198"/>
                        </a:lnTo>
                        <a:lnTo>
                          <a:pt x="264" y="1168"/>
                        </a:lnTo>
                        <a:lnTo>
                          <a:pt x="278" y="1136"/>
                        </a:lnTo>
                        <a:lnTo>
                          <a:pt x="292" y="1120"/>
                        </a:lnTo>
                        <a:lnTo>
                          <a:pt x="306" y="1089"/>
                        </a:lnTo>
                        <a:lnTo>
                          <a:pt x="333" y="1057"/>
                        </a:lnTo>
                        <a:lnTo>
                          <a:pt x="347" y="1041"/>
                        </a:lnTo>
                        <a:lnTo>
                          <a:pt x="361" y="1010"/>
                        </a:lnTo>
                        <a:lnTo>
                          <a:pt x="389" y="978"/>
                        </a:lnTo>
                        <a:lnTo>
                          <a:pt x="402" y="962"/>
                        </a:lnTo>
                        <a:lnTo>
                          <a:pt x="430" y="931"/>
                        </a:lnTo>
                        <a:lnTo>
                          <a:pt x="444" y="915"/>
                        </a:lnTo>
                        <a:lnTo>
                          <a:pt x="472" y="883"/>
                        </a:lnTo>
                        <a:lnTo>
                          <a:pt x="485" y="852"/>
                        </a:lnTo>
                        <a:lnTo>
                          <a:pt x="513" y="836"/>
                        </a:lnTo>
                        <a:lnTo>
                          <a:pt x="527" y="804"/>
                        </a:lnTo>
                        <a:lnTo>
                          <a:pt x="555" y="789"/>
                        </a:lnTo>
                        <a:lnTo>
                          <a:pt x="568" y="757"/>
                        </a:lnTo>
                        <a:lnTo>
                          <a:pt x="596" y="742"/>
                        </a:lnTo>
                        <a:lnTo>
                          <a:pt x="624" y="725"/>
                        </a:lnTo>
                        <a:lnTo>
                          <a:pt x="638" y="695"/>
                        </a:lnTo>
                        <a:lnTo>
                          <a:pt x="665" y="678"/>
                        </a:lnTo>
                        <a:lnTo>
                          <a:pt x="679" y="646"/>
                        </a:lnTo>
                        <a:lnTo>
                          <a:pt x="707" y="631"/>
                        </a:lnTo>
                        <a:lnTo>
                          <a:pt x="734" y="616"/>
                        </a:lnTo>
                        <a:lnTo>
                          <a:pt x="762" y="584"/>
                        </a:lnTo>
                        <a:lnTo>
                          <a:pt x="776" y="567"/>
                        </a:lnTo>
                        <a:lnTo>
                          <a:pt x="804" y="552"/>
                        </a:lnTo>
                        <a:lnTo>
                          <a:pt x="831" y="537"/>
                        </a:lnTo>
                        <a:lnTo>
                          <a:pt x="859" y="505"/>
                        </a:lnTo>
                        <a:lnTo>
                          <a:pt x="873" y="489"/>
                        </a:lnTo>
                        <a:lnTo>
                          <a:pt x="900" y="473"/>
                        </a:lnTo>
                        <a:lnTo>
                          <a:pt x="928" y="458"/>
                        </a:lnTo>
                        <a:lnTo>
                          <a:pt x="956" y="426"/>
                        </a:lnTo>
                        <a:lnTo>
                          <a:pt x="970" y="410"/>
                        </a:lnTo>
                        <a:lnTo>
                          <a:pt x="997" y="395"/>
                        </a:lnTo>
                        <a:lnTo>
                          <a:pt x="1025" y="379"/>
                        </a:lnTo>
                        <a:lnTo>
                          <a:pt x="1054" y="363"/>
                        </a:lnTo>
                        <a:lnTo>
                          <a:pt x="1082" y="347"/>
                        </a:lnTo>
                        <a:lnTo>
                          <a:pt x="1109" y="331"/>
                        </a:lnTo>
                        <a:lnTo>
                          <a:pt x="1137" y="300"/>
                        </a:lnTo>
                        <a:lnTo>
                          <a:pt x="1165" y="284"/>
                        </a:lnTo>
                        <a:lnTo>
                          <a:pt x="1192" y="269"/>
                        </a:lnTo>
                        <a:lnTo>
                          <a:pt x="1220" y="252"/>
                        </a:lnTo>
                        <a:lnTo>
                          <a:pt x="1248" y="237"/>
                        </a:lnTo>
                        <a:lnTo>
                          <a:pt x="1275" y="222"/>
                        </a:lnTo>
                        <a:lnTo>
                          <a:pt x="1303" y="205"/>
                        </a:lnTo>
                        <a:lnTo>
                          <a:pt x="1344" y="190"/>
                        </a:lnTo>
                        <a:lnTo>
                          <a:pt x="1372" y="173"/>
                        </a:lnTo>
                        <a:lnTo>
                          <a:pt x="1414" y="158"/>
                        </a:lnTo>
                        <a:lnTo>
                          <a:pt x="1441" y="143"/>
                        </a:lnTo>
                        <a:lnTo>
                          <a:pt x="1469" y="126"/>
                        </a:lnTo>
                        <a:lnTo>
                          <a:pt x="1497" y="126"/>
                        </a:lnTo>
                        <a:lnTo>
                          <a:pt x="1524" y="111"/>
                        </a:lnTo>
                        <a:lnTo>
                          <a:pt x="1566" y="94"/>
                        </a:lnTo>
                        <a:lnTo>
                          <a:pt x="1593" y="79"/>
                        </a:lnTo>
                        <a:lnTo>
                          <a:pt x="1635" y="64"/>
                        </a:lnTo>
                        <a:lnTo>
                          <a:pt x="1676" y="47"/>
                        </a:lnTo>
                        <a:lnTo>
                          <a:pt x="1704" y="32"/>
                        </a:lnTo>
                        <a:lnTo>
                          <a:pt x="1745" y="15"/>
                        </a:lnTo>
                        <a:lnTo>
                          <a:pt x="1773" y="15"/>
                        </a:lnTo>
                        <a:lnTo>
                          <a:pt x="1787" y="0"/>
                        </a:lnTo>
                        <a:lnTo>
                          <a:pt x="1815" y="0"/>
                        </a:lnTo>
                        <a:lnTo>
                          <a:pt x="1844" y="0"/>
                        </a:lnTo>
                        <a:lnTo>
                          <a:pt x="1885" y="0"/>
                        </a:lnTo>
                        <a:lnTo>
                          <a:pt x="1913" y="0"/>
                        </a:lnTo>
                        <a:lnTo>
                          <a:pt x="1940" y="0"/>
                        </a:lnTo>
                        <a:lnTo>
                          <a:pt x="1968" y="0"/>
                        </a:lnTo>
                        <a:lnTo>
                          <a:pt x="1996" y="0"/>
                        </a:lnTo>
                        <a:lnTo>
                          <a:pt x="2037" y="0"/>
                        </a:lnTo>
                        <a:lnTo>
                          <a:pt x="2065" y="0"/>
                        </a:lnTo>
                        <a:lnTo>
                          <a:pt x="2093" y="0"/>
                        </a:lnTo>
                        <a:lnTo>
                          <a:pt x="2120" y="0"/>
                        </a:lnTo>
                        <a:lnTo>
                          <a:pt x="2148" y="0"/>
                        </a:lnTo>
                        <a:lnTo>
                          <a:pt x="2176" y="0"/>
                        </a:lnTo>
                        <a:lnTo>
                          <a:pt x="2217" y="0"/>
                        </a:lnTo>
                        <a:lnTo>
                          <a:pt x="2245" y="0"/>
                        </a:lnTo>
                        <a:lnTo>
                          <a:pt x="2272" y="0"/>
                        </a:lnTo>
                        <a:lnTo>
                          <a:pt x="2300" y="0"/>
                        </a:lnTo>
                        <a:lnTo>
                          <a:pt x="2328" y="0"/>
                        </a:lnTo>
                        <a:lnTo>
                          <a:pt x="2355" y="0"/>
                        </a:lnTo>
                        <a:lnTo>
                          <a:pt x="2397" y="0"/>
                        </a:lnTo>
                        <a:lnTo>
                          <a:pt x="2425" y="0"/>
                        </a:lnTo>
                        <a:lnTo>
                          <a:pt x="2452" y="0"/>
                        </a:lnTo>
                        <a:lnTo>
                          <a:pt x="2480" y="0"/>
                        </a:lnTo>
                        <a:lnTo>
                          <a:pt x="2508" y="0"/>
                        </a:lnTo>
                        <a:lnTo>
                          <a:pt x="2535" y="0"/>
                        </a:lnTo>
                        <a:lnTo>
                          <a:pt x="2577" y="0"/>
                        </a:lnTo>
                        <a:lnTo>
                          <a:pt x="2604" y="0"/>
                        </a:lnTo>
                        <a:lnTo>
                          <a:pt x="2632" y="0"/>
                        </a:lnTo>
                        <a:lnTo>
                          <a:pt x="2661" y="0"/>
                        </a:lnTo>
                        <a:lnTo>
                          <a:pt x="2689" y="0"/>
                        </a:lnTo>
                        <a:lnTo>
                          <a:pt x="2716" y="0"/>
                        </a:lnTo>
                        <a:lnTo>
                          <a:pt x="2758" y="0"/>
                        </a:lnTo>
                        <a:lnTo>
                          <a:pt x="2786" y="0"/>
                        </a:lnTo>
                        <a:lnTo>
                          <a:pt x="2813" y="0"/>
                        </a:lnTo>
                        <a:lnTo>
                          <a:pt x="2841" y="0"/>
                        </a:lnTo>
                        <a:lnTo>
                          <a:pt x="2869" y="0"/>
                        </a:lnTo>
                        <a:lnTo>
                          <a:pt x="2896" y="0"/>
                        </a:lnTo>
                        <a:lnTo>
                          <a:pt x="2938" y="0"/>
                        </a:lnTo>
                        <a:lnTo>
                          <a:pt x="2965" y="0"/>
                        </a:lnTo>
                        <a:lnTo>
                          <a:pt x="2993" y="0"/>
                        </a:lnTo>
                        <a:lnTo>
                          <a:pt x="3021" y="0"/>
                        </a:lnTo>
                        <a:lnTo>
                          <a:pt x="3048" y="0"/>
                        </a:lnTo>
                        <a:lnTo>
                          <a:pt x="3090" y="0"/>
                        </a:lnTo>
                        <a:lnTo>
                          <a:pt x="3118" y="0"/>
                        </a:lnTo>
                        <a:lnTo>
                          <a:pt x="3145" y="0"/>
                        </a:lnTo>
                        <a:lnTo>
                          <a:pt x="3173" y="0"/>
                        </a:lnTo>
                        <a:lnTo>
                          <a:pt x="3201" y="0"/>
                        </a:lnTo>
                        <a:lnTo>
                          <a:pt x="3228" y="0"/>
                        </a:lnTo>
                        <a:lnTo>
                          <a:pt x="3270" y="0"/>
                        </a:lnTo>
                        <a:lnTo>
                          <a:pt x="3297" y="0"/>
                        </a:lnTo>
                        <a:lnTo>
                          <a:pt x="3325" y="0"/>
                        </a:lnTo>
                        <a:lnTo>
                          <a:pt x="3353" y="0"/>
                        </a:lnTo>
                        <a:lnTo>
                          <a:pt x="3380" y="0"/>
                        </a:lnTo>
                        <a:lnTo>
                          <a:pt x="3408" y="0"/>
                        </a:lnTo>
                        <a:lnTo>
                          <a:pt x="3451" y="0"/>
                        </a:lnTo>
                        <a:lnTo>
                          <a:pt x="3479" y="0"/>
                        </a:lnTo>
                        <a:lnTo>
                          <a:pt x="3506" y="0"/>
                        </a:lnTo>
                        <a:lnTo>
                          <a:pt x="3534" y="0"/>
                        </a:lnTo>
                        <a:lnTo>
                          <a:pt x="3562" y="0"/>
                        </a:lnTo>
                        <a:lnTo>
                          <a:pt x="3589" y="0"/>
                        </a:lnTo>
                        <a:lnTo>
                          <a:pt x="3631" y="0"/>
                        </a:lnTo>
                        <a:lnTo>
                          <a:pt x="3658" y="0"/>
                        </a:lnTo>
                        <a:lnTo>
                          <a:pt x="3686" y="0"/>
                        </a:lnTo>
                        <a:lnTo>
                          <a:pt x="3714" y="0"/>
                        </a:lnTo>
                        <a:lnTo>
                          <a:pt x="3741" y="0"/>
                        </a:lnTo>
                        <a:lnTo>
                          <a:pt x="3769" y="0"/>
                        </a:lnTo>
                        <a:lnTo>
                          <a:pt x="3810" y="0"/>
                        </a:lnTo>
                        <a:lnTo>
                          <a:pt x="3838" y="0"/>
                        </a:lnTo>
                        <a:lnTo>
                          <a:pt x="3866" y="0"/>
                        </a:lnTo>
                        <a:lnTo>
                          <a:pt x="3893" y="0"/>
                        </a:lnTo>
                        <a:lnTo>
                          <a:pt x="3921" y="0"/>
                        </a:lnTo>
                        <a:lnTo>
                          <a:pt x="3963" y="0"/>
                        </a:lnTo>
                        <a:lnTo>
                          <a:pt x="4004" y="0"/>
                        </a:lnTo>
                        <a:lnTo>
                          <a:pt x="4032" y="0"/>
                        </a:lnTo>
                        <a:lnTo>
                          <a:pt x="4059" y="0"/>
                        </a:lnTo>
                        <a:lnTo>
                          <a:pt x="4087" y="0"/>
                        </a:lnTo>
                        <a:lnTo>
                          <a:pt x="4115" y="0"/>
                        </a:lnTo>
                        <a:lnTo>
                          <a:pt x="4156" y="0"/>
                        </a:lnTo>
                        <a:lnTo>
                          <a:pt x="4184" y="0"/>
                        </a:lnTo>
                        <a:lnTo>
                          <a:pt x="4212" y="0"/>
                        </a:lnTo>
                        <a:lnTo>
                          <a:pt x="4241" y="0"/>
                        </a:lnTo>
                        <a:lnTo>
                          <a:pt x="4268" y="0"/>
                        </a:lnTo>
                        <a:lnTo>
                          <a:pt x="4296" y="0"/>
                        </a:lnTo>
                        <a:lnTo>
                          <a:pt x="4337" y="0"/>
                        </a:lnTo>
                        <a:lnTo>
                          <a:pt x="4365" y="0"/>
                        </a:lnTo>
                        <a:lnTo>
                          <a:pt x="4393" y="0"/>
                        </a:lnTo>
                        <a:lnTo>
                          <a:pt x="4420" y="0"/>
                        </a:lnTo>
                        <a:lnTo>
                          <a:pt x="4448" y="0"/>
                        </a:lnTo>
                        <a:lnTo>
                          <a:pt x="4476" y="0"/>
                        </a:lnTo>
                        <a:lnTo>
                          <a:pt x="4517" y="0"/>
                        </a:lnTo>
                        <a:lnTo>
                          <a:pt x="4545" y="0"/>
                        </a:lnTo>
                        <a:lnTo>
                          <a:pt x="4573" y="0"/>
                        </a:lnTo>
                        <a:lnTo>
                          <a:pt x="4600" y="0"/>
                        </a:lnTo>
                        <a:lnTo>
                          <a:pt x="4628" y="0"/>
                        </a:lnTo>
                        <a:lnTo>
                          <a:pt x="4656" y="0"/>
                        </a:lnTo>
                        <a:lnTo>
                          <a:pt x="4697" y="0"/>
                        </a:lnTo>
                        <a:lnTo>
                          <a:pt x="4725" y="0"/>
                        </a:lnTo>
                        <a:lnTo>
                          <a:pt x="4752" y="0"/>
                        </a:lnTo>
                        <a:lnTo>
                          <a:pt x="4780" y="0"/>
                        </a:lnTo>
                        <a:lnTo>
                          <a:pt x="4808" y="0"/>
                        </a:lnTo>
                        <a:lnTo>
                          <a:pt x="4849" y="0"/>
                        </a:lnTo>
                        <a:lnTo>
                          <a:pt x="4877" y="0"/>
                        </a:lnTo>
                        <a:lnTo>
                          <a:pt x="4905" y="0"/>
                        </a:lnTo>
                        <a:lnTo>
                          <a:pt x="4932" y="0"/>
                        </a:lnTo>
                        <a:lnTo>
                          <a:pt x="4960" y="0"/>
                        </a:lnTo>
                        <a:lnTo>
                          <a:pt x="4988" y="0"/>
                        </a:lnTo>
                        <a:lnTo>
                          <a:pt x="5030" y="0"/>
                        </a:lnTo>
                        <a:lnTo>
                          <a:pt x="5058" y="0"/>
                        </a:lnTo>
                        <a:lnTo>
                          <a:pt x="5086" y="0"/>
                        </a:lnTo>
                        <a:lnTo>
                          <a:pt x="5113" y="0"/>
                        </a:lnTo>
                        <a:lnTo>
                          <a:pt x="5141" y="0"/>
                        </a:lnTo>
                        <a:lnTo>
                          <a:pt x="5169" y="0"/>
                        </a:lnTo>
                        <a:lnTo>
                          <a:pt x="5210" y="0"/>
                        </a:lnTo>
                        <a:lnTo>
                          <a:pt x="5238" y="0"/>
                        </a:lnTo>
                        <a:lnTo>
                          <a:pt x="5266" y="0"/>
                        </a:lnTo>
                        <a:lnTo>
                          <a:pt x="5293" y="0"/>
                        </a:lnTo>
                        <a:lnTo>
                          <a:pt x="5321" y="0"/>
                        </a:lnTo>
                        <a:lnTo>
                          <a:pt x="5349" y="0"/>
                        </a:lnTo>
                        <a:lnTo>
                          <a:pt x="5390" y="0"/>
                        </a:lnTo>
                        <a:lnTo>
                          <a:pt x="5418" y="0"/>
                        </a:lnTo>
                        <a:lnTo>
                          <a:pt x="5445" y="0"/>
                        </a:lnTo>
                        <a:lnTo>
                          <a:pt x="5473" y="0"/>
                        </a:lnTo>
                        <a:lnTo>
                          <a:pt x="5501" y="0"/>
                        </a:lnTo>
                        <a:lnTo>
                          <a:pt x="5528" y="0"/>
                        </a:lnTo>
                        <a:lnTo>
                          <a:pt x="5570" y="0"/>
                        </a:lnTo>
                        <a:lnTo>
                          <a:pt x="5597" y="0"/>
                        </a:lnTo>
                        <a:lnTo>
                          <a:pt x="5625" y="0"/>
                        </a:lnTo>
                        <a:lnTo>
                          <a:pt x="5653" y="0"/>
                        </a:lnTo>
                        <a:lnTo>
                          <a:pt x="5680" y="0"/>
                        </a:lnTo>
                        <a:lnTo>
                          <a:pt x="5722" y="0"/>
                        </a:lnTo>
                        <a:lnTo>
                          <a:pt x="5750" y="0"/>
                        </a:lnTo>
                        <a:lnTo>
                          <a:pt x="5777" y="0"/>
                        </a:lnTo>
                        <a:lnTo>
                          <a:pt x="5805" y="0"/>
                        </a:lnTo>
                        <a:lnTo>
                          <a:pt x="5834" y="0"/>
                        </a:lnTo>
                        <a:lnTo>
                          <a:pt x="5862" y="0"/>
                        </a:lnTo>
                        <a:lnTo>
                          <a:pt x="5875" y="15"/>
                        </a:lnTo>
                        <a:lnTo>
                          <a:pt x="5917" y="15"/>
                        </a:lnTo>
                        <a:lnTo>
                          <a:pt x="5945" y="32"/>
                        </a:lnTo>
                        <a:lnTo>
                          <a:pt x="5986" y="47"/>
                        </a:lnTo>
                        <a:lnTo>
                          <a:pt x="6028" y="64"/>
                        </a:lnTo>
                        <a:lnTo>
                          <a:pt x="6055" y="79"/>
                        </a:lnTo>
                        <a:lnTo>
                          <a:pt x="6097" y="94"/>
                        </a:lnTo>
                        <a:lnTo>
                          <a:pt x="6124" y="111"/>
                        </a:lnTo>
                        <a:lnTo>
                          <a:pt x="6152" y="126"/>
                        </a:lnTo>
                        <a:lnTo>
                          <a:pt x="6180" y="126"/>
                        </a:lnTo>
                        <a:lnTo>
                          <a:pt x="6221" y="143"/>
                        </a:lnTo>
                        <a:lnTo>
                          <a:pt x="6249" y="158"/>
                        </a:lnTo>
                        <a:lnTo>
                          <a:pt x="6277" y="173"/>
                        </a:lnTo>
                        <a:lnTo>
                          <a:pt x="6304" y="190"/>
                        </a:lnTo>
                        <a:lnTo>
                          <a:pt x="6332" y="205"/>
                        </a:lnTo>
                        <a:lnTo>
                          <a:pt x="6360" y="222"/>
                        </a:lnTo>
                        <a:lnTo>
                          <a:pt x="6401" y="237"/>
                        </a:lnTo>
                        <a:lnTo>
                          <a:pt x="6429" y="252"/>
                        </a:lnTo>
                        <a:lnTo>
                          <a:pt x="6456" y="269"/>
                        </a:lnTo>
                        <a:lnTo>
                          <a:pt x="6484" y="284"/>
                        </a:lnTo>
                        <a:lnTo>
                          <a:pt x="6512" y="300"/>
                        </a:lnTo>
                        <a:lnTo>
                          <a:pt x="6539" y="331"/>
                        </a:lnTo>
                        <a:lnTo>
                          <a:pt x="6567" y="347"/>
                        </a:lnTo>
                        <a:lnTo>
                          <a:pt x="6595" y="363"/>
                        </a:lnTo>
                        <a:lnTo>
                          <a:pt x="6624" y="379"/>
                        </a:lnTo>
                        <a:lnTo>
                          <a:pt x="6651" y="395"/>
                        </a:lnTo>
                        <a:lnTo>
                          <a:pt x="6679" y="410"/>
                        </a:lnTo>
                        <a:lnTo>
                          <a:pt x="6707" y="426"/>
                        </a:lnTo>
                        <a:lnTo>
                          <a:pt x="6734" y="458"/>
                        </a:lnTo>
                        <a:lnTo>
                          <a:pt x="6748" y="473"/>
                        </a:lnTo>
                        <a:lnTo>
                          <a:pt x="6776" y="489"/>
                        </a:lnTo>
                        <a:lnTo>
                          <a:pt x="6804" y="505"/>
                        </a:lnTo>
                        <a:lnTo>
                          <a:pt x="6831" y="537"/>
                        </a:lnTo>
                        <a:lnTo>
                          <a:pt x="6845" y="552"/>
                        </a:lnTo>
                        <a:lnTo>
                          <a:pt x="6873" y="567"/>
                        </a:lnTo>
                        <a:lnTo>
                          <a:pt x="6900" y="584"/>
                        </a:lnTo>
                        <a:lnTo>
                          <a:pt x="6928" y="616"/>
                        </a:lnTo>
                        <a:lnTo>
                          <a:pt x="6942" y="631"/>
                        </a:lnTo>
                        <a:lnTo>
                          <a:pt x="6970" y="646"/>
                        </a:lnTo>
                        <a:lnTo>
                          <a:pt x="6997" y="678"/>
                        </a:lnTo>
                        <a:lnTo>
                          <a:pt x="7011" y="695"/>
                        </a:lnTo>
                        <a:lnTo>
                          <a:pt x="7039" y="725"/>
                        </a:lnTo>
                        <a:lnTo>
                          <a:pt x="7066" y="742"/>
                        </a:lnTo>
                        <a:lnTo>
                          <a:pt x="7080" y="757"/>
                        </a:lnTo>
                        <a:lnTo>
                          <a:pt x="7108" y="789"/>
                        </a:lnTo>
                        <a:lnTo>
                          <a:pt x="7122" y="804"/>
                        </a:lnTo>
                        <a:lnTo>
                          <a:pt x="7149" y="836"/>
                        </a:lnTo>
                        <a:lnTo>
                          <a:pt x="7163" y="852"/>
                        </a:lnTo>
                        <a:lnTo>
                          <a:pt x="7191" y="883"/>
                        </a:lnTo>
                        <a:lnTo>
                          <a:pt x="7205" y="915"/>
                        </a:lnTo>
                        <a:lnTo>
                          <a:pt x="7232" y="931"/>
                        </a:lnTo>
                        <a:lnTo>
                          <a:pt x="7246" y="962"/>
                        </a:lnTo>
                        <a:lnTo>
                          <a:pt x="7274" y="978"/>
                        </a:lnTo>
                        <a:lnTo>
                          <a:pt x="7288" y="1010"/>
                        </a:lnTo>
                        <a:lnTo>
                          <a:pt x="7315" y="1041"/>
                        </a:lnTo>
                        <a:lnTo>
                          <a:pt x="7329" y="1057"/>
                        </a:lnTo>
                        <a:lnTo>
                          <a:pt x="7343" y="1089"/>
                        </a:lnTo>
                        <a:lnTo>
                          <a:pt x="7357" y="1120"/>
                        </a:lnTo>
                        <a:lnTo>
                          <a:pt x="7384" y="1136"/>
                        </a:lnTo>
                        <a:lnTo>
                          <a:pt x="7398" y="1168"/>
                        </a:lnTo>
                        <a:lnTo>
                          <a:pt x="7412" y="1198"/>
                        </a:lnTo>
                        <a:lnTo>
                          <a:pt x="7427" y="1247"/>
                        </a:lnTo>
                        <a:lnTo>
                          <a:pt x="7441" y="1262"/>
                        </a:lnTo>
                        <a:lnTo>
                          <a:pt x="7455" y="1294"/>
                        </a:lnTo>
                        <a:lnTo>
                          <a:pt x="7483" y="1326"/>
                        </a:lnTo>
                        <a:lnTo>
                          <a:pt x="7496" y="1356"/>
                        </a:lnTo>
                        <a:lnTo>
                          <a:pt x="7496" y="1388"/>
                        </a:lnTo>
                        <a:lnTo>
                          <a:pt x="7510" y="1420"/>
                        </a:lnTo>
                        <a:lnTo>
                          <a:pt x="7524" y="1452"/>
                        </a:lnTo>
                        <a:lnTo>
                          <a:pt x="7538" y="1483"/>
                        </a:lnTo>
                        <a:lnTo>
                          <a:pt x="7552" y="1514"/>
                        </a:lnTo>
                        <a:lnTo>
                          <a:pt x="7566" y="1546"/>
                        </a:lnTo>
                        <a:lnTo>
                          <a:pt x="7566" y="1578"/>
                        </a:lnTo>
                        <a:lnTo>
                          <a:pt x="7579" y="1609"/>
                        </a:lnTo>
                        <a:lnTo>
                          <a:pt x="7593" y="1641"/>
                        </a:lnTo>
                        <a:lnTo>
                          <a:pt x="7593" y="1672"/>
                        </a:lnTo>
                        <a:lnTo>
                          <a:pt x="7607" y="1703"/>
                        </a:lnTo>
                        <a:lnTo>
                          <a:pt x="7607" y="1735"/>
                        </a:lnTo>
                        <a:lnTo>
                          <a:pt x="7621" y="1767"/>
                        </a:lnTo>
                        <a:lnTo>
                          <a:pt x="7621" y="1799"/>
                        </a:lnTo>
                        <a:lnTo>
                          <a:pt x="7635" y="1846"/>
                        </a:lnTo>
                        <a:lnTo>
                          <a:pt x="7635" y="1893"/>
                        </a:lnTo>
                        <a:lnTo>
                          <a:pt x="7649" y="1940"/>
                        </a:lnTo>
                        <a:lnTo>
                          <a:pt x="7649" y="1987"/>
                        </a:lnTo>
                        <a:lnTo>
                          <a:pt x="7662" y="2036"/>
                        </a:lnTo>
                        <a:lnTo>
                          <a:pt x="7662" y="2066"/>
                        </a:lnTo>
                        <a:lnTo>
                          <a:pt x="7662" y="2114"/>
                        </a:lnTo>
                        <a:lnTo>
                          <a:pt x="7662" y="2145"/>
                        </a:lnTo>
                        <a:lnTo>
                          <a:pt x="7662" y="2193"/>
                        </a:lnTo>
                        <a:lnTo>
                          <a:pt x="7662" y="2225"/>
                        </a:lnTo>
                        <a:lnTo>
                          <a:pt x="7662" y="2256"/>
                        </a:lnTo>
                        <a:lnTo>
                          <a:pt x="7662" y="2304"/>
                        </a:lnTo>
                        <a:lnTo>
                          <a:pt x="7662" y="2334"/>
                        </a:lnTo>
                        <a:lnTo>
                          <a:pt x="7662" y="2366"/>
                        </a:lnTo>
                        <a:lnTo>
                          <a:pt x="7662" y="2398"/>
                        </a:lnTo>
                        <a:lnTo>
                          <a:pt x="7662" y="2445"/>
                        </a:lnTo>
                        <a:lnTo>
                          <a:pt x="7649" y="2477"/>
                        </a:lnTo>
                        <a:lnTo>
                          <a:pt x="7649" y="2509"/>
                        </a:lnTo>
                        <a:lnTo>
                          <a:pt x="7649" y="2556"/>
                        </a:lnTo>
                        <a:lnTo>
                          <a:pt x="7635" y="2588"/>
                        </a:lnTo>
                        <a:lnTo>
                          <a:pt x="7635" y="2635"/>
                        </a:lnTo>
                        <a:lnTo>
                          <a:pt x="7621" y="2667"/>
                        </a:lnTo>
                        <a:lnTo>
                          <a:pt x="7621" y="2714"/>
                        </a:lnTo>
                        <a:lnTo>
                          <a:pt x="7607" y="2745"/>
                        </a:lnTo>
                        <a:lnTo>
                          <a:pt x="7593" y="2777"/>
                        </a:lnTo>
                        <a:lnTo>
                          <a:pt x="7593" y="2824"/>
                        </a:lnTo>
                        <a:lnTo>
                          <a:pt x="7579" y="2856"/>
                        </a:lnTo>
                        <a:lnTo>
                          <a:pt x="7566" y="2887"/>
                        </a:lnTo>
                        <a:lnTo>
                          <a:pt x="7552" y="2918"/>
                        </a:lnTo>
                        <a:lnTo>
                          <a:pt x="7552" y="2950"/>
                        </a:lnTo>
                        <a:lnTo>
                          <a:pt x="7538" y="2982"/>
                        </a:lnTo>
                        <a:lnTo>
                          <a:pt x="7524" y="3014"/>
                        </a:lnTo>
                        <a:lnTo>
                          <a:pt x="7510" y="3044"/>
                        </a:lnTo>
                        <a:lnTo>
                          <a:pt x="7496" y="3076"/>
                        </a:lnTo>
                        <a:lnTo>
                          <a:pt x="7483" y="3108"/>
                        </a:lnTo>
                        <a:lnTo>
                          <a:pt x="7469" y="3140"/>
                        </a:lnTo>
                        <a:lnTo>
                          <a:pt x="7455" y="3172"/>
                        </a:lnTo>
                        <a:lnTo>
                          <a:pt x="7441" y="3202"/>
                        </a:lnTo>
                        <a:lnTo>
                          <a:pt x="7412" y="3234"/>
                        </a:lnTo>
                        <a:lnTo>
                          <a:pt x="7398" y="3266"/>
                        </a:lnTo>
                        <a:lnTo>
                          <a:pt x="7384" y="3297"/>
                        </a:lnTo>
                        <a:lnTo>
                          <a:pt x="7371" y="3313"/>
                        </a:lnTo>
                        <a:lnTo>
                          <a:pt x="7343" y="3345"/>
                        </a:lnTo>
                        <a:lnTo>
                          <a:pt x="7329" y="3376"/>
                        </a:lnTo>
                        <a:lnTo>
                          <a:pt x="7315" y="3408"/>
                        </a:lnTo>
                        <a:lnTo>
                          <a:pt x="7288" y="3423"/>
                        </a:lnTo>
                        <a:lnTo>
                          <a:pt x="7274" y="3455"/>
                        </a:lnTo>
                        <a:lnTo>
                          <a:pt x="7246" y="3487"/>
                        </a:lnTo>
                        <a:lnTo>
                          <a:pt x="7232" y="3502"/>
                        </a:lnTo>
                        <a:lnTo>
                          <a:pt x="7205" y="3534"/>
                        </a:lnTo>
                        <a:lnTo>
                          <a:pt x="7177" y="3566"/>
                        </a:lnTo>
                        <a:lnTo>
                          <a:pt x="7163" y="3581"/>
                        </a:lnTo>
                        <a:lnTo>
                          <a:pt x="7135" y="3613"/>
                        </a:lnTo>
                        <a:lnTo>
                          <a:pt x="7122" y="3628"/>
                        </a:lnTo>
                        <a:lnTo>
                          <a:pt x="7094" y="3660"/>
                        </a:lnTo>
                        <a:lnTo>
                          <a:pt x="7066" y="3675"/>
                        </a:lnTo>
                        <a:lnTo>
                          <a:pt x="7053" y="3707"/>
                        </a:lnTo>
                        <a:lnTo>
                          <a:pt x="7025" y="3724"/>
                        </a:lnTo>
                        <a:lnTo>
                          <a:pt x="6997" y="3739"/>
                        </a:lnTo>
                        <a:lnTo>
                          <a:pt x="6983" y="3771"/>
                        </a:lnTo>
                        <a:lnTo>
                          <a:pt x="6956" y="3786"/>
                        </a:lnTo>
                        <a:lnTo>
                          <a:pt x="6928" y="3818"/>
                        </a:lnTo>
                        <a:lnTo>
                          <a:pt x="6900" y="3833"/>
                        </a:lnTo>
                        <a:lnTo>
                          <a:pt x="6887" y="3850"/>
                        </a:lnTo>
                        <a:lnTo>
                          <a:pt x="6859" y="3881"/>
                        </a:lnTo>
                        <a:lnTo>
                          <a:pt x="6831" y="3897"/>
                        </a:lnTo>
                        <a:lnTo>
                          <a:pt x="6804" y="3912"/>
                        </a:lnTo>
                        <a:lnTo>
                          <a:pt x="6776" y="3944"/>
                        </a:lnTo>
                        <a:lnTo>
                          <a:pt x="6762" y="3960"/>
                        </a:lnTo>
                        <a:lnTo>
                          <a:pt x="6734" y="3975"/>
                        </a:lnTo>
                        <a:lnTo>
                          <a:pt x="6707" y="3991"/>
                        </a:lnTo>
                        <a:lnTo>
                          <a:pt x="6679" y="4007"/>
                        </a:lnTo>
                        <a:lnTo>
                          <a:pt x="6651" y="4039"/>
                        </a:lnTo>
                        <a:lnTo>
                          <a:pt x="6609" y="4054"/>
                        </a:lnTo>
                        <a:lnTo>
                          <a:pt x="6595" y="4070"/>
                        </a:lnTo>
                        <a:lnTo>
                          <a:pt x="6567" y="4086"/>
                        </a:lnTo>
                        <a:lnTo>
                          <a:pt x="6539" y="4101"/>
                        </a:lnTo>
                        <a:lnTo>
                          <a:pt x="6512" y="4118"/>
                        </a:lnTo>
                        <a:lnTo>
                          <a:pt x="6484" y="4133"/>
                        </a:lnTo>
                        <a:lnTo>
                          <a:pt x="6456" y="4148"/>
                        </a:lnTo>
                        <a:lnTo>
                          <a:pt x="6429" y="4165"/>
                        </a:lnTo>
                        <a:lnTo>
                          <a:pt x="6401" y="4180"/>
                        </a:lnTo>
                        <a:lnTo>
                          <a:pt x="6373" y="4197"/>
                        </a:lnTo>
                        <a:lnTo>
                          <a:pt x="6346" y="4212"/>
                        </a:lnTo>
                        <a:lnTo>
                          <a:pt x="6318" y="4227"/>
                        </a:lnTo>
                        <a:lnTo>
                          <a:pt x="6290" y="4244"/>
                        </a:lnTo>
                        <a:lnTo>
                          <a:pt x="6263" y="4259"/>
                        </a:lnTo>
                        <a:lnTo>
                          <a:pt x="6235" y="4276"/>
                        </a:lnTo>
                        <a:lnTo>
                          <a:pt x="6207" y="4291"/>
                        </a:lnTo>
                        <a:lnTo>
                          <a:pt x="6180" y="4306"/>
                        </a:lnTo>
                        <a:lnTo>
                          <a:pt x="6152" y="4306"/>
                        </a:lnTo>
                        <a:lnTo>
                          <a:pt x="6124" y="4323"/>
                        </a:lnTo>
                        <a:lnTo>
                          <a:pt x="6097" y="4338"/>
                        </a:lnTo>
                        <a:lnTo>
                          <a:pt x="6069" y="4355"/>
                        </a:lnTo>
                        <a:lnTo>
                          <a:pt x="6041" y="4370"/>
                        </a:lnTo>
                        <a:lnTo>
                          <a:pt x="6014" y="4370"/>
                        </a:lnTo>
                        <a:lnTo>
                          <a:pt x="5986" y="4385"/>
                        </a:lnTo>
                        <a:lnTo>
                          <a:pt x="5958" y="4402"/>
                        </a:lnTo>
                        <a:lnTo>
                          <a:pt x="5931" y="4402"/>
                        </a:lnTo>
                        <a:lnTo>
                          <a:pt x="5903" y="4417"/>
                        </a:lnTo>
                        <a:lnTo>
                          <a:pt x="5862" y="4417"/>
                        </a:lnTo>
                        <a:lnTo>
                          <a:pt x="5834" y="4417"/>
                        </a:lnTo>
                        <a:lnTo>
                          <a:pt x="5805" y="4417"/>
                        </a:lnTo>
                        <a:lnTo>
                          <a:pt x="5777" y="4417"/>
                        </a:lnTo>
                        <a:lnTo>
                          <a:pt x="5750" y="4417"/>
                        </a:lnTo>
                        <a:lnTo>
                          <a:pt x="5722" y="4417"/>
                        </a:lnTo>
                        <a:lnTo>
                          <a:pt x="5680" y="4417"/>
                        </a:lnTo>
                        <a:lnTo>
                          <a:pt x="5653" y="4417"/>
                        </a:lnTo>
                        <a:lnTo>
                          <a:pt x="5625" y="4417"/>
                        </a:lnTo>
                        <a:lnTo>
                          <a:pt x="5597" y="4417"/>
                        </a:lnTo>
                        <a:lnTo>
                          <a:pt x="5570" y="4417"/>
                        </a:lnTo>
                        <a:lnTo>
                          <a:pt x="5528" y="4417"/>
                        </a:lnTo>
                        <a:lnTo>
                          <a:pt x="5501" y="4417"/>
                        </a:lnTo>
                        <a:lnTo>
                          <a:pt x="5473" y="4417"/>
                        </a:lnTo>
                        <a:lnTo>
                          <a:pt x="5445" y="4417"/>
                        </a:lnTo>
                        <a:lnTo>
                          <a:pt x="5418" y="4417"/>
                        </a:lnTo>
                        <a:lnTo>
                          <a:pt x="5390" y="4417"/>
                        </a:lnTo>
                        <a:lnTo>
                          <a:pt x="5349" y="4417"/>
                        </a:lnTo>
                        <a:lnTo>
                          <a:pt x="5321" y="4417"/>
                        </a:lnTo>
                        <a:lnTo>
                          <a:pt x="5293" y="4417"/>
                        </a:lnTo>
                        <a:lnTo>
                          <a:pt x="5266" y="4417"/>
                        </a:lnTo>
                        <a:lnTo>
                          <a:pt x="5238" y="4417"/>
                        </a:lnTo>
                        <a:lnTo>
                          <a:pt x="5210" y="4417"/>
                        </a:lnTo>
                        <a:lnTo>
                          <a:pt x="5169" y="4417"/>
                        </a:lnTo>
                        <a:lnTo>
                          <a:pt x="5141" y="4417"/>
                        </a:lnTo>
                        <a:lnTo>
                          <a:pt x="5113" y="4417"/>
                        </a:lnTo>
                        <a:lnTo>
                          <a:pt x="5086" y="4417"/>
                        </a:lnTo>
                        <a:lnTo>
                          <a:pt x="5058" y="4417"/>
                        </a:lnTo>
                        <a:lnTo>
                          <a:pt x="5030" y="4417"/>
                        </a:lnTo>
                        <a:lnTo>
                          <a:pt x="4988" y="4417"/>
                        </a:lnTo>
                        <a:lnTo>
                          <a:pt x="4960" y="4417"/>
                        </a:lnTo>
                        <a:lnTo>
                          <a:pt x="4932" y="4417"/>
                        </a:lnTo>
                        <a:lnTo>
                          <a:pt x="4905" y="4417"/>
                        </a:lnTo>
                        <a:lnTo>
                          <a:pt x="4877" y="4417"/>
                        </a:lnTo>
                        <a:lnTo>
                          <a:pt x="4849" y="4417"/>
                        </a:lnTo>
                        <a:lnTo>
                          <a:pt x="4808" y="4417"/>
                        </a:lnTo>
                        <a:lnTo>
                          <a:pt x="4780" y="4417"/>
                        </a:lnTo>
                        <a:lnTo>
                          <a:pt x="4752" y="4417"/>
                        </a:lnTo>
                        <a:lnTo>
                          <a:pt x="4725" y="4417"/>
                        </a:lnTo>
                        <a:lnTo>
                          <a:pt x="4697" y="4417"/>
                        </a:lnTo>
                        <a:lnTo>
                          <a:pt x="4656" y="4417"/>
                        </a:lnTo>
                        <a:lnTo>
                          <a:pt x="4628" y="4417"/>
                        </a:lnTo>
                        <a:lnTo>
                          <a:pt x="4600" y="4417"/>
                        </a:lnTo>
                        <a:lnTo>
                          <a:pt x="4573" y="4417"/>
                        </a:lnTo>
                        <a:lnTo>
                          <a:pt x="4545" y="4417"/>
                        </a:lnTo>
                        <a:lnTo>
                          <a:pt x="4517" y="4417"/>
                        </a:lnTo>
                        <a:lnTo>
                          <a:pt x="4476" y="4417"/>
                        </a:lnTo>
                        <a:lnTo>
                          <a:pt x="4448" y="4417"/>
                        </a:lnTo>
                        <a:lnTo>
                          <a:pt x="4420" y="4417"/>
                        </a:lnTo>
                        <a:lnTo>
                          <a:pt x="4393" y="4417"/>
                        </a:lnTo>
                        <a:lnTo>
                          <a:pt x="4365" y="4417"/>
                        </a:lnTo>
                        <a:lnTo>
                          <a:pt x="4337" y="4417"/>
                        </a:lnTo>
                        <a:lnTo>
                          <a:pt x="4296" y="4417"/>
                        </a:lnTo>
                        <a:lnTo>
                          <a:pt x="4268" y="4417"/>
                        </a:lnTo>
                        <a:lnTo>
                          <a:pt x="4241" y="4417"/>
                        </a:lnTo>
                        <a:lnTo>
                          <a:pt x="4212" y="4417"/>
                        </a:lnTo>
                        <a:lnTo>
                          <a:pt x="4184" y="4417"/>
                        </a:lnTo>
                        <a:lnTo>
                          <a:pt x="4156" y="4417"/>
                        </a:lnTo>
                        <a:lnTo>
                          <a:pt x="4115" y="4417"/>
                        </a:lnTo>
                        <a:lnTo>
                          <a:pt x="4087" y="4417"/>
                        </a:lnTo>
                        <a:lnTo>
                          <a:pt x="4059" y="4417"/>
                        </a:lnTo>
                        <a:lnTo>
                          <a:pt x="4032" y="4417"/>
                        </a:lnTo>
                        <a:lnTo>
                          <a:pt x="4004" y="4417"/>
                        </a:lnTo>
                        <a:lnTo>
                          <a:pt x="3963" y="4417"/>
                        </a:lnTo>
                        <a:lnTo>
                          <a:pt x="3921" y="4417"/>
                        </a:lnTo>
                        <a:lnTo>
                          <a:pt x="3893" y="4417"/>
                        </a:lnTo>
                        <a:lnTo>
                          <a:pt x="3866" y="4417"/>
                        </a:lnTo>
                        <a:lnTo>
                          <a:pt x="3838" y="4417"/>
                        </a:lnTo>
                        <a:lnTo>
                          <a:pt x="3810" y="4417"/>
                        </a:lnTo>
                        <a:lnTo>
                          <a:pt x="3769" y="4417"/>
                        </a:lnTo>
                        <a:lnTo>
                          <a:pt x="3741" y="4417"/>
                        </a:lnTo>
                        <a:lnTo>
                          <a:pt x="3714" y="4417"/>
                        </a:lnTo>
                        <a:lnTo>
                          <a:pt x="3686" y="4417"/>
                        </a:lnTo>
                        <a:lnTo>
                          <a:pt x="3658" y="4417"/>
                        </a:lnTo>
                        <a:lnTo>
                          <a:pt x="3631" y="4417"/>
                        </a:lnTo>
                        <a:lnTo>
                          <a:pt x="3589" y="4417"/>
                        </a:lnTo>
                        <a:lnTo>
                          <a:pt x="3562" y="4417"/>
                        </a:lnTo>
                        <a:lnTo>
                          <a:pt x="3534" y="4417"/>
                        </a:lnTo>
                        <a:lnTo>
                          <a:pt x="3506" y="4417"/>
                        </a:lnTo>
                        <a:lnTo>
                          <a:pt x="3479" y="4417"/>
                        </a:lnTo>
                        <a:lnTo>
                          <a:pt x="3451" y="4417"/>
                        </a:lnTo>
                        <a:lnTo>
                          <a:pt x="3408" y="4417"/>
                        </a:lnTo>
                        <a:lnTo>
                          <a:pt x="3380" y="4417"/>
                        </a:lnTo>
                        <a:lnTo>
                          <a:pt x="3353" y="4417"/>
                        </a:lnTo>
                        <a:lnTo>
                          <a:pt x="3325" y="4417"/>
                        </a:lnTo>
                        <a:lnTo>
                          <a:pt x="3297" y="4417"/>
                        </a:lnTo>
                        <a:lnTo>
                          <a:pt x="3270" y="4417"/>
                        </a:lnTo>
                        <a:lnTo>
                          <a:pt x="3228" y="4417"/>
                        </a:lnTo>
                        <a:lnTo>
                          <a:pt x="3201" y="4417"/>
                        </a:lnTo>
                        <a:lnTo>
                          <a:pt x="3173" y="4417"/>
                        </a:lnTo>
                        <a:lnTo>
                          <a:pt x="3145" y="4417"/>
                        </a:lnTo>
                        <a:lnTo>
                          <a:pt x="3118" y="4417"/>
                        </a:lnTo>
                        <a:lnTo>
                          <a:pt x="3090" y="4417"/>
                        </a:lnTo>
                        <a:lnTo>
                          <a:pt x="3048" y="4417"/>
                        </a:lnTo>
                        <a:lnTo>
                          <a:pt x="3021" y="4417"/>
                        </a:lnTo>
                        <a:lnTo>
                          <a:pt x="2993" y="4417"/>
                        </a:lnTo>
                        <a:lnTo>
                          <a:pt x="2965" y="4417"/>
                        </a:lnTo>
                        <a:lnTo>
                          <a:pt x="2938" y="4417"/>
                        </a:lnTo>
                        <a:lnTo>
                          <a:pt x="2896" y="4417"/>
                        </a:lnTo>
                        <a:lnTo>
                          <a:pt x="2869" y="4417"/>
                        </a:lnTo>
                        <a:lnTo>
                          <a:pt x="2841" y="4417"/>
                        </a:lnTo>
                        <a:lnTo>
                          <a:pt x="2813" y="4417"/>
                        </a:lnTo>
                        <a:lnTo>
                          <a:pt x="2786" y="4417"/>
                        </a:lnTo>
                        <a:lnTo>
                          <a:pt x="2758" y="4417"/>
                        </a:lnTo>
                        <a:lnTo>
                          <a:pt x="2716" y="4417"/>
                        </a:lnTo>
                        <a:lnTo>
                          <a:pt x="2689" y="4417"/>
                        </a:lnTo>
                        <a:lnTo>
                          <a:pt x="2661" y="4417"/>
                        </a:lnTo>
                        <a:lnTo>
                          <a:pt x="2632" y="4417"/>
                        </a:lnTo>
                        <a:lnTo>
                          <a:pt x="2604" y="4417"/>
                        </a:lnTo>
                        <a:lnTo>
                          <a:pt x="2577" y="4417"/>
                        </a:lnTo>
                        <a:lnTo>
                          <a:pt x="2535" y="4417"/>
                        </a:lnTo>
                        <a:lnTo>
                          <a:pt x="2508" y="4417"/>
                        </a:lnTo>
                        <a:lnTo>
                          <a:pt x="2480" y="4417"/>
                        </a:lnTo>
                        <a:lnTo>
                          <a:pt x="2452" y="4417"/>
                        </a:lnTo>
                        <a:lnTo>
                          <a:pt x="2425" y="4417"/>
                        </a:lnTo>
                        <a:lnTo>
                          <a:pt x="2397" y="4417"/>
                        </a:lnTo>
                        <a:lnTo>
                          <a:pt x="2355" y="4417"/>
                        </a:lnTo>
                        <a:lnTo>
                          <a:pt x="2328" y="4417"/>
                        </a:lnTo>
                        <a:lnTo>
                          <a:pt x="2300" y="4417"/>
                        </a:lnTo>
                        <a:lnTo>
                          <a:pt x="2272" y="4417"/>
                        </a:lnTo>
                        <a:lnTo>
                          <a:pt x="2245" y="4417"/>
                        </a:lnTo>
                        <a:lnTo>
                          <a:pt x="2217" y="4417"/>
                        </a:lnTo>
                        <a:lnTo>
                          <a:pt x="2176" y="4417"/>
                        </a:lnTo>
                        <a:lnTo>
                          <a:pt x="2148" y="4417"/>
                        </a:lnTo>
                        <a:lnTo>
                          <a:pt x="2120" y="4417"/>
                        </a:lnTo>
                        <a:lnTo>
                          <a:pt x="2093" y="4417"/>
                        </a:lnTo>
                        <a:lnTo>
                          <a:pt x="2065" y="4417"/>
                        </a:lnTo>
                        <a:lnTo>
                          <a:pt x="2037" y="4417"/>
                        </a:lnTo>
                        <a:lnTo>
                          <a:pt x="1996" y="4417"/>
                        </a:lnTo>
                        <a:lnTo>
                          <a:pt x="1968" y="4417"/>
                        </a:lnTo>
                        <a:lnTo>
                          <a:pt x="1940" y="4417"/>
                        </a:lnTo>
                        <a:lnTo>
                          <a:pt x="1913" y="4417"/>
                        </a:lnTo>
                        <a:lnTo>
                          <a:pt x="1885" y="4417"/>
                        </a:lnTo>
                        <a:lnTo>
                          <a:pt x="1844" y="4417"/>
                        </a:lnTo>
                        <a:lnTo>
                          <a:pt x="1815" y="4417"/>
                        </a:lnTo>
                        <a:lnTo>
                          <a:pt x="1787" y="4417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5000760" y="2460600"/>
                    <a:ext cx="4054320" cy="2338560"/>
                  </a:xfrm>
                  <a:custGeom>
                    <a:avLst/>
                    <a:gdLst/>
                    <a:ahLst/>
                    <a:rect l="l" t="t" r="r" b="b"/>
                    <a:pathLst>
                      <a:path w="7662" h="4417">
                        <a:moveTo>
                          <a:pt x="1787" y="4417"/>
                        </a:moveTo>
                        <a:lnTo>
                          <a:pt x="1759" y="4417"/>
                        </a:lnTo>
                        <a:lnTo>
                          <a:pt x="1732" y="4402"/>
                        </a:lnTo>
                        <a:lnTo>
                          <a:pt x="1704" y="4402"/>
                        </a:lnTo>
                        <a:lnTo>
                          <a:pt x="1676" y="4385"/>
                        </a:lnTo>
                        <a:lnTo>
                          <a:pt x="1635" y="4370"/>
                        </a:lnTo>
                        <a:lnTo>
                          <a:pt x="1607" y="4370"/>
                        </a:lnTo>
                        <a:lnTo>
                          <a:pt x="1580" y="4355"/>
                        </a:lnTo>
                        <a:lnTo>
                          <a:pt x="1552" y="4338"/>
                        </a:lnTo>
                        <a:lnTo>
                          <a:pt x="1524" y="4323"/>
                        </a:lnTo>
                        <a:lnTo>
                          <a:pt x="1497" y="4306"/>
                        </a:lnTo>
                        <a:lnTo>
                          <a:pt x="1469" y="4306"/>
                        </a:lnTo>
                        <a:lnTo>
                          <a:pt x="1441" y="4291"/>
                        </a:lnTo>
                        <a:lnTo>
                          <a:pt x="1414" y="4276"/>
                        </a:lnTo>
                        <a:lnTo>
                          <a:pt x="1386" y="4259"/>
                        </a:lnTo>
                        <a:lnTo>
                          <a:pt x="1358" y="4244"/>
                        </a:lnTo>
                        <a:lnTo>
                          <a:pt x="1331" y="4227"/>
                        </a:lnTo>
                        <a:lnTo>
                          <a:pt x="1289" y="4212"/>
                        </a:lnTo>
                        <a:lnTo>
                          <a:pt x="1261" y="4197"/>
                        </a:lnTo>
                        <a:lnTo>
                          <a:pt x="1234" y="4180"/>
                        </a:lnTo>
                        <a:lnTo>
                          <a:pt x="1206" y="4165"/>
                        </a:lnTo>
                        <a:lnTo>
                          <a:pt x="1178" y="4148"/>
                        </a:lnTo>
                        <a:lnTo>
                          <a:pt x="1151" y="4133"/>
                        </a:lnTo>
                        <a:lnTo>
                          <a:pt x="1137" y="4118"/>
                        </a:lnTo>
                        <a:lnTo>
                          <a:pt x="1109" y="4101"/>
                        </a:lnTo>
                        <a:lnTo>
                          <a:pt x="1082" y="4086"/>
                        </a:lnTo>
                        <a:lnTo>
                          <a:pt x="1054" y="4070"/>
                        </a:lnTo>
                        <a:lnTo>
                          <a:pt x="1025" y="4054"/>
                        </a:lnTo>
                        <a:lnTo>
                          <a:pt x="997" y="4039"/>
                        </a:lnTo>
                        <a:lnTo>
                          <a:pt x="970" y="4007"/>
                        </a:lnTo>
                        <a:lnTo>
                          <a:pt x="942" y="3991"/>
                        </a:lnTo>
                        <a:lnTo>
                          <a:pt x="928" y="3975"/>
                        </a:lnTo>
                        <a:lnTo>
                          <a:pt x="900" y="3960"/>
                        </a:lnTo>
                        <a:lnTo>
                          <a:pt x="873" y="3944"/>
                        </a:lnTo>
                        <a:lnTo>
                          <a:pt x="845" y="3912"/>
                        </a:lnTo>
                        <a:lnTo>
                          <a:pt x="817" y="3897"/>
                        </a:lnTo>
                        <a:lnTo>
                          <a:pt x="804" y="3881"/>
                        </a:lnTo>
                        <a:lnTo>
                          <a:pt x="776" y="3850"/>
                        </a:lnTo>
                        <a:lnTo>
                          <a:pt x="748" y="3833"/>
                        </a:lnTo>
                        <a:lnTo>
                          <a:pt x="721" y="3818"/>
                        </a:lnTo>
                        <a:lnTo>
                          <a:pt x="707" y="3786"/>
                        </a:lnTo>
                        <a:lnTo>
                          <a:pt x="679" y="3771"/>
                        </a:lnTo>
                        <a:lnTo>
                          <a:pt x="651" y="3739"/>
                        </a:lnTo>
                        <a:lnTo>
                          <a:pt x="624" y="3724"/>
                        </a:lnTo>
                        <a:lnTo>
                          <a:pt x="610" y="3707"/>
                        </a:lnTo>
                        <a:lnTo>
                          <a:pt x="582" y="3675"/>
                        </a:lnTo>
                        <a:lnTo>
                          <a:pt x="555" y="3660"/>
                        </a:lnTo>
                        <a:lnTo>
                          <a:pt x="541" y="3628"/>
                        </a:lnTo>
                        <a:lnTo>
                          <a:pt x="513" y="3613"/>
                        </a:lnTo>
                        <a:lnTo>
                          <a:pt x="499" y="3581"/>
                        </a:lnTo>
                        <a:lnTo>
                          <a:pt x="472" y="3566"/>
                        </a:lnTo>
                        <a:lnTo>
                          <a:pt x="444" y="3534"/>
                        </a:lnTo>
                        <a:lnTo>
                          <a:pt x="430" y="3502"/>
                        </a:lnTo>
                        <a:lnTo>
                          <a:pt x="402" y="3487"/>
                        </a:lnTo>
                        <a:lnTo>
                          <a:pt x="389" y="3455"/>
                        </a:lnTo>
                        <a:lnTo>
                          <a:pt x="361" y="3423"/>
                        </a:lnTo>
                        <a:lnTo>
                          <a:pt x="347" y="3408"/>
                        </a:lnTo>
                        <a:lnTo>
                          <a:pt x="333" y="3376"/>
                        </a:lnTo>
                        <a:lnTo>
                          <a:pt x="306" y="3345"/>
                        </a:lnTo>
                        <a:lnTo>
                          <a:pt x="292" y="3313"/>
                        </a:lnTo>
                        <a:lnTo>
                          <a:pt x="278" y="3297"/>
                        </a:lnTo>
                        <a:lnTo>
                          <a:pt x="250" y="3266"/>
                        </a:lnTo>
                        <a:lnTo>
                          <a:pt x="235" y="3234"/>
                        </a:lnTo>
                        <a:lnTo>
                          <a:pt x="221" y="3202"/>
                        </a:lnTo>
                        <a:lnTo>
                          <a:pt x="207" y="3172"/>
                        </a:lnTo>
                        <a:lnTo>
                          <a:pt x="194" y="3140"/>
                        </a:lnTo>
                        <a:lnTo>
                          <a:pt x="166" y="3108"/>
                        </a:lnTo>
                        <a:lnTo>
                          <a:pt x="152" y="3076"/>
                        </a:lnTo>
                        <a:lnTo>
                          <a:pt x="138" y="3044"/>
                        </a:lnTo>
                        <a:lnTo>
                          <a:pt x="124" y="3014"/>
                        </a:lnTo>
                        <a:lnTo>
                          <a:pt x="124" y="2982"/>
                        </a:lnTo>
                        <a:lnTo>
                          <a:pt x="111" y="2950"/>
                        </a:lnTo>
                        <a:lnTo>
                          <a:pt x="97" y="2918"/>
                        </a:lnTo>
                        <a:lnTo>
                          <a:pt x="83" y="2887"/>
                        </a:lnTo>
                        <a:lnTo>
                          <a:pt x="83" y="2856"/>
                        </a:lnTo>
                        <a:lnTo>
                          <a:pt x="69" y="2824"/>
                        </a:lnTo>
                        <a:lnTo>
                          <a:pt x="55" y="2777"/>
                        </a:lnTo>
                        <a:lnTo>
                          <a:pt x="55" y="2745"/>
                        </a:lnTo>
                        <a:lnTo>
                          <a:pt x="41" y="2714"/>
                        </a:lnTo>
                        <a:lnTo>
                          <a:pt x="28" y="2667"/>
                        </a:lnTo>
                        <a:lnTo>
                          <a:pt x="28" y="2635"/>
                        </a:lnTo>
                        <a:lnTo>
                          <a:pt x="14" y="2588"/>
                        </a:lnTo>
                        <a:lnTo>
                          <a:pt x="14" y="2556"/>
                        </a:lnTo>
                        <a:lnTo>
                          <a:pt x="0" y="2509"/>
                        </a:lnTo>
                        <a:lnTo>
                          <a:pt x="0" y="2477"/>
                        </a:lnTo>
                        <a:lnTo>
                          <a:pt x="0" y="2445"/>
                        </a:lnTo>
                        <a:lnTo>
                          <a:pt x="0" y="2398"/>
                        </a:lnTo>
                        <a:lnTo>
                          <a:pt x="0" y="2366"/>
                        </a:lnTo>
                        <a:lnTo>
                          <a:pt x="0" y="2334"/>
                        </a:lnTo>
                        <a:lnTo>
                          <a:pt x="0" y="2304"/>
                        </a:lnTo>
                        <a:lnTo>
                          <a:pt x="0" y="2256"/>
                        </a:lnTo>
                        <a:lnTo>
                          <a:pt x="0" y="2225"/>
                        </a:lnTo>
                        <a:lnTo>
                          <a:pt x="0" y="2193"/>
                        </a:lnTo>
                        <a:lnTo>
                          <a:pt x="0" y="2145"/>
                        </a:lnTo>
                        <a:lnTo>
                          <a:pt x="0" y="2114"/>
                        </a:lnTo>
                        <a:lnTo>
                          <a:pt x="0" y="2066"/>
                        </a:lnTo>
                        <a:lnTo>
                          <a:pt x="0" y="2036"/>
                        </a:lnTo>
                        <a:lnTo>
                          <a:pt x="0" y="1987"/>
                        </a:lnTo>
                        <a:lnTo>
                          <a:pt x="14" y="1940"/>
                        </a:lnTo>
                        <a:lnTo>
                          <a:pt x="14" y="1893"/>
                        </a:lnTo>
                        <a:lnTo>
                          <a:pt x="28" y="1846"/>
                        </a:lnTo>
                        <a:lnTo>
                          <a:pt x="28" y="1799"/>
                        </a:lnTo>
                        <a:lnTo>
                          <a:pt x="41" y="1767"/>
                        </a:lnTo>
                        <a:lnTo>
                          <a:pt x="41" y="1735"/>
                        </a:lnTo>
                        <a:lnTo>
                          <a:pt x="55" y="1703"/>
                        </a:lnTo>
                        <a:lnTo>
                          <a:pt x="55" y="1672"/>
                        </a:lnTo>
                        <a:lnTo>
                          <a:pt x="69" y="1641"/>
                        </a:lnTo>
                        <a:lnTo>
                          <a:pt x="69" y="1609"/>
                        </a:lnTo>
                        <a:lnTo>
                          <a:pt x="83" y="1578"/>
                        </a:lnTo>
                        <a:lnTo>
                          <a:pt x="97" y="1546"/>
                        </a:lnTo>
                        <a:lnTo>
                          <a:pt x="111" y="1514"/>
                        </a:lnTo>
                        <a:lnTo>
                          <a:pt x="111" y="1483"/>
                        </a:lnTo>
                        <a:lnTo>
                          <a:pt x="124" y="1452"/>
                        </a:lnTo>
                        <a:lnTo>
                          <a:pt x="138" y="1420"/>
                        </a:lnTo>
                        <a:lnTo>
                          <a:pt x="152" y="1388"/>
                        </a:lnTo>
                        <a:lnTo>
                          <a:pt x="166" y="1356"/>
                        </a:lnTo>
                        <a:lnTo>
                          <a:pt x="180" y="1326"/>
                        </a:lnTo>
                        <a:lnTo>
                          <a:pt x="194" y="1294"/>
                        </a:lnTo>
                        <a:lnTo>
                          <a:pt x="207" y="1262"/>
                        </a:lnTo>
                        <a:lnTo>
                          <a:pt x="221" y="1247"/>
                        </a:lnTo>
                        <a:lnTo>
                          <a:pt x="235" y="1198"/>
                        </a:lnTo>
                        <a:lnTo>
                          <a:pt x="264" y="1168"/>
                        </a:lnTo>
                        <a:lnTo>
                          <a:pt x="278" y="1136"/>
                        </a:lnTo>
                        <a:lnTo>
                          <a:pt x="292" y="1120"/>
                        </a:lnTo>
                        <a:lnTo>
                          <a:pt x="306" y="1089"/>
                        </a:lnTo>
                        <a:lnTo>
                          <a:pt x="333" y="1057"/>
                        </a:lnTo>
                        <a:lnTo>
                          <a:pt x="347" y="1041"/>
                        </a:lnTo>
                        <a:lnTo>
                          <a:pt x="361" y="1010"/>
                        </a:lnTo>
                        <a:lnTo>
                          <a:pt x="389" y="978"/>
                        </a:lnTo>
                        <a:lnTo>
                          <a:pt x="402" y="962"/>
                        </a:lnTo>
                        <a:lnTo>
                          <a:pt x="430" y="931"/>
                        </a:lnTo>
                        <a:lnTo>
                          <a:pt x="444" y="915"/>
                        </a:lnTo>
                        <a:lnTo>
                          <a:pt x="472" y="883"/>
                        </a:lnTo>
                        <a:lnTo>
                          <a:pt x="485" y="852"/>
                        </a:lnTo>
                        <a:lnTo>
                          <a:pt x="513" y="836"/>
                        </a:lnTo>
                        <a:lnTo>
                          <a:pt x="527" y="804"/>
                        </a:lnTo>
                        <a:lnTo>
                          <a:pt x="555" y="789"/>
                        </a:lnTo>
                        <a:lnTo>
                          <a:pt x="568" y="757"/>
                        </a:lnTo>
                        <a:lnTo>
                          <a:pt x="596" y="742"/>
                        </a:lnTo>
                        <a:lnTo>
                          <a:pt x="624" y="725"/>
                        </a:lnTo>
                        <a:lnTo>
                          <a:pt x="638" y="695"/>
                        </a:lnTo>
                        <a:lnTo>
                          <a:pt x="665" y="678"/>
                        </a:lnTo>
                        <a:lnTo>
                          <a:pt x="679" y="646"/>
                        </a:lnTo>
                        <a:lnTo>
                          <a:pt x="707" y="631"/>
                        </a:lnTo>
                        <a:lnTo>
                          <a:pt x="734" y="616"/>
                        </a:lnTo>
                        <a:lnTo>
                          <a:pt x="762" y="584"/>
                        </a:lnTo>
                        <a:lnTo>
                          <a:pt x="776" y="567"/>
                        </a:lnTo>
                        <a:lnTo>
                          <a:pt x="804" y="552"/>
                        </a:lnTo>
                        <a:lnTo>
                          <a:pt x="831" y="537"/>
                        </a:lnTo>
                        <a:lnTo>
                          <a:pt x="859" y="505"/>
                        </a:lnTo>
                        <a:lnTo>
                          <a:pt x="873" y="489"/>
                        </a:lnTo>
                        <a:lnTo>
                          <a:pt x="900" y="473"/>
                        </a:lnTo>
                        <a:lnTo>
                          <a:pt x="928" y="458"/>
                        </a:lnTo>
                        <a:lnTo>
                          <a:pt x="956" y="426"/>
                        </a:lnTo>
                        <a:lnTo>
                          <a:pt x="970" y="410"/>
                        </a:lnTo>
                        <a:lnTo>
                          <a:pt x="997" y="395"/>
                        </a:lnTo>
                        <a:lnTo>
                          <a:pt x="1025" y="379"/>
                        </a:lnTo>
                        <a:lnTo>
                          <a:pt x="1054" y="363"/>
                        </a:lnTo>
                        <a:lnTo>
                          <a:pt x="1082" y="347"/>
                        </a:lnTo>
                        <a:lnTo>
                          <a:pt x="1109" y="331"/>
                        </a:lnTo>
                        <a:lnTo>
                          <a:pt x="1137" y="300"/>
                        </a:lnTo>
                        <a:lnTo>
                          <a:pt x="1165" y="284"/>
                        </a:lnTo>
                        <a:lnTo>
                          <a:pt x="1192" y="269"/>
                        </a:lnTo>
                        <a:lnTo>
                          <a:pt x="1220" y="252"/>
                        </a:lnTo>
                        <a:lnTo>
                          <a:pt x="1248" y="237"/>
                        </a:lnTo>
                        <a:lnTo>
                          <a:pt x="1275" y="222"/>
                        </a:lnTo>
                        <a:lnTo>
                          <a:pt x="1303" y="205"/>
                        </a:lnTo>
                        <a:lnTo>
                          <a:pt x="1344" y="190"/>
                        </a:lnTo>
                        <a:lnTo>
                          <a:pt x="1372" y="173"/>
                        </a:lnTo>
                        <a:lnTo>
                          <a:pt x="1414" y="158"/>
                        </a:lnTo>
                        <a:lnTo>
                          <a:pt x="1441" y="143"/>
                        </a:lnTo>
                        <a:lnTo>
                          <a:pt x="1469" y="126"/>
                        </a:lnTo>
                        <a:lnTo>
                          <a:pt x="1497" y="126"/>
                        </a:lnTo>
                        <a:lnTo>
                          <a:pt x="1524" y="111"/>
                        </a:lnTo>
                        <a:lnTo>
                          <a:pt x="1566" y="94"/>
                        </a:lnTo>
                        <a:lnTo>
                          <a:pt x="1593" y="79"/>
                        </a:lnTo>
                        <a:lnTo>
                          <a:pt x="1635" y="64"/>
                        </a:lnTo>
                        <a:lnTo>
                          <a:pt x="1676" y="47"/>
                        </a:lnTo>
                        <a:lnTo>
                          <a:pt x="1704" y="32"/>
                        </a:lnTo>
                        <a:lnTo>
                          <a:pt x="1745" y="15"/>
                        </a:lnTo>
                        <a:lnTo>
                          <a:pt x="1773" y="15"/>
                        </a:lnTo>
                        <a:lnTo>
                          <a:pt x="1787" y="0"/>
                        </a:lnTo>
                        <a:lnTo>
                          <a:pt x="1815" y="0"/>
                        </a:lnTo>
                        <a:lnTo>
                          <a:pt x="1844" y="0"/>
                        </a:lnTo>
                        <a:lnTo>
                          <a:pt x="1885" y="0"/>
                        </a:lnTo>
                        <a:lnTo>
                          <a:pt x="1913" y="0"/>
                        </a:lnTo>
                        <a:lnTo>
                          <a:pt x="1940" y="0"/>
                        </a:lnTo>
                        <a:lnTo>
                          <a:pt x="1968" y="0"/>
                        </a:lnTo>
                        <a:lnTo>
                          <a:pt x="1996" y="0"/>
                        </a:lnTo>
                        <a:lnTo>
                          <a:pt x="2037" y="0"/>
                        </a:lnTo>
                        <a:lnTo>
                          <a:pt x="2065" y="0"/>
                        </a:lnTo>
                        <a:lnTo>
                          <a:pt x="2093" y="0"/>
                        </a:lnTo>
                        <a:lnTo>
                          <a:pt x="2120" y="0"/>
                        </a:lnTo>
                        <a:lnTo>
                          <a:pt x="2148" y="0"/>
                        </a:lnTo>
                        <a:lnTo>
                          <a:pt x="2176" y="0"/>
                        </a:lnTo>
                        <a:lnTo>
                          <a:pt x="2217" y="0"/>
                        </a:lnTo>
                        <a:lnTo>
                          <a:pt x="2245" y="0"/>
                        </a:lnTo>
                        <a:lnTo>
                          <a:pt x="2272" y="0"/>
                        </a:lnTo>
                        <a:lnTo>
                          <a:pt x="2300" y="0"/>
                        </a:lnTo>
                        <a:lnTo>
                          <a:pt x="2328" y="0"/>
                        </a:lnTo>
                        <a:lnTo>
                          <a:pt x="2355" y="0"/>
                        </a:lnTo>
                        <a:lnTo>
                          <a:pt x="2397" y="0"/>
                        </a:lnTo>
                        <a:lnTo>
                          <a:pt x="2425" y="0"/>
                        </a:lnTo>
                        <a:lnTo>
                          <a:pt x="2452" y="0"/>
                        </a:lnTo>
                        <a:lnTo>
                          <a:pt x="2480" y="0"/>
                        </a:lnTo>
                        <a:lnTo>
                          <a:pt x="2508" y="0"/>
                        </a:lnTo>
                        <a:lnTo>
                          <a:pt x="2535" y="0"/>
                        </a:lnTo>
                        <a:lnTo>
                          <a:pt x="2577" y="0"/>
                        </a:lnTo>
                        <a:lnTo>
                          <a:pt x="2604" y="0"/>
                        </a:lnTo>
                        <a:lnTo>
                          <a:pt x="2632" y="0"/>
                        </a:lnTo>
                        <a:lnTo>
                          <a:pt x="2661" y="0"/>
                        </a:lnTo>
                        <a:lnTo>
                          <a:pt x="2689" y="0"/>
                        </a:lnTo>
                        <a:lnTo>
                          <a:pt x="2716" y="0"/>
                        </a:lnTo>
                        <a:lnTo>
                          <a:pt x="2758" y="0"/>
                        </a:lnTo>
                        <a:lnTo>
                          <a:pt x="2786" y="0"/>
                        </a:lnTo>
                        <a:lnTo>
                          <a:pt x="2813" y="0"/>
                        </a:lnTo>
                        <a:lnTo>
                          <a:pt x="2841" y="0"/>
                        </a:lnTo>
                        <a:lnTo>
                          <a:pt x="2869" y="0"/>
                        </a:lnTo>
                        <a:lnTo>
                          <a:pt x="2896" y="0"/>
                        </a:lnTo>
                        <a:lnTo>
                          <a:pt x="2938" y="0"/>
                        </a:lnTo>
                        <a:lnTo>
                          <a:pt x="2965" y="0"/>
                        </a:lnTo>
                        <a:lnTo>
                          <a:pt x="2993" y="0"/>
                        </a:lnTo>
                        <a:lnTo>
                          <a:pt x="3021" y="0"/>
                        </a:lnTo>
                        <a:lnTo>
                          <a:pt x="3048" y="0"/>
                        </a:lnTo>
                        <a:lnTo>
                          <a:pt x="3090" y="0"/>
                        </a:lnTo>
                        <a:lnTo>
                          <a:pt x="3118" y="0"/>
                        </a:lnTo>
                        <a:lnTo>
                          <a:pt x="3145" y="0"/>
                        </a:lnTo>
                        <a:lnTo>
                          <a:pt x="3173" y="0"/>
                        </a:lnTo>
                        <a:lnTo>
                          <a:pt x="3201" y="0"/>
                        </a:lnTo>
                        <a:lnTo>
                          <a:pt x="3228" y="0"/>
                        </a:lnTo>
                        <a:lnTo>
                          <a:pt x="3270" y="0"/>
                        </a:lnTo>
                        <a:lnTo>
                          <a:pt x="3297" y="0"/>
                        </a:lnTo>
                        <a:lnTo>
                          <a:pt x="3325" y="0"/>
                        </a:lnTo>
                        <a:lnTo>
                          <a:pt x="3353" y="0"/>
                        </a:lnTo>
                        <a:lnTo>
                          <a:pt x="3380" y="0"/>
                        </a:lnTo>
                        <a:lnTo>
                          <a:pt x="3408" y="0"/>
                        </a:lnTo>
                        <a:lnTo>
                          <a:pt x="3451" y="0"/>
                        </a:lnTo>
                        <a:lnTo>
                          <a:pt x="3479" y="0"/>
                        </a:lnTo>
                        <a:lnTo>
                          <a:pt x="3506" y="0"/>
                        </a:lnTo>
                        <a:lnTo>
                          <a:pt x="3534" y="0"/>
                        </a:lnTo>
                        <a:lnTo>
                          <a:pt x="3562" y="0"/>
                        </a:lnTo>
                        <a:lnTo>
                          <a:pt x="3589" y="0"/>
                        </a:lnTo>
                        <a:lnTo>
                          <a:pt x="3631" y="0"/>
                        </a:lnTo>
                        <a:lnTo>
                          <a:pt x="3658" y="0"/>
                        </a:lnTo>
                        <a:lnTo>
                          <a:pt x="3686" y="0"/>
                        </a:lnTo>
                        <a:lnTo>
                          <a:pt x="3714" y="0"/>
                        </a:lnTo>
                        <a:lnTo>
                          <a:pt x="3741" y="0"/>
                        </a:lnTo>
                        <a:lnTo>
                          <a:pt x="3769" y="0"/>
                        </a:lnTo>
                        <a:lnTo>
                          <a:pt x="3810" y="0"/>
                        </a:lnTo>
                        <a:lnTo>
                          <a:pt x="3838" y="0"/>
                        </a:lnTo>
                        <a:lnTo>
                          <a:pt x="3866" y="0"/>
                        </a:lnTo>
                        <a:lnTo>
                          <a:pt x="3893" y="0"/>
                        </a:lnTo>
                        <a:lnTo>
                          <a:pt x="3921" y="0"/>
                        </a:lnTo>
                        <a:lnTo>
                          <a:pt x="3963" y="0"/>
                        </a:lnTo>
                        <a:lnTo>
                          <a:pt x="4004" y="0"/>
                        </a:lnTo>
                        <a:lnTo>
                          <a:pt x="4032" y="0"/>
                        </a:lnTo>
                        <a:lnTo>
                          <a:pt x="4059" y="0"/>
                        </a:lnTo>
                        <a:lnTo>
                          <a:pt x="4087" y="0"/>
                        </a:lnTo>
                        <a:lnTo>
                          <a:pt x="4115" y="0"/>
                        </a:lnTo>
                        <a:lnTo>
                          <a:pt x="4156" y="0"/>
                        </a:lnTo>
                        <a:lnTo>
                          <a:pt x="4184" y="0"/>
                        </a:lnTo>
                        <a:lnTo>
                          <a:pt x="4212" y="0"/>
                        </a:lnTo>
                        <a:lnTo>
                          <a:pt x="4241" y="0"/>
                        </a:lnTo>
                        <a:lnTo>
                          <a:pt x="4268" y="0"/>
                        </a:lnTo>
                        <a:lnTo>
                          <a:pt x="4296" y="0"/>
                        </a:lnTo>
                        <a:lnTo>
                          <a:pt x="4337" y="0"/>
                        </a:lnTo>
                        <a:lnTo>
                          <a:pt x="4365" y="0"/>
                        </a:lnTo>
                        <a:lnTo>
                          <a:pt x="4393" y="0"/>
                        </a:lnTo>
                        <a:lnTo>
                          <a:pt x="4420" y="0"/>
                        </a:lnTo>
                        <a:lnTo>
                          <a:pt x="4448" y="0"/>
                        </a:lnTo>
                        <a:lnTo>
                          <a:pt x="4476" y="0"/>
                        </a:lnTo>
                        <a:lnTo>
                          <a:pt x="4517" y="0"/>
                        </a:lnTo>
                        <a:lnTo>
                          <a:pt x="4545" y="0"/>
                        </a:lnTo>
                        <a:lnTo>
                          <a:pt x="4573" y="0"/>
                        </a:lnTo>
                        <a:lnTo>
                          <a:pt x="4600" y="0"/>
                        </a:lnTo>
                        <a:lnTo>
                          <a:pt x="4628" y="0"/>
                        </a:lnTo>
                        <a:lnTo>
                          <a:pt x="4656" y="0"/>
                        </a:lnTo>
                        <a:lnTo>
                          <a:pt x="4697" y="0"/>
                        </a:lnTo>
                        <a:lnTo>
                          <a:pt x="4725" y="0"/>
                        </a:lnTo>
                        <a:lnTo>
                          <a:pt x="4752" y="0"/>
                        </a:lnTo>
                        <a:lnTo>
                          <a:pt x="4780" y="0"/>
                        </a:lnTo>
                        <a:lnTo>
                          <a:pt x="4808" y="0"/>
                        </a:lnTo>
                        <a:lnTo>
                          <a:pt x="4849" y="0"/>
                        </a:lnTo>
                        <a:lnTo>
                          <a:pt x="4877" y="0"/>
                        </a:lnTo>
                        <a:lnTo>
                          <a:pt x="4905" y="0"/>
                        </a:lnTo>
                        <a:lnTo>
                          <a:pt x="4932" y="0"/>
                        </a:lnTo>
                        <a:lnTo>
                          <a:pt x="4960" y="0"/>
                        </a:lnTo>
                        <a:lnTo>
                          <a:pt x="4988" y="0"/>
                        </a:lnTo>
                        <a:lnTo>
                          <a:pt x="5030" y="0"/>
                        </a:lnTo>
                        <a:lnTo>
                          <a:pt x="5058" y="0"/>
                        </a:lnTo>
                        <a:lnTo>
                          <a:pt x="5086" y="0"/>
                        </a:lnTo>
                        <a:lnTo>
                          <a:pt x="5113" y="0"/>
                        </a:lnTo>
                        <a:lnTo>
                          <a:pt x="5141" y="0"/>
                        </a:lnTo>
                        <a:lnTo>
                          <a:pt x="5169" y="0"/>
                        </a:lnTo>
                        <a:lnTo>
                          <a:pt x="5210" y="0"/>
                        </a:lnTo>
                        <a:lnTo>
                          <a:pt x="5238" y="0"/>
                        </a:lnTo>
                        <a:lnTo>
                          <a:pt x="5266" y="0"/>
                        </a:lnTo>
                        <a:lnTo>
                          <a:pt x="5293" y="0"/>
                        </a:lnTo>
                        <a:lnTo>
                          <a:pt x="5321" y="0"/>
                        </a:lnTo>
                        <a:lnTo>
                          <a:pt x="5349" y="0"/>
                        </a:lnTo>
                        <a:lnTo>
                          <a:pt x="5390" y="0"/>
                        </a:lnTo>
                        <a:lnTo>
                          <a:pt x="5418" y="0"/>
                        </a:lnTo>
                        <a:lnTo>
                          <a:pt x="5445" y="0"/>
                        </a:lnTo>
                        <a:lnTo>
                          <a:pt x="5473" y="0"/>
                        </a:lnTo>
                        <a:lnTo>
                          <a:pt x="5501" y="0"/>
                        </a:lnTo>
                        <a:lnTo>
                          <a:pt x="5528" y="0"/>
                        </a:lnTo>
                        <a:lnTo>
                          <a:pt x="5570" y="0"/>
                        </a:lnTo>
                        <a:lnTo>
                          <a:pt x="5597" y="0"/>
                        </a:lnTo>
                        <a:lnTo>
                          <a:pt x="5625" y="0"/>
                        </a:lnTo>
                        <a:lnTo>
                          <a:pt x="5653" y="0"/>
                        </a:lnTo>
                        <a:lnTo>
                          <a:pt x="5680" y="0"/>
                        </a:lnTo>
                        <a:lnTo>
                          <a:pt x="5722" y="0"/>
                        </a:lnTo>
                        <a:lnTo>
                          <a:pt x="5750" y="0"/>
                        </a:lnTo>
                        <a:lnTo>
                          <a:pt x="5777" y="0"/>
                        </a:lnTo>
                        <a:lnTo>
                          <a:pt x="5805" y="0"/>
                        </a:lnTo>
                        <a:lnTo>
                          <a:pt x="5834" y="0"/>
                        </a:lnTo>
                        <a:lnTo>
                          <a:pt x="5862" y="0"/>
                        </a:lnTo>
                        <a:lnTo>
                          <a:pt x="5875" y="15"/>
                        </a:lnTo>
                        <a:lnTo>
                          <a:pt x="5917" y="15"/>
                        </a:lnTo>
                        <a:lnTo>
                          <a:pt x="5945" y="32"/>
                        </a:lnTo>
                        <a:lnTo>
                          <a:pt x="5986" y="47"/>
                        </a:lnTo>
                        <a:lnTo>
                          <a:pt x="6028" y="64"/>
                        </a:lnTo>
                        <a:lnTo>
                          <a:pt x="6055" y="79"/>
                        </a:lnTo>
                        <a:lnTo>
                          <a:pt x="6097" y="94"/>
                        </a:lnTo>
                        <a:lnTo>
                          <a:pt x="6124" y="111"/>
                        </a:lnTo>
                        <a:lnTo>
                          <a:pt x="6152" y="126"/>
                        </a:lnTo>
                        <a:lnTo>
                          <a:pt x="6180" y="126"/>
                        </a:lnTo>
                        <a:lnTo>
                          <a:pt x="6221" y="143"/>
                        </a:lnTo>
                        <a:lnTo>
                          <a:pt x="6249" y="158"/>
                        </a:lnTo>
                        <a:lnTo>
                          <a:pt x="6277" y="173"/>
                        </a:lnTo>
                        <a:lnTo>
                          <a:pt x="6304" y="190"/>
                        </a:lnTo>
                        <a:lnTo>
                          <a:pt x="6332" y="205"/>
                        </a:lnTo>
                        <a:lnTo>
                          <a:pt x="6360" y="222"/>
                        </a:lnTo>
                        <a:lnTo>
                          <a:pt x="6401" y="237"/>
                        </a:lnTo>
                        <a:lnTo>
                          <a:pt x="6429" y="252"/>
                        </a:lnTo>
                        <a:lnTo>
                          <a:pt x="6456" y="269"/>
                        </a:lnTo>
                        <a:lnTo>
                          <a:pt x="6484" y="284"/>
                        </a:lnTo>
                        <a:lnTo>
                          <a:pt x="6512" y="300"/>
                        </a:lnTo>
                        <a:lnTo>
                          <a:pt x="6539" y="331"/>
                        </a:lnTo>
                        <a:lnTo>
                          <a:pt x="6567" y="347"/>
                        </a:lnTo>
                        <a:lnTo>
                          <a:pt x="6595" y="363"/>
                        </a:lnTo>
                        <a:lnTo>
                          <a:pt x="6624" y="379"/>
                        </a:lnTo>
                        <a:lnTo>
                          <a:pt x="6651" y="395"/>
                        </a:lnTo>
                        <a:lnTo>
                          <a:pt x="6679" y="410"/>
                        </a:lnTo>
                        <a:lnTo>
                          <a:pt x="6707" y="426"/>
                        </a:lnTo>
                        <a:lnTo>
                          <a:pt x="6734" y="458"/>
                        </a:lnTo>
                        <a:lnTo>
                          <a:pt x="6748" y="473"/>
                        </a:lnTo>
                        <a:lnTo>
                          <a:pt x="6776" y="489"/>
                        </a:lnTo>
                        <a:lnTo>
                          <a:pt x="6804" y="505"/>
                        </a:lnTo>
                        <a:lnTo>
                          <a:pt x="6831" y="537"/>
                        </a:lnTo>
                        <a:lnTo>
                          <a:pt x="6845" y="552"/>
                        </a:lnTo>
                        <a:lnTo>
                          <a:pt x="6873" y="567"/>
                        </a:lnTo>
                        <a:lnTo>
                          <a:pt x="6900" y="584"/>
                        </a:lnTo>
                        <a:lnTo>
                          <a:pt x="6928" y="616"/>
                        </a:lnTo>
                        <a:lnTo>
                          <a:pt x="6942" y="631"/>
                        </a:lnTo>
                        <a:lnTo>
                          <a:pt x="6970" y="646"/>
                        </a:lnTo>
                        <a:lnTo>
                          <a:pt x="6997" y="678"/>
                        </a:lnTo>
                        <a:lnTo>
                          <a:pt x="7011" y="695"/>
                        </a:lnTo>
                        <a:lnTo>
                          <a:pt x="7039" y="725"/>
                        </a:lnTo>
                        <a:lnTo>
                          <a:pt x="7066" y="742"/>
                        </a:lnTo>
                        <a:lnTo>
                          <a:pt x="7080" y="757"/>
                        </a:lnTo>
                        <a:lnTo>
                          <a:pt x="7108" y="789"/>
                        </a:lnTo>
                        <a:lnTo>
                          <a:pt x="7122" y="804"/>
                        </a:lnTo>
                        <a:lnTo>
                          <a:pt x="7149" y="836"/>
                        </a:lnTo>
                        <a:lnTo>
                          <a:pt x="7163" y="852"/>
                        </a:lnTo>
                        <a:lnTo>
                          <a:pt x="7191" y="883"/>
                        </a:lnTo>
                        <a:lnTo>
                          <a:pt x="7205" y="915"/>
                        </a:lnTo>
                        <a:lnTo>
                          <a:pt x="7232" y="931"/>
                        </a:lnTo>
                        <a:lnTo>
                          <a:pt x="7246" y="962"/>
                        </a:lnTo>
                        <a:lnTo>
                          <a:pt x="7274" y="978"/>
                        </a:lnTo>
                        <a:lnTo>
                          <a:pt x="7288" y="1010"/>
                        </a:lnTo>
                        <a:lnTo>
                          <a:pt x="7315" y="1041"/>
                        </a:lnTo>
                        <a:lnTo>
                          <a:pt x="7329" y="1057"/>
                        </a:lnTo>
                        <a:lnTo>
                          <a:pt x="7343" y="1089"/>
                        </a:lnTo>
                        <a:lnTo>
                          <a:pt x="7357" y="1120"/>
                        </a:lnTo>
                        <a:lnTo>
                          <a:pt x="7384" y="1136"/>
                        </a:lnTo>
                        <a:lnTo>
                          <a:pt x="7398" y="1168"/>
                        </a:lnTo>
                        <a:lnTo>
                          <a:pt x="7412" y="1198"/>
                        </a:lnTo>
                        <a:lnTo>
                          <a:pt x="7427" y="1247"/>
                        </a:lnTo>
                        <a:lnTo>
                          <a:pt x="7441" y="1262"/>
                        </a:lnTo>
                        <a:lnTo>
                          <a:pt x="7455" y="1294"/>
                        </a:lnTo>
                        <a:lnTo>
                          <a:pt x="7483" y="1326"/>
                        </a:lnTo>
                        <a:lnTo>
                          <a:pt x="7496" y="1356"/>
                        </a:lnTo>
                        <a:lnTo>
                          <a:pt x="7496" y="1388"/>
                        </a:lnTo>
                        <a:lnTo>
                          <a:pt x="7510" y="1420"/>
                        </a:lnTo>
                        <a:lnTo>
                          <a:pt x="7524" y="1452"/>
                        </a:lnTo>
                        <a:lnTo>
                          <a:pt x="7538" y="1483"/>
                        </a:lnTo>
                        <a:lnTo>
                          <a:pt x="7552" y="1514"/>
                        </a:lnTo>
                        <a:lnTo>
                          <a:pt x="7566" y="1546"/>
                        </a:lnTo>
                        <a:lnTo>
                          <a:pt x="7566" y="1578"/>
                        </a:lnTo>
                        <a:lnTo>
                          <a:pt x="7579" y="1609"/>
                        </a:lnTo>
                        <a:lnTo>
                          <a:pt x="7593" y="1641"/>
                        </a:lnTo>
                        <a:lnTo>
                          <a:pt x="7593" y="1672"/>
                        </a:lnTo>
                        <a:lnTo>
                          <a:pt x="7607" y="1703"/>
                        </a:lnTo>
                        <a:lnTo>
                          <a:pt x="7607" y="1735"/>
                        </a:lnTo>
                        <a:lnTo>
                          <a:pt x="7621" y="1767"/>
                        </a:lnTo>
                        <a:lnTo>
                          <a:pt x="7621" y="1799"/>
                        </a:lnTo>
                        <a:lnTo>
                          <a:pt x="7635" y="1846"/>
                        </a:lnTo>
                        <a:lnTo>
                          <a:pt x="7635" y="1893"/>
                        </a:lnTo>
                        <a:lnTo>
                          <a:pt x="7649" y="1940"/>
                        </a:lnTo>
                        <a:lnTo>
                          <a:pt x="7649" y="1987"/>
                        </a:lnTo>
                        <a:lnTo>
                          <a:pt x="7662" y="2036"/>
                        </a:lnTo>
                        <a:lnTo>
                          <a:pt x="7662" y="2066"/>
                        </a:lnTo>
                        <a:lnTo>
                          <a:pt x="7662" y="2114"/>
                        </a:lnTo>
                        <a:lnTo>
                          <a:pt x="7662" y="2145"/>
                        </a:lnTo>
                        <a:lnTo>
                          <a:pt x="7662" y="2193"/>
                        </a:lnTo>
                        <a:lnTo>
                          <a:pt x="7662" y="2225"/>
                        </a:lnTo>
                        <a:lnTo>
                          <a:pt x="7662" y="2256"/>
                        </a:lnTo>
                        <a:lnTo>
                          <a:pt x="7662" y="2304"/>
                        </a:lnTo>
                        <a:lnTo>
                          <a:pt x="7662" y="2334"/>
                        </a:lnTo>
                        <a:lnTo>
                          <a:pt x="7662" y="2366"/>
                        </a:lnTo>
                        <a:lnTo>
                          <a:pt x="7662" y="2398"/>
                        </a:lnTo>
                        <a:lnTo>
                          <a:pt x="7662" y="2445"/>
                        </a:lnTo>
                        <a:lnTo>
                          <a:pt x="7649" y="2477"/>
                        </a:lnTo>
                        <a:lnTo>
                          <a:pt x="7649" y="2509"/>
                        </a:lnTo>
                        <a:lnTo>
                          <a:pt x="7649" y="2556"/>
                        </a:lnTo>
                        <a:lnTo>
                          <a:pt x="7635" y="2588"/>
                        </a:lnTo>
                        <a:lnTo>
                          <a:pt x="7635" y="2635"/>
                        </a:lnTo>
                        <a:lnTo>
                          <a:pt x="7621" y="2667"/>
                        </a:lnTo>
                        <a:lnTo>
                          <a:pt x="7621" y="2714"/>
                        </a:lnTo>
                        <a:lnTo>
                          <a:pt x="7607" y="2745"/>
                        </a:lnTo>
                        <a:lnTo>
                          <a:pt x="7593" y="2777"/>
                        </a:lnTo>
                        <a:lnTo>
                          <a:pt x="7593" y="2824"/>
                        </a:lnTo>
                        <a:lnTo>
                          <a:pt x="7579" y="2856"/>
                        </a:lnTo>
                        <a:lnTo>
                          <a:pt x="7566" y="2887"/>
                        </a:lnTo>
                        <a:lnTo>
                          <a:pt x="7552" y="2918"/>
                        </a:lnTo>
                        <a:lnTo>
                          <a:pt x="7552" y="2950"/>
                        </a:lnTo>
                        <a:lnTo>
                          <a:pt x="7538" y="2982"/>
                        </a:lnTo>
                        <a:lnTo>
                          <a:pt x="7524" y="3014"/>
                        </a:lnTo>
                        <a:lnTo>
                          <a:pt x="7510" y="3044"/>
                        </a:lnTo>
                        <a:lnTo>
                          <a:pt x="7496" y="3076"/>
                        </a:lnTo>
                        <a:lnTo>
                          <a:pt x="7483" y="3108"/>
                        </a:lnTo>
                        <a:lnTo>
                          <a:pt x="7469" y="3140"/>
                        </a:lnTo>
                        <a:lnTo>
                          <a:pt x="7455" y="3172"/>
                        </a:lnTo>
                        <a:lnTo>
                          <a:pt x="7441" y="3202"/>
                        </a:lnTo>
                        <a:lnTo>
                          <a:pt x="7412" y="3234"/>
                        </a:lnTo>
                        <a:lnTo>
                          <a:pt x="7398" y="3266"/>
                        </a:lnTo>
                        <a:lnTo>
                          <a:pt x="7384" y="3297"/>
                        </a:lnTo>
                        <a:lnTo>
                          <a:pt x="7371" y="3313"/>
                        </a:lnTo>
                        <a:lnTo>
                          <a:pt x="7343" y="3345"/>
                        </a:lnTo>
                        <a:lnTo>
                          <a:pt x="7329" y="3376"/>
                        </a:lnTo>
                        <a:lnTo>
                          <a:pt x="7315" y="3408"/>
                        </a:lnTo>
                        <a:lnTo>
                          <a:pt x="7288" y="3423"/>
                        </a:lnTo>
                        <a:lnTo>
                          <a:pt x="7274" y="3455"/>
                        </a:lnTo>
                        <a:lnTo>
                          <a:pt x="7246" y="3487"/>
                        </a:lnTo>
                        <a:lnTo>
                          <a:pt x="7232" y="3502"/>
                        </a:lnTo>
                        <a:lnTo>
                          <a:pt x="7205" y="3534"/>
                        </a:lnTo>
                        <a:lnTo>
                          <a:pt x="7177" y="3566"/>
                        </a:lnTo>
                        <a:lnTo>
                          <a:pt x="7163" y="3581"/>
                        </a:lnTo>
                        <a:lnTo>
                          <a:pt x="7135" y="3613"/>
                        </a:lnTo>
                        <a:lnTo>
                          <a:pt x="7122" y="3628"/>
                        </a:lnTo>
                        <a:lnTo>
                          <a:pt x="7094" y="3660"/>
                        </a:lnTo>
                        <a:lnTo>
                          <a:pt x="7066" y="3675"/>
                        </a:lnTo>
                        <a:lnTo>
                          <a:pt x="7053" y="3707"/>
                        </a:lnTo>
                        <a:lnTo>
                          <a:pt x="7025" y="3724"/>
                        </a:lnTo>
                        <a:lnTo>
                          <a:pt x="6997" y="3739"/>
                        </a:lnTo>
                        <a:lnTo>
                          <a:pt x="6983" y="3771"/>
                        </a:lnTo>
                        <a:lnTo>
                          <a:pt x="6956" y="3786"/>
                        </a:lnTo>
                        <a:lnTo>
                          <a:pt x="6928" y="3818"/>
                        </a:lnTo>
                        <a:lnTo>
                          <a:pt x="6900" y="3833"/>
                        </a:lnTo>
                        <a:lnTo>
                          <a:pt x="6887" y="3850"/>
                        </a:lnTo>
                        <a:lnTo>
                          <a:pt x="6859" y="3881"/>
                        </a:lnTo>
                        <a:lnTo>
                          <a:pt x="6831" y="3897"/>
                        </a:lnTo>
                        <a:lnTo>
                          <a:pt x="6804" y="3912"/>
                        </a:lnTo>
                        <a:lnTo>
                          <a:pt x="6776" y="3944"/>
                        </a:lnTo>
                        <a:lnTo>
                          <a:pt x="6762" y="3960"/>
                        </a:lnTo>
                        <a:lnTo>
                          <a:pt x="6734" y="3975"/>
                        </a:lnTo>
                        <a:lnTo>
                          <a:pt x="6707" y="3991"/>
                        </a:lnTo>
                        <a:lnTo>
                          <a:pt x="6679" y="4007"/>
                        </a:lnTo>
                        <a:lnTo>
                          <a:pt x="6651" y="4039"/>
                        </a:lnTo>
                        <a:lnTo>
                          <a:pt x="6609" y="4054"/>
                        </a:lnTo>
                        <a:lnTo>
                          <a:pt x="6595" y="4070"/>
                        </a:lnTo>
                        <a:lnTo>
                          <a:pt x="6567" y="4086"/>
                        </a:lnTo>
                        <a:lnTo>
                          <a:pt x="6539" y="4101"/>
                        </a:lnTo>
                        <a:lnTo>
                          <a:pt x="6512" y="4118"/>
                        </a:lnTo>
                        <a:lnTo>
                          <a:pt x="6484" y="4133"/>
                        </a:lnTo>
                        <a:lnTo>
                          <a:pt x="6456" y="4148"/>
                        </a:lnTo>
                        <a:lnTo>
                          <a:pt x="6429" y="4165"/>
                        </a:lnTo>
                        <a:lnTo>
                          <a:pt x="6401" y="4180"/>
                        </a:lnTo>
                        <a:lnTo>
                          <a:pt x="6373" y="4197"/>
                        </a:lnTo>
                        <a:lnTo>
                          <a:pt x="6346" y="4212"/>
                        </a:lnTo>
                        <a:lnTo>
                          <a:pt x="6318" y="4227"/>
                        </a:lnTo>
                        <a:lnTo>
                          <a:pt x="6290" y="4244"/>
                        </a:lnTo>
                        <a:lnTo>
                          <a:pt x="6263" y="4259"/>
                        </a:lnTo>
                        <a:lnTo>
                          <a:pt x="6235" y="4276"/>
                        </a:lnTo>
                        <a:lnTo>
                          <a:pt x="6207" y="4291"/>
                        </a:lnTo>
                        <a:lnTo>
                          <a:pt x="6180" y="4306"/>
                        </a:lnTo>
                        <a:lnTo>
                          <a:pt x="6152" y="4306"/>
                        </a:lnTo>
                        <a:lnTo>
                          <a:pt x="6124" y="4323"/>
                        </a:lnTo>
                        <a:lnTo>
                          <a:pt x="6097" y="4338"/>
                        </a:lnTo>
                        <a:lnTo>
                          <a:pt x="6069" y="4355"/>
                        </a:lnTo>
                        <a:lnTo>
                          <a:pt x="6041" y="4370"/>
                        </a:lnTo>
                        <a:lnTo>
                          <a:pt x="6014" y="4370"/>
                        </a:lnTo>
                        <a:lnTo>
                          <a:pt x="5986" y="4385"/>
                        </a:lnTo>
                        <a:lnTo>
                          <a:pt x="5958" y="4402"/>
                        </a:lnTo>
                        <a:lnTo>
                          <a:pt x="5931" y="4402"/>
                        </a:lnTo>
                        <a:lnTo>
                          <a:pt x="5903" y="4417"/>
                        </a:lnTo>
                        <a:lnTo>
                          <a:pt x="5862" y="4417"/>
                        </a:lnTo>
                        <a:lnTo>
                          <a:pt x="5834" y="4417"/>
                        </a:lnTo>
                        <a:lnTo>
                          <a:pt x="5805" y="4417"/>
                        </a:lnTo>
                        <a:lnTo>
                          <a:pt x="5777" y="4417"/>
                        </a:lnTo>
                        <a:lnTo>
                          <a:pt x="5750" y="4417"/>
                        </a:lnTo>
                        <a:lnTo>
                          <a:pt x="5722" y="4417"/>
                        </a:lnTo>
                        <a:lnTo>
                          <a:pt x="5680" y="4417"/>
                        </a:lnTo>
                        <a:lnTo>
                          <a:pt x="5653" y="4417"/>
                        </a:lnTo>
                        <a:lnTo>
                          <a:pt x="5625" y="4417"/>
                        </a:lnTo>
                        <a:lnTo>
                          <a:pt x="5597" y="4417"/>
                        </a:lnTo>
                        <a:lnTo>
                          <a:pt x="5570" y="4417"/>
                        </a:lnTo>
                        <a:lnTo>
                          <a:pt x="5528" y="4417"/>
                        </a:lnTo>
                        <a:lnTo>
                          <a:pt x="5501" y="4417"/>
                        </a:lnTo>
                        <a:lnTo>
                          <a:pt x="5473" y="4417"/>
                        </a:lnTo>
                        <a:lnTo>
                          <a:pt x="5445" y="4417"/>
                        </a:lnTo>
                        <a:lnTo>
                          <a:pt x="5418" y="4417"/>
                        </a:lnTo>
                        <a:lnTo>
                          <a:pt x="5390" y="4417"/>
                        </a:lnTo>
                        <a:lnTo>
                          <a:pt x="5349" y="4417"/>
                        </a:lnTo>
                        <a:lnTo>
                          <a:pt x="5321" y="4417"/>
                        </a:lnTo>
                        <a:lnTo>
                          <a:pt x="5293" y="4417"/>
                        </a:lnTo>
                        <a:lnTo>
                          <a:pt x="5266" y="4417"/>
                        </a:lnTo>
                        <a:lnTo>
                          <a:pt x="5238" y="4417"/>
                        </a:lnTo>
                        <a:lnTo>
                          <a:pt x="5210" y="4417"/>
                        </a:lnTo>
                        <a:lnTo>
                          <a:pt x="5169" y="4417"/>
                        </a:lnTo>
                        <a:lnTo>
                          <a:pt x="5141" y="4417"/>
                        </a:lnTo>
                        <a:lnTo>
                          <a:pt x="5113" y="4417"/>
                        </a:lnTo>
                        <a:lnTo>
                          <a:pt x="5086" y="4417"/>
                        </a:lnTo>
                        <a:lnTo>
                          <a:pt x="5058" y="4417"/>
                        </a:lnTo>
                        <a:lnTo>
                          <a:pt x="5030" y="4417"/>
                        </a:lnTo>
                        <a:lnTo>
                          <a:pt x="4988" y="4417"/>
                        </a:lnTo>
                        <a:lnTo>
                          <a:pt x="4960" y="4417"/>
                        </a:lnTo>
                        <a:lnTo>
                          <a:pt x="4932" y="4417"/>
                        </a:lnTo>
                        <a:lnTo>
                          <a:pt x="4905" y="4417"/>
                        </a:lnTo>
                        <a:lnTo>
                          <a:pt x="4877" y="4417"/>
                        </a:lnTo>
                        <a:lnTo>
                          <a:pt x="4849" y="4417"/>
                        </a:lnTo>
                        <a:lnTo>
                          <a:pt x="4808" y="4417"/>
                        </a:lnTo>
                        <a:lnTo>
                          <a:pt x="4780" y="4417"/>
                        </a:lnTo>
                        <a:lnTo>
                          <a:pt x="4752" y="4417"/>
                        </a:lnTo>
                        <a:lnTo>
                          <a:pt x="4725" y="4417"/>
                        </a:lnTo>
                        <a:lnTo>
                          <a:pt x="4697" y="4417"/>
                        </a:lnTo>
                        <a:lnTo>
                          <a:pt x="4656" y="4417"/>
                        </a:lnTo>
                        <a:lnTo>
                          <a:pt x="4628" y="4417"/>
                        </a:lnTo>
                        <a:lnTo>
                          <a:pt x="4600" y="4417"/>
                        </a:lnTo>
                        <a:lnTo>
                          <a:pt x="4573" y="4417"/>
                        </a:lnTo>
                        <a:lnTo>
                          <a:pt x="4545" y="4417"/>
                        </a:lnTo>
                        <a:lnTo>
                          <a:pt x="4517" y="4417"/>
                        </a:lnTo>
                        <a:lnTo>
                          <a:pt x="4476" y="4417"/>
                        </a:lnTo>
                        <a:lnTo>
                          <a:pt x="4448" y="4417"/>
                        </a:lnTo>
                        <a:lnTo>
                          <a:pt x="4420" y="4417"/>
                        </a:lnTo>
                        <a:lnTo>
                          <a:pt x="4393" y="4417"/>
                        </a:lnTo>
                        <a:lnTo>
                          <a:pt x="4365" y="4417"/>
                        </a:lnTo>
                        <a:lnTo>
                          <a:pt x="4337" y="4417"/>
                        </a:lnTo>
                        <a:lnTo>
                          <a:pt x="4296" y="4417"/>
                        </a:lnTo>
                        <a:lnTo>
                          <a:pt x="4268" y="4417"/>
                        </a:lnTo>
                        <a:lnTo>
                          <a:pt x="4241" y="4417"/>
                        </a:lnTo>
                        <a:lnTo>
                          <a:pt x="4212" y="4417"/>
                        </a:lnTo>
                        <a:lnTo>
                          <a:pt x="4184" y="4417"/>
                        </a:lnTo>
                        <a:lnTo>
                          <a:pt x="4156" y="4417"/>
                        </a:lnTo>
                        <a:lnTo>
                          <a:pt x="4115" y="4417"/>
                        </a:lnTo>
                        <a:lnTo>
                          <a:pt x="4087" y="4417"/>
                        </a:lnTo>
                        <a:lnTo>
                          <a:pt x="4059" y="4417"/>
                        </a:lnTo>
                        <a:lnTo>
                          <a:pt x="4032" y="4417"/>
                        </a:lnTo>
                        <a:lnTo>
                          <a:pt x="4004" y="4417"/>
                        </a:lnTo>
                        <a:lnTo>
                          <a:pt x="3963" y="4417"/>
                        </a:lnTo>
                        <a:lnTo>
                          <a:pt x="3921" y="4417"/>
                        </a:lnTo>
                        <a:lnTo>
                          <a:pt x="3893" y="4417"/>
                        </a:lnTo>
                        <a:lnTo>
                          <a:pt x="3866" y="4417"/>
                        </a:lnTo>
                        <a:lnTo>
                          <a:pt x="3838" y="4417"/>
                        </a:lnTo>
                        <a:lnTo>
                          <a:pt x="3810" y="4417"/>
                        </a:lnTo>
                        <a:lnTo>
                          <a:pt x="3769" y="4417"/>
                        </a:lnTo>
                        <a:lnTo>
                          <a:pt x="3741" y="4417"/>
                        </a:lnTo>
                        <a:lnTo>
                          <a:pt x="3714" y="4417"/>
                        </a:lnTo>
                        <a:lnTo>
                          <a:pt x="3686" y="4417"/>
                        </a:lnTo>
                        <a:lnTo>
                          <a:pt x="3658" y="4417"/>
                        </a:lnTo>
                        <a:lnTo>
                          <a:pt x="3631" y="4417"/>
                        </a:lnTo>
                        <a:lnTo>
                          <a:pt x="3589" y="4417"/>
                        </a:lnTo>
                        <a:lnTo>
                          <a:pt x="3562" y="4417"/>
                        </a:lnTo>
                        <a:lnTo>
                          <a:pt x="3534" y="4417"/>
                        </a:lnTo>
                        <a:lnTo>
                          <a:pt x="3506" y="4417"/>
                        </a:lnTo>
                        <a:lnTo>
                          <a:pt x="3479" y="4417"/>
                        </a:lnTo>
                        <a:lnTo>
                          <a:pt x="3451" y="4417"/>
                        </a:lnTo>
                        <a:lnTo>
                          <a:pt x="3408" y="4417"/>
                        </a:lnTo>
                        <a:lnTo>
                          <a:pt x="3380" y="4417"/>
                        </a:lnTo>
                        <a:lnTo>
                          <a:pt x="3353" y="4417"/>
                        </a:lnTo>
                        <a:lnTo>
                          <a:pt x="3325" y="4417"/>
                        </a:lnTo>
                        <a:lnTo>
                          <a:pt x="3297" y="4417"/>
                        </a:lnTo>
                        <a:lnTo>
                          <a:pt x="3270" y="4417"/>
                        </a:lnTo>
                        <a:lnTo>
                          <a:pt x="3228" y="4417"/>
                        </a:lnTo>
                        <a:lnTo>
                          <a:pt x="3201" y="4417"/>
                        </a:lnTo>
                        <a:lnTo>
                          <a:pt x="3173" y="4417"/>
                        </a:lnTo>
                        <a:lnTo>
                          <a:pt x="3145" y="4417"/>
                        </a:lnTo>
                        <a:lnTo>
                          <a:pt x="3118" y="4417"/>
                        </a:lnTo>
                        <a:lnTo>
                          <a:pt x="3090" y="4417"/>
                        </a:lnTo>
                        <a:lnTo>
                          <a:pt x="3048" y="4417"/>
                        </a:lnTo>
                        <a:lnTo>
                          <a:pt x="3021" y="4417"/>
                        </a:lnTo>
                        <a:lnTo>
                          <a:pt x="2993" y="4417"/>
                        </a:lnTo>
                        <a:lnTo>
                          <a:pt x="2965" y="4417"/>
                        </a:lnTo>
                        <a:lnTo>
                          <a:pt x="2938" y="4417"/>
                        </a:lnTo>
                        <a:lnTo>
                          <a:pt x="2896" y="4417"/>
                        </a:lnTo>
                        <a:lnTo>
                          <a:pt x="2869" y="4417"/>
                        </a:lnTo>
                        <a:lnTo>
                          <a:pt x="2841" y="4417"/>
                        </a:lnTo>
                        <a:lnTo>
                          <a:pt x="2813" y="4417"/>
                        </a:lnTo>
                        <a:lnTo>
                          <a:pt x="2786" y="4417"/>
                        </a:lnTo>
                        <a:lnTo>
                          <a:pt x="2758" y="4417"/>
                        </a:lnTo>
                        <a:lnTo>
                          <a:pt x="2716" y="4417"/>
                        </a:lnTo>
                        <a:lnTo>
                          <a:pt x="2689" y="4417"/>
                        </a:lnTo>
                        <a:lnTo>
                          <a:pt x="2661" y="4417"/>
                        </a:lnTo>
                        <a:lnTo>
                          <a:pt x="2632" y="4417"/>
                        </a:lnTo>
                        <a:lnTo>
                          <a:pt x="2604" y="4417"/>
                        </a:lnTo>
                        <a:lnTo>
                          <a:pt x="2577" y="4417"/>
                        </a:lnTo>
                        <a:lnTo>
                          <a:pt x="2535" y="4417"/>
                        </a:lnTo>
                        <a:lnTo>
                          <a:pt x="2508" y="4417"/>
                        </a:lnTo>
                        <a:lnTo>
                          <a:pt x="2480" y="4417"/>
                        </a:lnTo>
                        <a:lnTo>
                          <a:pt x="2452" y="4417"/>
                        </a:lnTo>
                        <a:lnTo>
                          <a:pt x="2425" y="4417"/>
                        </a:lnTo>
                        <a:lnTo>
                          <a:pt x="2397" y="4417"/>
                        </a:lnTo>
                        <a:lnTo>
                          <a:pt x="2355" y="4417"/>
                        </a:lnTo>
                        <a:lnTo>
                          <a:pt x="2328" y="4417"/>
                        </a:lnTo>
                        <a:lnTo>
                          <a:pt x="2300" y="4417"/>
                        </a:lnTo>
                        <a:lnTo>
                          <a:pt x="2272" y="4417"/>
                        </a:lnTo>
                        <a:lnTo>
                          <a:pt x="2245" y="4417"/>
                        </a:lnTo>
                        <a:lnTo>
                          <a:pt x="2217" y="4417"/>
                        </a:lnTo>
                        <a:lnTo>
                          <a:pt x="2176" y="4417"/>
                        </a:lnTo>
                        <a:lnTo>
                          <a:pt x="2148" y="4417"/>
                        </a:lnTo>
                        <a:lnTo>
                          <a:pt x="2120" y="4417"/>
                        </a:lnTo>
                        <a:lnTo>
                          <a:pt x="2093" y="4417"/>
                        </a:lnTo>
                        <a:lnTo>
                          <a:pt x="2065" y="4417"/>
                        </a:lnTo>
                        <a:lnTo>
                          <a:pt x="2037" y="4417"/>
                        </a:lnTo>
                        <a:lnTo>
                          <a:pt x="1996" y="4417"/>
                        </a:lnTo>
                        <a:lnTo>
                          <a:pt x="1968" y="4417"/>
                        </a:lnTo>
                        <a:lnTo>
                          <a:pt x="1940" y="4417"/>
                        </a:lnTo>
                        <a:lnTo>
                          <a:pt x="1913" y="4417"/>
                        </a:lnTo>
                        <a:lnTo>
                          <a:pt x="1885" y="4417"/>
                        </a:lnTo>
                        <a:lnTo>
                          <a:pt x="1844" y="4417"/>
                        </a:lnTo>
                        <a:lnTo>
                          <a:pt x="1815" y="4417"/>
                        </a:lnTo>
                        <a:lnTo>
                          <a:pt x="1787" y="441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" name=""/>
                <p:cNvGrpSpPr/>
                <p:nvPr/>
              </p:nvGrpSpPr>
              <p:grpSpPr>
                <a:xfrm>
                  <a:off x="5345280" y="4440240"/>
                  <a:ext cx="601560" cy="358920"/>
                  <a:chOff x="5345280" y="4440240"/>
                  <a:chExt cx="601560" cy="35892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>
                    <a:off x="5345280" y="4440240"/>
                    <a:ext cx="601560" cy="35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36" h="678">
                        <a:moveTo>
                          <a:pt x="1136" y="678"/>
                        </a:moveTo>
                        <a:lnTo>
                          <a:pt x="1108" y="678"/>
                        </a:lnTo>
                        <a:lnTo>
                          <a:pt x="1081" y="663"/>
                        </a:lnTo>
                        <a:lnTo>
                          <a:pt x="1053" y="663"/>
                        </a:lnTo>
                        <a:lnTo>
                          <a:pt x="1025" y="646"/>
                        </a:lnTo>
                        <a:lnTo>
                          <a:pt x="984" y="631"/>
                        </a:lnTo>
                        <a:lnTo>
                          <a:pt x="956" y="631"/>
                        </a:lnTo>
                        <a:lnTo>
                          <a:pt x="929" y="616"/>
                        </a:lnTo>
                        <a:lnTo>
                          <a:pt x="901" y="599"/>
                        </a:lnTo>
                        <a:lnTo>
                          <a:pt x="873" y="584"/>
                        </a:lnTo>
                        <a:lnTo>
                          <a:pt x="846" y="567"/>
                        </a:lnTo>
                        <a:lnTo>
                          <a:pt x="818" y="567"/>
                        </a:lnTo>
                        <a:lnTo>
                          <a:pt x="790" y="552"/>
                        </a:lnTo>
                        <a:lnTo>
                          <a:pt x="763" y="537"/>
                        </a:lnTo>
                        <a:lnTo>
                          <a:pt x="735" y="520"/>
                        </a:lnTo>
                        <a:lnTo>
                          <a:pt x="707" y="505"/>
                        </a:lnTo>
                        <a:lnTo>
                          <a:pt x="680" y="488"/>
                        </a:lnTo>
                        <a:lnTo>
                          <a:pt x="638" y="473"/>
                        </a:lnTo>
                        <a:lnTo>
                          <a:pt x="610" y="458"/>
                        </a:lnTo>
                        <a:lnTo>
                          <a:pt x="583" y="441"/>
                        </a:lnTo>
                        <a:lnTo>
                          <a:pt x="555" y="426"/>
                        </a:lnTo>
                        <a:lnTo>
                          <a:pt x="527" y="409"/>
                        </a:lnTo>
                        <a:lnTo>
                          <a:pt x="500" y="394"/>
                        </a:lnTo>
                        <a:lnTo>
                          <a:pt x="486" y="379"/>
                        </a:lnTo>
                        <a:lnTo>
                          <a:pt x="458" y="362"/>
                        </a:lnTo>
                        <a:lnTo>
                          <a:pt x="431" y="347"/>
                        </a:lnTo>
                        <a:lnTo>
                          <a:pt x="403" y="331"/>
                        </a:lnTo>
                        <a:lnTo>
                          <a:pt x="374" y="315"/>
                        </a:lnTo>
                        <a:lnTo>
                          <a:pt x="346" y="300"/>
                        </a:lnTo>
                        <a:lnTo>
                          <a:pt x="319" y="268"/>
                        </a:lnTo>
                        <a:lnTo>
                          <a:pt x="291" y="252"/>
                        </a:lnTo>
                        <a:lnTo>
                          <a:pt x="277" y="236"/>
                        </a:lnTo>
                        <a:lnTo>
                          <a:pt x="249" y="221"/>
                        </a:lnTo>
                        <a:lnTo>
                          <a:pt x="222" y="205"/>
                        </a:lnTo>
                        <a:lnTo>
                          <a:pt x="194" y="173"/>
                        </a:lnTo>
                        <a:lnTo>
                          <a:pt x="166" y="158"/>
                        </a:lnTo>
                        <a:lnTo>
                          <a:pt x="153" y="142"/>
                        </a:lnTo>
                        <a:lnTo>
                          <a:pt x="125" y="111"/>
                        </a:lnTo>
                        <a:lnTo>
                          <a:pt x="97" y="94"/>
                        </a:lnTo>
                        <a:lnTo>
                          <a:pt x="70" y="79"/>
                        </a:lnTo>
                        <a:lnTo>
                          <a:pt x="56" y="47"/>
                        </a:lnTo>
                        <a:lnTo>
                          <a:pt x="28" y="32"/>
                        </a:lnTo>
                        <a:lnTo>
                          <a:pt x="0" y="0"/>
                        </a:lnTo>
                        <a:lnTo>
                          <a:pt x="1136" y="678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5345280" y="4440240"/>
                    <a:ext cx="601560" cy="35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36" h="678">
                        <a:moveTo>
                          <a:pt x="1136" y="678"/>
                        </a:moveTo>
                        <a:lnTo>
                          <a:pt x="1108" y="678"/>
                        </a:lnTo>
                        <a:lnTo>
                          <a:pt x="1081" y="663"/>
                        </a:lnTo>
                        <a:lnTo>
                          <a:pt x="1053" y="663"/>
                        </a:lnTo>
                        <a:lnTo>
                          <a:pt x="1025" y="646"/>
                        </a:lnTo>
                        <a:lnTo>
                          <a:pt x="984" y="631"/>
                        </a:lnTo>
                        <a:lnTo>
                          <a:pt x="956" y="631"/>
                        </a:lnTo>
                        <a:lnTo>
                          <a:pt x="929" y="616"/>
                        </a:lnTo>
                        <a:lnTo>
                          <a:pt x="901" y="599"/>
                        </a:lnTo>
                        <a:lnTo>
                          <a:pt x="873" y="584"/>
                        </a:lnTo>
                        <a:lnTo>
                          <a:pt x="846" y="567"/>
                        </a:lnTo>
                        <a:lnTo>
                          <a:pt x="818" y="567"/>
                        </a:lnTo>
                        <a:lnTo>
                          <a:pt x="790" y="552"/>
                        </a:lnTo>
                        <a:lnTo>
                          <a:pt x="763" y="537"/>
                        </a:lnTo>
                        <a:lnTo>
                          <a:pt x="735" y="520"/>
                        </a:lnTo>
                        <a:lnTo>
                          <a:pt x="707" y="505"/>
                        </a:lnTo>
                        <a:lnTo>
                          <a:pt x="680" y="488"/>
                        </a:lnTo>
                        <a:lnTo>
                          <a:pt x="638" y="473"/>
                        </a:lnTo>
                        <a:lnTo>
                          <a:pt x="610" y="458"/>
                        </a:lnTo>
                        <a:lnTo>
                          <a:pt x="583" y="441"/>
                        </a:lnTo>
                        <a:lnTo>
                          <a:pt x="555" y="426"/>
                        </a:lnTo>
                        <a:lnTo>
                          <a:pt x="527" y="409"/>
                        </a:lnTo>
                        <a:lnTo>
                          <a:pt x="500" y="394"/>
                        </a:lnTo>
                        <a:lnTo>
                          <a:pt x="486" y="379"/>
                        </a:lnTo>
                        <a:lnTo>
                          <a:pt x="458" y="362"/>
                        </a:lnTo>
                        <a:lnTo>
                          <a:pt x="431" y="347"/>
                        </a:lnTo>
                        <a:lnTo>
                          <a:pt x="403" y="331"/>
                        </a:lnTo>
                        <a:lnTo>
                          <a:pt x="374" y="315"/>
                        </a:lnTo>
                        <a:lnTo>
                          <a:pt x="346" y="300"/>
                        </a:lnTo>
                        <a:lnTo>
                          <a:pt x="319" y="268"/>
                        </a:lnTo>
                        <a:lnTo>
                          <a:pt x="291" y="252"/>
                        </a:lnTo>
                        <a:lnTo>
                          <a:pt x="277" y="236"/>
                        </a:lnTo>
                        <a:lnTo>
                          <a:pt x="249" y="221"/>
                        </a:lnTo>
                        <a:lnTo>
                          <a:pt x="222" y="205"/>
                        </a:lnTo>
                        <a:lnTo>
                          <a:pt x="194" y="173"/>
                        </a:lnTo>
                        <a:lnTo>
                          <a:pt x="166" y="158"/>
                        </a:lnTo>
                        <a:lnTo>
                          <a:pt x="153" y="142"/>
                        </a:lnTo>
                        <a:lnTo>
                          <a:pt x="125" y="111"/>
                        </a:lnTo>
                        <a:lnTo>
                          <a:pt x="97" y="94"/>
                        </a:lnTo>
                        <a:lnTo>
                          <a:pt x="70" y="79"/>
                        </a:lnTo>
                        <a:lnTo>
                          <a:pt x="56" y="47"/>
                        </a:lnTo>
                        <a:lnTo>
                          <a:pt x="28" y="3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5059440" y="4022640"/>
                  <a:ext cx="285840" cy="417600"/>
                  <a:chOff x="5059440" y="4022640"/>
                  <a:chExt cx="285840" cy="41760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5059440" y="4022640"/>
                    <a:ext cx="285840" cy="417600"/>
                  </a:xfrm>
                  <a:custGeom>
                    <a:avLst/>
                    <a:gdLst/>
                    <a:ahLst/>
                    <a:rect l="l" t="t" r="r" b="b"/>
                    <a:pathLst>
                      <a:path w="540" h="789">
                        <a:moveTo>
                          <a:pt x="540" y="789"/>
                        </a:moveTo>
                        <a:lnTo>
                          <a:pt x="513" y="774"/>
                        </a:lnTo>
                        <a:lnTo>
                          <a:pt x="499" y="757"/>
                        </a:lnTo>
                        <a:lnTo>
                          <a:pt x="471" y="725"/>
                        </a:lnTo>
                        <a:lnTo>
                          <a:pt x="444" y="710"/>
                        </a:lnTo>
                        <a:lnTo>
                          <a:pt x="430" y="678"/>
                        </a:lnTo>
                        <a:lnTo>
                          <a:pt x="402" y="663"/>
                        </a:lnTo>
                        <a:lnTo>
                          <a:pt x="388" y="631"/>
                        </a:lnTo>
                        <a:lnTo>
                          <a:pt x="361" y="616"/>
                        </a:lnTo>
                        <a:lnTo>
                          <a:pt x="333" y="584"/>
                        </a:lnTo>
                        <a:lnTo>
                          <a:pt x="319" y="552"/>
                        </a:lnTo>
                        <a:lnTo>
                          <a:pt x="291" y="537"/>
                        </a:lnTo>
                        <a:lnTo>
                          <a:pt x="278" y="505"/>
                        </a:lnTo>
                        <a:lnTo>
                          <a:pt x="250" y="473"/>
                        </a:lnTo>
                        <a:lnTo>
                          <a:pt x="236" y="458"/>
                        </a:lnTo>
                        <a:lnTo>
                          <a:pt x="222" y="426"/>
                        </a:lnTo>
                        <a:lnTo>
                          <a:pt x="195" y="395"/>
                        </a:lnTo>
                        <a:lnTo>
                          <a:pt x="181" y="363"/>
                        </a:lnTo>
                        <a:lnTo>
                          <a:pt x="167" y="347"/>
                        </a:lnTo>
                        <a:lnTo>
                          <a:pt x="139" y="316"/>
                        </a:lnTo>
                        <a:lnTo>
                          <a:pt x="124" y="284"/>
                        </a:lnTo>
                        <a:lnTo>
                          <a:pt x="110" y="252"/>
                        </a:lnTo>
                        <a:lnTo>
                          <a:pt x="96" y="222"/>
                        </a:lnTo>
                        <a:lnTo>
                          <a:pt x="83" y="190"/>
                        </a:lnTo>
                        <a:lnTo>
                          <a:pt x="55" y="158"/>
                        </a:lnTo>
                        <a:lnTo>
                          <a:pt x="41" y="126"/>
                        </a:lnTo>
                        <a:lnTo>
                          <a:pt x="27" y="94"/>
                        </a:lnTo>
                        <a:lnTo>
                          <a:pt x="13" y="64"/>
                        </a:lnTo>
                        <a:lnTo>
                          <a:pt x="13" y="32"/>
                        </a:lnTo>
                        <a:lnTo>
                          <a:pt x="0" y="0"/>
                        </a:lnTo>
                        <a:lnTo>
                          <a:pt x="540" y="789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5059440" y="4022640"/>
                    <a:ext cx="285840" cy="417600"/>
                  </a:xfrm>
                  <a:custGeom>
                    <a:avLst/>
                    <a:gdLst/>
                    <a:ahLst/>
                    <a:rect l="l" t="t" r="r" b="b"/>
                    <a:pathLst>
                      <a:path w="540" h="789">
                        <a:moveTo>
                          <a:pt x="540" y="789"/>
                        </a:moveTo>
                        <a:lnTo>
                          <a:pt x="513" y="774"/>
                        </a:lnTo>
                        <a:lnTo>
                          <a:pt x="499" y="757"/>
                        </a:lnTo>
                        <a:lnTo>
                          <a:pt x="471" y="725"/>
                        </a:lnTo>
                        <a:lnTo>
                          <a:pt x="444" y="710"/>
                        </a:lnTo>
                        <a:lnTo>
                          <a:pt x="430" y="678"/>
                        </a:lnTo>
                        <a:lnTo>
                          <a:pt x="402" y="663"/>
                        </a:lnTo>
                        <a:lnTo>
                          <a:pt x="388" y="631"/>
                        </a:lnTo>
                        <a:lnTo>
                          <a:pt x="361" y="616"/>
                        </a:lnTo>
                        <a:lnTo>
                          <a:pt x="333" y="584"/>
                        </a:lnTo>
                        <a:lnTo>
                          <a:pt x="319" y="552"/>
                        </a:lnTo>
                        <a:lnTo>
                          <a:pt x="291" y="537"/>
                        </a:lnTo>
                        <a:lnTo>
                          <a:pt x="278" y="505"/>
                        </a:lnTo>
                        <a:lnTo>
                          <a:pt x="250" y="473"/>
                        </a:lnTo>
                        <a:lnTo>
                          <a:pt x="236" y="458"/>
                        </a:lnTo>
                        <a:lnTo>
                          <a:pt x="222" y="426"/>
                        </a:lnTo>
                        <a:lnTo>
                          <a:pt x="195" y="395"/>
                        </a:lnTo>
                        <a:lnTo>
                          <a:pt x="181" y="363"/>
                        </a:lnTo>
                        <a:lnTo>
                          <a:pt x="167" y="347"/>
                        </a:lnTo>
                        <a:lnTo>
                          <a:pt x="139" y="316"/>
                        </a:lnTo>
                        <a:lnTo>
                          <a:pt x="124" y="284"/>
                        </a:lnTo>
                        <a:lnTo>
                          <a:pt x="110" y="252"/>
                        </a:lnTo>
                        <a:lnTo>
                          <a:pt x="96" y="222"/>
                        </a:lnTo>
                        <a:lnTo>
                          <a:pt x="83" y="190"/>
                        </a:lnTo>
                        <a:lnTo>
                          <a:pt x="55" y="158"/>
                        </a:lnTo>
                        <a:lnTo>
                          <a:pt x="41" y="126"/>
                        </a:lnTo>
                        <a:lnTo>
                          <a:pt x="27" y="94"/>
                        </a:lnTo>
                        <a:lnTo>
                          <a:pt x="13" y="64"/>
                        </a:lnTo>
                        <a:lnTo>
                          <a:pt x="13" y="3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" name=""/>
                <p:cNvGrpSpPr/>
                <p:nvPr/>
              </p:nvGrpSpPr>
              <p:grpSpPr>
                <a:xfrm>
                  <a:off x="5000760" y="3695760"/>
                  <a:ext cx="58680" cy="326880"/>
                  <a:chOff x="5000760" y="3695760"/>
                  <a:chExt cx="58680" cy="326880"/>
                </a:xfrm>
              </p:grpSpPr>
              <p:sp>
                <p:nvSpPr>
                  <p:cNvPr id="69" name=""/>
                  <p:cNvSpPr/>
                  <p:nvPr/>
                </p:nvSpPr>
                <p:spPr>
                  <a:xfrm>
                    <a:off x="5000760" y="3695760"/>
                    <a:ext cx="586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616">
                        <a:moveTo>
                          <a:pt x="111" y="616"/>
                        </a:moveTo>
                        <a:lnTo>
                          <a:pt x="97" y="584"/>
                        </a:lnTo>
                        <a:lnTo>
                          <a:pt x="83" y="553"/>
                        </a:lnTo>
                        <a:lnTo>
                          <a:pt x="83" y="522"/>
                        </a:lnTo>
                        <a:lnTo>
                          <a:pt x="69" y="490"/>
                        </a:lnTo>
                        <a:lnTo>
                          <a:pt x="55" y="443"/>
                        </a:lnTo>
                        <a:lnTo>
                          <a:pt x="55" y="411"/>
                        </a:lnTo>
                        <a:lnTo>
                          <a:pt x="41" y="380"/>
                        </a:lnTo>
                        <a:lnTo>
                          <a:pt x="28" y="333"/>
                        </a:lnTo>
                        <a:lnTo>
                          <a:pt x="28" y="301"/>
                        </a:lnTo>
                        <a:lnTo>
                          <a:pt x="14" y="254"/>
                        </a:lnTo>
                        <a:lnTo>
                          <a:pt x="14" y="222"/>
                        </a:lnTo>
                        <a:lnTo>
                          <a:pt x="0" y="175"/>
                        </a:lnTo>
                        <a:lnTo>
                          <a:pt x="0" y="143"/>
                        </a:lnTo>
                        <a:lnTo>
                          <a:pt x="0" y="111"/>
                        </a:lnTo>
                        <a:lnTo>
                          <a:pt x="0" y="64"/>
                        </a:lnTo>
                        <a:lnTo>
                          <a:pt x="0" y="32"/>
                        </a:lnTo>
                        <a:lnTo>
                          <a:pt x="0" y="0"/>
                        </a:lnTo>
                        <a:lnTo>
                          <a:pt x="111" y="616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5000760" y="3695760"/>
                    <a:ext cx="586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616">
                        <a:moveTo>
                          <a:pt x="111" y="616"/>
                        </a:moveTo>
                        <a:lnTo>
                          <a:pt x="97" y="584"/>
                        </a:lnTo>
                        <a:lnTo>
                          <a:pt x="83" y="553"/>
                        </a:lnTo>
                        <a:lnTo>
                          <a:pt x="83" y="522"/>
                        </a:lnTo>
                        <a:lnTo>
                          <a:pt x="69" y="490"/>
                        </a:lnTo>
                        <a:lnTo>
                          <a:pt x="55" y="443"/>
                        </a:lnTo>
                        <a:lnTo>
                          <a:pt x="55" y="411"/>
                        </a:lnTo>
                        <a:lnTo>
                          <a:pt x="41" y="380"/>
                        </a:lnTo>
                        <a:lnTo>
                          <a:pt x="28" y="333"/>
                        </a:lnTo>
                        <a:lnTo>
                          <a:pt x="28" y="301"/>
                        </a:lnTo>
                        <a:lnTo>
                          <a:pt x="14" y="254"/>
                        </a:lnTo>
                        <a:lnTo>
                          <a:pt x="14" y="222"/>
                        </a:lnTo>
                        <a:lnTo>
                          <a:pt x="0" y="175"/>
                        </a:lnTo>
                        <a:lnTo>
                          <a:pt x="0" y="143"/>
                        </a:lnTo>
                        <a:lnTo>
                          <a:pt x="0" y="111"/>
                        </a:lnTo>
                        <a:lnTo>
                          <a:pt x="0" y="64"/>
                        </a:lnTo>
                        <a:lnTo>
                          <a:pt x="0" y="3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" name=""/>
                <p:cNvGrpSpPr/>
                <p:nvPr/>
              </p:nvGrpSpPr>
              <p:grpSpPr>
                <a:xfrm>
                  <a:off x="5000760" y="3538440"/>
                  <a:ext cx="1440" cy="157320"/>
                  <a:chOff x="5000760" y="3538440"/>
                  <a:chExt cx="1440" cy="157320"/>
                </a:xfrm>
              </p:grpSpPr>
              <p:sp>
                <p:nvSpPr>
                  <p:cNvPr id="72" name=""/>
                  <p:cNvSpPr/>
                  <p:nvPr/>
                </p:nvSpPr>
                <p:spPr>
                  <a:xfrm>
                    <a:off x="5000760" y="3538440"/>
                    <a:ext cx="1440" cy="1573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298">
                        <a:moveTo>
                          <a:pt x="0" y="298"/>
                        </a:moveTo>
                        <a:lnTo>
                          <a:pt x="0" y="268"/>
                        </a:lnTo>
                        <a:lnTo>
                          <a:pt x="0" y="220"/>
                        </a:lnTo>
                        <a:lnTo>
                          <a:pt x="0" y="189"/>
                        </a:lnTo>
                        <a:lnTo>
                          <a:pt x="0" y="157"/>
                        </a:lnTo>
                        <a:lnTo>
                          <a:pt x="0" y="109"/>
                        </a:lnTo>
                        <a:lnTo>
                          <a:pt x="0" y="78"/>
                        </a:lnTo>
                        <a:lnTo>
                          <a:pt x="0" y="30"/>
                        </a:lnTo>
                        <a:lnTo>
                          <a:pt x="0" y="0"/>
                        </a:lnTo>
                        <a:lnTo>
                          <a:pt x="0" y="298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5000760" y="3538440"/>
                    <a:ext cx="1440" cy="1573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298">
                        <a:moveTo>
                          <a:pt x="0" y="298"/>
                        </a:moveTo>
                        <a:lnTo>
                          <a:pt x="0" y="268"/>
                        </a:lnTo>
                        <a:lnTo>
                          <a:pt x="0" y="220"/>
                        </a:lnTo>
                        <a:lnTo>
                          <a:pt x="0" y="189"/>
                        </a:lnTo>
                        <a:lnTo>
                          <a:pt x="0" y="157"/>
                        </a:lnTo>
                        <a:lnTo>
                          <a:pt x="0" y="109"/>
                        </a:lnTo>
                        <a:lnTo>
                          <a:pt x="0" y="78"/>
                        </a:lnTo>
                        <a:lnTo>
                          <a:pt x="0" y="3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5000760" y="3413160"/>
                  <a:ext cx="14040" cy="125280"/>
                  <a:chOff x="5000760" y="3413160"/>
                  <a:chExt cx="14040" cy="12528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>
                    <a:off x="5000760" y="3413160"/>
                    <a:ext cx="140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37">
                        <a:moveTo>
                          <a:pt x="0" y="237"/>
                        </a:moveTo>
                        <a:lnTo>
                          <a:pt x="0" y="188"/>
                        </a:lnTo>
                        <a:lnTo>
                          <a:pt x="14" y="141"/>
                        </a:lnTo>
                        <a:lnTo>
                          <a:pt x="14" y="94"/>
                        </a:lnTo>
                        <a:lnTo>
                          <a:pt x="28" y="47"/>
                        </a:lnTo>
                        <a:lnTo>
                          <a:pt x="28" y="0"/>
                        </a:lnTo>
                        <a:lnTo>
                          <a:pt x="0" y="237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5000760" y="3413160"/>
                    <a:ext cx="140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37">
                        <a:moveTo>
                          <a:pt x="0" y="237"/>
                        </a:moveTo>
                        <a:lnTo>
                          <a:pt x="0" y="188"/>
                        </a:lnTo>
                        <a:lnTo>
                          <a:pt x="14" y="141"/>
                        </a:lnTo>
                        <a:lnTo>
                          <a:pt x="14" y="94"/>
                        </a:lnTo>
                        <a:lnTo>
                          <a:pt x="28" y="47"/>
                        </a:lnTo>
                        <a:lnTo>
                          <a:pt x="2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" name=""/>
                <p:cNvGrpSpPr/>
                <p:nvPr/>
              </p:nvGrpSpPr>
              <p:grpSpPr>
                <a:xfrm>
                  <a:off x="5014800" y="2644920"/>
                  <a:ext cx="559080" cy="768240"/>
                  <a:chOff x="5014800" y="2644920"/>
                  <a:chExt cx="559080" cy="76824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>
                    <a:off x="5014800" y="2644920"/>
                    <a:ext cx="559080" cy="76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54" h="1452">
                        <a:moveTo>
                          <a:pt x="0" y="1452"/>
                        </a:moveTo>
                        <a:lnTo>
                          <a:pt x="13" y="1420"/>
                        </a:lnTo>
                        <a:lnTo>
                          <a:pt x="13" y="1388"/>
                        </a:lnTo>
                        <a:lnTo>
                          <a:pt x="27" y="1356"/>
                        </a:lnTo>
                        <a:lnTo>
                          <a:pt x="27" y="1325"/>
                        </a:lnTo>
                        <a:lnTo>
                          <a:pt x="41" y="1294"/>
                        </a:lnTo>
                        <a:lnTo>
                          <a:pt x="41" y="1262"/>
                        </a:lnTo>
                        <a:lnTo>
                          <a:pt x="55" y="1231"/>
                        </a:lnTo>
                        <a:lnTo>
                          <a:pt x="69" y="1199"/>
                        </a:lnTo>
                        <a:lnTo>
                          <a:pt x="83" y="1167"/>
                        </a:lnTo>
                        <a:lnTo>
                          <a:pt x="83" y="1136"/>
                        </a:lnTo>
                        <a:lnTo>
                          <a:pt x="96" y="1105"/>
                        </a:lnTo>
                        <a:lnTo>
                          <a:pt x="110" y="1073"/>
                        </a:lnTo>
                        <a:lnTo>
                          <a:pt x="124" y="1041"/>
                        </a:lnTo>
                        <a:lnTo>
                          <a:pt x="138" y="1009"/>
                        </a:lnTo>
                        <a:lnTo>
                          <a:pt x="152" y="979"/>
                        </a:lnTo>
                        <a:lnTo>
                          <a:pt x="166" y="947"/>
                        </a:lnTo>
                        <a:lnTo>
                          <a:pt x="179" y="915"/>
                        </a:lnTo>
                        <a:lnTo>
                          <a:pt x="193" y="900"/>
                        </a:lnTo>
                        <a:lnTo>
                          <a:pt x="207" y="851"/>
                        </a:lnTo>
                        <a:lnTo>
                          <a:pt x="236" y="821"/>
                        </a:lnTo>
                        <a:lnTo>
                          <a:pt x="250" y="789"/>
                        </a:lnTo>
                        <a:lnTo>
                          <a:pt x="264" y="773"/>
                        </a:lnTo>
                        <a:lnTo>
                          <a:pt x="278" y="742"/>
                        </a:lnTo>
                        <a:lnTo>
                          <a:pt x="305" y="710"/>
                        </a:lnTo>
                        <a:lnTo>
                          <a:pt x="319" y="694"/>
                        </a:lnTo>
                        <a:lnTo>
                          <a:pt x="333" y="663"/>
                        </a:lnTo>
                        <a:lnTo>
                          <a:pt x="361" y="631"/>
                        </a:lnTo>
                        <a:lnTo>
                          <a:pt x="374" y="615"/>
                        </a:lnTo>
                        <a:lnTo>
                          <a:pt x="402" y="584"/>
                        </a:lnTo>
                        <a:lnTo>
                          <a:pt x="416" y="568"/>
                        </a:lnTo>
                        <a:lnTo>
                          <a:pt x="444" y="536"/>
                        </a:lnTo>
                        <a:lnTo>
                          <a:pt x="457" y="505"/>
                        </a:lnTo>
                        <a:lnTo>
                          <a:pt x="485" y="489"/>
                        </a:lnTo>
                        <a:lnTo>
                          <a:pt x="499" y="457"/>
                        </a:lnTo>
                        <a:lnTo>
                          <a:pt x="527" y="442"/>
                        </a:lnTo>
                        <a:lnTo>
                          <a:pt x="540" y="410"/>
                        </a:lnTo>
                        <a:lnTo>
                          <a:pt x="568" y="395"/>
                        </a:lnTo>
                        <a:lnTo>
                          <a:pt x="596" y="378"/>
                        </a:lnTo>
                        <a:lnTo>
                          <a:pt x="610" y="348"/>
                        </a:lnTo>
                        <a:lnTo>
                          <a:pt x="637" y="331"/>
                        </a:lnTo>
                        <a:lnTo>
                          <a:pt x="651" y="299"/>
                        </a:lnTo>
                        <a:lnTo>
                          <a:pt x="679" y="284"/>
                        </a:lnTo>
                        <a:lnTo>
                          <a:pt x="706" y="269"/>
                        </a:lnTo>
                        <a:lnTo>
                          <a:pt x="734" y="237"/>
                        </a:lnTo>
                        <a:lnTo>
                          <a:pt x="748" y="220"/>
                        </a:lnTo>
                        <a:lnTo>
                          <a:pt x="776" y="205"/>
                        </a:lnTo>
                        <a:lnTo>
                          <a:pt x="803" y="190"/>
                        </a:lnTo>
                        <a:lnTo>
                          <a:pt x="831" y="158"/>
                        </a:lnTo>
                        <a:lnTo>
                          <a:pt x="845" y="142"/>
                        </a:lnTo>
                        <a:lnTo>
                          <a:pt x="872" y="126"/>
                        </a:lnTo>
                        <a:lnTo>
                          <a:pt x="900" y="111"/>
                        </a:lnTo>
                        <a:lnTo>
                          <a:pt x="928" y="79"/>
                        </a:lnTo>
                        <a:lnTo>
                          <a:pt x="942" y="63"/>
                        </a:lnTo>
                        <a:lnTo>
                          <a:pt x="969" y="48"/>
                        </a:lnTo>
                        <a:lnTo>
                          <a:pt x="997" y="32"/>
                        </a:lnTo>
                        <a:lnTo>
                          <a:pt x="1026" y="16"/>
                        </a:lnTo>
                        <a:lnTo>
                          <a:pt x="1054" y="0"/>
                        </a:lnTo>
                        <a:lnTo>
                          <a:pt x="0" y="1452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5014800" y="2644920"/>
                    <a:ext cx="559080" cy="76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54" h="1452">
                        <a:moveTo>
                          <a:pt x="0" y="1452"/>
                        </a:moveTo>
                        <a:lnTo>
                          <a:pt x="13" y="1420"/>
                        </a:lnTo>
                        <a:lnTo>
                          <a:pt x="13" y="1388"/>
                        </a:lnTo>
                        <a:lnTo>
                          <a:pt x="27" y="1356"/>
                        </a:lnTo>
                        <a:lnTo>
                          <a:pt x="27" y="1325"/>
                        </a:lnTo>
                        <a:lnTo>
                          <a:pt x="41" y="1294"/>
                        </a:lnTo>
                        <a:lnTo>
                          <a:pt x="41" y="1262"/>
                        </a:lnTo>
                        <a:lnTo>
                          <a:pt x="55" y="1231"/>
                        </a:lnTo>
                        <a:lnTo>
                          <a:pt x="69" y="1199"/>
                        </a:lnTo>
                        <a:lnTo>
                          <a:pt x="83" y="1167"/>
                        </a:lnTo>
                        <a:lnTo>
                          <a:pt x="83" y="1136"/>
                        </a:lnTo>
                        <a:lnTo>
                          <a:pt x="96" y="1105"/>
                        </a:lnTo>
                        <a:lnTo>
                          <a:pt x="110" y="1073"/>
                        </a:lnTo>
                        <a:lnTo>
                          <a:pt x="124" y="1041"/>
                        </a:lnTo>
                        <a:lnTo>
                          <a:pt x="138" y="1009"/>
                        </a:lnTo>
                        <a:lnTo>
                          <a:pt x="152" y="979"/>
                        </a:lnTo>
                        <a:lnTo>
                          <a:pt x="166" y="947"/>
                        </a:lnTo>
                        <a:lnTo>
                          <a:pt x="179" y="915"/>
                        </a:lnTo>
                        <a:lnTo>
                          <a:pt x="193" y="900"/>
                        </a:lnTo>
                        <a:lnTo>
                          <a:pt x="207" y="851"/>
                        </a:lnTo>
                        <a:lnTo>
                          <a:pt x="236" y="821"/>
                        </a:lnTo>
                        <a:lnTo>
                          <a:pt x="250" y="789"/>
                        </a:lnTo>
                        <a:lnTo>
                          <a:pt x="264" y="773"/>
                        </a:lnTo>
                        <a:lnTo>
                          <a:pt x="278" y="742"/>
                        </a:lnTo>
                        <a:lnTo>
                          <a:pt x="305" y="710"/>
                        </a:lnTo>
                        <a:lnTo>
                          <a:pt x="319" y="694"/>
                        </a:lnTo>
                        <a:lnTo>
                          <a:pt x="333" y="663"/>
                        </a:lnTo>
                        <a:lnTo>
                          <a:pt x="361" y="631"/>
                        </a:lnTo>
                        <a:lnTo>
                          <a:pt x="374" y="615"/>
                        </a:lnTo>
                        <a:lnTo>
                          <a:pt x="402" y="584"/>
                        </a:lnTo>
                        <a:lnTo>
                          <a:pt x="416" y="568"/>
                        </a:lnTo>
                        <a:lnTo>
                          <a:pt x="444" y="536"/>
                        </a:lnTo>
                        <a:lnTo>
                          <a:pt x="457" y="505"/>
                        </a:lnTo>
                        <a:lnTo>
                          <a:pt x="485" y="489"/>
                        </a:lnTo>
                        <a:lnTo>
                          <a:pt x="499" y="457"/>
                        </a:lnTo>
                        <a:lnTo>
                          <a:pt x="527" y="442"/>
                        </a:lnTo>
                        <a:lnTo>
                          <a:pt x="540" y="410"/>
                        </a:lnTo>
                        <a:lnTo>
                          <a:pt x="568" y="395"/>
                        </a:lnTo>
                        <a:lnTo>
                          <a:pt x="596" y="378"/>
                        </a:lnTo>
                        <a:lnTo>
                          <a:pt x="610" y="348"/>
                        </a:lnTo>
                        <a:lnTo>
                          <a:pt x="637" y="331"/>
                        </a:lnTo>
                        <a:lnTo>
                          <a:pt x="651" y="299"/>
                        </a:lnTo>
                        <a:lnTo>
                          <a:pt x="679" y="284"/>
                        </a:lnTo>
                        <a:lnTo>
                          <a:pt x="706" y="269"/>
                        </a:lnTo>
                        <a:lnTo>
                          <a:pt x="734" y="237"/>
                        </a:lnTo>
                        <a:lnTo>
                          <a:pt x="748" y="220"/>
                        </a:lnTo>
                        <a:lnTo>
                          <a:pt x="776" y="205"/>
                        </a:lnTo>
                        <a:lnTo>
                          <a:pt x="803" y="190"/>
                        </a:lnTo>
                        <a:lnTo>
                          <a:pt x="831" y="158"/>
                        </a:lnTo>
                        <a:lnTo>
                          <a:pt x="845" y="142"/>
                        </a:lnTo>
                        <a:lnTo>
                          <a:pt x="872" y="126"/>
                        </a:lnTo>
                        <a:lnTo>
                          <a:pt x="900" y="111"/>
                        </a:lnTo>
                        <a:lnTo>
                          <a:pt x="928" y="79"/>
                        </a:lnTo>
                        <a:lnTo>
                          <a:pt x="942" y="63"/>
                        </a:lnTo>
                        <a:lnTo>
                          <a:pt x="969" y="48"/>
                        </a:lnTo>
                        <a:lnTo>
                          <a:pt x="997" y="32"/>
                        </a:lnTo>
                        <a:lnTo>
                          <a:pt x="1026" y="16"/>
                        </a:lnTo>
                        <a:lnTo>
                          <a:pt x="1054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0" name=""/>
                <p:cNvGrpSpPr/>
                <p:nvPr/>
              </p:nvGrpSpPr>
              <p:grpSpPr>
                <a:xfrm>
                  <a:off x="5573880" y="2511360"/>
                  <a:ext cx="255600" cy="133560"/>
                  <a:chOff x="5573880" y="2511360"/>
                  <a:chExt cx="255600" cy="133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>
                    <a:off x="5573880" y="2511360"/>
                    <a:ext cx="255600" cy="133560"/>
                  </a:xfrm>
                  <a:custGeom>
                    <a:avLst/>
                    <a:gdLst/>
                    <a:ahLst/>
                    <a:rect l="l" t="t" r="r" b="b"/>
                    <a:pathLst>
                      <a:path w="484" h="253">
                        <a:moveTo>
                          <a:pt x="0" y="253"/>
                        </a:moveTo>
                        <a:lnTo>
                          <a:pt x="27" y="237"/>
                        </a:lnTo>
                        <a:lnTo>
                          <a:pt x="55" y="206"/>
                        </a:lnTo>
                        <a:lnTo>
                          <a:pt x="83" y="190"/>
                        </a:lnTo>
                        <a:lnTo>
                          <a:pt x="110" y="175"/>
                        </a:lnTo>
                        <a:lnTo>
                          <a:pt x="138" y="158"/>
                        </a:lnTo>
                        <a:lnTo>
                          <a:pt x="166" y="143"/>
                        </a:lnTo>
                        <a:lnTo>
                          <a:pt x="193" y="128"/>
                        </a:lnTo>
                        <a:lnTo>
                          <a:pt x="221" y="111"/>
                        </a:lnTo>
                        <a:lnTo>
                          <a:pt x="262" y="96"/>
                        </a:lnTo>
                        <a:lnTo>
                          <a:pt x="290" y="79"/>
                        </a:lnTo>
                        <a:lnTo>
                          <a:pt x="332" y="64"/>
                        </a:lnTo>
                        <a:lnTo>
                          <a:pt x="359" y="49"/>
                        </a:lnTo>
                        <a:lnTo>
                          <a:pt x="387" y="32"/>
                        </a:lnTo>
                        <a:lnTo>
                          <a:pt x="415" y="32"/>
                        </a:lnTo>
                        <a:lnTo>
                          <a:pt x="442" y="17"/>
                        </a:lnTo>
                        <a:lnTo>
                          <a:pt x="484" y="0"/>
                        </a:lnTo>
                        <a:lnTo>
                          <a:pt x="0" y="253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5573880" y="2511360"/>
                    <a:ext cx="255600" cy="133560"/>
                  </a:xfrm>
                  <a:custGeom>
                    <a:avLst/>
                    <a:gdLst/>
                    <a:ahLst/>
                    <a:rect l="l" t="t" r="r" b="b"/>
                    <a:pathLst>
                      <a:path w="484" h="253">
                        <a:moveTo>
                          <a:pt x="0" y="253"/>
                        </a:moveTo>
                        <a:lnTo>
                          <a:pt x="27" y="237"/>
                        </a:lnTo>
                        <a:lnTo>
                          <a:pt x="55" y="206"/>
                        </a:lnTo>
                        <a:lnTo>
                          <a:pt x="83" y="190"/>
                        </a:lnTo>
                        <a:lnTo>
                          <a:pt x="110" y="175"/>
                        </a:lnTo>
                        <a:lnTo>
                          <a:pt x="138" y="158"/>
                        </a:lnTo>
                        <a:lnTo>
                          <a:pt x="166" y="143"/>
                        </a:lnTo>
                        <a:lnTo>
                          <a:pt x="193" y="128"/>
                        </a:lnTo>
                        <a:lnTo>
                          <a:pt x="221" y="111"/>
                        </a:lnTo>
                        <a:lnTo>
                          <a:pt x="262" y="96"/>
                        </a:lnTo>
                        <a:lnTo>
                          <a:pt x="290" y="79"/>
                        </a:lnTo>
                        <a:lnTo>
                          <a:pt x="332" y="64"/>
                        </a:lnTo>
                        <a:lnTo>
                          <a:pt x="359" y="49"/>
                        </a:lnTo>
                        <a:lnTo>
                          <a:pt x="387" y="32"/>
                        </a:lnTo>
                        <a:lnTo>
                          <a:pt x="415" y="32"/>
                        </a:lnTo>
                        <a:lnTo>
                          <a:pt x="442" y="17"/>
                        </a:lnTo>
                        <a:lnTo>
                          <a:pt x="484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5829480" y="2478240"/>
                  <a:ext cx="72720" cy="33120"/>
                  <a:chOff x="5829480" y="2478240"/>
                  <a:chExt cx="72720" cy="3312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>
                    <a:off x="5829480" y="2478240"/>
                    <a:ext cx="7272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62">
                        <a:moveTo>
                          <a:pt x="0" y="62"/>
                        </a:moveTo>
                        <a:lnTo>
                          <a:pt x="27" y="47"/>
                        </a:lnTo>
                        <a:lnTo>
                          <a:pt x="69" y="32"/>
                        </a:lnTo>
                        <a:lnTo>
                          <a:pt x="110" y="15"/>
                        </a:lnTo>
                        <a:lnTo>
                          <a:pt x="138" y="0"/>
                        </a:lnTo>
                        <a:lnTo>
                          <a:pt x="0" y="62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5829480" y="2478240"/>
                    <a:ext cx="7272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62">
                        <a:moveTo>
                          <a:pt x="0" y="62"/>
                        </a:moveTo>
                        <a:lnTo>
                          <a:pt x="27" y="47"/>
                        </a:lnTo>
                        <a:lnTo>
                          <a:pt x="69" y="32"/>
                        </a:lnTo>
                        <a:lnTo>
                          <a:pt x="110" y="15"/>
                        </a:lnTo>
                        <a:lnTo>
                          <a:pt x="13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5902200" y="2460600"/>
                  <a:ext cx="44640" cy="17640"/>
                  <a:chOff x="5902200" y="2460600"/>
                  <a:chExt cx="44640" cy="17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>
                    <a:off x="5902200" y="2460600"/>
                    <a:ext cx="44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32">
                        <a:moveTo>
                          <a:pt x="0" y="32"/>
                        </a:moveTo>
                        <a:lnTo>
                          <a:pt x="41" y="15"/>
                        </a:lnTo>
                        <a:lnTo>
                          <a:pt x="69" y="15"/>
                        </a:lnTo>
                        <a:lnTo>
                          <a:pt x="83" y="0"/>
                        </a:lnTo>
                        <a:lnTo>
                          <a:pt x="0" y="32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5902200" y="2460600"/>
                    <a:ext cx="44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32">
                        <a:moveTo>
                          <a:pt x="0" y="32"/>
                        </a:moveTo>
                        <a:lnTo>
                          <a:pt x="41" y="15"/>
                        </a:lnTo>
                        <a:lnTo>
                          <a:pt x="69" y="15"/>
                        </a:lnTo>
                        <a:lnTo>
                          <a:pt x="8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5506920" y="4464000"/>
                  <a:ext cx="527040" cy="335160"/>
                  <a:chOff x="5506920" y="4464000"/>
                  <a:chExt cx="527040" cy="3351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>
                    <a:off x="5506920" y="4464000"/>
                    <a:ext cx="527040" cy="33516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631">
                        <a:moveTo>
                          <a:pt x="998" y="631"/>
                        </a:moveTo>
                        <a:lnTo>
                          <a:pt x="971" y="631"/>
                        </a:lnTo>
                        <a:lnTo>
                          <a:pt x="943" y="616"/>
                        </a:lnTo>
                        <a:lnTo>
                          <a:pt x="915" y="599"/>
                        </a:lnTo>
                        <a:lnTo>
                          <a:pt x="888" y="599"/>
                        </a:lnTo>
                        <a:lnTo>
                          <a:pt x="859" y="584"/>
                        </a:lnTo>
                        <a:lnTo>
                          <a:pt x="817" y="569"/>
                        </a:lnTo>
                        <a:lnTo>
                          <a:pt x="789" y="552"/>
                        </a:lnTo>
                        <a:lnTo>
                          <a:pt x="762" y="537"/>
                        </a:lnTo>
                        <a:lnTo>
                          <a:pt x="734" y="537"/>
                        </a:lnTo>
                        <a:lnTo>
                          <a:pt x="706" y="520"/>
                        </a:lnTo>
                        <a:lnTo>
                          <a:pt x="679" y="505"/>
                        </a:lnTo>
                        <a:lnTo>
                          <a:pt x="651" y="490"/>
                        </a:lnTo>
                        <a:lnTo>
                          <a:pt x="624" y="473"/>
                        </a:lnTo>
                        <a:lnTo>
                          <a:pt x="596" y="458"/>
                        </a:lnTo>
                        <a:lnTo>
                          <a:pt x="568" y="441"/>
                        </a:lnTo>
                        <a:lnTo>
                          <a:pt x="541" y="426"/>
                        </a:lnTo>
                        <a:lnTo>
                          <a:pt x="513" y="411"/>
                        </a:lnTo>
                        <a:lnTo>
                          <a:pt x="485" y="394"/>
                        </a:lnTo>
                        <a:lnTo>
                          <a:pt x="458" y="362"/>
                        </a:lnTo>
                        <a:lnTo>
                          <a:pt x="430" y="347"/>
                        </a:lnTo>
                        <a:lnTo>
                          <a:pt x="416" y="332"/>
                        </a:lnTo>
                        <a:lnTo>
                          <a:pt x="388" y="315"/>
                        </a:lnTo>
                        <a:lnTo>
                          <a:pt x="347" y="300"/>
                        </a:lnTo>
                        <a:lnTo>
                          <a:pt x="319" y="284"/>
                        </a:lnTo>
                        <a:lnTo>
                          <a:pt x="292" y="253"/>
                        </a:lnTo>
                        <a:lnTo>
                          <a:pt x="264" y="237"/>
                        </a:lnTo>
                        <a:lnTo>
                          <a:pt x="236" y="221"/>
                        </a:lnTo>
                        <a:lnTo>
                          <a:pt x="222" y="189"/>
                        </a:lnTo>
                        <a:lnTo>
                          <a:pt x="195" y="174"/>
                        </a:lnTo>
                        <a:lnTo>
                          <a:pt x="167" y="158"/>
                        </a:lnTo>
                        <a:lnTo>
                          <a:pt x="139" y="126"/>
                        </a:lnTo>
                        <a:lnTo>
                          <a:pt x="112" y="111"/>
                        </a:lnTo>
                        <a:lnTo>
                          <a:pt x="98" y="95"/>
                        </a:lnTo>
                        <a:lnTo>
                          <a:pt x="69" y="64"/>
                        </a:lnTo>
                        <a:lnTo>
                          <a:pt x="41" y="47"/>
                        </a:lnTo>
                        <a:lnTo>
                          <a:pt x="14" y="17"/>
                        </a:lnTo>
                        <a:lnTo>
                          <a:pt x="0" y="0"/>
                        </a:lnTo>
                        <a:lnTo>
                          <a:pt x="998" y="631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5506920" y="4464000"/>
                    <a:ext cx="527040" cy="33516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631">
                        <a:moveTo>
                          <a:pt x="998" y="631"/>
                        </a:moveTo>
                        <a:lnTo>
                          <a:pt x="971" y="631"/>
                        </a:lnTo>
                        <a:lnTo>
                          <a:pt x="943" y="616"/>
                        </a:lnTo>
                        <a:lnTo>
                          <a:pt x="915" y="599"/>
                        </a:lnTo>
                        <a:lnTo>
                          <a:pt x="888" y="599"/>
                        </a:lnTo>
                        <a:lnTo>
                          <a:pt x="859" y="584"/>
                        </a:lnTo>
                        <a:lnTo>
                          <a:pt x="817" y="569"/>
                        </a:lnTo>
                        <a:lnTo>
                          <a:pt x="789" y="552"/>
                        </a:lnTo>
                        <a:lnTo>
                          <a:pt x="762" y="537"/>
                        </a:lnTo>
                        <a:lnTo>
                          <a:pt x="734" y="537"/>
                        </a:lnTo>
                        <a:lnTo>
                          <a:pt x="706" y="520"/>
                        </a:lnTo>
                        <a:lnTo>
                          <a:pt x="679" y="505"/>
                        </a:lnTo>
                        <a:lnTo>
                          <a:pt x="651" y="490"/>
                        </a:lnTo>
                        <a:lnTo>
                          <a:pt x="624" y="473"/>
                        </a:lnTo>
                        <a:lnTo>
                          <a:pt x="596" y="458"/>
                        </a:lnTo>
                        <a:lnTo>
                          <a:pt x="568" y="441"/>
                        </a:lnTo>
                        <a:lnTo>
                          <a:pt x="541" y="426"/>
                        </a:lnTo>
                        <a:lnTo>
                          <a:pt x="513" y="411"/>
                        </a:lnTo>
                        <a:lnTo>
                          <a:pt x="485" y="394"/>
                        </a:lnTo>
                        <a:lnTo>
                          <a:pt x="458" y="362"/>
                        </a:lnTo>
                        <a:lnTo>
                          <a:pt x="430" y="347"/>
                        </a:lnTo>
                        <a:lnTo>
                          <a:pt x="416" y="332"/>
                        </a:lnTo>
                        <a:lnTo>
                          <a:pt x="388" y="315"/>
                        </a:lnTo>
                        <a:lnTo>
                          <a:pt x="347" y="300"/>
                        </a:lnTo>
                        <a:lnTo>
                          <a:pt x="319" y="284"/>
                        </a:lnTo>
                        <a:lnTo>
                          <a:pt x="292" y="253"/>
                        </a:lnTo>
                        <a:lnTo>
                          <a:pt x="264" y="237"/>
                        </a:lnTo>
                        <a:lnTo>
                          <a:pt x="236" y="221"/>
                        </a:lnTo>
                        <a:lnTo>
                          <a:pt x="222" y="189"/>
                        </a:lnTo>
                        <a:lnTo>
                          <a:pt x="195" y="174"/>
                        </a:lnTo>
                        <a:lnTo>
                          <a:pt x="167" y="158"/>
                        </a:lnTo>
                        <a:lnTo>
                          <a:pt x="139" y="126"/>
                        </a:lnTo>
                        <a:lnTo>
                          <a:pt x="112" y="111"/>
                        </a:lnTo>
                        <a:lnTo>
                          <a:pt x="98" y="95"/>
                        </a:lnTo>
                        <a:lnTo>
                          <a:pt x="69" y="64"/>
                        </a:lnTo>
                        <a:lnTo>
                          <a:pt x="41" y="47"/>
                        </a:lnTo>
                        <a:lnTo>
                          <a:pt x="14" y="1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5227560" y="4046400"/>
                  <a:ext cx="279360" cy="417600"/>
                  <a:chOff x="5227560" y="4046400"/>
                  <a:chExt cx="279360" cy="4176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>
                    <a:off x="5227560" y="4046400"/>
                    <a:ext cx="279360" cy="4176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789">
                        <a:moveTo>
                          <a:pt x="526" y="789"/>
                        </a:moveTo>
                        <a:lnTo>
                          <a:pt x="498" y="757"/>
                        </a:lnTo>
                        <a:lnTo>
                          <a:pt x="470" y="742"/>
                        </a:lnTo>
                        <a:lnTo>
                          <a:pt x="457" y="710"/>
                        </a:lnTo>
                        <a:lnTo>
                          <a:pt x="429" y="695"/>
                        </a:lnTo>
                        <a:lnTo>
                          <a:pt x="401" y="663"/>
                        </a:lnTo>
                        <a:lnTo>
                          <a:pt x="387" y="631"/>
                        </a:lnTo>
                        <a:lnTo>
                          <a:pt x="360" y="616"/>
                        </a:lnTo>
                        <a:lnTo>
                          <a:pt x="346" y="584"/>
                        </a:lnTo>
                        <a:lnTo>
                          <a:pt x="318" y="569"/>
                        </a:lnTo>
                        <a:lnTo>
                          <a:pt x="304" y="537"/>
                        </a:lnTo>
                        <a:lnTo>
                          <a:pt x="277" y="505"/>
                        </a:lnTo>
                        <a:lnTo>
                          <a:pt x="263" y="473"/>
                        </a:lnTo>
                        <a:lnTo>
                          <a:pt x="235" y="458"/>
                        </a:lnTo>
                        <a:lnTo>
                          <a:pt x="221" y="426"/>
                        </a:lnTo>
                        <a:lnTo>
                          <a:pt x="194" y="395"/>
                        </a:lnTo>
                        <a:lnTo>
                          <a:pt x="180" y="363"/>
                        </a:lnTo>
                        <a:lnTo>
                          <a:pt x="166" y="332"/>
                        </a:lnTo>
                        <a:lnTo>
                          <a:pt x="152" y="316"/>
                        </a:lnTo>
                        <a:lnTo>
                          <a:pt x="125" y="284"/>
                        </a:lnTo>
                        <a:lnTo>
                          <a:pt x="111" y="253"/>
                        </a:lnTo>
                        <a:lnTo>
                          <a:pt x="97" y="222"/>
                        </a:lnTo>
                        <a:lnTo>
                          <a:pt x="83" y="190"/>
                        </a:lnTo>
                        <a:lnTo>
                          <a:pt x="69" y="158"/>
                        </a:lnTo>
                        <a:lnTo>
                          <a:pt x="55" y="126"/>
                        </a:lnTo>
                        <a:lnTo>
                          <a:pt x="42" y="96"/>
                        </a:lnTo>
                        <a:lnTo>
                          <a:pt x="28" y="64"/>
                        </a:lnTo>
                        <a:lnTo>
                          <a:pt x="14" y="32"/>
                        </a:lnTo>
                        <a:lnTo>
                          <a:pt x="0" y="0"/>
                        </a:lnTo>
                        <a:lnTo>
                          <a:pt x="526" y="789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5227560" y="4046400"/>
                    <a:ext cx="279360" cy="4176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789">
                        <a:moveTo>
                          <a:pt x="526" y="789"/>
                        </a:moveTo>
                        <a:lnTo>
                          <a:pt x="498" y="757"/>
                        </a:lnTo>
                        <a:lnTo>
                          <a:pt x="470" y="742"/>
                        </a:lnTo>
                        <a:lnTo>
                          <a:pt x="457" y="710"/>
                        </a:lnTo>
                        <a:lnTo>
                          <a:pt x="429" y="695"/>
                        </a:lnTo>
                        <a:lnTo>
                          <a:pt x="401" y="663"/>
                        </a:lnTo>
                        <a:lnTo>
                          <a:pt x="387" y="631"/>
                        </a:lnTo>
                        <a:lnTo>
                          <a:pt x="360" y="616"/>
                        </a:lnTo>
                        <a:lnTo>
                          <a:pt x="346" y="584"/>
                        </a:lnTo>
                        <a:lnTo>
                          <a:pt x="318" y="569"/>
                        </a:lnTo>
                        <a:lnTo>
                          <a:pt x="304" y="537"/>
                        </a:lnTo>
                        <a:lnTo>
                          <a:pt x="277" y="505"/>
                        </a:lnTo>
                        <a:lnTo>
                          <a:pt x="263" y="473"/>
                        </a:lnTo>
                        <a:lnTo>
                          <a:pt x="235" y="458"/>
                        </a:lnTo>
                        <a:lnTo>
                          <a:pt x="221" y="426"/>
                        </a:lnTo>
                        <a:lnTo>
                          <a:pt x="194" y="395"/>
                        </a:lnTo>
                        <a:lnTo>
                          <a:pt x="180" y="363"/>
                        </a:lnTo>
                        <a:lnTo>
                          <a:pt x="166" y="332"/>
                        </a:lnTo>
                        <a:lnTo>
                          <a:pt x="152" y="316"/>
                        </a:lnTo>
                        <a:lnTo>
                          <a:pt x="125" y="284"/>
                        </a:lnTo>
                        <a:lnTo>
                          <a:pt x="111" y="253"/>
                        </a:lnTo>
                        <a:lnTo>
                          <a:pt x="97" y="222"/>
                        </a:lnTo>
                        <a:lnTo>
                          <a:pt x="83" y="190"/>
                        </a:lnTo>
                        <a:lnTo>
                          <a:pt x="69" y="158"/>
                        </a:lnTo>
                        <a:lnTo>
                          <a:pt x="55" y="126"/>
                        </a:lnTo>
                        <a:lnTo>
                          <a:pt x="42" y="96"/>
                        </a:lnTo>
                        <a:lnTo>
                          <a:pt x="28" y="64"/>
                        </a:lnTo>
                        <a:lnTo>
                          <a:pt x="14" y="3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5162400" y="3371760"/>
                  <a:ext cx="65160" cy="674640"/>
                  <a:chOff x="5162400" y="3371760"/>
                  <a:chExt cx="65160" cy="67464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>
                    <a:off x="5162400" y="3371760"/>
                    <a:ext cx="65160" cy="67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1277">
                        <a:moveTo>
                          <a:pt x="124" y="1277"/>
                        </a:moveTo>
                        <a:lnTo>
                          <a:pt x="110" y="1245"/>
                        </a:lnTo>
                        <a:lnTo>
                          <a:pt x="96" y="1215"/>
                        </a:lnTo>
                        <a:lnTo>
                          <a:pt x="96" y="1183"/>
                        </a:lnTo>
                        <a:lnTo>
                          <a:pt x="83" y="1136"/>
                        </a:lnTo>
                        <a:lnTo>
                          <a:pt x="69" y="1104"/>
                        </a:lnTo>
                        <a:lnTo>
                          <a:pt x="69" y="1072"/>
                        </a:lnTo>
                        <a:lnTo>
                          <a:pt x="55" y="1041"/>
                        </a:lnTo>
                        <a:lnTo>
                          <a:pt x="55" y="1009"/>
                        </a:lnTo>
                        <a:lnTo>
                          <a:pt x="41" y="978"/>
                        </a:lnTo>
                        <a:lnTo>
                          <a:pt x="41" y="947"/>
                        </a:lnTo>
                        <a:lnTo>
                          <a:pt x="41" y="899"/>
                        </a:lnTo>
                        <a:lnTo>
                          <a:pt x="27" y="868"/>
                        </a:lnTo>
                        <a:lnTo>
                          <a:pt x="27" y="836"/>
                        </a:lnTo>
                        <a:lnTo>
                          <a:pt x="27" y="804"/>
                        </a:lnTo>
                        <a:lnTo>
                          <a:pt x="13" y="772"/>
                        </a:lnTo>
                        <a:lnTo>
                          <a:pt x="13" y="725"/>
                        </a:lnTo>
                        <a:lnTo>
                          <a:pt x="13" y="693"/>
                        </a:lnTo>
                        <a:lnTo>
                          <a:pt x="13" y="663"/>
                        </a:lnTo>
                        <a:lnTo>
                          <a:pt x="13" y="631"/>
                        </a:lnTo>
                        <a:lnTo>
                          <a:pt x="13" y="584"/>
                        </a:lnTo>
                        <a:lnTo>
                          <a:pt x="13" y="552"/>
                        </a:lnTo>
                        <a:lnTo>
                          <a:pt x="0" y="520"/>
                        </a:lnTo>
                        <a:lnTo>
                          <a:pt x="13" y="489"/>
                        </a:lnTo>
                        <a:lnTo>
                          <a:pt x="13" y="441"/>
                        </a:lnTo>
                        <a:lnTo>
                          <a:pt x="13" y="410"/>
                        </a:lnTo>
                        <a:lnTo>
                          <a:pt x="13" y="378"/>
                        </a:lnTo>
                        <a:lnTo>
                          <a:pt x="13" y="346"/>
                        </a:lnTo>
                        <a:lnTo>
                          <a:pt x="13" y="316"/>
                        </a:lnTo>
                        <a:lnTo>
                          <a:pt x="13" y="267"/>
                        </a:lnTo>
                        <a:lnTo>
                          <a:pt x="27" y="237"/>
                        </a:lnTo>
                        <a:lnTo>
                          <a:pt x="27" y="205"/>
                        </a:lnTo>
                        <a:lnTo>
                          <a:pt x="27" y="173"/>
                        </a:lnTo>
                        <a:lnTo>
                          <a:pt x="27" y="141"/>
                        </a:lnTo>
                        <a:lnTo>
                          <a:pt x="41" y="109"/>
                        </a:lnTo>
                        <a:lnTo>
                          <a:pt x="41" y="62"/>
                        </a:lnTo>
                        <a:lnTo>
                          <a:pt x="55" y="31"/>
                        </a:lnTo>
                        <a:lnTo>
                          <a:pt x="55" y="0"/>
                        </a:lnTo>
                        <a:lnTo>
                          <a:pt x="124" y="1277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5162400" y="3371760"/>
                    <a:ext cx="65160" cy="67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1277">
                        <a:moveTo>
                          <a:pt x="124" y="1277"/>
                        </a:moveTo>
                        <a:lnTo>
                          <a:pt x="110" y="1245"/>
                        </a:lnTo>
                        <a:lnTo>
                          <a:pt x="96" y="1215"/>
                        </a:lnTo>
                        <a:lnTo>
                          <a:pt x="96" y="1183"/>
                        </a:lnTo>
                        <a:lnTo>
                          <a:pt x="83" y="1136"/>
                        </a:lnTo>
                        <a:lnTo>
                          <a:pt x="69" y="1104"/>
                        </a:lnTo>
                        <a:lnTo>
                          <a:pt x="69" y="1072"/>
                        </a:lnTo>
                        <a:lnTo>
                          <a:pt x="55" y="1041"/>
                        </a:lnTo>
                        <a:lnTo>
                          <a:pt x="55" y="1009"/>
                        </a:lnTo>
                        <a:lnTo>
                          <a:pt x="41" y="978"/>
                        </a:lnTo>
                        <a:lnTo>
                          <a:pt x="41" y="947"/>
                        </a:lnTo>
                        <a:lnTo>
                          <a:pt x="41" y="899"/>
                        </a:lnTo>
                        <a:lnTo>
                          <a:pt x="27" y="868"/>
                        </a:lnTo>
                        <a:lnTo>
                          <a:pt x="27" y="836"/>
                        </a:lnTo>
                        <a:lnTo>
                          <a:pt x="27" y="804"/>
                        </a:lnTo>
                        <a:lnTo>
                          <a:pt x="13" y="772"/>
                        </a:lnTo>
                        <a:lnTo>
                          <a:pt x="13" y="725"/>
                        </a:lnTo>
                        <a:lnTo>
                          <a:pt x="13" y="693"/>
                        </a:lnTo>
                        <a:lnTo>
                          <a:pt x="13" y="663"/>
                        </a:lnTo>
                        <a:lnTo>
                          <a:pt x="13" y="631"/>
                        </a:lnTo>
                        <a:lnTo>
                          <a:pt x="13" y="584"/>
                        </a:lnTo>
                        <a:lnTo>
                          <a:pt x="13" y="552"/>
                        </a:lnTo>
                        <a:lnTo>
                          <a:pt x="0" y="520"/>
                        </a:lnTo>
                        <a:lnTo>
                          <a:pt x="13" y="489"/>
                        </a:lnTo>
                        <a:lnTo>
                          <a:pt x="13" y="441"/>
                        </a:lnTo>
                        <a:lnTo>
                          <a:pt x="13" y="410"/>
                        </a:lnTo>
                        <a:lnTo>
                          <a:pt x="13" y="378"/>
                        </a:lnTo>
                        <a:lnTo>
                          <a:pt x="13" y="346"/>
                        </a:lnTo>
                        <a:lnTo>
                          <a:pt x="13" y="316"/>
                        </a:lnTo>
                        <a:lnTo>
                          <a:pt x="13" y="267"/>
                        </a:lnTo>
                        <a:lnTo>
                          <a:pt x="27" y="237"/>
                        </a:lnTo>
                        <a:lnTo>
                          <a:pt x="27" y="205"/>
                        </a:lnTo>
                        <a:lnTo>
                          <a:pt x="27" y="173"/>
                        </a:lnTo>
                        <a:lnTo>
                          <a:pt x="27" y="141"/>
                        </a:lnTo>
                        <a:lnTo>
                          <a:pt x="41" y="109"/>
                        </a:lnTo>
                        <a:lnTo>
                          <a:pt x="41" y="62"/>
                        </a:lnTo>
                        <a:lnTo>
                          <a:pt x="55" y="31"/>
                        </a:lnTo>
                        <a:lnTo>
                          <a:pt x="55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5191200" y="3213000"/>
                  <a:ext cx="44280" cy="158760"/>
                  <a:chOff x="5191200" y="3213000"/>
                  <a:chExt cx="44280" cy="15876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>
                    <a:off x="5191200" y="3213000"/>
                    <a:ext cx="4428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300">
                        <a:moveTo>
                          <a:pt x="0" y="300"/>
                        </a:moveTo>
                        <a:lnTo>
                          <a:pt x="14" y="268"/>
                        </a:lnTo>
                        <a:lnTo>
                          <a:pt x="14" y="221"/>
                        </a:lnTo>
                        <a:lnTo>
                          <a:pt x="28" y="189"/>
                        </a:lnTo>
                        <a:lnTo>
                          <a:pt x="28" y="142"/>
                        </a:lnTo>
                        <a:lnTo>
                          <a:pt x="41" y="111"/>
                        </a:lnTo>
                        <a:lnTo>
                          <a:pt x="55" y="79"/>
                        </a:lnTo>
                        <a:lnTo>
                          <a:pt x="69" y="32"/>
                        </a:lnTo>
                        <a:lnTo>
                          <a:pt x="83" y="0"/>
                        </a:lnTo>
                        <a:lnTo>
                          <a:pt x="0" y="300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5191200" y="3213000"/>
                    <a:ext cx="4428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300">
                        <a:moveTo>
                          <a:pt x="0" y="300"/>
                        </a:moveTo>
                        <a:lnTo>
                          <a:pt x="14" y="268"/>
                        </a:lnTo>
                        <a:lnTo>
                          <a:pt x="14" y="221"/>
                        </a:lnTo>
                        <a:lnTo>
                          <a:pt x="28" y="189"/>
                        </a:lnTo>
                        <a:lnTo>
                          <a:pt x="28" y="142"/>
                        </a:lnTo>
                        <a:lnTo>
                          <a:pt x="41" y="111"/>
                        </a:lnTo>
                        <a:lnTo>
                          <a:pt x="55" y="79"/>
                        </a:lnTo>
                        <a:lnTo>
                          <a:pt x="69" y="32"/>
                        </a:lnTo>
                        <a:lnTo>
                          <a:pt x="8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5235480" y="2644920"/>
                  <a:ext cx="453960" cy="568080"/>
                  <a:chOff x="5235480" y="2644920"/>
                  <a:chExt cx="453960" cy="568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>
                    <a:off x="5235480" y="2644920"/>
                    <a:ext cx="453960" cy="568080"/>
                  </a:xfrm>
                  <a:custGeom>
                    <a:avLst/>
                    <a:gdLst/>
                    <a:ahLst/>
                    <a:rect l="l" t="t" r="r" b="b"/>
                    <a:pathLst>
                      <a:path w="859" h="1073">
                        <a:moveTo>
                          <a:pt x="0" y="1073"/>
                        </a:moveTo>
                        <a:lnTo>
                          <a:pt x="14" y="1041"/>
                        </a:lnTo>
                        <a:lnTo>
                          <a:pt x="28" y="1009"/>
                        </a:lnTo>
                        <a:lnTo>
                          <a:pt x="41" y="979"/>
                        </a:lnTo>
                        <a:lnTo>
                          <a:pt x="55" y="947"/>
                        </a:lnTo>
                        <a:lnTo>
                          <a:pt x="69" y="915"/>
                        </a:lnTo>
                        <a:lnTo>
                          <a:pt x="83" y="883"/>
                        </a:lnTo>
                        <a:lnTo>
                          <a:pt x="97" y="836"/>
                        </a:lnTo>
                        <a:lnTo>
                          <a:pt x="111" y="804"/>
                        </a:lnTo>
                        <a:lnTo>
                          <a:pt x="124" y="789"/>
                        </a:lnTo>
                        <a:lnTo>
                          <a:pt x="152" y="757"/>
                        </a:lnTo>
                        <a:lnTo>
                          <a:pt x="166" y="726"/>
                        </a:lnTo>
                        <a:lnTo>
                          <a:pt x="180" y="694"/>
                        </a:lnTo>
                        <a:lnTo>
                          <a:pt x="207" y="663"/>
                        </a:lnTo>
                        <a:lnTo>
                          <a:pt x="221" y="647"/>
                        </a:lnTo>
                        <a:lnTo>
                          <a:pt x="235" y="615"/>
                        </a:lnTo>
                        <a:lnTo>
                          <a:pt x="263" y="584"/>
                        </a:lnTo>
                        <a:lnTo>
                          <a:pt x="277" y="568"/>
                        </a:lnTo>
                        <a:lnTo>
                          <a:pt x="304" y="536"/>
                        </a:lnTo>
                        <a:lnTo>
                          <a:pt x="318" y="505"/>
                        </a:lnTo>
                        <a:lnTo>
                          <a:pt x="346" y="489"/>
                        </a:lnTo>
                        <a:lnTo>
                          <a:pt x="360" y="457"/>
                        </a:lnTo>
                        <a:lnTo>
                          <a:pt x="387" y="427"/>
                        </a:lnTo>
                        <a:lnTo>
                          <a:pt x="401" y="410"/>
                        </a:lnTo>
                        <a:lnTo>
                          <a:pt x="429" y="378"/>
                        </a:lnTo>
                        <a:lnTo>
                          <a:pt x="443" y="363"/>
                        </a:lnTo>
                        <a:lnTo>
                          <a:pt x="470" y="331"/>
                        </a:lnTo>
                        <a:lnTo>
                          <a:pt x="498" y="316"/>
                        </a:lnTo>
                        <a:lnTo>
                          <a:pt x="512" y="284"/>
                        </a:lnTo>
                        <a:lnTo>
                          <a:pt x="539" y="269"/>
                        </a:lnTo>
                        <a:lnTo>
                          <a:pt x="567" y="252"/>
                        </a:lnTo>
                        <a:lnTo>
                          <a:pt x="581" y="220"/>
                        </a:lnTo>
                        <a:lnTo>
                          <a:pt x="610" y="205"/>
                        </a:lnTo>
                        <a:lnTo>
                          <a:pt x="638" y="173"/>
                        </a:lnTo>
                        <a:lnTo>
                          <a:pt x="665" y="158"/>
                        </a:lnTo>
                        <a:lnTo>
                          <a:pt x="679" y="142"/>
                        </a:lnTo>
                        <a:lnTo>
                          <a:pt x="707" y="111"/>
                        </a:lnTo>
                        <a:lnTo>
                          <a:pt x="734" y="95"/>
                        </a:lnTo>
                        <a:lnTo>
                          <a:pt x="762" y="79"/>
                        </a:lnTo>
                        <a:lnTo>
                          <a:pt x="790" y="63"/>
                        </a:lnTo>
                        <a:lnTo>
                          <a:pt x="804" y="32"/>
                        </a:lnTo>
                        <a:lnTo>
                          <a:pt x="831" y="16"/>
                        </a:lnTo>
                        <a:lnTo>
                          <a:pt x="859" y="0"/>
                        </a:lnTo>
                        <a:lnTo>
                          <a:pt x="0" y="1073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5235480" y="2644920"/>
                    <a:ext cx="453960" cy="568080"/>
                  </a:xfrm>
                  <a:custGeom>
                    <a:avLst/>
                    <a:gdLst/>
                    <a:ahLst/>
                    <a:rect l="l" t="t" r="r" b="b"/>
                    <a:pathLst>
                      <a:path w="859" h="1073">
                        <a:moveTo>
                          <a:pt x="0" y="1073"/>
                        </a:moveTo>
                        <a:lnTo>
                          <a:pt x="14" y="1041"/>
                        </a:lnTo>
                        <a:lnTo>
                          <a:pt x="28" y="1009"/>
                        </a:lnTo>
                        <a:lnTo>
                          <a:pt x="41" y="979"/>
                        </a:lnTo>
                        <a:lnTo>
                          <a:pt x="55" y="947"/>
                        </a:lnTo>
                        <a:lnTo>
                          <a:pt x="69" y="915"/>
                        </a:lnTo>
                        <a:lnTo>
                          <a:pt x="83" y="883"/>
                        </a:lnTo>
                        <a:lnTo>
                          <a:pt x="97" y="836"/>
                        </a:lnTo>
                        <a:lnTo>
                          <a:pt x="111" y="804"/>
                        </a:lnTo>
                        <a:lnTo>
                          <a:pt x="124" y="789"/>
                        </a:lnTo>
                        <a:lnTo>
                          <a:pt x="152" y="757"/>
                        </a:lnTo>
                        <a:lnTo>
                          <a:pt x="166" y="726"/>
                        </a:lnTo>
                        <a:lnTo>
                          <a:pt x="180" y="694"/>
                        </a:lnTo>
                        <a:lnTo>
                          <a:pt x="207" y="663"/>
                        </a:lnTo>
                        <a:lnTo>
                          <a:pt x="221" y="647"/>
                        </a:lnTo>
                        <a:lnTo>
                          <a:pt x="235" y="615"/>
                        </a:lnTo>
                        <a:lnTo>
                          <a:pt x="263" y="584"/>
                        </a:lnTo>
                        <a:lnTo>
                          <a:pt x="277" y="568"/>
                        </a:lnTo>
                        <a:lnTo>
                          <a:pt x="304" y="536"/>
                        </a:lnTo>
                        <a:lnTo>
                          <a:pt x="318" y="505"/>
                        </a:lnTo>
                        <a:lnTo>
                          <a:pt x="346" y="489"/>
                        </a:lnTo>
                        <a:lnTo>
                          <a:pt x="360" y="457"/>
                        </a:lnTo>
                        <a:lnTo>
                          <a:pt x="387" y="427"/>
                        </a:lnTo>
                        <a:lnTo>
                          <a:pt x="401" y="410"/>
                        </a:lnTo>
                        <a:lnTo>
                          <a:pt x="429" y="378"/>
                        </a:lnTo>
                        <a:lnTo>
                          <a:pt x="443" y="363"/>
                        </a:lnTo>
                        <a:lnTo>
                          <a:pt x="470" y="331"/>
                        </a:lnTo>
                        <a:lnTo>
                          <a:pt x="498" y="316"/>
                        </a:lnTo>
                        <a:lnTo>
                          <a:pt x="512" y="284"/>
                        </a:lnTo>
                        <a:lnTo>
                          <a:pt x="539" y="269"/>
                        </a:lnTo>
                        <a:lnTo>
                          <a:pt x="567" y="252"/>
                        </a:lnTo>
                        <a:lnTo>
                          <a:pt x="581" y="220"/>
                        </a:lnTo>
                        <a:lnTo>
                          <a:pt x="610" y="205"/>
                        </a:lnTo>
                        <a:lnTo>
                          <a:pt x="638" y="173"/>
                        </a:lnTo>
                        <a:lnTo>
                          <a:pt x="665" y="158"/>
                        </a:lnTo>
                        <a:lnTo>
                          <a:pt x="679" y="142"/>
                        </a:lnTo>
                        <a:lnTo>
                          <a:pt x="707" y="111"/>
                        </a:lnTo>
                        <a:lnTo>
                          <a:pt x="734" y="95"/>
                        </a:lnTo>
                        <a:lnTo>
                          <a:pt x="762" y="79"/>
                        </a:lnTo>
                        <a:lnTo>
                          <a:pt x="790" y="63"/>
                        </a:lnTo>
                        <a:lnTo>
                          <a:pt x="804" y="32"/>
                        </a:lnTo>
                        <a:lnTo>
                          <a:pt x="831" y="16"/>
                        </a:lnTo>
                        <a:lnTo>
                          <a:pt x="85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5689440" y="2511360"/>
                  <a:ext cx="235080" cy="133560"/>
                  <a:chOff x="5689440" y="2511360"/>
                  <a:chExt cx="235080" cy="13356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>
                    <a:off x="5689440" y="2511360"/>
                    <a:ext cx="235080" cy="133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253">
                        <a:moveTo>
                          <a:pt x="0" y="253"/>
                        </a:moveTo>
                        <a:lnTo>
                          <a:pt x="41" y="237"/>
                        </a:lnTo>
                        <a:lnTo>
                          <a:pt x="69" y="206"/>
                        </a:lnTo>
                        <a:lnTo>
                          <a:pt x="97" y="190"/>
                        </a:lnTo>
                        <a:lnTo>
                          <a:pt x="124" y="175"/>
                        </a:lnTo>
                        <a:lnTo>
                          <a:pt x="152" y="158"/>
                        </a:lnTo>
                        <a:lnTo>
                          <a:pt x="180" y="143"/>
                        </a:lnTo>
                        <a:lnTo>
                          <a:pt x="207" y="128"/>
                        </a:lnTo>
                        <a:lnTo>
                          <a:pt x="235" y="111"/>
                        </a:lnTo>
                        <a:lnTo>
                          <a:pt x="263" y="96"/>
                        </a:lnTo>
                        <a:lnTo>
                          <a:pt x="290" y="64"/>
                        </a:lnTo>
                        <a:lnTo>
                          <a:pt x="332" y="64"/>
                        </a:lnTo>
                        <a:lnTo>
                          <a:pt x="359" y="49"/>
                        </a:lnTo>
                        <a:lnTo>
                          <a:pt x="387" y="32"/>
                        </a:lnTo>
                        <a:lnTo>
                          <a:pt x="415" y="17"/>
                        </a:lnTo>
                        <a:lnTo>
                          <a:pt x="442" y="0"/>
                        </a:lnTo>
                        <a:lnTo>
                          <a:pt x="0" y="253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5689440" y="2511360"/>
                    <a:ext cx="235080" cy="133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253">
                        <a:moveTo>
                          <a:pt x="0" y="253"/>
                        </a:moveTo>
                        <a:lnTo>
                          <a:pt x="41" y="237"/>
                        </a:lnTo>
                        <a:lnTo>
                          <a:pt x="69" y="206"/>
                        </a:lnTo>
                        <a:lnTo>
                          <a:pt x="97" y="190"/>
                        </a:lnTo>
                        <a:lnTo>
                          <a:pt x="124" y="175"/>
                        </a:lnTo>
                        <a:lnTo>
                          <a:pt x="152" y="158"/>
                        </a:lnTo>
                        <a:lnTo>
                          <a:pt x="180" y="143"/>
                        </a:lnTo>
                        <a:lnTo>
                          <a:pt x="207" y="128"/>
                        </a:lnTo>
                        <a:lnTo>
                          <a:pt x="235" y="111"/>
                        </a:lnTo>
                        <a:lnTo>
                          <a:pt x="263" y="96"/>
                        </a:lnTo>
                        <a:lnTo>
                          <a:pt x="290" y="64"/>
                        </a:lnTo>
                        <a:lnTo>
                          <a:pt x="332" y="64"/>
                        </a:lnTo>
                        <a:lnTo>
                          <a:pt x="359" y="49"/>
                        </a:lnTo>
                        <a:lnTo>
                          <a:pt x="387" y="32"/>
                        </a:lnTo>
                        <a:lnTo>
                          <a:pt x="415" y="17"/>
                        </a:lnTo>
                        <a:lnTo>
                          <a:pt x="44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5924520" y="2478240"/>
                  <a:ext cx="73080" cy="33120"/>
                  <a:chOff x="5924520" y="2478240"/>
                  <a:chExt cx="73080" cy="3312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924520" y="2478240"/>
                    <a:ext cx="7308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62">
                        <a:moveTo>
                          <a:pt x="0" y="62"/>
                        </a:moveTo>
                        <a:lnTo>
                          <a:pt x="42" y="47"/>
                        </a:lnTo>
                        <a:lnTo>
                          <a:pt x="99" y="15"/>
                        </a:lnTo>
                        <a:lnTo>
                          <a:pt x="140" y="0"/>
                        </a:lnTo>
                        <a:lnTo>
                          <a:pt x="0" y="62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924520" y="2478240"/>
                    <a:ext cx="7308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62">
                        <a:moveTo>
                          <a:pt x="0" y="62"/>
                        </a:moveTo>
                        <a:lnTo>
                          <a:pt x="42" y="47"/>
                        </a:lnTo>
                        <a:lnTo>
                          <a:pt x="99" y="15"/>
                        </a:lnTo>
                        <a:lnTo>
                          <a:pt x="14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5997600" y="2460600"/>
                  <a:ext cx="36360" cy="17640"/>
                  <a:chOff x="5997600" y="2460600"/>
                  <a:chExt cx="36360" cy="176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>
                    <a:off x="5997600" y="2460600"/>
                    <a:ext cx="363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32">
                        <a:moveTo>
                          <a:pt x="0" y="32"/>
                        </a:moveTo>
                        <a:lnTo>
                          <a:pt x="28" y="15"/>
                        </a:lnTo>
                        <a:lnTo>
                          <a:pt x="55" y="15"/>
                        </a:lnTo>
                        <a:lnTo>
                          <a:pt x="69" y="0"/>
                        </a:lnTo>
                        <a:lnTo>
                          <a:pt x="0" y="32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5997600" y="2460600"/>
                    <a:ext cx="363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32">
                        <a:moveTo>
                          <a:pt x="0" y="32"/>
                        </a:moveTo>
                        <a:lnTo>
                          <a:pt x="28" y="15"/>
                        </a:lnTo>
                        <a:lnTo>
                          <a:pt x="55" y="15"/>
                        </a:lnTo>
                        <a:lnTo>
                          <a:pt x="6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5638680" y="4464000"/>
                  <a:ext cx="490680" cy="335160"/>
                  <a:chOff x="5638680" y="4464000"/>
                  <a:chExt cx="490680" cy="33516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5638680" y="4464000"/>
                    <a:ext cx="490680" cy="335160"/>
                  </a:xfrm>
                  <a:custGeom>
                    <a:avLst/>
                    <a:gdLst/>
                    <a:ahLst/>
                    <a:rect l="l" t="t" r="r" b="b"/>
                    <a:pathLst>
                      <a:path w="928" h="631">
                        <a:moveTo>
                          <a:pt x="928" y="631"/>
                        </a:moveTo>
                        <a:lnTo>
                          <a:pt x="887" y="631"/>
                        </a:lnTo>
                        <a:lnTo>
                          <a:pt x="859" y="616"/>
                        </a:lnTo>
                        <a:lnTo>
                          <a:pt x="831" y="599"/>
                        </a:lnTo>
                        <a:lnTo>
                          <a:pt x="804" y="584"/>
                        </a:lnTo>
                        <a:lnTo>
                          <a:pt x="776" y="584"/>
                        </a:lnTo>
                        <a:lnTo>
                          <a:pt x="748" y="569"/>
                        </a:lnTo>
                        <a:lnTo>
                          <a:pt x="721" y="552"/>
                        </a:lnTo>
                        <a:lnTo>
                          <a:pt x="693" y="537"/>
                        </a:lnTo>
                        <a:lnTo>
                          <a:pt x="665" y="520"/>
                        </a:lnTo>
                        <a:lnTo>
                          <a:pt x="638" y="505"/>
                        </a:lnTo>
                        <a:lnTo>
                          <a:pt x="609" y="490"/>
                        </a:lnTo>
                        <a:lnTo>
                          <a:pt x="581" y="473"/>
                        </a:lnTo>
                        <a:lnTo>
                          <a:pt x="553" y="458"/>
                        </a:lnTo>
                        <a:lnTo>
                          <a:pt x="526" y="441"/>
                        </a:lnTo>
                        <a:lnTo>
                          <a:pt x="498" y="426"/>
                        </a:lnTo>
                        <a:lnTo>
                          <a:pt x="470" y="411"/>
                        </a:lnTo>
                        <a:lnTo>
                          <a:pt x="456" y="379"/>
                        </a:lnTo>
                        <a:lnTo>
                          <a:pt x="429" y="362"/>
                        </a:lnTo>
                        <a:lnTo>
                          <a:pt x="401" y="347"/>
                        </a:lnTo>
                        <a:lnTo>
                          <a:pt x="374" y="332"/>
                        </a:lnTo>
                        <a:lnTo>
                          <a:pt x="346" y="315"/>
                        </a:lnTo>
                        <a:lnTo>
                          <a:pt x="332" y="284"/>
                        </a:lnTo>
                        <a:lnTo>
                          <a:pt x="304" y="268"/>
                        </a:lnTo>
                        <a:lnTo>
                          <a:pt x="277" y="253"/>
                        </a:lnTo>
                        <a:lnTo>
                          <a:pt x="249" y="221"/>
                        </a:lnTo>
                        <a:lnTo>
                          <a:pt x="221" y="205"/>
                        </a:lnTo>
                        <a:lnTo>
                          <a:pt x="208" y="189"/>
                        </a:lnTo>
                        <a:lnTo>
                          <a:pt x="180" y="158"/>
                        </a:lnTo>
                        <a:lnTo>
                          <a:pt x="152" y="142"/>
                        </a:lnTo>
                        <a:lnTo>
                          <a:pt x="138" y="111"/>
                        </a:lnTo>
                        <a:lnTo>
                          <a:pt x="97" y="95"/>
                        </a:lnTo>
                        <a:lnTo>
                          <a:pt x="69" y="64"/>
                        </a:lnTo>
                        <a:lnTo>
                          <a:pt x="55" y="47"/>
                        </a:lnTo>
                        <a:lnTo>
                          <a:pt x="28" y="17"/>
                        </a:lnTo>
                        <a:lnTo>
                          <a:pt x="0" y="0"/>
                        </a:lnTo>
                        <a:lnTo>
                          <a:pt x="928" y="631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5638680" y="4464000"/>
                    <a:ext cx="490680" cy="335160"/>
                  </a:xfrm>
                  <a:custGeom>
                    <a:avLst/>
                    <a:gdLst/>
                    <a:ahLst/>
                    <a:rect l="l" t="t" r="r" b="b"/>
                    <a:pathLst>
                      <a:path w="928" h="631">
                        <a:moveTo>
                          <a:pt x="928" y="631"/>
                        </a:moveTo>
                        <a:lnTo>
                          <a:pt x="887" y="631"/>
                        </a:lnTo>
                        <a:lnTo>
                          <a:pt x="859" y="616"/>
                        </a:lnTo>
                        <a:lnTo>
                          <a:pt x="831" y="599"/>
                        </a:lnTo>
                        <a:lnTo>
                          <a:pt x="804" y="584"/>
                        </a:lnTo>
                        <a:lnTo>
                          <a:pt x="776" y="584"/>
                        </a:lnTo>
                        <a:lnTo>
                          <a:pt x="748" y="569"/>
                        </a:lnTo>
                        <a:lnTo>
                          <a:pt x="721" y="552"/>
                        </a:lnTo>
                        <a:lnTo>
                          <a:pt x="693" y="537"/>
                        </a:lnTo>
                        <a:lnTo>
                          <a:pt x="665" y="520"/>
                        </a:lnTo>
                        <a:lnTo>
                          <a:pt x="638" y="505"/>
                        </a:lnTo>
                        <a:lnTo>
                          <a:pt x="609" y="490"/>
                        </a:lnTo>
                        <a:lnTo>
                          <a:pt x="581" y="473"/>
                        </a:lnTo>
                        <a:lnTo>
                          <a:pt x="553" y="458"/>
                        </a:lnTo>
                        <a:lnTo>
                          <a:pt x="526" y="441"/>
                        </a:lnTo>
                        <a:lnTo>
                          <a:pt x="498" y="426"/>
                        </a:lnTo>
                        <a:lnTo>
                          <a:pt x="470" y="411"/>
                        </a:lnTo>
                        <a:lnTo>
                          <a:pt x="456" y="379"/>
                        </a:lnTo>
                        <a:lnTo>
                          <a:pt x="429" y="362"/>
                        </a:lnTo>
                        <a:lnTo>
                          <a:pt x="401" y="347"/>
                        </a:lnTo>
                        <a:lnTo>
                          <a:pt x="374" y="332"/>
                        </a:lnTo>
                        <a:lnTo>
                          <a:pt x="346" y="315"/>
                        </a:lnTo>
                        <a:lnTo>
                          <a:pt x="332" y="284"/>
                        </a:lnTo>
                        <a:lnTo>
                          <a:pt x="304" y="268"/>
                        </a:lnTo>
                        <a:lnTo>
                          <a:pt x="277" y="253"/>
                        </a:lnTo>
                        <a:lnTo>
                          <a:pt x="249" y="221"/>
                        </a:lnTo>
                        <a:lnTo>
                          <a:pt x="221" y="205"/>
                        </a:lnTo>
                        <a:lnTo>
                          <a:pt x="208" y="189"/>
                        </a:lnTo>
                        <a:lnTo>
                          <a:pt x="180" y="158"/>
                        </a:lnTo>
                        <a:lnTo>
                          <a:pt x="152" y="142"/>
                        </a:lnTo>
                        <a:lnTo>
                          <a:pt x="138" y="111"/>
                        </a:lnTo>
                        <a:lnTo>
                          <a:pt x="97" y="95"/>
                        </a:lnTo>
                        <a:lnTo>
                          <a:pt x="69" y="64"/>
                        </a:lnTo>
                        <a:lnTo>
                          <a:pt x="55" y="47"/>
                        </a:lnTo>
                        <a:lnTo>
                          <a:pt x="28" y="1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5381640" y="4022640"/>
                  <a:ext cx="257040" cy="441360"/>
                  <a:chOff x="5381640" y="4022640"/>
                  <a:chExt cx="257040" cy="44136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>
                    <a:off x="5381640" y="4022640"/>
                    <a:ext cx="257040" cy="441360"/>
                  </a:xfrm>
                  <a:custGeom>
                    <a:avLst/>
                    <a:gdLst/>
                    <a:ahLst/>
                    <a:rect l="l" t="t" r="r" b="b"/>
                    <a:pathLst>
                      <a:path w="485" h="836">
                        <a:moveTo>
                          <a:pt x="485" y="836"/>
                        </a:moveTo>
                        <a:lnTo>
                          <a:pt x="471" y="804"/>
                        </a:lnTo>
                        <a:lnTo>
                          <a:pt x="444" y="789"/>
                        </a:lnTo>
                        <a:lnTo>
                          <a:pt x="430" y="757"/>
                        </a:lnTo>
                        <a:lnTo>
                          <a:pt x="402" y="742"/>
                        </a:lnTo>
                        <a:lnTo>
                          <a:pt x="388" y="710"/>
                        </a:lnTo>
                        <a:lnTo>
                          <a:pt x="361" y="678"/>
                        </a:lnTo>
                        <a:lnTo>
                          <a:pt x="347" y="663"/>
                        </a:lnTo>
                        <a:lnTo>
                          <a:pt x="318" y="631"/>
                        </a:lnTo>
                        <a:lnTo>
                          <a:pt x="304" y="599"/>
                        </a:lnTo>
                        <a:lnTo>
                          <a:pt x="290" y="584"/>
                        </a:lnTo>
                        <a:lnTo>
                          <a:pt x="262" y="552"/>
                        </a:lnTo>
                        <a:lnTo>
                          <a:pt x="249" y="520"/>
                        </a:lnTo>
                        <a:lnTo>
                          <a:pt x="235" y="489"/>
                        </a:lnTo>
                        <a:lnTo>
                          <a:pt x="207" y="458"/>
                        </a:lnTo>
                        <a:lnTo>
                          <a:pt x="193" y="442"/>
                        </a:lnTo>
                        <a:lnTo>
                          <a:pt x="179" y="410"/>
                        </a:lnTo>
                        <a:lnTo>
                          <a:pt x="166" y="379"/>
                        </a:lnTo>
                        <a:lnTo>
                          <a:pt x="138" y="347"/>
                        </a:lnTo>
                        <a:lnTo>
                          <a:pt x="124" y="316"/>
                        </a:lnTo>
                        <a:lnTo>
                          <a:pt x="110" y="284"/>
                        </a:lnTo>
                        <a:lnTo>
                          <a:pt x="96" y="252"/>
                        </a:lnTo>
                        <a:lnTo>
                          <a:pt x="83" y="222"/>
                        </a:lnTo>
                        <a:lnTo>
                          <a:pt x="69" y="190"/>
                        </a:lnTo>
                        <a:lnTo>
                          <a:pt x="55" y="158"/>
                        </a:lnTo>
                        <a:lnTo>
                          <a:pt x="41" y="126"/>
                        </a:lnTo>
                        <a:lnTo>
                          <a:pt x="41" y="94"/>
                        </a:lnTo>
                        <a:lnTo>
                          <a:pt x="27" y="64"/>
                        </a:lnTo>
                        <a:lnTo>
                          <a:pt x="13" y="32"/>
                        </a:lnTo>
                        <a:lnTo>
                          <a:pt x="0" y="0"/>
                        </a:lnTo>
                        <a:lnTo>
                          <a:pt x="485" y="836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5381640" y="4022640"/>
                    <a:ext cx="257040" cy="441360"/>
                  </a:xfrm>
                  <a:custGeom>
                    <a:avLst/>
                    <a:gdLst/>
                    <a:ahLst/>
                    <a:rect l="l" t="t" r="r" b="b"/>
                    <a:pathLst>
                      <a:path w="485" h="836">
                        <a:moveTo>
                          <a:pt x="485" y="836"/>
                        </a:moveTo>
                        <a:lnTo>
                          <a:pt x="471" y="804"/>
                        </a:lnTo>
                        <a:lnTo>
                          <a:pt x="444" y="789"/>
                        </a:lnTo>
                        <a:lnTo>
                          <a:pt x="430" y="757"/>
                        </a:lnTo>
                        <a:lnTo>
                          <a:pt x="402" y="742"/>
                        </a:lnTo>
                        <a:lnTo>
                          <a:pt x="388" y="710"/>
                        </a:lnTo>
                        <a:lnTo>
                          <a:pt x="361" y="678"/>
                        </a:lnTo>
                        <a:lnTo>
                          <a:pt x="347" y="663"/>
                        </a:lnTo>
                        <a:lnTo>
                          <a:pt x="318" y="631"/>
                        </a:lnTo>
                        <a:lnTo>
                          <a:pt x="304" y="599"/>
                        </a:lnTo>
                        <a:lnTo>
                          <a:pt x="290" y="584"/>
                        </a:lnTo>
                        <a:lnTo>
                          <a:pt x="262" y="552"/>
                        </a:lnTo>
                        <a:lnTo>
                          <a:pt x="249" y="520"/>
                        </a:lnTo>
                        <a:lnTo>
                          <a:pt x="235" y="489"/>
                        </a:lnTo>
                        <a:lnTo>
                          <a:pt x="207" y="458"/>
                        </a:lnTo>
                        <a:lnTo>
                          <a:pt x="193" y="442"/>
                        </a:lnTo>
                        <a:lnTo>
                          <a:pt x="179" y="410"/>
                        </a:lnTo>
                        <a:lnTo>
                          <a:pt x="166" y="379"/>
                        </a:lnTo>
                        <a:lnTo>
                          <a:pt x="138" y="347"/>
                        </a:lnTo>
                        <a:lnTo>
                          <a:pt x="124" y="316"/>
                        </a:lnTo>
                        <a:lnTo>
                          <a:pt x="110" y="284"/>
                        </a:lnTo>
                        <a:lnTo>
                          <a:pt x="96" y="252"/>
                        </a:lnTo>
                        <a:lnTo>
                          <a:pt x="83" y="222"/>
                        </a:lnTo>
                        <a:lnTo>
                          <a:pt x="69" y="190"/>
                        </a:lnTo>
                        <a:lnTo>
                          <a:pt x="55" y="158"/>
                        </a:lnTo>
                        <a:lnTo>
                          <a:pt x="41" y="126"/>
                        </a:lnTo>
                        <a:lnTo>
                          <a:pt x="41" y="94"/>
                        </a:lnTo>
                        <a:lnTo>
                          <a:pt x="27" y="64"/>
                        </a:lnTo>
                        <a:lnTo>
                          <a:pt x="13" y="3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" name=""/>
                <p:cNvGrpSpPr/>
                <p:nvPr/>
              </p:nvGrpSpPr>
              <p:grpSpPr>
                <a:xfrm>
                  <a:off x="5330880" y="3497400"/>
                  <a:ext cx="50760" cy="525240"/>
                  <a:chOff x="5330880" y="3497400"/>
                  <a:chExt cx="50760" cy="525240"/>
                </a:xfrm>
              </p:grpSpPr>
              <p:sp>
                <p:nvSpPr>
                  <p:cNvPr id="120" name=""/>
                  <p:cNvSpPr/>
                  <p:nvPr/>
                </p:nvSpPr>
                <p:spPr>
                  <a:xfrm>
                    <a:off x="5330880" y="3497400"/>
                    <a:ext cx="50760" cy="5252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993">
                        <a:moveTo>
                          <a:pt x="97" y="993"/>
                        </a:moveTo>
                        <a:lnTo>
                          <a:pt x="97" y="961"/>
                        </a:lnTo>
                        <a:lnTo>
                          <a:pt x="83" y="930"/>
                        </a:lnTo>
                        <a:lnTo>
                          <a:pt x="69" y="899"/>
                        </a:lnTo>
                        <a:lnTo>
                          <a:pt x="69" y="867"/>
                        </a:lnTo>
                        <a:lnTo>
                          <a:pt x="55" y="835"/>
                        </a:lnTo>
                        <a:lnTo>
                          <a:pt x="55" y="804"/>
                        </a:lnTo>
                        <a:lnTo>
                          <a:pt x="41" y="757"/>
                        </a:lnTo>
                        <a:lnTo>
                          <a:pt x="41" y="725"/>
                        </a:lnTo>
                        <a:lnTo>
                          <a:pt x="41" y="693"/>
                        </a:lnTo>
                        <a:lnTo>
                          <a:pt x="27" y="662"/>
                        </a:lnTo>
                        <a:lnTo>
                          <a:pt x="27" y="631"/>
                        </a:lnTo>
                        <a:lnTo>
                          <a:pt x="14" y="584"/>
                        </a:lnTo>
                        <a:lnTo>
                          <a:pt x="14" y="552"/>
                        </a:lnTo>
                        <a:lnTo>
                          <a:pt x="14" y="520"/>
                        </a:lnTo>
                        <a:lnTo>
                          <a:pt x="14" y="488"/>
                        </a:lnTo>
                        <a:lnTo>
                          <a:pt x="0" y="441"/>
                        </a:lnTo>
                        <a:lnTo>
                          <a:pt x="0" y="409"/>
                        </a:lnTo>
                        <a:lnTo>
                          <a:pt x="0" y="377"/>
                        </a:lnTo>
                        <a:lnTo>
                          <a:pt x="0" y="347"/>
                        </a:lnTo>
                        <a:lnTo>
                          <a:pt x="0" y="299"/>
                        </a:lnTo>
                        <a:lnTo>
                          <a:pt x="0" y="268"/>
                        </a:lnTo>
                        <a:lnTo>
                          <a:pt x="0" y="236"/>
                        </a:lnTo>
                        <a:lnTo>
                          <a:pt x="0" y="204"/>
                        </a:lnTo>
                        <a:lnTo>
                          <a:pt x="0" y="173"/>
                        </a:lnTo>
                        <a:lnTo>
                          <a:pt x="0" y="126"/>
                        </a:lnTo>
                        <a:lnTo>
                          <a:pt x="0" y="94"/>
                        </a:lnTo>
                        <a:lnTo>
                          <a:pt x="14" y="62"/>
                        </a:lnTo>
                        <a:lnTo>
                          <a:pt x="14" y="30"/>
                        </a:lnTo>
                        <a:lnTo>
                          <a:pt x="14" y="0"/>
                        </a:lnTo>
                        <a:lnTo>
                          <a:pt x="97" y="993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5330880" y="3497400"/>
                    <a:ext cx="50760" cy="5252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993">
                        <a:moveTo>
                          <a:pt x="97" y="993"/>
                        </a:moveTo>
                        <a:lnTo>
                          <a:pt x="97" y="961"/>
                        </a:lnTo>
                        <a:lnTo>
                          <a:pt x="83" y="930"/>
                        </a:lnTo>
                        <a:lnTo>
                          <a:pt x="69" y="899"/>
                        </a:lnTo>
                        <a:lnTo>
                          <a:pt x="69" y="867"/>
                        </a:lnTo>
                        <a:lnTo>
                          <a:pt x="55" y="835"/>
                        </a:lnTo>
                        <a:lnTo>
                          <a:pt x="55" y="804"/>
                        </a:lnTo>
                        <a:lnTo>
                          <a:pt x="41" y="757"/>
                        </a:lnTo>
                        <a:lnTo>
                          <a:pt x="41" y="725"/>
                        </a:lnTo>
                        <a:lnTo>
                          <a:pt x="41" y="693"/>
                        </a:lnTo>
                        <a:lnTo>
                          <a:pt x="27" y="662"/>
                        </a:lnTo>
                        <a:lnTo>
                          <a:pt x="27" y="631"/>
                        </a:lnTo>
                        <a:lnTo>
                          <a:pt x="14" y="584"/>
                        </a:lnTo>
                        <a:lnTo>
                          <a:pt x="14" y="552"/>
                        </a:lnTo>
                        <a:lnTo>
                          <a:pt x="14" y="520"/>
                        </a:lnTo>
                        <a:lnTo>
                          <a:pt x="14" y="488"/>
                        </a:lnTo>
                        <a:lnTo>
                          <a:pt x="0" y="441"/>
                        </a:lnTo>
                        <a:lnTo>
                          <a:pt x="0" y="409"/>
                        </a:lnTo>
                        <a:lnTo>
                          <a:pt x="0" y="377"/>
                        </a:lnTo>
                        <a:lnTo>
                          <a:pt x="0" y="347"/>
                        </a:lnTo>
                        <a:lnTo>
                          <a:pt x="0" y="299"/>
                        </a:lnTo>
                        <a:lnTo>
                          <a:pt x="0" y="268"/>
                        </a:lnTo>
                        <a:lnTo>
                          <a:pt x="0" y="236"/>
                        </a:lnTo>
                        <a:lnTo>
                          <a:pt x="0" y="204"/>
                        </a:lnTo>
                        <a:lnTo>
                          <a:pt x="0" y="173"/>
                        </a:lnTo>
                        <a:lnTo>
                          <a:pt x="0" y="126"/>
                        </a:lnTo>
                        <a:lnTo>
                          <a:pt x="0" y="94"/>
                        </a:lnTo>
                        <a:lnTo>
                          <a:pt x="14" y="62"/>
                        </a:lnTo>
                        <a:lnTo>
                          <a:pt x="14" y="30"/>
                        </a:lnTo>
                        <a:lnTo>
                          <a:pt x="14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2" name=""/>
                <p:cNvGrpSpPr/>
                <p:nvPr/>
              </p:nvGrpSpPr>
              <p:grpSpPr>
                <a:xfrm>
                  <a:off x="5338800" y="3313080"/>
                  <a:ext cx="28440" cy="184320"/>
                  <a:chOff x="5338800" y="3313080"/>
                  <a:chExt cx="28440" cy="184320"/>
                </a:xfrm>
              </p:grpSpPr>
              <p:sp>
                <p:nvSpPr>
                  <p:cNvPr id="123" name=""/>
                  <p:cNvSpPr/>
                  <p:nvPr/>
                </p:nvSpPr>
                <p:spPr>
                  <a:xfrm>
                    <a:off x="5338800" y="3313080"/>
                    <a:ext cx="28440" cy="18432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348">
                        <a:moveTo>
                          <a:pt x="0" y="348"/>
                        </a:moveTo>
                        <a:lnTo>
                          <a:pt x="13" y="299"/>
                        </a:lnTo>
                        <a:lnTo>
                          <a:pt x="13" y="269"/>
                        </a:lnTo>
                        <a:lnTo>
                          <a:pt x="13" y="220"/>
                        </a:lnTo>
                        <a:lnTo>
                          <a:pt x="27" y="190"/>
                        </a:lnTo>
                        <a:lnTo>
                          <a:pt x="27" y="158"/>
                        </a:lnTo>
                        <a:lnTo>
                          <a:pt x="41" y="111"/>
                        </a:lnTo>
                        <a:lnTo>
                          <a:pt x="41" y="79"/>
                        </a:lnTo>
                        <a:lnTo>
                          <a:pt x="55" y="47"/>
                        </a:lnTo>
                        <a:lnTo>
                          <a:pt x="55" y="0"/>
                        </a:lnTo>
                        <a:lnTo>
                          <a:pt x="0" y="348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5338800" y="3313080"/>
                    <a:ext cx="28440" cy="18432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348">
                        <a:moveTo>
                          <a:pt x="0" y="348"/>
                        </a:moveTo>
                        <a:lnTo>
                          <a:pt x="13" y="299"/>
                        </a:lnTo>
                        <a:lnTo>
                          <a:pt x="13" y="269"/>
                        </a:lnTo>
                        <a:lnTo>
                          <a:pt x="13" y="220"/>
                        </a:lnTo>
                        <a:lnTo>
                          <a:pt x="27" y="190"/>
                        </a:lnTo>
                        <a:lnTo>
                          <a:pt x="27" y="158"/>
                        </a:lnTo>
                        <a:lnTo>
                          <a:pt x="41" y="111"/>
                        </a:lnTo>
                        <a:lnTo>
                          <a:pt x="41" y="79"/>
                        </a:lnTo>
                        <a:lnTo>
                          <a:pt x="55" y="47"/>
                        </a:lnTo>
                        <a:lnTo>
                          <a:pt x="55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5" name=""/>
                <p:cNvGrpSpPr/>
                <p:nvPr/>
              </p:nvGrpSpPr>
              <p:grpSpPr>
                <a:xfrm>
                  <a:off x="5367240" y="2644920"/>
                  <a:ext cx="447840" cy="668160"/>
                  <a:chOff x="5367240" y="2644920"/>
                  <a:chExt cx="447840" cy="668160"/>
                </a:xfrm>
              </p:grpSpPr>
              <p:sp>
                <p:nvSpPr>
                  <p:cNvPr id="126" name=""/>
                  <p:cNvSpPr/>
                  <p:nvPr/>
                </p:nvSpPr>
                <p:spPr>
                  <a:xfrm>
                    <a:off x="5367240" y="2644920"/>
                    <a:ext cx="447840" cy="668160"/>
                  </a:xfrm>
                  <a:custGeom>
                    <a:avLst/>
                    <a:gdLst/>
                    <a:ahLst/>
                    <a:rect l="l" t="t" r="r" b="b"/>
                    <a:pathLst>
                      <a:path w="845" h="1262">
                        <a:moveTo>
                          <a:pt x="0" y="1262"/>
                        </a:moveTo>
                        <a:lnTo>
                          <a:pt x="14" y="1231"/>
                        </a:lnTo>
                        <a:lnTo>
                          <a:pt x="14" y="1199"/>
                        </a:lnTo>
                        <a:lnTo>
                          <a:pt x="28" y="1167"/>
                        </a:lnTo>
                        <a:lnTo>
                          <a:pt x="41" y="1136"/>
                        </a:lnTo>
                        <a:lnTo>
                          <a:pt x="41" y="1105"/>
                        </a:lnTo>
                        <a:lnTo>
                          <a:pt x="55" y="1073"/>
                        </a:lnTo>
                        <a:lnTo>
                          <a:pt x="69" y="1041"/>
                        </a:lnTo>
                        <a:lnTo>
                          <a:pt x="83" y="1009"/>
                        </a:lnTo>
                        <a:lnTo>
                          <a:pt x="97" y="979"/>
                        </a:lnTo>
                        <a:lnTo>
                          <a:pt x="97" y="947"/>
                        </a:lnTo>
                        <a:lnTo>
                          <a:pt x="111" y="915"/>
                        </a:lnTo>
                        <a:lnTo>
                          <a:pt x="124" y="883"/>
                        </a:lnTo>
                        <a:lnTo>
                          <a:pt x="138" y="836"/>
                        </a:lnTo>
                        <a:lnTo>
                          <a:pt x="152" y="804"/>
                        </a:lnTo>
                        <a:lnTo>
                          <a:pt x="180" y="789"/>
                        </a:lnTo>
                        <a:lnTo>
                          <a:pt x="194" y="757"/>
                        </a:lnTo>
                        <a:lnTo>
                          <a:pt x="207" y="726"/>
                        </a:lnTo>
                        <a:lnTo>
                          <a:pt x="221" y="694"/>
                        </a:lnTo>
                        <a:lnTo>
                          <a:pt x="235" y="663"/>
                        </a:lnTo>
                        <a:lnTo>
                          <a:pt x="263" y="631"/>
                        </a:lnTo>
                        <a:lnTo>
                          <a:pt x="277" y="615"/>
                        </a:lnTo>
                        <a:lnTo>
                          <a:pt x="290" y="584"/>
                        </a:lnTo>
                        <a:lnTo>
                          <a:pt x="318" y="553"/>
                        </a:lnTo>
                        <a:lnTo>
                          <a:pt x="332" y="536"/>
                        </a:lnTo>
                        <a:lnTo>
                          <a:pt x="346" y="505"/>
                        </a:lnTo>
                        <a:lnTo>
                          <a:pt x="375" y="474"/>
                        </a:lnTo>
                        <a:lnTo>
                          <a:pt x="389" y="457"/>
                        </a:lnTo>
                        <a:lnTo>
                          <a:pt x="416" y="427"/>
                        </a:lnTo>
                        <a:lnTo>
                          <a:pt x="430" y="395"/>
                        </a:lnTo>
                        <a:lnTo>
                          <a:pt x="458" y="378"/>
                        </a:lnTo>
                        <a:lnTo>
                          <a:pt x="472" y="348"/>
                        </a:lnTo>
                        <a:lnTo>
                          <a:pt x="499" y="331"/>
                        </a:lnTo>
                        <a:lnTo>
                          <a:pt x="513" y="299"/>
                        </a:lnTo>
                        <a:lnTo>
                          <a:pt x="541" y="284"/>
                        </a:lnTo>
                        <a:lnTo>
                          <a:pt x="568" y="252"/>
                        </a:lnTo>
                        <a:lnTo>
                          <a:pt x="582" y="237"/>
                        </a:lnTo>
                        <a:lnTo>
                          <a:pt x="610" y="205"/>
                        </a:lnTo>
                        <a:lnTo>
                          <a:pt x="638" y="190"/>
                        </a:lnTo>
                        <a:lnTo>
                          <a:pt x="665" y="158"/>
                        </a:lnTo>
                        <a:lnTo>
                          <a:pt x="693" y="142"/>
                        </a:lnTo>
                        <a:lnTo>
                          <a:pt x="707" y="126"/>
                        </a:lnTo>
                        <a:lnTo>
                          <a:pt x="734" y="95"/>
                        </a:lnTo>
                        <a:lnTo>
                          <a:pt x="762" y="79"/>
                        </a:lnTo>
                        <a:lnTo>
                          <a:pt x="776" y="63"/>
                        </a:lnTo>
                        <a:lnTo>
                          <a:pt x="804" y="32"/>
                        </a:lnTo>
                        <a:lnTo>
                          <a:pt x="831" y="16"/>
                        </a:lnTo>
                        <a:lnTo>
                          <a:pt x="845" y="0"/>
                        </a:lnTo>
                        <a:lnTo>
                          <a:pt x="0" y="1262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5367240" y="2644920"/>
                    <a:ext cx="447840" cy="668160"/>
                  </a:xfrm>
                  <a:custGeom>
                    <a:avLst/>
                    <a:gdLst/>
                    <a:ahLst/>
                    <a:rect l="l" t="t" r="r" b="b"/>
                    <a:pathLst>
                      <a:path w="845" h="1262">
                        <a:moveTo>
                          <a:pt x="0" y="1262"/>
                        </a:moveTo>
                        <a:lnTo>
                          <a:pt x="14" y="1231"/>
                        </a:lnTo>
                        <a:lnTo>
                          <a:pt x="14" y="1199"/>
                        </a:lnTo>
                        <a:lnTo>
                          <a:pt x="28" y="1167"/>
                        </a:lnTo>
                        <a:lnTo>
                          <a:pt x="41" y="1136"/>
                        </a:lnTo>
                        <a:lnTo>
                          <a:pt x="41" y="1105"/>
                        </a:lnTo>
                        <a:lnTo>
                          <a:pt x="55" y="1073"/>
                        </a:lnTo>
                        <a:lnTo>
                          <a:pt x="69" y="1041"/>
                        </a:lnTo>
                        <a:lnTo>
                          <a:pt x="83" y="1009"/>
                        </a:lnTo>
                        <a:lnTo>
                          <a:pt x="97" y="979"/>
                        </a:lnTo>
                        <a:lnTo>
                          <a:pt x="97" y="947"/>
                        </a:lnTo>
                        <a:lnTo>
                          <a:pt x="111" y="915"/>
                        </a:lnTo>
                        <a:lnTo>
                          <a:pt x="124" y="883"/>
                        </a:lnTo>
                        <a:lnTo>
                          <a:pt x="138" y="836"/>
                        </a:lnTo>
                        <a:lnTo>
                          <a:pt x="152" y="804"/>
                        </a:lnTo>
                        <a:lnTo>
                          <a:pt x="180" y="789"/>
                        </a:lnTo>
                        <a:lnTo>
                          <a:pt x="194" y="757"/>
                        </a:lnTo>
                        <a:lnTo>
                          <a:pt x="207" y="726"/>
                        </a:lnTo>
                        <a:lnTo>
                          <a:pt x="221" y="694"/>
                        </a:lnTo>
                        <a:lnTo>
                          <a:pt x="235" y="663"/>
                        </a:lnTo>
                        <a:lnTo>
                          <a:pt x="263" y="631"/>
                        </a:lnTo>
                        <a:lnTo>
                          <a:pt x="277" y="615"/>
                        </a:lnTo>
                        <a:lnTo>
                          <a:pt x="290" y="584"/>
                        </a:lnTo>
                        <a:lnTo>
                          <a:pt x="318" y="553"/>
                        </a:lnTo>
                        <a:lnTo>
                          <a:pt x="332" y="536"/>
                        </a:lnTo>
                        <a:lnTo>
                          <a:pt x="346" y="505"/>
                        </a:lnTo>
                        <a:lnTo>
                          <a:pt x="375" y="474"/>
                        </a:lnTo>
                        <a:lnTo>
                          <a:pt x="389" y="457"/>
                        </a:lnTo>
                        <a:lnTo>
                          <a:pt x="416" y="427"/>
                        </a:lnTo>
                        <a:lnTo>
                          <a:pt x="430" y="395"/>
                        </a:lnTo>
                        <a:lnTo>
                          <a:pt x="458" y="378"/>
                        </a:lnTo>
                        <a:lnTo>
                          <a:pt x="472" y="348"/>
                        </a:lnTo>
                        <a:lnTo>
                          <a:pt x="499" y="331"/>
                        </a:lnTo>
                        <a:lnTo>
                          <a:pt x="513" y="299"/>
                        </a:lnTo>
                        <a:lnTo>
                          <a:pt x="541" y="284"/>
                        </a:lnTo>
                        <a:lnTo>
                          <a:pt x="568" y="252"/>
                        </a:lnTo>
                        <a:lnTo>
                          <a:pt x="582" y="237"/>
                        </a:lnTo>
                        <a:lnTo>
                          <a:pt x="610" y="205"/>
                        </a:lnTo>
                        <a:lnTo>
                          <a:pt x="638" y="190"/>
                        </a:lnTo>
                        <a:lnTo>
                          <a:pt x="665" y="158"/>
                        </a:lnTo>
                        <a:lnTo>
                          <a:pt x="693" y="142"/>
                        </a:lnTo>
                        <a:lnTo>
                          <a:pt x="707" y="126"/>
                        </a:lnTo>
                        <a:lnTo>
                          <a:pt x="734" y="95"/>
                        </a:lnTo>
                        <a:lnTo>
                          <a:pt x="762" y="79"/>
                        </a:lnTo>
                        <a:lnTo>
                          <a:pt x="776" y="63"/>
                        </a:lnTo>
                        <a:lnTo>
                          <a:pt x="804" y="32"/>
                        </a:lnTo>
                        <a:lnTo>
                          <a:pt x="831" y="16"/>
                        </a:lnTo>
                        <a:lnTo>
                          <a:pt x="845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8" name=""/>
                <p:cNvGrpSpPr/>
                <p:nvPr/>
              </p:nvGrpSpPr>
              <p:grpSpPr>
                <a:xfrm>
                  <a:off x="5815080" y="2511360"/>
                  <a:ext cx="212760" cy="133560"/>
                  <a:chOff x="5815080" y="2511360"/>
                  <a:chExt cx="212760" cy="13356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>
                    <a:off x="5815080" y="2511360"/>
                    <a:ext cx="212760" cy="133560"/>
                  </a:xfrm>
                  <a:custGeom>
                    <a:avLst/>
                    <a:gdLst/>
                    <a:ahLst/>
                    <a:rect l="l" t="t" r="r" b="b"/>
                    <a:pathLst>
                      <a:path w="402" h="253">
                        <a:moveTo>
                          <a:pt x="0" y="253"/>
                        </a:moveTo>
                        <a:lnTo>
                          <a:pt x="28" y="222"/>
                        </a:lnTo>
                        <a:lnTo>
                          <a:pt x="55" y="206"/>
                        </a:lnTo>
                        <a:lnTo>
                          <a:pt x="83" y="190"/>
                        </a:lnTo>
                        <a:lnTo>
                          <a:pt x="111" y="175"/>
                        </a:lnTo>
                        <a:lnTo>
                          <a:pt x="138" y="143"/>
                        </a:lnTo>
                        <a:lnTo>
                          <a:pt x="166" y="128"/>
                        </a:lnTo>
                        <a:lnTo>
                          <a:pt x="194" y="111"/>
                        </a:lnTo>
                        <a:lnTo>
                          <a:pt x="221" y="96"/>
                        </a:lnTo>
                        <a:lnTo>
                          <a:pt x="249" y="79"/>
                        </a:lnTo>
                        <a:lnTo>
                          <a:pt x="277" y="64"/>
                        </a:lnTo>
                        <a:lnTo>
                          <a:pt x="306" y="49"/>
                        </a:lnTo>
                        <a:lnTo>
                          <a:pt x="347" y="32"/>
                        </a:lnTo>
                        <a:lnTo>
                          <a:pt x="375" y="17"/>
                        </a:lnTo>
                        <a:lnTo>
                          <a:pt x="402" y="0"/>
                        </a:lnTo>
                        <a:lnTo>
                          <a:pt x="0" y="253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5815080" y="2511360"/>
                    <a:ext cx="212760" cy="133560"/>
                  </a:xfrm>
                  <a:custGeom>
                    <a:avLst/>
                    <a:gdLst/>
                    <a:ahLst/>
                    <a:rect l="l" t="t" r="r" b="b"/>
                    <a:pathLst>
                      <a:path w="402" h="253">
                        <a:moveTo>
                          <a:pt x="0" y="253"/>
                        </a:moveTo>
                        <a:lnTo>
                          <a:pt x="28" y="222"/>
                        </a:lnTo>
                        <a:lnTo>
                          <a:pt x="55" y="206"/>
                        </a:lnTo>
                        <a:lnTo>
                          <a:pt x="83" y="190"/>
                        </a:lnTo>
                        <a:lnTo>
                          <a:pt x="111" y="175"/>
                        </a:lnTo>
                        <a:lnTo>
                          <a:pt x="138" y="143"/>
                        </a:lnTo>
                        <a:lnTo>
                          <a:pt x="166" y="128"/>
                        </a:lnTo>
                        <a:lnTo>
                          <a:pt x="194" y="111"/>
                        </a:lnTo>
                        <a:lnTo>
                          <a:pt x="221" y="96"/>
                        </a:lnTo>
                        <a:lnTo>
                          <a:pt x="249" y="79"/>
                        </a:lnTo>
                        <a:lnTo>
                          <a:pt x="277" y="64"/>
                        </a:lnTo>
                        <a:lnTo>
                          <a:pt x="306" y="49"/>
                        </a:lnTo>
                        <a:lnTo>
                          <a:pt x="347" y="32"/>
                        </a:lnTo>
                        <a:lnTo>
                          <a:pt x="375" y="17"/>
                        </a:lnTo>
                        <a:lnTo>
                          <a:pt x="40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1" name=""/>
                <p:cNvGrpSpPr/>
                <p:nvPr/>
              </p:nvGrpSpPr>
              <p:grpSpPr>
                <a:xfrm>
                  <a:off x="6027840" y="2478240"/>
                  <a:ext cx="65160" cy="33120"/>
                  <a:chOff x="6027840" y="2478240"/>
                  <a:chExt cx="65160" cy="3312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>
                    <a:off x="6027840" y="2478240"/>
                    <a:ext cx="6516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62">
                        <a:moveTo>
                          <a:pt x="0" y="62"/>
                        </a:moveTo>
                        <a:lnTo>
                          <a:pt x="42" y="47"/>
                        </a:lnTo>
                        <a:lnTo>
                          <a:pt x="83" y="15"/>
                        </a:lnTo>
                        <a:lnTo>
                          <a:pt x="125" y="0"/>
                        </a:lnTo>
                        <a:lnTo>
                          <a:pt x="0" y="62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6027840" y="2478240"/>
                    <a:ext cx="6516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62">
                        <a:moveTo>
                          <a:pt x="0" y="62"/>
                        </a:moveTo>
                        <a:lnTo>
                          <a:pt x="42" y="47"/>
                        </a:lnTo>
                        <a:lnTo>
                          <a:pt x="83" y="15"/>
                        </a:lnTo>
                        <a:lnTo>
                          <a:pt x="125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4" name=""/>
                <p:cNvGrpSpPr/>
                <p:nvPr/>
              </p:nvGrpSpPr>
              <p:grpSpPr>
                <a:xfrm>
                  <a:off x="6093000" y="2460600"/>
                  <a:ext cx="36360" cy="17640"/>
                  <a:chOff x="6093000" y="2460600"/>
                  <a:chExt cx="36360" cy="1764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>
                    <a:off x="6093000" y="2460600"/>
                    <a:ext cx="363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32">
                        <a:moveTo>
                          <a:pt x="0" y="32"/>
                        </a:moveTo>
                        <a:lnTo>
                          <a:pt x="28" y="15"/>
                        </a:lnTo>
                        <a:lnTo>
                          <a:pt x="55" y="15"/>
                        </a:lnTo>
                        <a:lnTo>
                          <a:pt x="69" y="0"/>
                        </a:lnTo>
                        <a:lnTo>
                          <a:pt x="0" y="32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6093000" y="2460600"/>
                    <a:ext cx="363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32">
                        <a:moveTo>
                          <a:pt x="0" y="32"/>
                        </a:moveTo>
                        <a:lnTo>
                          <a:pt x="28" y="15"/>
                        </a:lnTo>
                        <a:lnTo>
                          <a:pt x="55" y="15"/>
                        </a:lnTo>
                        <a:lnTo>
                          <a:pt x="6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7" name=""/>
                <p:cNvGrpSpPr/>
                <p:nvPr/>
              </p:nvGrpSpPr>
              <p:grpSpPr>
                <a:xfrm>
                  <a:off x="5997600" y="4673520"/>
                  <a:ext cx="220680" cy="125640"/>
                  <a:chOff x="5997600" y="4673520"/>
                  <a:chExt cx="220680" cy="12564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>
                    <a:off x="5997600" y="4673520"/>
                    <a:ext cx="22068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5" h="237">
                        <a:moveTo>
                          <a:pt x="415" y="237"/>
                        </a:moveTo>
                        <a:lnTo>
                          <a:pt x="387" y="237"/>
                        </a:lnTo>
                        <a:lnTo>
                          <a:pt x="346" y="222"/>
                        </a:lnTo>
                        <a:lnTo>
                          <a:pt x="318" y="205"/>
                        </a:lnTo>
                        <a:lnTo>
                          <a:pt x="291" y="190"/>
                        </a:lnTo>
                        <a:lnTo>
                          <a:pt x="263" y="175"/>
                        </a:lnTo>
                        <a:lnTo>
                          <a:pt x="221" y="158"/>
                        </a:lnTo>
                        <a:lnTo>
                          <a:pt x="194" y="143"/>
                        </a:lnTo>
                        <a:lnTo>
                          <a:pt x="166" y="126"/>
                        </a:lnTo>
                        <a:lnTo>
                          <a:pt x="138" y="96"/>
                        </a:lnTo>
                        <a:lnTo>
                          <a:pt x="111" y="79"/>
                        </a:lnTo>
                        <a:lnTo>
                          <a:pt x="83" y="64"/>
                        </a:lnTo>
                        <a:lnTo>
                          <a:pt x="55" y="47"/>
                        </a:lnTo>
                        <a:lnTo>
                          <a:pt x="28" y="17"/>
                        </a:lnTo>
                        <a:lnTo>
                          <a:pt x="0" y="0"/>
                        </a:lnTo>
                        <a:lnTo>
                          <a:pt x="415" y="237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5997600" y="4673520"/>
                    <a:ext cx="22068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5" h="237">
                        <a:moveTo>
                          <a:pt x="415" y="237"/>
                        </a:moveTo>
                        <a:lnTo>
                          <a:pt x="387" y="237"/>
                        </a:lnTo>
                        <a:lnTo>
                          <a:pt x="346" y="222"/>
                        </a:lnTo>
                        <a:lnTo>
                          <a:pt x="318" y="205"/>
                        </a:lnTo>
                        <a:lnTo>
                          <a:pt x="291" y="190"/>
                        </a:lnTo>
                        <a:lnTo>
                          <a:pt x="263" y="175"/>
                        </a:lnTo>
                        <a:lnTo>
                          <a:pt x="221" y="158"/>
                        </a:lnTo>
                        <a:lnTo>
                          <a:pt x="194" y="143"/>
                        </a:lnTo>
                        <a:lnTo>
                          <a:pt x="166" y="126"/>
                        </a:lnTo>
                        <a:lnTo>
                          <a:pt x="138" y="96"/>
                        </a:lnTo>
                        <a:lnTo>
                          <a:pt x="111" y="79"/>
                        </a:lnTo>
                        <a:lnTo>
                          <a:pt x="83" y="64"/>
                        </a:lnTo>
                        <a:lnTo>
                          <a:pt x="55" y="47"/>
                        </a:lnTo>
                        <a:lnTo>
                          <a:pt x="28" y="1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0" name=""/>
                <p:cNvGrpSpPr/>
                <p:nvPr/>
              </p:nvGrpSpPr>
              <p:grpSpPr>
                <a:xfrm>
                  <a:off x="5851440" y="4540320"/>
                  <a:ext cx="146160" cy="133200"/>
                  <a:chOff x="5851440" y="4540320"/>
                  <a:chExt cx="146160" cy="13320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>
                    <a:off x="5851440" y="4540320"/>
                    <a:ext cx="14616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8" h="252">
                        <a:moveTo>
                          <a:pt x="278" y="252"/>
                        </a:moveTo>
                        <a:lnTo>
                          <a:pt x="251" y="237"/>
                        </a:lnTo>
                        <a:lnTo>
                          <a:pt x="221" y="205"/>
                        </a:lnTo>
                        <a:lnTo>
                          <a:pt x="180" y="173"/>
                        </a:lnTo>
                        <a:lnTo>
                          <a:pt x="152" y="158"/>
                        </a:lnTo>
                        <a:lnTo>
                          <a:pt x="138" y="126"/>
                        </a:lnTo>
                        <a:lnTo>
                          <a:pt x="111" y="111"/>
                        </a:lnTo>
                        <a:lnTo>
                          <a:pt x="83" y="79"/>
                        </a:lnTo>
                        <a:lnTo>
                          <a:pt x="55" y="47"/>
                        </a:lnTo>
                        <a:lnTo>
                          <a:pt x="28" y="16"/>
                        </a:lnTo>
                        <a:lnTo>
                          <a:pt x="0" y="0"/>
                        </a:lnTo>
                        <a:lnTo>
                          <a:pt x="278" y="252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5851440" y="4540320"/>
                    <a:ext cx="14616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8" h="252">
                        <a:moveTo>
                          <a:pt x="278" y="252"/>
                        </a:moveTo>
                        <a:lnTo>
                          <a:pt x="251" y="237"/>
                        </a:lnTo>
                        <a:lnTo>
                          <a:pt x="221" y="205"/>
                        </a:lnTo>
                        <a:lnTo>
                          <a:pt x="180" y="173"/>
                        </a:lnTo>
                        <a:lnTo>
                          <a:pt x="152" y="158"/>
                        </a:lnTo>
                        <a:lnTo>
                          <a:pt x="138" y="126"/>
                        </a:lnTo>
                        <a:lnTo>
                          <a:pt x="111" y="111"/>
                        </a:lnTo>
                        <a:lnTo>
                          <a:pt x="83" y="79"/>
                        </a:lnTo>
                        <a:lnTo>
                          <a:pt x="55" y="47"/>
                        </a:lnTo>
                        <a:lnTo>
                          <a:pt x="28" y="1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3" name=""/>
                <p:cNvGrpSpPr/>
                <p:nvPr/>
              </p:nvGrpSpPr>
              <p:grpSpPr>
                <a:xfrm>
                  <a:off x="5549760" y="4046400"/>
                  <a:ext cx="301680" cy="493920"/>
                  <a:chOff x="5549760" y="4046400"/>
                  <a:chExt cx="301680" cy="4939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5549760" y="4046400"/>
                    <a:ext cx="301680" cy="493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931">
                        <a:moveTo>
                          <a:pt x="568" y="931"/>
                        </a:moveTo>
                        <a:lnTo>
                          <a:pt x="541" y="900"/>
                        </a:lnTo>
                        <a:lnTo>
                          <a:pt x="527" y="868"/>
                        </a:lnTo>
                        <a:lnTo>
                          <a:pt x="499" y="853"/>
                        </a:lnTo>
                        <a:lnTo>
                          <a:pt x="485" y="821"/>
                        </a:lnTo>
                        <a:lnTo>
                          <a:pt x="458" y="806"/>
                        </a:lnTo>
                        <a:lnTo>
                          <a:pt x="444" y="774"/>
                        </a:lnTo>
                        <a:lnTo>
                          <a:pt x="416" y="742"/>
                        </a:lnTo>
                        <a:lnTo>
                          <a:pt x="402" y="727"/>
                        </a:lnTo>
                        <a:lnTo>
                          <a:pt x="375" y="695"/>
                        </a:lnTo>
                        <a:lnTo>
                          <a:pt x="361" y="663"/>
                        </a:lnTo>
                        <a:lnTo>
                          <a:pt x="333" y="648"/>
                        </a:lnTo>
                        <a:lnTo>
                          <a:pt x="319" y="616"/>
                        </a:lnTo>
                        <a:lnTo>
                          <a:pt x="292" y="584"/>
                        </a:lnTo>
                        <a:lnTo>
                          <a:pt x="264" y="552"/>
                        </a:lnTo>
                        <a:lnTo>
                          <a:pt x="250" y="520"/>
                        </a:lnTo>
                        <a:lnTo>
                          <a:pt x="222" y="505"/>
                        </a:lnTo>
                        <a:lnTo>
                          <a:pt x="209" y="473"/>
                        </a:lnTo>
                        <a:lnTo>
                          <a:pt x="195" y="442"/>
                        </a:lnTo>
                        <a:lnTo>
                          <a:pt x="181" y="411"/>
                        </a:lnTo>
                        <a:lnTo>
                          <a:pt x="167" y="379"/>
                        </a:lnTo>
                        <a:lnTo>
                          <a:pt x="139" y="348"/>
                        </a:lnTo>
                        <a:lnTo>
                          <a:pt x="126" y="316"/>
                        </a:lnTo>
                        <a:lnTo>
                          <a:pt x="112" y="284"/>
                        </a:lnTo>
                        <a:lnTo>
                          <a:pt x="98" y="253"/>
                        </a:lnTo>
                        <a:lnTo>
                          <a:pt x="84" y="222"/>
                        </a:lnTo>
                        <a:lnTo>
                          <a:pt x="70" y="190"/>
                        </a:lnTo>
                        <a:lnTo>
                          <a:pt x="56" y="158"/>
                        </a:lnTo>
                        <a:lnTo>
                          <a:pt x="43" y="126"/>
                        </a:lnTo>
                        <a:lnTo>
                          <a:pt x="43" y="96"/>
                        </a:lnTo>
                        <a:lnTo>
                          <a:pt x="29" y="64"/>
                        </a:lnTo>
                        <a:lnTo>
                          <a:pt x="15" y="32"/>
                        </a:lnTo>
                        <a:lnTo>
                          <a:pt x="0" y="0"/>
                        </a:lnTo>
                        <a:lnTo>
                          <a:pt x="568" y="931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5549760" y="4046400"/>
                    <a:ext cx="301680" cy="493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931">
                        <a:moveTo>
                          <a:pt x="568" y="931"/>
                        </a:moveTo>
                        <a:lnTo>
                          <a:pt x="541" y="900"/>
                        </a:lnTo>
                        <a:lnTo>
                          <a:pt x="527" y="868"/>
                        </a:lnTo>
                        <a:lnTo>
                          <a:pt x="499" y="853"/>
                        </a:lnTo>
                        <a:lnTo>
                          <a:pt x="485" y="821"/>
                        </a:lnTo>
                        <a:lnTo>
                          <a:pt x="458" y="806"/>
                        </a:lnTo>
                        <a:lnTo>
                          <a:pt x="444" y="774"/>
                        </a:lnTo>
                        <a:lnTo>
                          <a:pt x="416" y="742"/>
                        </a:lnTo>
                        <a:lnTo>
                          <a:pt x="402" y="727"/>
                        </a:lnTo>
                        <a:lnTo>
                          <a:pt x="375" y="695"/>
                        </a:lnTo>
                        <a:lnTo>
                          <a:pt x="361" y="663"/>
                        </a:lnTo>
                        <a:lnTo>
                          <a:pt x="333" y="648"/>
                        </a:lnTo>
                        <a:lnTo>
                          <a:pt x="319" y="616"/>
                        </a:lnTo>
                        <a:lnTo>
                          <a:pt x="292" y="584"/>
                        </a:lnTo>
                        <a:lnTo>
                          <a:pt x="264" y="552"/>
                        </a:lnTo>
                        <a:lnTo>
                          <a:pt x="250" y="520"/>
                        </a:lnTo>
                        <a:lnTo>
                          <a:pt x="222" y="505"/>
                        </a:lnTo>
                        <a:lnTo>
                          <a:pt x="209" y="473"/>
                        </a:lnTo>
                        <a:lnTo>
                          <a:pt x="195" y="442"/>
                        </a:lnTo>
                        <a:lnTo>
                          <a:pt x="181" y="411"/>
                        </a:lnTo>
                        <a:lnTo>
                          <a:pt x="167" y="379"/>
                        </a:lnTo>
                        <a:lnTo>
                          <a:pt x="139" y="348"/>
                        </a:lnTo>
                        <a:lnTo>
                          <a:pt x="126" y="316"/>
                        </a:lnTo>
                        <a:lnTo>
                          <a:pt x="112" y="284"/>
                        </a:lnTo>
                        <a:lnTo>
                          <a:pt x="98" y="253"/>
                        </a:lnTo>
                        <a:lnTo>
                          <a:pt x="84" y="222"/>
                        </a:lnTo>
                        <a:lnTo>
                          <a:pt x="70" y="190"/>
                        </a:lnTo>
                        <a:lnTo>
                          <a:pt x="56" y="158"/>
                        </a:lnTo>
                        <a:lnTo>
                          <a:pt x="43" y="126"/>
                        </a:lnTo>
                        <a:lnTo>
                          <a:pt x="43" y="96"/>
                        </a:lnTo>
                        <a:lnTo>
                          <a:pt x="29" y="64"/>
                        </a:lnTo>
                        <a:lnTo>
                          <a:pt x="15" y="3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5499000" y="3271680"/>
                  <a:ext cx="50760" cy="774720"/>
                  <a:chOff x="5499000" y="3271680"/>
                  <a:chExt cx="50760" cy="77472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>
                    <a:off x="5499000" y="3271680"/>
                    <a:ext cx="50760" cy="7747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466">
                        <a:moveTo>
                          <a:pt x="97" y="1466"/>
                        </a:moveTo>
                        <a:lnTo>
                          <a:pt x="97" y="1434"/>
                        </a:lnTo>
                        <a:lnTo>
                          <a:pt x="83" y="1404"/>
                        </a:lnTo>
                        <a:lnTo>
                          <a:pt x="69" y="1356"/>
                        </a:lnTo>
                        <a:lnTo>
                          <a:pt x="69" y="1325"/>
                        </a:lnTo>
                        <a:lnTo>
                          <a:pt x="55" y="1293"/>
                        </a:lnTo>
                        <a:lnTo>
                          <a:pt x="55" y="1261"/>
                        </a:lnTo>
                        <a:lnTo>
                          <a:pt x="41" y="1230"/>
                        </a:lnTo>
                        <a:lnTo>
                          <a:pt x="41" y="1198"/>
                        </a:lnTo>
                        <a:lnTo>
                          <a:pt x="41" y="1167"/>
                        </a:lnTo>
                        <a:lnTo>
                          <a:pt x="28" y="1136"/>
                        </a:lnTo>
                        <a:lnTo>
                          <a:pt x="28" y="1088"/>
                        </a:lnTo>
                        <a:lnTo>
                          <a:pt x="28" y="1057"/>
                        </a:lnTo>
                        <a:lnTo>
                          <a:pt x="14" y="1025"/>
                        </a:lnTo>
                        <a:lnTo>
                          <a:pt x="14" y="993"/>
                        </a:lnTo>
                        <a:lnTo>
                          <a:pt x="14" y="961"/>
                        </a:lnTo>
                        <a:lnTo>
                          <a:pt x="14" y="931"/>
                        </a:lnTo>
                        <a:lnTo>
                          <a:pt x="14" y="882"/>
                        </a:lnTo>
                        <a:lnTo>
                          <a:pt x="0" y="852"/>
                        </a:lnTo>
                        <a:lnTo>
                          <a:pt x="0" y="820"/>
                        </a:lnTo>
                        <a:lnTo>
                          <a:pt x="0" y="788"/>
                        </a:lnTo>
                        <a:lnTo>
                          <a:pt x="0" y="756"/>
                        </a:lnTo>
                        <a:lnTo>
                          <a:pt x="0" y="709"/>
                        </a:lnTo>
                        <a:lnTo>
                          <a:pt x="0" y="678"/>
                        </a:lnTo>
                        <a:lnTo>
                          <a:pt x="0" y="646"/>
                        </a:lnTo>
                        <a:lnTo>
                          <a:pt x="0" y="614"/>
                        </a:lnTo>
                        <a:lnTo>
                          <a:pt x="0" y="583"/>
                        </a:lnTo>
                        <a:lnTo>
                          <a:pt x="14" y="535"/>
                        </a:lnTo>
                        <a:lnTo>
                          <a:pt x="14" y="505"/>
                        </a:lnTo>
                        <a:lnTo>
                          <a:pt x="14" y="473"/>
                        </a:lnTo>
                        <a:lnTo>
                          <a:pt x="14" y="441"/>
                        </a:lnTo>
                        <a:lnTo>
                          <a:pt x="14" y="409"/>
                        </a:lnTo>
                        <a:lnTo>
                          <a:pt x="28" y="362"/>
                        </a:lnTo>
                        <a:lnTo>
                          <a:pt x="28" y="330"/>
                        </a:lnTo>
                        <a:lnTo>
                          <a:pt x="28" y="298"/>
                        </a:lnTo>
                        <a:lnTo>
                          <a:pt x="28" y="268"/>
                        </a:lnTo>
                        <a:lnTo>
                          <a:pt x="41" y="236"/>
                        </a:lnTo>
                        <a:lnTo>
                          <a:pt x="41" y="204"/>
                        </a:lnTo>
                        <a:lnTo>
                          <a:pt x="55" y="172"/>
                        </a:lnTo>
                        <a:lnTo>
                          <a:pt x="55" y="125"/>
                        </a:lnTo>
                        <a:lnTo>
                          <a:pt x="55" y="94"/>
                        </a:lnTo>
                        <a:lnTo>
                          <a:pt x="69" y="62"/>
                        </a:lnTo>
                        <a:lnTo>
                          <a:pt x="69" y="31"/>
                        </a:lnTo>
                        <a:lnTo>
                          <a:pt x="83" y="0"/>
                        </a:lnTo>
                        <a:lnTo>
                          <a:pt x="97" y="1466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5499000" y="3271680"/>
                    <a:ext cx="50760" cy="7747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466">
                        <a:moveTo>
                          <a:pt x="97" y="1466"/>
                        </a:moveTo>
                        <a:lnTo>
                          <a:pt x="97" y="1434"/>
                        </a:lnTo>
                        <a:lnTo>
                          <a:pt x="83" y="1404"/>
                        </a:lnTo>
                        <a:lnTo>
                          <a:pt x="69" y="1356"/>
                        </a:lnTo>
                        <a:lnTo>
                          <a:pt x="69" y="1325"/>
                        </a:lnTo>
                        <a:lnTo>
                          <a:pt x="55" y="1293"/>
                        </a:lnTo>
                        <a:lnTo>
                          <a:pt x="55" y="1261"/>
                        </a:lnTo>
                        <a:lnTo>
                          <a:pt x="41" y="1230"/>
                        </a:lnTo>
                        <a:lnTo>
                          <a:pt x="41" y="1198"/>
                        </a:lnTo>
                        <a:lnTo>
                          <a:pt x="41" y="1167"/>
                        </a:lnTo>
                        <a:lnTo>
                          <a:pt x="28" y="1136"/>
                        </a:lnTo>
                        <a:lnTo>
                          <a:pt x="28" y="1088"/>
                        </a:lnTo>
                        <a:lnTo>
                          <a:pt x="28" y="1057"/>
                        </a:lnTo>
                        <a:lnTo>
                          <a:pt x="14" y="1025"/>
                        </a:lnTo>
                        <a:lnTo>
                          <a:pt x="14" y="993"/>
                        </a:lnTo>
                        <a:lnTo>
                          <a:pt x="14" y="961"/>
                        </a:lnTo>
                        <a:lnTo>
                          <a:pt x="14" y="931"/>
                        </a:lnTo>
                        <a:lnTo>
                          <a:pt x="14" y="882"/>
                        </a:lnTo>
                        <a:lnTo>
                          <a:pt x="0" y="852"/>
                        </a:lnTo>
                        <a:lnTo>
                          <a:pt x="0" y="820"/>
                        </a:lnTo>
                        <a:lnTo>
                          <a:pt x="0" y="788"/>
                        </a:lnTo>
                        <a:lnTo>
                          <a:pt x="0" y="756"/>
                        </a:lnTo>
                        <a:lnTo>
                          <a:pt x="0" y="709"/>
                        </a:lnTo>
                        <a:lnTo>
                          <a:pt x="0" y="678"/>
                        </a:lnTo>
                        <a:lnTo>
                          <a:pt x="0" y="646"/>
                        </a:lnTo>
                        <a:lnTo>
                          <a:pt x="0" y="614"/>
                        </a:lnTo>
                        <a:lnTo>
                          <a:pt x="0" y="583"/>
                        </a:lnTo>
                        <a:lnTo>
                          <a:pt x="14" y="535"/>
                        </a:lnTo>
                        <a:lnTo>
                          <a:pt x="14" y="505"/>
                        </a:lnTo>
                        <a:lnTo>
                          <a:pt x="14" y="473"/>
                        </a:lnTo>
                        <a:lnTo>
                          <a:pt x="14" y="441"/>
                        </a:lnTo>
                        <a:lnTo>
                          <a:pt x="14" y="409"/>
                        </a:lnTo>
                        <a:lnTo>
                          <a:pt x="28" y="362"/>
                        </a:lnTo>
                        <a:lnTo>
                          <a:pt x="28" y="330"/>
                        </a:lnTo>
                        <a:lnTo>
                          <a:pt x="28" y="298"/>
                        </a:lnTo>
                        <a:lnTo>
                          <a:pt x="28" y="268"/>
                        </a:lnTo>
                        <a:lnTo>
                          <a:pt x="41" y="236"/>
                        </a:lnTo>
                        <a:lnTo>
                          <a:pt x="41" y="204"/>
                        </a:lnTo>
                        <a:lnTo>
                          <a:pt x="55" y="172"/>
                        </a:lnTo>
                        <a:lnTo>
                          <a:pt x="55" y="125"/>
                        </a:lnTo>
                        <a:lnTo>
                          <a:pt x="55" y="94"/>
                        </a:lnTo>
                        <a:lnTo>
                          <a:pt x="69" y="62"/>
                        </a:lnTo>
                        <a:lnTo>
                          <a:pt x="69" y="31"/>
                        </a:lnTo>
                        <a:lnTo>
                          <a:pt x="8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9" name=""/>
                <p:cNvGrpSpPr/>
                <p:nvPr/>
              </p:nvGrpSpPr>
              <p:grpSpPr>
                <a:xfrm>
                  <a:off x="5543640" y="2644920"/>
                  <a:ext cx="395280" cy="626760"/>
                  <a:chOff x="5543640" y="2644920"/>
                  <a:chExt cx="395280" cy="62676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>
                    <a:off x="5543640" y="2644920"/>
                    <a:ext cx="395280" cy="626760"/>
                  </a:xfrm>
                  <a:custGeom>
                    <a:avLst/>
                    <a:gdLst/>
                    <a:ahLst/>
                    <a:rect l="l" t="t" r="r" b="b"/>
                    <a:pathLst>
                      <a:path w="748" h="1184">
                        <a:moveTo>
                          <a:pt x="0" y="1184"/>
                        </a:moveTo>
                        <a:lnTo>
                          <a:pt x="0" y="1152"/>
                        </a:lnTo>
                        <a:lnTo>
                          <a:pt x="14" y="1120"/>
                        </a:lnTo>
                        <a:lnTo>
                          <a:pt x="29" y="1088"/>
                        </a:lnTo>
                        <a:lnTo>
                          <a:pt x="29" y="1058"/>
                        </a:lnTo>
                        <a:lnTo>
                          <a:pt x="43" y="1026"/>
                        </a:lnTo>
                        <a:lnTo>
                          <a:pt x="57" y="994"/>
                        </a:lnTo>
                        <a:lnTo>
                          <a:pt x="70" y="962"/>
                        </a:lnTo>
                        <a:lnTo>
                          <a:pt x="70" y="930"/>
                        </a:lnTo>
                        <a:lnTo>
                          <a:pt x="84" y="900"/>
                        </a:lnTo>
                        <a:lnTo>
                          <a:pt x="98" y="851"/>
                        </a:lnTo>
                        <a:lnTo>
                          <a:pt x="112" y="821"/>
                        </a:lnTo>
                        <a:lnTo>
                          <a:pt x="126" y="789"/>
                        </a:lnTo>
                        <a:lnTo>
                          <a:pt x="140" y="773"/>
                        </a:lnTo>
                        <a:lnTo>
                          <a:pt x="153" y="742"/>
                        </a:lnTo>
                        <a:lnTo>
                          <a:pt x="167" y="710"/>
                        </a:lnTo>
                        <a:lnTo>
                          <a:pt x="195" y="678"/>
                        </a:lnTo>
                        <a:lnTo>
                          <a:pt x="209" y="647"/>
                        </a:lnTo>
                        <a:lnTo>
                          <a:pt x="223" y="615"/>
                        </a:lnTo>
                        <a:lnTo>
                          <a:pt x="236" y="584"/>
                        </a:lnTo>
                        <a:lnTo>
                          <a:pt x="264" y="568"/>
                        </a:lnTo>
                        <a:lnTo>
                          <a:pt x="278" y="536"/>
                        </a:lnTo>
                        <a:lnTo>
                          <a:pt x="306" y="505"/>
                        </a:lnTo>
                        <a:lnTo>
                          <a:pt x="319" y="474"/>
                        </a:lnTo>
                        <a:lnTo>
                          <a:pt x="347" y="457"/>
                        </a:lnTo>
                        <a:lnTo>
                          <a:pt x="361" y="427"/>
                        </a:lnTo>
                        <a:lnTo>
                          <a:pt x="389" y="395"/>
                        </a:lnTo>
                        <a:lnTo>
                          <a:pt x="402" y="378"/>
                        </a:lnTo>
                        <a:lnTo>
                          <a:pt x="416" y="348"/>
                        </a:lnTo>
                        <a:lnTo>
                          <a:pt x="444" y="316"/>
                        </a:lnTo>
                        <a:lnTo>
                          <a:pt x="458" y="299"/>
                        </a:lnTo>
                        <a:lnTo>
                          <a:pt x="485" y="269"/>
                        </a:lnTo>
                        <a:lnTo>
                          <a:pt x="499" y="252"/>
                        </a:lnTo>
                        <a:lnTo>
                          <a:pt x="527" y="220"/>
                        </a:lnTo>
                        <a:lnTo>
                          <a:pt x="555" y="205"/>
                        </a:lnTo>
                        <a:lnTo>
                          <a:pt x="568" y="173"/>
                        </a:lnTo>
                        <a:lnTo>
                          <a:pt x="596" y="158"/>
                        </a:lnTo>
                        <a:lnTo>
                          <a:pt x="610" y="126"/>
                        </a:lnTo>
                        <a:lnTo>
                          <a:pt x="637" y="111"/>
                        </a:lnTo>
                        <a:lnTo>
                          <a:pt x="651" y="79"/>
                        </a:lnTo>
                        <a:lnTo>
                          <a:pt x="679" y="63"/>
                        </a:lnTo>
                        <a:lnTo>
                          <a:pt x="707" y="48"/>
                        </a:lnTo>
                        <a:lnTo>
                          <a:pt x="720" y="16"/>
                        </a:lnTo>
                        <a:lnTo>
                          <a:pt x="748" y="0"/>
                        </a:lnTo>
                        <a:lnTo>
                          <a:pt x="0" y="1184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5543640" y="2644920"/>
                    <a:ext cx="395280" cy="626760"/>
                  </a:xfrm>
                  <a:custGeom>
                    <a:avLst/>
                    <a:gdLst/>
                    <a:ahLst/>
                    <a:rect l="l" t="t" r="r" b="b"/>
                    <a:pathLst>
                      <a:path w="748" h="1184">
                        <a:moveTo>
                          <a:pt x="0" y="1184"/>
                        </a:moveTo>
                        <a:lnTo>
                          <a:pt x="0" y="1152"/>
                        </a:lnTo>
                        <a:lnTo>
                          <a:pt x="14" y="1120"/>
                        </a:lnTo>
                        <a:lnTo>
                          <a:pt x="29" y="1088"/>
                        </a:lnTo>
                        <a:lnTo>
                          <a:pt x="29" y="1058"/>
                        </a:lnTo>
                        <a:lnTo>
                          <a:pt x="43" y="1026"/>
                        </a:lnTo>
                        <a:lnTo>
                          <a:pt x="57" y="994"/>
                        </a:lnTo>
                        <a:lnTo>
                          <a:pt x="70" y="962"/>
                        </a:lnTo>
                        <a:lnTo>
                          <a:pt x="70" y="930"/>
                        </a:lnTo>
                        <a:lnTo>
                          <a:pt x="84" y="900"/>
                        </a:lnTo>
                        <a:lnTo>
                          <a:pt x="98" y="851"/>
                        </a:lnTo>
                        <a:lnTo>
                          <a:pt x="112" y="821"/>
                        </a:lnTo>
                        <a:lnTo>
                          <a:pt x="126" y="789"/>
                        </a:lnTo>
                        <a:lnTo>
                          <a:pt x="140" y="773"/>
                        </a:lnTo>
                        <a:lnTo>
                          <a:pt x="153" y="742"/>
                        </a:lnTo>
                        <a:lnTo>
                          <a:pt x="167" y="710"/>
                        </a:lnTo>
                        <a:lnTo>
                          <a:pt x="195" y="678"/>
                        </a:lnTo>
                        <a:lnTo>
                          <a:pt x="209" y="647"/>
                        </a:lnTo>
                        <a:lnTo>
                          <a:pt x="223" y="615"/>
                        </a:lnTo>
                        <a:lnTo>
                          <a:pt x="236" y="584"/>
                        </a:lnTo>
                        <a:lnTo>
                          <a:pt x="264" y="568"/>
                        </a:lnTo>
                        <a:lnTo>
                          <a:pt x="278" y="536"/>
                        </a:lnTo>
                        <a:lnTo>
                          <a:pt x="306" y="505"/>
                        </a:lnTo>
                        <a:lnTo>
                          <a:pt x="319" y="474"/>
                        </a:lnTo>
                        <a:lnTo>
                          <a:pt x="347" y="457"/>
                        </a:lnTo>
                        <a:lnTo>
                          <a:pt x="361" y="427"/>
                        </a:lnTo>
                        <a:lnTo>
                          <a:pt x="389" y="395"/>
                        </a:lnTo>
                        <a:lnTo>
                          <a:pt x="402" y="378"/>
                        </a:lnTo>
                        <a:lnTo>
                          <a:pt x="416" y="348"/>
                        </a:lnTo>
                        <a:lnTo>
                          <a:pt x="444" y="316"/>
                        </a:lnTo>
                        <a:lnTo>
                          <a:pt x="458" y="299"/>
                        </a:lnTo>
                        <a:lnTo>
                          <a:pt x="485" y="269"/>
                        </a:lnTo>
                        <a:lnTo>
                          <a:pt x="499" y="252"/>
                        </a:lnTo>
                        <a:lnTo>
                          <a:pt x="527" y="220"/>
                        </a:lnTo>
                        <a:lnTo>
                          <a:pt x="555" y="205"/>
                        </a:lnTo>
                        <a:lnTo>
                          <a:pt x="568" y="173"/>
                        </a:lnTo>
                        <a:lnTo>
                          <a:pt x="596" y="158"/>
                        </a:lnTo>
                        <a:lnTo>
                          <a:pt x="610" y="126"/>
                        </a:lnTo>
                        <a:lnTo>
                          <a:pt x="637" y="111"/>
                        </a:lnTo>
                        <a:lnTo>
                          <a:pt x="651" y="79"/>
                        </a:lnTo>
                        <a:lnTo>
                          <a:pt x="679" y="63"/>
                        </a:lnTo>
                        <a:lnTo>
                          <a:pt x="707" y="48"/>
                        </a:lnTo>
                        <a:lnTo>
                          <a:pt x="720" y="16"/>
                        </a:lnTo>
                        <a:lnTo>
                          <a:pt x="74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" name=""/>
                <p:cNvGrpSpPr/>
                <p:nvPr/>
              </p:nvGrpSpPr>
              <p:grpSpPr>
                <a:xfrm>
                  <a:off x="5938920" y="2511360"/>
                  <a:ext cx="183960" cy="133560"/>
                  <a:chOff x="5938920" y="2511360"/>
                  <a:chExt cx="183960" cy="13356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>
                    <a:off x="5938920" y="2511360"/>
                    <a:ext cx="183960" cy="133560"/>
                  </a:xfrm>
                  <a:custGeom>
                    <a:avLst/>
                    <a:gdLst/>
                    <a:ahLst/>
                    <a:rect l="l" t="t" r="r" b="b"/>
                    <a:pathLst>
                      <a:path w="347" h="253">
                        <a:moveTo>
                          <a:pt x="0" y="253"/>
                        </a:moveTo>
                        <a:lnTo>
                          <a:pt x="28" y="222"/>
                        </a:lnTo>
                        <a:lnTo>
                          <a:pt x="55" y="206"/>
                        </a:lnTo>
                        <a:lnTo>
                          <a:pt x="71" y="190"/>
                        </a:lnTo>
                        <a:lnTo>
                          <a:pt x="98" y="158"/>
                        </a:lnTo>
                        <a:lnTo>
                          <a:pt x="126" y="143"/>
                        </a:lnTo>
                        <a:lnTo>
                          <a:pt x="154" y="128"/>
                        </a:lnTo>
                        <a:lnTo>
                          <a:pt x="181" y="111"/>
                        </a:lnTo>
                        <a:lnTo>
                          <a:pt x="209" y="79"/>
                        </a:lnTo>
                        <a:lnTo>
                          <a:pt x="237" y="64"/>
                        </a:lnTo>
                        <a:lnTo>
                          <a:pt x="264" y="49"/>
                        </a:lnTo>
                        <a:lnTo>
                          <a:pt x="292" y="32"/>
                        </a:lnTo>
                        <a:lnTo>
                          <a:pt x="320" y="17"/>
                        </a:lnTo>
                        <a:lnTo>
                          <a:pt x="347" y="0"/>
                        </a:lnTo>
                        <a:lnTo>
                          <a:pt x="0" y="253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5938920" y="2511360"/>
                    <a:ext cx="183960" cy="133560"/>
                  </a:xfrm>
                  <a:custGeom>
                    <a:avLst/>
                    <a:gdLst/>
                    <a:ahLst/>
                    <a:rect l="l" t="t" r="r" b="b"/>
                    <a:pathLst>
                      <a:path w="347" h="253">
                        <a:moveTo>
                          <a:pt x="0" y="253"/>
                        </a:moveTo>
                        <a:lnTo>
                          <a:pt x="28" y="222"/>
                        </a:lnTo>
                        <a:lnTo>
                          <a:pt x="55" y="206"/>
                        </a:lnTo>
                        <a:lnTo>
                          <a:pt x="71" y="190"/>
                        </a:lnTo>
                        <a:lnTo>
                          <a:pt x="98" y="158"/>
                        </a:lnTo>
                        <a:lnTo>
                          <a:pt x="126" y="143"/>
                        </a:lnTo>
                        <a:lnTo>
                          <a:pt x="154" y="128"/>
                        </a:lnTo>
                        <a:lnTo>
                          <a:pt x="181" y="111"/>
                        </a:lnTo>
                        <a:lnTo>
                          <a:pt x="209" y="79"/>
                        </a:lnTo>
                        <a:lnTo>
                          <a:pt x="237" y="64"/>
                        </a:lnTo>
                        <a:lnTo>
                          <a:pt x="264" y="49"/>
                        </a:lnTo>
                        <a:lnTo>
                          <a:pt x="292" y="32"/>
                        </a:lnTo>
                        <a:lnTo>
                          <a:pt x="320" y="17"/>
                        </a:lnTo>
                        <a:lnTo>
                          <a:pt x="34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5" name=""/>
                <p:cNvGrpSpPr/>
                <p:nvPr/>
              </p:nvGrpSpPr>
              <p:grpSpPr>
                <a:xfrm>
                  <a:off x="6122880" y="2478240"/>
                  <a:ext cx="58680" cy="33120"/>
                  <a:chOff x="6122880" y="2478240"/>
                  <a:chExt cx="58680" cy="3312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>
                    <a:off x="6122880" y="2478240"/>
                    <a:ext cx="5868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62">
                        <a:moveTo>
                          <a:pt x="0" y="62"/>
                        </a:moveTo>
                        <a:lnTo>
                          <a:pt x="42" y="47"/>
                        </a:lnTo>
                        <a:lnTo>
                          <a:pt x="83" y="15"/>
                        </a:lnTo>
                        <a:lnTo>
                          <a:pt x="111" y="0"/>
                        </a:lnTo>
                        <a:lnTo>
                          <a:pt x="0" y="62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6122880" y="2478240"/>
                    <a:ext cx="5868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62">
                        <a:moveTo>
                          <a:pt x="0" y="62"/>
                        </a:moveTo>
                        <a:lnTo>
                          <a:pt x="42" y="47"/>
                        </a:lnTo>
                        <a:lnTo>
                          <a:pt x="83" y="15"/>
                        </a:lnTo>
                        <a:lnTo>
                          <a:pt x="11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6181560" y="2460600"/>
                  <a:ext cx="36720" cy="17640"/>
                  <a:chOff x="6181560" y="2460600"/>
                  <a:chExt cx="36720" cy="1764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>
                    <a:off x="6181560" y="2460600"/>
                    <a:ext cx="367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32">
                        <a:moveTo>
                          <a:pt x="0" y="32"/>
                        </a:moveTo>
                        <a:lnTo>
                          <a:pt x="28" y="15"/>
                        </a:lnTo>
                        <a:lnTo>
                          <a:pt x="55" y="15"/>
                        </a:lnTo>
                        <a:lnTo>
                          <a:pt x="69" y="0"/>
                        </a:lnTo>
                        <a:lnTo>
                          <a:pt x="0" y="32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6181560" y="2460600"/>
                    <a:ext cx="367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32">
                        <a:moveTo>
                          <a:pt x="0" y="32"/>
                        </a:moveTo>
                        <a:lnTo>
                          <a:pt x="28" y="15"/>
                        </a:lnTo>
                        <a:lnTo>
                          <a:pt x="55" y="15"/>
                        </a:lnTo>
                        <a:lnTo>
                          <a:pt x="6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1" name=""/>
                <p:cNvGrpSpPr/>
                <p:nvPr/>
              </p:nvGrpSpPr>
              <p:grpSpPr>
                <a:xfrm>
                  <a:off x="5734080" y="4089240"/>
                  <a:ext cx="571320" cy="709920"/>
                  <a:chOff x="5734080" y="4089240"/>
                  <a:chExt cx="571320" cy="70992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5734080" y="4089240"/>
                    <a:ext cx="571320" cy="709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80" h="1341">
                        <a:moveTo>
                          <a:pt x="1080" y="1341"/>
                        </a:moveTo>
                        <a:lnTo>
                          <a:pt x="1052" y="1341"/>
                        </a:lnTo>
                        <a:lnTo>
                          <a:pt x="1025" y="1326"/>
                        </a:lnTo>
                        <a:lnTo>
                          <a:pt x="997" y="1309"/>
                        </a:lnTo>
                        <a:lnTo>
                          <a:pt x="983" y="1294"/>
                        </a:lnTo>
                        <a:lnTo>
                          <a:pt x="956" y="1279"/>
                        </a:lnTo>
                        <a:lnTo>
                          <a:pt x="928" y="1262"/>
                        </a:lnTo>
                        <a:lnTo>
                          <a:pt x="900" y="1247"/>
                        </a:lnTo>
                        <a:lnTo>
                          <a:pt x="873" y="1230"/>
                        </a:lnTo>
                        <a:lnTo>
                          <a:pt x="845" y="1215"/>
                        </a:lnTo>
                        <a:lnTo>
                          <a:pt x="831" y="1200"/>
                        </a:lnTo>
                        <a:lnTo>
                          <a:pt x="803" y="1183"/>
                        </a:lnTo>
                        <a:lnTo>
                          <a:pt x="776" y="1151"/>
                        </a:lnTo>
                        <a:lnTo>
                          <a:pt x="748" y="1136"/>
                        </a:lnTo>
                        <a:lnTo>
                          <a:pt x="734" y="1121"/>
                        </a:lnTo>
                        <a:lnTo>
                          <a:pt x="707" y="1104"/>
                        </a:lnTo>
                        <a:lnTo>
                          <a:pt x="679" y="1072"/>
                        </a:lnTo>
                        <a:lnTo>
                          <a:pt x="665" y="1057"/>
                        </a:lnTo>
                        <a:lnTo>
                          <a:pt x="637" y="1042"/>
                        </a:lnTo>
                        <a:lnTo>
                          <a:pt x="610" y="1010"/>
                        </a:lnTo>
                        <a:lnTo>
                          <a:pt x="596" y="994"/>
                        </a:lnTo>
                        <a:lnTo>
                          <a:pt x="568" y="963"/>
                        </a:lnTo>
                        <a:lnTo>
                          <a:pt x="554" y="947"/>
                        </a:lnTo>
                        <a:lnTo>
                          <a:pt x="527" y="915"/>
                        </a:lnTo>
                        <a:lnTo>
                          <a:pt x="499" y="899"/>
                        </a:lnTo>
                        <a:lnTo>
                          <a:pt x="485" y="868"/>
                        </a:lnTo>
                        <a:lnTo>
                          <a:pt x="458" y="852"/>
                        </a:lnTo>
                        <a:lnTo>
                          <a:pt x="442" y="821"/>
                        </a:lnTo>
                        <a:lnTo>
                          <a:pt x="415" y="789"/>
                        </a:lnTo>
                        <a:lnTo>
                          <a:pt x="401" y="774"/>
                        </a:lnTo>
                        <a:lnTo>
                          <a:pt x="387" y="742"/>
                        </a:lnTo>
                        <a:lnTo>
                          <a:pt x="359" y="710"/>
                        </a:lnTo>
                        <a:lnTo>
                          <a:pt x="346" y="695"/>
                        </a:lnTo>
                        <a:lnTo>
                          <a:pt x="332" y="663"/>
                        </a:lnTo>
                        <a:lnTo>
                          <a:pt x="304" y="631"/>
                        </a:lnTo>
                        <a:lnTo>
                          <a:pt x="290" y="616"/>
                        </a:lnTo>
                        <a:lnTo>
                          <a:pt x="276" y="584"/>
                        </a:lnTo>
                        <a:lnTo>
                          <a:pt x="249" y="552"/>
                        </a:lnTo>
                        <a:lnTo>
                          <a:pt x="235" y="520"/>
                        </a:lnTo>
                        <a:lnTo>
                          <a:pt x="221" y="490"/>
                        </a:lnTo>
                        <a:lnTo>
                          <a:pt x="207" y="473"/>
                        </a:lnTo>
                        <a:lnTo>
                          <a:pt x="194" y="441"/>
                        </a:lnTo>
                        <a:lnTo>
                          <a:pt x="166" y="411"/>
                        </a:lnTo>
                        <a:lnTo>
                          <a:pt x="152" y="379"/>
                        </a:lnTo>
                        <a:lnTo>
                          <a:pt x="138" y="347"/>
                        </a:lnTo>
                        <a:lnTo>
                          <a:pt x="124" y="316"/>
                        </a:lnTo>
                        <a:lnTo>
                          <a:pt x="111" y="284"/>
                        </a:lnTo>
                        <a:lnTo>
                          <a:pt x="97" y="269"/>
                        </a:lnTo>
                        <a:lnTo>
                          <a:pt x="83" y="237"/>
                        </a:lnTo>
                        <a:lnTo>
                          <a:pt x="69" y="205"/>
                        </a:lnTo>
                        <a:lnTo>
                          <a:pt x="69" y="174"/>
                        </a:lnTo>
                        <a:lnTo>
                          <a:pt x="55" y="143"/>
                        </a:lnTo>
                        <a:lnTo>
                          <a:pt x="41" y="111"/>
                        </a:lnTo>
                        <a:lnTo>
                          <a:pt x="28" y="79"/>
                        </a:lnTo>
                        <a:lnTo>
                          <a:pt x="14" y="47"/>
                        </a:lnTo>
                        <a:lnTo>
                          <a:pt x="14" y="17"/>
                        </a:lnTo>
                        <a:lnTo>
                          <a:pt x="0" y="0"/>
                        </a:lnTo>
                        <a:lnTo>
                          <a:pt x="1080" y="1341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5734080" y="4089240"/>
                    <a:ext cx="571320" cy="709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80" h="1341">
                        <a:moveTo>
                          <a:pt x="1080" y="1341"/>
                        </a:moveTo>
                        <a:lnTo>
                          <a:pt x="1052" y="1341"/>
                        </a:lnTo>
                        <a:lnTo>
                          <a:pt x="1025" y="1326"/>
                        </a:lnTo>
                        <a:lnTo>
                          <a:pt x="997" y="1309"/>
                        </a:lnTo>
                        <a:lnTo>
                          <a:pt x="983" y="1294"/>
                        </a:lnTo>
                        <a:lnTo>
                          <a:pt x="956" y="1279"/>
                        </a:lnTo>
                        <a:lnTo>
                          <a:pt x="928" y="1262"/>
                        </a:lnTo>
                        <a:lnTo>
                          <a:pt x="900" y="1247"/>
                        </a:lnTo>
                        <a:lnTo>
                          <a:pt x="873" y="1230"/>
                        </a:lnTo>
                        <a:lnTo>
                          <a:pt x="845" y="1215"/>
                        </a:lnTo>
                        <a:lnTo>
                          <a:pt x="831" y="1200"/>
                        </a:lnTo>
                        <a:lnTo>
                          <a:pt x="803" y="1183"/>
                        </a:lnTo>
                        <a:lnTo>
                          <a:pt x="776" y="1151"/>
                        </a:lnTo>
                        <a:lnTo>
                          <a:pt x="748" y="1136"/>
                        </a:lnTo>
                        <a:lnTo>
                          <a:pt x="734" y="1121"/>
                        </a:lnTo>
                        <a:lnTo>
                          <a:pt x="707" y="1104"/>
                        </a:lnTo>
                        <a:lnTo>
                          <a:pt x="679" y="1072"/>
                        </a:lnTo>
                        <a:lnTo>
                          <a:pt x="665" y="1057"/>
                        </a:lnTo>
                        <a:lnTo>
                          <a:pt x="637" y="1042"/>
                        </a:lnTo>
                        <a:lnTo>
                          <a:pt x="610" y="1010"/>
                        </a:lnTo>
                        <a:lnTo>
                          <a:pt x="596" y="994"/>
                        </a:lnTo>
                        <a:lnTo>
                          <a:pt x="568" y="963"/>
                        </a:lnTo>
                        <a:lnTo>
                          <a:pt x="554" y="947"/>
                        </a:lnTo>
                        <a:lnTo>
                          <a:pt x="527" y="915"/>
                        </a:lnTo>
                        <a:lnTo>
                          <a:pt x="499" y="899"/>
                        </a:lnTo>
                        <a:lnTo>
                          <a:pt x="485" y="868"/>
                        </a:lnTo>
                        <a:lnTo>
                          <a:pt x="458" y="852"/>
                        </a:lnTo>
                        <a:lnTo>
                          <a:pt x="442" y="821"/>
                        </a:lnTo>
                        <a:lnTo>
                          <a:pt x="415" y="789"/>
                        </a:lnTo>
                        <a:lnTo>
                          <a:pt x="401" y="774"/>
                        </a:lnTo>
                        <a:lnTo>
                          <a:pt x="387" y="742"/>
                        </a:lnTo>
                        <a:lnTo>
                          <a:pt x="359" y="710"/>
                        </a:lnTo>
                        <a:lnTo>
                          <a:pt x="346" y="695"/>
                        </a:lnTo>
                        <a:lnTo>
                          <a:pt x="332" y="663"/>
                        </a:lnTo>
                        <a:lnTo>
                          <a:pt x="304" y="631"/>
                        </a:lnTo>
                        <a:lnTo>
                          <a:pt x="290" y="616"/>
                        </a:lnTo>
                        <a:lnTo>
                          <a:pt x="276" y="584"/>
                        </a:lnTo>
                        <a:lnTo>
                          <a:pt x="249" y="552"/>
                        </a:lnTo>
                        <a:lnTo>
                          <a:pt x="235" y="520"/>
                        </a:lnTo>
                        <a:lnTo>
                          <a:pt x="221" y="490"/>
                        </a:lnTo>
                        <a:lnTo>
                          <a:pt x="207" y="473"/>
                        </a:lnTo>
                        <a:lnTo>
                          <a:pt x="194" y="441"/>
                        </a:lnTo>
                        <a:lnTo>
                          <a:pt x="166" y="411"/>
                        </a:lnTo>
                        <a:lnTo>
                          <a:pt x="152" y="379"/>
                        </a:lnTo>
                        <a:lnTo>
                          <a:pt x="138" y="347"/>
                        </a:lnTo>
                        <a:lnTo>
                          <a:pt x="124" y="316"/>
                        </a:lnTo>
                        <a:lnTo>
                          <a:pt x="111" y="284"/>
                        </a:lnTo>
                        <a:lnTo>
                          <a:pt x="97" y="269"/>
                        </a:lnTo>
                        <a:lnTo>
                          <a:pt x="83" y="237"/>
                        </a:lnTo>
                        <a:lnTo>
                          <a:pt x="69" y="205"/>
                        </a:lnTo>
                        <a:lnTo>
                          <a:pt x="69" y="174"/>
                        </a:lnTo>
                        <a:lnTo>
                          <a:pt x="55" y="143"/>
                        </a:lnTo>
                        <a:lnTo>
                          <a:pt x="41" y="111"/>
                        </a:lnTo>
                        <a:lnTo>
                          <a:pt x="28" y="79"/>
                        </a:lnTo>
                        <a:lnTo>
                          <a:pt x="14" y="47"/>
                        </a:lnTo>
                        <a:lnTo>
                          <a:pt x="14" y="1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4" name=""/>
                <p:cNvGrpSpPr/>
                <p:nvPr/>
              </p:nvGrpSpPr>
              <p:grpSpPr>
                <a:xfrm>
                  <a:off x="5683320" y="3879720"/>
                  <a:ext cx="50760" cy="209520"/>
                  <a:chOff x="5683320" y="3879720"/>
                  <a:chExt cx="50760" cy="20952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>
                    <a:off x="5683320" y="3879720"/>
                    <a:ext cx="5076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394">
                        <a:moveTo>
                          <a:pt x="97" y="394"/>
                        </a:moveTo>
                        <a:lnTo>
                          <a:pt x="83" y="347"/>
                        </a:lnTo>
                        <a:lnTo>
                          <a:pt x="69" y="315"/>
                        </a:lnTo>
                        <a:lnTo>
                          <a:pt x="69" y="268"/>
                        </a:lnTo>
                        <a:lnTo>
                          <a:pt x="55" y="236"/>
                        </a:lnTo>
                        <a:lnTo>
                          <a:pt x="55" y="189"/>
                        </a:lnTo>
                        <a:lnTo>
                          <a:pt x="42" y="157"/>
                        </a:lnTo>
                        <a:lnTo>
                          <a:pt x="42" y="126"/>
                        </a:lnTo>
                        <a:lnTo>
                          <a:pt x="14" y="79"/>
                        </a:lnTo>
                        <a:lnTo>
                          <a:pt x="14" y="47"/>
                        </a:lnTo>
                        <a:lnTo>
                          <a:pt x="0" y="0"/>
                        </a:lnTo>
                        <a:lnTo>
                          <a:pt x="97" y="394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5683320" y="3879720"/>
                    <a:ext cx="5076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394">
                        <a:moveTo>
                          <a:pt x="97" y="394"/>
                        </a:moveTo>
                        <a:lnTo>
                          <a:pt x="83" y="347"/>
                        </a:lnTo>
                        <a:lnTo>
                          <a:pt x="69" y="315"/>
                        </a:lnTo>
                        <a:lnTo>
                          <a:pt x="69" y="268"/>
                        </a:lnTo>
                        <a:lnTo>
                          <a:pt x="55" y="236"/>
                        </a:lnTo>
                        <a:lnTo>
                          <a:pt x="55" y="189"/>
                        </a:lnTo>
                        <a:lnTo>
                          <a:pt x="42" y="157"/>
                        </a:lnTo>
                        <a:lnTo>
                          <a:pt x="42" y="126"/>
                        </a:lnTo>
                        <a:lnTo>
                          <a:pt x="14" y="79"/>
                        </a:lnTo>
                        <a:lnTo>
                          <a:pt x="14" y="4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5667480" y="3254400"/>
                  <a:ext cx="52200" cy="625320"/>
                  <a:chOff x="5667480" y="3254400"/>
                  <a:chExt cx="52200" cy="62532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>
                    <a:off x="5667480" y="3254400"/>
                    <a:ext cx="52200" cy="6253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183">
                        <a:moveTo>
                          <a:pt x="28" y="1183"/>
                        </a:moveTo>
                        <a:lnTo>
                          <a:pt x="28" y="1151"/>
                        </a:lnTo>
                        <a:lnTo>
                          <a:pt x="28" y="1120"/>
                        </a:lnTo>
                        <a:lnTo>
                          <a:pt x="14" y="1089"/>
                        </a:lnTo>
                        <a:lnTo>
                          <a:pt x="14" y="1057"/>
                        </a:lnTo>
                        <a:lnTo>
                          <a:pt x="14" y="1025"/>
                        </a:lnTo>
                        <a:lnTo>
                          <a:pt x="14" y="978"/>
                        </a:lnTo>
                        <a:lnTo>
                          <a:pt x="14" y="946"/>
                        </a:lnTo>
                        <a:lnTo>
                          <a:pt x="0" y="914"/>
                        </a:lnTo>
                        <a:lnTo>
                          <a:pt x="0" y="884"/>
                        </a:lnTo>
                        <a:lnTo>
                          <a:pt x="0" y="852"/>
                        </a:lnTo>
                        <a:lnTo>
                          <a:pt x="0" y="805"/>
                        </a:lnTo>
                        <a:lnTo>
                          <a:pt x="0" y="773"/>
                        </a:lnTo>
                        <a:lnTo>
                          <a:pt x="0" y="741"/>
                        </a:lnTo>
                        <a:lnTo>
                          <a:pt x="0" y="710"/>
                        </a:lnTo>
                        <a:lnTo>
                          <a:pt x="0" y="662"/>
                        </a:lnTo>
                        <a:lnTo>
                          <a:pt x="0" y="631"/>
                        </a:lnTo>
                        <a:lnTo>
                          <a:pt x="0" y="599"/>
                        </a:lnTo>
                        <a:lnTo>
                          <a:pt x="0" y="552"/>
                        </a:lnTo>
                        <a:lnTo>
                          <a:pt x="0" y="520"/>
                        </a:lnTo>
                        <a:lnTo>
                          <a:pt x="0" y="488"/>
                        </a:lnTo>
                        <a:lnTo>
                          <a:pt x="14" y="458"/>
                        </a:lnTo>
                        <a:lnTo>
                          <a:pt x="14" y="409"/>
                        </a:lnTo>
                        <a:lnTo>
                          <a:pt x="14" y="379"/>
                        </a:lnTo>
                        <a:lnTo>
                          <a:pt x="14" y="347"/>
                        </a:lnTo>
                        <a:lnTo>
                          <a:pt x="28" y="300"/>
                        </a:lnTo>
                        <a:lnTo>
                          <a:pt x="28" y="268"/>
                        </a:lnTo>
                        <a:lnTo>
                          <a:pt x="28" y="236"/>
                        </a:lnTo>
                        <a:lnTo>
                          <a:pt x="42" y="204"/>
                        </a:lnTo>
                        <a:lnTo>
                          <a:pt x="42" y="173"/>
                        </a:lnTo>
                        <a:lnTo>
                          <a:pt x="70" y="126"/>
                        </a:lnTo>
                        <a:lnTo>
                          <a:pt x="70" y="94"/>
                        </a:lnTo>
                        <a:lnTo>
                          <a:pt x="83" y="63"/>
                        </a:lnTo>
                        <a:lnTo>
                          <a:pt x="83" y="32"/>
                        </a:lnTo>
                        <a:lnTo>
                          <a:pt x="97" y="0"/>
                        </a:lnTo>
                        <a:lnTo>
                          <a:pt x="28" y="1183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5667480" y="3254400"/>
                    <a:ext cx="52200" cy="6253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183">
                        <a:moveTo>
                          <a:pt x="28" y="1183"/>
                        </a:moveTo>
                        <a:lnTo>
                          <a:pt x="28" y="1151"/>
                        </a:lnTo>
                        <a:lnTo>
                          <a:pt x="28" y="1120"/>
                        </a:lnTo>
                        <a:lnTo>
                          <a:pt x="14" y="1089"/>
                        </a:lnTo>
                        <a:lnTo>
                          <a:pt x="14" y="1057"/>
                        </a:lnTo>
                        <a:lnTo>
                          <a:pt x="14" y="1025"/>
                        </a:lnTo>
                        <a:lnTo>
                          <a:pt x="14" y="978"/>
                        </a:lnTo>
                        <a:lnTo>
                          <a:pt x="14" y="946"/>
                        </a:lnTo>
                        <a:lnTo>
                          <a:pt x="0" y="914"/>
                        </a:lnTo>
                        <a:lnTo>
                          <a:pt x="0" y="884"/>
                        </a:lnTo>
                        <a:lnTo>
                          <a:pt x="0" y="852"/>
                        </a:lnTo>
                        <a:lnTo>
                          <a:pt x="0" y="805"/>
                        </a:lnTo>
                        <a:lnTo>
                          <a:pt x="0" y="773"/>
                        </a:lnTo>
                        <a:lnTo>
                          <a:pt x="0" y="741"/>
                        </a:lnTo>
                        <a:lnTo>
                          <a:pt x="0" y="710"/>
                        </a:lnTo>
                        <a:lnTo>
                          <a:pt x="0" y="662"/>
                        </a:lnTo>
                        <a:lnTo>
                          <a:pt x="0" y="631"/>
                        </a:lnTo>
                        <a:lnTo>
                          <a:pt x="0" y="599"/>
                        </a:lnTo>
                        <a:lnTo>
                          <a:pt x="0" y="552"/>
                        </a:lnTo>
                        <a:lnTo>
                          <a:pt x="0" y="520"/>
                        </a:lnTo>
                        <a:lnTo>
                          <a:pt x="0" y="488"/>
                        </a:lnTo>
                        <a:lnTo>
                          <a:pt x="14" y="458"/>
                        </a:lnTo>
                        <a:lnTo>
                          <a:pt x="14" y="409"/>
                        </a:lnTo>
                        <a:lnTo>
                          <a:pt x="14" y="379"/>
                        </a:lnTo>
                        <a:lnTo>
                          <a:pt x="14" y="347"/>
                        </a:lnTo>
                        <a:lnTo>
                          <a:pt x="28" y="300"/>
                        </a:lnTo>
                        <a:lnTo>
                          <a:pt x="28" y="268"/>
                        </a:lnTo>
                        <a:lnTo>
                          <a:pt x="28" y="236"/>
                        </a:lnTo>
                        <a:lnTo>
                          <a:pt x="42" y="204"/>
                        </a:lnTo>
                        <a:lnTo>
                          <a:pt x="42" y="173"/>
                        </a:lnTo>
                        <a:lnTo>
                          <a:pt x="70" y="126"/>
                        </a:lnTo>
                        <a:lnTo>
                          <a:pt x="70" y="94"/>
                        </a:lnTo>
                        <a:lnTo>
                          <a:pt x="83" y="63"/>
                        </a:lnTo>
                        <a:lnTo>
                          <a:pt x="83" y="32"/>
                        </a:lnTo>
                        <a:lnTo>
                          <a:pt x="9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5719680" y="2644920"/>
                  <a:ext cx="336600" cy="609480"/>
                  <a:chOff x="5719680" y="2644920"/>
                  <a:chExt cx="336600" cy="60948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>
                    <a:off x="5719680" y="2644920"/>
                    <a:ext cx="336600" cy="609480"/>
                  </a:xfrm>
                  <a:custGeom>
                    <a:avLst/>
                    <a:gdLst/>
                    <a:ahLst/>
                    <a:rect l="l" t="t" r="r" b="b"/>
                    <a:pathLst>
                      <a:path w="638" h="1152">
                        <a:moveTo>
                          <a:pt x="0" y="1152"/>
                        </a:moveTo>
                        <a:lnTo>
                          <a:pt x="0" y="1120"/>
                        </a:lnTo>
                        <a:lnTo>
                          <a:pt x="14" y="1073"/>
                        </a:lnTo>
                        <a:lnTo>
                          <a:pt x="28" y="1041"/>
                        </a:lnTo>
                        <a:lnTo>
                          <a:pt x="42" y="1009"/>
                        </a:lnTo>
                        <a:lnTo>
                          <a:pt x="42" y="979"/>
                        </a:lnTo>
                        <a:lnTo>
                          <a:pt x="56" y="947"/>
                        </a:lnTo>
                        <a:lnTo>
                          <a:pt x="69" y="915"/>
                        </a:lnTo>
                        <a:lnTo>
                          <a:pt x="83" y="883"/>
                        </a:lnTo>
                        <a:lnTo>
                          <a:pt x="97" y="836"/>
                        </a:lnTo>
                        <a:lnTo>
                          <a:pt x="111" y="804"/>
                        </a:lnTo>
                        <a:lnTo>
                          <a:pt x="125" y="773"/>
                        </a:lnTo>
                        <a:lnTo>
                          <a:pt x="139" y="742"/>
                        </a:lnTo>
                        <a:lnTo>
                          <a:pt x="152" y="710"/>
                        </a:lnTo>
                        <a:lnTo>
                          <a:pt x="166" y="678"/>
                        </a:lnTo>
                        <a:lnTo>
                          <a:pt x="180" y="647"/>
                        </a:lnTo>
                        <a:lnTo>
                          <a:pt x="194" y="615"/>
                        </a:lnTo>
                        <a:lnTo>
                          <a:pt x="208" y="584"/>
                        </a:lnTo>
                        <a:lnTo>
                          <a:pt x="222" y="553"/>
                        </a:lnTo>
                        <a:lnTo>
                          <a:pt x="235" y="536"/>
                        </a:lnTo>
                        <a:lnTo>
                          <a:pt x="263" y="505"/>
                        </a:lnTo>
                        <a:lnTo>
                          <a:pt x="277" y="474"/>
                        </a:lnTo>
                        <a:lnTo>
                          <a:pt x="291" y="442"/>
                        </a:lnTo>
                        <a:lnTo>
                          <a:pt x="318" y="410"/>
                        </a:lnTo>
                        <a:lnTo>
                          <a:pt x="332" y="378"/>
                        </a:lnTo>
                        <a:lnTo>
                          <a:pt x="346" y="363"/>
                        </a:lnTo>
                        <a:lnTo>
                          <a:pt x="374" y="331"/>
                        </a:lnTo>
                        <a:lnTo>
                          <a:pt x="387" y="299"/>
                        </a:lnTo>
                        <a:lnTo>
                          <a:pt x="401" y="269"/>
                        </a:lnTo>
                        <a:lnTo>
                          <a:pt x="429" y="252"/>
                        </a:lnTo>
                        <a:lnTo>
                          <a:pt x="443" y="220"/>
                        </a:lnTo>
                        <a:lnTo>
                          <a:pt x="470" y="190"/>
                        </a:lnTo>
                        <a:lnTo>
                          <a:pt x="486" y="173"/>
                        </a:lnTo>
                        <a:lnTo>
                          <a:pt x="513" y="142"/>
                        </a:lnTo>
                        <a:lnTo>
                          <a:pt x="527" y="126"/>
                        </a:lnTo>
                        <a:lnTo>
                          <a:pt x="555" y="95"/>
                        </a:lnTo>
                        <a:lnTo>
                          <a:pt x="569" y="63"/>
                        </a:lnTo>
                        <a:lnTo>
                          <a:pt x="596" y="48"/>
                        </a:lnTo>
                        <a:lnTo>
                          <a:pt x="624" y="16"/>
                        </a:lnTo>
                        <a:lnTo>
                          <a:pt x="638" y="0"/>
                        </a:lnTo>
                        <a:lnTo>
                          <a:pt x="0" y="1152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5719680" y="2644920"/>
                    <a:ext cx="336600" cy="609480"/>
                  </a:xfrm>
                  <a:custGeom>
                    <a:avLst/>
                    <a:gdLst/>
                    <a:ahLst/>
                    <a:rect l="l" t="t" r="r" b="b"/>
                    <a:pathLst>
                      <a:path w="638" h="1152">
                        <a:moveTo>
                          <a:pt x="0" y="1152"/>
                        </a:moveTo>
                        <a:lnTo>
                          <a:pt x="0" y="1120"/>
                        </a:lnTo>
                        <a:lnTo>
                          <a:pt x="14" y="1073"/>
                        </a:lnTo>
                        <a:lnTo>
                          <a:pt x="28" y="1041"/>
                        </a:lnTo>
                        <a:lnTo>
                          <a:pt x="42" y="1009"/>
                        </a:lnTo>
                        <a:lnTo>
                          <a:pt x="42" y="979"/>
                        </a:lnTo>
                        <a:lnTo>
                          <a:pt x="56" y="947"/>
                        </a:lnTo>
                        <a:lnTo>
                          <a:pt x="69" y="915"/>
                        </a:lnTo>
                        <a:lnTo>
                          <a:pt x="83" y="883"/>
                        </a:lnTo>
                        <a:lnTo>
                          <a:pt x="97" y="836"/>
                        </a:lnTo>
                        <a:lnTo>
                          <a:pt x="111" y="804"/>
                        </a:lnTo>
                        <a:lnTo>
                          <a:pt x="125" y="773"/>
                        </a:lnTo>
                        <a:lnTo>
                          <a:pt x="139" y="742"/>
                        </a:lnTo>
                        <a:lnTo>
                          <a:pt x="152" y="710"/>
                        </a:lnTo>
                        <a:lnTo>
                          <a:pt x="166" y="678"/>
                        </a:lnTo>
                        <a:lnTo>
                          <a:pt x="180" y="647"/>
                        </a:lnTo>
                        <a:lnTo>
                          <a:pt x="194" y="615"/>
                        </a:lnTo>
                        <a:lnTo>
                          <a:pt x="208" y="584"/>
                        </a:lnTo>
                        <a:lnTo>
                          <a:pt x="222" y="553"/>
                        </a:lnTo>
                        <a:lnTo>
                          <a:pt x="235" y="536"/>
                        </a:lnTo>
                        <a:lnTo>
                          <a:pt x="263" y="505"/>
                        </a:lnTo>
                        <a:lnTo>
                          <a:pt x="277" y="474"/>
                        </a:lnTo>
                        <a:lnTo>
                          <a:pt x="291" y="442"/>
                        </a:lnTo>
                        <a:lnTo>
                          <a:pt x="318" y="410"/>
                        </a:lnTo>
                        <a:lnTo>
                          <a:pt x="332" y="378"/>
                        </a:lnTo>
                        <a:lnTo>
                          <a:pt x="346" y="363"/>
                        </a:lnTo>
                        <a:lnTo>
                          <a:pt x="374" y="331"/>
                        </a:lnTo>
                        <a:lnTo>
                          <a:pt x="387" y="299"/>
                        </a:lnTo>
                        <a:lnTo>
                          <a:pt x="401" y="269"/>
                        </a:lnTo>
                        <a:lnTo>
                          <a:pt x="429" y="252"/>
                        </a:lnTo>
                        <a:lnTo>
                          <a:pt x="443" y="220"/>
                        </a:lnTo>
                        <a:lnTo>
                          <a:pt x="470" y="190"/>
                        </a:lnTo>
                        <a:lnTo>
                          <a:pt x="486" y="173"/>
                        </a:lnTo>
                        <a:lnTo>
                          <a:pt x="513" y="142"/>
                        </a:lnTo>
                        <a:lnTo>
                          <a:pt x="527" y="126"/>
                        </a:lnTo>
                        <a:lnTo>
                          <a:pt x="555" y="95"/>
                        </a:lnTo>
                        <a:lnTo>
                          <a:pt x="569" y="63"/>
                        </a:lnTo>
                        <a:lnTo>
                          <a:pt x="596" y="48"/>
                        </a:lnTo>
                        <a:lnTo>
                          <a:pt x="624" y="16"/>
                        </a:lnTo>
                        <a:lnTo>
                          <a:pt x="63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" name=""/>
                <p:cNvGrpSpPr/>
                <p:nvPr/>
              </p:nvGrpSpPr>
              <p:grpSpPr>
                <a:xfrm>
                  <a:off x="6056280" y="2511360"/>
                  <a:ext cx="168480" cy="133560"/>
                  <a:chOff x="6056280" y="2511360"/>
                  <a:chExt cx="168480" cy="13356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>
                    <a:off x="6056280" y="2511360"/>
                    <a:ext cx="168480" cy="133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8" h="253">
                        <a:moveTo>
                          <a:pt x="0" y="253"/>
                        </a:moveTo>
                        <a:lnTo>
                          <a:pt x="27" y="222"/>
                        </a:lnTo>
                        <a:lnTo>
                          <a:pt x="55" y="206"/>
                        </a:lnTo>
                        <a:lnTo>
                          <a:pt x="83" y="175"/>
                        </a:lnTo>
                        <a:lnTo>
                          <a:pt x="110" y="143"/>
                        </a:lnTo>
                        <a:lnTo>
                          <a:pt x="138" y="128"/>
                        </a:lnTo>
                        <a:lnTo>
                          <a:pt x="166" y="96"/>
                        </a:lnTo>
                        <a:lnTo>
                          <a:pt x="193" y="79"/>
                        </a:lnTo>
                        <a:lnTo>
                          <a:pt x="221" y="64"/>
                        </a:lnTo>
                        <a:lnTo>
                          <a:pt x="263" y="32"/>
                        </a:lnTo>
                        <a:lnTo>
                          <a:pt x="290" y="17"/>
                        </a:lnTo>
                        <a:lnTo>
                          <a:pt x="318" y="0"/>
                        </a:lnTo>
                        <a:lnTo>
                          <a:pt x="0" y="253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6056280" y="2511360"/>
                    <a:ext cx="168480" cy="133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8" h="253">
                        <a:moveTo>
                          <a:pt x="0" y="253"/>
                        </a:moveTo>
                        <a:lnTo>
                          <a:pt x="27" y="222"/>
                        </a:lnTo>
                        <a:lnTo>
                          <a:pt x="55" y="206"/>
                        </a:lnTo>
                        <a:lnTo>
                          <a:pt x="83" y="175"/>
                        </a:lnTo>
                        <a:lnTo>
                          <a:pt x="110" y="143"/>
                        </a:lnTo>
                        <a:lnTo>
                          <a:pt x="138" y="128"/>
                        </a:lnTo>
                        <a:lnTo>
                          <a:pt x="166" y="96"/>
                        </a:lnTo>
                        <a:lnTo>
                          <a:pt x="193" y="79"/>
                        </a:lnTo>
                        <a:lnTo>
                          <a:pt x="221" y="64"/>
                        </a:lnTo>
                        <a:lnTo>
                          <a:pt x="263" y="32"/>
                        </a:lnTo>
                        <a:lnTo>
                          <a:pt x="290" y="17"/>
                        </a:lnTo>
                        <a:lnTo>
                          <a:pt x="31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6224760" y="2478240"/>
                  <a:ext cx="52200" cy="33120"/>
                  <a:chOff x="6224760" y="2478240"/>
                  <a:chExt cx="52200" cy="3312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>
                    <a:off x="6224760" y="2478240"/>
                    <a:ext cx="5220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62">
                        <a:moveTo>
                          <a:pt x="0" y="62"/>
                        </a:moveTo>
                        <a:lnTo>
                          <a:pt x="28" y="47"/>
                        </a:lnTo>
                        <a:lnTo>
                          <a:pt x="69" y="15"/>
                        </a:lnTo>
                        <a:lnTo>
                          <a:pt x="97" y="0"/>
                        </a:lnTo>
                        <a:lnTo>
                          <a:pt x="0" y="62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6224760" y="2478240"/>
                    <a:ext cx="5220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62">
                        <a:moveTo>
                          <a:pt x="0" y="62"/>
                        </a:moveTo>
                        <a:lnTo>
                          <a:pt x="28" y="47"/>
                        </a:lnTo>
                        <a:lnTo>
                          <a:pt x="69" y="15"/>
                        </a:lnTo>
                        <a:lnTo>
                          <a:pt x="9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9" name=""/>
                <p:cNvGrpSpPr/>
                <p:nvPr/>
              </p:nvGrpSpPr>
              <p:grpSpPr>
                <a:xfrm>
                  <a:off x="6276960" y="2460600"/>
                  <a:ext cx="28440" cy="17640"/>
                  <a:chOff x="6276960" y="2460600"/>
                  <a:chExt cx="28440" cy="1764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>
                    <a:off x="6276960" y="2460600"/>
                    <a:ext cx="284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32">
                        <a:moveTo>
                          <a:pt x="0" y="32"/>
                        </a:moveTo>
                        <a:lnTo>
                          <a:pt x="27" y="15"/>
                        </a:lnTo>
                        <a:lnTo>
                          <a:pt x="41" y="15"/>
                        </a:lnTo>
                        <a:lnTo>
                          <a:pt x="55" y="0"/>
                        </a:lnTo>
                        <a:lnTo>
                          <a:pt x="0" y="32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6276960" y="2460600"/>
                    <a:ext cx="284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32">
                        <a:moveTo>
                          <a:pt x="0" y="32"/>
                        </a:moveTo>
                        <a:lnTo>
                          <a:pt x="27" y="15"/>
                        </a:lnTo>
                        <a:lnTo>
                          <a:pt x="41" y="15"/>
                        </a:lnTo>
                        <a:lnTo>
                          <a:pt x="55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2" name=""/>
                <p:cNvGrpSpPr/>
                <p:nvPr/>
              </p:nvGrpSpPr>
              <p:grpSpPr>
                <a:xfrm>
                  <a:off x="6224760" y="4673520"/>
                  <a:ext cx="168120" cy="125640"/>
                  <a:chOff x="6224760" y="4673520"/>
                  <a:chExt cx="168120" cy="1256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6224760" y="4673520"/>
                    <a:ext cx="16812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318" h="237">
                        <a:moveTo>
                          <a:pt x="318" y="237"/>
                        </a:moveTo>
                        <a:lnTo>
                          <a:pt x="290" y="222"/>
                        </a:lnTo>
                        <a:lnTo>
                          <a:pt x="263" y="205"/>
                        </a:lnTo>
                        <a:lnTo>
                          <a:pt x="235" y="190"/>
                        </a:lnTo>
                        <a:lnTo>
                          <a:pt x="207" y="175"/>
                        </a:lnTo>
                        <a:lnTo>
                          <a:pt x="180" y="158"/>
                        </a:lnTo>
                        <a:lnTo>
                          <a:pt x="152" y="126"/>
                        </a:lnTo>
                        <a:lnTo>
                          <a:pt x="124" y="111"/>
                        </a:lnTo>
                        <a:lnTo>
                          <a:pt x="97" y="96"/>
                        </a:lnTo>
                        <a:lnTo>
                          <a:pt x="69" y="64"/>
                        </a:lnTo>
                        <a:lnTo>
                          <a:pt x="41" y="47"/>
                        </a:lnTo>
                        <a:lnTo>
                          <a:pt x="28" y="32"/>
                        </a:lnTo>
                        <a:lnTo>
                          <a:pt x="0" y="0"/>
                        </a:lnTo>
                        <a:lnTo>
                          <a:pt x="318" y="237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6224760" y="4673520"/>
                    <a:ext cx="16812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318" h="237">
                        <a:moveTo>
                          <a:pt x="318" y="237"/>
                        </a:moveTo>
                        <a:lnTo>
                          <a:pt x="290" y="222"/>
                        </a:lnTo>
                        <a:lnTo>
                          <a:pt x="263" y="205"/>
                        </a:lnTo>
                        <a:lnTo>
                          <a:pt x="235" y="190"/>
                        </a:lnTo>
                        <a:lnTo>
                          <a:pt x="207" y="175"/>
                        </a:lnTo>
                        <a:lnTo>
                          <a:pt x="180" y="158"/>
                        </a:lnTo>
                        <a:lnTo>
                          <a:pt x="152" y="126"/>
                        </a:lnTo>
                        <a:lnTo>
                          <a:pt x="124" y="111"/>
                        </a:lnTo>
                        <a:lnTo>
                          <a:pt x="97" y="96"/>
                        </a:lnTo>
                        <a:lnTo>
                          <a:pt x="69" y="64"/>
                        </a:lnTo>
                        <a:lnTo>
                          <a:pt x="41" y="47"/>
                        </a:lnTo>
                        <a:lnTo>
                          <a:pt x="28" y="3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5894280" y="4089240"/>
                  <a:ext cx="330480" cy="584280"/>
                  <a:chOff x="5894280" y="4089240"/>
                  <a:chExt cx="330480" cy="58428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5894280" y="4089240"/>
                    <a:ext cx="330480" cy="58428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1104">
                        <a:moveTo>
                          <a:pt x="624" y="1104"/>
                        </a:moveTo>
                        <a:lnTo>
                          <a:pt x="596" y="1089"/>
                        </a:lnTo>
                        <a:lnTo>
                          <a:pt x="582" y="1057"/>
                        </a:lnTo>
                        <a:lnTo>
                          <a:pt x="555" y="1042"/>
                        </a:lnTo>
                        <a:lnTo>
                          <a:pt x="541" y="1010"/>
                        </a:lnTo>
                        <a:lnTo>
                          <a:pt x="513" y="994"/>
                        </a:lnTo>
                        <a:lnTo>
                          <a:pt x="499" y="963"/>
                        </a:lnTo>
                        <a:lnTo>
                          <a:pt x="472" y="931"/>
                        </a:lnTo>
                        <a:lnTo>
                          <a:pt x="458" y="915"/>
                        </a:lnTo>
                        <a:lnTo>
                          <a:pt x="430" y="884"/>
                        </a:lnTo>
                        <a:lnTo>
                          <a:pt x="416" y="852"/>
                        </a:lnTo>
                        <a:lnTo>
                          <a:pt x="389" y="836"/>
                        </a:lnTo>
                        <a:lnTo>
                          <a:pt x="375" y="805"/>
                        </a:lnTo>
                        <a:lnTo>
                          <a:pt x="361" y="774"/>
                        </a:lnTo>
                        <a:lnTo>
                          <a:pt x="333" y="742"/>
                        </a:lnTo>
                        <a:lnTo>
                          <a:pt x="320" y="710"/>
                        </a:lnTo>
                        <a:lnTo>
                          <a:pt x="306" y="678"/>
                        </a:lnTo>
                        <a:lnTo>
                          <a:pt x="278" y="663"/>
                        </a:lnTo>
                        <a:lnTo>
                          <a:pt x="264" y="631"/>
                        </a:lnTo>
                        <a:lnTo>
                          <a:pt x="250" y="599"/>
                        </a:lnTo>
                        <a:lnTo>
                          <a:pt x="223" y="569"/>
                        </a:lnTo>
                        <a:lnTo>
                          <a:pt x="209" y="537"/>
                        </a:lnTo>
                        <a:lnTo>
                          <a:pt x="195" y="505"/>
                        </a:lnTo>
                        <a:lnTo>
                          <a:pt x="181" y="473"/>
                        </a:lnTo>
                        <a:lnTo>
                          <a:pt x="168" y="441"/>
                        </a:lnTo>
                        <a:lnTo>
                          <a:pt x="154" y="411"/>
                        </a:lnTo>
                        <a:lnTo>
                          <a:pt x="138" y="379"/>
                        </a:lnTo>
                        <a:lnTo>
                          <a:pt x="125" y="347"/>
                        </a:lnTo>
                        <a:lnTo>
                          <a:pt x="111" y="316"/>
                        </a:lnTo>
                        <a:lnTo>
                          <a:pt x="97" y="284"/>
                        </a:lnTo>
                        <a:lnTo>
                          <a:pt x="83" y="253"/>
                        </a:lnTo>
                        <a:lnTo>
                          <a:pt x="69" y="221"/>
                        </a:lnTo>
                        <a:lnTo>
                          <a:pt x="55" y="190"/>
                        </a:lnTo>
                        <a:lnTo>
                          <a:pt x="42" y="158"/>
                        </a:lnTo>
                        <a:lnTo>
                          <a:pt x="42" y="126"/>
                        </a:lnTo>
                        <a:lnTo>
                          <a:pt x="28" y="79"/>
                        </a:lnTo>
                        <a:lnTo>
                          <a:pt x="14" y="47"/>
                        </a:lnTo>
                        <a:lnTo>
                          <a:pt x="14" y="17"/>
                        </a:lnTo>
                        <a:lnTo>
                          <a:pt x="0" y="0"/>
                        </a:lnTo>
                        <a:lnTo>
                          <a:pt x="624" y="1104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5894280" y="4089240"/>
                    <a:ext cx="330480" cy="58428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1104">
                        <a:moveTo>
                          <a:pt x="624" y="1104"/>
                        </a:moveTo>
                        <a:lnTo>
                          <a:pt x="596" y="1089"/>
                        </a:lnTo>
                        <a:lnTo>
                          <a:pt x="582" y="1057"/>
                        </a:lnTo>
                        <a:lnTo>
                          <a:pt x="555" y="1042"/>
                        </a:lnTo>
                        <a:lnTo>
                          <a:pt x="541" y="1010"/>
                        </a:lnTo>
                        <a:lnTo>
                          <a:pt x="513" y="994"/>
                        </a:lnTo>
                        <a:lnTo>
                          <a:pt x="499" y="963"/>
                        </a:lnTo>
                        <a:lnTo>
                          <a:pt x="472" y="931"/>
                        </a:lnTo>
                        <a:lnTo>
                          <a:pt x="458" y="915"/>
                        </a:lnTo>
                        <a:lnTo>
                          <a:pt x="430" y="884"/>
                        </a:lnTo>
                        <a:lnTo>
                          <a:pt x="416" y="852"/>
                        </a:lnTo>
                        <a:lnTo>
                          <a:pt x="389" y="836"/>
                        </a:lnTo>
                        <a:lnTo>
                          <a:pt x="375" y="805"/>
                        </a:lnTo>
                        <a:lnTo>
                          <a:pt x="361" y="774"/>
                        </a:lnTo>
                        <a:lnTo>
                          <a:pt x="333" y="742"/>
                        </a:lnTo>
                        <a:lnTo>
                          <a:pt x="320" y="710"/>
                        </a:lnTo>
                        <a:lnTo>
                          <a:pt x="306" y="678"/>
                        </a:lnTo>
                        <a:lnTo>
                          <a:pt x="278" y="663"/>
                        </a:lnTo>
                        <a:lnTo>
                          <a:pt x="264" y="631"/>
                        </a:lnTo>
                        <a:lnTo>
                          <a:pt x="250" y="599"/>
                        </a:lnTo>
                        <a:lnTo>
                          <a:pt x="223" y="569"/>
                        </a:lnTo>
                        <a:lnTo>
                          <a:pt x="209" y="537"/>
                        </a:lnTo>
                        <a:lnTo>
                          <a:pt x="195" y="505"/>
                        </a:lnTo>
                        <a:lnTo>
                          <a:pt x="181" y="473"/>
                        </a:lnTo>
                        <a:lnTo>
                          <a:pt x="168" y="441"/>
                        </a:lnTo>
                        <a:lnTo>
                          <a:pt x="154" y="411"/>
                        </a:lnTo>
                        <a:lnTo>
                          <a:pt x="138" y="379"/>
                        </a:lnTo>
                        <a:lnTo>
                          <a:pt x="125" y="347"/>
                        </a:lnTo>
                        <a:lnTo>
                          <a:pt x="111" y="316"/>
                        </a:lnTo>
                        <a:lnTo>
                          <a:pt x="97" y="284"/>
                        </a:lnTo>
                        <a:lnTo>
                          <a:pt x="83" y="253"/>
                        </a:lnTo>
                        <a:lnTo>
                          <a:pt x="69" y="221"/>
                        </a:lnTo>
                        <a:lnTo>
                          <a:pt x="55" y="190"/>
                        </a:lnTo>
                        <a:lnTo>
                          <a:pt x="42" y="158"/>
                        </a:lnTo>
                        <a:lnTo>
                          <a:pt x="42" y="126"/>
                        </a:lnTo>
                        <a:lnTo>
                          <a:pt x="28" y="79"/>
                        </a:lnTo>
                        <a:lnTo>
                          <a:pt x="14" y="47"/>
                        </a:lnTo>
                        <a:lnTo>
                          <a:pt x="14" y="1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5843520" y="3213000"/>
                  <a:ext cx="50760" cy="876240"/>
                  <a:chOff x="5843520" y="3213000"/>
                  <a:chExt cx="50760" cy="87624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5843520" y="3213000"/>
                    <a:ext cx="50760" cy="8762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656">
                        <a:moveTo>
                          <a:pt x="97" y="1656"/>
                        </a:moveTo>
                        <a:lnTo>
                          <a:pt x="83" y="1609"/>
                        </a:lnTo>
                        <a:lnTo>
                          <a:pt x="83" y="1577"/>
                        </a:lnTo>
                        <a:lnTo>
                          <a:pt x="69" y="1545"/>
                        </a:lnTo>
                        <a:lnTo>
                          <a:pt x="69" y="1515"/>
                        </a:lnTo>
                        <a:lnTo>
                          <a:pt x="56" y="1483"/>
                        </a:lnTo>
                        <a:lnTo>
                          <a:pt x="56" y="1451"/>
                        </a:lnTo>
                        <a:lnTo>
                          <a:pt x="42" y="1419"/>
                        </a:lnTo>
                        <a:lnTo>
                          <a:pt x="42" y="1388"/>
                        </a:lnTo>
                        <a:lnTo>
                          <a:pt x="42" y="1341"/>
                        </a:lnTo>
                        <a:lnTo>
                          <a:pt x="28" y="1309"/>
                        </a:lnTo>
                        <a:lnTo>
                          <a:pt x="28" y="1278"/>
                        </a:lnTo>
                        <a:lnTo>
                          <a:pt x="28" y="1247"/>
                        </a:lnTo>
                        <a:lnTo>
                          <a:pt x="14" y="1215"/>
                        </a:lnTo>
                        <a:lnTo>
                          <a:pt x="14" y="1168"/>
                        </a:lnTo>
                        <a:lnTo>
                          <a:pt x="14" y="1136"/>
                        </a:lnTo>
                        <a:lnTo>
                          <a:pt x="14" y="1104"/>
                        </a:lnTo>
                        <a:lnTo>
                          <a:pt x="14" y="1072"/>
                        </a:lnTo>
                        <a:lnTo>
                          <a:pt x="0" y="1042"/>
                        </a:lnTo>
                        <a:lnTo>
                          <a:pt x="0" y="993"/>
                        </a:lnTo>
                        <a:lnTo>
                          <a:pt x="0" y="963"/>
                        </a:lnTo>
                        <a:lnTo>
                          <a:pt x="0" y="931"/>
                        </a:lnTo>
                        <a:lnTo>
                          <a:pt x="0" y="899"/>
                        </a:lnTo>
                        <a:lnTo>
                          <a:pt x="0" y="852"/>
                        </a:lnTo>
                        <a:lnTo>
                          <a:pt x="0" y="820"/>
                        </a:lnTo>
                        <a:lnTo>
                          <a:pt x="0" y="789"/>
                        </a:lnTo>
                        <a:lnTo>
                          <a:pt x="0" y="757"/>
                        </a:lnTo>
                        <a:lnTo>
                          <a:pt x="0" y="725"/>
                        </a:lnTo>
                        <a:lnTo>
                          <a:pt x="0" y="678"/>
                        </a:lnTo>
                        <a:lnTo>
                          <a:pt x="0" y="646"/>
                        </a:lnTo>
                        <a:lnTo>
                          <a:pt x="0" y="616"/>
                        </a:lnTo>
                        <a:lnTo>
                          <a:pt x="0" y="584"/>
                        </a:lnTo>
                        <a:lnTo>
                          <a:pt x="14" y="537"/>
                        </a:lnTo>
                        <a:lnTo>
                          <a:pt x="14" y="505"/>
                        </a:lnTo>
                        <a:lnTo>
                          <a:pt x="14" y="473"/>
                        </a:lnTo>
                        <a:lnTo>
                          <a:pt x="14" y="441"/>
                        </a:lnTo>
                        <a:lnTo>
                          <a:pt x="14" y="409"/>
                        </a:lnTo>
                        <a:lnTo>
                          <a:pt x="28" y="362"/>
                        </a:lnTo>
                        <a:lnTo>
                          <a:pt x="28" y="331"/>
                        </a:lnTo>
                        <a:lnTo>
                          <a:pt x="28" y="300"/>
                        </a:lnTo>
                        <a:lnTo>
                          <a:pt x="42" y="268"/>
                        </a:lnTo>
                        <a:lnTo>
                          <a:pt x="42" y="236"/>
                        </a:lnTo>
                        <a:lnTo>
                          <a:pt x="42" y="205"/>
                        </a:lnTo>
                        <a:lnTo>
                          <a:pt x="56" y="158"/>
                        </a:lnTo>
                        <a:lnTo>
                          <a:pt x="56" y="126"/>
                        </a:lnTo>
                        <a:lnTo>
                          <a:pt x="69" y="94"/>
                        </a:lnTo>
                        <a:lnTo>
                          <a:pt x="69" y="63"/>
                        </a:lnTo>
                        <a:lnTo>
                          <a:pt x="83" y="32"/>
                        </a:lnTo>
                        <a:lnTo>
                          <a:pt x="83" y="0"/>
                        </a:lnTo>
                        <a:lnTo>
                          <a:pt x="97" y="1656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5843520" y="3213000"/>
                    <a:ext cx="50760" cy="8762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656">
                        <a:moveTo>
                          <a:pt x="97" y="1656"/>
                        </a:moveTo>
                        <a:lnTo>
                          <a:pt x="83" y="1609"/>
                        </a:lnTo>
                        <a:lnTo>
                          <a:pt x="83" y="1577"/>
                        </a:lnTo>
                        <a:lnTo>
                          <a:pt x="69" y="1545"/>
                        </a:lnTo>
                        <a:lnTo>
                          <a:pt x="69" y="1515"/>
                        </a:lnTo>
                        <a:lnTo>
                          <a:pt x="56" y="1483"/>
                        </a:lnTo>
                        <a:lnTo>
                          <a:pt x="56" y="1451"/>
                        </a:lnTo>
                        <a:lnTo>
                          <a:pt x="42" y="1419"/>
                        </a:lnTo>
                        <a:lnTo>
                          <a:pt x="42" y="1388"/>
                        </a:lnTo>
                        <a:lnTo>
                          <a:pt x="42" y="1341"/>
                        </a:lnTo>
                        <a:lnTo>
                          <a:pt x="28" y="1309"/>
                        </a:lnTo>
                        <a:lnTo>
                          <a:pt x="28" y="1278"/>
                        </a:lnTo>
                        <a:lnTo>
                          <a:pt x="28" y="1247"/>
                        </a:lnTo>
                        <a:lnTo>
                          <a:pt x="14" y="1215"/>
                        </a:lnTo>
                        <a:lnTo>
                          <a:pt x="14" y="1168"/>
                        </a:lnTo>
                        <a:lnTo>
                          <a:pt x="14" y="1136"/>
                        </a:lnTo>
                        <a:lnTo>
                          <a:pt x="14" y="1104"/>
                        </a:lnTo>
                        <a:lnTo>
                          <a:pt x="14" y="1072"/>
                        </a:lnTo>
                        <a:lnTo>
                          <a:pt x="0" y="1042"/>
                        </a:lnTo>
                        <a:lnTo>
                          <a:pt x="0" y="993"/>
                        </a:lnTo>
                        <a:lnTo>
                          <a:pt x="0" y="963"/>
                        </a:lnTo>
                        <a:lnTo>
                          <a:pt x="0" y="931"/>
                        </a:lnTo>
                        <a:lnTo>
                          <a:pt x="0" y="899"/>
                        </a:lnTo>
                        <a:lnTo>
                          <a:pt x="0" y="852"/>
                        </a:lnTo>
                        <a:lnTo>
                          <a:pt x="0" y="820"/>
                        </a:lnTo>
                        <a:lnTo>
                          <a:pt x="0" y="789"/>
                        </a:lnTo>
                        <a:lnTo>
                          <a:pt x="0" y="757"/>
                        </a:lnTo>
                        <a:lnTo>
                          <a:pt x="0" y="725"/>
                        </a:lnTo>
                        <a:lnTo>
                          <a:pt x="0" y="678"/>
                        </a:lnTo>
                        <a:lnTo>
                          <a:pt x="0" y="646"/>
                        </a:lnTo>
                        <a:lnTo>
                          <a:pt x="0" y="616"/>
                        </a:lnTo>
                        <a:lnTo>
                          <a:pt x="0" y="584"/>
                        </a:lnTo>
                        <a:lnTo>
                          <a:pt x="14" y="537"/>
                        </a:lnTo>
                        <a:lnTo>
                          <a:pt x="14" y="505"/>
                        </a:lnTo>
                        <a:lnTo>
                          <a:pt x="14" y="473"/>
                        </a:lnTo>
                        <a:lnTo>
                          <a:pt x="14" y="441"/>
                        </a:lnTo>
                        <a:lnTo>
                          <a:pt x="14" y="409"/>
                        </a:lnTo>
                        <a:lnTo>
                          <a:pt x="28" y="362"/>
                        </a:lnTo>
                        <a:lnTo>
                          <a:pt x="28" y="331"/>
                        </a:lnTo>
                        <a:lnTo>
                          <a:pt x="28" y="300"/>
                        </a:lnTo>
                        <a:lnTo>
                          <a:pt x="42" y="268"/>
                        </a:lnTo>
                        <a:lnTo>
                          <a:pt x="42" y="236"/>
                        </a:lnTo>
                        <a:lnTo>
                          <a:pt x="42" y="205"/>
                        </a:lnTo>
                        <a:lnTo>
                          <a:pt x="56" y="158"/>
                        </a:lnTo>
                        <a:lnTo>
                          <a:pt x="56" y="126"/>
                        </a:lnTo>
                        <a:lnTo>
                          <a:pt x="69" y="94"/>
                        </a:lnTo>
                        <a:lnTo>
                          <a:pt x="69" y="63"/>
                        </a:lnTo>
                        <a:lnTo>
                          <a:pt x="83" y="32"/>
                        </a:lnTo>
                        <a:lnTo>
                          <a:pt x="8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5888160" y="2644920"/>
                  <a:ext cx="293400" cy="568080"/>
                  <a:chOff x="5888160" y="2644920"/>
                  <a:chExt cx="293400" cy="56808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>
                    <a:off x="5888160" y="2644920"/>
                    <a:ext cx="293400" cy="568080"/>
                  </a:xfrm>
                  <a:custGeom>
                    <a:avLst/>
                    <a:gdLst/>
                    <a:ahLst/>
                    <a:rect l="l" t="t" r="r" b="b"/>
                    <a:pathLst>
                      <a:path w="555" h="1073">
                        <a:moveTo>
                          <a:pt x="0" y="1073"/>
                        </a:moveTo>
                        <a:lnTo>
                          <a:pt x="14" y="1041"/>
                        </a:lnTo>
                        <a:lnTo>
                          <a:pt x="14" y="1009"/>
                        </a:lnTo>
                        <a:lnTo>
                          <a:pt x="28" y="979"/>
                        </a:lnTo>
                        <a:lnTo>
                          <a:pt x="42" y="947"/>
                        </a:lnTo>
                        <a:lnTo>
                          <a:pt x="42" y="915"/>
                        </a:lnTo>
                        <a:lnTo>
                          <a:pt x="56" y="883"/>
                        </a:lnTo>
                        <a:lnTo>
                          <a:pt x="69" y="836"/>
                        </a:lnTo>
                        <a:lnTo>
                          <a:pt x="83" y="804"/>
                        </a:lnTo>
                        <a:lnTo>
                          <a:pt x="97" y="773"/>
                        </a:lnTo>
                        <a:lnTo>
                          <a:pt x="97" y="742"/>
                        </a:lnTo>
                        <a:lnTo>
                          <a:pt x="111" y="710"/>
                        </a:lnTo>
                        <a:lnTo>
                          <a:pt x="125" y="678"/>
                        </a:lnTo>
                        <a:lnTo>
                          <a:pt x="139" y="647"/>
                        </a:lnTo>
                        <a:lnTo>
                          <a:pt x="152" y="615"/>
                        </a:lnTo>
                        <a:lnTo>
                          <a:pt x="168" y="584"/>
                        </a:lnTo>
                        <a:lnTo>
                          <a:pt x="182" y="553"/>
                        </a:lnTo>
                        <a:lnTo>
                          <a:pt x="209" y="521"/>
                        </a:lnTo>
                        <a:lnTo>
                          <a:pt x="223" y="489"/>
                        </a:lnTo>
                        <a:lnTo>
                          <a:pt x="237" y="457"/>
                        </a:lnTo>
                        <a:lnTo>
                          <a:pt x="251" y="427"/>
                        </a:lnTo>
                        <a:lnTo>
                          <a:pt x="264" y="395"/>
                        </a:lnTo>
                        <a:lnTo>
                          <a:pt x="292" y="363"/>
                        </a:lnTo>
                        <a:lnTo>
                          <a:pt x="306" y="348"/>
                        </a:lnTo>
                        <a:lnTo>
                          <a:pt x="320" y="316"/>
                        </a:lnTo>
                        <a:lnTo>
                          <a:pt x="334" y="284"/>
                        </a:lnTo>
                        <a:lnTo>
                          <a:pt x="361" y="252"/>
                        </a:lnTo>
                        <a:lnTo>
                          <a:pt x="375" y="237"/>
                        </a:lnTo>
                        <a:lnTo>
                          <a:pt x="389" y="205"/>
                        </a:lnTo>
                        <a:lnTo>
                          <a:pt x="417" y="173"/>
                        </a:lnTo>
                        <a:lnTo>
                          <a:pt x="430" y="142"/>
                        </a:lnTo>
                        <a:lnTo>
                          <a:pt x="444" y="126"/>
                        </a:lnTo>
                        <a:lnTo>
                          <a:pt x="472" y="95"/>
                        </a:lnTo>
                        <a:lnTo>
                          <a:pt x="486" y="79"/>
                        </a:lnTo>
                        <a:lnTo>
                          <a:pt x="513" y="48"/>
                        </a:lnTo>
                        <a:lnTo>
                          <a:pt x="527" y="16"/>
                        </a:lnTo>
                        <a:lnTo>
                          <a:pt x="555" y="0"/>
                        </a:lnTo>
                        <a:lnTo>
                          <a:pt x="0" y="1073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5888160" y="2644920"/>
                    <a:ext cx="293400" cy="568080"/>
                  </a:xfrm>
                  <a:custGeom>
                    <a:avLst/>
                    <a:gdLst/>
                    <a:ahLst/>
                    <a:rect l="l" t="t" r="r" b="b"/>
                    <a:pathLst>
                      <a:path w="555" h="1073">
                        <a:moveTo>
                          <a:pt x="0" y="1073"/>
                        </a:moveTo>
                        <a:lnTo>
                          <a:pt x="14" y="1041"/>
                        </a:lnTo>
                        <a:lnTo>
                          <a:pt x="14" y="1009"/>
                        </a:lnTo>
                        <a:lnTo>
                          <a:pt x="28" y="979"/>
                        </a:lnTo>
                        <a:lnTo>
                          <a:pt x="42" y="947"/>
                        </a:lnTo>
                        <a:lnTo>
                          <a:pt x="42" y="915"/>
                        </a:lnTo>
                        <a:lnTo>
                          <a:pt x="56" y="883"/>
                        </a:lnTo>
                        <a:lnTo>
                          <a:pt x="69" y="836"/>
                        </a:lnTo>
                        <a:lnTo>
                          <a:pt x="83" y="804"/>
                        </a:lnTo>
                        <a:lnTo>
                          <a:pt x="97" y="773"/>
                        </a:lnTo>
                        <a:lnTo>
                          <a:pt x="97" y="742"/>
                        </a:lnTo>
                        <a:lnTo>
                          <a:pt x="111" y="710"/>
                        </a:lnTo>
                        <a:lnTo>
                          <a:pt x="125" y="678"/>
                        </a:lnTo>
                        <a:lnTo>
                          <a:pt x="139" y="647"/>
                        </a:lnTo>
                        <a:lnTo>
                          <a:pt x="152" y="615"/>
                        </a:lnTo>
                        <a:lnTo>
                          <a:pt x="168" y="584"/>
                        </a:lnTo>
                        <a:lnTo>
                          <a:pt x="182" y="553"/>
                        </a:lnTo>
                        <a:lnTo>
                          <a:pt x="209" y="521"/>
                        </a:lnTo>
                        <a:lnTo>
                          <a:pt x="223" y="489"/>
                        </a:lnTo>
                        <a:lnTo>
                          <a:pt x="237" y="457"/>
                        </a:lnTo>
                        <a:lnTo>
                          <a:pt x="251" y="427"/>
                        </a:lnTo>
                        <a:lnTo>
                          <a:pt x="264" y="395"/>
                        </a:lnTo>
                        <a:lnTo>
                          <a:pt x="292" y="363"/>
                        </a:lnTo>
                        <a:lnTo>
                          <a:pt x="306" y="348"/>
                        </a:lnTo>
                        <a:lnTo>
                          <a:pt x="320" y="316"/>
                        </a:lnTo>
                        <a:lnTo>
                          <a:pt x="334" y="284"/>
                        </a:lnTo>
                        <a:lnTo>
                          <a:pt x="361" y="252"/>
                        </a:lnTo>
                        <a:lnTo>
                          <a:pt x="375" y="237"/>
                        </a:lnTo>
                        <a:lnTo>
                          <a:pt x="389" y="205"/>
                        </a:lnTo>
                        <a:lnTo>
                          <a:pt x="417" y="173"/>
                        </a:lnTo>
                        <a:lnTo>
                          <a:pt x="430" y="142"/>
                        </a:lnTo>
                        <a:lnTo>
                          <a:pt x="444" y="126"/>
                        </a:lnTo>
                        <a:lnTo>
                          <a:pt x="472" y="95"/>
                        </a:lnTo>
                        <a:lnTo>
                          <a:pt x="486" y="79"/>
                        </a:lnTo>
                        <a:lnTo>
                          <a:pt x="513" y="48"/>
                        </a:lnTo>
                        <a:lnTo>
                          <a:pt x="527" y="16"/>
                        </a:lnTo>
                        <a:lnTo>
                          <a:pt x="555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6181560" y="2511360"/>
                  <a:ext cx="146160" cy="133560"/>
                  <a:chOff x="6181560" y="2511360"/>
                  <a:chExt cx="146160" cy="13356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6181560" y="2511360"/>
                    <a:ext cx="146160" cy="133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7" h="253">
                        <a:moveTo>
                          <a:pt x="0" y="253"/>
                        </a:moveTo>
                        <a:lnTo>
                          <a:pt x="14" y="222"/>
                        </a:lnTo>
                        <a:lnTo>
                          <a:pt x="41" y="190"/>
                        </a:lnTo>
                        <a:lnTo>
                          <a:pt x="69" y="175"/>
                        </a:lnTo>
                        <a:lnTo>
                          <a:pt x="97" y="143"/>
                        </a:lnTo>
                        <a:lnTo>
                          <a:pt x="124" y="111"/>
                        </a:lnTo>
                        <a:lnTo>
                          <a:pt x="152" y="96"/>
                        </a:lnTo>
                        <a:lnTo>
                          <a:pt x="180" y="64"/>
                        </a:lnTo>
                        <a:lnTo>
                          <a:pt x="207" y="49"/>
                        </a:lnTo>
                        <a:lnTo>
                          <a:pt x="235" y="17"/>
                        </a:lnTo>
                        <a:lnTo>
                          <a:pt x="277" y="0"/>
                        </a:lnTo>
                        <a:lnTo>
                          <a:pt x="0" y="253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6181560" y="2511360"/>
                    <a:ext cx="146160" cy="133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7" h="253">
                        <a:moveTo>
                          <a:pt x="0" y="253"/>
                        </a:moveTo>
                        <a:lnTo>
                          <a:pt x="14" y="222"/>
                        </a:lnTo>
                        <a:lnTo>
                          <a:pt x="41" y="190"/>
                        </a:lnTo>
                        <a:lnTo>
                          <a:pt x="69" y="175"/>
                        </a:lnTo>
                        <a:lnTo>
                          <a:pt x="97" y="143"/>
                        </a:lnTo>
                        <a:lnTo>
                          <a:pt x="124" y="111"/>
                        </a:lnTo>
                        <a:lnTo>
                          <a:pt x="152" y="96"/>
                        </a:lnTo>
                        <a:lnTo>
                          <a:pt x="180" y="64"/>
                        </a:lnTo>
                        <a:lnTo>
                          <a:pt x="207" y="49"/>
                        </a:lnTo>
                        <a:lnTo>
                          <a:pt x="235" y="17"/>
                        </a:lnTo>
                        <a:lnTo>
                          <a:pt x="27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6327720" y="2478240"/>
                  <a:ext cx="44640" cy="33120"/>
                  <a:chOff x="6327720" y="2478240"/>
                  <a:chExt cx="44640" cy="3312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>
                    <a:off x="6327720" y="2478240"/>
                    <a:ext cx="4464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62">
                        <a:moveTo>
                          <a:pt x="0" y="62"/>
                        </a:moveTo>
                        <a:lnTo>
                          <a:pt x="27" y="47"/>
                        </a:lnTo>
                        <a:lnTo>
                          <a:pt x="55" y="15"/>
                        </a:lnTo>
                        <a:lnTo>
                          <a:pt x="83" y="0"/>
                        </a:lnTo>
                        <a:lnTo>
                          <a:pt x="0" y="62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6327720" y="2478240"/>
                    <a:ext cx="4464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62">
                        <a:moveTo>
                          <a:pt x="0" y="62"/>
                        </a:moveTo>
                        <a:lnTo>
                          <a:pt x="27" y="47"/>
                        </a:lnTo>
                        <a:lnTo>
                          <a:pt x="55" y="15"/>
                        </a:lnTo>
                        <a:lnTo>
                          <a:pt x="8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6372360" y="2460600"/>
                  <a:ext cx="20520" cy="17640"/>
                  <a:chOff x="6372360" y="2460600"/>
                  <a:chExt cx="20520" cy="1764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6372360" y="2460600"/>
                    <a:ext cx="205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2">
                        <a:moveTo>
                          <a:pt x="0" y="32"/>
                        </a:moveTo>
                        <a:lnTo>
                          <a:pt x="13" y="15"/>
                        </a:lnTo>
                        <a:lnTo>
                          <a:pt x="41" y="15"/>
                        </a:lnTo>
                        <a:lnTo>
                          <a:pt x="41" y="0"/>
                        </a:lnTo>
                        <a:lnTo>
                          <a:pt x="0" y="32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6372360" y="2460600"/>
                    <a:ext cx="205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2">
                        <a:moveTo>
                          <a:pt x="0" y="32"/>
                        </a:moveTo>
                        <a:lnTo>
                          <a:pt x="13" y="15"/>
                        </a:lnTo>
                        <a:lnTo>
                          <a:pt x="41" y="15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6041880" y="4022640"/>
                  <a:ext cx="439920" cy="776520"/>
                  <a:chOff x="6041880" y="4022640"/>
                  <a:chExt cx="439920" cy="7765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6041880" y="4022640"/>
                    <a:ext cx="439920" cy="776520"/>
                  </a:xfrm>
                  <a:custGeom>
                    <a:avLst/>
                    <a:gdLst/>
                    <a:ahLst/>
                    <a:rect l="l" t="t" r="r" b="b"/>
                    <a:pathLst>
                      <a:path w="831" h="1467">
                        <a:moveTo>
                          <a:pt x="831" y="1467"/>
                        </a:moveTo>
                        <a:lnTo>
                          <a:pt x="818" y="1452"/>
                        </a:lnTo>
                        <a:lnTo>
                          <a:pt x="790" y="1435"/>
                        </a:lnTo>
                        <a:lnTo>
                          <a:pt x="762" y="1420"/>
                        </a:lnTo>
                        <a:lnTo>
                          <a:pt x="735" y="1405"/>
                        </a:lnTo>
                        <a:lnTo>
                          <a:pt x="721" y="1388"/>
                        </a:lnTo>
                        <a:lnTo>
                          <a:pt x="693" y="1356"/>
                        </a:lnTo>
                        <a:lnTo>
                          <a:pt x="664" y="1341"/>
                        </a:lnTo>
                        <a:lnTo>
                          <a:pt x="650" y="1326"/>
                        </a:lnTo>
                        <a:lnTo>
                          <a:pt x="623" y="1294"/>
                        </a:lnTo>
                        <a:lnTo>
                          <a:pt x="609" y="1277"/>
                        </a:lnTo>
                        <a:lnTo>
                          <a:pt x="581" y="1247"/>
                        </a:lnTo>
                        <a:lnTo>
                          <a:pt x="567" y="1230"/>
                        </a:lnTo>
                        <a:lnTo>
                          <a:pt x="540" y="1198"/>
                        </a:lnTo>
                        <a:lnTo>
                          <a:pt x="526" y="1183"/>
                        </a:lnTo>
                        <a:lnTo>
                          <a:pt x="498" y="1151"/>
                        </a:lnTo>
                        <a:lnTo>
                          <a:pt x="484" y="1136"/>
                        </a:lnTo>
                        <a:lnTo>
                          <a:pt x="457" y="1104"/>
                        </a:lnTo>
                        <a:lnTo>
                          <a:pt x="443" y="1073"/>
                        </a:lnTo>
                        <a:lnTo>
                          <a:pt x="429" y="1057"/>
                        </a:lnTo>
                        <a:lnTo>
                          <a:pt x="401" y="1025"/>
                        </a:lnTo>
                        <a:lnTo>
                          <a:pt x="387" y="994"/>
                        </a:lnTo>
                        <a:lnTo>
                          <a:pt x="374" y="962"/>
                        </a:lnTo>
                        <a:lnTo>
                          <a:pt x="346" y="931"/>
                        </a:lnTo>
                        <a:lnTo>
                          <a:pt x="332" y="915"/>
                        </a:lnTo>
                        <a:lnTo>
                          <a:pt x="318" y="883"/>
                        </a:lnTo>
                        <a:lnTo>
                          <a:pt x="304" y="853"/>
                        </a:lnTo>
                        <a:lnTo>
                          <a:pt x="291" y="821"/>
                        </a:lnTo>
                        <a:lnTo>
                          <a:pt x="277" y="789"/>
                        </a:lnTo>
                        <a:lnTo>
                          <a:pt x="249" y="757"/>
                        </a:lnTo>
                        <a:lnTo>
                          <a:pt x="235" y="725"/>
                        </a:lnTo>
                        <a:lnTo>
                          <a:pt x="221" y="695"/>
                        </a:lnTo>
                        <a:lnTo>
                          <a:pt x="208" y="663"/>
                        </a:lnTo>
                        <a:lnTo>
                          <a:pt x="194" y="631"/>
                        </a:lnTo>
                        <a:lnTo>
                          <a:pt x="180" y="599"/>
                        </a:lnTo>
                        <a:lnTo>
                          <a:pt x="166" y="567"/>
                        </a:lnTo>
                        <a:lnTo>
                          <a:pt x="166" y="537"/>
                        </a:lnTo>
                        <a:lnTo>
                          <a:pt x="152" y="505"/>
                        </a:lnTo>
                        <a:lnTo>
                          <a:pt x="138" y="473"/>
                        </a:lnTo>
                        <a:lnTo>
                          <a:pt x="125" y="442"/>
                        </a:lnTo>
                        <a:lnTo>
                          <a:pt x="111" y="410"/>
                        </a:lnTo>
                        <a:lnTo>
                          <a:pt x="97" y="379"/>
                        </a:lnTo>
                        <a:lnTo>
                          <a:pt x="97" y="347"/>
                        </a:lnTo>
                        <a:lnTo>
                          <a:pt x="83" y="316"/>
                        </a:lnTo>
                        <a:lnTo>
                          <a:pt x="69" y="284"/>
                        </a:lnTo>
                        <a:lnTo>
                          <a:pt x="69" y="252"/>
                        </a:lnTo>
                        <a:lnTo>
                          <a:pt x="55" y="222"/>
                        </a:lnTo>
                        <a:lnTo>
                          <a:pt x="42" y="190"/>
                        </a:lnTo>
                        <a:lnTo>
                          <a:pt x="42" y="158"/>
                        </a:lnTo>
                        <a:lnTo>
                          <a:pt x="28" y="126"/>
                        </a:lnTo>
                        <a:lnTo>
                          <a:pt x="28" y="94"/>
                        </a:lnTo>
                        <a:lnTo>
                          <a:pt x="14" y="64"/>
                        </a:lnTo>
                        <a:lnTo>
                          <a:pt x="14" y="32"/>
                        </a:lnTo>
                        <a:lnTo>
                          <a:pt x="0" y="0"/>
                        </a:lnTo>
                        <a:lnTo>
                          <a:pt x="831" y="1467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041880" y="4022640"/>
                    <a:ext cx="439920" cy="776520"/>
                  </a:xfrm>
                  <a:custGeom>
                    <a:avLst/>
                    <a:gdLst/>
                    <a:ahLst/>
                    <a:rect l="l" t="t" r="r" b="b"/>
                    <a:pathLst>
                      <a:path w="831" h="1467">
                        <a:moveTo>
                          <a:pt x="831" y="1467"/>
                        </a:moveTo>
                        <a:lnTo>
                          <a:pt x="818" y="1452"/>
                        </a:lnTo>
                        <a:lnTo>
                          <a:pt x="790" y="1435"/>
                        </a:lnTo>
                        <a:lnTo>
                          <a:pt x="762" y="1420"/>
                        </a:lnTo>
                        <a:lnTo>
                          <a:pt x="735" y="1405"/>
                        </a:lnTo>
                        <a:lnTo>
                          <a:pt x="721" y="1388"/>
                        </a:lnTo>
                        <a:lnTo>
                          <a:pt x="693" y="1356"/>
                        </a:lnTo>
                        <a:lnTo>
                          <a:pt x="664" y="1341"/>
                        </a:lnTo>
                        <a:lnTo>
                          <a:pt x="650" y="1326"/>
                        </a:lnTo>
                        <a:lnTo>
                          <a:pt x="623" y="1294"/>
                        </a:lnTo>
                        <a:lnTo>
                          <a:pt x="609" y="1277"/>
                        </a:lnTo>
                        <a:lnTo>
                          <a:pt x="581" y="1247"/>
                        </a:lnTo>
                        <a:lnTo>
                          <a:pt x="567" y="1230"/>
                        </a:lnTo>
                        <a:lnTo>
                          <a:pt x="540" y="1198"/>
                        </a:lnTo>
                        <a:lnTo>
                          <a:pt x="526" y="1183"/>
                        </a:lnTo>
                        <a:lnTo>
                          <a:pt x="498" y="1151"/>
                        </a:lnTo>
                        <a:lnTo>
                          <a:pt x="484" y="1136"/>
                        </a:lnTo>
                        <a:lnTo>
                          <a:pt x="457" y="1104"/>
                        </a:lnTo>
                        <a:lnTo>
                          <a:pt x="443" y="1073"/>
                        </a:lnTo>
                        <a:lnTo>
                          <a:pt x="429" y="1057"/>
                        </a:lnTo>
                        <a:lnTo>
                          <a:pt x="401" y="1025"/>
                        </a:lnTo>
                        <a:lnTo>
                          <a:pt x="387" y="994"/>
                        </a:lnTo>
                        <a:lnTo>
                          <a:pt x="374" y="962"/>
                        </a:lnTo>
                        <a:lnTo>
                          <a:pt x="346" y="931"/>
                        </a:lnTo>
                        <a:lnTo>
                          <a:pt x="332" y="915"/>
                        </a:lnTo>
                        <a:lnTo>
                          <a:pt x="318" y="883"/>
                        </a:lnTo>
                        <a:lnTo>
                          <a:pt x="304" y="853"/>
                        </a:lnTo>
                        <a:lnTo>
                          <a:pt x="291" y="821"/>
                        </a:lnTo>
                        <a:lnTo>
                          <a:pt x="277" y="789"/>
                        </a:lnTo>
                        <a:lnTo>
                          <a:pt x="249" y="757"/>
                        </a:lnTo>
                        <a:lnTo>
                          <a:pt x="235" y="725"/>
                        </a:lnTo>
                        <a:lnTo>
                          <a:pt x="221" y="695"/>
                        </a:lnTo>
                        <a:lnTo>
                          <a:pt x="208" y="663"/>
                        </a:lnTo>
                        <a:lnTo>
                          <a:pt x="194" y="631"/>
                        </a:lnTo>
                        <a:lnTo>
                          <a:pt x="180" y="599"/>
                        </a:lnTo>
                        <a:lnTo>
                          <a:pt x="166" y="567"/>
                        </a:lnTo>
                        <a:lnTo>
                          <a:pt x="166" y="537"/>
                        </a:lnTo>
                        <a:lnTo>
                          <a:pt x="152" y="505"/>
                        </a:lnTo>
                        <a:lnTo>
                          <a:pt x="138" y="473"/>
                        </a:lnTo>
                        <a:lnTo>
                          <a:pt x="125" y="442"/>
                        </a:lnTo>
                        <a:lnTo>
                          <a:pt x="111" y="410"/>
                        </a:lnTo>
                        <a:lnTo>
                          <a:pt x="97" y="379"/>
                        </a:lnTo>
                        <a:lnTo>
                          <a:pt x="97" y="347"/>
                        </a:lnTo>
                        <a:lnTo>
                          <a:pt x="83" y="316"/>
                        </a:lnTo>
                        <a:lnTo>
                          <a:pt x="69" y="284"/>
                        </a:lnTo>
                        <a:lnTo>
                          <a:pt x="69" y="252"/>
                        </a:lnTo>
                        <a:lnTo>
                          <a:pt x="55" y="222"/>
                        </a:lnTo>
                        <a:lnTo>
                          <a:pt x="42" y="190"/>
                        </a:lnTo>
                        <a:lnTo>
                          <a:pt x="42" y="158"/>
                        </a:lnTo>
                        <a:lnTo>
                          <a:pt x="28" y="126"/>
                        </a:lnTo>
                        <a:lnTo>
                          <a:pt x="28" y="94"/>
                        </a:lnTo>
                        <a:lnTo>
                          <a:pt x="14" y="64"/>
                        </a:lnTo>
                        <a:lnTo>
                          <a:pt x="14" y="3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6019920" y="3479760"/>
                  <a:ext cx="21960" cy="542880"/>
                  <a:chOff x="6019920" y="3479760"/>
                  <a:chExt cx="21960" cy="54288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>
                    <a:off x="6019920" y="3479760"/>
                    <a:ext cx="21960" cy="5428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025">
                        <a:moveTo>
                          <a:pt x="41" y="1025"/>
                        </a:moveTo>
                        <a:lnTo>
                          <a:pt x="41" y="993"/>
                        </a:lnTo>
                        <a:lnTo>
                          <a:pt x="27" y="962"/>
                        </a:lnTo>
                        <a:lnTo>
                          <a:pt x="27" y="914"/>
                        </a:lnTo>
                        <a:lnTo>
                          <a:pt x="27" y="883"/>
                        </a:lnTo>
                        <a:lnTo>
                          <a:pt x="13" y="852"/>
                        </a:lnTo>
                        <a:lnTo>
                          <a:pt x="13" y="820"/>
                        </a:lnTo>
                        <a:lnTo>
                          <a:pt x="13" y="773"/>
                        </a:lnTo>
                        <a:lnTo>
                          <a:pt x="13" y="742"/>
                        </a:lnTo>
                        <a:lnTo>
                          <a:pt x="0" y="710"/>
                        </a:lnTo>
                        <a:lnTo>
                          <a:pt x="0" y="678"/>
                        </a:lnTo>
                        <a:lnTo>
                          <a:pt x="0" y="631"/>
                        </a:lnTo>
                        <a:lnTo>
                          <a:pt x="0" y="599"/>
                        </a:lnTo>
                        <a:lnTo>
                          <a:pt x="0" y="567"/>
                        </a:lnTo>
                        <a:lnTo>
                          <a:pt x="0" y="537"/>
                        </a:lnTo>
                        <a:lnTo>
                          <a:pt x="0" y="488"/>
                        </a:lnTo>
                        <a:lnTo>
                          <a:pt x="0" y="458"/>
                        </a:lnTo>
                        <a:lnTo>
                          <a:pt x="0" y="426"/>
                        </a:lnTo>
                        <a:lnTo>
                          <a:pt x="0" y="394"/>
                        </a:lnTo>
                        <a:lnTo>
                          <a:pt x="0" y="347"/>
                        </a:lnTo>
                        <a:lnTo>
                          <a:pt x="0" y="315"/>
                        </a:lnTo>
                        <a:lnTo>
                          <a:pt x="0" y="284"/>
                        </a:lnTo>
                        <a:lnTo>
                          <a:pt x="0" y="236"/>
                        </a:lnTo>
                        <a:lnTo>
                          <a:pt x="0" y="205"/>
                        </a:lnTo>
                        <a:lnTo>
                          <a:pt x="0" y="173"/>
                        </a:lnTo>
                        <a:lnTo>
                          <a:pt x="0" y="141"/>
                        </a:lnTo>
                        <a:lnTo>
                          <a:pt x="0" y="94"/>
                        </a:lnTo>
                        <a:lnTo>
                          <a:pt x="0" y="62"/>
                        </a:lnTo>
                        <a:lnTo>
                          <a:pt x="0" y="32"/>
                        </a:lnTo>
                        <a:lnTo>
                          <a:pt x="0" y="0"/>
                        </a:lnTo>
                        <a:lnTo>
                          <a:pt x="41" y="1025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6019920" y="3479760"/>
                    <a:ext cx="21960" cy="5428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025">
                        <a:moveTo>
                          <a:pt x="41" y="1025"/>
                        </a:moveTo>
                        <a:lnTo>
                          <a:pt x="41" y="993"/>
                        </a:lnTo>
                        <a:lnTo>
                          <a:pt x="27" y="962"/>
                        </a:lnTo>
                        <a:lnTo>
                          <a:pt x="27" y="914"/>
                        </a:lnTo>
                        <a:lnTo>
                          <a:pt x="27" y="883"/>
                        </a:lnTo>
                        <a:lnTo>
                          <a:pt x="13" y="852"/>
                        </a:lnTo>
                        <a:lnTo>
                          <a:pt x="13" y="820"/>
                        </a:lnTo>
                        <a:lnTo>
                          <a:pt x="13" y="773"/>
                        </a:lnTo>
                        <a:lnTo>
                          <a:pt x="13" y="742"/>
                        </a:lnTo>
                        <a:lnTo>
                          <a:pt x="0" y="710"/>
                        </a:lnTo>
                        <a:lnTo>
                          <a:pt x="0" y="678"/>
                        </a:lnTo>
                        <a:lnTo>
                          <a:pt x="0" y="631"/>
                        </a:lnTo>
                        <a:lnTo>
                          <a:pt x="0" y="599"/>
                        </a:lnTo>
                        <a:lnTo>
                          <a:pt x="0" y="567"/>
                        </a:lnTo>
                        <a:lnTo>
                          <a:pt x="0" y="537"/>
                        </a:lnTo>
                        <a:lnTo>
                          <a:pt x="0" y="488"/>
                        </a:lnTo>
                        <a:lnTo>
                          <a:pt x="0" y="458"/>
                        </a:lnTo>
                        <a:lnTo>
                          <a:pt x="0" y="426"/>
                        </a:lnTo>
                        <a:lnTo>
                          <a:pt x="0" y="394"/>
                        </a:lnTo>
                        <a:lnTo>
                          <a:pt x="0" y="347"/>
                        </a:lnTo>
                        <a:lnTo>
                          <a:pt x="0" y="315"/>
                        </a:lnTo>
                        <a:lnTo>
                          <a:pt x="0" y="284"/>
                        </a:lnTo>
                        <a:lnTo>
                          <a:pt x="0" y="236"/>
                        </a:lnTo>
                        <a:lnTo>
                          <a:pt x="0" y="205"/>
                        </a:lnTo>
                        <a:lnTo>
                          <a:pt x="0" y="173"/>
                        </a:lnTo>
                        <a:lnTo>
                          <a:pt x="0" y="141"/>
                        </a:lnTo>
                        <a:lnTo>
                          <a:pt x="0" y="94"/>
                        </a:lnTo>
                        <a:lnTo>
                          <a:pt x="0" y="62"/>
                        </a:lnTo>
                        <a:lnTo>
                          <a:pt x="0" y="3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6019920" y="3154320"/>
                  <a:ext cx="44280" cy="325440"/>
                  <a:chOff x="6019920" y="3154320"/>
                  <a:chExt cx="44280" cy="32544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6019920" y="3154320"/>
                    <a:ext cx="44280" cy="32544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616">
                        <a:moveTo>
                          <a:pt x="0" y="616"/>
                        </a:moveTo>
                        <a:lnTo>
                          <a:pt x="0" y="569"/>
                        </a:lnTo>
                        <a:lnTo>
                          <a:pt x="0" y="537"/>
                        </a:lnTo>
                        <a:lnTo>
                          <a:pt x="0" y="505"/>
                        </a:lnTo>
                        <a:lnTo>
                          <a:pt x="0" y="458"/>
                        </a:lnTo>
                        <a:lnTo>
                          <a:pt x="13" y="426"/>
                        </a:lnTo>
                        <a:lnTo>
                          <a:pt x="13" y="394"/>
                        </a:lnTo>
                        <a:lnTo>
                          <a:pt x="13" y="347"/>
                        </a:lnTo>
                        <a:lnTo>
                          <a:pt x="27" y="316"/>
                        </a:lnTo>
                        <a:lnTo>
                          <a:pt x="27" y="284"/>
                        </a:lnTo>
                        <a:lnTo>
                          <a:pt x="27" y="237"/>
                        </a:lnTo>
                        <a:lnTo>
                          <a:pt x="41" y="205"/>
                        </a:lnTo>
                        <a:lnTo>
                          <a:pt x="41" y="174"/>
                        </a:lnTo>
                        <a:lnTo>
                          <a:pt x="55" y="143"/>
                        </a:lnTo>
                        <a:lnTo>
                          <a:pt x="69" y="96"/>
                        </a:lnTo>
                        <a:lnTo>
                          <a:pt x="69" y="64"/>
                        </a:lnTo>
                        <a:lnTo>
                          <a:pt x="83" y="32"/>
                        </a:lnTo>
                        <a:lnTo>
                          <a:pt x="83" y="0"/>
                        </a:lnTo>
                        <a:lnTo>
                          <a:pt x="0" y="616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6019920" y="3154320"/>
                    <a:ext cx="44280" cy="32544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616">
                        <a:moveTo>
                          <a:pt x="0" y="616"/>
                        </a:moveTo>
                        <a:lnTo>
                          <a:pt x="0" y="569"/>
                        </a:lnTo>
                        <a:lnTo>
                          <a:pt x="0" y="537"/>
                        </a:lnTo>
                        <a:lnTo>
                          <a:pt x="0" y="505"/>
                        </a:lnTo>
                        <a:lnTo>
                          <a:pt x="0" y="458"/>
                        </a:lnTo>
                        <a:lnTo>
                          <a:pt x="13" y="426"/>
                        </a:lnTo>
                        <a:lnTo>
                          <a:pt x="13" y="394"/>
                        </a:lnTo>
                        <a:lnTo>
                          <a:pt x="13" y="347"/>
                        </a:lnTo>
                        <a:lnTo>
                          <a:pt x="27" y="316"/>
                        </a:lnTo>
                        <a:lnTo>
                          <a:pt x="27" y="284"/>
                        </a:lnTo>
                        <a:lnTo>
                          <a:pt x="27" y="237"/>
                        </a:lnTo>
                        <a:lnTo>
                          <a:pt x="41" y="205"/>
                        </a:lnTo>
                        <a:lnTo>
                          <a:pt x="41" y="174"/>
                        </a:lnTo>
                        <a:lnTo>
                          <a:pt x="55" y="143"/>
                        </a:lnTo>
                        <a:lnTo>
                          <a:pt x="69" y="96"/>
                        </a:lnTo>
                        <a:lnTo>
                          <a:pt x="69" y="64"/>
                        </a:lnTo>
                        <a:lnTo>
                          <a:pt x="83" y="32"/>
                        </a:lnTo>
                        <a:lnTo>
                          <a:pt x="8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6064200" y="2644920"/>
                  <a:ext cx="233280" cy="509400"/>
                  <a:chOff x="6064200" y="2644920"/>
                  <a:chExt cx="233280" cy="5094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6064200" y="2644920"/>
                    <a:ext cx="233280" cy="509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962">
                        <a:moveTo>
                          <a:pt x="0" y="962"/>
                        </a:moveTo>
                        <a:lnTo>
                          <a:pt x="13" y="915"/>
                        </a:lnTo>
                        <a:lnTo>
                          <a:pt x="27" y="883"/>
                        </a:lnTo>
                        <a:lnTo>
                          <a:pt x="27" y="836"/>
                        </a:lnTo>
                        <a:lnTo>
                          <a:pt x="41" y="804"/>
                        </a:lnTo>
                        <a:lnTo>
                          <a:pt x="55" y="773"/>
                        </a:lnTo>
                        <a:lnTo>
                          <a:pt x="55" y="742"/>
                        </a:lnTo>
                        <a:lnTo>
                          <a:pt x="69" y="710"/>
                        </a:lnTo>
                        <a:lnTo>
                          <a:pt x="83" y="663"/>
                        </a:lnTo>
                        <a:lnTo>
                          <a:pt x="96" y="631"/>
                        </a:lnTo>
                        <a:lnTo>
                          <a:pt x="110" y="600"/>
                        </a:lnTo>
                        <a:lnTo>
                          <a:pt x="124" y="568"/>
                        </a:lnTo>
                        <a:lnTo>
                          <a:pt x="138" y="536"/>
                        </a:lnTo>
                        <a:lnTo>
                          <a:pt x="152" y="505"/>
                        </a:lnTo>
                        <a:lnTo>
                          <a:pt x="166" y="474"/>
                        </a:lnTo>
                        <a:lnTo>
                          <a:pt x="179" y="442"/>
                        </a:lnTo>
                        <a:lnTo>
                          <a:pt x="193" y="410"/>
                        </a:lnTo>
                        <a:lnTo>
                          <a:pt x="207" y="378"/>
                        </a:lnTo>
                        <a:lnTo>
                          <a:pt x="221" y="348"/>
                        </a:lnTo>
                        <a:lnTo>
                          <a:pt x="249" y="316"/>
                        </a:lnTo>
                        <a:lnTo>
                          <a:pt x="262" y="284"/>
                        </a:lnTo>
                        <a:lnTo>
                          <a:pt x="276" y="252"/>
                        </a:lnTo>
                        <a:lnTo>
                          <a:pt x="290" y="220"/>
                        </a:lnTo>
                        <a:lnTo>
                          <a:pt x="318" y="205"/>
                        </a:lnTo>
                        <a:lnTo>
                          <a:pt x="332" y="173"/>
                        </a:lnTo>
                        <a:lnTo>
                          <a:pt x="345" y="142"/>
                        </a:lnTo>
                        <a:lnTo>
                          <a:pt x="373" y="111"/>
                        </a:lnTo>
                        <a:lnTo>
                          <a:pt x="387" y="79"/>
                        </a:lnTo>
                        <a:lnTo>
                          <a:pt x="401" y="48"/>
                        </a:lnTo>
                        <a:lnTo>
                          <a:pt x="428" y="32"/>
                        </a:lnTo>
                        <a:lnTo>
                          <a:pt x="442" y="0"/>
                        </a:lnTo>
                        <a:lnTo>
                          <a:pt x="0" y="962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6064200" y="2644920"/>
                    <a:ext cx="233280" cy="509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962">
                        <a:moveTo>
                          <a:pt x="0" y="962"/>
                        </a:moveTo>
                        <a:lnTo>
                          <a:pt x="13" y="915"/>
                        </a:lnTo>
                        <a:lnTo>
                          <a:pt x="27" y="883"/>
                        </a:lnTo>
                        <a:lnTo>
                          <a:pt x="27" y="836"/>
                        </a:lnTo>
                        <a:lnTo>
                          <a:pt x="41" y="804"/>
                        </a:lnTo>
                        <a:lnTo>
                          <a:pt x="55" y="773"/>
                        </a:lnTo>
                        <a:lnTo>
                          <a:pt x="55" y="742"/>
                        </a:lnTo>
                        <a:lnTo>
                          <a:pt x="69" y="710"/>
                        </a:lnTo>
                        <a:lnTo>
                          <a:pt x="83" y="663"/>
                        </a:lnTo>
                        <a:lnTo>
                          <a:pt x="96" y="631"/>
                        </a:lnTo>
                        <a:lnTo>
                          <a:pt x="110" y="600"/>
                        </a:lnTo>
                        <a:lnTo>
                          <a:pt x="124" y="568"/>
                        </a:lnTo>
                        <a:lnTo>
                          <a:pt x="138" y="536"/>
                        </a:lnTo>
                        <a:lnTo>
                          <a:pt x="152" y="505"/>
                        </a:lnTo>
                        <a:lnTo>
                          <a:pt x="166" y="474"/>
                        </a:lnTo>
                        <a:lnTo>
                          <a:pt x="179" y="442"/>
                        </a:lnTo>
                        <a:lnTo>
                          <a:pt x="193" y="410"/>
                        </a:lnTo>
                        <a:lnTo>
                          <a:pt x="207" y="378"/>
                        </a:lnTo>
                        <a:lnTo>
                          <a:pt x="221" y="348"/>
                        </a:lnTo>
                        <a:lnTo>
                          <a:pt x="249" y="316"/>
                        </a:lnTo>
                        <a:lnTo>
                          <a:pt x="262" y="284"/>
                        </a:lnTo>
                        <a:lnTo>
                          <a:pt x="276" y="252"/>
                        </a:lnTo>
                        <a:lnTo>
                          <a:pt x="290" y="220"/>
                        </a:lnTo>
                        <a:lnTo>
                          <a:pt x="318" y="205"/>
                        </a:lnTo>
                        <a:lnTo>
                          <a:pt x="332" y="173"/>
                        </a:lnTo>
                        <a:lnTo>
                          <a:pt x="345" y="142"/>
                        </a:lnTo>
                        <a:lnTo>
                          <a:pt x="373" y="111"/>
                        </a:lnTo>
                        <a:lnTo>
                          <a:pt x="387" y="79"/>
                        </a:lnTo>
                        <a:lnTo>
                          <a:pt x="401" y="48"/>
                        </a:lnTo>
                        <a:lnTo>
                          <a:pt x="428" y="32"/>
                        </a:lnTo>
                        <a:lnTo>
                          <a:pt x="44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6297480" y="2519280"/>
                  <a:ext cx="111240" cy="125640"/>
                  <a:chOff x="6297480" y="2519280"/>
                  <a:chExt cx="111240" cy="12564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>
                    <a:off x="6297480" y="2519280"/>
                    <a:ext cx="11124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9" h="236">
                        <a:moveTo>
                          <a:pt x="0" y="236"/>
                        </a:moveTo>
                        <a:lnTo>
                          <a:pt x="28" y="205"/>
                        </a:lnTo>
                        <a:lnTo>
                          <a:pt x="56" y="173"/>
                        </a:lnTo>
                        <a:lnTo>
                          <a:pt x="69" y="141"/>
                        </a:lnTo>
                        <a:lnTo>
                          <a:pt x="97" y="111"/>
                        </a:lnTo>
                        <a:lnTo>
                          <a:pt x="125" y="79"/>
                        </a:lnTo>
                        <a:lnTo>
                          <a:pt x="152" y="47"/>
                        </a:lnTo>
                        <a:lnTo>
                          <a:pt x="180" y="32"/>
                        </a:lnTo>
                        <a:lnTo>
                          <a:pt x="209" y="0"/>
                        </a:lnTo>
                        <a:lnTo>
                          <a:pt x="0" y="236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6297480" y="2519280"/>
                    <a:ext cx="11124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9" h="236">
                        <a:moveTo>
                          <a:pt x="0" y="236"/>
                        </a:moveTo>
                        <a:lnTo>
                          <a:pt x="28" y="205"/>
                        </a:lnTo>
                        <a:lnTo>
                          <a:pt x="56" y="173"/>
                        </a:lnTo>
                        <a:lnTo>
                          <a:pt x="69" y="141"/>
                        </a:lnTo>
                        <a:lnTo>
                          <a:pt x="97" y="111"/>
                        </a:lnTo>
                        <a:lnTo>
                          <a:pt x="125" y="79"/>
                        </a:lnTo>
                        <a:lnTo>
                          <a:pt x="152" y="47"/>
                        </a:lnTo>
                        <a:lnTo>
                          <a:pt x="180" y="32"/>
                        </a:lnTo>
                        <a:lnTo>
                          <a:pt x="20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6408720" y="2478240"/>
                  <a:ext cx="58680" cy="41040"/>
                  <a:chOff x="6408720" y="2478240"/>
                  <a:chExt cx="58680" cy="4104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>
                    <a:off x="6408720" y="2478240"/>
                    <a:ext cx="586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79">
                        <a:moveTo>
                          <a:pt x="0" y="79"/>
                        </a:moveTo>
                        <a:lnTo>
                          <a:pt x="42" y="47"/>
                        </a:lnTo>
                        <a:lnTo>
                          <a:pt x="69" y="32"/>
                        </a:lnTo>
                        <a:lnTo>
                          <a:pt x="111" y="0"/>
                        </a:lnTo>
                        <a:lnTo>
                          <a:pt x="0" y="79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6408720" y="2478240"/>
                    <a:ext cx="586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79">
                        <a:moveTo>
                          <a:pt x="0" y="79"/>
                        </a:moveTo>
                        <a:lnTo>
                          <a:pt x="42" y="47"/>
                        </a:lnTo>
                        <a:lnTo>
                          <a:pt x="69" y="32"/>
                        </a:lnTo>
                        <a:lnTo>
                          <a:pt x="11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6467400" y="2460600"/>
                  <a:ext cx="14400" cy="17640"/>
                  <a:chOff x="6467400" y="2460600"/>
                  <a:chExt cx="14400" cy="176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6467400" y="2460600"/>
                    <a:ext cx="144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32">
                        <a:moveTo>
                          <a:pt x="0" y="32"/>
                        </a:moveTo>
                        <a:lnTo>
                          <a:pt x="14" y="15"/>
                        </a:lnTo>
                        <a:lnTo>
                          <a:pt x="27" y="15"/>
                        </a:lnTo>
                        <a:lnTo>
                          <a:pt x="27" y="0"/>
                        </a:lnTo>
                        <a:lnTo>
                          <a:pt x="0" y="32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6467400" y="2460600"/>
                    <a:ext cx="144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32">
                        <a:moveTo>
                          <a:pt x="0" y="32"/>
                        </a:moveTo>
                        <a:lnTo>
                          <a:pt x="14" y="15"/>
                        </a:lnTo>
                        <a:lnTo>
                          <a:pt x="27" y="15"/>
                        </a:lnTo>
                        <a:lnTo>
                          <a:pt x="2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6467400" y="4689360"/>
                  <a:ext cx="109440" cy="109800"/>
                  <a:chOff x="6467400" y="4689360"/>
                  <a:chExt cx="109440" cy="1098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>
                    <a:off x="6467400" y="4689360"/>
                    <a:ext cx="1094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7" h="205">
                        <a:moveTo>
                          <a:pt x="207" y="205"/>
                        </a:moveTo>
                        <a:lnTo>
                          <a:pt x="180" y="190"/>
                        </a:lnTo>
                        <a:lnTo>
                          <a:pt x="152" y="158"/>
                        </a:lnTo>
                        <a:lnTo>
                          <a:pt x="124" y="143"/>
                        </a:lnTo>
                        <a:lnTo>
                          <a:pt x="97" y="111"/>
                        </a:lnTo>
                        <a:lnTo>
                          <a:pt x="69" y="79"/>
                        </a:lnTo>
                        <a:lnTo>
                          <a:pt x="41" y="64"/>
                        </a:lnTo>
                        <a:lnTo>
                          <a:pt x="14" y="32"/>
                        </a:lnTo>
                        <a:lnTo>
                          <a:pt x="0" y="0"/>
                        </a:lnTo>
                        <a:lnTo>
                          <a:pt x="207" y="205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6467400" y="4689360"/>
                    <a:ext cx="1094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7" h="205">
                        <a:moveTo>
                          <a:pt x="207" y="205"/>
                        </a:moveTo>
                        <a:lnTo>
                          <a:pt x="180" y="190"/>
                        </a:lnTo>
                        <a:lnTo>
                          <a:pt x="152" y="158"/>
                        </a:lnTo>
                        <a:lnTo>
                          <a:pt x="124" y="143"/>
                        </a:lnTo>
                        <a:lnTo>
                          <a:pt x="97" y="111"/>
                        </a:lnTo>
                        <a:lnTo>
                          <a:pt x="69" y="79"/>
                        </a:lnTo>
                        <a:lnTo>
                          <a:pt x="41" y="64"/>
                        </a:lnTo>
                        <a:lnTo>
                          <a:pt x="14" y="3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6232680" y="4148280"/>
                  <a:ext cx="234720" cy="541080"/>
                  <a:chOff x="6232680" y="4148280"/>
                  <a:chExt cx="234720" cy="54108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>
                    <a:off x="6232680" y="4148280"/>
                    <a:ext cx="234720" cy="54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44" h="1025">
                        <a:moveTo>
                          <a:pt x="444" y="1025"/>
                        </a:moveTo>
                        <a:lnTo>
                          <a:pt x="416" y="993"/>
                        </a:lnTo>
                        <a:lnTo>
                          <a:pt x="402" y="978"/>
                        </a:lnTo>
                        <a:lnTo>
                          <a:pt x="388" y="946"/>
                        </a:lnTo>
                        <a:lnTo>
                          <a:pt x="361" y="914"/>
                        </a:lnTo>
                        <a:lnTo>
                          <a:pt x="347" y="899"/>
                        </a:lnTo>
                        <a:lnTo>
                          <a:pt x="333" y="867"/>
                        </a:lnTo>
                        <a:lnTo>
                          <a:pt x="319" y="836"/>
                        </a:lnTo>
                        <a:lnTo>
                          <a:pt x="290" y="804"/>
                        </a:lnTo>
                        <a:lnTo>
                          <a:pt x="276" y="773"/>
                        </a:lnTo>
                        <a:lnTo>
                          <a:pt x="263" y="741"/>
                        </a:lnTo>
                        <a:lnTo>
                          <a:pt x="249" y="710"/>
                        </a:lnTo>
                        <a:lnTo>
                          <a:pt x="235" y="678"/>
                        </a:lnTo>
                        <a:lnTo>
                          <a:pt x="221" y="646"/>
                        </a:lnTo>
                        <a:lnTo>
                          <a:pt x="207" y="616"/>
                        </a:lnTo>
                        <a:lnTo>
                          <a:pt x="193" y="584"/>
                        </a:lnTo>
                        <a:lnTo>
                          <a:pt x="180" y="552"/>
                        </a:lnTo>
                        <a:lnTo>
                          <a:pt x="166" y="520"/>
                        </a:lnTo>
                        <a:lnTo>
                          <a:pt x="152" y="488"/>
                        </a:lnTo>
                        <a:lnTo>
                          <a:pt x="138" y="458"/>
                        </a:lnTo>
                        <a:lnTo>
                          <a:pt x="124" y="426"/>
                        </a:lnTo>
                        <a:lnTo>
                          <a:pt x="110" y="394"/>
                        </a:lnTo>
                        <a:lnTo>
                          <a:pt x="97" y="347"/>
                        </a:lnTo>
                        <a:lnTo>
                          <a:pt x="83" y="315"/>
                        </a:lnTo>
                        <a:lnTo>
                          <a:pt x="69" y="283"/>
                        </a:lnTo>
                        <a:lnTo>
                          <a:pt x="69" y="252"/>
                        </a:lnTo>
                        <a:lnTo>
                          <a:pt x="55" y="221"/>
                        </a:lnTo>
                        <a:lnTo>
                          <a:pt x="41" y="189"/>
                        </a:lnTo>
                        <a:lnTo>
                          <a:pt x="27" y="158"/>
                        </a:lnTo>
                        <a:lnTo>
                          <a:pt x="27" y="126"/>
                        </a:lnTo>
                        <a:lnTo>
                          <a:pt x="14" y="94"/>
                        </a:lnTo>
                        <a:lnTo>
                          <a:pt x="14" y="63"/>
                        </a:lnTo>
                        <a:lnTo>
                          <a:pt x="0" y="32"/>
                        </a:lnTo>
                        <a:lnTo>
                          <a:pt x="0" y="0"/>
                        </a:lnTo>
                        <a:lnTo>
                          <a:pt x="444" y="1025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6232680" y="4148280"/>
                    <a:ext cx="234720" cy="54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44" h="1025">
                        <a:moveTo>
                          <a:pt x="444" y="1025"/>
                        </a:moveTo>
                        <a:lnTo>
                          <a:pt x="416" y="993"/>
                        </a:lnTo>
                        <a:lnTo>
                          <a:pt x="402" y="978"/>
                        </a:lnTo>
                        <a:lnTo>
                          <a:pt x="388" y="946"/>
                        </a:lnTo>
                        <a:lnTo>
                          <a:pt x="361" y="914"/>
                        </a:lnTo>
                        <a:lnTo>
                          <a:pt x="347" y="899"/>
                        </a:lnTo>
                        <a:lnTo>
                          <a:pt x="333" y="867"/>
                        </a:lnTo>
                        <a:lnTo>
                          <a:pt x="319" y="836"/>
                        </a:lnTo>
                        <a:lnTo>
                          <a:pt x="290" y="804"/>
                        </a:lnTo>
                        <a:lnTo>
                          <a:pt x="276" y="773"/>
                        </a:lnTo>
                        <a:lnTo>
                          <a:pt x="263" y="741"/>
                        </a:lnTo>
                        <a:lnTo>
                          <a:pt x="249" y="710"/>
                        </a:lnTo>
                        <a:lnTo>
                          <a:pt x="235" y="678"/>
                        </a:lnTo>
                        <a:lnTo>
                          <a:pt x="221" y="646"/>
                        </a:lnTo>
                        <a:lnTo>
                          <a:pt x="207" y="616"/>
                        </a:lnTo>
                        <a:lnTo>
                          <a:pt x="193" y="584"/>
                        </a:lnTo>
                        <a:lnTo>
                          <a:pt x="180" y="552"/>
                        </a:lnTo>
                        <a:lnTo>
                          <a:pt x="166" y="520"/>
                        </a:lnTo>
                        <a:lnTo>
                          <a:pt x="152" y="488"/>
                        </a:lnTo>
                        <a:lnTo>
                          <a:pt x="138" y="458"/>
                        </a:lnTo>
                        <a:lnTo>
                          <a:pt x="124" y="426"/>
                        </a:lnTo>
                        <a:lnTo>
                          <a:pt x="110" y="394"/>
                        </a:lnTo>
                        <a:lnTo>
                          <a:pt x="97" y="347"/>
                        </a:lnTo>
                        <a:lnTo>
                          <a:pt x="83" y="315"/>
                        </a:lnTo>
                        <a:lnTo>
                          <a:pt x="69" y="283"/>
                        </a:lnTo>
                        <a:lnTo>
                          <a:pt x="69" y="252"/>
                        </a:lnTo>
                        <a:lnTo>
                          <a:pt x="55" y="221"/>
                        </a:lnTo>
                        <a:lnTo>
                          <a:pt x="41" y="189"/>
                        </a:lnTo>
                        <a:lnTo>
                          <a:pt x="27" y="158"/>
                        </a:lnTo>
                        <a:lnTo>
                          <a:pt x="27" y="126"/>
                        </a:lnTo>
                        <a:lnTo>
                          <a:pt x="14" y="94"/>
                        </a:lnTo>
                        <a:lnTo>
                          <a:pt x="14" y="63"/>
                        </a:lnTo>
                        <a:lnTo>
                          <a:pt x="0" y="3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6188040" y="3879720"/>
                  <a:ext cx="44640" cy="268560"/>
                  <a:chOff x="6188040" y="3879720"/>
                  <a:chExt cx="44640" cy="26856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>
                    <a:off x="6188040" y="3879720"/>
                    <a:ext cx="44640" cy="26856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505">
                        <a:moveTo>
                          <a:pt x="83" y="505"/>
                        </a:moveTo>
                        <a:lnTo>
                          <a:pt x="69" y="473"/>
                        </a:lnTo>
                        <a:lnTo>
                          <a:pt x="69" y="426"/>
                        </a:lnTo>
                        <a:lnTo>
                          <a:pt x="55" y="394"/>
                        </a:lnTo>
                        <a:lnTo>
                          <a:pt x="55" y="347"/>
                        </a:lnTo>
                        <a:lnTo>
                          <a:pt x="41" y="315"/>
                        </a:lnTo>
                        <a:lnTo>
                          <a:pt x="41" y="268"/>
                        </a:lnTo>
                        <a:lnTo>
                          <a:pt x="27" y="236"/>
                        </a:lnTo>
                        <a:lnTo>
                          <a:pt x="27" y="189"/>
                        </a:lnTo>
                        <a:lnTo>
                          <a:pt x="14" y="157"/>
                        </a:lnTo>
                        <a:lnTo>
                          <a:pt x="14" y="110"/>
                        </a:lnTo>
                        <a:lnTo>
                          <a:pt x="14" y="79"/>
                        </a:lnTo>
                        <a:lnTo>
                          <a:pt x="14" y="32"/>
                        </a:lnTo>
                        <a:lnTo>
                          <a:pt x="0" y="0"/>
                        </a:lnTo>
                        <a:lnTo>
                          <a:pt x="83" y="505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6188040" y="3879720"/>
                    <a:ext cx="44640" cy="26856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505">
                        <a:moveTo>
                          <a:pt x="83" y="505"/>
                        </a:moveTo>
                        <a:lnTo>
                          <a:pt x="69" y="473"/>
                        </a:lnTo>
                        <a:lnTo>
                          <a:pt x="69" y="426"/>
                        </a:lnTo>
                        <a:lnTo>
                          <a:pt x="55" y="394"/>
                        </a:lnTo>
                        <a:lnTo>
                          <a:pt x="55" y="347"/>
                        </a:lnTo>
                        <a:lnTo>
                          <a:pt x="41" y="315"/>
                        </a:lnTo>
                        <a:lnTo>
                          <a:pt x="41" y="268"/>
                        </a:lnTo>
                        <a:lnTo>
                          <a:pt x="27" y="236"/>
                        </a:lnTo>
                        <a:lnTo>
                          <a:pt x="27" y="189"/>
                        </a:lnTo>
                        <a:lnTo>
                          <a:pt x="14" y="157"/>
                        </a:lnTo>
                        <a:lnTo>
                          <a:pt x="14" y="110"/>
                        </a:lnTo>
                        <a:lnTo>
                          <a:pt x="14" y="79"/>
                        </a:lnTo>
                        <a:lnTo>
                          <a:pt x="14" y="3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3" name=""/>
                <p:cNvGrpSpPr/>
                <p:nvPr/>
              </p:nvGrpSpPr>
              <p:grpSpPr>
                <a:xfrm>
                  <a:off x="6181560" y="3354480"/>
                  <a:ext cx="14400" cy="525240"/>
                  <a:chOff x="6181560" y="3354480"/>
                  <a:chExt cx="14400" cy="52524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>
                    <a:off x="6181560" y="3354480"/>
                    <a:ext cx="14400" cy="52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994">
                        <a:moveTo>
                          <a:pt x="14" y="994"/>
                        </a:moveTo>
                        <a:lnTo>
                          <a:pt x="14" y="962"/>
                        </a:lnTo>
                        <a:lnTo>
                          <a:pt x="14" y="931"/>
                        </a:lnTo>
                        <a:lnTo>
                          <a:pt x="14" y="883"/>
                        </a:lnTo>
                        <a:lnTo>
                          <a:pt x="14" y="853"/>
                        </a:lnTo>
                        <a:lnTo>
                          <a:pt x="14" y="821"/>
                        </a:lnTo>
                        <a:lnTo>
                          <a:pt x="0" y="774"/>
                        </a:lnTo>
                        <a:lnTo>
                          <a:pt x="0" y="742"/>
                        </a:lnTo>
                        <a:lnTo>
                          <a:pt x="0" y="710"/>
                        </a:lnTo>
                        <a:lnTo>
                          <a:pt x="0" y="678"/>
                        </a:lnTo>
                        <a:lnTo>
                          <a:pt x="0" y="631"/>
                        </a:lnTo>
                        <a:lnTo>
                          <a:pt x="0" y="599"/>
                        </a:lnTo>
                        <a:lnTo>
                          <a:pt x="0" y="568"/>
                        </a:lnTo>
                        <a:lnTo>
                          <a:pt x="0" y="537"/>
                        </a:lnTo>
                        <a:lnTo>
                          <a:pt x="0" y="489"/>
                        </a:lnTo>
                        <a:lnTo>
                          <a:pt x="0" y="457"/>
                        </a:lnTo>
                        <a:lnTo>
                          <a:pt x="0" y="426"/>
                        </a:lnTo>
                        <a:lnTo>
                          <a:pt x="0" y="395"/>
                        </a:lnTo>
                        <a:lnTo>
                          <a:pt x="0" y="348"/>
                        </a:lnTo>
                        <a:lnTo>
                          <a:pt x="0" y="316"/>
                        </a:lnTo>
                        <a:lnTo>
                          <a:pt x="0" y="284"/>
                        </a:lnTo>
                        <a:lnTo>
                          <a:pt x="0" y="252"/>
                        </a:lnTo>
                        <a:lnTo>
                          <a:pt x="14" y="205"/>
                        </a:lnTo>
                        <a:lnTo>
                          <a:pt x="14" y="173"/>
                        </a:lnTo>
                        <a:lnTo>
                          <a:pt x="14" y="141"/>
                        </a:lnTo>
                        <a:lnTo>
                          <a:pt x="14" y="111"/>
                        </a:lnTo>
                        <a:lnTo>
                          <a:pt x="14" y="63"/>
                        </a:lnTo>
                        <a:lnTo>
                          <a:pt x="28" y="32"/>
                        </a:lnTo>
                        <a:lnTo>
                          <a:pt x="28" y="0"/>
                        </a:lnTo>
                        <a:lnTo>
                          <a:pt x="14" y="994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6181560" y="3354480"/>
                    <a:ext cx="14400" cy="52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994">
                        <a:moveTo>
                          <a:pt x="14" y="994"/>
                        </a:moveTo>
                        <a:lnTo>
                          <a:pt x="14" y="962"/>
                        </a:lnTo>
                        <a:lnTo>
                          <a:pt x="14" y="931"/>
                        </a:lnTo>
                        <a:lnTo>
                          <a:pt x="14" y="883"/>
                        </a:lnTo>
                        <a:lnTo>
                          <a:pt x="14" y="853"/>
                        </a:lnTo>
                        <a:lnTo>
                          <a:pt x="14" y="821"/>
                        </a:lnTo>
                        <a:lnTo>
                          <a:pt x="0" y="774"/>
                        </a:lnTo>
                        <a:lnTo>
                          <a:pt x="0" y="742"/>
                        </a:lnTo>
                        <a:lnTo>
                          <a:pt x="0" y="710"/>
                        </a:lnTo>
                        <a:lnTo>
                          <a:pt x="0" y="678"/>
                        </a:lnTo>
                        <a:lnTo>
                          <a:pt x="0" y="631"/>
                        </a:lnTo>
                        <a:lnTo>
                          <a:pt x="0" y="599"/>
                        </a:lnTo>
                        <a:lnTo>
                          <a:pt x="0" y="568"/>
                        </a:lnTo>
                        <a:lnTo>
                          <a:pt x="0" y="537"/>
                        </a:lnTo>
                        <a:lnTo>
                          <a:pt x="0" y="489"/>
                        </a:lnTo>
                        <a:lnTo>
                          <a:pt x="0" y="457"/>
                        </a:lnTo>
                        <a:lnTo>
                          <a:pt x="0" y="426"/>
                        </a:lnTo>
                        <a:lnTo>
                          <a:pt x="0" y="395"/>
                        </a:lnTo>
                        <a:lnTo>
                          <a:pt x="0" y="348"/>
                        </a:lnTo>
                        <a:lnTo>
                          <a:pt x="0" y="316"/>
                        </a:lnTo>
                        <a:lnTo>
                          <a:pt x="0" y="284"/>
                        </a:lnTo>
                        <a:lnTo>
                          <a:pt x="0" y="252"/>
                        </a:lnTo>
                        <a:lnTo>
                          <a:pt x="14" y="205"/>
                        </a:lnTo>
                        <a:lnTo>
                          <a:pt x="14" y="173"/>
                        </a:lnTo>
                        <a:lnTo>
                          <a:pt x="14" y="141"/>
                        </a:lnTo>
                        <a:lnTo>
                          <a:pt x="14" y="111"/>
                        </a:lnTo>
                        <a:lnTo>
                          <a:pt x="14" y="63"/>
                        </a:lnTo>
                        <a:lnTo>
                          <a:pt x="28" y="32"/>
                        </a:lnTo>
                        <a:lnTo>
                          <a:pt x="2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6" name=""/>
                <p:cNvGrpSpPr/>
                <p:nvPr/>
              </p:nvGrpSpPr>
              <p:grpSpPr>
                <a:xfrm>
                  <a:off x="6195960" y="3154320"/>
                  <a:ext cx="28800" cy="200160"/>
                  <a:chOff x="6195960" y="3154320"/>
                  <a:chExt cx="28800" cy="20016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>
                    <a:off x="6195960" y="3154320"/>
                    <a:ext cx="28800" cy="200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379">
                        <a:moveTo>
                          <a:pt x="0" y="379"/>
                        </a:moveTo>
                        <a:lnTo>
                          <a:pt x="0" y="347"/>
                        </a:lnTo>
                        <a:lnTo>
                          <a:pt x="13" y="300"/>
                        </a:lnTo>
                        <a:lnTo>
                          <a:pt x="13" y="269"/>
                        </a:lnTo>
                        <a:lnTo>
                          <a:pt x="13" y="222"/>
                        </a:lnTo>
                        <a:lnTo>
                          <a:pt x="27" y="190"/>
                        </a:lnTo>
                        <a:lnTo>
                          <a:pt x="27" y="143"/>
                        </a:lnTo>
                        <a:lnTo>
                          <a:pt x="41" y="111"/>
                        </a:lnTo>
                        <a:lnTo>
                          <a:pt x="41" y="64"/>
                        </a:lnTo>
                        <a:lnTo>
                          <a:pt x="41" y="32"/>
                        </a:lnTo>
                        <a:lnTo>
                          <a:pt x="55" y="0"/>
                        </a:lnTo>
                        <a:lnTo>
                          <a:pt x="0" y="379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6195960" y="3154320"/>
                    <a:ext cx="28800" cy="200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379">
                        <a:moveTo>
                          <a:pt x="0" y="379"/>
                        </a:moveTo>
                        <a:lnTo>
                          <a:pt x="0" y="347"/>
                        </a:lnTo>
                        <a:lnTo>
                          <a:pt x="13" y="300"/>
                        </a:lnTo>
                        <a:lnTo>
                          <a:pt x="13" y="269"/>
                        </a:lnTo>
                        <a:lnTo>
                          <a:pt x="13" y="222"/>
                        </a:lnTo>
                        <a:lnTo>
                          <a:pt x="27" y="190"/>
                        </a:lnTo>
                        <a:lnTo>
                          <a:pt x="27" y="143"/>
                        </a:lnTo>
                        <a:lnTo>
                          <a:pt x="41" y="111"/>
                        </a:lnTo>
                        <a:lnTo>
                          <a:pt x="41" y="64"/>
                        </a:lnTo>
                        <a:lnTo>
                          <a:pt x="41" y="32"/>
                        </a:lnTo>
                        <a:lnTo>
                          <a:pt x="55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6224760" y="2644920"/>
                  <a:ext cx="198360" cy="509400"/>
                  <a:chOff x="6224760" y="2644920"/>
                  <a:chExt cx="198360" cy="50940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>
                    <a:off x="6224760" y="2644920"/>
                    <a:ext cx="198360" cy="509400"/>
                  </a:xfrm>
                  <a:custGeom>
                    <a:avLst/>
                    <a:gdLst/>
                    <a:ahLst/>
                    <a:rect l="l" t="t" r="r" b="b"/>
                    <a:pathLst>
                      <a:path w="375" h="962">
                        <a:moveTo>
                          <a:pt x="0" y="962"/>
                        </a:moveTo>
                        <a:lnTo>
                          <a:pt x="14" y="915"/>
                        </a:lnTo>
                        <a:lnTo>
                          <a:pt x="14" y="883"/>
                        </a:lnTo>
                        <a:lnTo>
                          <a:pt x="28" y="836"/>
                        </a:lnTo>
                        <a:lnTo>
                          <a:pt x="28" y="804"/>
                        </a:lnTo>
                        <a:lnTo>
                          <a:pt x="41" y="773"/>
                        </a:lnTo>
                        <a:lnTo>
                          <a:pt x="55" y="742"/>
                        </a:lnTo>
                        <a:lnTo>
                          <a:pt x="55" y="694"/>
                        </a:lnTo>
                        <a:lnTo>
                          <a:pt x="69" y="663"/>
                        </a:lnTo>
                        <a:lnTo>
                          <a:pt x="83" y="631"/>
                        </a:lnTo>
                        <a:lnTo>
                          <a:pt x="97" y="600"/>
                        </a:lnTo>
                        <a:lnTo>
                          <a:pt x="97" y="568"/>
                        </a:lnTo>
                        <a:lnTo>
                          <a:pt x="111" y="536"/>
                        </a:lnTo>
                        <a:lnTo>
                          <a:pt x="124" y="505"/>
                        </a:lnTo>
                        <a:lnTo>
                          <a:pt x="138" y="474"/>
                        </a:lnTo>
                        <a:lnTo>
                          <a:pt x="152" y="427"/>
                        </a:lnTo>
                        <a:lnTo>
                          <a:pt x="166" y="395"/>
                        </a:lnTo>
                        <a:lnTo>
                          <a:pt x="180" y="363"/>
                        </a:lnTo>
                        <a:lnTo>
                          <a:pt x="194" y="331"/>
                        </a:lnTo>
                        <a:lnTo>
                          <a:pt x="207" y="299"/>
                        </a:lnTo>
                        <a:lnTo>
                          <a:pt x="221" y="269"/>
                        </a:lnTo>
                        <a:lnTo>
                          <a:pt x="235" y="237"/>
                        </a:lnTo>
                        <a:lnTo>
                          <a:pt x="249" y="205"/>
                        </a:lnTo>
                        <a:lnTo>
                          <a:pt x="263" y="173"/>
                        </a:lnTo>
                        <a:lnTo>
                          <a:pt x="277" y="142"/>
                        </a:lnTo>
                        <a:lnTo>
                          <a:pt x="304" y="111"/>
                        </a:lnTo>
                        <a:lnTo>
                          <a:pt x="318" y="95"/>
                        </a:lnTo>
                        <a:lnTo>
                          <a:pt x="333" y="63"/>
                        </a:lnTo>
                        <a:lnTo>
                          <a:pt x="347" y="32"/>
                        </a:lnTo>
                        <a:lnTo>
                          <a:pt x="375" y="0"/>
                        </a:lnTo>
                        <a:lnTo>
                          <a:pt x="0" y="962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6224760" y="2644920"/>
                    <a:ext cx="198360" cy="509400"/>
                  </a:xfrm>
                  <a:custGeom>
                    <a:avLst/>
                    <a:gdLst/>
                    <a:ahLst/>
                    <a:rect l="l" t="t" r="r" b="b"/>
                    <a:pathLst>
                      <a:path w="375" h="962">
                        <a:moveTo>
                          <a:pt x="0" y="962"/>
                        </a:moveTo>
                        <a:lnTo>
                          <a:pt x="14" y="915"/>
                        </a:lnTo>
                        <a:lnTo>
                          <a:pt x="14" y="883"/>
                        </a:lnTo>
                        <a:lnTo>
                          <a:pt x="28" y="836"/>
                        </a:lnTo>
                        <a:lnTo>
                          <a:pt x="28" y="804"/>
                        </a:lnTo>
                        <a:lnTo>
                          <a:pt x="41" y="773"/>
                        </a:lnTo>
                        <a:lnTo>
                          <a:pt x="55" y="742"/>
                        </a:lnTo>
                        <a:lnTo>
                          <a:pt x="55" y="694"/>
                        </a:lnTo>
                        <a:lnTo>
                          <a:pt x="69" y="663"/>
                        </a:lnTo>
                        <a:lnTo>
                          <a:pt x="83" y="631"/>
                        </a:lnTo>
                        <a:lnTo>
                          <a:pt x="97" y="600"/>
                        </a:lnTo>
                        <a:lnTo>
                          <a:pt x="97" y="568"/>
                        </a:lnTo>
                        <a:lnTo>
                          <a:pt x="111" y="536"/>
                        </a:lnTo>
                        <a:lnTo>
                          <a:pt x="124" y="505"/>
                        </a:lnTo>
                        <a:lnTo>
                          <a:pt x="138" y="474"/>
                        </a:lnTo>
                        <a:lnTo>
                          <a:pt x="152" y="427"/>
                        </a:lnTo>
                        <a:lnTo>
                          <a:pt x="166" y="395"/>
                        </a:lnTo>
                        <a:lnTo>
                          <a:pt x="180" y="363"/>
                        </a:lnTo>
                        <a:lnTo>
                          <a:pt x="194" y="331"/>
                        </a:lnTo>
                        <a:lnTo>
                          <a:pt x="207" y="299"/>
                        </a:lnTo>
                        <a:lnTo>
                          <a:pt x="221" y="269"/>
                        </a:lnTo>
                        <a:lnTo>
                          <a:pt x="235" y="237"/>
                        </a:lnTo>
                        <a:lnTo>
                          <a:pt x="249" y="205"/>
                        </a:lnTo>
                        <a:lnTo>
                          <a:pt x="263" y="173"/>
                        </a:lnTo>
                        <a:lnTo>
                          <a:pt x="277" y="142"/>
                        </a:lnTo>
                        <a:lnTo>
                          <a:pt x="304" y="111"/>
                        </a:lnTo>
                        <a:lnTo>
                          <a:pt x="318" y="95"/>
                        </a:lnTo>
                        <a:lnTo>
                          <a:pt x="333" y="63"/>
                        </a:lnTo>
                        <a:lnTo>
                          <a:pt x="347" y="32"/>
                        </a:lnTo>
                        <a:lnTo>
                          <a:pt x="375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6423120" y="2519280"/>
                  <a:ext cx="88920" cy="125640"/>
                  <a:chOff x="6423120" y="2519280"/>
                  <a:chExt cx="88920" cy="12564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>
                    <a:off x="6423120" y="2519280"/>
                    <a:ext cx="8892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236">
                        <a:moveTo>
                          <a:pt x="0" y="236"/>
                        </a:moveTo>
                        <a:lnTo>
                          <a:pt x="14" y="205"/>
                        </a:lnTo>
                        <a:lnTo>
                          <a:pt x="27" y="173"/>
                        </a:lnTo>
                        <a:lnTo>
                          <a:pt x="55" y="141"/>
                        </a:lnTo>
                        <a:lnTo>
                          <a:pt x="83" y="111"/>
                        </a:lnTo>
                        <a:lnTo>
                          <a:pt x="97" y="79"/>
                        </a:lnTo>
                        <a:lnTo>
                          <a:pt x="124" y="62"/>
                        </a:lnTo>
                        <a:lnTo>
                          <a:pt x="152" y="32"/>
                        </a:lnTo>
                        <a:lnTo>
                          <a:pt x="166" y="0"/>
                        </a:lnTo>
                        <a:lnTo>
                          <a:pt x="0" y="236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6423120" y="2519280"/>
                    <a:ext cx="8892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236">
                        <a:moveTo>
                          <a:pt x="0" y="236"/>
                        </a:moveTo>
                        <a:lnTo>
                          <a:pt x="14" y="205"/>
                        </a:lnTo>
                        <a:lnTo>
                          <a:pt x="27" y="173"/>
                        </a:lnTo>
                        <a:lnTo>
                          <a:pt x="55" y="141"/>
                        </a:lnTo>
                        <a:lnTo>
                          <a:pt x="83" y="111"/>
                        </a:lnTo>
                        <a:lnTo>
                          <a:pt x="97" y="79"/>
                        </a:lnTo>
                        <a:lnTo>
                          <a:pt x="124" y="62"/>
                        </a:lnTo>
                        <a:lnTo>
                          <a:pt x="152" y="32"/>
                        </a:lnTo>
                        <a:lnTo>
                          <a:pt x="166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6512040" y="2478240"/>
                  <a:ext cx="42840" cy="41040"/>
                  <a:chOff x="6512040" y="2478240"/>
                  <a:chExt cx="42840" cy="4104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6512040" y="2478240"/>
                    <a:ext cx="4284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79">
                        <a:moveTo>
                          <a:pt x="0" y="79"/>
                        </a:moveTo>
                        <a:lnTo>
                          <a:pt x="27" y="47"/>
                        </a:lnTo>
                        <a:lnTo>
                          <a:pt x="55" y="32"/>
                        </a:lnTo>
                        <a:lnTo>
                          <a:pt x="83" y="0"/>
                        </a:lnTo>
                        <a:lnTo>
                          <a:pt x="0" y="79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6512040" y="2478240"/>
                    <a:ext cx="4284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79">
                        <a:moveTo>
                          <a:pt x="0" y="79"/>
                        </a:moveTo>
                        <a:lnTo>
                          <a:pt x="27" y="47"/>
                        </a:lnTo>
                        <a:lnTo>
                          <a:pt x="55" y="32"/>
                        </a:lnTo>
                        <a:lnTo>
                          <a:pt x="8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6554880" y="2460600"/>
                  <a:ext cx="21960" cy="17640"/>
                  <a:chOff x="6554880" y="2460600"/>
                  <a:chExt cx="21960" cy="17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554880" y="2460600"/>
                    <a:ext cx="219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2">
                        <a:moveTo>
                          <a:pt x="0" y="32"/>
                        </a:moveTo>
                        <a:lnTo>
                          <a:pt x="14" y="15"/>
                        </a:lnTo>
                        <a:lnTo>
                          <a:pt x="27" y="15"/>
                        </a:lnTo>
                        <a:lnTo>
                          <a:pt x="41" y="0"/>
                        </a:lnTo>
                        <a:lnTo>
                          <a:pt x="0" y="32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6554880" y="2460600"/>
                    <a:ext cx="219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2">
                        <a:moveTo>
                          <a:pt x="0" y="32"/>
                        </a:moveTo>
                        <a:lnTo>
                          <a:pt x="14" y="15"/>
                        </a:lnTo>
                        <a:lnTo>
                          <a:pt x="27" y="15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1" name=""/>
                <p:cNvGrpSpPr/>
                <p:nvPr/>
              </p:nvGrpSpPr>
              <p:grpSpPr>
                <a:xfrm>
                  <a:off x="6576840" y="4689360"/>
                  <a:ext cx="87480" cy="109800"/>
                  <a:chOff x="6576840" y="4689360"/>
                  <a:chExt cx="87480" cy="10980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>
                    <a:off x="6576840" y="4689360"/>
                    <a:ext cx="874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205">
                        <a:moveTo>
                          <a:pt x="166" y="205"/>
                        </a:moveTo>
                        <a:lnTo>
                          <a:pt x="139" y="190"/>
                        </a:lnTo>
                        <a:lnTo>
                          <a:pt x="111" y="158"/>
                        </a:lnTo>
                        <a:lnTo>
                          <a:pt x="83" y="126"/>
                        </a:lnTo>
                        <a:lnTo>
                          <a:pt x="69" y="94"/>
                        </a:lnTo>
                        <a:lnTo>
                          <a:pt x="42" y="64"/>
                        </a:lnTo>
                        <a:lnTo>
                          <a:pt x="14" y="32"/>
                        </a:lnTo>
                        <a:lnTo>
                          <a:pt x="0" y="0"/>
                        </a:lnTo>
                        <a:lnTo>
                          <a:pt x="166" y="205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576840" y="4689360"/>
                    <a:ext cx="874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205">
                        <a:moveTo>
                          <a:pt x="166" y="205"/>
                        </a:moveTo>
                        <a:lnTo>
                          <a:pt x="139" y="190"/>
                        </a:lnTo>
                        <a:lnTo>
                          <a:pt x="111" y="158"/>
                        </a:lnTo>
                        <a:lnTo>
                          <a:pt x="83" y="126"/>
                        </a:lnTo>
                        <a:lnTo>
                          <a:pt x="69" y="94"/>
                        </a:lnTo>
                        <a:lnTo>
                          <a:pt x="42" y="64"/>
                        </a:lnTo>
                        <a:lnTo>
                          <a:pt x="14" y="3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4" name=""/>
                <p:cNvGrpSpPr/>
                <p:nvPr/>
              </p:nvGrpSpPr>
              <p:grpSpPr>
                <a:xfrm>
                  <a:off x="6504120" y="4540320"/>
                  <a:ext cx="72720" cy="149040"/>
                  <a:chOff x="6504120" y="4540320"/>
                  <a:chExt cx="72720" cy="1490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6504120" y="4540320"/>
                    <a:ext cx="7272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284">
                        <a:moveTo>
                          <a:pt x="138" y="284"/>
                        </a:moveTo>
                        <a:lnTo>
                          <a:pt x="111" y="252"/>
                        </a:lnTo>
                        <a:lnTo>
                          <a:pt x="97" y="220"/>
                        </a:lnTo>
                        <a:lnTo>
                          <a:pt x="83" y="173"/>
                        </a:lnTo>
                        <a:lnTo>
                          <a:pt x="55" y="142"/>
                        </a:lnTo>
                        <a:lnTo>
                          <a:pt x="41" y="111"/>
                        </a:lnTo>
                        <a:lnTo>
                          <a:pt x="28" y="63"/>
                        </a:lnTo>
                        <a:lnTo>
                          <a:pt x="14" y="32"/>
                        </a:lnTo>
                        <a:lnTo>
                          <a:pt x="0" y="0"/>
                        </a:lnTo>
                        <a:lnTo>
                          <a:pt x="138" y="284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6504120" y="4540320"/>
                    <a:ext cx="7272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284">
                        <a:moveTo>
                          <a:pt x="138" y="284"/>
                        </a:moveTo>
                        <a:lnTo>
                          <a:pt x="111" y="252"/>
                        </a:lnTo>
                        <a:lnTo>
                          <a:pt x="97" y="220"/>
                        </a:lnTo>
                        <a:lnTo>
                          <a:pt x="83" y="173"/>
                        </a:lnTo>
                        <a:lnTo>
                          <a:pt x="55" y="142"/>
                        </a:lnTo>
                        <a:lnTo>
                          <a:pt x="41" y="111"/>
                        </a:lnTo>
                        <a:lnTo>
                          <a:pt x="28" y="63"/>
                        </a:lnTo>
                        <a:lnTo>
                          <a:pt x="14" y="3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6378480" y="4105440"/>
                  <a:ext cx="125640" cy="434880"/>
                  <a:chOff x="6378480" y="4105440"/>
                  <a:chExt cx="125640" cy="43488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6378480" y="4105440"/>
                    <a:ext cx="125640" cy="434880"/>
                  </a:xfrm>
                  <a:custGeom>
                    <a:avLst/>
                    <a:gdLst/>
                    <a:ahLst/>
                    <a:rect l="l" t="t" r="r" b="b"/>
                    <a:pathLst>
                      <a:path w="237" h="820">
                        <a:moveTo>
                          <a:pt x="237" y="820"/>
                        </a:moveTo>
                        <a:lnTo>
                          <a:pt x="223" y="789"/>
                        </a:lnTo>
                        <a:lnTo>
                          <a:pt x="209" y="742"/>
                        </a:lnTo>
                        <a:lnTo>
                          <a:pt x="195" y="710"/>
                        </a:lnTo>
                        <a:lnTo>
                          <a:pt x="182" y="678"/>
                        </a:lnTo>
                        <a:lnTo>
                          <a:pt x="168" y="646"/>
                        </a:lnTo>
                        <a:lnTo>
                          <a:pt x="154" y="616"/>
                        </a:lnTo>
                        <a:lnTo>
                          <a:pt x="154" y="584"/>
                        </a:lnTo>
                        <a:lnTo>
                          <a:pt x="140" y="552"/>
                        </a:lnTo>
                        <a:lnTo>
                          <a:pt x="126" y="520"/>
                        </a:lnTo>
                        <a:lnTo>
                          <a:pt x="112" y="488"/>
                        </a:lnTo>
                        <a:lnTo>
                          <a:pt x="99" y="441"/>
                        </a:lnTo>
                        <a:lnTo>
                          <a:pt x="99" y="409"/>
                        </a:lnTo>
                        <a:lnTo>
                          <a:pt x="85" y="379"/>
                        </a:lnTo>
                        <a:lnTo>
                          <a:pt x="71" y="347"/>
                        </a:lnTo>
                        <a:lnTo>
                          <a:pt x="71" y="315"/>
                        </a:lnTo>
                        <a:lnTo>
                          <a:pt x="57" y="284"/>
                        </a:lnTo>
                        <a:lnTo>
                          <a:pt x="57" y="237"/>
                        </a:lnTo>
                        <a:lnTo>
                          <a:pt x="43" y="205"/>
                        </a:lnTo>
                        <a:lnTo>
                          <a:pt x="28" y="173"/>
                        </a:lnTo>
                        <a:lnTo>
                          <a:pt x="28" y="142"/>
                        </a:lnTo>
                        <a:lnTo>
                          <a:pt x="14" y="111"/>
                        </a:lnTo>
                        <a:lnTo>
                          <a:pt x="14" y="64"/>
                        </a:lnTo>
                        <a:lnTo>
                          <a:pt x="14" y="32"/>
                        </a:lnTo>
                        <a:lnTo>
                          <a:pt x="0" y="0"/>
                        </a:lnTo>
                        <a:lnTo>
                          <a:pt x="237" y="820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6378480" y="4105440"/>
                    <a:ext cx="125640" cy="434880"/>
                  </a:xfrm>
                  <a:custGeom>
                    <a:avLst/>
                    <a:gdLst/>
                    <a:ahLst/>
                    <a:rect l="l" t="t" r="r" b="b"/>
                    <a:pathLst>
                      <a:path w="237" h="820">
                        <a:moveTo>
                          <a:pt x="237" y="820"/>
                        </a:moveTo>
                        <a:lnTo>
                          <a:pt x="223" y="789"/>
                        </a:lnTo>
                        <a:lnTo>
                          <a:pt x="209" y="742"/>
                        </a:lnTo>
                        <a:lnTo>
                          <a:pt x="195" y="710"/>
                        </a:lnTo>
                        <a:lnTo>
                          <a:pt x="182" y="678"/>
                        </a:lnTo>
                        <a:lnTo>
                          <a:pt x="168" y="646"/>
                        </a:lnTo>
                        <a:lnTo>
                          <a:pt x="154" y="616"/>
                        </a:lnTo>
                        <a:lnTo>
                          <a:pt x="154" y="584"/>
                        </a:lnTo>
                        <a:lnTo>
                          <a:pt x="140" y="552"/>
                        </a:lnTo>
                        <a:lnTo>
                          <a:pt x="126" y="520"/>
                        </a:lnTo>
                        <a:lnTo>
                          <a:pt x="112" y="488"/>
                        </a:lnTo>
                        <a:lnTo>
                          <a:pt x="99" y="441"/>
                        </a:lnTo>
                        <a:lnTo>
                          <a:pt x="99" y="409"/>
                        </a:lnTo>
                        <a:lnTo>
                          <a:pt x="85" y="379"/>
                        </a:lnTo>
                        <a:lnTo>
                          <a:pt x="71" y="347"/>
                        </a:lnTo>
                        <a:lnTo>
                          <a:pt x="71" y="315"/>
                        </a:lnTo>
                        <a:lnTo>
                          <a:pt x="57" y="284"/>
                        </a:lnTo>
                        <a:lnTo>
                          <a:pt x="57" y="237"/>
                        </a:lnTo>
                        <a:lnTo>
                          <a:pt x="43" y="205"/>
                        </a:lnTo>
                        <a:lnTo>
                          <a:pt x="28" y="173"/>
                        </a:lnTo>
                        <a:lnTo>
                          <a:pt x="28" y="142"/>
                        </a:lnTo>
                        <a:lnTo>
                          <a:pt x="14" y="111"/>
                        </a:lnTo>
                        <a:lnTo>
                          <a:pt x="14" y="64"/>
                        </a:lnTo>
                        <a:lnTo>
                          <a:pt x="14" y="3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0" name=""/>
                <p:cNvGrpSpPr/>
                <p:nvPr/>
              </p:nvGrpSpPr>
              <p:grpSpPr>
                <a:xfrm>
                  <a:off x="6356520" y="3821040"/>
                  <a:ext cx="21960" cy="284400"/>
                  <a:chOff x="6356520" y="3821040"/>
                  <a:chExt cx="21960" cy="2844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6356520" y="3821040"/>
                    <a:ext cx="21960" cy="28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537">
                        <a:moveTo>
                          <a:pt x="41" y="537"/>
                        </a:moveTo>
                        <a:lnTo>
                          <a:pt x="41" y="505"/>
                        </a:lnTo>
                        <a:lnTo>
                          <a:pt x="41" y="458"/>
                        </a:lnTo>
                        <a:lnTo>
                          <a:pt x="28" y="426"/>
                        </a:lnTo>
                        <a:lnTo>
                          <a:pt x="28" y="379"/>
                        </a:lnTo>
                        <a:lnTo>
                          <a:pt x="14" y="347"/>
                        </a:lnTo>
                        <a:lnTo>
                          <a:pt x="14" y="300"/>
                        </a:lnTo>
                        <a:lnTo>
                          <a:pt x="14" y="268"/>
                        </a:lnTo>
                        <a:lnTo>
                          <a:pt x="0" y="221"/>
                        </a:lnTo>
                        <a:lnTo>
                          <a:pt x="0" y="190"/>
                        </a:lnTo>
                        <a:lnTo>
                          <a:pt x="0" y="158"/>
                        </a:lnTo>
                        <a:lnTo>
                          <a:pt x="0" y="111"/>
                        </a:lnTo>
                        <a:lnTo>
                          <a:pt x="0" y="79"/>
                        </a:lnTo>
                        <a:lnTo>
                          <a:pt x="0" y="32"/>
                        </a:lnTo>
                        <a:lnTo>
                          <a:pt x="0" y="0"/>
                        </a:lnTo>
                        <a:lnTo>
                          <a:pt x="41" y="537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6356520" y="3821040"/>
                    <a:ext cx="21960" cy="28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537">
                        <a:moveTo>
                          <a:pt x="41" y="537"/>
                        </a:moveTo>
                        <a:lnTo>
                          <a:pt x="41" y="505"/>
                        </a:lnTo>
                        <a:lnTo>
                          <a:pt x="41" y="458"/>
                        </a:lnTo>
                        <a:lnTo>
                          <a:pt x="28" y="426"/>
                        </a:lnTo>
                        <a:lnTo>
                          <a:pt x="28" y="379"/>
                        </a:lnTo>
                        <a:lnTo>
                          <a:pt x="14" y="347"/>
                        </a:lnTo>
                        <a:lnTo>
                          <a:pt x="14" y="300"/>
                        </a:lnTo>
                        <a:lnTo>
                          <a:pt x="14" y="268"/>
                        </a:lnTo>
                        <a:lnTo>
                          <a:pt x="0" y="221"/>
                        </a:lnTo>
                        <a:lnTo>
                          <a:pt x="0" y="190"/>
                        </a:lnTo>
                        <a:lnTo>
                          <a:pt x="0" y="158"/>
                        </a:lnTo>
                        <a:lnTo>
                          <a:pt x="0" y="111"/>
                        </a:lnTo>
                        <a:lnTo>
                          <a:pt x="0" y="79"/>
                        </a:lnTo>
                        <a:lnTo>
                          <a:pt x="0" y="3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3" name=""/>
                <p:cNvGrpSpPr/>
                <p:nvPr/>
              </p:nvGrpSpPr>
              <p:grpSpPr>
                <a:xfrm>
                  <a:off x="6350040" y="3413160"/>
                  <a:ext cx="6480" cy="407880"/>
                  <a:chOff x="6350040" y="3413160"/>
                  <a:chExt cx="6480" cy="40788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6350040" y="3413160"/>
                    <a:ext cx="6480" cy="40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772">
                        <a:moveTo>
                          <a:pt x="14" y="772"/>
                        </a:moveTo>
                        <a:lnTo>
                          <a:pt x="14" y="742"/>
                        </a:lnTo>
                        <a:lnTo>
                          <a:pt x="14" y="693"/>
                        </a:lnTo>
                        <a:lnTo>
                          <a:pt x="0" y="663"/>
                        </a:lnTo>
                        <a:lnTo>
                          <a:pt x="0" y="631"/>
                        </a:lnTo>
                        <a:lnTo>
                          <a:pt x="0" y="584"/>
                        </a:lnTo>
                        <a:lnTo>
                          <a:pt x="0" y="552"/>
                        </a:lnTo>
                        <a:lnTo>
                          <a:pt x="0" y="520"/>
                        </a:lnTo>
                        <a:lnTo>
                          <a:pt x="0" y="473"/>
                        </a:lnTo>
                        <a:lnTo>
                          <a:pt x="0" y="441"/>
                        </a:lnTo>
                        <a:lnTo>
                          <a:pt x="0" y="410"/>
                        </a:lnTo>
                        <a:lnTo>
                          <a:pt x="0" y="362"/>
                        </a:lnTo>
                        <a:lnTo>
                          <a:pt x="0" y="331"/>
                        </a:lnTo>
                        <a:lnTo>
                          <a:pt x="0" y="299"/>
                        </a:lnTo>
                        <a:lnTo>
                          <a:pt x="0" y="252"/>
                        </a:lnTo>
                        <a:lnTo>
                          <a:pt x="0" y="220"/>
                        </a:lnTo>
                        <a:lnTo>
                          <a:pt x="0" y="188"/>
                        </a:lnTo>
                        <a:lnTo>
                          <a:pt x="0" y="141"/>
                        </a:lnTo>
                        <a:lnTo>
                          <a:pt x="0" y="109"/>
                        </a:lnTo>
                        <a:lnTo>
                          <a:pt x="0" y="79"/>
                        </a:lnTo>
                        <a:lnTo>
                          <a:pt x="14" y="47"/>
                        </a:lnTo>
                        <a:lnTo>
                          <a:pt x="14" y="0"/>
                        </a:lnTo>
                        <a:lnTo>
                          <a:pt x="14" y="772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6350040" y="3413160"/>
                    <a:ext cx="6480" cy="40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772">
                        <a:moveTo>
                          <a:pt x="14" y="772"/>
                        </a:moveTo>
                        <a:lnTo>
                          <a:pt x="14" y="742"/>
                        </a:lnTo>
                        <a:lnTo>
                          <a:pt x="14" y="693"/>
                        </a:lnTo>
                        <a:lnTo>
                          <a:pt x="0" y="663"/>
                        </a:lnTo>
                        <a:lnTo>
                          <a:pt x="0" y="631"/>
                        </a:lnTo>
                        <a:lnTo>
                          <a:pt x="0" y="584"/>
                        </a:lnTo>
                        <a:lnTo>
                          <a:pt x="0" y="552"/>
                        </a:lnTo>
                        <a:lnTo>
                          <a:pt x="0" y="520"/>
                        </a:lnTo>
                        <a:lnTo>
                          <a:pt x="0" y="473"/>
                        </a:lnTo>
                        <a:lnTo>
                          <a:pt x="0" y="441"/>
                        </a:lnTo>
                        <a:lnTo>
                          <a:pt x="0" y="410"/>
                        </a:lnTo>
                        <a:lnTo>
                          <a:pt x="0" y="362"/>
                        </a:lnTo>
                        <a:lnTo>
                          <a:pt x="0" y="331"/>
                        </a:lnTo>
                        <a:lnTo>
                          <a:pt x="0" y="299"/>
                        </a:lnTo>
                        <a:lnTo>
                          <a:pt x="0" y="252"/>
                        </a:lnTo>
                        <a:lnTo>
                          <a:pt x="0" y="220"/>
                        </a:lnTo>
                        <a:lnTo>
                          <a:pt x="0" y="188"/>
                        </a:lnTo>
                        <a:lnTo>
                          <a:pt x="0" y="141"/>
                        </a:lnTo>
                        <a:lnTo>
                          <a:pt x="0" y="109"/>
                        </a:lnTo>
                        <a:lnTo>
                          <a:pt x="0" y="79"/>
                        </a:lnTo>
                        <a:lnTo>
                          <a:pt x="14" y="47"/>
                        </a:lnTo>
                        <a:lnTo>
                          <a:pt x="14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6" name=""/>
                <p:cNvGrpSpPr/>
                <p:nvPr/>
              </p:nvGrpSpPr>
              <p:grpSpPr>
                <a:xfrm>
                  <a:off x="6356520" y="3129120"/>
                  <a:ext cx="29880" cy="284040"/>
                  <a:chOff x="6356520" y="3129120"/>
                  <a:chExt cx="29880" cy="28404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6356520" y="3129120"/>
                    <a:ext cx="2988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537">
                        <a:moveTo>
                          <a:pt x="0" y="537"/>
                        </a:moveTo>
                        <a:lnTo>
                          <a:pt x="0" y="505"/>
                        </a:lnTo>
                        <a:lnTo>
                          <a:pt x="14" y="473"/>
                        </a:lnTo>
                        <a:lnTo>
                          <a:pt x="14" y="426"/>
                        </a:lnTo>
                        <a:lnTo>
                          <a:pt x="14" y="394"/>
                        </a:lnTo>
                        <a:lnTo>
                          <a:pt x="14" y="363"/>
                        </a:lnTo>
                        <a:lnTo>
                          <a:pt x="28" y="331"/>
                        </a:lnTo>
                        <a:lnTo>
                          <a:pt x="28" y="284"/>
                        </a:lnTo>
                        <a:lnTo>
                          <a:pt x="28" y="252"/>
                        </a:lnTo>
                        <a:lnTo>
                          <a:pt x="28" y="221"/>
                        </a:lnTo>
                        <a:lnTo>
                          <a:pt x="41" y="173"/>
                        </a:lnTo>
                        <a:lnTo>
                          <a:pt x="41" y="143"/>
                        </a:lnTo>
                        <a:lnTo>
                          <a:pt x="41" y="111"/>
                        </a:lnTo>
                        <a:lnTo>
                          <a:pt x="55" y="79"/>
                        </a:lnTo>
                        <a:lnTo>
                          <a:pt x="55" y="32"/>
                        </a:lnTo>
                        <a:lnTo>
                          <a:pt x="55" y="0"/>
                        </a:lnTo>
                        <a:lnTo>
                          <a:pt x="0" y="537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356520" y="3129120"/>
                    <a:ext cx="2988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537">
                        <a:moveTo>
                          <a:pt x="0" y="537"/>
                        </a:moveTo>
                        <a:lnTo>
                          <a:pt x="0" y="505"/>
                        </a:lnTo>
                        <a:lnTo>
                          <a:pt x="14" y="473"/>
                        </a:lnTo>
                        <a:lnTo>
                          <a:pt x="14" y="426"/>
                        </a:lnTo>
                        <a:lnTo>
                          <a:pt x="14" y="394"/>
                        </a:lnTo>
                        <a:lnTo>
                          <a:pt x="14" y="363"/>
                        </a:lnTo>
                        <a:lnTo>
                          <a:pt x="28" y="331"/>
                        </a:lnTo>
                        <a:lnTo>
                          <a:pt x="28" y="284"/>
                        </a:lnTo>
                        <a:lnTo>
                          <a:pt x="28" y="252"/>
                        </a:lnTo>
                        <a:lnTo>
                          <a:pt x="28" y="221"/>
                        </a:lnTo>
                        <a:lnTo>
                          <a:pt x="41" y="173"/>
                        </a:lnTo>
                        <a:lnTo>
                          <a:pt x="41" y="143"/>
                        </a:lnTo>
                        <a:lnTo>
                          <a:pt x="41" y="111"/>
                        </a:lnTo>
                        <a:lnTo>
                          <a:pt x="55" y="79"/>
                        </a:lnTo>
                        <a:lnTo>
                          <a:pt x="55" y="32"/>
                        </a:lnTo>
                        <a:lnTo>
                          <a:pt x="55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6386400" y="2662200"/>
                  <a:ext cx="146160" cy="466920"/>
                  <a:chOff x="6386400" y="2662200"/>
                  <a:chExt cx="146160" cy="46692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6386400" y="2662200"/>
                    <a:ext cx="146160" cy="46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8" h="883">
                        <a:moveTo>
                          <a:pt x="0" y="883"/>
                        </a:moveTo>
                        <a:lnTo>
                          <a:pt x="14" y="851"/>
                        </a:lnTo>
                        <a:lnTo>
                          <a:pt x="14" y="804"/>
                        </a:lnTo>
                        <a:lnTo>
                          <a:pt x="29" y="772"/>
                        </a:lnTo>
                        <a:lnTo>
                          <a:pt x="29" y="725"/>
                        </a:lnTo>
                        <a:lnTo>
                          <a:pt x="43" y="694"/>
                        </a:lnTo>
                        <a:lnTo>
                          <a:pt x="43" y="662"/>
                        </a:lnTo>
                        <a:lnTo>
                          <a:pt x="57" y="631"/>
                        </a:lnTo>
                        <a:lnTo>
                          <a:pt x="57" y="599"/>
                        </a:lnTo>
                        <a:lnTo>
                          <a:pt x="71" y="552"/>
                        </a:lnTo>
                        <a:lnTo>
                          <a:pt x="85" y="521"/>
                        </a:lnTo>
                        <a:lnTo>
                          <a:pt x="85" y="489"/>
                        </a:lnTo>
                        <a:lnTo>
                          <a:pt x="98" y="457"/>
                        </a:lnTo>
                        <a:lnTo>
                          <a:pt x="112" y="425"/>
                        </a:lnTo>
                        <a:lnTo>
                          <a:pt x="126" y="395"/>
                        </a:lnTo>
                        <a:lnTo>
                          <a:pt x="140" y="363"/>
                        </a:lnTo>
                        <a:lnTo>
                          <a:pt x="140" y="316"/>
                        </a:lnTo>
                        <a:lnTo>
                          <a:pt x="154" y="284"/>
                        </a:lnTo>
                        <a:lnTo>
                          <a:pt x="168" y="252"/>
                        </a:lnTo>
                        <a:lnTo>
                          <a:pt x="181" y="220"/>
                        </a:lnTo>
                        <a:lnTo>
                          <a:pt x="195" y="188"/>
                        </a:lnTo>
                        <a:lnTo>
                          <a:pt x="209" y="158"/>
                        </a:lnTo>
                        <a:lnTo>
                          <a:pt x="223" y="126"/>
                        </a:lnTo>
                        <a:lnTo>
                          <a:pt x="237" y="94"/>
                        </a:lnTo>
                        <a:lnTo>
                          <a:pt x="251" y="63"/>
                        </a:lnTo>
                        <a:lnTo>
                          <a:pt x="264" y="31"/>
                        </a:lnTo>
                        <a:lnTo>
                          <a:pt x="278" y="0"/>
                        </a:lnTo>
                        <a:lnTo>
                          <a:pt x="0" y="883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6386400" y="2662200"/>
                    <a:ext cx="146160" cy="46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8" h="883">
                        <a:moveTo>
                          <a:pt x="0" y="883"/>
                        </a:moveTo>
                        <a:lnTo>
                          <a:pt x="14" y="851"/>
                        </a:lnTo>
                        <a:lnTo>
                          <a:pt x="14" y="804"/>
                        </a:lnTo>
                        <a:lnTo>
                          <a:pt x="29" y="772"/>
                        </a:lnTo>
                        <a:lnTo>
                          <a:pt x="29" y="725"/>
                        </a:lnTo>
                        <a:lnTo>
                          <a:pt x="43" y="694"/>
                        </a:lnTo>
                        <a:lnTo>
                          <a:pt x="43" y="662"/>
                        </a:lnTo>
                        <a:lnTo>
                          <a:pt x="57" y="631"/>
                        </a:lnTo>
                        <a:lnTo>
                          <a:pt x="57" y="599"/>
                        </a:lnTo>
                        <a:lnTo>
                          <a:pt x="71" y="552"/>
                        </a:lnTo>
                        <a:lnTo>
                          <a:pt x="85" y="521"/>
                        </a:lnTo>
                        <a:lnTo>
                          <a:pt x="85" y="489"/>
                        </a:lnTo>
                        <a:lnTo>
                          <a:pt x="98" y="457"/>
                        </a:lnTo>
                        <a:lnTo>
                          <a:pt x="112" y="425"/>
                        </a:lnTo>
                        <a:lnTo>
                          <a:pt x="126" y="395"/>
                        </a:lnTo>
                        <a:lnTo>
                          <a:pt x="140" y="363"/>
                        </a:lnTo>
                        <a:lnTo>
                          <a:pt x="140" y="316"/>
                        </a:lnTo>
                        <a:lnTo>
                          <a:pt x="154" y="284"/>
                        </a:lnTo>
                        <a:lnTo>
                          <a:pt x="168" y="252"/>
                        </a:lnTo>
                        <a:lnTo>
                          <a:pt x="181" y="220"/>
                        </a:lnTo>
                        <a:lnTo>
                          <a:pt x="195" y="188"/>
                        </a:lnTo>
                        <a:lnTo>
                          <a:pt x="209" y="158"/>
                        </a:lnTo>
                        <a:lnTo>
                          <a:pt x="223" y="126"/>
                        </a:lnTo>
                        <a:lnTo>
                          <a:pt x="237" y="94"/>
                        </a:lnTo>
                        <a:lnTo>
                          <a:pt x="251" y="63"/>
                        </a:lnTo>
                        <a:lnTo>
                          <a:pt x="264" y="31"/>
                        </a:lnTo>
                        <a:lnTo>
                          <a:pt x="27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2" name=""/>
                <p:cNvGrpSpPr/>
                <p:nvPr/>
              </p:nvGrpSpPr>
              <p:grpSpPr>
                <a:xfrm>
                  <a:off x="6532560" y="2519280"/>
                  <a:ext cx="81000" cy="142920"/>
                  <a:chOff x="6532560" y="2519280"/>
                  <a:chExt cx="81000" cy="142920"/>
                </a:xfrm>
              </p:grpSpPr>
              <p:sp>
                <p:nvSpPr>
                  <p:cNvPr id="273" name=""/>
                  <p:cNvSpPr/>
                  <p:nvPr/>
                </p:nvSpPr>
                <p:spPr>
                  <a:xfrm>
                    <a:off x="6532560" y="2519280"/>
                    <a:ext cx="810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268">
                        <a:moveTo>
                          <a:pt x="0" y="268"/>
                        </a:moveTo>
                        <a:lnTo>
                          <a:pt x="14" y="236"/>
                        </a:lnTo>
                        <a:lnTo>
                          <a:pt x="28" y="189"/>
                        </a:lnTo>
                        <a:lnTo>
                          <a:pt x="56" y="158"/>
                        </a:lnTo>
                        <a:lnTo>
                          <a:pt x="69" y="126"/>
                        </a:lnTo>
                        <a:lnTo>
                          <a:pt x="83" y="94"/>
                        </a:lnTo>
                        <a:lnTo>
                          <a:pt x="111" y="62"/>
                        </a:lnTo>
                        <a:lnTo>
                          <a:pt x="139" y="32"/>
                        </a:lnTo>
                        <a:lnTo>
                          <a:pt x="152" y="0"/>
                        </a:lnTo>
                        <a:lnTo>
                          <a:pt x="0" y="268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6532560" y="2519280"/>
                    <a:ext cx="810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268">
                        <a:moveTo>
                          <a:pt x="0" y="268"/>
                        </a:moveTo>
                        <a:lnTo>
                          <a:pt x="14" y="236"/>
                        </a:lnTo>
                        <a:lnTo>
                          <a:pt x="28" y="189"/>
                        </a:lnTo>
                        <a:lnTo>
                          <a:pt x="56" y="158"/>
                        </a:lnTo>
                        <a:lnTo>
                          <a:pt x="69" y="126"/>
                        </a:lnTo>
                        <a:lnTo>
                          <a:pt x="83" y="94"/>
                        </a:lnTo>
                        <a:lnTo>
                          <a:pt x="111" y="62"/>
                        </a:lnTo>
                        <a:lnTo>
                          <a:pt x="139" y="32"/>
                        </a:lnTo>
                        <a:lnTo>
                          <a:pt x="15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5" name=""/>
                <p:cNvGrpSpPr/>
                <p:nvPr/>
              </p:nvGrpSpPr>
              <p:grpSpPr>
                <a:xfrm>
                  <a:off x="6613560" y="2478240"/>
                  <a:ext cx="36360" cy="41040"/>
                  <a:chOff x="6613560" y="2478240"/>
                  <a:chExt cx="36360" cy="4104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6613560" y="2478240"/>
                    <a:ext cx="363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79">
                        <a:moveTo>
                          <a:pt x="0" y="79"/>
                        </a:moveTo>
                        <a:lnTo>
                          <a:pt x="28" y="47"/>
                        </a:lnTo>
                        <a:lnTo>
                          <a:pt x="42" y="32"/>
                        </a:lnTo>
                        <a:lnTo>
                          <a:pt x="70" y="0"/>
                        </a:lnTo>
                        <a:lnTo>
                          <a:pt x="0" y="79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6613560" y="2478240"/>
                    <a:ext cx="363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79">
                        <a:moveTo>
                          <a:pt x="0" y="79"/>
                        </a:moveTo>
                        <a:lnTo>
                          <a:pt x="28" y="47"/>
                        </a:lnTo>
                        <a:lnTo>
                          <a:pt x="42" y="32"/>
                        </a:lnTo>
                        <a:lnTo>
                          <a:pt x="7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8" name=""/>
                <p:cNvGrpSpPr/>
                <p:nvPr/>
              </p:nvGrpSpPr>
              <p:grpSpPr>
                <a:xfrm>
                  <a:off x="6649920" y="2460600"/>
                  <a:ext cx="14400" cy="17640"/>
                  <a:chOff x="6649920" y="2460600"/>
                  <a:chExt cx="14400" cy="1764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>
                    <a:off x="6649920" y="2460600"/>
                    <a:ext cx="144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32">
                        <a:moveTo>
                          <a:pt x="0" y="32"/>
                        </a:moveTo>
                        <a:lnTo>
                          <a:pt x="13" y="15"/>
                        </a:lnTo>
                        <a:lnTo>
                          <a:pt x="27" y="15"/>
                        </a:lnTo>
                        <a:lnTo>
                          <a:pt x="27" y="0"/>
                        </a:lnTo>
                        <a:lnTo>
                          <a:pt x="0" y="32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6649920" y="2460600"/>
                    <a:ext cx="144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32">
                        <a:moveTo>
                          <a:pt x="0" y="32"/>
                        </a:moveTo>
                        <a:lnTo>
                          <a:pt x="13" y="15"/>
                        </a:lnTo>
                        <a:lnTo>
                          <a:pt x="27" y="15"/>
                        </a:lnTo>
                        <a:lnTo>
                          <a:pt x="2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1" name=""/>
                <p:cNvGrpSpPr/>
                <p:nvPr/>
              </p:nvGrpSpPr>
              <p:grpSpPr>
                <a:xfrm>
                  <a:off x="6562800" y="4222800"/>
                  <a:ext cx="190440" cy="576360"/>
                  <a:chOff x="6562800" y="4222800"/>
                  <a:chExt cx="190440" cy="576360"/>
                </a:xfrm>
              </p:grpSpPr>
              <p:sp>
                <p:nvSpPr>
                  <p:cNvPr id="282" name=""/>
                  <p:cNvSpPr/>
                  <p:nvPr/>
                </p:nvSpPr>
                <p:spPr>
                  <a:xfrm>
                    <a:off x="6562800" y="4222800"/>
                    <a:ext cx="190440" cy="57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1088">
                        <a:moveTo>
                          <a:pt x="359" y="1088"/>
                        </a:moveTo>
                        <a:lnTo>
                          <a:pt x="345" y="1073"/>
                        </a:lnTo>
                        <a:lnTo>
                          <a:pt x="332" y="1041"/>
                        </a:lnTo>
                        <a:lnTo>
                          <a:pt x="304" y="1009"/>
                        </a:lnTo>
                        <a:lnTo>
                          <a:pt x="290" y="994"/>
                        </a:lnTo>
                        <a:lnTo>
                          <a:pt x="276" y="962"/>
                        </a:lnTo>
                        <a:lnTo>
                          <a:pt x="262" y="930"/>
                        </a:lnTo>
                        <a:lnTo>
                          <a:pt x="249" y="898"/>
                        </a:lnTo>
                        <a:lnTo>
                          <a:pt x="235" y="868"/>
                        </a:lnTo>
                        <a:lnTo>
                          <a:pt x="221" y="836"/>
                        </a:lnTo>
                        <a:lnTo>
                          <a:pt x="207" y="804"/>
                        </a:lnTo>
                        <a:lnTo>
                          <a:pt x="193" y="772"/>
                        </a:lnTo>
                        <a:lnTo>
                          <a:pt x="179" y="741"/>
                        </a:lnTo>
                        <a:lnTo>
                          <a:pt x="166" y="710"/>
                        </a:lnTo>
                        <a:lnTo>
                          <a:pt x="152" y="678"/>
                        </a:lnTo>
                        <a:lnTo>
                          <a:pt x="138" y="646"/>
                        </a:lnTo>
                        <a:lnTo>
                          <a:pt x="138" y="615"/>
                        </a:lnTo>
                        <a:lnTo>
                          <a:pt x="124" y="583"/>
                        </a:lnTo>
                        <a:lnTo>
                          <a:pt x="110" y="552"/>
                        </a:lnTo>
                        <a:lnTo>
                          <a:pt x="96" y="504"/>
                        </a:lnTo>
                        <a:lnTo>
                          <a:pt x="96" y="474"/>
                        </a:lnTo>
                        <a:lnTo>
                          <a:pt x="83" y="442"/>
                        </a:lnTo>
                        <a:lnTo>
                          <a:pt x="83" y="410"/>
                        </a:lnTo>
                        <a:lnTo>
                          <a:pt x="69" y="378"/>
                        </a:lnTo>
                        <a:lnTo>
                          <a:pt x="55" y="346"/>
                        </a:lnTo>
                        <a:lnTo>
                          <a:pt x="55" y="299"/>
                        </a:lnTo>
                        <a:lnTo>
                          <a:pt x="41" y="267"/>
                        </a:lnTo>
                        <a:lnTo>
                          <a:pt x="41" y="237"/>
                        </a:lnTo>
                        <a:lnTo>
                          <a:pt x="27" y="205"/>
                        </a:lnTo>
                        <a:lnTo>
                          <a:pt x="27" y="173"/>
                        </a:lnTo>
                        <a:lnTo>
                          <a:pt x="13" y="141"/>
                        </a:lnTo>
                        <a:lnTo>
                          <a:pt x="13" y="110"/>
                        </a:lnTo>
                        <a:lnTo>
                          <a:pt x="0" y="79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lnTo>
                          <a:pt x="359" y="1088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6562800" y="4222800"/>
                    <a:ext cx="190440" cy="57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1088">
                        <a:moveTo>
                          <a:pt x="359" y="1088"/>
                        </a:moveTo>
                        <a:lnTo>
                          <a:pt x="345" y="1073"/>
                        </a:lnTo>
                        <a:lnTo>
                          <a:pt x="332" y="1041"/>
                        </a:lnTo>
                        <a:lnTo>
                          <a:pt x="304" y="1009"/>
                        </a:lnTo>
                        <a:lnTo>
                          <a:pt x="290" y="994"/>
                        </a:lnTo>
                        <a:lnTo>
                          <a:pt x="276" y="962"/>
                        </a:lnTo>
                        <a:lnTo>
                          <a:pt x="262" y="930"/>
                        </a:lnTo>
                        <a:lnTo>
                          <a:pt x="249" y="898"/>
                        </a:lnTo>
                        <a:lnTo>
                          <a:pt x="235" y="868"/>
                        </a:lnTo>
                        <a:lnTo>
                          <a:pt x="221" y="836"/>
                        </a:lnTo>
                        <a:lnTo>
                          <a:pt x="207" y="804"/>
                        </a:lnTo>
                        <a:lnTo>
                          <a:pt x="193" y="772"/>
                        </a:lnTo>
                        <a:lnTo>
                          <a:pt x="179" y="741"/>
                        </a:lnTo>
                        <a:lnTo>
                          <a:pt x="166" y="710"/>
                        </a:lnTo>
                        <a:lnTo>
                          <a:pt x="152" y="678"/>
                        </a:lnTo>
                        <a:lnTo>
                          <a:pt x="138" y="646"/>
                        </a:lnTo>
                        <a:lnTo>
                          <a:pt x="138" y="615"/>
                        </a:lnTo>
                        <a:lnTo>
                          <a:pt x="124" y="583"/>
                        </a:lnTo>
                        <a:lnTo>
                          <a:pt x="110" y="552"/>
                        </a:lnTo>
                        <a:lnTo>
                          <a:pt x="96" y="504"/>
                        </a:lnTo>
                        <a:lnTo>
                          <a:pt x="96" y="474"/>
                        </a:lnTo>
                        <a:lnTo>
                          <a:pt x="83" y="442"/>
                        </a:lnTo>
                        <a:lnTo>
                          <a:pt x="83" y="410"/>
                        </a:lnTo>
                        <a:lnTo>
                          <a:pt x="69" y="378"/>
                        </a:lnTo>
                        <a:lnTo>
                          <a:pt x="55" y="346"/>
                        </a:lnTo>
                        <a:lnTo>
                          <a:pt x="55" y="299"/>
                        </a:lnTo>
                        <a:lnTo>
                          <a:pt x="41" y="267"/>
                        </a:lnTo>
                        <a:lnTo>
                          <a:pt x="41" y="237"/>
                        </a:lnTo>
                        <a:lnTo>
                          <a:pt x="27" y="205"/>
                        </a:lnTo>
                        <a:lnTo>
                          <a:pt x="27" y="173"/>
                        </a:lnTo>
                        <a:lnTo>
                          <a:pt x="13" y="141"/>
                        </a:lnTo>
                        <a:lnTo>
                          <a:pt x="13" y="110"/>
                        </a:lnTo>
                        <a:lnTo>
                          <a:pt x="0" y="79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4" name=""/>
                <p:cNvGrpSpPr/>
                <p:nvPr/>
              </p:nvGrpSpPr>
              <p:grpSpPr>
                <a:xfrm>
                  <a:off x="6526080" y="3963960"/>
                  <a:ext cx="36720" cy="258840"/>
                  <a:chOff x="6526080" y="3963960"/>
                  <a:chExt cx="36720" cy="25884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>
                    <a:off x="6526080" y="3963960"/>
                    <a:ext cx="36720" cy="2588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490">
                        <a:moveTo>
                          <a:pt x="70" y="490"/>
                        </a:moveTo>
                        <a:lnTo>
                          <a:pt x="56" y="458"/>
                        </a:lnTo>
                        <a:lnTo>
                          <a:pt x="56" y="427"/>
                        </a:lnTo>
                        <a:lnTo>
                          <a:pt x="42" y="380"/>
                        </a:lnTo>
                        <a:lnTo>
                          <a:pt x="42" y="348"/>
                        </a:lnTo>
                        <a:lnTo>
                          <a:pt x="28" y="301"/>
                        </a:lnTo>
                        <a:lnTo>
                          <a:pt x="28" y="269"/>
                        </a:lnTo>
                        <a:lnTo>
                          <a:pt x="28" y="222"/>
                        </a:lnTo>
                        <a:lnTo>
                          <a:pt x="14" y="190"/>
                        </a:lnTo>
                        <a:lnTo>
                          <a:pt x="14" y="143"/>
                        </a:lnTo>
                        <a:lnTo>
                          <a:pt x="14" y="111"/>
                        </a:lnTo>
                        <a:lnTo>
                          <a:pt x="14" y="64"/>
                        </a:lnTo>
                        <a:lnTo>
                          <a:pt x="0" y="32"/>
                        </a:lnTo>
                        <a:lnTo>
                          <a:pt x="0" y="0"/>
                        </a:lnTo>
                        <a:lnTo>
                          <a:pt x="70" y="490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6526080" y="3963960"/>
                    <a:ext cx="36720" cy="2588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490">
                        <a:moveTo>
                          <a:pt x="70" y="490"/>
                        </a:moveTo>
                        <a:lnTo>
                          <a:pt x="56" y="458"/>
                        </a:lnTo>
                        <a:lnTo>
                          <a:pt x="56" y="427"/>
                        </a:lnTo>
                        <a:lnTo>
                          <a:pt x="42" y="380"/>
                        </a:lnTo>
                        <a:lnTo>
                          <a:pt x="42" y="348"/>
                        </a:lnTo>
                        <a:lnTo>
                          <a:pt x="28" y="301"/>
                        </a:lnTo>
                        <a:lnTo>
                          <a:pt x="28" y="269"/>
                        </a:lnTo>
                        <a:lnTo>
                          <a:pt x="28" y="222"/>
                        </a:lnTo>
                        <a:lnTo>
                          <a:pt x="14" y="190"/>
                        </a:lnTo>
                        <a:lnTo>
                          <a:pt x="14" y="143"/>
                        </a:lnTo>
                        <a:lnTo>
                          <a:pt x="14" y="111"/>
                        </a:lnTo>
                        <a:lnTo>
                          <a:pt x="14" y="64"/>
                        </a:lnTo>
                        <a:lnTo>
                          <a:pt x="0" y="3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6518160" y="3271680"/>
                  <a:ext cx="14400" cy="692280"/>
                  <a:chOff x="6518160" y="3271680"/>
                  <a:chExt cx="14400" cy="69228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6518160" y="3271680"/>
                    <a:ext cx="14400" cy="69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308">
                        <a:moveTo>
                          <a:pt x="13" y="1308"/>
                        </a:moveTo>
                        <a:lnTo>
                          <a:pt x="13" y="1277"/>
                        </a:lnTo>
                        <a:lnTo>
                          <a:pt x="13" y="1230"/>
                        </a:lnTo>
                        <a:lnTo>
                          <a:pt x="13" y="1198"/>
                        </a:lnTo>
                        <a:lnTo>
                          <a:pt x="13" y="1167"/>
                        </a:lnTo>
                        <a:lnTo>
                          <a:pt x="13" y="1136"/>
                        </a:lnTo>
                        <a:lnTo>
                          <a:pt x="13" y="1104"/>
                        </a:lnTo>
                        <a:lnTo>
                          <a:pt x="13" y="1057"/>
                        </a:lnTo>
                        <a:lnTo>
                          <a:pt x="13" y="1025"/>
                        </a:lnTo>
                        <a:lnTo>
                          <a:pt x="13" y="993"/>
                        </a:lnTo>
                        <a:lnTo>
                          <a:pt x="13" y="961"/>
                        </a:lnTo>
                        <a:lnTo>
                          <a:pt x="13" y="914"/>
                        </a:lnTo>
                        <a:lnTo>
                          <a:pt x="13" y="882"/>
                        </a:lnTo>
                        <a:lnTo>
                          <a:pt x="13" y="852"/>
                        </a:lnTo>
                        <a:lnTo>
                          <a:pt x="13" y="820"/>
                        </a:lnTo>
                        <a:lnTo>
                          <a:pt x="13" y="788"/>
                        </a:lnTo>
                        <a:lnTo>
                          <a:pt x="13" y="741"/>
                        </a:lnTo>
                        <a:lnTo>
                          <a:pt x="13" y="709"/>
                        </a:lnTo>
                        <a:lnTo>
                          <a:pt x="13" y="678"/>
                        </a:lnTo>
                        <a:lnTo>
                          <a:pt x="13" y="646"/>
                        </a:lnTo>
                        <a:lnTo>
                          <a:pt x="0" y="599"/>
                        </a:lnTo>
                        <a:lnTo>
                          <a:pt x="0" y="567"/>
                        </a:lnTo>
                        <a:lnTo>
                          <a:pt x="0" y="535"/>
                        </a:lnTo>
                        <a:lnTo>
                          <a:pt x="0" y="505"/>
                        </a:lnTo>
                        <a:lnTo>
                          <a:pt x="0" y="473"/>
                        </a:lnTo>
                        <a:lnTo>
                          <a:pt x="0" y="426"/>
                        </a:lnTo>
                        <a:lnTo>
                          <a:pt x="0" y="394"/>
                        </a:lnTo>
                        <a:lnTo>
                          <a:pt x="0" y="362"/>
                        </a:lnTo>
                        <a:lnTo>
                          <a:pt x="13" y="330"/>
                        </a:lnTo>
                        <a:lnTo>
                          <a:pt x="13" y="283"/>
                        </a:lnTo>
                        <a:lnTo>
                          <a:pt x="13" y="251"/>
                        </a:lnTo>
                        <a:lnTo>
                          <a:pt x="13" y="220"/>
                        </a:lnTo>
                        <a:lnTo>
                          <a:pt x="13" y="189"/>
                        </a:lnTo>
                        <a:lnTo>
                          <a:pt x="13" y="141"/>
                        </a:lnTo>
                        <a:lnTo>
                          <a:pt x="13" y="110"/>
                        </a:lnTo>
                        <a:lnTo>
                          <a:pt x="13" y="78"/>
                        </a:lnTo>
                        <a:lnTo>
                          <a:pt x="27" y="31"/>
                        </a:lnTo>
                        <a:lnTo>
                          <a:pt x="27" y="0"/>
                        </a:lnTo>
                        <a:lnTo>
                          <a:pt x="13" y="1308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6518160" y="3271680"/>
                    <a:ext cx="14400" cy="69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308">
                        <a:moveTo>
                          <a:pt x="13" y="1308"/>
                        </a:moveTo>
                        <a:lnTo>
                          <a:pt x="13" y="1277"/>
                        </a:lnTo>
                        <a:lnTo>
                          <a:pt x="13" y="1230"/>
                        </a:lnTo>
                        <a:lnTo>
                          <a:pt x="13" y="1198"/>
                        </a:lnTo>
                        <a:lnTo>
                          <a:pt x="13" y="1167"/>
                        </a:lnTo>
                        <a:lnTo>
                          <a:pt x="13" y="1136"/>
                        </a:lnTo>
                        <a:lnTo>
                          <a:pt x="13" y="1104"/>
                        </a:lnTo>
                        <a:lnTo>
                          <a:pt x="13" y="1057"/>
                        </a:lnTo>
                        <a:lnTo>
                          <a:pt x="13" y="1025"/>
                        </a:lnTo>
                        <a:lnTo>
                          <a:pt x="13" y="993"/>
                        </a:lnTo>
                        <a:lnTo>
                          <a:pt x="13" y="961"/>
                        </a:lnTo>
                        <a:lnTo>
                          <a:pt x="13" y="914"/>
                        </a:lnTo>
                        <a:lnTo>
                          <a:pt x="13" y="882"/>
                        </a:lnTo>
                        <a:lnTo>
                          <a:pt x="13" y="852"/>
                        </a:lnTo>
                        <a:lnTo>
                          <a:pt x="13" y="820"/>
                        </a:lnTo>
                        <a:lnTo>
                          <a:pt x="13" y="788"/>
                        </a:lnTo>
                        <a:lnTo>
                          <a:pt x="13" y="741"/>
                        </a:lnTo>
                        <a:lnTo>
                          <a:pt x="13" y="709"/>
                        </a:lnTo>
                        <a:lnTo>
                          <a:pt x="13" y="678"/>
                        </a:lnTo>
                        <a:lnTo>
                          <a:pt x="13" y="646"/>
                        </a:lnTo>
                        <a:lnTo>
                          <a:pt x="0" y="599"/>
                        </a:lnTo>
                        <a:lnTo>
                          <a:pt x="0" y="567"/>
                        </a:lnTo>
                        <a:lnTo>
                          <a:pt x="0" y="535"/>
                        </a:lnTo>
                        <a:lnTo>
                          <a:pt x="0" y="505"/>
                        </a:lnTo>
                        <a:lnTo>
                          <a:pt x="0" y="473"/>
                        </a:lnTo>
                        <a:lnTo>
                          <a:pt x="0" y="426"/>
                        </a:lnTo>
                        <a:lnTo>
                          <a:pt x="0" y="394"/>
                        </a:lnTo>
                        <a:lnTo>
                          <a:pt x="0" y="362"/>
                        </a:lnTo>
                        <a:lnTo>
                          <a:pt x="13" y="330"/>
                        </a:lnTo>
                        <a:lnTo>
                          <a:pt x="13" y="283"/>
                        </a:lnTo>
                        <a:lnTo>
                          <a:pt x="13" y="251"/>
                        </a:lnTo>
                        <a:lnTo>
                          <a:pt x="13" y="220"/>
                        </a:lnTo>
                        <a:lnTo>
                          <a:pt x="13" y="189"/>
                        </a:lnTo>
                        <a:lnTo>
                          <a:pt x="13" y="141"/>
                        </a:lnTo>
                        <a:lnTo>
                          <a:pt x="13" y="110"/>
                        </a:lnTo>
                        <a:lnTo>
                          <a:pt x="13" y="78"/>
                        </a:lnTo>
                        <a:lnTo>
                          <a:pt x="27" y="31"/>
                        </a:lnTo>
                        <a:lnTo>
                          <a:pt x="2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0" name=""/>
                <p:cNvGrpSpPr/>
                <p:nvPr/>
              </p:nvGrpSpPr>
              <p:grpSpPr>
                <a:xfrm>
                  <a:off x="6532560" y="3129120"/>
                  <a:ext cx="15840" cy="142560"/>
                  <a:chOff x="6532560" y="3129120"/>
                  <a:chExt cx="15840" cy="14256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6532560" y="3129120"/>
                    <a:ext cx="1584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69">
                        <a:moveTo>
                          <a:pt x="0" y="269"/>
                        </a:moveTo>
                        <a:lnTo>
                          <a:pt x="0" y="221"/>
                        </a:lnTo>
                        <a:lnTo>
                          <a:pt x="0" y="190"/>
                        </a:lnTo>
                        <a:lnTo>
                          <a:pt x="14" y="143"/>
                        </a:lnTo>
                        <a:lnTo>
                          <a:pt x="14" y="94"/>
                        </a:lnTo>
                        <a:lnTo>
                          <a:pt x="14" y="47"/>
                        </a:lnTo>
                        <a:lnTo>
                          <a:pt x="28" y="0"/>
                        </a:lnTo>
                        <a:lnTo>
                          <a:pt x="0" y="269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6532560" y="3129120"/>
                    <a:ext cx="1584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69">
                        <a:moveTo>
                          <a:pt x="0" y="269"/>
                        </a:moveTo>
                        <a:lnTo>
                          <a:pt x="0" y="221"/>
                        </a:lnTo>
                        <a:lnTo>
                          <a:pt x="0" y="190"/>
                        </a:lnTo>
                        <a:lnTo>
                          <a:pt x="14" y="143"/>
                        </a:lnTo>
                        <a:lnTo>
                          <a:pt x="14" y="94"/>
                        </a:lnTo>
                        <a:lnTo>
                          <a:pt x="14" y="47"/>
                        </a:lnTo>
                        <a:lnTo>
                          <a:pt x="2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3" name=""/>
                <p:cNvGrpSpPr/>
                <p:nvPr/>
              </p:nvGrpSpPr>
              <p:grpSpPr>
                <a:xfrm>
                  <a:off x="6548400" y="2662200"/>
                  <a:ext cx="109440" cy="466920"/>
                  <a:chOff x="6548400" y="2662200"/>
                  <a:chExt cx="109440" cy="46692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>
                    <a:off x="6548400" y="2662200"/>
                    <a:ext cx="109440" cy="46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7" h="883">
                        <a:moveTo>
                          <a:pt x="0" y="883"/>
                        </a:moveTo>
                        <a:lnTo>
                          <a:pt x="0" y="851"/>
                        </a:lnTo>
                        <a:lnTo>
                          <a:pt x="14" y="804"/>
                        </a:lnTo>
                        <a:lnTo>
                          <a:pt x="14" y="757"/>
                        </a:lnTo>
                        <a:lnTo>
                          <a:pt x="14" y="725"/>
                        </a:lnTo>
                        <a:lnTo>
                          <a:pt x="28" y="694"/>
                        </a:lnTo>
                        <a:lnTo>
                          <a:pt x="28" y="662"/>
                        </a:lnTo>
                        <a:lnTo>
                          <a:pt x="41" y="615"/>
                        </a:lnTo>
                        <a:lnTo>
                          <a:pt x="41" y="583"/>
                        </a:lnTo>
                        <a:lnTo>
                          <a:pt x="55" y="552"/>
                        </a:lnTo>
                        <a:lnTo>
                          <a:pt x="55" y="521"/>
                        </a:lnTo>
                        <a:lnTo>
                          <a:pt x="69" y="473"/>
                        </a:lnTo>
                        <a:lnTo>
                          <a:pt x="69" y="442"/>
                        </a:lnTo>
                        <a:lnTo>
                          <a:pt x="83" y="410"/>
                        </a:lnTo>
                        <a:lnTo>
                          <a:pt x="83" y="378"/>
                        </a:lnTo>
                        <a:lnTo>
                          <a:pt x="97" y="346"/>
                        </a:lnTo>
                        <a:lnTo>
                          <a:pt x="111" y="299"/>
                        </a:lnTo>
                        <a:lnTo>
                          <a:pt x="111" y="267"/>
                        </a:lnTo>
                        <a:lnTo>
                          <a:pt x="124" y="237"/>
                        </a:lnTo>
                        <a:lnTo>
                          <a:pt x="138" y="205"/>
                        </a:lnTo>
                        <a:lnTo>
                          <a:pt x="152" y="173"/>
                        </a:lnTo>
                        <a:lnTo>
                          <a:pt x="152" y="126"/>
                        </a:lnTo>
                        <a:lnTo>
                          <a:pt x="166" y="94"/>
                        </a:lnTo>
                        <a:lnTo>
                          <a:pt x="180" y="63"/>
                        </a:lnTo>
                        <a:lnTo>
                          <a:pt x="194" y="31"/>
                        </a:lnTo>
                        <a:lnTo>
                          <a:pt x="207" y="0"/>
                        </a:lnTo>
                        <a:lnTo>
                          <a:pt x="0" y="883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6548400" y="2662200"/>
                    <a:ext cx="109440" cy="46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7" h="883">
                        <a:moveTo>
                          <a:pt x="0" y="883"/>
                        </a:moveTo>
                        <a:lnTo>
                          <a:pt x="0" y="851"/>
                        </a:lnTo>
                        <a:lnTo>
                          <a:pt x="14" y="804"/>
                        </a:lnTo>
                        <a:lnTo>
                          <a:pt x="14" y="757"/>
                        </a:lnTo>
                        <a:lnTo>
                          <a:pt x="14" y="725"/>
                        </a:lnTo>
                        <a:lnTo>
                          <a:pt x="28" y="694"/>
                        </a:lnTo>
                        <a:lnTo>
                          <a:pt x="28" y="662"/>
                        </a:lnTo>
                        <a:lnTo>
                          <a:pt x="41" y="615"/>
                        </a:lnTo>
                        <a:lnTo>
                          <a:pt x="41" y="583"/>
                        </a:lnTo>
                        <a:lnTo>
                          <a:pt x="55" y="552"/>
                        </a:lnTo>
                        <a:lnTo>
                          <a:pt x="55" y="521"/>
                        </a:lnTo>
                        <a:lnTo>
                          <a:pt x="69" y="473"/>
                        </a:lnTo>
                        <a:lnTo>
                          <a:pt x="69" y="442"/>
                        </a:lnTo>
                        <a:lnTo>
                          <a:pt x="83" y="410"/>
                        </a:lnTo>
                        <a:lnTo>
                          <a:pt x="83" y="378"/>
                        </a:lnTo>
                        <a:lnTo>
                          <a:pt x="97" y="346"/>
                        </a:lnTo>
                        <a:lnTo>
                          <a:pt x="111" y="299"/>
                        </a:lnTo>
                        <a:lnTo>
                          <a:pt x="111" y="267"/>
                        </a:lnTo>
                        <a:lnTo>
                          <a:pt x="124" y="237"/>
                        </a:lnTo>
                        <a:lnTo>
                          <a:pt x="138" y="205"/>
                        </a:lnTo>
                        <a:lnTo>
                          <a:pt x="152" y="173"/>
                        </a:lnTo>
                        <a:lnTo>
                          <a:pt x="152" y="126"/>
                        </a:lnTo>
                        <a:lnTo>
                          <a:pt x="166" y="94"/>
                        </a:lnTo>
                        <a:lnTo>
                          <a:pt x="180" y="63"/>
                        </a:lnTo>
                        <a:lnTo>
                          <a:pt x="194" y="31"/>
                        </a:lnTo>
                        <a:lnTo>
                          <a:pt x="20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6" name=""/>
                <p:cNvGrpSpPr/>
                <p:nvPr/>
              </p:nvGrpSpPr>
              <p:grpSpPr>
                <a:xfrm>
                  <a:off x="6657840" y="2519280"/>
                  <a:ext cx="59040" cy="142920"/>
                  <a:chOff x="6657840" y="2519280"/>
                  <a:chExt cx="59040" cy="14292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>
                    <a:off x="6657840" y="2519280"/>
                    <a:ext cx="5904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268">
                        <a:moveTo>
                          <a:pt x="0" y="268"/>
                        </a:moveTo>
                        <a:lnTo>
                          <a:pt x="14" y="220"/>
                        </a:lnTo>
                        <a:lnTo>
                          <a:pt x="28" y="189"/>
                        </a:lnTo>
                        <a:lnTo>
                          <a:pt x="42" y="158"/>
                        </a:lnTo>
                        <a:lnTo>
                          <a:pt x="56" y="111"/>
                        </a:lnTo>
                        <a:lnTo>
                          <a:pt x="70" y="79"/>
                        </a:lnTo>
                        <a:lnTo>
                          <a:pt x="97" y="32"/>
                        </a:lnTo>
                        <a:lnTo>
                          <a:pt x="111" y="0"/>
                        </a:lnTo>
                        <a:lnTo>
                          <a:pt x="0" y="268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6657840" y="2519280"/>
                    <a:ext cx="5904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268">
                        <a:moveTo>
                          <a:pt x="0" y="268"/>
                        </a:moveTo>
                        <a:lnTo>
                          <a:pt x="14" y="220"/>
                        </a:lnTo>
                        <a:lnTo>
                          <a:pt x="28" y="189"/>
                        </a:lnTo>
                        <a:lnTo>
                          <a:pt x="42" y="158"/>
                        </a:lnTo>
                        <a:lnTo>
                          <a:pt x="56" y="111"/>
                        </a:lnTo>
                        <a:lnTo>
                          <a:pt x="70" y="79"/>
                        </a:lnTo>
                        <a:lnTo>
                          <a:pt x="97" y="32"/>
                        </a:lnTo>
                        <a:lnTo>
                          <a:pt x="11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9" name=""/>
                <p:cNvGrpSpPr/>
                <p:nvPr/>
              </p:nvGrpSpPr>
              <p:grpSpPr>
                <a:xfrm>
                  <a:off x="6716880" y="2478240"/>
                  <a:ext cx="28440" cy="41040"/>
                  <a:chOff x="6716880" y="2478240"/>
                  <a:chExt cx="28440" cy="4104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>
                    <a:off x="6716880" y="2478240"/>
                    <a:ext cx="2844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79">
                        <a:moveTo>
                          <a:pt x="0" y="79"/>
                        </a:moveTo>
                        <a:lnTo>
                          <a:pt x="14" y="62"/>
                        </a:lnTo>
                        <a:lnTo>
                          <a:pt x="28" y="32"/>
                        </a:lnTo>
                        <a:lnTo>
                          <a:pt x="55" y="0"/>
                        </a:lnTo>
                        <a:lnTo>
                          <a:pt x="0" y="79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6716880" y="2478240"/>
                    <a:ext cx="2844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79">
                        <a:moveTo>
                          <a:pt x="0" y="79"/>
                        </a:moveTo>
                        <a:lnTo>
                          <a:pt x="14" y="62"/>
                        </a:lnTo>
                        <a:lnTo>
                          <a:pt x="28" y="32"/>
                        </a:lnTo>
                        <a:lnTo>
                          <a:pt x="55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2" name=""/>
                <p:cNvGrpSpPr/>
                <p:nvPr/>
              </p:nvGrpSpPr>
              <p:grpSpPr>
                <a:xfrm>
                  <a:off x="6745320" y="2460600"/>
                  <a:ext cx="7920" cy="17640"/>
                  <a:chOff x="6745320" y="2460600"/>
                  <a:chExt cx="7920" cy="1764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>
                    <a:off x="6745320" y="2460600"/>
                    <a:ext cx="79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32">
                        <a:moveTo>
                          <a:pt x="0" y="32"/>
                        </a:moveTo>
                        <a:lnTo>
                          <a:pt x="0" y="15"/>
                        </a:lnTo>
                        <a:lnTo>
                          <a:pt x="14" y="15"/>
                        </a:lnTo>
                        <a:lnTo>
                          <a:pt x="14" y="0"/>
                        </a:lnTo>
                        <a:lnTo>
                          <a:pt x="0" y="32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6745320" y="2460600"/>
                    <a:ext cx="79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32">
                        <a:moveTo>
                          <a:pt x="0" y="32"/>
                        </a:moveTo>
                        <a:lnTo>
                          <a:pt x="0" y="15"/>
                        </a:lnTo>
                        <a:lnTo>
                          <a:pt x="14" y="15"/>
                        </a:lnTo>
                        <a:lnTo>
                          <a:pt x="14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6759720" y="4514760"/>
                  <a:ext cx="82440" cy="284400"/>
                  <a:chOff x="6759720" y="4514760"/>
                  <a:chExt cx="82440" cy="28440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>
                    <a:off x="6759720" y="4514760"/>
                    <a:ext cx="82440" cy="28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54" h="536">
                        <a:moveTo>
                          <a:pt x="154" y="536"/>
                        </a:moveTo>
                        <a:lnTo>
                          <a:pt x="140" y="504"/>
                        </a:lnTo>
                        <a:lnTo>
                          <a:pt x="126" y="474"/>
                        </a:lnTo>
                        <a:lnTo>
                          <a:pt x="112" y="442"/>
                        </a:lnTo>
                        <a:lnTo>
                          <a:pt x="97" y="410"/>
                        </a:lnTo>
                        <a:lnTo>
                          <a:pt x="83" y="378"/>
                        </a:lnTo>
                        <a:lnTo>
                          <a:pt x="83" y="331"/>
                        </a:lnTo>
                        <a:lnTo>
                          <a:pt x="69" y="299"/>
                        </a:lnTo>
                        <a:lnTo>
                          <a:pt x="55" y="267"/>
                        </a:lnTo>
                        <a:lnTo>
                          <a:pt x="41" y="220"/>
                        </a:lnTo>
                        <a:lnTo>
                          <a:pt x="41" y="189"/>
                        </a:lnTo>
                        <a:lnTo>
                          <a:pt x="28" y="158"/>
                        </a:lnTo>
                        <a:lnTo>
                          <a:pt x="14" y="110"/>
                        </a:lnTo>
                        <a:lnTo>
                          <a:pt x="14" y="79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lnTo>
                          <a:pt x="154" y="536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6759720" y="4514760"/>
                    <a:ext cx="82440" cy="28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54" h="536">
                        <a:moveTo>
                          <a:pt x="154" y="536"/>
                        </a:moveTo>
                        <a:lnTo>
                          <a:pt x="140" y="504"/>
                        </a:lnTo>
                        <a:lnTo>
                          <a:pt x="126" y="474"/>
                        </a:lnTo>
                        <a:lnTo>
                          <a:pt x="112" y="442"/>
                        </a:lnTo>
                        <a:lnTo>
                          <a:pt x="97" y="410"/>
                        </a:lnTo>
                        <a:lnTo>
                          <a:pt x="83" y="378"/>
                        </a:lnTo>
                        <a:lnTo>
                          <a:pt x="83" y="331"/>
                        </a:lnTo>
                        <a:lnTo>
                          <a:pt x="69" y="299"/>
                        </a:lnTo>
                        <a:lnTo>
                          <a:pt x="55" y="267"/>
                        </a:lnTo>
                        <a:lnTo>
                          <a:pt x="41" y="220"/>
                        </a:lnTo>
                        <a:lnTo>
                          <a:pt x="41" y="189"/>
                        </a:lnTo>
                        <a:lnTo>
                          <a:pt x="28" y="158"/>
                        </a:lnTo>
                        <a:lnTo>
                          <a:pt x="14" y="110"/>
                        </a:lnTo>
                        <a:lnTo>
                          <a:pt x="14" y="79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6716880" y="4264200"/>
                  <a:ext cx="42840" cy="250560"/>
                  <a:chOff x="6716880" y="4264200"/>
                  <a:chExt cx="42840" cy="25056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>
                    <a:off x="6716880" y="4264200"/>
                    <a:ext cx="4284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473">
                        <a:moveTo>
                          <a:pt x="83" y="473"/>
                        </a:moveTo>
                        <a:lnTo>
                          <a:pt x="69" y="442"/>
                        </a:lnTo>
                        <a:lnTo>
                          <a:pt x="69" y="410"/>
                        </a:lnTo>
                        <a:lnTo>
                          <a:pt x="55" y="378"/>
                        </a:lnTo>
                        <a:lnTo>
                          <a:pt x="55" y="331"/>
                        </a:lnTo>
                        <a:lnTo>
                          <a:pt x="42" y="299"/>
                        </a:lnTo>
                        <a:lnTo>
                          <a:pt x="42" y="267"/>
                        </a:lnTo>
                        <a:lnTo>
                          <a:pt x="28" y="220"/>
                        </a:lnTo>
                        <a:lnTo>
                          <a:pt x="28" y="188"/>
                        </a:lnTo>
                        <a:lnTo>
                          <a:pt x="28" y="158"/>
                        </a:lnTo>
                        <a:lnTo>
                          <a:pt x="14" y="109"/>
                        </a:lnTo>
                        <a:lnTo>
                          <a:pt x="14" y="79"/>
                        </a:lnTo>
                        <a:lnTo>
                          <a:pt x="14" y="47"/>
                        </a:lnTo>
                        <a:lnTo>
                          <a:pt x="0" y="0"/>
                        </a:lnTo>
                        <a:lnTo>
                          <a:pt x="83" y="473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6716880" y="4264200"/>
                    <a:ext cx="4284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473">
                        <a:moveTo>
                          <a:pt x="83" y="473"/>
                        </a:moveTo>
                        <a:lnTo>
                          <a:pt x="69" y="442"/>
                        </a:lnTo>
                        <a:lnTo>
                          <a:pt x="69" y="410"/>
                        </a:lnTo>
                        <a:lnTo>
                          <a:pt x="55" y="378"/>
                        </a:lnTo>
                        <a:lnTo>
                          <a:pt x="55" y="331"/>
                        </a:lnTo>
                        <a:lnTo>
                          <a:pt x="42" y="299"/>
                        </a:lnTo>
                        <a:lnTo>
                          <a:pt x="42" y="267"/>
                        </a:lnTo>
                        <a:lnTo>
                          <a:pt x="28" y="220"/>
                        </a:lnTo>
                        <a:lnTo>
                          <a:pt x="28" y="188"/>
                        </a:lnTo>
                        <a:lnTo>
                          <a:pt x="28" y="158"/>
                        </a:lnTo>
                        <a:lnTo>
                          <a:pt x="14" y="109"/>
                        </a:lnTo>
                        <a:lnTo>
                          <a:pt x="14" y="79"/>
                        </a:lnTo>
                        <a:lnTo>
                          <a:pt x="14" y="4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6694560" y="3922560"/>
                  <a:ext cx="22320" cy="341640"/>
                  <a:chOff x="6694560" y="3922560"/>
                  <a:chExt cx="22320" cy="34164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>
                    <a:off x="6694560" y="3922560"/>
                    <a:ext cx="22320" cy="341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647">
                        <a:moveTo>
                          <a:pt x="41" y="647"/>
                        </a:moveTo>
                        <a:lnTo>
                          <a:pt x="41" y="615"/>
                        </a:lnTo>
                        <a:lnTo>
                          <a:pt x="41" y="584"/>
                        </a:lnTo>
                        <a:lnTo>
                          <a:pt x="27" y="536"/>
                        </a:lnTo>
                        <a:lnTo>
                          <a:pt x="27" y="505"/>
                        </a:lnTo>
                        <a:lnTo>
                          <a:pt x="27" y="473"/>
                        </a:lnTo>
                        <a:lnTo>
                          <a:pt x="27" y="441"/>
                        </a:lnTo>
                        <a:lnTo>
                          <a:pt x="13" y="394"/>
                        </a:lnTo>
                        <a:lnTo>
                          <a:pt x="13" y="362"/>
                        </a:lnTo>
                        <a:lnTo>
                          <a:pt x="13" y="332"/>
                        </a:lnTo>
                        <a:lnTo>
                          <a:pt x="13" y="283"/>
                        </a:lnTo>
                        <a:lnTo>
                          <a:pt x="0" y="253"/>
                        </a:lnTo>
                        <a:lnTo>
                          <a:pt x="0" y="221"/>
                        </a:lnTo>
                        <a:lnTo>
                          <a:pt x="0" y="189"/>
                        </a:lnTo>
                        <a:lnTo>
                          <a:pt x="0" y="142"/>
                        </a:lnTo>
                        <a:lnTo>
                          <a:pt x="0" y="110"/>
                        </a:lnTo>
                        <a:lnTo>
                          <a:pt x="0" y="78"/>
                        </a:lnTo>
                        <a:lnTo>
                          <a:pt x="0" y="31"/>
                        </a:lnTo>
                        <a:lnTo>
                          <a:pt x="0" y="0"/>
                        </a:lnTo>
                        <a:lnTo>
                          <a:pt x="41" y="647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6694560" y="3922560"/>
                    <a:ext cx="22320" cy="341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647">
                        <a:moveTo>
                          <a:pt x="41" y="647"/>
                        </a:moveTo>
                        <a:lnTo>
                          <a:pt x="41" y="615"/>
                        </a:lnTo>
                        <a:lnTo>
                          <a:pt x="41" y="584"/>
                        </a:lnTo>
                        <a:lnTo>
                          <a:pt x="27" y="536"/>
                        </a:lnTo>
                        <a:lnTo>
                          <a:pt x="27" y="505"/>
                        </a:lnTo>
                        <a:lnTo>
                          <a:pt x="27" y="473"/>
                        </a:lnTo>
                        <a:lnTo>
                          <a:pt x="27" y="441"/>
                        </a:lnTo>
                        <a:lnTo>
                          <a:pt x="13" y="394"/>
                        </a:lnTo>
                        <a:lnTo>
                          <a:pt x="13" y="362"/>
                        </a:lnTo>
                        <a:lnTo>
                          <a:pt x="13" y="332"/>
                        </a:lnTo>
                        <a:lnTo>
                          <a:pt x="13" y="283"/>
                        </a:lnTo>
                        <a:lnTo>
                          <a:pt x="0" y="253"/>
                        </a:lnTo>
                        <a:lnTo>
                          <a:pt x="0" y="221"/>
                        </a:lnTo>
                        <a:lnTo>
                          <a:pt x="0" y="189"/>
                        </a:lnTo>
                        <a:lnTo>
                          <a:pt x="0" y="142"/>
                        </a:lnTo>
                        <a:lnTo>
                          <a:pt x="0" y="110"/>
                        </a:lnTo>
                        <a:lnTo>
                          <a:pt x="0" y="78"/>
                        </a:lnTo>
                        <a:lnTo>
                          <a:pt x="0" y="3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4" name=""/>
                <p:cNvGrpSpPr/>
                <p:nvPr/>
              </p:nvGrpSpPr>
              <p:grpSpPr>
                <a:xfrm>
                  <a:off x="6686640" y="3313080"/>
                  <a:ext cx="7920" cy="609480"/>
                  <a:chOff x="6686640" y="3313080"/>
                  <a:chExt cx="7920" cy="60948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6686640" y="3313080"/>
                    <a:ext cx="7920" cy="60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152">
                        <a:moveTo>
                          <a:pt x="14" y="1152"/>
                        </a:moveTo>
                        <a:lnTo>
                          <a:pt x="14" y="1120"/>
                        </a:lnTo>
                        <a:lnTo>
                          <a:pt x="14" y="1089"/>
                        </a:lnTo>
                        <a:lnTo>
                          <a:pt x="14" y="1041"/>
                        </a:lnTo>
                        <a:lnTo>
                          <a:pt x="14" y="1010"/>
                        </a:lnTo>
                        <a:lnTo>
                          <a:pt x="14" y="979"/>
                        </a:lnTo>
                        <a:lnTo>
                          <a:pt x="0" y="947"/>
                        </a:lnTo>
                        <a:lnTo>
                          <a:pt x="0" y="915"/>
                        </a:lnTo>
                        <a:lnTo>
                          <a:pt x="0" y="868"/>
                        </a:lnTo>
                        <a:lnTo>
                          <a:pt x="0" y="836"/>
                        </a:lnTo>
                        <a:lnTo>
                          <a:pt x="0" y="804"/>
                        </a:lnTo>
                        <a:lnTo>
                          <a:pt x="0" y="774"/>
                        </a:lnTo>
                        <a:lnTo>
                          <a:pt x="0" y="725"/>
                        </a:lnTo>
                        <a:lnTo>
                          <a:pt x="0" y="695"/>
                        </a:lnTo>
                        <a:lnTo>
                          <a:pt x="0" y="663"/>
                        </a:lnTo>
                        <a:lnTo>
                          <a:pt x="0" y="631"/>
                        </a:lnTo>
                        <a:lnTo>
                          <a:pt x="0" y="600"/>
                        </a:lnTo>
                        <a:lnTo>
                          <a:pt x="0" y="552"/>
                        </a:lnTo>
                        <a:lnTo>
                          <a:pt x="0" y="521"/>
                        </a:lnTo>
                        <a:lnTo>
                          <a:pt x="0" y="489"/>
                        </a:lnTo>
                        <a:lnTo>
                          <a:pt x="0" y="457"/>
                        </a:lnTo>
                        <a:lnTo>
                          <a:pt x="0" y="427"/>
                        </a:lnTo>
                        <a:lnTo>
                          <a:pt x="0" y="378"/>
                        </a:lnTo>
                        <a:lnTo>
                          <a:pt x="0" y="348"/>
                        </a:lnTo>
                        <a:lnTo>
                          <a:pt x="0" y="316"/>
                        </a:lnTo>
                        <a:lnTo>
                          <a:pt x="0" y="284"/>
                        </a:lnTo>
                        <a:lnTo>
                          <a:pt x="0" y="252"/>
                        </a:lnTo>
                        <a:lnTo>
                          <a:pt x="0" y="205"/>
                        </a:lnTo>
                        <a:lnTo>
                          <a:pt x="0" y="173"/>
                        </a:lnTo>
                        <a:lnTo>
                          <a:pt x="0" y="142"/>
                        </a:lnTo>
                        <a:lnTo>
                          <a:pt x="0" y="111"/>
                        </a:lnTo>
                        <a:lnTo>
                          <a:pt x="14" y="63"/>
                        </a:lnTo>
                        <a:lnTo>
                          <a:pt x="14" y="32"/>
                        </a:lnTo>
                        <a:lnTo>
                          <a:pt x="14" y="0"/>
                        </a:lnTo>
                        <a:lnTo>
                          <a:pt x="14" y="1152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6686640" y="3313080"/>
                    <a:ext cx="7920" cy="60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152">
                        <a:moveTo>
                          <a:pt x="14" y="1152"/>
                        </a:moveTo>
                        <a:lnTo>
                          <a:pt x="14" y="1120"/>
                        </a:lnTo>
                        <a:lnTo>
                          <a:pt x="14" y="1089"/>
                        </a:lnTo>
                        <a:lnTo>
                          <a:pt x="14" y="1041"/>
                        </a:lnTo>
                        <a:lnTo>
                          <a:pt x="14" y="1010"/>
                        </a:lnTo>
                        <a:lnTo>
                          <a:pt x="14" y="979"/>
                        </a:lnTo>
                        <a:lnTo>
                          <a:pt x="0" y="947"/>
                        </a:lnTo>
                        <a:lnTo>
                          <a:pt x="0" y="915"/>
                        </a:lnTo>
                        <a:lnTo>
                          <a:pt x="0" y="868"/>
                        </a:lnTo>
                        <a:lnTo>
                          <a:pt x="0" y="836"/>
                        </a:lnTo>
                        <a:lnTo>
                          <a:pt x="0" y="804"/>
                        </a:lnTo>
                        <a:lnTo>
                          <a:pt x="0" y="774"/>
                        </a:lnTo>
                        <a:lnTo>
                          <a:pt x="0" y="725"/>
                        </a:lnTo>
                        <a:lnTo>
                          <a:pt x="0" y="695"/>
                        </a:lnTo>
                        <a:lnTo>
                          <a:pt x="0" y="663"/>
                        </a:lnTo>
                        <a:lnTo>
                          <a:pt x="0" y="631"/>
                        </a:lnTo>
                        <a:lnTo>
                          <a:pt x="0" y="600"/>
                        </a:lnTo>
                        <a:lnTo>
                          <a:pt x="0" y="552"/>
                        </a:lnTo>
                        <a:lnTo>
                          <a:pt x="0" y="521"/>
                        </a:lnTo>
                        <a:lnTo>
                          <a:pt x="0" y="489"/>
                        </a:lnTo>
                        <a:lnTo>
                          <a:pt x="0" y="457"/>
                        </a:lnTo>
                        <a:lnTo>
                          <a:pt x="0" y="427"/>
                        </a:lnTo>
                        <a:lnTo>
                          <a:pt x="0" y="378"/>
                        </a:lnTo>
                        <a:lnTo>
                          <a:pt x="0" y="348"/>
                        </a:lnTo>
                        <a:lnTo>
                          <a:pt x="0" y="316"/>
                        </a:lnTo>
                        <a:lnTo>
                          <a:pt x="0" y="284"/>
                        </a:lnTo>
                        <a:lnTo>
                          <a:pt x="0" y="252"/>
                        </a:lnTo>
                        <a:lnTo>
                          <a:pt x="0" y="205"/>
                        </a:lnTo>
                        <a:lnTo>
                          <a:pt x="0" y="173"/>
                        </a:lnTo>
                        <a:lnTo>
                          <a:pt x="0" y="142"/>
                        </a:lnTo>
                        <a:lnTo>
                          <a:pt x="0" y="111"/>
                        </a:lnTo>
                        <a:lnTo>
                          <a:pt x="14" y="63"/>
                        </a:lnTo>
                        <a:lnTo>
                          <a:pt x="14" y="32"/>
                        </a:lnTo>
                        <a:lnTo>
                          <a:pt x="14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6694560" y="3295800"/>
                  <a:ext cx="1440" cy="17280"/>
                  <a:chOff x="6694560" y="3295800"/>
                  <a:chExt cx="1440" cy="1728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>
                    <a:off x="6694560" y="3295800"/>
                    <a:ext cx="14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31">
                        <a:moveTo>
                          <a:pt x="0" y="31"/>
                        </a:moveTo>
                        <a:lnTo>
                          <a:pt x="0" y="15"/>
                        </a:lnTo>
                        <a:lnTo>
                          <a:pt x="0" y="0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6694560" y="3295800"/>
                    <a:ext cx="14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31">
                        <a:moveTo>
                          <a:pt x="0" y="31"/>
                        </a:moveTo>
                        <a:lnTo>
                          <a:pt x="0" y="1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6694560" y="3079800"/>
                  <a:ext cx="14040" cy="216000"/>
                  <a:chOff x="6694560" y="3079800"/>
                  <a:chExt cx="14040" cy="21600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>
                    <a:off x="6694560" y="3079800"/>
                    <a:ext cx="1404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410">
                        <a:moveTo>
                          <a:pt x="0" y="410"/>
                        </a:moveTo>
                        <a:lnTo>
                          <a:pt x="0" y="363"/>
                        </a:lnTo>
                        <a:lnTo>
                          <a:pt x="0" y="331"/>
                        </a:lnTo>
                        <a:lnTo>
                          <a:pt x="13" y="284"/>
                        </a:lnTo>
                        <a:lnTo>
                          <a:pt x="13" y="252"/>
                        </a:lnTo>
                        <a:lnTo>
                          <a:pt x="13" y="205"/>
                        </a:lnTo>
                        <a:lnTo>
                          <a:pt x="13" y="173"/>
                        </a:lnTo>
                        <a:lnTo>
                          <a:pt x="13" y="141"/>
                        </a:lnTo>
                        <a:lnTo>
                          <a:pt x="27" y="94"/>
                        </a:lnTo>
                        <a:lnTo>
                          <a:pt x="27" y="62"/>
                        </a:lnTo>
                        <a:lnTo>
                          <a:pt x="27" y="0"/>
                        </a:lnTo>
                        <a:lnTo>
                          <a:pt x="0" y="410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6694560" y="3079800"/>
                    <a:ext cx="1404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410">
                        <a:moveTo>
                          <a:pt x="0" y="410"/>
                        </a:moveTo>
                        <a:lnTo>
                          <a:pt x="0" y="363"/>
                        </a:lnTo>
                        <a:lnTo>
                          <a:pt x="0" y="331"/>
                        </a:lnTo>
                        <a:lnTo>
                          <a:pt x="13" y="284"/>
                        </a:lnTo>
                        <a:lnTo>
                          <a:pt x="13" y="252"/>
                        </a:lnTo>
                        <a:lnTo>
                          <a:pt x="13" y="205"/>
                        </a:lnTo>
                        <a:lnTo>
                          <a:pt x="13" y="173"/>
                        </a:lnTo>
                        <a:lnTo>
                          <a:pt x="13" y="141"/>
                        </a:lnTo>
                        <a:lnTo>
                          <a:pt x="27" y="94"/>
                        </a:lnTo>
                        <a:lnTo>
                          <a:pt x="27" y="62"/>
                        </a:lnTo>
                        <a:lnTo>
                          <a:pt x="2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3" name=""/>
                <p:cNvGrpSpPr/>
                <p:nvPr/>
              </p:nvGrpSpPr>
              <p:grpSpPr>
                <a:xfrm>
                  <a:off x="6708600" y="2711520"/>
                  <a:ext cx="59040" cy="368280"/>
                  <a:chOff x="6708600" y="2711520"/>
                  <a:chExt cx="59040" cy="36828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>
                    <a:off x="6708600" y="2711520"/>
                    <a:ext cx="59040" cy="36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695">
                        <a:moveTo>
                          <a:pt x="0" y="695"/>
                        </a:moveTo>
                        <a:lnTo>
                          <a:pt x="0" y="663"/>
                        </a:lnTo>
                        <a:lnTo>
                          <a:pt x="0" y="631"/>
                        </a:lnTo>
                        <a:lnTo>
                          <a:pt x="14" y="584"/>
                        </a:lnTo>
                        <a:lnTo>
                          <a:pt x="14" y="552"/>
                        </a:lnTo>
                        <a:lnTo>
                          <a:pt x="14" y="521"/>
                        </a:lnTo>
                        <a:lnTo>
                          <a:pt x="28" y="474"/>
                        </a:lnTo>
                        <a:lnTo>
                          <a:pt x="28" y="442"/>
                        </a:lnTo>
                        <a:lnTo>
                          <a:pt x="28" y="410"/>
                        </a:lnTo>
                        <a:lnTo>
                          <a:pt x="42" y="363"/>
                        </a:lnTo>
                        <a:lnTo>
                          <a:pt x="42" y="331"/>
                        </a:lnTo>
                        <a:lnTo>
                          <a:pt x="56" y="301"/>
                        </a:lnTo>
                        <a:lnTo>
                          <a:pt x="56" y="252"/>
                        </a:lnTo>
                        <a:lnTo>
                          <a:pt x="69" y="222"/>
                        </a:lnTo>
                        <a:lnTo>
                          <a:pt x="69" y="190"/>
                        </a:lnTo>
                        <a:lnTo>
                          <a:pt x="83" y="143"/>
                        </a:lnTo>
                        <a:lnTo>
                          <a:pt x="83" y="111"/>
                        </a:lnTo>
                        <a:lnTo>
                          <a:pt x="97" y="79"/>
                        </a:lnTo>
                        <a:lnTo>
                          <a:pt x="97" y="32"/>
                        </a:lnTo>
                        <a:lnTo>
                          <a:pt x="111" y="0"/>
                        </a:lnTo>
                        <a:lnTo>
                          <a:pt x="0" y="695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6708600" y="2711520"/>
                    <a:ext cx="59040" cy="36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695">
                        <a:moveTo>
                          <a:pt x="0" y="695"/>
                        </a:moveTo>
                        <a:lnTo>
                          <a:pt x="0" y="663"/>
                        </a:lnTo>
                        <a:lnTo>
                          <a:pt x="0" y="631"/>
                        </a:lnTo>
                        <a:lnTo>
                          <a:pt x="14" y="584"/>
                        </a:lnTo>
                        <a:lnTo>
                          <a:pt x="14" y="552"/>
                        </a:lnTo>
                        <a:lnTo>
                          <a:pt x="14" y="521"/>
                        </a:lnTo>
                        <a:lnTo>
                          <a:pt x="28" y="474"/>
                        </a:lnTo>
                        <a:lnTo>
                          <a:pt x="28" y="442"/>
                        </a:lnTo>
                        <a:lnTo>
                          <a:pt x="28" y="410"/>
                        </a:lnTo>
                        <a:lnTo>
                          <a:pt x="42" y="363"/>
                        </a:lnTo>
                        <a:lnTo>
                          <a:pt x="42" y="331"/>
                        </a:lnTo>
                        <a:lnTo>
                          <a:pt x="56" y="301"/>
                        </a:lnTo>
                        <a:lnTo>
                          <a:pt x="56" y="252"/>
                        </a:lnTo>
                        <a:lnTo>
                          <a:pt x="69" y="222"/>
                        </a:lnTo>
                        <a:lnTo>
                          <a:pt x="69" y="190"/>
                        </a:lnTo>
                        <a:lnTo>
                          <a:pt x="83" y="143"/>
                        </a:lnTo>
                        <a:lnTo>
                          <a:pt x="83" y="111"/>
                        </a:lnTo>
                        <a:lnTo>
                          <a:pt x="97" y="79"/>
                        </a:lnTo>
                        <a:lnTo>
                          <a:pt x="97" y="32"/>
                        </a:lnTo>
                        <a:lnTo>
                          <a:pt x="11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6" name=""/>
                <p:cNvGrpSpPr/>
                <p:nvPr/>
              </p:nvGrpSpPr>
              <p:grpSpPr>
                <a:xfrm>
                  <a:off x="6767640" y="2544840"/>
                  <a:ext cx="44280" cy="166680"/>
                  <a:chOff x="6767640" y="2544840"/>
                  <a:chExt cx="44280" cy="16668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>
                    <a:off x="6767640" y="2544840"/>
                    <a:ext cx="4428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315">
                        <a:moveTo>
                          <a:pt x="0" y="315"/>
                        </a:moveTo>
                        <a:lnTo>
                          <a:pt x="0" y="284"/>
                        </a:lnTo>
                        <a:lnTo>
                          <a:pt x="14" y="237"/>
                        </a:lnTo>
                        <a:lnTo>
                          <a:pt x="27" y="205"/>
                        </a:lnTo>
                        <a:lnTo>
                          <a:pt x="27" y="158"/>
                        </a:lnTo>
                        <a:lnTo>
                          <a:pt x="41" y="126"/>
                        </a:lnTo>
                        <a:lnTo>
                          <a:pt x="55" y="79"/>
                        </a:lnTo>
                        <a:lnTo>
                          <a:pt x="69" y="47"/>
                        </a:lnTo>
                        <a:lnTo>
                          <a:pt x="83" y="0"/>
                        </a:lnTo>
                        <a:lnTo>
                          <a:pt x="0" y="315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6767640" y="2544840"/>
                    <a:ext cx="4428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315">
                        <a:moveTo>
                          <a:pt x="0" y="315"/>
                        </a:moveTo>
                        <a:lnTo>
                          <a:pt x="0" y="284"/>
                        </a:lnTo>
                        <a:lnTo>
                          <a:pt x="14" y="237"/>
                        </a:lnTo>
                        <a:lnTo>
                          <a:pt x="27" y="205"/>
                        </a:lnTo>
                        <a:lnTo>
                          <a:pt x="27" y="158"/>
                        </a:lnTo>
                        <a:lnTo>
                          <a:pt x="41" y="126"/>
                        </a:lnTo>
                        <a:lnTo>
                          <a:pt x="55" y="79"/>
                        </a:lnTo>
                        <a:lnTo>
                          <a:pt x="69" y="47"/>
                        </a:lnTo>
                        <a:lnTo>
                          <a:pt x="8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6811920" y="2495520"/>
                  <a:ext cx="14400" cy="49320"/>
                  <a:chOff x="6811920" y="2495520"/>
                  <a:chExt cx="14400" cy="4932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6811920" y="2495520"/>
                    <a:ext cx="1440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94">
                        <a:moveTo>
                          <a:pt x="0" y="94"/>
                        </a:moveTo>
                        <a:lnTo>
                          <a:pt x="0" y="62"/>
                        </a:lnTo>
                        <a:lnTo>
                          <a:pt x="15" y="30"/>
                        </a:lnTo>
                        <a:lnTo>
                          <a:pt x="29" y="0"/>
                        </a:lnTo>
                        <a:lnTo>
                          <a:pt x="0" y="94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6811920" y="2495520"/>
                    <a:ext cx="1440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94">
                        <a:moveTo>
                          <a:pt x="0" y="94"/>
                        </a:moveTo>
                        <a:lnTo>
                          <a:pt x="0" y="62"/>
                        </a:lnTo>
                        <a:lnTo>
                          <a:pt x="15" y="3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6826320" y="2460600"/>
                  <a:ext cx="15840" cy="34920"/>
                  <a:chOff x="6826320" y="2460600"/>
                  <a:chExt cx="15840" cy="3492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6826320" y="2460600"/>
                    <a:ext cx="158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64">
                        <a:moveTo>
                          <a:pt x="0" y="64"/>
                        </a:moveTo>
                        <a:lnTo>
                          <a:pt x="14" y="47"/>
                        </a:lnTo>
                        <a:lnTo>
                          <a:pt x="28" y="15"/>
                        </a:lnTo>
                        <a:lnTo>
                          <a:pt x="28" y="0"/>
                        </a:lnTo>
                        <a:lnTo>
                          <a:pt x="0" y="64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6826320" y="2460600"/>
                    <a:ext cx="158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64">
                        <a:moveTo>
                          <a:pt x="0" y="64"/>
                        </a:moveTo>
                        <a:lnTo>
                          <a:pt x="14" y="47"/>
                        </a:lnTo>
                        <a:lnTo>
                          <a:pt x="28" y="15"/>
                        </a:lnTo>
                        <a:lnTo>
                          <a:pt x="2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6885000" y="4422600"/>
                  <a:ext cx="50760" cy="376560"/>
                  <a:chOff x="6885000" y="4422600"/>
                  <a:chExt cx="50760" cy="37656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6885000" y="4422600"/>
                    <a:ext cx="50760" cy="37656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710">
                        <a:moveTo>
                          <a:pt x="96" y="710"/>
                        </a:moveTo>
                        <a:lnTo>
                          <a:pt x="83" y="678"/>
                        </a:lnTo>
                        <a:lnTo>
                          <a:pt x="69" y="648"/>
                        </a:lnTo>
                        <a:lnTo>
                          <a:pt x="69" y="616"/>
                        </a:lnTo>
                        <a:lnTo>
                          <a:pt x="55" y="584"/>
                        </a:lnTo>
                        <a:lnTo>
                          <a:pt x="55" y="537"/>
                        </a:lnTo>
                        <a:lnTo>
                          <a:pt x="55" y="505"/>
                        </a:lnTo>
                        <a:lnTo>
                          <a:pt x="41" y="473"/>
                        </a:lnTo>
                        <a:lnTo>
                          <a:pt x="41" y="441"/>
                        </a:lnTo>
                        <a:lnTo>
                          <a:pt x="27" y="394"/>
                        </a:lnTo>
                        <a:lnTo>
                          <a:pt x="27" y="363"/>
                        </a:lnTo>
                        <a:lnTo>
                          <a:pt x="27" y="332"/>
                        </a:lnTo>
                        <a:lnTo>
                          <a:pt x="27" y="284"/>
                        </a:lnTo>
                        <a:lnTo>
                          <a:pt x="13" y="253"/>
                        </a:lnTo>
                        <a:lnTo>
                          <a:pt x="13" y="221"/>
                        </a:lnTo>
                        <a:lnTo>
                          <a:pt x="13" y="190"/>
                        </a:lnTo>
                        <a:lnTo>
                          <a:pt x="13" y="143"/>
                        </a:lnTo>
                        <a:lnTo>
                          <a:pt x="0" y="111"/>
                        </a:lnTo>
                        <a:lnTo>
                          <a:pt x="0" y="79"/>
                        </a:lnTo>
                        <a:lnTo>
                          <a:pt x="0" y="32"/>
                        </a:lnTo>
                        <a:lnTo>
                          <a:pt x="0" y="0"/>
                        </a:lnTo>
                        <a:lnTo>
                          <a:pt x="96" y="710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6885000" y="4422600"/>
                    <a:ext cx="50760" cy="37656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710">
                        <a:moveTo>
                          <a:pt x="96" y="710"/>
                        </a:moveTo>
                        <a:lnTo>
                          <a:pt x="83" y="678"/>
                        </a:lnTo>
                        <a:lnTo>
                          <a:pt x="69" y="648"/>
                        </a:lnTo>
                        <a:lnTo>
                          <a:pt x="69" y="616"/>
                        </a:lnTo>
                        <a:lnTo>
                          <a:pt x="55" y="584"/>
                        </a:lnTo>
                        <a:lnTo>
                          <a:pt x="55" y="537"/>
                        </a:lnTo>
                        <a:lnTo>
                          <a:pt x="55" y="505"/>
                        </a:lnTo>
                        <a:lnTo>
                          <a:pt x="41" y="473"/>
                        </a:lnTo>
                        <a:lnTo>
                          <a:pt x="41" y="441"/>
                        </a:lnTo>
                        <a:lnTo>
                          <a:pt x="27" y="394"/>
                        </a:lnTo>
                        <a:lnTo>
                          <a:pt x="27" y="363"/>
                        </a:lnTo>
                        <a:lnTo>
                          <a:pt x="27" y="332"/>
                        </a:lnTo>
                        <a:lnTo>
                          <a:pt x="27" y="284"/>
                        </a:lnTo>
                        <a:lnTo>
                          <a:pt x="13" y="253"/>
                        </a:lnTo>
                        <a:lnTo>
                          <a:pt x="13" y="221"/>
                        </a:lnTo>
                        <a:lnTo>
                          <a:pt x="13" y="190"/>
                        </a:lnTo>
                        <a:lnTo>
                          <a:pt x="13" y="143"/>
                        </a:lnTo>
                        <a:lnTo>
                          <a:pt x="0" y="111"/>
                        </a:lnTo>
                        <a:lnTo>
                          <a:pt x="0" y="79"/>
                        </a:lnTo>
                        <a:lnTo>
                          <a:pt x="0" y="3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870600" y="4205160"/>
                  <a:ext cx="14400" cy="217440"/>
                  <a:chOff x="6870600" y="4205160"/>
                  <a:chExt cx="14400" cy="21744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870600" y="4205160"/>
                    <a:ext cx="1440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410">
                        <a:moveTo>
                          <a:pt x="28" y="410"/>
                        </a:moveTo>
                        <a:lnTo>
                          <a:pt x="14" y="378"/>
                        </a:lnTo>
                        <a:lnTo>
                          <a:pt x="14" y="331"/>
                        </a:lnTo>
                        <a:lnTo>
                          <a:pt x="14" y="299"/>
                        </a:lnTo>
                        <a:lnTo>
                          <a:pt x="14" y="269"/>
                        </a:lnTo>
                        <a:lnTo>
                          <a:pt x="14" y="220"/>
                        </a:lnTo>
                        <a:lnTo>
                          <a:pt x="0" y="190"/>
                        </a:lnTo>
                        <a:lnTo>
                          <a:pt x="0" y="158"/>
                        </a:lnTo>
                        <a:lnTo>
                          <a:pt x="0" y="111"/>
                        </a:lnTo>
                        <a:lnTo>
                          <a:pt x="0" y="79"/>
                        </a:lnTo>
                        <a:lnTo>
                          <a:pt x="0" y="32"/>
                        </a:lnTo>
                        <a:lnTo>
                          <a:pt x="0" y="0"/>
                        </a:lnTo>
                        <a:lnTo>
                          <a:pt x="28" y="410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870600" y="4205160"/>
                    <a:ext cx="1440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410">
                        <a:moveTo>
                          <a:pt x="28" y="410"/>
                        </a:moveTo>
                        <a:lnTo>
                          <a:pt x="14" y="378"/>
                        </a:lnTo>
                        <a:lnTo>
                          <a:pt x="14" y="331"/>
                        </a:lnTo>
                        <a:lnTo>
                          <a:pt x="14" y="299"/>
                        </a:lnTo>
                        <a:lnTo>
                          <a:pt x="14" y="269"/>
                        </a:lnTo>
                        <a:lnTo>
                          <a:pt x="14" y="220"/>
                        </a:lnTo>
                        <a:lnTo>
                          <a:pt x="0" y="190"/>
                        </a:lnTo>
                        <a:lnTo>
                          <a:pt x="0" y="158"/>
                        </a:lnTo>
                        <a:lnTo>
                          <a:pt x="0" y="111"/>
                        </a:lnTo>
                        <a:lnTo>
                          <a:pt x="0" y="79"/>
                        </a:lnTo>
                        <a:lnTo>
                          <a:pt x="0" y="3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6848640" y="3021120"/>
                  <a:ext cx="21960" cy="1184040"/>
                  <a:chOff x="6848640" y="3021120"/>
                  <a:chExt cx="21960" cy="118404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6848640" y="3021120"/>
                    <a:ext cx="21960" cy="11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2240">
                        <a:moveTo>
                          <a:pt x="42" y="2240"/>
                        </a:moveTo>
                        <a:lnTo>
                          <a:pt x="28" y="2209"/>
                        </a:lnTo>
                        <a:lnTo>
                          <a:pt x="28" y="2177"/>
                        </a:lnTo>
                        <a:lnTo>
                          <a:pt x="28" y="2130"/>
                        </a:lnTo>
                        <a:lnTo>
                          <a:pt x="28" y="2098"/>
                        </a:lnTo>
                        <a:lnTo>
                          <a:pt x="28" y="2066"/>
                        </a:lnTo>
                        <a:lnTo>
                          <a:pt x="28" y="2036"/>
                        </a:lnTo>
                        <a:lnTo>
                          <a:pt x="14" y="2004"/>
                        </a:lnTo>
                        <a:lnTo>
                          <a:pt x="14" y="1957"/>
                        </a:lnTo>
                        <a:lnTo>
                          <a:pt x="14" y="1925"/>
                        </a:lnTo>
                        <a:lnTo>
                          <a:pt x="14" y="1893"/>
                        </a:lnTo>
                        <a:lnTo>
                          <a:pt x="14" y="1861"/>
                        </a:lnTo>
                        <a:lnTo>
                          <a:pt x="14" y="1830"/>
                        </a:lnTo>
                        <a:lnTo>
                          <a:pt x="14" y="1782"/>
                        </a:lnTo>
                        <a:lnTo>
                          <a:pt x="14" y="1751"/>
                        </a:lnTo>
                        <a:lnTo>
                          <a:pt x="0" y="1720"/>
                        </a:lnTo>
                        <a:lnTo>
                          <a:pt x="0" y="1688"/>
                        </a:lnTo>
                        <a:lnTo>
                          <a:pt x="0" y="1657"/>
                        </a:lnTo>
                        <a:lnTo>
                          <a:pt x="0" y="1610"/>
                        </a:lnTo>
                        <a:lnTo>
                          <a:pt x="0" y="1578"/>
                        </a:lnTo>
                        <a:lnTo>
                          <a:pt x="0" y="1546"/>
                        </a:lnTo>
                        <a:lnTo>
                          <a:pt x="0" y="1514"/>
                        </a:lnTo>
                        <a:lnTo>
                          <a:pt x="0" y="1484"/>
                        </a:lnTo>
                        <a:lnTo>
                          <a:pt x="0" y="1435"/>
                        </a:lnTo>
                        <a:lnTo>
                          <a:pt x="0" y="1405"/>
                        </a:lnTo>
                        <a:lnTo>
                          <a:pt x="0" y="1373"/>
                        </a:lnTo>
                        <a:lnTo>
                          <a:pt x="0" y="1341"/>
                        </a:lnTo>
                        <a:lnTo>
                          <a:pt x="0" y="1309"/>
                        </a:lnTo>
                        <a:lnTo>
                          <a:pt x="0" y="1262"/>
                        </a:lnTo>
                        <a:lnTo>
                          <a:pt x="0" y="1230"/>
                        </a:lnTo>
                        <a:lnTo>
                          <a:pt x="0" y="1199"/>
                        </a:lnTo>
                        <a:lnTo>
                          <a:pt x="0" y="1168"/>
                        </a:lnTo>
                        <a:lnTo>
                          <a:pt x="0" y="1136"/>
                        </a:lnTo>
                        <a:lnTo>
                          <a:pt x="0" y="1088"/>
                        </a:lnTo>
                        <a:lnTo>
                          <a:pt x="0" y="1057"/>
                        </a:lnTo>
                        <a:lnTo>
                          <a:pt x="0" y="1026"/>
                        </a:lnTo>
                        <a:lnTo>
                          <a:pt x="0" y="994"/>
                        </a:lnTo>
                        <a:lnTo>
                          <a:pt x="0" y="962"/>
                        </a:lnTo>
                        <a:lnTo>
                          <a:pt x="0" y="915"/>
                        </a:lnTo>
                        <a:lnTo>
                          <a:pt x="0" y="883"/>
                        </a:lnTo>
                        <a:lnTo>
                          <a:pt x="0" y="851"/>
                        </a:lnTo>
                        <a:lnTo>
                          <a:pt x="0" y="821"/>
                        </a:lnTo>
                        <a:lnTo>
                          <a:pt x="0" y="789"/>
                        </a:lnTo>
                        <a:lnTo>
                          <a:pt x="0" y="742"/>
                        </a:lnTo>
                        <a:lnTo>
                          <a:pt x="0" y="710"/>
                        </a:lnTo>
                        <a:lnTo>
                          <a:pt x="0" y="678"/>
                        </a:lnTo>
                        <a:lnTo>
                          <a:pt x="0" y="646"/>
                        </a:lnTo>
                        <a:lnTo>
                          <a:pt x="0" y="615"/>
                        </a:lnTo>
                        <a:lnTo>
                          <a:pt x="0" y="568"/>
                        </a:lnTo>
                        <a:lnTo>
                          <a:pt x="14" y="536"/>
                        </a:lnTo>
                        <a:lnTo>
                          <a:pt x="14" y="505"/>
                        </a:lnTo>
                        <a:lnTo>
                          <a:pt x="14" y="474"/>
                        </a:lnTo>
                        <a:lnTo>
                          <a:pt x="14" y="426"/>
                        </a:lnTo>
                        <a:lnTo>
                          <a:pt x="14" y="395"/>
                        </a:lnTo>
                        <a:lnTo>
                          <a:pt x="14" y="363"/>
                        </a:lnTo>
                        <a:lnTo>
                          <a:pt x="14" y="331"/>
                        </a:lnTo>
                        <a:lnTo>
                          <a:pt x="14" y="299"/>
                        </a:lnTo>
                        <a:lnTo>
                          <a:pt x="28" y="252"/>
                        </a:lnTo>
                        <a:lnTo>
                          <a:pt x="28" y="220"/>
                        </a:lnTo>
                        <a:lnTo>
                          <a:pt x="28" y="190"/>
                        </a:lnTo>
                        <a:lnTo>
                          <a:pt x="28" y="141"/>
                        </a:lnTo>
                        <a:lnTo>
                          <a:pt x="28" y="111"/>
                        </a:lnTo>
                        <a:lnTo>
                          <a:pt x="28" y="63"/>
                        </a:lnTo>
                        <a:lnTo>
                          <a:pt x="42" y="32"/>
                        </a:lnTo>
                        <a:lnTo>
                          <a:pt x="42" y="0"/>
                        </a:lnTo>
                        <a:lnTo>
                          <a:pt x="42" y="2240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6848640" y="3021120"/>
                    <a:ext cx="21960" cy="11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2240">
                        <a:moveTo>
                          <a:pt x="42" y="2240"/>
                        </a:moveTo>
                        <a:lnTo>
                          <a:pt x="28" y="2209"/>
                        </a:lnTo>
                        <a:lnTo>
                          <a:pt x="28" y="2177"/>
                        </a:lnTo>
                        <a:lnTo>
                          <a:pt x="28" y="2130"/>
                        </a:lnTo>
                        <a:lnTo>
                          <a:pt x="28" y="2098"/>
                        </a:lnTo>
                        <a:lnTo>
                          <a:pt x="28" y="2066"/>
                        </a:lnTo>
                        <a:lnTo>
                          <a:pt x="28" y="2036"/>
                        </a:lnTo>
                        <a:lnTo>
                          <a:pt x="14" y="2004"/>
                        </a:lnTo>
                        <a:lnTo>
                          <a:pt x="14" y="1957"/>
                        </a:lnTo>
                        <a:lnTo>
                          <a:pt x="14" y="1925"/>
                        </a:lnTo>
                        <a:lnTo>
                          <a:pt x="14" y="1893"/>
                        </a:lnTo>
                        <a:lnTo>
                          <a:pt x="14" y="1861"/>
                        </a:lnTo>
                        <a:lnTo>
                          <a:pt x="14" y="1830"/>
                        </a:lnTo>
                        <a:lnTo>
                          <a:pt x="14" y="1782"/>
                        </a:lnTo>
                        <a:lnTo>
                          <a:pt x="14" y="1751"/>
                        </a:lnTo>
                        <a:lnTo>
                          <a:pt x="0" y="1720"/>
                        </a:lnTo>
                        <a:lnTo>
                          <a:pt x="0" y="1688"/>
                        </a:lnTo>
                        <a:lnTo>
                          <a:pt x="0" y="1657"/>
                        </a:lnTo>
                        <a:lnTo>
                          <a:pt x="0" y="1610"/>
                        </a:lnTo>
                        <a:lnTo>
                          <a:pt x="0" y="1578"/>
                        </a:lnTo>
                        <a:lnTo>
                          <a:pt x="0" y="1546"/>
                        </a:lnTo>
                        <a:lnTo>
                          <a:pt x="0" y="1514"/>
                        </a:lnTo>
                        <a:lnTo>
                          <a:pt x="0" y="1484"/>
                        </a:lnTo>
                        <a:lnTo>
                          <a:pt x="0" y="1435"/>
                        </a:lnTo>
                        <a:lnTo>
                          <a:pt x="0" y="1405"/>
                        </a:lnTo>
                        <a:lnTo>
                          <a:pt x="0" y="1373"/>
                        </a:lnTo>
                        <a:lnTo>
                          <a:pt x="0" y="1341"/>
                        </a:lnTo>
                        <a:lnTo>
                          <a:pt x="0" y="1309"/>
                        </a:lnTo>
                        <a:lnTo>
                          <a:pt x="0" y="1262"/>
                        </a:lnTo>
                        <a:lnTo>
                          <a:pt x="0" y="1230"/>
                        </a:lnTo>
                        <a:lnTo>
                          <a:pt x="0" y="1199"/>
                        </a:lnTo>
                        <a:lnTo>
                          <a:pt x="0" y="1168"/>
                        </a:lnTo>
                        <a:lnTo>
                          <a:pt x="0" y="1136"/>
                        </a:lnTo>
                        <a:lnTo>
                          <a:pt x="0" y="1088"/>
                        </a:lnTo>
                        <a:lnTo>
                          <a:pt x="0" y="1057"/>
                        </a:lnTo>
                        <a:lnTo>
                          <a:pt x="0" y="1026"/>
                        </a:lnTo>
                        <a:lnTo>
                          <a:pt x="0" y="994"/>
                        </a:lnTo>
                        <a:lnTo>
                          <a:pt x="0" y="962"/>
                        </a:lnTo>
                        <a:lnTo>
                          <a:pt x="0" y="915"/>
                        </a:lnTo>
                        <a:lnTo>
                          <a:pt x="0" y="883"/>
                        </a:lnTo>
                        <a:lnTo>
                          <a:pt x="0" y="851"/>
                        </a:lnTo>
                        <a:lnTo>
                          <a:pt x="0" y="821"/>
                        </a:lnTo>
                        <a:lnTo>
                          <a:pt x="0" y="789"/>
                        </a:lnTo>
                        <a:lnTo>
                          <a:pt x="0" y="742"/>
                        </a:lnTo>
                        <a:lnTo>
                          <a:pt x="0" y="710"/>
                        </a:lnTo>
                        <a:lnTo>
                          <a:pt x="0" y="678"/>
                        </a:lnTo>
                        <a:lnTo>
                          <a:pt x="0" y="646"/>
                        </a:lnTo>
                        <a:lnTo>
                          <a:pt x="0" y="615"/>
                        </a:lnTo>
                        <a:lnTo>
                          <a:pt x="0" y="568"/>
                        </a:lnTo>
                        <a:lnTo>
                          <a:pt x="14" y="536"/>
                        </a:lnTo>
                        <a:lnTo>
                          <a:pt x="14" y="505"/>
                        </a:lnTo>
                        <a:lnTo>
                          <a:pt x="14" y="474"/>
                        </a:lnTo>
                        <a:lnTo>
                          <a:pt x="14" y="426"/>
                        </a:lnTo>
                        <a:lnTo>
                          <a:pt x="14" y="395"/>
                        </a:lnTo>
                        <a:lnTo>
                          <a:pt x="14" y="363"/>
                        </a:lnTo>
                        <a:lnTo>
                          <a:pt x="14" y="331"/>
                        </a:lnTo>
                        <a:lnTo>
                          <a:pt x="14" y="299"/>
                        </a:lnTo>
                        <a:lnTo>
                          <a:pt x="28" y="252"/>
                        </a:lnTo>
                        <a:lnTo>
                          <a:pt x="28" y="220"/>
                        </a:lnTo>
                        <a:lnTo>
                          <a:pt x="28" y="190"/>
                        </a:lnTo>
                        <a:lnTo>
                          <a:pt x="28" y="141"/>
                        </a:lnTo>
                        <a:lnTo>
                          <a:pt x="28" y="111"/>
                        </a:lnTo>
                        <a:lnTo>
                          <a:pt x="28" y="63"/>
                        </a:lnTo>
                        <a:lnTo>
                          <a:pt x="42" y="32"/>
                        </a:lnTo>
                        <a:lnTo>
                          <a:pt x="4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6870600" y="2662200"/>
                  <a:ext cx="28800" cy="358920"/>
                  <a:chOff x="6870600" y="2662200"/>
                  <a:chExt cx="28800" cy="35892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6870600" y="2662200"/>
                    <a:ext cx="28800" cy="358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678">
                        <a:moveTo>
                          <a:pt x="0" y="678"/>
                        </a:moveTo>
                        <a:lnTo>
                          <a:pt x="0" y="646"/>
                        </a:lnTo>
                        <a:lnTo>
                          <a:pt x="0" y="615"/>
                        </a:lnTo>
                        <a:lnTo>
                          <a:pt x="0" y="583"/>
                        </a:lnTo>
                        <a:lnTo>
                          <a:pt x="0" y="552"/>
                        </a:lnTo>
                        <a:lnTo>
                          <a:pt x="14" y="521"/>
                        </a:lnTo>
                        <a:lnTo>
                          <a:pt x="14" y="489"/>
                        </a:lnTo>
                        <a:lnTo>
                          <a:pt x="14" y="442"/>
                        </a:lnTo>
                        <a:lnTo>
                          <a:pt x="14" y="410"/>
                        </a:lnTo>
                        <a:lnTo>
                          <a:pt x="28" y="363"/>
                        </a:lnTo>
                        <a:lnTo>
                          <a:pt x="28" y="331"/>
                        </a:lnTo>
                        <a:lnTo>
                          <a:pt x="28" y="284"/>
                        </a:lnTo>
                        <a:lnTo>
                          <a:pt x="28" y="237"/>
                        </a:lnTo>
                        <a:lnTo>
                          <a:pt x="28" y="205"/>
                        </a:lnTo>
                        <a:lnTo>
                          <a:pt x="41" y="173"/>
                        </a:lnTo>
                        <a:lnTo>
                          <a:pt x="41" y="126"/>
                        </a:lnTo>
                        <a:lnTo>
                          <a:pt x="41" y="94"/>
                        </a:lnTo>
                        <a:lnTo>
                          <a:pt x="41" y="63"/>
                        </a:lnTo>
                        <a:lnTo>
                          <a:pt x="55" y="31"/>
                        </a:lnTo>
                        <a:lnTo>
                          <a:pt x="55" y="0"/>
                        </a:lnTo>
                        <a:lnTo>
                          <a:pt x="0" y="678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6870600" y="2662200"/>
                    <a:ext cx="28800" cy="358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678">
                        <a:moveTo>
                          <a:pt x="0" y="678"/>
                        </a:moveTo>
                        <a:lnTo>
                          <a:pt x="0" y="646"/>
                        </a:lnTo>
                        <a:lnTo>
                          <a:pt x="0" y="615"/>
                        </a:lnTo>
                        <a:lnTo>
                          <a:pt x="0" y="583"/>
                        </a:lnTo>
                        <a:lnTo>
                          <a:pt x="0" y="552"/>
                        </a:lnTo>
                        <a:lnTo>
                          <a:pt x="14" y="521"/>
                        </a:lnTo>
                        <a:lnTo>
                          <a:pt x="14" y="489"/>
                        </a:lnTo>
                        <a:lnTo>
                          <a:pt x="14" y="442"/>
                        </a:lnTo>
                        <a:lnTo>
                          <a:pt x="14" y="410"/>
                        </a:lnTo>
                        <a:lnTo>
                          <a:pt x="28" y="363"/>
                        </a:lnTo>
                        <a:lnTo>
                          <a:pt x="28" y="331"/>
                        </a:lnTo>
                        <a:lnTo>
                          <a:pt x="28" y="284"/>
                        </a:lnTo>
                        <a:lnTo>
                          <a:pt x="28" y="237"/>
                        </a:lnTo>
                        <a:lnTo>
                          <a:pt x="28" y="205"/>
                        </a:lnTo>
                        <a:lnTo>
                          <a:pt x="41" y="173"/>
                        </a:lnTo>
                        <a:lnTo>
                          <a:pt x="41" y="126"/>
                        </a:lnTo>
                        <a:lnTo>
                          <a:pt x="41" y="94"/>
                        </a:lnTo>
                        <a:lnTo>
                          <a:pt x="41" y="63"/>
                        </a:lnTo>
                        <a:lnTo>
                          <a:pt x="55" y="31"/>
                        </a:lnTo>
                        <a:lnTo>
                          <a:pt x="55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6899400" y="2519280"/>
                  <a:ext cx="21960" cy="142920"/>
                  <a:chOff x="6899400" y="2519280"/>
                  <a:chExt cx="21960" cy="14292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6899400" y="2519280"/>
                    <a:ext cx="2196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268">
                        <a:moveTo>
                          <a:pt x="0" y="268"/>
                        </a:moveTo>
                        <a:lnTo>
                          <a:pt x="0" y="220"/>
                        </a:lnTo>
                        <a:lnTo>
                          <a:pt x="14" y="173"/>
                        </a:lnTo>
                        <a:lnTo>
                          <a:pt x="14" y="141"/>
                        </a:lnTo>
                        <a:lnTo>
                          <a:pt x="28" y="94"/>
                        </a:lnTo>
                        <a:lnTo>
                          <a:pt x="28" y="47"/>
                        </a:lnTo>
                        <a:lnTo>
                          <a:pt x="42" y="0"/>
                        </a:lnTo>
                        <a:lnTo>
                          <a:pt x="0" y="268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6899400" y="2519280"/>
                    <a:ext cx="2196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268">
                        <a:moveTo>
                          <a:pt x="0" y="268"/>
                        </a:moveTo>
                        <a:lnTo>
                          <a:pt x="0" y="220"/>
                        </a:lnTo>
                        <a:lnTo>
                          <a:pt x="14" y="173"/>
                        </a:lnTo>
                        <a:lnTo>
                          <a:pt x="14" y="141"/>
                        </a:lnTo>
                        <a:lnTo>
                          <a:pt x="28" y="94"/>
                        </a:lnTo>
                        <a:lnTo>
                          <a:pt x="28" y="47"/>
                        </a:lnTo>
                        <a:lnTo>
                          <a:pt x="4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921360" y="2478240"/>
                  <a:ext cx="7920" cy="41040"/>
                  <a:chOff x="6921360" y="2478240"/>
                  <a:chExt cx="7920" cy="4104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921360" y="2478240"/>
                    <a:ext cx="792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79">
                        <a:moveTo>
                          <a:pt x="0" y="79"/>
                        </a:moveTo>
                        <a:lnTo>
                          <a:pt x="0" y="47"/>
                        </a:lnTo>
                        <a:lnTo>
                          <a:pt x="14" y="32"/>
                        </a:lnTo>
                        <a:lnTo>
                          <a:pt x="14" y="0"/>
                        </a:lnTo>
                        <a:lnTo>
                          <a:pt x="0" y="79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921360" y="2478240"/>
                    <a:ext cx="792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79">
                        <a:moveTo>
                          <a:pt x="0" y="79"/>
                        </a:moveTo>
                        <a:lnTo>
                          <a:pt x="0" y="47"/>
                        </a:lnTo>
                        <a:lnTo>
                          <a:pt x="14" y="32"/>
                        </a:lnTo>
                        <a:lnTo>
                          <a:pt x="14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6929280" y="2460600"/>
                  <a:ext cx="6480" cy="17640"/>
                  <a:chOff x="6929280" y="2460600"/>
                  <a:chExt cx="6480" cy="1764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6929280" y="2460600"/>
                    <a:ext cx="64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32">
                        <a:moveTo>
                          <a:pt x="0" y="32"/>
                        </a:moveTo>
                        <a:lnTo>
                          <a:pt x="0" y="15"/>
                        </a:lnTo>
                        <a:lnTo>
                          <a:pt x="13" y="0"/>
                        </a:lnTo>
                        <a:lnTo>
                          <a:pt x="0" y="32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6929280" y="2460600"/>
                    <a:ext cx="64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32">
                        <a:moveTo>
                          <a:pt x="0" y="32"/>
                        </a:moveTo>
                        <a:lnTo>
                          <a:pt x="0" y="15"/>
                        </a:lnTo>
                        <a:lnTo>
                          <a:pt x="1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7024680" y="2460600"/>
                  <a:ext cx="1440" cy="2338560"/>
                  <a:chOff x="7024680" y="2460600"/>
                  <a:chExt cx="1440" cy="233856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7024680" y="2460600"/>
                    <a:ext cx="1440" cy="233856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4417">
                        <a:moveTo>
                          <a:pt x="0" y="4417"/>
                        </a:moveTo>
                        <a:lnTo>
                          <a:pt x="0" y="4385"/>
                        </a:lnTo>
                        <a:lnTo>
                          <a:pt x="0" y="4355"/>
                        </a:lnTo>
                        <a:lnTo>
                          <a:pt x="0" y="4323"/>
                        </a:lnTo>
                        <a:lnTo>
                          <a:pt x="0" y="4291"/>
                        </a:lnTo>
                        <a:lnTo>
                          <a:pt x="0" y="4259"/>
                        </a:lnTo>
                        <a:lnTo>
                          <a:pt x="0" y="4212"/>
                        </a:lnTo>
                        <a:lnTo>
                          <a:pt x="0" y="4180"/>
                        </a:lnTo>
                        <a:lnTo>
                          <a:pt x="0" y="4148"/>
                        </a:lnTo>
                        <a:lnTo>
                          <a:pt x="0" y="4118"/>
                        </a:lnTo>
                        <a:lnTo>
                          <a:pt x="0" y="4086"/>
                        </a:lnTo>
                        <a:lnTo>
                          <a:pt x="0" y="4054"/>
                        </a:lnTo>
                        <a:lnTo>
                          <a:pt x="0" y="4007"/>
                        </a:lnTo>
                        <a:lnTo>
                          <a:pt x="0" y="3975"/>
                        </a:lnTo>
                        <a:lnTo>
                          <a:pt x="0" y="3944"/>
                        </a:lnTo>
                        <a:lnTo>
                          <a:pt x="0" y="3912"/>
                        </a:lnTo>
                        <a:lnTo>
                          <a:pt x="0" y="3881"/>
                        </a:lnTo>
                        <a:lnTo>
                          <a:pt x="0" y="3833"/>
                        </a:lnTo>
                        <a:lnTo>
                          <a:pt x="0" y="3803"/>
                        </a:lnTo>
                        <a:lnTo>
                          <a:pt x="0" y="3771"/>
                        </a:lnTo>
                        <a:lnTo>
                          <a:pt x="0" y="3739"/>
                        </a:lnTo>
                        <a:lnTo>
                          <a:pt x="0" y="3707"/>
                        </a:lnTo>
                        <a:lnTo>
                          <a:pt x="0" y="3675"/>
                        </a:lnTo>
                        <a:lnTo>
                          <a:pt x="0" y="3628"/>
                        </a:lnTo>
                        <a:lnTo>
                          <a:pt x="0" y="3596"/>
                        </a:lnTo>
                        <a:lnTo>
                          <a:pt x="0" y="3566"/>
                        </a:lnTo>
                        <a:lnTo>
                          <a:pt x="0" y="3534"/>
                        </a:lnTo>
                        <a:lnTo>
                          <a:pt x="0" y="3502"/>
                        </a:lnTo>
                        <a:lnTo>
                          <a:pt x="0" y="3455"/>
                        </a:lnTo>
                        <a:lnTo>
                          <a:pt x="0" y="3423"/>
                        </a:lnTo>
                        <a:lnTo>
                          <a:pt x="0" y="3392"/>
                        </a:lnTo>
                        <a:lnTo>
                          <a:pt x="0" y="3360"/>
                        </a:lnTo>
                        <a:lnTo>
                          <a:pt x="0" y="3329"/>
                        </a:lnTo>
                        <a:lnTo>
                          <a:pt x="0" y="3297"/>
                        </a:lnTo>
                        <a:lnTo>
                          <a:pt x="0" y="3250"/>
                        </a:lnTo>
                        <a:lnTo>
                          <a:pt x="0" y="3219"/>
                        </a:lnTo>
                        <a:lnTo>
                          <a:pt x="0" y="3187"/>
                        </a:lnTo>
                        <a:lnTo>
                          <a:pt x="0" y="3155"/>
                        </a:lnTo>
                        <a:lnTo>
                          <a:pt x="0" y="3123"/>
                        </a:lnTo>
                        <a:lnTo>
                          <a:pt x="0" y="3076"/>
                        </a:lnTo>
                        <a:lnTo>
                          <a:pt x="0" y="3044"/>
                        </a:lnTo>
                        <a:lnTo>
                          <a:pt x="0" y="3014"/>
                        </a:lnTo>
                        <a:lnTo>
                          <a:pt x="0" y="2982"/>
                        </a:lnTo>
                        <a:lnTo>
                          <a:pt x="0" y="2950"/>
                        </a:lnTo>
                        <a:lnTo>
                          <a:pt x="0" y="2918"/>
                        </a:lnTo>
                        <a:lnTo>
                          <a:pt x="0" y="2871"/>
                        </a:lnTo>
                        <a:lnTo>
                          <a:pt x="0" y="2839"/>
                        </a:lnTo>
                        <a:lnTo>
                          <a:pt x="0" y="2808"/>
                        </a:lnTo>
                        <a:lnTo>
                          <a:pt x="0" y="2777"/>
                        </a:lnTo>
                        <a:lnTo>
                          <a:pt x="0" y="2745"/>
                        </a:lnTo>
                        <a:lnTo>
                          <a:pt x="0" y="2698"/>
                        </a:lnTo>
                        <a:lnTo>
                          <a:pt x="0" y="2667"/>
                        </a:lnTo>
                        <a:lnTo>
                          <a:pt x="0" y="2635"/>
                        </a:lnTo>
                        <a:lnTo>
                          <a:pt x="0" y="2603"/>
                        </a:lnTo>
                        <a:lnTo>
                          <a:pt x="0" y="2571"/>
                        </a:lnTo>
                        <a:lnTo>
                          <a:pt x="0" y="2541"/>
                        </a:lnTo>
                        <a:lnTo>
                          <a:pt x="0" y="2492"/>
                        </a:lnTo>
                        <a:lnTo>
                          <a:pt x="0" y="2462"/>
                        </a:lnTo>
                        <a:lnTo>
                          <a:pt x="0" y="2430"/>
                        </a:lnTo>
                        <a:lnTo>
                          <a:pt x="0" y="2398"/>
                        </a:lnTo>
                        <a:lnTo>
                          <a:pt x="0" y="2366"/>
                        </a:lnTo>
                        <a:lnTo>
                          <a:pt x="0" y="2334"/>
                        </a:lnTo>
                        <a:lnTo>
                          <a:pt x="0" y="2287"/>
                        </a:lnTo>
                        <a:lnTo>
                          <a:pt x="0" y="2256"/>
                        </a:lnTo>
                        <a:lnTo>
                          <a:pt x="0" y="2225"/>
                        </a:lnTo>
                        <a:lnTo>
                          <a:pt x="0" y="2193"/>
                        </a:lnTo>
                        <a:lnTo>
                          <a:pt x="0" y="2161"/>
                        </a:lnTo>
                        <a:lnTo>
                          <a:pt x="0" y="2114"/>
                        </a:lnTo>
                        <a:lnTo>
                          <a:pt x="0" y="2083"/>
                        </a:lnTo>
                        <a:lnTo>
                          <a:pt x="0" y="2051"/>
                        </a:lnTo>
                        <a:lnTo>
                          <a:pt x="0" y="2019"/>
                        </a:lnTo>
                        <a:lnTo>
                          <a:pt x="0" y="1987"/>
                        </a:lnTo>
                        <a:lnTo>
                          <a:pt x="0" y="1957"/>
                        </a:lnTo>
                        <a:lnTo>
                          <a:pt x="0" y="1908"/>
                        </a:lnTo>
                        <a:lnTo>
                          <a:pt x="0" y="1878"/>
                        </a:lnTo>
                        <a:lnTo>
                          <a:pt x="0" y="1846"/>
                        </a:lnTo>
                        <a:lnTo>
                          <a:pt x="0" y="1814"/>
                        </a:lnTo>
                        <a:lnTo>
                          <a:pt x="0" y="1782"/>
                        </a:lnTo>
                        <a:lnTo>
                          <a:pt x="0" y="1735"/>
                        </a:lnTo>
                        <a:lnTo>
                          <a:pt x="0" y="1703"/>
                        </a:lnTo>
                        <a:lnTo>
                          <a:pt x="0" y="1672"/>
                        </a:lnTo>
                        <a:lnTo>
                          <a:pt x="0" y="1641"/>
                        </a:lnTo>
                        <a:lnTo>
                          <a:pt x="0" y="1609"/>
                        </a:lnTo>
                        <a:lnTo>
                          <a:pt x="0" y="1578"/>
                        </a:lnTo>
                        <a:lnTo>
                          <a:pt x="0" y="1531"/>
                        </a:lnTo>
                        <a:lnTo>
                          <a:pt x="0" y="1499"/>
                        </a:lnTo>
                        <a:lnTo>
                          <a:pt x="0" y="1467"/>
                        </a:lnTo>
                        <a:lnTo>
                          <a:pt x="0" y="1435"/>
                        </a:lnTo>
                        <a:lnTo>
                          <a:pt x="0" y="1405"/>
                        </a:lnTo>
                        <a:lnTo>
                          <a:pt x="0" y="1356"/>
                        </a:lnTo>
                        <a:lnTo>
                          <a:pt x="0" y="1326"/>
                        </a:lnTo>
                        <a:lnTo>
                          <a:pt x="0" y="1294"/>
                        </a:lnTo>
                        <a:lnTo>
                          <a:pt x="0" y="1262"/>
                        </a:lnTo>
                        <a:lnTo>
                          <a:pt x="0" y="1230"/>
                        </a:lnTo>
                        <a:lnTo>
                          <a:pt x="0" y="1183"/>
                        </a:lnTo>
                        <a:lnTo>
                          <a:pt x="0" y="1136"/>
                        </a:lnTo>
                        <a:lnTo>
                          <a:pt x="0" y="1104"/>
                        </a:lnTo>
                        <a:lnTo>
                          <a:pt x="0" y="1073"/>
                        </a:lnTo>
                        <a:lnTo>
                          <a:pt x="0" y="1041"/>
                        </a:lnTo>
                        <a:lnTo>
                          <a:pt x="0" y="1010"/>
                        </a:lnTo>
                        <a:lnTo>
                          <a:pt x="0" y="978"/>
                        </a:lnTo>
                        <a:lnTo>
                          <a:pt x="0" y="931"/>
                        </a:lnTo>
                        <a:lnTo>
                          <a:pt x="0" y="900"/>
                        </a:lnTo>
                        <a:lnTo>
                          <a:pt x="0" y="868"/>
                        </a:lnTo>
                        <a:lnTo>
                          <a:pt x="0" y="836"/>
                        </a:lnTo>
                        <a:lnTo>
                          <a:pt x="0" y="804"/>
                        </a:lnTo>
                        <a:lnTo>
                          <a:pt x="0" y="757"/>
                        </a:lnTo>
                        <a:lnTo>
                          <a:pt x="0" y="725"/>
                        </a:lnTo>
                        <a:lnTo>
                          <a:pt x="0" y="695"/>
                        </a:lnTo>
                        <a:lnTo>
                          <a:pt x="0" y="663"/>
                        </a:lnTo>
                        <a:lnTo>
                          <a:pt x="0" y="631"/>
                        </a:lnTo>
                        <a:lnTo>
                          <a:pt x="0" y="599"/>
                        </a:lnTo>
                        <a:lnTo>
                          <a:pt x="0" y="552"/>
                        </a:lnTo>
                        <a:lnTo>
                          <a:pt x="0" y="520"/>
                        </a:lnTo>
                        <a:lnTo>
                          <a:pt x="0" y="489"/>
                        </a:lnTo>
                        <a:lnTo>
                          <a:pt x="0" y="458"/>
                        </a:lnTo>
                        <a:lnTo>
                          <a:pt x="0" y="426"/>
                        </a:lnTo>
                        <a:lnTo>
                          <a:pt x="0" y="379"/>
                        </a:lnTo>
                        <a:lnTo>
                          <a:pt x="0" y="347"/>
                        </a:lnTo>
                        <a:lnTo>
                          <a:pt x="0" y="316"/>
                        </a:lnTo>
                        <a:lnTo>
                          <a:pt x="0" y="284"/>
                        </a:lnTo>
                        <a:lnTo>
                          <a:pt x="0" y="252"/>
                        </a:lnTo>
                        <a:lnTo>
                          <a:pt x="0" y="222"/>
                        </a:lnTo>
                        <a:lnTo>
                          <a:pt x="0" y="173"/>
                        </a:lnTo>
                        <a:lnTo>
                          <a:pt x="0" y="143"/>
                        </a:lnTo>
                        <a:lnTo>
                          <a:pt x="0" y="111"/>
                        </a:lnTo>
                        <a:lnTo>
                          <a:pt x="0" y="79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lnTo>
                          <a:pt x="0" y="4417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7024680" y="2460600"/>
                    <a:ext cx="1440" cy="233856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4417">
                        <a:moveTo>
                          <a:pt x="0" y="4417"/>
                        </a:moveTo>
                        <a:lnTo>
                          <a:pt x="0" y="4385"/>
                        </a:lnTo>
                        <a:lnTo>
                          <a:pt x="0" y="4355"/>
                        </a:lnTo>
                        <a:lnTo>
                          <a:pt x="0" y="4323"/>
                        </a:lnTo>
                        <a:lnTo>
                          <a:pt x="0" y="4291"/>
                        </a:lnTo>
                        <a:lnTo>
                          <a:pt x="0" y="4259"/>
                        </a:lnTo>
                        <a:lnTo>
                          <a:pt x="0" y="4212"/>
                        </a:lnTo>
                        <a:lnTo>
                          <a:pt x="0" y="4180"/>
                        </a:lnTo>
                        <a:lnTo>
                          <a:pt x="0" y="4148"/>
                        </a:lnTo>
                        <a:lnTo>
                          <a:pt x="0" y="4118"/>
                        </a:lnTo>
                        <a:lnTo>
                          <a:pt x="0" y="4086"/>
                        </a:lnTo>
                        <a:lnTo>
                          <a:pt x="0" y="4054"/>
                        </a:lnTo>
                        <a:lnTo>
                          <a:pt x="0" y="4007"/>
                        </a:lnTo>
                        <a:lnTo>
                          <a:pt x="0" y="3975"/>
                        </a:lnTo>
                        <a:lnTo>
                          <a:pt x="0" y="3944"/>
                        </a:lnTo>
                        <a:lnTo>
                          <a:pt x="0" y="3912"/>
                        </a:lnTo>
                        <a:lnTo>
                          <a:pt x="0" y="3881"/>
                        </a:lnTo>
                        <a:lnTo>
                          <a:pt x="0" y="3833"/>
                        </a:lnTo>
                        <a:lnTo>
                          <a:pt x="0" y="3803"/>
                        </a:lnTo>
                        <a:lnTo>
                          <a:pt x="0" y="3771"/>
                        </a:lnTo>
                        <a:lnTo>
                          <a:pt x="0" y="3739"/>
                        </a:lnTo>
                        <a:lnTo>
                          <a:pt x="0" y="3707"/>
                        </a:lnTo>
                        <a:lnTo>
                          <a:pt x="0" y="3675"/>
                        </a:lnTo>
                        <a:lnTo>
                          <a:pt x="0" y="3628"/>
                        </a:lnTo>
                        <a:lnTo>
                          <a:pt x="0" y="3596"/>
                        </a:lnTo>
                        <a:lnTo>
                          <a:pt x="0" y="3566"/>
                        </a:lnTo>
                        <a:lnTo>
                          <a:pt x="0" y="3534"/>
                        </a:lnTo>
                        <a:lnTo>
                          <a:pt x="0" y="3502"/>
                        </a:lnTo>
                        <a:lnTo>
                          <a:pt x="0" y="3455"/>
                        </a:lnTo>
                        <a:lnTo>
                          <a:pt x="0" y="3423"/>
                        </a:lnTo>
                        <a:lnTo>
                          <a:pt x="0" y="3392"/>
                        </a:lnTo>
                        <a:lnTo>
                          <a:pt x="0" y="3360"/>
                        </a:lnTo>
                        <a:lnTo>
                          <a:pt x="0" y="3329"/>
                        </a:lnTo>
                        <a:lnTo>
                          <a:pt x="0" y="3297"/>
                        </a:lnTo>
                        <a:lnTo>
                          <a:pt x="0" y="3250"/>
                        </a:lnTo>
                        <a:lnTo>
                          <a:pt x="0" y="3219"/>
                        </a:lnTo>
                        <a:lnTo>
                          <a:pt x="0" y="3187"/>
                        </a:lnTo>
                        <a:lnTo>
                          <a:pt x="0" y="3155"/>
                        </a:lnTo>
                        <a:lnTo>
                          <a:pt x="0" y="3123"/>
                        </a:lnTo>
                        <a:lnTo>
                          <a:pt x="0" y="3076"/>
                        </a:lnTo>
                        <a:lnTo>
                          <a:pt x="0" y="3044"/>
                        </a:lnTo>
                        <a:lnTo>
                          <a:pt x="0" y="3014"/>
                        </a:lnTo>
                        <a:lnTo>
                          <a:pt x="0" y="2982"/>
                        </a:lnTo>
                        <a:lnTo>
                          <a:pt x="0" y="2950"/>
                        </a:lnTo>
                        <a:lnTo>
                          <a:pt x="0" y="2918"/>
                        </a:lnTo>
                        <a:lnTo>
                          <a:pt x="0" y="2871"/>
                        </a:lnTo>
                        <a:lnTo>
                          <a:pt x="0" y="2839"/>
                        </a:lnTo>
                        <a:lnTo>
                          <a:pt x="0" y="2808"/>
                        </a:lnTo>
                        <a:lnTo>
                          <a:pt x="0" y="2777"/>
                        </a:lnTo>
                        <a:lnTo>
                          <a:pt x="0" y="2745"/>
                        </a:lnTo>
                        <a:lnTo>
                          <a:pt x="0" y="2698"/>
                        </a:lnTo>
                        <a:lnTo>
                          <a:pt x="0" y="2667"/>
                        </a:lnTo>
                        <a:lnTo>
                          <a:pt x="0" y="2635"/>
                        </a:lnTo>
                        <a:lnTo>
                          <a:pt x="0" y="2603"/>
                        </a:lnTo>
                        <a:lnTo>
                          <a:pt x="0" y="2571"/>
                        </a:lnTo>
                        <a:lnTo>
                          <a:pt x="0" y="2541"/>
                        </a:lnTo>
                        <a:lnTo>
                          <a:pt x="0" y="2492"/>
                        </a:lnTo>
                        <a:lnTo>
                          <a:pt x="0" y="2462"/>
                        </a:lnTo>
                        <a:lnTo>
                          <a:pt x="0" y="2430"/>
                        </a:lnTo>
                        <a:lnTo>
                          <a:pt x="0" y="2398"/>
                        </a:lnTo>
                        <a:lnTo>
                          <a:pt x="0" y="2366"/>
                        </a:lnTo>
                        <a:lnTo>
                          <a:pt x="0" y="2334"/>
                        </a:lnTo>
                        <a:lnTo>
                          <a:pt x="0" y="2287"/>
                        </a:lnTo>
                        <a:lnTo>
                          <a:pt x="0" y="2256"/>
                        </a:lnTo>
                        <a:lnTo>
                          <a:pt x="0" y="2225"/>
                        </a:lnTo>
                        <a:lnTo>
                          <a:pt x="0" y="2193"/>
                        </a:lnTo>
                        <a:lnTo>
                          <a:pt x="0" y="2161"/>
                        </a:lnTo>
                        <a:lnTo>
                          <a:pt x="0" y="2114"/>
                        </a:lnTo>
                        <a:lnTo>
                          <a:pt x="0" y="2083"/>
                        </a:lnTo>
                        <a:lnTo>
                          <a:pt x="0" y="2051"/>
                        </a:lnTo>
                        <a:lnTo>
                          <a:pt x="0" y="2019"/>
                        </a:lnTo>
                        <a:lnTo>
                          <a:pt x="0" y="1987"/>
                        </a:lnTo>
                        <a:lnTo>
                          <a:pt x="0" y="1957"/>
                        </a:lnTo>
                        <a:lnTo>
                          <a:pt x="0" y="1908"/>
                        </a:lnTo>
                        <a:lnTo>
                          <a:pt x="0" y="1878"/>
                        </a:lnTo>
                        <a:lnTo>
                          <a:pt x="0" y="1846"/>
                        </a:lnTo>
                        <a:lnTo>
                          <a:pt x="0" y="1814"/>
                        </a:lnTo>
                        <a:lnTo>
                          <a:pt x="0" y="1782"/>
                        </a:lnTo>
                        <a:lnTo>
                          <a:pt x="0" y="1735"/>
                        </a:lnTo>
                        <a:lnTo>
                          <a:pt x="0" y="1703"/>
                        </a:lnTo>
                        <a:lnTo>
                          <a:pt x="0" y="1672"/>
                        </a:lnTo>
                        <a:lnTo>
                          <a:pt x="0" y="1641"/>
                        </a:lnTo>
                        <a:lnTo>
                          <a:pt x="0" y="1609"/>
                        </a:lnTo>
                        <a:lnTo>
                          <a:pt x="0" y="1578"/>
                        </a:lnTo>
                        <a:lnTo>
                          <a:pt x="0" y="1531"/>
                        </a:lnTo>
                        <a:lnTo>
                          <a:pt x="0" y="1499"/>
                        </a:lnTo>
                        <a:lnTo>
                          <a:pt x="0" y="1467"/>
                        </a:lnTo>
                        <a:lnTo>
                          <a:pt x="0" y="1435"/>
                        </a:lnTo>
                        <a:lnTo>
                          <a:pt x="0" y="1405"/>
                        </a:lnTo>
                        <a:lnTo>
                          <a:pt x="0" y="1356"/>
                        </a:lnTo>
                        <a:lnTo>
                          <a:pt x="0" y="1326"/>
                        </a:lnTo>
                        <a:lnTo>
                          <a:pt x="0" y="1294"/>
                        </a:lnTo>
                        <a:lnTo>
                          <a:pt x="0" y="1262"/>
                        </a:lnTo>
                        <a:lnTo>
                          <a:pt x="0" y="1230"/>
                        </a:lnTo>
                        <a:lnTo>
                          <a:pt x="0" y="1183"/>
                        </a:lnTo>
                        <a:lnTo>
                          <a:pt x="0" y="1136"/>
                        </a:lnTo>
                        <a:lnTo>
                          <a:pt x="0" y="1104"/>
                        </a:lnTo>
                        <a:lnTo>
                          <a:pt x="0" y="1073"/>
                        </a:lnTo>
                        <a:lnTo>
                          <a:pt x="0" y="1041"/>
                        </a:lnTo>
                        <a:lnTo>
                          <a:pt x="0" y="1010"/>
                        </a:lnTo>
                        <a:lnTo>
                          <a:pt x="0" y="978"/>
                        </a:lnTo>
                        <a:lnTo>
                          <a:pt x="0" y="931"/>
                        </a:lnTo>
                        <a:lnTo>
                          <a:pt x="0" y="900"/>
                        </a:lnTo>
                        <a:lnTo>
                          <a:pt x="0" y="868"/>
                        </a:lnTo>
                        <a:lnTo>
                          <a:pt x="0" y="836"/>
                        </a:lnTo>
                        <a:lnTo>
                          <a:pt x="0" y="804"/>
                        </a:lnTo>
                        <a:lnTo>
                          <a:pt x="0" y="757"/>
                        </a:lnTo>
                        <a:lnTo>
                          <a:pt x="0" y="725"/>
                        </a:lnTo>
                        <a:lnTo>
                          <a:pt x="0" y="695"/>
                        </a:lnTo>
                        <a:lnTo>
                          <a:pt x="0" y="663"/>
                        </a:lnTo>
                        <a:lnTo>
                          <a:pt x="0" y="631"/>
                        </a:lnTo>
                        <a:lnTo>
                          <a:pt x="0" y="599"/>
                        </a:lnTo>
                        <a:lnTo>
                          <a:pt x="0" y="552"/>
                        </a:lnTo>
                        <a:lnTo>
                          <a:pt x="0" y="520"/>
                        </a:lnTo>
                        <a:lnTo>
                          <a:pt x="0" y="489"/>
                        </a:lnTo>
                        <a:lnTo>
                          <a:pt x="0" y="458"/>
                        </a:lnTo>
                        <a:lnTo>
                          <a:pt x="0" y="426"/>
                        </a:lnTo>
                        <a:lnTo>
                          <a:pt x="0" y="379"/>
                        </a:lnTo>
                        <a:lnTo>
                          <a:pt x="0" y="347"/>
                        </a:lnTo>
                        <a:lnTo>
                          <a:pt x="0" y="316"/>
                        </a:lnTo>
                        <a:lnTo>
                          <a:pt x="0" y="284"/>
                        </a:lnTo>
                        <a:lnTo>
                          <a:pt x="0" y="252"/>
                        </a:lnTo>
                        <a:lnTo>
                          <a:pt x="0" y="222"/>
                        </a:lnTo>
                        <a:lnTo>
                          <a:pt x="0" y="173"/>
                        </a:lnTo>
                        <a:lnTo>
                          <a:pt x="0" y="143"/>
                        </a:lnTo>
                        <a:lnTo>
                          <a:pt x="0" y="111"/>
                        </a:lnTo>
                        <a:lnTo>
                          <a:pt x="0" y="79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7120080" y="4422600"/>
                  <a:ext cx="50760" cy="376560"/>
                  <a:chOff x="7120080" y="4422600"/>
                  <a:chExt cx="50760" cy="37656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7120080" y="4422600"/>
                    <a:ext cx="50760" cy="37656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710">
                        <a:moveTo>
                          <a:pt x="0" y="710"/>
                        </a:moveTo>
                        <a:lnTo>
                          <a:pt x="14" y="678"/>
                        </a:lnTo>
                        <a:lnTo>
                          <a:pt x="14" y="648"/>
                        </a:lnTo>
                        <a:lnTo>
                          <a:pt x="28" y="616"/>
                        </a:lnTo>
                        <a:lnTo>
                          <a:pt x="28" y="584"/>
                        </a:lnTo>
                        <a:lnTo>
                          <a:pt x="42" y="537"/>
                        </a:lnTo>
                        <a:lnTo>
                          <a:pt x="42" y="505"/>
                        </a:lnTo>
                        <a:lnTo>
                          <a:pt x="42" y="473"/>
                        </a:lnTo>
                        <a:lnTo>
                          <a:pt x="55" y="441"/>
                        </a:lnTo>
                        <a:lnTo>
                          <a:pt x="55" y="394"/>
                        </a:lnTo>
                        <a:lnTo>
                          <a:pt x="55" y="363"/>
                        </a:lnTo>
                        <a:lnTo>
                          <a:pt x="69" y="332"/>
                        </a:lnTo>
                        <a:lnTo>
                          <a:pt x="69" y="284"/>
                        </a:lnTo>
                        <a:lnTo>
                          <a:pt x="69" y="253"/>
                        </a:lnTo>
                        <a:lnTo>
                          <a:pt x="69" y="221"/>
                        </a:lnTo>
                        <a:lnTo>
                          <a:pt x="83" y="190"/>
                        </a:lnTo>
                        <a:lnTo>
                          <a:pt x="83" y="143"/>
                        </a:lnTo>
                        <a:lnTo>
                          <a:pt x="83" y="111"/>
                        </a:lnTo>
                        <a:lnTo>
                          <a:pt x="83" y="79"/>
                        </a:lnTo>
                        <a:lnTo>
                          <a:pt x="97" y="32"/>
                        </a:lnTo>
                        <a:lnTo>
                          <a:pt x="97" y="0"/>
                        </a:lnTo>
                        <a:lnTo>
                          <a:pt x="0" y="710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7120080" y="4422600"/>
                    <a:ext cx="50760" cy="37656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710">
                        <a:moveTo>
                          <a:pt x="0" y="710"/>
                        </a:moveTo>
                        <a:lnTo>
                          <a:pt x="14" y="678"/>
                        </a:lnTo>
                        <a:lnTo>
                          <a:pt x="14" y="648"/>
                        </a:lnTo>
                        <a:lnTo>
                          <a:pt x="28" y="616"/>
                        </a:lnTo>
                        <a:lnTo>
                          <a:pt x="28" y="584"/>
                        </a:lnTo>
                        <a:lnTo>
                          <a:pt x="42" y="537"/>
                        </a:lnTo>
                        <a:lnTo>
                          <a:pt x="42" y="505"/>
                        </a:lnTo>
                        <a:lnTo>
                          <a:pt x="42" y="473"/>
                        </a:lnTo>
                        <a:lnTo>
                          <a:pt x="55" y="441"/>
                        </a:lnTo>
                        <a:lnTo>
                          <a:pt x="55" y="394"/>
                        </a:lnTo>
                        <a:lnTo>
                          <a:pt x="55" y="363"/>
                        </a:lnTo>
                        <a:lnTo>
                          <a:pt x="69" y="332"/>
                        </a:lnTo>
                        <a:lnTo>
                          <a:pt x="69" y="284"/>
                        </a:lnTo>
                        <a:lnTo>
                          <a:pt x="69" y="253"/>
                        </a:lnTo>
                        <a:lnTo>
                          <a:pt x="69" y="221"/>
                        </a:lnTo>
                        <a:lnTo>
                          <a:pt x="83" y="190"/>
                        </a:lnTo>
                        <a:lnTo>
                          <a:pt x="83" y="143"/>
                        </a:lnTo>
                        <a:lnTo>
                          <a:pt x="83" y="111"/>
                        </a:lnTo>
                        <a:lnTo>
                          <a:pt x="83" y="79"/>
                        </a:lnTo>
                        <a:lnTo>
                          <a:pt x="97" y="32"/>
                        </a:lnTo>
                        <a:lnTo>
                          <a:pt x="9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7170840" y="4205160"/>
                  <a:ext cx="14040" cy="217440"/>
                  <a:chOff x="7170840" y="4205160"/>
                  <a:chExt cx="14040" cy="21744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7170840" y="4205160"/>
                    <a:ext cx="1404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410">
                        <a:moveTo>
                          <a:pt x="0" y="410"/>
                        </a:moveTo>
                        <a:lnTo>
                          <a:pt x="0" y="378"/>
                        </a:lnTo>
                        <a:lnTo>
                          <a:pt x="0" y="331"/>
                        </a:lnTo>
                        <a:lnTo>
                          <a:pt x="14" y="299"/>
                        </a:lnTo>
                        <a:lnTo>
                          <a:pt x="14" y="269"/>
                        </a:lnTo>
                        <a:lnTo>
                          <a:pt x="14" y="220"/>
                        </a:lnTo>
                        <a:lnTo>
                          <a:pt x="14" y="190"/>
                        </a:lnTo>
                        <a:lnTo>
                          <a:pt x="28" y="158"/>
                        </a:lnTo>
                        <a:lnTo>
                          <a:pt x="28" y="111"/>
                        </a:lnTo>
                        <a:lnTo>
                          <a:pt x="28" y="79"/>
                        </a:lnTo>
                        <a:lnTo>
                          <a:pt x="28" y="32"/>
                        </a:lnTo>
                        <a:lnTo>
                          <a:pt x="28" y="0"/>
                        </a:lnTo>
                        <a:lnTo>
                          <a:pt x="0" y="410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7170840" y="4205160"/>
                    <a:ext cx="1404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410">
                        <a:moveTo>
                          <a:pt x="0" y="410"/>
                        </a:moveTo>
                        <a:lnTo>
                          <a:pt x="0" y="378"/>
                        </a:lnTo>
                        <a:lnTo>
                          <a:pt x="0" y="331"/>
                        </a:lnTo>
                        <a:lnTo>
                          <a:pt x="14" y="299"/>
                        </a:lnTo>
                        <a:lnTo>
                          <a:pt x="14" y="269"/>
                        </a:lnTo>
                        <a:lnTo>
                          <a:pt x="14" y="220"/>
                        </a:lnTo>
                        <a:lnTo>
                          <a:pt x="14" y="190"/>
                        </a:lnTo>
                        <a:lnTo>
                          <a:pt x="28" y="158"/>
                        </a:lnTo>
                        <a:lnTo>
                          <a:pt x="28" y="111"/>
                        </a:lnTo>
                        <a:lnTo>
                          <a:pt x="28" y="79"/>
                        </a:lnTo>
                        <a:lnTo>
                          <a:pt x="28" y="32"/>
                        </a:lnTo>
                        <a:lnTo>
                          <a:pt x="2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7184880" y="3021120"/>
                  <a:ext cx="1800" cy="1184040"/>
                  <a:chOff x="7184880" y="3021120"/>
                  <a:chExt cx="1800" cy="118404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7184880" y="3021120"/>
                    <a:ext cx="1800" cy="11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2240">
                        <a:moveTo>
                          <a:pt x="0" y="2240"/>
                        </a:moveTo>
                        <a:lnTo>
                          <a:pt x="0" y="2209"/>
                        </a:lnTo>
                        <a:lnTo>
                          <a:pt x="0" y="2177"/>
                        </a:lnTo>
                        <a:lnTo>
                          <a:pt x="0" y="2130"/>
                        </a:lnTo>
                        <a:lnTo>
                          <a:pt x="0" y="2098"/>
                        </a:lnTo>
                        <a:lnTo>
                          <a:pt x="0" y="2066"/>
                        </a:lnTo>
                        <a:lnTo>
                          <a:pt x="0" y="2036"/>
                        </a:lnTo>
                        <a:lnTo>
                          <a:pt x="0" y="2004"/>
                        </a:lnTo>
                        <a:lnTo>
                          <a:pt x="0" y="1957"/>
                        </a:lnTo>
                        <a:lnTo>
                          <a:pt x="0" y="1925"/>
                        </a:lnTo>
                        <a:lnTo>
                          <a:pt x="0" y="1893"/>
                        </a:lnTo>
                        <a:lnTo>
                          <a:pt x="0" y="1861"/>
                        </a:lnTo>
                        <a:lnTo>
                          <a:pt x="0" y="1830"/>
                        </a:lnTo>
                        <a:lnTo>
                          <a:pt x="0" y="1782"/>
                        </a:lnTo>
                        <a:lnTo>
                          <a:pt x="0" y="1751"/>
                        </a:lnTo>
                        <a:lnTo>
                          <a:pt x="0" y="1720"/>
                        </a:lnTo>
                        <a:lnTo>
                          <a:pt x="0" y="1688"/>
                        </a:lnTo>
                        <a:lnTo>
                          <a:pt x="0" y="1657"/>
                        </a:lnTo>
                        <a:lnTo>
                          <a:pt x="0" y="1610"/>
                        </a:lnTo>
                        <a:lnTo>
                          <a:pt x="0" y="1578"/>
                        </a:lnTo>
                        <a:lnTo>
                          <a:pt x="0" y="1546"/>
                        </a:lnTo>
                        <a:lnTo>
                          <a:pt x="0" y="1514"/>
                        </a:lnTo>
                        <a:lnTo>
                          <a:pt x="0" y="1484"/>
                        </a:lnTo>
                        <a:lnTo>
                          <a:pt x="0" y="1435"/>
                        </a:lnTo>
                        <a:lnTo>
                          <a:pt x="0" y="1405"/>
                        </a:lnTo>
                        <a:lnTo>
                          <a:pt x="0" y="1373"/>
                        </a:lnTo>
                        <a:lnTo>
                          <a:pt x="0" y="1341"/>
                        </a:lnTo>
                        <a:lnTo>
                          <a:pt x="0" y="1309"/>
                        </a:lnTo>
                        <a:lnTo>
                          <a:pt x="0" y="1262"/>
                        </a:lnTo>
                        <a:lnTo>
                          <a:pt x="0" y="1230"/>
                        </a:lnTo>
                        <a:lnTo>
                          <a:pt x="0" y="1199"/>
                        </a:lnTo>
                        <a:lnTo>
                          <a:pt x="0" y="1168"/>
                        </a:lnTo>
                        <a:lnTo>
                          <a:pt x="0" y="1136"/>
                        </a:lnTo>
                        <a:lnTo>
                          <a:pt x="0" y="1088"/>
                        </a:lnTo>
                        <a:lnTo>
                          <a:pt x="0" y="1057"/>
                        </a:lnTo>
                        <a:lnTo>
                          <a:pt x="0" y="1026"/>
                        </a:lnTo>
                        <a:lnTo>
                          <a:pt x="0" y="994"/>
                        </a:lnTo>
                        <a:lnTo>
                          <a:pt x="0" y="962"/>
                        </a:lnTo>
                        <a:lnTo>
                          <a:pt x="0" y="915"/>
                        </a:lnTo>
                        <a:lnTo>
                          <a:pt x="0" y="883"/>
                        </a:lnTo>
                        <a:lnTo>
                          <a:pt x="0" y="851"/>
                        </a:lnTo>
                        <a:lnTo>
                          <a:pt x="0" y="821"/>
                        </a:lnTo>
                        <a:lnTo>
                          <a:pt x="0" y="789"/>
                        </a:lnTo>
                        <a:lnTo>
                          <a:pt x="0" y="742"/>
                        </a:lnTo>
                        <a:lnTo>
                          <a:pt x="0" y="710"/>
                        </a:lnTo>
                        <a:lnTo>
                          <a:pt x="0" y="678"/>
                        </a:lnTo>
                        <a:lnTo>
                          <a:pt x="0" y="646"/>
                        </a:lnTo>
                        <a:lnTo>
                          <a:pt x="0" y="615"/>
                        </a:lnTo>
                        <a:lnTo>
                          <a:pt x="0" y="568"/>
                        </a:lnTo>
                        <a:lnTo>
                          <a:pt x="0" y="536"/>
                        </a:lnTo>
                        <a:lnTo>
                          <a:pt x="0" y="505"/>
                        </a:lnTo>
                        <a:lnTo>
                          <a:pt x="0" y="474"/>
                        </a:lnTo>
                        <a:lnTo>
                          <a:pt x="0" y="426"/>
                        </a:lnTo>
                        <a:lnTo>
                          <a:pt x="0" y="395"/>
                        </a:lnTo>
                        <a:lnTo>
                          <a:pt x="0" y="363"/>
                        </a:lnTo>
                        <a:lnTo>
                          <a:pt x="0" y="331"/>
                        </a:lnTo>
                        <a:lnTo>
                          <a:pt x="0" y="299"/>
                        </a:lnTo>
                        <a:lnTo>
                          <a:pt x="0" y="252"/>
                        </a:lnTo>
                        <a:lnTo>
                          <a:pt x="0" y="220"/>
                        </a:lnTo>
                        <a:lnTo>
                          <a:pt x="0" y="190"/>
                        </a:lnTo>
                        <a:lnTo>
                          <a:pt x="0" y="141"/>
                        </a:lnTo>
                        <a:lnTo>
                          <a:pt x="0" y="111"/>
                        </a:lnTo>
                        <a:lnTo>
                          <a:pt x="0" y="63"/>
                        </a:lnTo>
                        <a:lnTo>
                          <a:pt x="0" y="32"/>
                        </a:lnTo>
                        <a:lnTo>
                          <a:pt x="0" y="0"/>
                        </a:lnTo>
                        <a:lnTo>
                          <a:pt x="0" y="2240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7184880" y="3021120"/>
                    <a:ext cx="1800" cy="11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2240">
                        <a:moveTo>
                          <a:pt x="0" y="2240"/>
                        </a:moveTo>
                        <a:lnTo>
                          <a:pt x="0" y="2209"/>
                        </a:lnTo>
                        <a:lnTo>
                          <a:pt x="0" y="2177"/>
                        </a:lnTo>
                        <a:lnTo>
                          <a:pt x="0" y="2130"/>
                        </a:lnTo>
                        <a:lnTo>
                          <a:pt x="0" y="2098"/>
                        </a:lnTo>
                        <a:lnTo>
                          <a:pt x="0" y="2066"/>
                        </a:lnTo>
                        <a:lnTo>
                          <a:pt x="0" y="2036"/>
                        </a:lnTo>
                        <a:lnTo>
                          <a:pt x="0" y="2004"/>
                        </a:lnTo>
                        <a:lnTo>
                          <a:pt x="0" y="1957"/>
                        </a:lnTo>
                        <a:lnTo>
                          <a:pt x="0" y="1925"/>
                        </a:lnTo>
                        <a:lnTo>
                          <a:pt x="0" y="1893"/>
                        </a:lnTo>
                        <a:lnTo>
                          <a:pt x="0" y="1861"/>
                        </a:lnTo>
                        <a:lnTo>
                          <a:pt x="0" y="1830"/>
                        </a:lnTo>
                        <a:lnTo>
                          <a:pt x="0" y="1782"/>
                        </a:lnTo>
                        <a:lnTo>
                          <a:pt x="0" y="1751"/>
                        </a:lnTo>
                        <a:lnTo>
                          <a:pt x="0" y="1720"/>
                        </a:lnTo>
                        <a:lnTo>
                          <a:pt x="0" y="1688"/>
                        </a:lnTo>
                        <a:lnTo>
                          <a:pt x="0" y="1657"/>
                        </a:lnTo>
                        <a:lnTo>
                          <a:pt x="0" y="1610"/>
                        </a:lnTo>
                        <a:lnTo>
                          <a:pt x="0" y="1578"/>
                        </a:lnTo>
                        <a:lnTo>
                          <a:pt x="0" y="1546"/>
                        </a:lnTo>
                        <a:lnTo>
                          <a:pt x="0" y="1514"/>
                        </a:lnTo>
                        <a:lnTo>
                          <a:pt x="0" y="1484"/>
                        </a:lnTo>
                        <a:lnTo>
                          <a:pt x="0" y="1435"/>
                        </a:lnTo>
                        <a:lnTo>
                          <a:pt x="0" y="1405"/>
                        </a:lnTo>
                        <a:lnTo>
                          <a:pt x="0" y="1373"/>
                        </a:lnTo>
                        <a:lnTo>
                          <a:pt x="0" y="1341"/>
                        </a:lnTo>
                        <a:lnTo>
                          <a:pt x="0" y="1309"/>
                        </a:lnTo>
                        <a:lnTo>
                          <a:pt x="0" y="1262"/>
                        </a:lnTo>
                        <a:lnTo>
                          <a:pt x="0" y="1230"/>
                        </a:lnTo>
                        <a:lnTo>
                          <a:pt x="0" y="1199"/>
                        </a:lnTo>
                        <a:lnTo>
                          <a:pt x="0" y="1168"/>
                        </a:lnTo>
                        <a:lnTo>
                          <a:pt x="0" y="1136"/>
                        </a:lnTo>
                        <a:lnTo>
                          <a:pt x="0" y="1088"/>
                        </a:lnTo>
                        <a:lnTo>
                          <a:pt x="0" y="1057"/>
                        </a:lnTo>
                        <a:lnTo>
                          <a:pt x="0" y="1026"/>
                        </a:lnTo>
                        <a:lnTo>
                          <a:pt x="0" y="994"/>
                        </a:lnTo>
                        <a:lnTo>
                          <a:pt x="0" y="962"/>
                        </a:lnTo>
                        <a:lnTo>
                          <a:pt x="0" y="915"/>
                        </a:lnTo>
                        <a:lnTo>
                          <a:pt x="0" y="883"/>
                        </a:lnTo>
                        <a:lnTo>
                          <a:pt x="0" y="851"/>
                        </a:lnTo>
                        <a:lnTo>
                          <a:pt x="0" y="821"/>
                        </a:lnTo>
                        <a:lnTo>
                          <a:pt x="0" y="789"/>
                        </a:lnTo>
                        <a:lnTo>
                          <a:pt x="0" y="742"/>
                        </a:lnTo>
                        <a:lnTo>
                          <a:pt x="0" y="710"/>
                        </a:lnTo>
                        <a:lnTo>
                          <a:pt x="0" y="678"/>
                        </a:lnTo>
                        <a:lnTo>
                          <a:pt x="0" y="646"/>
                        </a:lnTo>
                        <a:lnTo>
                          <a:pt x="0" y="615"/>
                        </a:lnTo>
                        <a:lnTo>
                          <a:pt x="0" y="568"/>
                        </a:lnTo>
                        <a:lnTo>
                          <a:pt x="0" y="536"/>
                        </a:lnTo>
                        <a:lnTo>
                          <a:pt x="0" y="505"/>
                        </a:lnTo>
                        <a:lnTo>
                          <a:pt x="0" y="474"/>
                        </a:lnTo>
                        <a:lnTo>
                          <a:pt x="0" y="426"/>
                        </a:lnTo>
                        <a:lnTo>
                          <a:pt x="0" y="395"/>
                        </a:lnTo>
                        <a:lnTo>
                          <a:pt x="0" y="363"/>
                        </a:lnTo>
                        <a:lnTo>
                          <a:pt x="0" y="331"/>
                        </a:lnTo>
                        <a:lnTo>
                          <a:pt x="0" y="299"/>
                        </a:lnTo>
                        <a:lnTo>
                          <a:pt x="0" y="252"/>
                        </a:lnTo>
                        <a:lnTo>
                          <a:pt x="0" y="220"/>
                        </a:lnTo>
                        <a:lnTo>
                          <a:pt x="0" y="190"/>
                        </a:lnTo>
                        <a:lnTo>
                          <a:pt x="0" y="141"/>
                        </a:lnTo>
                        <a:lnTo>
                          <a:pt x="0" y="111"/>
                        </a:lnTo>
                        <a:lnTo>
                          <a:pt x="0" y="63"/>
                        </a:lnTo>
                        <a:lnTo>
                          <a:pt x="0" y="3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7148520" y="2662200"/>
                  <a:ext cx="36360" cy="358920"/>
                  <a:chOff x="7148520" y="2662200"/>
                  <a:chExt cx="36360" cy="3589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7148520" y="2662200"/>
                    <a:ext cx="36360" cy="35892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678">
                        <a:moveTo>
                          <a:pt x="70" y="678"/>
                        </a:moveTo>
                        <a:lnTo>
                          <a:pt x="70" y="646"/>
                        </a:lnTo>
                        <a:lnTo>
                          <a:pt x="70" y="615"/>
                        </a:lnTo>
                        <a:lnTo>
                          <a:pt x="56" y="583"/>
                        </a:lnTo>
                        <a:lnTo>
                          <a:pt x="56" y="552"/>
                        </a:lnTo>
                        <a:lnTo>
                          <a:pt x="56" y="521"/>
                        </a:lnTo>
                        <a:lnTo>
                          <a:pt x="56" y="489"/>
                        </a:lnTo>
                        <a:lnTo>
                          <a:pt x="56" y="442"/>
                        </a:lnTo>
                        <a:lnTo>
                          <a:pt x="56" y="410"/>
                        </a:lnTo>
                        <a:lnTo>
                          <a:pt x="42" y="363"/>
                        </a:lnTo>
                        <a:lnTo>
                          <a:pt x="42" y="331"/>
                        </a:lnTo>
                        <a:lnTo>
                          <a:pt x="42" y="284"/>
                        </a:lnTo>
                        <a:lnTo>
                          <a:pt x="42" y="237"/>
                        </a:lnTo>
                        <a:lnTo>
                          <a:pt x="28" y="205"/>
                        </a:lnTo>
                        <a:lnTo>
                          <a:pt x="28" y="173"/>
                        </a:lnTo>
                        <a:lnTo>
                          <a:pt x="28" y="126"/>
                        </a:lnTo>
                        <a:lnTo>
                          <a:pt x="14" y="94"/>
                        </a:lnTo>
                        <a:lnTo>
                          <a:pt x="14" y="63"/>
                        </a:lnTo>
                        <a:lnTo>
                          <a:pt x="14" y="31"/>
                        </a:lnTo>
                        <a:lnTo>
                          <a:pt x="0" y="0"/>
                        </a:lnTo>
                        <a:lnTo>
                          <a:pt x="70" y="678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7148520" y="2662200"/>
                    <a:ext cx="36360" cy="35892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678">
                        <a:moveTo>
                          <a:pt x="70" y="678"/>
                        </a:moveTo>
                        <a:lnTo>
                          <a:pt x="70" y="646"/>
                        </a:lnTo>
                        <a:lnTo>
                          <a:pt x="70" y="615"/>
                        </a:lnTo>
                        <a:lnTo>
                          <a:pt x="56" y="583"/>
                        </a:lnTo>
                        <a:lnTo>
                          <a:pt x="56" y="552"/>
                        </a:lnTo>
                        <a:lnTo>
                          <a:pt x="56" y="521"/>
                        </a:lnTo>
                        <a:lnTo>
                          <a:pt x="56" y="489"/>
                        </a:lnTo>
                        <a:lnTo>
                          <a:pt x="56" y="442"/>
                        </a:lnTo>
                        <a:lnTo>
                          <a:pt x="56" y="410"/>
                        </a:lnTo>
                        <a:lnTo>
                          <a:pt x="42" y="363"/>
                        </a:lnTo>
                        <a:lnTo>
                          <a:pt x="42" y="331"/>
                        </a:lnTo>
                        <a:lnTo>
                          <a:pt x="42" y="284"/>
                        </a:lnTo>
                        <a:lnTo>
                          <a:pt x="42" y="237"/>
                        </a:lnTo>
                        <a:lnTo>
                          <a:pt x="28" y="205"/>
                        </a:lnTo>
                        <a:lnTo>
                          <a:pt x="28" y="173"/>
                        </a:lnTo>
                        <a:lnTo>
                          <a:pt x="28" y="126"/>
                        </a:lnTo>
                        <a:lnTo>
                          <a:pt x="14" y="94"/>
                        </a:lnTo>
                        <a:lnTo>
                          <a:pt x="14" y="63"/>
                        </a:lnTo>
                        <a:lnTo>
                          <a:pt x="14" y="3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7134120" y="2519280"/>
                  <a:ext cx="14400" cy="142920"/>
                  <a:chOff x="7134120" y="2519280"/>
                  <a:chExt cx="14400" cy="1429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7134120" y="2519280"/>
                    <a:ext cx="144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68">
                        <a:moveTo>
                          <a:pt x="27" y="268"/>
                        </a:moveTo>
                        <a:lnTo>
                          <a:pt x="27" y="220"/>
                        </a:lnTo>
                        <a:lnTo>
                          <a:pt x="27" y="173"/>
                        </a:lnTo>
                        <a:lnTo>
                          <a:pt x="14" y="141"/>
                        </a:lnTo>
                        <a:lnTo>
                          <a:pt x="14" y="9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lnTo>
                          <a:pt x="27" y="268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7134120" y="2519280"/>
                    <a:ext cx="144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68">
                        <a:moveTo>
                          <a:pt x="27" y="268"/>
                        </a:moveTo>
                        <a:lnTo>
                          <a:pt x="27" y="220"/>
                        </a:lnTo>
                        <a:lnTo>
                          <a:pt x="27" y="173"/>
                        </a:lnTo>
                        <a:lnTo>
                          <a:pt x="14" y="141"/>
                        </a:lnTo>
                        <a:lnTo>
                          <a:pt x="14" y="9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7120080" y="2478240"/>
                  <a:ext cx="14040" cy="41040"/>
                  <a:chOff x="7120080" y="2478240"/>
                  <a:chExt cx="14040" cy="4104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7120080" y="2478240"/>
                    <a:ext cx="1404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79">
                        <a:moveTo>
                          <a:pt x="28" y="79"/>
                        </a:moveTo>
                        <a:lnTo>
                          <a:pt x="14" y="47"/>
                        </a:lnTo>
                        <a:lnTo>
                          <a:pt x="14" y="32"/>
                        </a:lnTo>
                        <a:lnTo>
                          <a:pt x="0" y="0"/>
                        </a:lnTo>
                        <a:lnTo>
                          <a:pt x="28" y="79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7120080" y="2478240"/>
                    <a:ext cx="1404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79">
                        <a:moveTo>
                          <a:pt x="28" y="79"/>
                        </a:moveTo>
                        <a:lnTo>
                          <a:pt x="14" y="47"/>
                        </a:lnTo>
                        <a:lnTo>
                          <a:pt x="14" y="3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7" name=""/>
                <p:cNvGrpSpPr/>
                <p:nvPr/>
              </p:nvGrpSpPr>
              <p:grpSpPr>
                <a:xfrm>
                  <a:off x="7120080" y="2460600"/>
                  <a:ext cx="1440" cy="17640"/>
                  <a:chOff x="7120080" y="2460600"/>
                  <a:chExt cx="1440" cy="1764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>
                    <a:off x="7120080" y="2460600"/>
                    <a:ext cx="14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32">
                        <a:moveTo>
                          <a:pt x="0" y="32"/>
                        </a:moveTo>
                        <a:lnTo>
                          <a:pt x="0" y="15"/>
                        </a:lnTo>
                        <a:lnTo>
                          <a:pt x="0" y="0"/>
                        </a:lnTo>
                        <a:lnTo>
                          <a:pt x="0" y="32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7120080" y="2460600"/>
                    <a:ext cx="14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32">
                        <a:moveTo>
                          <a:pt x="0" y="32"/>
                        </a:moveTo>
                        <a:lnTo>
                          <a:pt x="0" y="1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0" name=""/>
                <p:cNvGrpSpPr/>
                <p:nvPr/>
              </p:nvGrpSpPr>
              <p:grpSpPr>
                <a:xfrm>
                  <a:off x="7207200" y="4514760"/>
                  <a:ext cx="88920" cy="284400"/>
                  <a:chOff x="7207200" y="4514760"/>
                  <a:chExt cx="88920" cy="28440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>
                    <a:off x="7207200" y="4514760"/>
                    <a:ext cx="88920" cy="28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7" h="536">
                        <a:moveTo>
                          <a:pt x="0" y="536"/>
                        </a:moveTo>
                        <a:lnTo>
                          <a:pt x="14" y="504"/>
                        </a:lnTo>
                        <a:lnTo>
                          <a:pt x="28" y="474"/>
                        </a:lnTo>
                        <a:lnTo>
                          <a:pt x="42" y="442"/>
                        </a:lnTo>
                        <a:lnTo>
                          <a:pt x="55" y="410"/>
                        </a:lnTo>
                        <a:lnTo>
                          <a:pt x="71" y="378"/>
                        </a:lnTo>
                        <a:lnTo>
                          <a:pt x="84" y="331"/>
                        </a:lnTo>
                        <a:lnTo>
                          <a:pt x="98" y="299"/>
                        </a:lnTo>
                        <a:lnTo>
                          <a:pt x="112" y="267"/>
                        </a:lnTo>
                        <a:lnTo>
                          <a:pt x="112" y="220"/>
                        </a:lnTo>
                        <a:lnTo>
                          <a:pt x="126" y="189"/>
                        </a:lnTo>
                        <a:lnTo>
                          <a:pt x="140" y="158"/>
                        </a:lnTo>
                        <a:lnTo>
                          <a:pt x="140" y="110"/>
                        </a:lnTo>
                        <a:lnTo>
                          <a:pt x="154" y="79"/>
                        </a:lnTo>
                        <a:lnTo>
                          <a:pt x="154" y="47"/>
                        </a:lnTo>
                        <a:lnTo>
                          <a:pt x="167" y="0"/>
                        </a:lnTo>
                        <a:lnTo>
                          <a:pt x="0" y="536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7207200" y="4514760"/>
                    <a:ext cx="88920" cy="28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7" h="536">
                        <a:moveTo>
                          <a:pt x="0" y="536"/>
                        </a:moveTo>
                        <a:lnTo>
                          <a:pt x="14" y="504"/>
                        </a:lnTo>
                        <a:lnTo>
                          <a:pt x="28" y="474"/>
                        </a:lnTo>
                        <a:lnTo>
                          <a:pt x="42" y="442"/>
                        </a:lnTo>
                        <a:lnTo>
                          <a:pt x="55" y="410"/>
                        </a:lnTo>
                        <a:lnTo>
                          <a:pt x="71" y="378"/>
                        </a:lnTo>
                        <a:lnTo>
                          <a:pt x="84" y="331"/>
                        </a:lnTo>
                        <a:lnTo>
                          <a:pt x="98" y="299"/>
                        </a:lnTo>
                        <a:lnTo>
                          <a:pt x="112" y="267"/>
                        </a:lnTo>
                        <a:lnTo>
                          <a:pt x="112" y="220"/>
                        </a:lnTo>
                        <a:lnTo>
                          <a:pt x="126" y="189"/>
                        </a:lnTo>
                        <a:lnTo>
                          <a:pt x="140" y="158"/>
                        </a:lnTo>
                        <a:lnTo>
                          <a:pt x="140" y="110"/>
                        </a:lnTo>
                        <a:lnTo>
                          <a:pt x="154" y="79"/>
                        </a:lnTo>
                        <a:lnTo>
                          <a:pt x="154" y="47"/>
                        </a:lnTo>
                        <a:lnTo>
                          <a:pt x="16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3" name=""/>
                <p:cNvGrpSpPr/>
                <p:nvPr/>
              </p:nvGrpSpPr>
              <p:grpSpPr>
                <a:xfrm>
                  <a:off x="7296120" y="4264200"/>
                  <a:ext cx="36720" cy="250560"/>
                  <a:chOff x="7296120" y="4264200"/>
                  <a:chExt cx="36720" cy="25056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>
                    <a:off x="7296120" y="4264200"/>
                    <a:ext cx="3672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473">
                        <a:moveTo>
                          <a:pt x="0" y="473"/>
                        </a:moveTo>
                        <a:lnTo>
                          <a:pt x="0" y="442"/>
                        </a:lnTo>
                        <a:lnTo>
                          <a:pt x="14" y="410"/>
                        </a:lnTo>
                        <a:lnTo>
                          <a:pt x="14" y="378"/>
                        </a:lnTo>
                        <a:lnTo>
                          <a:pt x="28" y="331"/>
                        </a:lnTo>
                        <a:lnTo>
                          <a:pt x="28" y="299"/>
                        </a:lnTo>
                        <a:lnTo>
                          <a:pt x="42" y="267"/>
                        </a:lnTo>
                        <a:lnTo>
                          <a:pt x="42" y="220"/>
                        </a:lnTo>
                        <a:lnTo>
                          <a:pt x="42" y="188"/>
                        </a:lnTo>
                        <a:lnTo>
                          <a:pt x="56" y="158"/>
                        </a:lnTo>
                        <a:lnTo>
                          <a:pt x="56" y="109"/>
                        </a:lnTo>
                        <a:lnTo>
                          <a:pt x="70" y="79"/>
                        </a:lnTo>
                        <a:lnTo>
                          <a:pt x="70" y="47"/>
                        </a:lnTo>
                        <a:lnTo>
                          <a:pt x="70" y="0"/>
                        </a:lnTo>
                        <a:lnTo>
                          <a:pt x="0" y="473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7296120" y="4264200"/>
                    <a:ext cx="3672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473">
                        <a:moveTo>
                          <a:pt x="0" y="473"/>
                        </a:moveTo>
                        <a:lnTo>
                          <a:pt x="0" y="442"/>
                        </a:lnTo>
                        <a:lnTo>
                          <a:pt x="14" y="410"/>
                        </a:lnTo>
                        <a:lnTo>
                          <a:pt x="14" y="378"/>
                        </a:lnTo>
                        <a:lnTo>
                          <a:pt x="28" y="331"/>
                        </a:lnTo>
                        <a:lnTo>
                          <a:pt x="28" y="299"/>
                        </a:lnTo>
                        <a:lnTo>
                          <a:pt x="42" y="267"/>
                        </a:lnTo>
                        <a:lnTo>
                          <a:pt x="42" y="220"/>
                        </a:lnTo>
                        <a:lnTo>
                          <a:pt x="42" y="188"/>
                        </a:lnTo>
                        <a:lnTo>
                          <a:pt x="56" y="158"/>
                        </a:lnTo>
                        <a:lnTo>
                          <a:pt x="56" y="109"/>
                        </a:lnTo>
                        <a:lnTo>
                          <a:pt x="70" y="79"/>
                        </a:lnTo>
                        <a:lnTo>
                          <a:pt x="70" y="47"/>
                        </a:lnTo>
                        <a:lnTo>
                          <a:pt x="7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6" name=""/>
                <p:cNvGrpSpPr/>
                <p:nvPr/>
              </p:nvGrpSpPr>
              <p:grpSpPr>
                <a:xfrm>
                  <a:off x="7332840" y="3922560"/>
                  <a:ext cx="28440" cy="341640"/>
                  <a:chOff x="7332840" y="3922560"/>
                  <a:chExt cx="28440" cy="341640"/>
                </a:xfrm>
              </p:grpSpPr>
              <p:sp>
                <p:nvSpPr>
                  <p:cNvPr id="387" name=""/>
                  <p:cNvSpPr/>
                  <p:nvPr/>
                </p:nvSpPr>
                <p:spPr>
                  <a:xfrm>
                    <a:off x="7332840" y="3922560"/>
                    <a:ext cx="28440" cy="34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647">
                        <a:moveTo>
                          <a:pt x="0" y="647"/>
                        </a:moveTo>
                        <a:lnTo>
                          <a:pt x="13" y="615"/>
                        </a:lnTo>
                        <a:lnTo>
                          <a:pt x="13" y="584"/>
                        </a:lnTo>
                        <a:lnTo>
                          <a:pt x="13" y="536"/>
                        </a:lnTo>
                        <a:lnTo>
                          <a:pt x="13" y="505"/>
                        </a:lnTo>
                        <a:lnTo>
                          <a:pt x="27" y="473"/>
                        </a:lnTo>
                        <a:lnTo>
                          <a:pt x="27" y="441"/>
                        </a:lnTo>
                        <a:lnTo>
                          <a:pt x="27" y="394"/>
                        </a:lnTo>
                        <a:lnTo>
                          <a:pt x="27" y="362"/>
                        </a:lnTo>
                        <a:lnTo>
                          <a:pt x="41" y="332"/>
                        </a:lnTo>
                        <a:lnTo>
                          <a:pt x="41" y="283"/>
                        </a:lnTo>
                        <a:lnTo>
                          <a:pt x="41" y="253"/>
                        </a:lnTo>
                        <a:lnTo>
                          <a:pt x="41" y="221"/>
                        </a:lnTo>
                        <a:lnTo>
                          <a:pt x="41" y="189"/>
                        </a:lnTo>
                        <a:lnTo>
                          <a:pt x="55" y="142"/>
                        </a:lnTo>
                        <a:lnTo>
                          <a:pt x="55" y="110"/>
                        </a:lnTo>
                        <a:lnTo>
                          <a:pt x="55" y="78"/>
                        </a:lnTo>
                        <a:lnTo>
                          <a:pt x="55" y="31"/>
                        </a:lnTo>
                        <a:lnTo>
                          <a:pt x="55" y="0"/>
                        </a:lnTo>
                        <a:lnTo>
                          <a:pt x="0" y="647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7332840" y="3922560"/>
                    <a:ext cx="28440" cy="34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647">
                        <a:moveTo>
                          <a:pt x="0" y="647"/>
                        </a:moveTo>
                        <a:lnTo>
                          <a:pt x="13" y="615"/>
                        </a:lnTo>
                        <a:lnTo>
                          <a:pt x="13" y="584"/>
                        </a:lnTo>
                        <a:lnTo>
                          <a:pt x="13" y="536"/>
                        </a:lnTo>
                        <a:lnTo>
                          <a:pt x="13" y="505"/>
                        </a:lnTo>
                        <a:lnTo>
                          <a:pt x="27" y="473"/>
                        </a:lnTo>
                        <a:lnTo>
                          <a:pt x="27" y="441"/>
                        </a:lnTo>
                        <a:lnTo>
                          <a:pt x="27" y="394"/>
                        </a:lnTo>
                        <a:lnTo>
                          <a:pt x="27" y="362"/>
                        </a:lnTo>
                        <a:lnTo>
                          <a:pt x="41" y="332"/>
                        </a:lnTo>
                        <a:lnTo>
                          <a:pt x="41" y="283"/>
                        </a:lnTo>
                        <a:lnTo>
                          <a:pt x="41" y="253"/>
                        </a:lnTo>
                        <a:lnTo>
                          <a:pt x="41" y="221"/>
                        </a:lnTo>
                        <a:lnTo>
                          <a:pt x="41" y="189"/>
                        </a:lnTo>
                        <a:lnTo>
                          <a:pt x="55" y="142"/>
                        </a:lnTo>
                        <a:lnTo>
                          <a:pt x="55" y="110"/>
                        </a:lnTo>
                        <a:lnTo>
                          <a:pt x="55" y="78"/>
                        </a:lnTo>
                        <a:lnTo>
                          <a:pt x="55" y="31"/>
                        </a:lnTo>
                        <a:lnTo>
                          <a:pt x="55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9" name=""/>
                <p:cNvGrpSpPr/>
                <p:nvPr/>
              </p:nvGrpSpPr>
              <p:grpSpPr>
                <a:xfrm>
                  <a:off x="7361280" y="3313080"/>
                  <a:ext cx="1440" cy="609480"/>
                  <a:chOff x="7361280" y="3313080"/>
                  <a:chExt cx="1440" cy="60948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>
                    <a:off x="7361280" y="3313080"/>
                    <a:ext cx="1440" cy="60948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152">
                        <a:moveTo>
                          <a:pt x="0" y="1152"/>
                        </a:moveTo>
                        <a:lnTo>
                          <a:pt x="0" y="1120"/>
                        </a:lnTo>
                        <a:lnTo>
                          <a:pt x="0" y="1089"/>
                        </a:lnTo>
                        <a:lnTo>
                          <a:pt x="0" y="1058"/>
                        </a:lnTo>
                        <a:lnTo>
                          <a:pt x="0" y="1010"/>
                        </a:lnTo>
                        <a:lnTo>
                          <a:pt x="0" y="979"/>
                        </a:lnTo>
                        <a:lnTo>
                          <a:pt x="0" y="947"/>
                        </a:lnTo>
                        <a:lnTo>
                          <a:pt x="0" y="915"/>
                        </a:lnTo>
                        <a:lnTo>
                          <a:pt x="0" y="883"/>
                        </a:lnTo>
                        <a:lnTo>
                          <a:pt x="0" y="853"/>
                        </a:lnTo>
                        <a:lnTo>
                          <a:pt x="0" y="804"/>
                        </a:lnTo>
                        <a:lnTo>
                          <a:pt x="0" y="774"/>
                        </a:lnTo>
                        <a:lnTo>
                          <a:pt x="0" y="742"/>
                        </a:lnTo>
                        <a:lnTo>
                          <a:pt x="0" y="710"/>
                        </a:lnTo>
                        <a:lnTo>
                          <a:pt x="0" y="678"/>
                        </a:lnTo>
                        <a:lnTo>
                          <a:pt x="0" y="647"/>
                        </a:lnTo>
                        <a:lnTo>
                          <a:pt x="0" y="600"/>
                        </a:lnTo>
                        <a:lnTo>
                          <a:pt x="0" y="568"/>
                        </a:lnTo>
                        <a:lnTo>
                          <a:pt x="0" y="536"/>
                        </a:lnTo>
                        <a:lnTo>
                          <a:pt x="0" y="505"/>
                        </a:lnTo>
                        <a:lnTo>
                          <a:pt x="0" y="474"/>
                        </a:lnTo>
                        <a:lnTo>
                          <a:pt x="0" y="427"/>
                        </a:lnTo>
                        <a:lnTo>
                          <a:pt x="0" y="395"/>
                        </a:lnTo>
                        <a:lnTo>
                          <a:pt x="0" y="363"/>
                        </a:lnTo>
                        <a:lnTo>
                          <a:pt x="0" y="331"/>
                        </a:lnTo>
                        <a:lnTo>
                          <a:pt x="0" y="284"/>
                        </a:lnTo>
                        <a:lnTo>
                          <a:pt x="0" y="252"/>
                        </a:lnTo>
                        <a:lnTo>
                          <a:pt x="0" y="220"/>
                        </a:lnTo>
                        <a:lnTo>
                          <a:pt x="0" y="190"/>
                        </a:lnTo>
                        <a:lnTo>
                          <a:pt x="0" y="142"/>
                        </a:lnTo>
                        <a:lnTo>
                          <a:pt x="0" y="111"/>
                        </a:lnTo>
                        <a:lnTo>
                          <a:pt x="0" y="79"/>
                        </a:lnTo>
                        <a:lnTo>
                          <a:pt x="0" y="32"/>
                        </a:lnTo>
                        <a:lnTo>
                          <a:pt x="0" y="0"/>
                        </a:lnTo>
                        <a:lnTo>
                          <a:pt x="0" y="1152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7361280" y="3313080"/>
                    <a:ext cx="1440" cy="60948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152">
                        <a:moveTo>
                          <a:pt x="0" y="1152"/>
                        </a:moveTo>
                        <a:lnTo>
                          <a:pt x="0" y="1120"/>
                        </a:lnTo>
                        <a:lnTo>
                          <a:pt x="0" y="1089"/>
                        </a:lnTo>
                        <a:lnTo>
                          <a:pt x="0" y="1058"/>
                        </a:lnTo>
                        <a:lnTo>
                          <a:pt x="0" y="1010"/>
                        </a:lnTo>
                        <a:lnTo>
                          <a:pt x="0" y="979"/>
                        </a:lnTo>
                        <a:lnTo>
                          <a:pt x="0" y="947"/>
                        </a:lnTo>
                        <a:lnTo>
                          <a:pt x="0" y="915"/>
                        </a:lnTo>
                        <a:lnTo>
                          <a:pt x="0" y="883"/>
                        </a:lnTo>
                        <a:lnTo>
                          <a:pt x="0" y="853"/>
                        </a:lnTo>
                        <a:lnTo>
                          <a:pt x="0" y="804"/>
                        </a:lnTo>
                        <a:lnTo>
                          <a:pt x="0" y="774"/>
                        </a:lnTo>
                        <a:lnTo>
                          <a:pt x="0" y="742"/>
                        </a:lnTo>
                        <a:lnTo>
                          <a:pt x="0" y="710"/>
                        </a:lnTo>
                        <a:lnTo>
                          <a:pt x="0" y="678"/>
                        </a:lnTo>
                        <a:lnTo>
                          <a:pt x="0" y="647"/>
                        </a:lnTo>
                        <a:lnTo>
                          <a:pt x="0" y="600"/>
                        </a:lnTo>
                        <a:lnTo>
                          <a:pt x="0" y="568"/>
                        </a:lnTo>
                        <a:lnTo>
                          <a:pt x="0" y="536"/>
                        </a:lnTo>
                        <a:lnTo>
                          <a:pt x="0" y="505"/>
                        </a:lnTo>
                        <a:lnTo>
                          <a:pt x="0" y="474"/>
                        </a:lnTo>
                        <a:lnTo>
                          <a:pt x="0" y="427"/>
                        </a:lnTo>
                        <a:lnTo>
                          <a:pt x="0" y="395"/>
                        </a:lnTo>
                        <a:lnTo>
                          <a:pt x="0" y="363"/>
                        </a:lnTo>
                        <a:lnTo>
                          <a:pt x="0" y="331"/>
                        </a:lnTo>
                        <a:lnTo>
                          <a:pt x="0" y="284"/>
                        </a:lnTo>
                        <a:lnTo>
                          <a:pt x="0" y="252"/>
                        </a:lnTo>
                        <a:lnTo>
                          <a:pt x="0" y="220"/>
                        </a:lnTo>
                        <a:lnTo>
                          <a:pt x="0" y="190"/>
                        </a:lnTo>
                        <a:lnTo>
                          <a:pt x="0" y="142"/>
                        </a:lnTo>
                        <a:lnTo>
                          <a:pt x="0" y="111"/>
                        </a:lnTo>
                        <a:lnTo>
                          <a:pt x="0" y="79"/>
                        </a:lnTo>
                        <a:lnTo>
                          <a:pt x="0" y="3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2" name=""/>
                <p:cNvGrpSpPr/>
                <p:nvPr/>
              </p:nvGrpSpPr>
              <p:grpSpPr>
                <a:xfrm>
                  <a:off x="7361280" y="3295800"/>
                  <a:ext cx="1440" cy="17280"/>
                  <a:chOff x="7361280" y="3295800"/>
                  <a:chExt cx="1440" cy="1728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>
                    <a:off x="7361280" y="3295800"/>
                    <a:ext cx="14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31">
                        <a:moveTo>
                          <a:pt x="0" y="31"/>
                        </a:moveTo>
                        <a:lnTo>
                          <a:pt x="0" y="15"/>
                        </a:lnTo>
                        <a:lnTo>
                          <a:pt x="0" y="0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7361280" y="3295800"/>
                    <a:ext cx="14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31">
                        <a:moveTo>
                          <a:pt x="0" y="31"/>
                        </a:moveTo>
                        <a:lnTo>
                          <a:pt x="0" y="1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5" name=""/>
                <p:cNvGrpSpPr/>
                <p:nvPr/>
              </p:nvGrpSpPr>
              <p:grpSpPr>
                <a:xfrm>
                  <a:off x="7338960" y="3079800"/>
                  <a:ext cx="22320" cy="216000"/>
                  <a:chOff x="7338960" y="3079800"/>
                  <a:chExt cx="22320" cy="21600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>
                    <a:off x="7338960" y="3079800"/>
                    <a:ext cx="223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10">
                        <a:moveTo>
                          <a:pt x="42" y="410"/>
                        </a:moveTo>
                        <a:lnTo>
                          <a:pt x="28" y="363"/>
                        </a:lnTo>
                        <a:lnTo>
                          <a:pt x="28" y="331"/>
                        </a:lnTo>
                        <a:lnTo>
                          <a:pt x="28" y="284"/>
                        </a:lnTo>
                        <a:lnTo>
                          <a:pt x="28" y="252"/>
                        </a:lnTo>
                        <a:lnTo>
                          <a:pt x="28" y="205"/>
                        </a:lnTo>
                        <a:lnTo>
                          <a:pt x="14" y="173"/>
                        </a:lnTo>
                        <a:lnTo>
                          <a:pt x="14" y="141"/>
                        </a:lnTo>
                        <a:lnTo>
                          <a:pt x="14" y="94"/>
                        </a:lnTo>
                        <a:lnTo>
                          <a:pt x="14" y="62"/>
                        </a:lnTo>
                        <a:lnTo>
                          <a:pt x="0" y="0"/>
                        </a:lnTo>
                        <a:lnTo>
                          <a:pt x="42" y="410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7338960" y="3079800"/>
                    <a:ext cx="223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10">
                        <a:moveTo>
                          <a:pt x="42" y="410"/>
                        </a:moveTo>
                        <a:lnTo>
                          <a:pt x="28" y="363"/>
                        </a:lnTo>
                        <a:lnTo>
                          <a:pt x="28" y="331"/>
                        </a:lnTo>
                        <a:lnTo>
                          <a:pt x="28" y="284"/>
                        </a:lnTo>
                        <a:lnTo>
                          <a:pt x="28" y="252"/>
                        </a:lnTo>
                        <a:lnTo>
                          <a:pt x="28" y="205"/>
                        </a:lnTo>
                        <a:lnTo>
                          <a:pt x="14" y="173"/>
                        </a:lnTo>
                        <a:lnTo>
                          <a:pt x="14" y="141"/>
                        </a:lnTo>
                        <a:lnTo>
                          <a:pt x="14" y="94"/>
                        </a:lnTo>
                        <a:lnTo>
                          <a:pt x="14" y="6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8" name=""/>
                <p:cNvGrpSpPr/>
                <p:nvPr/>
              </p:nvGrpSpPr>
              <p:grpSpPr>
                <a:xfrm>
                  <a:off x="7288200" y="2711520"/>
                  <a:ext cx="50760" cy="368280"/>
                  <a:chOff x="7288200" y="2711520"/>
                  <a:chExt cx="50760" cy="36828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>
                    <a:off x="7288200" y="2711520"/>
                    <a:ext cx="50760" cy="36828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695">
                        <a:moveTo>
                          <a:pt x="96" y="695"/>
                        </a:moveTo>
                        <a:lnTo>
                          <a:pt x="96" y="663"/>
                        </a:lnTo>
                        <a:lnTo>
                          <a:pt x="96" y="631"/>
                        </a:lnTo>
                        <a:lnTo>
                          <a:pt x="96" y="584"/>
                        </a:lnTo>
                        <a:lnTo>
                          <a:pt x="83" y="552"/>
                        </a:lnTo>
                        <a:lnTo>
                          <a:pt x="83" y="521"/>
                        </a:lnTo>
                        <a:lnTo>
                          <a:pt x="83" y="474"/>
                        </a:lnTo>
                        <a:lnTo>
                          <a:pt x="69" y="442"/>
                        </a:lnTo>
                        <a:lnTo>
                          <a:pt x="69" y="410"/>
                        </a:lnTo>
                        <a:lnTo>
                          <a:pt x="69" y="363"/>
                        </a:lnTo>
                        <a:lnTo>
                          <a:pt x="55" y="331"/>
                        </a:lnTo>
                        <a:lnTo>
                          <a:pt x="55" y="301"/>
                        </a:lnTo>
                        <a:lnTo>
                          <a:pt x="41" y="252"/>
                        </a:lnTo>
                        <a:lnTo>
                          <a:pt x="41" y="222"/>
                        </a:lnTo>
                        <a:lnTo>
                          <a:pt x="27" y="190"/>
                        </a:lnTo>
                        <a:lnTo>
                          <a:pt x="27" y="143"/>
                        </a:lnTo>
                        <a:lnTo>
                          <a:pt x="13" y="111"/>
                        </a:lnTo>
                        <a:lnTo>
                          <a:pt x="13" y="79"/>
                        </a:lnTo>
                        <a:lnTo>
                          <a:pt x="0" y="32"/>
                        </a:lnTo>
                        <a:lnTo>
                          <a:pt x="0" y="0"/>
                        </a:lnTo>
                        <a:lnTo>
                          <a:pt x="96" y="695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7288200" y="2711520"/>
                    <a:ext cx="50760" cy="36828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695">
                        <a:moveTo>
                          <a:pt x="96" y="695"/>
                        </a:moveTo>
                        <a:lnTo>
                          <a:pt x="96" y="663"/>
                        </a:lnTo>
                        <a:lnTo>
                          <a:pt x="96" y="631"/>
                        </a:lnTo>
                        <a:lnTo>
                          <a:pt x="96" y="584"/>
                        </a:lnTo>
                        <a:lnTo>
                          <a:pt x="83" y="552"/>
                        </a:lnTo>
                        <a:lnTo>
                          <a:pt x="83" y="521"/>
                        </a:lnTo>
                        <a:lnTo>
                          <a:pt x="83" y="474"/>
                        </a:lnTo>
                        <a:lnTo>
                          <a:pt x="69" y="442"/>
                        </a:lnTo>
                        <a:lnTo>
                          <a:pt x="69" y="410"/>
                        </a:lnTo>
                        <a:lnTo>
                          <a:pt x="69" y="363"/>
                        </a:lnTo>
                        <a:lnTo>
                          <a:pt x="55" y="331"/>
                        </a:lnTo>
                        <a:lnTo>
                          <a:pt x="55" y="301"/>
                        </a:lnTo>
                        <a:lnTo>
                          <a:pt x="41" y="252"/>
                        </a:lnTo>
                        <a:lnTo>
                          <a:pt x="41" y="222"/>
                        </a:lnTo>
                        <a:lnTo>
                          <a:pt x="27" y="190"/>
                        </a:lnTo>
                        <a:lnTo>
                          <a:pt x="27" y="143"/>
                        </a:lnTo>
                        <a:lnTo>
                          <a:pt x="13" y="111"/>
                        </a:lnTo>
                        <a:lnTo>
                          <a:pt x="13" y="79"/>
                        </a:lnTo>
                        <a:lnTo>
                          <a:pt x="0" y="3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1" name=""/>
                <p:cNvGrpSpPr/>
                <p:nvPr/>
              </p:nvGrpSpPr>
              <p:grpSpPr>
                <a:xfrm>
                  <a:off x="7245360" y="2544840"/>
                  <a:ext cx="42840" cy="166680"/>
                  <a:chOff x="7245360" y="2544840"/>
                  <a:chExt cx="42840" cy="166680"/>
                </a:xfrm>
              </p:grpSpPr>
              <p:sp>
                <p:nvSpPr>
                  <p:cNvPr id="402" name=""/>
                  <p:cNvSpPr/>
                  <p:nvPr/>
                </p:nvSpPr>
                <p:spPr>
                  <a:xfrm>
                    <a:off x="7245360" y="2544840"/>
                    <a:ext cx="4284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315">
                        <a:moveTo>
                          <a:pt x="83" y="315"/>
                        </a:moveTo>
                        <a:lnTo>
                          <a:pt x="69" y="284"/>
                        </a:lnTo>
                        <a:lnTo>
                          <a:pt x="69" y="237"/>
                        </a:lnTo>
                        <a:lnTo>
                          <a:pt x="55" y="205"/>
                        </a:lnTo>
                        <a:lnTo>
                          <a:pt x="41" y="158"/>
                        </a:lnTo>
                        <a:lnTo>
                          <a:pt x="27" y="126"/>
                        </a:lnTo>
                        <a:lnTo>
                          <a:pt x="27" y="79"/>
                        </a:lnTo>
                        <a:lnTo>
                          <a:pt x="13" y="47"/>
                        </a:lnTo>
                        <a:lnTo>
                          <a:pt x="0" y="0"/>
                        </a:lnTo>
                        <a:lnTo>
                          <a:pt x="83" y="315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7245360" y="2544840"/>
                    <a:ext cx="4284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315">
                        <a:moveTo>
                          <a:pt x="83" y="315"/>
                        </a:moveTo>
                        <a:lnTo>
                          <a:pt x="69" y="284"/>
                        </a:lnTo>
                        <a:lnTo>
                          <a:pt x="69" y="237"/>
                        </a:lnTo>
                        <a:lnTo>
                          <a:pt x="55" y="205"/>
                        </a:lnTo>
                        <a:lnTo>
                          <a:pt x="41" y="158"/>
                        </a:lnTo>
                        <a:lnTo>
                          <a:pt x="27" y="126"/>
                        </a:lnTo>
                        <a:lnTo>
                          <a:pt x="27" y="79"/>
                        </a:lnTo>
                        <a:lnTo>
                          <a:pt x="13" y="4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4" name=""/>
                <p:cNvGrpSpPr/>
                <p:nvPr/>
              </p:nvGrpSpPr>
              <p:grpSpPr>
                <a:xfrm>
                  <a:off x="7221600" y="2495520"/>
                  <a:ext cx="23760" cy="49320"/>
                  <a:chOff x="7221600" y="2495520"/>
                  <a:chExt cx="23760" cy="4932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>
                    <a:off x="7221600" y="2495520"/>
                    <a:ext cx="2376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94">
                        <a:moveTo>
                          <a:pt x="43" y="94"/>
                        </a:moveTo>
                        <a:lnTo>
                          <a:pt x="27" y="62"/>
                        </a:lnTo>
                        <a:lnTo>
                          <a:pt x="14" y="30"/>
                        </a:lnTo>
                        <a:lnTo>
                          <a:pt x="0" y="0"/>
                        </a:lnTo>
                        <a:lnTo>
                          <a:pt x="43" y="94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7221600" y="2495520"/>
                    <a:ext cx="2376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94">
                        <a:moveTo>
                          <a:pt x="43" y="94"/>
                        </a:moveTo>
                        <a:lnTo>
                          <a:pt x="27" y="62"/>
                        </a:lnTo>
                        <a:lnTo>
                          <a:pt x="14" y="3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7" name=""/>
                <p:cNvGrpSpPr/>
                <p:nvPr/>
              </p:nvGrpSpPr>
              <p:grpSpPr>
                <a:xfrm>
                  <a:off x="7207200" y="2460600"/>
                  <a:ext cx="14400" cy="34920"/>
                  <a:chOff x="7207200" y="2460600"/>
                  <a:chExt cx="14400" cy="3492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>
                    <a:off x="7207200" y="2460600"/>
                    <a:ext cx="1440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64">
                        <a:moveTo>
                          <a:pt x="28" y="64"/>
                        </a:moveTo>
                        <a:lnTo>
                          <a:pt x="14" y="47"/>
                        </a:lnTo>
                        <a:lnTo>
                          <a:pt x="14" y="15"/>
                        </a:lnTo>
                        <a:lnTo>
                          <a:pt x="0" y="0"/>
                        </a:lnTo>
                        <a:lnTo>
                          <a:pt x="28" y="64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7207200" y="2460600"/>
                    <a:ext cx="1440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64">
                        <a:moveTo>
                          <a:pt x="28" y="64"/>
                        </a:moveTo>
                        <a:lnTo>
                          <a:pt x="14" y="47"/>
                        </a:lnTo>
                        <a:lnTo>
                          <a:pt x="14" y="1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0" name=""/>
                <p:cNvGrpSpPr/>
                <p:nvPr/>
              </p:nvGrpSpPr>
              <p:grpSpPr>
                <a:xfrm>
                  <a:off x="7296120" y="4222800"/>
                  <a:ext cx="196920" cy="576360"/>
                  <a:chOff x="7296120" y="4222800"/>
                  <a:chExt cx="196920" cy="57636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>
                    <a:off x="7296120" y="4222800"/>
                    <a:ext cx="196920" cy="57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74" h="1088">
                        <a:moveTo>
                          <a:pt x="0" y="1088"/>
                        </a:moveTo>
                        <a:lnTo>
                          <a:pt x="28" y="1073"/>
                        </a:lnTo>
                        <a:lnTo>
                          <a:pt x="42" y="1041"/>
                        </a:lnTo>
                        <a:lnTo>
                          <a:pt x="56" y="1009"/>
                        </a:lnTo>
                        <a:lnTo>
                          <a:pt x="70" y="994"/>
                        </a:lnTo>
                        <a:lnTo>
                          <a:pt x="97" y="962"/>
                        </a:lnTo>
                        <a:lnTo>
                          <a:pt x="111" y="930"/>
                        </a:lnTo>
                        <a:lnTo>
                          <a:pt x="125" y="898"/>
                        </a:lnTo>
                        <a:lnTo>
                          <a:pt x="139" y="868"/>
                        </a:lnTo>
                        <a:lnTo>
                          <a:pt x="153" y="836"/>
                        </a:lnTo>
                        <a:lnTo>
                          <a:pt x="166" y="804"/>
                        </a:lnTo>
                        <a:lnTo>
                          <a:pt x="180" y="772"/>
                        </a:lnTo>
                        <a:lnTo>
                          <a:pt x="194" y="741"/>
                        </a:lnTo>
                        <a:lnTo>
                          <a:pt x="194" y="710"/>
                        </a:lnTo>
                        <a:lnTo>
                          <a:pt x="208" y="678"/>
                        </a:lnTo>
                        <a:lnTo>
                          <a:pt x="222" y="646"/>
                        </a:lnTo>
                        <a:lnTo>
                          <a:pt x="236" y="615"/>
                        </a:lnTo>
                        <a:lnTo>
                          <a:pt x="249" y="583"/>
                        </a:lnTo>
                        <a:lnTo>
                          <a:pt x="249" y="552"/>
                        </a:lnTo>
                        <a:lnTo>
                          <a:pt x="263" y="504"/>
                        </a:lnTo>
                        <a:lnTo>
                          <a:pt x="277" y="474"/>
                        </a:lnTo>
                        <a:lnTo>
                          <a:pt x="277" y="442"/>
                        </a:lnTo>
                        <a:lnTo>
                          <a:pt x="291" y="410"/>
                        </a:lnTo>
                        <a:lnTo>
                          <a:pt x="305" y="378"/>
                        </a:lnTo>
                        <a:lnTo>
                          <a:pt x="305" y="346"/>
                        </a:lnTo>
                        <a:lnTo>
                          <a:pt x="319" y="299"/>
                        </a:lnTo>
                        <a:lnTo>
                          <a:pt x="319" y="267"/>
                        </a:lnTo>
                        <a:lnTo>
                          <a:pt x="332" y="237"/>
                        </a:lnTo>
                        <a:lnTo>
                          <a:pt x="332" y="205"/>
                        </a:lnTo>
                        <a:lnTo>
                          <a:pt x="346" y="173"/>
                        </a:lnTo>
                        <a:lnTo>
                          <a:pt x="346" y="141"/>
                        </a:lnTo>
                        <a:lnTo>
                          <a:pt x="360" y="110"/>
                        </a:lnTo>
                        <a:lnTo>
                          <a:pt x="360" y="79"/>
                        </a:lnTo>
                        <a:lnTo>
                          <a:pt x="374" y="47"/>
                        </a:lnTo>
                        <a:lnTo>
                          <a:pt x="374" y="0"/>
                        </a:lnTo>
                        <a:lnTo>
                          <a:pt x="0" y="1088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7296120" y="4222800"/>
                    <a:ext cx="196920" cy="57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74" h="1088">
                        <a:moveTo>
                          <a:pt x="0" y="1088"/>
                        </a:moveTo>
                        <a:lnTo>
                          <a:pt x="28" y="1073"/>
                        </a:lnTo>
                        <a:lnTo>
                          <a:pt x="42" y="1041"/>
                        </a:lnTo>
                        <a:lnTo>
                          <a:pt x="56" y="1009"/>
                        </a:lnTo>
                        <a:lnTo>
                          <a:pt x="70" y="994"/>
                        </a:lnTo>
                        <a:lnTo>
                          <a:pt x="97" y="962"/>
                        </a:lnTo>
                        <a:lnTo>
                          <a:pt x="111" y="930"/>
                        </a:lnTo>
                        <a:lnTo>
                          <a:pt x="125" y="898"/>
                        </a:lnTo>
                        <a:lnTo>
                          <a:pt x="139" y="868"/>
                        </a:lnTo>
                        <a:lnTo>
                          <a:pt x="153" y="836"/>
                        </a:lnTo>
                        <a:lnTo>
                          <a:pt x="166" y="804"/>
                        </a:lnTo>
                        <a:lnTo>
                          <a:pt x="180" y="772"/>
                        </a:lnTo>
                        <a:lnTo>
                          <a:pt x="194" y="741"/>
                        </a:lnTo>
                        <a:lnTo>
                          <a:pt x="194" y="710"/>
                        </a:lnTo>
                        <a:lnTo>
                          <a:pt x="208" y="678"/>
                        </a:lnTo>
                        <a:lnTo>
                          <a:pt x="222" y="646"/>
                        </a:lnTo>
                        <a:lnTo>
                          <a:pt x="236" y="615"/>
                        </a:lnTo>
                        <a:lnTo>
                          <a:pt x="249" y="583"/>
                        </a:lnTo>
                        <a:lnTo>
                          <a:pt x="249" y="552"/>
                        </a:lnTo>
                        <a:lnTo>
                          <a:pt x="263" y="504"/>
                        </a:lnTo>
                        <a:lnTo>
                          <a:pt x="277" y="474"/>
                        </a:lnTo>
                        <a:lnTo>
                          <a:pt x="277" y="442"/>
                        </a:lnTo>
                        <a:lnTo>
                          <a:pt x="291" y="410"/>
                        </a:lnTo>
                        <a:lnTo>
                          <a:pt x="305" y="378"/>
                        </a:lnTo>
                        <a:lnTo>
                          <a:pt x="305" y="346"/>
                        </a:lnTo>
                        <a:lnTo>
                          <a:pt x="319" y="299"/>
                        </a:lnTo>
                        <a:lnTo>
                          <a:pt x="319" y="267"/>
                        </a:lnTo>
                        <a:lnTo>
                          <a:pt x="332" y="237"/>
                        </a:lnTo>
                        <a:lnTo>
                          <a:pt x="332" y="205"/>
                        </a:lnTo>
                        <a:lnTo>
                          <a:pt x="346" y="173"/>
                        </a:lnTo>
                        <a:lnTo>
                          <a:pt x="346" y="141"/>
                        </a:lnTo>
                        <a:lnTo>
                          <a:pt x="360" y="110"/>
                        </a:lnTo>
                        <a:lnTo>
                          <a:pt x="360" y="79"/>
                        </a:lnTo>
                        <a:lnTo>
                          <a:pt x="374" y="47"/>
                        </a:lnTo>
                        <a:lnTo>
                          <a:pt x="374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7493040" y="3963960"/>
                  <a:ext cx="30240" cy="258840"/>
                  <a:chOff x="7493040" y="3963960"/>
                  <a:chExt cx="30240" cy="25884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>
                    <a:off x="7493040" y="3963960"/>
                    <a:ext cx="30240" cy="2588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490">
                        <a:moveTo>
                          <a:pt x="0" y="490"/>
                        </a:moveTo>
                        <a:lnTo>
                          <a:pt x="0" y="458"/>
                        </a:lnTo>
                        <a:lnTo>
                          <a:pt x="14" y="427"/>
                        </a:lnTo>
                        <a:lnTo>
                          <a:pt x="14" y="380"/>
                        </a:lnTo>
                        <a:lnTo>
                          <a:pt x="28" y="348"/>
                        </a:lnTo>
                        <a:lnTo>
                          <a:pt x="28" y="301"/>
                        </a:lnTo>
                        <a:lnTo>
                          <a:pt x="28" y="269"/>
                        </a:lnTo>
                        <a:lnTo>
                          <a:pt x="41" y="222"/>
                        </a:lnTo>
                        <a:lnTo>
                          <a:pt x="41" y="190"/>
                        </a:lnTo>
                        <a:lnTo>
                          <a:pt x="41" y="143"/>
                        </a:lnTo>
                        <a:lnTo>
                          <a:pt x="41" y="111"/>
                        </a:lnTo>
                        <a:lnTo>
                          <a:pt x="55" y="64"/>
                        </a:lnTo>
                        <a:lnTo>
                          <a:pt x="55" y="32"/>
                        </a:lnTo>
                        <a:lnTo>
                          <a:pt x="55" y="0"/>
                        </a:lnTo>
                        <a:lnTo>
                          <a:pt x="0" y="490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7493040" y="3963960"/>
                    <a:ext cx="30240" cy="2588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490">
                        <a:moveTo>
                          <a:pt x="0" y="490"/>
                        </a:moveTo>
                        <a:lnTo>
                          <a:pt x="0" y="458"/>
                        </a:lnTo>
                        <a:lnTo>
                          <a:pt x="14" y="427"/>
                        </a:lnTo>
                        <a:lnTo>
                          <a:pt x="14" y="380"/>
                        </a:lnTo>
                        <a:lnTo>
                          <a:pt x="28" y="348"/>
                        </a:lnTo>
                        <a:lnTo>
                          <a:pt x="28" y="301"/>
                        </a:lnTo>
                        <a:lnTo>
                          <a:pt x="28" y="269"/>
                        </a:lnTo>
                        <a:lnTo>
                          <a:pt x="41" y="222"/>
                        </a:lnTo>
                        <a:lnTo>
                          <a:pt x="41" y="190"/>
                        </a:lnTo>
                        <a:lnTo>
                          <a:pt x="41" y="143"/>
                        </a:lnTo>
                        <a:lnTo>
                          <a:pt x="41" y="111"/>
                        </a:lnTo>
                        <a:lnTo>
                          <a:pt x="55" y="64"/>
                        </a:lnTo>
                        <a:lnTo>
                          <a:pt x="55" y="32"/>
                        </a:lnTo>
                        <a:lnTo>
                          <a:pt x="55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6" name=""/>
                <p:cNvGrpSpPr/>
                <p:nvPr/>
              </p:nvGrpSpPr>
              <p:grpSpPr>
                <a:xfrm>
                  <a:off x="7523280" y="3271680"/>
                  <a:ext cx="14040" cy="692280"/>
                  <a:chOff x="7523280" y="3271680"/>
                  <a:chExt cx="14040" cy="69228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>
                    <a:off x="7523280" y="3271680"/>
                    <a:ext cx="14040" cy="69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308">
                        <a:moveTo>
                          <a:pt x="0" y="1308"/>
                        </a:moveTo>
                        <a:lnTo>
                          <a:pt x="0" y="1277"/>
                        </a:lnTo>
                        <a:lnTo>
                          <a:pt x="0" y="1230"/>
                        </a:lnTo>
                        <a:lnTo>
                          <a:pt x="14" y="1198"/>
                        </a:lnTo>
                        <a:lnTo>
                          <a:pt x="14" y="1167"/>
                        </a:lnTo>
                        <a:lnTo>
                          <a:pt x="14" y="1136"/>
                        </a:lnTo>
                        <a:lnTo>
                          <a:pt x="14" y="1104"/>
                        </a:lnTo>
                        <a:lnTo>
                          <a:pt x="14" y="1057"/>
                        </a:lnTo>
                        <a:lnTo>
                          <a:pt x="14" y="1025"/>
                        </a:lnTo>
                        <a:lnTo>
                          <a:pt x="14" y="993"/>
                        </a:lnTo>
                        <a:lnTo>
                          <a:pt x="28" y="961"/>
                        </a:lnTo>
                        <a:lnTo>
                          <a:pt x="28" y="914"/>
                        </a:lnTo>
                        <a:lnTo>
                          <a:pt x="28" y="882"/>
                        </a:lnTo>
                        <a:lnTo>
                          <a:pt x="28" y="852"/>
                        </a:lnTo>
                        <a:lnTo>
                          <a:pt x="28" y="820"/>
                        </a:lnTo>
                        <a:lnTo>
                          <a:pt x="28" y="788"/>
                        </a:lnTo>
                        <a:lnTo>
                          <a:pt x="28" y="741"/>
                        </a:lnTo>
                        <a:lnTo>
                          <a:pt x="28" y="709"/>
                        </a:lnTo>
                        <a:lnTo>
                          <a:pt x="28" y="678"/>
                        </a:lnTo>
                        <a:lnTo>
                          <a:pt x="28" y="646"/>
                        </a:lnTo>
                        <a:lnTo>
                          <a:pt x="28" y="599"/>
                        </a:lnTo>
                        <a:lnTo>
                          <a:pt x="28" y="567"/>
                        </a:lnTo>
                        <a:lnTo>
                          <a:pt x="28" y="535"/>
                        </a:lnTo>
                        <a:lnTo>
                          <a:pt x="28" y="505"/>
                        </a:lnTo>
                        <a:lnTo>
                          <a:pt x="14" y="473"/>
                        </a:lnTo>
                        <a:lnTo>
                          <a:pt x="14" y="426"/>
                        </a:lnTo>
                        <a:lnTo>
                          <a:pt x="14" y="394"/>
                        </a:lnTo>
                        <a:lnTo>
                          <a:pt x="14" y="362"/>
                        </a:lnTo>
                        <a:lnTo>
                          <a:pt x="14" y="330"/>
                        </a:lnTo>
                        <a:lnTo>
                          <a:pt x="14" y="283"/>
                        </a:lnTo>
                        <a:lnTo>
                          <a:pt x="14" y="251"/>
                        </a:lnTo>
                        <a:lnTo>
                          <a:pt x="14" y="220"/>
                        </a:lnTo>
                        <a:lnTo>
                          <a:pt x="14" y="189"/>
                        </a:lnTo>
                        <a:lnTo>
                          <a:pt x="0" y="141"/>
                        </a:lnTo>
                        <a:lnTo>
                          <a:pt x="0" y="110"/>
                        </a:lnTo>
                        <a:lnTo>
                          <a:pt x="0" y="78"/>
                        </a:lnTo>
                        <a:lnTo>
                          <a:pt x="0" y="31"/>
                        </a:lnTo>
                        <a:lnTo>
                          <a:pt x="0" y="0"/>
                        </a:lnTo>
                        <a:lnTo>
                          <a:pt x="0" y="1308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7523280" y="3271680"/>
                    <a:ext cx="14040" cy="69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308">
                        <a:moveTo>
                          <a:pt x="0" y="1308"/>
                        </a:moveTo>
                        <a:lnTo>
                          <a:pt x="0" y="1277"/>
                        </a:lnTo>
                        <a:lnTo>
                          <a:pt x="0" y="1230"/>
                        </a:lnTo>
                        <a:lnTo>
                          <a:pt x="14" y="1198"/>
                        </a:lnTo>
                        <a:lnTo>
                          <a:pt x="14" y="1167"/>
                        </a:lnTo>
                        <a:lnTo>
                          <a:pt x="14" y="1136"/>
                        </a:lnTo>
                        <a:lnTo>
                          <a:pt x="14" y="1104"/>
                        </a:lnTo>
                        <a:lnTo>
                          <a:pt x="14" y="1057"/>
                        </a:lnTo>
                        <a:lnTo>
                          <a:pt x="14" y="1025"/>
                        </a:lnTo>
                        <a:lnTo>
                          <a:pt x="14" y="993"/>
                        </a:lnTo>
                        <a:lnTo>
                          <a:pt x="28" y="961"/>
                        </a:lnTo>
                        <a:lnTo>
                          <a:pt x="28" y="914"/>
                        </a:lnTo>
                        <a:lnTo>
                          <a:pt x="28" y="882"/>
                        </a:lnTo>
                        <a:lnTo>
                          <a:pt x="28" y="852"/>
                        </a:lnTo>
                        <a:lnTo>
                          <a:pt x="28" y="820"/>
                        </a:lnTo>
                        <a:lnTo>
                          <a:pt x="28" y="788"/>
                        </a:lnTo>
                        <a:lnTo>
                          <a:pt x="28" y="741"/>
                        </a:lnTo>
                        <a:lnTo>
                          <a:pt x="28" y="709"/>
                        </a:lnTo>
                        <a:lnTo>
                          <a:pt x="28" y="678"/>
                        </a:lnTo>
                        <a:lnTo>
                          <a:pt x="28" y="646"/>
                        </a:lnTo>
                        <a:lnTo>
                          <a:pt x="28" y="599"/>
                        </a:lnTo>
                        <a:lnTo>
                          <a:pt x="28" y="567"/>
                        </a:lnTo>
                        <a:lnTo>
                          <a:pt x="28" y="535"/>
                        </a:lnTo>
                        <a:lnTo>
                          <a:pt x="28" y="505"/>
                        </a:lnTo>
                        <a:lnTo>
                          <a:pt x="14" y="473"/>
                        </a:lnTo>
                        <a:lnTo>
                          <a:pt x="14" y="426"/>
                        </a:lnTo>
                        <a:lnTo>
                          <a:pt x="14" y="394"/>
                        </a:lnTo>
                        <a:lnTo>
                          <a:pt x="14" y="362"/>
                        </a:lnTo>
                        <a:lnTo>
                          <a:pt x="14" y="330"/>
                        </a:lnTo>
                        <a:lnTo>
                          <a:pt x="14" y="283"/>
                        </a:lnTo>
                        <a:lnTo>
                          <a:pt x="14" y="251"/>
                        </a:lnTo>
                        <a:lnTo>
                          <a:pt x="14" y="220"/>
                        </a:lnTo>
                        <a:lnTo>
                          <a:pt x="14" y="189"/>
                        </a:lnTo>
                        <a:lnTo>
                          <a:pt x="0" y="141"/>
                        </a:lnTo>
                        <a:lnTo>
                          <a:pt x="0" y="110"/>
                        </a:lnTo>
                        <a:lnTo>
                          <a:pt x="0" y="78"/>
                        </a:lnTo>
                        <a:lnTo>
                          <a:pt x="0" y="3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7508880" y="3129120"/>
                  <a:ext cx="14400" cy="142560"/>
                  <a:chOff x="7508880" y="3129120"/>
                  <a:chExt cx="14400" cy="14256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>
                    <a:off x="7508880" y="3129120"/>
                    <a:ext cx="1440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69">
                        <a:moveTo>
                          <a:pt x="27" y="269"/>
                        </a:moveTo>
                        <a:lnTo>
                          <a:pt x="13" y="221"/>
                        </a:lnTo>
                        <a:lnTo>
                          <a:pt x="13" y="190"/>
                        </a:lnTo>
                        <a:lnTo>
                          <a:pt x="13" y="143"/>
                        </a:lnTo>
                        <a:lnTo>
                          <a:pt x="0" y="9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lnTo>
                          <a:pt x="27" y="269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7508880" y="3129120"/>
                    <a:ext cx="1440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69">
                        <a:moveTo>
                          <a:pt x="27" y="269"/>
                        </a:moveTo>
                        <a:lnTo>
                          <a:pt x="13" y="221"/>
                        </a:lnTo>
                        <a:lnTo>
                          <a:pt x="13" y="190"/>
                        </a:lnTo>
                        <a:lnTo>
                          <a:pt x="13" y="143"/>
                        </a:lnTo>
                        <a:lnTo>
                          <a:pt x="0" y="9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2" name=""/>
                <p:cNvGrpSpPr/>
                <p:nvPr/>
              </p:nvGrpSpPr>
              <p:grpSpPr>
                <a:xfrm>
                  <a:off x="7397640" y="2662200"/>
                  <a:ext cx="111240" cy="466920"/>
                  <a:chOff x="7397640" y="2662200"/>
                  <a:chExt cx="111240" cy="46692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>
                    <a:off x="7397640" y="2662200"/>
                    <a:ext cx="111240" cy="46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883">
                        <a:moveTo>
                          <a:pt x="208" y="883"/>
                        </a:moveTo>
                        <a:lnTo>
                          <a:pt x="194" y="851"/>
                        </a:lnTo>
                        <a:lnTo>
                          <a:pt x="194" y="804"/>
                        </a:lnTo>
                        <a:lnTo>
                          <a:pt x="194" y="757"/>
                        </a:lnTo>
                        <a:lnTo>
                          <a:pt x="180" y="725"/>
                        </a:lnTo>
                        <a:lnTo>
                          <a:pt x="180" y="694"/>
                        </a:lnTo>
                        <a:lnTo>
                          <a:pt x="166" y="662"/>
                        </a:lnTo>
                        <a:lnTo>
                          <a:pt x="166" y="615"/>
                        </a:lnTo>
                        <a:lnTo>
                          <a:pt x="152" y="583"/>
                        </a:lnTo>
                        <a:lnTo>
                          <a:pt x="152" y="552"/>
                        </a:lnTo>
                        <a:lnTo>
                          <a:pt x="138" y="521"/>
                        </a:lnTo>
                        <a:lnTo>
                          <a:pt x="138" y="473"/>
                        </a:lnTo>
                        <a:lnTo>
                          <a:pt x="125" y="442"/>
                        </a:lnTo>
                        <a:lnTo>
                          <a:pt x="125" y="410"/>
                        </a:lnTo>
                        <a:lnTo>
                          <a:pt x="111" y="378"/>
                        </a:lnTo>
                        <a:lnTo>
                          <a:pt x="97" y="346"/>
                        </a:lnTo>
                        <a:lnTo>
                          <a:pt x="97" y="299"/>
                        </a:lnTo>
                        <a:lnTo>
                          <a:pt x="83" y="267"/>
                        </a:lnTo>
                        <a:lnTo>
                          <a:pt x="69" y="237"/>
                        </a:lnTo>
                        <a:lnTo>
                          <a:pt x="69" y="205"/>
                        </a:lnTo>
                        <a:lnTo>
                          <a:pt x="55" y="173"/>
                        </a:lnTo>
                        <a:lnTo>
                          <a:pt x="42" y="126"/>
                        </a:lnTo>
                        <a:lnTo>
                          <a:pt x="28" y="94"/>
                        </a:lnTo>
                        <a:lnTo>
                          <a:pt x="28" y="63"/>
                        </a:lnTo>
                        <a:lnTo>
                          <a:pt x="14" y="31"/>
                        </a:lnTo>
                        <a:lnTo>
                          <a:pt x="0" y="0"/>
                        </a:lnTo>
                        <a:lnTo>
                          <a:pt x="208" y="883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7397640" y="2662200"/>
                    <a:ext cx="111240" cy="46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883">
                        <a:moveTo>
                          <a:pt x="208" y="883"/>
                        </a:moveTo>
                        <a:lnTo>
                          <a:pt x="194" y="851"/>
                        </a:lnTo>
                        <a:lnTo>
                          <a:pt x="194" y="804"/>
                        </a:lnTo>
                        <a:lnTo>
                          <a:pt x="194" y="757"/>
                        </a:lnTo>
                        <a:lnTo>
                          <a:pt x="180" y="725"/>
                        </a:lnTo>
                        <a:lnTo>
                          <a:pt x="180" y="694"/>
                        </a:lnTo>
                        <a:lnTo>
                          <a:pt x="166" y="662"/>
                        </a:lnTo>
                        <a:lnTo>
                          <a:pt x="166" y="615"/>
                        </a:lnTo>
                        <a:lnTo>
                          <a:pt x="152" y="583"/>
                        </a:lnTo>
                        <a:lnTo>
                          <a:pt x="152" y="552"/>
                        </a:lnTo>
                        <a:lnTo>
                          <a:pt x="138" y="521"/>
                        </a:lnTo>
                        <a:lnTo>
                          <a:pt x="138" y="473"/>
                        </a:lnTo>
                        <a:lnTo>
                          <a:pt x="125" y="442"/>
                        </a:lnTo>
                        <a:lnTo>
                          <a:pt x="125" y="410"/>
                        </a:lnTo>
                        <a:lnTo>
                          <a:pt x="111" y="378"/>
                        </a:lnTo>
                        <a:lnTo>
                          <a:pt x="97" y="346"/>
                        </a:lnTo>
                        <a:lnTo>
                          <a:pt x="97" y="299"/>
                        </a:lnTo>
                        <a:lnTo>
                          <a:pt x="83" y="267"/>
                        </a:lnTo>
                        <a:lnTo>
                          <a:pt x="69" y="237"/>
                        </a:lnTo>
                        <a:lnTo>
                          <a:pt x="69" y="205"/>
                        </a:lnTo>
                        <a:lnTo>
                          <a:pt x="55" y="173"/>
                        </a:lnTo>
                        <a:lnTo>
                          <a:pt x="42" y="126"/>
                        </a:lnTo>
                        <a:lnTo>
                          <a:pt x="28" y="94"/>
                        </a:lnTo>
                        <a:lnTo>
                          <a:pt x="28" y="63"/>
                        </a:lnTo>
                        <a:lnTo>
                          <a:pt x="14" y="3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5" name=""/>
                <p:cNvGrpSpPr/>
                <p:nvPr/>
              </p:nvGrpSpPr>
              <p:grpSpPr>
                <a:xfrm>
                  <a:off x="7332840" y="2519280"/>
                  <a:ext cx="64800" cy="142920"/>
                  <a:chOff x="7332840" y="2519280"/>
                  <a:chExt cx="64800" cy="14292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>
                    <a:off x="7332840" y="2519280"/>
                    <a:ext cx="648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268">
                        <a:moveTo>
                          <a:pt x="124" y="268"/>
                        </a:moveTo>
                        <a:lnTo>
                          <a:pt x="110" y="220"/>
                        </a:lnTo>
                        <a:lnTo>
                          <a:pt x="96" y="189"/>
                        </a:lnTo>
                        <a:lnTo>
                          <a:pt x="83" y="158"/>
                        </a:lnTo>
                        <a:lnTo>
                          <a:pt x="55" y="111"/>
                        </a:lnTo>
                        <a:lnTo>
                          <a:pt x="41" y="79"/>
                        </a:lnTo>
                        <a:lnTo>
                          <a:pt x="27" y="32"/>
                        </a:lnTo>
                        <a:lnTo>
                          <a:pt x="0" y="0"/>
                        </a:lnTo>
                        <a:lnTo>
                          <a:pt x="124" y="268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7332840" y="2519280"/>
                    <a:ext cx="648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268">
                        <a:moveTo>
                          <a:pt x="124" y="268"/>
                        </a:moveTo>
                        <a:lnTo>
                          <a:pt x="110" y="220"/>
                        </a:lnTo>
                        <a:lnTo>
                          <a:pt x="96" y="189"/>
                        </a:lnTo>
                        <a:lnTo>
                          <a:pt x="83" y="158"/>
                        </a:lnTo>
                        <a:lnTo>
                          <a:pt x="55" y="111"/>
                        </a:lnTo>
                        <a:lnTo>
                          <a:pt x="41" y="79"/>
                        </a:lnTo>
                        <a:lnTo>
                          <a:pt x="27" y="3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7310520" y="2478240"/>
                  <a:ext cx="22320" cy="41040"/>
                  <a:chOff x="7310520" y="2478240"/>
                  <a:chExt cx="22320" cy="4104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7310520" y="2478240"/>
                    <a:ext cx="2232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79">
                        <a:moveTo>
                          <a:pt x="42" y="79"/>
                        </a:moveTo>
                        <a:lnTo>
                          <a:pt x="28" y="62"/>
                        </a:lnTo>
                        <a:lnTo>
                          <a:pt x="14" y="32"/>
                        </a:lnTo>
                        <a:lnTo>
                          <a:pt x="0" y="0"/>
                        </a:lnTo>
                        <a:lnTo>
                          <a:pt x="42" y="79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7310520" y="2478240"/>
                    <a:ext cx="2232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79">
                        <a:moveTo>
                          <a:pt x="42" y="79"/>
                        </a:moveTo>
                        <a:lnTo>
                          <a:pt x="28" y="62"/>
                        </a:lnTo>
                        <a:lnTo>
                          <a:pt x="14" y="3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7296120" y="2460600"/>
                  <a:ext cx="14400" cy="17640"/>
                  <a:chOff x="7296120" y="2460600"/>
                  <a:chExt cx="14400" cy="1764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>
                    <a:off x="7296120" y="2460600"/>
                    <a:ext cx="144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32">
                        <a:moveTo>
                          <a:pt x="28" y="32"/>
                        </a:moveTo>
                        <a:lnTo>
                          <a:pt x="14" y="15"/>
                        </a:lnTo>
                        <a:lnTo>
                          <a:pt x="0" y="0"/>
                        </a:lnTo>
                        <a:lnTo>
                          <a:pt x="28" y="32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7296120" y="2460600"/>
                    <a:ext cx="144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32">
                        <a:moveTo>
                          <a:pt x="28" y="32"/>
                        </a:moveTo>
                        <a:lnTo>
                          <a:pt x="14" y="1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7391520" y="4689360"/>
                  <a:ext cx="87120" cy="109800"/>
                  <a:chOff x="7391520" y="4689360"/>
                  <a:chExt cx="87120" cy="10980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>
                    <a:off x="7391520" y="4689360"/>
                    <a:ext cx="8712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205">
                        <a:moveTo>
                          <a:pt x="0" y="205"/>
                        </a:moveTo>
                        <a:lnTo>
                          <a:pt x="28" y="190"/>
                        </a:lnTo>
                        <a:lnTo>
                          <a:pt x="42" y="158"/>
                        </a:lnTo>
                        <a:lnTo>
                          <a:pt x="69" y="126"/>
                        </a:lnTo>
                        <a:lnTo>
                          <a:pt x="97" y="94"/>
                        </a:lnTo>
                        <a:lnTo>
                          <a:pt x="125" y="64"/>
                        </a:lnTo>
                        <a:lnTo>
                          <a:pt x="139" y="32"/>
                        </a:lnTo>
                        <a:lnTo>
                          <a:pt x="166" y="0"/>
                        </a:lnTo>
                        <a:lnTo>
                          <a:pt x="0" y="205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7391520" y="4689360"/>
                    <a:ext cx="8712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205">
                        <a:moveTo>
                          <a:pt x="0" y="205"/>
                        </a:moveTo>
                        <a:lnTo>
                          <a:pt x="28" y="190"/>
                        </a:lnTo>
                        <a:lnTo>
                          <a:pt x="42" y="158"/>
                        </a:lnTo>
                        <a:lnTo>
                          <a:pt x="69" y="126"/>
                        </a:lnTo>
                        <a:lnTo>
                          <a:pt x="97" y="94"/>
                        </a:lnTo>
                        <a:lnTo>
                          <a:pt x="125" y="64"/>
                        </a:lnTo>
                        <a:lnTo>
                          <a:pt x="139" y="32"/>
                        </a:lnTo>
                        <a:lnTo>
                          <a:pt x="166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7478640" y="4540320"/>
                  <a:ext cx="73080" cy="149040"/>
                  <a:chOff x="7478640" y="4540320"/>
                  <a:chExt cx="73080" cy="14904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>
                    <a:off x="7478640" y="4540320"/>
                    <a:ext cx="730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284">
                        <a:moveTo>
                          <a:pt x="0" y="284"/>
                        </a:moveTo>
                        <a:lnTo>
                          <a:pt x="14" y="252"/>
                        </a:lnTo>
                        <a:lnTo>
                          <a:pt x="42" y="220"/>
                        </a:lnTo>
                        <a:lnTo>
                          <a:pt x="56" y="173"/>
                        </a:lnTo>
                        <a:lnTo>
                          <a:pt x="69" y="142"/>
                        </a:lnTo>
                        <a:lnTo>
                          <a:pt x="83" y="111"/>
                        </a:lnTo>
                        <a:lnTo>
                          <a:pt x="111" y="63"/>
                        </a:lnTo>
                        <a:lnTo>
                          <a:pt x="125" y="32"/>
                        </a:lnTo>
                        <a:lnTo>
                          <a:pt x="139" y="0"/>
                        </a:lnTo>
                        <a:lnTo>
                          <a:pt x="0" y="284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7478640" y="4540320"/>
                    <a:ext cx="730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284">
                        <a:moveTo>
                          <a:pt x="0" y="284"/>
                        </a:moveTo>
                        <a:lnTo>
                          <a:pt x="14" y="252"/>
                        </a:lnTo>
                        <a:lnTo>
                          <a:pt x="42" y="220"/>
                        </a:lnTo>
                        <a:lnTo>
                          <a:pt x="56" y="173"/>
                        </a:lnTo>
                        <a:lnTo>
                          <a:pt x="69" y="142"/>
                        </a:lnTo>
                        <a:lnTo>
                          <a:pt x="83" y="111"/>
                        </a:lnTo>
                        <a:lnTo>
                          <a:pt x="111" y="63"/>
                        </a:lnTo>
                        <a:lnTo>
                          <a:pt x="125" y="32"/>
                        </a:lnTo>
                        <a:lnTo>
                          <a:pt x="13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7551720" y="4105440"/>
                  <a:ext cx="117360" cy="434880"/>
                  <a:chOff x="7551720" y="4105440"/>
                  <a:chExt cx="117360" cy="43488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>
                    <a:off x="7551720" y="4105440"/>
                    <a:ext cx="117360" cy="434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2" h="820">
                        <a:moveTo>
                          <a:pt x="0" y="820"/>
                        </a:moveTo>
                        <a:lnTo>
                          <a:pt x="13" y="789"/>
                        </a:lnTo>
                        <a:lnTo>
                          <a:pt x="27" y="742"/>
                        </a:lnTo>
                        <a:lnTo>
                          <a:pt x="41" y="710"/>
                        </a:lnTo>
                        <a:lnTo>
                          <a:pt x="41" y="678"/>
                        </a:lnTo>
                        <a:lnTo>
                          <a:pt x="55" y="646"/>
                        </a:lnTo>
                        <a:lnTo>
                          <a:pt x="69" y="616"/>
                        </a:lnTo>
                        <a:lnTo>
                          <a:pt x="83" y="584"/>
                        </a:lnTo>
                        <a:lnTo>
                          <a:pt x="96" y="552"/>
                        </a:lnTo>
                        <a:lnTo>
                          <a:pt x="110" y="520"/>
                        </a:lnTo>
                        <a:lnTo>
                          <a:pt x="110" y="488"/>
                        </a:lnTo>
                        <a:lnTo>
                          <a:pt x="124" y="441"/>
                        </a:lnTo>
                        <a:lnTo>
                          <a:pt x="138" y="409"/>
                        </a:lnTo>
                        <a:lnTo>
                          <a:pt x="138" y="379"/>
                        </a:lnTo>
                        <a:lnTo>
                          <a:pt x="152" y="347"/>
                        </a:lnTo>
                        <a:lnTo>
                          <a:pt x="166" y="315"/>
                        </a:lnTo>
                        <a:lnTo>
                          <a:pt x="166" y="284"/>
                        </a:lnTo>
                        <a:lnTo>
                          <a:pt x="179" y="237"/>
                        </a:lnTo>
                        <a:lnTo>
                          <a:pt x="193" y="205"/>
                        </a:lnTo>
                        <a:lnTo>
                          <a:pt x="193" y="173"/>
                        </a:lnTo>
                        <a:lnTo>
                          <a:pt x="208" y="142"/>
                        </a:lnTo>
                        <a:lnTo>
                          <a:pt x="208" y="111"/>
                        </a:lnTo>
                        <a:lnTo>
                          <a:pt x="208" y="64"/>
                        </a:lnTo>
                        <a:lnTo>
                          <a:pt x="222" y="32"/>
                        </a:lnTo>
                        <a:lnTo>
                          <a:pt x="222" y="0"/>
                        </a:lnTo>
                        <a:lnTo>
                          <a:pt x="0" y="820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7551720" y="4105440"/>
                    <a:ext cx="117360" cy="434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2" h="820">
                        <a:moveTo>
                          <a:pt x="0" y="820"/>
                        </a:moveTo>
                        <a:lnTo>
                          <a:pt x="13" y="789"/>
                        </a:lnTo>
                        <a:lnTo>
                          <a:pt x="27" y="742"/>
                        </a:lnTo>
                        <a:lnTo>
                          <a:pt x="41" y="710"/>
                        </a:lnTo>
                        <a:lnTo>
                          <a:pt x="41" y="678"/>
                        </a:lnTo>
                        <a:lnTo>
                          <a:pt x="55" y="646"/>
                        </a:lnTo>
                        <a:lnTo>
                          <a:pt x="69" y="616"/>
                        </a:lnTo>
                        <a:lnTo>
                          <a:pt x="83" y="584"/>
                        </a:lnTo>
                        <a:lnTo>
                          <a:pt x="96" y="552"/>
                        </a:lnTo>
                        <a:lnTo>
                          <a:pt x="110" y="520"/>
                        </a:lnTo>
                        <a:lnTo>
                          <a:pt x="110" y="488"/>
                        </a:lnTo>
                        <a:lnTo>
                          <a:pt x="124" y="441"/>
                        </a:lnTo>
                        <a:lnTo>
                          <a:pt x="138" y="409"/>
                        </a:lnTo>
                        <a:lnTo>
                          <a:pt x="138" y="379"/>
                        </a:lnTo>
                        <a:lnTo>
                          <a:pt x="152" y="347"/>
                        </a:lnTo>
                        <a:lnTo>
                          <a:pt x="166" y="315"/>
                        </a:lnTo>
                        <a:lnTo>
                          <a:pt x="166" y="284"/>
                        </a:lnTo>
                        <a:lnTo>
                          <a:pt x="179" y="237"/>
                        </a:lnTo>
                        <a:lnTo>
                          <a:pt x="193" y="205"/>
                        </a:lnTo>
                        <a:lnTo>
                          <a:pt x="193" y="173"/>
                        </a:lnTo>
                        <a:lnTo>
                          <a:pt x="208" y="142"/>
                        </a:lnTo>
                        <a:lnTo>
                          <a:pt x="208" y="111"/>
                        </a:lnTo>
                        <a:lnTo>
                          <a:pt x="208" y="64"/>
                        </a:lnTo>
                        <a:lnTo>
                          <a:pt x="222" y="32"/>
                        </a:lnTo>
                        <a:lnTo>
                          <a:pt x="22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7669080" y="3821040"/>
                  <a:ext cx="30240" cy="284400"/>
                  <a:chOff x="7669080" y="3821040"/>
                  <a:chExt cx="30240" cy="28440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>
                    <a:off x="7669080" y="3821040"/>
                    <a:ext cx="30240" cy="28440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37">
                        <a:moveTo>
                          <a:pt x="0" y="537"/>
                        </a:moveTo>
                        <a:lnTo>
                          <a:pt x="14" y="505"/>
                        </a:lnTo>
                        <a:lnTo>
                          <a:pt x="14" y="458"/>
                        </a:lnTo>
                        <a:lnTo>
                          <a:pt x="14" y="426"/>
                        </a:lnTo>
                        <a:lnTo>
                          <a:pt x="28" y="379"/>
                        </a:lnTo>
                        <a:lnTo>
                          <a:pt x="28" y="347"/>
                        </a:lnTo>
                        <a:lnTo>
                          <a:pt x="28" y="300"/>
                        </a:lnTo>
                        <a:lnTo>
                          <a:pt x="42" y="268"/>
                        </a:lnTo>
                        <a:lnTo>
                          <a:pt x="42" y="221"/>
                        </a:lnTo>
                        <a:lnTo>
                          <a:pt x="42" y="190"/>
                        </a:lnTo>
                        <a:lnTo>
                          <a:pt x="56" y="158"/>
                        </a:lnTo>
                        <a:lnTo>
                          <a:pt x="56" y="111"/>
                        </a:lnTo>
                        <a:lnTo>
                          <a:pt x="56" y="79"/>
                        </a:lnTo>
                        <a:lnTo>
                          <a:pt x="56" y="32"/>
                        </a:lnTo>
                        <a:lnTo>
                          <a:pt x="56" y="0"/>
                        </a:lnTo>
                        <a:lnTo>
                          <a:pt x="0" y="537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7669080" y="3821040"/>
                    <a:ext cx="30240" cy="28440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37">
                        <a:moveTo>
                          <a:pt x="0" y="537"/>
                        </a:moveTo>
                        <a:lnTo>
                          <a:pt x="14" y="505"/>
                        </a:lnTo>
                        <a:lnTo>
                          <a:pt x="14" y="458"/>
                        </a:lnTo>
                        <a:lnTo>
                          <a:pt x="14" y="426"/>
                        </a:lnTo>
                        <a:lnTo>
                          <a:pt x="28" y="379"/>
                        </a:lnTo>
                        <a:lnTo>
                          <a:pt x="28" y="347"/>
                        </a:lnTo>
                        <a:lnTo>
                          <a:pt x="28" y="300"/>
                        </a:lnTo>
                        <a:lnTo>
                          <a:pt x="42" y="268"/>
                        </a:lnTo>
                        <a:lnTo>
                          <a:pt x="42" y="221"/>
                        </a:lnTo>
                        <a:lnTo>
                          <a:pt x="42" y="190"/>
                        </a:lnTo>
                        <a:lnTo>
                          <a:pt x="56" y="158"/>
                        </a:lnTo>
                        <a:lnTo>
                          <a:pt x="56" y="111"/>
                        </a:lnTo>
                        <a:lnTo>
                          <a:pt x="56" y="79"/>
                        </a:lnTo>
                        <a:lnTo>
                          <a:pt x="56" y="32"/>
                        </a:lnTo>
                        <a:lnTo>
                          <a:pt x="56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6" name=""/>
                <p:cNvGrpSpPr/>
                <p:nvPr/>
              </p:nvGrpSpPr>
              <p:grpSpPr>
                <a:xfrm>
                  <a:off x="7699320" y="3413160"/>
                  <a:ext cx="1800" cy="407880"/>
                  <a:chOff x="7699320" y="3413160"/>
                  <a:chExt cx="1800" cy="40788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>
                    <a:off x="7699320" y="3413160"/>
                    <a:ext cx="1800" cy="40788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772">
                        <a:moveTo>
                          <a:pt x="0" y="772"/>
                        </a:moveTo>
                        <a:lnTo>
                          <a:pt x="0" y="742"/>
                        </a:lnTo>
                        <a:lnTo>
                          <a:pt x="0" y="693"/>
                        </a:lnTo>
                        <a:lnTo>
                          <a:pt x="0" y="663"/>
                        </a:lnTo>
                        <a:lnTo>
                          <a:pt x="0" y="631"/>
                        </a:lnTo>
                        <a:lnTo>
                          <a:pt x="0" y="584"/>
                        </a:lnTo>
                        <a:lnTo>
                          <a:pt x="0" y="552"/>
                        </a:lnTo>
                        <a:lnTo>
                          <a:pt x="0" y="520"/>
                        </a:lnTo>
                        <a:lnTo>
                          <a:pt x="0" y="473"/>
                        </a:lnTo>
                        <a:lnTo>
                          <a:pt x="0" y="441"/>
                        </a:lnTo>
                        <a:lnTo>
                          <a:pt x="0" y="410"/>
                        </a:lnTo>
                        <a:lnTo>
                          <a:pt x="0" y="362"/>
                        </a:lnTo>
                        <a:lnTo>
                          <a:pt x="0" y="331"/>
                        </a:lnTo>
                        <a:lnTo>
                          <a:pt x="0" y="299"/>
                        </a:lnTo>
                        <a:lnTo>
                          <a:pt x="0" y="252"/>
                        </a:lnTo>
                        <a:lnTo>
                          <a:pt x="0" y="220"/>
                        </a:lnTo>
                        <a:lnTo>
                          <a:pt x="0" y="188"/>
                        </a:lnTo>
                        <a:lnTo>
                          <a:pt x="0" y="141"/>
                        </a:lnTo>
                        <a:lnTo>
                          <a:pt x="0" y="109"/>
                        </a:lnTo>
                        <a:lnTo>
                          <a:pt x="0" y="79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lnTo>
                          <a:pt x="0" y="772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7699320" y="3413160"/>
                    <a:ext cx="1800" cy="40788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772">
                        <a:moveTo>
                          <a:pt x="0" y="772"/>
                        </a:moveTo>
                        <a:lnTo>
                          <a:pt x="0" y="742"/>
                        </a:lnTo>
                        <a:lnTo>
                          <a:pt x="0" y="693"/>
                        </a:lnTo>
                        <a:lnTo>
                          <a:pt x="0" y="663"/>
                        </a:lnTo>
                        <a:lnTo>
                          <a:pt x="0" y="631"/>
                        </a:lnTo>
                        <a:lnTo>
                          <a:pt x="0" y="584"/>
                        </a:lnTo>
                        <a:lnTo>
                          <a:pt x="0" y="552"/>
                        </a:lnTo>
                        <a:lnTo>
                          <a:pt x="0" y="520"/>
                        </a:lnTo>
                        <a:lnTo>
                          <a:pt x="0" y="473"/>
                        </a:lnTo>
                        <a:lnTo>
                          <a:pt x="0" y="441"/>
                        </a:lnTo>
                        <a:lnTo>
                          <a:pt x="0" y="410"/>
                        </a:lnTo>
                        <a:lnTo>
                          <a:pt x="0" y="362"/>
                        </a:lnTo>
                        <a:lnTo>
                          <a:pt x="0" y="331"/>
                        </a:lnTo>
                        <a:lnTo>
                          <a:pt x="0" y="299"/>
                        </a:lnTo>
                        <a:lnTo>
                          <a:pt x="0" y="252"/>
                        </a:lnTo>
                        <a:lnTo>
                          <a:pt x="0" y="220"/>
                        </a:lnTo>
                        <a:lnTo>
                          <a:pt x="0" y="188"/>
                        </a:lnTo>
                        <a:lnTo>
                          <a:pt x="0" y="141"/>
                        </a:lnTo>
                        <a:lnTo>
                          <a:pt x="0" y="109"/>
                        </a:lnTo>
                        <a:lnTo>
                          <a:pt x="0" y="79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7662960" y="3129120"/>
                  <a:ext cx="36360" cy="284040"/>
                  <a:chOff x="7662960" y="3129120"/>
                  <a:chExt cx="36360" cy="28404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>
                    <a:off x="7662960" y="3129120"/>
                    <a:ext cx="3636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537">
                        <a:moveTo>
                          <a:pt x="70" y="537"/>
                        </a:moveTo>
                        <a:lnTo>
                          <a:pt x="56" y="505"/>
                        </a:lnTo>
                        <a:lnTo>
                          <a:pt x="56" y="458"/>
                        </a:lnTo>
                        <a:lnTo>
                          <a:pt x="56" y="426"/>
                        </a:lnTo>
                        <a:lnTo>
                          <a:pt x="56" y="379"/>
                        </a:lnTo>
                        <a:lnTo>
                          <a:pt x="42" y="347"/>
                        </a:lnTo>
                        <a:lnTo>
                          <a:pt x="42" y="316"/>
                        </a:lnTo>
                        <a:lnTo>
                          <a:pt x="42" y="269"/>
                        </a:lnTo>
                        <a:lnTo>
                          <a:pt x="28" y="237"/>
                        </a:lnTo>
                        <a:lnTo>
                          <a:pt x="28" y="190"/>
                        </a:lnTo>
                        <a:lnTo>
                          <a:pt x="28" y="158"/>
                        </a:lnTo>
                        <a:lnTo>
                          <a:pt x="14" y="111"/>
                        </a:lnTo>
                        <a:lnTo>
                          <a:pt x="14" y="79"/>
                        </a:lnTo>
                        <a:lnTo>
                          <a:pt x="14" y="47"/>
                        </a:lnTo>
                        <a:lnTo>
                          <a:pt x="0" y="0"/>
                        </a:lnTo>
                        <a:lnTo>
                          <a:pt x="70" y="537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7662960" y="3129120"/>
                    <a:ext cx="3636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537">
                        <a:moveTo>
                          <a:pt x="70" y="537"/>
                        </a:moveTo>
                        <a:lnTo>
                          <a:pt x="56" y="505"/>
                        </a:lnTo>
                        <a:lnTo>
                          <a:pt x="56" y="458"/>
                        </a:lnTo>
                        <a:lnTo>
                          <a:pt x="56" y="426"/>
                        </a:lnTo>
                        <a:lnTo>
                          <a:pt x="56" y="379"/>
                        </a:lnTo>
                        <a:lnTo>
                          <a:pt x="42" y="347"/>
                        </a:lnTo>
                        <a:lnTo>
                          <a:pt x="42" y="316"/>
                        </a:lnTo>
                        <a:lnTo>
                          <a:pt x="42" y="269"/>
                        </a:lnTo>
                        <a:lnTo>
                          <a:pt x="28" y="237"/>
                        </a:lnTo>
                        <a:lnTo>
                          <a:pt x="28" y="190"/>
                        </a:lnTo>
                        <a:lnTo>
                          <a:pt x="28" y="158"/>
                        </a:lnTo>
                        <a:lnTo>
                          <a:pt x="14" y="111"/>
                        </a:lnTo>
                        <a:lnTo>
                          <a:pt x="14" y="79"/>
                        </a:lnTo>
                        <a:lnTo>
                          <a:pt x="14" y="4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7523280" y="2662200"/>
                  <a:ext cx="139680" cy="466920"/>
                  <a:chOff x="7523280" y="2662200"/>
                  <a:chExt cx="139680" cy="46692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>
                    <a:off x="7523280" y="2662200"/>
                    <a:ext cx="139680" cy="46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883">
                        <a:moveTo>
                          <a:pt x="264" y="883"/>
                        </a:moveTo>
                        <a:lnTo>
                          <a:pt x="264" y="851"/>
                        </a:lnTo>
                        <a:lnTo>
                          <a:pt x="249" y="804"/>
                        </a:lnTo>
                        <a:lnTo>
                          <a:pt x="249" y="772"/>
                        </a:lnTo>
                        <a:lnTo>
                          <a:pt x="235" y="725"/>
                        </a:lnTo>
                        <a:lnTo>
                          <a:pt x="235" y="694"/>
                        </a:lnTo>
                        <a:lnTo>
                          <a:pt x="222" y="662"/>
                        </a:lnTo>
                        <a:lnTo>
                          <a:pt x="222" y="631"/>
                        </a:lnTo>
                        <a:lnTo>
                          <a:pt x="208" y="599"/>
                        </a:lnTo>
                        <a:lnTo>
                          <a:pt x="194" y="552"/>
                        </a:lnTo>
                        <a:lnTo>
                          <a:pt x="194" y="521"/>
                        </a:lnTo>
                        <a:lnTo>
                          <a:pt x="180" y="489"/>
                        </a:lnTo>
                        <a:lnTo>
                          <a:pt x="166" y="457"/>
                        </a:lnTo>
                        <a:lnTo>
                          <a:pt x="166" y="425"/>
                        </a:lnTo>
                        <a:lnTo>
                          <a:pt x="152" y="395"/>
                        </a:lnTo>
                        <a:lnTo>
                          <a:pt x="139" y="363"/>
                        </a:lnTo>
                        <a:lnTo>
                          <a:pt x="125" y="316"/>
                        </a:lnTo>
                        <a:lnTo>
                          <a:pt x="111" y="284"/>
                        </a:lnTo>
                        <a:lnTo>
                          <a:pt x="97" y="252"/>
                        </a:lnTo>
                        <a:lnTo>
                          <a:pt x="83" y="220"/>
                        </a:lnTo>
                        <a:lnTo>
                          <a:pt x="83" y="188"/>
                        </a:lnTo>
                        <a:lnTo>
                          <a:pt x="69" y="158"/>
                        </a:lnTo>
                        <a:lnTo>
                          <a:pt x="56" y="126"/>
                        </a:lnTo>
                        <a:lnTo>
                          <a:pt x="42" y="94"/>
                        </a:lnTo>
                        <a:lnTo>
                          <a:pt x="28" y="63"/>
                        </a:lnTo>
                        <a:lnTo>
                          <a:pt x="14" y="31"/>
                        </a:lnTo>
                        <a:lnTo>
                          <a:pt x="0" y="0"/>
                        </a:lnTo>
                        <a:lnTo>
                          <a:pt x="264" y="883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7523280" y="2662200"/>
                    <a:ext cx="139680" cy="46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883">
                        <a:moveTo>
                          <a:pt x="264" y="883"/>
                        </a:moveTo>
                        <a:lnTo>
                          <a:pt x="264" y="851"/>
                        </a:lnTo>
                        <a:lnTo>
                          <a:pt x="249" y="804"/>
                        </a:lnTo>
                        <a:lnTo>
                          <a:pt x="249" y="772"/>
                        </a:lnTo>
                        <a:lnTo>
                          <a:pt x="235" y="725"/>
                        </a:lnTo>
                        <a:lnTo>
                          <a:pt x="235" y="694"/>
                        </a:lnTo>
                        <a:lnTo>
                          <a:pt x="222" y="662"/>
                        </a:lnTo>
                        <a:lnTo>
                          <a:pt x="222" y="631"/>
                        </a:lnTo>
                        <a:lnTo>
                          <a:pt x="208" y="599"/>
                        </a:lnTo>
                        <a:lnTo>
                          <a:pt x="194" y="552"/>
                        </a:lnTo>
                        <a:lnTo>
                          <a:pt x="194" y="521"/>
                        </a:lnTo>
                        <a:lnTo>
                          <a:pt x="180" y="489"/>
                        </a:lnTo>
                        <a:lnTo>
                          <a:pt x="166" y="457"/>
                        </a:lnTo>
                        <a:lnTo>
                          <a:pt x="166" y="425"/>
                        </a:lnTo>
                        <a:lnTo>
                          <a:pt x="152" y="395"/>
                        </a:lnTo>
                        <a:lnTo>
                          <a:pt x="139" y="363"/>
                        </a:lnTo>
                        <a:lnTo>
                          <a:pt x="125" y="316"/>
                        </a:lnTo>
                        <a:lnTo>
                          <a:pt x="111" y="284"/>
                        </a:lnTo>
                        <a:lnTo>
                          <a:pt x="97" y="252"/>
                        </a:lnTo>
                        <a:lnTo>
                          <a:pt x="83" y="220"/>
                        </a:lnTo>
                        <a:lnTo>
                          <a:pt x="83" y="188"/>
                        </a:lnTo>
                        <a:lnTo>
                          <a:pt x="69" y="158"/>
                        </a:lnTo>
                        <a:lnTo>
                          <a:pt x="56" y="126"/>
                        </a:lnTo>
                        <a:lnTo>
                          <a:pt x="42" y="94"/>
                        </a:lnTo>
                        <a:lnTo>
                          <a:pt x="28" y="63"/>
                        </a:lnTo>
                        <a:lnTo>
                          <a:pt x="14" y="3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7434360" y="2519280"/>
                  <a:ext cx="88920" cy="142920"/>
                  <a:chOff x="7434360" y="2519280"/>
                  <a:chExt cx="88920" cy="14292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>
                    <a:off x="7434360" y="251928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268">
                        <a:moveTo>
                          <a:pt x="166" y="268"/>
                        </a:moveTo>
                        <a:lnTo>
                          <a:pt x="139" y="236"/>
                        </a:lnTo>
                        <a:lnTo>
                          <a:pt x="125" y="189"/>
                        </a:lnTo>
                        <a:lnTo>
                          <a:pt x="111" y="158"/>
                        </a:lnTo>
                        <a:lnTo>
                          <a:pt x="83" y="126"/>
                        </a:lnTo>
                        <a:lnTo>
                          <a:pt x="69" y="94"/>
                        </a:lnTo>
                        <a:lnTo>
                          <a:pt x="56" y="62"/>
                        </a:lnTo>
                        <a:lnTo>
                          <a:pt x="28" y="32"/>
                        </a:lnTo>
                        <a:lnTo>
                          <a:pt x="0" y="0"/>
                        </a:lnTo>
                        <a:lnTo>
                          <a:pt x="166" y="268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7434360" y="251928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268">
                        <a:moveTo>
                          <a:pt x="166" y="268"/>
                        </a:moveTo>
                        <a:lnTo>
                          <a:pt x="139" y="236"/>
                        </a:lnTo>
                        <a:lnTo>
                          <a:pt x="125" y="189"/>
                        </a:lnTo>
                        <a:lnTo>
                          <a:pt x="111" y="158"/>
                        </a:lnTo>
                        <a:lnTo>
                          <a:pt x="83" y="126"/>
                        </a:lnTo>
                        <a:lnTo>
                          <a:pt x="69" y="94"/>
                        </a:lnTo>
                        <a:lnTo>
                          <a:pt x="56" y="62"/>
                        </a:lnTo>
                        <a:lnTo>
                          <a:pt x="28" y="3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7405560" y="2478240"/>
                  <a:ext cx="28800" cy="41040"/>
                  <a:chOff x="7405560" y="2478240"/>
                  <a:chExt cx="28800" cy="4104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>
                    <a:off x="7405560" y="2478240"/>
                    <a:ext cx="28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79">
                        <a:moveTo>
                          <a:pt x="55" y="79"/>
                        </a:moveTo>
                        <a:lnTo>
                          <a:pt x="41" y="47"/>
                        </a:lnTo>
                        <a:lnTo>
                          <a:pt x="14" y="32"/>
                        </a:lnTo>
                        <a:lnTo>
                          <a:pt x="0" y="0"/>
                        </a:lnTo>
                        <a:lnTo>
                          <a:pt x="55" y="79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7405560" y="2478240"/>
                    <a:ext cx="28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79">
                        <a:moveTo>
                          <a:pt x="55" y="79"/>
                        </a:moveTo>
                        <a:lnTo>
                          <a:pt x="41" y="47"/>
                        </a:lnTo>
                        <a:lnTo>
                          <a:pt x="14" y="3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7391520" y="2460600"/>
                  <a:ext cx="14040" cy="17640"/>
                  <a:chOff x="7391520" y="2460600"/>
                  <a:chExt cx="14040" cy="1764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>
                    <a:off x="7391520" y="2460600"/>
                    <a:ext cx="140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32">
                        <a:moveTo>
                          <a:pt x="28" y="32"/>
                        </a:moveTo>
                        <a:lnTo>
                          <a:pt x="14" y="15"/>
                        </a:lnTo>
                        <a:lnTo>
                          <a:pt x="0" y="15"/>
                        </a:lnTo>
                        <a:lnTo>
                          <a:pt x="0" y="0"/>
                        </a:lnTo>
                        <a:lnTo>
                          <a:pt x="28" y="32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7391520" y="2460600"/>
                    <a:ext cx="140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32">
                        <a:moveTo>
                          <a:pt x="28" y="32"/>
                        </a:moveTo>
                        <a:lnTo>
                          <a:pt x="14" y="15"/>
                        </a:lnTo>
                        <a:lnTo>
                          <a:pt x="0" y="1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7478640" y="4689360"/>
                  <a:ext cx="109440" cy="109800"/>
                  <a:chOff x="7478640" y="4689360"/>
                  <a:chExt cx="109440" cy="10980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>
                    <a:off x="7478640" y="4689360"/>
                    <a:ext cx="1094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205">
                        <a:moveTo>
                          <a:pt x="0" y="205"/>
                        </a:moveTo>
                        <a:lnTo>
                          <a:pt x="28" y="190"/>
                        </a:lnTo>
                        <a:lnTo>
                          <a:pt x="56" y="158"/>
                        </a:lnTo>
                        <a:lnTo>
                          <a:pt x="83" y="143"/>
                        </a:lnTo>
                        <a:lnTo>
                          <a:pt x="111" y="111"/>
                        </a:lnTo>
                        <a:lnTo>
                          <a:pt x="139" y="79"/>
                        </a:lnTo>
                        <a:lnTo>
                          <a:pt x="152" y="64"/>
                        </a:lnTo>
                        <a:lnTo>
                          <a:pt x="180" y="32"/>
                        </a:lnTo>
                        <a:lnTo>
                          <a:pt x="208" y="0"/>
                        </a:lnTo>
                        <a:lnTo>
                          <a:pt x="0" y="205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7478640" y="4689360"/>
                    <a:ext cx="1094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205">
                        <a:moveTo>
                          <a:pt x="0" y="205"/>
                        </a:moveTo>
                        <a:lnTo>
                          <a:pt x="28" y="190"/>
                        </a:lnTo>
                        <a:lnTo>
                          <a:pt x="56" y="158"/>
                        </a:lnTo>
                        <a:lnTo>
                          <a:pt x="83" y="143"/>
                        </a:lnTo>
                        <a:lnTo>
                          <a:pt x="111" y="111"/>
                        </a:lnTo>
                        <a:lnTo>
                          <a:pt x="139" y="79"/>
                        </a:lnTo>
                        <a:lnTo>
                          <a:pt x="152" y="64"/>
                        </a:lnTo>
                        <a:lnTo>
                          <a:pt x="180" y="32"/>
                        </a:lnTo>
                        <a:lnTo>
                          <a:pt x="20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7" name=""/>
                <p:cNvGrpSpPr/>
                <p:nvPr/>
              </p:nvGrpSpPr>
              <p:grpSpPr>
                <a:xfrm>
                  <a:off x="7588080" y="4148280"/>
                  <a:ext cx="235080" cy="541080"/>
                  <a:chOff x="7588080" y="4148280"/>
                  <a:chExt cx="235080" cy="54108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>
                    <a:off x="7588080" y="4148280"/>
                    <a:ext cx="235080" cy="54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44" h="1025">
                        <a:moveTo>
                          <a:pt x="0" y="1025"/>
                        </a:moveTo>
                        <a:lnTo>
                          <a:pt x="14" y="993"/>
                        </a:lnTo>
                        <a:lnTo>
                          <a:pt x="41" y="978"/>
                        </a:lnTo>
                        <a:lnTo>
                          <a:pt x="55" y="946"/>
                        </a:lnTo>
                        <a:lnTo>
                          <a:pt x="69" y="914"/>
                        </a:lnTo>
                        <a:lnTo>
                          <a:pt x="83" y="899"/>
                        </a:lnTo>
                        <a:lnTo>
                          <a:pt x="110" y="867"/>
                        </a:lnTo>
                        <a:lnTo>
                          <a:pt x="124" y="836"/>
                        </a:lnTo>
                        <a:lnTo>
                          <a:pt x="139" y="804"/>
                        </a:lnTo>
                        <a:lnTo>
                          <a:pt x="153" y="773"/>
                        </a:lnTo>
                        <a:lnTo>
                          <a:pt x="167" y="741"/>
                        </a:lnTo>
                        <a:lnTo>
                          <a:pt x="195" y="710"/>
                        </a:lnTo>
                        <a:lnTo>
                          <a:pt x="209" y="678"/>
                        </a:lnTo>
                        <a:lnTo>
                          <a:pt x="222" y="646"/>
                        </a:lnTo>
                        <a:lnTo>
                          <a:pt x="236" y="616"/>
                        </a:lnTo>
                        <a:lnTo>
                          <a:pt x="250" y="584"/>
                        </a:lnTo>
                        <a:lnTo>
                          <a:pt x="264" y="552"/>
                        </a:lnTo>
                        <a:lnTo>
                          <a:pt x="278" y="520"/>
                        </a:lnTo>
                        <a:lnTo>
                          <a:pt x="292" y="488"/>
                        </a:lnTo>
                        <a:lnTo>
                          <a:pt x="305" y="458"/>
                        </a:lnTo>
                        <a:lnTo>
                          <a:pt x="319" y="426"/>
                        </a:lnTo>
                        <a:lnTo>
                          <a:pt x="333" y="394"/>
                        </a:lnTo>
                        <a:lnTo>
                          <a:pt x="333" y="347"/>
                        </a:lnTo>
                        <a:lnTo>
                          <a:pt x="347" y="315"/>
                        </a:lnTo>
                        <a:lnTo>
                          <a:pt x="361" y="283"/>
                        </a:lnTo>
                        <a:lnTo>
                          <a:pt x="375" y="252"/>
                        </a:lnTo>
                        <a:lnTo>
                          <a:pt x="388" y="221"/>
                        </a:lnTo>
                        <a:lnTo>
                          <a:pt x="388" y="189"/>
                        </a:lnTo>
                        <a:lnTo>
                          <a:pt x="402" y="158"/>
                        </a:lnTo>
                        <a:lnTo>
                          <a:pt x="416" y="126"/>
                        </a:lnTo>
                        <a:lnTo>
                          <a:pt x="416" y="94"/>
                        </a:lnTo>
                        <a:lnTo>
                          <a:pt x="430" y="63"/>
                        </a:lnTo>
                        <a:lnTo>
                          <a:pt x="430" y="32"/>
                        </a:lnTo>
                        <a:lnTo>
                          <a:pt x="444" y="0"/>
                        </a:lnTo>
                        <a:lnTo>
                          <a:pt x="0" y="1025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7588080" y="4148280"/>
                    <a:ext cx="235080" cy="54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44" h="1025">
                        <a:moveTo>
                          <a:pt x="0" y="1025"/>
                        </a:moveTo>
                        <a:lnTo>
                          <a:pt x="14" y="993"/>
                        </a:lnTo>
                        <a:lnTo>
                          <a:pt x="41" y="978"/>
                        </a:lnTo>
                        <a:lnTo>
                          <a:pt x="55" y="946"/>
                        </a:lnTo>
                        <a:lnTo>
                          <a:pt x="69" y="914"/>
                        </a:lnTo>
                        <a:lnTo>
                          <a:pt x="83" y="899"/>
                        </a:lnTo>
                        <a:lnTo>
                          <a:pt x="110" y="867"/>
                        </a:lnTo>
                        <a:lnTo>
                          <a:pt x="124" y="836"/>
                        </a:lnTo>
                        <a:lnTo>
                          <a:pt x="139" y="804"/>
                        </a:lnTo>
                        <a:lnTo>
                          <a:pt x="153" y="773"/>
                        </a:lnTo>
                        <a:lnTo>
                          <a:pt x="167" y="741"/>
                        </a:lnTo>
                        <a:lnTo>
                          <a:pt x="195" y="710"/>
                        </a:lnTo>
                        <a:lnTo>
                          <a:pt x="209" y="678"/>
                        </a:lnTo>
                        <a:lnTo>
                          <a:pt x="222" y="646"/>
                        </a:lnTo>
                        <a:lnTo>
                          <a:pt x="236" y="616"/>
                        </a:lnTo>
                        <a:lnTo>
                          <a:pt x="250" y="584"/>
                        </a:lnTo>
                        <a:lnTo>
                          <a:pt x="264" y="552"/>
                        </a:lnTo>
                        <a:lnTo>
                          <a:pt x="278" y="520"/>
                        </a:lnTo>
                        <a:lnTo>
                          <a:pt x="292" y="488"/>
                        </a:lnTo>
                        <a:lnTo>
                          <a:pt x="305" y="458"/>
                        </a:lnTo>
                        <a:lnTo>
                          <a:pt x="319" y="426"/>
                        </a:lnTo>
                        <a:lnTo>
                          <a:pt x="333" y="394"/>
                        </a:lnTo>
                        <a:lnTo>
                          <a:pt x="333" y="347"/>
                        </a:lnTo>
                        <a:lnTo>
                          <a:pt x="347" y="315"/>
                        </a:lnTo>
                        <a:lnTo>
                          <a:pt x="361" y="283"/>
                        </a:lnTo>
                        <a:lnTo>
                          <a:pt x="375" y="252"/>
                        </a:lnTo>
                        <a:lnTo>
                          <a:pt x="388" y="221"/>
                        </a:lnTo>
                        <a:lnTo>
                          <a:pt x="388" y="189"/>
                        </a:lnTo>
                        <a:lnTo>
                          <a:pt x="402" y="158"/>
                        </a:lnTo>
                        <a:lnTo>
                          <a:pt x="416" y="126"/>
                        </a:lnTo>
                        <a:lnTo>
                          <a:pt x="416" y="94"/>
                        </a:lnTo>
                        <a:lnTo>
                          <a:pt x="430" y="63"/>
                        </a:lnTo>
                        <a:lnTo>
                          <a:pt x="430" y="32"/>
                        </a:lnTo>
                        <a:lnTo>
                          <a:pt x="444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7823160" y="3879720"/>
                  <a:ext cx="36720" cy="268560"/>
                  <a:chOff x="7823160" y="3879720"/>
                  <a:chExt cx="36720" cy="26856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>
                    <a:off x="7823160" y="3879720"/>
                    <a:ext cx="36720" cy="26856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05">
                        <a:moveTo>
                          <a:pt x="0" y="505"/>
                        </a:moveTo>
                        <a:lnTo>
                          <a:pt x="0" y="473"/>
                        </a:lnTo>
                        <a:lnTo>
                          <a:pt x="14" y="426"/>
                        </a:lnTo>
                        <a:lnTo>
                          <a:pt x="14" y="394"/>
                        </a:lnTo>
                        <a:lnTo>
                          <a:pt x="27" y="347"/>
                        </a:lnTo>
                        <a:lnTo>
                          <a:pt x="27" y="315"/>
                        </a:lnTo>
                        <a:lnTo>
                          <a:pt x="41" y="268"/>
                        </a:lnTo>
                        <a:lnTo>
                          <a:pt x="41" y="236"/>
                        </a:lnTo>
                        <a:lnTo>
                          <a:pt x="55" y="189"/>
                        </a:lnTo>
                        <a:lnTo>
                          <a:pt x="55" y="157"/>
                        </a:lnTo>
                        <a:lnTo>
                          <a:pt x="55" y="110"/>
                        </a:lnTo>
                        <a:lnTo>
                          <a:pt x="69" y="79"/>
                        </a:lnTo>
                        <a:lnTo>
                          <a:pt x="69" y="32"/>
                        </a:lnTo>
                        <a:lnTo>
                          <a:pt x="69" y="0"/>
                        </a:lnTo>
                        <a:lnTo>
                          <a:pt x="0" y="505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7823160" y="3879720"/>
                    <a:ext cx="36720" cy="26856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05">
                        <a:moveTo>
                          <a:pt x="0" y="505"/>
                        </a:moveTo>
                        <a:lnTo>
                          <a:pt x="0" y="473"/>
                        </a:lnTo>
                        <a:lnTo>
                          <a:pt x="14" y="426"/>
                        </a:lnTo>
                        <a:lnTo>
                          <a:pt x="14" y="394"/>
                        </a:lnTo>
                        <a:lnTo>
                          <a:pt x="27" y="347"/>
                        </a:lnTo>
                        <a:lnTo>
                          <a:pt x="27" y="315"/>
                        </a:lnTo>
                        <a:lnTo>
                          <a:pt x="41" y="268"/>
                        </a:lnTo>
                        <a:lnTo>
                          <a:pt x="41" y="236"/>
                        </a:lnTo>
                        <a:lnTo>
                          <a:pt x="55" y="189"/>
                        </a:lnTo>
                        <a:lnTo>
                          <a:pt x="55" y="157"/>
                        </a:lnTo>
                        <a:lnTo>
                          <a:pt x="55" y="110"/>
                        </a:lnTo>
                        <a:lnTo>
                          <a:pt x="69" y="79"/>
                        </a:lnTo>
                        <a:lnTo>
                          <a:pt x="69" y="32"/>
                        </a:lnTo>
                        <a:lnTo>
                          <a:pt x="6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7859880" y="3354480"/>
                  <a:ext cx="7920" cy="525240"/>
                  <a:chOff x="7859880" y="3354480"/>
                  <a:chExt cx="7920" cy="52524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>
                    <a:off x="7859880" y="3354480"/>
                    <a:ext cx="7920" cy="525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994">
                        <a:moveTo>
                          <a:pt x="0" y="994"/>
                        </a:moveTo>
                        <a:lnTo>
                          <a:pt x="0" y="962"/>
                        </a:lnTo>
                        <a:lnTo>
                          <a:pt x="0" y="931"/>
                        </a:lnTo>
                        <a:lnTo>
                          <a:pt x="14" y="883"/>
                        </a:lnTo>
                        <a:lnTo>
                          <a:pt x="14" y="853"/>
                        </a:lnTo>
                        <a:lnTo>
                          <a:pt x="14" y="821"/>
                        </a:lnTo>
                        <a:lnTo>
                          <a:pt x="14" y="789"/>
                        </a:lnTo>
                        <a:lnTo>
                          <a:pt x="14" y="742"/>
                        </a:lnTo>
                        <a:lnTo>
                          <a:pt x="14" y="710"/>
                        </a:lnTo>
                        <a:lnTo>
                          <a:pt x="14" y="678"/>
                        </a:lnTo>
                        <a:lnTo>
                          <a:pt x="14" y="646"/>
                        </a:lnTo>
                        <a:lnTo>
                          <a:pt x="14" y="599"/>
                        </a:lnTo>
                        <a:lnTo>
                          <a:pt x="14" y="568"/>
                        </a:lnTo>
                        <a:lnTo>
                          <a:pt x="14" y="537"/>
                        </a:lnTo>
                        <a:lnTo>
                          <a:pt x="14" y="505"/>
                        </a:lnTo>
                        <a:lnTo>
                          <a:pt x="14" y="457"/>
                        </a:lnTo>
                        <a:lnTo>
                          <a:pt x="14" y="426"/>
                        </a:lnTo>
                        <a:lnTo>
                          <a:pt x="14" y="395"/>
                        </a:lnTo>
                        <a:lnTo>
                          <a:pt x="14" y="363"/>
                        </a:lnTo>
                        <a:lnTo>
                          <a:pt x="14" y="316"/>
                        </a:lnTo>
                        <a:lnTo>
                          <a:pt x="14" y="284"/>
                        </a:lnTo>
                        <a:lnTo>
                          <a:pt x="14" y="252"/>
                        </a:lnTo>
                        <a:lnTo>
                          <a:pt x="0" y="205"/>
                        </a:lnTo>
                        <a:lnTo>
                          <a:pt x="0" y="173"/>
                        </a:lnTo>
                        <a:lnTo>
                          <a:pt x="0" y="141"/>
                        </a:lnTo>
                        <a:lnTo>
                          <a:pt x="0" y="111"/>
                        </a:lnTo>
                        <a:lnTo>
                          <a:pt x="0" y="63"/>
                        </a:lnTo>
                        <a:lnTo>
                          <a:pt x="0" y="32"/>
                        </a:lnTo>
                        <a:lnTo>
                          <a:pt x="0" y="0"/>
                        </a:lnTo>
                        <a:lnTo>
                          <a:pt x="0" y="994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859880" y="3354480"/>
                    <a:ext cx="7920" cy="525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994">
                        <a:moveTo>
                          <a:pt x="0" y="994"/>
                        </a:moveTo>
                        <a:lnTo>
                          <a:pt x="0" y="962"/>
                        </a:lnTo>
                        <a:lnTo>
                          <a:pt x="0" y="931"/>
                        </a:lnTo>
                        <a:lnTo>
                          <a:pt x="14" y="883"/>
                        </a:lnTo>
                        <a:lnTo>
                          <a:pt x="14" y="853"/>
                        </a:lnTo>
                        <a:lnTo>
                          <a:pt x="14" y="821"/>
                        </a:lnTo>
                        <a:lnTo>
                          <a:pt x="14" y="789"/>
                        </a:lnTo>
                        <a:lnTo>
                          <a:pt x="14" y="742"/>
                        </a:lnTo>
                        <a:lnTo>
                          <a:pt x="14" y="710"/>
                        </a:lnTo>
                        <a:lnTo>
                          <a:pt x="14" y="678"/>
                        </a:lnTo>
                        <a:lnTo>
                          <a:pt x="14" y="646"/>
                        </a:lnTo>
                        <a:lnTo>
                          <a:pt x="14" y="599"/>
                        </a:lnTo>
                        <a:lnTo>
                          <a:pt x="14" y="568"/>
                        </a:lnTo>
                        <a:lnTo>
                          <a:pt x="14" y="537"/>
                        </a:lnTo>
                        <a:lnTo>
                          <a:pt x="14" y="505"/>
                        </a:lnTo>
                        <a:lnTo>
                          <a:pt x="14" y="457"/>
                        </a:lnTo>
                        <a:lnTo>
                          <a:pt x="14" y="426"/>
                        </a:lnTo>
                        <a:lnTo>
                          <a:pt x="14" y="395"/>
                        </a:lnTo>
                        <a:lnTo>
                          <a:pt x="14" y="363"/>
                        </a:lnTo>
                        <a:lnTo>
                          <a:pt x="14" y="316"/>
                        </a:lnTo>
                        <a:lnTo>
                          <a:pt x="14" y="284"/>
                        </a:lnTo>
                        <a:lnTo>
                          <a:pt x="14" y="252"/>
                        </a:lnTo>
                        <a:lnTo>
                          <a:pt x="0" y="205"/>
                        </a:lnTo>
                        <a:lnTo>
                          <a:pt x="0" y="173"/>
                        </a:lnTo>
                        <a:lnTo>
                          <a:pt x="0" y="141"/>
                        </a:lnTo>
                        <a:lnTo>
                          <a:pt x="0" y="111"/>
                        </a:lnTo>
                        <a:lnTo>
                          <a:pt x="0" y="63"/>
                        </a:lnTo>
                        <a:lnTo>
                          <a:pt x="0" y="3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7831080" y="3154320"/>
                  <a:ext cx="28800" cy="200160"/>
                  <a:chOff x="7831080" y="3154320"/>
                  <a:chExt cx="28800" cy="20016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>
                    <a:off x="7831080" y="3154320"/>
                    <a:ext cx="28800" cy="200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379">
                        <a:moveTo>
                          <a:pt x="55" y="379"/>
                        </a:moveTo>
                        <a:lnTo>
                          <a:pt x="41" y="347"/>
                        </a:lnTo>
                        <a:lnTo>
                          <a:pt x="41" y="300"/>
                        </a:lnTo>
                        <a:lnTo>
                          <a:pt x="41" y="269"/>
                        </a:lnTo>
                        <a:lnTo>
                          <a:pt x="27" y="222"/>
                        </a:lnTo>
                        <a:lnTo>
                          <a:pt x="27" y="190"/>
                        </a:lnTo>
                        <a:lnTo>
                          <a:pt x="27" y="143"/>
                        </a:lnTo>
                        <a:lnTo>
                          <a:pt x="13" y="111"/>
                        </a:lnTo>
                        <a:lnTo>
                          <a:pt x="13" y="64"/>
                        </a:lnTo>
                        <a:lnTo>
                          <a:pt x="0" y="32"/>
                        </a:lnTo>
                        <a:lnTo>
                          <a:pt x="0" y="0"/>
                        </a:lnTo>
                        <a:lnTo>
                          <a:pt x="55" y="379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7831080" y="3154320"/>
                    <a:ext cx="28800" cy="200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379">
                        <a:moveTo>
                          <a:pt x="55" y="379"/>
                        </a:moveTo>
                        <a:lnTo>
                          <a:pt x="41" y="347"/>
                        </a:lnTo>
                        <a:lnTo>
                          <a:pt x="41" y="300"/>
                        </a:lnTo>
                        <a:lnTo>
                          <a:pt x="41" y="269"/>
                        </a:lnTo>
                        <a:lnTo>
                          <a:pt x="27" y="222"/>
                        </a:lnTo>
                        <a:lnTo>
                          <a:pt x="27" y="190"/>
                        </a:lnTo>
                        <a:lnTo>
                          <a:pt x="27" y="143"/>
                        </a:lnTo>
                        <a:lnTo>
                          <a:pt x="13" y="111"/>
                        </a:lnTo>
                        <a:lnTo>
                          <a:pt x="13" y="64"/>
                        </a:lnTo>
                        <a:lnTo>
                          <a:pt x="0" y="3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9" name=""/>
                <p:cNvGrpSpPr/>
                <p:nvPr/>
              </p:nvGrpSpPr>
              <p:grpSpPr>
                <a:xfrm>
                  <a:off x="7632720" y="2644920"/>
                  <a:ext cx="198360" cy="509400"/>
                  <a:chOff x="7632720" y="2644920"/>
                  <a:chExt cx="198360" cy="50940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>
                    <a:off x="7632720" y="2644920"/>
                    <a:ext cx="198360" cy="509400"/>
                  </a:xfrm>
                  <a:custGeom>
                    <a:avLst/>
                    <a:gdLst/>
                    <a:ahLst/>
                    <a:rect l="l" t="t" r="r" b="b"/>
                    <a:pathLst>
                      <a:path w="375" h="962">
                        <a:moveTo>
                          <a:pt x="375" y="962"/>
                        </a:moveTo>
                        <a:lnTo>
                          <a:pt x="361" y="915"/>
                        </a:lnTo>
                        <a:lnTo>
                          <a:pt x="347" y="883"/>
                        </a:lnTo>
                        <a:lnTo>
                          <a:pt x="347" y="836"/>
                        </a:lnTo>
                        <a:lnTo>
                          <a:pt x="333" y="804"/>
                        </a:lnTo>
                        <a:lnTo>
                          <a:pt x="333" y="773"/>
                        </a:lnTo>
                        <a:lnTo>
                          <a:pt x="319" y="742"/>
                        </a:lnTo>
                        <a:lnTo>
                          <a:pt x="305" y="694"/>
                        </a:lnTo>
                        <a:lnTo>
                          <a:pt x="292" y="663"/>
                        </a:lnTo>
                        <a:lnTo>
                          <a:pt x="292" y="631"/>
                        </a:lnTo>
                        <a:lnTo>
                          <a:pt x="278" y="600"/>
                        </a:lnTo>
                        <a:lnTo>
                          <a:pt x="264" y="568"/>
                        </a:lnTo>
                        <a:lnTo>
                          <a:pt x="250" y="536"/>
                        </a:lnTo>
                        <a:lnTo>
                          <a:pt x="236" y="505"/>
                        </a:lnTo>
                        <a:lnTo>
                          <a:pt x="222" y="474"/>
                        </a:lnTo>
                        <a:lnTo>
                          <a:pt x="222" y="427"/>
                        </a:lnTo>
                        <a:lnTo>
                          <a:pt x="209" y="395"/>
                        </a:lnTo>
                        <a:lnTo>
                          <a:pt x="195" y="363"/>
                        </a:lnTo>
                        <a:lnTo>
                          <a:pt x="181" y="331"/>
                        </a:lnTo>
                        <a:lnTo>
                          <a:pt x="167" y="299"/>
                        </a:lnTo>
                        <a:lnTo>
                          <a:pt x="139" y="269"/>
                        </a:lnTo>
                        <a:lnTo>
                          <a:pt x="126" y="237"/>
                        </a:lnTo>
                        <a:lnTo>
                          <a:pt x="112" y="205"/>
                        </a:lnTo>
                        <a:lnTo>
                          <a:pt x="98" y="173"/>
                        </a:lnTo>
                        <a:lnTo>
                          <a:pt x="84" y="142"/>
                        </a:lnTo>
                        <a:lnTo>
                          <a:pt x="70" y="111"/>
                        </a:lnTo>
                        <a:lnTo>
                          <a:pt x="56" y="95"/>
                        </a:lnTo>
                        <a:lnTo>
                          <a:pt x="27" y="63"/>
                        </a:lnTo>
                        <a:lnTo>
                          <a:pt x="14" y="32"/>
                        </a:lnTo>
                        <a:lnTo>
                          <a:pt x="0" y="0"/>
                        </a:lnTo>
                        <a:lnTo>
                          <a:pt x="375" y="962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7632720" y="2644920"/>
                    <a:ext cx="198360" cy="509400"/>
                  </a:xfrm>
                  <a:custGeom>
                    <a:avLst/>
                    <a:gdLst/>
                    <a:ahLst/>
                    <a:rect l="l" t="t" r="r" b="b"/>
                    <a:pathLst>
                      <a:path w="375" h="962">
                        <a:moveTo>
                          <a:pt x="375" y="962"/>
                        </a:moveTo>
                        <a:lnTo>
                          <a:pt x="361" y="915"/>
                        </a:lnTo>
                        <a:lnTo>
                          <a:pt x="347" y="883"/>
                        </a:lnTo>
                        <a:lnTo>
                          <a:pt x="347" y="836"/>
                        </a:lnTo>
                        <a:lnTo>
                          <a:pt x="333" y="804"/>
                        </a:lnTo>
                        <a:lnTo>
                          <a:pt x="333" y="773"/>
                        </a:lnTo>
                        <a:lnTo>
                          <a:pt x="319" y="742"/>
                        </a:lnTo>
                        <a:lnTo>
                          <a:pt x="305" y="694"/>
                        </a:lnTo>
                        <a:lnTo>
                          <a:pt x="292" y="663"/>
                        </a:lnTo>
                        <a:lnTo>
                          <a:pt x="292" y="631"/>
                        </a:lnTo>
                        <a:lnTo>
                          <a:pt x="278" y="600"/>
                        </a:lnTo>
                        <a:lnTo>
                          <a:pt x="264" y="568"/>
                        </a:lnTo>
                        <a:lnTo>
                          <a:pt x="250" y="536"/>
                        </a:lnTo>
                        <a:lnTo>
                          <a:pt x="236" y="505"/>
                        </a:lnTo>
                        <a:lnTo>
                          <a:pt x="222" y="474"/>
                        </a:lnTo>
                        <a:lnTo>
                          <a:pt x="222" y="427"/>
                        </a:lnTo>
                        <a:lnTo>
                          <a:pt x="209" y="395"/>
                        </a:lnTo>
                        <a:lnTo>
                          <a:pt x="195" y="363"/>
                        </a:lnTo>
                        <a:lnTo>
                          <a:pt x="181" y="331"/>
                        </a:lnTo>
                        <a:lnTo>
                          <a:pt x="167" y="299"/>
                        </a:lnTo>
                        <a:lnTo>
                          <a:pt x="139" y="269"/>
                        </a:lnTo>
                        <a:lnTo>
                          <a:pt x="126" y="237"/>
                        </a:lnTo>
                        <a:lnTo>
                          <a:pt x="112" y="205"/>
                        </a:lnTo>
                        <a:lnTo>
                          <a:pt x="98" y="173"/>
                        </a:lnTo>
                        <a:lnTo>
                          <a:pt x="84" y="142"/>
                        </a:lnTo>
                        <a:lnTo>
                          <a:pt x="70" y="111"/>
                        </a:lnTo>
                        <a:lnTo>
                          <a:pt x="56" y="95"/>
                        </a:lnTo>
                        <a:lnTo>
                          <a:pt x="27" y="63"/>
                        </a:lnTo>
                        <a:lnTo>
                          <a:pt x="14" y="3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2" name=""/>
                <p:cNvGrpSpPr/>
                <p:nvPr/>
              </p:nvGrpSpPr>
              <p:grpSpPr>
                <a:xfrm>
                  <a:off x="7537320" y="2519280"/>
                  <a:ext cx="95400" cy="125640"/>
                  <a:chOff x="7537320" y="2519280"/>
                  <a:chExt cx="95400" cy="12564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>
                    <a:off x="7537320" y="2519280"/>
                    <a:ext cx="9540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236">
                        <a:moveTo>
                          <a:pt x="180" y="236"/>
                        </a:moveTo>
                        <a:lnTo>
                          <a:pt x="166" y="205"/>
                        </a:lnTo>
                        <a:lnTo>
                          <a:pt x="138" y="173"/>
                        </a:lnTo>
                        <a:lnTo>
                          <a:pt x="124" y="141"/>
                        </a:lnTo>
                        <a:lnTo>
                          <a:pt x="97" y="111"/>
                        </a:lnTo>
                        <a:lnTo>
                          <a:pt x="69" y="79"/>
                        </a:lnTo>
                        <a:lnTo>
                          <a:pt x="55" y="62"/>
                        </a:lnTo>
                        <a:lnTo>
                          <a:pt x="28" y="32"/>
                        </a:lnTo>
                        <a:lnTo>
                          <a:pt x="0" y="0"/>
                        </a:lnTo>
                        <a:lnTo>
                          <a:pt x="180" y="236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7537320" y="2519280"/>
                    <a:ext cx="9540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236">
                        <a:moveTo>
                          <a:pt x="180" y="236"/>
                        </a:moveTo>
                        <a:lnTo>
                          <a:pt x="166" y="205"/>
                        </a:lnTo>
                        <a:lnTo>
                          <a:pt x="138" y="173"/>
                        </a:lnTo>
                        <a:lnTo>
                          <a:pt x="124" y="141"/>
                        </a:lnTo>
                        <a:lnTo>
                          <a:pt x="97" y="111"/>
                        </a:lnTo>
                        <a:lnTo>
                          <a:pt x="69" y="79"/>
                        </a:lnTo>
                        <a:lnTo>
                          <a:pt x="55" y="62"/>
                        </a:lnTo>
                        <a:lnTo>
                          <a:pt x="28" y="3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7493040" y="2478240"/>
                  <a:ext cx="44280" cy="41040"/>
                  <a:chOff x="7493040" y="2478240"/>
                  <a:chExt cx="44280" cy="4104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>
                    <a:off x="7493040" y="2478240"/>
                    <a:ext cx="442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79">
                        <a:moveTo>
                          <a:pt x="83" y="79"/>
                        </a:moveTo>
                        <a:lnTo>
                          <a:pt x="55" y="47"/>
                        </a:lnTo>
                        <a:lnTo>
                          <a:pt x="28" y="32"/>
                        </a:lnTo>
                        <a:lnTo>
                          <a:pt x="0" y="0"/>
                        </a:lnTo>
                        <a:lnTo>
                          <a:pt x="83" y="79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7493040" y="2478240"/>
                    <a:ext cx="442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79">
                        <a:moveTo>
                          <a:pt x="83" y="79"/>
                        </a:moveTo>
                        <a:lnTo>
                          <a:pt x="55" y="47"/>
                        </a:lnTo>
                        <a:lnTo>
                          <a:pt x="28" y="3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8" name=""/>
                <p:cNvGrpSpPr/>
                <p:nvPr/>
              </p:nvGrpSpPr>
              <p:grpSpPr>
                <a:xfrm>
                  <a:off x="7478640" y="2460600"/>
                  <a:ext cx="14400" cy="17640"/>
                  <a:chOff x="7478640" y="2460600"/>
                  <a:chExt cx="14400" cy="1764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>
                    <a:off x="7478640" y="2460600"/>
                    <a:ext cx="144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32">
                        <a:moveTo>
                          <a:pt x="28" y="32"/>
                        </a:moveTo>
                        <a:lnTo>
                          <a:pt x="14" y="15"/>
                        </a:lnTo>
                        <a:lnTo>
                          <a:pt x="0" y="15"/>
                        </a:lnTo>
                        <a:lnTo>
                          <a:pt x="0" y="0"/>
                        </a:lnTo>
                        <a:lnTo>
                          <a:pt x="28" y="32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7478640" y="2460600"/>
                    <a:ext cx="144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32">
                        <a:moveTo>
                          <a:pt x="28" y="32"/>
                        </a:moveTo>
                        <a:lnTo>
                          <a:pt x="14" y="15"/>
                        </a:lnTo>
                        <a:lnTo>
                          <a:pt x="0" y="1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1" name=""/>
                <p:cNvGrpSpPr/>
                <p:nvPr/>
              </p:nvGrpSpPr>
              <p:grpSpPr>
                <a:xfrm>
                  <a:off x="7566120" y="4022640"/>
                  <a:ext cx="439560" cy="776520"/>
                  <a:chOff x="7566120" y="4022640"/>
                  <a:chExt cx="439560" cy="776520"/>
                </a:xfrm>
              </p:grpSpPr>
              <p:sp>
                <p:nvSpPr>
                  <p:cNvPr id="492" name=""/>
                  <p:cNvSpPr/>
                  <p:nvPr/>
                </p:nvSpPr>
                <p:spPr>
                  <a:xfrm>
                    <a:off x="7566120" y="4022640"/>
                    <a:ext cx="439560" cy="776520"/>
                  </a:xfrm>
                  <a:custGeom>
                    <a:avLst/>
                    <a:gdLst/>
                    <a:ahLst/>
                    <a:rect l="l" t="t" r="r" b="b"/>
                    <a:pathLst>
                      <a:path w="831" h="1467">
                        <a:moveTo>
                          <a:pt x="0" y="1467"/>
                        </a:moveTo>
                        <a:lnTo>
                          <a:pt x="28" y="1452"/>
                        </a:lnTo>
                        <a:lnTo>
                          <a:pt x="56" y="1435"/>
                        </a:lnTo>
                        <a:lnTo>
                          <a:pt x="69" y="1420"/>
                        </a:lnTo>
                        <a:lnTo>
                          <a:pt x="97" y="1405"/>
                        </a:lnTo>
                        <a:lnTo>
                          <a:pt x="125" y="1388"/>
                        </a:lnTo>
                        <a:lnTo>
                          <a:pt x="139" y="1356"/>
                        </a:lnTo>
                        <a:lnTo>
                          <a:pt x="166" y="1341"/>
                        </a:lnTo>
                        <a:lnTo>
                          <a:pt x="195" y="1326"/>
                        </a:lnTo>
                        <a:lnTo>
                          <a:pt x="209" y="1294"/>
                        </a:lnTo>
                        <a:lnTo>
                          <a:pt x="237" y="1277"/>
                        </a:lnTo>
                        <a:lnTo>
                          <a:pt x="251" y="1247"/>
                        </a:lnTo>
                        <a:lnTo>
                          <a:pt x="278" y="1230"/>
                        </a:lnTo>
                        <a:lnTo>
                          <a:pt x="292" y="1198"/>
                        </a:lnTo>
                        <a:lnTo>
                          <a:pt x="320" y="1183"/>
                        </a:lnTo>
                        <a:lnTo>
                          <a:pt x="334" y="1151"/>
                        </a:lnTo>
                        <a:lnTo>
                          <a:pt x="361" y="1136"/>
                        </a:lnTo>
                        <a:lnTo>
                          <a:pt x="375" y="1104"/>
                        </a:lnTo>
                        <a:lnTo>
                          <a:pt x="403" y="1073"/>
                        </a:lnTo>
                        <a:lnTo>
                          <a:pt x="417" y="1057"/>
                        </a:lnTo>
                        <a:lnTo>
                          <a:pt x="430" y="1025"/>
                        </a:lnTo>
                        <a:lnTo>
                          <a:pt x="458" y="994"/>
                        </a:lnTo>
                        <a:lnTo>
                          <a:pt x="472" y="962"/>
                        </a:lnTo>
                        <a:lnTo>
                          <a:pt x="486" y="931"/>
                        </a:lnTo>
                        <a:lnTo>
                          <a:pt x="500" y="915"/>
                        </a:lnTo>
                        <a:lnTo>
                          <a:pt x="513" y="883"/>
                        </a:lnTo>
                        <a:lnTo>
                          <a:pt x="541" y="853"/>
                        </a:lnTo>
                        <a:lnTo>
                          <a:pt x="555" y="821"/>
                        </a:lnTo>
                        <a:lnTo>
                          <a:pt x="569" y="789"/>
                        </a:lnTo>
                        <a:lnTo>
                          <a:pt x="582" y="757"/>
                        </a:lnTo>
                        <a:lnTo>
                          <a:pt x="596" y="725"/>
                        </a:lnTo>
                        <a:lnTo>
                          <a:pt x="610" y="695"/>
                        </a:lnTo>
                        <a:lnTo>
                          <a:pt x="624" y="663"/>
                        </a:lnTo>
                        <a:lnTo>
                          <a:pt x="638" y="631"/>
                        </a:lnTo>
                        <a:lnTo>
                          <a:pt x="652" y="599"/>
                        </a:lnTo>
                        <a:lnTo>
                          <a:pt x="665" y="567"/>
                        </a:lnTo>
                        <a:lnTo>
                          <a:pt x="679" y="537"/>
                        </a:lnTo>
                        <a:lnTo>
                          <a:pt x="693" y="505"/>
                        </a:lnTo>
                        <a:lnTo>
                          <a:pt x="707" y="473"/>
                        </a:lnTo>
                        <a:lnTo>
                          <a:pt x="721" y="442"/>
                        </a:lnTo>
                        <a:lnTo>
                          <a:pt x="721" y="410"/>
                        </a:lnTo>
                        <a:lnTo>
                          <a:pt x="735" y="379"/>
                        </a:lnTo>
                        <a:lnTo>
                          <a:pt x="748" y="347"/>
                        </a:lnTo>
                        <a:lnTo>
                          <a:pt x="762" y="316"/>
                        </a:lnTo>
                        <a:lnTo>
                          <a:pt x="762" y="284"/>
                        </a:lnTo>
                        <a:lnTo>
                          <a:pt x="776" y="252"/>
                        </a:lnTo>
                        <a:lnTo>
                          <a:pt x="790" y="222"/>
                        </a:lnTo>
                        <a:lnTo>
                          <a:pt x="790" y="190"/>
                        </a:lnTo>
                        <a:lnTo>
                          <a:pt x="804" y="158"/>
                        </a:lnTo>
                        <a:lnTo>
                          <a:pt x="804" y="126"/>
                        </a:lnTo>
                        <a:lnTo>
                          <a:pt x="818" y="94"/>
                        </a:lnTo>
                        <a:lnTo>
                          <a:pt x="818" y="64"/>
                        </a:lnTo>
                        <a:lnTo>
                          <a:pt x="831" y="32"/>
                        </a:lnTo>
                        <a:lnTo>
                          <a:pt x="831" y="0"/>
                        </a:lnTo>
                        <a:lnTo>
                          <a:pt x="0" y="1467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7566120" y="4022640"/>
                    <a:ext cx="439560" cy="776520"/>
                  </a:xfrm>
                  <a:custGeom>
                    <a:avLst/>
                    <a:gdLst/>
                    <a:ahLst/>
                    <a:rect l="l" t="t" r="r" b="b"/>
                    <a:pathLst>
                      <a:path w="831" h="1467">
                        <a:moveTo>
                          <a:pt x="0" y="1467"/>
                        </a:moveTo>
                        <a:lnTo>
                          <a:pt x="28" y="1452"/>
                        </a:lnTo>
                        <a:lnTo>
                          <a:pt x="56" y="1435"/>
                        </a:lnTo>
                        <a:lnTo>
                          <a:pt x="69" y="1420"/>
                        </a:lnTo>
                        <a:lnTo>
                          <a:pt x="97" y="1405"/>
                        </a:lnTo>
                        <a:lnTo>
                          <a:pt x="125" y="1388"/>
                        </a:lnTo>
                        <a:lnTo>
                          <a:pt x="139" y="1356"/>
                        </a:lnTo>
                        <a:lnTo>
                          <a:pt x="166" y="1341"/>
                        </a:lnTo>
                        <a:lnTo>
                          <a:pt x="195" y="1326"/>
                        </a:lnTo>
                        <a:lnTo>
                          <a:pt x="209" y="1294"/>
                        </a:lnTo>
                        <a:lnTo>
                          <a:pt x="237" y="1277"/>
                        </a:lnTo>
                        <a:lnTo>
                          <a:pt x="251" y="1247"/>
                        </a:lnTo>
                        <a:lnTo>
                          <a:pt x="278" y="1230"/>
                        </a:lnTo>
                        <a:lnTo>
                          <a:pt x="292" y="1198"/>
                        </a:lnTo>
                        <a:lnTo>
                          <a:pt x="320" y="1183"/>
                        </a:lnTo>
                        <a:lnTo>
                          <a:pt x="334" y="1151"/>
                        </a:lnTo>
                        <a:lnTo>
                          <a:pt x="361" y="1136"/>
                        </a:lnTo>
                        <a:lnTo>
                          <a:pt x="375" y="1104"/>
                        </a:lnTo>
                        <a:lnTo>
                          <a:pt x="403" y="1073"/>
                        </a:lnTo>
                        <a:lnTo>
                          <a:pt x="417" y="1057"/>
                        </a:lnTo>
                        <a:lnTo>
                          <a:pt x="430" y="1025"/>
                        </a:lnTo>
                        <a:lnTo>
                          <a:pt x="458" y="994"/>
                        </a:lnTo>
                        <a:lnTo>
                          <a:pt x="472" y="962"/>
                        </a:lnTo>
                        <a:lnTo>
                          <a:pt x="486" y="931"/>
                        </a:lnTo>
                        <a:lnTo>
                          <a:pt x="500" y="915"/>
                        </a:lnTo>
                        <a:lnTo>
                          <a:pt x="513" y="883"/>
                        </a:lnTo>
                        <a:lnTo>
                          <a:pt x="541" y="853"/>
                        </a:lnTo>
                        <a:lnTo>
                          <a:pt x="555" y="821"/>
                        </a:lnTo>
                        <a:lnTo>
                          <a:pt x="569" y="789"/>
                        </a:lnTo>
                        <a:lnTo>
                          <a:pt x="582" y="757"/>
                        </a:lnTo>
                        <a:lnTo>
                          <a:pt x="596" y="725"/>
                        </a:lnTo>
                        <a:lnTo>
                          <a:pt x="610" y="695"/>
                        </a:lnTo>
                        <a:lnTo>
                          <a:pt x="624" y="663"/>
                        </a:lnTo>
                        <a:lnTo>
                          <a:pt x="638" y="631"/>
                        </a:lnTo>
                        <a:lnTo>
                          <a:pt x="652" y="599"/>
                        </a:lnTo>
                        <a:lnTo>
                          <a:pt x="665" y="567"/>
                        </a:lnTo>
                        <a:lnTo>
                          <a:pt x="679" y="537"/>
                        </a:lnTo>
                        <a:lnTo>
                          <a:pt x="693" y="505"/>
                        </a:lnTo>
                        <a:lnTo>
                          <a:pt x="707" y="473"/>
                        </a:lnTo>
                        <a:lnTo>
                          <a:pt x="721" y="442"/>
                        </a:lnTo>
                        <a:lnTo>
                          <a:pt x="721" y="410"/>
                        </a:lnTo>
                        <a:lnTo>
                          <a:pt x="735" y="379"/>
                        </a:lnTo>
                        <a:lnTo>
                          <a:pt x="748" y="347"/>
                        </a:lnTo>
                        <a:lnTo>
                          <a:pt x="762" y="316"/>
                        </a:lnTo>
                        <a:lnTo>
                          <a:pt x="762" y="284"/>
                        </a:lnTo>
                        <a:lnTo>
                          <a:pt x="776" y="252"/>
                        </a:lnTo>
                        <a:lnTo>
                          <a:pt x="790" y="222"/>
                        </a:lnTo>
                        <a:lnTo>
                          <a:pt x="790" y="190"/>
                        </a:lnTo>
                        <a:lnTo>
                          <a:pt x="804" y="158"/>
                        </a:lnTo>
                        <a:lnTo>
                          <a:pt x="804" y="126"/>
                        </a:lnTo>
                        <a:lnTo>
                          <a:pt x="818" y="94"/>
                        </a:lnTo>
                        <a:lnTo>
                          <a:pt x="818" y="64"/>
                        </a:lnTo>
                        <a:lnTo>
                          <a:pt x="831" y="32"/>
                        </a:lnTo>
                        <a:lnTo>
                          <a:pt x="83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4" name=""/>
                <p:cNvGrpSpPr/>
                <p:nvPr/>
              </p:nvGrpSpPr>
              <p:grpSpPr>
                <a:xfrm>
                  <a:off x="8005680" y="3479760"/>
                  <a:ext cx="30240" cy="542880"/>
                  <a:chOff x="8005680" y="3479760"/>
                  <a:chExt cx="30240" cy="542880"/>
                </a:xfrm>
              </p:grpSpPr>
              <p:sp>
                <p:nvSpPr>
                  <p:cNvPr id="495" name=""/>
                  <p:cNvSpPr/>
                  <p:nvPr/>
                </p:nvSpPr>
                <p:spPr>
                  <a:xfrm>
                    <a:off x="8005680" y="3479760"/>
                    <a:ext cx="30240" cy="5428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1025">
                        <a:moveTo>
                          <a:pt x="0" y="1025"/>
                        </a:moveTo>
                        <a:lnTo>
                          <a:pt x="14" y="993"/>
                        </a:lnTo>
                        <a:lnTo>
                          <a:pt x="14" y="962"/>
                        </a:lnTo>
                        <a:lnTo>
                          <a:pt x="28" y="914"/>
                        </a:lnTo>
                        <a:lnTo>
                          <a:pt x="28" y="883"/>
                        </a:lnTo>
                        <a:lnTo>
                          <a:pt x="28" y="852"/>
                        </a:lnTo>
                        <a:lnTo>
                          <a:pt x="28" y="820"/>
                        </a:lnTo>
                        <a:lnTo>
                          <a:pt x="42" y="773"/>
                        </a:lnTo>
                        <a:lnTo>
                          <a:pt x="42" y="742"/>
                        </a:lnTo>
                        <a:lnTo>
                          <a:pt x="42" y="710"/>
                        </a:lnTo>
                        <a:lnTo>
                          <a:pt x="42" y="678"/>
                        </a:lnTo>
                        <a:lnTo>
                          <a:pt x="42" y="631"/>
                        </a:lnTo>
                        <a:lnTo>
                          <a:pt x="56" y="599"/>
                        </a:lnTo>
                        <a:lnTo>
                          <a:pt x="56" y="567"/>
                        </a:lnTo>
                        <a:lnTo>
                          <a:pt x="56" y="537"/>
                        </a:lnTo>
                        <a:lnTo>
                          <a:pt x="56" y="488"/>
                        </a:lnTo>
                        <a:lnTo>
                          <a:pt x="56" y="458"/>
                        </a:lnTo>
                        <a:lnTo>
                          <a:pt x="56" y="426"/>
                        </a:lnTo>
                        <a:lnTo>
                          <a:pt x="56" y="394"/>
                        </a:lnTo>
                        <a:lnTo>
                          <a:pt x="56" y="347"/>
                        </a:lnTo>
                        <a:lnTo>
                          <a:pt x="56" y="315"/>
                        </a:lnTo>
                        <a:lnTo>
                          <a:pt x="56" y="284"/>
                        </a:lnTo>
                        <a:lnTo>
                          <a:pt x="56" y="236"/>
                        </a:lnTo>
                        <a:lnTo>
                          <a:pt x="56" y="205"/>
                        </a:lnTo>
                        <a:lnTo>
                          <a:pt x="56" y="173"/>
                        </a:lnTo>
                        <a:lnTo>
                          <a:pt x="56" y="141"/>
                        </a:lnTo>
                        <a:lnTo>
                          <a:pt x="56" y="94"/>
                        </a:lnTo>
                        <a:lnTo>
                          <a:pt x="56" y="62"/>
                        </a:lnTo>
                        <a:lnTo>
                          <a:pt x="56" y="32"/>
                        </a:lnTo>
                        <a:lnTo>
                          <a:pt x="56" y="0"/>
                        </a:lnTo>
                        <a:lnTo>
                          <a:pt x="0" y="1025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8005680" y="3479760"/>
                    <a:ext cx="30240" cy="5428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1025">
                        <a:moveTo>
                          <a:pt x="0" y="1025"/>
                        </a:moveTo>
                        <a:lnTo>
                          <a:pt x="14" y="993"/>
                        </a:lnTo>
                        <a:lnTo>
                          <a:pt x="14" y="962"/>
                        </a:lnTo>
                        <a:lnTo>
                          <a:pt x="28" y="914"/>
                        </a:lnTo>
                        <a:lnTo>
                          <a:pt x="28" y="883"/>
                        </a:lnTo>
                        <a:lnTo>
                          <a:pt x="28" y="852"/>
                        </a:lnTo>
                        <a:lnTo>
                          <a:pt x="28" y="820"/>
                        </a:lnTo>
                        <a:lnTo>
                          <a:pt x="42" y="773"/>
                        </a:lnTo>
                        <a:lnTo>
                          <a:pt x="42" y="742"/>
                        </a:lnTo>
                        <a:lnTo>
                          <a:pt x="42" y="710"/>
                        </a:lnTo>
                        <a:lnTo>
                          <a:pt x="42" y="678"/>
                        </a:lnTo>
                        <a:lnTo>
                          <a:pt x="42" y="631"/>
                        </a:lnTo>
                        <a:lnTo>
                          <a:pt x="56" y="599"/>
                        </a:lnTo>
                        <a:lnTo>
                          <a:pt x="56" y="567"/>
                        </a:lnTo>
                        <a:lnTo>
                          <a:pt x="56" y="537"/>
                        </a:lnTo>
                        <a:lnTo>
                          <a:pt x="56" y="488"/>
                        </a:lnTo>
                        <a:lnTo>
                          <a:pt x="56" y="458"/>
                        </a:lnTo>
                        <a:lnTo>
                          <a:pt x="56" y="426"/>
                        </a:lnTo>
                        <a:lnTo>
                          <a:pt x="56" y="394"/>
                        </a:lnTo>
                        <a:lnTo>
                          <a:pt x="56" y="347"/>
                        </a:lnTo>
                        <a:lnTo>
                          <a:pt x="56" y="315"/>
                        </a:lnTo>
                        <a:lnTo>
                          <a:pt x="56" y="284"/>
                        </a:lnTo>
                        <a:lnTo>
                          <a:pt x="56" y="236"/>
                        </a:lnTo>
                        <a:lnTo>
                          <a:pt x="56" y="205"/>
                        </a:lnTo>
                        <a:lnTo>
                          <a:pt x="56" y="173"/>
                        </a:lnTo>
                        <a:lnTo>
                          <a:pt x="56" y="141"/>
                        </a:lnTo>
                        <a:lnTo>
                          <a:pt x="56" y="94"/>
                        </a:lnTo>
                        <a:lnTo>
                          <a:pt x="56" y="62"/>
                        </a:lnTo>
                        <a:lnTo>
                          <a:pt x="56" y="32"/>
                        </a:lnTo>
                        <a:lnTo>
                          <a:pt x="56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7" name=""/>
                <p:cNvGrpSpPr/>
                <p:nvPr/>
              </p:nvGrpSpPr>
              <p:grpSpPr>
                <a:xfrm>
                  <a:off x="7985160" y="3154320"/>
                  <a:ext cx="50760" cy="325440"/>
                  <a:chOff x="7985160" y="3154320"/>
                  <a:chExt cx="50760" cy="325440"/>
                </a:xfrm>
              </p:grpSpPr>
              <p:sp>
                <p:nvSpPr>
                  <p:cNvPr id="498" name=""/>
                  <p:cNvSpPr/>
                  <p:nvPr/>
                </p:nvSpPr>
                <p:spPr>
                  <a:xfrm>
                    <a:off x="7985160" y="3154320"/>
                    <a:ext cx="50760" cy="3254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616">
                        <a:moveTo>
                          <a:pt x="97" y="616"/>
                        </a:moveTo>
                        <a:lnTo>
                          <a:pt x="97" y="569"/>
                        </a:lnTo>
                        <a:lnTo>
                          <a:pt x="97" y="537"/>
                        </a:lnTo>
                        <a:lnTo>
                          <a:pt x="83" y="505"/>
                        </a:lnTo>
                        <a:lnTo>
                          <a:pt x="83" y="458"/>
                        </a:lnTo>
                        <a:lnTo>
                          <a:pt x="83" y="426"/>
                        </a:lnTo>
                        <a:lnTo>
                          <a:pt x="83" y="394"/>
                        </a:lnTo>
                        <a:lnTo>
                          <a:pt x="69" y="347"/>
                        </a:lnTo>
                        <a:lnTo>
                          <a:pt x="69" y="316"/>
                        </a:lnTo>
                        <a:lnTo>
                          <a:pt x="55" y="284"/>
                        </a:lnTo>
                        <a:lnTo>
                          <a:pt x="55" y="237"/>
                        </a:lnTo>
                        <a:lnTo>
                          <a:pt x="55" y="205"/>
                        </a:lnTo>
                        <a:lnTo>
                          <a:pt x="41" y="174"/>
                        </a:lnTo>
                        <a:lnTo>
                          <a:pt x="41" y="143"/>
                        </a:lnTo>
                        <a:lnTo>
                          <a:pt x="28" y="96"/>
                        </a:lnTo>
                        <a:lnTo>
                          <a:pt x="14" y="64"/>
                        </a:lnTo>
                        <a:lnTo>
                          <a:pt x="14" y="32"/>
                        </a:lnTo>
                        <a:lnTo>
                          <a:pt x="0" y="0"/>
                        </a:lnTo>
                        <a:lnTo>
                          <a:pt x="97" y="616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7985160" y="3154320"/>
                    <a:ext cx="50760" cy="3254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616">
                        <a:moveTo>
                          <a:pt x="97" y="616"/>
                        </a:moveTo>
                        <a:lnTo>
                          <a:pt x="97" y="569"/>
                        </a:lnTo>
                        <a:lnTo>
                          <a:pt x="97" y="537"/>
                        </a:lnTo>
                        <a:lnTo>
                          <a:pt x="83" y="505"/>
                        </a:lnTo>
                        <a:lnTo>
                          <a:pt x="83" y="458"/>
                        </a:lnTo>
                        <a:lnTo>
                          <a:pt x="83" y="426"/>
                        </a:lnTo>
                        <a:lnTo>
                          <a:pt x="83" y="394"/>
                        </a:lnTo>
                        <a:lnTo>
                          <a:pt x="69" y="347"/>
                        </a:lnTo>
                        <a:lnTo>
                          <a:pt x="69" y="316"/>
                        </a:lnTo>
                        <a:lnTo>
                          <a:pt x="55" y="284"/>
                        </a:lnTo>
                        <a:lnTo>
                          <a:pt x="55" y="237"/>
                        </a:lnTo>
                        <a:lnTo>
                          <a:pt x="55" y="205"/>
                        </a:lnTo>
                        <a:lnTo>
                          <a:pt x="41" y="174"/>
                        </a:lnTo>
                        <a:lnTo>
                          <a:pt x="41" y="143"/>
                        </a:lnTo>
                        <a:lnTo>
                          <a:pt x="28" y="96"/>
                        </a:lnTo>
                        <a:lnTo>
                          <a:pt x="14" y="64"/>
                        </a:lnTo>
                        <a:lnTo>
                          <a:pt x="14" y="3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0" name=""/>
                <p:cNvGrpSpPr/>
                <p:nvPr/>
              </p:nvGrpSpPr>
              <p:grpSpPr>
                <a:xfrm>
                  <a:off x="7750080" y="2644920"/>
                  <a:ext cx="235080" cy="509400"/>
                  <a:chOff x="7750080" y="2644920"/>
                  <a:chExt cx="235080" cy="509400"/>
                </a:xfrm>
              </p:grpSpPr>
              <p:sp>
                <p:nvSpPr>
                  <p:cNvPr id="501" name=""/>
                  <p:cNvSpPr/>
                  <p:nvPr/>
                </p:nvSpPr>
                <p:spPr>
                  <a:xfrm>
                    <a:off x="7750080" y="2644920"/>
                    <a:ext cx="235080" cy="509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962">
                        <a:moveTo>
                          <a:pt x="443" y="962"/>
                        </a:moveTo>
                        <a:lnTo>
                          <a:pt x="443" y="915"/>
                        </a:lnTo>
                        <a:lnTo>
                          <a:pt x="429" y="883"/>
                        </a:lnTo>
                        <a:lnTo>
                          <a:pt x="415" y="836"/>
                        </a:lnTo>
                        <a:lnTo>
                          <a:pt x="415" y="804"/>
                        </a:lnTo>
                        <a:lnTo>
                          <a:pt x="401" y="773"/>
                        </a:lnTo>
                        <a:lnTo>
                          <a:pt x="388" y="742"/>
                        </a:lnTo>
                        <a:lnTo>
                          <a:pt x="374" y="710"/>
                        </a:lnTo>
                        <a:lnTo>
                          <a:pt x="360" y="663"/>
                        </a:lnTo>
                        <a:lnTo>
                          <a:pt x="346" y="631"/>
                        </a:lnTo>
                        <a:lnTo>
                          <a:pt x="346" y="600"/>
                        </a:lnTo>
                        <a:lnTo>
                          <a:pt x="332" y="568"/>
                        </a:lnTo>
                        <a:lnTo>
                          <a:pt x="318" y="536"/>
                        </a:lnTo>
                        <a:lnTo>
                          <a:pt x="305" y="505"/>
                        </a:lnTo>
                        <a:lnTo>
                          <a:pt x="291" y="474"/>
                        </a:lnTo>
                        <a:lnTo>
                          <a:pt x="263" y="442"/>
                        </a:lnTo>
                        <a:lnTo>
                          <a:pt x="249" y="410"/>
                        </a:lnTo>
                        <a:lnTo>
                          <a:pt x="235" y="378"/>
                        </a:lnTo>
                        <a:lnTo>
                          <a:pt x="222" y="348"/>
                        </a:lnTo>
                        <a:lnTo>
                          <a:pt x="208" y="316"/>
                        </a:lnTo>
                        <a:lnTo>
                          <a:pt x="194" y="284"/>
                        </a:lnTo>
                        <a:lnTo>
                          <a:pt x="166" y="252"/>
                        </a:lnTo>
                        <a:lnTo>
                          <a:pt x="153" y="220"/>
                        </a:lnTo>
                        <a:lnTo>
                          <a:pt x="139" y="205"/>
                        </a:lnTo>
                        <a:lnTo>
                          <a:pt x="125" y="173"/>
                        </a:lnTo>
                        <a:lnTo>
                          <a:pt x="97" y="142"/>
                        </a:lnTo>
                        <a:lnTo>
                          <a:pt x="83" y="111"/>
                        </a:lnTo>
                        <a:lnTo>
                          <a:pt x="70" y="79"/>
                        </a:lnTo>
                        <a:lnTo>
                          <a:pt x="42" y="48"/>
                        </a:lnTo>
                        <a:lnTo>
                          <a:pt x="28" y="32"/>
                        </a:lnTo>
                        <a:lnTo>
                          <a:pt x="0" y="0"/>
                        </a:lnTo>
                        <a:lnTo>
                          <a:pt x="443" y="962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7750080" y="2644920"/>
                    <a:ext cx="235080" cy="509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962">
                        <a:moveTo>
                          <a:pt x="443" y="962"/>
                        </a:moveTo>
                        <a:lnTo>
                          <a:pt x="443" y="915"/>
                        </a:lnTo>
                        <a:lnTo>
                          <a:pt x="429" y="883"/>
                        </a:lnTo>
                        <a:lnTo>
                          <a:pt x="415" y="836"/>
                        </a:lnTo>
                        <a:lnTo>
                          <a:pt x="415" y="804"/>
                        </a:lnTo>
                        <a:lnTo>
                          <a:pt x="401" y="773"/>
                        </a:lnTo>
                        <a:lnTo>
                          <a:pt x="388" y="742"/>
                        </a:lnTo>
                        <a:lnTo>
                          <a:pt x="374" y="710"/>
                        </a:lnTo>
                        <a:lnTo>
                          <a:pt x="360" y="663"/>
                        </a:lnTo>
                        <a:lnTo>
                          <a:pt x="346" y="631"/>
                        </a:lnTo>
                        <a:lnTo>
                          <a:pt x="346" y="600"/>
                        </a:lnTo>
                        <a:lnTo>
                          <a:pt x="332" y="568"/>
                        </a:lnTo>
                        <a:lnTo>
                          <a:pt x="318" y="536"/>
                        </a:lnTo>
                        <a:lnTo>
                          <a:pt x="305" y="505"/>
                        </a:lnTo>
                        <a:lnTo>
                          <a:pt x="291" y="474"/>
                        </a:lnTo>
                        <a:lnTo>
                          <a:pt x="263" y="442"/>
                        </a:lnTo>
                        <a:lnTo>
                          <a:pt x="249" y="410"/>
                        </a:lnTo>
                        <a:lnTo>
                          <a:pt x="235" y="378"/>
                        </a:lnTo>
                        <a:lnTo>
                          <a:pt x="222" y="348"/>
                        </a:lnTo>
                        <a:lnTo>
                          <a:pt x="208" y="316"/>
                        </a:lnTo>
                        <a:lnTo>
                          <a:pt x="194" y="284"/>
                        </a:lnTo>
                        <a:lnTo>
                          <a:pt x="166" y="252"/>
                        </a:lnTo>
                        <a:lnTo>
                          <a:pt x="153" y="220"/>
                        </a:lnTo>
                        <a:lnTo>
                          <a:pt x="139" y="205"/>
                        </a:lnTo>
                        <a:lnTo>
                          <a:pt x="125" y="173"/>
                        </a:lnTo>
                        <a:lnTo>
                          <a:pt x="97" y="142"/>
                        </a:lnTo>
                        <a:lnTo>
                          <a:pt x="83" y="111"/>
                        </a:lnTo>
                        <a:lnTo>
                          <a:pt x="70" y="79"/>
                        </a:lnTo>
                        <a:lnTo>
                          <a:pt x="42" y="48"/>
                        </a:lnTo>
                        <a:lnTo>
                          <a:pt x="28" y="3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3" name=""/>
                <p:cNvGrpSpPr/>
                <p:nvPr/>
              </p:nvGrpSpPr>
              <p:grpSpPr>
                <a:xfrm>
                  <a:off x="7640640" y="2519280"/>
                  <a:ext cx="109440" cy="125640"/>
                  <a:chOff x="7640640" y="2519280"/>
                  <a:chExt cx="109440" cy="125640"/>
                </a:xfrm>
              </p:grpSpPr>
              <p:sp>
                <p:nvSpPr>
                  <p:cNvPr id="504" name=""/>
                  <p:cNvSpPr/>
                  <p:nvPr/>
                </p:nvSpPr>
                <p:spPr>
                  <a:xfrm>
                    <a:off x="7640640" y="2519280"/>
                    <a:ext cx="10944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236">
                        <a:moveTo>
                          <a:pt x="208" y="236"/>
                        </a:moveTo>
                        <a:lnTo>
                          <a:pt x="195" y="205"/>
                        </a:lnTo>
                        <a:lnTo>
                          <a:pt x="167" y="173"/>
                        </a:lnTo>
                        <a:lnTo>
                          <a:pt x="139" y="141"/>
                        </a:lnTo>
                        <a:lnTo>
                          <a:pt x="112" y="111"/>
                        </a:lnTo>
                        <a:lnTo>
                          <a:pt x="84" y="79"/>
                        </a:lnTo>
                        <a:lnTo>
                          <a:pt x="56" y="47"/>
                        </a:lnTo>
                        <a:lnTo>
                          <a:pt x="27" y="32"/>
                        </a:lnTo>
                        <a:lnTo>
                          <a:pt x="0" y="0"/>
                        </a:lnTo>
                        <a:lnTo>
                          <a:pt x="208" y="236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7640640" y="2519280"/>
                    <a:ext cx="10944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236">
                        <a:moveTo>
                          <a:pt x="208" y="236"/>
                        </a:moveTo>
                        <a:lnTo>
                          <a:pt x="195" y="205"/>
                        </a:lnTo>
                        <a:lnTo>
                          <a:pt x="167" y="173"/>
                        </a:lnTo>
                        <a:lnTo>
                          <a:pt x="139" y="141"/>
                        </a:lnTo>
                        <a:lnTo>
                          <a:pt x="112" y="111"/>
                        </a:lnTo>
                        <a:lnTo>
                          <a:pt x="84" y="79"/>
                        </a:lnTo>
                        <a:lnTo>
                          <a:pt x="56" y="47"/>
                        </a:lnTo>
                        <a:lnTo>
                          <a:pt x="27" y="3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6" name=""/>
                <p:cNvGrpSpPr/>
                <p:nvPr/>
              </p:nvGrpSpPr>
              <p:grpSpPr>
                <a:xfrm>
                  <a:off x="7588080" y="2478240"/>
                  <a:ext cx="52560" cy="41040"/>
                  <a:chOff x="7588080" y="2478240"/>
                  <a:chExt cx="52560" cy="41040"/>
                </a:xfrm>
              </p:grpSpPr>
              <p:sp>
                <p:nvSpPr>
                  <p:cNvPr id="507" name=""/>
                  <p:cNvSpPr/>
                  <p:nvPr/>
                </p:nvSpPr>
                <p:spPr>
                  <a:xfrm>
                    <a:off x="7588080" y="247824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79">
                        <a:moveTo>
                          <a:pt x="97" y="79"/>
                        </a:moveTo>
                        <a:lnTo>
                          <a:pt x="69" y="47"/>
                        </a:lnTo>
                        <a:lnTo>
                          <a:pt x="27" y="32"/>
                        </a:lnTo>
                        <a:lnTo>
                          <a:pt x="0" y="0"/>
                        </a:lnTo>
                        <a:lnTo>
                          <a:pt x="97" y="79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7588080" y="247824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79">
                        <a:moveTo>
                          <a:pt x="97" y="79"/>
                        </a:moveTo>
                        <a:lnTo>
                          <a:pt x="69" y="47"/>
                        </a:lnTo>
                        <a:lnTo>
                          <a:pt x="27" y="3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9" name=""/>
                <p:cNvGrpSpPr/>
                <p:nvPr/>
              </p:nvGrpSpPr>
              <p:grpSpPr>
                <a:xfrm>
                  <a:off x="7566120" y="2460600"/>
                  <a:ext cx="21960" cy="17640"/>
                  <a:chOff x="7566120" y="2460600"/>
                  <a:chExt cx="21960" cy="17640"/>
                </a:xfrm>
              </p:grpSpPr>
              <p:sp>
                <p:nvSpPr>
                  <p:cNvPr id="510" name=""/>
                  <p:cNvSpPr/>
                  <p:nvPr/>
                </p:nvSpPr>
                <p:spPr>
                  <a:xfrm>
                    <a:off x="7566120" y="2460600"/>
                    <a:ext cx="219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32">
                        <a:moveTo>
                          <a:pt x="42" y="32"/>
                        </a:moveTo>
                        <a:lnTo>
                          <a:pt x="28" y="15"/>
                        </a:lnTo>
                        <a:lnTo>
                          <a:pt x="14" y="15"/>
                        </a:lnTo>
                        <a:lnTo>
                          <a:pt x="0" y="0"/>
                        </a:lnTo>
                        <a:lnTo>
                          <a:pt x="42" y="32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7566120" y="2460600"/>
                    <a:ext cx="219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32">
                        <a:moveTo>
                          <a:pt x="42" y="32"/>
                        </a:moveTo>
                        <a:lnTo>
                          <a:pt x="28" y="15"/>
                        </a:lnTo>
                        <a:lnTo>
                          <a:pt x="14" y="1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2" name=""/>
                <p:cNvGrpSpPr/>
                <p:nvPr/>
              </p:nvGrpSpPr>
              <p:grpSpPr>
                <a:xfrm>
                  <a:off x="7655040" y="4673520"/>
                  <a:ext cx="176040" cy="125640"/>
                  <a:chOff x="7655040" y="4673520"/>
                  <a:chExt cx="176040" cy="125640"/>
                </a:xfrm>
              </p:grpSpPr>
              <p:sp>
                <p:nvSpPr>
                  <p:cNvPr id="513" name=""/>
                  <p:cNvSpPr/>
                  <p:nvPr/>
                </p:nvSpPr>
                <p:spPr>
                  <a:xfrm>
                    <a:off x="7655040" y="4673520"/>
                    <a:ext cx="17604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334" h="237">
                        <a:moveTo>
                          <a:pt x="0" y="237"/>
                        </a:moveTo>
                        <a:lnTo>
                          <a:pt x="29" y="222"/>
                        </a:lnTo>
                        <a:lnTo>
                          <a:pt x="57" y="205"/>
                        </a:lnTo>
                        <a:lnTo>
                          <a:pt x="85" y="190"/>
                        </a:lnTo>
                        <a:lnTo>
                          <a:pt x="112" y="175"/>
                        </a:lnTo>
                        <a:lnTo>
                          <a:pt x="140" y="158"/>
                        </a:lnTo>
                        <a:lnTo>
                          <a:pt x="168" y="126"/>
                        </a:lnTo>
                        <a:lnTo>
                          <a:pt x="195" y="111"/>
                        </a:lnTo>
                        <a:lnTo>
                          <a:pt x="223" y="96"/>
                        </a:lnTo>
                        <a:lnTo>
                          <a:pt x="251" y="64"/>
                        </a:lnTo>
                        <a:lnTo>
                          <a:pt x="278" y="47"/>
                        </a:lnTo>
                        <a:lnTo>
                          <a:pt x="306" y="32"/>
                        </a:lnTo>
                        <a:lnTo>
                          <a:pt x="334" y="0"/>
                        </a:lnTo>
                        <a:lnTo>
                          <a:pt x="0" y="237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7655040" y="4673520"/>
                    <a:ext cx="17604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334" h="237">
                        <a:moveTo>
                          <a:pt x="0" y="237"/>
                        </a:moveTo>
                        <a:lnTo>
                          <a:pt x="29" y="222"/>
                        </a:lnTo>
                        <a:lnTo>
                          <a:pt x="57" y="205"/>
                        </a:lnTo>
                        <a:lnTo>
                          <a:pt x="85" y="190"/>
                        </a:lnTo>
                        <a:lnTo>
                          <a:pt x="112" y="175"/>
                        </a:lnTo>
                        <a:lnTo>
                          <a:pt x="140" y="158"/>
                        </a:lnTo>
                        <a:lnTo>
                          <a:pt x="168" y="126"/>
                        </a:lnTo>
                        <a:lnTo>
                          <a:pt x="195" y="111"/>
                        </a:lnTo>
                        <a:lnTo>
                          <a:pt x="223" y="96"/>
                        </a:lnTo>
                        <a:lnTo>
                          <a:pt x="251" y="64"/>
                        </a:lnTo>
                        <a:lnTo>
                          <a:pt x="278" y="47"/>
                        </a:lnTo>
                        <a:lnTo>
                          <a:pt x="306" y="32"/>
                        </a:lnTo>
                        <a:lnTo>
                          <a:pt x="334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5" name=""/>
                <p:cNvGrpSpPr/>
                <p:nvPr/>
              </p:nvGrpSpPr>
              <p:grpSpPr>
                <a:xfrm>
                  <a:off x="7831080" y="4089240"/>
                  <a:ext cx="330120" cy="584280"/>
                  <a:chOff x="7831080" y="4089240"/>
                  <a:chExt cx="330120" cy="584280"/>
                </a:xfrm>
              </p:grpSpPr>
              <p:sp>
                <p:nvSpPr>
                  <p:cNvPr id="516" name=""/>
                  <p:cNvSpPr/>
                  <p:nvPr/>
                </p:nvSpPr>
                <p:spPr>
                  <a:xfrm>
                    <a:off x="7831080" y="4089240"/>
                    <a:ext cx="330120" cy="584280"/>
                  </a:xfrm>
                  <a:custGeom>
                    <a:avLst/>
                    <a:gdLst/>
                    <a:ahLst/>
                    <a:rect l="l" t="t" r="r" b="b"/>
                    <a:pathLst>
                      <a:path w="623" h="1104">
                        <a:moveTo>
                          <a:pt x="0" y="1104"/>
                        </a:moveTo>
                        <a:lnTo>
                          <a:pt x="13" y="1089"/>
                        </a:lnTo>
                        <a:lnTo>
                          <a:pt x="41" y="1057"/>
                        </a:lnTo>
                        <a:lnTo>
                          <a:pt x="55" y="1042"/>
                        </a:lnTo>
                        <a:lnTo>
                          <a:pt x="82" y="1010"/>
                        </a:lnTo>
                        <a:lnTo>
                          <a:pt x="96" y="994"/>
                        </a:lnTo>
                        <a:lnTo>
                          <a:pt x="124" y="963"/>
                        </a:lnTo>
                        <a:lnTo>
                          <a:pt x="138" y="931"/>
                        </a:lnTo>
                        <a:lnTo>
                          <a:pt x="165" y="915"/>
                        </a:lnTo>
                        <a:lnTo>
                          <a:pt x="179" y="884"/>
                        </a:lnTo>
                        <a:lnTo>
                          <a:pt x="207" y="852"/>
                        </a:lnTo>
                        <a:lnTo>
                          <a:pt x="221" y="836"/>
                        </a:lnTo>
                        <a:lnTo>
                          <a:pt x="248" y="805"/>
                        </a:lnTo>
                        <a:lnTo>
                          <a:pt x="262" y="774"/>
                        </a:lnTo>
                        <a:lnTo>
                          <a:pt x="276" y="742"/>
                        </a:lnTo>
                        <a:lnTo>
                          <a:pt x="304" y="710"/>
                        </a:lnTo>
                        <a:lnTo>
                          <a:pt x="318" y="678"/>
                        </a:lnTo>
                        <a:lnTo>
                          <a:pt x="331" y="663"/>
                        </a:lnTo>
                        <a:lnTo>
                          <a:pt x="359" y="631"/>
                        </a:lnTo>
                        <a:lnTo>
                          <a:pt x="373" y="599"/>
                        </a:lnTo>
                        <a:lnTo>
                          <a:pt x="387" y="569"/>
                        </a:lnTo>
                        <a:lnTo>
                          <a:pt x="401" y="537"/>
                        </a:lnTo>
                        <a:lnTo>
                          <a:pt x="414" y="505"/>
                        </a:lnTo>
                        <a:lnTo>
                          <a:pt x="442" y="473"/>
                        </a:lnTo>
                        <a:lnTo>
                          <a:pt x="456" y="441"/>
                        </a:lnTo>
                        <a:lnTo>
                          <a:pt x="470" y="411"/>
                        </a:lnTo>
                        <a:lnTo>
                          <a:pt x="485" y="379"/>
                        </a:lnTo>
                        <a:lnTo>
                          <a:pt x="499" y="347"/>
                        </a:lnTo>
                        <a:lnTo>
                          <a:pt x="513" y="316"/>
                        </a:lnTo>
                        <a:lnTo>
                          <a:pt x="526" y="284"/>
                        </a:lnTo>
                        <a:lnTo>
                          <a:pt x="540" y="253"/>
                        </a:lnTo>
                        <a:lnTo>
                          <a:pt x="554" y="221"/>
                        </a:lnTo>
                        <a:lnTo>
                          <a:pt x="554" y="190"/>
                        </a:lnTo>
                        <a:lnTo>
                          <a:pt x="568" y="158"/>
                        </a:lnTo>
                        <a:lnTo>
                          <a:pt x="582" y="126"/>
                        </a:lnTo>
                        <a:lnTo>
                          <a:pt x="596" y="79"/>
                        </a:lnTo>
                        <a:lnTo>
                          <a:pt x="596" y="47"/>
                        </a:lnTo>
                        <a:lnTo>
                          <a:pt x="609" y="17"/>
                        </a:lnTo>
                        <a:lnTo>
                          <a:pt x="623" y="0"/>
                        </a:lnTo>
                        <a:lnTo>
                          <a:pt x="0" y="1104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7831080" y="4089240"/>
                    <a:ext cx="330120" cy="584280"/>
                  </a:xfrm>
                  <a:custGeom>
                    <a:avLst/>
                    <a:gdLst/>
                    <a:ahLst/>
                    <a:rect l="l" t="t" r="r" b="b"/>
                    <a:pathLst>
                      <a:path w="623" h="1104">
                        <a:moveTo>
                          <a:pt x="0" y="1104"/>
                        </a:moveTo>
                        <a:lnTo>
                          <a:pt x="13" y="1089"/>
                        </a:lnTo>
                        <a:lnTo>
                          <a:pt x="41" y="1057"/>
                        </a:lnTo>
                        <a:lnTo>
                          <a:pt x="55" y="1042"/>
                        </a:lnTo>
                        <a:lnTo>
                          <a:pt x="82" y="1010"/>
                        </a:lnTo>
                        <a:lnTo>
                          <a:pt x="96" y="994"/>
                        </a:lnTo>
                        <a:lnTo>
                          <a:pt x="124" y="963"/>
                        </a:lnTo>
                        <a:lnTo>
                          <a:pt x="138" y="931"/>
                        </a:lnTo>
                        <a:lnTo>
                          <a:pt x="165" y="915"/>
                        </a:lnTo>
                        <a:lnTo>
                          <a:pt x="179" y="884"/>
                        </a:lnTo>
                        <a:lnTo>
                          <a:pt x="207" y="852"/>
                        </a:lnTo>
                        <a:lnTo>
                          <a:pt x="221" y="836"/>
                        </a:lnTo>
                        <a:lnTo>
                          <a:pt x="248" y="805"/>
                        </a:lnTo>
                        <a:lnTo>
                          <a:pt x="262" y="774"/>
                        </a:lnTo>
                        <a:lnTo>
                          <a:pt x="276" y="742"/>
                        </a:lnTo>
                        <a:lnTo>
                          <a:pt x="304" y="710"/>
                        </a:lnTo>
                        <a:lnTo>
                          <a:pt x="318" y="678"/>
                        </a:lnTo>
                        <a:lnTo>
                          <a:pt x="331" y="663"/>
                        </a:lnTo>
                        <a:lnTo>
                          <a:pt x="359" y="631"/>
                        </a:lnTo>
                        <a:lnTo>
                          <a:pt x="373" y="599"/>
                        </a:lnTo>
                        <a:lnTo>
                          <a:pt x="387" y="569"/>
                        </a:lnTo>
                        <a:lnTo>
                          <a:pt x="401" y="537"/>
                        </a:lnTo>
                        <a:lnTo>
                          <a:pt x="414" y="505"/>
                        </a:lnTo>
                        <a:lnTo>
                          <a:pt x="442" y="473"/>
                        </a:lnTo>
                        <a:lnTo>
                          <a:pt x="456" y="441"/>
                        </a:lnTo>
                        <a:lnTo>
                          <a:pt x="470" y="411"/>
                        </a:lnTo>
                        <a:lnTo>
                          <a:pt x="485" y="379"/>
                        </a:lnTo>
                        <a:lnTo>
                          <a:pt x="499" y="347"/>
                        </a:lnTo>
                        <a:lnTo>
                          <a:pt x="513" y="316"/>
                        </a:lnTo>
                        <a:lnTo>
                          <a:pt x="526" y="284"/>
                        </a:lnTo>
                        <a:lnTo>
                          <a:pt x="540" y="253"/>
                        </a:lnTo>
                        <a:lnTo>
                          <a:pt x="554" y="221"/>
                        </a:lnTo>
                        <a:lnTo>
                          <a:pt x="554" y="190"/>
                        </a:lnTo>
                        <a:lnTo>
                          <a:pt x="568" y="158"/>
                        </a:lnTo>
                        <a:lnTo>
                          <a:pt x="582" y="126"/>
                        </a:lnTo>
                        <a:lnTo>
                          <a:pt x="596" y="79"/>
                        </a:lnTo>
                        <a:lnTo>
                          <a:pt x="596" y="47"/>
                        </a:lnTo>
                        <a:lnTo>
                          <a:pt x="609" y="17"/>
                        </a:lnTo>
                        <a:lnTo>
                          <a:pt x="62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8" name=""/>
                <p:cNvGrpSpPr/>
                <p:nvPr/>
              </p:nvGrpSpPr>
              <p:grpSpPr>
                <a:xfrm>
                  <a:off x="8161200" y="3213000"/>
                  <a:ext cx="50760" cy="876240"/>
                  <a:chOff x="8161200" y="3213000"/>
                  <a:chExt cx="50760" cy="87624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>
                    <a:off x="8161200" y="3213000"/>
                    <a:ext cx="50760" cy="8762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656">
                        <a:moveTo>
                          <a:pt x="0" y="1656"/>
                        </a:moveTo>
                        <a:lnTo>
                          <a:pt x="0" y="1609"/>
                        </a:lnTo>
                        <a:lnTo>
                          <a:pt x="14" y="1577"/>
                        </a:lnTo>
                        <a:lnTo>
                          <a:pt x="14" y="1545"/>
                        </a:lnTo>
                        <a:lnTo>
                          <a:pt x="28" y="1515"/>
                        </a:lnTo>
                        <a:lnTo>
                          <a:pt x="28" y="1483"/>
                        </a:lnTo>
                        <a:lnTo>
                          <a:pt x="42" y="1451"/>
                        </a:lnTo>
                        <a:lnTo>
                          <a:pt x="42" y="1419"/>
                        </a:lnTo>
                        <a:lnTo>
                          <a:pt x="42" y="1388"/>
                        </a:lnTo>
                        <a:lnTo>
                          <a:pt x="56" y="1341"/>
                        </a:lnTo>
                        <a:lnTo>
                          <a:pt x="56" y="1309"/>
                        </a:lnTo>
                        <a:lnTo>
                          <a:pt x="69" y="1278"/>
                        </a:lnTo>
                        <a:lnTo>
                          <a:pt x="69" y="1247"/>
                        </a:lnTo>
                        <a:lnTo>
                          <a:pt x="69" y="1215"/>
                        </a:lnTo>
                        <a:lnTo>
                          <a:pt x="69" y="1168"/>
                        </a:lnTo>
                        <a:lnTo>
                          <a:pt x="83" y="1136"/>
                        </a:lnTo>
                        <a:lnTo>
                          <a:pt x="83" y="1104"/>
                        </a:lnTo>
                        <a:lnTo>
                          <a:pt x="83" y="1072"/>
                        </a:lnTo>
                        <a:lnTo>
                          <a:pt x="83" y="1042"/>
                        </a:lnTo>
                        <a:lnTo>
                          <a:pt x="83" y="993"/>
                        </a:lnTo>
                        <a:lnTo>
                          <a:pt x="83" y="963"/>
                        </a:lnTo>
                        <a:lnTo>
                          <a:pt x="83" y="931"/>
                        </a:lnTo>
                        <a:lnTo>
                          <a:pt x="97" y="899"/>
                        </a:lnTo>
                        <a:lnTo>
                          <a:pt x="97" y="852"/>
                        </a:lnTo>
                        <a:lnTo>
                          <a:pt x="97" y="820"/>
                        </a:lnTo>
                        <a:lnTo>
                          <a:pt x="97" y="789"/>
                        </a:lnTo>
                        <a:lnTo>
                          <a:pt x="97" y="757"/>
                        </a:lnTo>
                        <a:lnTo>
                          <a:pt x="97" y="725"/>
                        </a:lnTo>
                        <a:lnTo>
                          <a:pt x="83" y="678"/>
                        </a:lnTo>
                        <a:lnTo>
                          <a:pt x="83" y="646"/>
                        </a:lnTo>
                        <a:lnTo>
                          <a:pt x="83" y="616"/>
                        </a:lnTo>
                        <a:lnTo>
                          <a:pt x="83" y="584"/>
                        </a:lnTo>
                        <a:lnTo>
                          <a:pt x="83" y="537"/>
                        </a:lnTo>
                        <a:lnTo>
                          <a:pt x="83" y="505"/>
                        </a:lnTo>
                        <a:lnTo>
                          <a:pt x="69" y="473"/>
                        </a:lnTo>
                        <a:lnTo>
                          <a:pt x="69" y="441"/>
                        </a:lnTo>
                        <a:lnTo>
                          <a:pt x="69" y="409"/>
                        </a:lnTo>
                        <a:lnTo>
                          <a:pt x="69" y="362"/>
                        </a:lnTo>
                        <a:lnTo>
                          <a:pt x="56" y="331"/>
                        </a:lnTo>
                        <a:lnTo>
                          <a:pt x="56" y="300"/>
                        </a:lnTo>
                        <a:lnTo>
                          <a:pt x="56" y="268"/>
                        </a:lnTo>
                        <a:lnTo>
                          <a:pt x="42" y="236"/>
                        </a:lnTo>
                        <a:lnTo>
                          <a:pt x="42" y="205"/>
                        </a:lnTo>
                        <a:lnTo>
                          <a:pt x="42" y="158"/>
                        </a:lnTo>
                        <a:lnTo>
                          <a:pt x="28" y="126"/>
                        </a:lnTo>
                        <a:lnTo>
                          <a:pt x="28" y="94"/>
                        </a:lnTo>
                        <a:lnTo>
                          <a:pt x="14" y="63"/>
                        </a:lnTo>
                        <a:lnTo>
                          <a:pt x="14" y="32"/>
                        </a:lnTo>
                        <a:lnTo>
                          <a:pt x="0" y="0"/>
                        </a:lnTo>
                        <a:lnTo>
                          <a:pt x="0" y="1656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8161200" y="3213000"/>
                    <a:ext cx="50760" cy="8762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656">
                        <a:moveTo>
                          <a:pt x="0" y="1656"/>
                        </a:moveTo>
                        <a:lnTo>
                          <a:pt x="0" y="1609"/>
                        </a:lnTo>
                        <a:lnTo>
                          <a:pt x="14" y="1577"/>
                        </a:lnTo>
                        <a:lnTo>
                          <a:pt x="14" y="1545"/>
                        </a:lnTo>
                        <a:lnTo>
                          <a:pt x="28" y="1515"/>
                        </a:lnTo>
                        <a:lnTo>
                          <a:pt x="28" y="1483"/>
                        </a:lnTo>
                        <a:lnTo>
                          <a:pt x="42" y="1451"/>
                        </a:lnTo>
                        <a:lnTo>
                          <a:pt x="42" y="1419"/>
                        </a:lnTo>
                        <a:lnTo>
                          <a:pt x="42" y="1388"/>
                        </a:lnTo>
                        <a:lnTo>
                          <a:pt x="56" y="1341"/>
                        </a:lnTo>
                        <a:lnTo>
                          <a:pt x="56" y="1309"/>
                        </a:lnTo>
                        <a:lnTo>
                          <a:pt x="69" y="1278"/>
                        </a:lnTo>
                        <a:lnTo>
                          <a:pt x="69" y="1247"/>
                        </a:lnTo>
                        <a:lnTo>
                          <a:pt x="69" y="1215"/>
                        </a:lnTo>
                        <a:lnTo>
                          <a:pt x="69" y="1168"/>
                        </a:lnTo>
                        <a:lnTo>
                          <a:pt x="83" y="1136"/>
                        </a:lnTo>
                        <a:lnTo>
                          <a:pt x="83" y="1104"/>
                        </a:lnTo>
                        <a:lnTo>
                          <a:pt x="83" y="1072"/>
                        </a:lnTo>
                        <a:lnTo>
                          <a:pt x="83" y="1042"/>
                        </a:lnTo>
                        <a:lnTo>
                          <a:pt x="83" y="993"/>
                        </a:lnTo>
                        <a:lnTo>
                          <a:pt x="83" y="963"/>
                        </a:lnTo>
                        <a:lnTo>
                          <a:pt x="83" y="931"/>
                        </a:lnTo>
                        <a:lnTo>
                          <a:pt x="97" y="899"/>
                        </a:lnTo>
                        <a:lnTo>
                          <a:pt x="97" y="852"/>
                        </a:lnTo>
                        <a:lnTo>
                          <a:pt x="97" y="820"/>
                        </a:lnTo>
                        <a:lnTo>
                          <a:pt x="97" y="789"/>
                        </a:lnTo>
                        <a:lnTo>
                          <a:pt x="97" y="757"/>
                        </a:lnTo>
                        <a:lnTo>
                          <a:pt x="97" y="725"/>
                        </a:lnTo>
                        <a:lnTo>
                          <a:pt x="83" y="678"/>
                        </a:lnTo>
                        <a:lnTo>
                          <a:pt x="83" y="646"/>
                        </a:lnTo>
                        <a:lnTo>
                          <a:pt x="83" y="616"/>
                        </a:lnTo>
                        <a:lnTo>
                          <a:pt x="83" y="584"/>
                        </a:lnTo>
                        <a:lnTo>
                          <a:pt x="83" y="537"/>
                        </a:lnTo>
                        <a:lnTo>
                          <a:pt x="83" y="505"/>
                        </a:lnTo>
                        <a:lnTo>
                          <a:pt x="69" y="473"/>
                        </a:lnTo>
                        <a:lnTo>
                          <a:pt x="69" y="441"/>
                        </a:lnTo>
                        <a:lnTo>
                          <a:pt x="69" y="409"/>
                        </a:lnTo>
                        <a:lnTo>
                          <a:pt x="69" y="362"/>
                        </a:lnTo>
                        <a:lnTo>
                          <a:pt x="56" y="331"/>
                        </a:lnTo>
                        <a:lnTo>
                          <a:pt x="56" y="300"/>
                        </a:lnTo>
                        <a:lnTo>
                          <a:pt x="56" y="268"/>
                        </a:lnTo>
                        <a:lnTo>
                          <a:pt x="42" y="236"/>
                        </a:lnTo>
                        <a:lnTo>
                          <a:pt x="42" y="205"/>
                        </a:lnTo>
                        <a:lnTo>
                          <a:pt x="42" y="158"/>
                        </a:lnTo>
                        <a:lnTo>
                          <a:pt x="28" y="126"/>
                        </a:lnTo>
                        <a:lnTo>
                          <a:pt x="28" y="94"/>
                        </a:lnTo>
                        <a:lnTo>
                          <a:pt x="14" y="63"/>
                        </a:lnTo>
                        <a:lnTo>
                          <a:pt x="14" y="3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1" name=""/>
                <p:cNvGrpSpPr/>
                <p:nvPr/>
              </p:nvGrpSpPr>
              <p:grpSpPr>
                <a:xfrm>
                  <a:off x="7873920" y="2644920"/>
                  <a:ext cx="287280" cy="568080"/>
                  <a:chOff x="7873920" y="2644920"/>
                  <a:chExt cx="287280" cy="568080"/>
                </a:xfrm>
              </p:grpSpPr>
              <p:sp>
                <p:nvSpPr>
                  <p:cNvPr id="522" name=""/>
                  <p:cNvSpPr/>
                  <p:nvPr/>
                </p:nvSpPr>
                <p:spPr>
                  <a:xfrm>
                    <a:off x="7873920" y="2644920"/>
                    <a:ext cx="287280" cy="568080"/>
                  </a:xfrm>
                  <a:custGeom>
                    <a:avLst/>
                    <a:gdLst/>
                    <a:ahLst/>
                    <a:rect l="l" t="t" r="r" b="b"/>
                    <a:pathLst>
                      <a:path w="541" h="1073">
                        <a:moveTo>
                          <a:pt x="541" y="1073"/>
                        </a:moveTo>
                        <a:lnTo>
                          <a:pt x="541" y="1041"/>
                        </a:lnTo>
                        <a:lnTo>
                          <a:pt x="527" y="1009"/>
                        </a:lnTo>
                        <a:lnTo>
                          <a:pt x="527" y="979"/>
                        </a:lnTo>
                        <a:lnTo>
                          <a:pt x="514" y="947"/>
                        </a:lnTo>
                        <a:lnTo>
                          <a:pt x="500" y="915"/>
                        </a:lnTo>
                        <a:lnTo>
                          <a:pt x="486" y="883"/>
                        </a:lnTo>
                        <a:lnTo>
                          <a:pt x="486" y="836"/>
                        </a:lnTo>
                        <a:lnTo>
                          <a:pt x="472" y="804"/>
                        </a:lnTo>
                        <a:lnTo>
                          <a:pt x="458" y="773"/>
                        </a:lnTo>
                        <a:lnTo>
                          <a:pt x="444" y="742"/>
                        </a:lnTo>
                        <a:lnTo>
                          <a:pt x="431" y="710"/>
                        </a:lnTo>
                        <a:lnTo>
                          <a:pt x="417" y="678"/>
                        </a:lnTo>
                        <a:lnTo>
                          <a:pt x="403" y="647"/>
                        </a:lnTo>
                        <a:lnTo>
                          <a:pt x="388" y="615"/>
                        </a:lnTo>
                        <a:lnTo>
                          <a:pt x="374" y="584"/>
                        </a:lnTo>
                        <a:lnTo>
                          <a:pt x="360" y="553"/>
                        </a:lnTo>
                        <a:lnTo>
                          <a:pt x="346" y="521"/>
                        </a:lnTo>
                        <a:lnTo>
                          <a:pt x="332" y="489"/>
                        </a:lnTo>
                        <a:lnTo>
                          <a:pt x="319" y="457"/>
                        </a:lnTo>
                        <a:lnTo>
                          <a:pt x="291" y="427"/>
                        </a:lnTo>
                        <a:lnTo>
                          <a:pt x="277" y="395"/>
                        </a:lnTo>
                        <a:lnTo>
                          <a:pt x="263" y="363"/>
                        </a:lnTo>
                        <a:lnTo>
                          <a:pt x="249" y="348"/>
                        </a:lnTo>
                        <a:lnTo>
                          <a:pt x="222" y="316"/>
                        </a:lnTo>
                        <a:lnTo>
                          <a:pt x="208" y="284"/>
                        </a:lnTo>
                        <a:lnTo>
                          <a:pt x="194" y="252"/>
                        </a:lnTo>
                        <a:lnTo>
                          <a:pt x="180" y="237"/>
                        </a:lnTo>
                        <a:lnTo>
                          <a:pt x="153" y="205"/>
                        </a:lnTo>
                        <a:lnTo>
                          <a:pt x="139" y="173"/>
                        </a:lnTo>
                        <a:lnTo>
                          <a:pt x="111" y="142"/>
                        </a:lnTo>
                        <a:lnTo>
                          <a:pt x="97" y="126"/>
                        </a:lnTo>
                        <a:lnTo>
                          <a:pt x="83" y="95"/>
                        </a:lnTo>
                        <a:lnTo>
                          <a:pt x="56" y="79"/>
                        </a:lnTo>
                        <a:lnTo>
                          <a:pt x="42" y="48"/>
                        </a:lnTo>
                        <a:lnTo>
                          <a:pt x="14" y="16"/>
                        </a:lnTo>
                        <a:lnTo>
                          <a:pt x="0" y="0"/>
                        </a:lnTo>
                        <a:lnTo>
                          <a:pt x="541" y="1073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7873920" y="2644920"/>
                    <a:ext cx="287280" cy="568080"/>
                  </a:xfrm>
                  <a:custGeom>
                    <a:avLst/>
                    <a:gdLst/>
                    <a:ahLst/>
                    <a:rect l="l" t="t" r="r" b="b"/>
                    <a:pathLst>
                      <a:path w="541" h="1073">
                        <a:moveTo>
                          <a:pt x="541" y="1073"/>
                        </a:moveTo>
                        <a:lnTo>
                          <a:pt x="541" y="1041"/>
                        </a:lnTo>
                        <a:lnTo>
                          <a:pt x="527" y="1009"/>
                        </a:lnTo>
                        <a:lnTo>
                          <a:pt x="527" y="979"/>
                        </a:lnTo>
                        <a:lnTo>
                          <a:pt x="514" y="947"/>
                        </a:lnTo>
                        <a:lnTo>
                          <a:pt x="500" y="915"/>
                        </a:lnTo>
                        <a:lnTo>
                          <a:pt x="486" y="883"/>
                        </a:lnTo>
                        <a:lnTo>
                          <a:pt x="486" y="836"/>
                        </a:lnTo>
                        <a:lnTo>
                          <a:pt x="472" y="804"/>
                        </a:lnTo>
                        <a:lnTo>
                          <a:pt x="458" y="773"/>
                        </a:lnTo>
                        <a:lnTo>
                          <a:pt x="444" y="742"/>
                        </a:lnTo>
                        <a:lnTo>
                          <a:pt x="431" y="710"/>
                        </a:lnTo>
                        <a:lnTo>
                          <a:pt x="417" y="678"/>
                        </a:lnTo>
                        <a:lnTo>
                          <a:pt x="403" y="647"/>
                        </a:lnTo>
                        <a:lnTo>
                          <a:pt x="388" y="615"/>
                        </a:lnTo>
                        <a:lnTo>
                          <a:pt x="374" y="584"/>
                        </a:lnTo>
                        <a:lnTo>
                          <a:pt x="360" y="553"/>
                        </a:lnTo>
                        <a:lnTo>
                          <a:pt x="346" y="521"/>
                        </a:lnTo>
                        <a:lnTo>
                          <a:pt x="332" y="489"/>
                        </a:lnTo>
                        <a:lnTo>
                          <a:pt x="319" y="457"/>
                        </a:lnTo>
                        <a:lnTo>
                          <a:pt x="291" y="427"/>
                        </a:lnTo>
                        <a:lnTo>
                          <a:pt x="277" y="395"/>
                        </a:lnTo>
                        <a:lnTo>
                          <a:pt x="263" y="363"/>
                        </a:lnTo>
                        <a:lnTo>
                          <a:pt x="249" y="348"/>
                        </a:lnTo>
                        <a:lnTo>
                          <a:pt x="222" y="316"/>
                        </a:lnTo>
                        <a:lnTo>
                          <a:pt x="208" y="284"/>
                        </a:lnTo>
                        <a:lnTo>
                          <a:pt x="194" y="252"/>
                        </a:lnTo>
                        <a:lnTo>
                          <a:pt x="180" y="237"/>
                        </a:lnTo>
                        <a:lnTo>
                          <a:pt x="153" y="205"/>
                        </a:lnTo>
                        <a:lnTo>
                          <a:pt x="139" y="173"/>
                        </a:lnTo>
                        <a:lnTo>
                          <a:pt x="111" y="142"/>
                        </a:lnTo>
                        <a:lnTo>
                          <a:pt x="97" y="126"/>
                        </a:lnTo>
                        <a:lnTo>
                          <a:pt x="83" y="95"/>
                        </a:lnTo>
                        <a:lnTo>
                          <a:pt x="56" y="79"/>
                        </a:lnTo>
                        <a:lnTo>
                          <a:pt x="42" y="48"/>
                        </a:lnTo>
                        <a:lnTo>
                          <a:pt x="14" y="1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7728120" y="2511360"/>
                  <a:ext cx="145800" cy="133560"/>
                  <a:chOff x="7728120" y="2511360"/>
                  <a:chExt cx="145800" cy="133560"/>
                </a:xfrm>
              </p:grpSpPr>
              <p:sp>
                <p:nvSpPr>
                  <p:cNvPr id="525" name=""/>
                  <p:cNvSpPr/>
                  <p:nvPr/>
                </p:nvSpPr>
                <p:spPr>
                  <a:xfrm>
                    <a:off x="7728120" y="2511360"/>
                    <a:ext cx="145800" cy="133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6" h="253">
                        <a:moveTo>
                          <a:pt x="276" y="253"/>
                        </a:moveTo>
                        <a:lnTo>
                          <a:pt x="249" y="222"/>
                        </a:lnTo>
                        <a:lnTo>
                          <a:pt x="221" y="190"/>
                        </a:lnTo>
                        <a:lnTo>
                          <a:pt x="194" y="175"/>
                        </a:lnTo>
                        <a:lnTo>
                          <a:pt x="166" y="143"/>
                        </a:lnTo>
                        <a:lnTo>
                          <a:pt x="138" y="111"/>
                        </a:lnTo>
                        <a:lnTo>
                          <a:pt x="111" y="96"/>
                        </a:lnTo>
                        <a:lnTo>
                          <a:pt x="83" y="64"/>
                        </a:lnTo>
                        <a:lnTo>
                          <a:pt x="55" y="49"/>
                        </a:lnTo>
                        <a:lnTo>
                          <a:pt x="28" y="17"/>
                        </a:lnTo>
                        <a:lnTo>
                          <a:pt x="0" y="0"/>
                        </a:lnTo>
                        <a:lnTo>
                          <a:pt x="276" y="253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7728120" y="2511360"/>
                    <a:ext cx="145800" cy="133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6" h="253">
                        <a:moveTo>
                          <a:pt x="276" y="253"/>
                        </a:moveTo>
                        <a:lnTo>
                          <a:pt x="249" y="222"/>
                        </a:lnTo>
                        <a:lnTo>
                          <a:pt x="221" y="190"/>
                        </a:lnTo>
                        <a:lnTo>
                          <a:pt x="194" y="175"/>
                        </a:lnTo>
                        <a:lnTo>
                          <a:pt x="166" y="143"/>
                        </a:lnTo>
                        <a:lnTo>
                          <a:pt x="138" y="111"/>
                        </a:lnTo>
                        <a:lnTo>
                          <a:pt x="111" y="96"/>
                        </a:lnTo>
                        <a:lnTo>
                          <a:pt x="83" y="64"/>
                        </a:lnTo>
                        <a:lnTo>
                          <a:pt x="55" y="49"/>
                        </a:lnTo>
                        <a:lnTo>
                          <a:pt x="28" y="1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7" name=""/>
                <p:cNvGrpSpPr/>
                <p:nvPr/>
              </p:nvGrpSpPr>
              <p:grpSpPr>
                <a:xfrm>
                  <a:off x="7684920" y="2478240"/>
                  <a:ext cx="43200" cy="33120"/>
                  <a:chOff x="7684920" y="2478240"/>
                  <a:chExt cx="43200" cy="33120"/>
                </a:xfrm>
              </p:grpSpPr>
              <p:sp>
                <p:nvSpPr>
                  <p:cNvPr id="528" name=""/>
                  <p:cNvSpPr/>
                  <p:nvPr/>
                </p:nvSpPr>
                <p:spPr>
                  <a:xfrm>
                    <a:off x="7684920" y="2478240"/>
                    <a:ext cx="4320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62">
                        <a:moveTo>
                          <a:pt x="83" y="62"/>
                        </a:moveTo>
                        <a:lnTo>
                          <a:pt x="55" y="47"/>
                        </a:lnTo>
                        <a:lnTo>
                          <a:pt x="28" y="15"/>
                        </a:lnTo>
                        <a:lnTo>
                          <a:pt x="0" y="0"/>
                        </a:lnTo>
                        <a:lnTo>
                          <a:pt x="83" y="62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7684920" y="2478240"/>
                    <a:ext cx="4320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62">
                        <a:moveTo>
                          <a:pt x="83" y="62"/>
                        </a:moveTo>
                        <a:lnTo>
                          <a:pt x="55" y="47"/>
                        </a:lnTo>
                        <a:lnTo>
                          <a:pt x="28" y="1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0" name=""/>
                <p:cNvGrpSpPr/>
                <p:nvPr/>
              </p:nvGrpSpPr>
              <p:grpSpPr>
                <a:xfrm>
                  <a:off x="7655040" y="2460600"/>
                  <a:ext cx="29880" cy="17640"/>
                  <a:chOff x="7655040" y="2460600"/>
                  <a:chExt cx="29880" cy="17640"/>
                </a:xfrm>
              </p:grpSpPr>
              <p:sp>
                <p:nvSpPr>
                  <p:cNvPr id="531" name=""/>
                  <p:cNvSpPr/>
                  <p:nvPr/>
                </p:nvSpPr>
                <p:spPr>
                  <a:xfrm>
                    <a:off x="7655040" y="2460600"/>
                    <a:ext cx="298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2">
                        <a:moveTo>
                          <a:pt x="57" y="32"/>
                        </a:moveTo>
                        <a:lnTo>
                          <a:pt x="29" y="15"/>
                        </a:lnTo>
                        <a:lnTo>
                          <a:pt x="15" y="15"/>
                        </a:lnTo>
                        <a:lnTo>
                          <a:pt x="0" y="0"/>
                        </a:lnTo>
                        <a:lnTo>
                          <a:pt x="57" y="32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7655040" y="2460600"/>
                    <a:ext cx="298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2">
                        <a:moveTo>
                          <a:pt x="57" y="32"/>
                        </a:moveTo>
                        <a:lnTo>
                          <a:pt x="29" y="15"/>
                        </a:lnTo>
                        <a:lnTo>
                          <a:pt x="15" y="1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3" name=""/>
                <p:cNvGrpSpPr/>
                <p:nvPr/>
              </p:nvGrpSpPr>
              <p:grpSpPr>
                <a:xfrm>
                  <a:off x="7743960" y="4089240"/>
                  <a:ext cx="577800" cy="709920"/>
                  <a:chOff x="7743960" y="4089240"/>
                  <a:chExt cx="577800" cy="70992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>
                    <a:off x="7743960" y="4089240"/>
                    <a:ext cx="577800" cy="709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4" h="1341">
                        <a:moveTo>
                          <a:pt x="0" y="1341"/>
                        </a:moveTo>
                        <a:lnTo>
                          <a:pt x="27" y="1341"/>
                        </a:lnTo>
                        <a:lnTo>
                          <a:pt x="55" y="1326"/>
                        </a:lnTo>
                        <a:lnTo>
                          <a:pt x="83" y="1309"/>
                        </a:lnTo>
                        <a:lnTo>
                          <a:pt x="110" y="1294"/>
                        </a:lnTo>
                        <a:lnTo>
                          <a:pt x="138" y="1279"/>
                        </a:lnTo>
                        <a:lnTo>
                          <a:pt x="166" y="1262"/>
                        </a:lnTo>
                        <a:lnTo>
                          <a:pt x="179" y="1247"/>
                        </a:lnTo>
                        <a:lnTo>
                          <a:pt x="207" y="1230"/>
                        </a:lnTo>
                        <a:lnTo>
                          <a:pt x="235" y="1215"/>
                        </a:lnTo>
                        <a:lnTo>
                          <a:pt x="262" y="1200"/>
                        </a:lnTo>
                        <a:lnTo>
                          <a:pt x="290" y="1183"/>
                        </a:lnTo>
                        <a:lnTo>
                          <a:pt x="304" y="1151"/>
                        </a:lnTo>
                        <a:lnTo>
                          <a:pt x="331" y="1136"/>
                        </a:lnTo>
                        <a:lnTo>
                          <a:pt x="359" y="1121"/>
                        </a:lnTo>
                        <a:lnTo>
                          <a:pt x="373" y="1104"/>
                        </a:lnTo>
                        <a:lnTo>
                          <a:pt x="401" y="1072"/>
                        </a:lnTo>
                        <a:lnTo>
                          <a:pt x="428" y="1057"/>
                        </a:lnTo>
                        <a:lnTo>
                          <a:pt x="456" y="1042"/>
                        </a:lnTo>
                        <a:lnTo>
                          <a:pt x="470" y="1010"/>
                        </a:lnTo>
                        <a:lnTo>
                          <a:pt x="497" y="994"/>
                        </a:lnTo>
                        <a:lnTo>
                          <a:pt x="511" y="963"/>
                        </a:lnTo>
                        <a:lnTo>
                          <a:pt x="539" y="947"/>
                        </a:lnTo>
                        <a:lnTo>
                          <a:pt x="567" y="915"/>
                        </a:lnTo>
                        <a:lnTo>
                          <a:pt x="580" y="899"/>
                        </a:lnTo>
                        <a:lnTo>
                          <a:pt x="608" y="868"/>
                        </a:lnTo>
                        <a:lnTo>
                          <a:pt x="622" y="852"/>
                        </a:lnTo>
                        <a:lnTo>
                          <a:pt x="651" y="821"/>
                        </a:lnTo>
                        <a:lnTo>
                          <a:pt x="665" y="789"/>
                        </a:lnTo>
                        <a:lnTo>
                          <a:pt x="679" y="774"/>
                        </a:lnTo>
                        <a:lnTo>
                          <a:pt x="706" y="742"/>
                        </a:lnTo>
                        <a:lnTo>
                          <a:pt x="720" y="710"/>
                        </a:lnTo>
                        <a:lnTo>
                          <a:pt x="748" y="695"/>
                        </a:lnTo>
                        <a:lnTo>
                          <a:pt x="762" y="663"/>
                        </a:lnTo>
                        <a:lnTo>
                          <a:pt x="775" y="631"/>
                        </a:lnTo>
                        <a:lnTo>
                          <a:pt x="803" y="616"/>
                        </a:lnTo>
                        <a:lnTo>
                          <a:pt x="817" y="584"/>
                        </a:lnTo>
                        <a:lnTo>
                          <a:pt x="831" y="552"/>
                        </a:lnTo>
                        <a:lnTo>
                          <a:pt x="845" y="520"/>
                        </a:lnTo>
                        <a:lnTo>
                          <a:pt x="872" y="490"/>
                        </a:lnTo>
                        <a:lnTo>
                          <a:pt x="886" y="473"/>
                        </a:lnTo>
                        <a:lnTo>
                          <a:pt x="900" y="441"/>
                        </a:lnTo>
                        <a:lnTo>
                          <a:pt x="914" y="411"/>
                        </a:lnTo>
                        <a:lnTo>
                          <a:pt x="928" y="379"/>
                        </a:lnTo>
                        <a:lnTo>
                          <a:pt x="941" y="347"/>
                        </a:lnTo>
                        <a:lnTo>
                          <a:pt x="955" y="316"/>
                        </a:lnTo>
                        <a:lnTo>
                          <a:pt x="969" y="284"/>
                        </a:lnTo>
                        <a:lnTo>
                          <a:pt x="983" y="269"/>
                        </a:lnTo>
                        <a:lnTo>
                          <a:pt x="997" y="237"/>
                        </a:lnTo>
                        <a:lnTo>
                          <a:pt x="1011" y="205"/>
                        </a:lnTo>
                        <a:lnTo>
                          <a:pt x="1024" y="174"/>
                        </a:lnTo>
                        <a:lnTo>
                          <a:pt x="1038" y="143"/>
                        </a:lnTo>
                        <a:lnTo>
                          <a:pt x="1052" y="111"/>
                        </a:lnTo>
                        <a:lnTo>
                          <a:pt x="1052" y="79"/>
                        </a:lnTo>
                        <a:lnTo>
                          <a:pt x="1066" y="47"/>
                        </a:lnTo>
                        <a:lnTo>
                          <a:pt x="1080" y="17"/>
                        </a:lnTo>
                        <a:lnTo>
                          <a:pt x="1094" y="0"/>
                        </a:lnTo>
                        <a:lnTo>
                          <a:pt x="0" y="1341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7743960" y="4089240"/>
                    <a:ext cx="577800" cy="709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4" h="1341">
                        <a:moveTo>
                          <a:pt x="0" y="1341"/>
                        </a:moveTo>
                        <a:lnTo>
                          <a:pt x="27" y="1341"/>
                        </a:lnTo>
                        <a:lnTo>
                          <a:pt x="55" y="1326"/>
                        </a:lnTo>
                        <a:lnTo>
                          <a:pt x="83" y="1309"/>
                        </a:lnTo>
                        <a:lnTo>
                          <a:pt x="110" y="1294"/>
                        </a:lnTo>
                        <a:lnTo>
                          <a:pt x="138" y="1279"/>
                        </a:lnTo>
                        <a:lnTo>
                          <a:pt x="166" y="1262"/>
                        </a:lnTo>
                        <a:lnTo>
                          <a:pt x="179" y="1247"/>
                        </a:lnTo>
                        <a:lnTo>
                          <a:pt x="207" y="1230"/>
                        </a:lnTo>
                        <a:lnTo>
                          <a:pt x="235" y="1215"/>
                        </a:lnTo>
                        <a:lnTo>
                          <a:pt x="262" y="1200"/>
                        </a:lnTo>
                        <a:lnTo>
                          <a:pt x="290" y="1183"/>
                        </a:lnTo>
                        <a:lnTo>
                          <a:pt x="304" y="1151"/>
                        </a:lnTo>
                        <a:lnTo>
                          <a:pt x="331" y="1136"/>
                        </a:lnTo>
                        <a:lnTo>
                          <a:pt x="359" y="1121"/>
                        </a:lnTo>
                        <a:lnTo>
                          <a:pt x="373" y="1104"/>
                        </a:lnTo>
                        <a:lnTo>
                          <a:pt x="401" y="1072"/>
                        </a:lnTo>
                        <a:lnTo>
                          <a:pt x="428" y="1057"/>
                        </a:lnTo>
                        <a:lnTo>
                          <a:pt x="456" y="1042"/>
                        </a:lnTo>
                        <a:lnTo>
                          <a:pt x="470" y="1010"/>
                        </a:lnTo>
                        <a:lnTo>
                          <a:pt x="497" y="994"/>
                        </a:lnTo>
                        <a:lnTo>
                          <a:pt x="511" y="963"/>
                        </a:lnTo>
                        <a:lnTo>
                          <a:pt x="539" y="947"/>
                        </a:lnTo>
                        <a:lnTo>
                          <a:pt x="567" y="915"/>
                        </a:lnTo>
                        <a:lnTo>
                          <a:pt x="580" y="899"/>
                        </a:lnTo>
                        <a:lnTo>
                          <a:pt x="608" y="868"/>
                        </a:lnTo>
                        <a:lnTo>
                          <a:pt x="622" y="852"/>
                        </a:lnTo>
                        <a:lnTo>
                          <a:pt x="651" y="821"/>
                        </a:lnTo>
                        <a:lnTo>
                          <a:pt x="665" y="789"/>
                        </a:lnTo>
                        <a:lnTo>
                          <a:pt x="679" y="774"/>
                        </a:lnTo>
                        <a:lnTo>
                          <a:pt x="706" y="742"/>
                        </a:lnTo>
                        <a:lnTo>
                          <a:pt x="720" y="710"/>
                        </a:lnTo>
                        <a:lnTo>
                          <a:pt x="748" y="695"/>
                        </a:lnTo>
                        <a:lnTo>
                          <a:pt x="762" y="663"/>
                        </a:lnTo>
                        <a:lnTo>
                          <a:pt x="775" y="631"/>
                        </a:lnTo>
                        <a:lnTo>
                          <a:pt x="803" y="616"/>
                        </a:lnTo>
                        <a:lnTo>
                          <a:pt x="817" y="584"/>
                        </a:lnTo>
                        <a:lnTo>
                          <a:pt x="831" y="552"/>
                        </a:lnTo>
                        <a:lnTo>
                          <a:pt x="845" y="520"/>
                        </a:lnTo>
                        <a:lnTo>
                          <a:pt x="872" y="490"/>
                        </a:lnTo>
                        <a:lnTo>
                          <a:pt x="886" y="473"/>
                        </a:lnTo>
                        <a:lnTo>
                          <a:pt x="900" y="441"/>
                        </a:lnTo>
                        <a:lnTo>
                          <a:pt x="914" y="411"/>
                        </a:lnTo>
                        <a:lnTo>
                          <a:pt x="928" y="379"/>
                        </a:lnTo>
                        <a:lnTo>
                          <a:pt x="941" y="347"/>
                        </a:lnTo>
                        <a:lnTo>
                          <a:pt x="955" y="316"/>
                        </a:lnTo>
                        <a:lnTo>
                          <a:pt x="969" y="284"/>
                        </a:lnTo>
                        <a:lnTo>
                          <a:pt x="983" y="269"/>
                        </a:lnTo>
                        <a:lnTo>
                          <a:pt x="997" y="237"/>
                        </a:lnTo>
                        <a:lnTo>
                          <a:pt x="1011" y="205"/>
                        </a:lnTo>
                        <a:lnTo>
                          <a:pt x="1024" y="174"/>
                        </a:lnTo>
                        <a:lnTo>
                          <a:pt x="1038" y="143"/>
                        </a:lnTo>
                        <a:lnTo>
                          <a:pt x="1052" y="111"/>
                        </a:lnTo>
                        <a:lnTo>
                          <a:pt x="1052" y="79"/>
                        </a:lnTo>
                        <a:lnTo>
                          <a:pt x="1066" y="47"/>
                        </a:lnTo>
                        <a:lnTo>
                          <a:pt x="1080" y="17"/>
                        </a:lnTo>
                        <a:lnTo>
                          <a:pt x="1094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6" name=""/>
                <p:cNvGrpSpPr/>
                <p:nvPr/>
              </p:nvGrpSpPr>
              <p:grpSpPr>
                <a:xfrm>
                  <a:off x="8321760" y="3879720"/>
                  <a:ext cx="36360" cy="209520"/>
                  <a:chOff x="8321760" y="3879720"/>
                  <a:chExt cx="36360" cy="209520"/>
                </a:xfrm>
              </p:grpSpPr>
              <p:sp>
                <p:nvSpPr>
                  <p:cNvPr id="537" name=""/>
                  <p:cNvSpPr/>
                  <p:nvPr/>
                </p:nvSpPr>
                <p:spPr>
                  <a:xfrm>
                    <a:off x="8321760" y="3879720"/>
                    <a:ext cx="3636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394">
                        <a:moveTo>
                          <a:pt x="0" y="394"/>
                        </a:moveTo>
                        <a:lnTo>
                          <a:pt x="0" y="347"/>
                        </a:lnTo>
                        <a:lnTo>
                          <a:pt x="13" y="315"/>
                        </a:lnTo>
                        <a:lnTo>
                          <a:pt x="27" y="268"/>
                        </a:lnTo>
                        <a:lnTo>
                          <a:pt x="27" y="236"/>
                        </a:lnTo>
                        <a:lnTo>
                          <a:pt x="41" y="189"/>
                        </a:lnTo>
                        <a:lnTo>
                          <a:pt x="41" y="157"/>
                        </a:lnTo>
                        <a:lnTo>
                          <a:pt x="55" y="126"/>
                        </a:lnTo>
                        <a:lnTo>
                          <a:pt x="55" y="79"/>
                        </a:lnTo>
                        <a:lnTo>
                          <a:pt x="69" y="47"/>
                        </a:lnTo>
                        <a:lnTo>
                          <a:pt x="69" y="0"/>
                        </a:lnTo>
                        <a:lnTo>
                          <a:pt x="0" y="394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8321760" y="3879720"/>
                    <a:ext cx="3636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394">
                        <a:moveTo>
                          <a:pt x="0" y="394"/>
                        </a:moveTo>
                        <a:lnTo>
                          <a:pt x="0" y="347"/>
                        </a:lnTo>
                        <a:lnTo>
                          <a:pt x="13" y="315"/>
                        </a:lnTo>
                        <a:lnTo>
                          <a:pt x="27" y="268"/>
                        </a:lnTo>
                        <a:lnTo>
                          <a:pt x="27" y="236"/>
                        </a:lnTo>
                        <a:lnTo>
                          <a:pt x="41" y="189"/>
                        </a:lnTo>
                        <a:lnTo>
                          <a:pt x="41" y="157"/>
                        </a:lnTo>
                        <a:lnTo>
                          <a:pt x="55" y="126"/>
                        </a:lnTo>
                        <a:lnTo>
                          <a:pt x="55" y="79"/>
                        </a:lnTo>
                        <a:lnTo>
                          <a:pt x="69" y="47"/>
                        </a:lnTo>
                        <a:lnTo>
                          <a:pt x="6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9" name=""/>
                <p:cNvGrpSpPr/>
                <p:nvPr/>
              </p:nvGrpSpPr>
              <p:grpSpPr>
                <a:xfrm>
                  <a:off x="8335800" y="3254400"/>
                  <a:ext cx="36720" cy="625320"/>
                  <a:chOff x="8335800" y="3254400"/>
                  <a:chExt cx="36720" cy="625320"/>
                </a:xfrm>
              </p:grpSpPr>
              <p:sp>
                <p:nvSpPr>
                  <p:cNvPr id="540" name=""/>
                  <p:cNvSpPr/>
                  <p:nvPr/>
                </p:nvSpPr>
                <p:spPr>
                  <a:xfrm>
                    <a:off x="8335800" y="3254400"/>
                    <a:ext cx="36720" cy="6253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183">
                        <a:moveTo>
                          <a:pt x="42" y="1183"/>
                        </a:moveTo>
                        <a:lnTo>
                          <a:pt x="42" y="1151"/>
                        </a:lnTo>
                        <a:lnTo>
                          <a:pt x="56" y="1120"/>
                        </a:lnTo>
                        <a:lnTo>
                          <a:pt x="56" y="1089"/>
                        </a:lnTo>
                        <a:lnTo>
                          <a:pt x="56" y="1057"/>
                        </a:lnTo>
                        <a:lnTo>
                          <a:pt x="69" y="1025"/>
                        </a:lnTo>
                        <a:lnTo>
                          <a:pt x="69" y="978"/>
                        </a:lnTo>
                        <a:lnTo>
                          <a:pt x="69" y="946"/>
                        </a:lnTo>
                        <a:lnTo>
                          <a:pt x="69" y="914"/>
                        </a:lnTo>
                        <a:lnTo>
                          <a:pt x="69" y="884"/>
                        </a:lnTo>
                        <a:lnTo>
                          <a:pt x="69" y="835"/>
                        </a:lnTo>
                        <a:lnTo>
                          <a:pt x="69" y="805"/>
                        </a:lnTo>
                        <a:lnTo>
                          <a:pt x="69" y="773"/>
                        </a:lnTo>
                        <a:lnTo>
                          <a:pt x="69" y="741"/>
                        </a:lnTo>
                        <a:lnTo>
                          <a:pt x="69" y="694"/>
                        </a:lnTo>
                        <a:lnTo>
                          <a:pt x="69" y="662"/>
                        </a:lnTo>
                        <a:lnTo>
                          <a:pt x="69" y="631"/>
                        </a:lnTo>
                        <a:lnTo>
                          <a:pt x="69" y="584"/>
                        </a:lnTo>
                        <a:lnTo>
                          <a:pt x="69" y="552"/>
                        </a:lnTo>
                        <a:lnTo>
                          <a:pt x="69" y="520"/>
                        </a:lnTo>
                        <a:lnTo>
                          <a:pt x="69" y="488"/>
                        </a:lnTo>
                        <a:lnTo>
                          <a:pt x="69" y="441"/>
                        </a:lnTo>
                        <a:lnTo>
                          <a:pt x="56" y="409"/>
                        </a:lnTo>
                        <a:lnTo>
                          <a:pt x="56" y="379"/>
                        </a:lnTo>
                        <a:lnTo>
                          <a:pt x="56" y="330"/>
                        </a:lnTo>
                        <a:lnTo>
                          <a:pt x="56" y="300"/>
                        </a:lnTo>
                        <a:lnTo>
                          <a:pt x="42" y="268"/>
                        </a:lnTo>
                        <a:lnTo>
                          <a:pt x="42" y="236"/>
                        </a:lnTo>
                        <a:lnTo>
                          <a:pt x="42" y="189"/>
                        </a:lnTo>
                        <a:lnTo>
                          <a:pt x="28" y="157"/>
                        </a:lnTo>
                        <a:lnTo>
                          <a:pt x="28" y="126"/>
                        </a:lnTo>
                        <a:lnTo>
                          <a:pt x="14" y="94"/>
                        </a:lnTo>
                        <a:lnTo>
                          <a:pt x="14" y="63"/>
                        </a:lnTo>
                        <a:lnTo>
                          <a:pt x="0" y="32"/>
                        </a:lnTo>
                        <a:lnTo>
                          <a:pt x="0" y="0"/>
                        </a:lnTo>
                        <a:lnTo>
                          <a:pt x="42" y="1183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8335800" y="3254400"/>
                    <a:ext cx="36720" cy="6253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183">
                        <a:moveTo>
                          <a:pt x="42" y="1183"/>
                        </a:moveTo>
                        <a:lnTo>
                          <a:pt x="42" y="1151"/>
                        </a:lnTo>
                        <a:lnTo>
                          <a:pt x="56" y="1120"/>
                        </a:lnTo>
                        <a:lnTo>
                          <a:pt x="56" y="1089"/>
                        </a:lnTo>
                        <a:lnTo>
                          <a:pt x="56" y="1057"/>
                        </a:lnTo>
                        <a:lnTo>
                          <a:pt x="69" y="1025"/>
                        </a:lnTo>
                        <a:lnTo>
                          <a:pt x="69" y="978"/>
                        </a:lnTo>
                        <a:lnTo>
                          <a:pt x="69" y="946"/>
                        </a:lnTo>
                        <a:lnTo>
                          <a:pt x="69" y="914"/>
                        </a:lnTo>
                        <a:lnTo>
                          <a:pt x="69" y="884"/>
                        </a:lnTo>
                        <a:lnTo>
                          <a:pt x="69" y="835"/>
                        </a:lnTo>
                        <a:lnTo>
                          <a:pt x="69" y="805"/>
                        </a:lnTo>
                        <a:lnTo>
                          <a:pt x="69" y="773"/>
                        </a:lnTo>
                        <a:lnTo>
                          <a:pt x="69" y="741"/>
                        </a:lnTo>
                        <a:lnTo>
                          <a:pt x="69" y="694"/>
                        </a:lnTo>
                        <a:lnTo>
                          <a:pt x="69" y="662"/>
                        </a:lnTo>
                        <a:lnTo>
                          <a:pt x="69" y="631"/>
                        </a:lnTo>
                        <a:lnTo>
                          <a:pt x="69" y="584"/>
                        </a:lnTo>
                        <a:lnTo>
                          <a:pt x="69" y="552"/>
                        </a:lnTo>
                        <a:lnTo>
                          <a:pt x="69" y="520"/>
                        </a:lnTo>
                        <a:lnTo>
                          <a:pt x="69" y="488"/>
                        </a:lnTo>
                        <a:lnTo>
                          <a:pt x="69" y="441"/>
                        </a:lnTo>
                        <a:lnTo>
                          <a:pt x="56" y="409"/>
                        </a:lnTo>
                        <a:lnTo>
                          <a:pt x="56" y="379"/>
                        </a:lnTo>
                        <a:lnTo>
                          <a:pt x="56" y="330"/>
                        </a:lnTo>
                        <a:lnTo>
                          <a:pt x="56" y="300"/>
                        </a:lnTo>
                        <a:lnTo>
                          <a:pt x="42" y="268"/>
                        </a:lnTo>
                        <a:lnTo>
                          <a:pt x="42" y="236"/>
                        </a:lnTo>
                        <a:lnTo>
                          <a:pt x="42" y="189"/>
                        </a:lnTo>
                        <a:lnTo>
                          <a:pt x="28" y="157"/>
                        </a:lnTo>
                        <a:lnTo>
                          <a:pt x="28" y="126"/>
                        </a:lnTo>
                        <a:lnTo>
                          <a:pt x="14" y="94"/>
                        </a:lnTo>
                        <a:lnTo>
                          <a:pt x="14" y="63"/>
                        </a:lnTo>
                        <a:lnTo>
                          <a:pt x="0" y="3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2" name=""/>
                <p:cNvGrpSpPr/>
                <p:nvPr/>
              </p:nvGrpSpPr>
              <p:grpSpPr>
                <a:xfrm>
                  <a:off x="7991640" y="2644920"/>
                  <a:ext cx="344160" cy="609480"/>
                  <a:chOff x="7991640" y="2644920"/>
                  <a:chExt cx="344160" cy="609480"/>
                </a:xfrm>
              </p:grpSpPr>
              <p:sp>
                <p:nvSpPr>
                  <p:cNvPr id="543" name=""/>
                  <p:cNvSpPr/>
                  <p:nvPr/>
                </p:nvSpPr>
                <p:spPr>
                  <a:xfrm>
                    <a:off x="7991640" y="2644920"/>
                    <a:ext cx="344160" cy="609480"/>
                  </a:xfrm>
                  <a:custGeom>
                    <a:avLst/>
                    <a:gdLst/>
                    <a:ahLst/>
                    <a:rect l="l" t="t" r="r" b="b"/>
                    <a:pathLst>
                      <a:path w="651" h="1152">
                        <a:moveTo>
                          <a:pt x="651" y="1152"/>
                        </a:moveTo>
                        <a:lnTo>
                          <a:pt x="637" y="1120"/>
                        </a:lnTo>
                        <a:lnTo>
                          <a:pt x="624" y="1073"/>
                        </a:lnTo>
                        <a:lnTo>
                          <a:pt x="624" y="1041"/>
                        </a:lnTo>
                        <a:lnTo>
                          <a:pt x="610" y="1009"/>
                        </a:lnTo>
                        <a:lnTo>
                          <a:pt x="596" y="979"/>
                        </a:lnTo>
                        <a:lnTo>
                          <a:pt x="596" y="947"/>
                        </a:lnTo>
                        <a:lnTo>
                          <a:pt x="582" y="915"/>
                        </a:lnTo>
                        <a:lnTo>
                          <a:pt x="568" y="883"/>
                        </a:lnTo>
                        <a:lnTo>
                          <a:pt x="554" y="836"/>
                        </a:lnTo>
                        <a:lnTo>
                          <a:pt x="541" y="804"/>
                        </a:lnTo>
                        <a:lnTo>
                          <a:pt x="527" y="773"/>
                        </a:lnTo>
                        <a:lnTo>
                          <a:pt x="513" y="742"/>
                        </a:lnTo>
                        <a:lnTo>
                          <a:pt x="499" y="710"/>
                        </a:lnTo>
                        <a:lnTo>
                          <a:pt x="485" y="678"/>
                        </a:lnTo>
                        <a:lnTo>
                          <a:pt x="471" y="647"/>
                        </a:lnTo>
                        <a:lnTo>
                          <a:pt x="458" y="615"/>
                        </a:lnTo>
                        <a:lnTo>
                          <a:pt x="444" y="584"/>
                        </a:lnTo>
                        <a:lnTo>
                          <a:pt x="416" y="553"/>
                        </a:lnTo>
                        <a:lnTo>
                          <a:pt x="402" y="536"/>
                        </a:lnTo>
                        <a:lnTo>
                          <a:pt x="388" y="505"/>
                        </a:lnTo>
                        <a:lnTo>
                          <a:pt x="375" y="474"/>
                        </a:lnTo>
                        <a:lnTo>
                          <a:pt x="347" y="442"/>
                        </a:lnTo>
                        <a:lnTo>
                          <a:pt x="333" y="410"/>
                        </a:lnTo>
                        <a:lnTo>
                          <a:pt x="319" y="378"/>
                        </a:lnTo>
                        <a:lnTo>
                          <a:pt x="292" y="363"/>
                        </a:lnTo>
                        <a:lnTo>
                          <a:pt x="278" y="331"/>
                        </a:lnTo>
                        <a:lnTo>
                          <a:pt x="264" y="299"/>
                        </a:lnTo>
                        <a:lnTo>
                          <a:pt x="236" y="269"/>
                        </a:lnTo>
                        <a:lnTo>
                          <a:pt x="222" y="252"/>
                        </a:lnTo>
                        <a:lnTo>
                          <a:pt x="195" y="220"/>
                        </a:lnTo>
                        <a:lnTo>
                          <a:pt x="181" y="190"/>
                        </a:lnTo>
                        <a:lnTo>
                          <a:pt x="152" y="173"/>
                        </a:lnTo>
                        <a:lnTo>
                          <a:pt x="138" y="142"/>
                        </a:lnTo>
                        <a:lnTo>
                          <a:pt x="110" y="126"/>
                        </a:lnTo>
                        <a:lnTo>
                          <a:pt x="97" y="95"/>
                        </a:lnTo>
                        <a:lnTo>
                          <a:pt x="69" y="63"/>
                        </a:lnTo>
                        <a:lnTo>
                          <a:pt x="41" y="48"/>
                        </a:lnTo>
                        <a:lnTo>
                          <a:pt x="27" y="16"/>
                        </a:lnTo>
                        <a:lnTo>
                          <a:pt x="0" y="0"/>
                        </a:lnTo>
                        <a:lnTo>
                          <a:pt x="651" y="1152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7991640" y="2644920"/>
                    <a:ext cx="344160" cy="609480"/>
                  </a:xfrm>
                  <a:custGeom>
                    <a:avLst/>
                    <a:gdLst/>
                    <a:ahLst/>
                    <a:rect l="l" t="t" r="r" b="b"/>
                    <a:pathLst>
                      <a:path w="651" h="1152">
                        <a:moveTo>
                          <a:pt x="651" y="1152"/>
                        </a:moveTo>
                        <a:lnTo>
                          <a:pt x="637" y="1120"/>
                        </a:lnTo>
                        <a:lnTo>
                          <a:pt x="624" y="1073"/>
                        </a:lnTo>
                        <a:lnTo>
                          <a:pt x="624" y="1041"/>
                        </a:lnTo>
                        <a:lnTo>
                          <a:pt x="610" y="1009"/>
                        </a:lnTo>
                        <a:lnTo>
                          <a:pt x="596" y="979"/>
                        </a:lnTo>
                        <a:lnTo>
                          <a:pt x="596" y="947"/>
                        </a:lnTo>
                        <a:lnTo>
                          <a:pt x="582" y="915"/>
                        </a:lnTo>
                        <a:lnTo>
                          <a:pt x="568" y="883"/>
                        </a:lnTo>
                        <a:lnTo>
                          <a:pt x="554" y="836"/>
                        </a:lnTo>
                        <a:lnTo>
                          <a:pt x="541" y="804"/>
                        </a:lnTo>
                        <a:lnTo>
                          <a:pt x="527" y="773"/>
                        </a:lnTo>
                        <a:lnTo>
                          <a:pt x="513" y="742"/>
                        </a:lnTo>
                        <a:lnTo>
                          <a:pt x="499" y="710"/>
                        </a:lnTo>
                        <a:lnTo>
                          <a:pt x="485" y="678"/>
                        </a:lnTo>
                        <a:lnTo>
                          <a:pt x="471" y="647"/>
                        </a:lnTo>
                        <a:lnTo>
                          <a:pt x="458" y="615"/>
                        </a:lnTo>
                        <a:lnTo>
                          <a:pt x="444" y="584"/>
                        </a:lnTo>
                        <a:lnTo>
                          <a:pt x="416" y="553"/>
                        </a:lnTo>
                        <a:lnTo>
                          <a:pt x="402" y="536"/>
                        </a:lnTo>
                        <a:lnTo>
                          <a:pt x="388" y="505"/>
                        </a:lnTo>
                        <a:lnTo>
                          <a:pt x="375" y="474"/>
                        </a:lnTo>
                        <a:lnTo>
                          <a:pt x="347" y="442"/>
                        </a:lnTo>
                        <a:lnTo>
                          <a:pt x="333" y="410"/>
                        </a:lnTo>
                        <a:lnTo>
                          <a:pt x="319" y="378"/>
                        </a:lnTo>
                        <a:lnTo>
                          <a:pt x="292" y="363"/>
                        </a:lnTo>
                        <a:lnTo>
                          <a:pt x="278" y="331"/>
                        </a:lnTo>
                        <a:lnTo>
                          <a:pt x="264" y="299"/>
                        </a:lnTo>
                        <a:lnTo>
                          <a:pt x="236" y="269"/>
                        </a:lnTo>
                        <a:lnTo>
                          <a:pt x="222" y="252"/>
                        </a:lnTo>
                        <a:lnTo>
                          <a:pt x="195" y="220"/>
                        </a:lnTo>
                        <a:lnTo>
                          <a:pt x="181" y="190"/>
                        </a:lnTo>
                        <a:lnTo>
                          <a:pt x="152" y="173"/>
                        </a:lnTo>
                        <a:lnTo>
                          <a:pt x="138" y="142"/>
                        </a:lnTo>
                        <a:lnTo>
                          <a:pt x="110" y="126"/>
                        </a:lnTo>
                        <a:lnTo>
                          <a:pt x="97" y="95"/>
                        </a:lnTo>
                        <a:lnTo>
                          <a:pt x="69" y="63"/>
                        </a:lnTo>
                        <a:lnTo>
                          <a:pt x="41" y="48"/>
                        </a:lnTo>
                        <a:lnTo>
                          <a:pt x="27" y="1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5" name=""/>
                <p:cNvGrpSpPr/>
                <p:nvPr/>
              </p:nvGrpSpPr>
              <p:grpSpPr>
                <a:xfrm>
                  <a:off x="7823160" y="2511360"/>
                  <a:ext cx="168480" cy="133560"/>
                  <a:chOff x="7823160" y="2511360"/>
                  <a:chExt cx="168480" cy="133560"/>
                </a:xfrm>
              </p:grpSpPr>
              <p:sp>
                <p:nvSpPr>
                  <p:cNvPr id="546" name=""/>
                  <p:cNvSpPr/>
                  <p:nvPr/>
                </p:nvSpPr>
                <p:spPr>
                  <a:xfrm>
                    <a:off x="7823160" y="2511360"/>
                    <a:ext cx="168480" cy="133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8" h="253">
                        <a:moveTo>
                          <a:pt x="318" y="253"/>
                        </a:moveTo>
                        <a:lnTo>
                          <a:pt x="290" y="222"/>
                        </a:lnTo>
                        <a:lnTo>
                          <a:pt x="262" y="206"/>
                        </a:lnTo>
                        <a:lnTo>
                          <a:pt x="235" y="175"/>
                        </a:lnTo>
                        <a:lnTo>
                          <a:pt x="207" y="143"/>
                        </a:lnTo>
                        <a:lnTo>
                          <a:pt x="179" y="128"/>
                        </a:lnTo>
                        <a:lnTo>
                          <a:pt x="152" y="96"/>
                        </a:lnTo>
                        <a:lnTo>
                          <a:pt x="124" y="79"/>
                        </a:lnTo>
                        <a:lnTo>
                          <a:pt x="96" y="64"/>
                        </a:lnTo>
                        <a:lnTo>
                          <a:pt x="69" y="32"/>
                        </a:lnTo>
                        <a:lnTo>
                          <a:pt x="41" y="17"/>
                        </a:lnTo>
                        <a:lnTo>
                          <a:pt x="0" y="0"/>
                        </a:lnTo>
                        <a:lnTo>
                          <a:pt x="318" y="253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7823160" y="2511360"/>
                    <a:ext cx="168480" cy="133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8" h="253">
                        <a:moveTo>
                          <a:pt x="318" y="253"/>
                        </a:moveTo>
                        <a:lnTo>
                          <a:pt x="290" y="222"/>
                        </a:lnTo>
                        <a:lnTo>
                          <a:pt x="262" y="206"/>
                        </a:lnTo>
                        <a:lnTo>
                          <a:pt x="235" y="175"/>
                        </a:lnTo>
                        <a:lnTo>
                          <a:pt x="207" y="143"/>
                        </a:lnTo>
                        <a:lnTo>
                          <a:pt x="179" y="128"/>
                        </a:lnTo>
                        <a:lnTo>
                          <a:pt x="152" y="96"/>
                        </a:lnTo>
                        <a:lnTo>
                          <a:pt x="124" y="79"/>
                        </a:lnTo>
                        <a:lnTo>
                          <a:pt x="96" y="64"/>
                        </a:lnTo>
                        <a:lnTo>
                          <a:pt x="69" y="32"/>
                        </a:lnTo>
                        <a:lnTo>
                          <a:pt x="41" y="1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8" name=""/>
                <p:cNvGrpSpPr/>
                <p:nvPr/>
              </p:nvGrpSpPr>
              <p:grpSpPr>
                <a:xfrm>
                  <a:off x="7772400" y="2478240"/>
                  <a:ext cx="50760" cy="33120"/>
                  <a:chOff x="7772400" y="2478240"/>
                  <a:chExt cx="50760" cy="33120"/>
                </a:xfrm>
              </p:grpSpPr>
              <p:sp>
                <p:nvSpPr>
                  <p:cNvPr id="549" name=""/>
                  <p:cNvSpPr/>
                  <p:nvPr/>
                </p:nvSpPr>
                <p:spPr>
                  <a:xfrm>
                    <a:off x="7772400" y="2478240"/>
                    <a:ext cx="5076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62">
                        <a:moveTo>
                          <a:pt x="97" y="62"/>
                        </a:moveTo>
                        <a:lnTo>
                          <a:pt x="69" y="47"/>
                        </a:lnTo>
                        <a:lnTo>
                          <a:pt x="41" y="15"/>
                        </a:lnTo>
                        <a:lnTo>
                          <a:pt x="0" y="0"/>
                        </a:lnTo>
                        <a:lnTo>
                          <a:pt x="97" y="62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7772400" y="2478240"/>
                    <a:ext cx="5076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62">
                        <a:moveTo>
                          <a:pt x="97" y="62"/>
                        </a:moveTo>
                        <a:lnTo>
                          <a:pt x="69" y="47"/>
                        </a:lnTo>
                        <a:lnTo>
                          <a:pt x="41" y="1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1" name=""/>
                <p:cNvGrpSpPr/>
                <p:nvPr/>
              </p:nvGrpSpPr>
              <p:grpSpPr>
                <a:xfrm>
                  <a:off x="7743960" y="2460600"/>
                  <a:ext cx="28440" cy="17640"/>
                  <a:chOff x="7743960" y="2460600"/>
                  <a:chExt cx="28440" cy="17640"/>
                </a:xfrm>
              </p:grpSpPr>
              <p:sp>
                <p:nvSpPr>
                  <p:cNvPr id="552" name=""/>
                  <p:cNvSpPr/>
                  <p:nvPr/>
                </p:nvSpPr>
                <p:spPr>
                  <a:xfrm>
                    <a:off x="7743960" y="2460600"/>
                    <a:ext cx="284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32">
                        <a:moveTo>
                          <a:pt x="55" y="32"/>
                        </a:moveTo>
                        <a:lnTo>
                          <a:pt x="41" y="15"/>
                        </a:lnTo>
                        <a:lnTo>
                          <a:pt x="13" y="15"/>
                        </a:lnTo>
                        <a:lnTo>
                          <a:pt x="0" y="0"/>
                        </a:lnTo>
                        <a:lnTo>
                          <a:pt x="55" y="32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7743960" y="2460600"/>
                    <a:ext cx="284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32">
                        <a:moveTo>
                          <a:pt x="55" y="32"/>
                        </a:moveTo>
                        <a:lnTo>
                          <a:pt x="41" y="15"/>
                        </a:lnTo>
                        <a:lnTo>
                          <a:pt x="13" y="1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4" name=""/>
                <p:cNvGrpSpPr/>
                <p:nvPr/>
              </p:nvGrpSpPr>
              <p:grpSpPr>
                <a:xfrm>
                  <a:off x="7837560" y="4673520"/>
                  <a:ext cx="220680" cy="125640"/>
                  <a:chOff x="7837560" y="4673520"/>
                  <a:chExt cx="220680" cy="125640"/>
                </a:xfrm>
              </p:grpSpPr>
              <p:sp>
                <p:nvSpPr>
                  <p:cNvPr id="555" name=""/>
                  <p:cNvSpPr/>
                  <p:nvPr/>
                </p:nvSpPr>
                <p:spPr>
                  <a:xfrm>
                    <a:off x="7837560" y="4673520"/>
                    <a:ext cx="22068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5" h="237">
                        <a:moveTo>
                          <a:pt x="0" y="237"/>
                        </a:moveTo>
                        <a:lnTo>
                          <a:pt x="28" y="237"/>
                        </a:lnTo>
                        <a:lnTo>
                          <a:pt x="56" y="222"/>
                        </a:lnTo>
                        <a:lnTo>
                          <a:pt x="83" y="205"/>
                        </a:lnTo>
                        <a:lnTo>
                          <a:pt x="125" y="190"/>
                        </a:lnTo>
                        <a:lnTo>
                          <a:pt x="152" y="175"/>
                        </a:lnTo>
                        <a:lnTo>
                          <a:pt x="180" y="158"/>
                        </a:lnTo>
                        <a:lnTo>
                          <a:pt x="208" y="143"/>
                        </a:lnTo>
                        <a:lnTo>
                          <a:pt x="235" y="126"/>
                        </a:lnTo>
                        <a:lnTo>
                          <a:pt x="277" y="96"/>
                        </a:lnTo>
                        <a:lnTo>
                          <a:pt x="305" y="79"/>
                        </a:lnTo>
                        <a:lnTo>
                          <a:pt x="332" y="64"/>
                        </a:lnTo>
                        <a:lnTo>
                          <a:pt x="360" y="47"/>
                        </a:lnTo>
                        <a:lnTo>
                          <a:pt x="388" y="17"/>
                        </a:lnTo>
                        <a:lnTo>
                          <a:pt x="415" y="0"/>
                        </a:lnTo>
                        <a:lnTo>
                          <a:pt x="0" y="237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7837560" y="4673520"/>
                    <a:ext cx="22068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5" h="237">
                        <a:moveTo>
                          <a:pt x="0" y="237"/>
                        </a:moveTo>
                        <a:lnTo>
                          <a:pt x="28" y="237"/>
                        </a:lnTo>
                        <a:lnTo>
                          <a:pt x="56" y="222"/>
                        </a:lnTo>
                        <a:lnTo>
                          <a:pt x="83" y="205"/>
                        </a:lnTo>
                        <a:lnTo>
                          <a:pt x="125" y="190"/>
                        </a:lnTo>
                        <a:lnTo>
                          <a:pt x="152" y="175"/>
                        </a:lnTo>
                        <a:lnTo>
                          <a:pt x="180" y="158"/>
                        </a:lnTo>
                        <a:lnTo>
                          <a:pt x="208" y="143"/>
                        </a:lnTo>
                        <a:lnTo>
                          <a:pt x="235" y="126"/>
                        </a:lnTo>
                        <a:lnTo>
                          <a:pt x="277" y="96"/>
                        </a:lnTo>
                        <a:lnTo>
                          <a:pt x="305" y="79"/>
                        </a:lnTo>
                        <a:lnTo>
                          <a:pt x="332" y="64"/>
                        </a:lnTo>
                        <a:lnTo>
                          <a:pt x="360" y="47"/>
                        </a:lnTo>
                        <a:lnTo>
                          <a:pt x="388" y="17"/>
                        </a:lnTo>
                        <a:lnTo>
                          <a:pt x="415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7" name=""/>
                <p:cNvGrpSpPr/>
                <p:nvPr/>
              </p:nvGrpSpPr>
              <p:grpSpPr>
                <a:xfrm>
                  <a:off x="8058240" y="4540320"/>
                  <a:ext cx="145800" cy="133200"/>
                  <a:chOff x="8058240" y="4540320"/>
                  <a:chExt cx="145800" cy="133200"/>
                </a:xfrm>
              </p:grpSpPr>
              <p:sp>
                <p:nvSpPr>
                  <p:cNvPr id="558" name=""/>
                  <p:cNvSpPr/>
                  <p:nvPr/>
                </p:nvSpPr>
                <p:spPr>
                  <a:xfrm>
                    <a:off x="8058240" y="4540320"/>
                    <a:ext cx="14580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8" h="252">
                        <a:moveTo>
                          <a:pt x="0" y="252"/>
                        </a:moveTo>
                        <a:lnTo>
                          <a:pt x="28" y="237"/>
                        </a:lnTo>
                        <a:lnTo>
                          <a:pt x="57" y="205"/>
                        </a:lnTo>
                        <a:lnTo>
                          <a:pt x="85" y="173"/>
                        </a:lnTo>
                        <a:lnTo>
                          <a:pt x="112" y="158"/>
                        </a:lnTo>
                        <a:lnTo>
                          <a:pt x="140" y="126"/>
                        </a:lnTo>
                        <a:lnTo>
                          <a:pt x="168" y="111"/>
                        </a:lnTo>
                        <a:lnTo>
                          <a:pt x="195" y="79"/>
                        </a:lnTo>
                        <a:lnTo>
                          <a:pt x="223" y="47"/>
                        </a:lnTo>
                        <a:lnTo>
                          <a:pt x="251" y="16"/>
                        </a:lnTo>
                        <a:lnTo>
                          <a:pt x="278" y="0"/>
                        </a:lnTo>
                        <a:lnTo>
                          <a:pt x="0" y="252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8058240" y="4540320"/>
                    <a:ext cx="14580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8" h="252">
                        <a:moveTo>
                          <a:pt x="0" y="252"/>
                        </a:moveTo>
                        <a:lnTo>
                          <a:pt x="28" y="237"/>
                        </a:lnTo>
                        <a:lnTo>
                          <a:pt x="57" y="205"/>
                        </a:lnTo>
                        <a:lnTo>
                          <a:pt x="85" y="173"/>
                        </a:lnTo>
                        <a:lnTo>
                          <a:pt x="112" y="158"/>
                        </a:lnTo>
                        <a:lnTo>
                          <a:pt x="140" y="126"/>
                        </a:lnTo>
                        <a:lnTo>
                          <a:pt x="168" y="111"/>
                        </a:lnTo>
                        <a:lnTo>
                          <a:pt x="195" y="79"/>
                        </a:lnTo>
                        <a:lnTo>
                          <a:pt x="223" y="47"/>
                        </a:lnTo>
                        <a:lnTo>
                          <a:pt x="251" y="16"/>
                        </a:lnTo>
                        <a:lnTo>
                          <a:pt x="27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0" name=""/>
                <p:cNvGrpSpPr/>
                <p:nvPr/>
              </p:nvGrpSpPr>
              <p:grpSpPr>
                <a:xfrm>
                  <a:off x="8204040" y="4046400"/>
                  <a:ext cx="285840" cy="493920"/>
                  <a:chOff x="8204040" y="4046400"/>
                  <a:chExt cx="285840" cy="493920"/>
                </a:xfrm>
              </p:grpSpPr>
              <p:sp>
                <p:nvSpPr>
                  <p:cNvPr id="561" name=""/>
                  <p:cNvSpPr/>
                  <p:nvPr/>
                </p:nvSpPr>
                <p:spPr>
                  <a:xfrm>
                    <a:off x="8204040" y="4046400"/>
                    <a:ext cx="285840" cy="493920"/>
                  </a:xfrm>
                  <a:custGeom>
                    <a:avLst/>
                    <a:gdLst/>
                    <a:ahLst/>
                    <a:rect l="l" t="t" r="r" b="b"/>
                    <a:pathLst>
                      <a:path w="540" h="931">
                        <a:moveTo>
                          <a:pt x="0" y="931"/>
                        </a:moveTo>
                        <a:lnTo>
                          <a:pt x="14" y="900"/>
                        </a:lnTo>
                        <a:lnTo>
                          <a:pt x="42" y="868"/>
                        </a:lnTo>
                        <a:lnTo>
                          <a:pt x="56" y="853"/>
                        </a:lnTo>
                        <a:lnTo>
                          <a:pt x="83" y="821"/>
                        </a:lnTo>
                        <a:lnTo>
                          <a:pt x="97" y="806"/>
                        </a:lnTo>
                        <a:lnTo>
                          <a:pt x="125" y="774"/>
                        </a:lnTo>
                        <a:lnTo>
                          <a:pt x="139" y="742"/>
                        </a:lnTo>
                        <a:lnTo>
                          <a:pt x="166" y="727"/>
                        </a:lnTo>
                        <a:lnTo>
                          <a:pt x="180" y="695"/>
                        </a:lnTo>
                        <a:lnTo>
                          <a:pt x="208" y="663"/>
                        </a:lnTo>
                        <a:lnTo>
                          <a:pt x="222" y="648"/>
                        </a:lnTo>
                        <a:lnTo>
                          <a:pt x="249" y="616"/>
                        </a:lnTo>
                        <a:lnTo>
                          <a:pt x="263" y="584"/>
                        </a:lnTo>
                        <a:lnTo>
                          <a:pt x="277" y="552"/>
                        </a:lnTo>
                        <a:lnTo>
                          <a:pt x="305" y="520"/>
                        </a:lnTo>
                        <a:lnTo>
                          <a:pt x="318" y="505"/>
                        </a:lnTo>
                        <a:lnTo>
                          <a:pt x="332" y="473"/>
                        </a:lnTo>
                        <a:lnTo>
                          <a:pt x="360" y="442"/>
                        </a:lnTo>
                        <a:lnTo>
                          <a:pt x="374" y="411"/>
                        </a:lnTo>
                        <a:lnTo>
                          <a:pt x="388" y="379"/>
                        </a:lnTo>
                        <a:lnTo>
                          <a:pt x="401" y="348"/>
                        </a:lnTo>
                        <a:lnTo>
                          <a:pt x="415" y="316"/>
                        </a:lnTo>
                        <a:lnTo>
                          <a:pt x="429" y="284"/>
                        </a:lnTo>
                        <a:lnTo>
                          <a:pt x="443" y="253"/>
                        </a:lnTo>
                        <a:lnTo>
                          <a:pt x="457" y="222"/>
                        </a:lnTo>
                        <a:lnTo>
                          <a:pt x="471" y="190"/>
                        </a:lnTo>
                        <a:lnTo>
                          <a:pt x="484" y="158"/>
                        </a:lnTo>
                        <a:lnTo>
                          <a:pt x="498" y="126"/>
                        </a:lnTo>
                        <a:lnTo>
                          <a:pt x="512" y="96"/>
                        </a:lnTo>
                        <a:lnTo>
                          <a:pt x="526" y="64"/>
                        </a:lnTo>
                        <a:lnTo>
                          <a:pt x="540" y="32"/>
                        </a:lnTo>
                        <a:lnTo>
                          <a:pt x="540" y="0"/>
                        </a:lnTo>
                        <a:lnTo>
                          <a:pt x="0" y="931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8204040" y="4046400"/>
                    <a:ext cx="285840" cy="493920"/>
                  </a:xfrm>
                  <a:custGeom>
                    <a:avLst/>
                    <a:gdLst/>
                    <a:ahLst/>
                    <a:rect l="l" t="t" r="r" b="b"/>
                    <a:pathLst>
                      <a:path w="540" h="931">
                        <a:moveTo>
                          <a:pt x="0" y="931"/>
                        </a:moveTo>
                        <a:lnTo>
                          <a:pt x="14" y="900"/>
                        </a:lnTo>
                        <a:lnTo>
                          <a:pt x="42" y="868"/>
                        </a:lnTo>
                        <a:lnTo>
                          <a:pt x="56" y="853"/>
                        </a:lnTo>
                        <a:lnTo>
                          <a:pt x="83" y="821"/>
                        </a:lnTo>
                        <a:lnTo>
                          <a:pt x="97" y="806"/>
                        </a:lnTo>
                        <a:lnTo>
                          <a:pt x="125" y="774"/>
                        </a:lnTo>
                        <a:lnTo>
                          <a:pt x="139" y="742"/>
                        </a:lnTo>
                        <a:lnTo>
                          <a:pt x="166" y="727"/>
                        </a:lnTo>
                        <a:lnTo>
                          <a:pt x="180" y="695"/>
                        </a:lnTo>
                        <a:lnTo>
                          <a:pt x="208" y="663"/>
                        </a:lnTo>
                        <a:lnTo>
                          <a:pt x="222" y="648"/>
                        </a:lnTo>
                        <a:lnTo>
                          <a:pt x="249" y="616"/>
                        </a:lnTo>
                        <a:lnTo>
                          <a:pt x="263" y="584"/>
                        </a:lnTo>
                        <a:lnTo>
                          <a:pt x="277" y="552"/>
                        </a:lnTo>
                        <a:lnTo>
                          <a:pt x="305" y="520"/>
                        </a:lnTo>
                        <a:lnTo>
                          <a:pt x="318" y="505"/>
                        </a:lnTo>
                        <a:lnTo>
                          <a:pt x="332" y="473"/>
                        </a:lnTo>
                        <a:lnTo>
                          <a:pt x="360" y="442"/>
                        </a:lnTo>
                        <a:lnTo>
                          <a:pt x="374" y="411"/>
                        </a:lnTo>
                        <a:lnTo>
                          <a:pt x="388" y="379"/>
                        </a:lnTo>
                        <a:lnTo>
                          <a:pt x="401" y="348"/>
                        </a:lnTo>
                        <a:lnTo>
                          <a:pt x="415" y="316"/>
                        </a:lnTo>
                        <a:lnTo>
                          <a:pt x="429" y="284"/>
                        </a:lnTo>
                        <a:lnTo>
                          <a:pt x="443" y="253"/>
                        </a:lnTo>
                        <a:lnTo>
                          <a:pt x="457" y="222"/>
                        </a:lnTo>
                        <a:lnTo>
                          <a:pt x="471" y="190"/>
                        </a:lnTo>
                        <a:lnTo>
                          <a:pt x="484" y="158"/>
                        </a:lnTo>
                        <a:lnTo>
                          <a:pt x="498" y="126"/>
                        </a:lnTo>
                        <a:lnTo>
                          <a:pt x="512" y="96"/>
                        </a:lnTo>
                        <a:lnTo>
                          <a:pt x="526" y="64"/>
                        </a:lnTo>
                        <a:lnTo>
                          <a:pt x="540" y="32"/>
                        </a:lnTo>
                        <a:lnTo>
                          <a:pt x="54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3" name=""/>
                <p:cNvGrpSpPr/>
                <p:nvPr/>
              </p:nvGrpSpPr>
              <p:grpSpPr>
                <a:xfrm>
                  <a:off x="8489880" y="3271680"/>
                  <a:ext cx="60480" cy="774720"/>
                  <a:chOff x="8489880" y="3271680"/>
                  <a:chExt cx="60480" cy="774720"/>
                </a:xfrm>
              </p:grpSpPr>
              <p:sp>
                <p:nvSpPr>
                  <p:cNvPr id="564" name=""/>
                  <p:cNvSpPr/>
                  <p:nvPr/>
                </p:nvSpPr>
                <p:spPr>
                  <a:xfrm>
                    <a:off x="8489880" y="3271680"/>
                    <a:ext cx="60480" cy="77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66">
                        <a:moveTo>
                          <a:pt x="0" y="1466"/>
                        </a:moveTo>
                        <a:lnTo>
                          <a:pt x="14" y="1434"/>
                        </a:lnTo>
                        <a:lnTo>
                          <a:pt x="14" y="1404"/>
                        </a:lnTo>
                        <a:lnTo>
                          <a:pt x="29" y="1356"/>
                        </a:lnTo>
                        <a:lnTo>
                          <a:pt x="56" y="1325"/>
                        </a:lnTo>
                        <a:lnTo>
                          <a:pt x="56" y="1293"/>
                        </a:lnTo>
                        <a:lnTo>
                          <a:pt x="70" y="1261"/>
                        </a:lnTo>
                        <a:lnTo>
                          <a:pt x="70" y="1230"/>
                        </a:lnTo>
                        <a:lnTo>
                          <a:pt x="70" y="1198"/>
                        </a:lnTo>
                        <a:lnTo>
                          <a:pt x="84" y="1167"/>
                        </a:lnTo>
                        <a:lnTo>
                          <a:pt x="84" y="1136"/>
                        </a:lnTo>
                        <a:lnTo>
                          <a:pt x="98" y="1088"/>
                        </a:lnTo>
                        <a:lnTo>
                          <a:pt x="98" y="1057"/>
                        </a:lnTo>
                        <a:lnTo>
                          <a:pt x="98" y="1025"/>
                        </a:lnTo>
                        <a:lnTo>
                          <a:pt x="98" y="993"/>
                        </a:lnTo>
                        <a:lnTo>
                          <a:pt x="112" y="961"/>
                        </a:lnTo>
                        <a:lnTo>
                          <a:pt x="112" y="931"/>
                        </a:lnTo>
                        <a:lnTo>
                          <a:pt x="112" y="882"/>
                        </a:lnTo>
                        <a:lnTo>
                          <a:pt x="112" y="852"/>
                        </a:lnTo>
                        <a:lnTo>
                          <a:pt x="112" y="820"/>
                        </a:lnTo>
                        <a:lnTo>
                          <a:pt x="112" y="788"/>
                        </a:lnTo>
                        <a:lnTo>
                          <a:pt x="112" y="756"/>
                        </a:lnTo>
                        <a:lnTo>
                          <a:pt x="112" y="709"/>
                        </a:lnTo>
                        <a:lnTo>
                          <a:pt x="112" y="678"/>
                        </a:lnTo>
                        <a:lnTo>
                          <a:pt x="112" y="646"/>
                        </a:lnTo>
                        <a:lnTo>
                          <a:pt x="112" y="614"/>
                        </a:lnTo>
                        <a:lnTo>
                          <a:pt x="112" y="583"/>
                        </a:lnTo>
                        <a:lnTo>
                          <a:pt x="112" y="535"/>
                        </a:lnTo>
                        <a:lnTo>
                          <a:pt x="112" y="505"/>
                        </a:lnTo>
                        <a:lnTo>
                          <a:pt x="112" y="473"/>
                        </a:lnTo>
                        <a:lnTo>
                          <a:pt x="98" y="441"/>
                        </a:lnTo>
                        <a:lnTo>
                          <a:pt x="98" y="409"/>
                        </a:lnTo>
                        <a:lnTo>
                          <a:pt x="98" y="362"/>
                        </a:lnTo>
                        <a:lnTo>
                          <a:pt x="98" y="330"/>
                        </a:lnTo>
                        <a:lnTo>
                          <a:pt x="84" y="298"/>
                        </a:lnTo>
                        <a:lnTo>
                          <a:pt x="84" y="268"/>
                        </a:lnTo>
                        <a:lnTo>
                          <a:pt x="84" y="236"/>
                        </a:lnTo>
                        <a:lnTo>
                          <a:pt x="70" y="204"/>
                        </a:lnTo>
                        <a:lnTo>
                          <a:pt x="70" y="172"/>
                        </a:lnTo>
                        <a:lnTo>
                          <a:pt x="70" y="125"/>
                        </a:lnTo>
                        <a:lnTo>
                          <a:pt x="56" y="94"/>
                        </a:lnTo>
                        <a:lnTo>
                          <a:pt x="56" y="62"/>
                        </a:lnTo>
                        <a:lnTo>
                          <a:pt x="29" y="31"/>
                        </a:lnTo>
                        <a:lnTo>
                          <a:pt x="29" y="0"/>
                        </a:lnTo>
                        <a:lnTo>
                          <a:pt x="0" y="1466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8489880" y="3271680"/>
                    <a:ext cx="60480" cy="77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66">
                        <a:moveTo>
                          <a:pt x="0" y="1466"/>
                        </a:moveTo>
                        <a:lnTo>
                          <a:pt x="14" y="1434"/>
                        </a:lnTo>
                        <a:lnTo>
                          <a:pt x="14" y="1404"/>
                        </a:lnTo>
                        <a:lnTo>
                          <a:pt x="29" y="1356"/>
                        </a:lnTo>
                        <a:lnTo>
                          <a:pt x="56" y="1325"/>
                        </a:lnTo>
                        <a:lnTo>
                          <a:pt x="56" y="1293"/>
                        </a:lnTo>
                        <a:lnTo>
                          <a:pt x="70" y="1261"/>
                        </a:lnTo>
                        <a:lnTo>
                          <a:pt x="70" y="1230"/>
                        </a:lnTo>
                        <a:lnTo>
                          <a:pt x="70" y="1198"/>
                        </a:lnTo>
                        <a:lnTo>
                          <a:pt x="84" y="1167"/>
                        </a:lnTo>
                        <a:lnTo>
                          <a:pt x="84" y="1136"/>
                        </a:lnTo>
                        <a:lnTo>
                          <a:pt x="98" y="1088"/>
                        </a:lnTo>
                        <a:lnTo>
                          <a:pt x="98" y="1057"/>
                        </a:lnTo>
                        <a:lnTo>
                          <a:pt x="98" y="1025"/>
                        </a:lnTo>
                        <a:lnTo>
                          <a:pt x="98" y="993"/>
                        </a:lnTo>
                        <a:lnTo>
                          <a:pt x="112" y="961"/>
                        </a:lnTo>
                        <a:lnTo>
                          <a:pt x="112" y="931"/>
                        </a:lnTo>
                        <a:lnTo>
                          <a:pt x="112" y="882"/>
                        </a:lnTo>
                        <a:lnTo>
                          <a:pt x="112" y="852"/>
                        </a:lnTo>
                        <a:lnTo>
                          <a:pt x="112" y="820"/>
                        </a:lnTo>
                        <a:lnTo>
                          <a:pt x="112" y="788"/>
                        </a:lnTo>
                        <a:lnTo>
                          <a:pt x="112" y="756"/>
                        </a:lnTo>
                        <a:lnTo>
                          <a:pt x="112" y="709"/>
                        </a:lnTo>
                        <a:lnTo>
                          <a:pt x="112" y="678"/>
                        </a:lnTo>
                        <a:lnTo>
                          <a:pt x="112" y="646"/>
                        </a:lnTo>
                        <a:lnTo>
                          <a:pt x="112" y="614"/>
                        </a:lnTo>
                        <a:lnTo>
                          <a:pt x="112" y="583"/>
                        </a:lnTo>
                        <a:lnTo>
                          <a:pt x="112" y="535"/>
                        </a:lnTo>
                        <a:lnTo>
                          <a:pt x="112" y="505"/>
                        </a:lnTo>
                        <a:lnTo>
                          <a:pt x="112" y="473"/>
                        </a:lnTo>
                        <a:lnTo>
                          <a:pt x="98" y="441"/>
                        </a:lnTo>
                        <a:lnTo>
                          <a:pt x="98" y="409"/>
                        </a:lnTo>
                        <a:lnTo>
                          <a:pt x="98" y="362"/>
                        </a:lnTo>
                        <a:lnTo>
                          <a:pt x="98" y="330"/>
                        </a:lnTo>
                        <a:lnTo>
                          <a:pt x="84" y="298"/>
                        </a:lnTo>
                        <a:lnTo>
                          <a:pt x="84" y="268"/>
                        </a:lnTo>
                        <a:lnTo>
                          <a:pt x="84" y="236"/>
                        </a:lnTo>
                        <a:lnTo>
                          <a:pt x="70" y="204"/>
                        </a:lnTo>
                        <a:lnTo>
                          <a:pt x="70" y="172"/>
                        </a:lnTo>
                        <a:lnTo>
                          <a:pt x="70" y="125"/>
                        </a:lnTo>
                        <a:lnTo>
                          <a:pt x="56" y="94"/>
                        </a:lnTo>
                        <a:lnTo>
                          <a:pt x="56" y="62"/>
                        </a:lnTo>
                        <a:lnTo>
                          <a:pt x="29" y="31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6" name=""/>
                <p:cNvGrpSpPr/>
                <p:nvPr/>
              </p:nvGrpSpPr>
              <p:grpSpPr>
                <a:xfrm>
                  <a:off x="8116920" y="2644920"/>
                  <a:ext cx="388800" cy="626760"/>
                  <a:chOff x="8116920" y="2644920"/>
                  <a:chExt cx="388800" cy="626760"/>
                </a:xfrm>
              </p:grpSpPr>
              <p:sp>
                <p:nvSpPr>
                  <p:cNvPr id="567" name=""/>
                  <p:cNvSpPr/>
                  <p:nvPr/>
                </p:nvSpPr>
                <p:spPr>
                  <a:xfrm>
                    <a:off x="8116920" y="2644920"/>
                    <a:ext cx="388800" cy="626760"/>
                  </a:xfrm>
                  <a:custGeom>
                    <a:avLst/>
                    <a:gdLst/>
                    <a:ahLst/>
                    <a:rect l="l" t="t" r="r" b="b"/>
                    <a:pathLst>
                      <a:path w="735" h="1184">
                        <a:moveTo>
                          <a:pt x="735" y="1184"/>
                        </a:moveTo>
                        <a:lnTo>
                          <a:pt x="720" y="1152"/>
                        </a:lnTo>
                        <a:lnTo>
                          <a:pt x="720" y="1120"/>
                        </a:lnTo>
                        <a:lnTo>
                          <a:pt x="706" y="1088"/>
                        </a:lnTo>
                        <a:lnTo>
                          <a:pt x="692" y="1058"/>
                        </a:lnTo>
                        <a:lnTo>
                          <a:pt x="678" y="1026"/>
                        </a:lnTo>
                        <a:lnTo>
                          <a:pt x="678" y="994"/>
                        </a:lnTo>
                        <a:lnTo>
                          <a:pt x="664" y="962"/>
                        </a:lnTo>
                        <a:lnTo>
                          <a:pt x="650" y="930"/>
                        </a:lnTo>
                        <a:lnTo>
                          <a:pt x="637" y="900"/>
                        </a:lnTo>
                        <a:lnTo>
                          <a:pt x="623" y="851"/>
                        </a:lnTo>
                        <a:lnTo>
                          <a:pt x="609" y="821"/>
                        </a:lnTo>
                        <a:lnTo>
                          <a:pt x="595" y="789"/>
                        </a:lnTo>
                        <a:lnTo>
                          <a:pt x="581" y="773"/>
                        </a:lnTo>
                        <a:lnTo>
                          <a:pt x="567" y="742"/>
                        </a:lnTo>
                        <a:lnTo>
                          <a:pt x="554" y="710"/>
                        </a:lnTo>
                        <a:lnTo>
                          <a:pt x="540" y="678"/>
                        </a:lnTo>
                        <a:lnTo>
                          <a:pt x="526" y="647"/>
                        </a:lnTo>
                        <a:lnTo>
                          <a:pt x="498" y="615"/>
                        </a:lnTo>
                        <a:lnTo>
                          <a:pt x="484" y="584"/>
                        </a:lnTo>
                        <a:lnTo>
                          <a:pt x="471" y="568"/>
                        </a:lnTo>
                        <a:lnTo>
                          <a:pt x="457" y="536"/>
                        </a:lnTo>
                        <a:lnTo>
                          <a:pt x="429" y="505"/>
                        </a:lnTo>
                        <a:lnTo>
                          <a:pt x="415" y="474"/>
                        </a:lnTo>
                        <a:lnTo>
                          <a:pt x="401" y="457"/>
                        </a:lnTo>
                        <a:lnTo>
                          <a:pt x="374" y="427"/>
                        </a:lnTo>
                        <a:lnTo>
                          <a:pt x="360" y="395"/>
                        </a:lnTo>
                        <a:lnTo>
                          <a:pt x="332" y="378"/>
                        </a:lnTo>
                        <a:lnTo>
                          <a:pt x="318" y="348"/>
                        </a:lnTo>
                        <a:lnTo>
                          <a:pt x="305" y="316"/>
                        </a:lnTo>
                        <a:lnTo>
                          <a:pt x="277" y="299"/>
                        </a:lnTo>
                        <a:lnTo>
                          <a:pt x="263" y="269"/>
                        </a:lnTo>
                        <a:lnTo>
                          <a:pt x="235" y="252"/>
                        </a:lnTo>
                        <a:lnTo>
                          <a:pt x="222" y="220"/>
                        </a:lnTo>
                        <a:lnTo>
                          <a:pt x="194" y="205"/>
                        </a:lnTo>
                        <a:lnTo>
                          <a:pt x="166" y="173"/>
                        </a:lnTo>
                        <a:lnTo>
                          <a:pt x="152" y="158"/>
                        </a:lnTo>
                        <a:lnTo>
                          <a:pt x="125" y="126"/>
                        </a:lnTo>
                        <a:lnTo>
                          <a:pt x="111" y="111"/>
                        </a:lnTo>
                        <a:lnTo>
                          <a:pt x="83" y="79"/>
                        </a:lnTo>
                        <a:lnTo>
                          <a:pt x="56" y="63"/>
                        </a:lnTo>
                        <a:lnTo>
                          <a:pt x="42" y="48"/>
                        </a:lnTo>
                        <a:lnTo>
                          <a:pt x="14" y="16"/>
                        </a:lnTo>
                        <a:lnTo>
                          <a:pt x="0" y="0"/>
                        </a:lnTo>
                        <a:lnTo>
                          <a:pt x="735" y="1184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8116920" y="2644920"/>
                    <a:ext cx="388800" cy="626760"/>
                  </a:xfrm>
                  <a:custGeom>
                    <a:avLst/>
                    <a:gdLst/>
                    <a:ahLst/>
                    <a:rect l="l" t="t" r="r" b="b"/>
                    <a:pathLst>
                      <a:path w="735" h="1184">
                        <a:moveTo>
                          <a:pt x="735" y="1184"/>
                        </a:moveTo>
                        <a:lnTo>
                          <a:pt x="720" y="1152"/>
                        </a:lnTo>
                        <a:lnTo>
                          <a:pt x="720" y="1120"/>
                        </a:lnTo>
                        <a:lnTo>
                          <a:pt x="706" y="1088"/>
                        </a:lnTo>
                        <a:lnTo>
                          <a:pt x="692" y="1058"/>
                        </a:lnTo>
                        <a:lnTo>
                          <a:pt x="678" y="1026"/>
                        </a:lnTo>
                        <a:lnTo>
                          <a:pt x="678" y="994"/>
                        </a:lnTo>
                        <a:lnTo>
                          <a:pt x="664" y="962"/>
                        </a:lnTo>
                        <a:lnTo>
                          <a:pt x="650" y="930"/>
                        </a:lnTo>
                        <a:lnTo>
                          <a:pt x="637" y="900"/>
                        </a:lnTo>
                        <a:lnTo>
                          <a:pt x="623" y="851"/>
                        </a:lnTo>
                        <a:lnTo>
                          <a:pt x="609" y="821"/>
                        </a:lnTo>
                        <a:lnTo>
                          <a:pt x="595" y="789"/>
                        </a:lnTo>
                        <a:lnTo>
                          <a:pt x="581" y="773"/>
                        </a:lnTo>
                        <a:lnTo>
                          <a:pt x="567" y="742"/>
                        </a:lnTo>
                        <a:lnTo>
                          <a:pt x="554" y="710"/>
                        </a:lnTo>
                        <a:lnTo>
                          <a:pt x="540" y="678"/>
                        </a:lnTo>
                        <a:lnTo>
                          <a:pt x="526" y="647"/>
                        </a:lnTo>
                        <a:lnTo>
                          <a:pt x="498" y="615"/>
                        </a:lnTo>
                        <a:lnTo>
                          <a:pt x="484" y="584"/>
                        </a:lnTo>
                        <a:lnTo>
                          <a:pt x="471" y="568"/>
                        </a:lnTo>
                        <a:lnTo>
                          <a:pt x="457" y="536"/>
                        </a:lnTo>
                        <a:lnTo>
                          <a:pt x="429" y="505"/>
                        </a:lnTo>
                        <a:lnTo>
                          <a:pt x="415" y="474"/>
                        </a:lnTo>
                        <a:lnTo>
                          <a:pt x="401" y="457"/>
                        </a:lnTo>
                        <a:lnTo>
                          <a:pt x="374" y="427"/>
                        </a:lnTo>
                        <a:lnTo>
                          <a:pt x="360" y="395"/>
                        </a:lnTo>
                        <a:lnTo>
                          <a:pt x="332" y="378"/>
                        </a:lnTo>
                        <a:lnTo>
                          <a:pt x="318" y="348"/>
                        </a:lnTo>
                        <a:lnTo>
                          <a:pt x="305" y="316"/>
                        </a:lnTo>
                        <a:lnTo>
                          <a:pt x="277" y="299"/>
                        </a:lnTo>
                        <a:lnTo>
                          <a:pt x="263" y="269"/>
                        </a:lnTo>
                        <a:lnTo>
                          <a:pt x="235" y="252"/>
                        </a:lnTo>
                        <a:lnTo>
                          <a:pt x="222" y="220"/>
                        </a:lnTo>
                        <a:lnTo>
                          <a:pt x="194" y="205"/>
                        </a:lnTo>
                        <a:lnTo>
                          <a:pt x="166" y="173"/>
                        </a:lnTo>
                        <a:lnTo>
                          <a:pt x="152" y="158"/>
                        </a:lnTo>
                        <a:lnTo>
                          <a:pt x="125" y="126"/>
                        </a:lnTo>
                        <a:lnTo>
                          <a:pt x="111" y="111"/>
                        </a:lnTo>
                        <a:lnTo>
                          <a:pt x="83" y="79"/>
                        </a:lnTo>
                        <a:lnTo>
                          <a:pt x="56" y="63"/>
                        </a:lnTo>
                        <a:lnTo>
                          <a:pt x="42" y="48"/>
                        </a:lnTo>
                        <a:lnTo>
                          <a:pt x="14" y="1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9" name=""/>
                <p:cNvGrpSpPr/>
                <p:nvPr/>
              </p:nvGrpSpPr>
              <p:grpSpPr>
                <a:xfrm>
                  <a:off x="7926480" y="2511360"/>
                  <a:ext cx="190440" cy="133560"/>
                  <a:chOff x="7926480" y="2511360"/>
                  <a:chExt cx="190440" cy="133560"/>
                </a:xfrm>
              </p:grpSpPr>
              <p:sp>
                <p:nvSpPr>
                  <p:cNvPr id="570" name=""/>
                  <p:cNvSpPr/>
                  <p:nvPr/>
                </p:nvSpPr>
                <p:spPr>
                  <a:xfrm>
                    <a:off x="7926480" y="2511360"/>
                    <a:ext cx="190440" cy="133560"/>
                  </a:xfrm>
                  <a:custGeom>
                    <a:avLst/>
                    <a:gdLst/>
                    <a:ahLst/>
                    <a:rect l="l" t="t" r="r" b="b"/>
                    <a:pathLst>
                      <a:path w="361" h="253">
                        <a:moveTo>
                          <a:pt x="361" y="253"/>
                        </a:moveTo>
                        <a:lnTo>
                          <a:pt x="334" y="222"/>
                        </a:lnTo>
                        <a:lnTo>
                          <a:pt x="306" y="206"/>
                        </a:lnTo>
                        <a:lnTo>
                          <a:pt x="277" y="190"/>
                        </a:lnTo>
                        <a:lnTo>
                          <a:pt x="249" y="158"/>
                        </a:lnTo>
                        <a:lnTo>
                          <a:pt x="222" y="143"/>
                        </a:lnTo>
                        <a:lnTo>
                          <a:pt x="194" y="128"/>
                        </a:lnTo>
                        <a:lnTo>
                          <a:pt x="166" y="111"/>
                        </a:lnTo>
                        <a:lnTo>
                          <a:pt x="139" y="79"/>
                        </a:lnTo>
                        <a:lnTo>
                          <a:pt x="111" y="64"/>
                        </a:lnTo>
                        <a:lnTo>
                          <a:pt x="83" y="49"/>
                        </a:lnTo>
                        <a:lnTo>
                          <a:pt x="56" y="32"/>
                        </a:lnTo>
                        <a:lnTo>
                          <a:pt x="28" y="17"/>
                        </a:lnTo>
                        <a:lnTo>
                          <a:pt x="0" y="0"/>
                        </a:lnTo>
                        <a:lnTo>
                          <a:pt x="361" y="253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7926480" y="2511360"/>
                    <a:ext cx="190440" cy="133560"/>
                  </a:xfrm>
                  <a:custGeom>
                    <a:avLst/>
                    <a:gdLst/>
                    <a:ahLst/>
                    <a:rect l="l" t="t" r="r" b="b"/>
                    <a:pathLst>
                      <a:path w="361" h="253">
                        <a:moveTo>
                          <a:pt x="361" y="253"/>
                        </a:moveTo>
                        <a:lnTo>
                          <a:pt x="334" y="222"/>
                        </a:lnTo>
                        <a:lnTo>
                          <a:pt x="306" y="206"/>
                        </a:lnTo>
                        <a:lnTo>
                          <a:pt x="277" y="190"/>
                        </a:lnTo>
                        <a:lnTo>
                          <a:pt x="249" y="158"/>
                        </a:lnTo>
                        <a:lnTo>
                          <a:pt x="222" y="143"/>
                        </a:lnTo>
                        <a:lnTo>
                          <a:pt x="194" y="128"/>
                        </a:lnTo>
                        <a:lnTo>
                          <a:pt x="166" y="111"/>
                        </a:lnTo>
                        <a:lnTo>
                          <a:pt x="139" y="79"/>
                        </a:lnTo>
                        <a:lnTo>
                          <a:pt x="111" y="64"/>
                        </a:lnTo>
                        <a:lnTo>
                          <a:pt x="83" y="49"/>
                        </a:lnTo>
                        <a:lnTo>
                          <a:pt x="56" y="32"/>
                        </a:lnTo>
                        <a:lnTo>
                          <a:pt x="28" y="1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2" name=""/>
                <p:cNvGrpSpPr/>
                <p:nvPr/>
              </p:nvGrpSpPr>
              <p:grpSpPr>
                <a:xfrm>
                  <a:off x="7867800" y="2478240"/>
                  <a:ext cx="58680" cy="33120"/>
                  <a:chOff x="7867800" y="2478240"/>
                  <a:chExt cx="58680" cy="33120"/>
                </a:xfrm>
              </p:grpSpPr>
              <p:sp>
                <p:nvSpPr>
                  <p:cNvPr id="573" name=""/>
                  <p:cNvSpPr/>
                  <p:nvPr/>
                </p:nvSpPr>
                <p:spPr>
                  <a:xfrm>
                    <a:off x="7867800" y="2478240"/>
                    <a:ext cx="5868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62">
                        <a:moveTo>
                          <a:pt x="110" y="62"/>
                        </a:moveTo>
                        <a:lnTo>
                          <a:pt x="69" y="47"/>
                        </a:lnTo>
                        <a:lnTo>
                          <a:pt x="41" y="15"/>
                        </a:lnTo>
                        <a:lnTo>
                          <a:pt x="0" y="0"/>
                        </a:lnTo>
                        <a:lnTo>
                          <a:pt x="110" y="62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7867800" y="2478240"/>
                    <a:ext cx="5868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62">
                        <a:moveTo>
                          <a:pt x="110" y="62"/>
                        </a:moveTo>
                        <a:lnTo>
                          <a:pt x="69" y="47"/>
                        </a:lnTo>
                        <a:lnTo>
                          <a:pt x="41" y="1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5" name=""/>
                <p:cNvGrpSpPr/>
                <p:nvPr/>
              </p:nvGrpSpPr>
              <p:grpSpPr>
                <a:xfrm>
                  <a:off x="7837560" y="2460600"/>
                  <a:ext cx="30240" cy="17640"/>
                  <a:chOff x="7837560" y="2460600"/>
                  <a:chExt cx="30240" cy="17640"/>
                </a:xfrm>
              </p:grpSpPr>
              <p:sp>
                <p:nvSpPr>
                  <p:cNvPr id="576" name=""/>
                  <p:cNvSpPr/>
                  <p:nvPr/>
                </p:nvSpPr>
                <p:spPr>
                  <a:xfrm>
                    <a:off x="7837560" y="2460600"/>
                    <a:ext cx="30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2">
                        <a:moveTo>
                          <a:pt x="56" y="32"/>
                        </a:moveTo>
                        <a:lnTo>
                          <a:pt x="28" y="15"/>
                        </a:lnTo>
                        <a:lnTo>
                          <a:pt x="14" y="15"/>
                        </a:lnTo>
                        <a:lnTo>
                          <a:pt x="0" y="0"/>
                        </a:lnTo>
                        <a:lnTo>
                          <a:pt x="56" y="32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7837560" y="2460600"/>
                    <a:ext cx="30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2">
                        <a:moveTo>
                          <a:pt x="56" y="32"/>
                        </a:moveTo>
                        <a:lnTo>
                          <a:pt x="28" y="15"/>
                        </a:lnTo>
                        <a:lnTo>
                          <a:pt x="14" y="1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8" name=""/>
                <p:cNvGrpSpPr/>
                <p:nvPr/>
              </p:nvGrpSpPr>
              <p:grpSpPr>
                <a:xfrm>
                  <a:off x="7926480" y="4464000"/>
                  <a:ext cx="476280" cy="335160"/>
                  <a:chOff x="7926480" y="4464000"/>
                  <a:chExt cx="476280" cy="335160"/>
                </a:xfrm>
              </p:grpSpPr>
              <p:sp>
                <p:nvSpPr>
                  <p:cNvPr id="579" name=""/>
                  <p:cNvSpPr/>
                  <p:nvPr/>
                </p:nvSpPr>
                <p:spPr>
                  <a:xfrm>
                    <a:off x="7926480" y="4464000"/>
                    <a:ext cx="476280" cy="335160"/>
                  </a:xfrm>
                  <a:custGeom>
                    <a:avLst/>
                    <a:gdLst/>
                    <a:ahLst/>
                    <a:rect l="l" t="t" r="r" b="b"/>
                    <a:pathLst>
                      <a:path w="901" h="631">
                        <a:moveTo>
                          <a:pt x="0" y="631"/>
                        </a:moveTo>
                        <a:lnTo>
                          <a:pt x="28" y="631"/>
                        </a:lnTo>
                        <a:lnTo>
                          <a:pt x="56" y="616"/>
                        </a:lnTo>
                        <a:lnTo>
                          <a:pt x="83" y="599"/>
                        </a:lnTo>
                        <a:lnTo>
                          <a:pt x="111" y="584"/>
                        </a:lnTo>
                        <a:lnTo>
                          <a:pt x="139" y="584"/>
                        </a:lnTo>
                        <a:lnTo>
                          <a:pt x="180" y="569"/>
                        </a:lnTo>
                        <a:lnTo>
                          <a:pt x="208" y="552"/>
                        </a:lnTo>
                        <a:lnTo>
                          <a:pt x="235" y="537"/>
                        </a:lnTo>
                        <a:lnTo>
                          <a:pt x="263" y="520"/>
                        </a:lnTo>
                        <a:lnTo>
                          <a:pt x="291" y="505"/>
                        </a:lnTo>
                        <a:lnTo>
                          <a:pt x="306" y="490"/>
                        </a:lnTo>
                        <a:lnTo>
                          <a:pt x="334" y="473"/>
                        </a:lnTo>
                        <a:lnTo>
                          <a:pt x="361" y="458"/>
                        </a:lnTo>
                        <a:lnTo>
                          <a:pt x="389" y="441"/>
                        </a:lnTo>
                        <a:lnTo>
                          <a:pt x="417" y="426"/>
                        </a:lnTo>
                        <a:lnTo>
                          <a:pt x="444" y="411"/>
                        </a:lnTo>
                        <a:lnTo>
                          <a:pt x="472" y="379"/>
                        </a:lnTo>
                        <a:lnTo>
                          <a:pt x="500" y="362"/>
                        </a:lnTo>
                        <a:lnTo>
                          <a:pt x="527" y="347"/>
                        </a:lnTo>
                        <a:lnTo>
                          <a:pt x="541" y="332"/>
                        </a:lnTo>
                        <a:lnTo>
                          <a:pt x="569" y="315"/>
                        </a:lnTo>
                        <a:lnTo>
                          <a:pt x="596" y="284"/>
                        </a:lnTo>
                        <a:lnTo>
                          <a:pt x="624" y="268"/>
                        </a:lnTo>
                        <a:lnTo>
                          <a:pt x="652" y="253"/>
                        </a:lnTo>
                        <a:lnTo>
                          <a:pt x="666" y="221"/>
                        </a:lnTo>
                        <a:lnTo>
                          <a:pt x="693" y="205"/>
                        </a:lnTo>
                        <a:lnTo>
                          <a:pt x="721" y="189"/>
                        </a:lnTo>
                        <a:lnTo>
                          <a:pt x="735" y="158"/>
                        </a:lnTo>
                        <a:lnTo>
                          <a:pt x="762" y="142"/>
                        </a:lnTo>
                        <a:lnTo>
                          <a:pt x="790" y="111"/>
                        </a:lnTo>
                        <a:lnTo>
                          <a:pt x="818" y="95"/>
                        </a:lnTo>
                        <a:lnTo>
                          <a:pt x="832" y="64"/>
                        </a:lnTo>
                        <a:lnTo>
                          <a:pt x="859" y="47"/>
                        </a:lnTo>
                        <a:lnTo>
                          <a:pt x="873" y="17"/>
                        </a:lnTo>
                        <a:lnTo>
                          <a:pt x="901" y="0"/>
                        </a:lnTo>
                        <a:lnTo>
                          <a:pt x="0" y="631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7926480" y="4464000"/>
                    <a:ext cx="476280" cy="335160"/>
                  </a:xfrm>
                  <a:custGeom>
                    <a:avLst/>
                    <a:gdLst/>
                    <a:ahLst/>
                    <a:rect l="l" t="t" r="r" b="b"/>
                    <a:pathLst>
                      <a:path w="901" h="631">
                        <a:moveTo>
                          <a:pt x="0" y="631"/>
                        </a:moveTo>
                        <a:lnTo>
                          <a:pt x="28" y="631"/>
                        </a:lnTo>
                        <a:lnTo>
                          <a:pt x="56" y="616"/>
                        </a:lnTo>
                        <a:lnTo>
                          <a:pt x="83" y="599"/>
                        </a:lnTo>
                        <a:lnTo>
                          <a:pt x="111" y="584"/>
                        </a:lnTo>
                        <a:lnTo>
                          <a:pt x="139" y="584"/>
                        </a:lnTo>
                        <a:lnTo>
                          <a:pt x="180" y="569"/>
                        </a:lnTo>
                        <a:lnTo>
                          <a:pt x="208" y="552"/>
                        </a:lnTo>
                        <a:lnTo>
                          <a:pt x="235" y="537"/>
                        </a:lnTo>
                        <a:lnTo>
                          <a:pt x="263" y="520"/>
                        </a:lnTo>
                        <a:lnTo>
                          <a:pt x="291" y="505"/>
                        </a:lnTo>
                        <a:lnTo>
                          <a:pt x="306" y="490"/>
                        </a:lnTo>
                        <a:lnTo>
                          <a:pt x="334" y="473"/>
                        </a:lnTo>
                        <a:lnTo>
                          <a:pt x="361" y="458"/>
                        </a:lnTo>
                        <a:lnTo>
                          <a:pt x="389" y="441"/>
                        </a:lnTo>
                        <a:lnTo>
                          <a:pt x="417" y="426"/>
                        </a:lnTo>
                        <a:lnTo>
                          <a:pt x="444" y="411"/>
                        </a:lnTo>
                        <a:lnTo>
                          <a:pt x="472" y="379"/>
                        </a:lnTo>
                        <a:lnTo>
                          <a:pt x="500" y="362"/>
                        </a:lnTo>
                        <a:lnTo>
                          <a:pt x="527" y="347"/>
                        </a:lnTo>
                        <a:lnTo>
                          <a:pt x="541" y="332"/>
                        </a:lnTo>
                        <a:lnTo>
                          <a:pt x="569" y="315"/>
                        </a:lnTo>
                        <a:lnTo>
                          <a:pt x="596" y="284"/>
                        </a:lnTo>
                        <a:lnTo>
                          <a:pt x="624" y="268"/>
                        </a:lnTo>
                        <a:lnTo>
                          <a:pt x="652" y="253"/>
                        </a:lnTo>
                        <a:lnTo>
                          <a:pt x="666" y="221"/>
                        </a:lnTo>
                        <a:lnTo>
                          <a:pt x="693" y="205"/>
                        </a:lnTo>
                        <a:lnTo>
                          <a:pt x="721" y="189"/>
                        </a:lnTo>
                        <a:lnTo>
                          <a:pt x="735" y="158"/>
                        </a:lnTo>
                        <a:lnTo>
                          <a:pt x="762" y="142"/>
                        </a:lnTo>
                        <a:lnTo>
                          <a:pt x="790" y="111"/>
                        </a:lnTo>
                        <a:lnTo>
                          <a:pt x="818" y="95"/>
                        </a:lnTo>
                        <a:lnTo>
                          <a:pt x="832" y="64"/>
                        </a:lnTo>
                        <a:lnTo>
                          <a:pt x="859" y="47"/>
                        </a:lnTo>
                        <a:lnTo>
                          <a:pt x="873" y="17"/>
                        </a:lnTo>
                        <a:lnTo>
                          <a:pt x="90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1" name=""/>
                <p:cNvGrpSpPr/>
                <p:nvPr/>
              </p:nvGrpSpPr>
              <p:grpSpPr>
                <a:xfrm>
                  <a:off x="8402760" y="4022640"/>
                  <a:ext cx="263520" cy="441360"/>
                  <a:chOff x="8402760" y="4022640"/>
                  <a:chExt cx="263520" cy="441360"/>
                </a:xfrm>
              </p:grpSpPr>
              <p:sp>
                <p:nvSpPr>
                  <p:cNvPr id="582" name=""/>
                  <p:cNvSpPr/>
                  <p:nvPr/>
                </p:nvSpPr>
                <p:spPr>
                  <a:xfrm>
                    <a:off x="8402760" y="4022640"/>
                    <a:ext cx="263520" cy="441360"/>
                  </a:xfrm>
                  <a:custGeom>
                    <a:avLst/>
                    <a:gdLst/>
                    <a:ahLst/>
                    <a:rect l="l" t="t" r="r" b="b"/>
                    <a:pathLst>
                      <a:path w="499" h="836">
                        <a:moveTo>
                          <a:pt x="0" y="836"/>
                        </a:moveTo>
                        <a:lnTo>
                          <a:pt x="27" y="804"/>
                        </a:lnTo>
                        <a:lnTo>
                          <a:pt x="41" y="789"/>
                        </a:lnTo>
                        <a:lnTo>
                          <a:pt x="69" y="757"/>
                        </a:lnTo>
                        <a:lnTo>
                          <a:pt x="83" y="742"/>
                        </a:lnTo>
                        <a:lnTo>
                          <a:pt x="110" y="710"/>
                        </a:lnTo>
                        <a:lnTo>
                          <a:pt x="124" y="678"/>
                        </a:lnTo>
                        <a:lnTo>
                          <a:pt x="152" y="663"/>
                        </a:lnTo>
                        <a:lnTo>
                          <a:pt x="166" y="631"/>
                        </a:lnTo>
                        <a:lnTo>
                          <a:pt x="195" y="599"/>
                        </a:lnTo>
                        <a:lnTo>
                          <a:pt x="222" y="584"/>
                        </a:lnTo>
                        <a:lnTo>
                          <a:pt x="236" y="552"/>
                        </a:lnTo>
                        <a:lnTo>
                          <a:pt x="264" y="520"/>
                        </a:lnTo>
                        <a:lnTo>
                          <a:pt x="278" y="489"/>
                        </a:lnTo>
                        <a:lnTo>
                          <a:pt x="292" y="458"/>
                        </a:lnTo>
                        <a:lnTo>
                          <a:pt x="319" y="442"/>
                        </a:lnTo>
                        <a:lnTo>
                          <a:pt x="333" y="410"/>
                        </a:lnTo>
                        <a:lnTo>
                          <a:pt x="347" y="379"/>
                        </a:lnTo>
                        <a:lnTo>
                          <a:pt x="361" y="347"/>
                        </a:lnTo>
                        <a:lnTo>
                          <a:pt x="375" y="316"/>
                        </a:lnTo>
                        <a:lnTo>
                          <a:pt x="388" y="284"/>
                        </a:lnTo>
                        <a:lnTo>
                          <a:pt x="402" y="252"/>
                        </a:lnTo>
                        <a:lnTo>
                          <a:pt x="416" y="222"/>
                        </a:lnTo>
                        <a:lnTo>
                          <a:pt x="430" y="190"/>
                        </a:lnTo>
                        <a:lnTo>
                          <a:pt x="444" y="158"/>
                        </a:lnTo>
                        <a:lnTo>
                          <a:pt x="458" y="126"/>
                        </a:lnTo>
                        <a:lnTo>
                          <a:pt x="471" y="94"/>
                        </a:lnTo>
                        <a:lnTo>
                          <a:pt x="485" y="64"/>
                        </a:lnTo>
                        <a:lnTo>
                          <a:pt x="499" y="32"/>
                        </a:lnTo>
                        <a:lnTo>
                          <a:pt x="499" y="0"/>
                        </a:lnTo>
                        <a:lnTo>
                          <a:pt x="0" y="836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8402760" y="4022640"/>
                    <a:ext cx="263520" cy="441360"/>
                  </a:xfrm>
                  <a:custGeom>
                    <a:avLst/>
                    <a:gdLst/>
                    <a:ahLst/>
                    <a:rect l="l" t="t" r="r" b="b"/>
                    <a:pathLst>
                      <a:path w="499" h="836">
                        <a:moveTo>
                          <a:pt x="0" y="836"/>
                        </a:moveTo>
                        <a:lnTo>
                          <a:pt x="27" y="804"/>
                        </a:lnTo>
                        <a:lnTo>
                          <a:pt x="41" y="789"/>
                        </a:lnTo>
                        <a:lnTo>
                          <a:pt x="69" y="757"/>
                        </a:lnTo>
                        <a:lnTo>
                          <a:pt x="83" y="742"/>
                        </a:lnTo>
                        <a:lnTo>
                          <a:pt x="110" y="710"/>
                        </a:lnTo>
                        <a:lnTo>
                          <a:pt x="124" y="678"/>
                        </a:lnTo>
                        <a:lnTo>
                          <a:pt x="152" y="663"/>
                        </a:lnTo>
                        <a:lnTo>
                          <a:pt x="166" y="631"/>
                        </a:lnTo>
                        <a:lnTo>
                          <a:pt x="195" y="599"/>
                        </a:lnTo>
                        <a:lnTo>
                          <a:pt x="222" y="584"/>
                        </a:lnTo>
                        <a:lnTo>
                          <a:pt x="236" y="552"/>
                        </a:lnTo>
                        <a:lnTo>
                          <a:pt x="264" y="520"/>
                        </a:lnTo>
                        <a:lnTo>
                          <a:pt x="278" y="489"/>
                        </a:lnTo>
                        <a:lnTo>
                          <a:pt x="292" y="458"/>
                        </a:lnTo>
                        <a:lnTo>
                          <a:pt x="319" y="442"/>
                        </a:lnTo>
                        <a:lnTo>
                          <a:pt x="333" y="410"/>
                        </a:lnTo>
                        <a:lnTo>
                          <a:pt x="347" y="379"/>
                        </a:lnTo>
                        <a:lnTo>
                          <a:pt x="361" y="347"/>
                        </a:lnTo>
                        <a:lnTo>
                          <a:pt x="375" y="316"/>
                        </a:lnTo>
                        <a:lnTo>
                          <a:pt x="388" y="284"/>
                        </a:lnTo>
                        <a:lnTo>
                          <a:pt x="402" y="252"/>
                        </a:lnTo>
                        <a:lnTo>
                          <a:pt x="416" y="222"/>
                        </a:lnTo>
                        <a:lnTo>
                          <a:pt x="430" y="190"/>
                        </a:lnTo>
                        <a:lnTo>
                          <a:pt x="444" y="158"/>
                        </a:lnTo>
                        <a:lnTo>
                          <a:pt x="458" y="126"/>
                        </a:lnTo>
                        <a:lnTo>
                          <a:pt x="471" y="94"/>
                        </a:lnTo>
                        <a:lnTo>
                          <a:pt x="485" y="64"/>
                        </a:lnTo>
                        <a:lnTo>
                          <a:pt x="499" y="32"/>
                        </a:lnTo>
                        <a:lnTo>
                          <a:pt x="49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4" name=""/>
                <p:cNvGrpSpPr/>
                <p:nvPr/>
              </p:nvGrpSpPr>
              <p:grpSpPr>
                <a:xfrm>
                  <a:off x="8666280" y="3497400"/>
                  <a:ext cx="52200" cy="525240"/>
                  <a:chOff x="8666280" y="3497400"/>
                  <a:chExt cx="52200" cy="525240"/>
                </a:xfrm>
              </p:grpSpPr>
              <p:sp>
                <p:nvSpPr>
                  <p:cNvPr id="585" name=""/>
                  <p:cNvSpPr/>
                  <p:nvPr/>
                </p:nvSpPr>
                <p:spPr>
                  <a:xfrm>
                    <a:off x="8666280" y="3497400"/>
                    <a:ext cx="52200" cy="5252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993">
                        <a:moveTo>
                          <a:pt x="0" y="993"/>
                        </a:moveTo>
                        <a:lnTo>
                          <a:pt x="14" y="961"/>
                        </a:lnTo>
                        <a:lnTo>
                          <a:pt x="14" y="930"/>
                        </a:lnTo>
                        <a:lnTo>
                          <a:pt x="28" y="899"/>
                        </a:lnTo>
                        <a:lnTo>
                          <a:pt x="42" y="867"/>
                        </a:lnTo>
                        <a:lnTo>
                          <a:pt x="42" y="835"/>
                        </a:lnTo>
                        <a:lnTo>
                          <a:pt x="55" y="804"/>
                        </a:lnTo>
                        <a:lnTo>
                          <a:pt x="55" y="757"/>
                        </a:lnTo>
                        <a:lnTo>
                          <a:pt x="69" y="725"/>
                        </a:lnTo>
                        <a:lnTo>
                          <a:pt x="69" y="693"/>
                        </a:lnTo>
                        <a:lnTo>
                          <a:pt x="69" y="662"/>
                        </a:lnTo>
                        <a:lnTo>
                          <a:pt x="83" y="631"/>
                        </a:lnTo>
                        <a:lnTo>
                          <a:pt x="83" y="584"/>
                        </a:lnTo>
                        <a:lnTo>
                          <a:pt x="83" y="552"/>
                        </a:lnTo>
                        <a:lnTo>
                          <a:pt x="97" y="520"/>
                        </a:lnTo>
                        <a:lnTo>
                          <a:pt x="97" y="488"/>
                        </a:lnTo>
                        <a:lnTo>
                          <a:pt x="97" y="441"/>
                        </a:lnTo>
                        <a:lnTo>
                          <a:pt x="97" y="409"/>
                        </a:lnTo>
                        <a:lnTo>
                          <a:pt x="97" y="377"/>
                        </a:lnTo>
                        <a:lnTo>
                          <a:pt x="97" y="347"/>
                        </a:lnTo>
                        <a:lnTo>
                          <a:pt x="97" y="299"/>
                        </a:lnTo>
                        <a:lnTo>
                          <a:pt x="97" y="268"/>
                        </a:lnTo>
                        <a:lnTo>
                          <a:pt x="97" y="236"/>
                        </a:lnTo>
                        <a:lnTo>
                          <a:pt x="97" y="204"/>
                        </a:lnTo>
                        <a:lnTo>
                          <a:pt x="97" y="173"/>
                        </a:lnTo>
                        <a:lnTo>
                          <a:pt x="97" y="126"/>
                        </a:lnTo>
                        <a:lnTo>
                          <a:pt x="97" y="94"/>
                        </a:lnTo>
                        <a:lnTo>
                          <a:pt x="97" y="62"/>
                        </a:lnTo>
                        <a:lnTo>
                          <a:pt x="97" y="30"/>
                        </a:lnTo>
                        <a:lnTo>
                          <a:pt x="83" y="0"/>
                        </a:lnTo>
                        <a:lnTo>
                          <a:pt x="0" y="993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8666280" y="3497400"/>
                    <a:ext cx="52200" cy="5252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993">
                        <a:moveTo>
                          <a:pt x="0" y="993"/>
                        </a:moveTo>
                        <a:lnTo>
                          <a:pt x="14" y="961"/>
                        </a:lnTo>
                        <a:lnTo>
                          <a:pt x="14" y="930"/>
                        </a:lnTo>
                        <a:lnTo>
                          <a:pt x="28" y="899"/>
                        </a:lnTo>
                        <a:lnTo>
                          <a:pt x="42" y="867"/>
                        </a:lnTo>
                        <a:lnTo>
                          <a:pt x="42" y="835"/>
                        </a:lnTo>
                        <a:lnTo>
                          <a:pt x="55" y="804"/>
                        </a:lnTo>
                        <a:lnTo>
                          <a:pt x="55" y="757"/>
                        </a:lnTo>
                        <a:lnTo>
                          <a:pt x="69" y="725"/>
                        </a:lnTo>
                        <a:lnTo>
                          <a:pt x="69" y="693"/>
                        </a:lnTo>
                        <a:lnTo>
                          <a:pt x="69" y="662"/>
                        </a:lnTo>
                        <a:lnTo>
                          <a:pt x="83" y="631"/>
                        </a:lnTo>
                        <a:lnTo>
                          <a:pt x="83" y="584"/>
                        </a:lnTo>
                        <a:lnTo>
                          <a:pt x="83" y="552"/>
                        </a:lnTo>
                        <a:lnTo>
                          <a:pt x="97" y="520"/>
                        </a:lnTo>
                        <a:lnTo>
                          <a:pt x="97" y="488"/>
                        </a:lnTo>
                        <a:lnTo>
                          <a:pt x="97" y="441"/>
                        </a:lnTo>
                        <a:lnTo>
                          <a:pt x="97" y="409"/>
                        </a:lnTo>
                        <a:lnTo>
                          <a:pt x="97" y="377"/>
                        </a:lnTo>
                        <a:lnTo>
                          <a:pt x="97" y="347"/>
                        </a:lnTo>
                        <a:lnTo>
                          <a:pt x="97" y="299"/>
                        </a:lnTo>
                        <a:lnTo>
                          <a:pt x="97" y="268"/>
                        </a:lnTo>
                        <a:lnTo>
                          <a:pt x="97" y="236"/>
                        </a:lnTo>
                        <a:lnTo>
                          <a:pt x="97" y="204"/>
                        </a:lnTo>
                        <a:lnTo>
                          <a:pt x="97" y="173"/>
                        </a:lnTo>
                        <a:lnTo>
                          <a:pt x="97" y="126"/>
                        </a:lnTo>
                        <a:lnTo>
                          <a:pt x="97" y="94"/>
                        </a:lnTo>
                        <a:lnTo>
                          <a:pt x="97" y="62"/>
                        </a:lnTo>
                        <a:lnTo>
                          <a:pt x="97" y="30"/>
                        </a:lnTo>
                        <a:lnTo>
                          <a:pt x="8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7" name=""/>
                <p:cNvGrpSpPr/>
                <p:nvPr/>
              </p:nvGrpSpPr>
              <p:grpSpPr>
                <a:xfrm>
                  <a:off x="8682120" y="3313080"/>
                  <a:ext cx="28440" cy="184320"/>
                  <a:chOff x="8682120" y="3313080"/>
                  <a:chExt cx="28440" cy="184320"/>
                </a:xfrm>
              </p:grpSpPr>
              <p:sp>
                <p:nvSpPr>
                  <p:cNvPr id="588" name=""/>
                  <p:cNvSpPr/>
                  <p:nvPr/>
                </p:nvSpPr>
                <p:spPr>
                  <a:xfrm>
                    <a:off x="8682120" y="3313080"/>
                    <a:ext cx="28440" cy="18432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348">
                        <a:moveTo>
                          <a:pt x="55" y="348"/>
                        </a:moveTo>
                        <a:lnTo>
                          <a:pt x="55" y="299"/>
                        </a:lnTo>
                        <a:lnTo>
                          <a:pt x="55" y="269"/>
                        </a:lnTo>
                        <a:lnTo>
                          <a:pt x="41" y="220"/>
                        </a:lnTo>
                        <a:lnTo>
                          <a:pt x="41" y="190"/>
                        </a:lnTo>
                        <a:lnTo>
                          <a:pt x="27" y="158"/>
                        </a:lnTo>
                        <a:lnTo>
                          <a:pt x="27" y="111"/>
                        </a:lnTo>
                        <a:lnTo>
                          <a:pt x="14" y="79"/>
                        </a:lnTo>
                        <a:lnTo>
                          <a:pt x="14" y="47"/>
                        </a:lnTo>
                        <a:lnTo>
                          <a:pt x="0" y="0"/>
                        </a:lnTo>
                        <a:lnTo>
                          <a:pt x="55" y="348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8682120" y="3313080"/>
                    <a:ext cx="28440" cy="18432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348">
                        <a:moveTo>
                          <a:pt x="55" y="348"/>
                        </a:moveTo>
                        <a:lnTo>
                          <a:pt x="55" y="299"/>
                        </a:lnTo>
                        <a:lnTo>
                          <a:pt x="55" y="269"/>
                        </a:lnTo>
                        <a:lnTo>
                          <a:pt x="41" y="220"/>
                        </a:lnTo>
                        <a:lnTo>
                          <a:pt x="41" y="190"/>
                        </a:lnTo>
                        <a:lnTo>
                          <a:pt x="27" y="158"/>
                        </a:lnTo>
                        <a:lnTo>
                          <a:pt x="27" y="111"/>
                        </a:lnTo>
                        <a:lnTo>
                          <a:pt x="14" y="79"/>
                        </a:lnTo>
                        <a:lnTo>
                          <a:pt x="14" y="4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0" name=""/>
                <p:cNvGrpSpPr/>
                <p:nvPr/>
              </p:nvGrpSpPr>
              <p:grpSpPr>
                <a:xfrm>
                  <a:off x="8234280" y="2644920"/>
                  <a:ext cx="447840" cy="668160"/>
                  <a:chOff x="8234280" y="2644920"/>
                  <a:chExt cx="447840" cy="668160"/>
                </a:xfrm>
              </p:grpSpPr>
              <p:sp>
                <p:nvSpPr>
                  <p:cNvPr id="591" name=""/>
                  <p:cNvSpPr/>
                  <p:nvPr/>
                </p:nvSpPr>
                <p:spPr>
                  <a:xfrm>
                    <a:off x="8234280" y="2644920"/>
                    <a:ext cx="447840" cy="668160"/>
                  </a:xfrm>
                  <a:custGeom>
                    <a:avLst/>
                    <a:gdLst/>
                    <a:ahLst/>
                    <a:rect l="l" t="t" r="r" b="b"/>
                    <a:pathLst>
                      <a:path w="845" h="1262">
                        <a:moveTo>
                          <a:pt x="845" y="1262"/>
                        </a:moveTo>
                        <a:lnTo>
                          <a:pt x="845" y="1231"/>
                        </a:lnTo>
                        <a:lnTo>
                          <a:pt x="831" y="1199"/>
                        </a:lnTo>
                        <a:lnTo>
                          <a:pt x="831" y="1167"/>
                        </a:lnTo>
                        <a:lnTo>
                          <a:pt x="817" y="1136"/>
                        </a:lnTo>
                        <a:lnTo>
                          <a:pt x="803" y="1105"/>
                        </a:lnTo>
                        <a:lnTo>
                          <a:pt x="789" y="1073"/>
                        </a:lnTo>
                        <a:lnTo>
                          <a:pt x="789" y="1041"/>
                        </a:lnTo>
                        <a:lnTo>
                          <a:pt x="776" y="1009"/>
                        </a:lnTo>
                        <a:lnTo>
                          <a:pt x="762" y="979"/>
                        </a:lnTo>
                        <a:lnTo>
                          <a:pt x="748" y="947"/>
                        </a:lnTo>
                        <a:lnTo>
                          <a:pt x="734" y="915"/>
                        </a:lnTo>
                        <a:lnTo>
                          <a:pt x="720" y="883"/>
                        </a:lnTo>
                        <a:lnTo>
                          <a:pt x="706" y="836"/>
                        </a:lnTo>
                        <a:lnTo>
                          <a:pt x="693" y="804"/>
                        </a:lnTo>
                        <a:lnTo>
                          <a:pt x="679" y="789"/>
                        </a:lnTo>
                        <a:lnTo>
                          <a:pt x="665" y="757"/>
                        </a:lnTo>
                        <a:lnTo>
                          <a:pt x="651" y="726"/>
                        </a:lnTo>
                        <a:lnTo>
                          <a:pt x="623" y="694"/>
                        </a:lnTo>
                        <a:lnTo>
                          <a:pt x="610" y="663"/>
                        </a:lnTo>
                        <a:lnTo>
                          <a:pt x="596" y="631"/>
                        </a:lnTo>
                        <a:lnTo>
                          <a:pt x="582" y="615"/>
                        </a:lnTo>
                        <a:lnTo>
                          <a:pt x="554" y="584"/>
                        </a:lnTo>
                        <a:lnTo>
                          <a:pt x="540" y="553"/>
                        </a:lnTo>
                        <a:lnTo>
                          <a:pt x="513" y="536"/>
                        </a:lnTo>
                        <a:lnTo>
                          <a:pt x="484" y="505"/>
                        </a:lnTo>
                        <a:lnTo>
                          <a:pt x="470" y="474"/>
                        </a:lnTo>
                        <a:lnTo>
                          <a:pt x="442" y="457"/>
                        </a:lnTo>
                        <a:lnTo>
                          <a:pt x="428" y="427"/>
                        </a:lnTo>
                        <a:lnTo>
                          <a:pt x="401" y="395"/>
                        </a:lnTo>
                        <a:lnTo>
                          <a:pt x="387" y="378"/>
                        </a:lnTo>
                        <a:lnTo>
                          <a:pt x="359" y="348"/>
                        </a:lnTo>
                        <a:lnTo>
                          <a:pt x="345" y="331"/>
                        </a:lnTo>
                        <a:lnTo>
                          <a:pt x="318" y="299"/>
                        </a:lnTo>
                        <a:lnTo>
                          <a:pt x="304" y="284"/>
                        </a:lnTo>
                        <a:lnTo>
                          <a:pt x="276" y="252"/>
                        </a:lnTo>
                        <a:lnTo>
                          <a:pt x="249" y="237"/>
                        </a:lnTo>
                        <a:lnTo>
                          <a:pt x="235" y="205"/>
                        </a:lnTo>
                        <a:lnTo>
                          <a:pt x="207" y="190"/>
                        </a:lnTo>
                        <a:lnTo>
                          <a:pt x="179" y="158"/>
                        </a:lnTo>
                        <a:lnTo>
                          <a:pt x="166" y="142"/>
                        </a:lnTo>
                        <a:lnTo>
                          <a:pt x="138" y="126"/>
                        </a:lnTo>
                        <a:lnTo>
                          <a:pt x="110" y="95"/>
                        </a:lnTo>
                        <a:lnTo>
                          <a:pt x="96" y="79"/>
                        </a:lnTo>
                        <a:lnTo>
                          <a:pt x="69" y="63"/>
                        </a:lnTo>
                        <a:lnTo>
                          <a:pt x="41" y="32"/>
                        </a:lnTo>
                        <a:lnTo>
                          <a:pt x="27" y="16"/>
                        </a:lnTo>
                        <a:lnTo>
                          <a:pt x="0" y="0"/>
                        </a:lnTo>
                        <a:lnTo>
                          <a:pt x="845" y="1262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8234280" y="2644920"/>
                    <a:ext cx="447840" cy="668160"/>
                  </a:xfrm>
                  <a:custGeom>
                    <a:avLst/>
                    <a:gdLst/>
                    <a:ahLst/>
                    <a:rect l="l" t="t" r="r" b="b"/>
                    <a:pathLst>
                      <a:path w="845" h="1262">
                        <a:moveTo>
                          <a:pt x="845" y="1262"/>
                        </a:moveTo>
                        <a:lnTo>
                          <a:pt x="845" y="1231"/>
                        </a:lnTo>
                        <a:lnTo>
                          <a:pt x="831" y="1199"/>
                        </a:lnTo>
                        <a:lnTo>
                          <a:pt x="831" y="1167"/>
                        </a:lnTo>
                        <a:lnTo>
                          <a:pt x="817" y="1136"/>
                        </a:lnTo>
                        <a:lnTo>
                          <a:pt x="803" y="1105"/>
                        </a:lnTo>
                        <a:lnTo>
                          <a:pt x="789" y="1073"/>
                        </a:lnTo>
                        <a:lnTo>
                          <a:pt x="789" y="1041"/>
                        </a:lnTo>
                        <a:lnTo>
                          <a:pt x="776" y="1009"/>
                        </a:lnTo>
                        <a:lnTo>
                          <a:pt x="762" y="979"/>
                        </a:lnTo>
                        <a:lnTo>
                          <a:pt x="748" y="947"/>
                        </a:lnTo>
                        <a:lnTo>
                          <a:pt x="734" y="915"/>
                        </a:lnTo>
                        <a:lnTo>
                          <a:pt x="720" y="883"/>
                        </a:lnTo>
                        <a:lnTo>
                          <a:pt x="706" y="836"/>
                        </a:lnTo>
                        <a:lnTo>
                          <a:pt x="693" y="804"/>
                        </a:lnTo>
                        <a:lnTo>
                          <a:pt x="679" y="789"/>
                        </a:lnTo>
                        <a:lnTo>
                          <a:pt x="665" y="757"/>
                        </a:lnTo>
                        <a:lnTo>
                          <a:pt x="651" y="726"/>
                        </a:lnTo>
                        <a:lnTo>
                          <a:pt x="623" y="694"/>
                        </a:lnTo>
                        <a:lnTo>
                          <a:pt x="610" y="663"/>
                        </a:lnTo>
                        <a:lnTo>
                          <a:pt x="596" y="631"/>
                        </a:lnTo>
                        <a:lnTo>
                          <a:pt x="582" y="615"/>
                        </a:lnTo>
                        <a:lnTo>
                          <a:pt x="554" y="584"/>
                        </a:lnTo>
                        <a:lnTo>
                          <a:pt x="540" y="553"/>
                        </a:lnTo>
                        <a:lnTo>
                          <a:pt x="513" y="536"/>
                        </a:lnTo>
                        <a:lnTo>
                          <a:pt x="484" y="505"/>
                        </a:lnTo>
                        <a:lnTo>
                          <a:pt x="470" y="474"/>
                        </a:lnTo>
                        <a:lnTo>
                          <a:pt x="442" y="457"/>
                        </a:lnTo>
                        <a:lnTo>
                          <a:pt x="428" y="427"/>
                        </a:lnTo>
                        <a:lnTo>
                          <a:pt x="401" y="395"/>
                        </a:lnTo>
                        <a:lnTo>
                          <a:pt x="387" y="378"/>
                        </a:lnTo>
                        <a:lnTo>
                          <a:pt x="359" y="348"/>
                        </a:lnTo>
                        <a:lnTo>
                          <a:pt x="345" y="331"/>
                        </a:lnTo>
                        <a:lnTo>
                          <a:pt x="318" y="299"/>
                        </a:lnTo>
                        <a:lnTo>
                          <a:pt x="304" y="284"/>
                        </a:lnTo>
                        <a:lnTo>
                          <a:pt x="276" y="252"/>
                        </a:lnTo>
                        <a:lnTo>
                          <a:pt x="249" y="237"/>
                        </a:lnTo>
                        <a:lnTo>
                          <a:pt x="235" y="205"/>
                        </a:lnTo>
                        <a:lnTo>
                          <a:pt x="207" y="190"/>
                        </a:lnTo>
                        <a:lnTo>
                          <a:pt x="179" y="158"/>
                        </a:lnTo>
                        <a:lnTo>
                          <a:pt x="166" y="142"/>
                        </a:lnTo>
                        <a:lnTo>
                          <a:pt x="138" y="126"/>
                        </a:lnTo>
                        <a:lnTo>
                          <a:pt x="110" y="95"/>
                        </a:lnTo>
                        <a:lnTo>
                          <a:pt x="96" y="79"/>
                        </a:lnTo>
                        <a:lnTo>
                          <a:pt x="69" y="63"/>
                        </a:lnTo>
                        <a:lnTo>
                          <a:pt x="41" y="32"/>
                        </a:lnTo>
                        <a:lnTo>
                          <a:pt x="27" y="1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3" name=""/>
                <p:cNvGrpSpPr/>
                <p:nvPr/>
              </p:nvGrpSpPr>
              <p:grpSpPr>
                <a:xfrm>
                  <a:off x="8028000" y="2511360"/>
                  <a:ext cx="206280" cy="133560"/>
                  <a:chOff x="8028000" y="2511360"/>
                  <a:chExt cx="206280" cy="133560"/>
                </a:xfrm>
              </p:grpSpPr>
              <p:sp>
                <p:nvSpPr>
                  <p:cNvPr id="594" name=""/>
                  <p:cNvSpPr/>
                  <p:nvPr/>
                </p:nvSpPr>
                <p:spPr>
                  <a:xfrm>
                    <a:off x="8028000" y="2511360"/>
                    <a:ext cx="206280" cy="133560"/>
                  </a:xfrm>
                  <a:custGeom>
                    <a:avLst/>
                    <a:gdLst/>
                    <a:ahLst/>
                    <a:rect l="l" t="t" r="r" b="b"/>
                    <a:pathLst>
                      <a:path w="389" h="253">
                        <a:moveTo>
                          <a:pt x="389" y="253"/>
                        </a:moveTo>
                        <a:lnTo>
                          <a:pt x="361" y="222"/>
                        </a:lnTo>
                        <a:lnTo>
                          <a:pt x="333" y="206"/>
                        </a:lnTo>
                        <a:lnTo>
                          <a:pt x="306" y="190"/>
                        </a:lnTo>
                        <a:lnTo>
                          <a:pt x="278" y="175"/>
                        </a:lnTo>
                        <a:lnTo>
                          <a:pt x="250" y="143"/>
                        </a:lnTo>
                        <a:lnTo>
                          <a:pt x="223" y="128"/>
                        </a:lnTo>
                        <a:lnTo>
                          <a:pt x="195" y="111"/>
                        </a:lnTo>
                        <a:lnTo>
                          <a:pt x="167" y="96"/>
                        </a:lnTo>
                        <a:lnTo>
                          <a:pt x="140" y="79"/>
                        </a:lnTo>
                        <a:lnTo>
                          <a:pt x="112" y="64"/>
                        </a:lnTo>
                        <a:lnTo>
                          <a:pt x="83" y="49"/>
                        </a:lnTo>
                        <a:lnTo>
                          <a:pt x="55" y="32"/>
                        </a:lnTo>
                        <a:lnTo>
                          <a:pt x="28" y="17"/>
                        </a:lnTo>
                        <a:lnTo>
                          <a:pt x="0" y="0"/>
                        </a:lnTo>
                        <a:lnTo>
                          <a:pt x="389" y="253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8028000" y="2511360"/>
                    <a:ext cx="206280" cy="133560"/>
                  </a:xfrm>
                  <a:custGeom>
                    <a:avLst/>
                    <a:gdLst/>
                    <a:ahLst/>
                    <a:rect l="l" t="t" r="r" b="b"/>
                    <a:pathLst>
                      <a:path w="389" h="253">
                        <a:moveTo>
                          <a:pt x="389" y="253"/>
                        </a:moveTo>
                        <a:lnTo>
                          <a:pt x="361" y="222"/>
                        </a:lnTo>
                        <a:lnTo>
                          <a:pt x="333" y="206"/>
                        </a:lnTo>
                        <a:lnTo>
                          <a:pt x="306" y="190"/>
                        </a:lnTo>
                        <a:lnTo>
                          <a:pt x="278" y="175"/>
                        </a:lnTo>
                        <a:lnTo>
                          <a:pt x="250" y="143"/>
                        </a:lnTo>
                        <a:lnTo>
                          <a:pt x="223" y="128"/>
                        </a:lnTo>
                        <a:lnTo>
                          <a:pt x="195" y="111"/>
                        </a:lnTo>
                        <a:lnTo>
                          <a:pt x="167" y="96"/>
                        </a:lnTo>
                        <a:lnTo>
                          <a:pt x="140" y="79"/>
                        </a:lnTo>
                        <a:lnTo>
                          <a:pt x="112" y="64"/>
                        </a:lnTo>
                        <a:lnTo>
                          <a:pt x="83" y="49"/>
                        </a:lnTo>
                        <a:lnTo>
                          <a:pt x="55" y="32"/>
                        </a:lnTo>
                        <a:lnTo>
                          <a:pt x="28" y="1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6" name=""/>
                <p:cNvGrpSpPr/>
                <p:nvPr/>
              </p:nvGrpSpPr>
              <p:grpSpPr>
                <a:xfrm>
                  <a:off x="7962840" y="2478240"/>
                  <a:ext cx="65160" cy="33120"/>
                  <a:chOff x="7962840" y="2478240"/>
                  <a:chExt cx="65160" cy="33120"/>
                </a:xfrm>
              </p:grpSpPr>
              <p:sp>
                <p:nvSpPr>
                  <p:cNvPr id="597" name=""/>
                  <p:cNvSpPr/>
                  <p:nvPr/>
                </p:nvSpPr>
                <p:spPr>
                  <a:xfrm>
                    <a:off x="7962840" y="2478240"/>
                    <a:ext cx="6516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62">
                        <a:moveTo>
                          <a:pt x="125" y="62"/>
                        </a:moveTo>
                        <a:lnTo>
                          <a:pt x="83" y="47"/>
                        </a:lnTo>
                        <a:lnTo>
                          <a:pt x="42" y="15"/>
                        </a:lnTo>
                        <a:lnTo>
                          <a:pt x="0" y="0"/>
                        </a:lnTo>
                        <a:lnTo>
                          <a:pt x="125" y="62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7962840" y="2478240"/>
                    <a:ext cx="6516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62">
                        <a:moveTo>
                          <a:pt x="125" y="62"/>
                        </a:moveTo>
                        <a:lnTo>
                          <a:pt x="83" y="47"/>
                        </a:lnTo>
                        <a:lnTo>
                          <a:pt x="42" y="1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9" name=""/>
                <p:cNvGrpSpPr/>
                <p:nvPr/>
              </p:nvGrpSpPr>
              <p:grpSpPr>
                <a:xfrm>
                  <a:off x="7926480" y="2460600"/>
                  <a:ext cx="36360" cy="17640"/>
                  <a:chOff x="7926480" y="2460600"/>
                  <a:chExt cx="36360" cy="17640"/>
                </a:xfrm>
              </p:grpSpPr>
              <p:sp>
                <p:nvSpPr>
                  <p:cNvPr id="600" name=""/>
                  <p:cNvSpPr/>
                  <p:nvPr/>
                </p:nvSpPr>
                <p:spPr>
                  <a:xfrm>
                    <a:off x="7926480" y="2460600"/>
                    <a:ext cx="363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32">
                        <a:moveTo>
                          <a:pt x="69" y="32"/>
                        </a:moveTo>
                        <a:lnTo>
                          <a:pt x="42" y="15"/>
                        </a:lnTo>
                        <a:lnTo>
                          <a:pt x="14" y="15"/>
                        </a:lnTo>
                        <a:lnTo>
                          <a:pt x="0" y="0"/>
                        </a:lnTo>
                        <a:lnTo>
                          <a:pt x="69" y="32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7926480" y="2460600"/>
                    <a:ext cx="363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32">
                        <a:moveTo>
                          <a:pt x="69" y="32"/>
                        </a:moveTo>
                        <a:lnTo>
                          <a:pt x="42" y="15"/>
                        </a:lnTo>
                        <a:lnTo>
                          <a:pt x="14" y="1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2" name=""/>
                <p:cNvGrpSpPr/>
                <p:nvPr/>
              </p:nvGrpSpPr>
              <p:grpSpPr>
                <a:xfrm>
                  <a:off x="8013600" y="4464000"/>
                  <a:ext cx="536760" cy="335160"/>
                  <a:chOff x="8013600" y="4464000"/>
                  <a:chExt cx="536760" cy="335160"/>
                </a:xfrm>
              </p:grpSpPr>
              <p:sp>
                <p:nvSpPr>
                  <p:cNvPr id="603" name=""/>
                  <p:cNvSpPr/>
                  <p:nvPr/>
                </p:nvSpPr>
                <p:spPr>
                  <a:xfrm>
                    <a:off x="8013600" y="4464000"/>
                    <a:ext cx="536760" cy="33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13" h="631">
                        <a:moveTo>
                          <a:pt x="0" y="631"/>
                        </a:moveTo>
                        <a:lnTo>
                          <a:pt x="28" y="631"/>
                        </a:lnTo>
                        <a:lnTo>
                          <a:pt x="69" y="616"/>
                        </a:lnTo>
                        <a:lnTo>
                          <a:pt x="97" y="599"/>
                        </a:lnTo>
                        <a:lnTo>
                          <a:pt x="125" y="599"/>
                        </a:lnTo>
                        <a:lnTo>
                          <a:pt x="154" y="584"/>
                        </a:lnTo>
                        <a:lnTo>
                          <a:pt x="181" y="569"/>
                        </a:lnTo>
                        <a:lnTo>
                          <a:pt x="209" y="552"/>
                        </a:lnTo>
                        <a:lnTo>
                          <a:pt x="237" y="537"/>
                        </a:lnTo>
                        <a:lnTo>
                          <a:pt x="264" y="537"/>
                        </a:lnTo>
                        <a:lnTo>
                          <a:pt x="292" y="520"/>
                        </a:lnTo>
                        <a:lnTo>
                          <a:pt x="320" y="505"/>
                        </a:lnTo>
                        <a:lnTo>
                          <a:pt x="347" y="490"/>
                        </a:lnTo>
                        <a:lnTo>
                          <a:pt x="375" y="473"/>
                        </a:lnTo>
                        <a:lnTo>
                          <a:pt x="403" y="458"/>
                        </a:lnTo>
                        <a:lnTo>
                          <a:pt x="430" y="441"/>
                        </a:lnTo>
                        <a:lnTo>
                          <a:pt x="458" y="426"/>
                        </a:lnTo>
                        <a:lnTo>
                          <a:pt x="486" y="411"/>
                        </a:lnTo>
                        <a:lnTo>
                          <a:pt x="513" y="394"/>
                        </a:lnTo>
                        <a:lnTo>
                          <a:pt x="541" y="362"/>
                        </a:lnTo>
                        <a:lnTo>
                          <a:pt x="569" y="347"/>
                        </a:lnTo>
                        <a:lnTo>
                          <a:pt x="596" y="332"/>
                        </a:lnTo>
                        <a:lnTo>
                          <a:pt x="624" y="315"/>
                        </a:lnTo>
                        <a:lnTo>
                          <a:pt x="652" y="300"/>
                        </a:lnTo>
                        <a:lnTo>
                          <a:pt x="679" y="284"/>
                        </a:lnTo>
                        <a:lnTo>
                          <a:pt x="693" y="253"/>
                        </a:lnTo>
                        <a:lnTo>
                          <a:pt x="721" y="237"/>
                        </a:lnTo>
                        <a:lnTo>
                          <a:pt x="749" y="221"/>
                        </a:lnTo>
                        <a:lnTo>
                          <a:pt x="776" y="189"/>
                        </a:lnTo>
                        <a:lnTo>
                          <a:pt x="804" y="174"/>
                        </a:lnTo>
                        <a:lnTo>
                          <a:pt x="832" y="158"/>
                        </a:lnTo>
                        <a:lnTo>
                          <a:pt x="845" y="126"/>
                        </a:lnTo>
                        <a:lnTo>
                          <a:pt x="873" y="111"/>
                        </a:lnTo>
                        <a:lnTo>
                          <a:pt x="901" y="95"/>
                        </a:lnTo>
                        <a:lnTo>
                          <a:pt x="930" y="64"/>
                        </a:lnTo>
                        <a:lnTo>
                          <a:pt x="957" y="47"/>
                        </a:lnTo>
                        <a:lnTo>
                          <a:pt x="985" y="17"/>
                        </a:lnTo>
                        <a:lnTo>
                          <a:pt x="1013" y="0"/>
                        </a:lnTo>
                        <a:lnTo>
                          <a:pt x="0" y="631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8013600" y="4464000"/>
                    <a:ext cx="536760" cy="33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13" h="631">
                        <a:moveTo>
                          <a:pt x="0" y="631"/>
                        </a:moveTo>
                        <a:lnTo>
                          <a:pt x="28" y="631"/>
                        </a:lnTo>
                        <a:lnTo>
                          <a:pt x="69" y="616"/>
                        </a:lnTo>
                        <a:lnTo>
                          <a:pt x="97" y="599"/>
                        </a:lnTo>
                        <a:lnTo>
                          <a:pt x="125" y="599"/>
                        </a:lnTo>
                        <a:lnTo>
                          <a:pt x="154" y="584"/>
                        </a:lnTo>
                        <a:lnTo>
                          <a:pt x="181" y="569"/>
                        </a:lnTo>
                        <a:lnTo>
                          <a:pt x="209" y="552"/>
                        </a:lnTo>
                        <a:lnTo>
                          <a:pt x="237" y="537"/>
                        </a:lnTo>
                        <a:lnTo>
                          <a:pt x="264" y="537"/>
                        </a:lnTo>
                        <a:lnTo>
                          <a:pt x="292" y="520"/>
                        </a:lnTo>
                        <a:lnTo>
                          <a:pt x="320" y="505"/>
                        </a:lnTo>
                        <a:lnTo>
                          <a:pt x="347" y="490"/>
                        </a:lnTo>
                        <a:lnTo>
                          <a:pt x="375" y="473"/>
                        </a:lnTo>
                        <a:lnTo>
                          <a:pt x="403" y="458"/>
                        </a:lnTo>
                        <a:lnTo>
                          <a:pt x="430" y="441"/>
                        </a:lnTo>
                        <a:lnTo>
                          <a:pt x="458" y="426"/>
                        </a:lnTo>
                        <a:lnTo>
                          <a:pt x="486" y="411"/>
                        </a:lnTo>
                        <a:lnTo>
                          <a:pt x="513" y="394"/>
                        </a:lnTo>
                        <a:lnTo>
                          <a:pt x="541" y="362"/>
                        </a:lnTo>
                        <a:lnTo>
                          <a:pt x="569" y="347"/>
                        </a:lnTo>
                        <a:lnTo>
                          <a:pt x="596" y="332"/>
                        </a:lnTo>
                        <a:lnTo>
                          <a:pt x="624" y="315"/>
                        </a:lnTo>
                        <a:lnTo>
                          <a:pt x="652" y="300"/>
                        </a:lnTo>
                        <a:lnTo>
                          <a:pt x="679" y="284"/>
                        </a:lnTo>
                        <a:lnTo>
                          <a:pt x="693" y="253"/>
                        </a:lnTo>
                        <a:lnTo>
                          <a:pt x="721" y="237"/>
                        </a:lnTo>
                        <a:lnTo>
                          <a:pt x="749" y="221"/>
                        </a:lnTo>
                        <a:lnTo>
                          <a:pt x="776" y="189"/>
                        </a:lnTo>
                        <a:lnTo>
                          <a:pt x="804" y="174"/>
                        </a:lnTo>
                        <a:lnTo>
                          <a:pt x="832" y="158"/>
                        </a:lnTo>
                        <a:lnTo>
                          <a:pt x="845" y="126"/>
                        </a:lnTo>
                        <a:lnTo>
                          <a:pt x="873" y="111"/>
                        </a:lnTo>
                        <a:lnTo>
                          <a:pt x="901" y="95"/>
                        </a:lnTo>
                        <a:lnTo>
                          <a:pt x="930" y="64"/>
                        </a:lnTo>
                        <a:lnTo>
                          <a:pt x="957" y="47"/>
                        </a:lnTo>
                        <a:lnTo>
                          <a:pt x="985" y="17"/>
                        </a:lnTo>
                        <a:lnTo>
                          <a:pt x="101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5" name=""/>
                <p:cNvGrpSpPr/>
                <p:nvPr/>
              </p:nvGrpSpPr>
              <p:grpSpPr>
                <a:xfrm>
                  <a:off x="8550360" y="4046400"/>
                  <a:ext cx="277560" cy="417600"/>
                  <a:chOff x="8550360" y="4046400"/>
                  <a:chExt cx="277560" cy="417600"/>
                </a:xfrm>
              </p:grpSpPr>
              <p:sp>
                <p:nvSpPr>
                  <p:cNvPr id="606" name=""/>
                  <p:cNvSpPr/>
                  <p:nvPr/>
                </p:nvSpPr>
                <p:spPr>
                  <a:xfrm>
                    <a:off x="8550360" y="4046400"/>
                    <a:ext cx="277560" cy="417600"/>
                  </a:xfrm>
                  <a:custGeom>
                    <a:avLst/>
                    <a:gdLst/>
                    <a:ahLst/>
                    <a:rect l="l" t="t" r="r" b="b"/>
                    <a:pathLst>
                      <a:path w="525" h="789">
                        <a:moveTo>
                          <a:pt x="0" y="789"/>
                        </a:moveTo>
                        <a:lnTo>
                          <a:pt x="27" y="757"/>
                        </a:lnTo>
                        <a:lnTo>
                          <a:pt x="41" y="742"/>
                        </a:lnTo>
                        <a:lnTo>
                          <a:pt x="69" y="710"/>
                        </a:lnTo>
                        <a:lnTo>
                          <a:pt x="83" y="695"/>
                        </a:lnTo>
                        <a:lnTo>
                          <a:pt x="110" y="663"/>
                        </a:lnTo>
                        <a:lnTo>
                          <a:pt x="138" y="631"/>
                        </a:lnTo>
                        <a:lnTo>
                          <a:pt x="152" y="616"/>
                        </a:lnTo>
                        <a:lnTo>
                          <a:pt x="180" y="584"/>
                        </a:lnTo>
                        <a:lnTo>
                          <a:pt x="193" y="552"/>
                        </a:lnTo>
                        <a:lnTo>
                          <a:pt x="221" y="537"/>
                        </a:lnTo>
                        <a:lnTo>
                          <a:pt x="235" y="505"/>
                        </a:lnTo>
                        <a:lnTo>
                          <a:pt x="263" y="473"/>
                        </a:lnTo>
                        <a:lnTo>
                          <a:pt x="276" y="458"/>
                        </a:lnTo>
                        <a:lnTo>
                          <a:pt x="290" y="426"/>
                        </a:lnTo>
                        <a:lnTo>
                          <a:pt x="318" y="395"/>
                        </a:lnTo>
                        <a:lnTo>
                          <a:pt x="332" y="363"/>
                        </a:lnTo>
                        <a:lnTo>
                          <a:pt x="346" y="332"/>
                        </a:lnTo>
                        <a:lnTo>
                          <a:pt x="373" y="300"/>
                        </a:lnTo>
                        <a:lnTo>
                          <a:pt x="387" y="269"/>
                        </a:lnTo>
                        <a:lnTo>
                          <a:pt x="401" y="253"/>
                        </a:lnTo>
                        <a:lnTo>
                          <a:pt x="415" y="222"/>
                        </a:lnTo>
                        <a:lnTo>
                          <a:pt x="428" y="190"/>
                        </a:lnTo>
                        <a:lnTo>
                          <a:pt x="442" y="158"/>
                        </a:lnTo>
                        <a:lnTo>
                          <a:pt x="470" y="126"/>
                        </a:lnTo>
                        <a:lnTo>
                          <a:pt x="484" y="96"/>
                        </a:lnTo>
                        <a:lnTo>
                          <a:pt x="498" y="64"/>
                        </a:lnTo>
                        <a:lnTo>
                          <a:pt x="511" y="32"/>
                        </a:lnTo>
                        <a:lnTo>
                          <a:pt x="525" y="0"/>
                        </a:lnTo>
                        <a:lnTo>
                          <a:pt x="0" y="789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8550360" y="4046400"/>
                    <a:ext cx="277560" cy="417600"/>
                  </a:xfrm>
                  <a:custGeom>
                    <a:avLst/>
                    <a:gdLst/>
                    <a:ahLst/>
                    <a:rect l="l" t="t" r="r" b="b"/>
                    <a:pathLst>
                      <a:path w="525" h="789">
                        <a:moveTo>
                          <a:pt x="0" y="789"/>
                        </a:moveTo>
                        <a:lnTo>
                          <a:pt x="27" y="757"/>
                        </a:lnTo>
                        <a:lnTo>
                          <a:pt x="41" y="742"/>
                        </a:lnTo>
                        <a:lnTo>
                          <a:pt x="69" y="710"/>
                        </a:lnTo>
                        <a:lnTo>
                          <a:pt x="83" y="695"/>
                        </a:lnTo>
                        <a:lnTo>
                          <a:pt x="110" y="663"/>
                        </a:lnTo>
                        <a:lnTo>
                          <a:pt x="138" y="631"/>
                        </a:lnTo>
                        <a:lnTo>
                          <a:pt x="152" y="616"/>
                        </a:lnTo>
                        <a:lnTo>
                          <a:pt x="180" y="584"/>
                        </a:lnTo>
                        <a:lnTo>
                          <a:pt x="193" y="552"/>
                        </a:lnTo>
                        <a:lnTo>
                          <a:pt x="221" y="537"/>
                        </a:lnTo>
                        <a:lnTo>
                          <a:pt x="235" y="505"/>
                        </a:lnTo>
                        <a:lnTo>
                          <a:pt x="263" y="473"/>
                        </a:lnTo>
                        <a:lnTo>
                          <a:pt x="276" y="458"/>
                        </a:lnTo>
                        <a:lnTo>
                          <a:pt x="290" y="426"/>
                        </a:lnTo>
                        <a:lnTo>
                          <a:pt x="318" y="395"/>
                        </a:lnTo>
                        <a:lnTo>
                          <a:pt x="332" y="363"/>
                        </a:lnTo>
                        <a:lnTo>
                          <a:pt x="346" y="332"/>
                        </a:lnTo>
                        <a:lnTo>
                          <a:pt x="373" y="300"/>
                        </a:lnTo>
                        <a:lnTo>
                          <a:pt x="387" y="269"/>
                        </a:lnTo>
                        <a:lnTo>
                          <a:pt x="401" y="253"/>
                        </a:lnTo>
                        <a:lnTo>
                          <a:pt x="415" y="222"/>
                        </a:lnTo>
                        <a:lnTo>
                          <a:pt x="428" y="190"/>
                        </a:lnTo>
                        <a:lnTo>
                          <a:pt x="442" y="158"/>
                        </a:lnTo>
                        <a:lnTo>
                          <a:pt x="470" y="126"/>
                        </a:lnTo>
                        <a:lnTo>
                          <a:pt x="484" y="96"/>
                        </a:lnTo>
                        <a:lnTo>
                          <a:pt x="498" y="64"/>
                        </a:lnTo>
                        <a:lnTo>
                          <a:pt x="511" y="32"/>
                        </a:lnTo>
                        <a:lnTo>
                          <a:pt x="525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8" name=""/>
                <p:cNvGrpSpPr/>
                <p:nvPr/>
              </p:nvGrpSpPr>
              <p:grpSpPr>
                <a:xfrm>
                  <a:off x="8827920" y="3371760"/>
                  <a:ext cx="65160" cy="674640"/>
                  <a:chOff x="8827920" y="3371760"/>
                  <a:chExt cx="65160" cy="674640"/>
                </a:xfrm>
              </p:grpSpPr>
              <p:sp>
                <p:nvSpPr>
                  <p:cNvPr id="609" name=""/>
                  <p:cNvSpPr/>
                  <p:nvPr/>
                </p:nvSpPr>
                <p:spPr>
                  <a:xfrm>
                    <a:off x="8827920" y="3371760"/>
                    <a:ext cx="65160" cy="67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1277">
                        <a:moveTo>
                          <a:pt x="0" y="1277"/>
                        </a:moveTo>
                        <a:lnTo>
                          <a:pt x="14" y="1230"/>
                        </a:lnTo>
                        <a:lnTo>
                          <a:pt x="14" y="1198"/>
                        </a:lnTo>
                        <a:lnTo>
                          <a:pt x="28" y="1167"/>
                        </a:lnTo>
                        <a:lnTo>
                          <a:pt x="42" y="1136"/>
                        </a:lnTo>
                        <a:lnTo>
                          <a:pt x="56" y="1104"/>
                        </a:lnTo>
                        <a:lnTo>
                          <a:pt x="69" y="1057"/>
                        </a:lnTo>
                        <a:lnTo>
                          <a:pt x="69" y="1025"/>
                        </a:lnTo>
                        <a:lnTo>
                          <a:pt x="83" y="994"/>
                        </a:lnTo>
                        <a:lnTo>
                          <a:pt x="83" y="962"/>
                        </a:lnTo>
                        <a:lnTo>
                          <a:pt x="97" y="915"/>
                        </a:lnTo>
                        <a:lnTo>
                          <a:pt x="97" y="883"/>
                        </a:lnTo>
                        <a:lnTo>
                          <a:pt x="111" y="851"/>
                        </a:lnTo>
                        <a:lnTo>
                          <a:pt x="111" y="821"/>
                        </a:lnTo>
                        <a:lnTo>
                          <a:pt x="111" y="789"/>
                        </a:lnTo>
                        <a:lnTo>
                          <a:pt x="111" y="742"/>
                        </a:lnTo>
                        <a:lnTo>
                          <a:pt x="125" y="710"/>
                        </a:lnTo>
                        <a:lnTo>
                          <a:pt x="125" y="678"/>
                        </a:lnTo>
                        <a:lnTo>
                          <a:pt x="125" y="646"/>
                        </a:lnTo>
                        <a:lnTo>
                          <a:pt x="125" y="614"/>
                        </a:lnTo>
                        <a:lnTo>
                          <a:pt x="125" y="567"/>
                        </a:lnTo>
                        <a:lnTo>
                          <a:pt x="125" y="536"/>
                        </a:lnTo>
                        <a:lnTo>
                          <a:pt x="125" y="505"/>
                        </a:lnTo>
                        <a:lnTo>
                          <a:pt x="125" y="473"/>
                        </a:lnTo>
                        <a:lnTo>
                          <a:pt x="125" y="441"/>
                        </a:lnTo>
                        <a:lnTo>
                          <a:pt x="111" y="410"/>
                        </a:lnTo>
                        <a:lnTo>
                          <a:pt x="111" y="363"/>
                        </a:lnTo>
                        <a:lnTo>
                          <a:pt x="111" y="331"/>
                        </a:lnTo>
                        <a:lnTo>
                          <a:pt x="111" y="299"/>
                        </a:lnTo>
                        <a:lnTo>
                          <a:pt x="111" y="267"/>
                        </a:lnTo>
                        <a:lnTo>
                          <a:pt x="97" y="237"/>
                        </a:lnTo>
                        <a:lnTo>
                          <a:pt x="97" y="205"/>
                        </a:lnTo>
                        <a:lnTo>
                          <a:pt x="97" y="173"/>
                        </a:lnTo>
                        <a:lnTo>
                          <a:pt x="83" y="141"/>
                        </a:lnTo>
                        <a:lnTo>
                          <a:pt x="83" y="109"/>
                        </a:lnTo>
                        <a:lnTo>
                          <a:pt x="69" y="62"/>
                        </a:lnTo>
                        <a:lnTo>
                          <a:pt x="69" y="31"/>
                        </a:lnTo>
                        <a:lnTo>
                          <a:pt x="69" y="0"/>
                        </a:lnTo>
                        <a:lnTo>
                          <a:pt x="0" y="1277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8827920" y="3371760"/>
                    <a:ext cx="65160" cy="67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1277">
                        <a:moveTo>
                          <a:pt x="0" y="1277"/>
                        </a:moveTo>
                        <a:lnTo>
                          <a:pt x="14" y="1230"/>
                        </a:lnTo>
                        <a:lnTo>
                          <a:pt x="14" y="1198"/>
                        </a:lnTo>
                        <a:lnTo>
                          <a:pt x="28" y="1167"/>
                        </a:lnTo>
                        <a:lnTo>
                          <a:pt x="42" y="1136"/>
                        </a:lnTo>
                        <a:lnTo>
                          <a:pt x="56" y="1104"/>
                        </a:lnTo>
                        <a:lnTo>
                          <a:pt x="69" y="1057"/>
                        </a:lnTo>
                        <a:lnTo>
                          <a:pt x="69" y="1025"/>
                        </a:lnTo>
                        <a:lnTo>
                          <a:pt x="83" y="994"/>
                        </a:lnTo>
                        <a:lnTo>
                          <a:pt x="83" y="962"/>
                        </a:lnTo>
                        <a:lnTo>
                          <a:pt x="97" y="915"/>
                        </a:lnTo>
                        <a:lnTo>
                          <a:pt x="97" y="883"/>
                        </a:lnTo>
                        <a:lnTo>
                          <a:pt x="111" y="851"/>
                        </a:lnTo>
                        <a:lnTo>
                          <a:pt x="111" y="821"/>
                        </a:lnTo>
                        <a:lnTo>
                          <a:pt x="111" y="789"/>
                        </a:lnTo>
                        <a:lnTo>
                          <a:pt x="111" y="742"/>
                        </a:lnTo>
                        <a:lnTo>
                          <a:pt x="125" y="710"/>
                        </a:lnTo>
                        <a:lnTo>
                          <a:pt x="125" y="678"/>
                        </a:lnTo>
                        <a:lnTo>
                          <a:pt x="125" y="646"/>
                        </a:lnTo>
                        <a:lnTo>
                          <a:pt x="125" y="614"/>
                        </a:lnTo>
                        <a:lnTo>
                          <a:pt x="125" y="567"/>
                        </a:lnTo>
                        <a:lnTo>
                          <a:pt x="125" y="536"/>
                        </a:lnTo>
                        <a:lnTo>
                          <a:pt x="125" y="505"/>
                        </a:lnTo>
                        <a:lnTo>
                          <a:pt x="125" y="473"/>
                        </a:lnTo>
                        <a:lnTo>
                          <a:pt x="125" y="441"/>
                        </a:lnTo>
                        <a:lnTo>
                          <a:pt x="111" y="410"/>
                        </a:lnTo>
                        <a:lnTo>
                          <a:pt x="111" y="363"/>
                        </a:lnTo>
                        <a:lnTo>
                          <a:pt x="111" y="331"/>
                        </a:lnTo>
                        <a:lnTo>
                          <a:pt x="111" y="299"/>
                        </a:lnTo>
                        <a:lnTo>
                          <a:pt x="111" y="267"/>
                        </a:lnTo>
                        <a:lnTo>
                          <a:pt x="97" y="237"/>
                        </a:lnTo>
                        <a:lnTo>
                          <a:pt x="97" y="205"/>
                        </a:lnTo>
                        <a:lnTo>
                          <a:pt x="97" y="173"/>
                        </a:lnTo>
                        <a:lnTo>
                          <a:pt x="83" y="141"/>
                        </a:lnTo>
                        <a:lnTo>
                          <a:pt x="83" y="109"/>
                        </a:lnTo>
                        <a:lnTo>
                          <a:pt x="69" y="62"/>
                        </a:lnTo>
                        <a:lnTo>
                          <a:pt x="69" y="31"/>
                        </a:lnTo>
                        <a:lnTo>
                          <a:pt x="6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1" name=""/>
                <p:cNvGrpSpPr/>
                <p:nvPr/>
              </p:nvGrpSpPr>
              <p:grpSpPr>
                <a:xfrm>
                  <a:off x="8820000" y="3213000"/>
                  <a:ext cx="44640" cy="158760"/>
                  <a:chOff x="8820000" y="3213000"/>
                  <a:chExt cx="44640" cy="158760"/>
                </a:xfrm>
              </p:grpSpPr>
              <p:sp>
                <p:nvSpPr>
                  <p:cNvPr id="612" name=""/>
                  <p:cNvSpPr/>
                  <p:nvPr/>
                </p:nvSpPr>
                <p:spPr>
                  <a:xfrm>
                    <a:off x="8820000" y="3213000"/>
                    <a:ext cx="4464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300">
                        <a:moveTo>
                          <a:pt x="83" y="300"/>
                        </a:moveTo>
                        <a:lnTo>
                          <a:pt x="70" y="268"/>
                        </a:lnTo>
                        <a:lnTo>
                          <a:pt x="56" y="221"/>
                        </a:lnTo>
                        <a:lnTo>
                          <a:pt x="56" y="189"/>
                        </a:lnTo>
                        <a:lnTo>
                          <a:pt x="42" y="142"/>
                        </a:lnTo>
                        <a:lnTo>
                          <a:pt x="28" y="111"/>
                        </a:lnTo>
                        <a:lnTo>
                          <a:pt x="14" y="79"/>
                        </a:lnTo>
                        <a:lnTo>
                          <a:pt x="14" y="32"/>
                        </a:lnTo>
                        <a:lnTo>
                          <a:pt x="0" y="0"/>
                        </a:lnTo>
                        <a:lnTo>
                          <a:pt x="83" y="300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8820000" y="3213000"/>
                    <a:ext cx="4464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300">
                        <a:moveTo>
                          <a:pt x="83" y="300"/>
                        </a:moveTo>
                        <a:lnTo>
                          <a:pt x="70" y="268"/>
                        </a:lnTo>
                        <a:lnTo>
                          <a:pt x="56" y="221"/>
                        </a:lnTo>
                        <a:lnTo>
                          <a:pt x="56" y="189"/>
                        </a:lnTo>
                        <a:lnTo>
                          <a:pt x="42" y="142"/>
                        </a:lnTo>
                        <a:lnTo>
                          <a:pt x="28" y="111"/>
                        </a:lnTo>
                        <a:lnTo>
                          <a:pt x="14" y="79"/>
                        </a:lnTo>
                        <a:lnTo>
                          <a:pt x="14" y="3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4" name=""/>
                <p:cNvGrpSpPr/>
                <p:nvPr/>
              </p:nvGrpSpPr>
              <p:grpSpPr>
                <a:xfrm>
                  <a:off x="8358120" y="2644920"/>
                  <a:ext cx="461880" cy="568080"/>
                  <a:chOff x="8358120" y="2644920"/>
                  <a:chExt cx="461880" cy="56808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>
                    <a:off x="8358120" y="2644920"/>
                    <a:ext cx="461880" cy="56808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1073">
                        <a:moveTo>
                          <a:pt x="872" y="1073"/>
                        </a:moveTo>
                        <a:lnTo>
                          <a:pt x="859" y="1041"/>
                        </a:lnTo>
                        <a:lnTo>
                          <a:pt x="845" y="1009"/>
                        </a:lnTo>
                        <a:lnTo>
                          <a:pt x="831" y="979"/>
                        </a:lnTo>
                        <a:lnTo>
                          <a:pt x="817" y="947"/>
                        </a:lnTo>
                        <a:lnTo>
                          <a:pt x="803" y="915"/>
                        </a:lnTo>
                        <a:lnTo>
                          <a:pt x="789" y="883"/>
                        </a:lnTo>
                        <a:lnTo>
                          <a:pt x="762" y="836"/>
                        </a:lnTo>
                        <a:lnTo>
                          <a:pt x="748" y="804"/>
                        </a:lnTo>
                        <a:lnTo>
                          <a:pt x="734" y="789"/>
                        </a:lnTo>
                        <a:lnTo>
                          <a:pt x="720" y="757"/>
                        </a:lnTo>
                        <a:lnTo>
                          <a:pt x="707" y="726"/>
                        </a:lnTo>
                        <a:lnTo>
                          <a:pt x="679" y="694"/>
                        </a:lnTo>
                        <a:lnTo>
                          <a:pt x="665" y="663"/>
                        </a:lnTo>
                        <a:lnTo>
                          <a:pt x="651" y="647"/>
                        </a:lnTo>
                        <a:lnTo>
                          <a:pt x="624" y="615"/>
                        </a:lnTo>
                        <a:lnTo>
                          <a:pt x="610" y="584"/>
                        </a:lnTo>
                        <a:lnTo>
                          <a:pt x="582" y="568"/>
                        </a:lnTo>
                        <a:lnTo>
                          <a:pt x="568" y="536"/>
                        </a:lnTo>
                        <a:lnTo>
                          <a:pt x="541" y="505"/>
                        </a:lnTo>
                        <a:lnTo>
                          <a:pt x="527" y="489"/>
                        </a:lnTo>
                        <a:lnTo>
                          <a:pt x="499" y="457"/>
                        </a:lnTo>
                        <a:lnTo>
                          <a:pt x="485" y="427"/>
                        </a:lnTo>
                        <a:lnTo>
                          <a:pt x="458" y="410"/>
                        </a:lnTo>
                        <a:lnTo>
                          <a:pt x="444" y="378"/>
                        </a:lnTo>
                        <a:lnTo>
                          <a:pt x="416" y="363"/>
                        </a:lnTo>
                        <a:lnTo>
                          <a:pt x="388" y="331"/>
                        </a:lnTo>
                        <a:lnTo>
                          <a:pt x="375" y="316"/>
                        </a:lnTo>
                        <a:lnTo>
                          <a:pt x="347" y="284"/>
                        </a:lnTo>
                        <a:lnTo>
                          <a:pt x="319" y="269"/>
                        </a:lnTo>
                        <a:lnTo>
                          <a:pt x="305" y="252"/>
                        </a:lnTo>
                        <a:lnTo>
                          <a:pt x="263" y="220"/>
                        </a:lnTo>
                        <a:lnTo>
                          <a:pt x="235" y="205"/>
                        </a:lnTo>
                        <a:lnTo>
                          <a:pt x="221" y="173"/>
                        </a:lnTo>
                        <a:lnTo>
                          <a:pt x="193" y="158"/>
                        </a:lnTo>
                        <a:lnTo>
                          <a:pt x="166" y="142"/>
                        </a:lnTo>
                        <a:lnTo>
                          <a:pt x="138" y="111"/>
                        </a:lnTo>
                        <a:lnTo>
                          <a:pt x="124" y="95"/>
                        </a:lnTo>
                        <a:lnTo>
                          <a:pt x="97" y="79"/>
                        </a:lnTo>
                        <a:lnTo>
                          <a:pt x="69" y="63"/>
                        </a:lnTo>
                        <a:lnTo>
                          <a:pt x="41" y="32"/>
                        </a:lnTo>
                        <a:lnTo>
                          <a:pt x="14" y="16"/>
                        </a:lnTo>
                        <a:lnTo>
                          <a:pt x="0" y="0"/>
                        </a:lnTo>
                        <a:lnTo>
                          <a:pt x="872" y="1073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8358120" y="2644920"/>
                    <a:ext cx="461880" cy="56808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1073">
                        <a:moveTo>
                          <a:pt x="872" y="1073"/>
                        </a:moveTo>
                        <a:lnTo>
                          <a:pt x="859" y="1041"/>
                        </a:lnTo>
                        <a:lnTo>
                          <a:pt x="845" y="1009"/>
                        </a:lnTo>
                        <a:lnTo>
                          <a:pt x="831" y="979"/>
                        </a:lnTo>
                        <a:lnTo>
                          <a:pt x="817" y="947"/>
                        </a:lnTo>
                        <a:lnTo>
                          <a:pt x="803" y="915"/>
                        </a:lnTo>
                        <a:lnTo>
                          <a:pt x="789" y="883"/>
                        </a:lnTo>
                        <a:lnTo>
                          <a:pt x="762" y="836"/>
                        </a:lnTo>
                        <a:lnTo>
                          <a:pt x="748" y="804"/>
                        </a:lnTo>
                        <a:lnTo>
                          <a:pt x="734" y="789"/>
                        </a:lnTo>
                        <a:lnTo>
                          <a:pt x="720" y="757"/>
                        </a:lnTo>
                        <a:lnTo>
                          <a:pt x="707" y="726"/>
                        </a:lnTo>
                        <a:lnTo>
                          <a:pt x="679" y="694"/>
                        </a:lnTo>
                        <a:lnTo>
                          <a:pt x="665" y="663"/>
                        </a:lnTo>
                        <a:lnTo>
                          <a:pt x="651" y="647"/>
                        </a:lnTo>
                        <a:lnTo>
                          <a:pt x="624" y="615"/>
                        </a:lnTo>
                        <a:lnTo>
                          <a:pt x="610" y="584"/>
                        </a:lnTo>
                        <a:lnTo>
                          <a:pt x="582" y="568"/>
                        </a:lnTo>
                        <a:lnTo>
                          <a:pt x="568" y="536"/>
                        </a:lnTo>
                        <a:lnTo>
                          <a:pt x="541" y="505"/>
                        </a:lnTo>
                        <a:lnTo>
                          <a:pt x="527" y="489"/>
                        </a:lnTo>
                        <a:lnTo>
                          <a:pt x="499" y="457"/>
                        </a:lnTo>
                        <a:lnTo>
                          <a:pt x="485" y="427"/>
                        </a:lnTo>
                        <a:lnTo>
                          <a:pt x="458" y="410"/>
                        </a:lnTo>
                        <a:lnTo>
                          <a:pt x="444" y="378"/>
                        </a:lnTo>
                        <a:lnTo>
                          <a:pt x="416" y="363"/>
                        </a:lnTo>
                        <a:lnTo>
                          <a:pt x="388" y="331"/>
                        </a:lnTo>
                        <a:lnTo>
                          <a:pt x="375" y="316"/>
                        </a:lnTo>
                        <a:lnTo>
                          <a:pt x="347" y="284"/>
                        </a:lnTo>
                        <a:lnTo>
                          <a:pt x="319" y="269"/>
                        </a:lnTo>
                        <a:lnTo>
                          <a:pt x="305" y="252"/>
                        </a:lnTo>
                        <a:lnTo>
                          <a:pt x="263" y="220"/>
                        </a:lnTo>
                        <a:lnTo>
                          <a:pt x="235" y="205"/>
                        </a:lnTo>
                        <a:lnTo>
                          <a:pt x="221" y="173"/>
                        </a:lnTo>
                        <a:lnTo>
                          <a:pt x="193" y="158"/>
                        </a:lnTo>
                        <a:lnTo>
                          <a:pt x="166" y="142"/>
                        </a:lnTo>
                        <a:lnTo>
                          <a:pt x="138" y="111"/>
                        </a:lnTo>
                        <a:lnTo>
                          <a:pt x="124" y="95"/>
                        </a:lnTo>
                        <a:lnTo>
                          <a:pt x="97" y="79"/>
                        </a:lnTo>
                        <a:lnTo>
                          <a:pt x="69" y="63"/>
                        </a:lnTo>
                        <a:lnTo>
                          <a:pt x="41" y="32"/>
                        </a:lnTo>
                        <a:lnTo>
                          <a:pt x="14" y="1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7" name=""/>
                <p:cNvGrpSpPr/>
                <p:nvPr/>
              </p:nvGrpSpPr>
              <p:grpSpPr>
                <a:xfrm>
                  <a:off x="8124840" y="2511360"/>
                  <a:ext cx="233280" cy="133560"/>
                  <a:chOff x="8124840" y="2511360"/>
                  <a:chExt cx="233280" cy="13356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>
                    <a:off x="8124840" y="2511360"/>
                    <a:ext cx="233280" cy="133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253">
                        <a:moveTo>
                          <a:pt x="443" y="253"/>
                        </a:moveTo>
                        <a:lnTo>
                          <a:pt x="415" y="237"/>
                        </a:lnTo>
                        <a:lnTo>
                          <a:pt x="387" y="206"/>
                        </a:lnTo>
                        <a:lnTo>
                          <a:pt x="360" y="190"/>
                        </a:lnTo>
                        <a:lnTo>
                          <a:pt x="332" y="175"/>
                        </a:lnTo>
                        <a:lnTo>
                          <a:pt x="304" y="158"/>
                        </a:lnTo>
                        <a:lnTo>
                          <a:pt x="263" y="143"/>
                        </a:lnTo>
                        <a:lnTo>
                          <a:pt x="235" y="128"/>
                        </a:lnTo>
                        <a:lnTo>
                          <a:pt x="208" y="111"/>
                        </a:lnTo>
                        <a:lnTo>
                          <a:pt x="180" y="96"/>
                        </a:lnTo>
                        <a:lnTo>
                          <a:pt x="152" y="64"/>
                        </a:lnTo>
                        <a:lnTo>
                          <a:pt x="125" y="64"/>
                        </a:lnTo>
                        <a:lnTo>
                          <a:pt x="97" y="49"/>
                        </a:lnTo>
                        <a:lnTo>
                          <a:pt x="69" y="32"/>
                        </a:lnTo>
                        <a:lnTo>
                          <a:pt x="28" y="17"/>
                        </a:lnTo>
                        <a:lnTo>
                          <a:pt x="0" y="0"/>
                        </a:lnTo>
                        <a:lnTo>
                          <a:pt x="443" y="253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8124840" y="2511360"/>
                    <a:ext cx="233280" cy="133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253">
                        <a:moveTo>
                          <a:pt x="443" y="253"/>
                        </a:moveTo>
                        <a:lnTo>
                          <a:pt x="415" y="237"/>
                        </a:lnTo>
                        <a:lnTo>
                          <a:pt x="387" y="206"/>
                        </a:lnTo>
                        <a:lnTo>
                          <a:pt x="360" y="190"/>
                        </a:lnTo>
                        <a:lnTo>
                          <a:pt x="332" y="175"/>
                        </a:lnTo>
                        <a:lnTo>
                          <a:pt x="304" y="158"/>
                        </a:lnTo>
                        <a:lnTo>
                          <a:pt x="263" y="143"/>
                        </a:lnTo>
                        <a:lnTo>
                          <a:pt x="235" y="128"/>
                        </a:lnTo>
                        <a:lnTo>
                          <a:pt x="208" y="111"/>
                        </a:lnTo>
                        <a:lnTo>
                          <a:pt x="180" y="96"/>
                        </a:lnTo>
                        <a:lnTo>
                          <a:pt x="152" y="64"/>
                        </a:lnTo>
                        <a:lnTo>
                          <a:pt x="125" y="64"/>
                        </a:lnTo>
                        <a:lnTo>
                          <a:pt x="97" y="49"/>
                        </a:lnTo>
                        <a:lnTo>
                          <a:pt x="69" y="32"/>
                        </a:lnTo>
                        <a:lnTo>
                          <a:pt x="28" y="1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0" name=""/>
                <p:cNvGrpSpPr/>
                <p:nvPr/>
              </p:nvGrpSpPr>
              <p:grpSpPr>
                <a:xfrm>
                  <a:off x="8050320" y="2478240"/>
                  <a:ext cx="74520" cy="33120"/>
                  <a:chOff x="8050320" y="2478240"/>
                  <a:chExt cx="74520" cy="33120"/>
                </a:xfrm>
              </p:grpSpPr>
              <p:sp>
                <p:nvSpPr>
                  <p:cNvPr id="621" name=""/>
                  <p:cNvSpPr/>
                  <p:nvPr/>
                </p:nvSpPr>
                <p:spPr>
                  <a:xfrm>
                    <a:off x="8050320" y="2478240"/>
                    <a:ext cx="7452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62">
                        <a:moveTo>
                          <a:pt x="140" y="62"/>
                        </a:moveTo>
                        <a:lnTo>
                          <a:pt x="99" y="47"/>
                        </a:lnTo>
                        <a:lnTo>
                          <a:pt x="56" y="15"/>
                        </a:lnTo>
                        <a:lnTo>
                          <a:pt x="0" y="0"/>
                        </a:lnTo>
                        <a:lnTo>
                          <a:pt x="140" y="62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8050320" y="2478240"/>
                    <a:ext cx="7452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62">
                        <a:moveTo>
                          <a:pt x="140" y="62"/>
                        </a:moveTo>
                        <a:lnTo>
                          <a:pt x="99" y="47"/>
                        </a:lnTo>
                        <a:lnTo>
                          <a:pt x="56" y="1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3" name=""/>
                <p:cNvGrpSpPr/>
                <p:nvPr/>
              </p:nvGrpSpPr>
              <p:grpSpPr>
                <a:xfrm>
                  <a:off x="8013600" y="2460600"/>
                  <a:ext cx="36720" cy="17640"/>
                  <a:chOff x="8013600" y="2460600"/>
                  <a:chExt cx="36720" cy="17640"/>
                </a:xfrm>
              </p:grpSpPr>
              <p:sp>
                <p:nvSpPr>
                  <p:cNvPr id="624" name=""/>
                  <p:cNvSpPr/>
                  <p:nvPr/>
                </p:nvSpPr>
                <p:spPr>
                  <a:xfrm>
                    <a:off x="8013600" y="2460600"/>
                    <a:ext cx="367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32">
                        <a:moveTo>
                          <a:pt x="69" y="32"/>
                        </a:moveTo>
                        <a:lnTo>
                          <a:pt x="42" y="15"/>
                        </a:lnTo>
                        <a:lnTo>
                          <a:pt x="14" y="15"/>
                        </a:lnTo>
                        <a:lnTo>
                          <a:pt x="0" y="0"/>
                        </a:lnTo>
                        <a:lnTo>
                          <a:pt x="69" y="32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8013600" y="2460600"/>
                    <a:ext cx="367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32">
                        <a:moveTo>
                          <a:pt x="69" y="32"/>
                        </a:moveTo>
                        <a:lnTo>
                          <a:pt x="42" y="15"/>
                        </a:lnTo>
                        <a:lnTo>
                          <a:pt x="14" y="1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6" name=""/>
                <p:cNvGrpSpPr/>
                <p:nvPr/>
              </p:nvGrpSpPr>
              <p:grpSpPr>
                <a:xfrm>
                  <a:off x="5653080" y="4681440"/>
                  <a:ext cx="2735280" cy="1800"/>
                  <a:chOff x="5653080" y="4681440"/>
                  <a:chExt cx="2735280" cy="1800"/>
                </a:xfrm>
              </p:grpSpPr>
              <p:sp>
                <p:nvSpPr>
                  <p:cNvPr id="627" name=""/>
                  <p:cNvSpPr/>
                  <p:nvPr/>
                </p:nvSpPr>
                <p:spPr>
                  <a:xfrm>
                    <a:off x="5653080" y="4681440"/>
                    <a:ext cx="27352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167" h="0">
                        <a:moveTo>
                          <a:pt x="0" y="0"/>
                        </a:moveTo>
                        <a:lnTo>
                          <a:pt x="27" y="0"/>
                        </a:lnTo>
                        <a:lnTo>
                          <a:pt x="69" y="0"/>
                        </a:lnTo>
                        <a:lnTo>
                          <a:pt x="110" y="0"/>
                        </a:lnTo>
                        <a:lnTo>
                          <a:pt x="138" y="0"/>
                        </a:lnTo>
                        <a:lnTo>
                          <a:pt x="166" y="0"/>
                        </a:lnTo>
                        <a:lnTo>
                          <a:pt x="193" y="0"/>
                        </a:lnTo>
                        <a:lnTo>
                          <a:pt x="221" y="0"/>
                        </a:lnTo>
                        <a:lnTo>
                          <a:pt x="263" y="0"/>
                        </a:lnTo>
                        <a:lnTo>
                          <a:pt x="290" y="0"/>
                        </a:lnTo>
                        <a:lnTo>
                          <a:pt x="318" y="0"/>
                        </a:lnTo>
                        <a:lnTo>
                          <a:pt x="346" y="0"/>
                        </a:lnTo>
                        <a:lnTo>
                          <a:pt x="373" y="0"/>
                        </a:lnTo>
                        <a:lnTo>
                          <a:pt x="401" y="0"/>
                        </a:lnTo>
                        <a:lnTo>
                          <a:pt x="442" y="0"/>
                        </a:lnTo>
                        <a:lnTo>
                          <a:pt x="470" y="0"/>
                        </a:lnTo>
                        <a:lnTo>
                          <a:pt x="498" y="0"/>
                        </a:lnTo>
                        <a:lnTo>
                          <a:pt x="525" y="0"/>
                        </a:lnTo>
                        <a:lnTo>
                          <a:pt x="553" y="0"/>
                        </a:lnTo>
                        <a:lnTo>
                          <a:pt x="581" y="0"/>
                        </a:lnTo>
                        <a:lnTo>
                          <a:pt x="624" y="0"/>
                        </a:lnTo>
                        <a:lnTo>
                          <a:pt x="651" y="0"/>
                        </a:lnTo>
                        <a:lnTo>
                          <a:pt x="679" y="0"/>
                        </a:lnTo>
                        <a:lnTo>
                          <a:pt x="706" y="0"/>
                        </a:lnTo>
                        <a:lnTo>
                          <a:pt x="734" y="0"/>
                        </a:lnTo>
                        <a:lnTo>
                          <a:pt x="776" y="0"/>
                        </a:lnTo>
                        <a:lnTo>
                          <a:pt x="803" y="0"/>
                        </a:lnTo>
                        <a:lnTo>
                          <a:pt x="831" y="0"/>
                        </a:lnTo>
                        <a:lnTo>
                          <a:pt x="859" y="0"/>
                        </a:lnTo>
                        <a:lnTo>
                          <a:pt x="886" y="0"/>
                        </a:lnTo>
                        <a:lnTo>
                          <a:pt x="914" y="0"/>
                        </a:lnTo>
                        <a:lnTo>
                          <a:pt x="955" y="0"/>
                        </a:lnTo>
                        <a:lnTo>
                          <a:pt x="983" y="0"/>
                        </a:lnTo>
                        <a:lnTo>
                          <a:pt x="1011" y="0"/>
                        </a:lnTo>
                        <a:lnTo>
                          <a:pt x="1038" y="0"/>
                        </a:lnTo>
                        <a:lnTo>
                          <a:pt x="1066" y="0"/>
                        </a:lnTo>
                        <a:lnTo>
                          <a:pt x="1094" y="0"/>
                        </a:lnTo>
                        <a:lnTo>
                          <a:pt x="1135" y="0"/>
                        </a:lnTo>
                        <a:lnTo>
                          <a:pt x="1163" y="0"/>
                        </a:lnTo>
                        <a:lnTo>
                          <a:pt x="1191" y="0"/>
                        </a:lnTo>
                        <a:lnTo>
                          <a:pt x="1218" y="0"/>
                        </a:lnTo>
                        <a:lnTo>
                          <a:pt x="1246" y="0"/>
                        </a:lnTo>
                        <a:lnTo>
                          <a:pt x="1274" y="0"/>
                        </a:lnTo>
                        <a:lnTo>
                          <a:pt x="1315" y="0"/>
                        </a:lnTo>
                        <a:lnTo>
                          <a:pt x="1343" y="0"/>
                        </a:lnTo>
                        <a:lnTo>
                          <a:pt x="1370" y="0"/>
                        </a:lnTo>
                        <a:lnTo>
                          <a:pt x="1398" y="0"/>
                        </a:lnTo>
                        <a:lnTo>
                          <a:pt x="1427" y="0"/>
                        </a:lnTo>
                        <a:lnTo>
                          <a:pt x="1455" y="0"/>
                        </a:lnTo>
                        <a:lnTo>
                          <a:pt x="1496" y="0"/>
                        </a:lnTo>
                        <a:lnTo>
                          <a:pt x="1524" y="0"/>
                        </a:lnTo>
                        <a:lnTo>
                          <a:pt x="1552" y="0"/>
                        </a:lnTo>
                        <a:lnTo>
                          <a:pt x="1579" y="0"/>
                        </a:lnTo>
                        <a:lnTo>
                          <a:pt x="1607" y="0"/>
                        </a:lnTo>
                        <a:lnTo>
                          <a:pt x="1635" y="0"/>
                        </a:lnTo>
                        <a:lnTo>
                          <a:pt x="1676" y="0"/>
                        </a:lnTo>
                        <a:lnTo>
                          <a:pt x="1704" y="0"/>
                        </a:lnTo>
                        <a:lnTo>
                          <a:pt x="1731" y="0"/>
                        </a:lnTo>
                        <a:lnTo>
                          <a:pt x="1759" y="0"/>
                        </a:lnTo>
                        <a:lnTo>
                          <a:pt x="1787" y="0"/>
                        </a:lnTo>
                        <a:lnTo>
                          <a:pt x="1814" y="0"/>
                        </a:lnTo>
                        <a:lnTo>
                          <a:pt x="1856" y="0"/>
                        </a:lnTo>
                        <a:lnTo>
                          <a:pt x="1884" y="0"/>
                        </a:lnTo>
                        <a:lnTo>
                          <a:pt x="1911" y="0"/>
                        </a:lnTo>
                        <a:lnTo>
                          <a:pt x="1939" y="0"/>
                        </a:lnTo>
                        <a:lnTo>
                          <a:pt x="1967" y="0"/>
                        </a:lnTo>
                        <a:lnTo>
                          <a:pt x="1994" y="0"/>
                        </a:lnTo>
                        <a:lnTo>
                          <a:pt x="2036" y="0"/>
                        </a:lnTo>
                        <a:lnTo>
                          <a:pt x="2063" y="0"/>
                        </a:lnTo>
                        <a:lnTo>
                          <a:pt x="2091" y="0"/>
                        </a:lnTo>
                        <a:lnTo>
                          <a:pt x="2119" y="0"/>
                        </a:lnTo>
                        <a:lnTo>
                          <a:pt x="2146" y="0"/>
                        </a:lnTo>
                        <a:lnTo>
                          <a:pt x="2174" y="0"/>
                        </a:lnTo>
                        <a:lnTo>
                          <a:pt x="2217" y="0"/>
                        </a:lnTo>
                        <a:lnTo>
                          <a:pt x="2245" y="0"/>
                        </a:lnTo>
                        <a:lnTo>
                          <a:pt x="2272" y="0"/>
                        </a:lnTo>
                        <a:lnTo>
                          <a:pt x="2300" y="0"/>
                        </a:lnTo>
                        <a:lnTo>
                          <a:pt x="2328" y="0"/>
                        </a:lnTo>
                        <a:lnTo>
                          <a:pt x="2355" y="0"/>
                        </a:lnTo>
                        <a:lnTo>
                          <a:pt x="2397" y="0"/>
                        </a:lnTo>
                        <a:lnTo>
                          <a:pt x="2424" y="0"/>
                        </a:lnTo>
                        <a:lnTo>
                          <a:pt x="2452" y="0"/>
                        </a:lnTo>
                        <a:lnTo>
                          <a:pt x="2480" y="0"/>
                        </a:lnTo>
                        <a:lnTo>
                          <a:pt x="2507" y="0"/>
                        </a:lnTo>
                        <a:lnTo>
                          <a:pt x="2535" y="0"/>
                        </a:lnTo>
                        <a:lnTo>
                          <a:pt x="2576" y="0"/>
                        </a:lnTo>
                        <a:lnTo>
                          <a:pt x="2604" y="0"/>
                        </a:lnTo>
                        <a:lnTo>
                          <a:pt x="2632" y="0"/>
                        </a:lnTo>
                        <a:lnTo>
                          <a:pt x="2659" y="0"/>
                        </a:lnTo>
                        <a:lnTo>
                          <a:pt x="2687" y="0"/>
                        </a:lnTo>
                        <a:lnTo>
                          <a:pt x="2729" y="0"/>
                        </a:lnTo>
                        <a:lnTo>
                          <a:pt x="2770" y="0"/>
                        </a:lnTo>
                        <a:lnTo>
                          <a:pt x="2798" y="0"/>
                        </a:lnTo>
                        <a:lnTo>
                          <a:pt x="2825" y="0"/>
                        </a:lnTo>
                        <a:lnTo>
                          <a:pt x="2853" y="0"/>
                        </a:lnTo>
                        <a:lnTo>
                          <a:pt x="2881" y="0"/>
                        </a:lnTo>
                        <a:lnTo>
                          <a:pt x="2922" y="0"/>
                        </a:lnTo>
                        <a:lnTo>
                          <a:pt x="2950" y="0"/>
                        </a:lnTo>
                        <a:lnTo>
                          <a:pt x="2978" y="0"/>
                        </a:lnTo>
                        <a:lnTo>
                          <a:pt x="3007" y="0"/>
                        </a:lnTo>
                        <a:lnTo>
                          <a:pt x="3034" y="0"/>
                        </a:lnTo>
                        <a:lnTo>
                          <a:pt x="3062" y="0"/>
                        </a:lnTo>
                        <a:lnTo>
                          <a:pt x="3103" y="0"/>
                        </a:lnTo>
                        <a:lnTo>
                          <a:pt x="3131" y="0"/>
                        </a:lnTo>
                        <a:lnTo>
                          <a:pt x="3159" y="0"/>
                        </a:lnTo>
                        <a:lnTo>
                          <a:pt x="3186" y="0"/>
                        </a:lnTo>
                        <a:lnTo>
                          <a:pt x="3214" y="0"/>
                        </a:lnTo>
                        <a:lnTo>
                          <a:pt x="3242" y="0"/>
                        </a:lnTo>
                        <a:lnTo>
                          <a:pt x="3283" y="0"/>
                        </a:lnTo>
                        <a:lnTo>
                          <a:pt x="3311" y="0"/>
                        </a:lnTo>
                        <a:lnTo>
                          <a:pt x="3339" y="0"/>
                        </a:lnTo>
                        <a:lnTo>
                          <a:pt x="3366" y="0"/>
                        </a:lnTo>
                        <a:lnTo>
                          <a:pt x="3394" y="0"/>
                        </a:lnTo>
                        <a:lnTo>
                          <a:pt x="3422" y="0"/>
                        </a:lnTo>
                        <a:lnTo>
                          <a:pt x="3463" y="0"/>
                        </a:lnTo>
                        <a:lnTo>
                          <a:pt x="3491" y="0"/>
                        </a:lnTo>
                        <a:lnTo>
                          <a:pt x="3518" y="0"/>
                        </a:lnTo>
                        <a:lnTo>
                          <a:pt x="3546" y="0"/>
                        </a:lnTo>
                        <a:lnTo>
                          <a:pt x="3574" y="0"/>
                        </a:lnTo>
                        <a:lnTo>
                          <a:pt x="3601" y="0"/>
                        </a:lnTo>
                        <a:lnTo>
                          <a:pt x="3643" y="0"/>
                        </a:lnTo>
                        <a:lnTo>
                          <a:pt x="3671" y="0"/>
                        </a:lnTo>
                        <a:lnTo>
                          <a:pt x="3698" y="0"/>
                        </a:lnTo>
                        <a:lnTo>
                          <a:pt x="3726" y="0"/>
                        </a:lnTo>
                        <a:lnTo>
                          <a:pt x="3754" y="0"/>
                        </a:lnTo>
                        <a:lnTo>
                          <a:pt x="3781" y="0"/>
                        </a:lnTo>
                        <a:lnTo>
                          <a:pt x="3824" y="0"/>
                        </a:lnTo>
                        <a:lnTo>
                          <a:pt x="3852" y="0"/>
                        </a:lnTo>
                        <a:lnTo>
                          <a:pt x="3879" y="0"/>
                        </a:lnTo>
                        <a:lnTo>
                          <a:pt x="3907" y="0"/>
                        </a:lnTo>
                        <a:lnTo>
                          <a:pt x="3935" y="0"/>
                        </a:lnTo>
                        <a:lnTo>
                          <a:pt x="3962" y="0"/>
                        </a:lnTo>
                        <a:lnTo>
                          <a:pt x="4004" y="0"/>
                        </a:lnTo>
                        <a:lnTo>
                          <a:pt x="4032" y="0"/>
                        </a:lnTo>
                        <a:lnTo>
                          <a:pt x="4059" y="0"/>
                        </a:lnTo>
                        <a:lnTo>
                          <a:pt x="4087" y="0"/>
                        </a:lnTo>
                        <a:lnTo>
                          <a:pt x="4115" y="0"/>
                        </a:lnTo>
                        <a:lnTo>
                          <a:pt x="4142" y="0"/>
                        </a:lnTo>
                        <a:lnTo>
                          <a:pt x="4184" y="0"/>
                        </a:lnTo>
                        <a:lnTo>
                          <a:pt x="4211" y="0"/>
                        </a:lnTo>
                        <a:lnTo>
                          <a:pt x="4239" y="0"/>
                        </a:lnTo>
                        <a:lnTo>
                          <a:pt x="4267" y="0"/>
                        </a:lnTo>
                        <a:lnTo>
                          <a:pt x="4294" y="0"/>
                        </a:lnTo>
                        <a:lnTo>
                          <a:pt x="4322" y="0"/>
                        </a:lnTo>
                        <a:lnTo>
                          <a:pt x="4363" y="0"/>
                        </a:lnTo>
                        <a:lnTo>
                          <a:pt x="4391" y="0"/>
                        </a:lnTo>
                        <a:lnTo>
                          <a:pt x="4419" y="0"/>
                        </a:lnTo>
                        <a:lnTo>
                          <a:pt x="4446" y="0"/>
                        </a:lnTo>
                        <a:lnTo>
                          <a:pt x="4474" y="0"/>
                        </a:lnTo>
                        <a:lnTo>
                          <a:pt x="4502" y="0"/>
                        </a:lnTo>
                        <a:lnTo>
                          <a:pt x="4543" y="0"/>
                        </a:lnTo>
                        <a:lnTo>
                          <a:pt x="4571" y="0"/>
                        </a:lnTo>
                        <a:lnTo>
                          <a:pt x="4600" y="0"/>
                        </a:lnTo>
                        <a:lnTo>
                          <a:pt x="4628" y="0"/>
                        </a:lnTo>
                        <a:lnTo>
                          <a:pt x="4655" y="0"/>
                        </a:lnTo>
                        <a:lnTo>
                          <a:pt x="4697" y="0"/>
                        </a:lnTo>
                        <a:lnTo>
                          <a:pt x="4724" y="0"/>
                        </a:lnTo>
                        <a:lnTo>
                          <a:pt x="4752" y="0"/>
                        </a:lnTo>
                        <a:lnTo>
                          <a:pt x="4780" y="0"/>
                        </a:lnTo>
                        <a:lnTo>
                          <a:pt x="4807" y="0"/>
                        </a:lnTo>
                        <a:lnTo>
                          <a:pt x="4835" y="0"/>
                        </a:lnTo>
                        <a:lnTo>
                          <a:pt x="4877" y="0"/>
                        </a:lnTo>
                        <a:lnTo>
                          <a:pt x="4904" y="0"/>
                        </a:lnTo>
                        <a:lnTo>
                          <a:pt x="4932" y="0"/>
                        </a:lnTo>
                        <a:lnTo>
                          <a:pt x="4960" y="0"/>
                        </a:lnTo>
                        <a:lnTo>
                          <a:pt x="4987" y="0"/>
                        </a:lnTo>
                        <a:lnTo>
                          <a:pt x="5015" y="0"/>
                        </a:lnTo>
                        <a:lnTo>
                          <a:pt x="5056" y="0"/>
                        </a:lnTo>
                        <a:lnTo>
                          <a:pt x="5084" y="0"/>
                        </a:lnTo>
                        <a:lnTo>
                          <a:pt x="5112" y="0"/>
                        </a:lnTo>
                        <a:lnTo>
                          <a:pt x="5139" y="0"/>
                        </a:lnTo>
                        <a:lnTo>
                          <a:pt x="516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5653080" y="4681440"/>
                    <a:ext cx="27352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167" h="0">
                        <a:moveTo>
                          <a:pt x="0" y="0"/>
                        </a:moveTo>
                        <a:lnTo>
                          <a:pt x="27" y="0"/>
                        </a:lnTo>
                        <a:lnTo>
                          <a:pt x="69" y="0"/>
                        </a:lnTo>
                        <a:lnTo>
                          <a:pt x="110" y="0"/>
                        </a:lnTo>
                        <a:lnTo>
                          <a:pt x="138" y="0"/>
                        </a:lnTo>
                        <a:lnTo>
                          <a:pt x="166" y="0"/>
                        </a:lnTo>
                        <a:lnTo>
                          <a:pt x="193" y="0"/>
                        </a:lnTo>
                        <a:lnTo>
                          <a:pt x="221" y="0"/>
                        </a:lnTo>
                        <a:lnTo>
                          <a:pt x="263" y="0"/>
                        </a:lnTo>
                        <a:lnTo>
                          <a:pt x="290" y="0"/>
                        </a:lnTo>
                        <a:lnTo>
                          <a:pt x="318" y="0"/>
                        </a:lnTo>
                        <a:lnTo>
                          <a:pt x="346" y="0"/>
                        </a:lnTo>
                        <a:lnTo>
                          <a:pt x="373" y="0"/>
                        </a:lnTo>
                        <a:lnTo>
                          <a:pt x="401" y="0"/>
                        </a:lnTo>
                        <a:lnTo>
                          <a:pt x="442" y="0"/>
                        </a:lnTo>
                        <a:lnTo>
                          <a:pt x="470" y="0"/>
                        </a:lnTo>
                        <a:lnTo>
                          <a:pt x="498" y="0"/>
                        </a:lnTo>
                        <a:lnTo>
                          <a:pt x="525" y="0"/>
                        </a:lnTo>
                        <a:lnTo>
                          <a:pt x="553" y="0"/>
                        </a:lnTo>
                        <a:lnTo>
                          <a:pt x="581" y="0"/>
                        </a:lnTo>
                        <a:lnTo>
                          <a:pt x="624" y="0"/>
                        </a:lnTo>
                        <a:lnTo>
                          <a:pt x="651" y="0"/>
                        </a:lnTo>
                        <a:lnTo>
                          <a:pt x="679" y="0"/>
                        </a:lnTo>
                        <a:lnTo>
                          <a:pt x="706" y="0"/>
                        </a:lnTo>
                        <a:lnTo>
                          <a:pt x="734" y="0"/>
                        </a:lnTo>
                        <a:lnTo>
                          <a:pt x="776" y="0"/>
                        </a:lnTo>
                        <a:lnTo>
                          <a:pt x="803" y="0"/>
                        </a:lnTo>
                        <a:lnTo>
                          <a:pt x="831" y="0"/>
                        </a:lnTo>
                        <a:lnTo>
                          <a:pt x="859" y="0"/>
                        </a:lnTo>
                        <a:lnTo>
                          <a:pt x="886" y="0"/>
                        </a:lnTo>
                        <a:lnTo>
                          <a:pt x="914" y="0"/>
                        </a:lnTo>
                        <a:lnTo>
                          <a:pt x="955" y="0"/>
                        </a:lnTo>
                        <a:lnTo>
                          <a:pt x="983" y="0"/>
                        </a:lnTo>
                        <a:lnTo>
                          <a:pt x="1011" y="0"/>
                        </a:lnTo>
                        <a:lnTo>
                          <a:pt x="1038" y="0"/>
                        </a:lnTo>
                        <a:lnTo>
                          <a:pt x="1066" y="0"/>
                        </a:lnTo>
                        <a:lnTo>
                          <a:pt x="1094" y="0"/>
                        </a:lnTo>
                        <a:lnTo>
                          <a:pt x="1135" y="0"/>
                        </a:lnTo>
                        <a:lnTo>
                          <a:pt x="1163" y="0"/>
                        </a:lnTo>
                        <a:lnTo>
                          <a:pt x="1191" y="0"/>
                        </a:lnTo>
                        <a:lnTo>
                          <a:pt x="1218" y="0"/>
                        </a:lnTo>
                        <a:lnTo>
                          <a:pt x="1246" y="0"/>
                        </a:lnTo>
                        <a:lnTo>
                          <a:pt x="1274" y="0"/>
                        </a:lnTo>
                        <a:lnTo>
                          <a:pt x="1315" y="0"/>
                        </a:lnTo>
                        <a:lnTo>
                          <a:pt x="1343" y="0"/>
                        </a:lnTo>
                        <a:lnTo>
                          <a:pt x="1370" y="0"/>
                        </a:lnTo>
                        <a:lnTo>
                          <a:pt x="1398" y="0"/>
                        </a:lnTo>
                        <a:lnTo>
                          <a:pt x="1427" y="0"/>
                        </a:lnTo>
                        <a:lnTo>
                          <a:pt x="1455" y="0"/>
                        </a:lnTo>
                        <a:lnTo>
                          <a:pt x="1496" y="0"/>
                        </a:lnTo>
                        <a:lnTo>
                          <a:pt x="1524" y="0"/>
                        </a:lnTo>
                        <a:lnTo>
                          <a:pt x="1552" y="0"/>
                        </a:lnTo>
                        <a:lnTo>
                          <a:pt x="1579" y="0"/>
                        </a:lnTo>
                        <a:lnTo>
                          <a:pt x="1607" y="0"/>
                        </a:lnTo>
                        <a:lnTo>
                          <a:pt x="1635" y="0"/>
                        </a:lnTo>
                        <a:lnTo>
                          <a:pt x="1676" y="0"/>
                        </a:lnTo>
                        <a:lnTo>
                          <a:pt x="1704" y="0"/>
                        </a:lnTo>
                        <a:lnTo>
                          <a:pt x="1731" y="0"/>
                        </a:lnTo>
                        <a:lnTo>
                          <a:pt x="1759" y="0"/>
                        </a:lnTo>
                        <a:lnTo>
                          <a:pt x="1787" y="0"/>
                        </a:lnTo>
                        <a:lnTo>
                          <a:pt x="1814" y="0"/>
                        </a:lnTo>
                        <a:lnTo>
                          <a:pt x="1856" y="0"/>
                        </a:lnTo>
                        <a:lnTo>
                          <a:pt x="1884" y="0"/>
                        </a:lnTo>
                        <a:lnTo>
                          <a:pt x="1911" y="0"/>
                        </a:lnTo>
                        <a:lnTo>
                          <a:pt x="1939" y="0"/>
                        </a:lnTo>
                        <a:lnTo>
                          <a:pt x="1967" y="0"/>
                        </a:lnTo>
                        <a:lnTo>
                          <a:pt x="1994" y="0"/>
                        </a:lnTo>
                        <a:lnTo>
                          <a:pt x="2036" y="0"/>
                        </a:lnTo>
                        <a:lnTo>
                          <a:pt x="2063" y="0"/>
                        </a:lnTo>
                        <a:lnTo>
                          <a:pt x="2091" y="0"/>
                        </a:lnTo>
                        <a:lnTo>
                          <a:pt x="2119" y="0"/>
                        </a:lnTo>
                        <a:lnTo>
                          <a:pt x="2146" y="0"/>
                        </a:lnTo>
                        <a:lnTo>
                          <a:pt x="2174" y="0"/>
                        </a:lnTo>
                        <a:lnTo>
                          <a:pt x="2217" y="0"/>
                        </a:lnTo>
                        <a:lnTo>
                          <a:pt x="2245" y="0"/>
                        </a:lnTo>
                        <a:lnTo>
                          <a:pt x="2272" y="0"/>
                        </a:lnTo>
                        <a:lnTo>
                          <a:pt x="2300" y="0"/>
                        </a:lnTo>
                        <a:lnTo>
                          <a:pt x="2328" y="0"/>
                        </a:lnTo>
                        <a:lnTo>
                          <a:pt x="2355" y="0"/>
                        </a:lnTo>
                        <a:lnTo>
                          <a:pt x="2397" y="0"/>
                        </a:lnTo>
                        <a:lnTo>
                          <a:pt x="2424" y="0"/>
                        </a:lnTo>
                        <a:lnTo>
                          <a:pt x="2452" y="0"/>
                        </a:lnTo>
                        <a:lnTo>
                          <a:pt x="2480" y="0"/>
                        </a:lnTo>
                        <a:lnTo>
                          <a:pt x="2507" y="0"/>
                        </a:lnTo>
                        <a:lnTo>
                          <a:pt x="2535" y="0"/>
                        </a:lnTo>
                        <a:lnTo>
                          <a:pt x="2576" y="0"/>
                        </a:lnTo>
                        <a:lnTo>
                          <a:pt x="2604" y="0"/>
                        </a:lnTo>
                        <a:lnTo>
                          <a:pt x="2632" y="0"/>
                        </a:lnTo>
                        <a:lnTo>
                          <a:pt x="2659" y="0"/>
                        </a:lnTo>
                        <a:lnTo>
                          <a:pt x="2687" y="0"/>
                        </a:lnTo>
                        <a:lnTo>
                          <a:pt x="2729" y="0"/>
                        </a:lnTo>
                        <a:lnTo>
                          <a:pt x="2770" y="0"/>
                        </a:lnTo>
                        <a:lnTo>
                          <a:pt x="2798" y="0"/>
                        </a:lnTo>
                        <a:lnTo>
                          <a:pt x="2825" y="0"/>
                        </a:lnTo>
                        <a:lnTo>
                          <a:pt x="2853" y="0"/>
                        </a:lnTo>
                        <a:lnTo>
                          <a:pt x="2881" y="0"/>
                        </a:lnTo>
                        <a:lnTo>
                          <a:pt x="2922" y="0"/>
                        </a:lnTo>
                        <a:lnTo>
                          <a:pt x="2950" y="0"/>
                        </a:lnTo>
                        <a:lnTo>
                          <a:pt x="2978" y="0"/>
                        </a:lnTo>
                        <a:lnTo>
                          <a:pt x="3007" y="0"/>
                        </a:lnTo>
                        <a:lnTo>
                          <a:pt x="3034" y="0"/>
                        </a:lnTo>
                        <a:lnTo>
                          <a:pt x="3062" y="0"/>
                        </a:lnTo>
                        <a:lnTo>
                          <a:pt x="3103" y="0"/>
                        </a:lnTo>
                        <a:lnTo>
                          <a:pt x="3131" y="0"/>
                        </a:lnTo>
                        <a:lnTo>
                          <a:pt x="3159" y="0"/>
                        </a:lnTo>
                        <a:lnTo>
                          <a:pt x="3186" y="0"/>
                        </a:lnTo>
                        <a:lnTo>
                          <a:pt x="3214" y="0"/>
                        </a:lnTo>
                        <a:lnTo>
                          <a:pt x="3242" y="0"/>
                        </a:lnTo>
                        <a:lnTo>
                          <a:pt x="3283" y="0"/>
                        </a:lnTo>
                        <a:lnTo>
                          <a:pt x="3311" y="0"/>
                        </a:lnTo>
                        <a:lnTo>
                          <a:pt x="3339" y="0"/>
                        </a:lnTo>
                        <a:lnTo>
                          <a:pt x="3366" y="0"/>
                        </a:lnTo>
                        <a:lnTo>
                          <a:pt x="3394" y="0"/>
                        </a:lnTo>
                        <a:lnTo>
                          <a:pt x="3422" y="0"/>
                        </a:lnTo>
                        <a:lnTo>
                          <a:pt x="3463" y="0"/>
                        </a:lnTo>
                        <a:lnTo>
                          <a:pt x="3491" y="0"/>
                        </a:lnTo>
                        <a:lnTo>
                          <a:pt x="3518" y="0"/>
                        </a:lnTo>
                        <a:lnTo>
                          <a:pt x="3546" y="0"/>
                        </a:lnTo>
                        <a:lnTo>
                          <a:pt x="3574" y="0"/>
                        </a:lnTo>
                        <a:lnTo>
                          <a:pt x="3601" y="0"/>
                        </a:lnTo>
                        <a:lnTo>
                          <a:pt x="3643" y="0"/>
                        </a:lnTo>
                        <a:lnTo>
                          <a:pt x="3671" y="0"/>
                        </a:lnTo>
                        <a:lnTo>
                          <a:pt x="3698" y="0"/>
                        </a:lnTo>
                        <a:lnTo>
                          <a:pt x="3726" y="0"/>
                        </a:lnTo>
                        <a:lnTo>
                          <a:pt x="3754" y="0"/>
                        </a:lnTo>
                        <a:lnTo>
                          <a:pt x="3781" y="0"/>
                        </a:lnTo>
                        <a:lnTo>
                          <a:pt x="3824" y="0"/>
                        </a:lnTo>
                        <a:lnTo>
                          <a:pt x="3852" y="0"/>
                        </a:lnTo>
                        <a:lnTo>
                          <a:pt x="3879" y="0"/>
                        </a:lnTo>
                        <a:lnTo>
                          <a:pt x="3907" y="0"/>
                        </a:lnTo>
                        <a:lnTo>
                          <a:pt x="3935" y="0"/>
                        </a:lnTo>
                        <a:lnTo>
                          <a:pt x="3962" y="0"/>
                        </a:lnTo>
                        <a:lnTo>
                          <a:pt x="4004" y="0"/>
                        </a:lnTo>
                        <a:lnTo>
                          <a:pt x="4032" y="0"/>
                        </a:lnTo>
                        <a:lnTo>
                          <a:pt x="4059" y="0"/>
                        </a:lnTo>
                        <a:lnTo>
                          <a:pt x="4087" y="0"/>
                        </a:lnTo>
                        <a:lnTo>
                          <a:pt x="4115" y="0"/>
                        </a:lnTo>
                        <a:lnTo>
                          <a:pt x="4142" y="0"/>
                        </a:lnTo>
                        <a:lnTo>
                          <a:pt x="4184" y="0"/>
                        </a:lnTo>
                        <a:lnTo>
                          <a:pt x="4211" y="0"/>
                        </a:lnTo>
                        <a:lnTo>
                          <a:pt x="4239" y="0"/>
                        </a:lnTo>
                        <a:lnTo>
                          <a:pt x="4267" y="0"/>
                        </a:lnTo>
                        <a:lnTo>
                          <a:pt x="4294" y="0"/>
                        </a:lnTo>
                        <a:lnTo>
                          <a:pt x="4322" y="0"/>
                        </a:lnTo>
                        <a:lnTo>
                          <a:pt x="4363" y="0"/>
                        </a:lnTo>
                        <a:lnTo>
                          <a:pt x="4391" y="0"/>
                        </a:lnTo>
                        <a:lnTo>
                          <a:pt x="4419" y="0"/>
                        </a:lnTo>
                        <a:lnTo>
                          <a:pt x="4446" y="0"/>
                        </a:lnTo>
                        <a:lnTo>
                          <a:pt x="4474" y="0"/>
                        </a:lnTo>
                        <a:lnTo>
                          <a:pt x="4502" y="0"/>
                        </a:lnTo>
                        <a:lnTo>
                          <a:pt x="4543" y="0"/>
                        </a:lnTo>
                        <a:lnTo>
                          <a:pt x="4571" y="0"/>
                        </a:lnTo>
                        <a:lnTo>
                          <a:pt x="4600" y="0"/>
                        </a:lnTo>
                        <a:lnTo>
                          <a:pt x="4628" y="0"/>
                        </a:lnTo>
                        <a:lnTo>
                          <a:pt x="4655" y="0"/>
                        </a:lnTo>
                        <a:lnTo>
                          <a:pt x="4697" y="0"/>
                        </a:lnTo>
                        <a:lnTo>
                          <a:pt x="4724" y="0"/>
                        </a:lnTo>
                        <a:lnTo>
                          <a:pt x="4752" y="0"/>
                        </a:lnTo>
                        <a:lnTo>
                          <a:pt x="4780" y="0"/>
                        </a:lnTo>
                        <a:lnTo>
                          <a:pt x="4807" y="0"/>
                        </a:lnTo>
                        <a:lnTo>
                          <a:pt x="4835" y="0"/>
                        </a:lnTo>
                        <a:lnTo>
                          <a:pt x="4877" y="0"/>
                        </a:lnTo>
                        <a:lnTo>
                          <a:pt x="4904" y="0"/>
                        </a:lnTo>
                        <a:lnTo>
                          <a:pt x="4932" y="0"/>
                        </a:lnTo>
                        <a:lnTo>
                          <a:pt x="4960" y="0"/>
                        </a:lnTo>
                        <a:lnTo>
                          <a:pt x="4987" y="0"/>
                        </a:lnTo>
                        <a:lnTo>
                          <a:pt x="5015" y="0"/>
                        </a:lnTo>
                        <a:lnTo>
                          <a:pt x="5056" y="0"/>
                        </a:lnTo>
                        <a:lnTo>
                          <a:pt x="5084" y="0"/>
                        </a:lnTo>
                        <a:lnTo>
                          <a:pt x="5112" y="0"/>
                        </a:lnTo>
                        <a:lnTo>
                          <a:pt x="5139" y="0"/>
                        </a:lnTo>
                        <a:lnTo>
                          <a:pt x="516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9" name=""/>
                <p:cNvGrpSpPr/>
                <p:nvPr/>
              </p:nvGrpSpPr>
              <p:grpSpPr>
                <a:xfrm>
                  <a:off x="5403960" y="4489560"/>
                  <a:ext cx="3247920" cy="1440"/>
                  <a:chOff x="5403960" y="4489560"/>
                  <a:chExt cx="3247920" cy="1440"/>
                </a:xfrm>
              </p:grpSpPr>
              <p:sp>
                <p:nvSpPr>
                  <p:cNvPr id="630" name=""/>
                  <p:cNvSpPr/>
                  <p:nvPr/>
                </p:nvSpPr>
                <p:spPr>
                  <a:xfrm>
                    <a:off x="5403960" y="4489560"/>
                    <a:ext cx="32479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6138" h="0">
                        <a:moveTo>
                          <a:pt x="0" y="0"/>
                        </a:moveTo>
                        <a:lnTo>
                          <a:pt x="28" y="0"/>
                        </a:lnTo>
                        <a:lnTo>
                          <a:pt x="55" y="0"/>
                        </a:lnTo>
                        <a:lnTo>
                          <a:pt x="83" y="0"/>
                        </a:lnTo>
                        <a:lnTo>
                          <a:pt x="111" y="0"/>
                        </a:lnTo>
                        <a:lnTo>
                          <a:pt x="152" y="0"/>
                        </a:lnTo>
                        <a:lnTo>
                          <a:pt x="180" y="0"/>
                        </a:lnTo>
                        <a:lnTo>
                          <a:pt x="208" y="0"/>
                        </a:lnTo>
                        <a:lnTo>
                          <a:pt x="235" y="0"/>
                        </a:lnTo>
                        <a:lnTo>
                          <a:pt x="263" y="0"/>
                        </a:lnTo>
                        <a:lnTo>
                          <a:pt x="292" y="0"/>
                        </a:lnTo>
                        <a:lnTo>
                          <a:pt x="333" y="0"/>
                        </a:lnTo>
                        <a:lnTo>
                          <a:pt x="361" y="0"/>
                        </a:lnTo>
                        <a:lnTo>
                          <a:pt x="389" y="0"/>
                        </a:lnTo>
                        <a:lnTo>
                          <a:pt x="416" y="0"/>
                        </a:lnTo>
                        <a:lnTo>
                          <a:pt x="444" y="0"/>
                        </a:lnTo>
                        <a:lnTo>
                          <a:pt x="472" y="0"/>
                        </a:lnTo>
                        <a:lnTo>
                          <a:pt x="513" y="0"/>
                        </a:lnTo>
                        <a:lnTo>
                          <a:pt x="541" y="0"/>
                        </a:lnTo>
                        <a:lnTo>
                          <a:pt x="582" y="0"/>
                        </a:lnTo>
                        <a:lnTo>
                          <a:pt x="610" y="0"/>
                        </a:lnTo>
                        <a:lnTo>
                          <a:pt x="638" y="0"/>
                        </a:lnTo>
                        <a:lnTo>
                          <a:pt x="665" y="0"/>
                        </a:lnTo>
                        <a:lnTo>
                          <a:pt x="707" y="0"/>
                        </a:lnTo>
                        <a:lnTo>
                          <a:pt x="735" y="0"/>
                        </a:lnTo>
                        <a:lnTo>
                          <a:pt x="762" y="0"/>
                        </a:lnTo>
                        <a:lnTo>
                          <a:pt x="790" y="0"/>
                        </a:lnTo>
                        <a:lnTo>
                          <a:pt x="818" y="0"/>
                        </a:lnTo>
                        <a:lnTo>
                          <a:pt x="845" y="0"/>
                        </a:lnTo>
                        <a:lnTo>
                          <a:pt x="887" y="0"/>
                        </a:lnTo>
                        <a:lnTo>
                          <a:pt x="914" y="0"/>
                        </a:lnTo>
                        <a:lnTo>
                          <a:pt x="942" y="0"/>
                        </a:lnTo>
                        <a:lnTo>
                          <a:pt x="970" y="0"/>
                        </a:lnTo>
                        <a:lnTo>
                          <a:pt x="997" y="0"/>
                        </a:lnTo>
                        <a:lnTo>
                          <a:pt x="1025" y="0"/>
                        </a:lnTo>
                        <a:lnTo>
                          <a:pt x="1066" y="0"/>
                        </a:lnTo>
                        <a:lnTo>
                          <a:pt x="1096" y="0"/>
                        </a:lnTo>
                        <a:lnTo>
                          <a:pt x="1123" y="0"/>
                        </a:lnTo>
                        <a:lnTo>
                          <a:pt x="1151" y="0"/>
                        </a:lnTo>
                        <a:lnTo>
                          <a:pt x="1178" y="0"/>
                        </a:lnTo>
                        <a:lnTo>
                          <a:pt x="1206" y="0"/>
                        </a:lnTo>
                        <a:lnTo>
                          <a:pt x="1248" y="0"/>
                        </a:lnTo>
                        <a:lnTo>
                          <a:pt x="1275" y="0"/>
                        </a:lnTo>
                        <a:lnTo>
                          <a:pt x="1303" y="0"/>
                        </a:lnTo>
                        <a:lnTo>
                          <a:pt x="1331" y="0"/>
                        </a:lnTo>
                        <a:lnTo>
                          <a:pt x="1358" y="0"/>
                        </a:lnTo>
                        <a:lnTo>
                          <a:pt x="1386" y="0"/>
                        </a:lnTo>
                        <a:lnTo>
                          <a:pt x="1427" y="0"/>
                        </a:lnTo>
                        <a:lnTo>
                          <a:pt x="1455" y="0"/>
                        </a:lnTo>
                        <a:lnTo>
                          <a:pt x="1483" y="0"/>
                        </a:lnTo>
                        <a:lnTo>
                          <a:pt x="1510" y="0"/>
                        </a:lnTo>
                        <a:lnTo>
                          <a:pt x="1538" y="0"/>
                        </a:lnTo>
                        <a:lnTo>
                          <a:pt x="1566" y="0"/>
                        </a:lnTo>
                        <a:lnTo>
                          <a:pt x="1607" y="0"/>
                        </a:lnTo>
                        <a:lnTo>
                          <a:pt x="1635" y="0"/>
                        </a:lnTo>
                        <a:lnTo>
                          <a:pt x="1663" y="0"/>
                        </a:lnTo>
                        <a:lnTo>
                          <a:pt x="1690" y="0"/>
                        </a:lnTo>
                        <a:lnTo>
                          <a:pt x="1718" y="0"/>
                        </a:lnTo>
                        <a:lnTo>
                          <a:pt x="1746" y="0"/>
                        </a:lnTo>
                        <a:lnTo>
                          <a:pt x="1787" y="0"/>
                        </a:lnTo>
                        <a:lnTo>
                          <a:pt x="1815" y="0"/>
                        </a:lnTo>
                        <a:lnTo>
                          <a:pt x="1842" y="0"/>
                        </a:lnTo>
                        <a:lnTo>
                          <a:pt x="1870" y="0"/>
                        </a:lnTo>
                        <a:lnTo>
                          <a:pt x="1899" y="0"/>
                        </a:lnTo>
                        <a:lnTo>
                          <a:pt x="1927" y="0"/>
                        </a:lnTo>
                        <a:lnTo>
                          <a:pt x="1968" y="0"/>
                        </a:lnTo>
                        <a:lnTo>
                          <a:pt x="1996" y="0"/>
                        </a:lnTo>
                        <a:lnTo>
                          <a:pt x="2024" y="0"/>
                        </a:lnTo>
                        <a:lnTo>
                          <a:pt x="2051" y="0"/>
                        </a:lnTo>
                        <a:lnTo>
                          <a:pt x="2079" y="0"/>
                        </a:lnTo>
                        <a:lnTo>
                          <a:pt x="2107" y="0"/>
                        </a:lnTo>
                        <a:lnTo>
                          <a:pt x="2148" y="0"/>
                        </a:lnTo>
                        <a:lnTo>
                          <a:pt x="2176" y="0"/>
                        </a:lnTo>
                        <a:lnTo>
                          <a:pt x="2203" y="0"/>
                        </a:lnTo>
                        <a:lnTo>
                          <a:pt x="2231" y="0"/>
                        </a:lnTo>
                        <a:lnTo>
                          <a:pt x="2259" y="0"/>
                        </a:lnTo>
                        <a:lnTo>
                          <a:pt x="2286" y="0"/>
                        </a:lnTo>
                        <a:lnTo>
                          <a:pt x="2328" y="0"/>
                        </a:lnTo>
                        <a:lnTo>
                          <a:pt x="2356" y="0"/>
                        </a:lnTo>
                        <a:lnTo>
                          <a:pt x="2383" y="0"/>
                        </a:lnTo>
                        <a:lnTo>
                          <a:pt x="2411" y="0"/>
                        </a:lnTo>
                        <a:lnTo>
                          <a:pt x="2439" y="0"/>
                        </a:lnTo>
                        <a:lnTo>
                          <a:pt x="2466" y="0"/>
                        </a:lnTo>
                        <a:lnTo>
                          <a:pt x="2508" y="0"/>
                        </a:lnTo>
                        <a:lnTo>
                          <a:pt x="2535" y="0"/>
                        </a:lnTo>
                        <a:lnTo>
                          <a:pt x="2563" y="0"/>
                        </a:lnTo>
                        <a:lnTo>
                          <a:pt x="2591" y="0"/>
                        </a:lnTo>
                        <a:lnTo>
                          <a:pt x="2618" y="0"/>
                        </a:lnTo>
                        <a:lnTo>
                          <a:pt x="2646" y="0"/>
                        </a:lnTo>
                        <a:lnTo>
                          <a:pt x="2689" y="0"/>
                        </a:lnTo>
                        <a:lnTo>
                          <a:pt x="2717" y="0"/>
                        </a:lnTo>
                        <a:lnTo>
                          <a:pt x="2744" y="0"/>
                        </a:lnTo>
                        <a:lnTo>
                          <a:pt x="2772" y="0"/>
                        </a:lnTo>
                        <a:lnTo>
                          <a:pt x="2800" y="0"/>
                        </a:lnTo>
                        <a:lnTo>
                          <a:pt x="2827" y="0"/>
                        </a:lnTo>
                        <a:lnTo>
                          <a:pt x="2869" y="0"/>
                        </a:lnTo>
                        <a:lnTo>
                          <a:pt x="2896" y="0"/>
                        </a:lnTo>
                        <a:lnTo>
                          <a:pt x="2924" y="0"/>
                        </a:lnTo>
                        <a:lnTo>
                          <a:pt x="2952" y="0"/>
                        </a:lnTo>
                        <a:lnTo>
                          <a:pt x="2979" y="0"/>
                        </a:lnTo>
                        <a:lnTo>
                          <a:pt x="3007" y="0"/>
                        </a:lnTo>
                        <a:lnTo>
                          <a:pt x="3048" y="0"/>
                        </a:lnTo>
                        <a:lnTo>
                          <a:pt x="3076" y="0"/>
                        </a:lnTo>
                        <a:lnTo>
                          <a:pt x="3104" y="0"/>
                        </a:lnTo>
                        <a:lnTo>
                          <a:pt x="3131" y="0"/>
                        </a:lnTo>
                        <a:lnTo>
                          <a:pt x="3159" y="0"/>
                        </a:lnTo>
                        <a:lnTo>
                          <a:pt x="3201" y="0"/>
                        </a:lnTo>
                        <a:lnTo>
                          <a:pt x="3242" y="0"/>
                        </a:lnTo>
                        <a:lnTo>
                          <a:pt x="3270" y="0"/>
                        </a:lnTo>
                        <a:lnTo>
                          <a:pt x="3297" y="0"/>
                        </a:lnTo>
                        <a:lnTo>
                          <a:pt x="3325" y="0"/>
                        </a:lnTo>
                        <a:lnTo>
                          <a:pt x="3353" y="0"/>
                        </a:lnTo>
                        <a:lnTo>
                          <a:pt x="3394" y="0"/>
                        </a:lnTo>
                        <a:lnTo>
                          <a:pt x="3422" y="0"/>
                        </a:lnTo>
                        <a:lnTo>
                          <a:pt x="3450" y="0"/>
                        </a:lnTo>
                        <a:lnTo>
                          <a:pt x="3479" y="0"/>
                        </a:lnTo>
                        <a:lnTo>
                          <a:pt x="3506" y="0"/>
                        </a:lnTo>
                        <a:lnTo>
                          <a:pt x="3534" y="0"/>
                        </a:lnTo>
                        <a:lnTo>
                          <a:pt x="3575" y="0"/>
                        </a:lnTo>
                        <a:lnTo>
                          <a:pt x="3603" y="0"/>
                        </a:lnTo>
                        <a:lnTo>
                          <a:pt x="3631" y="0"/>
                        </a:lnTo>
                        <a:lnTo>
                          <a:pt x="3658" y="0"/>
                        </a:lnTo>
                        <a:lnTo>
                          <a:pt x="3686" y="0"/>
                        </a:lnTo>
                        <a:lnTo>
                          <a:pt x="3714" y="0"/>
                        </a:lnTo>
                        <a:lnTo>
                          <a:pt x="3755" y="0"/>
                        </a:lnTo>
                        <a:lnTo>
                          <a:pt x="3783" y="0"/>
                        </a:lnTo>
                        <a:lnTo>
                          <a:pt x="3811" y="0"/>
                        </a:lnTo>
                        <a:lnTo>
                          <a:pt x="3838" y="0"/>
                        </a:lnTo>
                        <a:lnTo>
                          <a:pt x="3866" y="0"/>
                        </a:lnTo>
                        <a:lnTo>
                          <a:pt x="3894" y="0"/>
                        </a:lnTo>
                        <a:lnTo>
                          <a:pt x="3935" y="0"/>
                        </a:lnTo>
                        <a:lnTo>
                          <a:pt x="3963" y="0"/>
                        </a:lnTo>
                        <a:lnTo>
                          <a:pt x="3990" y="0"/>
                        </a:lnTo>
                        <a:lnTo>
                          <a:pt x="4018" y="0"/>
                        </a:lnTo>
                        <a:lnTo>
                          <a:pt x="4046" y="0"/>
                        </a:lnTo>
                        <a:lnTo>
                          <a:pt x="4073" y="0"/>
                        </a:lnTo>
                        <a:lnTo>
                          <a:pt x="4115" y="0"/>
                        </a:lnTo>
                        <a:lnTo>
                          <a:pt x="4143" y="0"/>
                        </a:lnTo>
                        <a:lnTo>
                          <a:pt x="4170" y="0"/>
                        </a:lnTo>
                        <a:lnTo>
                          <a:pt x="4198" y="0"/>
                        </a:lnTo>
                        <a:lnTo>
                          <a:pt x="4226" y="0"/>
                        </a:lnTo>
                        <a:lnTo>
                          <a:pt x="4253" y="0"/>
                        </a:lnTo>
                        <a:lnTo>
                          <a:pt x="4296" y="0"/>
                        </a:lnTo>
                        <a:lnTo>
                          <a:pt x="4324" y="0"/>
                        </a:lnTo>
                        <a:lnTo>
                          <a:pt x="4351" y="0"/>
                        </a:lnTo>
                        <a:lnTo>
                          <a:pt x="4379" y="0"/>
                        </a:lnTo>
                        <a:lnTo>
                          <a:pt x="4407" y="0"/>
                        </a:lnTo>
                        <a:lnTo>
                          <a:pt x="4434" y="0"/>
                        </a:lnTo>
                        <a:lnTo>
                          <a:pt x="4476" y="0"/>
                        </a:lnTo>
                        <a:lnTo>
                          <a:pt x="4504" y="0"/>
                        </a:lnTo>
                        <a:lnTo>
                          <a:pt x="4531" y="0"/>
                        </a:lnTo>
                        <a:lnTo>
                          <a:pt x="4559" y="0"/>
                        </a:lnTo>
                        <a:lnTo>
                          <a:pt x="4587" y="0"/>
                        </a:lnTo>
                        <a:lnTo>
                          <a:pt x="4614" y="0"/>
                        </a:lnTo>
                        <a:lnTo>
                          <a:pt x="4656" y="0"/>
                        </a:lnTo>
                        <a:lnTo>
                          <a:pt x="4683" y="0"/>
                        </a:lnTo>
                        <a:lnTo>
                          <a:pt x="4711" y="0"/>
                        </a:lnTo>
                        <a:lnTo>
                          <a:pt x="4739" y="0"/>
                        </a:lnTo>
                        <a:lnTo>
                          <a:pt x="4766" y="0"/>
                        </a:lnTo>
                        <a:lnTo>
                          <a:pt x="4794" y="0"/>
                        </a:lnTo>
                        <a:lnTo>
                          <a:pt x="4835" y="0"/>
                        </a:lnTo>
                        <a:lnTo>
                          <a:pt x="4863" y="0"/>
                        </a:lnTo>
                        <a:lnTo>
                          <a:pt x="4891" y="0"/>
                        </a:lnTo>
                        <a:lnTo>
                          <a:pt x="4918" y="0"/>
                        </a:lnTo>
                        <a:lnTo>
                          <a:pt x="4946" y="0"/>
                        </a:lnTo>
                        <a:lnTo>
                          <a:pt x="4974" y="0"/>
                        </a:lnTo>
                        <a:lnTo>
                          <a:pt x="5015" y="0"/>
                        </a:lnTo>
                        <a:lnTo>
                          <a:pt x="5043" y="0"/>
                        </a:lnTo>
                        <a:lnTo>
                          <a:pt x="5072" y="0"/>
                        </a:lnTo>
                        <a:lnTo>
                          <a:pt x="5100" y="0"/>
                        </a:lnTo>
                        <a:lnTo>
                          <a:pt x="5127" y="0"/>
                        </a:lnTo>
                        <a:lnTo>
                          <a:pt x="5155" y="0"/>
                        </a:lnTo>
                        <a:lnTo>
                          <a:pt x="5196" y="0"/>
                        </a:lnTo>
                        <a:lnTo>
                          <a:pt x="5224" y="0"/>
                        </a:lnTo>
                        <a:lnTo>
                          <a:pt x="5252" y="0"/>
                        </a:lnTo>
                        <a:lnTo>
                          <a:pt x="5279" y="0"/>
                        </a:lnTo>
                        <a:lnTo>
                          <a:pt x="5307" y="0"/>
                        </a:lnTo>
                        <a:lnTo>
                          <a:pt x="5335" y="0"/>
                        </a:lnTo>
                        <a:lnTo>
                          <a:pt x="5376" y="0"/>
                        </a:lnTo>
                        <a:lnTo>
                          <a:pt x="5404" y="0"/>
                        </a:lnTo>
                        <a:lnTo>
                          <a:pt x="5432" y="0"/>
                        </a:lnTo>
                        <a:lnTo>
                          <a:pt x="5459" y="0"/>
                        </a:lnTo>
                        <a:lnTo>
                          <a:pt x="5487" y="0"/>
                        </a:lnTo>
                        <a:lnTo>
                          <a:pt x="5515" y="0"/>
                        </a:lnTo>
                        <a:lnTo>
                          <a:pt x="5556" y="0"/>
                        </a:lnTo>
                        <a:lnTo>
                          <a:pt x="5584" y="0"/>
                        </a:lnTo>
                        <a:lnTo>
                          <a:pt x="5611" y="0"/>
                        </a:lnTo>
                        <a:lnTo>
                          <a:pt x="5639" y="0"/>
                        </a:lnTo>
                        <a:lnTo>
                          <a:pt x="5667" y="0"/>
                        </a:lnTo>
                        <a:lnTo>
                          <a:pt x="5694" y="0"/>
                        </a:lnTo>
                        <a:lnTo>
                          <a:pt x="5736" y="0"/>
                        </a:lnTo>
                        <a:lnTo>
                          <a:pt x="5764" y="0"/>
                        </a:lnTo>
                        <a:lnTo>
                          <a:pt x="5791" y="0"/>
                        </a:lnTo>
                        <a:lnTo>
                          <a:pt x="5819" y="0"/>
                        </a:lnTo>
                        <a:lnTo>
                          <a:pt x="5847" y="0"/>
                        </a:lnTo>
                        <a:lnTo>
                          <a:pt x="5889" y="0"/>
                        </a:lnTo>
                        <a:lnTo>
                          <a:pt x="5931" y="0"/>
                        </a:lnTo>
                        <a:lnTo>
                          <a:pt x="5959" y="0"/>
                        </a:lnTo>
                        <a:lnTo>
                          <a:pt x="5986" y="0"/>
                        </a:lnTo>
                        <a:lnTo>
                          <a:pt x="6014" y="0"/>
                        </a:lnTo>
                        <a:lnTo>
                          <a:pt x="6042" y="0"/>
                        </a:lnTo>
                        <a:lnTo>
                          <a:pt x="6069" y="0"/>
                        </a:lnTo>
                        <a:lnTo>
                          <a:pt x="6111" y="0"/>
                        </a:lnTo>
                        <a:lnTo>
                          <a:pt x="613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5403960" y="4489560"/>
                    <a:ext cx="32479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6138" h="0">
                        <a:moveTo>
                          <a:pt x="0" y="0"/>
                        </a:moveTo>
                        <a:lnTo>
                          <a:pt x="28" y="0"/>
                        </a:lnTo>
                        <a:lnTo>
                          <a:pt x="55" y="0"/>
                        </a:lnTo>
                        <a:lnTo>
                          <a:pt x="83" y="0"/>
                        </a:lnTo>
                        <a:lnTo>
                          <a:pt x="111" y="0"/>
                        </a:lnTo>
                        <a:lnTo>
                          <a:pt x="152" y="0"/>
                        </a:lnTo>
                        <a:lnTo>
                          <a:pt x="180" y="0"/>
                        </a:lnTo>
                        <a:lnTo>
                          <a:pt x="208" y="0"/>
                        </a:lnTo>
                        <a:lnTo>
                          <a:pt x="235" y="0"/>
                        </a:lnTo>
                        <a:lnTo>
                          <a:pt x="263" y="0"/>
                        </a:lnTo>
                        <a:lnTo>
                          <a:pt x="292" y="0"/>
                        </a:lnTo>
                        <a:lnTo>
                          <a:pt x="333" y="0"/>
                        </a:lnTo>
                        <a:lnTo>
                          <a:pt x="361" y="0"/>
                        </a:lnTo>
                        <a:lnTo>
                          <a:pt x="389" y="0"/>
                        </a:lnTo>
                        <a:lnTo>
                          <a:pt x="416" y="0"/>
                        </a:lnTo>
                        <a:lnTo>
                          <a:pt x="444" y="0"/>
                        </a:lnTo>
                        <a:lnTo>
                          <a:pt x="472" y="0"/>
                        </a:lnTo>
                        <a:lnTo>
                          <a:pt x="513" y="0"/>
                        </a:lnTo>
                        <a:lnTo>
                          <a:pt x="541" y="0"/>
                        </a:lnTo>
                        <a:lnTo>
                          <a:pt x="582" y="0"/>
                        </a:lnTo>
                        <a:lnTo>
                          <a:pt x="610" y="0"/>
                        </a:lnTo>
                        <a:lnTo>
                          <a:pt x="638" y="0"/>
                        </a:lnTo>
                        <a:lnTo>
                          <a:pt x="665" y="0"/>
                        </a:lnTo>
                        <a:lnTo>
                          <a:pt x="707" y="0"/>
                        </a:lnTo>
                        <a:lnTo>
                          <a:pt x="735" y="0"/>
                        </a:lnTo>
                        <a:lnTo>
                          <a:pt x="762" y="0"/>
                        </a:lnTo>
                        <a:lnTo>
                          <a:pt x="790" y="0"/>
                        </a:lnTo>
                        <a:lnTo>
                          <a:pt x="818" y="0"/>
                        </a:lnTo>
                        <a:lnTo>
                          <a:pt x="845" y="0"/>
                        </a:lnTo>
                        <a:lnTo>
                          <a:pt x="887" y="0"/>
                        </a:lnTo>
                        <a:lnTo>
                          <a:pt x="914" y="0"/>
                        </a:lnTo>
                        <a:lnTo>
                          <a:pt x="942" y="0"/>
                        </a:lnTo>
                        <a:lnTo>
                          <a:pt x="970" y="0"/>
                        </a:lnTo>
                        <a:lnTo>
                          <a:pt x="997" y="0"/>
                        </a:lnTo>
                        <a:lnTo>
                          <a:pt x="1025" y="0"/>
                        </a:lnTo>
                        <a:lnTo>
                          <a:pt x="1066" y="0"/>
                        </a:lnTo>
                        <a:lnTo>
                          <a:pt x="1096" y="0"/>
                        </a:lnTo>
                        <a:lnTo>
                          <a:pt x="1123" y="0"/>
                        </a:lnTo>
                        <a:lnTo>
                          <a:pt x="1151" y="0"/>
                        </a:lnTo>
                        <a:lnTo>
                          <a:pt x="1178" y="0"/>
                        </a:lnTo>
                        <a:lnTo>
                          <a:pt x="1206" y="0"/>
                        </a:lnTo>
                        <a:lnTo>
                          <a:pt x="1248" y="0"/>
                        </a:lnTo>
                        <a:lnTo>
                          <a:pt x="1275" y="0"/>
                        </a:lnTo>
                        <a:lnTo>
                          <a:pt x="1303" y="0"/>
                        </a:lnTo>
                        <a:lnTo>
                          <a:pt x="1331" y="0"/>
                        </a:lnTo>
                        <a:lnTo>
                          <a:pt x="1358" y="0"/>
                        </a:lnTo>
                        <a:lnTo>
                          <a:pt x="1386" y="0"/>
                        </a:lnTo>
                        <a:lnTo>
                          <a:pt x="1427" y="0"/>
                        </a:lnTo>
                        <a:lnTo>
                          <a:pt x="1455" y="0"/>
                        </a:lnTo>
                        <a:lnTo>
                          <a:pt x="1483" y="0"/>
                        </a:lnTo>
                        <a:lnTo>
                          <a:pt x="1510" y="0"/>
                        </a:lnTo>
                        <a:lnTo>
                          <a:pt x="1538" y="0"/>
                        </a:lnTo>
                        <a:lnTo>
                          <a:pt x="1566" y="0"/>
                        </a:lnTo>
                        <a:lnTo>
                          <a:pt x="1607" y="0"/>
                        </a:lnTo>
                        <a:lnTo>
                          <a:pt x="1635" y="0"/>
                        </a:lnTo>
                        <a:lnTo>
                          <a:pt x="1663" y="0"/>
                        </a:lnTo>
                        <a:lnTo>
                          <a:pt x="1690" y="0"/>
                        </a:lnTo>
                        <a:lnTo>
                          <a:pt x="1718" y="0"/>
                        </a:lnTo>
                        <a:lnTo>
                          <a:pt x="1746" y="0"/>
                        </a:lnTo>
                        <a:lnTo>
                          <a:pt x="1787" y="0"/>
                        </a:lnTo>
                        <a:lnTo>
                          <a:pt x="1815" y="0"/>
                        </a:lnTo>
                        <a:lnTo>
                          <a:pt x="1842" y="0"/>
                        </a:lnTo>
                        <a:lnTo>
                          <a:pt x="1870" y="0"/>
                        </a:lnTo>
                        <a:lnTo>
                          <a:pt x="1899" y="0"/>
                        </a:lnTo>
                        <a:lnTo>
                          <a:pt x="1927" y="0"/>
                        </a:lnTo>
                        <a:lnTo>
                          <a:pt x="1968" y="0"/>
                        </a:lnTo>
                        <a:lnTo>
                          <a:pt x="1996" y="0"/>
                        </a:lnTo>
                        <a:lnTo>
                          <a:pt x="2024" y="0"/>
                        </a:lnTo>
                        <a:lnTo>
                          <a:pt x="2051" y="0"/>
                        </a:lnTo>
                        <a:lnTo>
                          <a:pt x="2079" y="0"/>
                        </a:lnTo>
                        <a:lnTo>
                          <a:pt x="2107" y="0"/>
                        </a:lnTo>
                        <a:lnTo>
                          <a:pt x="2148" y="0"/>
                        </a:lnTo>
                        <a:lnTo>
                          <a:pt x="2176" y="0"/>
                        </a:lnTo>
                        <a:lnTo>
                          <a:pt x="2203" y="0"/>
                        </a:lnTo>
                        <a:lnTo>
                          <a:pt x="2231" y="0"/>
                        </a:lnTo>
                        <a:lnTo>
                          <a:pt x="2259" y="0"/>
                        </a:lnTo>
                        <a:lnTo>
                          <a:pt x="2286" y="0"/>
                        </a:lnTo>
                        <a:lnTo>
                          <a:pt x="2328" y="0"/>
                        </a:lnTo>
                        <a:lnTo>
                          <a:pt x="2356" y="0"/>
                        </a:lnTo>
                        <a:lnTo>
                          <a:pt x="2383" y="0"/>
                        </a:lnTo>
                        <a:lnTo>
                          <a:pt x="2411" y="0"/>
                        </a:lnTo>
                        <a:lnTo>
                          <a:pt x="2439" y="0"/>
                        </a:lnTo>
                        <a:lnTo>
                          <a:pt x="2466" y="0"/>
                        </a:lnTo>
                        <a:lnTo>
                          <a:pt x="2508" y="0"/>
                        </a:lnTo>
                        <a:lnTo>
                          <a:pt x="2535" y="0"/>
                        </a:lnTo>
                        <a:lnTo>
                          <a:pt x="2563" y="0"/>
                        </a:lnTo>
                        <a:lnTo>
                          <a:pt x="2591" y="0"/>
                        </a:lnTo>
                        <a:lnTo>
                          <a:pt x="2618" y="0"/>
                        </a:lnTo>
                        <a:lnTo>
                          <a:pt x="2646" y="0"/>
                        </a:lnTo>
                        <a:lnTo>
                          <a:pt x="2689" y="0"/>
                        </a:lnTo>
                        <a:lnTo>
                          <a:pt x="2717" y="0"/>
                        </a:lnTo>
                        <a:lnTo>
                          <a:pt x="2744" y="0"/>
                        </a:lnTo>
                        <a:lnTo>
                          <a:pt x="2772" y="0"/>
                        </a:lnTo>
                        <a:lnTo>
                          <a:pt x="2800" y="0"/>
                        </a:lnTo>
                        <a:lnTo>
                          <a:pt x="2827" y="0"/>
                        </a:lnTo>
                        <a:lnTo>
                          <a:pt x="2869" y="0"/>
                        </a:lnTo>
                        <a:lnTo>
                          <a:pt x="2896" y="0"/>
                        </a:lnTo>
                        <a:lnTo>
                          <a:pt x="2924" y="0"/>
                        </a:lnTo>
                        <a:lnTo>
                          <a:pt x="2952" y="0"/>
                        </a:lnTo>
                        <a:lnTo>
                          <a:pt x="2979" y="0"/>
                        </a:lnTo>
                        <a:lnTo>
                          <a:pt x="3007" y="0"/>
                        </a:lnTo>
                        <a:lnTo>
                          <a:pt x="3048" y="0"/>
                        </a:lnTo>
                        <a:lnTo>
                          <a:pt x="3076" y="0"/>
                        </a:lnTo>
                        <a:lnTo>
                          <a:pt x="3104" y="0"/>
                        </a:lnTo>
                        <a:lnTo>
                          <a:pt x="3131" y="0"/>
                        </a:lnTo>
                        <a:lnTo>
                          <a:pt x="3159" y="0"/>
                        </a:lnTo>
                        <a:lnTo>
                          <a:pt x="3201" y="0"/>
                        </a:lnTo>
                        <a:lnTo>
                          <a:pt x="3242" y="0"/>
                        </a:lnTo>
                        <a:lnTo>
                          <a:pt x="3270" y="0"/>
                        </a:lnTo>
                        <a:lnTo>
                          <a:pt x="3297" y="0"/>
                        </a:lnTo>
                        <a:lnTo>
                          <a:pt x="3325" y="0"/>
                        </a:lnTo>
                        <a:lnTo>
                          <a:pt x="3353" y="0"/>
                        </a:lnTo>
                        <a:lnTo>
                          <a:pt x="3394" y="0"/>
                        </a:lnTo>
                        <a:lnTo>
                          <a:pt x="3422" y="0"/>
                        </a:lnTo>
                        <a:lnTo>
                          <a:pt x="3450" y="0"/>
                        </a:lnTo>
                        <a:lnTo>
                          <a:pt x="3479" y="0"/>
                        </a:lnTo>
                        <a:lnTo>
                          <a:pt x="3506" y="0"/>
                        </a:lnTo>
                        <a:lnTo>
                          <a:pt x="3534" y="0"/>
                        </a:lnTo>
                        <a:lnTo>
                          <a:pt x="3575" y="0"/>
                        </a:lnTo>
                        <a:lnTo>
                          <a:pt x="3603" y="0"/>
                        </a:lnTo>
                        <a:lnTo>
                          <a:pt x="3631" y="0"/>
                        </a:lnTo>
                        <a:lnTo>
                          <a:pt x="3658" y="0"/>
                        </a:lnTo>
                        <a:lnTo>
                          <a:pt x="3686" y="0"/>
                        </a:lnTo>
                        <a:lnTo>
                          <a:pt x="3714" y="0"/>
                        </a:lnTo>
                        <a:lnTo>
                          <a:pt x="3755" y="0"/>
                        </a:lnTo>
                        <a:lnTo>
                          <a:pt x="3783" y="0"/>
                        </a:lnTo>
                        <a:lnTo>
                          <a:pt x="3811" y="0"/>
                        </a:lnTo>
                        <a:lnTo>
                          <a:pt x="3838" y="0"/>
                        </a:lnTo>
                        <a:lnTo>
                          <a:pt x="3866" y="0"/>
                        </a:lnTo>
                        <a:lnTo>
                          <a:pt x="3894" y="0"/>
                        </a:lnTo>
                        <a:lnTo>
                          <a:pt x="3935" y="0"/>
                        </a:lnTo>
                        <a:lnTo>
                          <a:pt x="3963" y="0"/>
                        </a:lnTo>
                        <a:lnTo>
                          <a:pt x="3990" y="0"/>
                        </a:lnTo>
                        <a:lnTo>
                          <a:pt x="4018" y="0"/>
                        </a:lnTo>
                        <a:lnTo>
                          <a:pt x="4046" y="0"/>
                        </a:lnTo>
                        <a:lnTo>
                          <a:pt x="4073" y="0"/>
                        </a:lnTo>
                        <a:lnTo>
                          <a:pt x="4115" y="0"/>
                        </a:lnTo>
                        <a:lnTo>
                          <a:pt x="4143" y="0"/>
                        </a:lnTo>
                        <a:lnTo>
                          <a:pt x="4170" y="0"/>
                        </a:lnTo>
                        <a:lnTo>
                          <a:pt x="4198" y="0"/>
                        </a:lnTo>
                        <a:lnTo>
                          <a:pt x="4226" y="0"/>
                        </a:lnTo>
                        <a:lnTo>
                          <a:pt x="4253" y="0"/>
                        </a:lnTo>
                        <a:lnTo>
                          <a:pt x="4296" y="0"/>
                        </a:lnTo>
                        <a:lnTo>
                          <a:pt x="4324" y="0"/>
                        </a:lnTo>
                        <a:lnTo>
                          <a:pt x="4351" y="0"/>
                        </a:lnTo>
                        <a:lnTo>
                          <a:pt x="4379" y="0"/>
                        </a:lnTo>
                        <a:lnTo>
                          <a:pt x="4407" y="0"/>
                        </a:lnTo>
                        <a:lnTo>
                          <a:pt x="4434" y="0"/>
                        </a:lnTo>
                        <a:lnTo>
                          <a:pt x="4476" y="0"/>
                        </a:lnTo>
                        <a:lnTo>
                          <a:pt x="4504" y="0"/>
                        </a:lnTo>
                        <a:lnTo>
                          <a:pt x="4531" y="0"/>
                        </a:lnTo>
                        <a:lnTo>
                          <a:pt x="4559" y="0"/>
                        </a:lnTo>
                        <a:lnTo>
                          <a:pt x="4587" y="0"/>
                        </a:lnTo>
                        <a:lnTo>
                          <a:pt x="4614" y="0"/>
                        </a:lnTo>
                        <a:lnTo>
                          <a:pt x="4656" y="0"/>
                        </a:lnTo>
                        <a:lnTo>
                          <a:pt x="4683" y="0"/>
                        </a:lnTo>
                        <a:lnTo>
                          <a:pt x="4711" y="0"/>
                        </a:lnTo>
                        <a:lnTo>
                          <a:pt x="4739" y="0"/>
                        </a:lnTo>
                        <a:lnTo>
                          <a:pt x="4766" y="0"/>
                        </a:lnTo>
                        <a:lnTo>
                          <a:pt x="4794" y="0"/>
                        </a:lnTo>
                        <a:lnTo>
                          <a:pt x="4835" y="0"/>
                        </a:lnTo>
                        <a:lnTo>
                          <a:pt x="4863" y="0"/>
                        </a:lnTo>
                        <a:lnTo>
                          <a:pt x="4891" y="0"/>
                        </a:lnTo>
                        <a:lnTo>
                          <a:pt x="4918" y="0"/>
                        </a:lnTo>
                        <a:lnTo>
                          <a:pt x="4946" y="0"/>
                        </a:lnTo>
                        <a:lnTo>
                          <a:pt x="4974" y="0"/>
                        </a:lnTo>
                        <a:lnTo>
                          <a:pt x="5015" y="0"/>
                        </a:lnTo>
                        <a:lnTo>
                          <a:pt x="5043" y="0"/>
                        </a:lnTo>
                        <a:lnTo>
                          <a:pt x="5072" y="0"/>
                        </a:lnTo>
                        <a:lnTo>
                          <a:pt x="5100" y="0"/>
                        </a:lnTo>
                        <a:lnTo>
                          <a:pt x="5127" y="0"/>
                        </a:lnTo>
                        <a:lnTo>
                          <a:pt x="5155" y="0"/>
                        </a:lnTo>
                        <a:lnTo>
                          <a:pt x="5196" y="0"/>
                        </a:lnTo>
                        <a:lnTo>
                          <a:pt x="5224" y="0"/>
                        </a:lnTo>
                        <a:lnTo>
                          <a:pt x="5252" y="0"/>
                        </a:lnTo>
                        <a:lnTo>
                          <a:pt x="5279" y="0"/>
                        </a:lnTo>
                        <a:lnTo>
                          <a:pt x="5307" y="0"/>
                        </a:lnTo>
                        <a:lnTo>
                          <a:pt x="5335" y="0"/>
                        </a:lnTo>
                        <a:lnTo>
                          <a:pt x="5376" y="0"/>
                        </a:lnTo>
                        <a:lnTo>
                          <a:pt x="5404" y="0"/>
                        </a:lnTo>
                        <a:lnTo>
                          <a:pt x="5432" y="0"/>
                        </a:lnTo>
                        <a:lnTo>
                          <a:pt x="5459" y="0"/>
                        </a:lnTo>
                        <a:lnTo>
                          <a:pt x="5487" y="0"/>
                        </a:lnTo>
                        <a:lnTo>
                          <a:pt x="5515" y="0"/>
                        </a:lnTo>
                        <a:lnTo>
                          <a:pt x="5556" y="0"/>
                        </a:lnTo>
                        <a:lnTo>
                          <a:pt x="5584" y="0"/>
                        </a:lnTo>
                        <a:lnTo>
                          <a:pt x="5611" y="0"/>
                        </a:lnTo>
                        <a:lnTo>
                          <a:pt x="5639" y="0"/>
                        </a:lnTo>
                        <a:lnTo>
                          <a:pt x="5667" y="0"/>
                        </a:lnTo>
                        <a:lnTo>
                          <a:pt x="5694" y="0"/>
                        </a:lnTo>
                        <a:lnTo>
                          <a:pt x="5736" y="0"/>
                        </a:lnTo>
                        <a:lnTo>
                          <a:pt x="5764" y="0"/>
                        </a:lnTo>
                        <a:lnTo>
                          <a:pt x="5791" y="0"/>
                        </a:lnTo>
                        <a:lnTo>
                          <a:pt x="5819" y="0"/>
                        </a:lnTo>
                        <a:lnTo>
                          <a:pt x="5847" y="0"/>
                        </a:lnTo>
                        <a:lnTo>
                          <a:pt x="5889" y="0"/>
                        </a:lnTo>
                        <a:lnTo>
                          <a:pt x="5931" y="0"/>
                        </a:lnTo>
                        <a:lnTo>
                          <a:pt x="5959" y="0"/>
                        </a:lnTo>
                        <a:lnTo>
                          <a:pt x="5986" y="0"/>
                        </a:lnTo>
                        <a:lnTo>
                          <a:pt x="6014" y="0"/>
                        </a:lnTo>
                        <a:lnTo>
                          <a:pt x="6042" y="0"/>
                        </a:lnTo>
                        <a:lnTo>
                          <a:pt x="6069" y="0"/>
                        </a:lnTo>
                        <a:lnTo>
                          <a:pt x="6111" y="0"/>
                        </a:lnTo>
                        <a:lnTo>
                          <a:pt x="613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2" name=""/>
                <p:cNvGrpSpPr/>
                <p:nvPr/>
              </p:nvGrpSpPr>
              <p:grpSpPr>
                <a:xfrm>
                  <a:off x="5207040" y="4289400"/>
                  <a:ext cx="3643200" cy="1440"/>
                  <a:chOff x="5207040" y="4289400"/>
                  <a:chExt cx="3643200" cy="1440"/>
                </a:xfrm>
              </p:grpSpPr>
              <p:sp>
                <p:nvSpPr>
                  <p:cNvPr id="633" name=""/>
                  <p:cNvSpPr/>
                  <p:nvPr/>
                </p:nvSpPr>
                <p:spPr>
                  <a:xfrm>
                    <a:off x="5207040" y="4289400"/>
                    <a:ext cx="36432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5" h="0">
                        <a:moveTo>
                          <a:pt x="0" y="0"/>
                        </a:moveTo>
                        <a:lnTo>
                          <a:pt x="27" y="0"/>
                        </a:lnTo>
                        <a:lnTo>
                          <a:pt x="55" y="0"/>
                        </a:lnTo>
                        <a:lnTo>
                          <a:pt x="83" y="0"/>
                        </a:lnTo>
                        <a:lnTo>
                          <a:pt x="124" y="0"/>
                        </a:lnTo>
                        <a:lnTo>
                          <a:pt x="152" y="0"/>
                        </a:lnTo>
                        <a:lnTo>
                          <a:pt x="179" y="0"/>
                        </a:lnTo>
                        <a:lnTo>
                          <a:pt x="207" y="0"/>
                        </a:lnTo>
                        <a:lnTo>
                          <a:pt x="235" y="0"/>
                        </a:lnTo>
                        <a:lnTo>
                          <a:pt x="262" y="0"/>
                        </a:lnTo>
                        <a:lnTo>
                          <a:pt x="304" y="0"/>
                        </a:lnTo>
                        <a:lnTo>
                          <a:pt x="332" y="0"/>
                        </a:lnTo>
                        <a:lnTo>
                          <a:pt x="359" y="0"/>
                        </a:lnTo>
                        <a:lnTo>
                          <a:pt x="387" y="0"/>
                        </a:lnTo>
                        <a:lnTo>
                          <a:pt x="415" y="0"/>
                        </a:lnTo>
                        <a:lnTo>
                          <a:pt x="442" y="0"/>
                        </a:lnTo>
                        <a:lnTo>
                          <a:pt x="470" y="0"/>
                        </a:lnTo>
                        <a:lnTo>
                          <a:pt x="511" y="0"/>
                        </a:lnTo>
                        <a:lnTo>
                          <a:pt x="539" y="0"/>
                        </a:lnTo>
                        <a:lnTo>
                          <a:pt x="567" y="0"/>
                        </a:lnTo>
                        <a:lnTo>
                          <a:pt x="594" y="0"/>
                        </a:lnTo>
                        <a:lnTo>
                          <a:pt x="622" y="0"/>
                        </a:lnTo>
                        <a:lnTo>
                          <a:pt x="650" y="0"/>
                        </a:lnTo>
                        <a:lnTo>
                          <a:pt x="693" y="0"/>
                        </a:lnTo>
                        <a:lnTo>
                          <a:pt x="720" y="0"/>
                        </a:lnTo>
                        <a:lnTo>
                          <a:pt x="748" y="0"/>
                        </a:lnTo>
                        <a:lnTo>
                          <a:pt x="776" y="0"/>
                        </a:lnTo>
                        <a:lnTo>
                          <a:pt x="803" y="0"/>
                        </a:lnTo>
                        <a:lnTo>
                          <a:pt x="831" y="0"/>
                        </a:lnTo>
                        <a:lnTo>
                          <a:pt x="872" y="0"/>
                        </a:lnTo>
                        <a:lnTo>
                          <a:pt x="900" y="0"/>
                        </a:lnTo>
                        <a:lnTo>
                          <a:pt x="942" y="0"/>
                        </a:lnTo>
                        <a:lnTo>
                          <a:pt x="969" y="0"/>
                        </a:lnTo>
                        <a:lnTo>
                          <a:pt x="997" y="0"/>
                        </a:lnTo>
                        <a:lnTo>
                          <a:pt x="1025" y="0"/>
                        </a:lnTo>
                        <a:lnTo>
                          <a:pt x="1066" y="0"/>
                        </a:lnTo>
                        <a:lnTo>
                          <a:pt x="1094" y="0"/>
                        </a:lnTo>
                        <a:lnTo>
                          <a:pt x="1121" y="0"/>
                        </a:lnTo>
                        <a:lnTo>
                          <a:pt x="1149" y="0"/>
                        </a:lnTo>
                        <a:lnTo>
                          <a:pt x="1177" y="0"/>
                        </a:lnTo>
                        <a:lnTo>
                          <a:pt x="1204" y="0"/>
                        </a:lnTo>
                        <a:lnTo>
                          <a:pt x="1246" y="0"/>
                        </a:lnTo>
                        <a:lnTo>
                          <a:pt x="1273" y="0"/>
                        </a:lnTo>
                        <a:lnTo>
                          <a:pt x="1301" y="0"/>
                        </a:lnTo>
                        <a:lnTo>
                          <a:pt x="1329" y="0"/>
                        </a:lnTo>
                        <a:lnTo>
                          <a:pt x="1356" y="0"/>
                        </a:lnTo>
                        <a:lnTo>
                          <a:pt x="1384" y="0"/>
                        </a:lnTo>
                        <a:lnTo>
                          <a:pt x="1426" y="0"/>
                        </a:lnTo>
                        <a:lnTo>
                          <a:pt x="1455" y="0"/>
                        </a:lnTo>
                        <a:lnTo>
                          <a:pt x="1482" y="0"/>
                        </a:lnTo>
                        <a:lnTo>
                          <a:pt x="1510" y="0"/>
                        </a:lnTo>
                        <a:lnTo>
                          <a:pt x="1538" y="0"/>
                        </a:lnTo>
                        <a:lnTo>
                          <a:pt x="1565" y="0"/>
                        </a:lnTo>
                        <a:lnTo>
                          <a:pt x="1607" y="0"/>
                        </a:lnTo>
                        <a:lnTo>
                          <a:pt x="1634" y="0"/>
                        </a:lnTo>
                        <a:lnTo>
                          <a:pt x="1662" y="0"/>
                        </a:lnTo>
                        <a:lnTo>
                          <a:pt x="1690" y="0"/>
                        </a:lnTo>
                        <a:lnTo>
                          <a:pt x="1717" y="0"/>
                        </a:lnTo>
                        <a:lnTo>
                          <a:pt x="1745" y="0"/>
                        </a:lnTo>
                        <a:lnTo>
                          <a:pt x="1787" y="0"/>
                        </a:lnTo>
                        <a:lnTo>
                          <a:pt x="1814" y="0"/>
                        </a:lnTo>
                        <a:lnTo>
                          <a:pt x="1842" y="0"/>
                        </a:lnTo>
                        <a:lnTo>
                          <a:pt x="1870" y="0"/>
                        </a:lnTo>
                        <a:lnTo>
                          <a:pt x="1897" y="0"/>
                        </a:lnTo>
                        <a:lnTo>
                          <a:pt x="1925" y="0"/>
                        </a:lnTo>
                        <a:lnTo>
                          <a:pt x="1966" y="0"/>
                        </a:lnTo>
                        <a:lnTo>
                          <a:pt x="1994" y="0"/>
                        </a:lnTo>
                        <a:lnTo>
                          <a:pt x="2022" y="0"/>
                        </a:lnTo>
                        <a:lnTo>
                          <a:pt x="2049" y="0"/>
                        </a:lnTo>
                        <a:lnTo>
                          <a:pt x="2077" y="0"/>
                        </a:lnTo>
                        <a:lnTo>
                          <a:pt x="2105" y="0"/>
                        </a:lnTo>
                        <a:lnTo>
                          <a:pt x="2146" y="0"/>
                        </a:lnTo>
                        <a:lnTo>
                          <a:pt x="2174" y="0"/>
                        </a:lnTo>
                        <a:lnTo>
                          <a:pt x="2202" y="0"/>
                        </a:lnTo>
                        <a:lnTo>
                          <a:pt x="2229" y="0"/>
                        </a:lnTo>
                        <a:lnTo>
                          <a:pt x="2258" y="0"/>
                        </a:lnTo>
                        <a:lnTo>
                          <a:pt x="2286" y="0"/>
                        </a:lnTo>
                        <a:lnTo>
                          <a:pt x="2327" y="0"/>
                        </a:lnTo>
                        <a:lnTo>
                          <a:pt x="2355" y="0"/>
                        </a:lnTo>
                        <a:lnTo>
                          <a:pt x="2383" y="0"/>
                        </a:lnTo>
                        <a:lnTo>
                          <a:pt x="2410" y="0"/>
                        </a:lnTo>
                        <a:lnTo>
                          <a:pt x="2438" y="0"/>
                        </a:lnTo>
                        <a:lnTo>
                          <a:pt x="2466" y="0"/>
                        </a:lnTo>
                        <a:lnTo>
                          <a:pt x="2507" y="0"/>
                        </a:lnTo>
                        <a:lnTo>
                          <a:pt x="2535" y="0"/>
                        </a:lnTo>
                        <a:lnTo>
                          <a:pt x="2563" y="0"/>
                        </a:lnTo>
                        <a:lnTo>
                          <a:pt x="2590" y="0"/>
                        </a:lnTo>
                        <a:lnTo>
                          <a:pt x="2618" y="0"/>
                        </a:lnTo>
                        <a:lnTo>
                          <a:pt x="2646" y="0"/>
                        </a:lnTo>
                        <a:lnTo>
                          <a:pt x="2687" y="0"/>
                        </a:lnTo>
                        <a:lnTo>
                          <a:pt x="2715" y="0"/>
                        </a:lnTo>
                        <a:lnTo>
                          <a:pt x="2742" y="0"/>
                        </a:lnTo>
                        <a:lnTo>
                          <a:pt x="2770" y="0"/>
                        </a:lnTo>
                        <a:lnTo>
                          <a:pt x="2798" y="0"/>
                        </a:lnTo>
                        <a:lnTo>
                          <a:pt x="2825" y="0"/>
                        </a:lnTo>
                        <a:lnTo>
                          <a:pt x="2867" y="0"/>
                        </a:lnTo>
                        <a:lnTo>
                          <a:pt x="2895" y="0"/>
                        </a:lnTo>
                        <a:lnTo>
                          <a:pt x="2922" y="0"/>
                        </a:lnTo>
                        <a:lnTo>
                          <a:pt x="2950" y="0"/>
                        </a:lnTo>
                        <a:lnTo>
                          <a:pt x="2977" y="0"/>
                        </a:lnTo>
                        <a:lnTo>
                          <a:pt x="3005" y="0"/>
                        </a:lnTo>
                        <a:lnTo>
                          <a:pt x="3048" y="0"/>
                        </a:lnTo>
                        <a:lnTo>
                          <a:pt x="3076" y="0"/>
                        </a:lnTo>
                        <a:lnTo>
                          <a:pt x="3103" y="0"/>
                        </a:lnTo>
                        <a:lnTo>
                          <a:pt x="3131" y="0"/>
                        </a:lnTo>
                        <a:lnTo>
                          <a:pt x="3159" y="0"/>
                        </a:lnTo>
                        <a:lnTo>
                          <a:pt x="3186" y="0"/>
                        </a:lnTo>
                        <a:lnTo>
                          <a:pt x="3228" y="0"/>
                        </a:lnTo>
                        <a:lnTo>
                          <a:pt x="3256" y="0"/>
                        </a:lnTo>
                        <a:lnTo>
                          <a:pt x="3283" y="0"/>
                        </a:lnTo>
                        <a:lnTo>
                          <a:pt x="3311" y="0"/>
                        </a:lnTo>
                        <a:lnTo>
                          <a:pt x="3338" y="0"/>
                        </a:lnTo>
                        <a:lnTo>
                          <a:pt x="3366" y="0"/>
                        </a:lnTo>
                        <a:lnTo>
                          <a:pt x="3408" y="0"/>
                        </a:lnTo>
                        <a:lnTo>
                          <a:pt x="3435" y="0"/>
                        </a:lnTo>
                        <a:lnTo>
                          <a:pt x="3463" y="0"/>
                        </a:lnTo>
                        <a:lnTo>
                          <a:pt x="3491" y="0"/>
                        </a:lnTo>
                        <a:lnTo>
                          <a:pt x="3518" y="0"/>
                        </a:lnTo>
                        <a:lnTo>
                          <a:pt x="3546" y="0"/>
                        </a:lnTo>
                        <a:lnTo>
                          <a:pt x="3601" y="0"/>
                        </a:lnTo>
                        <a:lnTo>
                          <a:pt x="3629" y="0"/>
                        </a:lnTo>
                        <a:lnTo>
                          <a:pt x="3657" y="0"/>
                        </a:lnTo>
                        <a:lnTo>
                          <a:pt x="3684" y="0"/>
                        </a:lnTo>
                        <a:lnTo>
                          <a:pt x="3712" y="0"/>
                        </a:lnTo>
                        <a:lnTo>
                          <a:pt x="3740" y="0"/>
                        </a:lnTo>
                        <a:lnTo>
                          <a:pt x="3781" y="0"/>
                        </a:lnTo>
                        <a:lnTo>
                          <a:pt x="3809" y="0"/>
                        </a:lnTo>
                        <a:lnTo>
                          <a:pt x="3836" y="0"/>
                        </a:lnTo>
                        <a:lnTo>
                          <a:pt x="3865" y="0"/>
                        </a:lnTo>
                        <a:lnTo>
                          <a:pt x="3893" y="0"/>
                        </a:lnTo>
                        <a:lnTo>
                          <a:pt x="3921" y="0"/>
                        </a:lnTo>
                        <a:lnTo>
                          <a:pt x="3962" y="0"/>
                        </a:lnTo>
                        <a:lnTo>
                          <a:pt x="3990" y="0"/>
                        </a:lnTo>
                        <a:lnTo>
                          <a:pt x="4018" y="0"/>
                        </a:lnTo>
                        <a:lnTo>
                          <a:pt x="4045" y="0"/>
                        </a:lnTo>
                        <a:lnTo>
                          <a:pt x="4073" y="0"/>
                        </a:lnTo>
                        <a:lnTo>
                          <a:pt x="4101" y="0"/>
                        </a:lnTo>
                        <a:lnTo>
                          <a:pt x="4142" y="0"/>
                        </a:lnTo>
                        <a:lnTo>
                          <a:pt x="4170" y="0"/>
                        </a:lnTo>
                        <a:lnTo>
                          <a:pt x="4197" y="0"/>
                        </a:lnTo>
                        <a:lnTo>
                          <a:pt x="4225" y="0"/>
                        </a:lnTo>
                        <a:lnTo>
                          <a:pt x="4253" y="0"/>
                        </a:lnTo>
                        <a:lnTo>
                          <a:pt x="4280" y="0"/>
                        </a:lnTo>
                        <a:lnTo>
                          <a:pt x="4322" y="0"/>
                        </a:lnTo>
                        <a:lnTo>
                          <a:pt x="4350" y="0"/>
                        </a:lnTo>
                        <a:lnTo>
                          <a:pt x="4377" y="0"/>
                        </a:lnTo>
                        <a:lnTo>
                          <a:pt x="4405" y="0"/>
                        </a:lnTo>
                        <a:lnTo>
                          <a:pt x="4433" y="0"/>
                        </a:lnTo>
                        <a:lnTo>
                          <a:pt x="4460" y="0"/>
                        </a:lnTo>
                        <a:lnTo>
                          <a:pt x="4502" y="0"/>
                        </a:lnTo>
                        <a:lnTo>
                          <a:pt x="4529" y="0"/>
                        </a:lnTo>
                        <a:lnTo>
                          <a:pt x="4557" y="0"/>
                        </a:lnTo>
                        <a:lnTo>
                          <a:pt x="4585" y="0"/>
                        </a:lnTo>
                        <a:lnTo>
                          <a:pt x="4612" y="0"/>
                        </a:lnTo>
                        <a:lnTo>
                          <a:pt x="4641" y="0"/>
                        </a:lnTo>
                        <a:lnTo>
                          <a:pt x="4683" y="0"/>
                        </a:lnTo>
                        <a:lnTo>
                          <a:pt x="4711" y="0"/>
                        </a:lnTo>
                        <a:lnTo>
                          <a:pt x="4738" y="0"/>
                        </a:lnTo>
                        <a:lnTo>
                          <a:pt x="4766" y="0"/>
                        </a:lnTo>
                        <a:lnTo>
                          <a:pt x="4794" y="0"/>
                        </a:lnTo>
                        <a:lnTo>
                          <a:pt x="4821" y="0"/>
                        </a:lnTo>
                        <a:lnTo>
                          <a:pt x="4863" y="0"/>
                        </a:lnTo>
                        <a:lnTo>
                          <a:pt x="4890" y="0"/>
                        </a:lnTo>
                        <a:lnTo>
                          <a:pt x="4918" y="0"/>
                        </a:lnTo>
                        <a:lnTo>
                          <a:pt x="4946" y="0"/>
                        </a:lnTo>
                        <a:lnTo>
                          <a:pt x="4973" y="0"/>
                        </a:lnTo>
                        <a:lnTo>
                          <a:pt x="5001" y="0"/>
                        </a:lnTo>
                        <a:lnTo>
                          <a:pt x="5042" y="0"/>
                        </a:lnTo>
                        <a:lnTo>
                          <a:pt x="5070" y="0"/>
                        </a:lnTo>
                        <a:lnTo>
                          <a:pt x="5098" y="0"/>
                        </a:lnTo>
                        <a:lnTo>
                          <a:pt x="5125" y="0"/>
                        </a:lnTo>
                        <a:lnTo>
                          <a:pt x="5153" y="0"/>
                        </a:lnTo>
                        <a:lnTo>
                          <a:pt x="5181" y="0"/>
                        </a:lnTo>
                        <a:lnTo>
                          <a:pt x="5222" y="0"/>
                        </a:lnTo>
                        <a:lnTo>
                          <a:pt x="5250" y="0"/>
                        </a:lnTo>
                        <a:lnTo>
                          <a:pt x="5278" y="0"/>
                        </a:lnTo>
                        <a:lnTo>
                          <a:pt x="5305" y="0"/>
                        </a:lnTo>
                        <a:lnTo>
                          <a:pt x="5333" y="0"/>
                        </a:lnTo>
                        <a:lnTo>
                          <a:pt x="5361" y="0"/>
                        </a:lnTo>
                        <a:lnTo>
                          <a:pt x="5402" y="0"/>
                        </a:lnTo>
                        <a:lnTo>
                          <a:pt x="5430" y="0"/>
                        </a:lnTo>
                        <a:lnTo>
                          <a:pt x="5459" y="0"/>
                        </a:lnTo>
                        <a:lnTo>
                          <a:pt x="5486" y="0"/>
                        </a:lnTo>
                        <a:lnTo>
                          <a:pt x="5514" y="0"/>
                        </a:lnTo>
                        <a:lnTo>
                          <a:pt x="5542" y="0"/>
                        </a:lnTo>
                        <a:lnTo>
                          <a:pt x="5583" y="0"/>
                        </a:lnTo>
                        <a:lnTo>
                          <a:pt x="5611" y="0"/>
                        </a:lnTo>
                        <a:lnTo>
                          <a:pt x="5639" y="0"/>
                        </a:lnTo>
                        <a:lnTo>
                          <a:pt x="5666" y="0"/>
                        </a:lnTo>
                        <a:lnTo>
                          <a:pt x="5694" y="0"/>
                        </a:lnTo>
                        <a:lnTo>
                          <a:pt x="5722" y="0"/>
                        </a:lnTo>
                        <a:lnTo>
                          <a:pt x="5763" y="0"/>
                        </a:lnTo>
                        <a:lnTo>
                          <a:pt x="5791" y="0"/>
                        </a:lnTo>
                        <a:lnTo>
                          <a:pt x="5818" y="0"/>
                        </a:lnTo>
                        <a:lnTo>
                          <a:pt x="5846" y="0"/>
                        </a:lnTo>
                        <a:lnTo>
                          <a:pt x="5874" y="0"/>
                        </a:lnTo>
                        <a:lnTo>
                          <a:pt x="5901" y="0"/>
                        </a:lnTo>
                        <a:lnTo>
                          <a:pt x="5943" y="0"/>
                        </a:lnTo>
                        <a:lnTo>
                          <a:pt x="5971" y="0"/>
                        </a:lnTo>
                        <a:lnTo>
                          <a:pt x="5998" y="0"/>
                        </a:lnTo>
                        <a:lnTo>
                          <a:pt x="6026" y="0"/>
                        </a:lnTo>
                        <a:lnTo>
                          <a:pt x="6054" y="0"/>
                        </a:lnTo>
                        <a:lnTo>
                          <a:pt x="6081" y="0"/>
                        </a:lnTo>
                        <a:lnTo>
                          <a:pt x="6123" y="0"/>
                        </a:lnTo>
                        <a:lnTo>
                          <a:pt x="6150" y="0"/>
                        </a:lnTo>
                        <a:lnTo>
                          <a:pt x="6178" y="0"/>
                        </a:lnTo>
                        <a:lnTo>
                          <a:pt x="6206" y="0"/>
                        </a:lnTo>
                        <a:lnTo>
                          <a:pt x="6235" y="0"/>
                        </a:lnTo>
                        <a:lnTo>
                          <a:pt x="6276" y="0"/>
                        </a:lnTo>
                        <a:lnTo>
                          <a:pt x="6318" y="0"/>
                        </a:lnTo>
                        <a:lnTo>
                          <a:pt x="6345" y="0"/>
                        </a:lnTo>
                        <a:lnTo>
                          <a:pt x="6373" y="0"/>
                        </a:lnTo>
                        <a:lnTo>
                          <a:pt x="6401" y="0"/>
                        </a:lnTo>
                        <a:lnTo>
                          <a:pt x="6428" y="0"/>
                        </a:lnTo>
                        <a:lnTo>
                          <a:pt x="6456" y="0"/>
                        </a:lnTo>
                        <a:lnTo>
                          <a:pt x="6484" y="0"/>
                        </a:lnTo>
                        <a:lnTo>
                          <a:pt x="6525" y="0"/>
                        </a:lnTo>
                        <a:lnTo>
                          <a:pt x="6553" y="0"/>
                        </a:lnTo>
                        <a:lnTo>
                          <a:pt x="6581" y="0"/>
                        </a:lnTo>
                        <a:lnTo>
                          <a:pt x="6608" y="0"/>
                        </a:lnTo>
                        <a:lnTo>
                          <a:pt x="6636" y="0"/>
                        </a:lnTo>
                        <a:lnTo>
                          <a:pt x="6664" y="0"/>
                        </a:lnTo>
                        <a:lnTo>
                          <a:pt x="6705" y="0"/>
                        </a:lnTo>
                        <a:lnTo>
                          <a:pt x="6733" y="0"/>
                        </a:lnTo>
                        <a:lnTo>
                          <a:pt x="6760" y="0"/>
                        </a:lnTo>
                        <a:lnTo>
                          <a:pt x="6788" y="0"/>
                        </a:lnTo>
                        <a:lnTo>
                          <a:pt x="6816" y="0"/>
                        </a:lnTo>
                        <a:lnTo>
                          <a:pt x="6843" y="0"/>
                        </a:lnTo>
                        <a:lnTo>
                          <a:pt x="688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5207040" y="4289400"/>
                    <a:ext cx="36432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5" h="0">
                        <a:moveTo>
                          <a:pt x="0" y="0"/>
                        </a:moveTo>
                        <a:lnTo>
                          <a:pt x="27" y="0"/>
                        </a:lnTo>
                        <a:lnTo>
                          <a:pt x="55" y="0"/>
                        </a:lnTo>
                        <a:lnTo>
                          <a:pt x="83" y="0"/>
                        </a:lnTo>
                        <a:lnTo>
                          <a:pt x="124" y="0"/>
                        </a:lnTo>
                        <a:lnTo>
                          <a:pt x="152" y="0"/>
                        </a:lnTo>
                        <a:lnTo>
                          <a:pt x="179" y="0"/>
                        </a:lnTo>
                        <a:lnTo>
                          <a:pt x="207" y="0"/>
                        </a:lnTo>
                        <a:lnTo>
                          <a:pt x="235" y="0"/>
                        </a:lnTo>
                        <a:lnTo>
                          <a:pt x="262" y="0"/>
                        </a:lnTo>
                        <a:lnTo>
                          <a:pt x="304" y="0"/>
                        </a:lnTo>
                        <a:lnTo>
                          <a:pt x="332" y="0"/>
                        </a:lnTo>
                        <a:lnTo>
                          <a:pt x="359" y="0"/>
                        </a:lnTo>
                        <a:lnTo>
                          <a:pt x="387" y="0"/>
                        </a:lnTo>
                        <a:lnTo>
                          <a:pt x="415" y="0"/>
                        </a:lnTo>
                        <a:lnTo>
                          <a:pt x="442" y="0"/>
                        </a:lnTo>
                        <a:lnTo>
                          <a:pt x="470" y="0"/>
                        </a:lnTo>
                        <a:lnTo>
                          <a:pt x="511" y="0"/>
                        </a:lnTo>
                        <a:lnTo>
                          <a:pt x="539" y="0"/>
                        </a:lnTo>
                        <a:lnTo>
                          <a:pt x="567" y="0"/>
                        </a:lnTo>
                        <a:lnTo>
                          <a:pt x="594" y="0"/>
                        </a:lnTo>
                        <a:lnTo>
                          <a:pt x="622" y="0"/>
                        </a:lnTo>
                        <a:lnTo>
                          <a:pt x="650" y="0"/>
                        </a:lnTo>
                        <a:lnTo>
                          <a:pt x="693" y="0"/>
                        </a:lnTo>
                        <a:lnTo>
                          <a:pt x="720" y="0"/>
                        </a:lnTo>
                        <a:lnTo>
                          <a:pt x="748" y="0"/>
                        </a:lnTo>
                        <a:lnTo>
                          <a:pt x="776" y="0"/>
                        </a:lnTo>
                        <a:lnTo>
                          <a:pt x="803" y="0"/>
                        </a:lnTo>
                        <a:lnTo>
                          <a:pt x="831" y="0"/>
                        </a:lnTo>
                        <a:lnTo>
                          <a:pt x="872" y="0"/>
                        </a:lnTo>
                        <a:lnTo>
                          <a:pt x="900" y="0"/>
                        </a:lnTo>
                        <a:lnTo>
                          <a:pt x="942" y="0"/>
                        </a:lnTo>
                        <a:lnTo>
                          <a:pt x="969" y="0"/>
                        </a:lnTo>
                        <a:lnTo>
                          <a:pt x="997" y="0"/>
                        </a:lnTo>
                        <a:lnTo>
                          <a:pt x="1025" y="0"/>
                        </a:lnTo>
                        <a:lnTo>
                          <a:pt x="1066" y="0"/>
                        </a:lnTo>
                        <a:lnTo>
                          <a:pt x="1094" y="0"/>
                        </a:lnTo>
                        <a:lnTo>
                          <a:pt x="1121" y="0"/>
                        </a:lnTo>
                        <a:lnTo>
                          <a:pt x="1149" y="0"/>
                        </a:lnTo>
                        <a:lnTo>
                          <a:pt x="1177" y="0"/>
                        </a:lnTo>
                        <a:lnTo>
                          <a:pt x="1204" y="0"/>
                        </a:lnTo>
                        <a:lnTo>
                          <a:pt x="1246" y="0"/>
                        </a:lnTo>
                        <a:lnTo>
                          <a:pt x="1273" y="0"/>
                        </a:lnTo>
                        <a:lnTo>
                          <a:pt x="1301" y="0"/>
                        </a:lnTo>
                        <a:lnTo>
                          <a:pt x="1329" y="0"/>
                        </a:lnTo>
                        <a:lnTo>
                          <a:pt x="1356" y="0"/>
                        </a:lnTo>
                        <a:lnTo>
                          <a:pt x="1384" y="0"/>
                        </a:lnTo>
                        <a:lnTo>
                          <a:pt x="1426" y="0"/>
                        </a:lnTo>
                        <a:lnTo>
                          <a:pt x="1455" y="0"/>
                        </a:lnTo>
                        <a:lnTo>
                          <a:pt x="1482" y="0"/>
                        </a:lnTo>
                        <a:lnTo>
                          <a:pt x="1510" y="0"/>
                        </a:lnTo>
                        <a:lnTo>
                          <a:pt x="1538" y="0"/>
                        </a:lnTo>
                        <a:lnTo>
                          <a:pt x="1565" y="0"/>
                        </a:lnTo>
                        <a:lnTo>
                          <a:pt x="1607" y="0"/>
                        </a:lnTo>
                        <a:lnTo>
                          <a:pt x="1634" y="0"/>
                        </a:lnTo>
                        <a:lnTo>
                          <a:pt x="1662" y="0"/>
                        </a:lnTo>
                        <a:lnTo>
                          <a:pt x="1690" y="0"/>
                        </a:lnTo>
                        <a:lnTo>
                          <a:pt x="1717" y="0"/>
                        </a:lnTo>
                        <a:lnTo>
                          <a:pt x="1745" y="0"/>
                        </a:lnTo>
                        <a:lnTo>
                          <a:pt x="1787" y="0"/>
                        </a:lnTo>
                        <a:lnTo>
                          <a:pt x="1814" y="0"/>
                        </a:lnTo>
                        <a:lnTo>
                          <a:pt x="1842" y="0"/>
                        </a:lnTo>
                        <a:lnTo>
                          <a:pt x="1870" y="0"/>
                        </a:lnTo>
                        <a:lnTo>
                          <a:pt x="1897" y="0"/>
                        </a:lnTo>
                        <a:lnTo>
                          <a:pt x="1925" y="0"/>
                        </a:lnTo>
                        <a:lnTo>
                          <a:pt x="1966" y="0"/>
                        </a:lnTo>
                        <a:lnTo>
                          <a:pt x="1994" y="0"/>
                        </a:lnTo>
                        <a:lnTo>
                          <a:pt x="2022" y="0"/>
                        </a:lnTo>
                        <a:lnTo>
                          <a:pt x="2049" y="0"/>
                        </a:lnTo>
                        <a:lnTo>
                          <a:pt x="2077" y="0"/>
                        </a:lnTo>
                        <a:lnTo>
                          <a:pt x="2105" y="0"/>
                        </a:lnTo>
                        <a:lnTo>
                          <a:pt x="2146" y="0"/>
                        </a:lnTo>
                        <a:lnTo>
                          <a:pt x="2174" y="0"/>
                        </a:lnTo>
                        <a:lnTo>
                          <a:pt x="2202" y="0"/>
                        </a:lnTo>
                        <a:lnTo>
                          <a:pt x="2229" y="0"/>
                        </a:lnTo>
                        <a:lnTo>
                          <a:pt x="2258" y="0"/>
                        </a:lnTo>
                        <a:lnTo>
                          <a:pt x="2286" y="0"/>
                        </a:lnTo>
                        <a:lnTo>
                          <a:pt x="2327" y="0"/>
                        </a:lnTo>
                        <a:lnTo>
                          <a:pt x="2355" y="0"/>
                        </a:lnTo>
                        <a:lnTo>
                          <a:pt x="2383" y="0"/>
                        </a:lnTo>
                        <a:lnTo>
                          <a:pt x="2410" y="0"/>
                        </a:lnTo>
                        <a:lnTo>
                          <a:pt x="2438" y="0"/>
                        </a:lnTo>
                        <a:lnTo>
                          <a:pt x="2466" y="0"/>
                        </a:lnTo>
                        <a:lnTo>
                          <a:pt x="2507" y="0"/>
                        </a:lnTo>
                        <a:lnTo>
                          <a:pt x="2535" y="0"/>
                        </a:lnTo>
                        <a:lnTo>
                          <a:pt x="2563" y="0"/>
                        </a:lnTo>
                        <a:lnTo>
                          <a:pt x="2590" y="0"/>
                        </a:lnTo>
                        <a:lnTo>
                          <a:pt x="2618" y="0"/>
                        </a:lnTo>
                        <a:lnTo>
                          <a:pt x="2646" y="0"/>
                        </a:lnTo>
                        <a:lnTo>
                          <a:pt x="2687" y="0"/>
                        </a:lnTo>
                        <a:lnTo>
                          <a:pt x="2715" y="0"/>
                        </a:lnTo>
                        <a:lnTo>
                          <a:pt x="2742" y="0"/>
                        </a:lnTo>
                        <a:lnTo>
                          <a:pt x="2770" y="0"/>
                        </a:lnTo>
                        <a:lnTo>
                          <a:pt x="2798" y="0"/>
                        </a:lnTo>
                        <a:lnTo>
                          <a:pt x="2825" y="0"/>
                        </a:lnTo>
                        <a:lnTo>
                          <a:pt x="2867" y="0"/>
                        </a:lnTo>
                        <a:lnTo>
                          <a:pt x="2895" y="0"/>
                        </a:lnTo>
                        <a:lnTo>
                          <a:pt x="2922" y="0"/>
                        </a:lnTo>
                        <a:lnTo>
                          <a:pt x="2950" y="0"/>
                        </a:lnTo>
                        <a:lnTo>
                          <a:pt x="2977" y="0"/>
                        </a:lnTo>
                        <a:lnTo>
                          <a:pt x="3005" y="0"/>
                        </a:lnTo>
                        <a:lnTo>
                          <a:pt x="3048" y="0"/>
                        </a:lnTo>
                        <a:lnTo>
                          <a:pt x="3076" y="0"/>
                        </a:lnTo>
                        <a:lnTo>
                          <a:pt x="3103" y="0"/>
                        </a:lnTo>
                        <a:lnTo>
                          <a:pt x="3131" y="0"/>
                        </a:lnTo>
                        <a:lnTo>
                          <a:pt x="3159" y="0"/>
                        </a:lnTo>
                        <a:lnTo>
                          <a:pt x="3186" y="0"/>
                        </a:lnTo>
                        <a:lnTo>
                          <a:pt x="3228" y="0"/>
                        </a:lnTo>
                        <a:lnTo>
                          <a:pt x="3256" y="0"/>
                        </a:lnTo>
                        <a:lnTo>
                          <a:pt x="3283" y="0"/>
                        </a:lnTo>
                        <a:lnTo>
                          <a:pt x="3311" y="0"/>
                        </a:lnTo>
                        <a:lnTo>
                          <a:pt x="3338" y="0"/>
                        </a:lnTo>
                        <a:lnTo>
                          <a:pt x="3366" y="0"/>
                        </a:lnTo>
                        <a:lnTo>
                          <a:pt x="3408" y="0"/>
                        </a:lnTo>
                        <a:lnTo>
                          <a:pt x="3435" y="0"/>
                        </a:lnTo>
                        <a:lnTo>
                          <a:pt x="3463" y="0"/>
                        </a:lnTo>
                        <a:lnTo>
                          <a:pt x="3491" y="0"/>
                        </a:lnTo>
                        <a:lnTo>
                          <a:pt x="3518" y="0"/>
                        </a:lnTo>
                        <a:lnTo>
                          <a:pt x="3546" y="0"/>
                        </a:lnTo>
                        <a:lnTo>
                          <a:pt x="3601" y="0"/>
                        </a:lnTo>
                        <a:lnTo>
                          <a:pt x="3629" y="0"/>
                        </a:lnTo>
                        <a:lnTo>
                          <a:pt x="3657" y="0"/>
                        </a:lnTo>
                        <a:lnTo>
                          <a:pt x="3684" y="0"/>
                        </a:lnTo>
                        <a:lnTo>
                          <a:pt x="3712" y="0"/>
                        </a:lnTo>
                        <a:lnTo>
                          <a:pt x="3740" y="0"/>
                        </a:lnTo>
                        <a:lnTo>
                          <a:pt x="3781" y="0"/>
                        </a:lnTo>
                        <a:lnTo>
                          <a:pt x="3809" y="0"/>
                        </a:lnTo>
                        <a:lnTo>
                          <a:pt x="3836" y="0"/>
                        </a:lnTo>
                        <a:lnTo>
                          <a:pt x="3865" y="0"/>
                        </a:lnTo>
                        <a:lnTo>
                          <a:pt x="3893" y="0"/>
                        </a:lnTo>
                        <a:lnTo>
                          <a:pt x="3921" y="0"/>
                        </a:lnTo>
                        <a:lnTo>
                          <a:pt x="3962" y="0"/>
                        </a:lnTo>
                        <a:lnTo>
                          <a:pt x="3990" y="0"/>
                        </a:lnTo>
                        <a:lnTo>
                          <a:pt x="4018" y="0"/>
                        </a:lnTo>
                        <a:lnTo>
                          <a:pt x="4045" y="0"/>
                        </a:lnTo>
                        <a:lnTo>
                          <a:pt x="4073" y="0"/>
                        </a:lnTo>
                        <a:lnTo>
                          <a:pt x="4101" y="0"/>
                        </a:lnTo>
                        <a:lnTo>
                          <a:pt x="4142" y="0"/>
                        </a:lnTo>
                        <a:lnTo>
                          <a:pt x="4170" y="0"/>
                        </a:lnTo>
                        <a:lnTo>
                          <a:pt x="4197" y="0"/>
                        </a:lnTo>
                        <a:lnTo>
                          <a:pt x="4225" y="0"/>
                        </a:lnTo>
                        <a:lnTo>
                          <a:pt x="4253" y="0"/>
                        </a:lnTo>
                        <a:lnTo>
                          <a:pt x="4280" y="0"/>
                        </a:lnTo>
                        <a:lnTo>
                          <a:pt x="4322" y="0"/>
                        </a:lnTo>
                        <a:lnTo>
                          <a:pt x="4350" y="0"/>
                        </a:lnTo>
                        <a:lnTo>
                          <a:pt x="4377" y="0"/>
                        </a:lnTo>
                        <a:lnTo>
                          <a:pt x="4405" y="0"/>
                        </a:lnTo>
                        <a:lnTo>
                          <a:pt x="4433" y="0"/>
                        </a:lnTo>
                        <a:lnTo>
                          <a:pt x="4460" y="0"/>
                        </a:lnTo>
                        <a:lnTo>
                          <a:pt x="4502" y="0"/>
                        </a:lnTo>
                        <a:lnTo>
                          <a:pt x="4529" y="0"/>
                        </a:lnTo>
                        <a:lnTo>
                          <a:pt x="4557" y="0"/>
                        </a:lnTo>
                        <a:lnTo>
                          <a:pt x="4585" y="0"/>
                        </a:lnTo>
                        <a:lnTo>
                          <a:pt x="4612" y="0"/>
                        </a:lnTo>
                        <a:lnTo>
                          <a:pt x="4641" y="0"/>
                        </a:lnTo>
                        <a:lnTo>
                          <a:pt x="4683" y="0"/>
                        </a:lnTo>
                        <a:lnTo>
                          <a:pt x="4711" y="0"/>
                        </a:lnTo>
                        <a:lnTo>
                          <a:pt x="4738" y="0"/>
                        </a:lnTo>
                        <a:lnTo>
                          <a:pt x="4766" y="0"/>
                        </a:lnTo>
                        <a:lnTo>
                          <a:pt x="4794" y="0"/>
                        </a:lnTo>
                        <a:lnTo>
                          <a:pt x="4821" y="0"/>
                        </a:lnTo>
                        <a:lnTo>
                          <a:pt x="4863" y="0"/>
                        </a:lnTo>
                        <a:lnTo>
                          <a:pt x="4890" y="0"/>
                        </a:lnTo>
                        <a:lnTo>
                          <a:pt x="4918" y="0"/>
                        </a:lnTo>
                        <a:lnTo>
                          <a:pt x="4946" y="0"/>
                        </a:lnTo>
                        <a:lnTo>
                          <a:pt x="4973" y="0"/>
                        </a:lnTo>
                        <a:lnTo>
                          <a:pt x="5001" y="0"/>
                        </a:lnTo>
                        <a:lnTo>
                          <a:pt x="5042" y="0"/>
                        </a:lnTo>
                        <a:lnTo>
                          <a:pt x="5070" y="0"/>
                        </a:lnTo>
                        <a:lnTo>
                          <a:pt x="5098" y="0"/>
                        </a:lnTo>
                        <a:lnTo>
                          <a:pt x="5125" y="0"/>
                        </a:lnTo>
                        <a:lnTo>
                          <a:pt x="5153" y="0"/>
                        </a:lnTo>
                        <a:lnTo>
                          <a:pt x="5181" y="0"/>
                        </a:lnTo>
                        <a:lnTo>
                          <a:pt x="5222" y="0"/>
                        </a:lnTo>
                        <a:lnTo>
                          <a:pt x="5250" y="0"/>
                        </a:lnTo>
                        <a:lnTo>
                          <a:pt x="5278" y="0"/>
                        </a:lnTo>
                        <a:lnTo>
                          <a:pt x="5305" y="0"/>
                        </a:lnTo>
                        <a:lnTo>
                          <a:pt x="5333" y="0"/>
                        </a:lnTo>
                        <a:lnTo>
                          <a:pt x="5361" y="0"/>
                        </a:lnTo>
                        <a:lnTo>
                          <a:pt x="5402" y="0"/>
                        </a:lnTo>
                        <a:lnTo>
                          <a:pt x="5430" y="0"/>
                        </a:lnTo>
                        <a:lnTo>
                          <a:pt x="5459" y="0"/>
                        </a:lnTo>
                        <a:lnTo>
                          <a:pt x="5486" y="0"/>
                        </a:lnTo>
                        <a:lnTo>
                          <a:pt x="5514" y="0"/>
                        </a:lnTo>
                        <a:lnTo>
                          <a:pt x="5542" y="0"/>
                        </a:lnTo>
                        <a:lnTo>
                          <a:pt x="5583" y="0"/>
                        </a:lnTo>
                        <a:lnTo>
                          <a:pt x="5611" y="0"/>
                        </a:lnTo>
                        <a:lnTo>
                          <a:pt x="5639" y="0"/>
                        </a:lnTo>
                        <a:lnTo>
                          <a:pt x="5666" y="0"/>
                        </a:lnTo>
                        <a:lnTo>
                          <a:pt x="5694" y="0"/>
                        </a:lnTo>
                        <a:lnTo>
                          <a:pt x="5722" y="0"/>
                        </a:lnTo>
                        <a:lnTo>
                          <a:pt x="5763" y="0"/>
                        </a:lnTo>
                        <a:lnTo>
                          <a:pt x="5791" y="0"/>
                        </a:lnTo>
                        <a:lnTo>
                          <a:pt x="5818" y="0"/>
                        </a:lnTo>
                        <a:lnTo>
                          <a:pt x="5846" y="0"/>
                        </a:lnTo>
                        <a:lnTo>
                          <a:pt x="5874" y="0"/>
                        </a:lnTo>
                        <a:lnTo>
                          <a:pt x="5901" y="0"/>
                        </a:lnTo>
                        <a:lnTo>
                          <a:pt x="5943" y="0"/>
                        </a:lnTo>
                        <a:lnTo>
                          <a:pt x="5971" y="0"/>
                        </a:lnTo>
                        <a:lnTo>
                          <a:pt x="5998" y="0"/>
                        </a:lnTo>
                        <a:lnTo>
                          <a:pt x="6026" y="0"/>
                        </a:lnTo>
                        <a:lnTo>
                          <a:pt x="6054" y="0"/>
                        </a:lnTo>
                        <a:lnTo>
                          <a:pt x="6081" y="0"/>
                        </a:lnTo>
                        <a:lnTo>
                          <a:pt x="6123" y="0"/>
                        </a:lnTo>
                        <a:lnTo>
                          <a:pt x="6150" y="0"/>
                        </a:lnTo>
                        <a:lnTo>
                          <a:pt x="6178" y="0"/>
                        </a:lnTo>
                        <a:lnTo>
                          <a:pt x="6206" y="0"/>
                        </a:lnTo>
                        <a:lnTo>
                          <a:pt x="6235" y="0"/>
                        </a:lnTo>
                        <a:lnTo>
                          <a:pt x="6276" y="0"/>
                        </a:lnTo>
                        <a:lnTo>
                          <a:pt x="6318" y="0"/>
                        </a:lnTo>
                        <a:lnTo>
                          <a:pt x="6345" y="0"/>
                        </a:lnTo>
                        <a:lnTo>
                          <a:pt x="6373" y="0"/>
                        </a:lnTo>
                        <a:lnTo>
                          <a:pt x="6401" y="0"/>
                        </a:lnTo>
                        <a:lnTo>
                          <a:pt x="6428" y="0"/>
                        </a:lnTo>
                        <a:lnTo>
                          <a:pt x="6456" y="0"/>
                        </a:lnTo>
                        <a:lnTo>
                          <a:pt x="6484" y="0"/>
                        </a:lnTo>
                        <a:lnTo>
                          <a:pt x="6525" y="0"/>
                        </a:lnTo>
                        <a:lnTo>
                          <a:pt x="6553" y="0"/>
                        </a:lnTo>
                        <a:lnTo>
                          <a:pt x="6581" y="0"/>
                        </a:lnTo>
                        <a:lnTo>
                          <a:pt x="6608" y="0"/>
                        </a:lnTo>
                        <a:lnTo>
                          <a:pt x="6636" y="0"/>
                        </a:lnTo>
                        <a:lnTo>
                          <a:pt x="6664" y="0"/>
                        </a:lnTo>
                        <a:lnTo>
                          <a:pt x="6705" y="0"/>
                        </a:lnTo>
                        <a:lnTo>
                          <a:pt x="6733" y="0"/>
                        </a:lnTo>
                        <a:lnTo>
                          <a:pt x="6760" y="0"/>
                        </a:lnTo>
                        <a:lnTo>
                          <a:pt x="6788" y="0"/>
                        </a:lnTo>
                        <a:lnTo>
                          <a:pt x="6816" y="0"/>
                        </a:lnTo>
                        <a:lnTo>
                          <a:pt x="6843" y="0"/>
                        </a:lnTo>
                        <a:lnTo>
                          <a:pt x="6885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5" name=""/>
                <p:cNvGrpSpPr/>
                <p:nvPr/>
              </p:nvGrpSpPr>
              <p:grpSpPr>
                <a:xfrm>
                  <a:off x="5073480" y="4071960"/>
                  <a:ext cx="3900600" cy="1440"/>
                  <a:chOff x="5073480" y="4071960"/>
                  <a:chExt cx="3900600" cy="1440"/>
                </a:xfrm>
              </p:grpSpPr>
              <p:sp>
                <p:nvSpPr>
                  <p:cNvPr id="636" name=""/>
                  <p:cNvSpPr/>
                  <p:nvPr/>
                </p:nvSpPr>
                <p:spPr>
                  <a:xfrm>
                    <a:off x="5073480" y="4071960"/>
                    <a:ext cx="39006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7372" h="0">
                        <a:moveTo>
                          <a:pt x="0" y="0"/>
                        </a:moveTo>
                        <a:lnTo>
                          <a:pt x="28" y="0"/>
                        </a:lnTo>
                        <a:lnTo>
                          <a:pt x="69" y="0"/>
                        </a:lnTo>
                        <a:lnTo>
                          <a:pt x="97" y="0"/>
                        </a:lnTo>
                        <a:lnTo>
                          <a:pt x="126" y="0"/>
                        </a:lnTo>
                        <a:lnTo>
                          <a:pt x="154" y="0"/>
                        </a:lnTo>
                        <a:lnTo>
                          <a:pt x="181" y="0"/>
                        </a:lnTo>
                        <a:lnTo>
                          <a:pt x="209" y="0"/>
                        </a:lnTo>
                        <a:lnTo>
                          <a:pt x="251" y="0"/>
                        </a:lnTo>
                        <a:lnTo>
                          <a:pt x="278" y="0"/>
                        </a:lnTo>
                        <a:lnTo>
                          <a:pt x="306" y="0"/>
                        </a:lnTo>
                        <a:lnTo>
                          <a:pt x="334" y="0"/>
                        </a:lnTo>
                        <a:lnTo>
                          <a:pt x="361" y="0"/>
                        </a:lnTo>
                        <a:lnTo>
                          <a:pt x="389" y="0"/>
                        </a:lnTo>
                        <a:lnTo>
                          <a:pt x="430" y="0"/>
                        </a:lnTo>
                        <a:lnTo>
                          <a:pt x="458" y="0"/>
                        </a:lnTo>
                        <a:lnTo>
                          <a:pt x="486" y="0"/>
                        </a:lnTo>
                        <a:lnTo>
                          <a:pt x="513" y="0"/>
                        </a:lnTo>
                        <a:lnTo>
                          <a:pt x="541" y="0"/>
                        </a:lnTo>
                        <a:lnTo>
                          <a:pt x="569" y="0"/>
                        </a:lnTo>
                        <a:lnTo>
                          <a:pt x="610" y="0"/>
                        </a:lnTo>
                        <a:lnTo>
                          <a:pt x="638" y="0"/>
                        </a:lnTo>
                        <a:lnTo>
                          <a:pt x="666" y="0"/>
                        </a:lnTo>
                        <a:lnTo>
                          <a:pt x="693" y="0"/>
                        </a:lnTo>
                        <a:lnTo>
                          <a:pt x="721" y="0"/>
                        </a:lnTo>
                        <a:lnTo>
                          <a:pt x="749" y="0"/>
                        </a:lnTo>
                        <a:lnTo>
                          <a:pt x="790" y="0"/>
                        </a:lnTo>
                        <a:lnTo>
                          <a:pt x="818" y="0"/>
                        </a:lnTo>
                        <a:lnTo>
                          <a:pt x="845" y="0"/>
                        </a:lnTo>
                        <a:lnTo>
                          <a:pt x="873" y="0"/>
                        </a:lnTo>
                        <a:lnTo>
                          <a:pt x="901" y="0"/>
                        </a:lnTo>
                        <a:lnTo>
                          <a:pt x="930" y="0"/>
                        </a:lnTo>
                        <a:lnTo>
                          <a:pt x="971" y="0"/>
                        </a:lnTo>
                        <a:lnTo>
                          <a:pt x="999" y="0"/>
                        </a:lnTo>
                        <a:lnTo>
                          <a:pt x="1027" y="0"/>
                        </a:lnTo>
                        <a:lnTo>
                          <a:pt x="1054" y="0"/>
                        </a:lnTo>
                        <a:lnTo>
                          <a:pt x="1082" y="0"/>
                        </a:lnTo>
                        <a:lnTo>
                          <a:pt x="1110" y="0"/>
                        </a:lnTo>
                        <a:lnTo>
                          <a:pt x="1151" y="0"/>
                        </a:lnTo>
                        <a:lnTo>
                          <a:pt x="1193" y="0"/>
                        </a:lnTo>
                        <a:lnTo>
                          <a:pt x="1220" y="0"/>
                        </a:lnTo>
                        <a:lnTo>
                          <a:pt x="1248" y="0"/>
                        </a:lnTo>
                        <a:lnTo>
                          <a:pt x="1276" y="0"/>
                        </a:lnTo>
                        <a:lnTo>
                          <a:pt x="1303" y="0"/>
                        </a:lnTo>
                        <a:lnTo>
                          <a:pt x="1345" y="0"/>
                        </a:lnTo>
                        <a:lnTo>
                          <a:pt x="1372" y="0"/>
                        </a:lnTo>
                        <a:lnTo>
                          <a:pt x="1400" y="0"/>
                        </a:lnTo>
                        <a:lnTo>
                          <a:pt x="1428" y="0"/>
                        </a:lnTo>
                        <a:lnTo>
                          <a:pt x="1455" y="0"/>
                        </a:lnTo>
                        <a:lnTo>
                          <a:pt x="1483" y="0"/>
                        </a:lnTo>
                        <a:lnTo>
                          <a:pt x="1524" y="0"/>
                        </a:lnTo>
                        <a:lnTo>
                          <a:pt x="1552" y="0"/>
                        </a:lnTo>
                        <a:lnTo>
                          <a:pt x="1580" y="0"/>
                        </a:lnTo>
                        <a:lnTo>
                          <a:pt x="1607" y="0"/>
                        </a:lnTo>
                        <a:lnTo>
                          <a:pt x="1635" y="0"/>
                        </a:lnTo>
                        <a:lnTo>
                          <a:pt x="1677" y="0"/>
                        </a:lnTo>
                        <a:lnTo>
                          <a:pt x="1706" y="0"/>
                        </a:lnTo>
                        <a:lnTo>
                          <a:pt x="1733" y="0"/>
                        </a:lnTo>
                        <a:lnTo>
                          <a:pt x="1761" y="0"/>
                        </a:lnTo>
                        <a:lnTo>
                          <a:pt x="1789" y="0"/>
                        </a:lnTo>
                        <a:lnTo>
                          <a:pt x="1816" y="0"/>
                        </a:lnTo>
                        <a:lnTo>
                          <a:pt x="1858" y="0"/>
                        </a:lnTo>
                        <a:lnTo>
                          <a:pt x="1885" y="0"/>
                        </a:lnTo>
                        <a:lnTo>
                          <a:pt x="1913" y="0"/>
                        </a:lnTo>
                        <a:lnTo>
                          <a:pt x="1941" y="0"/>
                        </a:lnTo>
                        <a:lnTo>
                          <a:pt x="1968" y="0"/>
                        </a:lnTo>
                        <a:lnTo>
                          <a:pt x="1996" y="0"/>
                        </a:lnTo>
                        <a:lnTo>
                          <a:pt x="2038" y="0"/>
                        </a:lnTo>
                        <a:lnTo>
                          <a:pt x="2065" y="0"/>
                        </a:lnTo>
                        <a:lnTo>
                          <a:pt x="2093" y="0"/>
                        </a:lnTo>
                        <a:lnTo>
                          <a:pt x="2121" y="0"/>
                        </a:lnTo>
                        <a:lnTo>
                          <a:pt x="2148" y="0"/>
                        </a:lnTo>
                        <a:lnTo>
                          <a:pt x="2176" y="0"/>
                        </a:lnTo>
                        <a:lnTo>
                          <a:pt x="2217" y="0"/>
                        </a:lnTo>
                        <a:lnTo>
                          <a:pt x="2245" y="0"/>
                        </a:lnTo>
                        <a:lnTo>
                          <a:pt x="2273" y="0"/>
                        </a:lnTo>
                        <a:lnTo>
                          <a:pt x="2300" y="0"/>
                        </a:lnTo>
                        <a:lnTo>
                          <a:pt x="2328" y="0"/>
                        </a:lnTo>
                        <a:lnTo>
                          <a:pt x="2356" y="0"/>
                        </a:lnTo>
                        <a:lnTo>
                          <a:pt x="2397" y="0"/>
                        </a:lnTo>
                        <a:lnTo>
                          <a:pt x="2425" y="0"/>
                        </a:lnTo>
                        <a:lnTo>
                          <a:pt x="2453" y="0"/>
                        </a:lnTo>
                        <a:lnTo>
                          <a:pt x="2480" y="0"/>
                        </a:lnTo>
                        <a:lnTo>
                          <a:pt x="2509" y="0"/>
                        </a:lnTo>
                        <a:lnTo>
                          <a:pt x="2537" y="0"/>
                        </a:lnTo>
                        <a:lnTo>
                          <a:pt x="2578" y="0"/>
                        </a:lnTo>
                        <a:lnTo>
                          <a:pt x="2606" y="0"/>
                        </a:lnTo>
                        <a:lnTo>
                          <a:pt x="2634" y="0"/>
                        </a:lnTo>
                        <a:lnTo>
                          <a:pt x="2661" y="0"/>
                        </a:lnTo>
                        <a:lnTo>
                          <a:pt x="2689" y="0"/>
                        </a:lnTo>
                        <a:lnTo>
                          <a:pt x="2717" y="0"/>
                        </a:lnTo>
                        <a:lnTo>
                          <a:pt x="2758" y="0"/>
                        </a:lnTo>
                        <a:lnTo>
                          <a:pt x="2786" y="0"/>
                        </a:lnTo>
                        <a:lnTo>
                          <a:pt x="2814" y="0"/>
                        </a:lnTo>
                        <a:lnTo>
                          <a:pt x="2841" y="0"/>
                        </a:lnTo>
                        <a:lnTo>
                          <a:pt x="2869" y="0"/>
                        </a:lnTo>
                        <a:lnTo>
                          <a:pt x="2897" y="0"/>
                        </a:lnTo>
                        <a:lnTo>
                          <a:pt x="2938" y="0"/>
                        </a:lnTo>
                        <a:lnTo>
                          <a:pt x="2966" y="0"/>
                        </a:lnTo>
                        <a:lnTo>
                          <a:pt x="2993" y="0"/>
                        </a:lnTo>
                        <a:lnTo>
                          <a:pt x="3021" y="0"/>
                        </a:lnTo>
                        <a:lnTo>
                          <a:pt x="3049" y="0"/>
                        </a:lnTo>
                        <a:lnTo>
                          <a:pt x="3076" y="0"/>
                        </a:lnTo>
                        <a:lnTo>
                          <a:pt x="3118" y="0"/>
                        </a:lnTo>
                        <a:lnTo>
                          <a:pt x="3146" y="0"/>
                        </a:lnTo>
                        <a:lnTo>
                          <a:pt x="3173" y="0"/>
                        </a:lnTo>
                        <a:lnTo>
                          <a:pt x="3201" y="0"/>
                        </a:lnTo>
                        <a:lnTo>
                          <a:pt x="3228" y="0"/>
                        </a:lnTo>
                        <a:lnTo>
                          <a:pt x="3256" y="0"/>
                        </a:lnTo>
                        <a:lnTo>
                          <a:pt x="3299" y="0"/>
                        </a:lnTo>
                        <a:lnTo>
                          <a:pt x="3327" y="0"/>
                        </a:lnTo>
                        <a:lnTo>
                          <a:pt x="3354" y="0"/>
                        </a:lnTo>
                        <a:lnTo>
                          <a:pt x="3382" y="0"/>
                        </a:lnTo>
                        <a:lnTo>
                          <a:pt x="3410" y="0"/>
                        </a:lnTo>
                        <a:lnTo>
                          <a:pt x="3437" y="0"/>
                        </a:lnTo>
                        <a:lnTo>
                          <a:pt x="3479" y="0"/>
                        </a:lnTo>
                        <a:lnTo>
                          <a:pt x="3507" y="0"/>
                        </a:lnTo>
                        <a:lnTo>
                          <a:pt x="3534" y="0"/>
                        </a:lnTo>
                        <a:lnTo>
                          <a:pt x="3562" y="0"/>
                        </a:lnTo>
                        <a:lnTo>
                          <a:pt x="3589" y="0"/>
                        </a:lnTo>
                        <a:lnTo>
                          <a:pt x="3617" y="0"/>
                        </a:lnTo>
                        <a:lnTo>
                          <a:pt x="3659" y="0"/>
                        </a:lnTo>
                        <a:lnTo>
                          <a:pt x="3686" y="0"/>
                        </a:lnTo>
                        <a:lnTo>
                          <a:pt x="3714" y="0"/>
                        </a:lnTo>
                        <a:lnTo>
                          <a:pt x="3742" y="0"/>
                        </a:lnTo>
                        <a:lnTo>
                          <a:pt x="3769" y="0"/>
                        </a:lnTo>
                        <a:lnTo>
                          <a:pt x="3797" y="0"/>
                        </a:lnTo>
                        <a:lnTo>
                          <a:pt x="3852" y="0"/>
                        </a:lnTo>
                        <a:lnTo>
                          <a:pt x="3880" y="0"/>
                        </a:lnTo>
                        <a:lnTo>
                          <a:pt x="3908" y="0"/>
                        </a:lnTo>
                        <a:lnTo>
                          <a:pt x="3935" y="0"/>
                        </a:lnTo>
                        <a:lnTo>
                          <a:pt x="3963" y="0"/>
                        </a:lnTo>
                        <a:lnTo>
                          <a:pt x="3991" y="0"/>
                        </a:lnTo>
                        <a:lnTo>
                          <a:pt x="4032" y="0"/>
                        </a:lnTo>
                        <a:lnTo>
                          <a:pt x="4060" y="0"/>
                        </a:lnTo>
                        <a:lnTo>
                          <a:pt x="4087" y="0"/>
                        </a:lnTo>
                        <a:lnTo>
                          <a:pt x="4116" y="0"/>
                        </a:lnTo>
                        <a:lnTo>
                          <a:pt x="4144" y="0"/>
                        </a:lnTo>
                        <a:lnTo>
                          <a:pt x="4172" y="0"/>
                        </a:lnTo>
                        <a:lnTo>
                          <a:pt x="4213" y="0"/>
                        </a:lnTo>
                        <a:lnTo>
                          <a:pt x="4241" y="0"/>
                        </a:lnTo>
                        <a:lnTo>
                          <a:pt x="4269" y="0"/>
                        </a:lnTo>
                        <a:lnTo>
                          <a:pt x="4296" y="0"/>
                        </a:lnTo>
                        <a:lnTo>
                          <a:pt x="4324" y="0"/>
                        </a:lnTo>
                        <a:lnTo>
                          <a:pt x="4352" y="0"/>
                        </a:lnTo>
                        <a:lnTo>
                          <a:pt x="4393" y="0"/>
                        </a:lnTo>
                        <a:lnTo>
                          <a:pt x="4421" y="0"/>
                        </a:lnTo>
                        <a:lnTo>
                          <a:pt x="4448" y="0"/>
                        </a:lnTo>
                        <a:lnTo>
                          <a:pt x="4476" y="0"/>
                        </a:lnTo>
                        <a:lnTo>
                          <a:pt x="4504" y="0"/>
                        </a:lnTo>
                        <a:lnTo>
                          <a:pt x="4531" y="0"/>
                        </a:lnTo>
                        <a:lnTo>
                          <a:pt x="4573" y="0"/>
                        </a:lnTo>
                        <a:lnTo>
                          <a:pt x="4601" y="0"/>
                        </a:lnTo>
                        <a:lnTo>
                          <a:pt x="4628" y="0"/>
                        </a:lnTo>
                        <a:lnTo>
                          <a:pt x="4656" y="0"/>
                        </a:lnTo>
                        <a:lnTo>
                          <a:pt x="4684" y="0"/>
                        </a:lnTo>
                        <a:lnTo>
                          <a:pt x="4711" y="0"/>
                        </a:lnTo>
                        <a:lnTo>
                          <a:pt x="4753" y="0"/>
                        </a:lnTo>
                        <a:lnTo>
                          <a:pt x="4780" y="0"/>
                        </a:lnTo>
                        <a:lnTo>
                          <a:pt x="4808" y="0"/>
                        </a:lnTo>
                        <a:lnTo>
                          <a:pt x="4836" y="0"/>
                        </a:lnTo>
                        <a:lnTo>
                          <a:pt x="4863" y="0"/>
                        </a:lnTo>
                        <a:lnTo>
                          <a:pt x="4892" y="0"/>
                        </a:lnTo>
                        <a:lnTo>
                          <a:pt x="4934" y="0"/>
                        </a:lnTo>
                        <a:lnTo>
                          <a:pt x="4962" y="0"/>
                        </a:lnTo>
                        <a:lnTo>
                          <a:pt x="4989" y="0"/>
                        </a:lnTo>
                        <a:lnTo>
                          <a:pt x="5017" y="0"/>
                        </a:lnTo>
                        <a:lnTo>
                          <a:pt x="5045" y="0"/>
                        </a:lnTo>
                        <a:lnTo>
                          <a:pt x="5072" y="0"/>
                        </a:lnTo>
                        <a:lnTo>
                          <a:pt x="5114" y="0"/>
                        </a:lnTo>
                        <a:lnTo>
                          <a:pt x="5141" y="0"/>
                        </a:lnTo>
                        <a:lnTo>
                          <a:pt x="5169" y="0"/>
                        </a:lnTo>
                        <a:lnTo>
                          <a:pt x="5197" y="0"/>
                        </a:lnTo>
                        <a:lnTo>
                          <a:pt x="5224" y="0"/>
                        </a:lnTo>
                        <a:lnTo>
                          <a:pt x="5252" y="0"/>
                        </a:lnTo>
                        <a:lnTo>
                          <a:pt x="5293" y="0"/>
                        </a:lnTo>
                        <a:lnTo>
                          <a:pt x="5321" y="0"/>
                        </a:lnTo>
                        <a:lnTo>
                          <a:pt x="5349" y="0"/>
                        </a:lnTo>
                        <a:lnTo>
                          <a:pt x="5376" y="0"/>
                        </a:lnTo>
                        <a:lnTo>
                          <a:pt x="5404" y="0"/>
                        </a:lnTo>
                        <a:lnTo>
                          <a:pt x="5432" y="0"/>
                        </a:lnTo>
                        <a:lnTo>
                          <a:pt x="5473" y="0"/>
                        </a:lnTo>
                        <a:lnTo>
                          <a:pt x="5501" y="0"/>
                        </a:lnTo>
                        <a:lnTo>
                          <a:pt x="5529" y="0"/>
                        </a:lnTo>
                        <a:lnTo>
                          <a:pt x="5556" y="0"/>
                        </a:lnTo>
                        <a:lnTo>
                          <a:pt x="5584" y="0"/>
                        </a:lnTo>
                        <a:lnTo>
                          <a:pt x="5612" y="0"/>
                        </a:lnTo>
                        <a:lnTo>
                          <a:pt x="5653" y="0"/>
                        </a:lnTo>
                        <a:lnTo>
                          <a:pt x="5681" y="0"/>
                        </a:lnTo>
                        <a:lnTo>
                          <a:pt x="5710" y="0"/>
                        </a:lnTo>
                        <a:lnTo>
                          <a:pt x="5737" y="0"/>
                        </a:lnTo>
                        <a:lnTo>
                          <a:pt x="5765" y="0"/>
                        </a:lnTo>
                        <a:lnTo>
                          <a:pt x="5807" y="0"/>
                        </a:lnTo>
                        <a:lnTo>
                          <a:pt x="5834" y="0"/>
                        </a:lnTo>
                        <a:lnTo>
                          <a:pt x="5862" y="0"/>
                        </a:lnTo>
                        <a:lnTo>
                          <a:pt x="5890" y="0"/>
                        </a:lnTo>
                        <a:lnTo>
                          <a:pt x="5917" y="0"/>
                        </a:lnTo>
                        <a:lnTo>
                          <a:pt x="5945" y="0"/>
                        </a:lnTo>
                        <a:lnTo>
                          <a:pt x="5986" y="0"/>
                        </a:lnTo>
                        <a:lnTo>
                          <a:pt x="6014" y="0"/>
                        </a:lnTo>
                        <a:lnTo>
                          <a:pt x="6042" y="0"/>
                        </a:lnTo>
                        <a:lnTo>
                          <a:pt x="6069" y="0"/>
                        </a:lnTo>
                        <a:lnTo>
                          <a:pt x="6097" y="0"/>
                        </a:lnTo>
                        <a:lnTo>
                          <a:pt x="6125" y="0"/>
                        </a:lnTo>
                        <a:lnTo>
                          <a:pt x="6166" y="0"/>
                        </a:lnTo>
                        <a:lnTo>
                          <a:pt x="6194" y="0"/>
                        </a:lnTo>
                        <a:lnTo>
                          <a:pt x="6222" y="0"/>
                        </a:lnTo>
                        <a:lnTo>
                          <a:pt x="6249" y="0"/>
                        </a:lnTo>
                        <a:lnTo>
                          <a:pt x="6277" y="0"/>
                        </a:lnTo>
                        <a:lnTo>
                          <a:pt x="6305" y="0"/>
                        </a:lnTo>
                        <a:lnTo>
                          <a:pt x="6346" y="0"/>
                        </a:lnTo>
                        <a:lnTo>
                          <a:pt x="6374" y="0"/>
                        </a:lnTo>
                        <a:lnTo>
                          <a:pt x="6401" y="0"/>
                        </a:lnTo>
                        <a:lnTo>
                          <a:pt x="6429" y="0"/>
                        </a:lnTo>
                        <a:lnTo>
                          <a:pt x="6457" y="0"/>
                        </a:lnTo>
                        <a:lnTo>
                          <a:pt x="6486" y="0"/>
                        </a:lnTo>
                        <a:lnTo>
                          <a:pt x="6541" y="0"/>
                        </a:lnTo>
                        <a:lnTo>
                          <a:pt x="6569" y="0"/>
                        </a:lnTo>
                        <a:lnTo>
                          <a:pt x="6596" y="0"/>
                        </a:lnTo>
                        <a:lnTo>
                          <a:pt x="6624" y="0"/>
                        </a:lnTo>
                        <a:lnTo>
                          <a:pt x="6652" y="0"/>
                        </a:lnTo>
                        <a:lnTo>
                          <a:pt x="6679" y="0"/>
                        </a:lnTo>
                        <a:lnTo>
                          <a:pt x="6721" y="0"/>
                        </a:lnTo>
                        <a:lnTo>
                          <a:pt x="6749" y="0"/>
                        </a:lnTo>
                        <a:lnTo>
                          <a:pt x="6776" y="0"/>
                        </a:lnTo>
                        <a:lnTo>
                          <a:pt x="6804" y="0"/>
                        </a:lnTo>
                        <a:lnTo>
                          <a:pt x="6832" y="0"/>
                        </a:lnTo>
                        <a:lnTo>
                          <a:pt x="6859" y="0"/>
                        </a:lnTo>
                        <a:lnTo>
                          <a:pt x="6901" y="0"/>
                        </a:lnTo>
                        <a:lnTo>
                          <a:pt x="6928" y="0"/>
                        </a:lnTo>
                        <a:lnTo>
                          <a:pt x="6956" y="0"/>
                        </a:lnTo>
                        <a:lnTo>
                          <a:pt x="6984" y="0"/>
                        </a:lnTo>
                        <a:lnTo>
                          <a:pt x="7011" y="0"/>
                        </a:lnTo>
                        <a:lnTo>
                          <a:pt x="7039" y="0"/>
                        </a:lnTo>
                        <a:lnTo>
                          <a:pt x="7080" y="0"/>
                        </a:lnTo>
                        <a:lnTo>
                          <a:pt x="7108" y="0"/>
                        </a:lnTo>
                        <a:lnTo>
                          <a:pt x="7136" y="0"/>
                        </a:lnTo>
                        <a:lnTo>
                          <a:pt x="7163" y="0"/>
                        </a:lnTo>
                        <a:lnTo>
                          <a:pt x="7191" y="0"/>
                        </a:lnTo>
                        <a:lnTo>
                          <a:pt x="7219" y="0"/>
                        </a:lnTo>
                        <a:lnTo>
                          <a:pt x="7260" y="0"/>
                        </a:lnTo>
                        <a:lnTo>
                          <a:pt x="7289" y="0"/>
                        </a:lnTo>
                        <a:lnTo>
                          <a:pt x="7317" y="0"/>
                        </a:lnTo>
                        <a:lnTo>
                          <a:pt x="7345" y="0"/>
                        </a:lnTo>
                        <a:lnTo>
                          <a:pt x="73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5073480" y="4071960"/>
                    <a:ext cx="39006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7372" h="0">
                        <a:moveTo>
                          <a:pt x="0" y="0"/>
                        </a:moveTo>
                        <a:lnTo>
                          <a:pt x="28" y="0"/>
                        </a:lnTo>
                        <a:lnTo>
                          <a:pt x="69" y="0"/>
                        </a:lnTo>
                        <a:lnTo>
                          <a:pt x="97" y="0"/>
                        </a:lnTo>
                        <a:lnTo>
                          <a:pt x="126" y="0"/>
                        </a:lnTo>
                        <a:lnTo>
                          <a:pt x="154" y="0"/>
                        </a:lnTo>
                        <a:lnTo>
                          <a:pt x="181" y="0"/>
                        </a:lnTo>
                        <a:lnTo>
                          <a:pt x="209" y="0"/>
                        </a:lnTo>
                        <a:lnTo>
                          <a:pt x="251" y="0"/>
                        </a:lnTo>
                        <a:lnTo>
                          <a:pt x="278" y="0"/>
                        </a:lnTo>
                        <a:lnTo>
                          <a:pt x="306" y="0"/>
                        </a:lnTo>
                        <a:lnTo>
                          <a:pt x="334" y="0"/>
                        </a:lnTo>
                        <a:lnTo>
                          <a:pt x="361" y="0"/>
                        </a:lnTo>
                        <a:lnTo>
                          <a:pt x="389" y="0"/>
                        </a:lnTo>
                        <a:lnTo>
                          <a:pt x="430" y="0"/>
                        </a:lnTo>
                        <a:lnTo>
                          <a:pt x="458" y="0"/>
                        </a:lnTo>
                        <a:lnTo>
                          <a:pt x="486" y="0"/>
                        </a:lnTo>
                        <a:lnTo>
                          <a:pt x="513" y="0"/>
                        </a:lnTo>
                        <a:lnTo>
                          <a:pt x="541" y="0"/>
                        </a:lnTo>
                        <a:lnTo>
                          <a:pt x="569" y="0"/>
                        </a:lnTo>
                        <a:lnTo>
                          <a:pt x="610" y="0"/>
                        </a:lnTo>
                        <a:lnTo>
                          <a:pt x="638" y="0"/>
                        </a:lnTo>
                        <a:lnTo>
                          <a:pt x="666" y="0"/>
                        </a:lnTo>
                        <a:lnTo>
                          <a:pt x="693" y="0"/>
                        </a:lnTo>
                        <a:lnTo>
                          <a:pt x="721" y="0"/>
                        </a:lnTo>
                        <a:lnTo>
                          <a:pt x="749" y="0"/>
                        </a:lnTo>
                        <a:lnTo>
                          <a:pt x="790" y="0"/>
                        </a:lnTo>
                        <a:lnTo>
                          <a:pt x="818" y="0"/>
                        </a:lnTo>
                        <a:lnTo>
                          <a:pt x="845" y="0"/>
                        </a:lnTo>
                        <a:lnTo>
                          <a:pt x="873" y="0"/>
                        </a:lnTo>
                        <a:lnTo>
                          <a:pt x="901" y="0"/>
                        </a:lnTo>
                        <a:lnTo>
                          <a:pt x="930" y="0"/>
                        </a:lnTo>
                        <a:lnTo>
                          <a:pt x="971" y="0"/>
                        </a:lnTo>
                        <a:lnTo>
                          <a:pt x="999" y="0"/>
                        </a:lnTo>
                        <a:lnTo>
                          <a:pt x="1027" y="0"/>
                        </a:lnTo>
                        <a:lnTo>
                          <a:pt x="1054" y="0"/>
                        </a:lnTo>
                        <a:lnTo>
                          <a:pt x="1082" y="0"/>
                        </a:lnTo>
                        <a:lnTo>
                          <a:pt x="1110" y="0"/>
                        </a:lnTo>
                        <a:lnTo>
                          <a:pt x="1151" y="0"/>
                        </a:lnTo>
                        <a:lnTo>
                          <a:pt x="1193" y="0"/>
                        </a:lnTo>
                        <a:lnTo>
                          <a:pt x="1220" y="0"/>
                        </a:lnTo>
                        <a:lnTo>
                          <a:pt x="1248" y="0"/>
                        </a:lnTo>
                        <a:lnTo>
                          <a:pt x="1276" y="0"/>
                        </a:lnTo>
                        <a:lnTo>
                          <a:pt x="1303" y="0"/>
                        </a:lnTo>
                        <a:lnTo>
                          <a:pt x="1345" y="0"/>
                        </a:lnTo>
                        <a:lnTo>
                          <a:pt x="1372" y="0"/>
                        </a:lnTo>
                        <a:lnTo>
                          <a:pt x="1400" y="0"/>
                        </a:lnTo>
                        <a:lnTo>
                          <a:pt x="1428" y="0"/>
                        </a:lnTo>
                        <a:lnTo>
                          <a:pt x="1455" y="0"/>
                        </a:lnTo>
                        <a:lnTo>
                          <a:pt x="1483" y="0"/>
                        </a:lnTo>
                        <a:lnTo>
                          <a:pt x="1524" y="0"/>
                        </a:lnTo>
                        <a:lnTo>
                          <a:pt x="1552" y="0"/>
                        </a:lnTo>
                        <a:lnTo>
                          <a:pt x="1580" y="0"/>
                        </a:lnTo>
                        <a:lnTo>
                          <a:pt x="1607" y="0"/>
                        </a:lnTo>
                        <a:lnTo>
                          <a:pt x="1635" y="0"/>
                        </a:lnTo>
                        <a:lnTo>
                          <a:pt x="1677" y="0"/>
                        </a:lnTo>
                        <a:lnTo>
                          <a:pt x="1706" y="0"/>
                        </a:lnTo>
                        <a:lnTo>
                          <a:pt x="1733" y="0"/>
                        </a:lnTo>
                        <a:lnTo>
                          <a:pt x="1761" y="0"/>
                        </a:lnTo>
                        <a:lnTo>
                          <a:pt x="1789" y="0"/>
                        </a:lnTo>
                        <a:lnTo>
                          <a:pt x="1816" y="0"/>
                        </a:lnTo>
                        <a:lnTo>
                          <a:pt x="1858" y="0"/>
                        </a:lnTo>
                        <a:lnTo>
                          <a:pt x="1885" y="0"/>
                        </a:lnTo>
                        <a:lnTo>
                          <a:pt x="1913" y="0"/>
                        </a:lnTo>
                        <a:lnTo>
                          <a:pt x="1941" y="0"/>
                        </a:lnTo>
                        <a:lnTo>
                          <a:pt x="1968" y="0"/>
                        </a:lnTo>
                        <a:lnTo>
                          <a:pt x="1996" y="0"/>
                        </a:lnTo>
                        <a:lnTo>
                          <a:pt x="2038" y="0"/>
                        </a:lnTo>
                        <a:lnTo>
                          <a:pt x="2065" y="0"/>
                        </a:lnTo>
                        <a:lnTo>
                          <a:pt x="2093" y="0"/>
                        </a:lnTo>
                        <a:lnTo>
                          <a:pt x="2121" y="0"/>
                        </a:lnTo>
                        <a:lnTo>
                          <a:pt x="2148" y="0"/>
                        </a:lnTo>
                        <a:lnTo>
                          <a:pt x="2176" y="0"/>
                        </a:lnTo>
                        <a:lnTo>
                          <a:pt x="2217" y="0"/>
                        </a:lnTo>
                        <a:lnTo>
                          <a:pt x="2245" y="0"/>
                        </a:lnTo>
                        <a:lnTo>
                          <a:pt x="2273" y="0"/>
                        </a:lnTo>
                        <a:lnTo>
                          <a:pt x="2300" y="0"/>
                        </a:lnTo>
                        <a:lnTo>
                          <a:pt x="2328" y="0"/>
                        </a:lnTo>
                        <a:lnTo>
                          <a:pt x="2356" y="0"/>
                        </a:lnTo>
                        <a:lnTo>
                          <a:pt x="2397" y="0"/>
                        </a:lnTo>
                        <a:lnTo>
                          <a:pt x="2425" y="0"/>
                        </a:lnTo>
                        <a:lnTo>
                          <a:pt x="2453" y="0"/>
                        </a:lnTo>
                        <a:lnTo>
                          <a:pt x="2480" y="0"/>
                        </a:lnTo>
                        <a:lnTo>
                          <a:pt x="2509" y="0"/>
                        </a:lnTo>
                        <a:lnTo>
                          <a:pt x="2537" y="0"/>
                        </a:lnTo>
                        <a:lnTo>
                          <a:pt x="2578" y="0"/>
                        </a:lnTo>
                        <a:lnTo>
                          <a:pt x="2606" y="0"/>
                        </a:lnTo>
                        <a:lnTo>
                          <a:pt x="2634" y="0"/>
                        </a:lnTo>
                        <a:lnTo>
                          <a:pt x="2661" y="0"/>
                        </a:lnTo>
                        <a:lnTo>
                          <a:pt x="2689" y="0"/>
                        </a:lnTo>
                        <a:lnTo>
                          <a:pt x="2717" y="0"/>
                        </a:lnTo>
                        <a:lnTo>
                          <a:pt x="2758" y="0"/>
                        </a:lnTo>
                        <a:lnTo>
                          <a:pt x="2786" y="0"/>
                        </a:lnTo>
                        <a:lnTo>
                          <a:pt x="2814" y="0"/>
                        </a:lnTo>
                        <a:lnTo>
                          <a:pt x="2841" y="0"/>
                        </a:lnTo>
                        <a:lnTo>
                          <a:pt x="2869" y="0"/>
                        </a:lnTo>
                        <a:lnTo>
                          <a:pt x="2897" y="0"/>
                        </a:lnTo>
                        <a:lnTo>
                          <a:pt x="2938" y="0"/>
                        </a:lnTo>
                        <a:lnTo>
                          <a:pt x="2966" y="0"/>
                        </a:lnTo>
                        <a:lnTo>
                          <a:pt x="2993" y="0"/>
                        </a:lnTo>
                        <a:lnTo>
                          <a:pt x="3021" y="0"/>
                        </a:lnTo>
                        <a:lnTo>
                          <a:pt x="3049" y="0"/>
                        </a:lnTo>
                        <a:lnTo>
                          <a:pt x="3076" y="0"/>
                        </a:lnTo>
                        <a:lnTo>
                          <a:pt x="3118" y="0"/>
                        </a:lnTo>
                        <a:lnTo>
                          <a:pt x="3146" y="0"/>
                        </a:lnTo>
                        <a:lnTo>
                          <a:pt x="3173" y="0"/>
                        </a:lnTo>
                        <a:lnTo>
                          <a:pt x="3201" y="0"/>
                        </a:lnTo>
                        <a:lnTo>
                          <a:pt x="3228" y="0"/>
                        </a:lnTo>
                        <a:lnTo>
                          <a:pt x="3256" y="0"/>
                        </a:lnTo>
                        <a:lnTo>
                          <a:pt x="3299" y="0"/>
                        </a:lnTo>
                        <a:lnTo>
                          <a:pt x="3327" y="0"/>
                        </a:lnTo>
                        <a:lnTo>
                          <a:pt x="3354" y="0"/>
                        </a:lnTo>
                        <a:lnTo>
                          <a:pt x="3382" y="0"/>
                        </a:lnTo>
                        <a:lnTo>
                          <a:pt x="3410" y="0"/>
                        </a:lnTo>
                        <a:lnTo>
                          <a:pt x="3437" y="0"/>
                        </a:lnTo>
                        <a:lnTo>
                          <a:pt x="3479" y="0"/>
                        </a:lnTo>
                        <a:lnTo>
                          <a:pt x="3507" y="0"/>
                        </a:lnTo>
                        <a:lnTo>
                          <a:pt x="3534" y="0"/>
                        </a:lnTo>
                        <a:lnTo>
                          <a:pt x="3562" y="0"/>
                        </a:lnTo>
                        <a:lnTo>
                          <a:pt x="3589" y="0"/>
                        </a:lnTo>
                        <a:lnTo>
                          <a:pt x="3617" y="0"/>
                        </a:lnTo>
                        <a:lnTo>
                          <a:pt x="3659" y="0"/>
                        </a:lnTo>
                        <a:lnTo>
                          <a:pt x="3686" y="0"/>
                        </a:lnTo>
                        <a:lnTo>
                          <a:pt x="3714" y="0"/>
                        </a:lnTo>
                        <a:lnTo>
                          <a:pt x="3742" y="0"/>
                        </a:lnTo>
                        <a:lnTo>
                          <a:pt x="3769" y="0"/>
                        </a:lnTo>
                        <a:lnTo>
                          <a:pt x="3797" y="0"/>
                        </a:lnTo>
                        <a:lnTo>
                          <a:pt x="3852" y="0"/>
                        </a:lnTo>
                        <a:lnTo>
                          <a:pt x="3880" y="0"/>
                        </a:lnTo>
                        <a:lnTo>
                          <a:pt x="3908" y="0"/>
                        </a:lnTo>
                        <a:lnTo>
                          <a:pt x="3935" y="0"/>
                        </a:lnTo>
                        <a:lnTo>
                          <a:pt x="3963" y="0"/>
                        </a:lnTo>
                        <a:lnTo>
                          <a:pt x="3991" y="0"/>
                        </a:lnTo>
                        <a:lnTo>
                          <a:pt x="4032" y="0"/>
                        </a:lnTo>
                        <a:lnTo>
                          <a:pt x="4060" y="0"/>
                        </a:lnTo>
                        <a:lnTo>
                          <a:pt x="4087" y="0"/>
                        </a:lnTo>
                        <a:lnTo>
                          <a:pt x="4116" y="0"/>
                        </a:lnTo>
                        <a:lnTo>
                          <a:pt x="4144" y="0"/>
                        </a:lnTo>
                        <a:lnTo>
                          <a:pt x="4172" y="0"/>
                        </a:lnTo>
                        <a:lnTo>
                          <a:pt x="4213" y="0"/>
                        </a:lnTo>
                        <a:lnTo>
                          <a:pt x="4241" y="0"/>
                        </a:lnTo>
                        <a:lnTo>
                          <a:pt x="4269" y="0"/>
                        </a:lnTo>
                        <a:lnTo>
                          <a:pt x="4296" y="0"/>
                        </a:lnTo>
                        <a:lnTo>
                          <a:pt x="4324" y="0"/>
                        </a:lnTo>
                        <a:lnTo>
                          <a:pt x="4352" y="0"/>
                        </a:lnTo>
                        <a:lnTo>
                          <a:pt x="4393" y="0"/>
                        </a:lnTo>
                        <a:lnTo>
                          <a:pt x="4421" y="0"/>
                        </a:lnTo>
                        <a:lnTo>
                          <a:pt x="4448" y="0"/>
                        </a:lnTo>
                        <a:lnTo>
                          <a:pt x="4476" y="0"/>
                        </a:lnTo>
                        <a:lnTo>
                          <a:pt x="4504" y="0"/>
                        </a:lnTo>
                        <a:lnTo>
                          <a:pt x="4531" y="0"/>
                        </a:lnTo>
                        <a:lnTo>
                          <a:pt x="4573" y="0"/>
                        </a:lnTo>
                        <a:lnTo>
                          <a:pt x="4601" y="0"/>
                        </a:lnTo>
                        <a:lnTo>
                          <a:pt x="4628" y="0"/>
                        </a:lnTo>
                        <a:lnTo>
                          <a:pt x="4656" y="0"/>
                        </a:lnTo>
                        <a:lnTo>
                          <a:pt x="4684" y="0"/>
                        </a:lnTo>
                        <a:lnTo>
                          <a:pt x="4711" y="0"/>
                        </a:lnTo>
                        <a:lnTo>
                          <a:pt x="4753" y="0"/>
                        </a:lnTo>
                        <a:lnTo>
                          <a:pt x="4780" y="0"/>
                        </a:lnTo>
                        <a:lnTo>
                          <a:pt x="4808" y="0"/>
                        </a:lnTo>
                        <a:lnTo>
                          <a:pt x="4836" y="0"/>
                        </a:lnTo>
                        <a:lnTo>
                          <a:pt x="4863" y="0"/>
                        </a:lnTo>
                        <a:lnTo>
                          <a:pt x="4892" y="0"/>
                        </a:lnTo>
                        <a:lnTo>
                          <a:pt x="4934" y="0"/>
                        </a:lnTo>
                        <a:lnTo>
                          <a:pt x="4962" y="0"/>
                        </a:lnTo>
                        <a:lnTo>
                          <a:pt x="4989" y="0"/>
                        </a:lnTo>
                        <a:lnTo>
                          <a:pt x="5017" y="0"/>
                        </a:lnTo>
                        <a:lnTo>
                          <a:pt x="5045" y="0"/>
                        </a:lnTo>
                        <a:lnTo>
                          <a:pt x="5072" y="0"/>
                        </a:lnTo>
                        <a:lnTo>
                          <a:pt x="5114" y="0"/>
                        </a:lnTo>
                        <a:lnTo>
                          <a:pt x="5141" y="0"/>
                        </a:lnTo>
                        <a:lnTo>
                          <a:pt x="5169" y="0"/>
                        </a:lnTo>
                        <a:lnTo>
                          <a:pt x="5197" y="0"/>
                        </a:lnTo>
                        <a:lnTo>
                          <a:pt x="5224" y="0"/>
                        </a:lnTo>
                        <a:lnTo>
                          <a:pt x="5252" y="0"/>
                        </a:lnTo>
                        <a:lnTo>
                          <a:pt x="5293" y="0"/>
                        </a:lnTo>
                        <a:lnTo>
                          <a:pt x="5321" y="0"/>
                        </a:lnTo>
                        <a:lnTo>
                          <a:pt x="5349" y="0"/>
                        </a:lnTo>
                        <a:lnTo>
                          <a:pt x="5376" y="0"/>
                        </a:lnTo>
                        <a:lnTo>
                          <a:pt x="5404" y="0"/>
                        </a:lnTo>
                        <a:lnTo>
                          <a:pt x="5432" y="0"/>
                        </a:lnTo>
                        <a:lnTo>
                          <a:pt x="5473" y="0"/>
                        </a:lnTo>
                        <a:lnTo>
                          <a:pt x="5501" y="0"/>
                        </a:lnTo>
                        <a:lnTo>
                          <a:pt x="5529" y="0"/>
                        </a:lnTo>
                        <a:lnTo>
                          <a:pt x="5556" y="0"/>
                        </a:lnTo>
                        <a:lnTo>
                          <a:pt x="5584" y="0"/>
                        </a:lnTo>
                        <a:lnTo>
                          <a:pt x="5612" y="0"/>
                        </a:lnTo>
                        <a:lnTo>
                          <a:pt x="5653" y="0"/>
                        </a:lnTo>
                        <a:lnTo>
                          <a:pt x="5681" y="0"/>
                        </a:lnTo>
                        <a:lnTo>
                          <a:pt x="5710" y="0"/>
                        </a:lnTo>
                        <a:lnTo>
                          <a:pt x="5737" y="0"/>
                        </a:lnTo>
                        <a:lnTo>
                          <a:pt x="5765" y="0"/>
                        </a:lnTo>
                        <a:lnTo>
                          <a:pt x="5807" y="0"/>
                        </a:lnTo>
                        <a:lnTo>
                          <a:pt x="5834" y="0"/>
                        </a:lnTo>
                        <a:lnTo>
                          <a:pt x="5862" y="0"/>
                        </a:lnTo>
                        <a:lnTo>
                          <a:pt x="5890" y="0"/>
                        </a:lnTo>
                        <a:lnTo>
                          <a:pt x="5917" y="0"/>
                        </a:lnTo>
                        <a:lnTo>
                          <a:pt x="5945" y="0"/>
                        </a:lnTo>
                        <a:lnTo>
                          <a:pt x="5986" y="0"/>
                        </a:lnTo>
                        <a:lnTo>
                          <a:pt x="6014" y="0"/>
                        </a:lnTo>
                        <a:lnTo>
                          <a:pt x="6042" y="0"/>
                        </a:lnTo>
                        <a:lnTo>
                          <a:pt x="6069" y="0"/>
                        </a:lnTo>
                        <a:lnTo>
                          <a:pt x="6097" y="0"/>
                        </a:lnTo>
                        <a:lnTo>
                          <a:pt x="6125" y="0"/>
                        </a:lnTo>
                        <a:lnTo>
                          <a:pt x="6166" y="0"/>
                        </a:lnTo>
                        <a:lnTo>
                          <a:pt x="6194" y="0"/>
                        </a:lnTo>
                        <a:lnTo>
                          <a:pt x="6222" y="0"/>
                        </a:lnTo>
                        <a:lnTo>
                          <a:pt x="6249" y="0"/>
                        </a:lnTo>
                        <a:lnTo>
                          <a:pt x="6277" y="0"/>
                        </a:lnTo>
                        <a:lnTo>
                          <a:pt x="6305" y="0"/>
                        </a:lnTo>
                        <a:lnTo>
                          <a:pt x="6346" y="0"/>
                        </a:lnTo>
                        <a:lnTo>
                          <a:pt x="6374" y="0"/>
                        </a:lnTo>
                        <a:lnTo>
                          <a:pt x="6401" y="0"/>
                        </a:lnTo>
                        <a:lnTo>
                          <a:pt x="6429" y="0"/>
                        </a:lnTo>
                        <a:lnTo>
                          <a:pt x="6457" y="0"/>
                        </a:lnTo>
                        <a:lnTo>
                          <a:pt x="6486" y="0"/>
                        </a:lnTo>
                        <a:lnTo>
                          <a:pt x="6541" y="0"/>
                        </a:lnTo>
                        <a:lnTo>
                          <a:pt x="6569" y="0"/>
                        </a:lnTo>
                        <a:lnTo>
                          <a:pt x="6596" y="0"/>
                        </a:lnTo>
                        <a:lnTo>
                          <a:pt x="6624" y="0"/>
                        </a:lnTo>
                        <a:lnTo>
                          <a:pt x="6652" y="0"/>
                        </a:lnTo>
                        <a:lnTo>
                          <a:pt x="6679" y="0"/>
                        </a:lnTo>
                        <a:lnTo>
                          <a:pt x="6721" y="0"/>
                        </a:lnTo>
                        <a:lnTo>
                          <a:pt x="6749" y="0"/>
                        </a:lnTo>
                        <a:lnTo>
                          <a:pt x="6776" y="0"/>
                        </a:lnTo>
                        <a:lnTo>
                          <a:pt x="6804" y="0"/>
                        </a:lnTo>
                        <a:lnTo>
                          <a:pt x="6832" y="0"/>
                        </a:lnTo>
                        <a:lnTo>
                          <a:pt x="6859" y="0"/>
                        </a:lnTo>
                        <a:lnTo>
                          <a:pt x="6901" y="0"/>
                        </a:lnTo>
                        <a:lnTo>
                          <a:pt x="6928" y="0"/>
                        </a:lnTo>
                        <a:lnTo>
                          <a:pt x="6956" y="0"/>
                        </a:lnTo>
                        <a:lnTo>
                          <a:pt x="6984" y="0"/>
                        </a:lnTo>
                        <a:lnTo>
                          <a:pt x="7011" y="0"/>
                        </a:lnTo>
                        <a:lnTo>
                          <a:pt x="7039" y="0"/>
                        </a:lnTo>
                        <a:lnTo>
                          <a:pt x="7080" y="0"/>
                        </a:lnTo>
                        <a:lnTo>
                          <a:pt x="7108" y="0"/>
                        </a:lnTo>
                        <a:lnTo>
                          <a:pt x="7136" y="0"/>
                        </a:lnTo>
                        <a:lnTo>
                          <a:pt x="7163" y="0"/>
                        </a:lnTo>
                        <a:lnTo>
                          <a:pt x="7191" y="0"/>
                        </a:lnTo>
                        <a:lnTo>
                          <a:pt x="7219" y="0"/>
                        </a:lnTo>
                        <a:lnTo>
                          <a:pt x="7260" y="0"/>
                        </a:lnTo>
                        <a:lnTo>
                          <a:pt x="7289" y="0"/>
                        </a:lnTo>
                        <a:lnTo>
                          <a:pt x="7317" y="0"/>
                        </a:lnTo>
                        <a:lnTo>
                          <a:pt x="7345" y="0"/>
                        </a:lnTo>
                        <a:lnTo>
                          <a:pt x="737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8" name=""/>
                <p:cNvGrpSpPr/>
                <p:nvPr/>
              </p:nvGrpSpPr>
              <p:grpSpPr>
                <a:xfrm>
                  <a:off x="5014800" y="3855960"/>
                  <a:ext cx="4017960" cy="1800"/>
                  <a:chOff x="5014800" y="3855960"/>
                  <a:chExt cx="4017960" cy="1800"/>
                </a:xfrm>
              </p:grpSpPr>
              <p:sp>
                <p:nvSpPr>
                  <p:cNvPr id="639" name=""/>
                  <p:cNvSpPr/>
                  <p:nvPr/>
                </p:nvSpPr>
                <p:spPr>
                  <a:xfrm>
                    <a:off x="5014800" y="3855960"/>
                    <a:ext cx="40179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7593" h="0">
                        <a:moveTo>
                          <a:pt x="0" y="0"/>
                        </a:moveTo>
                        <a:lnTo>
                          <a:pt x="27" y="0"/>
                        </a:lnTo>
                        <a:lnTo>
                          <a:pt x="55" y="0"/>
                        </a:lnTo>
                        <a:lnTo>
                          <a:pt x="83" y="0"/>
                        </a:lnTo>
                        <a:lnTo>
                          <a:pt x="124" y="0"/>
                        </a:lnTo>
                        <a:lnTo>
                          <a:pt x="152" y="0"/>
                        </a:lnTo>
                        <a:lnTo>
                          <a:pt x="179" y="0"/>
                        </a:lnTo>
                        <a:lnTo>
                          <a:pt x="207" y="0"/>
                        </a:lnTo>
                        <a:lnTo>
                          <a:pt x="236" y="0"/>
                        </a:lnTo>
                        <a:lnTo>
                          <a:pt x="264" y="0"/>
                        </a:lnTo>
                        <a:lnTo>
                          <a:pt x="305" y="0"/>
                        </a:lnTo>
                        <a:lnTo>
                          <a:pt x="333" y="0"/>
                        </a:lnTo>
                        <a:lnTo>
                          <a:pt x="361" y="0"/>
                        </a:lnTo>
                        <a:lnTo>
                          <a:pt x="388" y="0"/>
                        </a:lnTo>
                        <a:lnTo>
                          <a:pt x="416" y="0"/>
                        </a:lnTo>
                        <a:lnTo>
                          <a:pt x="444" y="0"/>
                        </a:lnTo>
                        <a:lnTo>
                          <a:pt x="485" y="0"/>
                        </a:lnTo>
                        <a:lnTo>
                          <a:pt x="513" y="0"/>
                        </a:lnTo>
                        <a:lnTo>
                          <a:pt x="540" y="0"/>
                        </a:lnTo>
                        <a:lnTo>
                          <a:pt x="568" y="0"/>
                        </a:lnTo>
                        <a:lnTo>
                          <a:pt x="596" y="0"/>
                        </a:lnTo>
                        <a:lnTo>
                          <a:pt x="623" y="0"/>
                        </a:lnTo>
                        <a:lnTo>
                          <a:pt x="665" y="0"/>
                        </a:lnTo>
                        <a:lnTo>
                          <a:pt x="693" y="0"/>
                        </a:lnTo>
                        <a:lnTo>
                          <a:pt x="720" y="0"/>
                        </a:lnTo>
                        <a:lnTo>
                          <a:pt x="748" y="0"/>
                        </a:lnTo>
                        <a:lnTo>
                          <a:pt x="776" y="0"/>
                        </a:lnTo>
                        <a:lnTo>
                          <a:pt x="803" y="0"/>
                        </a:lnTo>
                        <a:lnTo>
                          <a:pt x="845" y="0"/>
                        </a:lnTo>
                        <a:lnTo>
                          <a:pt x="872" y="0"/>
                        </a:lnTo>
                        <a:lnTo>
                          <a:pt x="900" y="0"/>
                        </a:lnTo>
                        <a:lnTo>
                          <a:pt x="928" y="0"/>
                        </a:lnTo>
                        <a:lnTo>
                          <a:pt x="955" y="0"/>
                        </a:lnTo>
                        <a:lnTo>
                          <a:pt x="983" y="0"/>
                        </a:lnTo>
                        <a:lnTo>
                          <a:pt x="1026" y="0"/>
                        </a:lnTo>
                        <a:lnTo>
                          <a:pt x="1054" y="0"/>
                        </a:lnTo>
                        <a:lnTo>
                          <a:pt x="1081" y="0"/>
                        </a:lnTo>
                        <a:lnTo>
                          <a:pt x="1109" y="0"/>
                        </a:lnTo>
                        <a:lnTo>
                          <a:pt x="1137" y="0"/>
                        </a:lnTo>
                        <a:lnTo>
                          <a:pt x="1164" y="0"/>
                        </a:lnTo>
                        <a:lnTo>
                          <a:pt x="1206" y="0"/>
                        </a:lnTo>
                        <a:lnTo>
                          <a:pt x="1233" y="0"/>
                        </a:lnTo>
                        <a:lnTo>
                          <a:pt x="1261" y="0"/>
                        </a:lnTo>
                        <a:lnTo>
                          <a:pt x="1303" y="0"/>
                        </a:lnTo>
                        <a:lnTo>
                          <a:pt x="1330" y="0"/>
                        </a:lnTo>
                        <a:lnTo>
                          <a:pt x="1358" y="0"/>
                        </a:lnTo>
                        <a:lnTo>
                          <a:pt x="1399" y="0"/>
                        </a:lnTo>
                        <a:lnTo>
                          <a:pt x="1427" y="0"/>
                        </a:lnTo>
                        <a:lnTo>
                          <a:pt x="1455" y="0"/>
                        </a:lnTo>
                        <a:lnTo>
                          <a:pt x="1482" y="0"/>
                        </a:lnTo>
                        <a:lnTo>
                          <a:pt x="1510" y="0"/>
                        </a:lnTo>
                        <a:lnTo>
                          <a:pt x="1538" y="0"/>
                        </a:lnTo>
                        <a:lnTo>
                          <a:pt x="1579" y="0"/>
                        </a:lnTo>
                        <a:lnTo>
                          <a:pt x="1607" y="0"/>
                        </a:lnTo>
                        <a:lnTo>
                          <a:pt x="1634" y="0"/>
                        </a:lnTo>
                        <a:lnTo>
                          <a:pt x="1662" y="0"/>
                        </a:lnTo>
                        <a:lnTo>
                          <a:pt x="1690" y="0"/>
                        </a:lnTo>
                        <a:lnTo>
                          <a:pt x="1717" y="0"/>
                        </a:lnTo>
                        <a:lnTo>
                          <a:pt x="1759" y="0"/>
                        </a:lnTo>
                        <a:lnTo>
                          <a:pt x="1787" y="0"/>
                        </a:lnTo>
                        <a:lnTo>
                          <a:pt x="1816" y="0"/>
                        </a:lnTo>
                        <a:lnTo>
                          <a:pt x="1843" y="0"/>
                        </a:lnTo>
                        <a:lnTo>
                          <a:pt x="1871" y="0"/>
                        </a:lnTo>
                        <a:lnTo>
                          <a:pt x="1899" y="0"/>
                        </a:lnTo>
                        <a:lnTo>
                          <a:pt x="1940" y="0"/>
                        </a:lnTo>
                        <a:lnTo>
                          <a:pt x="1968" y="0"/>
                        </a:lnTo>
                        <a:lnTo>
                          <a:pt x="1995" y="0"/>
                        </a:lnTo>
                        <a:lnTo>
                          <a:pt x="2023" y="0"/>
                        </a:lnTo>
                        <a:lnTo>
                          <a:pt x="2051" y="0"/>
                        </a:lnTo>
                        <a:lnTo>
                          <a:pt x="2078" y="0"/>
                        </a:lnTo>
                        <a:lnTo>
                          <a:pt x="2120" y="0"/>
                        </a:lnTo>
                        <a:lnTo>
                          <a:pt x="2148" y="0"/>
                        </a:lnTo>
                        <a:lnTo>
                          <a:pt x="2175" y="0"/>
                        </a:lnTo>
                        <a:lnTo>
                          <a:pt x="2203" y="0"/>
                        </a:lnTo>
                        <a:lnTo>
                          <a:pt x="2231" y="0"/>
                        </a:lnTo>
                        <a:lnTo>
                          <a:pt x="2258" y="0"/>
                        </a:lnTo>
                        <a:lnTo>
                          <a:pt x="2300" y="0"/>
                        </a:lnTo>
                        <a:lnTo>
                          <a:pt x="2327" y="0"/>
                        </a:lnTo>
                        <a:lnTo>
                          <a:pt x="2355" y="0"/>
                        </a:lnTo>
                        <a:lnTo>
                          <a:pt x="2383" y="0"/>
                        </a:lnTo>
                        <a:lnTo>
                          <a:pt x="2410" y="0"/>
                        </a:lnTo>
                        <a:lnTo>
                          <a:pt x="2438" y="0"/>
                        </a:lnTo>
                        <a:lnTo>
                          <a:pt x="2480" y="0"/>
                        </a:lnTo>
                        <a:lnTo>
                          <a:pt x="2507" y="0"/>
                        </a:lnTo>
                        <a:lnTo>
                          <a:pt x="2535" y="0"/>
                        </a:lnTo>
                        <a:lnTo>
                          <a:pt x="2563" y="0"/>
                        </a:lnTo>
                        <a:lnTo>
                          <a:pt x="2590" y="0"/>
                        </a:lnTo>
                        <a:lnTo>
                          <a:pt x="2619" y="0"/>
                        </a:lnTo>
                        <a:lnTo>
                          <a:pt x="2647" y="0"/>
                        </a:lnTo>
                        <a:lnTo>
                          <a:pt x="2688" y="0"/>
                        </a:lnTo>
                        <a:lnTo>
                          <a:pt x="2716" y="0"/>
                        </a:lnTo>
                        <a:lnTo>
                          <a:pt x="2744" y="0"/>
                        </a:lnTo>
                        <a:lnTo>
                          <a:pt x="2771" y="0"/>
                        </a:lnTo>
                        <a:lnTo>
                          <a:pt x="2799" y="0"/>
                        </a:lnTo>
                        <a:lnTo>
                          <a:pt x="2827" y="0"/>
                        </a:lnTo>
                        <a:lnTo>
                          <a:pt x="2868" y="0"/>
                        </a:lnTo>
                        <a:lnTo>
                          <a:pt x="2896" y="0"/>
                        </a:lnTo>
                        <a:lnTo>
                          <a:pt x="2924" y="0"/>
                        </a:lnTo>
                        <a:lnTo>
                          <a:pt x="2951" y="0"/>
                        </a:lnTo>
                        <a:lnTo>
                          <a:pt x="2979" y="0"/>
                        </a:lnTo>
                        <a:lnTo>
                          <a:pt x="3007" y="0"/>
                        </a:lnTo>
                        <a:lnTo>
                          <a:pt x="3048" y="0"/>
                        </a:lnTo>
                        <a:lnTo>
                          <a:pt x="3076" y="0"/>
                        </a:lnTo>
                        <a:lnTo>
                          <a:pt x="3103" y="0"/>
                        </a:lnTo>
                        <a:lnTo>
                          <a:pt x="3131" y="0"/>
                        </a:lnTo>
                        <a:lnTo>
                          <a:pt x="3159" y="0"/>
                        </a:lnTo>
                        <a:lnTo>
                          <a:pt x="3186" y="0"/>
                        </a:lnTo>
                        <a:lnTo>
                          <a:pt x="3228" y="0"/>
                        </a:lnTo>
                        <a:lnTo>
                          <a:pt x="3256" y="0"/>
                        </a:lnTo>
                        <a:lnTo>
                          <a:pt x="3283" y="0"/>
                        </a:lnTo>
                        <a:lnTo>
                          <a:pt x="3311" y="0"/>
                        </a:lnTo>
                        <a:lnTo>
                          <a:pt x="3338" y="0"/>
                        </a:lnTo>
                        <a:lnTo>
                          <a:pt x="3366" y="0"/>
                        </a:lnTo>
                        <a:lnTo>
                          <a:pt x="3409" y="0"/>
                        </a:lnTo>
                        <a:lnTo>
                          <a:pt x="3437" y="0"/>
                        </a:lnTo>
                        <a:lnTo>
                          <a:pt x="3464" y="0"/>
                        </a:lnTo>
                        <a:lnTo>
                          <a:pt x="3492" y="0"/>
                        </a:lnTo>
                        <a:lnTo>
                          <a:pt x="3520" y="0"/>
                        </a:lnTo>
                        <a:lnTo>
                          <a:pt x="3547" y="0"/>
                        </a:lnTo>
                        <a:lnTo>
                          <a:pt x="3589" y="0"/>
                        </a:lnTo>
                        <a:lnTo>
                          <a:pt x="3617" y="0"/>
                        </a:lnTo>
                        <a:lnTo>
                          <a:pt x="3644" y="0"/>
                        </a:lnTo>
                        <a:lnTo>
                          <a:pt x="3672" y="0"/>
                        </a:lnTo>
                        <a:lnTo>
                          <a:pt x="3699" y="0"/>
                        </a:lnTo>
                        <a:lnTo>
                          <a:pt x="3727" y="0"/>
                        </a:lnTo>
                        <a:lnTo>
                          <a:pt x="3769" y="0"/>
                        </a:lnTo>
                        <a:lnTo>
                          <a:pt x="3796" y="0"/>
                        </a:lnTo>
                        <a:lnTo>
                          <a:pt x="3824" y="0"/>
                        </a:lnTo>
                        <a:lnTo>
                          <a:pt x="3852" y="0"/>
                        </a:lnTo>
                        <a:lnTo>
                          <a:pt x="3879" y="0"/>
                        </a:lnTo>
                        <a:lnTo>
                          <a:pt x="3907" y="0"/>
                        </a:lnTo>
                        <a:lnTo>
                          <a:pt x="3962" y="0"/>
                        </a:lnTo>
                        <a:lnTo>
                          <a:pt x="3990" y="0"/>
                        </a:lnTo>
                        <a:lnTo>
                          <a:pt x="4018" y="0"/>
                        </a:lnTo>
                        <a:lnTo>
                          <a:pt x="4045" y="0"/>
                        </a:lnTo>
                        <a:lnTo>
                          <a:pt x="4073" y="0"/>
                        </a:lnTo>
                        <a:lnTo>
                          <a:pt x="4101" y="0"/>
                        </a:lnTo>
                        <a:lnTo>
                          <a:pt x="4142" y="0"/>
                        </a:lnTo>
                        <a:lnTo>
                          <a:pt x="4170" y="0"/>
                        </a:lnTo>
                        <a:lnTo>
                          <a:pt x="4197" y="0"/>
                        </a:lnTo>
                        <a:lnTo>
                          <a:pt x="4226" y="0"/>
                        </a:lnTo>
                        <a:lnTo>
                          <a:pt x="4254" y="0"/>
                        </a:lnTo>
                        <a:lnTo>
                          <a:pt x="4282" y="0"/>
                        </a:lnTo>
                        <a:lnTo>
                          <a:pt x="4323" y="0"/>
                        </a:lnTo>
                        <a:lnTo>
                          <a:pt x="4351" y="0"/>
                        </a:lnTo>
                        <a:lnTo>
                          <a:pt x="4379" y="0"/>
                        </a:lnTo>
                        <a:lnTo>
                          <a:pt x="4406" y="0"/>
                        </a:lnTo>
                        <a:lnTo>
                          <a:pt x="4434" y="0"/>
                        </a:lnTo>
                        <a:lnTo>
                          <a:pt x="4462" y="0"/>
                        </a:lnTo>
                        <a:lnTo>
                          <a:pt x="4503" y="0"/>
                        </a:lnTo>
                        <a:lnTo>
                          <a:pt x="4531" y="0"/>
                        </a:lnTo>
                        <a:lnTo>
                          <a:pt x="4558" y="0"/>
                        </a:lnTo>
                        <a:lnTo>
                          <a:pt x="4586" y="0"/>
                        </a:lnTo>
                        <a:lnTo>
                          <a:pt x="4614" y="0"/>
                        </a:lnTo>
                        <a:lnTo>
                          <a:pt x="4641" y="0"/>
                        </a:lnTo>
                        <a:lnTo>
                          <a:pt x="4683" y="0"/>
                        </a:lnTo>
                        <a:lnTo>
                          <a:pt x="4711" y="0"/>
                        </a:lnTo>
                        <a:lnTo>
                          <a:pt x="4738" y="0"/>
                        </a:lnTo>
                        <a:lnTo>
                          <a:pt x="4766" y="0"/>
                        </a:lnTo>
                        <a:lnTo>
                          <a:pt x="4794" y="0"/>
                        </a:lnTo>
                        <a:lnTo>
                          <a:pt x="4821" y="0"/>
                        </a:lnTo>
                        <a:lnTo>
                          <a:pt x="4863" y="0"/>
                        </a:lnTo>
                        <a:lnTo>
                          <a:pt x="4890" y="0"/>
                        </a:lnTo>
                        <a:lnTo>
                          <a:pt x="4918" y="0"/>
                        </a:lnTo>
                        <a:lnTo>
                          <a:pt x="4946" y="0"/>
                        </a:lnTo>
                        <a:lnTo>
                          <a:pt x="4973" y="0"/>
                        </a:lnTo>
                        <a:lnTo>
                          <a:pt x="5002" y="0"/>
                        </a:lnTo>
                        <a:lnTo>
                          <a:pt x="5044" y="0"/>
                        </a:lnTo>
                        <a:lnTo>
                          <a:pt x="5072" y="0"/>
                        </a:lnTo>
                        <a:lnTo>
                          <a:pt x="5099" y="0"/>
                        </a:lnTo>
                        <a:lnTo>
                          <a:pt x="5127" y="0"/>
                        </a:lnTo>
                        <a:lnTo>
                          <a:pt x="5155" y="0"/>
                        </a:lnTo>
                        <a:lnTo>
                          <a:pt x="5182" y="0"/>
                        </a:lnTo>
                        <a:lnTo>
                          <a:pt x="5210" y="0"/>
                        </a:lnTo>
                        <a:lnTo>
                          <a:pt x="5251" y="0"/>
                        </a:lnTo>
                        <a:lnTo>
                          <a:pt x="5279" y="0"/>
                        </a:lnTo>
                        <a:lnTo>
                          <a:pt x="5307" y="0"/>
                        </a:lnTo>
                        <a:lnTo>
                          <a:pt x="5334" y="0"/>
                        </a:lnTo>
                        <a:lnTo>
                          <a:pt x="5362" y="0"/>
                        </a:lnTo>
                        <a:lnTo>
                          <a:pt x="5390" y="0"/>
                        </a:lnTo>
                        <a:lnTo>
                          <a:pt x="5431" y="0"/>
                        </a:lnTo>
                        <a:lnTo>
                          <a:pt x="5459" y="0"/>
                        </a:lnTo>
                        <a:lnTo>
                          <a:pt x="5486" y="0"/>
                        </a:lnTo>
                        <a:lnTo>
                          <a:pt x="5514" y="0"/>
                        </a:lnTo>
                        <a:lnTo>
                          <a:pt x="5542" y="0"/>
                        </a:lnTo>
                        <a:lnTo>
                          <a:pt x="5569" y="0"/>
                        </a:lnTo>
                        <a:lnTo>
                          <a:pt x="5611" y="0"/>
                        </a:lnTo>
                        <a:lnTo>
                          <a:pt x="5639" y="0"/>
                        </a:lnTo>
                        <a:lnTo>
                          <a:pt x="5666" y="0"/>
                        </a:lnTo>
                        <a:lnTo>
                          <a:pt x="5694" y="0"/>
                        </a:lnTo>
                        <a:lnTo>
                          <a:pt x="5722" y="0"/>
                        </a:lnTo>
                        <a:lnTo>
                          <a:pt x="5749" y="0"/>
                        </a:lnTo>
                        <a:lnTo>
                          <a:pt x="5791" y="0"/>
                        </a:lnTo>
                        <a:lnTo>
                          <a:pt x="5820" y="0"/>
                        </a:lnTo>
                        <a:lnTo>
                          <a:pt x="5847" y="0"/>
                        </a:lnTo>
                        <a:lnTo>
                          <a:pt x="5875" y="0"/>
                        </a:lnTo>
                        <a:lnTo>
                          <a:pt x="5903" y="0"/>
                        </a:lnTo>
                        <a:lnTo>
                          <a:pt x="5930" y="0"/>
                        </a:lnTo>
                        <a:lnTo>
                          <a:pt x="5972" y="0"/>
                        </a:lnTo>
                        <a:lnTo>
                          <a:pt x="6000" y="0"/>
                        </a:lnTo>
                        <a:lnTo>
                          <a:pt x="6027" y="0"/>
                        </a:lnTo>
                        <a:lnTo>
                          <a:pt x="6055" y="0"/>
                        </a:lnTo>
                        <a:lnTo>
                          <a:pt x="6083" y="0"/>
                        </a:lnTo>
                        <a:lnTo>
                          <a:pt x="6110" y="0"/>
                        </a:lnTo>
                        <a:lnTo>
                          <a:pt x="6152" y="0"/>
                        </a:lnTo>
                        <a:lnTo>
                          <a:pt x="6179" y="0"/>
                        </a:lnTo>
                        <a:lnTo>
                          <a:pt x="6207" y="0"/>
                        </a:lnTo>
                        <a:lnTo>
                          <a:pt x="6235" y="0"/>
                        </a:lnTo>
                        <a:lnTo>
                          <a:pt x="6262" y="0"/>
                        </a:lnTo>
                        <a:lnTo>
                          <a:pt x="6290" y="0"/>
                        </a:lnTo>
                        <a:lnTo>
                          <a:pt x="6332" y="0"/>
                        </a:lnTo>
                        <a:lnTo>
                          <a:pt x="6359" y="0"/>
                        </a:lnTo>
                        <a:lnTo>
                          <a:pt x="6387" y="0"/>
                        </a:lnTo>
                        <a:lnTo>
                          <a:pt x="6415" y="0"/>
                        </a:lnTo>
                        <a:lnTo>
                          <a:pt x="6442" y="0"/>
                        </a:lnTo>
                        <a:lnTo>
                          <a:pt x="6470" y="0"/>
                        </a:lnTo>
                        <a:lnTo>
                          <a:pt x="6511" y="0"/>
                        </a:lnTo>
                        <a:lnTo>
                          <a:pt x="6539" y="0"/>
                        </a:lnTo>
                        <a:lnTo>
                          <a:pt x="6567" y="0"/>
                        </a:lnTo>
                        <a:lnTo>
                          <a:pt x="6596" y="0"/>
                        </a:lnTo>
                        <a:lnTo>
                          <a:pt x="6637" y="0"/>
                        </a:lnTo>
                        <a:lnTo>
                          <a:pt x="6665" y="0"/>
                        </a:lnTo>
                        <a:lnTo>
                          <a:pt x="6706" y="0"/>
                        </a:lnTo>
                        <a:lnTo>
                          <a:pt x="6734" y="0"/>
                        </a:lnTo>
                        <a:lnTo>
                          <a:pt x="6762" y="0"/>
                        </a:lnTo>
                        <a:lnTo>
                          <a:pt x="6789" y="0"/>
                        </a:lnTo>
                        <a:lnTo>
                          <a:pt x="6817" y="0"/>
                        </a:lnTo>
                        <a:lnTo>
                          <a:pt x="6845" y="0"/>
                        </a:lnTo>
                        <a:lnTo>
                          <a:pt x="6886" y="0"/>
                        </a:lnTo>
                        <a:lnTo>
                          <a:pt x="6914" y="0"/>
                        </a:lnTo>
                        <a:lnTo>
                          <a:pt x="6942" y="0"/>
                        </a:lnTo>
                        <a:lnTo>
                          <a:pt x="6969" y="0"/>
                        </a:lnTo>
                        <a:lnTo>
                          <a:pt x="6997" y="0"/>
                        </a:lnTo>
                        <a:lnTo>
                          <a:pt x="7025" y="0"/>
                        </a:lnTo>
                        <a:lnTo>
                          <a:pt x="7066" y="0"/>
                        </a:lnTo>
                        <a:lnTo>
                          <a:pt x="7094" y="0"/>
                        </a:lnTo>
                        <a:lnTo>
                          <a:pt x="7121" y="0"/>
                        </a:lnTo>
                        <a:lnTo>
                          <a:pt x="7149" y="0"/>
                        </a:lnTo>
                        <a:lnTo>
                          <a:pt x="7177" y="0"/>
                        </a:lnTo>
                        <a:lnTo>
                          <a:pt x="7204" y="0"/>
                        </a:lnTo>
                        <a:lnTo>
                          <a:pt x="7246" y="0"/>
                        </a:lnTo>
                        <a:lnTo>
                          <a:pt x="7273" y="0"/>
                        </a:lnTo>
                        <a:lnTo>
                          <a:pt x="7301" y="0"/>
                        </a:lnTo>
                        <a:lnTo>
                          <a:pt x="7329" y="0"/>
                        </a:lnTo>
                        <a:lnTo>
                          <a:pt x="7356" y="0"/>
                        </a:lnTo>
                        <a:lnTo>
                          <a:pt x="7384" y="0"/>
                        </a:lnTo>
                        <a:lnTo>
                          <a:pt x="7427" y="0"/>
                        </a:lnTo>
                        <a:lnTo>
                          <a:pt x="7455" y="0"/>
                        </a:lnTo>
                        <a:lnTo>
                          <a:pt x="7482" y="0"/>
                        </a:lnTo>
                        <a:lnTo>
                          <a:pt x="7510" y="0"/>
                        </a:lnTo>
                        <a:lnTo>
                          <a:pt x="7538" y="0"/>
                        </a:lnTo>
                        <a:lnTo>
                          <a:pt x="7565" y="0"/>
                        </a:lnTo>
                        <a:lnTo>
                          <a:pt x="7593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5014800" y="3855960"/>
                    <a:ext cx="40179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7593" h="0">
                        <a:moveTo>
                          <a:pt x="0" y="0"/>
                        </a:moveTo>
                        <a:lnTo>
                          <a:pt x="27" y="0"/>
                        </a:lnTo>
                        <a:lnTo>
                          <a:pt x="55" y="0"/>
                        </a:lnTo>
                        <a:lnTo>
                          <a:pt x="83" y="0"/>
                        </a:lnTo>
                        <a:lnTo>
                          <a:pt x="124" y="0"/>
                        </a:lnTo>
                        <a:lnTo>
                          <a:pt x="152" y="0"/>
                        </a:lnTo>
                        <a:lnTo>
                          <a:pt x="179" y="0"/>
                        </a:lnTo>
                        <a:lnTo>
                          <a:pt x="207" y="0"/>
                        </a:lnTo>
                        <a:lnTo>
                          <a:pt x="236" y="0"/>
                        </a:lnTo>
                        <a:lnTo>
                          <a:pt x="264" y="0"/>
                        </a:lnTo>
                        <a:lnTo>
                          <a:pt x="305" y="0"/>
                        </a:lnTo>
                        <a:lnTo>
                          <a:pt x="333" y="0"/>
                        </a:lnTo>
                        <a:lnTo>
                          <a:pt x="361" y="0"/>
                        </a:lnTo>
                        <a:lnTo>
                          <a:pt x="388" y="0"/>
                        </a:lnTo>
                        <a:lnTo>
                          <a:pt x="416" y="0"/>
                        </a:lnTo>
                        <a:lnTo>
                          <a:pt x="444" y="0"/>
                        </a:lnTo>
                        <a:lnTo>
                          <a:pt x="485" y="0"/>
                        </a:lnTo>
                        <a:lnTo>
                          <a:pt x="513" y="0"/>
                        </a:lnTo>
                        <a:lnTo>
                          <a:pt x="540" y="0"/>
                        </a:lnTo>
                        <a:lnTo>
                          <a:pt x="568" y="0"/>
                        </a:lnTo>
                        <a:lnTo>
                          <a:pt x="596" y="0"/>
                        </a:lnTo>
                        <a:lnTo>
                          <a:pt x="623" y="0"/>
                        </a:lnTo>
                        <a:lnTo>
                          <a:pt x="665" y="0"/>
                        </a:lnTo>
                        <a:lnTo>
                          <a:pt x="693" y="0"/>
                        </a:lnTo>
                        <a:lnTo>
                          <a:pt x="720" y="0"/>
                        </a:lnTo>
                        <a:lnTo>
                          <a:pt x="748" y="0"/>
                        </a:lnTo>
                        <a:lnTo>
                          <a:pt x="776" y="0"/>
                        </a:lnTo>
                        <a:lnTo>
                          <a:pt x="803" y="0"/>
                        </a:lnTo>
                        <a:lnTo>
                          <a:pt x="845" y="0"/>
                        </a:lnTo>
                        <a:lnTo>
                          <a:pt x="872" y="0"/>
                        </a:lnTo>
                        <a:lnTo>
                          <a:pt x="900" y="0"/>
                        </a:lnTo>
                        <a:lnTo>
                          <a:pt x="928" y="0"/>
                        </a:lnTo>
                        <a:lnTo>
                          <a:pt x="955" y="0"/>
                        </a:lnTo>
                        <a:lnTo>
                          <a:pt x="983" y="0"/>
                        </a:lnTo>
                        <a:lnTo>
                          <a:pt x="1026" y="0"/>
                        </a:lnTo>
                        <a:lnTo>
                          <a:pt x="1054" y="0"/>
                        </a:lnTo>
                        <a:lnTo>
                          <a:pt x="1081" y="0"/>
                        </a:lnTo>
                        <a:lnTo>
                          <a:pt x="1109" y="0"/>
                        </a:lnTo>
                        <a:lnTo>
                          <a:pt x="1137" y="0"/>
                        </a:lnTo>
                        <a:lnTo>
                          <a:pt x="1164" y="0"/>
                        </a:lnTo>
                        <a:lnTo>
                          <a:pt x="1206" y="0"/>
                        </a:lnTo>
                        <a:lnTo>
                          <a:pt x="1233" y="0"/>
                        </a:lnTo>
                        <a:lnTo>
                          <a:pt x="1261" y="0"/>
                        </a:lnTo>
                        <a:lnTo>
                          <a:pt x="1303" y="0"/>
                        </a:lnTo>
                        <a:lnTo>
                          <a:pt x="1330" y="0"/>
                        </a:lnTo>
                        <a:lnTo>
                          <a:pt x="1358" y="0"/>
                        </a:lnTo>
                        <a:lnTo>
                          <a:pt x="1399" y="0"/>
                        </a:lnTo>
                        <a:lnTo>
                          <a:pt x="1427" y="0"/>
                        </a:lnTo>
                        <a:lnTo>
                          <a:pt x="1455" y="0"/>
                        </a:lnTo>
                        <a:lnTo>
                          <a:pt x="1482" y="0"/>
                        </a:lnTo>
                        <a:lnTo>
                          <a:pt x="1510" y="0"/>
                        </a:lnTo>
                        <a:lnTo>
                          <a:pt x="1538" y="0"/>
                        </a:lnTo>
                        <a:lnTo>
                          <a:pt x="1579" y="0"/>
                        </a:lnTo>
                        <a:lnTo>
                          <a:pt x="1607" y="0"/>
                        </a:lnTo>
                        <a:lnTo>
                          <a:pt x="1634" y="0"/>
                        </a:lnTo>
                        <a:lnTo>
                          <a:pt x="1662" y="0"/>
                        </a:lnTo>
                        <a:lnTo>
                          <a:pt x="1690" y="0"/>
                        </a:lnTo>
                        <a:lnTo>
                          <a:pt x="1717" y="0"/>
                        </a:lnTo>
                        <a:lnTo>
                          <a:pt x="1759" y="0"/>
                        </a:lnTo>
                        <a:lnTo>
                          <a:pt x="1787" y="0"/>
                        </a:lnTo>
                        <a:lnTo>
                          <a:pt x="1816" y="0"/>
                        </a:lnTo>
                        <a:lnTo>
                          <a:pt x="1843" y="0"/>
                        </a:lnTo>
                        <a:lnTo>
                          <a:pt x="1871" y="0"/>
                        </a:lnTo>
                        <a:lnTo>
                          <a:pt x="1899" y="0"/>
                        </a:lnTo>
                        <a:lnTo>
                          <a:pt x="1940" y="0"/>
                        </a:lnTo>
                        <a:lnTo>
                          <a:pt x="1968" y="0"/>
                        </a:lnTo>
                        <a:lnTo>
                          <a:pt x="1995" y="0"/>
                        </a:lnTo>
                        <a:lnTo>
                          <a:pt x="2023" y="0"/>
                        </a:lnTo>
                        <a:lnTo>
                          <a:pt x="2051" y="0"/>
                        </a:lnTo>
                        <a:lnTo>
                          <a:pt x="2078" y="0"/>
                        </a:lnTo>
                        <a:lnTo>
                          <a:pt x="2120" y="0"/>
                        </a:lnTo>
                        <a:lnTo>
                          <a:pt x="2148" y="0"/>
                        </a:lnTo>
                        <a:lnTo>
                          <a:pt x="2175" y="0"/>
                        </a:lnTo>
                        <a:lnTo>
                          <a:pt x="2203" y="0"/>
                        </a:lnTo>
                        <a:lnTo>
                          <a:pt x="2231" y="0"/>
                        </a:lnTo>
                        <a:lnTo>
                          <a:pt x="2258" y="0"/>
                        </a:lnTo>
                        <a:lnTo>
                          <a:pt x="2300" y="0"/>
                        </a:lnTo>
                        <a:lnTo>
                          <a:pt x="2327" y="0"/>
                        </a:lnTo>
                        <a:lnTo>
                          <a:pt x="2355" y="0"/>
                        </a:lnTo>
                        <a:lnTo>
                          <a:pt x="2383" y="0"/>
                        </a:lnTo>
                        <a:lnTo>
                          <a:pt x="2410" y="0"/>
                        </a:lnTo>
                        <a:lnTo>
                          <a:pt x="2438" y="0"/>
                        </a:lnTo>
                        <a:lnTo>
                          <a:pt x="2480" y="0"/>
                        </a:lnTo>
                        <a:lnTo>
                          <a:pt x="2507" y="0"/>
                        </a:lnTo>
                        <a:lnTo>
                          <a:pt x="2535" y="0"/>
                        </a:lnTo>
                        <a:lnTo>
                          <a:pt x="2563" y="0"/>
                        </a:lnTo>
                        <a:lnTo>
                          <a:pt x="2590" y="0"/>
                        </a:lnTo>
                        <a:lnTo>
                          <a:pt x="2619" y="0"/>
                        </a:lnTo>
                        <a:lnTo>
                          <a:pt x="2647" y="0"/>
                        </a:lnTo>
                        <a:lnTo>
                          <a:pt x="2688" y="0"/>
                        </a:lnTo>
                        <a:lnTo>
                          <a:pt x="2716" y="0"/>
                        </a:lnTo>
                        <a:lnTo>
                          <a:pt x="2744" y="0"/>
                        </a:lnTo>
                        <a:lnTo>
                          <a:pt x="2771" y="0"/>
                        </a:lnTo>
                        <a:lnTo>
                          <a:pt x="2799" y="0"/>
                        </a:lnTo>
                        <a:lnTo>
                          <a:pt x="2827" y="0"/>
                        </a:lnTo>
                        <a:lnTo>
                          <a:pt x="2868" y="0"/>
                        </a:lnTo>
                        <a:lnTo>
                          <a:pt x="2896" y="0"/>
                        </a:lnTo>
                        <a:lnTo>
                          <a:pt x="2924" y="0"/>
                        </a:lnTo>
                        <a:lnTo>
                          <a:pt x="2951" y="0"/>
                        </a:lnTo>
                        <a:lnTo>
                          <a:pt x="2979" y="0"/>
                        </a:lnTo>
                        <a:lnTo>
                          <a:pt x="3007" y="0"/>
                        </a:lnTo>
                        <a:lnTo>
                          <a:pt x="3048" y="0"/>
                        </a:lnTo>
                        <a:lnTo>
                          <a:pt x="3076" y="0"/>
                        </a:lnTo>
                        <a:lnTo>
                          <a:pt x="3103" y="0"/>
                        </a:lnTo>
                        <a:lnTo>
                          <a:pt x="3131" y="0"/>
                        </a:lnTo>
                        <a:lnTo>
                          <a:pt x="3159" y="0"/>
                        </a:lnTo>
                        <a:lnTo>
                          <a:pt x="3186" y="0"/>
                        </a:lnTo>
                        <a:lnTo>
                          <a:pt x="3228" y="0"/>
                        </a:lnTo>
                        <a:lnTo>
                          <a:pt x="3256" y="0"/>
                        </a:lnTo>
                        <a:lnTo>
                          <a:pt x="3283" y="0"/>
                        </a:lnTo>
                        <a:lnTo>
                          <a:pt x="3311" y="0"/>
                        </a:lnTo>
                        <a:lnTo>
                          <a:pt x="3338" y="0"/>
                        </a:lnTo>
                        <a:lnTo>
                          <a:pt x="3366" y="0"/>
                        </a:lnTo>
                        <a:lnTo>
                          <a:pt x="3409" y="0"/>
                        </a:lnTo>
                        <a:lnTo>
                          <a:pt x="3437" y="0"/>
                        </a:lnTo>
                        <a:lnTo>
                          <a:pt x="3464" y="0"/>
                        </a:lnTo>
                        <a:lnTo>
                          <a:pt x="3492" y="0"/>
                        </a:lnTo>
                        <a:lnTo>
                          <a:pt x="3520" y="0"/>
                        </a:lnTo>
                        <a:lnTo>
                          <a:pt x="3547" y="0"/>
                        </a:lnTo>
                        <a:lnTo>
                          <a:pt x="3589" y="0"/>
                        </a:lnTo>
                        <a:lnTo>
                          <a:pt x="3617" y="0"/>
                        </a:lnTo>
                        <a:lnTo>
                          <a:pt x="3644" y="0"/>
                        </a:lnTo>
                        <a:lnTo>
                          <a:pt x="3672" y="0"/>
                        </a:lnTo>
                        <a:lnTo>
                          <a:pt x="3699" y="0"/>
                        </a:lnTo>
                        <a:lnTo>
                          <a:pt x="3727" y="0"/>
                        </a:lnTo>
                        <a:lnTo>
                          <a:pt x="3769" y="0"/>
                        </a:lnTo>
                        <a:lnTo>
                          <a:pt x="3796" y="0"/>
                        </a:lnTo>
                        <a:lnTo>
                          <a:pt x="3824" y="0"/>
                        </a:lnTo>
                        <a:lnTo>
                          <a:pt x="3852" y="0"/>
                        </a:lnTo>
                        <a:lnTo>
                          <a:pt x="3879" y="0"/>
                        </a:lnTo>
                        <a:lnTo>
                          <a:pt x="3907" y="0"/>
                        </a:lnTo>
                        <a:lnTo>
                          <a:pt x="3962" y="0"/>
                        </a:lnTo>
                        <a:lnTo>
                          <a:pt x="3990" y="0"/>
                        </a:lnTo>
                        <a:lnTo>
                          <a:pt x="4018" y="0"/>
                        </a:lnTo>
                        <a:lnTo>
                          <a:pt x="4045" y="0"/>
                        </a:lnTo>
                        <a:lnTo>
                          <a:pt x="4073" y="0"/>
                        </a:lnTo>
                        <a:lnTo>
                          <a:pt x="4101" y="0"/>
                        </a:lnTo>
                        <a:lnTo>
                          <a:pt x="4142" y="0"/>
                        </a:lnTo>
                        <a:lnTo>
                          <a:pt x="4170" y="0"/>
                        </a:lnTo>
                        <a:lnTo>
                          <a:pt x="4197" y="0"/>
                        </a:lnTo>
                        <a:lnTo>
                          <a:pt x="4226" y="0"/>
                        </a:lnTo>
                        <a:lnTo>
                          <a:pt x="4254" y="0"/>
                        </a:lnTo>
                        <a:lnTo>
                          <a:pt x="4282" y="0"/>
                        </a:lnTo>
                        <a:lnTo>
                          <a:pt x="4323" y="0"/>
                        </a:lnTo>
                        <a:lnTo>
                          <a:pt x="4351" y="0"/>
                        </a:lnTo>
                        <a:lnTo>
                          <a:pt x="4379" y="0"/>
                        </a:lnTo>
                        <a:lnTo>
                          <a:pt x="4406" y="0"/>
                        </a:lnTo>
                        <a:lnTo>
                          <a:pt x="4434" y="0"/>
                        </a:lnTo>
                        <a:lnTo>
                          <a:pt x="4462" y="0"/>
                        </a:lnTo>
                        <a:lnTo>
                          <a:pt x="4503" y="0"/>
                        </a:lnTo>
                        <a:lnTo>
                          <a:pt x="4531" y="0"/>
                        </a:lnTo>
                        <a:lnTo>
                          <a:pt x="4558" y="0"/>
                        </a:lnTo>
                        <a:lnTo>
                          <a:pt x="4586" y="0"/>
                        </a:lnTo>
                        <a:lnTo>
                          <a:pt x="4614" y="0"/>
                        </a:lnTo>
                        <a:lnTo>
                          <a:pt x="4641" y="0"/>
                        </a:lnTo>
                        <a:lnTo>
                          <a:pt x="4683" y="0"/>
                        </a:lnTo>
                        <a:lnTo>
                          <a:pt x="4711" y="0"/>
                        </a:lnTo>
                        <a:lnTo>
                          <a:pt x="4738" y="0"/>
                        </a:lnTo>
                        <a:lnTo>
                          <a:pt x="4766" y="0"/>
                        </a:lnTo>
                        <a:lnTo>
                          <a:pt x="4794" y="0"/>
                        </a:lnTo>
                        <a:lnTo>
                          <a:pt x="4821" y="0"/>
                        </a:lnTo>
                        <a:lnTo>
                          <a:pt x="4863" y="0"/>
                        </a:lnTo>
                        <a:lnTo>
                          <a:pt x="4890" y="0"/>
                        </a:lnTo>
                        <a:lnTo>
                          <a:pt x="4918" y="0"/>
                        </a:lnTo>
                        <a:lnTo>
                          <a:pt x="4946" y="0"/>
                        </a:lnTo>
                        <a:lnTo>
                          <a:pt x="4973" y="0"/>
                        </a:lnTo>
                        <a:lnTo>
                          <a:pt x="5002" y="0"/>
                        </a:lnTo>
                        <a:lnTo>
                          <a:pt x="5044" y="0"/>
                        </a:lnTo>
                        <a:lnTo>
                          <a:pt x="5072" y="0"/>
                        </a:lnTo>
                        <a:lnTo>
                          <a:pt x="5099" y="0"/>
                        </a:lnTo>
                        <a:lnTo>
                          <a:pt x="5127" y="0"/>
                        </a:lnTo>
                        <a:lnTo>
                          <a:pt x="5155" y="0"/>
                        </a:lnTo>
                        <a:lnTo>
                          <a:pt x="5182" y="0"/>
                        </a:lnTo>
                        <a:lnTo>
                          <a:pt x="5210" y="0"/>
                        </a:lnTo>
                        <a:lnTo>
                          <a:pt x="5251" y="0"/>
                        </a:lnTo>
                        <a:lnTo>
                          <a:pt x="5279" y="0"/>
                        </a:lnTo>
                        <a:lnTo>
                          <a:pt x="5307" y="0"/>
                        </a:lnTo>
                        <a:lnTo>
                          <a:pt x="5334" y="0"/>
                        </a:lnTo>
                        <a:lnTo>
                          <a:pt x="5362" y="0"/>
                        </a:lnTo>
                        <a:lnTo>
                          <a:pt x="5390" y="0"/>
                        </a:lnTo>
                        <a:lnTo>
                          <a:pt x="5431" y="0"/>
                        </a:lnTo>
                        <a:lnTo>
                          <a:pt x="5459" y="0"/>
                        </a:lnTo>
                        <a:lnTo>
                          <a:pt x="5486" y="0"/>
                        </a:lnTo>
                        <a:lnTo>
                          <a:pt x="5514" y="0"/>
                        </a:lnTo>
                        <a:lnTo>
                          <a:pt x="5542" y="0"/>
                        </a:lnTo>
                        <a:lnTo>
                          <a:pt x="5569" y="0"/>
                        </a:lnTo>
                        <a:lnTo>
                          <a:pt x="5611" y="0"/>
                        </a:lnTo>
                        <a:lnTo>
                          <a:pt x="5639" y="0"/>
                        </a:lnTo>
                        <a:lnTo>
                          <a:pt x="5666" y="0"/>
                        </a:lnTo>
                        <a:lnTo>
                          <a:pt x="5694" y="0"/>
                        </a:lnTo>
                        <a:lnTo>
                          <a:pt x="5722" y="0"/>
                        </a:lnTo>
                        <a:lnTo>
                          <a:pt x="5749" y="0"/>
                        </a:lnTo>
                        <a:lnTo>
                          <a:pt x="5791" y="0"/>
                        </a:lnTo>
                        <a:lnTo>
                          <a:pt x="5820" y="0"/>
                        </a:lnTo>
                        <a:lnTo>
                          <a:pt x="5847" y="0"/>
                        </a:lnTo>
                        <a:lnTo>
                          <a:pt x="5875" y="0"/>
                        </a:lnTo>
                        <a:lnTo>
                          <a:pt x="5903" y="0"/>
                        </a:lnTo>
                        <a:lnTo>
                          <a:pt x="5930" y="0"/>
                        </a:lnTo>
                        <a:lnTo>
                          <a:pt x="5972" y="0"/>
                        </a:lnTo>
                        <a:lnTo>
                          <a:pt x="6000" y="0"/>
                        </a:lnTo>
                        <a:lnTo>
                          <a:pt x="6027" y="0"/>
                        </a:lnTo>
                        <a:lnTo>
                          <a:pt x="6055" y="0"/>
                        </a:lnTo>
                        <a:lnTo>
                          <a:pt x="6083" y="0"/>
                        </a:lnTo>
                        <a:lnTo>
                          <a:pt x="6110" y="0"/>
                        </a:lnTo>
                        <a:lnTo>
                          <a:pt x="6152" y="0"/>
                        </a:lnTo>
                        <a:lnTo>
                          <a:pt x="6179" y="0"/>
                        </a:lnTo>
                        <a:lnTo>
                          <a:pt x="6207" y="0"/>
                        </a:lnTo>
                        <a:lnTo>
                          <a:pt x="6235" y="0"/>
                        </a:lnTo>
                        <a:lnTo>
                          <a:pt x="6262" y="0"/>
                        </a:lnTo>
                        <a:lnTo>
                          <a:pt x="6290" y="0"/>
                        </a:lnTo>
                        <a:lnTo>
                          <a:pt x="6332" y="0"/>
                        </a:lnTo>
                        <a:lnTo>
                          <a:pt x="6359" y="0"/>
                        </a:lnTo>
                        <a:lnTo>
                          <a:pt x="6387" y="0"/>
                        </a:lnTo>
                        <a:lnTo>
                          <a:pt x="6415" y="0"/>
                        </a:lnTo>
                        <a:lnTo>
                          <a:pt x="6442" y="0"/>
                        </a:lnTo>
                        <a:lnTo>
                          <a:pt x="6470" y="0"/>
                        </a:lnTo>
                        <a:lnTo>
                          <a:pt x="6511" y="0"/>
                        </a:lnTo>
                        <a:lnTo>
                          <a:pt x="6539" y="0"/>
                        </a:lnTo>
                        <a:lnTo>
                          <a:pt x="6567" y="0"/>
                        </a:lnTo>
                        <a:lnTo>
                          <a:pt x="6596" y="0"/>
                        </a:lnTo>
                        <a:lnTo>
                          <a:pt x="6637" y="0"/>
                        </a:lnTo>
                        <a:lnTo>
                          <a:pt x="6665" y="0"/>
                        </a:lnTo>
                        <a:lnTo>
                          <a:pt x="6706" y="0"/>
                        </a:lnTo>
                        <a:lnTo>
                          <a:pt x="6734" y="0"/>
                        </a:lnTo>
                        <a:lnTo>
                          <a:pt x="6762" y="0"/>
                        </a:lnTo>
                        <a:lnTo>
                          <a:pt x="6789" y="0"/>
                        </a:lnTo>
                        <a:lnTo>
                          <a:pt x="6817" y="0"/>
                        </a:lnTo>
                        <a:lnTo>
                          <a:pt x="6845" y="0"/>
                        </a:lnTo>
                        <a:lnTo>
                          <a:pt x="6886" y="0"/>
                        </a:lnTo>
                        <a:lnTo>
                          <a:pt x="6914" y="0"/>
                        </a:lnTo>
                        <a:lnTo>
                          <a:pt x="6942" y="0"/>
                        </a:lnTo>
                        <a:lnTo>
                          <a:pt x="6969" y="0"/>
                        </a:lnTo>
                        <a:lnTo>
                          <a:pt x="6997" y="0"/>
                        </a:lnTo>
                        <a:lnTo>
                          <a:pt x="7025" y="0"/>
                        </a:lnTo>
                        <a:lnTo>
                          <a:pt x="7066" y="0"/>
                        </a:lnTo>
                        <a:lnTo>
                          <a:pt x="7094" y="0"/>
                        </a:lnTo>
                        <a:lnTo>
                          <a:pt x="7121" y="0"/>
                        </a:lnTo>
                        <a:lnTo>
                          <a:pt x="7149" y="0"/>
                        </a:lnTo>
                        <a:lnTo>
                          <a:pt x="7177" y="0"/>
                        </a:lnTo>
                        <a:lnTo>
                          <a:pt x="7204" y="0"/>
                        </a:lnTo>
                        <a:lnTo>
                          <a:pt x="7246" y="0"/>
                        </a:lnTo>
                        <a:lnTo>
                          <a:pt x="7273" y="0"/>
                        </a:lnTo>
                        <a:lnTo>
                          <a:pt x="7301" y="0"/>
                        </a:lnTo>
                        <a:lnTo>
                          <a:pt x="7329" y="0"/>
                        </a:lnTo>
                        <a:lnTo>
                          <a:pt x="7356" y="0"/>
                        </a:lnTo>
                        <a:lnTo>
                          <a:pt x="7384" y="0"/>
                        </a:lnTo>
                        <a:lnTo>
                          <a:pt x="7427" y="0"/>
                        </a:lnTo>
                        <a:lnTo>
                          <a:pt x="7455" y="0"/>
                        </a:lnTo>
                        <a:lnTo>
                          <a:pt x="7482" y="0"/>
                        </a:lnTo>
                        <a:lnTo>
                          <a:pt x="7510" y="0"/>
                        </a:lnTo>
                        <a:lnTo>
                          <a:pt x="7538" y="0"/>
                        </a:lnTo>
                        <a:lnTo>
                          <a:pt x="7565" y="0"/>
                        </a:lnTo>
                        <a:lnTo>
                          <a:pt x="759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1" name=""/>
                <p:cNvGrpSpPr/>
                <p:nvPr/>
              </p:nvGrpSpPr>
              <p:grpSpPr>
                <a:xfrm>
                  <a:off x="4992840" y="3638520"/>
                  <a:ext cx="4062240" cy="1440"/>
                  <a:chOff x="4992840" y="3638520"/>
                  <a:chExt cx="4062240" cy="1440"/>
                </a:xfrm>
              </p:grpSpPr>
              <p:sp>
                <p:nvSpPr>
                  <p:cNvPr id="642" name=""/>
                  <p:cNvSpPr/>
                  <p:nvPr/>
                </p:nvSpPr>
                <p:spPr>
                  <a:xfrm>
                    <a:off x="4992840" y="3638520"/>
                    <a:ext cx="4062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7676" h="0">
                        <a:moveTo>
                          <a:pt x="0" y="0"/>
                        </a:moveTo>
                        <a:lnTo>
                          <a:pt x="28" y="0"/>
                        </a:lnTo>
                        <a:lnTo>
                          <a:pt x="69" y="0"/>
                        </a:lnTo>
                        <a:lnTo>
                          <a:pt x="97" y="0"/>
                        </a:lnTo>
                        <a:lnTo>
                          <a:pt x="125" y="0"/>
                        </a:lnTo>
                        <a:lnTo>
                          <a:pt x="152" y="0"/>
                        </a:lnTo>
                        <a:lnTo>
                          <a:pt x="180" y="0"/>
                        </a:lnTo>
                        <a:lnTo>
                          <a:pt x="208" y="0"/>
                        </a:lnTo>
                        <a:lnTo>
                          <a:pt x="249" y="0"/>
                        </a:lnTo>
                        <a:lnTo>
                          <a:pt x="278" y="0"/>
                        </a:lnTo>
                        <a:lnTo>
                          <a:pt x="306" y="0"/>
                        </a:lnTo>
                        <a:lnTo>
                          <a:pt x="333" y="0"/>
                        </a:lnTo>
                        <a:lnTo>
                          <a:pt x="361" y="0"/>
                        </a:lnTo>
                        <a:lnTo>
                          <a:pt x="389" y="0"/>
                        </a:lnTo>
                        <a:lnTo>
                          <a:pt x="430" y="0"/>
                        </a:lnTo>
                        <a:lnTo>
                          <a:pt x="458" y="0"/>
                        </a:lnTo>
                        <a:lnTo>
                          <a:pt x="486" y="0"/>
                        </a:lnTo>
                        <a:lnTo>
                          <a:pt x="513" y="0"/>
                        </a:lnTo>
                        <a:lnTo>
                          <a:pt x="541" y="0"/>
                        </a:lnTo>
                        <a:lnTo>
                          <a:pt x="569" y="0"/>
                        </a:lnTo>
                        <a:lnTo>
                          <a:pt x="596" y="0"/>
                        </a:lnTo>
                        <a:lnTo>
                          <a:pt x="638" y="0"/>
                        </a:lnTo>
                        <a:lnTo>
                          <a:pt x="665" y="0"/>
                        </a:lnTo>
                        <a:lnTo>
                          <a:pt x="693" y="0"/>
                        </a:lnTo>
                        <a:lnTo>
                          <a:pt x="721" y="0"/>
                        </a:lnTo>
                        <a:lnTo>
                          <a:pt x="748" y="0"/>
                        </a:lnTo>
                        <a:lnTo>
                          <a:pt x="776" y="0"/>
                        </a:lnTo>
                        <a:lnTo>
                          <a:pt x="818" y="0"/>
                        </a:lnTo>
                        <a:lnTo>
                          <a:pt x="845" y="0"/>
                        </a:lnTo>
                        <a:lnTo>
                          <a:pt x="873" y="0"/>
                        </a:lnTo>
                        <a:lnTo>
                          <a:pt x="901" y="0"/>
                        </a:lnTo>
                        <a:lnTo>
                          <a:pt x="928" y="0"/>
                        </a:lnTo>
                        <a:lnTo>
                          <a:pt x="956" y="0"/>
                        </a:lnTo>
                        <a:lnTo>
                          <a:pt x="997" y="0"/>
                        </a:lnTo>
                        <a:lnTo>
                          <a:pt x="1025" y="0"/>
                        </a:lnTo>
                        <a:lnTo>
                          <a:pt x="1053" y="0"/>
                        </a:lnTo>
                        <a:lnTo>
                          <a:pt x="1082" y="0"/>
                        </a:lnTo>
                        <a:lnTo>
                          <a:pt x="1109" y="0"/>
                        </a:lnTo>
                        <a:lnTo>
                          <a:pt x="1137" y="0"/>
                        </a:lnTo>
                        <a:lnTo>
                          <a:pt x="1179" y="0"/>
                        </a:lnTo>
                        <a:lnTo>
                          <a:pt x="1206" y="0"/>
                        </a:lnTo>
                        <a:lnTo>
                          <a:pt x="1234" y="0"/>
                        </a:lnTo>
                        <a:lnTo>
                          <a:pt x="1262" y="0"/>
                        </a:lnTo>
                        <a:lnTo>
                          <a:pt x="1289" y="0"/>
                        </a:lnTo>
                        <a:lnTo>
                          <a:pt x="1317" y="0"/>
                        </a:lnTo>
                        <a:lnTo>
                          <a:pt x="1358" y="0"/>
                        </a:lnTo>
                        <a:lnTo>
                          <a:pt x="1400" y="0"/>
                        </a:lnTo>
                        <a:lnTo>
                          <a:pt x="1428" y="0"/>
                        </a:lnTo>
                        <a:lnTo>
                          <a:pt x="1455" y="0"/>
                        </a:lnTo>
                        <a:lnTo>
                          <a:pt x="1483" y="0"/>
                        </a:lnTo>
                        <a:lnTo>
                          <a:pt x="1511" y="0"/>
                        </a:lnTo>
                        <a:lnTo>
                          <a:pt x="1538" y="0"/>
                        </a:lnTo>
                        <a:lnTo>
                          <a:pt x="1580" y="0"/>
                        </a:lnTo>
                        <a:lnTo>
                          <a:pt x="1607" y="0"/>
                        </a:lnTo>
                        <a:lnTo>
                          <a:pt x="1635" y="0"/>
                        </a:lnTo>
                        <a:lnTo>
                          <a:pt x="1663" y="0"/>
                        </a:lnTo>
                        <a:lnTo>
                          <a:pt x="1690" y="0"/>
                        </a:lnTo>
                        <a:lnTo>
                          <a:pt x="1718" y="0"/>
                        </a:lnTo>
                        <a:lnTo>
                          <a:pt x="1759" y="0"/>
                        </a:lnTo>
                        <a:lnTo>
                          <a:pt x="1787" y="0"/>
                        </a:lnTo>
                        <a:lnTo>
                          <a:pt x="1815" y="0"/>
                        </a:lnTo>
                        <a:lnTo>
                          <a:pt x="1842" y="0"/>
                        </a:lnTo>
                        <a:lnTo>
                          <a:pt x="1872" y="0"/>
                        </a:lnTo>
                        <a:lnTo>
                          <a:pt x="1899" y="0"/>
                        </a:lnTo>
                        <a:lnTo>
                          <a:pt x="1941" y="0"/>
                        </a:lnTo>
                        <a:lnTo>
                          <a:pt x="1968" y="0"/>
                        </a:lnTo>
                        <a:lnTo>
                          <a:pt x="1996" y="0"/>
                        </a:lnTo>
                        <a:lnTo>
                          <a:pt x="2024" y="0"/>
                        </a:lnTo>
                        <a:lnTo>
                          <a:pt x="2051" y="0"/>
                        </a:lnTo>
                        <a:lnTo>
                          <a:pt x="2079" y="0"/>
                        </a:lnTo>
                        <a:lnTo>
                          <a:pt x="2120" y="0"/>
                        </a:lnTo>
                        <a:lnTo>
                          <a:pt x="2148" y="0"/>
                        </a:lnTo>
                        <a:lnTo>
                          <a:pt x="2176" y="0"/>
                        </a:lnTo>
                        <a:lnTo>
                          <a:pt x="2203" y="0"/>
                        </a:lnTo>
                        <a:lnTo>
                          <a:pt x="2231" y="0"/>
                        </a:lnTo>
                        <a:lnTo>
                          <a:pt x="2259" y="0"/>
                        </a:lnTo>
                        <a:lnTo>
                          <a:pt x="2286" y="0"/>
                        </a:lnTo>
                        <a:lnTo>
                          <a:pt x="2328" y="0"/>
                        </a:lnTo>
                        <a:lnTo>
                          <a:pt x="2356" y="0"/>
                        </a:lnTo>
                        <a:lnTo>
                          <a:pt x="2383" y="0"/>
                        </a:lnTo>
                        <a:lnTo>
                          <a:pt x="2411" y="0"/>
                        </a:lnTo>
                        <a:lnTo>
                          <a:pt x="2439" y="0"/>
                        </a:lnTo>
                        <a:lnTo>
                          <a:pt x="2466" y="0"/>
                        </a:lnTo>
                        <a:lnTo>
                          <a:pt x="2508" y="0"/>
                        </a:lnTo>
                        <a:lnTo>
                          <a:pt x="2535" y="0"/>
                        </a:lnTo>
                        <a:lnTo>
                          <a:pt x="2563" y="0"/>
                        </a:lnTo>
                        <a:lnTo>
                          <a:pt x="2591" y="0"/>
                        </a:lnTo>
                        <a:lnTo>
                          <a:pt x="2618" y="0"/>
                        </a:lnTo>
                        <a:lnTo>
                          <a:pt x="2646" y="0"/>
                        </a:lnTo>
                        <a:lnTo>
                          <a:pt x="2689" y="0"/>
                        </a:lnTo>
                        <a:lnTo>
                          <a:pt x="2717" y="0"/>
                        </a:lnTo>
                        <a:lnTo>
                          <a:pt x="2744" y="0"/>
                        </a:lnTo>
                        <a:lnTo>
                          <a:pt x="2772" y="0"/>
                        </a:lnTo>
                        <a:lnTo>
                          <a:pt x="2800" y="0"/>
                        </a:lnTo>
                        <a:lnTo>
                          <a:pt x="2827" y="0"/>
                        </a:lnTo>
                        <a:lnTo>
                          <a:pt x="2869" y="0"/>
                        </a:lnTo>
                        <a:lnTo>
                          <a:pt x="2896" y="0"/>
                        </a:lnTo>
                        <a:lnTo>
                          <a:pt x="2924" y="0"/>
                        </a:lnTo>
                        <a:lnTo>
                          <a:pt x="2952" y="0"/>
                        </a:lnTo>
                        <a:lnTo>
                          <a:pt x="2979" y="0"/>
                        </a:lnTo>
                        <a:lnTo>
                          <a:pt x="3007" y="0"/>
                        </a:lnTo>
                        <a:lnTo>
                          <a:pt x="3035" y="0"/>
                        </a:lnTo>
                        <a:lnTo>
                          <a:pt x="3076" y="0"/>
                        </a:lnTo>
                        <a:lnTo>
                          <a:pt x="3104" y="0"/>
                        </a:lnTo>
                        <a:lnTo>
                          <a:pt x="3132" y="0"/>
                        </a:lnTo>
                        <a:lnTo>
                          <a:pt x="3159" y="0"/>
                        </a:lnTo>
                        <a:lnTo>
                          <a:pt x="3187" y="0"/>
                        </a:lnTo>
                        <a:lnTo>
                          <a:pt x="3215" y="0"/>
                        </a:lnTo>
                        <a:lnTo>
                          <a:pt x="3256" y="0"/>
                        </a:lnTo>
                        <a:lnTo>
                          <a:pt x="3284" y="0"/>
                        </a:lnTo>
                        <a:lnTo>
                          <a:pt x="3311" y="0"/>
                        </a:lnTo>
                        <a:lnTo>
                          <a:pt x="3339" y="0"/>
                        </a:lnTo>
                        <a:lnTo>
                          <a:pt x="3367" y="0"/>
                        </a:lnTo>
                        <a:lnTo>
                          <a:pt x="3394" y="0"/>
                        </a:lnTo>
                        <a:lnTo>
                          <a:pt x="3436" y="0"/>
                        </a:lnTo>
                        <a:lnTo>
                          <a:pt x="3465" y="0"/>
                        </a:lnTo>
                        <a:lnTo>
                          <a:pt x="3493" y="0"/>
                        </a:lnTo>
                        <a:lnTo>
                          <a:pt x="3520" y="0"/>
                        </a:lnTo>
                        <a:lnTo>
                          <a:pt x="3548" y="0"/>
                        </a:lnTo>
                        <a:lnTo>
                          <a:pt x="3576" y="0"/>
                        </a:lnTo>
                        <a:lnTo>
                          <a:pt x="3617" y="0"/>
                        </a:lnTo>
                        <a:lnTo>
                          <a:pt x="3645" y="0"/>
                        </a:lnTo>
                        <a:lnTo>
                          <a:pt x="3672" y="0"/>
                        </a:lnTo>
                        <a:lnTo>
                          <a:pt x="3700" y="0"/>
                        </a:lnTo>
                        <a:lnTo>
                          <a:pt x="3728" y="0"/>
                        </a:lnTo>
                        <a:lnTo>
                          <a:pt x="3755" y="0"/>
                        </a:lnTo>
                        <a:lnTo>
                          <a:pt x="3797" y="0"/>
                        </a:lnTo>
                        <a:lnTo>
                          <a:pt x="3824" y="0"/>
                        </a:lnTo>
                        <a:lnTo>
                          <a:pt x="3852" y="0"/>
                        </a:lnTo>
                        <a:lnTo>
                          <a:pt x="3880" y="0"/>
                        </a:lnTo>
                        <a:lnTo>
                          <a:pt x="3907" y="0"/>
                        </a:lnTo>
                        <a:lnTo>
                          <a:pt x="3935" y="0"/>
                        </a:lnTo>
                        <a:lnTo>
                          <a:pt x="3963" y="0"/>
                        </a:lnTo>
                        <a:lnTo>
                          <a:pt x="4018" y="0"/>
                        </a:lnTo>
                        <a:lnTo>
                          <a:pt x="4046" y="0"/>
                        </a:lnTo>
                        <a:lnTo>
                          <a:pt x="4073" y="0"/>
                        </a:lnTo>
                        <a:lnTo>
                          <a:pt x="4101" y="0"/>
                        </a:lnTo>
                        <a:lnTo>
                          <a:pt x="4129" y="0"/>
                        </a:lnTo>
                        <a:lnTo>
                          <a:pt x="4156" y="0"/>
                        </a:lnTo>
                        <a:lnTo>
                          <a:pt x="4198" y="0"/>
                        </a:lnTo>
                        <a:lnTo>
                          <a:pt x="4226" y="0"/>
                        </a:lnTo>
                        <a:lnTo>
                          <a:pt x="4255" y="0"/>
                        </a:lnTo>
                        <a:lnTo>
                          <a:pt x="4282" y="0"/>
                        </a:lnTo>
                        <a:lnTo>
                          <a:pt x="4310" y="0"/>
                        </a:lnTo>
                        <a:lnTo>
                          <a:pt x="4338" y="0"/>
                        </a:lnTo>
                        <a:lnTo>
                          <a:pt x="4379" y="0"/>
                        </a:lnTo>
                        <a:lnTo>
                          <a:pt x="4407" y="0"/>
                        </a:lnTo>
                        <a:lnTo>
                          <a:pt x="4434" y="0"/>
                        </a:lnTo>
                        <a:lnTo>
                          <a:pt x="4462" y="0"/>
                        </a:lnTo>
                        <a:lnTo>
                          <a:pt x="4490" y="0"/>
                        </a:lnTo>
                        <a:lnTo>
                          <a:pt x="4517" y="0"/>
                        </a:lnTo>
                        <a:lnTo>
                          <a:pt x="4559" y="0"/>
                        </a:lnTo>
                        <a:lnTo>
                          <a:pt x="4587" y="0"/>
                        </a:lnTo>
                        <a:lnTo>
                          <a:pt x="4614" y="0"/>
                        </a:lnTo>
                        <a:lnTo>
                          <a:pt x="4642" y="0"/>
                        </a:lnTo>
                        <a:lnTo>
                          <a:pt x="4670" y="0"/>
                        </a:lnTo>
                        <a:lnTo>
                          <a:pt x="4697" y="0"/>
                        </a:lnTo>
                        <a:lnTo>
                          <a:pt x="4725" y="0"/>
                        </a:lnTo>
                        <a:lnTo>
                          <a:pt x="4766" y="0"/>
                        </a:lnTo>
                        <a:lnTo>
                          <a:pt x="4794" y="0"/>
                        </a:lnTo>
                        <a:lnTo>
                          <a:pt x="4822" y="0"/>
                        </a:lnTo>
                        <a:lnTo>
                          <a:pt x="4849" y="0"/>
                        </a:lnTo>
                        <a:lnTo>
                          <a:pt x="4877" y="0"/>
                        </a:lnTo>
                        <a:lnTo>
                          <a:pt x="4905" y="0"/>
                        </a:lnTo>
                        <a:lnTo>
                          <a:pt x="4946" y="0"/>
                        </a:lnTo>
                        <a:lnTo>
                          <a:pt x="4974" y="0"/>
                        </a:lnTo>
                        <a:lnTo>
                          <a:pt x="5002" y="0"/>
                        </a:lnTo>
                        <a:lnTo>
                          <a:pt x="5029" y="0"/>
                        </a:lnTo>
                        <a:lnTo>
                          <a:pt x="5058" y="0"/>
                        </a:lnTo>
                        <a:lnTo>
                          <a:pt x="5086" y="0"/>
                        </a:lnTo>
                        <a:lnTo>
                          <a:pt x="5127" y="0"/>
                        </a:lnTo>
                        <a:lnTo>
                          <a:pt x="5155" y="0"/>
                        </a:lnTo>
                        <a:lnTo>
                          <a:pt x="5183" y="0"/>
                        </a:lnTo>
                        <a:lnTo>
                          <a:pt x="5210" y="0"/>
                        </a:lnTo>
                        <a:lnTo>
                          <a:pt x="5238" y="0"/>
                        </a:lnTo>
                        <a:lnTo>
                          <a:pt x="5266" y="0"/>
                        </a:lnTo>
                        <a:lnTo>
                          <a:pt x="5307" y="0"/>
                        </a:lnTo>
                        <a:lnTo>
                          <a:pt x="5335" y="0"/>
                        </a:lnTo>
                        <a:lnTo>
                          <a:pt x="5363" y="0"/>
                        </a:lnTo>
                        <a:lnTo>
                          <a:pt x="5390" y="0"/>
                        </a:lnTo>
                        <a:lnTo>
                          <a:pt x="5418" y="0"/>
                        </a:lnTo>
                        <a:lnTo>
                          <a:pt x="5445" y="0"/>
                        </a:lnTo>
                        <a:lnTo>
                          <a:pt x="5487" y="0"/>
                        </a:lnTo>
                        <a:lnTo>
                          <a:pt x="5515" y="0"/>
                        </a:lnTo>
                        <a:lnTo>
                          <a:pt x="5542" y="0"/>
                        </a:lnTo>
                        <a:lnTo>
                          <a:pt x="5570" y="0"/>
                        </a:lnTo>
                        <a:lnTo>
                          <a:pt x="5598" y="0"/>
                        </a:lnTo>
                        <a:lnTo>
                          <a:pt x="5625" y="0"/>
                        </a:lnTo>
                        <a:lnTo>
                          <a:pt x="5653" y="0"/>
                        </a:lnTo>
                        <a:lnTo>
                          <a:pt x="5694" y="0"/>
                        </a:lnTo>
                        <a:lnTo>
                          <a:pt x="5722" y="0"/>
                        </a:lnTo>
                        <a:lnTo>
                          <a:pt x="5750" y="0"/>
                        </a:lnTo>
                        <a:lnTo>
                          <a:pt x="5777" y="0"/>
                        </a:lnTo>
                        <a:lnTo>
                          <a:pt x="5805" y="0"/>
                        </a:lnTo>
                        <a:lnTo>
                          <a:pt x="5833" y="0"/>
                        </a:lnTo>
                        <a:lnTo>
                          <a:pt x="5876" y="0"/>
                        </a:lnTo>
                        <a:lnTo>
                          <a:pt x="5903" y="0"/>
                        </a:lnTo>
                        <a:lnTo>
                          <a:pt x="5931" y="0"/>
                        </a:lnTo>
                        <a:lnTo>
                          <a:pt x="5959" y="0"/>
                        </a:lnTo>
                        <a:lnTo>
                          <a:pt x="5986" y="0"/>
                        </a:lnTo>
                        <a:lnTo>
                          <a:pt x="6014" y="0"/>
                        </a:lnTo>
                        <a:lnTo>
                          <a:pt x="6055" y="0"/>
                        </a:lnTo>
                        <a:lnTo>
                          <a:pt x="6083" y="0"/>
                        </a:lnTo>
                        <a:lnTo>
                          <a:pt x="6111" y="0"/>
                        </a:lnTo>
                        <a:lnTo>
                          <a:pt x="6138" y="0"/>
                        </a:lnTo>
                        <a:lnTo>
                          <a:pt x="6166" y="0"/>
                        </a:lnTo>
                        <a:lnTo>
                          <a:pt x="6194" y="0"/>
                        </a:lnTo>
                        <a:lnTo>
                          <a:pt x="6235" y="0"/>
                        </a:lnTo>
                        <a:lnTo>
                          <a:pt x="6263" y="0"/>
                        </a:lnTo>
                        <a:lnTo>
                          <a:pt x="6291" y="0"/>
                        </a:lnTo>
                        <a:lnTo>
                          <a:pt x="6318" y="0"/>
                        </a:lnTo>
                        <a:lnTo>
                          <a:pt x="6346" y="0"/>
                        </a:lnTo>
                        <a:lnTo>
                          <a:pt x="6374" y="0"/>
                        </a:lnTo>
                        <a:lnTo>
                          <a:pt x="6401" y="0"/>
                        </a:lnTo>
                        <a:lnTo>
                          <a:pt x="6443" y="0"/>
                        </a:lnTo>
                        <a:lnTo>
                          <a:pt x="6470" y="0"/>
                        </a:lnTo>
                        <a:lnTo>
                          <a:pt x="6498" y="0"/>
                        </a:lnTo>
                        <a:lnTo>
                          <a:pt x="6526" y="0"/>
                        </a:lnTo>
                        <a:lnTo>
                          <a:pt x="6553" y="0"/>
                        </a:lnTo>
                        <a:lnTo>
                          <a:pt x="6581" y="0"/>
                        </a:lnTo>
                        <a:lnTo>
                          <a:pt x="6623" y="0"/>
                        </a:lnTo>
                        <a:lnTo>
                          <a:pt x="6665" y="0"/>
                        </a:lnTo>
                        <a:lnTo>
                          <a:pt x="6693" y="0"/>
                        </a:lnTo>
                        <a:lnTo>
                          <a:pt x="6721" y="0"/>
                        </a:lnTo>
                        <a:lnTo>
                          <a:pt x="6748" y="0"/>
                        </a:lnTo>
                        <a:lnTo>
                          <a:pt x="6776" y="0"/>
                        </a:lnTo>
                        <a:lnTo>
                          <a:pt x="6818" y="0"/>
                        </a:lnTo>
                        <a:lnTo>
                          <a:pt x="6845" y="0"/>
                        </a:lnTo>
                        <a:lnTo>
                          <a:pt x="6873" y="0"/>
                        </a:lnTo>
                        <a:lnTo>
                          <a:pt x="6901" y="0"/>
                        </a:lnTo>
                        <a:lnTo>
                          <a:pt x="6928" y="0"/>
                        </a:lnTo>
                        <a:lnTo>
                          <a:pt x="6956" y="0"/>
                        </a:lnTo>
                        <a:lnTo>
                          <a:pt x="6997" y="0"/>
                        </a:lnTo>
                        <a:lnTo>
                          <a:pt x="7025" y="0"/>
                        </a:lnTo>
                        <a:lnTo>
                          <a:pt x="7053" y="0"/>
                        </a:lnTo>
                        <a:lnTo>
                          <a:pt x="7080" y="0"/>
                        </a:lnTo>
                        <a:lnTo>
                          <a:pt x="7108" y="0"/>
                        </a:lnTo>
                        <a:lnTo>
                          <a:pt x="7136" y="0"/>
                        </a:lnTo>
                        <a:lnTo>
                          <a:pt x="7177" y="0"/>
                        </a:lnTo>
                        <a:lnTo>
                          <a:pt x="7205" y="0"/>
                        </a:lnTo>
                        <a:lnTo>
                          <a:pt x="7232" y="0"/>
                        </a:lnTo>
                        <a:lnTo>
                          <a:pt x="7260" y="0"/>
                        </a:lnTo>
                        <a:lnTo>
                          <a:pt x="7288" y="0"/>
                        </a:lnTo>
                        <a:lnTo>
                          <a:pt x="7315" y="0"/>
                        </a:lnTo>
                        <a:lnTo>
                          <a:pt x="7343" y="0"/>
                        </a:lnTo>
                        <a:lnTo>
                          <a:pt x="7385" y="0"/>
                        </a:lnTo>
                        <a:lnTo>
                          <a:pt x="7412" y="0"/>
                        </a:lnTo>
                        <a:lnTo>
                          <a:pt x="7441" y="0"/>
                        </a:lnTo>
                        <a:lnTo>
                          <a:pt x="7469" y="0"/>
                        </a:lnTo>
                        <a:lnTo>
                          <a:pt x="7497" y="0"/>
                        </a:lnTo>
                        <a:lnTo>
                          <a:pt x="7524" y="0"/>
                        </a:lnTo>
                        <a:lnTo>
                          <a:pt x="7566" y="0"/>
                        </a:lnTo>
                        <a:lnTo>
                          <a:pt x="7593" y="0"/>
                        </a:lnTo>
                        <a:lnTo>
                          <a:pt x="7621" y="0"/>
                        </a:lnTo>
                        <a:lnTo>
                          <a:pt x="7649" y="0"/>
                        </a:lnTo>
                        <a:lnTo>
                          <a:pt x="767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4992840" y="3638520"/>
                    <a:ext cx="4062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7676" h="0">
                        <a:moveTo>
                          <a:pt x="0" y="0"/>
                        </a:moveTo>
                        <a:lnTo>
                          <a:pt x="28" y="0"/>
                        </a:lnTo>
                        <a:lnTo>
                          <a:pt x="69" y="0"/>
                        </a:lnTo>
                        <a:lnTo>
                          <a:pt x="97" y="0"/>
                        </a:lnTo>
                        <a:lnTo>
                          <a:pt x="125" y="0"/>
                        </a:lnTo>
                        <a:lnTo>
                          <a:pt x="152" y="0"/>
                        </a:lnTo>
                        <a:lnTo>
                          <a:pt x="180" y="0"/>
                        </a:lnTo>
                        <a:lnTo>
                          <a:pt x="208" y="0"/>
                        </a:lnTo>
                        <a:lnTo>
                          <a:pt x="249" y="0"/>
                        </a:lnTo>
                        <a:lnTo>
                          <a:pt x="278" y="0"/>
                        </a:lnTo>
                        <a:lnTo>
                          <a:pt x="306" y="0"/>
                        </a:lnTo>
                        <a:lnTo>
                          <a:pt x="333" y="0"/>
                        </a:lnTo>
                        <a:lnTo>
                          <a:pt x="361" y="0"/>
                        </a:lnTo>
                        <a:lnTo>
                          <a:pt x="389" y="0"/>
                        </a:lnTo>
                        <a:lnTo>
                          <a:pt x="430" y="0"/>
                        </a:lnTo>
                        <a:lnTo>
                          <a:pt x="458" y="0"/>
                        </a:lnTo>
                        <a:lnTo>
                          <a:pt x="486" y="0"/>
                        </a:lnTo>
                        <a:lnTo>
                          <a:pt x="513" y="0"/>
                        </a:lnTo>
                        <a:lnTo>
                          <a:pt x="541" y="0"/>
                        </a:lnTo>
                        <a:lnTo>
                          <a:pt x="569" y="0"/>
                        </a:lnTo>
                        <a:lnTo>
                          <a:pt x="596" y="0"/>
                        </a:lnTo>
                        <a:lnTo>
                          <a:pt x="638" y="0"/>
                        </a:lnTo>
                        <a:lnTo>
                          <a:pt x="665" y="0"/>
                        </a:lnTo>
                        <a:lnTo>
                          <a:pt x="693" y="0"/>
                        </a:lnTo>
                        <a:lnTo>
                          <a:pt x="721" y="0"/>
                        </a:lnTo>
                        <a:lnTo>
                          <a:pt x="748" y="0"/>
                        </a:lnTo>
                        <a:lnTo>
                          <a:pt x="776" y="0"/>
                        </a:lnTo>
                        <a:lnTo>
                          <a:pt x="818" y="0"/>
                        </a:lnTo>
                        <a:lnTo>
                          <a:pt x="845" y="0"/>
                        </a:lnTo>
                        <a:lnTo>
                          <a:pt x="873" y="0"/>
                        </a:lnTo>
                        <a:lnTo>
                          <a:pt x="901" y="0"/>
                        </a:lnTo>
                        <a:lnTo>
                          <a:pt x="928" y="0"/>
                        </a:lnTo>
                        <a:lnTo>
                          <a:pt x="956" y="0"/>
                        </a:lnTo>
                        <a:lnTo>
                          <a:pt x="997" y="0"/>
                        </a:lnTo>
                        <a:lnTo>
                          <a:pt x="1025" y="0"/>
                        </a:lnTo>
                        <a:lnTo>
                          <a:pt x="1053" y="0"/>
                        </a:lnTo>
                        <a:lnTo>
                          <a:pt x="1082" y="0"/>
                        </a:lnTo>
                        <a:lnTo>
                          <a:pt x="1109" y="0"/>
                        </a:lnTo>
                        <a:lnTo>
                          <a:pt x="1137" y="0"/>
                        </a:lnTo>
                        <a:lnTo>
                          <a:pt x="1179" y="0"/>
                        </a:lnTo>
                        <a:lnTo>
                          <a:pt x="1206" y="0"/>
                        </a:lnTo>
                        <a:lnTo>
                          <a:pt x="1234" y="0"/>
                        </a:lnTo>
                        <a:lnTo>
                          <a:pt x="1262" y="0"/>
                        </a:lnTo>
                        <a:lnTo>
                          <a:pt x="1289" y="0"/>
                        </a:lnTo>
                        <a:lnTo>
                          <a:pt x="1317" y="0"/>
                        </a:lnTo>
                        <a:lnTo>
                          <a:pt x="1358" y="0"/>
                        </a:lnTo>
                        <a:lnTo>
                          <a:pt x="1400" y="0"/>
                        </a:lnTo>
                        <a:lnTo>
                          <a:pt x="1428" y="0"/>
                        </a:lnTo>
                        <a:lnTo>
                          <a:pt x="1455" y="0"/>
                        </a:lnTo>
                        <a:lnTo>
                          <a:pt x="1483" y="0"/>
                        </a:lnTo>
                        <a:lnTo>
                          <a:pt x="1511" y="0"/>
                        </a:lnTo>
                        <a:lnTo>
                          <a:pt x="1538" y="0"/>
                        </a:lnTo>
                        <a:lnTo>
                          <a:pt x="1580" y="0"/>
                        </a:lnTo>
                        <a:lnTo>
                          <a:pt x="1607" y="0"/>
                        </a:lnTo>
                        <a:lnTo>
                          <a:pt x="1635" y="0"/>
                        </a:lnTo>
                        <a:lnTo>
                          <a:pt x="1663" y="0"/>
                        </a:lnTo>
                        <a:lnTo>
                          <a:pt x="1690" y="0"/>
                        </a:lnTo>
                        <a:lnTo>
                          <a:pt x="1718" y="0"/>
                        </a:lnTo>
                        <a:lnTo>
                          <a:pt x="1759" y="0"/>
                        </a:lnTo>
                        <a:lnTo>
                          <a:pt x="1787" y="0"/>
                        </a:lnTo>
                        <a:lnTo>
                          <a:pt x="1815" y="0"/>
                        </a:lnTo>
                        <a:lnTo>
                          <a:pt x="1842" y="0"/>
                        </a:lnTo>
                        <a:lnTo>
                          <a:pt x="1872" y="0"/>
                        </a:lnTo>
                        <a:lnTo>
                          <a:pt x="1899" y="0"/>
                        </a:lnTo>
                        <a:lnTo>
                          <a:pt x="1941" y="0"/>
                        </a:lnTo>
                        <a:lnTo>
                          <a:pt x="1968" y="0"/>
                        </a:lnTo>
                        <a:lnTo>
                          <a:pt x="1996" y="0"/>
                        </a:lnTo>
                        <a:lnTo>
                          <a:pt x="2024" y="0"/>
                        </a:lnTo>
                        <a:lnTo>
                          <a:pt x="2051" y="0"/>
                        </a:lnTo>
                        <a:lnTo>
                          <a:pt x="2079" y="0"/>
                        </a:lnTo>
                        <a:lnTo>
                          <a:pt x="2120" y="0"/>
                        </a:lnTo>
                        <a:lnTo>
                          <a:pt x="2148" y="0"/>
                        </a:lnTo>
                        <a:lnTo>
                          <a:pt x="2176" y="0"/>
                        </a:lnTo>
                        <a:lnTo>
                          <a:pt x="2203" y="0"/>
                        </a:lnTo>
                        <a:lnTo>
                          <a:pt x="2231" y="0"/>
                        </a:lnTo>
                        <a:lnTo>
                          <a:pt x="2259" y="0"/>
                        </a:lnTo>
                        <a:lnTo>
                          <a:pt x="2286" y="0"/>
                        </a:lnTo>
                        <a:lnTo>
                          <a:pt x="2328" y="0"/>
                        </a:lnTo>
                        <a:lnTo>
                          <a:pt x="2356" y="0"/>
                        </a:lnTo>
                        <a:lnTo>
                          <a:pt x="2383" y="0"/>
                        </a:lnTo>
                        <a:lnTo>
                          <a:pt x="2411" y="0"/>
                        </a:lnTo>
                        <a:lnTo>
                          <a:pt x="2439" y="0"/>
                        </a:lnTo>
                        <a:lnTo>
                          <a:pt x="2466" y="0"/>
                        </a:lnTo>
                        <a:lnTo>
                          <a:pt x="2508" y="0"/>
                        </a:lnTo>
                        <a:lnTo>
                          <a:pt x="2535" y="0"/>
                        </a:lnTo>
                        <a:lnTo>
                          <a:pt x="2563" y="0"/>
                        </a:lnTo>
                        <a:lnTo>
                          <a:pt x="2591" y="0"/>
                        </a:lnTo>
                        <a:lnTo>
                          <a:pt x="2618" y="0"/>
                        </a:lnTo>
                        <a:lnTo>
                          <a:pt x="2646" y="0"/>
                        </a:lnTo>
                        <a:lnTo>
                          <a:pt x="2689" y="0"/>
                        </a:lnTo>
                        <a:lnTo>
                          <a:pt x="2717" y="0"/>
                        </a:lnTo>
                        <a:lnTo>
                          <a:pt x="2744" y="0"/>
                        </a:lnTo>
                        <a:lnTo>
                          <a:pt x="2772" y="0"/>
                        </a:lnTo>
                        <a:lnTo>
                          <a:pt x="2800" y="0"/>
                        </a:lnTo>
                        <a:lnTo>
                          <a:pt x="2827" y="0"/>
                        </a:lnTo>
                        <a:lnTo>
                          <a:pt x="2869" y="0"/>
                        </a:lnTo>
                        <a:lnTo>
                          <a:pt x="2896" y="0"/>
                        </a:lnTo>
                        <a:lnTo>
                          <a:pt x="2924" y="0"/>
                        </a:lnTo>
                        <a:lnTo>
                          <a:pt x="2952" y="0"/>
                        </a:lnTo>
                        <a:lnTo>
                          <a:pt x="2979" y="0"/>
                        </a:lnTo>
                        <a:lnTo>
                          <a:pt x="3007" y="0"/>
                        </a:lnTo>
                        <a:lnTo>
                          <a:pt x="3035" y="0"/>
                        </a:lnTo>
                        <a:lnTo>
                          <a:pt x="3076" y="0"/>
                        </a:lnTo>
                        <a:lnTo>
                          <a:pt x="3104" y="0"/>
                        </a:lnTo>
                        <a:lnTo>
                          <a:pt x="3132" y="0"/>
                        </a:lnTo>
                        <a:lnTo>
                          <a:pt x="3159" y="0"/>
                        </a:lnTo>
                        <a:lnTo>
                          <a:pt x="3187" y="0"/>
                        </a:lnTo>
                        <a:lnTo>
                          <a:pt x="3215" y="0"/>
                        </a:lnTo>
                        <a:lnTo>
                          <a:pt x="3256" y="0"/>
                        </a:lnTo>
                        <a:lnTo>
                          <a:pt x="3284" y="0"/>
                        </a:lnTo>
                        <a:lnTo>
                          <a:pt x="3311" y="0"/>
                        </a:lnTo>
                        <a:lnTo>
                          <a:pt x="3339" y="0"/>
                        </a:lnTo>
                        <a:lnTo>
                          <a:pt x="3367" y="0"/>
                        </a:lnTo>
                        <a:lnTo>
                          <a:pt x="3394" y="0"/>
                        </a:lnTo>
                        <a:lnTo>
                          <a:pt x="3436" y="0"/>
                        </a:lnTo>
                        <a:lnTo>
                          <a:pt x="3465" y="0"/>
                        </a:lnTo>
                        <a:lnTo>
                          <a:pt x="3493" y="0"/>
                        </a:lnTo>
                        <a:lnTo>
                          <a:pt x="3520" y="0"/>
                        </a:lnTo>
                        <a:lnTo>
                          <a:pt x="3548" y="0"/>
                        </a:lnTo>
                        <a:lnTo>
                          <a:pt x="3576" y="0"/>
                        </a:lnTo>
                        <a:lnTo>
                          <a:pt x="3617" y="0"/>
                        </a:lnTo>
                        <a:lnTo>
                          <a:pt x="3645" y="0"/>
                        </a:lnTo>
                        <a:lnTo>
                          <a:pt x="3672" y="0"/>
                        </a:lnTo>
                        <a:lnTo>
                          <a:pt x="3700" y="0"/>
                        </a:lnTo>
                        <a:lnTo>
                          <a:pt x="3728" y="0"/>
                        </a:lnTo>
                        <a:lnTo>
                          <a:pt x="3755" y="0"/>
                        </a:lnTo>
                        <a:lnTo>
                          <a:pt x="3797" y="0"/>
                        </a:lnTo>
                        <a:lnTo>
                          <a:pt x="3824" y="0"/>
                        </a:lnTo>
                        <a:lnTo>
                          <a:pt x="3852" y="0"/>
                        </a:lnTo>
                        <a:lnTo>
                          <a:pt x="3880" y="0"/>
                        </a:lnTo>
                        <a:lnTo>
                          <a:pt x="3907" y="0"/>
                        </a:lnTo>
                        <a:lnTo>
                          <a:pt x="3935" y="0"/>
                        </a:lnTo>
                        <a:lnTo>
                          <a:pt x="3963" y="0"/>
                        </a:lnTo>
                        <a:lnTo>
                          <a:pt x="4018" y="0"/>
                        </a:lnTo>
                        <a:lnTo>
                          <a:pt x="4046" y="0"/>
                        </a:lnTo>
                        <a:lnTo>
                          <a:pt x="4073" y="0"/>
                        </a:lnTo>
                        <a:lnTo>
                          <a:pt x="4101" y="0"/>
                        </a:lnTo>
                        <a:lnTo>
                          <a:pt x="4129" y="0"/>
                        </a:lnTo>
                        <a:lnTo>
                          <a:pt x="4156" y="0"/>
                        </a:lnTo>
                        <a:lnTo>
                          <a:pt x="4198" y="0"/>
                        </a:lnTo>
                        <a:lnTo>
                          <a:pt x="4226" y="0"/>
                        </a:lnTo>
                        <a:lnTo>
                          <a:pt x="4255" y="0"/>
                        </a:lnTo>
                        <a:lnTo>
                          <a:pt x="4282" y="0"/>
                        </a:lnTo>
                        <a:lnTo>
                          <a:pt x="4310" y="0"/>
                        </a:lnTo>
                        <a:lnTo>
                          <a:pt x="4338" y="0"/>
                        </a:lnTo>
                        <a:lnTo>
                          <a:pt x="4379" y="0"/>
                        </a:lnTo>
                        <a:lnTo>
                          <a:pt x="4407" y="0"/>
                        </a:lnTo>
                        <a:lnTo>
                          <a:pt x="4434" y="0"/>
                        </a:lnTo>
                        <a:lnTo>
                          <a:pt x="4462" y="0"/>
                        </a:lnTo>
                        <a:lnTo>
                          <a:pt x="4490" y="0"/>
                        </a:lnTo>
                        <a:lnTo>
                          <a:pt x="4517" y="0"/>
                        </a:lnTo>
                        <a:lnTo>
                          <a:pt x="4559" y="0"/>
                        </a:lnTo>
                        <a:lnTo>
                          <a:pt x="4587" y="0"/>
                        </a:lnTo>
                        <a:lnTo>
                          <a:pt x="4614" y="0"/>
                        </a:lnTo>
                        <a:lnTo>
                          <a:pt x="4642" y="0"/>
                        </a:lnTo>
                        <a:lnTo>
                          <a:pt x="4670" y="0"/>
                        </a:lnTo>
                        <a:lnTo>
                          <a:pt x="4697" y="0"/>
                        </a:lnTo>
                        <a:lnTo>
                          <a:pt x="4725" y="0"/>
                        </a:lnTo>
                        <a:lnTo>
                          <a:pt x="4766" y="0"/>
                        </a:lnTo>
                        <a:lnTo>
                          <a:pt x="4794" y="0"/>
                        </a:lnTo>
                        <a:lnTo>
                          <a:pt x="4822" y="0"/>
                        </a:lnTo>
                        <a:lnTo>
                          <a:pt x="4849" y="0"/>
                        </a:lnTo>
                        <a:lnTo>
                          <a:pt x="4877" y="0"/>
                        </a:lnTo>
                        <a:lnTo>
                          <a:pt x="4905" y="0"/>
                        </a:lnTo>
                        <a:lnTo>
                          <a:pt x="4946" y="0"/>
                        </a:lnTo>
                        <a:lnTo>
                          <a:pt x="4974" y="0"/>
                        </a:lnTo>
                        <a:lnTo>
                          <a:pt x="5002" y="0"/>
                        </a:lnTo>
                        <a:lnTo>
                          <a:pt x="5029" y="0"/>
                        </a:lnTo>
                        <a:lnTo>
                          <a:pt x="5058" y="0"/>
                        </a:lnTo>
                        <a:lnTo>
                          <a:pt x="5086" y="0"/>
                        </a:lnTo>
                        <a:lnTo>
                          <a:pt x="5127" y="0"/>
                        </a:lnTo>
                        <a:lnTo>
                          <a:pt x="5155" y="0"/>
                        </a:lnTo>
                        <a:lnTo>
                          <a:pt x="5183" y="0"/>
                        </a:lnTo>
                        <a:lnTo>
                          <a:pt x="5210" y="0"/>
                        </a:lnTo>
                        <a:lnTo>
                          <a:pt x="5238" y="0"/>
                        </a:lnTo>
                        <a:lnTo>
                          <a:pt x="5266" y="0"/>
                        </a:lnTo>
                        <a:lnTo>
                          <a:pt x="5307" y="0"/>
                        </a:lnTo>
                        <a:lnTo>
                          <a:pt x="5335" y="0"/>
                        </a:lnTo>
                        <a:lnTo>
                          <a:pt x="5363" y="0"/>
                        </a:lnTo>
                        <a:lnTo>
                          <a:pt x="5390" y="0"/>
                        </a:lnTo>
                        <a:lnTo>
                          <a:pt x="5418" y="0"/>
                        </a:lnTo>
                        <a:lnTo>
                          <a:pt x="5445" y="0"/>
                        </a:lnTo>
                        <a:lnTo>
                          <a:pt x="5487" y="0"/>
                        </a:lnTo>
                        <a:lnTo>
                          <a:pt x="5515" y="0"/>
                        </a:lnTo>
                        <a:lnTo>
                          <a:pt x="5542" y="0"/>
                        </a:lnTo>
                        <a:lnTo>
                          <a:pt x="5570" y="0"/>
                        </a:lnTo>
                        <a:lnTo>
                          <a:pt x="5598" y="0"/>
                        </a:lnTo>
                        <a:lnTo>
                          <a:pt x="5625" y="0"/>
                        </a:lnTo>
                        <a:lnTo>
                          <a:pt x="5653" y="0"/>
                        </a:lnTo>
                        <a:lnTo>
                          <a:pt x="5694" y="0"/>
                        </a:lnTo>
                        <a:lnTo>
                          <a:pt x="5722" y="0"/>
                        </a:lnTo>
                        <a:lnTo>
                          <a:pt x="5750" y="0"/>
                        </a:lnTo>
                        <a:lnTo>
                          <a:pt x="5777" y="0"/>
                        </a:lnTo>
                        <a:lnTo>
                          <a:pt x="5805" y="0"/>
                        </a:lnTo>
                        <a:lnTo>
                          <a:pt x="5833" y="0"/>
                        </a:lnTo>
                        <a:lnTo>
                          <a:pt x="5876" y="0"/>
                        </a:lnTo>
                        <a:lnTo>
                          <a:pt x="5903" y="0"/>
                        </a:lnTo>
                        <a:lnTo>
                          <a:pt x="5931" y="0"/>
                        </a:lnTo>
                        <a:lnTo>
                          <a:pt x="5959" y="0"/>
                        </a:lnTo>
                        <a:lnTo>
                          <a:pt x="5986" y="0"/>
                        </a:lnTo>
                        <a:lnTo>
                          <a:pt x="6014" y="0"/>
                        </a:lnTo>
                        <a:lnTo>
                          <a:pt x="6055" y="0"/>
                        </a:lnTo>
                        <a:lnTo>
                          <a:pt x="6083" y="0"/>
                        </a:lnTo>
                        <a:lnTo>
                          <a:pt x="6111" y="0"/>
                        </a:lnTo>
                        <a:lnTo>
                          <a:pt x="6138" y="0"/>
                        </a:lnTo>
                        <a:lnTo>
                          <a:pt x="6166" y="0"/>
                        </a:lnTo>
                        <a:lnTo>
                          <a:pt x="6194" y="0"/>
                        </a:lnTo>
                        <a:lnTo>
                          <a:pt x="6235" y="0"/>
                        </a:lnTo>
                        <a:lnTo>
                          <a:pt x="6263" y="0"/>
                        </a:lnTo>
                        <a:lnTo>
                          <a:pt x="6291" y="0"/>
                        </a:lnTo>
                        <a:lnTo>
                          <a:pt x="6318" y="0"/>
                        </a:lnTo>
                        <a:lnTo>
                          <a:pt x="6346" y="0"/>
                        </a:lnTo>
                        <a:lnTo>
                          <a:pt x="6374" y="0"/>
                        </a:lnTo>
                        <a:lnTo>
                          <a:pt x="6401" y="0"/>
                        </a:lnTo>
                        <a:lnTo>
                          <a:pt x="6443" y="0"/>
                        </a:lnTo>
                        <a:lnTo>
                          <a:pt x="6470" y="0"/>
                        </a:lnTo>
                        <a:lnTo>
                          <a:pt x="6498" y="0"/>
                        </a:lnTo>
                        <a:lnTo>
                          <a:pt x="6526" y="0"/>
                        </a:lnTo>
                        <a:lnTo>
                          <a:pt x="6553" y="0"/>
                        </a:lnTo>
                        <a:lnTo>
                          <a:pt x="6581" y="0"/>
                        </a:lnTo>
                        <a:lnTo>
                          <a:pt x="6623" y="0"/>
                        </a:lnTo>
                        <a:lnTo>
                          <a:pt x="6665" y="0"/>
                        </a:lnTo>
                        <a:lnTo>
                          <a:pt x="6693" y="0"/>
                        </a:lnTo>
                        <a:lnTo>
                          <a:pt x="6721" y="0"/>
                        </a:lnTo>
                        <a:lnTo>
                          <a:pt x="6748" y="0"/>
                        </a:lnTo>
                        <a:lnTo>
                          <a:pt x="6776" y="0"/>
                        </a:lnTo>
                        <a:lnTo>
                          <a:pt x="6818" y="0"/>
                        </a:lnTo>
                        <a:lnTo>
                          <a:pt x="6845" y="0"/>
                        </a:lnTo>
                        <a:lnTo>
                          <a:pt x="6873" y="0"/>
                        </a:lnTo>
                        <a:lnTo>
                          <a:pt x="6901" y="0"/>
                        </a:lnTo>
                        <a:lnTo>
                          <a:pt x="6928" y="0"/>
                        </a:lnTo>
                        <a:lnTo>
                          <a:pt x="6956" y="0"/>
                        </a:lnTo>
                        <a:lnTo>
                          <a:pt x="6997" y="0"/>
                        </a:lnTo>
                        <a:lnTo>
                          <a:pt x="7025" y="0"/>
                        </a:lnTo>
                        <a:lnTo>
                          <a:pt x="7053" y="0"/>
                        </a:lnTo>
                        <a:lnTo>
                          <a:pt x="7080" y="0"/>
                        </a:lnTo>
                        <a:lnTo>
                          <a:pt x="7108" y="0"/>
                        </a:lnTo>
                        <a:lnTo>
                          <a:pt x="7136" y="0"/>
                        </a:lnTo>
                        <a:lnTo>
                          <a:pt x="7177" y="0"/>
                        </a:lnTo>
                        <a:lnTo>
                          <a:pt x="7205" y="0"/>
                        </a:lnTo>
                        <a:lnTo>
                          <a:pt x="7232" y="0"/>
                        </a:lnTo>
                        <a:lnTo>
                          <a:pt x="7260" y="0"/>
                        </a:lnTo>
                        <a:lnTo>
                          <a:pt x="7288" y="0"/>
                        </a:lnTo>
                        <a:lnTo>
                          <a:pt x="7315" y="0"/>
                        </a:lnTo>
                        <a:lnTo>
                          <a:pt x="7343" y="0"/>
                        </a:lnTo>
                        <a:lnTo>
                          <a:pt x="7385" y="0"/>
                        </a:lnTo>
                        <a:lnTo>
                          <a:pt x="7412" y="0"/>
                        </a:lnTo>
                        <a:lnTo>
                          <a:pt x="7441" y="0"/>
                        </a:lnTo>
                        <a:lnTo>
                          <a:pt x="7469" y="0"/>
                        </a:lnTo>
                        <a:lnTo>
                          <a:pt x="7497" y="0"/>
                        </a:lnTo>
                        <a:lnTo>
                          <a:pt x="7524" y="0"/>
                        </a:lnTo>
                        <a:lnTo>
                          <a:pt x="7566" y="0"/>
                        </a:lnTo>
                        <a:lnTo>
                          <a:pt x="7593" y="0"/>
                        </a:lnTo>
                        <a:lnTo>
                          <a:pt x="7621" y="0"/>
                        </a:lnTo>
                        <a:lnTo>
                          <a:pt x="7649" y="0"/>
                        </a:lnTo>
                        <a:lnTo>
                          <a:pt x="7676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4" name=""/>
                <p:cNvGrpSpPr/>
                <p:nvPr/>
              </p:nvGrpSpPr>
              <p:grpSpPr>
                <a:xfrm>
                  <a:off x="5014800" y="3421080"/>
                  <a:ext cx="4017960" cy="1440"/>
                  <a:chOff x="5014800" y="3421080"/>
                  <a:chExt cx="4017960" cy="144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>
                    <a:off x="5014800" y="3421080"/>
                    <a:ext cx="40179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7593" h="0">
                        <a:moveTo>
                          <a:pt x="0" y="0"/>
                        </a:moveTo>
                        <a:lnTo>
                          <a:pt x="27" y="0"/>
                        </a:lnTo>
                        <a:lnTo>
                          <a:pt x="55" y="0"/>
                        </a:lnTo>
                        <a:lnTo>
                          <a:pt x="83" y="0"/>
                        </a:lnTo>
                        <a:lnTo>
                          <a:pt x="124" y="0"/>
                        </a:lnTo>
                        <a:lnTo>
                          <a:pt x="152" y="0"/>
                        </a:lnTo>
                        <a:lnTo>
                          <a:pt x="179" y="0"/>
                        </a:lnTo>
                        <a:lnTo>
                          <a:pt x="207" y="0"/>
                        </a:lnTo>
                        <a:lnTo>
                          <a:pt x="236" y="0"/>
                        </a:lnTo>
                        <a:lnTo>
                          <a:pt x="264" y="0"/>
                        </a:lnTo>
                        <a:lnTo>
                          <a:pt x="305" y="0"/>
                        </a:lnTo>
                        <a:lnTo>
                          <a:pt x="333" y="0"/>
                        </a:lnTo>
                        <a:lnTo>
                          <a:pt x="361" y="0"/>
                        </a:lnTo>
                        <a:lnTo>
                          <a:pt x="388" y="0"/>
                        </a:lnTo>
                        <a:lnTo>
                          <a:pt x="416" y="0"/>
                        </a:lnTo>
                        <a:lnTo>
                          <a:pt x="444" y="0"/>
                        </a:lnTo>
                        <a:lnTo>
                          <a:pt x="485" y="0"/>
                        </a:lnTo>
                        <a:lnTo>
                          <a:pt x="513" y="0"/>
                        </a:lnTo>
                        <a:lnTo>
                          <a:pt x="540" y="0"/>
                        </a:lnTo>
                        <a:lnTo>
                          <a:pt x="568" y="0"/>
                        </a:lnTo>
                        <a:lnTo>
                          <a:pt x="596" y="0"/>
                        </a:lnTo>
                        <a:lnTo>
                          <a:pt x="623" y="0"/>
                        </a:lnTo>
                        <a:lnTo>
                          <a:pt x="665" y="0"/>
                        </a:lnTo>
                        <a:lnTo>
                          <a:pt x="693" y="0"/>
                        </a:lnTo>
                        <a:lnTo>
                          <a:pt x="720" y="0"/>
                        </a:lnTo>
                        <a:lnTo>
                          <a:pt x="748" y="0"/>
                        </a:lnTo>
                        <a:lnTo>
                          <a:pt x="776" y="0"/>
                        </a:lnTo>
                        <a:lnTo>
                          <a:pt x="803" y="0"/>
                        </a:lnTo>
                        <a:lnTo>
                          <a:pt x="845" y="0"/>
                        </a:lnTo>
                        <a:lnTo>
                          <a:pt x="872" y="0"/>
                        </a:lnTo>
                        <a:lnTo>
                          <a:pt x="900" y="0"/>
                        </a:lnTo>
                        <a:lnTo>
                          <a:pt x="928" y="0"/>
                        </a:lnTo>
                        <a:lnTo>
                          <a:pt x="955" y="0"/>
                        </a:lnTo>
                        <a:lnTo>
                          <a:pt x="983" y="0"/>
                        </a:lnTo>
                        <a:lnTo>
                          <a:pt x="1026" y="0"/>
                        </a:lnTo>
                        <a:lnTo>
                          <a:pt x="1054" y="0"/>
                        </a:lnTo>
                        <a:lnTo>
                          <a:pt x="1081" y="0"/>
                        </a:lnTo>
                        <a:lnTo>
                          <a:pt x="1109" y="0"/>
                        </a:lnTo>
                        <a:lnTo>
                          <a:pt x="1137" y="0"/>
                        </a:lnTo>
                        <a:lnTo>
                          <a:pt x="1164" y="0"/>
                        </a:lnTo>
                        <a:lnTo>
                          <a:pt x="1206" y="0"/>
                        </a:lnTo>
                        <a:lnTo>
                          <a:pt x="1233" y="0"/>
                        </a:lnTo>
                        <a:lnTo>
                          <a:pt x="1261" y="0"/>
                        </a:lnTo>
                        <a:lnTo>
                          <a:pt x="1303" y="0"/>
                        </a:lnTo>
                        <a:lnTo>
                          <a:pt x="1330" y="0"/>
                        </a:lnTo>
                        <a:lnTo>
                          <a:pt x="1358" y="0"/>
                        </a:lnTo>
                        <a:lnTo>
                          <a:pt x="1399" y="0"/>
                        </a:lnTo>
                        <a:lnTo>
                          <a:pt x="1427" y="0"/>
                        </a:lnTo>
                        <a:lnTo>
                          <a:pt x="1455" y="0"/>
                        </a:lnTo>
                        <a:lnTo>
                          <a:pt x="1482" y="0"/>
                        </a:lnTo>
                        <a:lnTo>
                          <a:pt x="1510" y="0"/>
                        </a:lnTo>
                        <a:lnTo>
                          <a:pt x="1538" y="0"/>
                        </a:lnTo>
                        <a:lnTo>
                          <a:pt x="1579" y="0"/>
                        </a:lnTo>
                        <a:lnTo>
                          <a:pt x="1607" y="0"/>
                        </a:lnTo>
                        <a:lnTo>
                          <a:pt x="1634" y="0"/>
                        </a:lnTo>
                        <a:lnTo>
                          <a:pt x="1662" y="0"/>
                        </a:lnTo>
                        <a:lnTo>
                          <a:pt x="1690" y="0"/>
                        </a:lnTo>
                        <a:lnTo>
                          <a:pt x="1717" y="0"/>
                        </a:lnTo>
                        <a:lnTo>
                          <a:pt x="1759" y="0"/>
                        </a:lnTo>
                        <a:lnTo>
                          <a:pt x="1787" y="0"/>
                        </a:lnTo>
                        <a:lnTo>
                          <a:pt x="1816" y="0"/>
                        </a:lnTo>
                        <a:lnTo>
                          <a:pt x="1843" y="0"/>
                        </a:lnTo>
                        <a:lnTo>
                          <a:pt x="1871" y="0"/>
                        </a:lnTo>
                        <a:lnTo>
                          <a:pt x="1899" y="0"/>
                        </a:lnTo>
                        <a:lnTo>
                          <a:pt x="1940" y="0"/>
                        </a:lnTo>
                        <a:lnTo>
                          <a:pt x="1968" y="0"/>
                        </a:lnTo>
                        <a:lnTo>
                          <a:pt x="1995" y="0"/>
                        </a:lnTo>
                        <a:lnTo>
                          <a:pt x="2023" y="0"/>
                        </a:lnTo>
                        <a:lnTo>
                          <a:pt x="2051" y="0"/>
                        </a:lnTo>
                        <a:lnTo>
                          <a:pt x="2078" y="0"/>
                        </a:lnTo>
                        <a:lnTo>
                          <a:pt x="2120" y="0"/>
                        </a:lnTo>
                        <a:lnTo>
                          <a:pt x="2148" y="0"/>
                        </a:lnTo>
                        <a:lnTo>
                          <a:pt x="2175" y="0"/>
                        </a:lnTo>
                        <a:lnTo>
                          <a:pt x="2203" y="0"/>
                        </a:lnTo>
                        <a:lnTo>
                          <a:pt x="2231" y="0"/>
                        </a:lnTo>
                        <a:lnTo>
                          <a:pt x="2258" y="0"/>
                        </a:lnTo>
                        <a:lnTo>
                          <a:pt x="2300" y="0"/>
                        </a:lnTo>
                        <a:lnTo>
                          <a:pt x="2327" y="0"/>
                        </a:lnTo>
                        <a:lnTo>
                          <a:pt x="2355" y="0"/>
                        </a:lnTo>
                        <a:lnTo>
                          <a:pt x="2383" y="0"/>
                        </a:lnTo>
                        <a:lnTo>
                          <a:pt x="2410" y="0"/>
                        </a:lnTo>
                        <a:lnTo>
                          <a:pt x="2438" y="0"/>
                        </a:lnTo>
                        <a:lnTo>
                          <a:pt x="2480" y="0"/>
                        </a:lnTo>
                        <a:lnTo>
                          <a:pt x="2507" y="0"/>
                        </a:lnTo>
                        <a:lnTo>
                          <a:pt x="2535" y="0"/>
                        </a:lnTo>
                        <a:lnTo>
                          <a:pt x="2563" y="0"/>
                        </a:lnTo>
                        <a:lnTo>
                          <a:pt x="2590" y="0"/>
                        </a:lnTo>
                        <a:lnTo>
                          <a:pt x="2619" y="0"/>
                        </a:lnTo>
                        <a:lnTo>
                          <a:pt x="2647" y="0"/>
                        </a:lnTo>
                        <a:lnTo>
                          <a:pt x="2688" y="0"/>
                        </a:lnTo>
                        <a:lnTo>
                          <a:pt x="2716" y="0"/>
                        </a:lnTo>
                        <a:lnTo>
                          <a:pt x="2744" y="0"/>
                        </a:lnTo>
                        <a:lnTo>
                          <a:pt x="2771" y="0"/>
                        </a:lnTo>
                        <a:lnTo>
                          <a:pt x="2799" y="0"/>
                        </a:lnTo>
                        <a:lnTo>
                          <a:pt x="2827" y="0"/>
                        </a:lnTo>
                        <a:lnTo>
                          <a:pt x="2868" y="0"/>
                        </a:lnTo>
                        <a:lnTo>
                          <a:pt x="2896" y="0"/>
                        </a:lnTo>
                        <a:lnTo>
                          <a:pt x="2924" y="0"/>
                        </a:lnTo>
                        <a:lnTo>
                          <a:pt x="2951" y="0"/>
                        </a:lnTo>
                        <a:lnTo>
                          <a:pt x="2979" y="0"/>
                        </a:lnTo>
                        <a:lnTo>
                          <a:pt x="3007" y="0"/>
                        </a:lnTo>
                        <a:lnTo>
                          <a:pt x="3048" y="0"/>
                        </a:lnTo>
                        <a:lnTo>
                          <a:pt x="3076" y="0"/>
                        </a:lnTo>
                        <a:lnTo>
                          <a:pt x="3103" y="0"/>
                        </a:lnTo>
                        <a:lnTo>
                          <a:pt x="3131" y="0"/>
                        </a:lnTo>
                        <a:lnTo>
                          <a:pt x="3159" y="0"/>
                        </a:lnTo>
                        <a:lnTo>
                          <a:pt x="3186" y="0"/>
                        </a:lnTo>
                        <a:lnTo>
                          <a:pt x="3228" y="0"/>
                        </a:lnTo>
                        <a:lnTo>
                          <a:pt x="3256" y="0"/>
                        </a:lnTo>
                        <a:lnTo>
                          <a:pt x="3283" y="0"/>
                        </a:lnTo>
                        <a:lnTo>
                          <a:pt x="3311" y="0"/>
                        </a:lnTo>
                        <a:lnTo>
                          <a:pt x="3338" y="0"/>
                        </a:lnTo>
                        <a:lnTo>
                          <a:pt x="3366" y="0"/>
                        </a:lnTo>
                        <a:lnTo>
                          <a:pt x="3409" y="0"/>
                        </a:lnTo>
                        <a:lnTo>
                          <a:pt x="3437" y="0"/>
                        </a:lnTo>
                        <a:lnTo>
                          <a:pt x="3464" y="0"/>
                        </a:lnTo>
                        <a:lnTo>
                          <a:pt x="3492" y="0"/>
                        </a:lnTo>
                        <a:lnTo>
                          <a:pt x="3520" y="0"/>
                        </a:lnTo>
                        <a:lnTo>
                          <a:pt x="3547" y="0"/>
                        </a:lnTo>
                        <a:lnTo>
                          <a:pt x="3589" y="0"/>
                        </a:lnTo>
                        <a:lnTo>
                          <a:pt x="3617" y="0"/>
                        </a:lnTo>
                        <a:lnTo>
                          <a:pt x="3644" y="0"/>
                        </a:lnTo>
                        <a:lnTo>
                          <a:pt x="3672" y="0"/>
                        </a:lnTo>
                        <a:lnTo>
                          <a:pt x="3699" y="0"/>
                        </a:lnTo>
                        <a:lnTo>
                          <a:pt x="3727" y="0"/>
                        </a:lnTo>
                        <a:lnTo>
                          <a:pt x="3769" y="0"/>
                        </a:lnTo>
                        <a:lnTo>
                          <a:pt x="3796" y="0"/>
                        </a:lnTo>
                        <a:lnTo>
                          <a:pt x="3824" y="0"/>
                        </a:lnTo>
                        <a:lnTo>
                          <a:pt x="3852" y="0"/>
                        </a:lnTo>
                        <a:lnTo>
                          <a:pt x="3879" y="0"/>
                        </a:lnTo>
                        <a:lnTo>
                          <a:pt x="3907" y="0"/>
                        </a:lnTo>
                        <a:lnTo>
                          <a:pt x="3962" y="0"/>
                        </a:lnTo>
                        <a:lnTo>
                          <a:pt x="3990" y="0"/>
                        </a:lnTo>
                        <a:lnTo>
                          <a:pt x="4018" y="0"/>
                        </a:lnTo>
                        <a:lnTo>
                          <a:pt x="4045" y="0"/>
                        </a:lnTo>
                        <a:lnTo>
                          <a:pt x="4073" y="0"/>
                        </a:lnTo>
                        <a:lnTo>
                          <a:pt x="4101" y="0"/>
                        </a:lnTo>
                        <a:lnTo>
                          <a:pt x="4142" y="0"/>
                        </a:lnTo>
                        <a:lnTo>
                          <a:pt x="4170" y="0"/>
                        </a:lnTo>
                        <a:lnTo>
                          <a:pt x="4197" y="0"/>
                        </a:lnTo>
                        <a:lnTo>
                          <a:pt x="4226" y="0"/>
                        </a:lnTo>
                        <a:lnTo>
                          <a:pt x="4254" y="0"/>
                        </a:lnTo>
                        <a:lnTo>
                          <a:pt x="4282" y="0"/>
                        </a:lnTo>
                        <a:lnTo>
                          <a:pt x="4323" y="0"/>
                        </a:lnTo>
                        <a:lnTo>
                          <a:pt x="4351" y="0"/>
                        </a:lnTo>
                        <a:lnTo>
                          <a:pt x="4379" y="0"/>
                        </a:lnTo>
                        <a:lnTo>
                          <a:pt x="4406" y="0"/>
                        </a:lnTo>
                        <a:lnTo>
                          <a:pt x="4434" y="0"/>
                        </a:lnTo>
                        <a:lnTo>
                          <a:pt x="4462" y="0"/>
                        </a:lnTo>
                        <a:lnTo>
                          <a:pt x="4503" y="0"/>
                        </a:lnTo>
                        <a:lnTo>
                          <a:pt x="4531" y="0"/>
                        </a:lnTo>
                        <a:lnTo>
                          <a:pt x="4558" y="0"/>
                        </a:lnTo>
                        <a:lnTo>
                          <a:pt x="4586" y="0"/>
                        </a:lnTo>
                        <a:lnTo>
                          <a:pt x="4614" y="0"/>
                        </a:lnTo>
                        <a:lnTo>
                          <a:pt x="4641" y="0"/>
                        </a:lnTo>
                        <a:lnTo>
                          <a:pt x="4683" y="0"/>
                        </a:lnTo>
                        <a:lnTo>
                          <a:pt x="4711" y="0"/>
                        </a:lnTo>
                        <a:lnTo>
                          <a:pt x="4738" y="0"/>
                        </a:lnTo>
                        <a:lnTo>
                          <a:pt x="4766" y="0"/>
                        </a:lnTo>
                        <a:lnTo>
                          <a:pt x="4794" y="0"/>
                        </a:lnTo>
                        <a:lnTo>
                          <a:pt x="4821" y="0"/>
                        </a:lnTo>
                        <a:lnTo>
                          <a:pt x="4863" y="0"/>
                        </a:lnTo>
                        <a:lnTo>
                          <a:pt x="4890" y="0"/>
                        </a:lnTo>
                        <a:lnTo>
                          <a:pt x="4918" y="0"/>
                        </a:lnTo>
                        <a:lnTo>
                          <a:pt x="4946" y="0"/>
                        </a:lnTo>
                        <a:lnTo>
                          <a:pt x="4973" y="0"/>
                        </a:lnTo>
                        <a:lnTo>
                          <a:pt x="5002" y="0"/>
                        </a:lnTo>
                        <a:lnTo>
                          <a:pt x="5044" y="0"/>
                        </a:lnTo>
                        <a:lnTo>
                          <a:pt x="5072" y="0"/>
                        </a:lnTo>
                        <a:lnTo>
                          <a:pt x="5099" y="0"/>
                        </a:lnTo>
                        <a:lnTo>
                          <a:pt x="5127" y="0"/>
                        </a:lnTo>
                        <a:lnTo>
                          <a:pt x="5155" y="0"/>
                        </a:lnTo>
                        <a:lnTo>
                          <a:pt x="5182" y="0"/>
                        </a:lnTo>
                        <a:lnTo>
                          <a:pt x="5210" y="0"/>
                        </a:lnTo>
                        <a:lnTo>
                          <a:pt x="5251" y="0"/>
                        </a:lnTo>
                        <a:lnTo>
                          <a:pt x="5279" y="0"/>
                        </a:lnTo>
                        <a:lnTo>
                          <a:pt x="5307" y="0"/>
                        </a:lnTo>
                        <a:lnTo>
                          <a:pt x="5334" y="0"/>
                        </a:lnTo>
                        <a:lnTo>
                          <a:pt x="5362" y="0"/>
                        </a:lnTo>
                        <a:lnTo>
                          <a:pt x="5390" y="0"/>
                        </a:lnTo>
                        <a:lnTo>
                          <a:pt x="5431" y="0"/>
                        </a:lnTo>
                        <a:lnTo>
                          <a:pt x="5459" y="0"/>
                        </a:lnTo>
                        <a:lnTo>
                          <a:pt x="5486" y="0"/>
                        </a:lnTo>
                        <a:lnTo>
                          <a:pt x="5514" y="0"/>
                        </a:lnTo>
                        <a:lnTo>
                          <a:pt x="5542" y="0"/>
                        </a:lnTo>
                        <a:lnTo>
                          <a:pt x="5569" y="0"/>
                        </a:lnTo>
                        <a:lnTo>
                          <a:pt x="5611" y="0"/>
                        </a:lnTo>
                        <a:lnTo>
                          <a:pt x="5639" y="0"/>
                        </a:lnTo>
                        <a:lnTo>
                          <a:pt x="5666" y="0"/>
                        </a:lnTo>
                        <a:lnTo>
                          <a:pt x="5694" y="0"/>
                        </a:lnTo>
                        <a:lnTo>
                          <a:pt x="5722" y="0"/>
                        </a:lnTo>
                        <a:lnTo>
                          <a:pt x="5749" y="0"/>
                        </a:lnTo>
                        <a:lnTo>
                          <a:pt x="5791" y="0"/>
                        </a:lnTo>
                        <a:lnTo>
                          <a:pt x="5820" y="0"/>
                        </a:lnTo>
                        <a:lnTo>
                          <a:pt x="5847" y="0"/>
                        </a:lnTo>
                        <a:lnTo>
                          <a:pt x="5875" y="0"/>
                        </a:lnTo>
                        <a:lnTo>
                          <a:pt x="5903" y="0"/>
                        </a:lnTo>
                        <a:lnTo>
                          <a:pt x="5930" y="0"/>
                        </a:lnTo>
                        <a:lnTo>
                          <a:pt x="5972" y="0"/>
                        </a:lnTo>
                        <a:lnTo>
                          <a:pt x="6000" y="0"/>
                        </a:lnTo>
                        <a:lnTo>
                          <a:pt x="6027" y="0"/>
                        </a:lnTo>
                        <a:lnTo>
                          <a:pt x="6055" y="0"/>
                        </a:lnTo>
                        <a:lnTo>
                          <a:pt x="6083" y="0"/>
                        </a:lnTo>
                        <a:lnTo>
                          <a:pt x="6110" y="0"/>
                        </a:lnTo>
                        <a:lnTo>
                          <a:pt x="6152" y="0"/>
                        </a:lnTo>
                        <a:lnTo>
                          <a:pt x="6179" y="0"/>
                        </a:lnTo>
                        <a:lnTo>
                          <a:pt x="6207" y="0"/>
                        </a:lnTo>
                        <a:lnTo>
                          <a:pt x="6235" y="0"/>
                        </a:lnTo>
                        <a:lnTo>
                          <a:pt x="6262" y="0"/>
                        </a:lnTo>
                        <a:lnTo>
                          <a:pt x="6290" y="0"/>
                        </a:lnTo>
                        <a:lnTo>
                          <a:pt x="6332" y="0"/>
                        </a:lnTo>
                        <a:lnTo>
                          <a:pt x="6359" y="0"/>
                        </a:lnTo>
                        <a:lnTo>
                          <a:pt x="6387" y="0"/>
                        </a:lnTo>
                        <a:lnTo>
                          <a:pt x="6415" y="0"/>
                        </a:lnTo>
                        <a:lnTo>
                          <a:pt x="6442" y="0"/>
                        </a:lnTo>
                        <a:lnTo>
                          <a:pt x="6470" y="0"/>
                        </a:lnTo>
                        <a:lnTo>
                          <a:pt x="6511" y="0"/>
                        </a:lnTo>
                        <a:lnTo>
                          <a:pt x="6539" y="0"/>
                        </a:lnTo>
                        <a:lnTo>
                          <a:pt x="6567" y="0"/>
                        </a:lnTo>
                        <a:lnTo>
                          <a:pt x="6596" y="0"/>
                        </a:lnTo>
                        <a:lnTo>
                          <a:pt x="6637" y="0"/>
                        </a:lnTo>
                        <a:lnTo>
                          <a:pt x="6665" y="0"/>
                        </a:lnTo>
                        <a:lnTo>
                          <a:pt x="6706" y="0"/>
                        </a:lnTo>
                        <a:lnTo>
                          <a:pt x="6734" y="0"/>
                        </a:lnTo>
                        <a:lnTo>
                          <a:pt x="6762" y="0"/>
                        </a:lnTo>
                        <a:lnTo>
                          <a:pt x="6789" y="0"/>
                        </a:lnTo>
                        <a:lnTo>
                          <a:pt x="6817" y="0"/>
                        </a:lnTo>
                        <a:lnTo>
                          <a:pt x="6845" y="0"/>
                        </a:lnTo>
                        <a:lnTo>
                          <a:pt x="6886" y="0"/>
                        </a:lnTo>
                        <a:lnTo>
                          <a:pt x="6914" y="0"/>
                        </a:lnTo>
                        <a:lnTo>
                          <a:pt x="6942" y="0"/>
                        </a:lnTo>
                        <a:lnTo>
                          <a:pt x="6969" y="0"/>
                        </a:lnTo>
                        <a:lnTo>
                          <a:pt x="6997" y="0"/>
                        </a:lnTo>
                        <a:lnTo>
                          <a:pt x="7025" y="0"/>
                        </a:lnTo>
                        <a:lnTo>
                          <a:pt x="7066" y="0"/>
                        </a:lnTo>
                        <a:lnTo>
                          <a:pt x="7094" y="0"/>
                        </a:lnTo>
                        <a:lnTo>
                          <a:pt x="7121" y="0"/>
                        </a:lnTo>
                        <a:lnTo>
                          <a:pt x="7149" y="0"/>
                        </a:lnTo>
                        <a:lnTo>
                          <a:pt x="7177" y="0"/>
                        </a:lnTo>
                        <a:lnTo>
                          <a:pt x="7204" y="0"/>
                        </a:lnTo>
                        <a:lnTo>
                          <a:pt x="7246" y="0"/>
                        </a:lnTo>
                        <a:lnTo>
                          <a:pt x="7273" y="0"/>
                        </a:lnTo>
                        <a:lnTo>
                          <a:pt x="7301" y="0"/>
                        </a:lnTo>
                        <a:lnTo>
                          <a:pt x="7329" y="0"/>
                        </a:lnTo>
                        <a:lnTo>
                          <a:pt x="7356" y="0"/>
                        </a:lnTo>
                        <a:lnTo>
                          <a:pt x="7384" y="0"/>
                        </a:lnTo>
                        <a:lnTo>
                          <a:pt x="7427" y="0"/>
                        </a:lnTo>
                        <a:lnTo>
                          <a:pt x="7455" y="0"/>
                        </a:lnTo>
                        <a:lnTo>
                          <a:pt x="7482" y="0"/>
                        </a:lnTo>
                        <a:lnTo>
                          <a:pt x="7510" y="0"/>
                        </a:lnTo>
                        <a:lnTo>
                          <a:pt x="7538" y="0"/>
                        </a:lnTo>
                        <a:lnTo>
                          <a:pt x="7565" y="0"/>
                        </a:lnTo>
                        <a:lnTo>
                          <a:pt x="7593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5014800" y="3421080"/>
                    <a:ext cx="40179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7593" h="0">
                        <a:moveTo>
                          <a:pt x="0" y="0"/>
                        </a:moveTo>
                        <a:lnTo>
                          <a:pt x="27" y="0"/>
                        </a:lnTo>
                        <a:lnTo>
                          <a:pt x="55" y="0"/>
                        </a:lnTo>
                        <a:lnTo>
                          <a:pt x="83" y="0"/>
                        </a:lnTo>
                        <a:lnTo>
                          <a:pt x="124" y="0"/>
                        </a:lnTo>
                        <a:lnTo>
                          <a:pt x="152" y="0"/>
                        </a:lnTo>
                        <a:lnTo>
                          <a:pt x="179" y="0"/>
                        </a:lnTo>
                        <a:lnTo>
                          <a:pt x="207" y="0"/>
                        </a:lnTo>
                        <a:lnTo>
                          <a:pt x="236" y="0"/>
                        </a:lnTo>
                        <a:lnTo>
                          <a:pt x="264" y="0"/>
                        </a:lnTo>
                        <a:lnTo>
                          <a:pt x="305" y="0"/>
                        </a:lnTo>
                        <a:lnTo>
                          <a:pt x="333" y="0"/>
                        </a:lnTo>
                        <a:lnTo>
                          <a:pt x="361" y="0"/>
                        </a:lnTo>
                        <a:lnTo>
                          <a:pt x="388" y="0"/>
                        </a:lnTo>
                        <a:lnTo>
                          <a:pt x="416" y="0"/>
                        </a:lnTo>
                        <a:lnTo>
                          <a:pt x="444" y="0"/>
                        </a:lnTo>
                        <a:lnTo>
                          <a:pt x="485" y="0"/>
                        </a:lnTo>
                        <a:lnTo>
                          <a:pt x="513" y="0"/>
                        </a:lnTo>
                        <a:lnTo>
                          <a:pt x="540" y="0"/>
                        </a:lnTo>
                        <a:lnTo>
                          <a:pt x="568" y="0"/>
                        </a:lnTo>
                        <a:lnTo>
                          <a:pt x="596" y="0"/>
                        </a:lnTo>
                        <a:lnTo>
                          <a:pt x="623" y="0"/>
                        </a:lnTo>
                        <a:lnTo>
                          <a:pt x="665" y="0"/>
                        </a:lnTo>
                        <a:lnTo>
                          <a:pt x="693" y="0"/>
                        </a:lnTo>
                        <a:lnTo>
                          <a:pt x="720" y="0"/>
                        </a:lnTo>
                        <a:lnTo>
                          <a:pt x="748" y="0"/>
                        </a:lnTo>
                        <a:lnTo>
                          <a:pt x="776" y="0"/>
                        </a:lnTo>
                        <a:lnTo>
                          <a:pt x="803" y="0"/>
                        </a:lnTo>
                        <a:lnTo>
                          <a:pt x="845" y="0"/>
                        </a:lnTo>
                        <a:lnTo>
                          <a:pt x="872" y="0"/>
                        </a:lnTo>
                        <a:lnTo>
                          <a:pt x="900" y="0"/>
                        </a:lnTo>
                        <a:lnTo>
                          <a:pt x="928" y="0"/>
                        </a:lnTo>
                        <a:lnTo>
                          <a:pt x="955" y="0"/>
                        </a:lnTo>
                        <a:lnTo>
                          <a:pt x="983" y="0"/>
                        </a:lnTo>
                        <a:lnTo>
                          <a:pt x="1026" y="0"/>
                        </a:lnTo>
                        <a:lnTo>
                          <a:pt x="1054" y="0"/>
                        </a:lnTo>
                        <a:lnTo>
                          <a:pt x="1081" y="0"/>
                        </a:lnTo>
                        <a:lnTo>
                          <a:pt x="1109" y="0"/>
                        </a:lnTo>
                        <a:lnTo>
                          <a:pt x="1137" y="0"/>
                        </a:lnTo>
                        <a:lnTo>
                          <a:pt x="1164" y="0"/>
                        </a:lnTo>
                        <a:lnTo>
                          <a:pt x="1206" y="0"/>
                        </a:lnTo>
                        <a:lnTo>
                          <a:pt x="1233" y="0"/>
                        </a:lnTo>
                        <a:lnTo>
                          <a:pt x="1261" y="0"/>
                        </a:lnTo>
                        <a:lnTo>
                          <a:pt x="1303" y="0"/>
                        </a:lnTo>
                        <a:lnTo>
                          <a:pt x="1330" y="0"/>
                        </a:lnTo>
                        <a:lnTo>
                          <a:pt x="1358" y="0"/>
                        </a:lnTo>
                        <a:lnTo>
                          <a:pt x="1399" y="0"/>
                        </a:lnTo>
                        <a:lnTo>
                          <a:pt x="1427" y="0"/>
                        </a:lnTo>
                        <a:lnTo>
                          <a:pt x="1455" y="0"/>
                        </a:lnTo>
                        <a:lnTo>
                          <a:pt x="1482" y="0"/>
                        </a:lnTo>
                        <a:lnTo>
                          <a:pt x="1510" y="0"/>
                        </a:lnTo>
                        <a:lnTo>
                          <a:pt x="1538" y="0"/>
                        </a:lnTo>
                        <a:lnTo>
                          <a:pt x="1579" y="0"/>
                        </a:lnTo>
                        <a:lnTo>
                          <a:pt x="1607" y="0"/>
                        </a:lnTo>
                        <a:lnTo>
                          <a:pt x="1634" y="0"/>
                        </a:lnTo>
                        <a:lnTo>
                          <a:pt x="1662" y="0"/>
                        </a:lnTo>
                        <a:lnTo>
                          <a:pt x="1690" y="0"/>
                        </a:lnTo>
                        <a:lnTo>
                          <a:pt x="1717" y="0"/>
                        </a:lnTo>
                        <a:lnTo>
                          <a:pt x="1759" y="0"/>
                        </a:lnTo>
                        <a:lnTo>
                          <a:pt x="1787" y="0"/>
                        </a:lnTo>
                        <a:lnTo>
                          <a:pt x="1816" y="0"/>
                        </a:lnTo>
                        <a:lnTo>
                          <a:pt x="1843" y="0"/>
                        </a:lnTo>
                        <a:lnTo>
                          <a:pt x="1871" y="0"/>
                        </a:lnTo>
                        <a:lnTo>
                          <a:pt x="1899" y="0"/>
                        </a:lnTo>
                        <a:lnTo>
                          <a:pt x="1940" y="0"/>
                        </a:lnTo>
                        <a:lnTo>
                          <a:pt x="1968" y="0"/>
                        </a:lnTo>
                        <a:lnTo>
                          <a:pt x="1995" y="0"/>
                        </a:lnTo>
                        <a:lnTo>
                          <a:pt x="2023" y="0"/>
                        </a:lnTo>
                        <a:lnTo>
                          <a:pt x="2051" y="0"/>
                        </a:lnTo>
                        <a:lnTo>
                          <a:pt x="2078" y="0"/>
                        </a:lnTo>
                        <a:lnTo>
                          <a:pt x="2120" y="0"/>
                        </a:lnTo>
                        <a:lnTo>
                          <a:pt x="2148" y="0"/>
                        </a:lnTo>
                        <a:lnTo>
                          <a:pt x="2175" y="0"/>
                        </a:lnTo>
                        <a:lnTo>
                          <a:pt x="2203" y="0"/>
                        </a:lnTo>
                        <a:lnTo>
                          <a:pt x="2231" y="0"/>
                        </a:lnTo>
                        <a:lnTo>
                          <a:pt x="2258" y="0"/>
                        </a:lnTo>
                        <a:lnTo>
                          <a:pt x="2300" y="0"/>
                        </a:lnTo>
                        <a:lnTo>
                          <a:pt x="2327" y="0"/>
                        </a:lnTo>
                        <a:lnTo>
                          <a:pt x="2355" y="0"/>
                        </a:lnTo>
                        <a:lnTo>
                          <a:pt x="2383" y="0"/>
                        </a:lnTo>
                        <a:lnTo>
                          <a:pt x="2410" y="0"/>
                        </a:lnTo>
                        <a:lnTo>
                          <a:pt x="2438" y="0"/>
                        </a:lnTo>
                        <a:lnTo>
                          <a:pt x="2480" y="0"/>
                        </a:lnTo>
                        <a:lnTo>
                          <a:pt x="2507" y="0"/>
                        </a:lnTo>
                        <a:lnTo>
                          <a:pt x="2535" y="0"/>
                        </a:lnTo>
                        <a:lnTo>
                          <a:pt x="2563" y="0"/>
                        </a:lnTo>
                        <a:lnTo>
                          <a:pt x="2590" y="0"/>
                        </a:lnTo>
                        <a:lnTo>
                          <a:pt x="2619" y="0"/>
                        </a:lnTo>
                        <a:lnTo>
                          <a:pt x="2647" y="0"/>
                        </a:lnTo>
                        <a:lnTo>
                          <a:pt x="2688" y="0"/>
                        </a:lnTo>
                        <a:lnTo>
                          <a:pt x="2716" y="0"/>
                        </a:lnTo>
                        <a:lnTo>
                          <a:pt x="2744" y="0"/>
                        </a:lnTo>
                        <a:lnTo>
                          <a:pt x="2771" y="0"/>
                        </a:lnTo>
                        <a:lnTo>
                          <a:pt x="2799" y="0"/>
                        </a:lnTo>
                        <a:lnTo>
                          <a:pt x="2827" y="0"/>
                        </a:lnTo>
                        <a:lnTo>
                          <a:pt x="2868" y="0"/>
                        </a:lnTo>
                        <a:lnTo>
                          <a:pt x="2896" y="0"/>
                        </a:lnTo>
                        <a:lnTo>
                          <a:pt x="2924" y="0"/>
                        </a:lnTo>
                        <a:lnTo>
                          <a:pt x="2951" y="0"/>
                        </a:lnTo>
                        <a:lnTo>
                          <a:pt x="2979" y="0"/>
                        </a:lnTo>
                        <a:lnTo>
                          <a:pt x="3007" y="0"/>
                        </a:lnTo>
                        <a:lnTo>
                          <a:pt x="3048" y="0"/>
                        </a:lnTo>
                        <a:lnTo>
                          <a:pt x="3076" y="0"/>
                        </a:lnTo>
                        <a:lnTo>
                          <a:pt x="3103" y="0"/>
                        </a:lnTo>
                        <a:lnTo>
                          <a:pt x="3131" y="0"/>
                        </a:lnTo>
                        <a:lnTo>
                          <a:pt x="3159" y="0"/>
                        </a:lnTo>
                        <a:lnTo>
                          <a:pt x="3186" y="0"/>
                        </a:lnTo>
                        <a:lnTo>
                          <a:pt x="3228" y="0"/>
                        </a:lnTo>
                        <a:lnTo>
                          <a:pt x="3256" y="0"/>
                        </a:lnTo>
                        <a:lnTo>
                          <a:pt x="3283" y="0"/>
                        </a:lnTo>
                        <a:lnTo>
                          <a:pt x="3311" y="0"/>
                        </a:lnTo>
                        <a:lnTo>
                          <a:pt x="3338" y="0"/>
                        </a:lnTo>
                        <a:lnTo>
                          <a:pt x="3366" y="0"/>
                        </a:lnTo>
                        <a:lnTo>
                          <a:pt x="3409" y="0"/>
                        </a:lnTo>
                        <a:lnTo>
                          <a:pt x="3437" y="0"/>
                        </a:lnTo>
                        <a:lnTo>
                          <a:pt x="3464" y="0"/>
                        </a:lnTo>
                        <a:lnTo>
                          <a:pt x="3492" y="0"/>
                        </a:lnTo>
                        <a:lnTo>
                          <a:pt x="3520" y="0"/>
                        </a:lnTo>
                        <a:lnTo>
                          <a:pt x="3547" y="0"/>
                        </a:lnTo>
                        <a:lnTo>
                          <a:pt x="3589" y="0"/>
                        </a:lnTo>
                        <a:lnTo>
                          <a:pt x="3617" y="0"/>
                        </a:lnTo>
                        <a:lnTo>
                          <a:pt x="3644" y="0"/>
                        </a:lnTo>
                        <a:lnTo>
                          <a:pt x="3672" y="0"/>
                        </a:lnTo>
                        <a:lnTo>
                          <a:pt x="3699" y="0"/>
                        </a:lnTo>
                        <a:lnTo>
                          <a:pt x="3727" y="0"/>
                        </a:lnTo>
                        <a:lnTo>
                          <a:pt x="3769" y="0"/>
                        </a:lnTo>
                        <a:lnTo>
                          <a:pt x="3796" y="0"/>
                        </a:lnTo>
                        <a:lnTo>
                          <a:pt x="3824" y="0"/>
                        </a:lnTo>
                        <a:lnTo>
                          <a:pt x="3852" y="0"/>
                        </a:lnTo>
                        <a:lnTo>
                          <a:pt x="3879" y="0"/>
                        </a:lnTo>
                        <a:lnTo>
                          <a:pt x="3907" y="0"/>
                        </a:lnTo>
                        <a:lnTo>
                          <a:pt x="3962" y="0"/>
                        </a:lnTo>
                        <a:lnTo>
                          <a:pt x="3990" y="0"/>
                        </a:lnTo>
                        <a:lnTo>
                          <a:pt x="4018" y="0"/>
                        </a:lnTo>
                        <a:lnTo>
                          <a:pt x="4045" y="0"/>
                        </a:lnTo>
                        <a:lnTo>
                          <a:pt x="4073" y="0"/>
                        </a:lnTo>
                        <a:lnTo>
                          <a:pt x="4101" y="0"/>
                        </a:lnTo>
                        <a:lnTo>
                          <a:pt x="4142" y="0"/>
                        </a:lnTo>
                        <a:lnTo>
                          <a:pt x="4170" y="0"/>
                        </a:lnTo>
                        <a:lnTo>
                          <a:pt x="4197" y="0"/>
                        </a:lnTo>
                        <a:lnTo>
                          <a:pt x="4226" y="0"/>
                        </a:lnTo>
                        <a:lnTo>
                          <a:pt x="4254" y="0"/>
                        </a:lnTo>
                        <a:lnTo>
                          <a:pt x="4282" y="0"/>
                        </a:lnTo>
                        <a:lnTo>
                          <a:pt x="4323" y="0"/>
                        </a:lnTo>
                        <a:lnTo>
                          <a:pt x="4351" y="0"/>
                        </a:lnTo>
                        <a:lnTo>
                          <a:pt x="4379" y="0"/>
                        </a:lnTo>
                        <a:lnTo>
                          <a:pt x="4406" y="0"/>
                        </a:lnTo>
                        <a:lnTo>
                          <a:pt x="4434" y="0"/>
                        </a:lnTo>
                        <a:lnTo>
                          <a:pt x="4462" y="0"/>
                        </a:lnTo>
                        <a:lnTo>
                          <a:pt x="4503" y="0"/>
                        </a:lnTo>
                        <a:lnTo>
                          <a:pt x="4531" y="0"/>
                        </a:lnTo>
                        <a:lnTo>
                          <a:pt x="4558" y="0"/>
                        </a:lnTo>
                        <a:lnTo>
                          <a:pt x="4586" y="0"/>
                        </a:lnTo>
                        <a:lnTo>
                          <a:pt x="4614" y="0"/>
                        </a:lnTo>
                        <a:lnTo>
                          <a:pt x="4641" y="0"/>
                        </a:lnTo>
                        <a:lnTo>
                          <a:pt x="4683" y="0"/>
                        </a:lnTo>
                        <a:lnTo>
                          <a:pt x="4711" y="0"/>
                        </a:lnTo>
                        <a:lnTo>
                          <a:pt x="4738" y="0"/>
                        </a:lnTo>
                        <a:lnTo>
                          <a:pt x="4766" y="0"/>
                        </a:lnTo>
                        <a:lnTo>
                          <a:pt x="4794" y="0"/>
                        </a:lnTo>
                        <a:lnTo>
                          <a:pt x="4821" y="0"/>
                        </a:lnTo>
                        <a:lnTo>
                          <a:pt x="4863" y="0"/>
                        </a:lnTo>
                        <a:lnTo>
                          <a:pt x="4890" y="0"/>
                        </a:lnTo>
                        <a:lnTo>
                          <a:pt x="4918" y="0"/>
                        </a:lnTo>
                        <a:lnTo>
                          <a:pt x="4946" y="0"/>
                        </a:lnTo>
                        <a:lnTo>
                          <a:pt x="4973" y="0"/>
                        </a:lnTo>
                        <a:lnTo>
                          <a:pt x="5002" y="0"/>
                        </a:lnTo>
                        <a:lnTo>
                          <a:pt x="5044" y="0"/>
                        </a:lnTo>
                        <a:lnTo>
                          <a:pt x="5072" y="0"/>
                        </a:lnTo>
                        <a:lnTo>
                          <a:pt x="5099" y="0"/>
                        </a:lnTo>
                        <a:lnTo>
                          <a:pt x="5127" y="0"/>
                        </a:lnTo>
                        <a:lnTo>
                          <a:pt x="5155" y="0"/>
                        </a:lnTo>
                        <a:lnTo>
                          <a:pt x="5182" y="0"/>
                        </a:lnTo>
                        <a:lnTo>
                          <a:pt x="5210" y="0"/>
                        </a:lnTo>
                        <a:lnTo>
                          <a:pt x="5251" y="0"/>
                        </a:lnTo>
                        <a:lnTo>
                          <a:pt x="5279" y="0"/>
                        </a:lnTo>
                        <a:lnTo>
                          <a:pt x="5307" y="0"/>
                        </a:lnTo>
                        <a:lnTo>
                          <a:pt x="5334" y="0"/>
                        </a:lnTo>
                        <a:lnTo>
                          <a:pt x="5362" y="0"/>
                        </a:lnTo>
                        <a:lnTo>
                          <a:pt x="5390" y="0"/>
                        </a:lnTo>
                        <a:lnTo>
                          <a:pt x="5431" y="0"/>
                        </a:lnTo>
                        <a:lnTo>
                          <a:pt x="5459" y="0"/>
                        </a:lnTo>
                        <a:lnTo>
                          <a:pt x="5486" y="0"/>
                        </a:lnTo>
                        <a:lnTo>
                          <a:pt x="5514" y="0"/>
                        </a:lnTo>
                        <a:lnTo>
                          <a:pt x="5542" y="0"/>
                        </a:lnTo>
                        <a:lnTo>
                          <a:pt x="5569" y="0"/>
                        </a:lnTo>
                        <a:lnTo>
                          <a:pt x="5611" y="0"/>
                        </a:lnTo>
                        <a:lnTo>
                          <a:pt x="5639" y="0"/>
                        </a:lnTo>
                        <a:lnTo>
                          <a:pt x="5666" y="0"/>
                        </a:lnTo>
                        <a:lnTo>
                          <a:pt x="5694" y="0"/>
                        </a:lnTo>
                        <a:lnTo>
                          <a:pt x="5722" y="0"/>
                        </a:lnTo>
                        <a:lnTo>
                          <a:pt x="5749" y="0"/>
                        </a:lnTo>
                        <a:lnTo>
                          <a:pt x="5791" y="0"/>
                        </a:lnTo>
                        <a:lnTo>
                          <a:pt x="5820" y="0"/>
                        </a:lnTo>
                        <a:lnTo>
                          <a:pt x="5847" y="0"/>
                        </a:lnTo>
                        <a:lnTo>
                          <a:pt x="5875" y="0"/>
                        </a:lnTo>
                        <a:lnTo>
                          <a:pt x="5903" y="0"/>
                        </a:lnTo>
                        <a:lnTo>
                          <a:pt x="5930" y="0"/>
                        </a:lnTo>
                        <a:lnTo>
                          <a:pt x="5972" y="0"/>
                        </a:lnTo>
                        <a:lnTo>
                          <a:pt x="6000" y="0"/>
                        </a:lnTo>
                        <a:lnTo>
                          <a:pt x="6027" y="0"/>
                        </a:lnTo>
                        <a:lnTo>
                          <a:pt x="6055" y="0"/>
                        </a:lnTo>
                        <a:lnTo>
                          <a:pt x="6083" y="0"/>
                        </a:lnTo>
                        <a:lnTo>
                          <a:pt x="6110" y="0"/>
                        </a:lnTo>
                        <a:lnTo>
                          <a:pt x="6152" y="0"/>
                        </a:lnTo>
                        <a:lnTo>
                          <a:pt x="6179" y="0"/>
                        </a:lnTo>
                        <a:lnTo>
                          <a:pt x="6207" y="0"/>
                        </a:lnTo>
                        <a:lnTo>
                          <a:pt x="6235" y="0"/>
                        </a:lnTo>
                        <a:lnTo>
                          <a:pt x="6262" y="0"/>
                        </a:lnTo>
                        <a:lnTo>
                          <a:pt x="6290" y="0"/>
                        </a:lnTo>
                        <a:lnTo>
                          <a:pt x="6332" y="0"/>
                        </a:lnTo>
                        <a:lnTo>
                          <a:pt x="6359" y="0"/>
                        </a:lnTo>
                        <a:lnTo>
                          <a:pt x="6387" y="0"/>
                        </a:lnTo>
                        <a:lnTo>
                          <a:pt x="6415" y="0"/>
                        </a:lnTo>
                        <a:lnTo>
                          <a:pt x="6442" y="0"/>
                        </a:lnTo>
                        <a:lnTo>
                          <a:pt x="6470" y="0"/>
                        </a:lnTo>
                        <a:lnTo>
                          <a:pt x="6511" y="0"/>
                        </a:lnTo>
                        <a:lnTo>
                          <a:pt x="6539" y="0"/>
                        </a:lnTo>
                        <a:lnTo>
                          <a:pt x="6567" y="0"/>
                        </a:lnTo>
                        <a:lnTo>
                          <a:pt x="6596" y="0"/>
                        </a:lnTo>
                        <a:lnTo>
                          <a:pt x="6637" y="0"/>
                        </a:lnTo>
                        <a:lnTo>
                          <a:pt x="6665" y="0"/>
                        </a:lnTo>
                        <a:lnTo>
                          <a:pt x="6706" y="0"/>
                        </a:lnTo>
                        <a:lnTo>
                          <a:pt x="6734" y="0"/>
                        </a:lnTo>
                        <a:lnTo>
                          <a:pt x="6762" y="0"/>
                        </a:lnTo>
                        <a:lnTo>
                          <a:pt x="6789" y="0"/>
                        </a:lnTo>
                        <a:lnTo>
                          <a:pt x="6817" y="0"/>
                        </a:lnTo>
                        <a:lnTo>
                          <a:pt x="6845" y="0"/>
                        </a:lnTo>
                        <a:lnTo>
                          <a:pt x="6886" y="0"/>
                        </a:lnTo>
                        <a:lnTo>
                          <a:pt x="6914" y="0"/>
                        </a:lnTo>
                        <a:lnTo>
                          <a:pt x="6942" y="0"/>
                        </a:lnTo>
                        <a:lnTo>
                          <a:pt x="6969" y="0"/>
                        </a:lnTo>
                        <a:lnTo>
                          <a:pt x="6997" y="0"/>
                        </a:lnTo>
                        <a:lnTo>
                          <a:pt x="7025" y="0"/>
                        </a:lnTo>
                        <a:lnTo>
                          <a:pt x="7066" y="0"/>
                        </a:lnTo>
                        <a:lnTo>
                          <a:pt x="7094" y="0"/>
                        </a:lnTo>
                        <a:lnTo>
                          <a:pt x="7121" y="0"/>
                        </a:lnTo>
                        <a:lnTo>
                          <a:pt x="7149" y="0"/>
                        </a:lnTo>
                        <a:lnTo>
                          <a:pt x="7177" y="0"/>
                        </a:lnTo>
                        <a:lnTo>
                          <a:pt x="7204" y="0"/>
                        </a:lnTo>
                        <a:lnTo>
                          <a:pt x="7246" y="0"/>
                        </a:lnTo>
                        <a:lnTo>
                          <a:pt x="7273" y="0"/>
                        </a:lnTo>
                        <a:lnTo>
                          <a:pt x="7301" y="0"/>
                        </a:lnTo>
                        <a:lnTo>
                          <a:pt x="7329" y="0"/>
                        </a:lnTo>
                        <a:lnTo>
                          <a:pt x="7356" y="0"/>
                        </a:lnTo>
                        <a:lnTo>
                          <a:pt x="7384" y="0"/>
                        </a:lnTo>
                        <a:lnTo>
                          <a:pt x="7427" y="0"/>
                        </a:lnTo>
                        <a:lnTo>
                          <a:pt x="7455" y="0"/>
                        </a:lnTo>
                        <a:lnTo>
                          <a:pt x="7482" y="0"/>
                        </a:lnTo>
                        <a:lnTo>
                          <a:pt x="7510" y="0"/>
                        </a:lnTo>
                        <a:lnTo>
                          <a:pt x="7538" y="0"/>
                        </a:lnTo>
                        <a:lnTo>
                          <a:pt x="7565" y="0"/>
                        </a:lnTo>
                        <a:lnTo>
                          <a:pt x="759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7" name=""/>
                <p:cNvGrpSpPr/>
                <p:nvPr/>
              </p:nvGrpSpPr>
              <p:grpSpPr>
                <a:xfrm>
                  <a:off x="5073480" y="3205080"/>
                  <a:ext cx="3900600" cy="1800"/>
                  <a:chOff x="5073480" y="3205080"/>
                  <a:chExt cx="3900600" cy="1800"/>
                </a:xfrm>
              </p:grpSpPr>
              <p:sp>
                <p:nvSpPr>
                  <p:cNvPr id="648" name=""/>
                  <p:cNvSpPr/>
                  <p:nvPr/>
                </p:nvSpPr>
                <p:spPr>
                  <a:xfrm>
                    <a:off x="5073480" y="3205080"/>
                    <a:ext cx="39006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7372" h="0">
                        <a:moveTo>
                          <a:pt x="0" y="0"/>
                        </a:moveTo>
                        <a:lnTo>
                          <a:pt x="28" y="0"/>
                        </a:lnTo>
                        <a:lnTo>
                          <a:pt x="69" y="0"/>
                        </a:lnTo>
                        <a:lnTo>
                          <a:pt x="97" y="0"/>
                        </a:lnTo>
                        <a:lnTo>
                          <a:pt x="126" y="0"/>
                        </a:lnTo>
                        <a:lnTo>
                          <a:pt x="154" y="0"/>
                        </a:lnTo>
                        <a:lnTo>
                          <a:pt x="181" y="0"/>
                        </a:lnTo>
                        <a:lnTo>
                          <a:pt x="209" y="0"/>
                        </a:lnTo>
                        <a:lnTo>
                          <a:pt x="251" y="0"/>
                        </a:lnTo>
                        <a:lnTo>
                          <a:pt x="278" y="0"/>
                        </a:lnTo>
                        <a:lnTo>
                          <a:pt x="306" y="0"/>
                        </a:lnTo>
                        <a:lnTo>
                          <a:pt x="334" y="0"/>
                        </a:lnTo>
                        <a:lnTo>
                          <a:pt x="361" y="0"/>
                        </a:lnTo>
                        <a:lnTo>
                          <a:pt x="389" y="0"/>
                        </a:lnTo>
                        <a:lnTo>
                          <a:pt x="430" y="0"/>
                        </a:lnTo>
                        <a:lnTo>
                          <a:pt x="458" y="0"/>
                        </a:lnTo>
                        <a:lnTo>
                          <a:pt x="486" y="0"/>
                        </a:lnTo>
                        <a:lnTo>
                          <a:pt x="513" y="0"/>
                        </a:lnTo>
                        <a:lnTo>
                          <a:pt x="541" y="0"/>
                        </a:lnTo>
                        <a:lnTo>
                          <a:pt x="569" y="0"/>
                        </a:lnTo>
                        <a:lnTo>
                          <a:pt x="610" y="0"/>
                        </a:lnTo>
                        <a:lnTo>
                          <a:pt x="638" y="0"/>
                        </a:lnTo>
                        <a:lnTo>
                          <a:pt x="666" y="0"/>
                        </a:lnTo>
                        <a:lnTo>
                          <a:pt x="693" y="0"/>
                        </a:lnTo>
                        <a:lnTo>
                          <a:pt x="721" y="0"/>
                        </a:lnTo>
                        <a:lnTo>
                          <a:pt x="749" y="0"/>
                        </a:lnTo>
                        <a:lnTo>
                          <a:pt x="790" y="0"/>
                        </a:lnTo>
                        <a:lnTo>
                          <a:pt x="818" y="0"/>
                        </a:lnTo>
                        <a:lnTo>
                          <a:pt x="845" y="0"/>
                        </a:lnTo>
                        <a:lnTo>
                          <a:pt x="873" y="0"/>
                        </a:lnTo>
                        <a:lnTo>
                          <a:pt x="901" y="0"/>
                        </a:lnTo>
                        <a:lnTo>
                          <a:pt x="930" y="0"/>
                        </a:lnTo>
                        <a:lnTo>
                          <a:pt x="971" y="0"/>
                        </a:lnTo>
                        <a:lnTo>
                          <a:pt x="999" y="0"/>
                        </a:lnTo>
                        <a:lnTo>
                          <a:pt x="1027" y="0"/>
                        </a:lnTo>
                        <a:lnTo>
                          <a:pt x="1054" y="0"/>
                        </a:lnTo>
                        <a:lnTo>
                          <a:pt x="1082" y="0"/>
                        </a:lnTo>
                        <a:lnTo>
                          <a:pt x="1110" y="0"/>
                        </a:lnTo>
                        <a:lnTo>
                          <a:pt x="1151" y="0"/>
                        </a:lnTo>
                        <a:lnTo>
                          <a:pt x="1193" y="0"/>
                        </a:lnTo>
                        <a:lnTo>
                          <a:pt x="1220" y="0"/>
                        </a:lnTo>
                        <a:lnTo>
                          <a:pt x="1248" y="0"/>
                        </a:lnTo>
                        <a:lnTo>
                          <a:pt x="1276" y="0"/>
                        </a:lnTo>
                        <a:lnTo>
                          <a:pt x="1303" y="0"/>
                        </a:lnTo>
                        <a:lnTo>
                          <a:pt x="1345" y="0"/>
                        </a:lnTo>
                        <a:lnTo>
                          <a:pt x="1372" y="0"/>
                        </a:lnTo>
                        <a:lnTo>
                          <a:pt x="1400" y="0"/>
                        </a:lnTo>
                        <a:lnTo>
                          <a:pt x="1428" y="0"/>
                        </a:lnTo>
                        <a:lnTo>
                          <a:pt x="1455" y="0"/>
                        </a:lnTo>
                        <a:lnTo>
                          <a:pt x="1483" y="0"/>
                        </a:lnTo>
                        <a:lnTo>
                          <a:pt x="1524" y="0"/>
                        </a:lnTo>
                        <a:lnTo>
                          <a:pt x="1552" y="0"/>
                        </a:lnTo>
                        <a:lnTo>
                          <a:pt x="1580" y="0"/>
                        </a:lnTo>
                        <a:lnTo>
                          <a:pt x="1607" y="0"/>
                        </a:lnTo>
                        <a:lnTo>
                          <a:pt x="1635" y="0"/>
                        </a:lnTo>
                        <a:lnTo>
                          <a:pt x="1677" y="0"/>
                        </a:lnTo>
                        <a:lnTo>
                          <a:pt x="1706" y="0"/>
                        </a:lnTo>
                        <a:lnTo>
                          <a:pt x="1733" y="0"/>
                        </a:lnTo>
                        <a:lnTo>
                          <a:pt x="1761" y="0"/>
                        </a:lnTo>
                        <a:lnTo>
                          <a:pt x="1789" y="0"/>
                        </a:lnTo>
                        <a:lnTo>
                          <a:pt x="1816" y="0"/>
                        </a:lnTo>
                        <a:lnTo>
                          <a:pt x="1858" y="0"/>
                        </a:lnTo>
                        <a:lnTo>
                          <a:pt x="1885" y="0"/>
                        </a:lnTo>
                        <a:lnTo>
                          <a:pt x="1913" y="0"/>
                        </a:lnTo>
                        <a:lnTo>
                          <a:pt x="1941" y="0"/>
                        </a:lnTo>
                        <a:lnTo>
                          <a:pt x="1968" y="0"/>
                        </a:lnTo>
                        <a:lnTo>
                          <a:pt x="1996" y="0"/>
                        </a:lnTo>
                        <a:lnTo>
                          <a:pt x="2038" y="0"/>
                        </a:lnTo>
                        <a:lnTo>
                          <a:pt x="2065" y="0"/>
                        </a:lnTo>
                        <a:lnTo>
                          <a:pt x="2093" y="0"/>
                        </a:lnTo>
                        <a:lnTo>
                          <a:pt x="2121" y="0"/>
                        </a:lnTo>
                        <a:lnTo>
                          <a:pt x="2148" y="0"/>
                        </a:lnTo>
                        <a:lnTo>
                          <a:pt x="2176" y="0"/>
                        </a:lnTo>
                        <a:lnTo>
                          <a:pt x="2217" y="0"/>
                        </a:lnTo>
                        <a:lnTo>
                          <a:pt x="2245" y="0"/>
                        </a:lnTo>
                        <a:lnTo>
                          <a:pt x="2273" y="0"/>
                        </a:lnTo>
                        <a:lnTo>
                          <a:pt x="2300" y="0"/>
                        </a:lnTo>
                        <a:lnTo>
                          <a:pt x="2328" y="0"/>
                        </a:lnTo>
                        <a:lnTo>
                          <a:pt x="2356" y="0"/>
                        </a:lnTo>
                        <a:lnTo>
                          <a:pt x="2397" y="0"/>
                        </a:lnTo>
                        <a:lnTo>
                          <a:pt x="2425" y="0"/>
                        </a:lnTo>
                        <a:lnTo>
                          <a:pt x="2453" y="0"/>
                        </a:lnTo>
                        <a:lnTo>
                          <a:pt x="2480" y="0"/>
                        </a:lnTo>
                        <a:lnTo>
                          <a:pt x="2509" y="0"/>
                        </a:lnTo>
                        <a:lnTo>
                          <a:pt x="2537" y="0"/>
                        </a:lnTo>
                        <a:lnTo>
                          <a:pt x="2578" y="0"/>
                        </a:lnTo>
                        <a:lnTo>
                          <a:pt x="2606" y="0"/>
                        </a:lnTo>
                        <a:lnTo>
                          <a:pt x="2634" y="0"/>
                        </a:lnTo>
                        <a:lnTo>
                          <a:pt x="2661" y="0"/>
                        </a:lnTo>
                        <a:lnTo>
                          <a:pt x="2689" y="0"/>
                        </a:lnTo>
                        <a:lnTo>
                          <a:pt x="2717" y="0"/>
                        </a:lnTo>
                        <a:lnTo>
                          <a:pt x="2758" y="0"/>
                        </a:lnTo>
                        <a:lnTo>
                          <a:pt x="2786" y="0"/>
                        </a:lnTo>
                        <a:lnTo>
                          <a:pt x="2814" y="0"/>
                        </a:lnTo>
                        <a:lnTo>
                          <a:pt x="2841" y="0"/>
                        </a:lnTo>
                        <a:lnTo>
                          <a:pt x="2869" y="0"/>
                        </a:lnTo>
                        <a:lnTo>
                          <a:pt x="2897" y="0"/>
                        </a:lnTo>
                        <a:lnTo>
                          <a:pt x="2938" y="0"/>
                        </a:lnTo>
                        <a:lnTo>
                          <a:pt x="2966" y="0"/>
                        </a:lnTo>
                        <a:lnTo>
                          <a:pt x="2993" y="0"/>
                        </a:lnTo>
                        <a:lnTo>
                          <a:pt x="3021" y="0"/>
                        </a:lnTo>
                        <a:lnTo>
                          <a:pt x="3049" y="0"/>
                        </a:lnTo>
                        <a:lnTo>
                          <a:pt x="3076" y="0"/>
                        </a:lnTo>
                        <a:lnTo>
                          <a:pt x="3118" y="0"/>
                        </a:lnTo>
                        <a:lnTo>
                          <a:pt x="3146" y="0"/>
                        </a:lnTo>
                        <a:lnTo>
                          <a:pt x="3173" y="0"/>
                        </a:lnTo>
                        <a:lnTo>
                          <a:pt x="3201" y="0"/>
                        </a:lnTo>
                        <a:lnTo>
                          <a:pt x="3228" y="0"/>
                        </a:lnTo>
                        <a:lnTo>
                          <a:pt x="3256" y="0"/>
                        </a:lnTo>
                        <a:lnTo>
                          <a:pt x="3299" y="0"/>
                        </a:lnTo>
                        <a:lnTo>
                          <a:pt x="3327" y="0"/>
                        </a:lnTo>
                        <a:lnTo>
                          <a:pt x="3354" y="0"/>
                        </a:lnTo>
                        <a:lnTo>
                          <a:pt x="3382" y="0"/>
                        </a:lnTo>
                        <a:lnTo>
                          <a:pt x="3410" y="0"/>
                        </a:lnTo>
                        <a:lnTo>
                          <a:pt x="3437" y="0"/>
                        </a:lnTo>
                        <a:lnTo>
                          <a:pt x="3479" y="0"/>
                        </a:lnTo>
                        <a:lnTo>
                          <a:pt x="3507" y="0"/>
                        </a:lnTo>
                        <a:lnTo>
                          <a:pt x="3534" y="0"/>
                        </a:lnTo>
                        <a:lnTo>
                          <a:pt x="3562" y="0"/>
                        </a:lnTo>
                        <a:lnTo>
                          <a:pt x="3589" y="0"/>
                        </a:lnTo>
                        <a:lnTo>
                          <a:pt x="3617" y="0"/>
                        </a:lnTo>
                        <a:lnTo>
                          <a:pt x="3659" y="0"/>
                        </a:lnTo>
                        <a:lnTo>
                          <a:pt x="3686" y="0"/>
                        </a:lnTo>
                        <a:lnTo>
                          <a:pt x="3714" y="0"/>
                        </a:lnTo>
                        <a:lnTo>
                          <a:pt x="3742" y="0"/>
                        </a:lnTo>
                        <a:lnTo>
                          <a:pt x="3769" y="0"/>
                        </a:lnTo>
                        <a:lnTo>
                          <a:pt x="3797" y="0"/>
                        </a:lnTo>
                        <a:lnTo>
                          <a:pt x="3852" y="0"/>
                        </a:lnTo>
                        <a:lnTo>
                          <a:pt x="3880" y="0"/>
                        </a:lnTo>
                        <a:lnTo>
                          <a:pt x="3908" y="0"/>
                        </a:lnTo>
                        <a:lnTo>
                          <a:pt x="3935" y="0"/>
                        </a:lnTo>
                        <a:lnTo>
                          <a:pt x="3963" y="0"/>
                        </a:lnTo>
                        <a:lnTo>
                          <a:pt x="3991" y="0"/>
                        </a:lnTo>
                        <a:lnTo>
                          <a:pt x="4032" y="0"/>
                        </a:lnTo>
                        <a:lnTo>
                          <a:pt x="4060" y="0"/>
                        </a:lnTo>
                        <a:lnTo>
                          <a:pt x="4087" y="0"/>
                        </a:lnTo>
                        <a:lnTo>
                          <a:pt x="4116" y="0"/>
                        </a:lnTo>
                        <a:lnTo>
                          <a:pt x="4144" y="0"/>
                        </a:lnTo>
                        <a:lnTo>
                          <a:pt x="4172" y="0"/>
                        </a:lnTo>
                        <a:lnTo>
                          <a:pt x="4213" y="0"/>
                        </a:lnTo>
                        <a:lnTo>
                          <a:pt x="4241" y="0"/>
                        </a:lnTo>
                        <a:lnTo>
                          <a:pt x="4269" y="0"/>
                        </a:lnTo>
                        <a:lnTo>
                          <a:pt x="4296" y="0"/>
                        </a:lnTo>
                        <a:lnTo>
                          <a:pt x="4324" y="0"/>
                        </a:lnTo>
                        <a:lnTo>
                          <a:pt x="4352" y="0"/>
                        </a:lnTo>
                        <a:lnTo>
                          <a:pt x="4393" y="0"/>
                        </a:lnTo>
                        <a:lnTo>
                          <a:pt x="4421" y="0"/>
                        </a:lnTo>
                        <a:lnTo>
                          <a:pt x="4448" y="0"/>
                        </a:lnTo>
                        <a:lnTo>
                          <a:pt x="4476" y="0"/>
                        </a:lnTo>
                        <a:lnTo>
                          <a:pt x="4504" y="0"/>
                        </a:lnTo>
                        <a:lnTo>
                          <a:pt x="4531" y="0"/>
                        </a:lnTo>
                        <a:lnTo>
                          <a:pt x="4573" y="0"/>
                        </a:lnTo>
                        <a:lnTo>
                          <a:pt x="4601" y="0"/>
                        </a:lnTo>
                        <a:lnTo>
                          <a:pt x="4628" y="0"/>
                        </a:lnTo>
                        <a:lnTo>
                          <a:pt x="4656" y="0"/>
                        </a:lnTo>
                        <a:lnTo>
                          <a:pt x="4684" y="0"/>
                        </a:lnTo>
                        <a:lnTo>
                          <a:pt x="4711" y="0"/>
                        </a:lnTo>
                        <a:lnTo>
                          <a:pt x="4753" y="0"/>
                        </a:lnTo>
                        <a:lnTo>
                          <a:pt x="4780" y="0"/>
                        </a:lnTo>
                        <a:lnTo>
                          <a:pt x="4808" y="0"/>
                        </a:lnTo>
                        <a:lnTo>
                          <a:pt x="4836" y="0"/>
                        </a:lnTo>
                        <a:lnTo>
                          <a:pt x="4863" y="0"/>
                        </a:lnTo>
                        <a:lnTo>
                          <a:pt x="4892" y="0"/>
                        </a:lnTo>
                        <a:lnTo>
                          <a:pt x="4934" y="0"/>
                        </a:lnTo>
                        <a:lnTo>
                          <a:pt x="4962" y="0"/>
                        </a:lnTo>
                        <a:lnTo>
                          <a:pt x="4989" y="0"/>
                        </a:lnTo>
                        <a:lnTo>
                          <a:pt x="5017" y="0"/>
                        </a:lnTo>
                        <a:lnTo>
                          <a:pt x="5045" y="0"/>
                        </a:lnTo>
                        <a:lnTo>
                          <a:pt x="5072" y="0"/>
                        </a:lnTo>
                        <a:lnTo>
                          <a:pt x="5114" y="0"/>
                        </a:lnTo>
                        <a:lnTo>
                          <a:pt x="5141" y="0"/>
                        </a:lnTo>
                        <a:lnTo>
                          <a:pt x="5169" y="0"/>
                        </a:lnTo>
                        <a:lnTo>
                          <a:pt x="5197" y="0"/>
                        </a:lnTo>
                        <a:lnTo>
                          <a:pt x="5224" y="0"/>
                        </a:lnTo>
                        <a:lnTo>
                          <a:pt x="5252" y="0"/>
                        </a:lnTo>
                        <a:lnTo>
                          <a:pt x="5293" y="0"/>
                        </a:lnTo>
                        <a:lnTo>
                          <a:pt x="5321" y="0"/>
                        </a:lnTo>
                        <a:lnTo>
                          <a:pt x="5349" y="0"/>
                        </a:lnTo>
                        <a:lnTo>
                          <a:pt x="5376" y="0"/>
                        </a:lnTo>
                        <a:lnTo>
                          <a:pt x="5404" y="0"/>
                        </a:lnTo>
                        <a:lnTo>
                          <a:pt x="5432" y="0"/>
                        </a:lnTo>
                        <a:lnTo>
                          <a:pt x="5473" y="0"/>
                        </a:lnTo>
                        <a:lnTo>
                          <a:pt x="5501" y="0"/>
                        </a:lnTo>
                        <a:lnTo>
                          <a:pt x="5529" y="0"/>
                        </a:lnTo>
                        <a:lnTo>
                          <a:pt x="5556" y="0"/>
                        </a:lnTo>
                        <a:lnTo>
                          <a:pt x="5584" y="0"/>
                        </a:lnTo>
                        <a:lnTo>
                          <a:pt x="5612" y="0"/>
                        </a:lnTo>
                        <a:lnTo>
                          <a:pt x="5653" y="0"/>
                        </a:lnTo>
                        <a:lnTo>
                          <a:pt x="5681" y="0"/>
                        </a:lnTo>
                        <a:lnTo>
                          <a:pt x="5710" y="0"/>
                        </a:lnTo>
                        <a:lnTo>
                          <a:pt x="5737" y="0"/>
                        </a:lnTo>
                        <a:lnTo>
                          <a:pt x="5765" y="0"/>
                        </a:lnTo>
                        <a:lnTo>
                          <a:pt x="5807" y="0"/>
                        </a:lnTo>
                        <a:lnTo>
                          <a:pt x="5834" y="0"/>
                        </a:lnTo>
                        <a:lnTo>
                          <a:pt x="5862" y="0"/>
                        </a:lnTo>
                        <a:lnTo>
                          <a:pt x="5890" y="0"/>
                        </a:lnTo>
                        <a:lnTo>
                          <a:pt x="5917" y="0"/>
                        </a:lnTo>
                        <a:lnTo>
                          <a:pt x="5945" y="0"/>
                        </a:lnTo>
                        <a:lnTo>
                          <a:pt x="5986" y="0"/>
                        </a:lnTo>
                        <a:lnTo>
                          <a:pt x="6014" y="0"/>
                        </a:lnTo>
                        <a:lnTo>
                          <a:pt x="6042" y="0"/>
                        </a:lnTo>
                        <a:lnTo>
                          <a:pt x="6069" y="0"/>
                        </a:lnTo>
                        <a:lnTo>
                          <a:pt x="6097" y="0"/>
                        </a:lnTo>
                        <a:lnTo>
                          <a:pt x="6125" y="0"/>
                        </a:lnTo>
                        <a:lnTo>
                          <a:pt x="6166" y="0"/>
                        </a:lnTo>
                        <a:lnTo>
                          <a:pt x="6194" y="0"/>
                        </a:lnTo>
                        <a:lnTo>
                          <a:pt x="6222" y="0"/>
                        </a:lnTo>
                        <a:lnTo>
                          <a:pt x="6249" y="0"/>
                        </a:lnTo>
                        <a:lnTo>
                          <a:pt x="6277" y="0"/>
                        </a:lnTo>
                        <a:lnTo>
                          <a:pt x="6305" y="0"/>
                        </a:lnTo>
                        <a:lnTo>
                          <a:pt x="6346" y="0"/>
                        </a:lnTo>
                        <a:lnTo>
                          <a:pt x="6374" y="0"/>
                        </a:lnTo>
                        <a:lnTo>
                          <a:pt x="6401" y="0"/>
                        </a:lnTo>
                        <a:lnTo>
                          <a:pt x="6429" y="0"/>
                        </a:lnTo>
                        <a:lnTo>
                          <a:pt x="6457" y="0"/>
                        </a:lnTo>
                        <a:lnTo>
                          <a:pt x="6486" y="0"/>
                        </a:lnTo>
                        <a:lnTo>
                          <a:pt x="6541" y="0"/>
                        </a:lnTo>
                        <a:lnTo>
                          <a:pt x="6569" y="0"/>
                        </a:lnTo>
                        <a:lnTo>
                          <a:pt x="6596" y="0"/>
                        </a:lnTo>
                        <a:lnTo>
                          <a:pt x="6624" y="0"/>
                        </a:lnTo>
                        <a:lnTo>
                          <a:pt x="6652" y="0"/>
                        </a:lnTo>
                        <a:lnTo>
                          <a:pt x="6679" y="0"/>
                        </a:lnTo>
                        <a:lnTo>
                          <a:pt x="6721" y="0"/>
                        </a:lnTo>
                        <a:lnTo>
                          <a:pt x="6749" y="0"/>
                        </a:lnTo>
                        <a:lnTo>
                          <a:pt x="6776" y="0"/>
                        </a:lnTo>
                        <a:lnTo>
                          <a:pt x="6804" y="0"/>
                        </a:lnTo>
                        <a:lnTo>
                          <a:pt x="6832" y="0"/>
                        </a:lnTo>
                        <a:lnTo>
                          <a:pt x="6859" y="0"/>
                        </a:lnTo>
                        <a:lnTo>
                          <a:pt x="6901" y="0"/>
                        </a:lnTo>
                        <a:lnTo>
                          <a:pt x="6928" y="0"/>
                        </a:lnTo>
                        <a:lnTo>
                          <a:pt x="6956" y="0"/>
                        </a:lnTo>
                        <a:lnTo>
                          <a:pt x="6984" y="0"/>
                        </a:lnTo>
                        <a:lnTo>
                          <a:pt x="7011" y="0"/>
                        </a:lnTo>
                        <a:lnTo>
                          <a:pt x="7039" y="0"/>
                        </a:lnTo>
                        <a:lnTo>
                          <a:pt x="7080" y="0"/>
                        </a:lnTo>
                        <a:lnTo>
                          <a:pt x="7108" y="0"/>
                        </a:lnTo>
                        <a:lnTo>
                          <a:pt x="7136" y="0"/>
                        </a:lnTo>
                        <a:lnTo>
                          <a:pt x="7163" y="0"/>
                        </a:lnTo>
                        <a:lnTo>
                          <a:pt x="7191" y="0"/>
                        </a:lnTo>
                        <a:lnTo>
                          <a:pt x="7219" y="0"/>
                        </a:lnTo>
                        <a:lnTo>
                          <a:pt x="7260" y="0"/>
                        </a:lnTo>
                        <a:lnTo>
                          <a:pt x="7289" y="0"/>
                        </a:lnTo>
                        <a:lnTo>
                          <a:pt x="7317" y="0"/>
                        </a:lnTo>
                        <a:lnTo>
                          <a:pt x="7345" y="0"/>
                        </a:lnTo>
                        <a:lnTo>
                          <a:pt x="73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5073480" y="3205080"/>
                    <a:ext cx="39006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7372" h="0">
                        <a:moveTo>
                          <a:pt x="0" y="0"/>
                        </a:moveTo>
                        <a:lnTo>
                          <a:pt x="28" y="0"/>
                        </a:lnTo>
                        <a:lnTo>
                          <a:pt x="69" y="0"/>
                        </a:lnTo>
                        <a:lnTo>
                          <a:pt x="97" y="0"/>
                        </a:lnTo>
                        <a:lnTo>
                          <a:pt x="126" y="0"/>
                        </a:lnTo>
                        <a:lnTo>
                          <a:pt x="154" y="0"/>
                        </a:lnTo>
                        <a:lnTo>
                          <a:pt x="181" y="0"/>
                        </a:lnTo>
                        <a:lnTo>
                          <a:pt x="209" y="0"/>
                        </a:lnTo>
                        <a:lnTo>
                          <a:pt x="251" y="0"/>
                        </a:lnTo>
                        <a:lnTo>
                          <a:pt x="278" y="0"/>
                        </a:lnTo>
                        <a:lnTo>
                          <a:pt x="306" y="0"/>
                        </a:lnTo>
                        <a:lnTo>
                          <a:pt x="334" y="0"/>
                        </a:lnTo>
                        <a:lnTo>
                          <a:pt x="361" y="0"/>
                        </a:lnTo>
                        <a:lnTo>
                          <a:pt x="389" y="0"/>
                        </a:lnTo>
                        <a:lnTo>
                          <a:pt x="430" y="0"/>
                        </a:lnTo>
                        <a:lnTo>
                          <a:pt x="458" y="0"/>
                        </a:lnTo>
                        <a:lnTo>
                          <a:pt x="486" y="0"/>
                        </a:lnTo>
                        <a:lnTo>
                          <a:pt x="513" y="0"/>
                        </a:lnTo>
                        <a:lnTo>
                          <a:pt x="541" y="0"/>
                        </a:lnTo>
                        <a:lnTo>
                          <a:pt x="569" y="0"/>
                        </a:lnTo>
                        <a:lnTo>
                          <a:pt x="610" y="0"/>
                        </a:lnTo>
                        <a:lnTo>
                          <a:pt x="638" y="0"/>
                        </a:lnTo>
                        <a:lnTo>
                          <a:pt x="666" y="0"/>
                        </a:lnTo>
                        <a:lnTo>
                          <a:pt x="693" y="0"/>
                        </a:lnTo>
                        <a:lnTo>
                          <a:pt x="721" y="0"/>
                        </a:lnTo>
                        <a:lnTo>
                          <a:pt x="749" y="0"/>
                        </a:lnTo>
                        <a:lnTo>
                          <a:pt x="790" y="0"/>
                        </a:lnTo>
                        <a:lnTo>
                          <a:pt x="818" y="0"/>
                        </a:lnTo>
                        <a:lnTo>
                          <a:pt x="845" y="0"/>
                        </a:lnTo>
                        <a:lnTo>
                          <a:pt x="873" y="0"/>
                        </a:lnTo>
                        <a:lnTo>
                          <a:pt x="901" y="0"/>
                        </a:lnTo>
                        <a:lnTo>
                          <a:pt x="930" y="0"/>
                        </a:lnTo>
                        <a:lnTo>
                          <a:pt x="971" y="0"/>
                        </a:lnTo>
                        <a:lnTo>
                          <a:pt x="999" y="0"/>
                        </a:lnTo>
                        <a:lnTo>
                          <a:pt x="1027" y="0"/>
                        </a:lnTo>
                        <a:lnTo>
                          <a:pt x="1054" y="0"/>
                        </a:lnTo>
                        <a:lnTo>
                          <a:pt x="1082" y="0"/>
                        </a:lnTo>
                        <a:lnTo>
                          <a:pt x="1110" y="0"/>
                        </a:lnTo>
                        <a:lnTo>
                          <a:pt x="1151" y="0"/>
                        </a:lnTo>
                        <a:lnTo>
                          <a:pt x="1193" y="0"/>
                        </a:lnTo>
                        <a:lnTo>
                          <a:pt x="1220" y="0"/>
                        </a:lnTo>
                        <a:lnTo>
                          <a:pt x="1248" y="0"/>
                        </a:lnTo>
                        <a:lnTo>
                          <a:pt x="1276" y="0"/>
                        </a:lnTo>
                        <a:lnTo>
                          <a:pt x="1303" y="0"/>
                        </a:lnTo>
                        <a:lnTo>
                          <a:pt x="1345" y="0"/>
                        </a:lnTo>
                        <a:lnTo>
                          <a:pt x="1372" y="0"/>
                        </a:lnTo>
                        <a:lnTo>
                          <a:pt x="1400" y="0"/>
                        </a:lnTo>
                        <a:lnTo>
                          <a:pt x="1428" y="0"/>
                        </a:lnTo>
                        <a:lnTo>
                          <a:pt x="1455" y="0"/>
                        </a:lnTo>
                        <a:lnTo>
                          <a:pt x="1483" y="0"/>
                        </a:lnTo>
                        <a:lnTo>
                          <a:pt x="1524" y="0"/>
                        </a:lnTo>
                        <a:lnTo>
                          <a:pt x="1552" y="0"/>
                        </a:lnTo>
                        <a:lnTo>
                          <a:pt x="1580" y="0"/>
                        </a:lnTo>
                        <a:lnTo>
                          <a:pt x="1607" y="0"/>
                        </a:lnTo>
                        <a:lnTo>
                          <a:pt x="1635" y="0"/>
                        </a:lnTo>
                        <a:lnTo>
                          <a:pt x="1677" y="0"/>
                        </a:lnTo>
                        <a:lnTo>
                          <a:pt x="1706" y="0"/>
                        </a:lnTo>
                        <a:lnTo>
                          <a:pt x="1733" y="0"/>
                        </a:lnTo>
                        <a:lnTo>
                          <a:pt x="1761" y="0"/>
                        </a:lnTo>
                        <a:lnTo>
                          <a:pt x="1789" y="0"/>
                        </a:lnTo>
                        <a:lnTo>
                          <a:pt x="1816" y="0"/>
                        </a:lnTo>
                        <a:lnTo>
                          <a:pt x="1858" y="0"/>
                        </a:lnTo>
                        <a:lnTo>
                          <a:pt x="1885" y="0"/>
                        </a:lnTo>
                        <a:lnTo>
                          <a:pt x="1913" y="0"/>
                        </a:lnTo>
                        <a:lnTo>
                          <a:pt x="1941" y="0"/>
                        </a:lnTo>
                        <a:lnTo>
                          <a:pt x="1968" y="0"/>
                        </a:lnTo>
                        <a:lnTo>
                          <a:pt x="1996" y="0"/>
                        </a:lnTo>
                        <a:lnTo>
                          <a:pt x="2038" y="0"/>
                        </a:lnTo>
                        <a:lnTo>
                          <a:pt x="2065" y="0"/>
                        </a:lnTo>
                        <a:lnTo>
                          <a:pt x="2093" y="0"/>
                        </a:lnTo>
                        <a:lnTo>
                          <a:pt x="2121" y="0"/>
                        </a:lnTo>
                        <a:lnTo>
                          <a:pt x="2148" y="0"/>
                        </a:lnTo>
                        <a:lnTo>
                          <a:pt x="2176" y="0"/>
                        </a:lnTo>
                        <a:lnTo>
                          <a:pt x="2217" y="0"/>
                        </a:lnTo>
                        <a:lnTo>
                          <a:pt x="2245" y="0"/>
                        </a:lnTo>
                        <a:lnTo>
                          <a:pt x="2273" y="0"/>
                        </a:lnTo>
                        <a:lnTo>
                          <a:pt x="2300" y="0"/>
                        </a:lnTo>
                        <a:lnTo>
                          <a:pt x="2328" y="0"/>
                        </a:lnTo>
                        <a:lnTo>
                          <a:pt x="2356" y="0"/>
                        </a:lnTo>
                        <a:lnTo>
                          <a:pt x="2397" y="0"/>
                        </a:lnTo>
                        <a:lnTo>
                          <a:pt x="2425" y="0"/>
                        </a:lnTo>
                        <a:lnTo>
                          <a:pt x="2453" y="0"/>
                        </a:lnTo>
                        <a:lnTo>
                          <a:pt x="2480" y="0"/>
                        </a:lnTo>
                        <a:lnTo>
                          <a:pt x="2509" y="0"/>
                        </a:lnTo>
                        <a:lnTo>
                          <a:pt x="2537" y="0"/>
                        </a:lnTo>
                        <a:lnTo>
                          <a:pt x="2578" y="0"/>
                        </a:lnTo>
                        <a:lnTo>
                          <a:pt x="2606" y="0"/>
                        </a:lnTo>
                        <a:lnTo>
                          <a:pt x="2634" y="0"/>
                        </a:lnTo>
                        <a:lnTo>
                          <a:pt x="2661" y="0"/>
                        </a:lnTo>
                        <a:lnTo>
                          <a:pt x="2689" y="0"/>
                        </a:lnTo>
                        <a:lnTo>
                          <a:pt x="2717" y="0"/>
                        </a:lnTo>
                        <a:lnTo>
                          <a:pt x="2758" y="0"/>
                        </a:lnTo>
                        <a:lnTo>
                          <a:pt x="2786" y="0"/>
                        </a:lnTo>
                        <a:lnTo>
                          <a:pt x="2814" y="0"/>
                        </a:lnTo>
                        <a:lnTo>
                          <a:pt x="2841" y="0"/>
                        </a:lnTo>
                        <a:lnTo>
                          <a:pt x="2869" y="0"/>
                        </a:lnTo>
                        <a:lnTo>
                          <a:pt x="2897" y="0"/>
                        </a:lnTo>
                        <a:lnTo>
                          <a:pt x="2938" y="0"/>
                        </a:lnTo>
                        <a:lnTo>
                          <a:pt x="2966" y="0"/>
                        </a:lnTo>
                        <a:lnTo>
                          <a:pt x="2993" y="0"/>
                        </a:lnTo>
                        <a:lnTo>
                          <a:pt x="3021" y="0"/>
                        </a:lnTo>
                        <a:lnTo>
                          <a:pt x="3049" y="0"/>
                        </a:lnTo>
                        <a:lnTo>
                          <a:pt x="3076" y="0"/>
                        </a:lnTo>
                        <a:lnTo>
                          <a:pt x="3118" y="0"/>
                        </a:lnTo>
                        <a:lnTo>
                          <a:pt x="3146" y="0"/>
                        </a:lnTo>
                        <a:lnTo>
                          <a:pt x="3173" y="0"/>
                        </a:lnTo>
                        <a:lnTo>
                          <a:pt x="3201" y="0"/>
                        </a:lnTo>
                        <a:lnTo>
                          <a:pt x="3228" y="0"/>
                        </a:lnTo>
                        <a:lnTo>
                          <a:pt x="3256" y="0"/>
                        </a:lnTo>
                        <a:lnTo>
                          <a:pt x="3299" y="0"/>
                        </a:lnTo>
                        <a:lnTo>
                          <a:pt x="3327" y="0"/>
                        </a:lnTo>
                        <a:lnTo>
                          <a:pt x="3354" y="0"/>
                        </a:lnTo>
                        <a:lnTo>
                          <a:pt x="3382" y="0"/>
                        </a:lnTo>
                        <a:lnTo>
                          <a:pt x="3410" y="0"/>
                        </a:lnTo>
                        <a:lnTo>
                          <a:pt x="3437" y="0"/>
                        </a:lnTo>
                        <a:lnTo>
                          <a:pt x="3479" y="0"/>
                        </a:lnTo>
                        <a:lnTo>
                          <a:pt x="3507" y="0"/>
                        </a:lnTo>
                        <a:lnTo>
                          <a:pt x="3534" y="0"/>
                        </a:lnTo>
                        <a:lnTo>
                          <a:pt x="3562" y="0"/>
                        </a:lnTo>
                        <a:lnTo>
                          <a:pt x="3589" y="0"/>
                        </a:lnTo>
                        <a:lnTo>
                          <a:pt x="3617" y="0"/>
                        </a:lnTo>
                        <a:lnTo>
                          <a:pt x="3659" y="0"/>
                        </a:lnTo>
                        <a:lnTo>
                          <a:pt x="3686" y="0"/>
                        </a:lnTo>
                        <a:lnTo>
                          <a:pt x="3714" y="0"/>
                        </a:lnTo>
                        <a:lnTo>
                          <a:pt x="3742" y="0"/>
                        </a:lnTo>
                        <a:lnTo>
                          <a:pt x="3769" y="0"/>
                        </a:lnTo>
                        <a:lnTo>
                          <a:pt x="3797" y="0"/>
                        </a:lnTo>
                        <a:lnTo>
                          <a:pt x="3852" y="0"/>
                        </a:lnTo>
                        <a:lnTo>
                          <a:pt x="3880" y="0"/>
                        </a:lnTo>
                        <a:lnTo>
                          <a:pt x="3908" y="0"/>
                        </a:lnTo>
                        <a:lnTo>
                          <a:pt x="3935" y="0"/>
                        </a:lnTo>
                        <a:lnTo>
                          <a:pt x="3963" y="0"/>
                        </a:lnTo>
                        <a:lnTo>
                          <a:pt x="3991" y="0"/>
                        </a:lnTo>
                        <a:lnTo>
                          <a:pt x="4032" y="0"/>
                        </a:lnTo>
                        <a:lnTo>
                          <a:pt x="4060" y="0"/>
                        </a:lnTo>
                        <a:lnTo>
                          <a:pt x="4087" y="0"/>
                        </a:lnTo>
                        <a:lnTo>
                          <a:pt x="4116" y="0"/>
                        </a:lnTo>
                        <a:lnTo>
                          <a:pt x="4144" y="0"/>
                        </a:lnTo>
                        <a:lnTo>
                          <a:pt x="4172" y="0"/>
                        </a:lnTo>
                        <a:lnTo>
                          <a:pt x="4213" y="0"/>
                        </a:lnTo>
                        <a:lnTo>
                          <a:pt x="4241" y="0"/>
                        </a:lnTo>
                        <a:lnTo>
                          <a:pt x="4269" y="0"/>
                        </a:lnTo>
                        <a:lnTo>
                          <a:pt x="4296" y="0"/>
                        </a:lnTo>
                        <a:lnTo>
                          <a:pt x="4324" y="0"/>
                        </a:lnTo>
                        <a:lnTo>
                          <a:pt x="4352" y="0"/>
                        </a:lnTo>
                        <a:lnTo>
                          <a:pt x="4393" y="0"/>
                        </a:lnTo>
                        <a:lnTo>
                          <a:pt x="4421" y="0"/>
                        </a:lnTo>
                        <a:lnTo>
                          <a:pt x="4448" y="0"/>
                        </a:lnTo>
                        <a:lnTo>
                          <a:pt x="4476" y="0"/>
                        </a:lnTo>
                        <a:lnTo>
                          <a:pt x="4504" y="0"/>
                        </a:lnTo>
                        <a:lnTo>
                          <a:pt x="4531" y="0"/>
                        </a:lnTo>
                        <a:lnTo>
                          <a:pt x="4573" y="0"/>
                        </a:lnTo>
                        <a:lnTo>
                          <a:pt x="4601" y="0"/>
                        </a:lnTo>
                        <a:lnTo>
                          <a:pt x="4628" y="0"/>
                        </a:lnTo>
                        <a:lnTo>
                          <a:pt x="4656" y="0"/>
                        </a:lnTo>
                        <a:lnTo>
                          <a:pt x="4684" y="0"/>
                        </a:lnTo>
                        <a:lnTo>
                          <a:pt x="4711" y="0"/>
                        </a:lnTo>
                        <a:lnTo>
                          <a:pt x="4753" y="0"/>
                        </a:lnTo>
                        <a:lnTo>
                          <a:pt x="4780" y="0"/>
                        </a:lnTo>
                        <a:lnTo>
                          <a:pt x="4808" y="0"/>
                        </a:lnTo>
                        <a:lnTo>
                          <a:pt x="4836" y="0"/>
                        </a:lnTo>
                        <a:lnTo>
                          <a:pt x="4863" y="0"/>
                        </a:lnTo>
                        <a:lnTo>
                          <a:pt x="4892" y="0"/>
                        </a:lnTo>
                        <a:lnTo>
                          <a:pt x="4934" y="0"/>
                        </a:lnTo>
                        <a:lnTo>
                          <a:pt x="4962" y="0"/>
                        </a:lnTo>
                        <a:lnTo>
                          <a:pt x="4989" y="0"/>
                        </a:lnTo>
                        <a:lnTo>
                          <a:pt x="5017" y="0"/>
                        </a:lnTo>
                        <a:lnTo>
                          <a:pt x="5045" y="0"/>
                        </a:lnTo>
                        <a:lnTo>
                          <a:pt x="5072" y="0"/>
                        </a:lnTo>
                        <a:lnTo>
                          <a:pt x="5114" y="0"/>
                        </a:lnTo>
                        <a:lnTo>
                          <a:pt x="5141" y="0"/>
                        </a:lnTo>
                        <a:lnTo>
                          <a:pt x="5169" y="0"/>
                        </a:lnTo>
                        <a:lnTo>
                          <a:pt x="5197" y="0"/>
                        </a:lnTo>
                        <a:lnTo>
                          <a:pt x="5224" y="0"/>
                        </a:lnTo>
                        <a:lnTo>
                          <a:pt x="5252" y="0"/>
                        </a:lnTo>
                        <a:lnTo>
                          <a:pt x="5293" y="0"/>
                        </a:lnTo>
                        <a:lnTo>
                          <a:pt x="5321" y="0"/>
                        </a:lnTo>
                        <a:lnTo>
                          <a:pt x="5349" y="0"/>
                        </a:lnTo>
                        <a:lnTo>
                          <a:pt x="5376" y="0"/>
                        </a:lnTo>
                        <a:lnTo>
                          <a:pt x="5404" y="0"/>
                        </a:lnTo>
                        <a:lnTo>
                          <a:pt x="5432" y="0"/>
                        </a:lnTo>
                        <a:lnTo>
                          <a:pt x="5473" y="0"/>
                        </a:lnTo>
                        <a:lnTo>
                          <a:pt x="5501" y="0"/>
                        </a:lnTo>
                        <a:lnTo>
                          <a:pt x="5529" y="0"/>
                        </a:lnTo>
                        <a:lnTo>
                          <a:pt x="5556" y="0"/>
                        </a:lnTo>
                        <a:lnTo>
                          <a:pt x="5584" y="0"/>
                        </a:lnTo>
                        <a:lnTo>
                          <a:pt x="5612" y="0"/>
                        </a:lnTo>
                        <a:lnTo>
                          <a:pt x="5653" y="0"/>
                        </a:lnTo>
                        <a:lnTo>
                          <a:pt x="5681" y="0"/>
                        </a:lnTo>
                        <a:lnTo>
                          <a:pt x="5710" y="0"/>
                        </a:lnTo>
                        <a:lnTo>
                          <a:pt x="5737" y="0"/>
                        </a:lnTo>
                        <a:lnTo>
                          <a:pt x="5765" y="0"/>
                        </a:lnTo>
                        <a:lnTo>
                          <a:pt x="5807" y="0"/>
                        </a:lnTo>
                        <a:lnTo>
                          <a:pt x="5834" y="0"/>
                        </a:lnTo>
                        <a:lnTo>
                          <a:pt x="5862" y="0"/>
                        </a:lnTo>
                        <a:lnTo>
                          <a:pt x="5890" y="0"/>
                        </a:lnTo>
                        <a:lnTo>
                          <a:pt x="5917" y="0"/>
                        </a:lnTo>
                        <a:lnTo>
                          <a:pt x="5945" y="0"/>
                        </a:lnTo>
                        <a:lnTo>
                          <a:pt x="5986" y="0"/>
                        </a:lnTo>
                        <a:lnTo>
                          <a:pt x="6014" y="0"/>
                        </a:lnTo>
                        <a:lnTo>
                          <a:pt x="6042" y="0"/>
                        </a:lnTo>
                        <a:lnTo>
                          <a:pt x="6069" y="0"/>
                        </a:lnTo>
                        <a:lnTo>
                          <a:pt x="6097" y="0"/>
                        </a:lnTo>
                        <a:lnTo>
                          <a:pt x="6125" y="0"/>
                        </a:lnTo>
                        <a:lnTo>
                          <a:pt x="6166" y="0"/>
                        </a:lnTo>
                        <a:lnTo>
                          <a:pt x="6194" y="0"/>
                        </a:lnTo>
                        <a:lnTo>
                          <a:pt x="6222" y="0"/>
                        </a:lnTo>
                        <a:lnTo>
                          <a:pt x="6249" y="0"/>
                        </a:lnTo>
                        <a:lnTo>
                          <a:pt x="6277" y="0"/>
                        </a:lnTo>
                        <a:lnTo>
                          <a:pt x="6305" y="0"/>
                        </a:lnTo>
                        <a:lnTo>
                          <a:pt x="6346" y="0"/>
                        </a:lnTo>
                        <a:lnTo>
                          <a:pt x="6374" y="0"/>
                        </a:lnTo>
                        <a:lnTo>
                          <a:pt x="6401" y="0"/>
                        </a:lnTo>
                        <a:lnTo>
                          <a:pt x="6429" y="0"/>
                        </a:lnTo>
                        <a:lnTo>
                          <a:pt x="6457" y="0"/>
                        </a:lnTo>
                        <a:lnTo>
                          <a:pt x="6486" y="0"/>
                        </a:lnTo>
                        <a:lnTo>
                          <a:pt x="6541" y="0"/>
                        </a:lnTo>
                        <a:lnTo>
                          <a:pt x="6569" y="0"/>
                        </a:lnTo>
                        <a:lnTo>
                          <a:pt x="6596" y="0"/>
                        </a:lnTo>
                        <a:lnTo>
                          <a:pt x="6624" y="0"/>
                        </a:lnTo>
                        <a:lnTo>
                          <a:pt x="6652" y="0"/>
                        </a:lnTo>
                        <a:lnTo>
                          <a:pt x="6679" y="0"/>
                        </a:lnTo>
                        <a:lnTo>
                          <a:pt x="6721" y="0"/>
                        </a:lnTo>
                        <a:lnTo>
                          <a:pt x="6749" y="0"/>
                        </a:lnTo>
                        <a:lnTo>
                          <a:pt x="6776" y="0"/>
                        </a:lnTo>
                        <a:lnTo>
                          <a:pt x="6804" y="0"/>
                        </a:lnTo>
                        <a:lnTo>
                          <a:pt x="6832" y="0"/>
                        </a:lnTo>
                        <a:lnTo>
                          <a:pt x="6859" y="0"/>
                        </a:lnTo>
                        <a:lnTo>
                          <a:pt x="6901" y="0"/>
                        </a:lnTo>
                        <a:lnTo>
                          <a:pt x="6928" y="0"/>
                        </a:lnTo>
                        <a:lnTo>
                          <a:pt x="6956" y="0"/>
                        </a:lnTo>
                        <a:lnTo>
                          <a:pt x="6984" y="0"/>
                        </a:lnTo>
                        <a:lnTo>
                          <a:pt x="7011" y="0"/>
                        </a:lnTo>
                        <a:lnTo>
                          <a:pt x="7039" y="0"/>
                        </a:lnTo>
                        <a:lnTo>
                          <a:pt x="7080" y="0"/>
                        </a:lnTo>
                        <a:lnTo>
                          <a:pt x="7108" y="0"/>
                        </a:lnTo>
                        <a:lnTo>
                          <a:pt x="7136" y="0"/>
                        </a:lnTo>
                        <a:lnTo>
                          <a:pt x="7163" y="0"/>
                        </a:lnTo>
                        <a:lnTo>
                          <a:pt x="7191" y="0"/>
                        </a:lnTo>
                        <a:lnTo>
                          <a:pt x="7219" y="0"/>
                        </a:lnTo>
                        <a:lnTo>
                          <a:pt x="7260" y="0"/>
                        </a:lnTo>
                        <a:lnTo>
                          <a:pt x="7289" y="0"/>
                        </a:lnTo>
                        <a:lnTo>
                          <a:pt x="7317" y="0"/>
                        </a:lnTo>
                        <a:lnTo>
                          <a:pt x="7345" y="0"/>
                        </a:lnTo>
                        <a:lnTo>
                          <a:pt x="737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0" name=""/>
                <p:cNvGrpSpPr/>
                <p:nvPr/>
              </p:nvGrpSpPr>
              <p:grpSpPr>
                <a:xfrm>
                  <a:off x="5207040" y="2978280"/>
                  <a:ext cx="3643200" cy="1440"/>
                  <a:chOff x="5207040" y="2978280"/>
                  <a:chExt cx="3643200" cy="1440"/>
                </a:xfrm>
              </p:grpSpPr>
              <p:sp>
                <p:nvSpPr>
                  <p:cNvPr id="651" name=""/>
                  <p:cNvSpPr/>
                  <p:nvPr/>
                </p:nvSpPr>
                <p:spPr>
                  <a:xfrm>
                    <a:off x="5207040" y="2978280"/>
                    <a:ext cx="36432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5" h="0">
                        <a:moveTo>
                          <a:pt x="0" y="0"/>
                        </a:moveTo>
                        <a:lnTo>
                          <a:pt x="27" y="0"/>
                        </a:lnTo>
                        <a:lnTo>
                          <a:pt x="55" y="0"/>
                        </a:lnTo>
                        <a:lnTo>
                          <a:pt x="83" y="0"/>
                        </a:lnTo>
                        <a:lnTo>
                          <a:pt x="124" y="0"/>
                        </a:lnTo>
                        <a:lnTo>
                          <a:pt x="152" y="0"/>
                        </a:lnTo>
                        <a:lnTo>
                          <a:pt x="179" y="0"/>
                        </a:lnTo>
                        <a:lnTo>
                          <a:pt x="207" y="0"/>
                        </a:lnTo>
                        <a:lnTo>
                          <a:pt x="235" y="0"/>
                        </a:lnTo>
                        <a:lnTo>
                          <a:pt x="262" y="0"/>
                        </a:lnTo>
                        <a:lnTo>
                          <a:pt x="304" y="0"/>
                        </a:lnTo>
                        <a:lnTo>
                          <a:pt x="332" y="0"/>
                        </a:lnTo>
                        <a:lnTo>
                          <a:pt x="359" y="0"/>
                        </a:lnTo>
                        <a:lnTo>
                          <a:pt x="387" y="0"/>
                        </a:lnTo>
                        <a:lnTo>
                          <a:pt x="415" y="0"/>
                        </a:lnTo>
                        <a:lnTo>
                          <a:pt x="442" y="0"/>
                        </a:lnTo>
                        <a:lnTo>
                          <a:pt x="470" y="0"/>
                        </a:lnTo>
                        <a:lnTo>
                          <a:pt x="511" y="0"/>
                        </a:lnTo>
                        <a:lnTo>
                          <a:pt x="539" y="0"/>
                        </a:lnTo>
                        <a:lnTo>
                          <a:pt x="567" y="0"/>
                        </a:lnTo>
                        <a:lnTo>
                          <a:pt x="594" y="0"/>
                        </a:lnTo>
                        <a:lnTo>
                          <a:pt x="622" y="0"/>
                        </a:lnTo>
                        <a:lnTo>
                          <a:pt x="650" y="0"/>
                        </a:lnTo>
                        <a:lnTo>
                          <a:pt x="693" y="0"/>
                        </a:lnTo>
                        <a:lnTo>
                          <a:pt x="720" y="0"/>
                        </a:lnTo>
                        <a:lnTo>
                          <a:pt x="748" y="0"/>
                        </a:lnTo>
                        <a:lnTo>
                          <a:pt x="776" y="0"/>
                        </a:lnTo>
                        <a:lnTo>
                          <a:pt x="803" y="0"/>
                        </a:lnTo>
                        <a:lnTo>
                          <a:pt x="831" y="0"/>
                        </a:lnTo>
                        <a:lnTo>
                          <a:pt x="872" y="0"/>
                        </a:lnTo>
                        <a:lnTo>
                          <a:pt x="900" y="0"/>
                        </a:lnTo>
                        <a:lnTo>
                          <a:pt x="942" y="0"/>
                        </a:lnTo>
                        <a:lnTo>
                          <a:pt x="969" y="0"/>
                        </a:lnTo>
                        <a:lnTo>
                          <a:pt x="997" y="0"/>
                        </a:lnTo>
                        <a:lnTo>
                          <a:pt x="1025" y="0"/>
                        </a:lnTo>
                        <a:lnTo>
                          <a:pt x="1066" y="0"/>
                        </a:lnTo>
                        <a:lnTo>
                          <a:pt x="1094" y="0"/>
                        </a:lnTo>
                        <a:lnTo>
                          <a:pt x="1121" y="0"/>
                        </a:lnTo>
                        <a:lnTo>
                          <a:pt x="1149" y="0"/>
                        </a:lnTo>
                        <a:lnTo>
                          <a:pt x="1177" y="0"/>
                        </a:lnTo>
                        <a:lnTo>
                          <a:pt x="1204" y="0"/>
                        </a:lnTo>
                        <a:lnTo>
                          <a:pt x="1246" y="0"/>
                        </a:lnTo>
                        <a:lnTo>
                          <a:pt x="1273" y="0"/>
                        </a:lnTo>
                        <a:lnTo>
                          <a:pt x="1301" y="0"/>
                        </a:lnTo>
                        <a:lnTo>
                          <a:pt x="1329" y="0"/>
                        </a:lnTo>
                        <a:lnTo>
                          <a:pt x="1356" y="0"/>
                        </a:lnTo>
                        <a:lnTo>
                          <a:pt x="1384" y="0"/>
                        </a:lnTo>
                        <a:lnTo>
                          <a:pt x="1426" y="0"/>
                        </a:lnTo>
                        <a:lnTo>
                          <a:pt x="1455" y="0"/>
                        </a:lnTo>
                        <a:lnTo>
                          <a:pt x="1482" y="0"/>
                        </a:lnTo>
                        <a:lnTo>
                          <a:pt x="1510" y="0"/>
                        </a:lnTo>
                        <a:lnTo>
                          <a:pt x="1538" y="0"/>
                        </a:lnTo>
                        <a:lnTo>
                          <a:pt x="1565" y="0"/>
                        </a:lnTo>
                        <a:lnTo>
                          <a:pt x="1607" y="0"/>
                        </a:lnTo>
                        <a:lnTo>
                          <a:pt x="1634" y="0"/>
                        </a:lnTo>
                        <a:lnTo>
                          <a:pt x="1662" y="0"/>
                        </a:lnTo>
                        <a:lnTo>
                          <a:pt x="1690" y="0"/>
                        </a:lnTo>
                        <a:lnTo>
                          <a:pt x="1717" y="0"/>
                        </a:lnTo>
                        <a:lnTo>
                          <a:pt x="1745" y="0"/>
                        </a:lnTo>
                        <a:lnTo>
                          <a:pt x="1787" y="0"/>
                        </a:lnTo>
                        <a:lnTo>
                          <a:pt x="1814" y="0"/>
                        </a:lnTo>
                        <a:lnTo>
                          <a:pt x="1842" y="0"/>
                        </a:lnTo>
                        <a:lnTo>
                          <a:pt x="1870" y="0"/>
                        </a:lnTo>
                        <a:lnTo>
                          <a:pt x="1897" y="0"/>
                        </a:lnTo>
                        <a:lnTo>
                          <a:pt x="1925" y="0"/>
                        </a:lnTo>
                        <a:lnTo>
                          <a:pt x="1966" y="0"/>
                        </a:lnTo>
                        <a:lnTo>
                          <a:pt x="1994" y="0"/>
                        </a:lnTo>
                        <a:lnTo>
                          <a:pt x="2022" y="0"/>
                        </a:lnTo>
                        <a:lnTo>
                          <a:pt x="2049" y="0"/>
                        </a:lnTo>
                        <a:lnTo>
                          <a:pt x="2077" y="0"/>
                        </a:lnTo>
                        <a:lnTo>
                          <a:pt x="2105" y="0"/>
                        </a:lnTo>
                        <a:lnTo>
                          <a:pt x="2146" y="0"/>
                        </a:lnTo>
                        <a:lnTo>
                          <a:pt x="2174" y="0"/>
                        </a:lnTo>
                        <a:lnTo>
                          <a:pt x="2202" y="0"/>
                        </a:lnTo>
                        <a:lnTo>
                          <a:pt x="2229" y="0"/>
                        </a:lnTo>
                        <a:lnTo>
                          <a:pt x="2258" y="0"/>
                        </a:lnTo>
                        <a:lnTo>
                          <a:pt x="2286" y="0"/>
                        </a:lnTo>
                        <a:lnTo>
                          <a:pt x="2327" y="0"/>
                        </a:lnTo>
                        <a:lnTo>
                          <a:pt x="2355" y="0"/>
                        </a:lnTo>
                        <a:lnTo>
                          <a:pt x="2383" y="0"/>
                        </a:lnTo>
                        <a:lnTo>
                          <a:pt x="2410" y="0"/>
                        </a:lnTo>
                        <a:lnTo>
                          <a:pt x="2438" y="0"/>
                        </a:lnTo>
                        <a:lnTo>
                          <a:pt x="2466" y="0"/>
                        </a:lnTo>
                        <a:lnTo>
                          <a:pt x="2507" y="0"/>
                        </a:lnTo>
                        <a:lnTo>
                          <a:pt x="2535" y="0"/>
                        </a:lnTo>
                        <a:lnTo>
                          <a:pt x="2563" y="0"/>
                        </a:lnTo>
                        <a:lnTo>
                          <a:pt x="2590" y="0"/>
                        </a:lnTo>
                        <a:lnTo>
                          <a:pt x="2618" y="0"/>
                        </a:lnTo>
                        <a:lnTo>
                          <a:pt x="2646" y="0"/>
                        </a:lnTo>
                        <a:lnTo>
                          <a:pt x="2687" y="0"/>
                        </a:lnTo>
                        <a:lnTo>
                          <a:pt x="2715" y="0"/>
                        </a:lnTo>
                        <a:lnTo>
                          <a:pt x="2742" y="0"/>
                        </a:lnTo>
                        <a:lnTo>
                          <a:pt x="2770" y="0"/>
                        </a:lnTo>
                        <a:lnTo>
                          <a:pt x="2798" y="0"/>
                        </a:lnTo>
                        <a:lnTo>
                          <a:pt x="2825" y="0"/>
                        </a:lnTo>
                        <a:lnTo>
                          <a:pt x="2867" y="0"/>
                        </a:lnTo>
                        <a:lnTo>
                          <a:pt x="2895" y="0"/>
                        </a:lnTo>
                        <a:lnTo>
                          <a:pt x="2922" y="0"/>
                        </a:lnTo>
                        <a:lnTo>
                          <a:pt x="2950" y="0"/>
                        </a:lnTo>
                        <a:lnTo>
                          <a:pt x="2977" y="0"/>
                        </a:lnTo>
                        <a:lnTo>
                          <a:pt x="3005" y="0"/>
                        </a:lnTo>
                        <a:lnTo>
                          <a:pt x="3048" y="0"/>
                        </a:lnTo>
                        <a:lnTo>
                          <a:pt x="3076" y="0"/>
                        </a:lnTo>
                        <a:lnTo>
                          <a:pt x="3103" y="0"/>
                        </a:lnTo>
                        <a:lnTo>
                          <a:pt x="3131" y="0"/>
                        </a:lnTo>
                        <a:lnTo>
                          <a:pt x="3159" y="0"/>
                        </a:lnTo>
                        <a:lnTo>
                          <a:pt x="3186" y="0"/>
                        </a:lnTo>
                        <a:lnTo>
                          <a:pt x="3228" y="0"/>
                        </a:lnTo>
                        <a:lnTo>
                          <a:pt x="3256" y="0"/>
                        </a:lnTo>
                        <a:lnTo>
                          <a:pt x="3283" y="0"/>
                        </a:lnTo>
                        <a:lnTo>
                          <a:pt x="3311" y="0"/>
                        </a:lnTo>
                        <a:lnTo>
                          <a:pt x="3338" y="0"/>
                        </a:lnTo>
                        <a:lnTo>
                          <a:pt x="3366" y="0"/>
                        </a:lnTo>
                        <a:lnTo>
                          <a:pt x="3408" y="0"/>
                        </a:lnTo>
                        <a:lnTo>
                          <a:pt x="3435" y="0"/>
                        </a:lnTo>
                        <a:lnTo>
                          <a:pt x="3463" y="0"/>
                        </a:lnTo>
                        <a:lnTo>
                          <a:pt x="3491" y="0"/>
                        </a:lnTo>
                        <a:lnTo>
                          <a:pt x="3518" y="0"/>
                        </a:lnTo>
                        <a:lnTo>
                          <a:pt x="3546" y="0"/>
                        </a:lnTo>
                        <a:lnTo>
                          <a:pt x="3601" y="0"/>
                        </a:lnTo>
                        <a:lnTo>
                          <a:pt x="3629" y="0"/>
                        </a:lnTo>
                        <a:lnTo>
                          <a:pt x="3657" y="0"/>
                        </a:lnTo>
                        <a:lnTo>
                          <a:pt x="3684" y="0"/>
                        </a:lnTo>
                        <a:lnTo>
                          <a:pt x="3712" y="0"/>
                        </a:lnTo>
                        <a:lnTo>
                          <a:pt x="3740" y="0"/>
                        </a:lnTo>
                        <a:lnTo>
                          <a:pt x="3781" y="0"/>
                        </a:lnTo>
                        <a:lnTo>
                          <a:pt x="3809" y="0"/>
                        </a:lnTo>
                        <a:lnTo>
                          <a:pt x="3836" y="0"/>
                        </a:lnTo>
                        <a:lnTo>
                          <a:pt x="3865" y="0"/>
                        </a:lnTo>
                        <a:lnTo>
                          <a:pt x="3893" y="0"/>
                        </a:lnTo>
                        <a:lnTo>
                          <a:pt x="3921" y="0"/>
                        </a:lnTo>
                        <a:lnTo>
                          <a:pt x="3962" y="0"/>
                        </a:lnTo>
                        <a:lnTo>
                          <a:pt x="3990" y="0"/>
                        </a:lnTo>
                        <a:lnTo>
                          <a:pt x="4018" y="0"/>
                        </a:lnTo>
                        <a:lnTo>
                          <a:pt x="4045" y="0"/>
                        </a:lnTo>
                        <a:lnTo>
                          <a:pt x="4073" y="0"/>
                        </a:lnTo>
                        <a:lnTo>
                          <a:pt x="4101" y="0"/>
                        </a:lnTo>
                        <a:lnTo>
                          <a:pt x="4142" y="0"/>
                        </a:lnTo>
                        <a:lnTo>
                          <a:pt x="4170" y="0"/>
                        </a:lnTo>
                        <a:lnTo>
                          <a:pt x="4197" y="0"/>
                        </a:lnTo>
                        <a:lnTo>
                          <a:pt x="4225" y="0"/>
                        </a:lnTo>
                        <a:lnTo>
                          <a:pt x="4253" y="0"/>
                        </a:lnTo>
                        <a:lnTo>
                          <a:pt x="4280" y="0"/>
                        </a:lnTo>
                        <a:lnTo>
                          <a:pt x="4322" y="0"/>
                        </a:lnTo>
                        <a:lnTo>
                          <a:pt x="4350" y="0"/>
                        </a:lnTo>
                        <a:lnTo>
                          <a:pt x="4377" y="0"/>
                        </a:lnTo>
                        <a:lnTo>
                          <a:pt x="4405" y="0"/>
                        </a:lnTo>
                        <a:lnTo>
                          <a:pt x="4433" y="0"/>
                        </a:lnTo>
                        <a:lnTo>
                          <a:pt x="4460" y="0"/>
                        </a:lnTo>
                        <a:lnTo>
                          <a:pt x="4502" y="0"/>
                        </a:lnTo>
                        <a:lnTo>
                          <a:pt x="4529" y="0"/>
                        </a:lnTo>
                        <a:lnTo>
                          <a:pt x="4557" y="0"/>
                        </a:lnTo>
                        <a:lnTo>
                          <a:pt x="4585" y="0"/>
                        </a:lnTo>
                        <a:lnTo>
                          <a:pt x="4612" y="0"/>
                        </a:lnTo>
                        <a:lnTo>
                          <a:pt x="4641" y="0"/>
                        </a:lnTo>
                        <a:lnTo>
                          <a:pt x="4683" y="0"/>
                        </a:lnTo>
                        <a:lnTo>
                          <a:pt x="4711" y="0"/>
                        </a:lnTo>
                        <a:lnTo>
                          <a:pt x="4738" y="0"/>
                        </a:lnTo>
                        <a:lnTo>
                          <a:pt x="4766" y="0"/>
                        </a:lnTo>
                        <a:lnTo>
                          <a:pt x="4794" y="0"/>
                        </a:lnTo>
                        <a:lnTo>
                          <a:pt x="4821" y="0"/>
                        </a:lnTo>
                        <a:lnTo>
                          <a:pt x="4863" y="0"/>
                        </a:lnTo>
                        <a:lnTo>
                          <a:pt x="4890" y="0"/>
                        </a:lnTo>
                        <a:lnTo>
                          <a:pt x="4918" y="0"/>
                        </a:lnTo>
                        <a:lnTo>
                          <a:pt x="4946" y="0"/>
                        </a:lnTo>
                        <a:lnTo>
                          <a:pt x="4973" y="0"/>
                        </a:lnTo>
                        <a:lnTo>
                          <a:pt x="5001" y="0"/>
                        </a:lnTo>
                        <a:lnTo>
                          <a:pt x="5042" y="0"/>
                        </a:lnTo>
                        <a:lnTo>
                          <a:pt x="5070" y="0"/>
                        </a:lnTo>
                        <a:lnTo>
                          <a:pt x="5098" y="0"/>
                        </a:lnTo>
                        <a:lnTo>
                          <a:pt x="5125" y="0"/>
                        </a:lnTo>
                        <a:lnTo>
                          <a:pt x="5153" y="0"/>
                        </a:lnTo>
                        <a:lnTo>
                          <a:pt x="5181" y="0"/>
                        </a:lnTo>
                        <a:lnTo>
                          <a:pt x="5222" y="0"/>
                        </a:lnTo>
                        <a:lnTo>
                          <a:pt x="5250" y="0"/>
                        </a:lnTo>
                        <a:lnTo>
                          <a:pt x="5278" y="0"/>
                        </a:lnTo>
                        <a:lnTo>
                          <a:pt x="5305" y="0"/>
                        </a:lnTo>
                        <a:lnTo>
                          <a:pt x="5333" y="0"/>
                        </a:lnTo>
                        <a:lnTo>
                          <a:pt x="5361" y="0"/>
                        </a:lnTo>
                        <a:lnTo>
                          <a:pt x="5402" y="0"/>
                        </a:lnTo>
                        <a:lnTo>
                          <a:pt x="5430" y="0"/>
                        </a:lnTo>
                        <a:lnTo>
                          <a:pt x="5459" y="0"/>
                        </a:lnTo>
                        <a:lnTo>
                          <a:pt x="5486" y="0"/>
                        </a:lnTo>
                        <a:lnTo>
                          <a:pt x="5514" y="0"/>
                        </a:lnTo>
                        <a:lnTo>
                          <a:pt x="5542" y="0"/>
                        </a:lnTo>
                        <a:lnTo>
                          <a:pt x="5583" y="0"/>
                        </a:lnTo>
                        <a:lnTo>
                          <a:pt x="5611" y="0"/>
                        </a:lnTo>
                        <a:lnTo>
                          <a:pt x="5639" y="0"/>
                        </a:lnTo>
                        <a:lnTo>
                          <a:pt x="5666" y="0"/>
                        </a:lnTo>
                        <a:lnTo>
                          <a:pt x="5694" y="0"/>
                        </a:lnTo>
                        <a:lnTo>
                          <a:pt x="5722" y="0"/>
                        </a:lnTo>
                        <a:lnTo>
                          <a:pt x="5763" y="0"/>
                        </a:lnTo>
                        <a:lnTo>
                          <a:pt x="5791" y="0"/>
                        </a:lnTo>
                        <a:lnTo>
                          <a:pt x="5818" y="0"/>
                        </a:lnTo>
                        <a:lnTo>
                          <a:pt x="5846" y="0"/>
                        </a:lnTo>
                        <a:lnTo>
                          <a:pt x="5874" y="0"/>
                        </a:lnTo>
                        <a:lnTo>
                          <a:pt x="5901" y="0"/>
                        </a:lnTo>
                        <a:lnTo>
                          <a:pt x="5943" y="0"/>
                        </a:lnTo>
                        <a:lnTo>
                          <a:pt x="5971" y="0"/>
                        </a:lnTo>
                        <a:lnTo>
                          <a:pt x="5998" y="0"/>
                        </a:lnTo>
                        <a:lnTo>
                          <a:pt x="6026" y="0"/>
                        </a:lnTo>
                        <a:lnTo>
                          <a:pt x="6054" y="0"/>
                        </a:lnTo>
                        <a:lnTo>
                          <a:pt x="6081" y="0"/>
                        </a:lnTo>
                        <a:lnTo>
                          <a:pt x="6123" y="0"/>
                        </a:lnTo>
                        <a:lnTo>
                          <a:pt x="6150" y="0"/>
                        </a:lnTo>
                        <a:lnTo>
                          <a:pt x="6178" y="0"/>
                        </a:lnTo>
                        <a:lnTo>
                          <a:pt x="6206" y="0"/>
                        </a:lnTo>
                        <a:lnTo>
                          <a:pt x="6235" y="0"/>
                        </a:lnTo>
                        <a:lnTo>
                          <a:pt x="6276" y="0"/>
                        </a:lnTo>
                        <a:lnTo>
                          <a:pt x="6318" y="0"/>
                        </a:lnTo>
                        <a:lnTo>
                          <a:pt x="6345" y="0"/>
                        </a:lnTo>
                        <a:lnTo>
                          <a:pt x="6373" y="0"/>
                        </a:lnTo>
                        <a:lnTo>
                          <a:pt x="6401" y="0"/>
                        </a:lnTo>
                        <a:lnTo>
                          <a:pt x="6428" y="0"/>
                        </a:lnTo>
                        <a:lnTo>
                          <a:pt x="6456" y="0"/>
                        </a:lnTo>
                        <a:lnTo>
                          <a:pt x="6484" y="0"/>
                        </a:lnTo>
                        <a:lnTo>
                          <a:pt x="6525" y="0"/>
                        </a:lnTo>
                        <a:lnTo>
                          <a:pt x="6553" y="0"/>
                        </a:lnTo>
                        <a:lnTo>
                          <a:pt x="6581" y="0"/>
                        </a:lnTo>
                        <a:lnTo>
                          <a:pt x="6608" y="0"/>
                        </a:lnTo>
                        <a:lnTo>
                          <a:pt x="6636" y="0"/>
                        </a:lnTo>
                        <a:lnTo>
                          <a:pt x="6664" y="0"/>
                        </a:lnTo>
                        <a:lnTo>
                          <a:pt x="6705" y="0"/>
                        </a:lnTo>
                        <a:lnTo>
                          <a:pt x="6733" y="0"/>
                        </a:lnTo>
                        <a:lnTo>
                          <a:pt x="6760" y="0"/>
                        </a:lnTo>
                        <a:lnTo>
                          <a:pt x="6788" y="0"/>
                        </a:lnTo>
                        <a:lnTo>
                          <a:pt x="6816" y="0"/>
                        </a:lnTo>
                        <a:lnTo>
                          <a:pt x="6843" y="0"/>
                        </a:lnTo>
                        <a:lnTo>
                          <a:pt x="688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5207040" y="2978280"/>
                    <a:ext cx="36432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5" h="0">
                        <a:moveTo>
                          <a:pt x="0" y="0"/>
                        </a:moveTo>
                        <a:lnTo>
                          <a:pt x="27" y="0"/>
                        </a:lnTo>
                        <a:lnTo>
                          <a:pt x="55" y="0"/>
                        </a:lnTo>
                        <a:lnTo>
                          <a:pt x="83" y="0"/>
                        </a:lnTo>
                        <a:lnTo>
                          <a:pt x="124" y="0"/>
                        </a:lnTo>
                        <a:lnTo>
                          <a:pt x="152" y="0"/>
                        </a:lnTo>
                        <a:lnTo>
                          <a:pt x="179" y="0"/>
                        </a:lnTo>
                        <a:lnTo>
                          <a:pt x="207" y="0"/>
                        </a:lnTo>
                        <a:lnTo>
                          <a:pt x="235" y="0"/>
                        </a:lnTo>
                        <a:lnTo>
                          <a:pt x="262" y="0"/>
                        </a:lnTo>
                        <a:lnTo>
                          <a:pt x="304" y="0"/>
                        </a:lnTo>
                        <a:lnTo>
                          <a:pt x="332" y="0"/>
                        </a:lnTo>
                        <a:lnTo>
                          <a:pt x="359" y="0"/>
                        </a:lnTo>
                        <a:lnTo>
                          <a:pt x="387" y="0"/>
                        </a:lnTo>
                        <a:lnTo>
                          <a:pt x="415" y="0"/>
                        </a:lnTo>
                        <a:lnTo>
                          <a:pt x="442" y="0"/>
                        </a:lnTo>
                        <a:lnTo>
                          <a:pt x="470" y="0"/>
                        </a:lnTo>
                        <a:lnTo>
                          <a:pt x="511" y="0"/>
                        </a:lnTo>
                        <a:lnTo>
                          <a:pt x="539" y="0"/>
                        </a:lnTo>
                        <a:lnTo>
                          <a:pt x="567" y="0"/>
                        </a:lnTo>
                        <a:lnTo>
                          <a:pt x="594" y="0"/>
                        </a:lnTo>
                        <a:lnTo>
                          <a:pt x="622" y="0"/>
                        </a:lnTo>
                        <a:lnTo>
                          <a:pt x="650" y="0"/>
                        </a:lnTo>
                        <a:lnTo>
                          <a:pt x="693" y="0"/>
                        </a:lnTo>
                        <a:lnTo>
                          <a:pt x="720" y="0"/>
                        </a:lnTo>
                        <a:lnTo>
                          <a:pt x="748" y="0"/>
                        </a:lnTo>
                        <a:lnTo>
                          <a:pt x="776" y="0"/>
                        </a:lnTo>
                        <a:lnTo>
                          <a:pt x="803" y="0"/>
                        </a:lnTo>
                        <a:lnTo>
                          <a:pt x="831" y="0"/>
                        </a:lnTo>
                        <a:lnTo>
                          <a:pt x="872" y="0"/>
                        </a:lnTo>
                        <a:lnTo>
                          <a:pt x="900" y="0"/>
                        </a:lnTo>
                        <a:lnTo>
                          <a:pt x="942" y="0"/>
                        </a:lnTo>
                        <a:lnTo>
                          <a:pt x="969" y="0"/>
                        </a:lnTo>
                        <a:lnTo>
                          <a:pt x="997" y="0"/>
                        </a:lnTo>
                        <a:lnTo>
                          <a:pt x="1025" y="0"/>
                        </a:lnTo>
                        <a:lnTo>
                          <a:pt x="1066" y="0"/>
                        </a:lnTo>
                        <a:lnTo>
                          <a:pt x="1094" y="0"/>
                        </a:lnTo>
                        <a:lnTo>
                          <a:pt x="1121" y="0"/>
                        </a:lnTo>
                        <a:lnTo>
                          <a:pt x="1149" y="0"/>
                        </a:lnTo>
                        <a:lnTo>
                          <a:pt x="1177" y="0"/>
                        </a:lnTo>
                        <a:lnTo>
                          <a:pt x="1204" y="0"/>
                        </a:lnTo>
                        <a:lnTo>
                          <a:pt x="1246" y="0"/>
                        </a:lnTo>
                        <a:lnTo>
                          <a:pt x="1273" y="0"/>
                        </a:lnTo>
                        <a:lnTo>
                          <a:pt x="1301" y="0"/>
                        </a:lnTo>
                        <a:lnTo>
                          <a:pt x="1329" y="0"/>
                        </a:lnTo>
                        <a:lnTo>
                          <a:pt x="1356" y="0"/>
                        </a:lnTo>
                        <a:lnTo>
                          <a:pt x="1384" y="0"/>
                        </a:lnTo>
                        <a:lnTo>
                          <a:pt x="1426" y="0"/>
                        </a:lnTo>
                        <a:lnTo>
                          <a:pt x="1455" y="0"/>
                        </a:lnTo>
                        <a:lnTo>
                          <a:pt x="1482" y="0"/>
                        </a:lnTo>
                        <a:lnTo>
                          <a:pt x="1510" y="0"/>
                        </a:lnTo>
                        <a:lnTo>
                          <a:pt x="1538" y="0"/>
                        </a:lnTo>
                        <a:lnTo>
                          <a:pt x="1565" y="0"/>
                        </a:lnTo>
                        <a:lnTo>
                          <a:pt x="1607" y="0"/>
                        </a:lnTo>
                        <a:lnTo>
                          <a:pt x="1634" y="0"/>
                        </a:lnTo>
                        <a:lnTo>
                          <a:pt x="1662" y="0"/>
                        </a:lnTo>
                        <a:lnTo>
                          <a:pt x="1690" y="0"/>
                        </a:lnTo>
                        <a:lnTo>
                          <a:pt x="1717" y="0"/>
                        </a:lnTo>
                        <a:lnTo>
                          <a:pt x="1745" y="0"/>
                        </a:lnTo>
                        <a:lnTo>
                          <a:pt x="1787" y="0"/>
                        </a:lnTo>
                        <a:lnTo>
                          <a:pt x="1814" y="0"/>
                        </a:lnTo>
                        <a:lnTo>
                          <a:pt x="1842" y="0"/>
                        </a:lnTo>
                        <a:lnTo>
                          <a:pt x="1870" y="0"/>
                        </a:lnTo>
                        <a:lnTo>
                          <a:pt x="1897" y="0"/>
                        </a:lnTo>
                        <a:lnTo>
                          <a:pt x="1925" y="0"/>
                        </a:lnTo>
                        <a:lnTo>
                          <a:pt x="1966" y="0"/>
                        </a:lnTo>
                        <a:lnTo>
                          <a:pt x="1994" y="0"/>
                        </a:lnTo>
                        <a:lnTo>
                          <a:pt x="2022" y="0"/>
                        </a:lnTo>
                        <a:lnTo>
                          <a:pt x="2049" y="0"/>
                        </a:lnTo>
                        <a:lnTo>
                          <a:pt x="2077" y="0"/>
                        </a:lnTo>
                        <a:lnTo>
                          <a:pt x="2105" y="0"/>
                        </a:lnTo>
                        <a:lnTo>
                          <a:pt x="2146" y="0"/>
                        </a:lnTo>
                        <a:lnTo>
                          <a:pt x="2174" y="0"/>
                        </a:lnTo>
                        <a:lnTo>
                          <a:pt x="2202" y="0"/>
                        </a:lnTo>
                        <a:lnTo>
                          <a:pt x="2229" y="0"/>
                        </a:lnTo>
                        <a:lnTo>
                          <a:pt x="2258" y="0"/>
                        </a:lnTo>
                        <a:lnTo>
                          <a:pt x="2286" y="0"/>
                        </a:lnTo>
                        <a:lnTo>
                          <a:pt x="2327" y="0"/>
                        </a:lnTo>
                        <a:lnTo>
                          <a:pt x="2355" y="0"/>
                        </a:lnTo>
                        <a:lnTo>
                          <a:pt x="2383" y="0"/>
                        </a:lnTo>
                        <a:lnTo>
                          <a:pt x="2410" y="0"/>
                        </a:lnTo>
                        <a:lnTo>
                          <a:pt x="2438" y="0"/>
                        </a:lnTo>
                        <a:lnTo>
                          <a:pt x="2466" y="0"/>
                        </a:lnTo>
                        <a:lnTo>
                          <a:pt x="2507" y="0"/>
                        </a:lnTo>
                        <a:lnTo>
                          <a:pt x="2535" y="0"/>
                        </a:lnTo>
                        <a:lnTo>
                          <a:pt x="2563" y="0"/>
                        </a:lnTo>
                        <a:lnTo>
                          <a:pt x="2590" y="0"/>
                        </a:lnTo>
                        <a:lnTo>
                          <a:pt x="2618" y="0"/>
                        </a:lnTo>
                        <a:lnTo>
                          <a:pt x="2646" y="0"/>
                        </a:lnTo>
                        <a:lnTo>
                          <a:pt x="2687" y="0"/>
                        </a:lnTo>
                        <a:lnTo>
                          <a:pt x="2715" y="0"/>
                        </a:lnTo>
                        <a:lnTo>
                          <a:pt x="2742" y="0"/>
                        </a:lnTo>
                        <a:lnTo>
                          <a:pt x="2770" y="0"/>
                        </a:lnTo>
                        <a:lnTo>
                          <a:pt x="2798" y="0"/>
                        </a:lnTo>
                        <a:lnTo>
                          <a:pt x="2825" y="0"/>
                        </a:lnTo>
                        <a:lnTo>
                          <a:pt x="2867" y="0"/>
                        </a:lnTo>
                        <a:lnTo>
                          <a:pt x="2895" y="0"/>
                        </a:lnTo>
                        <a:lnTo>
                          <a:pt x="2922" y="0"/>
                        </a:lnTo>
                        <a:lnTo>
                          <a:pt x="2950" y="0"/>
                        </a:lnTo>
                        <a:lnTo>
                          <a:pt x="2977" y="0"/>
                        </a:lnTo>
                        <a:lnTo>
                          <a:pt x="3005" y="0"/>
                        </a:lnTo>
                        <a:lnTo>
                          <a:pt x="3048" y="0"/>
                        </a:lnTo>
                        <a:lnTo>
                          <a:pt x="3076" y="0"/>
                        </a:lnTo>
                        <a:lnTo>
                          <a:pt x="3103" y="0"/>
                        </a:lnTo>
                        <a:lnTo>
                          <a:pt x="3131" y="0"/>
                        </a:lnTo>
                        <a:lnTo>
                          <a:pt x="3159" y="0"/>
                        </a:lnTo>
                        <a:lnTo>
                          <a:pt x="3186" y="0"/>
                        </a:lnTo>
                        <a:lnTo>
                          <a:pt x="3228" y="0"/>
                        </a:lnTo>
                        <a:lnTo>
                          <a:pt x="3256" y="0"/>
                        </a:lnTo>
                        <a:lnTo>
                          <a:pt x="3283" y="0"/>
                        </a:lnTo>
                        <a:lnTo>
                          <a:pt x="3311" y="0"/>
                        </a:lnTo>
                        <a:lnTo>
                          <a:pt x="3338" y="0"/>
                        </a:lnTo>
                        <a:lnTo>
                          <a:pt x="3366" y="0"/>
                        </a:lnTo>
                        <a:lnTo>
                          <a:pt x="3408" y="0"/>
                        </a:lnTo>
                        <a:lnTo>
                          <a:pt x="3435" y="0"/>
                        </a:lnTo>
                        <a:lnTo>
                          <a:pt x="3463" y="0"/>
                        </a:lnTo>
                        <a:lnTo>
                          <a:pt x="3491" y="0"/>
                        </a:lnTo>
                        <a:lnTo>
                          <a:pt x="3518" y="0"/>
                        </a:lnTo>
                        <a:lnTo>
                          <a:pt x="3546" y="0"/>
                        </a:lnTo>
                        <a:lnTo>
                          <a:pt x="3601" y="0"/>
                        </a:lnTo>
                        <a:lnTo>
                          <a:pt x="3629" y="0"/>
                        </a:lnTo>
                        <a:lnTo>
                          <a:pt x="3657" y="0"/>
                        </a:lnTo>
                        <a:lnTo>
                          <a:pt x="3684" y="0"/>
                        </a:lnTo>
                        <a:lnTo>
                          <a:pt x="3712" y="0"/>
                        </a:lnTo>
                        <a:lnTo>
                          <a:pt x="3740" y="0"/>
                        </a:lnTo>
                        <a:lnTo>
                          <a:pt x="3781" y="0"/>
                        </a:lnTo>
                        <a:lnTo>
                          <a:pt x="3809" y="0"/>
                        </a:lnTo>
                        <a:lnTo>
                          <a:pt x="3836" y="0"/>
                        </a:lnTo>
                        <a:lnTo>
                          <a:pt x="3865" y="0"/>
                        </a:lnTo>
                        <a:lnTo>
                          <a:pt x="3893" y="0"/>
                        </a:lnTo>
                        <a:lnTo>
                          <a:pt x="3921" y="0"/>
                        </a:lnTo>
                        <a:lnTo>
                          <a:pt x="3962" y="0"/>
                        </a:lnTo>
                        <a:lnTo>
                          <a:pt x="3990" y="0"/>
                        </a:lnTo>
                        <a:lnTo>
                          <a:pt x="4018" y="0"/>
                        </a:lnTo>
                        <a:lnTo>
                          <a:pt x="4045" y="0"/>
                        </a:lnTo>
                        <a:lnTo>
                          <a:pt x="4073" y="0"/>
                        </a:lnTo>
                        <a:lnTo>
                          <a:pt x="4101" y="0"/>
                        </a:lnTo>
                        <a:lnTo>
                          <a:pt x="4142" y="0"/>
                        </a:lnTo>
                        <a:lnTo>
                          <a:pt x="4170" y="0"/>
                        </a:lnTo>
                        <a:lnTo>
                          <a:pt x="4197" y="0"/>
                        </a:lnTo>
                        <a:lnTo>
                          <a:pt x="4225" y="0"/>
                        </a:lnTo>
                        <a:lnTo>
                          <a:pt x="4253" y="0"/>
                        </a:lnTo>
                        <a:lnTo>
                          <a:pt x="4280" y="0"/>
                        </a:lnTo>
                        <a:lnTo>
                          <a:pt x="4322" y="0"/>
                        </a:lnTo>
                        <a:lnTo>
                          <a:pt x="4350" y="0"/>
                        </a:lnTo>
                        <a:lnTo>
                          <a:pt x="4377" y="0"/>
                        </a:lnTo>
                        <a:lnTo>
                          <a:pt x="4405" y="0"/>
                        </a:lnTo>
                        <a:lnTo>
                          <a:pt x="4433" y="0"/>
                        </a:lnTo>
                        <a:lnTo>
                          <a:pt x="4460" y="0"/>
                        </a:lnTo>
                        <a:lnTo>
                          <a:pt x="4502" y="0"/>
                        </a:lnTo>
                        <a:lnTo>
                          <a:pt x="4529" y="0"/>
                        </a:lnTo>
                        <a:lnTo>
                          <a:pt x="4557" y="0"/>
                        </a:lnTo>
                        <a:lnTo>
                          <a:pt x="4585" y="0"/>
                        </a:lnTo>
                        <a:lnTo>
                          <a:pt x="4612" y="0"/>
                        </a:lnTo>
                        <a:lnTo>
                          <a:pt x="4641" y="0"/>
                        </a:lnTo>
                        <a:lnTo>
                          <a:pt x="4683" y="0"/>
                        </a:lnTo>
                        <a:lnTo>
                          <a:pt x="4711" y="0"/>
                        </a:lnTo>
                        <a:lnTo>
                          <a:pt x="4738" y="0"/>
                        </a:lnTo>
                        <a:lnTo>
                          <a:pt x="4766" y="0"/>
                        </a:lnTo>
                        <a:lnTo>
                          <a:pt x="4794" y="0"/>
                        </a:lnTo>
                        <a:lnTo>
                          <a:pt x="4821" y="0"/>
                        </a:lnTo>
                        <a:lnTo>
                          <a:pt x="4863" y="0"/>
                        </a:lnTo>
                        <a:lnTo>
                          <a:pt x="4890" y="0"/>
                        </a:lnTo>
                        <a:lnTo>
                          <a:pt x="4918" y="0"/>
                        </a:lnTo>
                        <a:lnTo>
                          <a:pt x="4946" y="0"/>
                        </a:lnTo>
                        <a:lnTo>
                          <a:pt x="4973" y="0"/>
                        </a:lnTo>
                        <a:lnTo>
                          <a:pt x="5001" y="0"/>
                        </a:lnTo>
                        <a:lnTo>
                          <a:pt x="5042" y="0"/>
                        </a:lnTo>
                        <a:lnTo>
                          <a:pt x="5070" y="0"/>
                        </a:lnTo>
                        <a:lnTo>
                          <a:pt x="5098" y="0"/>
                        </a:lnTo>
                        <a:lnTo>
                          <a:pt x="5125" y="0"/>
                        </a:lnTo>
                        <a:lnTo>
                          <a:pt x="5153" y="0"/>
                        </a:lnTo>
                        <a:lnTo>
                          <a:pt x="5181" y="0"/>
                        </a:lnTo>
                        <a:lnTo>
                          <a:pt x="5222" y="0"/>
                        </a:lnTo>
                        <a:lnTo>
                          <a:pt x="5250" y="0"/>
                        </a:lnTo>
                        <a:lnTo>
                          <a:pt x="5278" y="0"/>
                        </a:lnTo>
                        <a:lnTo>
                          <a:pt x="5305" y="0"/>
                        </a:lnTo>
                        <a:lnTo>
                          <a:pt x="5333" y="0"/>
                        </a:lnTo>
                        <a:lnTo>
                          <a:pt x="5361" y="0"/>
                        </a:lnTo>
                        <a:lnTo>
                          <a:pt x="5402" y="0"/>
                        </a:lnTo>
                        <a:lnTo>
                          <a:pt x="5430" y="0"/>
                        </a:lnTo>
                        <a:lnTo>
                          <a:pt x="5459" y="0"/>
                        </a:lnTo>
                        <a:lnTo>
                          <a:pt x="5486" y="0"/>
                        </a:lnTo>
                        <a:lnTo>
                          <a:pt x="5514" y="0"/>
                        </a:lnTo>
                        <a:lnTo>
                          <a:pt x="5542" y="0"/>
                        </a:lnTo>
                        <a:lnTo>
                          <a:pt x="5583" y="0"/>
                        </a:lnTo>
                        <a:lnTo>
                          <a:pt x="5611" y="0"/>
                        </a:lnTo>
                        <a:lnTo>
                          <a:pt x="5639" y="0"/>
                        </a:lnTo>
                        <a:lnTo>
                          <a:pt x="5666" y="0"/>
                        </a:lnTo>
                        <a:lnTo>
                          <a:pt x="5694" y="0"/>
                        </a:lnTo>
                        <a:lnTo>
                          <a:pt x="5722" y="0"/>
                        </a:lnTo>
                        <a:lnTo>
                          <a:pt x="5763" y="0"/>
                        </a:lnTo>
                        <a:lnTo>
                          <a:pt x="5791" y="0"/>
                        </a:lnTo>
                        <a:lnTo>
                          <a:pt x="5818" y="0"/>
                        </a:lnTo>
                        <a:lnTo>
                          <a:pt x="5846" y="0"/>
                        </a:lnTo>
                        <a:lnTo>
                          <a:pt x="5874" y="0"/>
                        </a:lnTo>
                        <a:lnTo>
                          <a:pt x="5901" y="0"/>
                        </a:lnTo>
                        <a:lnTo>
                          <a:pt x="5943" y="0"/>
                        </a:lnTo>
                        <a:lnTo>
                          <a:pt x="5971" y="0"/>
                        </a:lnTo>
                        <a:lnTo>
                          <a:pt x="5998" y="0"/>
                        </a:lnTo>
                        <a:lnTo>
                          <a:pt x="6026" y="0"/>
                        </a:lnTo>
                        <a:lnTo>
                          <a:pt x="6054" y="0"/>
                        </a:lnTo>
                        <a:lnTo>
                          <a:pt x="6081" y="0"/>
                        </a:lnTo>
                        <a:lnTo>
                          <a:pt x="6123" y="0"/>
                        </a:lnTo>
                        <a:lnTo>
                          <a:pt x="6150" y="0"/>
                        </a:lnTo>
                        <a:lnTo>
                          <a:pt x="6178" y="0"/>
                        </a:lnTo>
                        <a:lnTo>
                          <a:pt x="6206" y="0"/>
                        </a:lnTo>
                        <a:lnTo>
                          <a:pt x="6235" y="0"/>
                        </a:lnTo>
                        <a:lnTo>
                          <a:pt x="6276" y="0"/>
                        </a:lnTo>
                        <a:lnTo>
                          <a:pt x="6318" y="0"/>
                        </a:lnTo>
                        <a:lnTo>
                          <a:pt x="6345" y="0"/>
                        </a:lnTo>
                        <a:lnTo>
                          <a:pt x="6373" y="0"/>
                        </a:lnTo>
                        <a:lnTo>
                          <a:pt x="6401" y="0"/>
                        </a:lnTo>
                        <a:lnTo>
                          <a:pt x="6428" y="0"/>
                        </a:lnTo>
                        <a:lnTo>
                          <a:pt x="6456" y="0"/>
                        </a:lnTo>
                        <a:lnTo>
                          <a:pt x="6484" y="0"/>
                        </a:lnTo>
                        <a:lnTo>
                          <a:pt x="6525" y="0"/>
                        </a:lnTo>
                        <a:lnTo>
                          <a:pt x="6553" y="0"/>
                        </a:lnTo>
                        <a:lnTo>
                          <a:pt x="6581" y="0"/>
                        </a:lnTo>
                        <a:lnTo>
                          <a:pt x="6608" y="0"/>
                        </a:lnTo>
                        <a:lnTo>
                          <a:pt x="6636" y="0"/>
                        </a:lnTo>
                        <a:lnTo>
                          <a:pt x="6664" y="0"/>
                        </a:lnTo>
                        <a:lnTo>
                          <a:pt x="6705" y="0"/>
                        </a:lnTo>
                        <a:lnTo>
                          <a:pt x="6733" y="0"/>
                        </a:lnTo>
                        <a:lnTo>
                          <a:pt x="6760" y="0"/>
                        </a:lnTo>
                        <a:lnTo>
                          <a:pt x="6788" y="0"/>
                        </a:lnTo>
                        <a:lnTo>
                          <a:pt x="6816" y="0"/>
                        </a:lnTo>
                        <a:lnTo>
                          <a:pt x="6843" y="0"/>
                        </a:lnTo>
                        <a:lnTo>
                          <a:pt x="6885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3" name=""/>
                <p:cNvGrpSpPr/>
                <p:nvPr/>
              </p:nvGrpSpPr>
              <p:grpSpPr>
                <a:xfrm>
                  <a:off x="5403960" y="2770200"/>
                  <a:ext cx="3247920" cy="1440"/>
                  <a:chOff x="5403960" y="2770200"/>
                  <a:chExt cx="3247920" cy="1440"/>
                </a:xfrm>
              </p:grpSpPr>
              <p:sp>
                <p:nvSpPr>
                  <p:cNvPr id="654" name=""/>
                  <p:cNvSpPr/>
                  <p:nvPr/>
                </p:nvSpPr>
                <p:spPr>
                  <a:xfrm>
                    <a:off x="5403960" y="2770200"/>
                    <a:ext cx="32479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6138" h="0">
                        <a:moveTo>
                          <a:pt x="0" y="0"/>
                        </a:moveTo>
                        <a:lnTo>
                          <a:pt x="28" y="0"/>
                        </a:lnTo>
                        <a:lnTo>
                          <a:pt x="55" y="0"/>
                        </a:lnTo>
                        <a:lnTo>
                          <a:pt x="83" y="0"/>
                        </a:lnTo>
                        <a:lnTo>
                          <a:pt x="111" y="0"/>
                        </a:lnTo>
                        <a:lnTo>
                          <a:pt x="152" y="0"/>
                        </a:lnTo>
                        <a:lnTo>
                          <a:pt x="180" y="0"/>
                        </a:lnTo>
                        <a:lnTo>
                          <a:pt x="208" y="0"/>
                        </a:lnTo>
                        <a:lnTo>
                          <a:pt x="235" y="0"/>
                        </a:lnTo>
                        <a:lnTo>
                          <a:pt x="263" y="0"/>
                        </a:lnTo>
                        <a:lnTo>
                          <a:pt x="292" y="0"/>
                        </a:lnTo>
                        <a:lnTo>
                          <a:pt x="333" y="0"/>
                        </a:lnTo>
                        <a:lnTo>
                          <a:pt x="361" y="0"/>
                        </a:lnTo>
                        <a:lnTo>
                          <a:pt x="389" y="0"/>
                        </a:lnTo>
                        <a:lnTo>
                          <a:pt x="416" y="0"/>
                        </a:lnTo>
                        <a:lnTo>
                          <a:pt x="444" y="0"/>
                        </a:lnTo>
                        <a:lnTo>
                          <a:pt x="472" y="0"/>
                        </a:lnTo>
                        <a:lnTo>
                          <a:pt x="513" y="0"/>
                        </a:lnTo>
                        <a:lnTo>
                          <a:pt x="541" y="0"/>
                        </a:lnTo>
                        <a:lnTo>
                          <a:pt x="582" y="0"/>
                        </a:lnTo>
                        <a:lnTo>
                          <a:pt x="610" y="0"/>
                        </a:lnTo>
                        <a:lnTo>
                          <a:pt x="638" y="0"/>
                        </a:lnTo>
                        <a:lnTo>
                          <a:pt x="665" y="0"/>
                        </a:lnTo>
                        <a:lnTo>
                          <a:pt x="707" y="0"/>
                        </a:lnTo>
                        <a:lnTo>
                          <a:pt x="735" y="0"/>
                        </a:lnTo>
                        <a:lnTo>
                          <a:pt x="762" y="0"/>
                        </a:lnTo>
                        <a:lnTo>
                          <a:pt x="790" y="0"/>
                        </a:lnTo>
                        <a:lnTo>
                          <a:pt x="818" y="0"/>
                        </a:lnTo>
                        <a:lnTo>
                          <a:pt x="845" y="0"/>
                        </a:lnTo>
                        <a:lnTo>
                          <a:pt x="887" y="0"/>
                        </a:lnTo>
                        <a:lnTo>
                          <a:pt x="914" y="0"/>
                        </a:lnTo>
                        <a:lnTo>
                          <a:pt x="942" y="0"/>
                        </a:lnTo>
                        <a:lnTo>
                          <a:pt x="970" y="0"/>
                        </a:lnTo>
                        <a:lnTo>
                          <a:pt x="997" y="0"/>
                        </a:lnTo>
                        <a:lnTo>
                          <a:pt x="1025" y="0"/>
                        </a:lnTo>
                        <a:lnTo>
                          <a:pt x="1066" y="0"/>
                        </a:lnTo>
                        <a:lnTo>
                          <a:pt x="1096" y="0"/>
                        </a:lnTo>
                        <a:lnTo>
                          <a:pt x="1123" y="0"/>
                        </a:lnTo>
                        <a:lnTo>
                          <a:pt x="1151" y="0"/>
                        </a:lnTo>
                        <a:lnTo>
                          <a:pt x="1178" y="0"/>
                        </a:lnTo>
                        <a:lnTo>
                          <a:pt x="1206" y="0"/>
                        </a:lnTo>
                        <a:lnTo>
                          <a:pt x="1248" y="0"/>
                        </a:lnTo>
                        <a:lnTo>
                          <a:pt x="1275" y="0"/>
                        </a:lnTo>
                        <a:lnTo>
                          <a:pt x="1303" y="0"/>
                        </a:lnTo>
                        <a:lnTo>
                          <a:pt x="1331" y="0"/>
                        </a:lnTo>
                        <a:lnTo>
                          <a:pt x="1358" y="0"/>
                        </a:lnTo>
                        <a:lnTo>
                          <a:pt x="1386" y="0"/>
                        </a:lnTo>
                        <a:lnTo>
                          <a:pt x="1427" y="0"/>
                        </a:lnTo>
                        <a:lnTo>
                          <a:pt x="1455" y="0"/>
                        </a:lnTo>
                        <a:lnTo>
                          <a:pt x="1483" y="0"/>
                        </a:lnTo>
                        <a:lnTo>
                          <a:pt x="1510" y="0"/>
                        </a:lnTo>
                        <a:lnTo>
                          <a:pt x="1538" y="0"/>
                        </a:lnTo>
                        <a:lnTo>
                          <a:pt x="1566" y="0"/>
                        </a:lnTo>
                        <a:lnTo>
                          <a:pt x="1607" y="0"/>
                        </a:lnTo>
                        <a:lnTo>
                          <a:pt x="1635" y="0"/>
                        </a:lnTo>
                        <a:lnTo>
                          <a:pt x="1663" y="0"/>
                        </a:lnTo>
                        <a:lnTo>
                          <a:pt x="1690" y="0"/>
                        </a:lnTo>
                        <a:lnTo>
                          <a:pt x="1718" y="0"/>
                        </a:lnTo>
                        <a:lnTo>
                          <a:pt x="1746" y="0"/>
                        </a:lnTo>
                        <a:lnTo>
                          <a:pt x="1787" y="0"/>
                        </a:lnTo>
                        <a:lnTo>
                          <a:pt x="1815" y="0"/>
                        </a:lnTo>
                        <a:lnTo>
                          <a:pt x="1842" y="0"/>
                        </a:lnTo>
                        <a:lnTo>
                          <a:pt x="1870" y="0"/>
                        </a:lnTo>
                        <a:lnTo>
                          <a:pt x="1899" y="0"/>
                        </a:lnTo>
                        <a:lnTo>
                          <a:pt x="1927" y="0"/>
                        </a:lnTo>
                        <a:lnTo>
                          <a:pt x="1968" y="0"/>
                        </a:lnTo>
                        <a:lnTo>
                          <a:pt x="1996" y="0"/>
                        </a:lnTo>
                        <a:lnTo>
                          <a:pt x="2024" y="0"/>
                        </a:lnTo>
                        <a:lnTo>
                          <a:pt x="2051" y="0"/>
                        </a:lnTo>
                        <a:lnTo>
                          <a:pt x="2079" y="0"/>
                        </a:lnTo>
                        <a:lnTo>
                          <a:pt x="2107" y="0"/>
                        </a:lnTo>
                        <a:lnTo>
                          <a:pt x="2148" y="0"/>
                        </a:lnTo>
                        <a:lnTo>
                          <a:pt x="2176" y="0"/>
                        </a:lnTo>
                        <a:lnTo>
                          <a:pt x="2203" y="0"/>
                        </a:lnTo>
                        <a:lnTo>
                          <a:pt x="2231" y="0"/>
                        </a:lnTo>
                        <a:lnTo>
                          <a:pt x="2259" y="0"/>
                        </a:lnTo>
                        <a:lnTo>
                          <a:pt x="2286" y="0"/>
                        </a:lnTo>
                        <a:lnTo>
                          <a:pt x="2328" y="0"/>
                        </a:lnTo>
                        <a:lnTo>
                          <a:pt x="2356" y="0"/>
                        </a:lnTo>
                        <a:lnTo>
                          <a:pt x="2383" y="0"/>
                        </a:lnTo>
                        <a:lnTo>
                          <a:pt x="2411" y="0"/>
                        </a:lnTo>
                        <a:lnTo>
                          <a:pt x="2439" y="0"/>
                        </a:lnTo>
                        <a:lnTo>
                          <a:pt x="2466" y="0"/>
                        </a:lnTo>
                        <a:lnTo>
                          <a:pt x="2508" y="0"/>
                        </a:lnTo>
                        <a:lnTo>
                          <a:pt x="2535" y="0"/>
                        </a:lnTo>
                        <a:lnTo>
                          <a:pt x="2563" y="0"/>
                        </a:lnTo>
                        <a:lnTo>
                          <a:pt x="2591" y="0"/>
                        </a:lnTo>
                        <a:lnTo>
                          <a:pt x="2618" y="0"/>
                        </a:lnTo>
                        <a:lnTo>
                          <a:pt x="2646" y="0"/>
                        </a:lnTo>
                        <a:lnTo>
                          <a:pt x="2689" y="0"/>
                        </a:lnTo>
                        <a:lnTo>
                          <a:pt x="2717" y="0"/>
                        </a:lnTo>
                        <a:lnTo>
                          <a:pt x="2744" y="0"/>
                        </a:lnTo>
                        <a:lnTo>
                          <a:pt x="2772" y="0"/>
                        </a:lnTo>
                        <a:lnTo>
                          <a:pt x="2800" y="0"/>
                        </a:lnTo>
                        <a:lnTo>
                          <a:pt x="2827" y="0"/>
                        </a:lnTo>
                        <a:lnTo>
                          <a:pt x="2869" y="0"/>
                        </a:lnTo>
                        <a:lnTo>
                          <a:pt x="2896" y="0"/>
                        </a:lnTo>
                        <a:lnTo>
                          <a:pt x="2924" y="0"/>
                        </a:lnTo>
                        <a:lnTo>
                          <a:pt x="2952" y="0"/>
                        </a:lnTo>
                        <a:lnTo>
                          <a:pt x="2979" y="0"/>
                        </a:lnTo>
                        <a:lnTo>
                          <a:pt x="3007" y="0"/>
                        </a:lnTo>
                        <a:lnTo>
                          <a:pt x="3048" y="0"/>
                        </a:lnTo>
                        <a:lnTo>
                          <a:pt x="3076" y="0"/>
                        </a:lnTo>
                        <a:lnTo>
                          <a:pt x="3104" y="0"/>
                        </a:lnTo>
                        <a:lnTo>
                          <a:pt x="3131" y="0"/>
                        </a:lnTo>
                        <a:lnTo>
                          <a:pt x="3159" y="0"/>
                        </a:lnTo>
                        <a:lnTo>
                          <a:pt x="3201" y="0"/>
                        </a:lnTo>
                        <a:lnTo>
                          <a:pt x="3242" y="0"/>
                        </a:lnTo>
                        <a:lnTo>
                          <a:pt x="3270" y="0"/>
                        </a:lnTo>
                        <a:lnTo>
                          <a:pt x="3297" y="0"/>
                        </a:lnTo>
                        <a:lnTo>
                          <a:pt x="3325" y="0"/>
                        </a:lnTo>
                        <a:lnTo>
                          <a:pt x="3353" y="0"/>
                        </a:lnTo>
                        <a:lnTo>
                          <a:pt x="3394" y="0"/>
                        </a:lnTo>
                        <a:lnTo>
                          <a:pt x="3422" y="0"/>
                        </a:lnTo>
                        <a:lnTo>
                          <a:pt x="3450" y="0"/>
                        </a:lnTo>
                        <a:lnTo>
                          <a:pt x="3479" y="0"/>
                        </a:lnTo>
                        <a:lnTo>
                          <a:pt x="3506" y="0"/>
                        </a:lnTo>
                        <a:lnTo>
                          <a:pt x="3534" y="0"/>
                        </a:lnTo>
                        <a:lnTo>
                          <a:pt x="3575" y="0"/>
                        </a:lnTo>
                        <a:lnTo>
                          <a:pt x="3603" y="0"/>
                        </a:lnTo>
                        <a:lnTo>
                          <a:pt x="3631" y="0"/>
                        </a:lnTo>
                        <a:lnTo>
                          <a:pt x="3658" y="0"/>
                        </a:lnTo>
                        <a:lnTo>
                          <a:pt x="3686" y="0"/>
                        </a:lnTo>
                        <a:lnTo>
                          <a:pt x="3714" y="0"/>
                        </a:lnTo>
                        <a:lnTo>
                          <a:pt x="3755" y="0"/>
                        </a:lnTo>
                        <a:lnTo>
                          <a:pt x="3783" y="0"/>
                        </a:lnTo>
                        <a:lnTo>
                          <a:pt x="3811" y="0"/>
                        </a:lnTo>
                        <a:lnTo>
                          <a:pt x="3838" y="0"/>
                        </a:lnTo>
                        <a:lnTo>
                          <a:pt x="3866" y="0"/>
                        </a:lnTo>
                        <a:lnTo>
                          <a:pt x="3894" y="0"/>
                        </a:lnTo>
                        <a:lnTo>
                          <a:pt x="3935" y="0"/>
                        </a:lnTo>
                        <a:lnTo>
                          <a:pt x="3963" y="0"/>
                        </a:lnTo>
                        <a:lnTo>
                          <a:pt x="3990" y="0"/>
                        </a:lnTo>
                        <a:lnTo>
                          <a:pt x="4018" y="0"/>
                        </a:lnTo>
                        <a:lnTo>
                          <a:pt x="4046" y="0"/>
                        </a:lnTo>
                        <a:lnTo>
                          <a:pt x="4073" y="0"/>
                        </a:lnTo>
                        <a:lnTo>
                          <a:pt x="4115" y="0"/>
                        </a:lnTo>
                        <a:lnTo>
                          <a:pt x="4143" y="0"/>
                        </a:lnTo>
                        <a:lnTo>
                          <a:pt x="4170" y="0"/>
                        </a:lnTo>
                        <a:lnTo>
                          <a:pt x="4198" y="0"/>
                        </a:lnTo>
                        <a:lnTo>
                          <a:pt x="4226" y="0"/>
                        </a:lnTo>
                        <a:lnTo>
                          <a:pt x="4253" y="0"/>
                        </a:lnTo>
                        <a:lnTo>
                          <a:pt x="4296" y="0"/>
                        </a:lnTo>
                        <a:lnTo>
                          <a:pt x="4324" y="0"/>
                        </a:lnTo>
                        <a:lnTo>
                          <a:pt x="4351" y="0"/>
                        </a:lnTo>
                        <a:lnTo>
                          <a:pt x="4379" y="0"/>
                        </a:lnTo>
                        <a:lnTo>
                          <a:pt x="4407" y="0"/>
                        </a:lnTo>
                        <a:lnTo>
                          <a:pt x="4434" y="0"/>
                        </a:lnTo>
                        <a:lnTo>
                          <a:pt x="4476" y="0"/>
                        </a:lnTo>
                        <a:lnTo>
                          <a:pt x="4504" y="0"/>
                        </a:lnTo>
                        <a:lnTo>
                          <a:pt x="4531" y="0"/>
                        </a:lnTo>
                        <a:lnTo>
                          <a:pt x="4559" y="0"/>
                        </a:lnTo>
                        <a:lnTo>
                          <a:pt x="4587" y="0"/>
                        </a:lnTo>
                        <a:lnTo>
                          <a:pt x="4614" y="0"/>
                        </a:lnTo>
                        <a:lnTo>
                          <a:pt x="4656" y="0"/>
                        </a:lnTo>
                        <a:lnTo>
                          <a:pt x="4683" y="0"/>
                        </a:lnTo>
                        <a:lnTo>
                          <a:pt x="4711" y="0"/>
                        </a:lnTo>
                        <a:lnTo>
                          <a:pt x="4739" y="0"/>
                        </a:lnTo>
                        <a:lnTo>
                          <a:pt x="4766" y="0"/>
                        </a:lnTo>
                        <a:lnTo>
                          <a:pt x="4794" y="0"/>
                        </a:lnTo>
                        <a:lnTo>
                          <a:pt x="4835" y="0"/>
                        </a:lnTo>
                        <a:lnTo>
                          <a:pt x="4863" y="0"/>
                        </a:lnTo>
                        <a:lnTo>
                          <a:pt x="4891" y="0"/>
                        </a:lnTo>
                        <a:lnTo>
                          <a:pt x="4918" y="0"/>
                        </a:lnTo>
                        <a:lnTo>
                          <a:pt x="4946" y="0"/>
                        </a:lnTo>
                        <a:lnTo>
                          <a:pt x="4974" y="0"/>
                        </a:lnTo>
                        <a:lnTo>
                          <a:pt x="5015" y="0"/>
                        </a:lnTo>
                        <a:lnTo>
                          <a:pt x="5043" y="0"/>
                        </a:lnTo>
                        <a:lnTo>
                          <a:pt x="5072" y="0"/>
                        </a:lnTo>
                        <a:lnTo>
                          <a:pt x="5100" y="0"/>
                        </a:lnTo>
                        <a:lnTo>
                          <a:pt x="5127" y="0"/>
                        </a:lnTo>
                        <a:lnTo>
                          <a:pt x="5155" y="0"/>
                        </a:lnTo>
                        <a:lnTo>
                          <a:pt x="5196" y="0"/>
                        </a:lnTo>
                        <a:lnTo>
                          <a:pt x="5224" y="0"/>
                        </a:lnTo>
                        <a:lnTo>
                          <a:pt x="5252" y="0"/>
                        </a:lnTo>
                        <a:lnTo>
                          <a:pt x="5279" y="0"/>
                        </a:lnTo>
                        <a:lnTo>
                          <a:pt x="5307" y="0"/>
                        </a:lnTo>
                        <a:lnTo>
                          <a:pt x="5335" y="0"/>
                        </a:lnTo>
                        <a:lnTo>
                          <a:pt x="5376" y="0"/>
                        </a:lnTo>
                        <a:lnTo>
                          <a:pt x="5404" y="0"/>
                        </a:lnTo>
                        <a:lnTo>
                          <a:pt x="5432" y="0"/>
                        </a:lnTo>
                        <a:lnTo>
                          <a:pt x="5459" y="0"/>
                        </a:lnTo>
                        <a:lnTo>
                          <a:pt x="5487" y="0"/>
                        </a:lnTo>
                        <a:lnTo>
                          <a:pt x="5515" y="0"/>
                        </a:lnTo>
                        <a:lnTo>
                          <a:pt x="5556" y="0"/>
                        </a:lnTo>
                        <a:lnTo>
                          <a:pt x="5584" y="0"/>
                        </a:lnTo>
                        <a:lnTo>
                          <a:pt x="5611" y="0"/>
                        </a:lnTo>
                        <a:lnTo>
                          <a:pt x="5639" y="0"/>
                        </a:lnTo>
                        <a:lnTo>
                          <a:pt x="5667" y="0"/>
                        </a:lnTo>
                        <a:lnTo>
                          <a:pt x="5694" y="0"/>
                        </a:lnTo>
                        <a:lnTo>
                          <a:pt x="5736" y="0"/>
                        </a:lnTo>
                        <a:lnTo>
                          <a:pt x="5764" y="0"/>
                        </a:lnTo>
                        <a:lnTo>
                          <a:pt x="5791" y="0"/>
                        </a:lnTo>
                        <a:lnTo>
                          <a:pt x="5819" y="0"/>
                        </a:lnTo>
                        <a:lnTo>
                          <a:pt x="5847" y="0"/>
                        </a:lnTo>
                        <a:lnTo>
                          <a:pt x="5889" y="0"/>
                        </a:lnTo>
                        <a:lnTo>
                          <a:pt x="5931" y="0"/>
                        </a:lnTo>
                        <a:lnTo>
                          <a:pt x="5959" y="0"/>
                        </a:lnTo>
                        <a:lnTo>
                          <a:pt x="5986" y="0"/>
                        </a:lnTo>
                        <a:lnTo>
                          <a:pt x="6014" y="0"/>
                        </a:lnTo>
                        <a:lnTo>
                          <a:pt x="6042" y="0"/>
                        </a:lnTo>
                        <a:lnTo>
                          <a:pt x="6069" y="0"/>
                        </a:lnTo>
                        <a:lnTo>
                          <a:pt x="6111" y="0"/>
                        </a:lnTo>
                        <a:lnTo>
                          <a:pt x="613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5403960" y="2770200"/>
                    <a:ext cx="32479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6138" h="0">
                        <a:moveTo>
                          <a:pt x="0" y="0"/>
                        </a:moveTo>
                        <a:lnTo>
                          <a:pt x="28" y="0"/>
                        </a:lnTo>
                        <a:lnTo>
                          <a:pt x="55" y="0"/>
                        </a:lnTo>
                        <a:lnTo>
                          <a:pt x="83" y="0"/>
                        </a:lnTo>
                        <a:lnTo>
                          <a:pt x="111" y="0"/>
                        </a:lnTo>
                        <a:lnTo>
                          <a:pt x="152" y="0"/>
                        </a:lnTo>
                        <a:lnTo>
                          <a:pt x="180" y="0"/>
                        </a:lnTo>
                        <a:lnTo>
                          <a:pt x="208" y="0"/>
                        </a:lnTo>
                        <a:lnTo>
                          <a:pt x="235" y="0"/>
                        </a:lnTo>
                        <a:lnTo>
                          <a:pt x="263" y="0"/>
                        </a:lnTo>
                        <a:lnTo>
                          <a:pt x="292" y="0"/>
                        </a:lnTo>
                        <a:lnTo>
                          <a:pt x="333" y="0"/>
                        </a:lnTo>
                        <a:lnTo>
                          <a:pt x="361" y="0"/>
                        </a:lnTo>
                        <a:lnTo>
                          <a:pt x="389" y="0"/>
                        </a:lnTo>
                        <a:lnTo>
                          <a:pt x="416" y="0"/>
                        </a:lnTo>
                        <a:lnTo>
                          <a:pt x="444" y="0"/>
                        </a:lnTo>
                        <a:lnTo>
                          <a:pt x="472" y="0"/>
                        </a:lnTo>
                        <a:lnTo>
                          <a:pt x="513" y="0"/>
                        </a:lnTo>
                        <a:lnTo>
                          <a:pt x="541" y="0"/>
                        </a:lnTo>
                        <a:lnTo>
                          <a:pt x="582" y="0"/>
                        </a:lnTo>
                        <a:lnTo>
                          <a:pt x="610" y="0"/>
                        </a:lnTo>
                        <a:lnTo>
                          <a:pt x="638" y="0"/>
                        </a:lnTo>
                        <a:lnTo>
                          <a:pt x="665" y="0"/>
                        </a:lnTo>
                        <a:lnTo>
                          <a:pt x="707" y="0"/>
                        </a:lnTo>
                        <a:lnTo>
                          <a:pt x="735" y="0"/>
                        </a:lnTo>
                        <a:lnTo>
                          <a:pt x="762" y="0"/>
                        </a:lnTo>
                        <a:lnTo>
                          <a:pt x="790" y="0"/>
                        </a:lnTo>
                        <a:lnTo>
                          <a:pt x="818" y="0"/>
                        </a:lnTo>
                        <a:lnTo>
                          <a:pt x="845" y="0"/>
                        </a:lnTo>
                        <a:lnTo>
                          <a:pt x="887" y="0"/>
                        </a:lnTo>
                        <a:lnTo>
                          <a:pt x="914" y="0"/>
                        </a:lnTo>
                        <a:lnTo>
                          <a:pt x="942" y="0"/>
                        </a:lnTo>
                        <a:lnTo>
                          <a:pt x="970" y="0"/>
                        </a:lnTo>
                        <a:lnTo>
                          <a:pt x="997" y="0"/>
                        </a:lnTo>
                        <a:lnTo>
                          <a:pt x="1025" y="0"/>
                        </a:lnTo>
                        <a:lnTo>
                          <a:pt x="1066" y="0"/>
                        </a:lnTo>
                        <a:lnTo>
                          <a:pt x="1096" y="0"/>
                        </a:lnTo>
                        <a:lnTo>
                          <a:pt x="1123" y="0"/>
                        </a:lnTo>
                        <a:lnTo>
                          <a:pt x="1151" y="0"/>
                        </a:lnTo>
                        <a:lnTo>
                          <a:pt x="1178" y="0"/>
                        </a:lnTo>
                        <a:lnTo>
                          <a:pt x="1206" y="0"/>
                        </a:lnTo>
                        <a:lnTo>
                          <a:pt x="1248" y="0"/>
                        </a:lnTo>
                        <a:lnTo>
                          <a:pt x="1275" y="0"/>
                        </a:lnTo>
                        <a:lnTo>
                          <a:pt x="1303" y="0"/>
                        </a:lnTo>
                        <a:lnTo>
                          <a:pt x="1331" y="0"/>
                        </a:lnTo>
                        <a:lnTo>
                          <a:pt x="1358" y="0"/>
                        </a:lnTo>
                        <a:lnTo>
                          <a:pt x="1386" y="0"/>
                        </a:lnTo>
                        <a:lnTo>
                          <a:pt x="1427" y="0"/>
                        </a:lnTo>
                        <a:lnTo>
                          <a:pt x="1455" y="0"/>
                        </a:lnTo>
                        <a:lnTo>
                          <a:pt x="1483" y="0"/>
                        </a:lnTo>
                        <a:lnTo>
                          <a:pt x="1510" y="0"/>
                        </a:lnTo>
                        <a:lnTo>
                          <a:pt x="1538" y="0"/>
                        </a:lnTo>
                        <a:lnTo>
                          <a:pt x="1566" y="0"/>
                        </a:lnTo>
                        <a:lnTo>
                          <a:pt x="1607" y="0"/>
                        </a:lnTo>
                        <a:lnTo>
                          <a:pt x="1635" y="0"/>
                        </a:lnTo>
                        <a:lnTo>
                          <a:pt x="1663" y="0"/>
                        </a:lnTo>
                        <a:lnTo>
                          <a:pt x="1690" y="0"/>
                        </a:lnTo>
                        <a:lnTo>
                          <a:pt x="1718" y="0"/>
                        </a:lnTo>
                        <a:lnTo>
                          <a:pt x="1746" y="0"/>
                        </a:lnTo>
                        <a:lnTo>
                          <a:pt x="1787" y="0"/>
                        </a:lnTo>
                        <a:lnTo>
                          <a:pt x="1815" y="0"/>
                        </a:lnTo>
                        <a:lnTo>
                          <a:pt x="1842" y="0"/>
                        </a:lnTo>
                        <a:lnTo>
                          <a:pt x="1870" y="0"/>
                        </a:lnTo>
                        <a:lnTo>
                          <a:pt x="1899" y="0"/>
                        </a:lnTo>
                        <a:lnTo>
                          <a:pt x="1927" y="0"/>
                        </a:lnTo>
                        <a:lnTo>
                          <a:pt x="1968" y="0"/>
                        </a:lnTo>
                        <a:lnTo>
                          <a:pt x="1996" y="0"/>
                        </a:lnTo>
                        <a:lnTo>
                          <a:pt x="2024" y="0"/>
                        </a:lnTo>
                        <a:lnTo>
                          <a:pt x="2051" y="0"/>
                        </a:lnTo>
                        <a:lnTo>
                          <a:pt x="2079" y="0"/>
                        </a:lnTo>
                        <a:lnTo>
                          <a:pt x="2107" y="0"/>
                        </a:lnTo>
                        <a:lnTo>
                          <a:pt x="2148" y="0"/>
                        </a:lnTo>
                        <a:lnTo>
                          <a:pt x="2176" y="0"/>
                        </a:lnTo>
                        <a:lnTo>
                          <a:pt x="2203" y="0"/>
                        </a:lnTo>
                        <a:lnTo>
                          <a:pt x="2231" y="0"/>
                        </a:lnTo>
                        <a:lnTo>
                          <a:pt x="2259" y="0"/>
                        </a:lnTo>
                        <a:lnTo>
                          <a:pt x="2286" y="0"/>
                        </a:lnTo>
                        <a:lnTo>
                          <a:pt x="2328" y="0"/>
                        </a:lnTo>
                        <a:lnTo>
                          <a:pt x="2356" y="0"/>
                        </a:lnTo>
                        <a:lnTo>
                          <a:pt x="2383" y="0"/>
                        </a:lnTo>
                        <a:lnTo>
                          <a:pt x="2411" y="0"/>
                        </a:lnTo>
                        <a:lnTo>
                          <a:pt x="2439" y="0"/>
                        </a:lnTo>
                        <a:lnTo>
                          <a:pt x="2466" y="0"/>
                        </a:lnTo>
                        <a:lnTo>
                          <a:pt x="2508" y="0"/>
                        </a:lnTo>
                        <a:lnTo>
                          <a:pt x="2535" y="0"/>
                        </a:lnTo>
                        <a:lnTo>
                          <a:pt x="2563" y="0"/>
                        </a:lnTo>
                        <a:lnTo>
                          <a:pt x="2591" y="0"/>
                        </a:lnTo>
                        <a:lnTo>
                          <a:pt x="2618" y="0"/>
                        </a:lnTo>
                        <a:lnTo>
                          <a:pt x="2646" y="0"/>
                        </a:lnTo>
                        <a:lnTo>
                          <a:pt x="2689" y="0"/>
                        </a:lnTo>
                        <a:lnTo>
                          <a:pt x="2717" y="0"/>
                        </a:lnTo>
                        <a:lnTo>
                          <a:pt x="2744" y="0"/>
                        </a:lnTo>
                        <a:lnTo>
                          <a:pt x="2772" y="0"/>
                        </a:lnTo>
                        <a:lnTo>
                          <a:pt x="2800" y="0"/>
                        </a:lnTo>
                        <a:lnTo>
                          <a:pt x="2827" y="0"/>
                        </a:lnTo>
                        <a:lnTo>
                          <a:pt x="2869" y="0"/>
                        </a:lnTo>
                        <a:lnTo>
                          <a:pt x="2896" y="0"/>
                        </a:lnTo>
                        <a:lnTo>
                          <a:pt x="2924" y="0"/>
                        </a:lnTo>
                        <a:lnTo>
                          <a:pt x="2952" y="0"/>
                        </a:lnTo>
                        <a:lnTo>
                          <a:pt x="2979" y="0"/>
                        </a:lnTo>
                        <a:lnTo>
                          <a:pt x="3007" y="0"/>
                        </a:lnTo>
                        <a:lnTo>
                          <a:pt x="3048" y="0"/>
                        </a:lnTo>
                        <a:lnTo>
                          <a:pt x="3076" y="0"/>
                        </a:lnTo>
                        <a:lnTo>
                          <a:pt x="3104" y="0"/>
                        </a:lnTo>
                        <a:lnTo>
                          <a:pt x="3131" y="0"/>
                        </a:lnTo>
                        <a:lnTo>
                          <a:pt x="3159" y="0"/>
                        </a:lnTo>
                        <a:lnTo>
                          <a:pt x="3201" y="0"/>
                        </a:lnTo>
                        <a:lnTo>
                          <a:pt x="3242" y="0"/>
                        </a:lnTo>
                        <a:lnTo>
                          <a:pt x="3270" y="0"/>
                        </a:lnTo>
                        <a:lnTo>
                          <a:pt x="3297" y="0"/>
                        </a:lnTo>
                        <a:lnTo>
                          <a:pt x="3325" y="0"/>
                        </a:lnTo>
                        <a:lnTo>
                          <a:pt x="3353" y="0"/>
                        </a:lnTo>
                        <a:lnTo>
                          <a:pt x="3394" y="0"/>
                        </a:lnTo>
                        <a:lnTo>
                          <a:pt x="3422" y="0"/>
                        </a:lnTo>
                        <a:lnTo>
                          <a:pt x="3450" y="0"/>
                        </a:lnTo>
                        <a:lnTo>
                          <a:pt x="3479" y="0"/>
                        </a:lnTo>
                        <a:lnTo>
                          <a:pt x="3506" y="0"/>
                        </a:lnTo>
                        <a:lnTo>
                          <a:pt x="3534" y="0"/>
                        </a:lnTo>
                        <a:lnTo>
                          <a:pt x="3575" y="0"/>
                        </a:lnTo>
                        <a:lnTo>
                          <a:pt x="3603" y="0"/>
                        </a:lnTo>
                        <a:lnTo>
                          <a:pt x="3631" y="0"/>
                        </a:lnTo>
                        <a:lnTo>
                          <a:pt x="3658" y="0"/>
                        </a:lnTo>
                        <a:lnTo>
                          <a:pt x="3686" y="0"/>
                        </a:lnTo>
                        <a:lnTo>
                          <a:pt x="3714" y="0"/>
                        </a:lnTo>
                        <a:lnTo>
                          <a:pt x="3755" y="0"/>
                        </a:lnTo>
                        <a:lnTo>
                          <a:pt x="3783" y="0"/>
                        </a:lnTo>
                        <a:lnTo>
                          <a:pt x="3811" y="0"/>
                        </a:lnTo>
                        <a:lnTo>
                          <a:pt x="3838" y="0"/>
                        </a:lnTo>
                        <a:lnTo>
                          <a:pt x="3866" y="0"/>
                        </a:lnTo>
                        <a:lnTo>
                          <a:pt x="3894" y="0"/>
                        </a:lnTo>
                        <a:lnTo>
                          <a:pt x="3935" y="0"/>
                        </a:lnTo>
                        <a:lnTo>
                          <a:pt x="3963" y="0"/>
                        </a:lnTo>
                        <a:lnTo>
                          <a:pt x="3990" y="0"/>
                        </a:lnTo>
                        <a:lnTo>
                          <a:pt x="4018" y="0"/>
                        </a:lnTo>
                        <a:lnTo>
                          <a:pt x="4046" y="0"/>
                        </a:lnTo>
                        <a:lnTo>
                          <a:pt x="4073" y="0"/>
                        </a:lnTo>
                        <a:lnTo>
                          <a:pt x="4115" y="0"/>
                        </a:lnTo>
                        <a:lnTo>
                          <a:pt x="4143" y="0"/>
                        </a:lnTo>
                        <a:lnTo>
                          <a:pt x="4170" y="0"/>
                        </a:lnTo>
                        <a:lnTo>
                          <a:pt x="4198" y="0"/>
                        </a:lnTo>
                        <a:lnTo>
                          <a:pt x="4226" y="0"/>
                        </a:lnTo>
                        <a:lnTo>
                          <a:pt x="4253" y="0"/>
                        </a:lnTo>
                        <a:lnTo>
                          <a:pt x="4296" y="0"/>
                        </a:lnTo>
                        <a:lnTo>
                          <a:pt x="4324" y="0"/>
                        </a:lnTo>
                        <a:lnTo>
                          <a:pt x="4351" y="0"/>
                        </a:lnTo>
                        <a:lnTo>
                          <a:pt x="4379" y="0"/>
                        </a:lnTo>
                        <a:lnTo>
                          <a:pt x="4407" y="0"/>
                        </a:lnTo>
                        <a:lnTo>
                          <a:pt x="4434" y="0"/>
                        </a:lnTo>
                        <a:lnTo>
                          <a:pt x="4476" y="0"/>
                        </a:lnTo>
                        <a:lnTo>
                          <a:pt x="4504" y="0"/>
                        </a:lnTo>
                        <a:lnTo>
                          <a:pt x="4531" y="0"/>
                        </a:lnTo>
                        <a:lnTo>
                          <a:pt x="4559" y="0"/>
                        </a:lnTo>
                        <a:lnTo>
                          <a:pt x="4587" y="0"/>
                        </a:lnTo>
                        <a:lnTo>
                          <a:pt x="4614" y="0"/>
                        </a:lnTo>
                        <a:lnTo>
                          <a:pt x="4656" y="0"/>
                        </a:lnTo>
                        <a:lnTo>
                          <a:pt x="4683" y="0"/>
                        </a:lnTo>
                        <a:lnTo>
                          <a:pt x="4711" y="0"/>
                        </a:lnTo>
                        <a:lnTo>
                          <a:pt x="4739" y="0"/>
                        </a:lnTo>
                        <a:lnTo>
                          <a:pt x="4766" y="0"/>
                        </a:lnTo>
                        <a:lnTo>
                          <a:pt x="4794" y="0"/>
                        </a:lnTo>
                        <a:lnTo>
                          <a:pt x="4835" y="0"/>
                        </a:lnTo>
                        <a:lnTo>
                          <a:pt x="4863" y="0"/>
                        </a:lnTo>
                        <a:lnTo>
                          <a:pt x="4891" y="0"/>
                        </a:lnTo>
                        <a:lnTo>
                          <a:pt x="4918" y="0"/>
                        </a:lnTo>
                        <a:lnTo>
                          <a:pt x="4946" y="0"/>
                        </a:lnTo>
                        <a:lnTo>
                          <a:pt x="4974" y="0"/>
                        </a:lnTo>
                        <a:lnTo>
                          <a:pt x="5015" y="0"/>
                        </a:lnTo>
                        <a:lnTo>
                          <a:pt x="5043" y="0"/>
                        </a:lnTo>
                        <a:lnTo>
                          <a:pt x="5072" y="0"/>
                        </a:lnTo>
                        <a:lnTo>
                          <a:pt x="5100" y="0"/>
                        </a:lnTo>
                        <a:lnTo>
                          <a:pt x="5127" y="0"/>
                        </a:lnTo>
                        <a:lnTo>
                          <a:pt x="5155" y="0"/>
                        </a:lnTo>
                        <a:lnTo>
                          <a:pt x="5196" y="0"/>
                        </a:lnTo>
                        <a:lnTo>
                          <a:pt x="5224" y="0"/>
                        </a:lnTo>
                        <a:lnTo>
                          <a:pt x="5252" y="0"/>
                        </a:lnTo>
                        <a:lnTo>
                          <a:pt x="5279" y="0"/>
                        </a:lnTo>
                        <a:lnTo>
                          <a:pt x="5307" y="0"/>
                        </a:lnTo>
                        <a:lnTo>
                          <a:pt x="5335" y="0"/>
                        </a:lnTo>
                        <a:lnTo>
                          <a:pt x="5376" y="0"/>
                        </a:lnTo>
                        <a:lnTo>
                          <a:pt x="5404" y="0"/>
                        </a:lnTo>
                        <a:lnTo>
                          <a:pt x="5432" y="0"/>
                        </a:lnTo>
                        <a:lnTo>
                          <a:pt x="5459" y="0"/>
                        </a:lnTo>
                        <a:lnTo>
                          <a:pt x="5487" y="0"/>
                        </a:lnTo>
                        <a:lnTo>
                          <a:pt x="5515" y="0"/>
                        </a:lnTo>
                        <a:lnTo>
                          <a:pt x="5556" y="0"/>
                        </a:lnTo>
                        <a:lnTo>
                          <a:pt x="5584" y="0"/>
                        </a:lnTo>
                        <a:lnTo>
                          <a:pt x="5611" y="0"/>
                        </a:lnTo>
                        <a:lnTo>
                          <a:pt x="5639" y="0"/>
                        </a:lnTo>
                        <a:lnTo>
                          <a:pt x="5667" y="0"/>
                        </a:lnTo>
                        <a:lnTo>
                          <a:pt x="5694" y="0"/>
                        </a:lnTo>
                        <a:lnTo>
                          <a:pt x="5736" y="0"/>
                        </a:lnTo>
                        <a:lnTo>
                          <a:pt x="5764" y="0"/>
                        </a:lnTo>
                        <a:lnTo>
                          <a:pt x="5791" y="0"/>
                        </a:lnTo>
                        <a:lnTo>
                          <a:pt x="5819" y="0"/>
                        </a:lnTo>
                        <a:lnTo>
                          <a:pt x="5847" y="0"/>
                        </a:lnTo>
                        <a:lnTo>
                          <a:pt x="5889" y="0"/>
                        </a:lnTo>
                        <a:lnTo>
                          <a:pt x="5931" y="0"/>
                        </a:lnTo>
                        <a:lnTo>
                          <a:pt x="5959" y="0"/>
                        </a:lnTo>
                        <a:lnTo>
                          <a:pt x="5986" y="0"/>
                        </a:lnTo>
                        <a:lnTo>
                          <a:pt x="6014" y="0"/>
                        </a:lnTo>
                        <a:lnTo>
                          <a:pt x="6042" y="0"/>
                        </a:lnTo>
                        <a:lnTo>
                          <a:pt x="6069" y="0"/>
                        </a:lnTo>
                        <a:lnTo>
                          <a:pt x="6111" y="0"/>
                        </a:lnTo>
                        <a:lnTo>
                          <a:pt x="613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6" name=""/>
              <p:cNvGrpSpPr/>
              <p:nvPr/>
            </p:nvGrpSpPr>
            <p:grpSpPr>
              <a:xfrm>
                <a:off x="5294160" y="2503440"/>
                <a:ext cx="3606840" cy="2303640"/>
                <a:chOff x="5294160" y="2503440"/>
                <a:chExt cx="3606840" cy="230364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5653080" y="2585880"/>
                  <a:ext cx="2735280" cy="1800"/>
                </a:xfrm>
                <a:custGeom>
                  <a:avLst/>
                  <a:gdLst/>
                  <a:ahLst/>
                  <a:rect l="l" t="t" r="r" b="b"/>
                  <a:pathLst>
                    <a:path w="5167" h="0">
                      <a:moveTo>
                        <a:pt x="0" y="0"/>
                      </a:moveTo>
                      <a:lnTo>
                        <a:pt x="27" y="0"/>
                      </a:lnTo>
                      <a:lnTo>
                        <a:pt x="69" y="0"/>
                      </a:lnTo>
                      <a:lnTo>
                        <a:pt x="110" y="0"/>
                      </a:lnTo>
                      <a:lnTo>
                        <a:pt x="138" y="0"/>
                      </a:lnTo>
                      <a:lnTo>
                        <a:pt x="166" y="0"/>
                      </a:lnTo>
                      <a:lnTo>
                        <a:pt x="193" y="0"/>
                      </a:lnTo>
                      <a:lnTo>
                        <a:pt x="221" y="0"/>
                      </a:lnTo>
                      <a:lnTo>
                        <a:pt x="263" y="0"/>
                      </a:lnTo>
                      <a:lnTo>
                        <a:pt x="290" y="0"/>
                      </a:lnTo>
                      <a:lnTo>
                        <a:pt x="318" y="0"/>
                      </a:lnTo>
                      <a:lnTo>
                        <a:pt x="346" y="0"/>
                      </a:lnTo>
                      <a:lnTo>
                        <a:pt x="373" y="0"/>
                      </a:lnTo>
                      <a:lnTo>
                        <a:pt x="401" y="0"/>
                      </a:lnTo>
                      <a:lnTo>
                        <a:pt x="442" y="0"/>
                      </a:lnTo>
                      <a:lnTo>
                        <a:pt x="470" y="0"/>
                      </a:lnTo>
                      <a:lnTo>
                        <a:pt x="498" y="0"/>
                      </a:lnTo>
                      <a:lnTo>
                        <a:pt x="525" y="0"/>
                      </a:lnTo>
                      <a:lnTo>
                        <a:pt x="553" y="0"/>
                      </a:lnTo>
                      <a:lnTo>
                        <a:pt x="581" y="0"/>
                      </a:lnTo>
                      <a:lnTo>
                        <a:pt x="624" y="0"/>
                      </a:lnTo>
                      <a:lnTo>
                        <a:pt x="651" y="0"/>
                      </a:lnTo>
                      <a:lnTo>
                        <a:pt x="679" y="0"/>
                      </a:lnTo>
                      <a:lnTo>
                        <a:pt x="706" y="0"/>
                      </a:lnTo>
                      <a:lnTo>
                        <a:pt x="734" y="0"/>
                      </a:lnTo>
                      <a:lnTo>
                        <a:pt x="776" y="0"/>
                      </a:lnTo>
                      <a:lnTo>
                        <a:pt x="803" y="0"/>
                      </a:lnTo>
                      <a:lnTo>
                        <a:pt x="831" y="0"/>
                      </a:lnTo>
                      <a:lnTo>
                        <a:pt x="859" y="0"/>
                      </a:lnTo>
                      <a:lnTo>
                        <a:pt x="886" y="0"/>
                      </a:lnTo>
                      <a:lnTo>
                        <a:pt x="914" y="0"/>
                      </a:lnTo>
                      <a:lnTo>
                        <a:pt x="955" y="0"/>
                      </a:lnTo>
                      <a:lnTo>
                        <a:pt x="983" y="0"/>
                      </a:lnTo>
                      <a:lnTo>
                        <a:pt x="1011" y="0"/>
                      </a:lnTo>
                      <a:lnTo>
                        <a:pt x="1038" y="0"/>
                      </a:lnTo>
                      <a:lnTo>
                        <a:pt x="1066" y="0"/>
                      </a:lnTo>
                      <a:lnTo>
                        <a:pt x="1094" y="0"/>
                      </a:lnTo>
                      <a:lnTo>
                        <a:pt x="1135" y="0"/>
                      </a:lnTo>
                      <a:lnTo>
                        <a:pt x="1163" y="0"/>
                      </a:lnTo>
                      <a:lnTo>
                        <a:pt x="1191" y="0"/>
                      </a:lnTo>
                      <a:lnTo>
                        <a:pt x="1218" y="0"/>
                      </a:lnTo>
                      <a:lnTo>
                        <a:pt x="1246" y="0"/>
                      </a:lnTo>
                      <a:lnTo>
                        <a:pt x="1274" y="0"/>
                      </a:lnTo>
                      <a:lnTo>
                        <a:pt x="1315" y="0"/>
                      </a:lnTo>
                      <a:lnTo>
                        <a:pt x="1343" y="0"/>
                      </a:lnTo>
                      <a:lnTo>
                        <a:pt x="1370" y="0"/>
                      </a:lnTo>
                      <a:lnTo>
                        <a:pt x="1398" y="0"/>
                      </a:lnTo>
                      <a:lnTo>
                        <a:pt x="1427" y="0"/>
                      </a:lnTo>
                      <a:lnTo>
                        <a:pt x="1455" y="0"/>
                      </a:lnTo>
                      <a:lnTo>
                        <a:pt x="1496" y="0"/>
                      </a:lnTo>
                      <a:lnTo>
                        <a:pt x="1524" y="0"/>
                      </a:lnTo>
                      <a:lnTo>
                        <a:pt x="1552" y="0"/>
                      </a:lnTo>
                      <a:lnTo>
                        <a:pt x="1579" y="0"/>
                      </a:lnTo>
                      <a:lnTo>
                        <a:pt x="1607" y="0"/>
                      </a:lnTo>
                      <a:lnTo>
                        <a:pt x="1635" y="0"/>
                      </a:lnTo>
                      <a:lnTo>
                        <a:pt x="1676" y="0"/>
                      </a:lnTo>
                      <a:lnTo>
                        <a:pt x="1704" y="0"/>
                      </a:lnTo>
                      <a:lnTo>
                        <a:pt x="1731" y="0"/>
                      </a:lnTo>
                      <a:lnTo>
                        <a:pt x="1759" y="0"/>
                      </a:lnTo>
                      <a:lnTo>
                        <a:pt x="1787" y="0"/>
                      </a:lnTo>
                      <a:lnTo>
                        <a:pt x="1814" y="0"/>
                      </a:lnTo>
                      <a:lnTo>
                        <a:pt x="1856" y="0"/>
                      </a:lnTo>
                      <a:lnTo>
                        <a:pt x="1884" y="0"/>
                      </a:lnTo>
                      <a:lnTo>
                        <a:pt x="1911" y="0"/>
                      </a:lnTo>
                      <a:lnTo>
                        <a:pt x="1939" y="0"/>
                      </a:lnTo>
                      <a:lnTo>
                        <a:pt x="1967" y="0"/>
                      </a:lnTo>
                      <a:lnTo>
                        <a:pt x="1994" y="0"/>
                      </a:lnTo>
                      <a:lnTo>
                        <a:pt x="2036" y="0"/>
                      </a:lnTo>
                      <a:lnTo>
                        <a:pt x="2063" y="0"/>
                      </a:lnTo>
                      <a:lnTo>
                        <a:pt x="2091" y="0"/>
                      </a:lnTo>
                      <a:lnTo>
                        <a:pt x="2119" y="0"/>
                      </a:lnTo>
                      <a:lnTo>
                        <a:pt x="2146" y="0"/>
                      </a:lnTo>
                      <a:lnTo>
                        <a:pt x="2174" y="0"/>
                      </a:lnTo>
                      <a:lnTo>
                        <a:pt x="2217" y="0"/>
                      </a:lnTo>
                      <a:lnTo>
                        <a:pt x="2245" y="0"/>
                      </a:lnTo>
                      <a:lnTo>
                        <a:pt x="2272" y="0"/>
                      </a:lnTo>
                      <a:lnTo>
                        <a:pt x="2300" y="0"/>
                      </a:lnTo>
                      <a:lnTo>
                        <a:pt x="2328" y="0"/>
                      </a:lnTo>
                      <a:lnTo>
                        <a:pt x="2355" y="0"/>
                      </a:lnTo>
                      <a:lnTo>
                        <a:pt x="2397" y="0"/>
                      </a:lnTo>
                      <a:lnTo>
                        <a:pt x="2424" y="0"/>
                      </a:lnTo>
                      <a:lnTo>
                        <a:pt x="2452" y="0"/>
                      </a:lnTo>
                      <a:lnTo>
                        <a:pt x="2480" y="0"/>
                      </a:lnTo>
                      <a:lnTo>
                        <a:pt x="2507" y="0"/>
                      </a:lnTo>
                      <a:lnTo>
                        <a:pt x="2535" y="0"/>
                      </a:lnTo>
                      <a:lnTo>
                        <a:pt x="2576" y="0"/>
                      </a:lnTo>
                      <a:lnTo>
                        <a:pt x="2604" y="0"/>
                      </a:lnTo>
                      <a:lnTo>
                        <a:pt x="2632" y="0"/>
                      </a:lnTo>
                      <a:lnTo>
                        <a:pt x="2659" y="0"/>
                      </a:lnTo>
                      <a:lnTo>
                        <a:pt x="2687" y="0"/>
                      </a:lnTo>
                      <a:lnTo>
                        <a:pt x="2729" y="0"/>
                      </a:lnTo>
                      <a:lnTo>
                        <a:pt x="2770" y="0"/>
                      </a:lnTo>
                      <a:lnTo>
                        <a:pt x="2798" y="0"/>
                      </a:lnTo>
                      <a:lnTo>
                        <a:pt x="2825" y="0"/>
                      </a:lnTo>
                      <a:lnTo>
                        <a:pt x="2853" y="0"/>
                      </a:lnTo>
                      <a:lnTo>
                        <a:pt x="2881" y="0"/>
                      </a:lnTo>
                      <a:lnTo>
                        <a:pt x="2922" y="0"/>
                      </a:lnTo>
                      <a:lnTo>
                        <a:pt x="2950" y="0"/>
                      </a:lnTo>
                      <a:lnTo>
                        <a:pt x="2978" y="0"/>
                      </a:lnTo>
                      <a:lnTo>
                        <a:pt x="3007" y="0"/>
                      </a:lnTo>
                      <a:lnTo>
                        <a:pt x="3034" y="0"/>
                      </a:lnTo>
                      <a:lnTo>
                        <a:pt x="3062" y="0"/>
                      </a:lnTo>
                      <a:lnTo>
                        <a:pt x="3103" y="0"/>
                      </a:lnTo>
                      <a:lnTo>
                        <a:pt x="3131" y="0"/>
                      </a:lnTo>
                      <a:lnTo>
                        <a:pt x="3159" y="0"/>
                      </a:lnTo>
                      <a:lnTo>
                        <a:pt x="3186" y="0"/>
                      </a:lnTo>
                      <a:lnTo>
                        <a:pt x="3214" y="0"/>
                      </a:lnTo>
                      <a:lnTo>
                        <a:pt x="3242" y="0"/>
                      </a:lnTo>
                      <a:lnTo>
                        <a:pt x="3283" y="0"/>
                      </a:lnTo>
                      <a:lnTo>
                        <a:pt x="3311" y="0"/>
                      </a:lnTo>
                      <a:lnTo>
                        <a:pt x="3339" y="0"/>
                      </a:lnTo>
                      <a:lnTo>
                        <a:pt x="3366" y="0"/>
                      </a:lnTo>
                      <a:lnTo>
                        <a:pt x="3394" y="0"/>
                      </a:lnTo>
                      <a:lnTo>
                        <a:pt x="3422" y="0"/>
                      </a:lnTo>
                      <a:lnTo>
                        <a:pt x="3463" y="0"/>
                      </a:lnTo>
                      <a:lnTo>
                        <a:pt x="3491" y="0"/>
                      </a:lnTo>
                      <a:lnTo>
                        <a:pt x="3518" y="0"/>
                      </a:lnTo>
                      <a:lnTo>
                        <a:pt x="3546" y="0"/>
                      </a:lnTo>
                      <a:lnTo>
                        <a:pt x="3574" y="0"/>
                      </a:lnTo>
                      <a:lnTo>
                        <a:pt x="3601" y="0"/>
                      </a:lnTo>
                      <a:lnTo>
                        <a:pt x="3643" y="0"/>
                      </a:lnTo>
                      <a:lnTo>
                        <a:pt x="3671" y="0"/>
                      </a:lnTo>
                      <a:lnTo>
                        <a:pt x="3698" y="0"/>
                      </a:lnTo>
                      <a:lnTo>
                        <a:pt x="3726" y="0"/>
                      </a:lnTo>
                      <a:lnTo>
                        <a:pt x="3754" y="0"/>
                      </a:lnTo>
                      <a:lnTo>
                        <a:pt x="3781" y="0"/>
                      </a:lnTo>
                      <a:lnTo>
                        <a:pt x="3824" y="0"/>
                      </a:lnTo>
                      <a:lnTo>
                        <a:pt x="3852" y="0"/>
                      </a:lnTo>
                      <a:lnTo>
                        <a:pt x="3879" y="0"/>
                      </a:lnTo>
                      <a:lnTo>
                        <a:pt x="3907" y="0"/>
                      </a:lnTo>
                      <a:lnTo>
                        <a:pt x="3935" y="0"/>
                      </a:lnTo>
                      <a:lnTo>
                        <a:pt x="3962" y="0"/>
                      </a:lnTo>
                      <a:lnTo>
                        <a:pt x="4004" y="0"/>
                      </a:lnTo>
                      <a:lnTo>
                        <a:pt x="4032" y="0"/>
                      </a:lnTo>
                      <a:lnTo>
                        <a:pt x="4059" y="0"/>
                      </a:lnTo>
                      <a:lnTo>
                        <a:pt x="4087" y="0"/>
                      </a:lnTo>
                      <a:lnTo>
                        <a:pt x="4115" y="0"/>
                      </a:lnTo>
                      <a:lnTo>
                        <a:pt x="4142" y="0"/>
                      </a:lnTo>
                      <a:lnTo>
                        <a:pt x="4184" y="0"/>
                      </a:lnTo>
                      <a:lnTo>
                        <a:pt x="4211" y="0"/>
                      </a:lnTo>
                      <a:lnTo>
                        <a:pt x="4239" y="0"/>
                      </a:lnTo>
                      <a:lnTo>
                        <a:pt x="4267" y="0"/>
                      </a:lnTo>
                      <a:lnTo>
                        <a:pt x="4294" y="0"/>
                      </a:lnTo>
                      <a:lnTo>
                        <a:pt x="4322" y="0"/>
                      </a:lnTo>
                      <a:lnTo>
                        <a:pt x="4363" y="0"/>
                      </a:lnTo>
                      <a:lnTo>
                        <a:pt x="4391" y="0"/>
                      </a:lnTo>
                      <a:lnTo>
                        <a:pt x="4419" y="0"/>
                      </a:lnTo>
                      <a:lnTo>
                        <a:pt x="4446" y="0"/>
                      </a:lnTo>
                      <a:lnTo>
                        <a:pt x="4474" y="0"/>
                      </a:lnTo>
                      <a:lnTo>
                        <a:pt x="4502" y="0"/>
                      </a:lnTo>
                      <a:lnTo>
                        <a:pt x="4543" y="0"/>
                      </a:lnTo>
                      <a:lnTo>
                        <a:pt x="4571" y="0"/>
                      </a:lnTo>
                      <a:lnTo>
                        <a:pt x="4600" y="0"/>
                      </a:lnTo>
                      <a:lnTo>
                        <a:pt x="4628" y="0"/>
                      </a:lnTo>
                      <a:lnTo>
                        <a:pt x="4655" y="0"/>
                      </a:lnTo>
                      <a:lnTo>
                        <a:pt x="4697" y="0"/>
                      </a:lnTo>
                      <a:lnTo>
                        <a:pt x="4724" y="0"/>
                      </a:lnTo>
                      <a:lnTo>
                        <a:pt x="4752" y="0"/>
                      </a:lnTo>
                      <a:lnTo>
                        <a:pt x="4780" y="0"/>
                      </a:lnTo>
                      <a:lnTo>
                        <a:pt x="4807" y="0"/>
                      </a:lnTo>
                      <a:lnTo>
                        <a:pt x="4835" y="0"/>
                      </a:lnTo>
                      <a:lnTo>
                        <a:pt x="4877" y="0"/>
                      </a:lnTo>
                      <a:lnTo>
                        <a:pt x="4904" y="0"/>
                      </a:lnTo>
                      <a:lnTo>
                        <a:pt x="4932" y="0"/>
                      </a:lnTo>
                      <a:lnTo>
                        <a:pt x="4960" y="0"/>
                      </a:lnTo>
                      <a:lnTo>
                        <a:pt x="4987" y="0"/>
                      </a:lnTo>
                      <a:lnTo>
                        <a:pt x="5015" y="0"/>
                      </a:lnTo>
                      <a:lnTo>
                        <a:pt x="5056" y="0"/>
                      </a:lnTo>
                      <a:lnTo>
                        <a:pt x="5084" y="0"/>
                      </a:lnTo>
                      <a:lnTo>
                        <a:pt x="5112" y="0"/>
                      </a:lnTo>
                      <a:lnTo>
                        <a:pt x="5139" y="0"/>
                      </a:lnTo>
                      <a:lnTo>
                        <a:pt x="516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7662960" y="2536920"/>
                  <a:ext cx="21960" cy="1440"/>
                </a:xfrm>
                <a:custGeom>
                  <a:avLst/>
                  <a:gdLst/>
                  <a:ahLst/>
                  <a:rect l="l" t="t" r="r" b="b"/>
                  <a:pathLst>
                    <a:path w="42" h="0">
                      <a:moveTo>
                        <a:pt x="0" y="0"/>
                      </a:moveTo>
                      <a:lnTo>
                        <a:pt x="28" y="0"/>
                      </a:lnTo>
                      <a:lnTo>
                        <a:pt x="42" y="0"/>
                      </a:lnTo>
                      <a:lnTo>
                        <a:pt x="28" y="0"/>
                      </a:lnTo>
                      <a:lnTo>
                        <a:pt x="1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7662960" y="2536920"/>
                  <a:ext cx="21960" cy="1440"/>
                </a:xfrm>
                <a:custGeom>
                  <a:avLst/>
                  <a:gdLst/>
                  <a:ahLst/>
                  <a:rect l="l" t="t" r="r" b="b"/>
                  <a:pathLst>
                    <a:path w="42" h="0">
                      <a:moveTo>
                        <a:pt x="0" y="0"/>
                      </a:moveTo>
                      <a:lnTo>
                        <a:pt x="28" y="0"/>
                      </a:lnTo>
                      <a:lnTo>
                        <a:pt x="42" y="0"/>
                      </a:lnTo>
                      <a:lnTo>
                        <a:pt x="28" y="0"/>
                      </a:lnTo>
                      <a:lnTo>
                        <a:pt x="14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7156440" y="2536920"/>
                  <a:ext cx="42840" cy="7920"/>
                </a:xfrm>
                <a:custGeom>
                  <a:avLst/>
                  <a:gdLst/>
                  <a:ahLst/>
                  <a:rect l="l" t="t" r="r" b="b"/>
                  <a:pathLst>
                    <a:path w="83" h="15">
                      <a:moveTo>
                        <a:pt x="83" y="0"/>
                      </a:moveTo>
                      <a:lnTo>
                        <a:pt x="69" y="15"/>
                      </a:lnTo>
                      <a:lnTo>
                        <a:pt x="42" y="15"/>
                      </a:lnTo>
                      <a:lnTo>
                        <a:pt x="14" y="0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42" y="0"/>
                      </a:lnTo>
                      <a:lnTo>
                        <a:pt x="69" y="0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7156440" y="2536920"/>
                  <a:ext cx="42840" cy="7920"/>
                </a:xfrm>
                <a:custGeom>
                  <a:avLst/>
                  <a:gdLst/>
                  <a:ahLst/>
                  <a:rect l="l" t="t" r="r" b="b"/>
                  <a:pathLst>
                    <a:path w="83" h="15">
                      <a:moveTo>
                        <a:pt x="83" y="0"/>
                      </a:moveTo>
                      <a:lnTo>
                        <a:pt x="69" y="15"/>
                      </a:lnTo>
                      <a:lnTo>
                        <a:pt x="42" y="15"/>
                      </a:lnTo>
                      <a:lnTo>
                        <a:pt x="14" y="0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42" y="0"/>
                      </a:lnTo>
                      <a:lnTo>
                        <a:pt x="69" y="0"/>
                      </a:lnTo>
                      <a:lnTo>
                        <a:pt x="8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6378480" y="2527200"/>
                  <a:ext cx="44640" cy="25560"/>
                </a:xfrm>
                <a:custGeom>
                  <a:avLst/>
                  <a:gdLst/>
                  <a:ahLst/>
                  <a:rect l="l" t="t" r="r" b="b"/>
                  <a:pathLst>
                    <a:path w="85" h="47">
                      <a:moveTo>
                        <a:pt x="0" y="0"/>
                      </a:moveTo>
                      <a:lnTo>
                        <a:pt x="28" y="0"/>
                      </a:lnTo>
                      <a:lnTo>
                        <a:pt x="57" y="17"/>
                      </a:lnTo>
                      <a:lnTo>
                        <a:pt x="85" y="32"/>
                      </a:lnTo>
                      <a:lnTo>
                        <a:pt x="57" y="47"/>
                      </a:lnTo>
                      <a:lnTo>
                        <a:pt x="43" y="47"/>
                      </a:lnTo>
                      <a:lnTo>
                        <a:pt x="14" y="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6378480" y="2527200"/>
                  <a:ext cx="44640" cy="25560"/>
                </a:xfrm>
                <a:custGeom>
                  <a:avLst/>
                  <a:gdLst/>
                  <a:ahLst/>
                  <a:rect l="l" t="t" r="r" b="b"/>
                  <a:pathLst>
                    <a:path w="85" h="47">
                      <a:moveTo>
                        <a:pt x="0" y="0"/>
                      </a:moveTo>
                      <a:lnTo>
                        <a:pt x="28" y="0"/>
                      </a:lnTo>
                      <a:lnTo>
                        <a:pt x="57" y="17"/>
                      </a:lnTo>
                      <a:lnTo>
                        <a:pt x="85" y="32"/>
                      </a:lnTo>
                      <a:lnTo>
                        <a:pt x="57" y="47"/>
                      </a:lnTo>
                      <a:lnTo>
                        <a:pt x="43" y="47"/>
                      </a:lnTo>
                      <a:lnTo>
                        <a:pt x="14" y="3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6364440" y="2511360"/>
                  <a:ext cx="220680" cy="66600"/>
                </a:xfrm>
                <a:custGeom>
                  <a:avLst/>
                  <a:gdLst/>
                  <a:ahLst/>
                  <a:rect l="l" t="t" r="r" b="b"/>
                  <a:pathLst>
                    <a:path w="416" h="128">
                      <a:moveTo>
                        <a:pt x="278" y="0"/>
                      </a:moveTo>
                      <a:lnTo>
                        <a:pt x="319" y="0"/>
                      </a:lnTo>
                      <a:lnTo>
                        <a:pt x="375" y="17"/>
                      </a:lnTo>
                      <a:lnTo>
                        <a:pt x="416" y="17"/>
                      </a:lnTo>
                      <a:lnTo>
                        <a:pt x="402" y="17"/>
                      </a:lnTo>
                      <a:lnTo>
                        <a:pt x="388" y="32"/>
                      </a:lnTo>
                      <a:lnTo>
                        <a:pt x="361" y="32"/>
                      </a:lnTo>
                      <a:lnTo>
                        <a:pt x="319" y="32"/>
                      </a:lnTo>
                      <a:lnTo>
                        <a:pt x="278" y="49"/>
                      </a:lnTo>
                      <a:lnTo>
                        <a:pt x="236" y="49"/>
                      </a:lnTo>
                      <a:lnTo>
                        <a:pt x="209" y="64"/>
                      </a:lnTo>
                      <a:lnTo>
                        <a:pt x="181" y="64"/>
                      </a:lnTo>
                      <a:lnTo>
                        <a:pt x="195" y="64"/>
                      </a:lnTo>
                      <a:lnTo>
                        <a:pt x="209" y="64"/>
                      </a:lnTo>
                      <a:lnTo>
                        <a:pt x="209" y="79"/>
                      </a:lnTo>
                      <a:lnTo>
                        <a:pt x="195" y="96"/>
                      </a:lnTo>
                      <a:lnTo>
                        <a:pt x="181" y="79"/>
                      </a:lnTo>
                      <a:lnTo>
                        <a:pt x="153" y="96"/>
                      </a:lnTo>
                      <a:lnTo>
                        <a:pt x="153" y="111"/>
                      </a:lnTo>
                      <a:lnTo>
                        <a:pt x="153" y="128"/>
                      </a:lnTo>
                      <a:lnTo>
                        <a:pt x="139" y="128"/>
                      </a:lnTo>
                      <a:lnTo>
                        <a:pt x="112" y="128"/>
                      </a:lnTo>
                      <a:lnTo>
                        <a:pt x="98" y="128"/>
                      </a:lnTo>
                      <a:lnTo>
                        <a:pt x="98" y="111"/>
                      </a:lnTo>
                      <a:lnTo>
                        <a:pt x="84" y="111"/>
                      </a:lnTo>
                      <a:lnTo>
                        <a:pt x="55" y="128"/>
                      </a:lnTo>
                      <a:lnTo>
                        <a:pt x="41" y="111"/>
                      </a:lnTo>
                      <a:lnTo>
                        <a:pt x="14" y="111"/>
                      </a:lnTo>
                      <a:lnTo>
                        <a:pt x="0" y="128"/>
                      </a:lnTo>
                      <a:lnTo>
                        <a:pt x="0" y="111"/>
                      </a:lnTo>
                      <a:lnTo>
                        <a:pt x="14" y="96"/>
                      </a:lnTo>
                      <a:lnTo>
                        <a:pt x="70" y="79"/>
                      </a:lnTo>
                      <a:lnTo>
                        <a:pt x="98" y="79"/>
                      </a:lnTo>
                      <a:lnTo>
                        <a:pt x="98" y="64"/>
                      </a:lnTo>
                      <a:lnTo>
                        <a:pt x="84" y="79"/>
                      </a:lnTo>
                      <a:lnTo>
                        <a:pt x="84" y="64"/>
                      </a:lnTo>
                      <a:lnTo>
                        <a:pt x="98" y="49"/>
                      </a:lnTo>
                      <a:lnTo>
                        <a:pt x="112" y="49"/>
                      </a:lnTo>
                      <a:lnTo>
                        <a:pt x="126" y="32"/>
                      </a:lnTo>
                      <a:lnTo>
                        <a:pt x="139" y="32"/>
                      </a:lnTo>
                      <a:lnTo>
                        <a:pt x="139" y="49"/>
                      </a:lnTo>
                      <a:lnTo>
                        <a:pt x="153" y="49"/>
                      </a:lnTo>
                      <a:lnTo>
                        <a:pt x="167" y="49"/>
                      </a:lnTo>
                      <a:lnTo>
                        <a:pt x="167" y="64"/>
                      </a:lnTo>
                      <a:lnTo>
                        <a:pt x="181" y="49"/>
                      </a:lnTo>
                      <a:lnTo>
                        <a:pt x="195" y="49"/>
                      </a:lnTo>
                      <a:lnTo>
                        <a:pt x="195" y="32"/>
                      </a:lnTo>
                      <a:lnTo>
                        <a:pt x="153" y="32"/>
                      </a:lnTo>
                      <a:lnTo>
                        <a:pt x="112" y="32"/>
                      </a:lnTo>
                      <a:lnTo>
                        <a:pt x="70" y="17"/>
                      </a:lnTo>
                      <a:lnTo>
                        <a:pt x="84" y="17"/>
                      </a:lnTo>
                      <a:lnTo>
                        <a:pt x="98" y="17"/>
                      </a:lnTo>
                      <a:lnTo>
                        <a:pt x="126" y="17"/>
                      </a:lnTo>
                      <a:lnTo>
                        <a:pt x="167" y="17"/>
                      </a:lnTo>
                      <a:lnTo>
                        <a:pt x="209" y="0"/>
                      </a:lnTo>
                      <a:lnTo>
                        <a:pt x="236" y="0"/>
                      </a:lnTo>
                      <a:lnTo>
                        <a:pt x="278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6364440" y="2511360"/>
                  <a:ext cx="220680" cy="66600"/>
                </a:xfrm>
                <a:custGeom>
                  <a:avLst/>
                  <a:gdLst/>
                  <a:ahLst/>
                  <a:rect l="l" t="t" r="r" b="b"/>
                  <a:pathLst>
                    <a:path w="416" h="128">
                      <a:moveTo>
                        <a:pt x="278" y="0"/>
                      </a:moveTo>
                      <a:lnTo>
                        <a:pt x="319" y="0"/>
                      </a:lnTo>
                      <a:lnTo>
                        <a:pt x="375" y="17"/>
                      </a:lnTo>
                      <a:lnTo>
                        <a:pt x="416" y="17"/>
                      </a:lnTo>
                      <a:lnTo>
                        <a:pt x="402" y="17"/>
                      </a:lnTo>
                      <a:lnTo>
                        <a:pt x="388" y="32"/>
                      </a:lnTo>
                      <a:lnTo>
                        <a:pt x="361" y="32"/>
                      </a:lnTo>
                      <a:lnTo>
                        <a:pt x="319" y="32"/>
                      </a:lnTo>
                      <a:lnTo>
                        <a:pt x="278" y="49"/>
                      </a:lnTo>
                      <a:lnTo>
                        <a:pt x="236" y="49"/>
                      </a:lnTo>
                      <a:lnTo>
                        <a:pt x="209" y="64"/>
                      </a:lnTo>
                      <a:lnTo>
                        <a:pt x="181" y="64"/>
                      </a:lnTo>
                      <a:lnTo>
                        <a:pt x="195" y="64"/>
                      </a:lnTo>
                      <a:lnTo>
                        <a:pt x="209" y="64"/>
                      </a:lnTo>
                      <a:lnTo>
                        <a:pt x="209" y="79"/>
                      </a:lnTo>
                      <a:lnTo>
                        <a:pt x="195" y="96"/>
                      </a:lnTo>
                      <a:lnTo>
                        <a:pt x="181" y="79"/>
                      </a:lnTo>
                      <a:lnTo>
                        <a:pt x="153" y="96"/>
                      </a:lnTo>
                      <a:lnTo>
                        <a:pt x="153" y="111"/>
                      </a:lnTo>
                      <a:lnTo>
                        <a:pt x="153" y="128"/>
                      </a:lnTo>
                      <a:lnTo>
                        <a:pt x="139" y="128"/>
                      </a:lnTo>
                      <a:lnTo>
                        <a:pt x="112" y="128"/>
                      </a:lnTo>
                      <a:lnTo>
                        <a:pt x="98" y="128"/>
                      </a:lnTo>
                      <a:lnTo>
                        <a:pt x="98" y="111"/>
                      </a:lnTo>
                      <a:lnTo>
                        <a:pt x="84" y="111"/>
                      </a:lnTo>
                      <a:lnTo>
                        <a:pt x="55" y="128"/>
                      </a:lnTo>
                      <a:lnTo>
                        <a:pt x="41" y="111"/>
                      </a:lnTo>
                      <a:lnTo>
                        <a:pt x="14" y="111"/>
                      </a:lnTo>
                      <a:lnTo>
                        <a:pt x="0" y="128"/>
                      </a:lnTo>
                      <a:lnTo>
                        <a:pt x="0" y="111"/>
                      </a:lnTo>
                      <a:lnTo>
                        <a:pt x="14" y="96"/>
                      </a:lnTo>
                      <a:lnTo>
                        <a:pt x="70" y="79"/>
                      </a:lnTo>
                      <a:lnTo>
                        <a:pt x="98" y="79"/>
                      </a:lnTo>
                      <a:lnTo>
                        <a:pt x="98" y="64"/>
                      </a:lnTo>
                      <a:lnTo>
                        <a:pt x="84" y="79"/>
                      </a:lnTo>
                      <a:lnTo>
                        <a:pt x="84" y="64"/>
                      </a:lnTo>
                      <a:lnTo>
                        <a:pt x="98" y="49"/>
                      </a:lnTo>
                      <a:lnTo>
                        <a:pt x="112" y="49"/>
                      </a:lnTo>
                      <a:lnTo>
                        <a:pt x="126" y="32"/>
                      </a:lnTo>
                      <a:lnTo>
                        <a:pt x="139" y="32"/>
                      </a:lnTo>
                      <a:lnTo>
                        <a:pt x="139" y="49"/>
                      </a:lnTo>
                      <a:lnTo>
                        <a:pt x="153" y="49"/>
                      </a:lnTo>
                      <a:lnTo>
                        <a:pt x="167" y="49"/>
                      </a:lnTo>
                      <a:lnTo>
                        <a:pt x="167" y="64"/>
                      </a:lnTo>
                      <a:lnTo>
                        <a:pt x="181" y="49"/>
                      </a:lnTo>
                      <a:lnTo>
                        <a:pt x="195" y="49"/>
                      </a:lnTo>
                      <a:lnTo>
                        <a:pt x="195" y="32"/>
                      </a:lnTo>
                      <a:lnTo>
                        <a:pt x="153" y="32"/>
                      </a:lnTo>
                      <a:lnTo>
                        <a:pt x="112" y="32"/>
                      </a:lnTo>
                      <a:lnTo>
                        <a:pt x="70" y="17"/>
                      </a:lnTo>
                      <a:lnTo>
                        <a:pt x="84" y="17"/>
                      </a:lnTo>
                      <a:lnTo>
                        <a:pt x="98" y="17"/>
                      </a:lnTo>
                      <a:lnTo>
                        <a:pt x="126" y="17"/>
                      </a:lnTo>
                      <a:lnTo>
                        <a:pt x="167" y="17"/>
                      </a:lnTo>
                      <a:lnTo>
                        <a:pt x="209" y="0"/>
                      </a:lnTo>
                      <a:lnTo>
                        <a:pt x="236" y="0"/>
                      </a:lnTo>
                      <a:lnTo>
                        <a:pt x="27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7705800" y="2536920"/>
                  <a:ext cx="30240" cy="7920"/>
                </a:xfrm>
                <a:custGeom>
                  <a:avLst/>
                  <a:gdLst/>
                  <a:ahLst/>
                  <a:rect l="l" t="t" r="r" b="b"/>
                  <a:pathLst>
                    <a:path w="56" h="15">
                      <a:moveTo>
                        <a:pt x="56" y="15"/>
                      </a:moveTo>
                      <a:lnTo>
                        <a:pt x="28" y="0"/>
                      </a:lnTo>
                      <a:lnTo>
                        <a:pt x="14" y="0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28" y="0"/>
                      </a:lnTo>
                      <a:lnTo>
                        <a:pt x="56" y="15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7705800" y="2536920"/>
                  <a:ext cx="30240" cy="7920"/>
                </a:xfrm>
                <a:custGeom>
                  <a:avLst/>
                  <a:gdLst/>
                  <a:ahLst/>
                  <a:rect l="l" t="t" r="r" b="b"/>
                  <a:pathLst>
                    <a:path w="56" h="15">
                      <a:moveTo>
                        <a:pt x="56" y="15"/>
                      </a:moveTo>
                      <a:lnTo>
                        <a:pt x="28" y="0"/>
                      </a:lnTo>
                      <a:lnTo>
                        <a:pt x="14" y="0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28" y="0"/>
                      </a:lnTo>
                      <a:lnTo>
                        <a:pt x="56" y="1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7750080" y="254484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14" h="15">
                      <a:moveTo>
                        <a:pt x="0" y="15"/>
                      </a:moveTo>
                      <a:lnTo>
                        <a:pt x="14" y="15"/>
                      </a:lnTo>
                      <a:lnTo>
                        <a:pt x="14" y="0"/>
                      </a:lnTo>
                      <a:lnTo>
                        <a:pt x="14" y="15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7750080" y="254484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14" h="15">
                      <a:moveTo>
                        <a:pt x="0" y="15"/>
                      </a:moveTo>
                      <a:lnTo>
                        <a:pt x="14" y="15"/>
                      </a:lnTo>
                      <a:lnTo>
                        <a:pt x="14" y="0"/>
                      </a:lnTo>
                      <a:lnTo>
                        <a:pt x="14" y="15"/>
                      </a:lnTo>
                      <a:lnTo>
                        <a:pt x="0" y="1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6269040" y="2544840"/>
                  <a:ext cx="22320" cy="7920"/>
                </a:xfrm>
                <a:custGeom>
                  <a:avLst/>
                  <a:gdLst/>
                  <a:ahLst/>
                  <a:rect l="l" t="t" r="r" b="b"/>
                  <a:pathLst>
                    <a:path w="41" h="15">
                      <a:moveTo>
                        <a:pt x="41" y="0"/>
                      </a:moveTo>
                      <a:lnTo>
                        <a:pt x="41" y="15"/>
                      </a:lnTo>
                      <a:lnTo>
                        <a:pt x="28" y="15"/>
                      </a:lnTo>
                      <a:lnTo>
                        <a:pt x="14" y="15"/>
                      </a:lnTo>
                      <a:lnTo>
                        <a:pt x="0" y="15"/>
                      </a:lnTo>
                      <a:lnTo>
                        <a:pt x="14" y="0"/>
                      </a:lnTo>
                      <a:lnTo>
                        <a:pt x="28" y="0"/>
                      </a:lnTo>
                      <a:lnTo>
                        <a:pt x="41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6269040" y="2544840"/>
                  <a:ext cx="22320" cy="7920"/>
                </a:xfrm>
                <a:custGeom>
                  <a:avLst/>
                  <a:gdLst/>
                  <a:ahLst/>
                  <a:rect l="l" t="t" r="r" b="b"/>
                  <a:pathLst>
                    <a:path w="41" h="15">
                      <a:moveTo>
                        <a:pt x="41" y="0"/>
                      </a:moveTo>
                      <a:lnTo>
                        <a:pt x="41" y="15"/>
                      </a:lnTo>
                      <a:lnTo>
                        <a:pt x="28" y="15"/>
                      </a:lnTo>
                      <a:lnTo>
                        <a:pt x="14" y="15"/>
                      </a:lnTo>
                      <a:lnTo>
                        <a:pt x="0" y="15"/>
                      </a:lnTo>
                      <a:lnTo>
                        <a:pt x="14" y="0"/>
                      </a:lnTo>
                      <a:lnTo>
                        <a:pt x="28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7097760" y="2536920"/>
                  <a:ext cx="87120" cy="33120"/>
                </a:xfrm>
                <a:custGeom>
                  <a:avLst/>
                  <a:gdLst/>
                  <a:ahLst/>
                  <a:rect l="l" t="t" r="r" b="b"/>
                  <a:pathLst>
                    <a:path w="166" h="62">
                      <a:moveTo>
                        <a:pt x="0" y="0"/>
                      </a:moveTo>
                      <a:lnTo>
                        <a:pt x="27" y="0"/>
                      </a:lnTo>
                      <a:lnTo>
                        <a:pt x="41" y="0"/>
                      </a:lnTo>
                      <a:lnTo>
                        <a:pt x="55" y="0"/>
                      </a:lnTo>
                      <a:lnTo>
                        <a:pt x="69" y="0"/>
                      </a:lnTo>
                      <a:lnTo>
                        <a:pt x="83" y="15"/>
                      </a:lnTo>
                      <a:lnTo>
                        <a:pt x="96" y="15"/>
                      </a:lnTo>
                      <a:lnTo>
                        <a:pt x="83" y="0"/>
                      </a:lnTo>
                      <a:lnTo>
                        <a:pt x="96" y="0"/>
                      </a:lnTo>
                      <a:lnTo>
                        <a:pt x="110" y="0"/>
                      </a:lnTo>
                      <a:lnTo>
                        <a:pt x="138" y="0"/>
                      </a:lnTo>
                      <a:lnTo>
                        <a:pt x="152" y="15"/>
                      </a:lnTo>
                      <a:lnTo>
                        <a:pt x="166" y="15"/>
                      </a:lnTo>
                      <a:lnTo>
                        <a:pt x="152" y="47"/>
                      </a:lnTo>
                      <a:lnTo>
                        <a:pt x="124" y="62"/>
                      </a:lnTo>
                      <a:lnTo>
                        <a:pt x="96" y="62"/>
                      </a:lnTo>
                      <a:lnTo>
                        <a:pt x="83" y="62"/>
                      </a:lnTo>
                      <a:lnTo>
                        <a:pt x="69" y="47"/>
                      </a:lnTo>
                      <a:lnTo>
                        <a:pt x="55" y="30"/>
                      </a:lnTo>
                      <a:lnTo>
                        <a:pt x="69" y="30"/>
                      </a:lnTo>
                      <a:lnTo>
                        <a:pt x="83" y="30"/>
                      </a:lnTo>
                      <a:lnTo>
                        <a:pt x="110" y="30"/>
                      </a:lnTo>
                      <a:lnTo>
                        <a:pt x="96" y="30"/>
                      </a:lnTo>
                      <a:lnTo>
                        <a:pt x="96" y="15"/>
                      </a:lnTo>
                      <a:lnTo>
                        <a:pt x="69" y="15"/>
                      </a:lnTo>
                      <a:lnTo>
                        <a:pt x="41" y="1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7097760" y="2536920"/>
                  <a:ext cx="87120" cy="33120"/>
                </a:xfrm>
                <a:custGeom>
                  <a:avLst/>
                  <a:gdLst/>
                  <a:ahLst/>
                  <a:rect l="l" t="t" r="r" b="b"/>
                  <a:pathLst>
                    <a:path w="166" h="62">
                      <a:moveTo>
                        <a:pt x="0" y="0"/>
                      </a:moveTo>
                      <a:lnTo>
                        <a:pt x="27" y="0"/>
                      </a:lnTo>
                      <a:lnTo>
                        <a:pt x="41" y="0"/>
                      </a:lnTo>
                      <a:lnTo>
                        <a:pt x="55" y="0"/>
                      </a:lnTo>
                      <a:lnTo>
                        <a:pt x="69" y="0"/>
                      </a:lnTo>
                      <a:lnTo>
                        <a:pt x="83" y="15"/>
                      </a:lnTo>
                      <a:lnTo>
                        <a:pt x="96" y="15"/>
                      </a:lnTo>
                      <a:lnTo>
                        <a:pt x="83" y="0"/>
                      </a:lnTo>
                      <a:lnTo>
                        <a:pt x="96" y="0"/>
                      </a:lnTo>
                      <a:lnTo>
                        <a:pt x="110" y="0"/>
                      </a:lnTo>
                      <a:lnTo>
                        <a:pt x="138" y="0"/>
                      </a:lnTo>
                      <a:lnTo>
                        <a:pt x="152" y="15"/>
                      </a:lnTo>
                      <a:lnTo>
                        <a:pt x="166" y="15"/>
                      </a:lnTo>
                      <a:lnTo>
                        <a:pt x="152" y="47"/>
                      </a:lnTo>
                      <a:lnTo>
                        <a:pt x="124" y="62"/>
                      </a:lnTo>
                      <a:lnTo>
                        <a:pt x="96" y="62"/>
                      </a:lnTo>
                      <a:lnTo>
                        <a:pt x="83" y="62"/>
                      </a:lnTo>
                      <a:lnTo>
                        <a:pt x="69" y="47"/>
                      </a:lnTo>
                      <a:lnTo>
                        <a:pt x="55" y="30"/>
                      </a:lnTo>
                      <a:lnTo>
                        <a:pt x="69" y="30"/>
                      </a:lnTo>
                      <a:lnTo>
                        <a:pt x="83" y="30"/>
                      </a:lnTo>
                      <a:lnTo>
                        <a:pt x="110" y="30"/>
                      </a:lnTo>
                      <a:lnTo>
                        <a:pt x="96" y="30"/>
                      </a:lnTo>
                      <a:lnTo>
                        <a:pt x="96" y="15"/>
                      </a:lnTo>
                      <a:lnTo>
                        <a:pt x="69" y="15"/>
                      </a:lnTo>
                      <a:lnTo>
                        <a:pt x="41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7794720" y="2552760"/>
                  <a:ext cx="6120" cy="1440"/>
                </a:xfrm>
                <a:custGeom>
                  <a:avLst/>
                  <a:gdLst/>
                  <a:ahLst/>
                  <a:rect l="l" t="t" r="r" b="b"/>
                  <a:pathLst>
                    <a:path w="14" h="0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794720" y="2552760"/>
                  <a:ext cx="6120" cy="1440"/>
                </a:xfrm>
                <a:custGeom>
                  <a:avLst/>
                  <a:gdLst/>
                  <a:ahLst/>
                  <a:rect l="l" t="t" r="r" b="b"/>
                  <a:pathLst>
                    <a:path w="14" h="0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6122880" y="2562120"/>
                  <a:ext cx="36720" cy="15840"/>
                </a:xfrm>
                <a:custGeom>
                  <a:avLst/>
                  <a:gdLst/>
                  <a:ahLst/>
                  <a:rect l="l" t="t" r="r" b="b"/>
                  <a:pathLst>
                    <a:path w="69" h="32">
                      <a:moveTo>
                        <a:pt x="69" y="0"/>
                      </a:moveTo>
                      <a:lnTo>
                        <a:pt x="56" y="32"/>
                      </a:lnTo>
                      <a:lnTo>
                        <a:pt x="42" y="32"/>
                      </a:lnTo>
                      <a:lnTo>
                        <a:pt x="0" y="32"/>
                      </a:lnTo>
                      <a:lnTo>
                        <a:pt x="14" y="15"/>
                      </a:lnTo>
                      <a:lnTo>
                        <a:pt x="42" y="15"/>
                      </a:lnTo>
                      <a:lnTo>
                        <a:pt x="56" y="0"/>
                      </a:lnTo>
                      <a:lnTo>
                        <a:pt x="69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6122880" y="2562120"/>
                  <a:ext cx="36720" cy="15840"/>
                </a:xfrm>
                <a:custGeom>
                  <a:avLst/>
                  <a:gdLst/>
                  <a:ahLst/>
                  <a:rect l="l" t="t" r="r" b="b"/>
                  <a:pathLst>
                    <a:path w="69" h="32">
                      <a:moveTo>
                        <a:pt x="69" y="0"/>
                      </a:moveTo>
                      <a:lnTo>
                        <a:pt x="56" y="32"/>
                      </a:lnTo>
                      <a:lnTo>
                        <a:pt x="42" y="32"/>
                      </a:lnTo>
                      <a:lnTo>
                        <a:pt x="0" y="32"/>
                      </a:lnTo>
                      <a:lnTo>
                        <a:pt x="14" y="15"/>
                      </a:lnTo>
                      <a:lnTo>
                        <a:pt x="42" y="15"/>
                      </a:lnTo>
                      <a:lnTo>
                        <a:pt x="56" y="0"/>
                      </a:lnTo>
                      <a:lnTo>
                        <a:pt x="69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6276960" y="2570040"/>
                  <a:ext cx="6480" cy="1800"/>
                </a:xfrm>
                <a:custGeom>
                  <a:avLst/>
                  <a:gdLst/>
                  <a:ahLst/>
                  <a:rect l="l" t="t" r="r" b="b"/>
                  <a:pathLst>
                    <a:path w="14" h="0">
                      <a:moveTo>
                        <a:pt x="14" y="0"/>
                      </a:moveTo>
                      <a:lnTo>
                        <a:pt x="0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6276960" y="2570040"/>
                  <a:ext cx="6480" cy="1800"/>
                </a:xfrm>
                <a:custGeom>
                  <a:avLst/>
                  <a:gdLst/>
                  <a:ahLst/>
                  <a:rect l="l" t="t" r="r" b="b"/>
                  <a:pathLst>
                    <a:path w="14" h="0">
                      <a:moveTo>
                        <a:pt x="14" y="0"/>
                      </a:moveTo>
                      <a:lnTo>
                        <a:pt x="0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6246720" y="257004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4" y="0"/>
                      </a:moveTo>
                      <a:lnTo>
                        <a:pt x="0" y="1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6246720" y="257004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4" y="0"/>
                      </a:moveTo>
                      <a:lnTo>
                        <a:pt x="0" y="17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6254640" y="2570040"/>
                  <a:ext cx="28800" cy="15840"/>
                </a:xfrm>
                <a:custGeom>
                  <a:avLst/>
                  <a:gdLst/>
                  <a:ahLst/>
                  <a:rect l="l" t="t" r="r" b="b"/>
                  <a:pathLst>
                    <a:path w="56" h="32">
                      <a:moveTo>
                        <a:pt x="56" y="0"/>
                      </a:moveTo>
                      <a:lnTo>
                        <a:pt x="42" y="17"/>
                      </a:lnTo>
                      <a:lnTo>
                        <a:pt x="28" y="32"/>
                      </a:lnTo>
                      <a:lnTo>
                        <a:pt x="14" y="32"/>
                      </a:lnTo>
                      <a:lnTo>
                        <a:pt x="0" y="32"/>
                      </a:lnTo>
                      <a:lnTo>
                        <a:pt x="14" y="17"/>
                      </a:lnTo>
                      <a:lnTo>
                        <a:pt x="42" y="0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6254640" y="2570040"/>
                  <a:ext cx="28800" cy="15840"/>
                </a:xfrm>
                <a:custGeom>
                  <a:avLst/>
                  <a:gdLst/>
                  <a:ahLst/>
                  <a:rect l="l" t="t" r="r" b="b"/>
                  <a:pathLst>
                    <a:path w="56" h="32">
                      <a:moveTo>
                        <a:pt x="56" y="0"/>
                      </a:moveTo>
                      <a:lnTo>
                        <a:pt x="42" y="17"/>
                      </a:lnTo>
                      <a:lnTo>
                        <a:pt x="28" y="32"/>
                      </a:lnTo>
                      <a:lnTo>
                        <a:pt x="14" y="32"/>
                      </a:lnTo>
                      <a:lnTo>
                        <a:pt x="0" y="32"/>
                      </a:lnTo>
                      <a:lnTo>
                        <a:pt x="14" y="17"/>
                      </a:lnTo>
                      <a:lnTo>
                        <a:pt x="42" y="0"/>
                      </a:lnTo>
                      <a:lnTo>
                        <a:pt x="56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6305400" y="2570040"/>
                  <a:ext cx="111240" cy="23760"/>
                </a:xfrm>
                <a:custGeom>
                  <a:avLst/>
                  <a:gdLst/>
                  <a:ahLst/>
                  <a:rect l="l" t="t" r="r" b="b"/>
                  <a:pathLst>
                    <a:path w="209" h="47">
                      <a:moveTo>
                        <a:pt x="69" y="0"/>
                      </a:moveTo>
                      <a:lnTo>
                        <a:pt x="83" y="17"/>
                      </a:lnTo>
                      <a:lnTo>
                        <a:pt x="97" y="17"/>
                      </a:lnTo>
                      <a:lnTo>
                        <a:pt x="138" y="32"/>
                      </a:lnTo>
                      <a:lnTo>
                        <a:pt x="166" y="32"/>
                      </a:lnTo>
                      <a:lnTo>
                        <a:pt x="209" y="47"/>
                      </a:lnTo>
                      <a:lnTo>
                        <a:pt x="195" y="47"/>
                      </a:lnTo>
                      <a:lnTo>
                        <a:pt x="181" y="47"/>
                      </a:lnTo>
                      <a:lnTo>
                        <a:pt x="166" y="47"/>
                      </a:lnTo>
                      <a:lnTo>
                        <a:pt x="125" y="32"/>
                      </a:lnTo>
                      <a:lnTo>
                        <a:pt x="83" y="32"/>
                      </a:lnTo>
                      <a:lnTo>
                        <a:pt x="42" y="17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28" y="0"/>
                      </a:lnTo>
                      <a:lnTo>
                        <a:pt x="42" y="0"/>
                      </a:lnTo>
                      <a:lnTo>
                        <a:pt x="55" y="0"/>
                      </a:lnTo>
                      <a:lnTo>
                        <a:pt x="69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6305400" y="2570040"/>
                  <a:ext cx="111240" cy="23760"/>
                </a:xfrm>
                <a:custGeom>
                  <a:avLst/>
                  <a:gdLst/>
                  <a:ahLst/>
                  <a:rect l="l" t="t" r="r" b="b"/>
                  <a:pathLst>
                    <a:path w="209" h="47">
                      <a:moveTo>
                        <a:pt x="69" y="0"/>
                      </a:moveTo>
                      <a:lnTo>
                        <a:pt x="83" y="17"/>
                      </a:lnTo>
                      <a:lnTo>
                        <a:pt x="97" y="17"/>
                      </a:lnTo>
                      <a:lnTo>
                        <a:pt x="138" y="32"/>
                      </a:lnTo>
                      <a:lnTo>
                        <a:pt x="166" y="32"/>
                      </a:lnTo>
                      <a:lnTo>
                        <a:pt x="209" y="47"/>
                      </a:lnTo>
                      <a:lnTo>
                        <a:pt x="195" y="47"/>
                      </a:lnTo>
                      <a:lnTo>
                        <a:pt x="181" y="47"/>
                      </a:lnTo>
                      <a:lnTo>
                        <a:pt x="166" y="47"/>
                      </a:lnTo>
                      <a:lnTo>
                        <a:pt x="125" y="32"/>
                      </a:lnTo>
                      <a:lnTo>
                        <a:pt x="83" y="32"/>
                      </a:lnTo>
                      <a:lnTo>
                        <a:pt x="42" y="17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28" y="0"/>
                      </a:lnTo>
                      <a:lnTo>
                        <a:pt x="42" y="0"/>
                      </a:lnTo>
                      <a:lnTo>
                        <a:pt x="55" y="0"/>
                      </a:lnTo>
                      <a:lnTo>
                        <a:pt x="69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6137280" y="2570040"/>
                  <a:ext cx="95400" cy="23760"/>
                </a:xfrm>
                <a:custGeom>
                  <a:avLst/>
                  <a:gdLst/>
                  <a:ahLst/>
                  <a:rect l="l" t="t" r="r" b="b"/>
                  <a:pathLst>
                    <a:path w="180" h="47">
                      <a:moveTo>
                        <a:pt x="97" y="17"/>
                      </a:moveTo>
                      <a:lnTo>
                        <a:pt x="124" y="0"/>
                      </a:lnTo>
                      <a:lnTo>
                        <a:pt x="138" y="0"/>
                      </a:lnTo>
                      <a:lnTo>
                        <a:pt x="166" y="0"/>
                      </a:lnTo>
                      <a:lnTo>
                        <a:pt x="180" y="17"/>
                      </a:lnTo>
                      <a:lnTo>
                        <a:pt x="180" y="32"/>
                      </a:lnTo>
                      <a:lnTo>
                        <a:pt x="166" y="32"/>
                      </a:lnTo>
                      <a:lnTo>
                        <a:pt x="152" y="32"/>
                      </a:lnTo>
                      <a:lnTo>
                        <a:pt x="138" y="32"/>
                      </a:lnTo>
                      <a:lnTo>
                        <a:pt x="124" y="32"/>
                      </a:lnTo>
                      <a:lnTo>
                        <a:pt x="111" y="32"/>
                      </a:lnTo>
                      <a:lnTo>
                        <a:pt x="97" y="32"/>
                      </a:lnTo>
                      <a:lnTo>
                        <a:pt x="83" y="32"/>
                      </a:lnTo>
                      <a:lnTo>
                        <a:pt x="69" y="32"/>
                      </a:lnTo>
                      <a:lnTo>
                        <a:pt x="55" y="32"/>
                      </a:lnTo>
                      <a:lnTo>
                        <a:pt x="28" y="32"/>
                      </a:lnTo>
                      <a:lnTo>
                        <a:pt x="14" y="47"/>
                      </a:lnTo>
                      <a:lnTo>
                        <a:pt x="0" y="32"/>
                      </a:lnTo>
                      <a:lnTo>
                        <a:pt x="0" y="17"/>
                      </a:lnTo>
                      <a:lnTo>
                        <a:pt x="28" y="17"/>
                      </a:lnTo>
                      <a:lnTo>
                        <a:pt x="41" y="17"/>
                      </a:lnTo>
                      <a:lnTo>
                        <a:pt x="69" y="17"/>
                      </a:lnTo>
                      <a:lnTo>
                        <a:pt x="83" y="17"/>
                      </a:lnTo>
                      <a:lnTo>
                        <a:pt x="97" y="17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6137280" y="2570040"/>
                  <a:ext cx="95400" cy="23760"/>
                </a:xfrm>
                <a:custGeom>
                  <a:avLst/>
                  <a:gdLst/>
                  <a:ahLst/>
                  <a:rect l="l" t="t" r="r" b="b"/>
                  <a:pathLst>
                    <a:path w="180" h="47">
                      <a:moveTo>
                        <a:pt x="97" y="17"/>
                      </a:moveTo>
                      <a:lnTo>
                        <a:pt x="124" y="0"/>
                      </a:lnTo>
                      <a:lnTo>
                        <a:pt x="138" y="0"/>
                      </a:lnTo>
                      <a:lnTo>
                        <a:pt x="166" y="0"/>
                      </a:lnTo>
                      <a:lnTo>
                        <a:pt x="180" y="17"/>
                      </a:lnTo>
                      <a:lnTo>
                        <a:pt x="180" y="32"/>
                      </a:lnTo>
                      <a:lnTo>
                        <a:pt x="166" y="32"/>
                      </a:lnTo>
                      <a:lnTo>
                        <a:pt x="152" y="32"/>
                      </a:lnTo>
                      <a:lnTo>
                        <a:pt x="138" y="32"/>
                      </a:lnTo>
                      <a:lnTo>
                        <a:pt x="124" y="32"/>
                      </a:lnTo>
                      <a:lnTo>
                        <a:pt x="111" y="32"/>
                      </a:lnTo>
                      <a:lnTo>
                        <a:pt x="97" y="32"/>
                      </a:lnTo>
                      <a:lnTo>
                        <a:pt x="83" y="32"/>
                      </a:lnTo>
                      <a:lnTo>
                        <a:pt x="69" y="32"/>
                      </a:lnTo>
                      <a:lnTo>
                        <a:pt x="55" y="32"/>
                      </a:lnTo>
                      <a:lnTo>
                        <a:pt x="28" y="32"/>
                      </a:lnTo>
                      <a:lnTo>
                        <a:pt x="14" y="47"/>
                      </a:lnTo>
                      <a:lnTo>
                        <a:pt x="0" y="32"/>
                      </a:lnTo>
                      <a:lnTo>
                        <a:pt x="0" y="17"/>
                      </a:lnTo>
                      <a:lnTo>
                        <a:pt x="28" y="17"/>
                      </a:lnTo>
                      <a:lnTo>
                        <a:pt x="41" y="17"/>
                      </a:lnTo>
                      <a:lnTo>
                        <a:pt x="69" y="17"/>
                      </a:lnTo>
                      <a:lnTo>
                        <a:pt x="83" y="17"/>
                      </a:lnTo>
                      <a:lnTo>
                        <a:pt x="97" y="1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8058240" y="2577960"/>
                  <a:ext cx="58680" cy="15840"/>
                </a:xfrm>
                <a:custGeom>
                  <a:avLst/>
                  <a:gdLst/>
                  <a:ahLst/>
                  <a:rect l="l" t="t" r="r" b="b"/>
                  <a:pathLst>
                    <a:path w="112" h="30">
                      <a:moveTo>
                        <a:pt x="57" y="30"/>
                      </a:moveTo>
                      <a:lnTo>
                        <a:pt x="42" y="15"/>
                      </a:lnTo>
                      <a:lnTo>
                        <a:pt x="28" y="15"/>
                      </a:lnTo>
                      <a:lnTo>
                        <a:pt x="0" y="15"/>
                      </a:ln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71" y="15"/>
                      </a:lnTo>
                      <a:lnTo>
                        <a:pt x="112" y="15"/>
                      </a:lnTo>
                      <a:lnTo>
                        <a:pt x="112" y="30"/>
                      </a:lnTo>
                      <a:lnTo>
                        <a:pt x="85" y="30"/>
                      </a:lnTo>
                      <a:lnTo>
                        <a:pt x="57" y="3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8058240" y="2577960"/>
                  <a:ext cx="58680" cy="15840"/>
                </a:xfrm>
                <a:custGeom>
                  <a:avLst/>
                  <a:gdLst/>
                  <a:ahLst/>
                  <a:rect l="l" t="t" r="r" b="b"/>
                  <a:pathLst>
                    <a:path w="112" h="30">
                      <a:moveTo>
                        <a:pt x="57" y="30"/>
                      </a:moveTo>
                      <a:lnTo>
                        <a:pt x="42" y="15"/>
                      </a:lnTo>
                      <a:lnTo>
                        <a:pt x="28" y="15"/>
                      </a:lnTo>
                      <a:lnTo>
                        <a:pt x="0" y="15"/>
                      </a:ln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71" y="15"/>
                      </a:lnTo>
                      <a:lnTo>
                        <a:pt x="112" y="15"/>
                      </a:lnTo>
                      <a:lnTo>
                        <a:pt x="112" y="30"/>
                      </a:lnTo>
                      <a:lnTo>
                        <a:pt x="85" y="30"/>
                      </a:lnTo>
                      <a:lnTo>
                        <a:pt x="57" y="3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8124840" y="2585880"/>
                  <a:ext cx="42840" cy="7920"/>
                </a:xfrm>
                <a:custGeom>
                  <a:avLst/>
                  <a:gdLst/>
                  <a:ahLst/>
                  <a:rect l="l" t="t" r="r" b="b"/>
                  <a:pathLst>
                    <a:path w="83" h="15">
                      <a:moveTo>
                        <a:pt x="0" y="0"/>
                      </a:moveTo>
                      <a:lnTo>
                        <a:pt x="28" y="0"/>
                      </a:lnTo>
                      <a:lnTo>
                        <a:pt x="55" y="0"/>
                      </a:lnTo>
                      <a:lnTo>
                        <a:pt x="83" y="0"/>
                      </a:lnTo>
                      <a:lnTo>
                        <a:pt x="83" y="15"/>
                      </a:lnTo>
                      <a:lnTo>
                        <a:pt x="69" y="15"/>
                      </a:lnTo>
                      <a:lnTo>
                        <a:pt x="55" y="15"/>
                      </a:lnTo>
                      <a:lnTo>
                        <a:pt x="42" y="0"/>
                      </a:lnTo>
                      <a:lnTo>
                        <a:pt x="1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8124840" y="2585880"/>
                  <a:ext cx="42840" cy="7920"/>
                </a:xfrm>
                <a:custGeom>
                  <a:avLst/>
                  <a:gdLst/>
                  <a:ahLst/>
                  <a:rect l="l" t="t" r="r" b="b"/>
                  <a:pathLst>
                    <a:path w="83" h="15">
                      <a:moveTo>
                        <a:pt x="0" y="0"/>
                      </a:moveTo>
                      <a:lnTo>
                        <a:pt x="28" y="0"/>
                      </a:lnTo>
                      <a:lnTo>
                        <a:pt x="55" y="0"/>
                      </a:lnTo>
                      <a:lnTo>
                        <a:pt x="83" y="0"/>
                      </a:lnTo>
                      <a:lnTo>
                        <a:pt x="83" y="15"/>
                      </a:lnTo>
                      <a:lnTo>
                        <a:pt x="69" y="15"/>
                      </a:lnTo>
                      <a:lnTo>
                        <a:pt x="55" y="15"/>
                      </a:lnTo>
                      <a:lnTo>
                        <a:pt x="42" y="0"/>
                      </a:lnTo>
                      <a:lnTo>
                        <a:pt x="14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7450200" y="2562120"/>
                  <a:ext cx="87120" cy="49320"/>
                </a:xfrm>
                <a:custGeom>
                  <a:avLst/>
                  <a:gdLst/>
                  <a:ahLst/>
                  <a:rect l="l" t="t" r="r" b="b"/>
                  <a:pathLst>
                    <a:path w="166" h="94">
                      <a:moveTo>
                        <a:pt x="28" y="62"/>
                      </a:moveTo>
                      <a:lnTo>
                        <a:pt x="28" y="47"/>
                      </a:lnTo>
                      <a:lnTo>
                        <a:pt x="28" y="32"/>
                      </a:lnTo>
                      <a:lnTo>
                        <a:pt x="55" y="32"/>
                      </a:lnTo>
                      <a:lnTo>
                        <a:pt x="97" y="15"/>
                      </a:lnTo>
                      <a:lnTo>
                        <a:pt x="124" y="0"/>
                      </a:lnTo>
                      <a:lnTo>
                        <a:pt x="152" y="0"/>
                      </a:lnTo>
                      <a:lnTo>
                        <a:pt x="166" y="32"/>
                      </a:lnTo>
                      <a:lnTo>
                        <a:pt x="152" y="32"/>
                      </a:lnTo>
                      <a:lnTo>
                        <a:pt x="124" y="32"/>
                      </a:lnTo>
                      <a:lnTo>
                        <a:pt x="97" y="47"/>
                      </a:lnTo>
                      <a:lnTo>
                        <a:pt x="69" y="47"/>
                      </a:lnTo>
                      <a:lnTo>
                        <a:pt x="41" y="62"/>
                      </a:lnTo>
                      <a:lnTo>
                        <a:pt x="14" y="79"/>
                      </a:lnTo>
                      <a:lnTo>
                        <a:pt x="0" y="94"/>
                      </a:lnTo>
                      <a:lnTo>
                        <a:pt x="0" y="79"/>
                      </a:lnTo>
                      <a:lnTo>
                        <a:pt x="14" y="62"/>
                      </a:lnTo>
                      <a:lnTo>
                        <a:pt x="28" y="62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7450200" y="2562120"/>
                  <a:ext cx="87120" cy="49320"/>
                </a:xfrm>
                <a:custGeom>
                  <a:avLst/>
                  <a:gdLst/>
                  <a:ahLst/>
                  <a:rect l="l" t="t" r="r" b="b"/>
                  <a:pathLst>
                    <a:path w="166" h="94">
                      <a:moveTo>
                        <a:pt x="28" y="62"/>
                      </a:moveTo>
                      <a:lnTo>
                        <a:pt x="28" y="47"/>
                      </a:lnTo>
                      <a:lnTo>
                        <a:pt x="28" y="32"/>
                      </a:lnTo>
                      <a:lnTo>
                        <a:pt x="55" y="32"/>
                      </a:lnTo>
                      <a:lnTo>
                        <a:pt x="97" y="15"/>
                      </a:lnTo>
                      <a:lnTo>
                        <a:pt x="124" y="0"/>
                      </a:lnTo>
                      <a:lnTo>
                        <a:pt x="152" y="0"/>
                      </a:lnTo>
                      <a:lnTo>
                        <a:pt x="166" y="32"/>
                      </a:lnTo>
                      <a:lnTo>
                        <a:pt x="152" y="32"/>
                      </a:lnTo>
                      <a:lnTo>
                        <a:pt x="124" y="32"/>
                      </a:lnTo>
                      <a:lnTo>
                        <a:pt x="97" y="47"/>
                      </a:lnTo>
                      <a:lnTo>
                        <a:pt x="69" y="47"/>
                      </a:lnTo>
                      <a:lnTo>
                        <a:pt x="41" y="62"/>
                      </a:lnTo>
                      <a:lnTo>
                        <a:pt x="14" y="79"/>
                      </a:lnTo>
                      <a:lnTo>
                        <a:pt x="0" y="94"/>
                      </a:lnTo>
                      <a:lnTo>
                        <a:pt x="0" y="79"/>
                      </a:lnTo>
                      <a:lnTo>
                        <a:pt x="14" y="62"/>
                      </a:lnTo>
                      <a:lnTo>
                        <a:pt x="28" y="6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6283440" y="2603520"/>
                  <a:ext cx="21960" cy="25560"/>
                </a:xfrm>
                <a:custGeom>
                  <a:avLst/>
                  <a:gdLst/>
                  <a:ahLst/>
                  <a:rect l="l" t="t" r="r" b="b"/>
                  <a:pathLst>
                    <a:path w="41" h="47">
                      <a:moveTo>
                        <a:pt x="13" y="0"/>
                      </a:moveTo>
                      <a:lnTo>
                        <a:pt x="27" y="0"/>
                      </a:lnTo>
                      <a:lnTo>
                        <a:pt x="41" y="15"/>
                      </a:lnTo>
                      <a:lnTo>
                        <a:pt x="27" y="31"/>
                      </a:lnTo>
                      <a:lnTo>
                        <a:pt x="13" y="47"/>
                      </a:lnTo>
                      <a:lnTo>
                        <a:pt x="0" y="31"/>
                      </a:lnTo>
                      <a:lnTo>
                        <a:pt x="0" y="15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6283440" y="2603520"/>
                  <a:ext cx="21960" cy="25560"/>
                </a:xfrm>
                <a:custGeom>
                  <a:avLst/>
                  <a:gdLst/>
                  <a:ahLst/>
                  <a:rect l="l" t="t" r="r" b="b"/>
                  <a:pathLst>
                    <a:path w="41" h="47">
                      <a:moveTo>
                        <a:pt x="13" y="0"/>
                      </a:moveTo>
                      <a:lnTo>
                        <a:pt x="27" y="0"/>
                      </a:lnTo>
                      <a:lnTo>
                        <a:pt x="41" y="15"/>
                      </a:lnTo>
                      <a:lnTo>
                        <a:pt x="27" y="31"/>
                      </a:lnTo>
                      <a:lnTo>
                        <a:pt x="13" y="47"/>
                      </a:lnTo>
                      <a:lnTo>
                        <a:pt x="0" y="31"/>
                      </a:lnTo>
                      <a:lnTo>
                        <a:pt x="0" y="15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7977240" y="2611440"/>
                  <a:ext cx="44280" cy="7920"/>
                </a:xfrm>
                <a:custGeom>
                  <a:avLst/>
                  <a:gdLst/>
                  <a:ahLst/>
                  <a:rect l="l" t="t" r="r" b="b"/>
                  <a:pathLst>
                    <a:path w="83" h="16">
                      <a:moveTo>
                        <a:pt x="0" y="0"/>
                      </a:moveTo>
                      <a:lnTo>
                        <a:pt x="28" y="0"/>
                      </a:lnTo>
                      <a:lnTo>
                        <a:pt x="42" y="0"/>
                      </a:lnTo>
                      <a:lnTo>
                        <a:pt x="55" y="0"/>
                      </a:lnTo>
                      <a:lnTo>
                        <a:pt x="69" y="0"/>
                      </a:lnTo>
                      <a:lnTo>
                        <a:pt x="83" y="16"/>
                      </a:lnTo>
                      <a:lnTo>
                        <a:pt x="55" y="16"/>
                      </a:lnTo>
                      <a:lnTo>
                        <a:pt x="28" y="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7977240" y="2611440"/>
                  <a:ext cx="44280" cy="7920"/>
                </a:xfrm>
                <a:custGeom>
                  <a:avLst/>
                  <a:gdLst/>
                  <a:ahLst/>
                  <a:rect l="l" t="t" r="r" b="b"/>
                  <a:pathLst>
                    <a:path w="83" h="16">
                      <a:moveTo>
                        <a:pt x="0" y="0"/>
                      </a:moveTo>
                      <a:lnTo>
                        <a:pt x="28" y="0"/>
                      </a:lnTo>
                      <a:lnTo>
                        <a:pt x="42" y="0"/>
                      </a:lnTo>
                      <a:lnTo>
                        <a:pt x="55" y="0"/>
                      </a:lnTo>
                      <a:lnTo>
                        <a:pt x="69" y="0"/>
                      </a:lnTo>
                      <a:lnTo>
                        <a:pt x="83" y="16"/>
                      </a:lnTo>
                      <a:lnTo>
                        <a:pt x="55" y="16"/>
                      </a:lnTo>
                      <a:lnTo>
                        <a:pt x="28" y="1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6041880" y="2593800"/>
                  <a:ext cx="87480" cy="43200"/>
                </a:xfrm>
                <a:custGeom>
                  <a:avLst/>
                  <a:gdLst/>
                  <a:ahLst/>
                  <a:rect l="l" t="t" r="r" b="b"/>
                  <a:pathLst>
                    <a:path w="166" h="79">
                      <a:moveTo>
                        <a:pt x="125" y="17"/>
                      </a:moveTo>
                      <a:lnTo>
                        <a:pt x="138" y="17"/>
                      </a:lnTo>
                      <a:lnTo>
                        <a:pt x="152" y="17"/>
                      </a:lnTo>
                      <a:lnTo>
                        <a:pt x="166" y="32"/>
                      </a:lnTo>
                      <a:lnTo>
                        <a:pt x="125" y="48"/>
                      </a:lnTo>
                      <a:lnTo>
                        <a:pt x="83" y="64"/>
                      </a:lnTo>
                      <a:lnTo>
                        <a:pt x="55" y="64"/>
                      </a:lnTo>
                      <a:lnTo>
                        <a:pt x="28" y="79"/>
                      </a:lnTo>
                      <a:lnTo>
                        <a:pt x="14" y="79"/>
                      </a:lnTo>
                      <a:lnTo>
                        <a:pt x="0" y="79"/>
                      </a:lnTo>
                      <a:lnTo>
                        <a:pt x="0" y="64"/>
                      </a:lnTo>
                      <a:lnTo>
                        <a:pt x="0" y="48"/>
                      </a:lnTo>
                      <a:lnTo>
                        <a:pt x="14" y="48"/>
                      </a:lnTo>
                      <a:lnTo>
                        <a:pt x="28" y="32"/>
                      </a:lnTo>
                      <a:lnTo>
                        <a:pt x="42" y="32"/>
                      </a:lnTo>
                      <a:lnTo>
                        <a:pt x="55" y="17"/>
                      </a:lnTo>
                      <a:lnTo>
                        <a:pt x="55" y="0"/>
                      </a:lnTo>
                      <a:lnTo>
                        <a:pt x="83" y="0"/>
                      </a:lnTo>
                      <a:lnTo>
                        <a:pt x="97" y="0"/>
                      </a:lnTo>
                      <a:lnTo>
                        <a:pt x="125" y="17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041880" y="2593800"/>
                  <a:ext cx="87480" cy="43200"/>
                </a:xfrm>
                <a:custGeom>
                  <a:avLst/>
                  <a:gdLst/>
                  <a:ahLst/>
                  <a:rect l="l" t="t" r="r" b="b"/>
                  <a:pathLst>
                    <a:path w="166" h="79">
                      <a:moveTo>
                        <a:pt x="125" y="17"/>
                      </a:moveTo>
                      <a:lnTo>
                        <a:pt x="138" y="17"/>
                      </a:lnTo>
                      <a:lnTo>
                        <a:pt x="152" y="17"/>
                      </a:lnTo>
                      <a:lnTo>
                        <a:pt x="166" y="32"/>
                      </a:lnTo>
                      <a:lnTo>
                        <a:pt x="125" y="48"/>
                      </a:lnTo>
                      <a:lnTo>
                        <a:pt x="83" y="64"/>
                      </a:lnTo>
                      <a:lnTo>
                        <a:pt x="55" y="64"/>
                      </a:lnTo>
                      <a:lnTo>
                        <a:pt x="28" y="79"/>
                      </a:lnTo>
                      <a:lnTo>
                        <a:pt x="14" y="79"/>
                      </a:lnTo>
                      <a:lnTo>
                        <a:pt x="0" y="79"/>
                      </a:lnTo>
                      <a:lnTo>
                        <a:pt x="0" y="64"/>
                      </a:lnTo>
                      <a:lnTo>
                        <a:pt x="0" y="48"/>
                      </a:lnTo>
                      <a:lnTo>
                        <a:pt x="14" y="48"/>
                      </a:lnTo>
                      <a:lnTo>
                        <a:pt x="28" y="32"/>
                      </a:lnTo>
                      <a:lnTo>
                        <a:pt x="42" y="32"/>
                      </a:lnTo>
                      <a:lnTo>
                        <a:pt x="55" y="17"/>
                      </a:lnTo>
                      <a:lnTo>
                        <a:pt x="55" y="0"/>
                      </a:lnTo>
                      <a:lnTo>
                        <a:pt x="83" y="0"/>
                      </a:lnTo>
                      <a:lnTo>
                        <a:pt x="97" y="0"/>
                      </a:lnTo>
                      <a:lnTo>
                        <a:pt x="125" y="1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6224760" y="2603520"/>
                  <a:ext cx="36360" cy="2556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55" y="0"/>
                      </a:moveTo>
                      <a:lnTo>
                        <a:pt x="55" y="15"/>
                      </a:lnTo>
                      <a:lnTo>
                        <a:pt x="69" y="31"/>
                      </a:lnTo>
                      <a:lnTo>
                        <a:pt x="69" y="47"/>
                      </a:lnTo>
                      <a:lnTo>
                        <a:pt x="55" y="47"/>
                      </a:lnTo>
                      <a:lnTo>
                        <a:pt x="28" y="47"/>
                      </a:lnTo>
                      <a:lnTo>
                        <a:pt x="14" y="31"/>
                      </a:lnTo>
                      <a:lnTo>
                        <a:pt x="0" y="15"/>
                      </a:lnTo>
                      <a:lnTo>
                        <a:pt x="14" y="15"/>
                      </a:lnTo>
                      <a:lnTo>
                        <a:pt x="28" y="0"/>
                      </a:lnTo>
                      <a:lnTo>
                        <a:pt x="41" y="0"/>
                      </a:lnTo>
                      <a:lnTo>
                        <a:pt x="55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6224760" y="2603520"/>
                  <a:ext cx="36360" cy="2556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55" y="0"/>
                      </a:moveTo>
                      <a:lnTo>
                        <a:pt x="55" y="15"/>
                      </a:lnTo>
                      <a:lnTo>
                        <a:pt x="69" y="31"/>
                      </a:lnTo>
                      <a:lnTo>
                        <a:pt x="69" y="47"/>
                      </a:lnTo>
                      <a:lnTo>
                        <a:pt x="55" y="47"/>
                      </a:lnTo>
                      <a:lnTo>
                        <a:pt x="28" y="47"/>
                      </a:lnTo>
                      <a:lnTo>
                        <a:pt x="14" y="31"/>
                      </a:lnTo>
                      <a:lnTo>
                        <a:pt x="0" y="15"/>
                      </a:lnTo>
                      <a:lnTo>
                        <a:pt x="14" y="15"/>
                      </a:lnTo>
                      <a:lnTo>
                        <a:pt x="28" y="0"/>
                      </a:lnTo>
                      <a:lnTo>
                        <a:pt x="41" y="0"/>
                      </a:lnTo>
                      <a:lnTo>
                        <a:pt x="5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7434360" y="2611440"/>
                  <a:ext cx="58680" cy="25560"/>
                </a:xfrm>
                <a:custGeom>
                  <a:avLst/>
                  <a:gdLst/>
                  <a:ahLst/>
                  <a:rect l="l" t="t" r="r" b="b"/>
                  <a:pathLst>
                    <a:path w="111" h="47">
                      <a:moveTo>
                        <a:pt x="0" y="32"/>
                      </a:moveTo>
                      <a:lnTo>
                        <a:pt x="28" y="16"/>
                      </a:lnTo>
                      <a:lnTo>
                        <a:pt x="42" y="0"/>
                      </a:lnTo>
                      <a:lnTo>
                        <a:pt x="69" y="0"/>
                      </a:lnTo>
                      <a:lnTo>
                        <a:pt x="56" y="16"/>
                      </a:lnTo>
                      <a:lnTo>
                        <a:pt x="56" y="32"/>
                      </a:lnTo>
                      <a:lnTo>
                        <a:pt x="69" y="32"/>
                      </a:lnTo>
                      <a:lnTo>
                        <a:pt x="83" y="47"/>
                      </a:lnTo>
                      <a:lnTo>
                        <a:pt x="111" y="47"/>
                      </a:lnTo>
                      <a:lnTo>
                        <a:pt x="97" y="47"/>
                      </a:lnTo>
                      <a:lnTo>
                        <a:pt x="69" y="47"/>
                      </a:lnTo>
                      <a:lnTo>
                        <a:pt x="56" y="47"/>
                      </a:lnTo>
                      <a:lnTo>
                        <a:pt x="42" y="47"/>
                      </a:lnTo>
                      <a:lnTo>
                        <a:pt x="28" y="47"/>
                      </a:lnTo>
                      <a:lnTo>
                        <a:pt x="14" y="32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7434360" y="2611440"/>
                  <a:ext cx="58680" cy="25560"/>
                </a:xfrm>
                <a:custGeom>
                  <a:avLst/>
                  <a:gdLst/>
                  <a:ahLst/>
                  <a:rect l="l" t="t" r="r" b="b"/>
                  <a:pathLst>
                    <a:path w="111" h="47">
                      <a:moveTo>
                        <a:pt x="0" y="32"/>
                      </a:moveTo>
                      <a:lnTo>
                        <a:pt x="28" y="16"/>
                      </a:lnTo>
                      <a:lnTo>
                        <a:pt x="42" y="0"/>
                      </a:lnTo>
                      <a:lnTo>
                        <a:pt x="69" y="0"/>
                      </a:lnTo>
                      <a:lnTo>
                        <a:pt x="56" y="16"/>
                      </a:lnTo>
                      <a:lnTo>
                        <a:pt x="56" y="32"/>
                      </a:lnTo>
                      <a:lnTo>
                        <a:pt x="69" y="32"/>
                      </a:lnTo>
                      <a:lnTo>
                        <a:pt x="83" y="47"/>
                      </a:lnTo>
                      <a:lnTo>
                        <a:pt x="111" y="47"/>
                      </a:lnTo>
                      <a:lnTo>
                        <a:pt x="97" y="47"/>
                      </a:lnTo>
                      <a:lnTo>
                        <a:pt x="69" y="47"/>
                      </a:lnTo>
                      <a:lnTo>
                        <a:pt x="56" y="47"/>
                      </a:lnTo>
                      <a:lnTo>
                        <a:pt x="42" y="47"/>
                      </a:lnTo>
                      <a:lnTo>
                        <a:pt x="28" y="47"/>
                      </a:lnTo>
                      <a:lnTo>
                        <a:pt x="14" y="32"/>
                      </a:lnTo>
                      <a:lnTo>
                        <a:pt x="0" y="3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6496200" y="2503440"/>
                  <a:ext cx="425160" cy="266760"/>
                </a:xfrm>
                <a:custGeom>
                  <a:avLst/>
                  <a:gdLst/>
                  <a:ahLst/>
                  <a:rect l="l" t="t" r="r" b="b"/>
                  <a:pathLst>
                    <a:path w="804" h="505">
                      <a:moveTo>
                        <a:pt x="429" y="363"/>
                      </a:moveTo>
                      <a:lnTo>
                        <a:pt x="387" y="363"/>
                      </a:lnTo>
                      <a:lnTo>
                        <a:pt x="360" y="379"/>
                      </a:lnTo>
                      <a:lnTo>
                        <a:pt x="332" y="394"/>
                      </a:lnTo>
                      <a:lnTo>
                        <a:pt x="332" y="410"/>
                      </a:lnTo>
                      <a:lnTo>
                        <a:pt x="318" y="426"/>
                      </a:lnTo>
                      <a:lnTo>
                        <a:pt x="304" y="426"/>
                      </a:lnTo>
                      <a:lnTo>
                        <a:pt x="277" y="441"/>
                      </a:lnTo>
                      <a:lnTo>
                        <a:pt x="277" y="458"/>
                      </a:lnTo>
                      <a:lnTo>
                        <a:pt x="291" y="458"/>
                      </a:lnTo>
                      <a:lnTo>
                        <a:pt x="291" y="473"/>
                      </a:lnTo>
                      <a:lnTo>
                        <a:pt x="277" y="488"/>
                      </a:lnTo>
                      <a:lnTo>
                        <a:pt x="249" y="505"/>
                      </a:lnTo>
                      <a:lnTo>
                        <a:pt x="235" y="505"/>
                      </a:lnTo>
                      <a:lnTo>
                        <a:pt x="235" y="488"/>
                      </a:lnTo>
                      <a:lnTo>
                        <a:pt x="221" y="488"/>
                      </a:lnTo>
                      <a:lnTo>
                        <a:pt x="194" y="488"/>
                      </a:lnTo>
                      <a:lnTo>
                        <a:pt x="180" y="488"/>
                      </a:lnTo>
                      <a:lnTo>
                        <a:pt x="166" y="473"/>
                      </a:lnTo>
                      <a:lnTo>
                        <a:pt x="166" y="458"/>
                      </a:lnTo>
                      <a:lnTo>
                        <a:pt x="166" y="426"/>
                      </a:lnTo>
                      <a:lnTo>
                        <a:pt x="180" y="410"/>
                      </a:lnTo>
                      <a:lnTo>
                        <a:pt x="194" y="410"/>
                      </a:lnTo>
                      <a:lnTo>
                        <a:pt x="194" y="394"/>
                      </a:lnTo>
                      <a:lnTo>
                        <a:pt x="180" y="394"/>
                      </a:lnTo>
                      <a:lnTo>
                        <a:pt x="152" y="410"/>
                      </a:lnTo>
                      <a:lnTo>
                        <a:pt x="152" y="394"/>
                      </a:lnTo>
                      <a:lnTo>
                        <a:pt x="180" y="379"/>
                      </a:lnTo>
                      <a:lnTo>
                        <a:pt x="180" y="363"/>
                      </a:lnTo>
                      <a:lnTo>
                        <a:pt x="152" y="379"/>
                      </a:lnTo>
                      <a:lnTo>
                        <a:pt x="138" y="363"/>
                      </a:lnTo>
                      <a:lnTo>
                        <a:pt x="152" y="347"/>
                      </a:lnTo>
                      <a:lnTo>
                        <a:pt x="166" y="347"/>
                      </a:lnTo>
                      <a:lnTo>
                        <a:pt x="180" y="347"/>
                      </a:lnTo>
                      <a:lnTo>
                        <a:pt x="194" y="347"/>
                      </a:lnTo>
                      <a:lnTo>
                        <a:pt x="208" y="347"/>
                      </a:lnTo>
                      <a:lnTo>
                        <a:pt x="180" y="347"/>
                      </a:lnTo>
                      <a:lnTo>
                        <a:pt x="166" y="363"/>
                      </a:lnTo>
                      <a:lnTo>
                        <a:pt x="138" y="363"/>
                      </a:lnTo>
                      <a:lnTo>
                        <a:pt x="138" y="347"/>
                      </a:lnTo>
                      <a:lnTo>
                        <a:pt x="152" y="331"/>
                      </a:lnTo>
                      <a:lnTo>
                        <a:pt x="166" y="331"/>
                      </a:lnTo>
                      <a:lnTo>
                        <a:pt x="180" y="331"/>
                      </a:lnTo>
                      <a:lnTo>
                        <a:pt x="166" y="331"/>
                      </a:lnTo>
                      <a:lnTo>
                        <a:pt x="166" y="316"/>
                      </a:lnTo>
                      <a:lnTo>
                        <a:pt x="180" y="316"/>
                      </a:lnTo>
                      <a:lnTo>
                        <a:pt x="208" y="331"/>
                      </a:lnTo>
                      <a:lnTo>
                        <a:pt x="208" y="316"/>
                      </a:lnTo>
                      <a:lnTo>
                        <a:pt x="194" y="316"/>
                      </a:lnTo>
                      <a:lnTo>
                        <a:pt x="180" y="316"/>
                      </a:lnTo>
                      <a:lnTo>
                        <a:pt x="166" y="316"/>
                      </a:lnTo>
                      <a:lnTo>
                        <a:pt x="166" y="300"/>
                      </a:lnTo>
                      <a:lnTo>
                        <a:pt x="194" y="300"/>
                      </a:lnTo>
                      <a:lnTo>
                        <a:pt x="208" y="300"/>
                      </a:lnTo>
                      <a:lnTo>
                        <a:pt x="221" y="300"/>
                      </a:lnTo>
                      <a:lnTo>
                        <a:pt x="221" y="284"/>
                      </a:lnTo>
                      <a:lnTo>
                        <a:pt x="235" y="268"/>
                      </a:lnTo>
                      <a:lnTo>
                        <a:pt x="221" y="268"/>
                      </a:lnTo>
                      <a:lnTo>
                        <a:pt x="208" y="268"/>
                      </a:lnTo>
                      <a:lnTo>
                        <a:pt x="194" y="268"/>
                      </a:lnTo>
                      <a:lnTo>
                        <a:pt x="194" y="252"/>
                      </a:lnTo>
                      <a:lnTo>
                        <a:pt x="208" y="237"/>
                      </a:lnTo>
                      <a:lnTo>
                        <a:pt x="208" y="221"/>
                      </a:lnTo>
                      <a:lnTo>
                        <a:pt x="194" y="221"/>
                      </a:lnTo>
                      <a:lnTo>
                        <a:pt x="180" y="221"/>
                      </a:lnTo>
                      <a:lnTo>
                        <a:pt x="166" y="237"/>
                      </a:lnTo>
                      <a:lnTo>
                        <a:pt x="180" y="237"/>
                      </a:lnTo>
                      <a:lnTo>
                        <a:pt x="194" y="221"/>
                      </a:lnTo>
                      <a:lnTo>
                        <a:pt x="180" y="221"/>
                      </a:lnTo>
                      <a:lnTo>
                        <a:pt x="166" y="221"/>
                      </a:lnTo>
                      <a:lnTo>
                        <a:pt x="180" y="221"/>
                      </a:lnTo>
                      <a:lnTo>
                        <a:pt x="166" y="221"/>
                      </a:lnTo>
                      <a:lnTo>
                        <a:pt x="166" y="190"/>
                      </a:lnTo>
                      <a:lnTo>
                        <a:pt x="166" y="158"/>
                      </a:lnTo>
                      <a:lnTo>
                        <a:pt x="152" y="143"/>
                      </a:lnTo>
                      <a:lnTo>
                        <a:pt x="138" y="143"/>
                      </a:lnTo>
                      <a:lnTo>
                        <a:pt x="125" y="126"/>
                      </a:lnTo>
                      <a:lnTo>
                        <a:pt x="111" y="126"/>
                      </a:lnTo>
                      <a:lnTo>
                        <a:pt x="69" y="126"/>
                      </a:lnTo>
                      <a:lnTo>
                        <a:pt x="42" y="126"/>
                      </a:lnTo>
                      <a:lnTo>
                        <a:pt x="0" y="126"/>
                      </a:lnTo>
                      <a:lnTo>
                        <a:pt x="14" y="126"/>
                      </a:lnTo>
                      <a:lnTo>
                        <a:pt x="28" y="111"/>
                      </a:lnTo>
                      <a:lnTo>
                        <a:pt x="14" y="94"/>
                      </a:lnTo>
                      <a:lnTo>
                        <a:pt x="14" y="79"/>
                      </a:lnTo>
                      <a:lnTo>
                        <a:pt x="28" y="94"/>
                      </a:lnTo>
                      <a:lnTo>
                        <a:pt x="42" y="94"/>
                      </a:lnTo>
                      <a:lnTo>
                        <a:pt x="83" y="79"/>
                      </a:lnTo>
                      <a:lnTo>
                        <a:pt x="111" y="79"/>
                      </a:lnTo>
                      <a:lnTo>
                        <a:pt x="152" y="64"/>
                      </a:lnTo>
                      <a:lnTo>
                        <a:pt x="125" y="64"/>
                      </a:lnTo>
                      <a:lnTo>
                        <a:pt x="111" y="64"/>
                      </a:lnTo>
                      <a:lnTo>
                        <a:pt x="152" y="47"/>
                      </a:lnTo>
                      <a:lnTo>
                        <a:pt x="194" y="32"/>
                      </a:lnTo>
                      <a:lnTo>
                        <a:pt x="221" y="32"/>
                      </a:lnTo>
                      <a:lnTo>
                        <a:pt x="235" y="32"/>
                      </a:lnTo>
                      <a:lnTo>
                        <a:pt x="249" y="32"/>
                      </a:lnTo>
                      <a:lnTo>
                        <a:pt x="263" y="32"/>
                      </a:lnTo>
                      <a:lnTo>
                        <a:pt x="249" y="32"/>
                      </a:lnTo>
                      <a:lnTo>
                        <a:pt x="263" y="15"/>
                      </a:lnTo>
                      <a:lnTo>
                        <a:pt x="277" y="15"/>
                      </a:lnTo>
                      <a:lnTo>
                        <a:pt x="291" y="15"/>
                      </a:lnTo>
                      <a:lnTo>
                        <a:pt x="304" y="15"/>
                      </a:lnTo>
                      <a:lnTo>
                        <a:pt x="332" y="15"/>
                      </a:lnTo>
                      <a:lnTo>
                        <a:pt x="360" y="15"/>
                      </a:lnTo>
                      <a:lnTo>
                        <a:pt x="387" y="15"/>
                      </a:lnTo>
                      <a:lnTo>
                        <a:pt x="429" y="0"/>
                      </a:lnTo>
                      <a:lnTo>
                        <a:pt x="457" y="0"/>
                      </a:lnTo>
                      <a:lnTo>
                        <a:pt x="498" y="0"/>
                      </a:lnTo>
                      <a:lnTo>
                        <a:pt x="539" y="0"/>
                      </a:lnTo>
                      <a:lnTo>
                        <a:pt x="567" y="0"/>
                      </a:lnTo>
                      <a:lnTo>
                        <a:pt x="610" y="0"/>
                      </a:lnTo>
                      <a:lnTo>
                        <a:pt x="638" y="0"/>
                      </a:lnTo>
                      <a:lnTo>
                        <a:pt x="679" y="0"/>
                      </a:lnTo>
                      <a:lnTo>
                        <a:pt x="665" y="0"/>
                      </a:lnTo>
                      <a:lnTo>
                        <a:pt x="652" y="15"/>
                      </a:lnTo>
                      <a:lnTo>
                        <a:pt x="665" y="32"/>
                      </a:lnTo>
                      <a:lnTo>
                        <a:pt x="679" y="47"/>
                      </a:lnTo>
                      <a:lnTo>
                        <a:pt x="693" y="47"/>
                      </a:lnTo>
                      <a:lnTo>
                        <a:pt x="707" y="47"/>
                      </a:lnTo>
                      <a:lnTo>
                        <a:pt x="721" y="32"/>
                      </a:lnTo>
                      <a:lnTo>
                        <a:pt x="735" y="32"/>
                      </a:lnTo>
                      <a:lnTo>
                        <a:pt x="748" y="32"/>
                      </a:lnTo>
                      <a:lnTo>
                        <a:pt x="762" y="32"/>
                      </a:lnTo>
                      <a:lnTo>
                        <a:pt x="776" y="32"/>
                      </a:lnTo>
                      <a:lnTo>
                        <a:pt x="790" y="15"/>
                      </a:lnTo>
                      <a:lnTo>
                        <a:pt x="804" y="32"/>
                      </a:lnTo>
                      <a:lnTo>
                        <a:pt x="804" y="47"/>
                      </a:lnTo>
                      <a:lnTo>
                        <a:pt x="776" y="47"/>
                      </a:lnTo>
                      <a:lnTo>
                        <a:pt x="762" y="47"/>
                      </a:lnTo>
                      <a:lnTo>
                        <a:pt x="735" y="64"/>
                      </a:lnTo>
                      <a:lnTo>
                        <a:pt x="707" y="79"/>
                      </a:lnTo>
                      <a:lnTo>
                        <a:pt x="693" y="111"/>
                      </a:lnTo>
                      <a:lnTo>
                        <a:pt x="707" y="111"/>
                      </a:lnTo>
                      <a:lnTo>
                        <a:pt x="721" y="111"/>
                      </a:lnTo>
                      <a:lnTo>
                        <a:pt x="748" y="126"/>
                      </a:lnTo>
                      <a:lnTo>
                        <a:pt x="748" y="143"/>
                      </a:lnTo>
                      <a:lnTo>
                        <a:pt x="735" y="143"/>
                      </a:lnTo>
                      <a:lnTo>
                        <a:pt x="721" y="158"/>
                      </a:lnTo>
                      <a:lnTo>
                        <a:pt x="707" y="158"/>
                      </a:lnTo>
                      <a:lnTo>
                        <a:pt x="679" y="158"/>
                      </a:lnTo>
                      <a:lnTo>
                        <a:pt x="693" y="173"/>
                      </a:lnTo>
                      <a:lnTo>
                        <a:pt x="707" y="173"/>
                      </a:lnTo>
                      <a:lnTo>
                        <a:pt x="721" y="173"/>
                      </a:lnTo>
                      <a:lnTo>
                        <a:pt x="707" y="173"/>
                      </a:lnTo>
                      <a:lnTo>
                        <a:pt x="693" y="173"/>
                      </a:lnTo>
                      <a:lnTo>
                        <a:pt x="679" y="173"/>
                      </a:lnTo>
                      <a:lnTo>
                        <a:pt x="693" y="190"/>
                      </a:lnTo>
                      <a:lnTo>
                        <a:pt x="665" y="205"/>
                      </a:lnTo>
                      <a:lnTo>
                        <a:pt x="624" y="190"/>
                      </a:lnTo>
                      <a:lnTo>
                        <a:pt x="595" y="190"/>
                      </a:lnTo>
                      <a:lnTo>
                        <a:pt x="581" y="221"/>
                      </a:lnTo>
                      <a:lnTo>
                        <a:pt x="610" y="221"/>
                      </a:lnTo>
                      <a:lnTo>
                        <a:pt x="638" y="221"/>
                      </a:lnTo>
                      <a:lnTo>
                        <a:pt x="652" y="237"/>
                      </a:lnTo>
                      <a:lnTo>
                        <a:pt x="652" y="252"/>
                      </a:lnTo>
                      <a:lnTo>
                        <a:pt x="665" y="268"/>
                      </a:lnTo>
                      <a:lnTo>
                        <a:pt x="652" y="268"/>
                      </a:lnTo>
                      <a:lnTo>
                        <a:pt x="652" y="252"/>
                      </a:lnTo>
                      <a:lnTo>
                        <a:pt x="638" y="252"/>
                      </a:lnTo>
                      <a:lnTo>
                        <a:pt x="624" y="237"/>
                      </a:lnTo>
                      <a:lnTo>
                        <a:pt x="595" y="237"/>
                      </a:lnTo>
                      <a:lnTo>
                        <a:pt x="567" y="237"/>
                      </a:lnTo>
                      <a:lnTo>
                        <a:pt x="553" y="268"/>
                      </a:lnTo>
                      <a:lnTo>
                        <a:pt x="581" y="252"/>
                      </a:lnTo>
                      <a:lnTo>
                        <a:pt x="595" y="268"/>
                      </a:lnTo>
                      <a:lnTo>
                        <a:pt x="595" y="284"/>
                      </a:lnTo>
                      <a:lnTo>
                        <a:pt x="581" y="300"/>
                      </a:lnTo>
                      <a:lnTo>
                        <a:pt x="567" y="300"/>
                      </a:lnTo>
                      <a:lnTo>
                        <a:pt x="539" y="316"/>
                      </a:lnTo>
                      <a:lnTo>
                        <a:pt x="498" y="316"/>
                      </a:lnTo>
                      <a:lnTo>
                        <a:pt x="470" y="331"/>
                      </a:lnTo>
                      <a:lnTo>
                        <a:pt x="457" y="347"/>
                      </a:lnTo>
                      <a:lnTo>
                        <a:pt x="443" y="363"/>
                      </a:lnTo>
                      <a:lnTo>
                        <a:pt x="429" y="363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6496200" y="2503440"/>
                  <a:ext cx="425160" cy="266760"/>
                </a:xfrm>
                <a:custGeom>
                  <a:avLst/>
                  <a:gdLst/>
                  <a:ahLst/>
                  <a:rect l="l" t="t" r="r" b="b"/>
                  <a:pathLst>
                    <a:path w="804" h="505">
                      <a:moveTo>
                        <a:pt x="429" y="363"/>
                      </a:moveTo>
                      <a:lnTo>
                        <a:pt x="387" y="363"/>
                      </a:lnTo>
                      <a:lnTo>
                        <a:pt x="360" y="379"/>
                      </a:lnTo>
                      <a:lnTo>
                        <a:pt x="332" y="394"/>
                      </a:lnTo>
                      <a:lnTo>
                        <a:pt x="332" y="410"/>
                      </a:lnTo>
                      <a:lnTo>
                        <a:pt x="318" y="426"/>
                      </a:lnTo>
                      <a:lnTo>
                        <a:pt x="304" y="426"/>
                      </a:lnTo>
                      <a:lnTo>
                        <a:pt x="277" y="441"/>
                      </a:lnTo>
                      <a:lnTo>
                        <a:pt x="277" y="458"/>
                      </a:lnTo>
                      <a:lnTo>
                        <a:pt x="291" y="458"/>
                      </a:lnTo>
                      <a:lnTo>
                        <a:pt x="291" y="473"/>
                      </a:lnTo>
                      <a:lnTo>
                        <a:pt x="277" y="488"/>
                      </a:lnTo>
                      <a:lnTo>
                        <a:pt x="249" y="505"/>
                      </a:lnTo>
                      <a:lnTo>
                        <a:pt x="235" y="505"/>
                      </a:lnTo>
                      <a:lnTo>
                        <a:pt x="235" y="488"/>
                      </a:lnTo>
                      <a:lnTo>
                        <a:pt x="221" y="488"/>
                      </a:lnTo>
                      <a:lnTo>
                        <a:pt x="194" y="488"/>
                      </a:lnTo>
                      <a:lnTo>
                        <a:pt x="180" y="488"/>
                      </a:lnTo>
                      <a:lnTo>
                        <a:pt x="166" y="473"/>
                      </a:lnTo>
                      <a:lnTo>
                        <a:pt x="166" y="458"/>
                      </a:lnTo>
                      <a:lnTo>
                        <a:pt x="166" y="426"/>
                      </a:lnTo>
                      <a:lnTo>
                        <a:pt x="180" y="410"/>
                      </a:lnTo>
                      <a:lnTo>
                        <a:pt x="194" y="410"/>
                      </a:lnTo>
                      <a:lnTo>
                        <a:pt x="194" y="394"/>
                      </a:lnTo>
                      <a:lnTo>
                        <a:pt x="180" y="394"/>
                      </a:lnTo>
                      <a:lnTo>
                        <a:pt x="152" y="410"/>
                      </a:lnTo>
                      <a:lnTo>
                        <a:pt x="152" y="394"/>
                      </a:lnTo>
                      <a:lnTo>
                        <a:pt x="180" y="379"/>
                      </a:lnTo>
                      <a:lnTo>
                        <a:pt x="180" y="363"/>
                      </a:lnTo>
                      <a:lnTo>
                        <a:pt x="152" y="379"/>
                      </a:lnTo>
                      <a:lnTo>
                        <a:pt x="138" y="363"/>
                      </a:lnTo>
                      <a:lnTo>
                        <a:pt x="152" y="347"/>
                      </a:lnTo>
                      <a:lnTo>
                        <a:pt x="166" y="347"/>
                      </a:lnTo>
                      <a:lnTo>
                        <a:pt x="180" y="347"/>
                      </a:lnTo>
                      <a:lnTo>
                        <a:pt x="194" y="347"/>
                      </a:lnTo>
                      <a:lnTo>
                        <a:pt x="208" y="347"/>
                      </a:lnTo>
                      <a:lnTo>
                        <a:pt x="180" y="347"/>
                      </a:lnTo>
                      <a:lnTo>
                        <a:pt x="166" y="363"/>
                      </a:lnTo>
                      <a:lnTo>
                        <a:pt x="138" y="363"/>
                      </a:lnTo>
                      <a:lnTo>
                        <a:pt x="138" y="347"/>
                      </a:lnTo>
                      <a:lnTo>
                        <a:pt x="152" y="331"/>
                      </a:lnTo>
                      <a:lnTo>
                        <a:pt x="166" y="331"/>
                      </a:lnTo>
                      <a:lnTo>
                        <a:pt x="180" y="331"/>
                      </a:lnTo>
                      <a:lnTo>
                        <a:pt x="166" y="331"/>
                      </a:lnTo>
                      <a:lnTo>
                        <a:pt x="166" y="316"/>
                      </a:lnTo>
                      <a:lnTo>
                        <a:pt x="180" y="316"/>
                      </a:lnTo>
                      <a:lnTo>
                        <a:pt x="208" y="331"/>
                      </a:lnTo>
                      <a:lnTo>
                        <a:pt x="208" y="316"/>
                      </a:lnTo>
                      <a:lnTo>
                        <a:pt x="194" y="316"/>
                      </a:lnTo>
                      <a:lnTo>
                        <a:pt x="180" y="316"/>
                      </a:lnTo>
                      <a:lnTo>
                        <a:pt x="166" y="316"/>
                      </a:lnTo>
                      <a:lnTo>
                        <a:pt x="166" y="300"/>
                      </a:lnTo>
                      <a:lnTo>
                        <a:pt x="194" y="300"/>
                      </a:lnTo>
                      <a:lnTo>
                        <a:pt x="208" y="300"/>
                      </a:lnTo>
                      <a:lnTo>
                        <a:pt x="221" y="300"/>
                      </a:lnTo>
                      <a:lnTo>
                        <a:pt x="221" y="284"/>
                      </a:lnTo>
                      <a:lnTo>
                        <a:pt x="235" y="268"/>
                      </a:lnTo>
                      <a:lnTo>
                        <a:pt x="221" y="268"/>
                      </a:lnTo>
                      <a:lnTo>
                        <a:pt x="208" y="268"/>
                      </a:lnTo>
                      <a:lnTo>
                        <a:pt x="194" y="268"/>
                      </a:lnTo>
                      <a:lnTo>
                        <a:pt x="194" y="252"/>
                      </a:lnTo>
                      <a:lnTo>
                        <a:pt x="208" y="237"/>
                      </a:lnTo>
                      <a:lnTo>
                        <a:pt x="208" y="221"/>
                      </a:lnTo>
                      <a:lnTo>
                        <a:pt x="194" y="221"/>
                      </a:lnTo>
                      <a:lnTo>
                        <a:pt x="180" y="221"/>
                      </a:lnTo>
                      <a:lnTo>
                        <a:pt x="166" y="237"/>
                      </a:lnTo>
                      <a:lnTo>
                        <a:pt x="180" y="237"/>
                      </a:lnTo>
                      <a:lnTo>
                        <a:pt x="194" y="221"/>
                      </a:lnTo>
                      <a:lnTo>
                        <a:pt x="180" y="221"/>
                      </a:lnTo>
                      <a:lnTo>
                        <a:pt x="166" y="221"/>
                      </a:lnTo>
                      <a:lnTo>
                        <a:pt x="180" y="221"/>
                      </a:lnTo>
                      <a:lnTo>
                        <a:pt x="166" y="221"/>
                      </a:lnTo>
                      <a:lnTo>
                        <a:pt x="166" y="190"/>
                      </a:lnTo>
                      <a:lnTo>
                        <a:pt x="166" y="158"/>
                      </a:lnTo>
                      <a:lnTo>
                        <a:pt x="152" y="143"/>
                      </a:lnTo>
                      <a:lnTo>
                        <a:pt x="138" y="143"/>
                      </a:lnTo>
                      <a:lnTo>
                        <a:pt x="125" y="126"/>
                      </a:lnTo>
                      <a:lnTo>
                        <a:pt x="111" y="126"/>
                      </a:lnTo>
                      <a:lnTo>
                        <a:pt x="69" y="126"/>
                      </a:lnTo>
                      <a:lnTo>
                        <a:pt x="42" y="126"/>
                      </a:lnTo>
                      <a:lnTo>
                        <a:pt x="0" y="126"/>
                      </a:lnTo>
                      <a:lnTo>
                        <a:pt x="14" y="126"/>
                      </a:lnTo>
                      <a:lnTo>
                        <a:pt x="28" y="111"/>
                      </a:lnTo>
                      <a:lnTo>
                        <a:pt x="14" y="94"/>
                      </a:lnTo>
                      <a:lnTo>
                        <a:pt x="14" y="79"/>
                      </a:lnTo>
                      <a:lnTo>
                        <a:pt x="28" y="94"/>
                      </a:lnTo>
                      <a:lnTo>
                        <a:pt x="42" y="94"/>
                      </a:lnTo>
                      <a:lnTo>
                        <a:pt x="83" y="79"/>
                      </a:lnTo>
                      <a:lnTo>
                        <a:pt x="111" y="79"/>
                      </a:lnTo>
                      <a:lnTo>
                        <a:pt x="152" y="64"/>
                      </a:lnTo>
                      <a:lnTo>
                        <a:pt x="125" y="64"/>
                      </a:lnTo>
                      <a:lnTo>
                        <a:pt x="111" y="64"/>
                      </a:lnTo>
                      <a:lnTo>
                        <a:pt x="152" y="47"/>
                      </a:lnTo>
                      <a:lnTo>
                        <a:pt x="194" y="32"/>
                      </a:lnTo>
                      <a:lnTo>
                        <a:pt x="221" y="32"/>
                      </a:lnTo>
                      <a:lnTo>
                        <a:pt x="235" y="32"/>
                      </a:lnTo>
                      <a:lnTo>
                        <a:pt x="249" y="32"/>
                      </a:lnTo>
                      <a:lnTo>
                        <a:pt x="263" y="32"/>
                      </a:lnTo>
                      <a:lnTo>
                        <a:pt x="249" y="32"/>
                      </a:lnTo>
                      <a:lnTo>
                        <a:pt x="263" y="15"/>
                      </a:lnTo>
                      <a:lnTo>
                        <a:pt x="277" y="15"/>
                      </a:lnTo>
                      <a:lnTo>
                        <a:pt x="291" y="15"/>
                      </a:lnTo>
                      <a:lnTo>
                        <a:pt x="304" y="15"/>
                      </a:lnTo>
                      <a:lnTo>
                        <a:pt x="332" y="15"/>
                      </a:lnTo>
                      <a:lnTo>
                        <a:pt x="360" y="15"/>
                      </a:lnTo>
                      <a:lnTo>
                        <a:pt x="387" y="15"/>
                      </a:lnTo>
                      <a:lnTo>
                        <a:pt x="429" y="0"/>
                      </a:lnTo>
                      <a:lnTo>
                        <a:pt x="457" y="0"/>
                      </a:lnTo>
                      <a:lnTo>
                        <a:pt x="498" y="0"/>
                      </a:lnTo>
                      <a:lnTo>
                        <a:pt x="539" y="0"/>
                      </a:lnTo>
                      <a:lnTo>
                        <a:pt x="567" y="0"/>
                      </a:lnTo>
                      <a:lnTo>
                        <a:pt x="610" y="0"/>
                      </a:lnTo>
                      <a:lnTo>
                        <a:pt x="638" y="0"/>
                      </a:lnTo>
                      <a:lnTo>
                        <a:pt x="679" y="0"/>
                      </a:lnTo>
                      <a:lnTo>
                        <a:pt x="665" y="0"/>
                      </a:lnTo>
                      <a:lnTo>
                        <a:pt x="652" y="15"/>
                      </a:lnTo>
                      <a:lnTo>
                        <a:pt x="665" y="32"/>
                      </a:lnTo>
                      <a:lnTo>
                        <a:pt x="679" y="47"/>
                      </a:lnTo>
                      <a:lnTo>
                        <a:pt x="693" y="47"/>
                      </a:lnTo>
                      <a:lnTo>
                        <a:pt x="707" y="47"/>
                      </a:lnTo>
                      <a:lnTo>
                        <a:pt x="721" y="32"/>
                      </a:lnTo>
                      <a:lnTo>
                        <a:pt x="735" y="32"/>
                      </a:lnTo>
                      <a:lnTo>
                        <a:pt x="748" y="32"/>
                      </a:lnTo>
                      <a:lnTo>
                        <a:pt x="762" y="32"/>
                      </a:lnTo>
                      <a:lnTo>
                        <a:pt x="776" y="32"/>
                      </a:lnTo>
                      <a:lnTo>
                        <a:pt x="790" y="15"/>
                      </a:lnTo>
                      <a:lnTo>
                        <a:pt x="804" y="32"/>
                      </a:lnTo>
                      <a:lnTo>
                        <a:pt x="804" y="47"/>
                      </a:lnTo>
                      <a:lnTo>
                        <a:pt x="776" y="47"/>
                      </a:lnTo>
                      <a:lnTo>
                        <a:pt x="762" y="47"/>
                      </a:lnTo>
                      <a:lnTo>
                        <a:pt x="735" y="64"/>
                      </a:lnTo>
                      <a:lnTo>
                        <a:pt x="707" y="79"/>
                      </a:lnTo>
                      <a:lnTo>
                        <a:pt x="693" y="111"/>
                      </a:lnTo>
                      <a:lnTo>
                        <a:pt x="707" y="111"/>
                      </a:lnTo>
                      <a:lnTo>
                        <a:pt x="721" y="111"/>
                      </a:lnTo>
                      <a:lnTo>
                        <a:pt x="748" y="126"/>
                      </a:lnTo>
                      <a:lnTo>
                        <a:pt x="748" y="143"/>
                      </a:lnTo>
                      <a:lnTo>
                        <a:pt x="735" y="143"/>
                      </a:lnTo>
                      <a:lnTo>
                        <a:pt x="721" y="158"/>
                      </a:lnTo>
                      <a:lnTo>
                        <a:pt x="707" y="158"/>
                      </a:lnTo>
                      <a:lnTo>
                        <a:pt x="679" y="158"/>
                      </a:lnTo>
                      <a:lnTo>
                        <a:pt x="693" y="173"/>
                      </a:lnTo>
                      <a:lnTo>
                        <a:pt x="707" y="173"/>
                      </a:lnTo>
                      <a:lnTo>
                        <a:pt x="721" y="173"/>
                      </a:lnTo>
                      <a:lnTo>
                        <a:pt x="707" y="173"/>
                      </a:lnTo>
                      <a:lnTo>
                        <a:pt x="693" y="173"/>
                      </a:lnTo>
                      <a:lnTo>
                        <a:pt x="679" y="173"/>
                      </a:lnTo>
                      <a:lnTo>
                        <a:pt x="693" y="190"/>
                      </a:lnTo>
                      <a:lnTo>
                        <a:pt x="665" y="205"/>
                      </a:lnTo>
                      <a:lnTo>
                        <a:pt x="624" y="190"/>
                      </a:lnTo>
                      <a:lnTo>
                        <a:pt x="595" y="190"/>
                      </a:lnTo>
                      <a:lnTo>
                        <a:pt x="581" y="221"/>
                      </a:lnTo>
                      <a:lnTo>
                        <a:pt x="610" y="221"/>
                      </a:lnTo>
                      <a:lnTo>
                        <a:pt x="638" y="221"/>
                      </a:lnTo>
                      <a:lnTo>
                        <a:pt x="652" y="237"/>
                      </a:lnTo>
                      <a:lnTo>
                        <a:pt x="652" y="252"/>
                      </a:lnTo>
                      <a:lnTo>
                        <a:pt x="665" y="268"/>
                      </a:lnTo>
                      <a:lnTo>
                        <a:pt x="652" y="268"/>
                      </a:lnTo>
                      <a:lnTo>
                        <a:pt x="652" y="252"/>
                      </a:lnTo>
                      <a:lnTo>
                        <a:pt x="638" y="252"/>
                      </a:lnTo>
                      <a:lnTo>
                        <a:pt x="624" y="237"/>
                      </a:lnTo>
                      <a:lnTo>
                        <a:pt x="595" y="237"/>
                      </a:lnTo>
                      <a:lnTo>
                        <a:pt x="567" y="237"/>
                      </a:lnTo>
                      <a:lnTo>
                        <a:pt x="553" y="268"/>
                      </a:lnTo>
                      <a:lnTo>
                        <a:pt x="581" y="252"/>
                      </a:lnTo>
                      <a:lnTo>
                        <a:pt x="595" y="268"/>
                      </a:lnTo>
                      <a:lnTo>
                        <a:pt x="595" y="284"/>
                      </a:lnTo>
                      <a:lnTo>
                        <a:pt x="581" y="300"/>
                      </a:lnTo>
                      <a:lnTo>
                        <a:pt x="567" y="300"/>
                      </a:lnTo>
                      <a:lnTo>
                        <a:pt x="539" y="316"/>
                      </a:lnTo>
                      <a:lnTo>
                        <a:pt x="498" y="316"/>
                      </a:lnTo>
                      <a:lnTo>
                        <a:pt x="470" y="331"/>
                      </a:lnTo>
                      <a:lnTo>
                        <a:pt x="457" y="347"/>
                      </a:lnTo>
                      <a:lnTo>
                        <a:pt x="443" y="363"/>
                      </a:lnTo>
                      <a:lnTo>
                        <a:pt x="429" y="36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5580000" y="262908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14" h="15">
                      <a:moveTo>
                        <a:pt x="14" y="0"/>
                      </a:moveTo>
                      <a:lnTo>
                        <a:pt x="14" y="15"/>
                      </a:lnTo>
                      <a:lnTo>
                        <a:pt x="0" y="15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5580000" y="262908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14" h="15">
                      <a:moveTo>
                        <a:pt x="14" y="0"/>
                      </a:moveTo>
                      <a:lnTo>
                        <a:pt x="14" y="15"/>
                      </a:lnTo>
                      <a:lnTo>
                        <a:pt x="0" y="1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6078600" y="2611440"/>
                  <a:ext cx="131760" cy="50760"/>
                </a:xfrm>
                <a:custGeom>
                  <a:avLst/>
                  <a:gdLst/>
                  <a:ahLst/>
                  <a:rect l="l" t="t" r="r" b="b"/>
                  <a:pathLst>
                    <a:path w="249" h="95">
                      <a:moveTo>
                        <a:pt x="97" y="16"/>
                      </a:moveTo>
                      <a:lnTo>
                        <a:pt x="125" y="16"/>
                      </a:lnTo>
                      <a:lnTo>
                        <a:pt x="152" y="32"/>
                      </a:lnTo>
                      <a:lnTo>
                        <a:pt x="166" y="32"/>
                      </a:lnTo>
                      <a:lnTo>
                        <a:pt x="180" y="16"/>
                      </a:lnTo>
                      <a:lnTo>
                        <a:pt x="194" y="0"/>
                      </a:lnTo>
                      <a:lnTo>
                        <a:pt x="208" y="0"/>
                      </a:lnTo>
                      <a:lnTo>
                        <a:pt x="222" y="0"/>
                      </a:lnTo>
                      <a:lnTo>
                        <a:pt x="235" y="32"/>
                      </a:lnTo>
                      <a:lnTo>
                        <a:pt x="249" y="63"/>
                      </a:lnTo>
                      <a:lnTo>
                        <a:pt x="235" y="79"/>
                      </a:lnTo>
                      <a:lnTo>
                        <a:pt x="208" y="95"/>
                      </a:lnTo>
                      <a:lnTo>
                        <a:pt x="194" y="95"/>
                      </a:lnTo>
                      <a:lnTo>
                        <a:pt x="180" y="95"/>
                      </a:lnTo>
                      <a:lnTo>
                        <a:pt x="166" y="79"/>
                      </a:lnTo>
                      <a:lnTo>
                        <a:pt x="152" y="79"/>
                      </a:lnTo>
                      <a:lnTo>
                        <a:pt x="139" y="79"/>
                      </a:lnTo>
                      <a:lnTo>
                        <a:pt x="125" y="95"/>
                      </a:lnTo>
                      <a:lnTo>
                        <a:pt x="83" y="95"/>
                      </a:lnTo>
                      <a:lnTo>
                        <a:pt x="42" y="95"/>
                      </a:lnTo>
                      <a:lnTo>
                        <a:pt x="0" y="63"/>
                      </a:lnTo>
                      <a:lnTo>
                        <a:pt x="14" y="63"/>
                      </a:lnTo>
                      <a:lnTo>
                        <a:pt x="28" y="63"/>
                      </a:lnTo>
                      <a:lnTo>
                        <a:pt x="28" y="47"/>
                      </a:lnTo>
                      <a:lnTo>
                        <a:pt x="14" y="47"/>
                      </a:lnTo>
                      <a:lnTo>
                        <a:pt x="0" y="47"/>
                      </a:lnTo>
                      <a:lnTo>
                        <a:pt x="14" y="32"/>
                      </a:lnTo>
                      <a:lnTo>
                        <a:pt x="28" y="47"/>
                      </a:lnTo>
                      <a:lnTo>
                        <a:pt x="56" y="32"/>
                      </a:lnTo>
                      <a:lnTo>
                        <a:pt x="42" y="32"/>
                      </a:lnTo>
                      <a:lnTo>
                        <a:pt x="28" y="16"/>
                      </a:lnTo>
                      <a:lnTo>
                        <a:pt x="56" y="0"/>
                      </a:lnTo>
                      <a:lnTo>
                        <a:pt x="69" y="0"/>
                      </a:lnTo>
                      <a:lnTo>
                        <a:pt x="97" y="16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6078600" y="2611440"/>
                  <a:ext cx="131760" cy="50760"/>
                </a:xfrm>
                <a:custGeom>
                  <a:avLst/>
                  <a:gdLst/>
                  <a:ahLst/>
                  <a:rect l="l" t="t" r="r" b="b"/>
                  <a:pathLst>
                    <a:path w="249" h="95">
                      <a:moveTo>
                        <a:pt x="97" y="16"/>
                      </a:moveTo>
                      <a:lnTo>
                        <a:pt x="125" y="16"/>
                      </a:lnTo>
                      <a:lnTo>
                        <a:pt x="152" y="32"/>
                      </a:lnTo>
                      <a:lnTo>
                        <a:pt x="166" y="32"/>
                      </a:lnTo>
                      <a:lnTo>
                        <a:pt x="180" y="16"/>
                      </a:lnTo>
                      <a:lnTo>
                        <a:pt x="194" y="0"/>
                      </a:lnTo>
                      <a:lnTo>
                        <a:pt x="208" y="0"/>
                      </a:lnTo>
                      <a:lnTo>
                        <a:pt x="222" y="0"/>
                      </a:lnTo>
                      <a:lnTo>
                        <a:pt x="235" y="32"/>
                      </a:lnTo>
                      <a:lnTo>
                        <a:pt x="249" y="63"/>
                      </a:lnTo>
                      <a:lnTo>
                        <a:pt x="235" y="79"/>
                      </a:lnTo>
                      <a:lnTo>
                        <a:pt x="208" y="95"/>
                      </a:lnTo>
                      <a:lnTo>
                        <a:pt x="194" y="95"/>
                      </a:lnTo>
                      <a:lnTo>
                        <a:pt x="180" y="95"/>
                      </a:lnTo>
                      <a:lnTo>
                        <a:pt x="166" y="79"/>
                      </a:lnTo>
                      <a:lnTo>
                        <a:pt x="152" y="79"/>
                      </a:lnTo>
                      <a:lnTo>
                        <a:pt x="139" y="79"/>
                      </a:lnTo>
                      <a:lnTo>
                        <a:pt x="125" y="95"/>
                      </a:lnTo>
                      <a:lnTo>
                        <a:pt x="83" y="95"/>
                      </a:lnTo>
                      <a:lnTo>
                        <a:pt x="42" y="95"/>
                      </a:lnTo>
                      <a:lnTo>
                        <a:pt x="0" y="63"/>
                      </a:lnTo>
                      <a:lnTo>
                        <a:pt x="14" y="63"/>
                      </a:lnTo>
                      <a:lnTo>
                        <a:pt x="28" y="63"/>
                      </a:lnTo>
                      <a:lnTo>
                        <a:pt x="28" y="47"/>
                      </a:lnTo>
                      <a:lnTo>
                        <a:pt x="14" y="47"/>
                      </a:lnTo>
                      <a:lnTo>
                        <a:pt x="0" y="47"/>
                      </a:lnTo>
                      <a:lnTo>
                        <a:pt x="14" y="32"/>
                      </a:lnTo>
                      <a:lnTo>
                        <a:pt x="28" y="47"/>
                      </a:lnTo>
                      <a:lnTo>
                        <a:pt x="56" y="32"/>
                      </a:lnTo>
                      <a:lnTo>
                        <a:pt x="42" y="32"/>
                      </a:lnTo>
                      <a:lnTo>
                        <a:pt x="28" y="16"/>
                      </a:lnTo>
                      <a:lnTo>
                        <a:pt x="56" y="0"/>
                      </a:lnTo>
                      <a:lnTo>
                        <a:pt x="69" y="0"/>
                      </a:lnTo>
                      <a:lnTo>
                        <a:pt x="97" y="1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585120" y="2644920"/>
                  <a:ext cx="1440" cy="7920"/>
                </a:xfrm>
                <a:custGeom>
                  <a:avLst/>
                  <a:gdLst/>
                  <a:ahLst/>
                  <a:rect l="l" t="t" r="r" b="b"/>
                  <a:pathLst>
                    <a:path w="0" h="16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6585120" y="2644920"/>
                  <a:ext cx="1440" cy="7920"/>
                </a:xfrm>
                <a:custGeom>
                  <a:avLst/>
                  <a:gdLst/>
                  <a:ahLst/>
                  <a:rect l="l" t="t" r="r" b="b"/>
                  <a:pathLst>
                    <a:path w="0" h="16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6392880" y="2652840"/>
                  <a:ext cx="1440" cy="9360"/>
                </a:xfrm>
                <a:custGeom>
                  <a:avLst/>
                  <a:gdLst/>
                  <a:ahLst/>
                  <a:rect l="l" t="t" r="r" b="b"/>
                  <a:pathLst>
                    <a:path w="0" h="16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392880" y="2652840"/>
                  <a:ext cx="1440" cy="9360"/>
                </a:xfrm>
                <a:custGeom>
                  <a:avLst/>
                  <a:gdLst/>
                  <a:ahLst/>
                  <a:rect l="l" t="t" r="r" b="b"/>
                  <a:pathLst>
                    <a:path w="0" h="16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6232680" y="2644920"/>
                  <a:ext cx="1440" cy="25200"/>
                </a:xfrm>
                <a:custGeom>
                  <a:avLst/>
                  <a:gdLst/>
                  <a:ahLst/>
                  <a:rect l="l" t="t" r="r" b="b"/>
                  <a:pathLst>
                    <a:path w="0" h="48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32"/>
                      </a:lnTo>
                      <a:lnTo>
                        <a:pt x="0" y="48"/>
                      </a:lnTo>
                      <a:lnTo>
                        <a:pt x="0" y="32"/>
                      </a:lnTo>
                      <a:lnTo>
                        <a:pt x="0" y="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6232680" y="2644920"/>
                  <a:ext cx="1440" cy="25200"/>
                </a:xfrm>
                <a:custGeom>
                  <a:avLst/>
                  <a:gdLst/>
                  <a:ahLst/>
                  <a:rect l="l" t="t" r="r" b="b"/>
                  <a:pathLst>
                    <a:path w="0" h="48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32"/>
                      </a:lnTo>
                      <a:lnTo>
                        <a:pt x="0" y="48"/>
                      </a:lnTo>
                      <a:lnTo>
                        <a:pt x="0" y="32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6305400" y="2603520"/>
                  <a:ext cx="206640" cy="149040"/>
                </a:xfrm>
                <a:custGeom>
                  <a:avLst/>
                  <a:gdLst/>
                  <a:ahLst/>
                  <a:rect l="l" t="t" r="r" b="b"/>
                  <a:pathLst>
                    <a:path w="389" h="283">
                      <a:moveTo>
                        <a:pt x="306" y="126"/>
                      </a:moveTo>
                      <a:lnTo>
                        <a:pt x="320" y="126"/>
                      </a:lnTo>
                      <a:lnTo>
                        <a:pt x="320" y="141"/>
                      </a:lnTo>
                      <a:lnTo>
                        <a:pt x="333" y="126"/>
                      </a:lnTo>
                      <a:lnTo>
                        <a:pt x="347" y="126"/>
                      </a:lnTo>
                      <a:lnTo>
                        <a:pt x="361" y="126"/>
                      </a:lnTo>
                      <a:lnTo>
                        <a:pt x="389" y="157"/>
                      </a:lnTo>
                      <a:lnTo>
                        <a:pt x="375" y="157"/>
                      </a:lnTo>
                      <a:lnTo>
                        <a:pt x="361" y="173"/>
                      </a:lnTo>
                      <a:lnTo>
                        <a:pt x="347" y="189"/>
                      </a:lnTo>
                      <a:lnTo>
                        <a:pt x="333" y="204"/>
                      </a:lnTo>
                      <a:lnTo>
                        <a:pt x="333" y="189"/>
                      </a:lnTo>
                      <a:lnTo>
                        <a:pt x="333" y="173"/>
                      </a:lnTo>
                      <a:lnTo>
                        <a:pt x="320" y="173"/>
                      </a:lnTo>
                      <a:lnTo>
                        <a:pt x="292" y="189"/>
                      </a:lnTo>
                      <a:lnTo>
                        <a:pt x="278" y="204"/>
                      </a:lnTo>
                      <a:lnTo>
                        <a:pt x="278" y="220"/>
                      </a:lnTo>
                      <a:lnTo>
                        <a:pt x="292" y="236"/>
                      </a:lnTo>
                      <a:lnTo>
                        <a:pt x="292" y="251"/>
                      </a:lnTo>
                      <a:lnTo>
                        <a:pt x="278" y="268"/>
                      </a:lnTo>
                      <a:lnTo>
                        <a:pt x="250" y="283"/>
                      </a:lnTo>
                      <a:lnTo>
                        <a:pt x="223" y="268"/>
                      </a:lnTo>
                      <a:lnTo>
                        <a:pt x="195" y="251"/>
                      </a:lnTo>
                      <a:lnTo>
                        <a:pt x="166" y="236"/>
                      </a:lnTo>
                      <a:lnTo>
                        <a:pt x="152" y="220"/>
                      </a:lnTo>
                      <a:lnTo>
                        <a:pt x="138" y="220"/>
                      </a:lnTo>
                      <a:lnTo>
                        <a:pt x="125" y="220"/>
                      </a:lnTo>
                      <a:lnTo>
                        <a:pt x="97" y="220"/>
                      </a:lnTo>
                      <a:lnTo>
                        <a:pt x="97" y="204"/>
                      </a:lnTo>
                      <a:lnTo>
                        <a:pt x="97" y="189"/>
                      </a:lnTo>
                      <a:lnTo>
                        <a:pt x="111" y="189"/>
                      </a:lnTo>
                      <a:lnTo>
                        <a:pt x="125" y="189"/>
                      </a:lnTo>
                      <a:lnTo>
                        <a:pt x="125" y="204"/>
                      </a:lnTo>
                      <a:lnTo>
                        <a:pt x="138" y="204"/>
                      </a:lnTo>
                      <a:lnTo>
                        <a:pt x="152" y="204"/>
                      </a:lnTo>
                      <a:lnTo>
                        <a:pt x="166" y="189"/>
                      </a:lnTo>
                      <a:lnTo>
                        <a:pt x="181" y="189"/>
                      </a:lnTo>
                      <a:lnTo>
                        <a:pt x="195" y="189"/>
                      </a:lnTo>
                      <a:lnTo>
                        <a:pt x="209" y="189"/>
                      </a:lnTo>
                      <a:lnTo>
                        <a:pt x="223" y="173"/>
                      </a:lnTo>
                      <a:lnTo>
                        <a:pt x="237" y="157"/>
                      </a:lnTo>
                      <a:lnTo>
                        <a:pt x="223" y="157"/>
                      </a:lnTo>
                      <a:lnTo>
                        <a:pt x="209" y="157"/>
                      </a:lnTo>
                      <a:lnTo>
                        <a:pt x="195" y="157"/>
                      </a:lnTo>
                      <a:lnTo>
                        <a:pt x="195" y="141"/>
                      </a:lnTo>
                      <a:lnTo>
                        <a:pt x="181" y="126"/>
                      </a:lnTo>
                      <a:lnTo>
                        <a:pt x="166" y="110"/>
                      </a:lnTo>
                      <a:lnTo>
                        <a:pt x="166" y="94"/>
                      </a:lnTo>
                      <a:lnTo>
                        <a:pt x="166" y="78"/>
                      </a:lnTo>
                      <a:lnTo>
                        <a:pt x="166" y="62"/>
                      </a:lnTo>
                      <a:lnTo>
                        <a:pt x="152" y="78"/>
                      </a:lnTo>
                      <a:lnTo>
                        <a:pt x="138" y="78"/>
                      </a:lnTo>
                      <a:lnTo>
                        <a:pt x="111" y="94"/>
                      </a:lnTo>
                      <a:lnTo>
                        <a:pt x="83" y="78"/>
                      </a:lnTo>
                      <a:lnTo>
                        <a:pt x="42" y="78"/>
                      </a:lnTo>
                      <a:lnTo>
                        <a:pt x="14" y="62"/>
                      </a:lnTo>
                      <a:lnTo>
                        <a:pt x="0" y="47"/>
                      </a:lnTo>
                      <a:lnTo>
                        <a:pt x="14" y="47"/>
                      </a:lnTo>
                      <a:lnTo>
                        <a:pt x="42" y="15"/>
                      </a:lnTo>
                      <a:lnTo>
                        <a:pt x="69" y="0"/>
                      </a:lnTo>
                      <a:lnTo>
                        <a:pt x="111" y="0"/>
                      </a:lnTo>
                      <a:lnTo>
                        <a:pt x="125" y="0"/>
                      </a:lnTo>
                      <a:lnTo>
                        <a:pt x="97" y="15"/>
                      </a:lnTo>
                      <a:lnTo>
                        <a:pt x="69" y="31"/>
                      </a:lnTo>
                      <a:lnTo>
                        <a:pt x="42" y="62"/>
                      </a:lnTo>
                      <a:lnTo>
                        <a:pt x="55" y="62"/>
                      </a:lnTo>
                      <a:lnTo>
                        <a:pt x="69" y="62"/>
                      </a:lnTo>
                      <a:lnTo>
                        <a:pt x="83" y="62"/>
                      </a:lnTo>
                      <a:lnTo>
                        <a:pt x="83" y="47"/>
                      </a:lnTo>
                      <a:lnTo>
                        <a:pt x="83" y="31"/>
                      </a:lnTo>
                      <a:lnTo>
                        <a:pt x="97" y="15"/>
                      </a:lnTo>
                      <a:lnTo>
                        <a:pt x="111" y="15"/>
                      </a:lnTo>
                      <a:lnTo>
                        <a:pt x="125" y="15"/>
                      </a:lnTo>
                      <a:lnTo>
                        <a:pt x="138" y="15"/>
                      </a:lnTo>
                      <a:lnTo>
                        <a:pt x="152" y="0"/>
                      </a:lnTo>
                      <a:lnTo>
                        <a:pt x="166" y="0"/>
                      </a:lnTo>
                      <a:lnTo>
                        <a:pt x="166" y="15"/>
                      </a:lnTo>
                      <a:lnTo>
                        <a:pt x="152" y="31"/>
                      </a:lnTo>
                      <a:lnTo>
                        <a:pt x="152" y="47"/>
                      </a:lnTo>
                      <a:lnTo>
                        <a:pt x="152" y="31"/>
                      </a:lnTo>
                      <a:lnTo>
                        <a:pt x="166" y="31"/>
                      </a:lnTo>
                      <a:lnTo>
                        <a:pt x="181" y="31"/>
                      </a:lnTo>
                      <a:lnTo>
                        <a:pt x="209" y="15"/>
                      </a:lnTo>
                      <a:lnTo>
                        <a:pt x="223" y="15"/>
                      </a:lnTo>
                      <a:lnTo>
                        <a:pt x="223" y="31"/>
                      </a:lnTo>
                      <a:lnTo>
                        <a:pt x="223" y="47"/>
                      </a:lnTo>
                      <a:lnTo>
                        <a:pt x="223" y="62"/>
                      </a:lnTo>
                      <a:lnTo>
                        <a:pt x="237" y="62"/>
                      </a:lnTo>
                      <a:lnTo>
                        <a:pt x="250" y="62"/>
                      </a:lnTo>
                      <a:lnTo>
                        <a:pt x="264" y="78"/>
                      </a:lnTo>
                      <a:lnTo>
                        <a:pt x="278" y="78"/>
                      </a:lnTo>
                      <a:lnTo>
                        <a:pt x="292" y="62"/>
                      </a:lnTo>
                      <a:lnTo>
                        <a:pt x="306" y="62"/>
                      </a:lnTo>
                      <a:lnTo>
                        <a:pt x="306" y="78"/>
                      </a:lnTo>
                      <a:lnTo>
                        <a:pt x="292" y="94"/>
                      </a:lnTo>
                      <a:lnTo>
                        <a:pt x="278" y="94"/>
                      </a:lnTo>
                      <a:lnTo>
                        <a:pt x="306" y="94"/>
                      </a:lnTo>
                      <a:lnTo>
                        <a:pt x="320" y="94"/>
                      </a:lnTo>
                      <a:lnTo>
                        <a:pt x="333" y="94"/>
                      </a:lnTo>
                      <a:lnTo>
                        <a:pt x="320" y="110"/>
                      </a:lnTo>
                      <a:lnTo>
                        <a:pt x="306" y="110"/>
                      </a:lnTo>
                      <a:lnTo>
                        <a:pt x="278" y="110"/>
                      </a:lnTo>
                      <a:lnTo>
                        <a:pt x="292" y="110"/>
                      </a:lnTo>
                      <a:lnTo>
                        <a:pt x="292" y="126"/>
                      </a:lnTo>
                      <a:lnTo>
                        <a:pt x="306" y="126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305400" y="2603520"/>
                  <a:ext cx="206640" cy="149040"/>
                </a:xfrm>
                <a:custGeom>
                  <a:avLst/>
                  <a:gdLst/>
                  <a:ahLst/>
                  <a:rect l="l" t="t" r="r" b="b"/>
                  <a:pathLst>
                    <a:path w="389" h="283">
                      <a:moveTo>
                        <a:pt x="306" y="126"/>
                      </a:moveTo>
                      <a:lnTo>
                        <a:pt x="320" y="126"/>
                      </a:lnTo>
                      <a:lnTo>
                        <a:pt x="320" y="141"/>
                      </a:lnTo>
                      <a:lnTo>
                        <a:pt x="333" y="126"/>
                      </a:lnTo>
                      <a:lnTo>
                        <a:pt x="347" y="126"/>
                      </a:lnTo>
                      <a:lnTo>
                        <a:pt x="361" y="126"/>
                      </a:lnTo>
                      <a:lnTo>
                        <a:pt x="389" y="157"/>
                      </a:lnTo>
                      <a:lnTo>
                        <a:pt x="375" y="157"/>
                      </a:lnTo>
                      <a:lnTo>
                        <a:pt x="361" y="173"/>
                      </a:lnTo>
                      <a:lnTo>
                        <a:pt x="347" y="189"/>
                      </a:lnTo>
                      <a:lnTo>
                        <a:pt x="333" y="204"/>
                      </a:lnTo>
                      <a:lnTo>
                        <a:pt x="333" y="189"/>
                      </a:lnTo>
                      <a:lnTo>
                        <a:pt x="333" y="173"/>
                      </a:lnTo>
                      <a:lnTo>
                        <a:pt x="320" y="173"/>
                      </a:lnTo>
                      <a:lnTo>
                        <a:pt x="292" y="189"/>
                      </a:lnTo>
                      <a:lnTo>
                        <a:pt x="278" y="204"/>
                      </a:lnTo>
                      <a:lnTo>
                        <a:pt x="278" y="220"/>
                      </a:lnTo>
                      <a:lnTo>
                        <a:pt x="292" y="236"/>
                      </a:lnTo>
                      <a:lnTo>
                        <a:pt x="292" y="251"/>
                      </a:lnTo>
                      <a:lnTo>
                        <a:pt x="278" y="268"/>
                      </a:lnTo>
                      <a:lnTo>
                        <a:pt x="250" y="283"/>
                      </a:lnTo>
                      <a:lnTo>
                        <a:pt x="223" y="268"/>
                      </a:lnTo>
                      <a:lnTo>
                        <a:pt x="195" y="251"/>
                      </a:lnTo>
                      <a:lnTo>
                        <a:pt x="166" y="236"/>
                      </a:lnTo>
                      <a:lnTo>
                        <a:pt x="152" y="220"/>
                      </a:lnTo>
                      <a:lnTo>
                        <a:pt x="138" y="220"/>
                      </a:lnTo>
                      <a:lnTo>
                        <a:pt x="125" y="220"/>
                      </a:lnTo>
                      <a:lnTo>
                        <a:pt x="97" y="220"/>
                      </a:lnTo>
                      <a:lnTo>
                        <a:pt x="97" y="204"/>
                      </a:lnTo>
                      <a:lnTo>
                        <a:pt x="97" y="189"/>
                      </a:lnTo>
                      <a:lnTo>
                        <a:pt x="111" y="189"/>
                      </a:lnTo>
                      <a:lnTo>
                        <a:pt x="125" y="189"/>
                      </a:lnTo>
                      <a:lnTo>
                        <a:pt x="125" y="204"/>
                      </a:lnTo>
                      <a:lnTo>
                        <a:pt x="138" y="204"/>
                      </a:lnTo>
                      <a:lnTo>
                        <a:pt x="152" y="204"/>
                      </a:lnTo>
                      <a:lnTo>
                        <a:pt x="166" y="189"/>
                      </a:lnTo>
                      <a:lnTo>
                        <a:pt x="181" y="189"/>
                      </a:lnTo>
                      <a:lnTo>
                        <a:pt x="195" y="189"/>
                      </a:lnTo>
                      <a:lnTo>
                        <a:pt x="209" y="189"/>
                      </a:lnTo>
                      <a:lnTo>
                        <a:pt x="223" y="173"/>
                      </a:lnTo>
                      <a:lnTo>
                        <a:pt x="237" y="157"/>
                      </a:lnTo>
                      <a:lnTo>
                        <a:pt x="223" y="157"/>
                      </a:lnTo>
                      <a:lnTo>
                        <a:pt x="209" y="157"/>
                      </a:lnTo>
                      <a:lnTo>
                        <a:pt x="195" y="157"/>
                      </a:lnTo>
                      <a:lnTo>
                        <a:pt x="195" y="141"/>
                      </a:lnTo>
                      <a:lnTo>
                        <a:pt x="181" y="126"/>
                      </a:lnTo>
                      <a:lnTo>
                        <a:pt x="166" y="110"/>
                      </a:lnTo>
                      <a:lnTo>
                        <a:pt x="166" y="94"/>
                      </a:lnTo>
                      <a:lnTo>
                        <a:pt x="166" y="78"/>
                      </a:lnTo>
                      <a:lnTo>
                        <a:pt x="166" y="62"/>
                      </a:lnTo>
                      <a:lnTo>
                        <a:pt x="152" y="78"/>
                      </a:lnTo>
                      <a:lnTo>
                        <a:pt x="138" y="78"/>
                      </a:lnTo>
                      <a:lnTo>
                        <a:pt x="111" y="94"/>
                      </a:lnTo>
                      <a:lnTo>
                        <a:pt x="83" y="78"/>
                      </a:lnTo>
                      <a:lnTo>
                        <a:pt x="42" y="78"/>
                      </a:lnTo>
                      <a:lnTo>
                        <a:pt x="14" y="62"/>
                      </a:lnTo>
                      <a:lnTo>
                        <a:pt x="0" y="47"/>
                      </a:lnTo>
                      <a:lnTo>
                        <a:pt x="14" y="47"/>
                      </a:lnTo>
                      <a:lnTo>
                        <a:pt x="42" y="15"/>
                      </a:lnTo>
                      <a:lnTo>
                        <a:pt x="69" y="0"/>
                      </a:lnTo>
                      <a:lnTo>
                        <a:pt x="111" y="0"/>
                      </a:lnTo>
                      <a:lnTo>
                        <a:pt x="125" y="0"/>
                      </a:lnTo>
                      <a:lnTo>
                        <a:pt x="97" y="15"/>
                      </a:lnTo>
                      <a:lnTo>
                        <a:pt x="69" y="31"/>
                      </a:lnTo>
                      <a:lnTo>
                        <a:pt x="42" y="62"/>
                      </a:lnTo>
                      <a:lnTo>
                        <a:pt x="55" y="62"/>
                      </a:lnTo>
                      <a:lnTo>
                        <a:pt x="69" y="62"/>
                      </a:lnTo>
                      <a:lnTo>
                        <a:pt x="83" y="62"/>
                      </a:lnTo>
                      <a:lnTo>
                        <a:pt x="83" y="47"/>
                      </a:lnTo>
                      <a:lnTo>
                        <a:pt x="83" y="31"/>
                      </a:lnTo>
                      <a:lnTo>
                        <a:pt x="97" y="15"/>
                      </a:lnTo>
                      <a:lnTo>
                        <a:pt x="111" y="15"/>
                      </a:lnTo>
                      <a:lnTo>
                        <a:pt x="125" y="15"/>
                      </a:lnTo>
                      <a:lnTo>
                        <a:pt x="138" y="15"/>
                      </a:lnTo>
                      <a:lnTo>
                        <a:pt x="152" y="0"/>
                      </a:lnTo>
                      <a:lnTo>
                        <a:pt x="166" y="0"/>
                      </a:lnTo>
                      <a:lnTo>
                        <a:pt x="166" y="15"/>
                      </a:lnTo>
                      <a:lnTo>
                        <a:pt x="152" y="31"/>
                      </a:lnTo>
                      <a:lnTo>
                        <a:pt x="152" y="47"/>
                      </a:lnTo>
                      <a:lnTo>
                        <a:pt x="152" y="31"/>
                      </a:lnTo>
                      <a:lnTo>
                        <a:pt x="166" y="31"/>
                      </a:lnTo>
                      <a:lnTo>
                        <a:pt x="181" y="31"/>
                      </a:lnTo>
                      <a:lnTo>
                        <a:pt x="209" y="15"/>
                      </a:lnTo>
                      <a:lnTo>
                        <a:pt x="223" y="15"/>
                      </a:lnTo>
                      <a:lnTo>
                        <a:pt x="223" y="31"/>
                      </a:lnTo>
                      <a:lnTo>
                        <a:pt x="223" y="47"/>
                      </a:lnTo>
                      <a:lnTo>
                        <a:pt x="223" y="62"/>
                      </a:lnTo>
                      <a:lnTo>
                        <a:pt x="237" y="62"/>
                      </a:lnTo>
                      <a:lnTo>
                        <a:pt x="250" y="62"/>
                      </a:lnTo>
                      <a:lnTo>
                        <a:pt x="264" y="78"/>
                      </a:lnTo>
                      <a:lnTo>
                        <a:pt x="278" y="78"/>
                      </a:lnTo>
                      <a:lnTo>
                        <a:pt x="292" y="62"/>
                      </a:lnTo>
                      <a:lnTo>
                        <a:pt x="306" y="62"/>
                      </a:lnTo>
                      <a:lnTo>
                        <a:pt x="306" y="78"/>
                      </a:lnTo>
                      <a:lnTo>
                        <a:pt x="292" y="94"/>
                      </a:lnTo>
                      <a:lnTo>
                        <a:pt x="278" y="94"/>
                      </a:lnTo>
                      <a:lnTo>
                        <a:pt x="306" y="94"/>
                      </a:lnTo>
                      <a:lnTo>
                        <a:pt x="320" y="94"/>
                      </a:lnTo>
                      <a:lnTo>
                        <a:pt x="333" y="94"/>
                      </a:lnTo>
                      <a:lnTo>
                        <a:pt x="320" y="110"/>
                      </a:lnTo>
                      <a:lnTo>
                        <a:pt x="306" y="110"/>
                      </a:lnTo>
                      <a:lnTo>
                        <a:pt x="278" y="110"/>
                      </a:lnTo>
                      <a:lnTo>
                        <a:pt x="292" y="110"/>
                      </a:lnTo>
                      <a:lnTo>
                        <a:pt x="292" y="126"/>
                      </a:lnTo>
                      <a:lnTo>
                        <a:pt x="306" y="12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6811920" y="2703600"/>
                  <a:ext cx="95400" cy="25200"/>
                </a:xfrm>
                <a:custGeom>
                  <a:avLst/>
                  <a:gdLst/>
                  <a:ahLst/>
                  <a:rect l="l" t="t" r="r" b="b"/>
                  <a:pathLst>
                    <a:path w="181" h="47">
                      <a:moveTo>
                        <a:pt x="57" y="31"/>
                      </a:moveTo>
                      <a:lnTo>
                        <a:pt x="57" y="15"/>
                      </a:lnTo>
                      <a:lnTo>
                        <a:pt x="57" y="0"/>
                      </a:lnTo>
                      <a:lnTo>
                        <a:pt x="29" y="0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29" y="0"/>
                      </a:lnTo>
                      <a:lnTo>
                        <a:pt x="43" y="15"/>
                      </a:lnTo>
                      <a:lnTo>
                        <a:pt x="57" y="0"/>
                      </a:lnTo>
                      <a:lnTo>
                        <a:pt x="70" y="0"/>
                      </a:lnTo>
                      <a:lnTo>
                        <a:pt x="84" y="0"/>
                      </a:lnTo>
                      <a:lnTo>
                        <a:pt x="112" y="0"/>
                      </a:lnTo>
                      <a:lnTo>
                        <a:pt x="140" y="0"/>
                      </a:lnTo>
                      <a:lnTo>
                        <a:pt x="181" y="0"/>
                      </a:lnTo>
                      <a:lnTo>
                        <a:pt x="181" y="15"/>
                      </a:lnTo>
                      <a:lnTo>
                        <a:pt x="167" y="15"/>
                      </a:lnTo>
                      <a:lnTo>
                        <a:pt x="167" y="31"/>
                      </a:lnTo>
                      <a:lnTo>
                        <a:pt x="140" y="31"/>
                      </a:lnTo>
                      <a:lnTo>
                        <a:pt x="126" y="47"/>
                      </a:lnTo>
                      <a:lnTo>
                        <a:pt x="98" y="47"/>
                      </a:lnTo>
                      <a:lnTo>
                        <a:pt x="84" y="47"/>
                      </a:lnTo>
                      <a:lnTo>
                        <a:pt x="57" y="47"/>
                      </a:lnTo>
                      <a:lnTo>
                        <a:pt x="57" y="31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811920" y="2703600"/>
                  <a:ext cx="95400" cy="25200"/>
                </a:xfrm>
                <a:custGeom>
                  <a:avLst/>
                  <a:gdLst/>
                  <a:ahLst/>
                  <a:rect l="l" t="t" r="r" b="b"/>
                  <a:pathLst>
                    <a:path w="181" h="47">
                      <a:moveTo>
                        <a:pt x="57" y="31"/>
                      </a:moveTo>
                      <a:lnTo>
                        <a:pt x="57" y="15"/>
                      </a:lnTo>
                      <a:lnTo>
                        <a:pt x="57" y="0"/>
                      </a:lnTo>
                      <a:lnTo>
                        <a:pt x="29" y="0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29" y="0"/>
                      </a:lnTo>
                      <a:lnTo>
                        <a:pt x="43" y="15"/>
                      </a:lnTo>
                      <a:lnTo>
                        <a:pt x="57" y="0"/>
                      </a:lnTo>
                      <a:lnTo>
                        <a:pt x="70" y="0"/>
                      </a:lnTo>
                      <a:lnTo>
                        <a:pt x="84" y="0"/>
                      </a:lnTo>
                      <a:lnTo>
                        <a:pt x="112" y="0"/>
                      </a:lnTo>
                      <a:lnTo>
                        <a:pt x="140" y="0"/>
                      </a:lnTo>
                      <a:lnTo>
                        <a:pt x="181" y="0"/>
                      </a:lnTo>
                      <a:lnTo>
                        <a:pt x="181" y="15"/>
                      </a:lnTo>
                      <a:lnTo>
                        <a:pt x="167" y="15"/>
                      </a:lnTo>
                      <a:lnTo>
                        <a:pt x="167" y="31"/>
                      </a:lnTo>
                      <a:lnTo>
                        <a:pt x="140" y="31"/>
                      </a:lnTo>
                      <a:lnTo>
                        <a:pt x="126" y="47"/>
                      </a:lnTo>
                      <a:lnTo>
                        <a:pt x="98" y="47"/>
                      </a:lnTo>
                      <a:lnTo>
                        <a:pt x="84" y="47"/>
                      </a:lnTo>
                      <a:lnTo>
                        <a:pt x="57" y="47"/>
                      </a:lnTo>
                      <a:lnTo>
                        <a:pt x="57" y="3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6283440" y="2695680"/>
                  <a:ext cx="29880" cy="33120"/>
                </a:xfrm>
                <a:custGeom>
                  <a:avLst/>
                  <a:gdLst/>
                  <a:ahLst/>
                  <a:rect l="l" t="t" r="r" b="b"/>
                  <a:pathLst>
                    <a:path w="55" h="63">
                      <a:moveTo>
                        <a:pt x="55" y="31"/>
                      </a:moveTo>
                      <a:lnTo>
                        <a:pt x="55" y="47"/>
                      </a:lnTo>
                      <a:lnTo>
                        <a:pt x="55" y="63"/>
                      </a:lnTo>
                      <a:lnTo>
                        <a:pt x="27" y="63"/>
                      </a:lnTo>
                      <a:lnTo>
                        <a:pt x="13" y="63"/>
                      </a:lnTo>
                      <a:lnTo>
                        <a:pt x="0" y="47"/>
                      </a:lnTo>
                      <a:lnTo>
                        <a:pt x="0" y="31"/>
                      </a:lnTo>
                      <a:lnTo>
                        <a:pt x="13" y="16"/>
                      </a:lnTo>
                      <a:lnTo>
                        <a:pt x="27" y="0"/>
                      </a:lnTo>
                      <a:lnTo>
                        <a:pt x="41" y="16"/>
                      </a:lnTo>
                      <a:lnTo>
                        <a:pt x="55" y="16"/>
                      </a:lnTo>
                      <a:lnTo>
                        <a:pt x="55" y="31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6283440" y="2695680"/>
                  <a:ext cx="29880" cy="33120"/>
                </a:xfrm>
                <a:custGeom>
                  <a:avLst/>
                  <a:gdLst/>
                  <a:ahLst/>
                  <a:rect l="l" t="t" r="r" b="b"/>
                  <a:pathLst>
                    <a:path w="55" h="63">
                      <a:moveTo>
                        <a:pt x="55" y="31"/>
                      </a:moveTo>
                      <a:lnTo>
                        <a:pt x="55" y="47"/>
                      </a:lnTo>
                      <a:lnTo>
                        <a:pt x="55" y="63"/>
                      </a:lnTo>
                      <a:lnTo>
                        <a:pt x="27" y="63"/>
                      </a:lnTo>
                      <a:lnTo>
                        <a:pt x="13" y="63"/>
                      </a:lnTo>
                      <a:lnTo>
                        <a:pt x="0" y="47"/>
                      </a:lnTo>
                      <a:lnTo>
                        <a:pt x="0" y="31"/>
                      </a:lnTo>
                      <a:lnTo>
                        <a:pt x="13" y="16"/>
                      </a:lnTo>
                      <a:lnTo>
                        <a:pt x="27" y="0"/>
                      </a:lnTo>
                      <a:lnTo>
                        <a:pt x="41" y="16"/>
                      </a:lnTo>
                      <a:lnTo>
                        <a:pt x="55" y="16"/>
                      </a:lnTo>
                      <a:lnTo>
                        <a:pt x="55" y="3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5594400" y="2803680"/>
                  <a:ext cx="22320" cy="7920"/>
                </a:xfrm>
                <a:custGeom>
                  <a:avLst/>
                  <a:gdLst/>
                  <a:ahLst/>
                  <a:rect l="l" t="t" r="r" b="b"/>
                  <a:pathLst>
                    <a:path w="42" h="17">
                      <a:moveTo>
                        <a:pt x="42" y="0"/>
                      </a:moveTo>
                      <a:lnTo>
                        <a:pt x="28" y="0"/>
                      </a:lnTo>
                      <a:lnTo>
                        <a:pt x="0" y="17"/>
                      </a:lnTo>
                      <a:lnTo>
                        <a:pt x="28" y="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5594400" y="2803680"/>
                  <a:ext cx="22320" cy="7920"/>
                </a:xfrm>
                <a:custGeom>
                  <a:avLst/>
                  <a:gdLst/>
                  <a:ahLst/>
                  <a:rect l="l" t="t" r="r" b="b"/>
                  <a:pathLst>
                    <a:path w="42" h="17">
                      <a:moveTo>
                        <a:pt x="42" y="0"/>
                      </a:moveTo>
                      <a:lnTo>
                        <a:pt x="28" y="0"/>
                      </a:lnTo>
                      <a:lnTo>
                        <a:pt x="0" y="17"/>
                      </a:lnTo>
                      <a:lnTo>
                        <a:pt x="28" y="0"/>
                      </a:lnTo>
                      <a:lnTo>
                        <a:pt x="4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6276960" y="2819520"/>
                  <a:ext cx="6480" cy="936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4" y="0"/>
                      </a:moveTo>
                      <a:lnTo>
                        <a:pt x="14" y="17"/>
                      </a:lnTo>
                      <a:lnTo>
                        <a:pt x="0" y="17"/>
                      </a:lnTo>
                      <a:lnTo>
                        <a:pt x="14" y="1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6276960" y="2819520"/>
                  <a:ext cx="6480" cy="936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4" y="0"/>
                      </a:moveTo>
                      <a:lnTo>
                        <a:pt x="14" y="17"/>
                      </a:lnTo>
                      <a:lnTo>
                        <a:pt x="0" y="17"/>
                      </a:lnTo>
                      <a:lnTo>
                        <a:pt x="14" y="17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5792760" y="2819520"/>
                  <a:ext cx="6480" cy="9360"/>
                </a:xfrm>
                <a:custGeom>
                  <a:avLst/>
                  <a:gdLst/>
                  <a:ahLst/>
                  <a:rect l="l" t="t" r="r" b="b"/>
                  <a:pathLst>
                    <a:path w="13" h="17">
                      <a:moveTo>
                        <a:pt x="13" y="0"/>
                      </a:move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5792760" y="2819520"/>
                  <a:ext cx="6480" cy="9360"/>
                </a:xfrm>
                <a:custGeom>
                  <a:avLst/>
                  <a:gdLst/>
                  <a:ahLst/>
                  <a:rect l="l" t="t" r="r" b="b"/>
                  <a:pathLst>
                    <a:path w="13" h="17">
                      <a:moveTo>
                        <a:pt x="13" y="0"/>
                      </a:move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5506920" y="2836800"/>
                  <a:ext cx="6480" cy="1800"/>
                </a:xfrm>
                <a:custGeom>
                  <a:avLst/>
                  <a:gdLst/>
                  <a:ahLst/>
                  <a:rect l="l" t="t" r="r" b="b"/>
                  <a:pathLst>
                    <a:path w="14" h="0">
                      <a:moveTo>
                        <a:pt x="14" y="0"/>
                      </a:moveTo>
                      <a:lnTo>
                        <a:pt x="0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5506920" y="2836800"/>
                  <a:ext cx="6480" cy="1800"/>
                </a:xfrm>
                <a:custGeom>
                  <a:avLst/>
                  <a:gdLst/>
                  <a:ahLst/>
                  <a:rect l="l" t="t" r="r" b="b"/>
                  <a:pathLst>
                    <a:path w="14" h="0">
                      <a:moveTo>
                        <a:pt x="14" y="0"/>
                      </a:moveTo>
                      <a:lnTo>
                        <a:pt x="0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6966000" y="2795760"/>
                  <a:ext cx="73080" cy="107640"/>
                </a:xfrm>
                <a:custGeom>
                  <a:avLst/>
                  <a:gdLst/>
                  <a:ahLst/>
                  <a:rect l="l" t="t" r="r" b="b"/>
                  <a:pathLst>
                    <a:path w="138" h="205">
                      <a:moveTo>
                        <a:pt x="27" y="0"/>
                      </a:moveTo>
                      <a:lnTo>
                        <a:pt x="27" y="15"/>
                      </a:lnTo>
                      <a:lnTo>
                        <a:pt x="55" y="15"/>
                      </a:lnTo>
                      <a:lnTo>
                        <a:pt x="69" y="15"/>
                      </a:lnTo>
                      <a:lnTo>
                        <a:pt x="69" y="32"/>
                      </a:lnTo>
                      <a:lnTo>
                        <a:pt x="55" y="47"/>
                      </a:lnTo>
                      <a:lnTo>
                        <a:pt x="41" y="64"/>
                      </a:lnTo>
                      <a:lnTo>
                        <a:pt x="55" y="64"/>
                      </a:lnTo>
                      <a:lnTo>
                        <a:pt x="69" y="64"/>
                      </a:lnTo>
                      <a:lnTo>
                        <a:pt x="83" y="79"/>
                      </a:lnTo>
                      <a:lnTo>
                        <a:pt x="83" y="94"/>
                      </a:lnTo>
                      <a:lnTo>
                        <a:pt x="96" y="111"/>
                      </a:lnTo>
                      <a:lnTo>
                        <a:pt x="110" y="126"/>
                      </a:lnTo>
                      <a:lnTo>
                        <a:pt x="124" y="126"/>
                      </a:lnTo>
                      <a:lnTo>
                        <a:pt x="138" y="143"/>
                      </a:lnTo>
                      <a:lnTo>
                        <a:pt x="138" y="158"/>
                      </a:lnTo>
                      <a:lnTo>
                        <a:pt x="124" y="173"/>
                      </a:lnTo>
                      <a:lnTo>
                        <a:pt x="110" y="173"/>
                      </a:lnTo>
                      <a:lnTo>
                        <a:pt x="110" y="190"/>
                      </a:lnTo>
                      <a:lnTo>
                        <a:pt x="110" y="205"/>
                      </a:lnTo>
                      <a:lnTo>
                        <a:pt x="96" y="190"/>
                      </a:lnTo>
                      <a:lnTo>
                        <a:pt x="83" y="173"/>
                      </a:lnTo>
                      <a:lnTo>
                        <a:pt x="69" y="173"/>
                      </a:lnTo>
                      <a:lnTo>
                        <a:pt x="55" y="173"/>
                      </a:lnTo>
                      <a:lnTo>
                        <a:pt x="41" y="173"/>
                      </a:lnTo>
                      <a:lnTo>
                        <a:pt x="27" y="173"/>
                      </a:lnTo>
                      <a:lnTo>
                        <a:pt x="27" y="158"/>
                      </a:lnTo>
                      <a:lnTo>
                        <a:pt x="13" y="158"/>
                      </a:lnTo>
                      <a:lnTo>
                        <a:pt x="27" y="143"/>
                      </a:lnTo>
                      <a:lnTo>
                        <a:pt x="41" y="143"/>
                      </a:lnTo>
                      <a:lnTo>
                        <a:pt x="69" y="126"/>
                      </a:lnTo>
                      <a:lnTo>
                        <a:pt x="55" y="94"/>
                      </a:lnTo>
                      <a:lnTo>
                        <a:pt x="41" y="94"/>
                      </a:lnTo>
                      <a:lnTo>
                        <a:pt x="27" y="94"/>
                      </a:lnTo>
                      <a:lnTo>
                        <a:pt x="13" y="94"/>
                      </a:lnTo>
                      <a:lnTo>
                        <a:pt x="13" y="79"/>
                      </a:lnTo>
                      <a:lnTo>
                        <a:pt x="27" y="64"/>
                      </a:lnTo>
                      <a:lnTo>
                        <a:pt x="27" y="47"/>
                      </a:lnTo>
                      <a:lnTo>
                        <a:pt x="13" y="64"/>
                      </a:lnTo>
                      <a:lnTo>
                        <a:pt x="13" y="79"/>
                      </a:lnTo>
                      <a:lnTo>
                        <a:pt x="0" y="79"/>
                      </a:lnTo>
                      <a:lnTo>
                        <a:pt x="0" y="64"/>
                      </a:lnTo>
                      <a:lnTo>
                        <a:pt x="13" y="64"/>
                      </a:lnTo>
                      <a:lnTo>
                        <a:pt x="13" y="47"/>
                      </a:lnTo>
                      <a:lnTo>
                        <a:pt x="27" y="32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966000" y="2795760"/>
                  <a:ext cx="73080" cy="107640"/>
                </a:xfrm>
                <a:custGeom>
                  <a:avLst/>
                  <a:gdLst/>
                  <a:ahLst/>
                  <a:rect l="l" t="t" r="r" b="b"/>
                  <a:pathLst>
                    <a:path w="138" h="205">
                      <a:moveTo>
                        <a:pt x="27" y="0"/>
                      </a:moveTo>
                      <a:lnTo>
                        <a:pt x="27" y="15"/>
                      </a:lnTo>
                      <a:lnTo>
                        <a:pt x="55" y="15"/>
                      </a:lnTo>
                      <a:lnTo>
                        <a:pt x="69" y="15"/>
                      </a:lnTo>
                      <a:lnTo>
                        <a:pt x="69" y="32"/>
                      </a:lnTo>
                      <a:lnTo>
                        <a:pt x="55" y="47"/>
                      </a:lnTo>
                      <a:lnTo>
                        <a:pt x="41" y="64"/>
                      </a:lnTo>
                      <a:lnTo>
                        <a:pt x="55" y="64"/>
                      </a:lnTo>
                      <a:lnTo>
                        <a:pt x="69" y="64"/>
                      </a:lnTo>
                      <a:lnTo>
                        <a:pt x="83" y="79"/>
                      </a:lnTo>
                      <a:lnTo>
                        <a:pt x="83" y="94"/>
                      </a:lnTo>
                      <a:lnTo>
                        <a:pt x="96" y="111"/>
                      </a:lnTo>
                      <a:lnTo>
                        <a:pt x="110" y="126"/>
                      </a:lnTo>
                      <a:lnTo>
                        <a:pt x="124" y="126"/>
                      </a:lnTo>
                      <a:lnTo>
                        <a:pt x="138" y="143"/>
                      </a:lnTo>
                      <a:lnTo>
                        <a:pt x="138" y="158"/>
                      </a:lnTo>
                      <a:lnTo>
                        <a:pt x="124" y="173"/>
                      </a:lnTo>
                      <a:lnTo>
                        <a:pt x="110" y="173"/>
                      </a:lnTo>
                      <a:lnTo>
                        <a:pt x="110" y="190"/>
                      </a:lnTo>
                      <a:lnTo>
                        <a:pt x="110" y="205"/>
                      </a:lnTo>
                      <a:lnTo>
                        <a:pt x="96" y="190"/>
                      </a:lnTo>
                      <a:lnTo>
                        <a:pt x="83" y="173"/>
                      </a:lnTo>
                      <a:lnTo>
                        <a:pt x="69" y="173"/>
                      </a:lnTo>
                      <a:lnTo>
                        <a:pt x="55" y="173"/>
                      </a:lnTo>
                      <a:lnTo>
                        <a:pt x="41" y="173"/>
                      </a:lnTo>
                      <a:lnTo>
                        <a:pt x="27" y="173"/>
                      </a:lnTo>
                      <a:lnTo>
                        <a:pt x="27" y="158"/>
                      </a:lnTo>
                      <a:lnTo>
                        <a:pt x="13" y="158"/>
                      </a:lnTo>
                      <a:lnTo>
                        <a:pt x="27" y="143"/>
                      </a:lnTo>
                      <a:lnTo>
                        <a:pt x="41" y="143"/>
                      </a:lnTo>
                      <a:lnTo>
                        <a:pt x="69" y="126"/>
                      </a:lnTo>
                      <a:lnTo>
                        <a:pt x="55" y="94"/>
                      </a:lnTo>
                      <a:lnTo>
                        <a:pt x="41" y="94"/>
                      </a:lnTo>
                      <a:lnTo>
                        <a:pt x="27" y="94"/>
                      </a:lnTo>
                      <a:lnTo>
                        <a:pt x="13" y="94"/>
                      </a:lnTo>
                      <a:lnTo>
                        <a:pt x="13" y="79"/>
                      </a:lnTo>
                      <a:lnTo>
                        <a:pt x="27" y="64"/>
                      </a:lnTo>
                      <a:lnTo>
                        <a:pt x="27" y="47"/>
                      </a:lnTo>
                      <a:lnTo>
                        <a:pt x="13" y="64"/>
                      </a:lnTo>
                      <a:lnTo>
                        <a:pt x="13" y="79"/>
                      </a:lnTo>
                      <a:lnTo>
                        <a:pt x="0" y="79"/>
                      </a:lnTo>
                      <a:lnTo>
                        <a:pt x="0" y="64"/>
                      </a:lnTo>
                      <a:lnTo>
                        <a:pt x="13" y="64"/>
                      </a:lnTo>
                      <a:lnTo>
                        <a:pt x="13" y="47"/>
                      </a:lnTo>
                      <a:lnTo>
                        <a:pt x="27" y="32"/>
                      </a:lnTo>
                      <a:lnTo>
                        <a:pt x="2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6921360" y="2854440"/>
                  <a:ext cx="44640" cy="31680"/>
                </a:xfrm>
                <a:custGeom>
                  <a:avLst/>
                  <a:gdLst/>
                  <a:ahLst/>
                  <a:rect l="l" t="t" r="r" b="b"/>
                  <a:pathLst>
                    <a:path w="83" h="62">
                      <a:moveTo>
                        <a:pt x="83" y="0"/>
                      </a:moveTo>
                      <a:lnTo>
                        <a:pt x="69" y="15"/>
                      </a:lnTo>
                      <a:lnTo>
                        <a:pt x="55" y="47"/>
                      </a:lnTo>
                      <a:lnTo>
                        <a:pt x="41" y="62"/>
                      </a:lnTo>
                      <a:lnTo>
                        <a:pt x="27" y="62"/>
                      </a:lnTo>
                      <a:lnTo>
                        <a:pt x="0" y="62"/>
                      </a:lnTo>
                      <a:lnTo>
                        <a:pt x="0" y="47"/>
                      </a:lnTo>
                      <a:lnTo>
                        <a:pt x="14" y="47"/>
                      </a:lnTo>
                      <a:lnTo>
                        <a:pt x="27" y="47"/>
                      </a:lnTo>
                      <a:lnTo>
                        <a:pt x="27" y="32"/>
                      </a:lnTo>
                      <a:lnTo>
                        <a:pt x="14" y="15"/>
                      </a:lnTo>
                      <a:lnTo>
                        <a:pt x="14" y="0"/>
                      </a:lnTo>
                      <a:lnTo>
                        <a:pt x="41" y="0"/>
                      </a:lnTo>
                      <a:lnTo>
                        <a:pt x="55" y="0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6921360" y="2854440"/>
                  <a:ext cx="44640" cy="31680"/>
                </a:xfrm>
                <a:custGeom>
                  <a:avLst/>
                  <a:gdLst/>
                  <a:ahLst/>
                  <a:rect l="l" t="t" r="r" b="b"/>
                  <a:pathLst>
                    <a:path w="83" h="62">
                      <a:moveTo>
                        <a:pt x="83" y="0"/>
                      </a:moveTo>
                      <a:lnTo>
                        <a:pt x="69" y="15"/>
                      </a:lnTo>
                      <a:lnTo>
                        <a:pt x="55" y="47"/>
                      </a:lnTo>
                      <a:lnTo>
                        <a:pt x="41" y="62"/>
                      </a:lnTo>
                      <a:lnTo>
                        <a:pt x="27" y="62"/>
                      </a:lnTo>
                      <a:lnTo>
                        <a:pt x="0" y="62"/>
                      </a:lnTo>
                      <a:lnTo>
                        <a:pt x="0" y="47"/>
                      </a:lnTo>
                      <a:lnTo>
                        <a:pt x="14" y="47"/>
                      </a:lnTo>
                      <a:lnTo>
                        <a:pt x="27" y="47"/>
                      </a:lnTo>
                      <a:lnTo>
                        <a:pt x="27" y="32"/>
                      </a:lnTo>
                      <a:lnTo>
                        <a:pt x="14" y="15"/>
                      </a:lnTo>
                      <a:lnTo>
                        <a:pt x="14" y="0"/>
                      </a:lnTo>
                      <a:lnTo>
                        <a:pt x="41" y="0"/>
                      </a:lnTo>
                      <a:lnTo>
                        <a:pt x="55" y="0"/>
                      </a:lnTo>
                      <a:lnTo>
                        <a:pt x="8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8682120" y="2870280"/>
                  <a:ext cx="6120" cy="1440"/>
                </a:xfrm>
                <a:custGeom>
                  <a:avLst/>
                  <a:gdLst/>
                  <a:ahLst/>
                  <a:rect l="l" t="t" r="r" b="b"/>
                  <a:pathLst>
                    <a:path w="14" h="0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8682120" y="2870280"/>
                  <a:ext cx="6120" cy="1440"/>
                </a:xfrm>
                <a:custGeom>
                  <a:avLst/>
                  <a:gdLst/>
                  <a:ahLst/>
                  <a:rect l="l" t="t" r="r" b="b"/>
                  <a:pathLst>
                    <a:path w="14" h="0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7067520" y="2870280"/>
                  <a:ext cx="7920" cy="1440"/>
                </a:xfrm>
                <a:custGeom>
                  <a:avLst/>
                  <a:gdLst/>
                  <a:ahLst/>
                  <a:rect l="l" t="t" r="r" b="b"/>
                  <a:pathLst>
                    <a:path w="14" h="0">
                      <a:moveTo>
                        <a:pt x="14" y="0"/>
                      </a:moveTo>
                      <a:lnTo>
                        <a:pt x="0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7067520" y="2870280"/>
                  <a:ext cx="7920" cy="1440"/>
                </a:xfrm>
                <a:custGeom>
                  <a:avLst/>
                  <a:gdLst/>
                  <a:ahLst/>
                  <a:rect l="l" t="t" r="r" b="b"/>
                  <a:pathLst>
                    <a:path w="14" h="0">
                      <a:moveTo>
                        <a:pt x="14" y="0"/>
                      </a:moveTo>
                      <a:lnTo>
                        <a:pt x="0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8380440" y="2870280"/>
                  <a:ext cx="81000" cy="92160"/>
                </a:xfrm>
                <a:custGeom>
                  <a:avLst/>
                  <a:gdLst/>
                  <a:ahLst/>
                  <a:rect l="l" t="t" r="r" b="b"/>
                  <a:pathLst>
                    <a:path w="152" h="173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42" y="15"/>
                      </a:lnTo>
                      <a:lnTo>
                        <a:pt x="56" y="30"/>
                      </a:lnTo>
                      <a:lnTo>
                        <a:pt x="69" y="47"/>
                      </a:lnTo>
                      <a:lnTo>
                        <a:pt x="83" y="62"/>
                      </a:lnTo>
                      <a:lnTo>
                        <a:pt x="97" y="78"/>
                      </a:lnTo>
                      <a:lnTo>
                        <a:pt x="111" y="78"/>
                      </a:lnTo>
                      <a:lnTo>
                        <a:pt x="125" y="94"/>
                      </a:lnTo>
                      <a:lnTo>
                        <a:pt x="139" y="109"/>
                      </a:lnTo>
                      <a:lnTo>
                        <a:pt x="125" y="109"/>
                      </a:lnTo>
                      <a:lnTo>
                        <a:pt x="111" y="109"/>
                      </a:lnTo>
                      <a:lnTo>
                        <a:pt x="97" y="94"/>
                      </a:lnTo>
                      <a:lnTo>
                        <a:pt x="111" y="94"/>
                      </a:lnTo>
                      <a:lnTo>
                        <a:pt x="111" y="109"/>
                      </a:lnTo>
                      <a:lnTo>
                        <a:pt x="125" y="141"/>
                      </a:lnTo>
                      <a:lnTo>
                        <a:pt x="139" y="157"/>
                      </a:lnTo>
                      <a:lnTo>
                        <a:pt x="139" y="173"/>
                      </a:lnTo>
                      <a:lnTo>
                        <a:pt x="152" y="173"/>
                      </a:lnTo>
                      <a:lnTo>
                        <a:pt x="139" y="157"/>
                      </a:lnTo>
                      <a:lnTo>
                        <a:pt x="97" y="126"/>
                      </a:lnTo>
                      <a:lnTo>
                        <a:pt x="83" y="109"/>
                      </a:lnTo>
                      <a:lnTo>
                        <a:pt x="69" y="94"/>
                      </a:lnTo>
                      <a:lnTo>
                        <a:pt x="83" y="94"/>
                      </a:lnTo>
                      <a:lnTo>
                        <a:pt x="69" y="78"/>
                      </a:lnTo>
                      <a:lnTo>
                        <a:pt x="42" y="47"/>
                      </a:lnTo>
                      <a:lnTo>
                        <a:pt x="28" y="30"/>
                      </a:lnTo>
                      <a:lnTo>
                        <a:pt x="14" y="30"/>
                      </a:lnTo>
                      <a:lnTo>
                        <a:pt x="14" y="1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8380440" y="2870280"/>
                  <a:ext cx="81000" cy="92160"/>
                </a:xfrm>
                <a:custGeom>
                  <a:avLst/>
                  <a:gdLst/>
                  <a:ahLst/>
                  <a:rect l="l" t="t" r="r" b="b"/>
                  <a:pathLst>
                    <a:path w="152" h="173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42" y="15"/>
                      </a:lnTo>
                      <a:lnTo>
                        <a:pt x="56" y="30"/>
                      </a:lnTo>
                      <a:lnTo>
                        <a:pt x="69" y="47"/>
                      </a:lnTo>
                      <a:lnTo>
                        <a:pt x="83" y="62"/>
                      </a:lnTo>
                      <a:lnTo>
                        <a:pt x="97" y="78"/>
                      </a:lnTo>
                      <a:lnTo>
                        <a:pt x="111" y="78"/>
                      </a:lnTo>
                      <a:lnTo>
                        <a:pt x="125" y="94"/>
                      </a:lnTo>
                      <a:lnTo>
                        <a:pt x="139" y="109"/>
                      </a:lnTo>
                      <a:lnTo>
                        <a:pt x="125" y="109"/>
                      </a:lnTo>
                      <a:lnTo>
                        <a:pt x="111" y="109"/>
                      </a:lnTo>
                      <a:lnTo>
                        <a:pt x="97" y="94"/>
                      </a:lnTo>
                      <a:lnTo>
                        <a:pt x="111" y="94"/>
                      </a:lnTo>
                      <a:lnTo>
                        <a:pt x="111" y="109"/>
                      </a:lnTo>
                      <a:lnTo>
                        <a:pt x="125" y="141"/>
                      </a:lnTo>
                      <a:lnTo>
                        <a:pt x="139" y="157"/>
                      </a:lnTo>
                      <a:lnTo>
                        <a:pt x="139" y="173"/>
                      </a:lnTo>
                      <a:lnTo>
                        <a:pt x="152" y="173"/>
                      </a:lnTo>
                      <a:lnTo>
                        <a:pt x="139" y="157"/>
                      </a:lnTo>
                      <a:lnTo>
                        <a:pt x="97" y="126"/>
                      </a:lnTo>
                      <a:lnTo>
                        <a:pt x="83" y="109"/>
                      </a:lnTo>
                      <a:lnTo>
                        <a:pt x="69" y="94"/>
                      </a:lnTo>
                      <a:lnTo>
                        <a:pt x="83" y="94"/>
                      </a:lnTo>
                      <a:lnTo>
                        <a:pt x="69" y="78"/>
                      </a:lnTo>
                      <a:lnTo>
                        <a:pt x="42" y="47"/>
                      </a:lnTo>
                      <a:lnTo>
                        <a:pt x="28" y="30"/>
                      </a:lnTo>
                      <a:lnTo>
                        <a:pt x="14" y="30"/>
                      </a:lnTo>
                      <a:lnTo>
                        <a:pt x="14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5784840" y="2903400"/>
                  <a:ext cx="22320" cy="33480"/>
                </a:xfrm>
                <a:custGeom>
                  <a:avLst/>
                  <a:gdLst/>
                  <a:ahLst/>
                  <a:rect l="l" t="t" r="r" b="b"/>
                  <a:pathLst>
                    <a:path w="41" h="64">
                      <a:moveTo>
                        <a:pt x="0" y="0"/>
                      </a:moveTo>
                      <a:lnTo>
                        <a:pt x="14" y="16"/>
                      </a:lnTo>
                      <a:lnTo>
                        <a:pt x="27" y="32"/>
                      </a:lnTo>
                      <a:lnTo>
                        <a:pt x="41" y="64"/>
                      </a:lnTo>
                      <a:lnTo>
                        <a:pt x="27" y="64"/>
                      </a:lnTo>
                      <a:lnTo>
                        <a:pt x="27" y="47"/>
                      </a:lnTo>
                      <a:lnTo>
                        <a:pt x="14" y="47"/>
                      </a:lnTo>
                      <a:lnTo>
                        <a:pt x="14" y="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5784840" y="2903400"/>
                  <a:ext cx="22320" cy="33480"/>
                </a:xfrm>
                <a:custGeom>
                  <a:avLst/>
                  <a:gdLst/>
                  <a:ahLst/>
                  <a:rect l="l" t="t" r="r" b="b"/>
                  <a:pathLst>
                    <a:path w="41" h="64">
                      <a:moveTo>
                        <a:pt x="0" y="0"/>
                      </a:moveTo>
                      <a:lnTo>
                        <a:pt x="14" y="16"/>
                      </a:lnTo>
                      <a:lnTo>
                        <a:pt x="27" y="32"/>
                      </a:lnTo>
                      <a:lnTo>
                        <a:pt x="41" y="64"/>
                      </a:lnTo>
                      <a:lnTo>
                        <a:pt x="27" y="64"/>
                      </a:lnTo>
                      <a:lnTo>
                        <a:pt x="27" y="47"/>
                      </a:lnTo>
                      <a:lnTo>
                        <a:pt x="14" y="47"/>
                      </a:lnTo>
                      <a:lnTo>
                        <a:pt x="14" y="3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6453360" y="2886120"/>
                  <a:ext cx="42840" cy="68040"/>
                </a:xfrm>
                <a:custGeom>
                  <a:avLst/>
                  <a:gdLst/>
                  <a:ahLst/>
                  <a:rect l="l" t="t" r="r" b="b"/>
                  <a:pathLst>
                    <a:path w="83" h="127">
                      <a:moveTo>
                        <a:pt x="69" y="0"/>
                      </a:moveTo>
                      <a:lnTo>
                        <a:pt x="42" y="32"/>
                      </a:lnTo>
                      <a:lnTo>
                        <a:pt x="28" y="48"/>
                      </a:lnTo>
                      <a:lnTo>
                        <a:pt x="55" y="64"/>
                      </a:lnTo>
                      <a:lnTo>
                        <a:pt x="69" y="64"/>
                      </a:lnTo>
                      <a:lnTo>
                        <a:pt x="83" y="64"/>
                      </a:lnTo>
                      <a:lnTo>
                        <a:pt x="83" y="79"/>
                      </a:lnTo>
                      <a:lnTo>
                        <a:pt x="83" y="96"/>
                      </a:lnTo>
                      <a:lnTo>
                        <a:pt x="69" y="111"/>
                      </a:lnTo>
                      <a:lnTo>
                        <a:pt x="69" y="96"/>
                      </a:lnTo>
                      <a:lnTo>
                        <a:pt x="55" y="111"/>
                      </a:lnTo>
                      <a:lnTo>
                        <a:pt x="42" y="127"/>
                      </a:lnTo>
                      <a:lnTo>
                        <a:pt x="14" y="127"/>
                      </a:lnTo>
                      <a:lnTo>
                        <a:pt x="0" y="111"/>
                      </a:lnTo>
                      <a:lnTo>
                        <a:pt x="0" y="79"/>
                      </a:lnTo>
                      <a:lnTo>
                        <a:pt x="0" y="64"/>
                      </a:lnTo>
                      <a:lnTo>
                        <a:pt x="14" y="48"/>
                      </a:lnTo>
                      <a:lnTo>
                        <a:pt x="28" y="32"/>
                      </a:lnTo>
                      <a:lnTo>
                        <a:pt x="55" y="17"/>
                      </a:lnTo>
                      <a:lnTo>
                        <a:pt x="69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6453360" y="2886120"/>
                  <a:ext cx="42840" cy="68040"/>
                </a:xfrm>
                <a:custGeom>
                  <a:avLst/>
                  <a:gdLst/>
                  <a:ahLst/>
                  <a:rect l="l" t="t" r="r" b="b"/>
                  <a:pathLst>
                    <a:path w="83" h="127">
                      <a:moveTo>
                        <a:pt x="69" y="0"/>
                      </a:moveTo>
                      <a:lnTo>
                        <a:pt x="42" y="32"/>
                      </a:lnTo>
                      <a:lnTo>
                        <a:pt x="28" y="48"/>
                      </a:lnTo>
                      <a:lnTo>
                        <a:pt x="55" y="64"/>
                      </a:lnTo>
                      <a:lnTo>
                        <a:pt x="69" y="64"/>
                      </a:lnTo>
                      <a:lnTo>
                        <a:pt x="83" y="64"/>
                      </a:lnTo>
                      <a:lnTo>
                        <a:pt x="83" y="79"/>
                      </a:lnTo>
                      <a:lnTo>
                        <a:pt x="83" y="96"/>
                      </a:lnTo>
                      <a:lnTo>
                        <a:pt x="69" y="111"/>
                      </a:lnTo>
                      <a:lnTo>
                        <a:pt x="69" y="96"/>
                      </a:lnTo>
                      <a:lnTo>
                        <a:pt x="55" y="111"/>
                      </a:lnTo>
                      <a:lnTo>
                        <a:pt x="42" y="127"/>
                      </a:lnTo>
                      <a:lnTo>
                        <a:pt x="14" y="127"/>
                      </a:lnTo>
                      <a:lnTo>
                        <a:pt x="0" y="111"/>
                      </a:lnTo>
                      <a:lnTo>
                        <a:pt x="0" y="79"/>
                      </a:lnTo>
                      <a:lnTo>
                        <a:pt x="0" y="64"/>
                      </a:lnTo>
                      <a:lnTo>
                        <a:pt x="14" y="48"/>
                      </a:lnTo>
                      <a:lnTo>
                        <a:pt x="28" y="32"/>
                      </a:lnTo>
                      <a:lnTo>
                        <a:pt x="55" y="17"/>
                      </a:lnTo>
                      <a:lnTo>
                        <a:pt x="69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8453520" y="2970360"/>
                  <a:ext cx="66600" cy="58680"/>
                </a:xfrm>
                <a:custGeom>
                  <a:avLst/>
                  <a:gdLst/>
                  <a:ahLst/>
                  <a:rect l="l" t="t" r="r" b="b"/>
                  <a:pathLst>
                    <a:path w="125" h="111">
                      <a:moveTo>
                        <a:pt x="0" y="0"/>
                      </a:moveTo>
                      <a:lnTo>
                        <a:pt x="13" y="16"/>
                      </a:lnTo>
                      <a:lnTo>
                        <a:pt x="41" y="32"/>
                      </a:lnTo>
                      <a:lnTo>
                        <a:pt x="55" y="48"/>
                      </a:lnTo>
                      <a:lnTo>
                        <a:pt x="69" y="48"/>
                      </a:lnTo>
                      <a:lnTo>
                        <a:pt x="98" y="48"/>
                      </a:lnTo>
                      <a:lnTo>
                        <a:pt x="125" y="63"/>
                      </a:lnTo>
                      <a:lnTo>
                        <a:pt x="125" y="79"/>
                      </a:lnTo>
                      <a:lnTo>
                        <a:pt x="98" y="95"/>
                      </a:lnTo>
                      <a:lnTo>
                        <a:pt x="83" y="111"/>
                      </a:lnTo>
                      <a:lnTo>
                        <a:pt x="55" y="95"/>
                      </a:lnTo>
                      <a:lnTo>
                        <a:pt x="27" y="79"/>
                      </a:lnTo>
                      <a:lnTo>
                        <a:pt x="13" y="79"/>
                      </a:lnTo>
                      <a:lnTo>
                        <a:pt x="13" y="95"/>
                      </a:lnTo>
                      <a:lnTo>
                        <a:pt x="27" y="111"/>
                      </a:lnTo>
                      <a:lnTo>
                        <a:pt x="13" y="95"/>
                      </a:lnTo>
                      <a:lnTo>
                        <a:pt x="13" y="63"/>
                      </a:lnTo>
                      <a:lnTo>
                        <a:pt x="13" y="32"/>
                      </a:lnTo>
                      <a:lnTo>
                        <a:pt x="0" y="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8453520" y="2970360"/>
                  <a:ext cx="66600" cy="58680"/>
                </a:xfrm>
                <a:custGeom>
                  <a:avLst/>
                  <a:gdLst/>
                  <a:ahLst/>
                  <a:rect l="l" t="t" r="r" b="b"/>
                  <a:pathLst>
                    <a:path w="125" h="111">
                      <a:moveTo>
                        <a:pt x="0" y="0"/>
                      </a:moveTo>
                      <a:lnTo>
                        <a:pt x="13" y="16"/>
                      </a:lnTo>
                      <a:lnTo>
                        <a:pt x="41" y="32"/>
                      </a:lnTo>
                      <a:lnTo>
                        <a:pt x="55" y="48"/>
                      </a:lnTo>
                      <a:lnTo>
                        <a:pt x="69" y="48"/>
                      </a:lnTo>
                      <a:lnTo>
                        <a:pt x="98" y="48"/>
                      </a:lnTo>
                      <a:lnTo>
                        <a:pt x="125" y="63"/>
                      </a:lnTo>
                      <a:lnTo>
                        <a:pt x="125" y="79"/>
                      </a:lnTo>
                      <a:lnTo>
                        <a:pt x="98" y="95"/>
                      </a:lnTo>
                      <a:lnTo>
                        <a:pt x="83" y="111"/>
                      </a:lnTo>
                      <a:lnTo>
                        <a:pt x="55" y="95"/>
                      </a:lnTo>
                      <a:lnTo>
                        <a:pt x="27" y="79"/>
                      </a:lnTo>
                      <a:lnTo>
                        <a:pt x="13" y="79"/>
                      </a:lnTo>
                      <a:lnTo>
                        <a:pt x="13" y="95"/>
                      </a:lnTo>
                      <a:lnTo>
                        <a:pt x="27" y="111"/>
                      </a:lnTo>
                      <a:lnTo>
                        <a:pt x="13" y="95"/>
                      </a:lnTo>
                      <a:lnTo>
                        <a:pt x="13" y="63"/>
                      </a:lnTo>
                      <a:lnTo>
                        <a:pt x="13" y="32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7112160" y="3036960"/>
                  <a:ext cx="14040" cy="33120"/>
                </a:xfrm>
                <a:custGeom>
                  <a:avLst/>
                  <a:gdLst/>
                  <a:ahLst/>
                  <a:rect l="l" t="t" r="r" b="b"/>
                  <a:pathLst>
                    <a:path w="28" h="62">
                      <a:moveTo>
                        <a:pt x="28" y="0"/>
                      </a:moveTo>
                      <a:lnTo>
                        <a:pt x="28" y="15"/>
                      </a:lnTo>
                      <a:lnTo>
                        <a:pt x="28" y="47"/>
                      </a:lnTo>
                      <a:lnTo>
                        <a:pt x="14" y="62"/>
                      </a:lnTo>
                      <a:lnTo>
                        <a:pt x="14" y="47"/>
                      </a:lnTo>
                      <a:lnTo>
                        <a:pt x="0" y="31"/>
                      </a:lnTo>
                      <a:lnTo>
                        <a:pt x="0" y="15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7112160" y="3036960"/>
                  <a:ext cx="14040" cy="33120"/>
                </a:xfrm>
                <a:custGeom>
                  <a:avLst/>
                  <a:gdLst/>
                  <a:ahLst/>
                  <a:rect l="l" t="t" r="r" b="b"/>
                  <a:pathLst>
                    <a:path w="28" h="62">
                      <a:moveTo>
                        <a:pt x="28" y="0"/>
                      </a:moveTo>
                      <a:lnTo>
                        <a:pt x="28" y="15"/>
                      </a:lnTo>
                      <a:lnTo>
                        <a:pt x="28" y="47"/>
                      </a:lnTo>
                      <a:lnTo>
                        <a:pt x="14" y="62"/>
                      </a:lnTo>
                      <a:lnTo>
                        <a:pt x="14" y="47"/>
                      </a:lnTo>
                      <a:lnTo>
                        <a:pt x="0" y="31"/>
                      </a:lnTo>
                      <a:lnTo>
                        <a:pt x="0" y="15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2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8416800" y="3029040"/>
                  <a:ext cx="103320" cy="125280"/>
                </a:xfrm>
                <a:custGeom>
                  <a:avLst/>
                  <a:gdLst/>
                  <a:ahLst/>
                  <a:rect l="l" t="t" r="r" b="b"/>
                  <a:pathLst>
                    <a:path w="195" h="236">
                      <a:moveTo>
                        <a:pt x="111" y="0"/>
                      </a:moveTo>
                      <a:lnTo>
                        <a:pt x="125" y="16"/>
                      </a:lnTo>
                      <a:lnTo>
                        <a:pt x="153" y="31"/>
                      </a:lnTo>
                      <a:lnTo>
                        <a:pt x="168" y="63"/>
                      </a:lnTo>
                      <a:lnTo>
                        <a:pt x="168" y="78"/>
                      </a:lnTo>
                      <a:lnTo>
                        <a:pt x="168" y="95"/>
                      </a:lnTo>
                      <a:lnTo>
                        <a:pt x="168" y="110"/>
                      </a:lnTo>
                      <a:lnTo>
                        <a:pt x="168" y="125"/>
                      </a:lnTo>
                      <a:lnTo>
                        <a:pt x="195" y="157"/>
                      </a:lnTo>
                      <a:lnTo>
                        <a:pt x="195" y="174"/>
                      </a:lnTo>
                      <a:lnTo>
                        <a:pt x="195" y="189"/>
                      </a:lnTo>
                      <a:lnTo>
                        <a:pt x="195" y="204"/>
                      </a:lnTo>
                      <a:lnTo>
                        <a:pt x="168" y="204"/>
                      </a:lnTo>
                      <a:lnTo>
                        <a:pt x="153" y="204"/>
                      </a:lnTo>
                      <a:lnTo>
                        <a:pt x="139" y="221"/>
                      </a:lnTo>
                      <a:lnTo>
                        <a:pt x="125" y="236"/>
                      </a:lnTo>
                      <a:lnTo>
                        <a:pt x="111" y="236"/>
                      </a:lnTo>
                      <a:lnTo>
                        <a:pt x="97" y="236"/>
                      </a:lnTo>
                      <a:lnTo>
                        <a:pt x="97" y="221"/>
                      </a:lnTo>
                      <a:lnTo>
                        <a:pt x="83" y="204"/>
                      </a:lnTo>
                      <a:lnTo>
                        <a:pt x="56" y="204"/>
                      </a:lnTo>
                      <a:lnTo>
                        <a:pt x="28" y="221"/>
                      </a:lnTo>
                      <a:lnTo>
                        <a:pt x="0" y="221"/>
                      </a:lnTo>
                      <a:lnTo>
                        <a:pt x="0" y="204"/>
                      </a:lnTo>
                      <a:lnTo>
                        <a:pt x="14" y="189"/>
                      </a:lnTo>
                      <a:lnTo>
                        <a:pt x="28" y="174"/>
                      </a:lnTo>
                      <a:lnTo>
                        <a:pt x="42" y="174"/>
                      </a:lnTo>
                      <a:lnTo>
                        <a:pt x="70" y="189"/>
                      </a:lnTo>
                      <a:lnTo>
                        <a:pt x="83" y="189"/>
                      </a:lnTo>
                      <a:lnTo>
                        <a:pt x="83" y="174"/>
                      </a:lnTo>
                      <a:lnTo>
                        <a:pt x="83" y="125"/>
                      </a:lnTo>
                      <a:lnTo>
                        <a:pt x="83" y="110"/>
                      </a:lnTo>
                      <a:lnTo>
                        <a:pt x="97" y="110"/>
                      </a:lnTo>
                      <a:lnTo>
                        <a:pt x="111" y="110"/>
                      </a:lnTo>
                      <a:lnTo>
                        <a:pt x="125" y="110"/>
                      </a:lnTo>
                      <a:lnTo>
                        <a:pt x="125" y="95"/>
                      </a:lnTo>
                      <a:lnTo>
                        <a:pt x="125" y="47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8416800" y="3029040"/>
                  <a:ext cx="103320" cy="125280"/>
                </a:xfrm>
                <a:custGeom>
                  <a:avLst/>
                  <a:gdLst/>
                  <a:ahLst/>
                  <a:rect l="l" t="t" r="r" b="b"/>
                  <a:pathLst>
                    <a:path w="195" h="236">
                      <a:moveTo>
                        <a:pt x="111" y="0"/>
                      </a:moveTo>
                      <a:lnTo>
                        <a:pt x="125" y="16"/>
                      </a:lnTo>
                      <a:lnTo>
                        <a:pt x="153" y="31"/>
                      </a:lnTo>
                      <a:lnTo>
                        <a:pt x="168" y="63"/>
                      </a:lnTo>
                      <a:lnTo>
                        <a:pt x="168" y="78"/>
                      </a:lnTo>
                      <a:lnTo>
                        <a:pt x="168" y="95"/>
                      </a:lnTo>
                      <a:lnTo>
                        <a:pt x="168" y="110"/>
                      </a:lnTo>
                      <a:lnTo>
                        <a:pt x="168" y="125"/>
                      </a:lnTo>
                      <a:lnTo>
                        <a:pt x="195" y="157"/>
                      </a:lnTo>
                      <a:lnTo>
                        <a:pt x="195" y="174"/>
                      </a:lnTo>
                      <a:lnTo>
                        <a:pt x="195" y="189"/>
                      </a:lnTo>
                      <a:lnTo>
                        <a:pt x="195" y="204"/>
                      </a:lnTo>
                      <a:lnTo>
                        <a:pt x="168" y="204"/>
                      </a:lnTo>
                      <a:lnTo>
                        <a:pt x="153" y="204"/>
                      </a:lnTo>
                      <a:lnTo>
                        <a:pt x="139" y="221"/>
                      </a:lnTo>
                      <a:lnTo>
                        <a:pt x="125" y="236"/>
                      </a:lnTo>
                      <a:lnTo>
                        <a:pt x="111" y="236"/>
                      </a:lnTo>
                      <a:lnTo>
                        <a:pt x="97" y="236"/>
                      </a:lnTo>
                      <a:lnTo>
                        <a:pt x="97" y="221"/>
                      </a:lnTo>
                      <a:lnTo>
                        <a:pt x="83" y="204"/>
                      </a:lnTo>
                      <a:lnTo>
                        <a:pt x="56" y="204"/>
                      </a:lnTo>
                      <a:lnTo>
                        <a:pt x="28" y="221"/>
                      </a:lnTo>
                      <a:lnTo>
                        <a:pt x="0" y="221"/>
                      </a:lnTo>
                      <a:lnTo>
                        <a:pt x="0" y="204"/>
                      </a:lnTo>
                      <a:lnTo>
                        <a:pt x="14" y="189"/>
                      </a:lnTo>
                      <a:lnTo>
                        <a:pt x="28" y="174"/>
                      </a:lnTo>
                      <a:lnTo>
                        <a:pt x="42" y="174"/>
                      </a:lnTo>
                      <a:lnTo>
                        <a:pt x="70" y="189"/>
                      </a:lnTo>
                      <a:lnTo>
                        <a:pt x="83" y="189"/>
                      </a:lnTo>
                      <a:lnTo>
                        <a:pt x="83" y="174"/>
                      </a:lnTo>
                      <a:lnTo>
                        <a:pt x="83" y="125"/>
                      </a:lnTo>
                      <a:lnTo>
                        <a:pt x="83" y="110"/>
                      </a:lnTo>
                      <a:lnTo>
                        <a:pt x="97" y="110"/>
                      </a:lnTo>
                      <a:lnTo>
                        <a:pt x="111" y="110"/>
                      </a:lnTo>
                      <a:lnTo>
                        <a:pt x="125" y="110"/>
                      </a:lnTo>
                      <a:lnTo>
                        <a:pt x="125" y="95"/>
                      </a:lnTo>
                      <a:lnTo>
                        <a:pt x="125" y="47"/>
                      </a:lnTo>
                      <a:lnTo>
                        <a:pt x="11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7156440" y="3079800"/>
                  <a:ext cx="36360" cy="15840"/>
                </a:xfrm>
                <a:custGeom>
                  <a:avLst/>
                  <a:gdLst/>
                  <a:ahLst/>
                  <a:rect l="l" t="t" r="r" b="b"/>
                  <a:pathLst>
                    <a:path w="69" h="30">
                      <a:moveTo>
                        <a:pt x="69" y="0"/>
                      </a:moveTo>
                      <a:lnTo>
                        <a:pt x="69" y="15"/>
                      </a:lnTo>
                      <a:lnTo>
                        <a:pt x="56" y="30"/>
                      </a:lnTo>
                      <a:lnTo>
                        <a:pt x="28" y="30"/>
                      </a:lnTo>
                      <a:lnTo>
                        <a:pt x="14" y="15"/>
                      </a:lnTo>
                      <a:lnTo>
                        <a:pt x="0" y="15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28" y="0"/>
                      </a:lnTo>
                      <a:lnTo>
                        <a:pt x="56" y="0"/>
                      </a:lnTo>
                      <a:lnTo>
                        <a:pt x="69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7156440" y="3079800"/>
                  <a:ext cx="36360" cy="15840"/>
                </a:xfrm>
                <a:custGeom>
                  <a:avLst/>
                  <a:gdLst/>
                  <a:ahLst/>
                  <a:rect l="l" t="t" r="r" b="b"/>
                  <a:pathLst>
                    <a:path w="69" h="30">
                      <a:moveTo>
                        <a:pt x="69" y="0"/>
                      </a:moveTo>
                      <a:lnTo>
                        <a:pt x="69" y="15"/>
                      </a:lnTo>
                      <a:lnTo>
                        <a:pt x="56" y="30"/>
                      </a:lnTo>
                      <a:lnTo>
                        <a:pt x="28" y="30"/>
                      </a:lnTo>
                      <a:lnTo>
                        <a:pt x="14" y="15"/>
                      </a:lnTo>
                      <a:lnTo>
                        <a:pt x="0" y="15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28" y="0"/>
                      </a:lnTo>
                      <a:lnTo>
                        <a:pt x="56" y="0"/>
                      </a:lnTo>
                      <a:lnTo>
                        <a:pt x="69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6224760" y="3121200"/>
                  <a:ext cx="1440" cy="7920"/>
                </a:xfrm>
                <a:custGeom>
                  <a:avLst/>
                  <a:gdLst/>
                  <a:ahLst/>
                  <a:rect l="l" t="t" r="r" b="b"/>
                  <a:pathLst>
                    <a:path w="0" h="15">
                      <a:moveTo>
                        <a:pt x="0" y="15"/>
                      </a:moveTo>
                      <a:lnTo>
                        <a:pt x="0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6224760" y="3121200"/>
                  <a:ext cx="1440" cy="7920"/>
                </a:xfrm>
                <a:custGeom>
                  <a:avLst/>
                  <a:gdLst/>
                  <a:ahLst/>
                  <a:rect l="l" t="t" r="r" b="b"/>
                  <a:pathLst>
                    <a:path w="0" h="15">
                      <a:moveTo>
                        <a:pt x="0" y="15"/>
                      </a:moveTo>
                      <a:lnTo>
                        <a:pt x="0" y="0"/>
                      </a:lnTo>
                      <a:lnTo>
                        <a:pt x="0" y="1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7369200" y="3121200"/>
                  <a:ext cx="28440" cy="7920"/>
                </a:xfrm>
                <a:custGeom>
                  <a:avLst/>
                  <a:gdLst/>
                  <a:ahLst/>
                  <a:rect l="l" t="t" r="r" b="b"/>
                  <a:pathLst>
                    <a:path w="55" h="15">
                      <a:moveTo>
                        <a:pt x="55" y="0"/>
                      </a:moveTo>
                      <a:lnTo>
                        <a:pt x="27" y="15"/>
                      </a:lnTo>
                      <a:lnTo>
                        <a:pt x="14" y="15"/>
                      </a:lnTo>
                      <a:lnTo>
                        <a:pt x="0" y="15"/>
                      </a:lnTo>
                      <a:lnTo>
                        <a:pt x="14" y="15"/>
                      </a:lnTo>
                      <a:lnTo>
                        <a:pt x="27" y="15"/>
                      </a:lnTo>
                      <a:lnTo>
                        <a:pt x="55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7369200" y="3121200"/>
                  <a:ext cx="28440" cy="7920"/>
                </a:xfrm>
                <a:custGeom>
                  <a:avLst/>
                  <a:gdLst/>
                  <a:ahLst/>
                  <a:rect l="l" t="t" r="r" b="b"/>
                  <a:pathLst>
                    <a:path w="55" h="15">
                      <a:moveTo>
                        <a:pt x="55" y="0"/>
                      </a:moveTo>
                      <a:lnTo>
                        <a:pt x="27" y="15"/>
                      </a:lnTo>
                      <a:lnTo>
                        <a:pt x="14" y="15"/>
                      </a:lnTo>
                      <a:lnTo>
                        <a:pt x="0" y="15"/>
                      </a:lnTo>
                      <a:lnTo>
                        <a:pt x="14" y="15"/>
                      </a:lnTo>
                      <a:lnTo>
                        <a:pt x="27" y="15"/>
                      </a:lnTo>
                      <a:lnTo>
                        <a:pt x="5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8410680" y="314640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5" y="47"/>
                      </a:moveTo>
                      <a:lnTo>
                        <a:pt x="41" y="62"/>
                      </a:lnTo>
                      <a:lnTo>
                        <a:pt x="13" y="62"/>
                      </a:lnTo>
                      <a:lnTo>
                        <a:pt x="0" y="15"/>
                      </a:lnTo>
                      <a:lnTo>
                        <a:pt x="13" y="0"/>
                      </a:lnTo>
                      <a:lnTo>
                        <a:pt x="27" y="0"/>
                      </a:lnTo>
                      <a:lnTo>
                        <a:pt x="41" y="15"/>
                      </a:lnTo>
                      <a:lnTo>
                        <a:pt x="41" y="32"/>
                      </a:lnTo>
                      <a:lnTo>
                        <a:pt x="55" y="47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8410680" y="314640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5" y="47"/>
                      </a:moveTo>
                      <a:lnTo>
                        <a:pt x="41" y="62"/>
                      </a:lnTo>
                      <a:lnTo>
                        <a:pt x="13" y="62"/>
                      </a:lnTo>
                      <a:lnTo>
                        <a:pt x="0" y="15"/>
                      </a:lnTo>
                      <a:lnTo>
                        <a:pt x="13" y="0"/>
                      </a:lnTo>
                      <a:lnTo>
                        <a:pt x="27" y="0"/>
                      </a:lnTo>
                      <a:lnTo>
                        <a:pt x="41" y="15"/>
                      </a:lnTo>
                      <a:lnTo>
                        <a:pt x="41" y="32"/>
                      </a:lnTo>
                      <a:lnTo>
                        <a:pt x="55" y="4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5799240" y="3213000"/>
                  <a:ext cx="1440" cy="7920"/>
                </a:xfrm>
                <a:custGeom>
                  <a:avLst/>
                  <a:gdLst/>
                  <a:ahLst/>
                  <a:rect l="l" t="t" r="r" b="b"/>
                  <a:pathLst>
                    <a:path w="0" h="15">
                      <a:moveTo>
                        <a:pt x="0" y="0"/>
                      </a:moveTo>
                      <a:lnTo>
                        <a:pt x="0" y="1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5799240" y="3213000"/>
                  <a:ext cx="1440" cy="7920"/>
                </a:xfrm>
                <a:custGeom>
                  <a:avLst/>
                  <a:gdLst/>
                  <a:ahLst/>
                  <a:rect l="l" t="t" r="r" b="b"/>
                  <a:pathLst>
                    <a:path w="0" h="15">
                      <a:moveTo>
                        <a:pt x="0" y="0"/>
                      </a:moveTo>
                      <a:lnTo>
                        <a:pt x="0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5799240" y="3271680"/>
                  <a:ext cx="1440" cy="7920"/>
                </a:xfrm>
                <a:custGeom>
                  <a:avLst/>
                  <a:gdLst/>
                  <a:ahLst/>
                  <a:rect l="l" t="t" r="r" b="b"/>
                  <a:pathLst>
                    <a:path w="0" h="15">
                      <a:moveTo>
                        <a:pt x="0" y="0"/>
                      </a:moveTo>
                      <a:lnTo>
                        <a:pt x="0" y="1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5799240" y="3271680"/>
                  <a:ext cx="1440" cy="7920"/>
                </a:xfrm>
                <a:custGeom>
                  <a:avLst/>
                  <a:gdLst/>
                  <a:ahLst/>
                  <a:rect l="l" t="t" r="r" b="b"/>
                  <a:pathLst>
                    <a:path w="0" h="15">
                      <a:moveTo>
                        <a:pt x="0" y="0"/>
                      </a:moveTo>
                      <a:lnTo>
                        <a:pt x="0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8344080" y="3279600"/>
                  <a:ext cx="21960" cy="41400"/>
                </a:xfrm>
                <a:custGeom>
                  <a:avLst/>
                  <a:gdLst/>
                  <a:ahLst/>
                  <a:rect l="l" t="t" r="r" b="b"/>
                  <a:pathLst>
                    <a:path w="42" h="79">
                      <a:moveTo>
                        <a:pt x="14" y="0"/>
                      </a:moveTo>
                      <a:lnTo>
                        <a:pt x="28" y="16"/>
                      </a:lnTo>
                      <a:lnTo>
                        <a:pt x="42" y="47"/>
                      </a:lnTo>
                      <a:lnTo>
                        <a:pt x="42" y="63"/>
                      </a:lnTo>
                      <a:lnTo>
                        <a:pt x="28" y="79"/>
                      </a:lnTo>
                      <a:lnTo>
                        <a:pt x="14" y="79"/>
                      </a:lnTo>
                      <a:lnTo>
                        <a:pt x="14" y="63"/>
                      </a:lnTo>
                      <a:lnTo>
                        <a:pt x="0" y="32"/>
                      </a:lnTo>
                      <a:lnTo>
                        <a:pt x="0" y="16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8344080" y="3279600"/>
                  <a:ext cx="21960" cy="41400"/>
                </a:xfrm>
                <a:custGeom>
                  <a:avLst/>
                  <a:gdLst/>
                  <a:ahLst/>
                  <a:rect l="l" t="t" r="r" b="b"/>
                  <a:pathLst>
                    <a:path w="42" h="79">
                      <a:moveTo>
                        <a:pt x="14" y="0"/>
                      </a:moveTo>
                      <a:lnTo>
                        <a:pt x="28" y="16"/>
                      </a:lnTo>
                      <a:lnTo>
                        <a:pt x="42" y="47"/>
                      </a:lnTo>
                      <a:lnTo>
                        <a:pt x="42" y="63"/>
                      </a:lnTo>
                      <a:lnTo>
                        <a:pt x="28" y="79"/>
                      </a:lnTo>
                      <a:lnTo>
                        <a:pt x="14" y="79"/>
                      </a:lnTo>
                      <a:lnTo>
                        <a:pt x="14" y="63"/>
                      </a:lnTo>
                      <a:lnTo>
                        <a:pt x="0" y="32"/>
                      </a:lnTo>
                      <a:lnTo>
                        <a:pt x="0" y="16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6093000" y="3303720"/>
                  <a:ext cx="109440" cy="50760"/>
                </a:xfrm>
                <a:custGeom>
                  <a:avLst/>
                  <a:gdLst/>
                  <a:ahLst/>
                  <a:rect l="l" t="t" r="r" b="b"/>
                  <a:pathLst>
                    <a:path w="207" h="95">
                      <a:moveTo>
                        <a:pt x="0" y="32"/>
                      </a:moveTo>
                      <a:lnTo>
                        <a:pt x="28" y="0"/>
                      </a:lnTo>
                      <a:lnTo>
                        <a:pt x="55" y="0"/>
                      </a:lnTo>
                      <a:lnTo>
                        <a:pt x="111" y="16"/>
                      </a:lnTo>
                      <a:lnTo>
                        <a:pt x="124" y="32"/>
                      </a:lnTo>
                      <a:lnTo>
                        <a:pt x="138" y="32"/>
                      </a:lnTo>
                      <a:lnTo>
                        <a:pt x="152" y="32"/>
                      </a:lnTo>
                      <a:lnTo>
                        <a:pt x="152" y="48"/>
                      </a:lnTo>
                      <a:lnTo>
                        <a:pt x="180" y="48"/>
                      </a:lnTo>
                      <a:lnTo>
                        <a:pt x="194" y="63"/>
                      </a:lnTo>
                      <a:lnTo>
                        <a:pt x="207" y="79"/>
                      </a:lnTo>
                      <a:lnTo>
                        <a:pt x="194" y="95"/>
                      </a:lnTo>
                      <a:lnTo>
                        <a:pt x="180" y="79"/>
                      </a:lnTo>
                      <a:lnTo>
                        <a:pt x="166" y="79"/>
                      </a:lnTo>
                      <a:lnTo>
                        <a:pt x="152" y="79"/>
                      </a:lnTo>
                      <a:lnTo>
                        <a:pt x="124" y="63"/>
                      </a:lnTo>
                      <a:lnTo>
                        <a:pt x="138" y="63"/>
                      </a:lnTo>
                      <a:lnTo>
                        <a:pt x="138" y="48"/>
                      </a:lnTo>
                      <a:lnTo>
                        <a:pt x="124" y="48"/>
                      </a:lnTo>
                      <a:lnTo>
                        <a:pt x="111" y="32"/>
                      </a:lnTo>
                      <a:lnTo>
                        <a:pt x="111" y="48"/>
                      </a:lnTo>
                      <a:lnTo>
                        <a:pt x="97" y="32"/>
                      </a:lnTo>
                      <a:lnTo>
                        <a:pt x="83" y="32"/>
                      </a:lnTo>
                      <a:lnTo>
                        <a:pt x="55" y="16"/>
                      </a:lnTo>
                      <a:lnTo>
                        <a:pt x="41" y="16"/>
                      </a:lnTo>
                      <a:lnTo>
                        <a:pt x="28" y="16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6093000" y="3303720"/>
                  <a:ext cx="109440" cy="50760"/>
                </a:xfrm>
                <a:custGeom>
                  <a:avLst/>
                  <a:gdLst/>
                  <a:ahLst/>
                  <a:rect l="l" t="t" r="r" b="b"/>
                  <a:pathLst>
                    <a:path w="207" h="95">
                      <a:moveTo>
                        <a:pt x="0" y="32"/>
                      </a:moveTo>
                      <a:lnTo>
                        <a:pt x="28" y="0"/>
                      </a:lnTo>
                      <a:lnTo>
                        <a:pt x="55" y="0"/>
                      </a:lnTo>
                      <a:lnTo>
                        <a:pt x="111" y="16"/>
                      </a:lnTo>
                      <a:lnTo>
                        <a:pt x="124" y="32"/>
                      </a:lnTo>
                      <a:lnTo>
                        <a:pt x="138" y="32"/>
                      </a:lnTo>
                      <a:lnTo>
                        <a:pt x="152" y="32"/>
                      </a:lnTo>
                      <a:lnTo>
                        <a:pt x="152" y="48"/>
                      </a:lnTo>
                      <a:lnTo>
                        <a:pt x="180" y="48"/>
                      </a:lnTo>
                      <a:lnTo>
                        <a:pt x="194" y="63"/>
                      </a:lnTo>
                      <a:lnTo>
                        <a:pt x="207" y="79"/>
                      </a:lnTo>
                      <a:lnTo>
                        <a:pt x="194" y="95"/>
                      </a:lnTo>
                      <a:lnTo>
                        <a:pt x="180" y="79"/>
                      </a:lnTo>
                      <a:lnTo>
                        <a:pt x="166" y="79"/>
                      </a:lnTo>
                      <a:lnTo>
                        <a:pt x="152" y="79"/>
                      </a:lnTo>
                      <a:lnTo>
                        <a:pt x="124" y="63"/>
                      </a:lnTo>
                      <a:lnTo>
                        <a:pt x="138" y="63"/>
                      </a:lnTo>
                      <a:lnTo>
                        <a:pt x="138" y="48"/>
                      </a:lnTo>
                      <a:lnTo>
                        <a:pt x="124" y="48"/>
                      </a:lnTo>
                      <a:lnTo>
                        <a:pt x="111" y="32"/>
                      </a:lnTo>
                      <a:lnTo>
                        <a:pt x="111" y="48"/>
                      </a:lnTo>
                      <a:lnTo>
                        <a:pt x="97" y="32"/>
                      </a:lnTo>
                      <a:lnTo>
                        <a:pt x="83" y="32"/>
                      </a:lnTo>
                      <a:lnTo>
                        <a:pt x="55" y="16"/>
                      </a:lnTo>
                      <a:lnTo>
                        <a:pt x="41" y="16"/>
                      </a:lnTo>
                      <a:lnTo>
                        <a:pt x="28" y="16"/>
                      </a:lnTo>
                      <a:lnTo>
                        <a:pt x="0" y="3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5484960" y="2662200"/>
                  <a:ext cx="102960" cy="57240"/>
                </a:xfrm>
                <a:custGeom>
                  <a:avLst/>
                  <a:gdLst/>
                  <a:ahLst/>
                  <a:rect l="l" t="t" r="r" b="b"/>
                  <a:pathLst>
                    <a:path w="195" h="110">
                      <a:moveTo>
                        <a:pt x="111" y="0"/>
                      </a:moveTo>
                      <a:lnTo>
                        <a:pt x="125" y="16"/>
                      </a:lnTo>
                      <a:lnTo>
                        <a:pt x="140" y="31"/>
                      </a:lnTo>
                      <a:lnTo>
                        <a:pt x="154" y="47"/>
                      </a:lnTo>
                      <a:lnTo>
                        <a:pt x="168" y="47"/>
                      </a:lnTo>
                      <a:lnTo>
                        <a:pt x="181" y="47"/>
                      </a:lnTo>
                      <a:lnTo>
                        <a:pt x="195" y="63"/>
                      </a:lnTo>
                      <a:lnTo>
                        <a:pt x="181" y="63"/>
                      </a:lnTo>
                      <a:lnTo>
                        <a:pt x="181" y="79"/>
                      </a:lnTo>
                      <a:lnTo>
                        <a:pt x="168" y="79"/>
                      </a:lnTo>
                      <a:lnTo>
                        <a:pt x="154" y="79"/>
                      </a:lnTo>
                      <a:lnTo>
                        <a:pt x="140" y="79"/>
                      </a:lnTo>
                      <a:lnTo>
                        <a:pt x="111" y="79"/>
                      </a:lnTo>
                      <a:lnTo>
                        <a:pt x="111" y="94"/>
                      </a:lnTo>
                      <a:lnTo>
                        <a:pt x="97" y="110"/>
                      </a:lnTo>
                      <a:lnTo>
                        <a:pt x="83" y="110"/>
                      </a:lnTo>
                      <a:lnTo>
                        <a:pt x="69" y="94"/>
                      </a:lnTo>
                      <a:lnTo>
                        <a:pt x="56" y="79"/>
                      </a:lnTo>
                      <a:lnTo>
                        <a:pt x="56" y="63"/>
                      </a:lnTo>
                      <a:lnTo>
                        <a:pt x="28" y="63"/>
                      </a:lnTo>
                      <a:lnTo>
                        <a:pt x="14" y="79"/>
                      </a:lnTo>
                      <a:lnTo>
                        <a:pt x="0" y="79"/>
                      </a:lnTo>
                      <a:lnTo>
                        <a:pt x="0" y="94"/>
                      </a:lnTo>
                      <a:lnTo>
                        <a:pt x="14" y="63"/>
                      </a:lnTo>
                      <a:lnTo>
                        <a:pt x="42" y="47"/>
                      </a:lnTo>
                      <a:lnTo>
                        <a:pt x="69" y="31"/>
                      </a:lnTo>
                      <a:lnTo>
                        <a:pt x="97" y="16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5484960" y="2662200"/>
                  <a:ext cx="102960" cy="57240"/>
                </a:xfrm>
                <a:custGeom>
                  <a:avLst/>
                  <a:gdLst/>
                  <a:ahLst/>
                  <a:rect l="l" t="t" r="r" b="b"/>
                  <a:pathLst>
                    <a:path w="195" h="110">
                      <a:moveTo>
                        <a:pt x="111" y="0"/>
                      </a:moveTo>
                      <a:lnTo>
                        <a:pt x="125" y="16"/>
                      </a:lnTo>
                      <a:lnTo>
                        <a:pt x="140" y="31"/>
                      </a:lnTo>
                      <a:lnTo>
                        <a:pt x="154" y="47"/>
                      </a:lnTo>
                      <a:lnTo>
                        <a:pt x="168" y="47"/>
                      </a:lnTo>
                      <a:lnTo>
                        <a:pt x="181" y="47"/>
                      </a:lnTo>
                      <a:lnTo>
                        <a:pt x="195" y="63"/>
                      </a:lnTo>
                      <a:lnTo>
                        <a:pt x="181" y="63"/>
                      </a:lnTo>
                      <a:lnTo>
                        <a:pt x="181" y="79"/>
                      </a:lnTo>
                      <a:lnTo>
                        <a:pt x="168" y="79"/>
                      </a:lnTo>
                      <a:lnTo>
                        <a:pt x="154" y="79"/>
                      </a:lnTo>
                      <a:lnTo>
                        <a:pt x="140" y="79"/>
                      </a:lnTo>
                      <a:lnTo>
                        <a:pt x="111" y="79"/>
                      </a:lnTo>
                      <a:lnTo>
                        <a:pt x="111" y="94"/>
                      </a:lnTo>
                      <a:lnTo>
                        <a:pt x="97" y="110"/>
                      </a:lnTo>
                      <a:lnTo>
                        <a:pt x="83" y="110"/>
                      </a:lnTo>
                      <a:lnTo>
                        <a:pt x="69" y="94"/>
                      </a:lnTo>
                      <a:lnTo>
                        <a:pt x="56" y="79"/>
                      </a:lnTo>
                      <a:lnTo>
                        <a:pt x="56" y="63"/>
                      </a:lnTo>
                      <a:lnTo>
                        <a:pt x="28" y="63"/>
                      </a:lnTo>
                      <a:lnTo>
                        <a:pt x="14" y="79"/>
                      </a:lnTo>
                      <a:lnTo>
                        <a:pt x="0" y="79"/>
                      </a:lnTo>
                      <a:lnTo>
                        <a:pt x="0" y="94"/>
                      </a:lnTo>
                      <a:lnTo>
                        <a:pt x="14" y="63"/>
                      </a:lnTo>
                      <a:lnTo>
                        <a:pt x="42" y="47"/>
                      </a:lnTo>
                      <a:lnTo>
                        <a:pt x="69" y="31"/>
                      </a:lnTo>
                      <a:lnTo>
                        <a:pt x="97" y="16"/>
                      </a:lnTo>
                      <a:lnTo>
                        <a:pt x="11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6826320" y="3095640"/>
                  <a:ext cx="784080" cy="1044720"/>
                </a:xfrm>
                <a:custGeom>
                  <a:avLst/>
                  <a:gdLst/>
                  <a:ahLst/>
                  <a:rect l="l" t="t" r="r" b="b"/>
                  <a:pathLst>
                    <a:path w="1481" h="1974">
                      <a:moveTo>
                        <a:pt x="1039" y="222"/>
                      </a:moveTo>
                      <a:lnTo>
                        <a:pt x="1052" y="237"/>
                      </a:lnTo>
                      <a:lnTo>
                        <a:pt x="1066" y="254"/>
                      </a:lnTo>
                      <a:lnTo>
                        <a:pt x="1066" y="269"/>
                      </a:lnTo>
                      <a:lnTo>
                        <a:pt x="1080" y="269"/>
                      </a:lnTo>
                      <a:lnTo>
                        <a:pt x="1080" y="285"/>
                      </a:lnTo>
                      <a:lnTo>
                        <a:pt x="1080" y="301"/>
                      </a:lnTo>
                      <a:lnTo>
                        <a:pt x="1094" y="316"/>
                      </a:lnTo>
                      <a:lnTo>
                        <a:pt x="1094" y="333"/>
                      </a:lnTo>
                      <a:lnTo>
                        <a:pt x="1108" y="364"/>
                      </a:lnTo>
                      <a:lnTo>
                        <a:pt x="1122" y="380"/>
                      </a:lnTo>
                      <a:lnTo>
                        <a:pt x="1122" y="395"/>
                      </a:lnTo>
                      <a:lnTo>
                        <a:pt x="1135" y="411"/>
                      </a:lnTo>
                      <a:lnTo>
                        <a:pt x="1149" y="427"/>
                      </a:lnTo>
                      <a:lnTo>
                        <a:pt x="1149" y="443"/>
                      </a:lnTo>
                      <a:lnTo>
                        <a:pt x="1163" y="458"/>
                      </a:lnTo>
                      <a:lnTo>
                        <a:pt x="1177" y="490"/>
                      </a:lnTo>
                      <a:lnTo>
                        <a:pt x="1191" y="522"/>
                      </a:lnTo>
                      <a:lnTo>
                        <a:pt x="1205" y="569"/>
                      </a:lnTo>
                      <a:lnTo>
                        <a:pt x="1205" y="584"/>
                      </a:lnTo>
                      <a:lnTo>
                        <a:pt x="1205" y="601"/>
                      </a:lnTo>
                      <a:lnTo>
                        <a:pt x="1218" y="616"/>
                      </a:lnTo>
                      <a:lnTo>
                        <a:pt x="1232" y="616"/>
                      </a:lnTo>
                      <a:lnTo>
                        <a:pt x="1246" y="631"/>
                      </a:lnTo>
                      <a:lnTo>
                        <a:pt x="1260" y="631"/>
                      </a:lnTo>
                      <a:lnTo>
                        <a:pt x="1260" y="648"/>
                      </a:lnTo>
                      <a:lnTo>
                        <a:pt x="1274" y="663"/>
                      </a:lnTo>
                      <a:lnTo>
                        <a:pt x="1288" y="663"/>
                      </a:lnTo>
                      <a:lnTo>
                        <a:pt x="1288" y="680"/>
                      </a:lnTo>
                      <a:lnTo>
                        <a:pt x="1288" y="695"/>
                      </a:lnTo>
                      <a:lnTo>
                        <a:pt x="1274" y="710"/>
                      </a:lnTo>
                      <a:lnTo>
                        <a:pt x="1288" y="710"/>
                      </a:lnTo>
                      <a:lnTo>
                        <a:pt x="1301" y="710"/>
                      </a:lnTo>
                      <a:lnTo>
                        <a:pt x="1301" y="727"/>
                      </a:lnTo>
                      <a:lnTo>
                        <a:pt x="1315" y="727"/>
                      </a:lnTo>
                      <a:lnTo>
                        <a:pt x="1329" y="742"/>
                      </a:lnTo>
                      <a:lnTo>
                        <a:pt x="1343" y="742"/>
                      </a:lnTo>
                      <a:lnTo>
                        <a:pt x="1343" y="727"/>
                      </a:lnTo>
                      <a:lnTo>
                        <a:pt x="1384" y="727"/>
                      </a:lnTo>
                      <a:lnTo>
                        <a:pt x="1440" y="727"/>
                      </a:lnTo>
                      <a:lnTo>
                        <a:pt x="1467" y="742"/>
                      </a:lnTo>
                      <a:lnTo>
                        <a:pt x="1481" y="774"/>
                      </a:lnTo>
                      <a:lnTo>
                        <a:pt x="1481" y="789"/>
                      </a:lnTo>
                      <a:lnTo>
                        <a:pt x="1467" y="806"/>
                      </a:lnTo>
                      <a:lnTo>
                        <a:pt x="1454" y="806"/>
                      </a:lnTo>
                      <a:lnTo>
                        <a:pt x="1440" y="806"/>
                      </a:lnTo>
                      <a:lnTo>
                        <a:pt x="1426" y="821"/>
                      </a:lnTo>
                      <a:lnTo>
                        <a:pt x="1426" y="838"/>
                      </a:lnTo>
                      <a:lnTo>
                        <a:pt x="1426" y="853"/>
                      </a:lnTo>
                      <a:lnTo>
                        <a:pt x="1398" y="900"/>
                      </a:lnTo>
                      <a:lnTo>
                        <a:pt x="1384" y="932"/>
                      </a:lnTo>
                      <a:lnTo>
                        <a:pt x="1357" y="963"/>
                      </a:lnTo>
                      <a:lnTo>
                        <a:pt x="1343" y="979"/>
                      </a:lnTo>
                      <a:lnTo>
                        <a:pt x="1329" y="995"/>
                      </a:lnTo>
                      <a:lnTo>
                        <a:pt x="1315" y="995"/>
                      </a:lnTo>
                      <a:lnTo>
                        <a:pt x="1329" y="995"/>
                      </a:lnTo>
                      <a:lnTo>
                        <a:pt x="1329" y="979"/>
                      </a:lnTo>
                      <a:lnTo>
                        <a:pt x="1343" y="979"/>
                      </a:lnTo>
                      <a:lnTo>
                        <a:pt x="1343" y="963"/>
                      </a:lnTo>
                      <a:lnTo>
                        <a:pt x="1357" y="947"/>
                      </a:lnTo>
                      <a:lnTo>
                        <a:pt x="1343" y="963"/>
                      </a:lnTo>
                      <a:lnTo>
                        <a:pt x="1329" y="979"/>
                      </a:lnTo>
                      <a:lnTo>
                        <a:pt x="1329" y="995"/>
                      </a:lnTo>
                      <a:lnTo>
                        <a:pt x="1301" y="1011"/>
                      </a:lnTo>
                      <a:lnTo>
                        <a:pt x="1288" y="1027"/>
                      </a:lnTo>
                      <a:lnTo>
                        <a:pt x="1288" y="1042"/>
                      </a:lnTo>
                      <a:lnTo>
                        <a:pt x="1274" y="1058"/>
                      </a:lnTo>
                      <a:lnTo>
                        <a:pt x="1260" y="1074"/>
                      </a:lnTo>
                      <a:lnTo>
                        <a:pt x="1246" y="1074"/>
                      </a:lnTo>
                      <a:lnTo>
                        <a:pt x="1232" y="1106"/>
                      </a:lnTo>
                      <a:lnTo>
                        <a:pt x="1218" y="1121"/>
                      </a:lnTo>
                      <a:lnTo>
                        <a:pt x="1218" y="1153"/>
                      </a:lnTo>
                      <a:lnTo>
                        <a:pt x="1205" y="1200"/>
                      </a:lnTo>
                      <a:lnTo>
                        <a:pt x="1205" y="1232"/>
                      </a:lnTo>
                      <a:lnTo>
                        <a:pt x="1218" y="1264"/>
                      </a:lnTo>
                      <a:lnTo>
                        <a:pt x="1232" y="1311"/>
                      </a:lnTo>
                      <a:lnTo>
                        <a:pt x="1246" y="1311"/>
                      </a:lnTo>
                      <a:lnTo>
                        <a:pt x="1232" y="1373"/>
                      </a:lnTo>
                      <a:lnTo>
                        <a:pt x="1232" y="1421"/>
                      </a:lnTo>
                      <a:lnTo>
                        <a:pt x="1218" y="1469"/>
                      </a:lnTo>
                      <a:lnTo>
                        <a:pt x="1205" y="1484"/>
                      </a:lnTo>
                      <a:lnTo>
                        <a:pt x="1191" y="1484"/>
                      </a:lnTo>
                      <a:lnTo>
                        <a:pt x="1177" y="1500"/>
                      </a:lnTo>
                      <a:lnTo>
                        <a:pt x="1163" y="1500"/>
                      </a:lnTo>
                      <a:lnTo>
                        <a:pt x="1163" y="1516"/>
                      </a:lnTo>
                      <a:lnTo>
                        <a:pt x="1149" y="1531"/>
                      </a:lnTo>
                      <a:lnTo>
                        <a:pt x="1135" y="1547"/>
                      </a:lnTo>
                      <a:lnTo>
                        <a:pt x="1122" y="1547"/>
                      </a:lnTo>
                      <a:lnTo>
                        <a:pt x="1108" y="1563"/>
                      </a:lnTo>
                      <a:lnTo>
                        <a:pt x="1094" y="1626"/>
                      </a:lnTo>
                      <a:lnTo>
                        <a:pt x="1080" y="1673"/>
                      </a:lnTo>
                      <a:lnTo>
                        <a:pt x="1066" y="1720"/>
                      </a:lnTo>
                      <a:lnTo>
                        <a:pt x="1066" y="1737"/>
                      </a:lnTo>
                      <a:lnTo>
                        <a:pt x="1066" y="1752"/>
                      </a:lnTo>
                      <a:lnTo>
                        <a:pt x="1052" y="1784"/>
                      </a:lnTo>
                      <a:lnTo>
                        <a:pt x="1025" y="1816"/>
                      </a:lnTo>
                      <a:lnTo>
                        <a:pt x="1011" y="1846"/>
                      </a:lnTo>
                      <a:lnTo>
                        <a:pt x="983" y="1878"/>
                      </a:lnTo>
                      <a:lnTo>
                        <a:pt x="969" y="1910"/>
                      </a:lnTo>
                      <a:lnTo>
                        <a:pt x="942" y="1942"/>
                      </a:lnTo>
                      <a:lnTo>
                        <a:pt x="914" y="1957"/>
                      </a:lnTo>
                      <a:lnTo>
                        <a:pt x="886" y="1957"/>
                      </a:lnTo>
                      <a:lnTo>
                        <a:pt x="873" y="1957"/>
                      </a:lnTo>
                      <a:lnTo>
                        <a:pt x="859" y="1957"/>
                      </a:lnTo>
                      <a:lnTo>
                        <a:pt x="831" y="1957"/>
                      </a:lnTo>
                      <a:lnTo>
                        <a:pt x="817" y="1957"/>
                      </a:lnTo>
                      <a:lnTo>
                        <a:pt x="817" y="1974"/>
                      </a:lnTo>
                      <a:lnTo>
                        <a:pt x="790" y="1974"/>
                      </a:lnTo>
                      <a:lnTo>
                        <a:pt x="761" y="1957"/>
                      </a:lnTo>
                      <a:lnTo>
                        <a:pt x="747" y="1925"/>
                      </a:lnTo>
                      <a:lnTo>
                        <a:pt x="733" y="1878"/>
                      </a:lnTo>
                      <a:lnTo>
                        <a:pt x="733" y="1846"/>
                      </a:lnTo>
                      <a:lnTo>
                        <a:pt x="719" y="1799"/>
                      </a:lnTo>
                      <a:lnTo>
                        <a:pt x="705" y="1767"/>
                      </a:lnTo>
                      <a:lnTo>
                        <a:pt x="705" y="1752"/>
                      </a:lnTo>
                      <a:lnTo>
                        <a:pt x="691" y="1752"/>
                      </a:lnTo>
                      <a:lnTo>
                        <a:pt x="691" y="1767"/>
                      </a:lnTo>
                      <a:lnTo>
                        <a:pt x="691" y="1752"/>
                      </a:lnTo>
                      <a:lnTo>
                        <a:pt x="691" y="1705"/>
                      </a:lnTo>
                      <a:lnTo>
                        <a:pt x="678" y="1658"/>
                      </a:lnTo>
                      <a:lnTo>
                        <a:pt x="664" y="1626"/>
                      </a:lnTo>
                      <a:lnTo>
                        <a:pt x="664" y="1579"/>
                      </a:lnTo>
                      <a:lnTo>
                        <a:pt x="650" y="1563"/>
                      </a:lnTo>
                      <a:lnTo>
                        <a:pt x="650" y="1547"/>
                      </a:lnTo>
                      <a:lnTo>
                        <a:pt x="636" y="1531"/>
                      </a:lnTo>
                      <a:lnTo>
                        <a:pt x="636" y="1516"/>
                      </a:lnTo>
                      <a:lnTo>
                        <a:pt x="636" y="1484"/>
                      </a:lnTo>
                      <a:lnTo>
                        <a:pt x="636" y="1437"/>
                      </a:lnTo>
                      <a:lnTo>
                        <a:pt x="650" y="1390"/>
                      </a:lnTo>
                      <a:lnTo>
                        <a:pt x="650" y="1373"/>
                      </a:lnTo>
                      <a:lnTo>
                        <a:pt x="664" y="1358"/>
                      </a:lnTo>
                      <a:lnTo>
                        <a:pt x="678" y="1343"/>
                      </a:lnTo>
                      <a:lnTo>
                        <a:pt x="664" y="1294"/>
                      </a:lnTo>
                      <a:lnTo>
                        <a:pt x="650" y="1247"/>
                      </a:lnTo>
                      <a:lnTo>
                        <a:pt x="636" y="1200"/>
                      </a:lnTo>
                      <a:lnTo>
                        <a:pt x="650" y="1185"/>
                      </a:lnTo>
                      <a:lnTo>
                        <a:pt x="664" y="1185"/>
                      </a:lnTo>
                      <a:lnTo>
                        <a:pt x="636" y="1153"/>
                      </a:lnTo>
                      <a:lnTo>
                        <a:pt x="608" y="1121"/>
                      </a:lnTo>
                      <a:lnTo>
                        <a:pt x="581" y="1074"/>
                      </a:lnTo>
                      <a:lnTo>
                        <a:pt x="567" y="1042"/>
                      </a:lnTo>
                      <a:lnTo>
                        <a:pt x="581" y="995"/>
                      </a:lnTo>
                      <a:lnTo>
                        <a:pt x="595" y="963"/>
                      </a:lnTo>
                      <a:lnTo>
                        <a:pt x="595" y="916"/>
                      </a:lnTo>
                      <a:lnTo>
                        <a:pt x="581" y="900"/>
                      </a:lnTo>
                      <a:lnTo>
                        <a:pt x="539" y="885"/>
                      </a:lnTo>
                      <a:lnTo>
                        <a:pt x="470" y="868"/>
                      </a:lnTo>
                      <a:lnTo>
                        <a:pt x="456" y="868"/>
                      </a:lnTo>
                      <a:lnTo>
                        <a:pt x="442" y="853"/>
                      </a:lnTo>
                      <a:lnTo>
                        <a:pt x="429" y="853"/>
                      </a:lnTo>
                      <a:lnTo>
                        <a:pt x="401" y="853"/>
                      </a:lnTo>
                      <a:lnTo>
                        <a:pt x="359" y="868"/>
                      </a:lnTo>
                      <a:lnTo>
                        <a:pt x="346" y="885"/>
                      </a:lnTo>
                      <a:lnTo>
                        <a:pt x="318" y="885"/>
                      </a:lnTo>
                      <a:lnTo>
                        <a:pt x="290" y="885"/>
                      </a:lnTo>
                      <a:lnTo>
                        <a:pt x="263" y="885"/>
                      </a:lnTo>
                      <a:lnTo>
                        <a:pt x="249" y="885"/>
                      </a:lnTo>
                      <a:lnTo>
                        <a:pt x="221" y="900"/>
                      </a:lnTo>
                      <a:lnTo>
                        <a:pt x="207" y="900"/>
                      </a:lnTo>
                      <a:lnTo>
                        <a:pt x="194" y="900"/>
                      </a:lnTo>
                      <a:lnTo>
                        <a:pt x="180" y="885"/>
                      </a:lnTo>
                      <a:lnTo>
                        <a:pt x="152" y="868"/>
                      </a:lnTo>
                      <a:lnTo>
                        <a:pt x="138" y="868"/>
                      </a:lnTo>
                      <a:lnTo>
                        <a:pt x="138" y="853"/>
                      </a:lnTo>
                      <a:lnTo>
                        <a:pt x="152" y="853"/>
                      </a:lnTo>
                      <a:lnTo>
                        <a:pt x="152" y="868"/>
                      </a:lnTo>
                      <a:lnTo>
                        <a:pt x="166" y="868"/>
                      </a:lnTo>
                      <a:lnTo>
                        <a:pt x="152" y="853"/>
                      </a:lnTo>
                      <a:lnTo>
                        <a:pt x="138" y="853"/>
                      </a:lnTo>
                      <a:lnTo>
                        <a:pt x="124" y="838"/>
                      </a:lnTo>
                      <a:lnTo>
                        <a:pt x="111" y="838"/>
                      </a:lnTo>
                      <a:lnTo>
                        <a:pt x="111" y="821"/>
                      </a:lnTo>
                      <a:lnTo>
                        <a:pt x="97" y="806"/>
                      </a:lnTo>
                      <a:lnTo>
                        <a:pt x="97" y="789"/>
                      </a:lnTo>
                      <a:lnTo>
                        <a:pt x="83" y="774"/>
                      </a:lnTo>
                      <a:lnTo>
                        <a:pt x="83" y="759"/>
                      </a:lnTo>
                      <a:lnTo>
                        <a:pt x="69" y="742"/>
                      </a:lnTo>
                      <a:lnTo>
                        <a:pt x="55" y="727"/>
                      </a:lnTo>
                      <a:lnTo>
                        <a:pt x="41" y="727"/>
                      </a:lnTo>
                      <a:lnTo>
                        <a:pt x="41" y="710"/>
                      </a:lnTo>
                      <a:lnTo>
                        <a:pt x="55" y="710"/>
                      </a:lnTo>
                      <a:lnTo>
                        <a:pt x="55" y="695"/>
                      </a:lnTo>
                      <a:lnTo>
                        <a:pt x="41" y="695"/>
                      </a:lnTo>
                      <a:lnTo>
                        <a:pt x="28" y="695"/>
                      </a:lnTo>
                      <a:lnTo>
                        <a:pt x="14" y="695"/>
                      </a:lnTo>
                      <a:lnTo>
                        <a:pt x="28" y="680"/>
                      </a:lnTo>
                      <a:lnTo>
                        <a:pt x="41" y="680"/>
                      </a:lnTo>
                      <a:lnTo>
                        <a:pt x="55" y="663"/>
                      </a:lnTo>
                      <a:lnTo>
                        <a:pt x="28" y="648"/>
                      </a:lnTo>
                      <a:lnTo>
                        <a:pt x="14" y="648"/>
                      </a:lnTo>
                      <a:lnTo>
                        <a:pt x="0" y="616"/>
                      </a:lnTo>
                      <a:lnTo>
                        <a:pt x="0" y="601"/>
                      </a:lnTo>
                      <a:lnTo>
                        <a:pt x="0" y="584"/>
                      </a:lnTo>
                      <a:lnTo>
                        <a:pt x="14" y="569"/>
                      </a:lnTo>
                      <a:lnTo>
                        <a:pt x="28" y="584"/>
                      </a:lnTo>
                      <a:lnTo>
                        <a:pt x="28" y="601"/>
                      </a:lnTo>
                      <a:lnTo>
                        <a:pt x="28" y="616"/>
                      </a:lnTo>
                      <a:lnTo>
                        <a:pt x="41" y="616"/>
                      </a:lnTo>
                      <a:lnTo>
                        <a:pt x="41" y="601"/>
                      </a:lnTo>
                      <a:lnTo>
                        <a:pt x="41" y="584"/>
                      </a:lnTo>
                      <a:lnTo>
                        <a:pt x="41" y="569"/>
                      </a:lnTo>
                      <a:lnTo>
                        <a:pt x="41" y="537"/>
                      </a:lnTo>
                      <a:lnTo>
                        <a:pt x="28" y="505"/>
                      </a:lnTo>
                      <a:lnTo>
                        <a:pt x="14" y="458"/>
                      </a:lnTo>
                      <a:lnTo>
                        <a:pt x="14" y="427"/>
                      </a:lnTo>
                      <a:lnTo>
                        <a:pt x="28" y="411"/>
                      </a:lnTo>
                      <a:lnTo>
                        <a:pt x="41" y="395"/>
                      </a:lnTo>
                      <a:lnTo>
                        <a:pt x="41" y="380"/>
                      </a:lnTo>
                      <a:lnTo>
                        <a:pt x="55" y="348"/>
                      </a:lnTo>
                      <a:lnTo>
                        <a:pt x="83" y="301"/>
                      </a:lnTo>
                      <a:lnTo>
                        <a:pt x="111" y="269"/>
                      </a:lnTo>
                      <a:lnTo>
                        <a:pt x="124" y="254"/>
                      </a:lnTo>
                      <a:lnTo>
                        <a:pt x="138" y="254"/>
                      </a:lnTo>
                      <a:lnTo>
                        <a:pt x="166" y="222"/>
                      </a:lnTo>
                      <a:lnTo>
                        <a:pt x="180" y="207"/>
                      </a:lnTo>
                      <a:lnTo>
                        <a:pt x="166" y="190"/>
                      </a:lnTo>
                      <a:lnTo>
                        <a:pt x="166" y="175"/>
                      </a:lnTo>
                      <a:lnTo>
                        <a:pt x="180" y="128"/>
                      </a:lnTo>
                      <a:lnTo>
                        <a:pt x="194" y="128"/>
                      </a:lnTo>
                      <a:lnTo>
                        <a:pt x="194" y="111"/>
                      </a:lnTo>
                      <a:lnTo>
                        <a:pt x="207" y="111"/>
                      </a:lnTo>
                      <a:lnTo>
                        <a:pt x="235" y="96"/>
                      </a:lnTo>
                      <a:lnTo>
                        <a:pt x="235" y="79"/>
                      </a:lnTo>
                      <a:lnTo>
                        <a:pt x="249" y="64"/>
                      </a:lnTo>
                      <a:lnTo>
                        <a:pt x="263" y="49"/>
                      </a:lnTo>
                      <a:lnTo>
                        <a:pt x="276" y="64"/>
                      </a:lnTo>
                      <a:lnTo>
                        <a:pt x="290" y="64"/>
                      </a:lnTo>
                      <a:lnTo>
                        <a:pt x="304" y="64"/>
                      </a:lnTo>
                      <a:lnTo>
                        <a:pt x="332" y="64"/>
                      </a:lnTo>
                      <a:lnTo>
                        <a:pt x="359" y="64"/>
                      </a:lnTo>
                      <a:lnTo>
                        <a:pt x="373" y="64"/>
                      </a:lnTo>
                      <a:lnTo>
                        <a:pt x="373" y="49"/>
                      </a:lnTo>
                      <a:lnTo>
                        <a:pt x="373" y="32"/>
                      </a:lnTo>
                      <a:lnTo>
                        <a:pt x="387" y="32"/>
                      </a:lnTo>
                      <a:lnTo>
                        <a:pt x="429" y="0"/>
                      </a:lnTo>
                      <a:lnTo>
                        <a:pt x="470" y="0"/>
                      </a:lnTo>
                      <a:lnTo>
                        <a:pt x="512" y="32"/>
                      </a:lnTo>
                      <a:lnTo>
                        <a:pt x="567" y="32"/>
                      </a:lnTo>
                      <a:lnTo>
                        <a:pt x="595" y="49"/>
                      </a:lnTo>
                      <a:lnTo>
                        <a:pt x="581" y="79"/>
                      </a:lnTo>
                      <a:lnTo>
                        <a:pt x="581" y="96"/>
                      </a:lnTo>
                      <a:lnTo>
                        <a:pt x="595" y="111"/>
                      </a:lnTo>
                      <a:lnTo>
                        <a:pt x="608" y="111"/>
                      </a:lnTo>
                      <a:lnTo>
                        <a:pt x="622" y="128"/>
                      </a:lnTo>
                      <a:lnTo>
                        <a:pt x="636" y="128"/>
                      </a:lnTo>
                      <a:lnTo>
                        <a:pt x="664" y="128"/>
                      </a:lnTo>
                      <a:lnTo>
                        <a:pt x="691" y="143"/>
                      </a:lnTo>
                      <a:lnTo>
                        <a:pt x="691" y="158"/>
                      </a:lnTo>
                      <a:lnTo>
                        <a:pt x="705" y="158"/>
                      </a:lnTo>
                      <a:lnTo>
                        <a:pt x="705" y="175"/>
                      </a:lnTo>
                      <a:lnTo>
                        <a:pt x="719" y="175"/>
                      </a:lnTo>
                      <a:lnTo>
                        <a:pt x="733" y="175"/>
                      </a:lnTo>
                      <a:lnTo>
                        <a:pt x="747" y="190"/>
                      </a:lnTo>
                      <a:lnTo>
                        <a:pt x="761" y="190"/>
                      </a:lnTo>
                      <a:lnTo>
                        <a:pt x="774" y="207"/>
                      </a:lnTo>
                      <a:lnTo>
                        <a:pt x="790" y="190"/>
                      </a:lnTo>
                      <a:lnTo>
                        <a:pt x="790" y="158"/>
                      </a:lnTo>
                      <a:lnTo>
                        <a:pt x="790" y="143"/>
                      </a:lnTo>
                      <a:lnTo>
                        <a:pt x="803" y="143"/>
                      </a:lnTo>
                      <a:lnTo>
                        <a:pt x="803" y="128"/>
                      </a:lnTo>
                      <a:lnTo>
                        <a:pt x="817" y="128"/>
                      </a:lnTo>
                      <a:lnTo>
                        <a:pt x="845" y="128"/>
                      </a:lnTo>
                      <a:lnTo>
                        <a:pt x="886" y="158"/>
                      </a:lnTo>
                      <a:lnTo>
                        <a:pt x="914" y="175"/>
                      </a:lnTo>
                      <a:lnTo>
                        <a:pt x="942" y="175"/>
                      </a:lnTo>
                      <a:lnTo>
                        <a:pt x="969" y="175"/>
                      </a:lnTo>
                      <a:lnTo>
                        <a:pt x="997" y="158"/>
                      </a:lnTo>
                      <a:lnTo>
                        <a:pt x="1025" y="158"/>
                      </a:lnTo>
                      <a:lnTo>
                        <a:pt x="1025" y="175"/>
                      </a:lnTo>
                      <a:lnTo>
                        <a:pt x="1039" y="207"/>
                      </a:lnTo>
                      <a:lnTo>
                        <a:pt x="1039" y="222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6826320" y="3095640"/>
                  <a:ext cx="784080" cy="1044720"/>
                </a:xfrm>
                <a:custGeom>
                  <a:avLst/>
                  <a:gdLst/>
                  <a:ahLst/>
                  <a:rect l="l" t="t" r="r" b="b"/>
                  <a:pathLst>
                    <a:path w="1481" h="1974">
                      <a:moveTo>
                        <a:pt x="1039" y="222"/>
                      </a:moveTo>
                      <a:lnTo>
                        <a:pt x="1052" y="237"/>
                      </a:lnTo>
                      <a:lnTo>
                        <a:pt x="1066" y="254"/>
                      </a:lnTo>
                      <a:lnTo>
                        <a:pt x="1066" y="269"/>
                      </a:lnTo>
                      <a:lnTo>
                        <a:pt x="1080" y="269"/>
                      </a:lnTo>
                      <a:lnTo>
                        <a:pt x="1080" y="285"/>
                      </a:lnTo>
                      <a:lnTo>
                        <a:pt x="1080" y="301"/>
                      </a:lnTo>
                      <a:lnTo>
                        <a:pt x="1094" y="316"/>
                      </a:lnTo>
                      <a:lnTo>
                        <a:pt x="1094" y="333"/>
                      </a:lnTo>
                      <a:lnTo>
                        <a:pt x="1108" y="364"/>
                      </a:lnTo>
                      <a:lnTo>
                        <a:pt x="1122" y="380"/>
                      </a:lnTo>
                      <a:lnTo>
                        <a:pt x="1122" y="395"/>
                      </a:lnTo>
                      <a:lnTo>
                        <a:pt x="1135" y="411"/>
                      </a:lnTo>
                      <a:lnTo>
                        <a:pt x="1149" y="427"/>
                      </a:lnTo>
                      <a:lnTo>
                        <a:pt x="1149" y="443"/>
                      </a:lnTo>
                      <a:lnTo>
                        <a:pt x="1163" y="458"/>
                      </a:lnTo>
                      <a:lnTo>
                        <a:pt x="1177" y="490"/>
                      </a:lnTo>
                      <a:lnTo>
                        <a:pt x="1191" y="522"/>
                      </a:lnTo>
                      <a:lnTo>
                        <a:pt x="1205" y="569"/>
                      </a:lnTo>
                      <a:lnTo>
                        <a:pt x="1205" y="584"/>
                      </a:lnTo>
                      <a:lnTo>
                        <a:pt x="1205" y="601"/>
                      </a:lnTo>
                      <a:lnTo>
                        <a:pt x="1218" y="616"/>
                      </a:lnTo>
                      <a:lnTo>
                        <a:pt x="1232" y="616"/>
                      </a:lnTo>
                      <a:lnTo>
                        <a:pt x="1246" y="631"/>
                      </a:lnTo>
                      <a:lnTo>
                        <a:pt x="1260" y="631"/>
                      </a:lnTo>
                      <a:lnTo>
                        <a:pt x="1260" y="648"/>
                      </a:lnTo>
                      <a:lnTo>
                        <a:pt x="1274" y="663"/>
                      </a:lnTo>
                      <a:lnTo>
                        <a:pt x="1288" y="663"/>
                      </a:lnTo>
                      <a:lnTo>
                        <a:pt x="1288" y="680"/>
                      </a:lnTo>
                      <a:lnTo>
                        <a:pt x="1288" y="695"/>
                      </a:lnTo>
                      <a:lnTo>
                        <a:pt x="1274" y="710"/>
                      </a:lnTo>
                      <a:lnTo>
                        <a:pt x="1288" y="710"/>
                      </a:lnTo>
                      <a:lnTo>
                        <a:pt x="1301" y="710"/>
                      </a:lnTo>
                      <a:lnTo>
                        <a:pt x="1301" y="727"/>
                      </a:lnTo>
                      <a:lnTo>
                        <a:pt x="1315" y="727"/>
                      </a:lnTo>
                      <a:lnTo>
                        <a:pt x="1329" y="742"/>
                      </a:lnTo>
                      <a:lnTo>
                        <a:pt x="1343" y="742"/>
                      </a:lnTo>
                      <a:lnTo>
                        <a:pt x="1343" y="727"/>
                      </a:lnTo>
                      <a:lnTo>
                        <a:pt x="1384" y="727"/>
                      </a:lnTo>
                      <a:lnTo>
                        <a:pt x="1440" y="727"/>
                      </a:lnTo>
                      <a:lnTo>
                        <a:pt x="1467" y="742"/>
                      </a:lnTo>
                      <a:lnTo>
                        <a:pt x="1481" y="774"/>
                      </a:lnTo>
                      <a:lnTo>
                        <a:pt x="1481" y="789"/>
                      </a:lnTo>
                      <a:lnTo>
                        <a:pt x="1467" y="806"/>
                      </a:lnTo>
                      <a:lnTo>
                        <a:pt x="1454" y="806"/>
                      </a:lnTo>
                      <a:lnTo>
                        <a:pt x="1440" y="806"/>
                      </a:lnTo>
                      <a:lnTo>
                        <a:pt x="1426" y="821"/>
                      </a:lnTo>
                      <a:lnTo>
                        <a:pt x="1426" y="838"/>
                      </a:lnTo>
                      <a:lnTo>
                        <a:pt x="1426" y="853"/>
                      </a:lnTo>
                      <a:lnTo>
                        <a:pt x="1398" y="900"/>
                      </a:lnTo>
                      <a:lnTo>
                        <a:pt x="1384" y="932"/>
                      </a:lnTo>
                      <a:lnTo>
                        <a:pt x="1357" y="963"/>
                      </a:lnTo>
                      <a:lnTo>
                        <a:pt x="1343" y="979"/>
                      </a:lnTo>
                      <a:lnTo>
                        <a:pt x="1329" y="995"/>
                      </a:lnTo>
                      <a:lnTo>
                        <a:pt x="1315" y="995"/>
                      </a:lnTo>
                      <a:lnTo>
                        <a:pt x="1329" y="995"/>
                      </a:lnTo>
                      <a:lnTo>
                        <a:pt x="1329" y="979"/>
                      </a:lnTo>
                      <a:lnTo>
                        <a:pt x="1343" y="979"/>
                      </a:lnTo>
                      <a:lnTo>
                        <a:pt x="1343" y="963"/>
                      </a:lnTo>
                      <a:lnTo>
                        <a:pt x="1357" y="947"/>
                      </a:lnTo>
                      <a:lnTo>
                        <a:pt x="1343" y="963"/>
                      </a:lnTo>
                      <a:lnTo>
                        <a:pt x="1329" y="979"/>
                      </a:lnTo>
                      <a:lnTo>
                        <a:pt x="1329" y="995"/>
                      </a:lnTo>
                      <a:lnTo>
                        <a:pt x="1301" y="1011"/>
                      </a:lnTo>
                      <a:lnTo>
                        <a:pt x="1288" y="1027"/>
                      </a:lnTo>
                      <a:lnTo>
                        <a:pt x="1288" y="1042"/>
                      </a:lnTo>
                      <a:lnTo>
                        <a:pt x="1274" y="1058"/>
                      </a:lnTo>
                      <a:lnTo>
                        <a:pt x="1260" y="1074"/>
                      </a:lnTo>
                      <a:lnTo>
                        <a:pt x="1246" y="1074"/>
                      </a:lnTo>
                      <a:lnTo>
                        <a:pt x="1232" y="1106"/>
                      </a:lnTo>
                      <a:lnTo>
                        <a:pt x="1218" y="1121"/>
                      </a:lnTo>
                      <a:lnTo>
                        <a:pt x="1218" y="1153"/>
                      </a:lnTo>
                      <a:lnTo>
                        <a:pt x="1205" y="1200"/>
                      </a:lnTo>
                      <a:lnTo>
                        <a:pt x="1205" y="1232"/>
                      </a:lnTo>
                      <a:lnTo>
                        <a:pt x="1218" y="1264"/>
                      </a:lnTo>
                      <a:lnTo>
                        <a:pt x="1232" y="1311"/>
                      </a:lnTo>
                      <a:lnTo>
                        <a:pt x="1246" y="1311"/>
                      </a:lnTo>
                      <a:lnTo>
                        <a:pt x="1232" y="1373"/>
                      </a:lnTo>
                      <a:lnTo>
                        <a:pt x="1232" y="1421"/>
                      </a:lnTo>
                      <a:lnTo>
                        <a:pt x="1218" y="1469"/>
                      </a:lnTo>
                      <a:lnTo>
                        <a:pt x="1205" y="1484"/>
                      </a:lnTo>
                      <a:lnTo>
                        <a:pt x="1191" y="1484"/>
                      </a:lnTo>
                      <a:lnTo>
                        <a:pt x="1177" y="1500"/>
                      </a:lnTo>
                      <a:lnTo>
                        <a:pt x="1163" y="1500"/>
                      </a:lnTo>
                      <a:lnTo>
                        <a:pt x="1163" y="1516"/>
                      </a:lnTo>
                      <a:lnTo>
                        <a:pt x="1149" y="1531"/>
                      </a:lnTo>
                      <a:lnTo>
                        <a:pt x="1135" y="1547"/>
                      </a:lnTo>
                      <a:lnTo>
                        <a:pt x="1122" y="1547"/>
                      </a:lnTo>
                      <a:lnTo>
                        <a:pt x="1108" y="1563"/>
                      </a:lnTo>
                      <a:lnTo>
                        <a:pt x="1094" y="1626"/>
                      </a:lnTo>
                      <a:lnTo>
                        <a:pt x="1080" y="1673"/>
                      </a:lnTo>
                      <a:lnTo>
                        <a:pt x="1066" y="1720"/>
                      </a:lnTo>
                      <a:lnTo>
                        <a:pt x="1066" y="1737"/>
                      </a:lnTo>
                      <a:lnTo>
                        <a:pt x="1066" y="1752"/>
                      </a:lnTo>
                      <a:lnTo>
                        <a:pt x="1052" y="1784"/>
                      </a:lnTo>
                      <a:lnTo>
                        <a:pt x="1025" y="1816"/>
                      </a:lnTo>
                      <a:lnTo>
                        <a:pt x="1011" y="1846"/>
                      </a:lnTo>
                      <a:lnTo>
                        <a:pt x="983" y="1878"/>
                      </a:lnTo>
                      <a:lnTo>
                        <a:pt x="969" y="1910"/>
                      </a:lnTo>
                      <a:lnTo>
                        <a:pt x="942" y="1942"/>
                      </a:lnTo>
                      <a:lnTo>
                        <a:pt x="914" y="1957"/>
                      </a:lnTo>
                      <a:lnTo>
                        <a:pt x="886" y="1957"/>
                      </a:lnTo>
                      <a:lnTo>
                        <a:pt x="873" y="1957"/>
                      </a:lnTo>
                      <a:lnTo>
                        <a:pt x="859" y="1957"/>
                      </a:lnTo>
                      <a:lnTo>
                        <a:pt x="831" y="1957"/>
                      </a:lnTo>
                      <a:lnTo>
                        <a:pt x="817" y="1957"/>
                      </a:lnTo>
                      <a:lnTo>
                        <a:pt x="817" y="1974"/>
                      </a:lnTo>
                      <a:lnTo>
                        <a:pt x="790" y="1974"/>
                      </a:lnTo>
                      <a:lnTo>
                        <a:pt x="761" y="1957"/>
                      </a:lnTo>
                      <a:lnTo>
                        <a:pt x="747" y="1925"/>
                      </a:lnTo>
                      <a:lnTo>
                        <a:pt x="733" y="1878"/>
                      </a:lnTo>
                      <a:lnTo>
                        <a:pt x="733" y="1846"/>
                      </a:lnTo>
                      <a:lnTo>
                        <a:pt x="719" y="1799"/>
                      </a:lnTo>
                      <a:lnTo>
                        <a:pt x="705" y="1767"/>
                      </a:lnTo>
                      <a:lnTo>
                        <a:pt x="705" y="1752"/>
                      </a:lnTo>
                      <a:lnTo>
                        <a:pt x="691" y="1752"/>
                      </a:lnTo>
                      <a:lnTo>
                        <a:pt x="691" y="1767"/>
                      </a:lnTo>
                      <a:lnTo>
                        <a:pt x="691" y="1752"/>
                      </a:lnTo>
                      <a:lnTo>
                        <a:pt x="691" y="1705"/>
                      </a:lnTo>
                      <a:lnTo>
                        <a:pt x="678" y="1658"/>
                      </a:lnTo>
                      <a:lnTo>
                        <a:pt x="664" y="1626"/>
                      </a:lnTo>
                      <a:lnTo>
                        <a:pt x="664" y="1579"/>
                      </a:lnTo>
                      <a:lnTo>
                        <a:pt x="650" y="1563"/>
                      </a:lnTo>
                      <a:lnTo>
                        <a:pt x="650" y="1547"/>
                      </a:lnTo>
                      <a:lnTo>
                        <a:pt x="636" y="1531"/>
                      </a:lnTo>
                      <a:lnTo>
                        <a:pt x="636" y="1516"/>
                      </a:lnTo>
                      <a:lnTo>
                        <a:pt x="636" y="1484"/>
                      </a:lnTo>
                      <a:lnTo>
                        <a:pt x="636" y="1437"/>
                      </a:lnTo>
                      <a:lnTo>
                        <a:pt x="650" y="1390"/>
                      </a:lnTo>
                      <a:lnTo>
                        <a:pt x="650" y="1373"/>
                      </a:lnTo>
                      <a:lnTo>
                        <a:pt x="664" y="1358"/>
                      </a:lnTo>
                      <a:lnTo>
                        <a:pt x="678" y="1343"/>
                      </a:lnTo>
                      <a:lnTo>
                        <a:pt x="664" y="1294"/>
                      </a:lnTo>
                      <a:lnTo>
                        <a:pt x="650" y="1247"/>
                      </a:lnTo>
                      <a:lnTo>
                        <a:pt x="636" y="1200"/>
                      </a:lnTo>
                      <a:lnTo>
                        <a:pt x="650" y="1185"/>
                      </a:lnTo>
                      <a:lnTo>
                        <a:pt x="664" y="1185"/>
                      </a:lnTo>
                      <a:lnTo>
                        <a:pt x="636" y="1153"/>
                      </a:lnTo>
                      <a:lnTo>
                        <a:pt x="608" y="1121"/>
                      </a:lnTo>
                      <a:lnTo>
                        <a:pt x="581" y="1074"/>
                      </a:lnTo>
                      <a:lnTo>
                        <a:pt x="567" y="1042"/>
                      </a:lnTo>
                      <a:lnTo>
                        <a:pt x="581" y="995"/>
                      </a:lnTo>
                      <a:lnTo>
                        <a:pt x="595" y="963"/>
                      </a:lnTo>
                      <a:lnTo>
                        <a:pt x="595" y="916"/>
                      </a:lnTo>
                      <a:lnTo>
                        <a:pt x="581" y="900"/>
                      </a:lnTo>
                      <a:lnTo>
                        <a:pt x="539" y="885"/>
                      </a:lnTo>
                      <a:lnTo>
                        <a:pt x="470" y="868"/>
                      </a:lnTo>
                      <a:lnTo>
                        <a:pt x="456" y="868"/>
                      </a:lnTo>
                      <a:lnTo>
                        <a:pt x="442" y="853"/>
                      </a:lnTo>
                      <a:lnTo>
                        <a:pt x="429" y="853"/>
                      </a:lnTo>
                      <a:lnTo>
                        <a:pt x="401" y="853"/>
                      </a:lnTo>
                      <a:lnTo>
                        <a:pt x="359" y="868"/>
                      </a:lnTo>
                      <a:lnTo>
                        <a:pt x="346" y="885"/>
                      </a:lnTo>
                      <a:lnTo>
                        <a:pt x="318" y="885"/>
                      </a:lnTo>
                      <a:lnTo>
                        <a:pt x="290" y="885"/>
                      </a:lnTo>
                      <a:lnTo>
                        <a:pt x="263" y="885"/>
                      </a:lnTo>
                      <a:lnTo>
                        <a:pt x="249" y="885"/>
                      </a:lnTo>
                      <a:lnTo>
                        <a:pt x="221" y="900"/>
                      </a:lnTo>
                      <a:lnTo>
                        <a:pt x="207" y="900"/>
                      </a:lnTo>
                      <a:lnTo>
                        <a:pt x="194" y="900"/>
                      </a:lnTo>
                      <a:lnTo>
                        <a:pt x="180" y="885"/>
                      </a:lnTo>
                      <a:lnTo>
                        <a:pt x="152" y="868"/>
                      </a:lnTo>
                      <a:lnTo>
                        <a:pt x="138" y="868"/>
                      </a:lnTo>
                      <a:lnTo>
                        <a:pt x="138" y="853"/>
                      </a:lnTo>
                      <a:lnTo>
                        <a:pt x="152" y="853"/>
                      </a:lnTo>
                      <a:lnTo>
                        <a:pt x="152" y="868"/>
                      </a:lnTo>
                      <a:lnTo>
                        <a:pt x="166" y="868"/>
                      </a:lnTo>
                      <a:lnTo>
                        <a:pt x="152" y="853"/>
                      </a:lnTo>
                      <a:lnTo>
                        <a:pt x="138" y="853"/>
                      </a:lnTo>
                      <a:lnTo>
                        <a:pt x="124" y="838"/>
                      </a:lnTo>
                      <a:lnTo>
                        <a:pt x="111" y="838"/>
                      </a:lnTo>
                      <a:lnTo>
                        <a:pt x="111" y="821"/>
                      </a:lnTo>
                      <a:lnTo>
                        <a:pt x="97" y="806"/>
                      </a:lnTo>
                      <a:lnTo>
                        <a:pt x="97" y="789"/>
                      </a:lnTo>
                      <a:lnTo>
                        <a:pt x="83" y="774"/>
                      </a:lnTo>
                      <a:lnTo>
                        <a:pt x="83" y="759"/>
                      </a:lnTo>
                      <a:lnTo>
                        <a:pt x="69" y="742"/>
                      </a:lnTo>
                      <a:lnTo>
                        <a:pt x="55" y="727"/>
                      </a:lnTo>
                      <a:lnTo>
                        <a:pt x="41" y="727"/>
                      </a:lnTo>
                      <a:lnTo>
                        <a:pt x="41" y="710"/>
                      </a:lnTo>
                      <a:lnTo>
                        <a:pt x="55" y="710"/>
                      </a:lnTo>
                      <a:lnTo>
                        <a:pt x="55" y="695"/>
                      </a:lnTo>
                      <a:lnTo>
                        <a:pt x="41" y="695"/>
                      </a:lnTo>
                      <a:lnTo>
                        <a:pt x="28" y="695"/>
                      </a:lnTo>
                      <a:lnTo>
                        <a:pt x="14" y="695"/>
                      </a:lnTo>
                      <a:lnTo>
                        <a:pt x="28" y="680"/>
                      </a:lnTo>
                      <a:lnTo>
                        <a:pt x="41" y="680"/>
                      </a:lnTo>
                      <a:lnTo>
                        <a:pt x="55" y="663"/>
                      </a:lnTo>
                      <a:lnTo>
                        <a:pt x="28" y="648"/>
                      </a:lnTo>
                      <a:lnTo>
                        <a:pt x="14" y="648"/>
                      </a:lnTo>
                      <a:lnTo>
                        <a:pt x="0" y="616"/>
                      </a:lnTo>
                      <a:lnTo>
                        <a:pt x="0" y="601"/>
                      </a:lnTo>
                      <a:lnTo>
                        <a:pt x="0" y="584"/>
                      </a:lnTo>
                      <a:lnTo>
                        <a:pt x="14" y="569"/>
                      </a:lnTo>
                      <a:lnTo>
                        <a:pt x="28" y="584"/>
                      </a:lnTo>
                      <a:lnTo>
                        <a:pt x="28" y="601"/>
                      </a:lnTo>
                      <a:lnTo>
                        <a:pt x="28" y="616"/>
                      </a:lnTo>
                      <a:lnTo>
                        <a:pt x="41" y="616"/>
                      </a:lnTo>
                      <a:lnTo>
                        <a:pt x="41" y="601"/>
                      </a:lnTo>
                      <a:lnTo>
                        <a:pt x="41" y="584"/>
                      </a:lnTo>
                      <a:lnTo>
                        <a:pt x="41" y="569"/>
                      </a:lnTo>
                      <a:lnTo>
                        <a:pt x="41" y="537"/>
                      </a:lnTo>
                      <a:lnTo>
                        <a:pt x="28" y="505"/>
                      </a:lnTo>
                      <a:lnTo>
                        <a:pt x="14" y="458"/>
                      </a:lnTo>
                      <a:lnTo>
                        <a:pt x="14" y="427"/>
                      </a:lnTo>
                      <a:lnTo>
                        <a:pt x="28" y="411"/>
                      </a:lnTo>
                      <a:lnTo>
                        <a:pt x="41" y="395"/>
                      </a:lnTo>
                      <a:lnTo>
                        <a:pt x="41" y="380"/>
                      </a:lnTo>
                      <a:lnTo>
                        <a:pt x="55" y="348"/>
                      </a:lnTo>
                      <a:lnTo>
                        <a:pt x="83" y="301"/>
                      </a:lnTo>
                      <a:lnTo>
                        <a:pt x="111" y="269"/>
                      </a:lnTo>
                      <a:lnTo>
                        <a:pt x="124" y="254"/>
                      </a:lnTo>
                      <a:lnTo>
                        <a:pt x="138" y="254"/>
                      </a:lnTo>
                      <a:lnTo>
                        <a:pt x="166" y="222"/>
                      </a:lnTo>
                      <a:lnTo>
                        <a:pt x="180" y="207"/>
                      </a:lnTo>
                      <a:lnTo>
                        <a:pt x="166" y="190"/>
                      </a:lnTo>
                      <a:lnTo>
                        <a:pt x="166" y="175"/>
                      </a:lnTo>
                      <a:lnTo>
                        <a:pt x="180" y="128"/>
                      </a:lnTo>
                      <a:lnTo>
                        <a:pt x="194" y="128"/>
                      </a:lnTo>
                      <a:lnTo>
                        <a:pt x="194" y="111"/>
                      </a:lnTo>
                      <a:lnTo>
                        <a:pt x="207" y="111"/>
                      </a:lnTo>
                      <a:lnTo>
                        <a:pt x="235" y="96"/>
                      </a:lnTo>
                      <a:lnTo>
                        <a:pt x="235" y="79"/>
                      </a:lnTo>
                      <a:lnTo>
                        <a:pt x="249" y="64"/>
                      </a:lnTo>
                      <a:lnTo>
                        <a:pt x="263" y="49"/>
                      </a:lnTo>
                      <a:lnTo>
                        <a:pt x="276" y="64"/>
                      </a:lnTo>
                      <a:lnTo>
                        <a:pt x="290" y="64"/>
                      </a:lnTo>
                      <a:lnTo>
                        <a:pt x="304" y="64"/>
                      </a:lnTo>
                      <a:lnTo>
                        <a:pt x="332" y="64"/>
                      </a:lnTo>
                      <a:lnTo>
                        <a:pt x="359" y="64"/>
                      </a:lnTo>
                      <a:lnTo>
                        <a:pt x="373" y="64"/>
                      </a:lnTo>
                      <a:lnTo>
                        <a:pt x="373" y="49"/>
                      </a:lnTo>
                      <a:lnTo>
                        <a:pt x="373" y="32"/>
                      </a:lnTo>
                      <a:lnTo>
                        <a:pt x="387" y="32"/>
                      </a:lnTo>
                      <a:lnTo>
                        <a:pt x="429" y="0"/>
                      </a:lnTo>
                      <a:lnTo>
                        <a:pt x="470" y="0"/>
                      </a:lnTo>
                      <a:lnTo>
                        <a:pt x="512" y="32"/>
                      </a:lnTo>
                      <a:lnTo>
                        <a:pt x="567" y="32"/>
                      </a:lnTo>
                      <a:lnTo>
                        <a:pt x="595" y="49"/>
                      </a:lnTo>
                      <a:lnTo>
                        <a:pt x="581" y="79"/>
                      </a:lnTo>
                      <a:lnTo>
                        <a:pt x="581" y="96"/>
                      </a:lnTo>
                      <a:lnTo>
                        <a:pt x="595" y="111"/>
                      </a:lnTo>
                      <a:lnTo>
                        <a:pt x="608" y="111"/>
                      </a:lnTo>
                      <a:lnTo>
                        <a:pt x="622" y="128"/>
                      </a:lnTo>
                      <a:lnTo>
                        <a:pt x="636" y="128"/>
                      </a:lnTo>
                      <a:lnTo>
                        <a:pt x="664" y="128"/>
                      </a:lnTo>
                      <a:lnTo>
                        <a:pt x="691" y="143"/>
                      </a:lnTo>
                      <a:lnTo>
                        <a:pt x="691" y="158"/>
                      </a:lnTo>
                      <a:lnTo>
                        <a:pt x="705" y="158"/>
                      </a:lnTo>
                      <a:lnTo>
                        <a:pt x="705" y="175"/>
                      </a:lnTo>
                      <a:lnTo>
                        <a:pt x="719" y="175"/>
                      </a:lnTo>
                      <a:lnTo>
                        <a:pt x="733" y="175"/>
                      </a:lnTo>
                      <a:lnTo>
                        <a:pt x="747" y="190"/>
                      </a:lnTo>
                      <a:lnTo>
                        <a:pt x="761" y="190"/>
                      </a:lnTo>
                      <a:lnTo>
                        <a:pt x="774" y="207"/>
                      </a:lnTo>
                      <a:lnTo>
                        <a:pt x="790" y="190"/>
                      </a:lnTo>
                      <a:lnTo>
                        <a:pt x="790" y="158"/>
                      </a:lnTo>
                      <a:lnTo>
                        <a:pt x="790" y="143"/>
                      </a:lnTo>
                      <a:lnTo>
                        <a:pt x="803" y="143"/>
                      </a:lnTo>
                      <a:lnTo>
                        <a:pt x="803" y="128"/>
                      </a:lnTo>
                      <a:lnTo>
                        <a:pt x="817" y="128"/>
                      </a:lnTo>
                      <a:lnTo>
                        <a:pt x="845" y="128"/>
                      </a:lnTo>
                      <a:lnTo>
                        <a:pt x="886" y="158"/>
                      </a:lnTo>
                      <a:lnTo>
                        <a:pt x="914" y="175"/>
                      </a:lnTo>
                      <a:lnTo>
                        <a:pt x="942" y="175"/>
                      </a:lnTo>
                      <a:lnTo>
                        <a:pt x="969" y="175"/>
                      </a:lnTo>
                      <a:lnTo>
                        <a:pt x="997" y="158"/>
                      </a:lnTo>
                      <a:lnTo>
                        <a:pt x="1025" y="158"/>
                      </a:lnTo>
                      <a:lnTo>
                        <a:pt x="1025" y="175"/>
                      </a:lnTo>
                      <a:lnTo>
                        <a:pt x="1039" y="207"/>
                      </a:lnTo>
                      <a:lnTo>
                        <a:pt x="1039" y="22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5294160" y="3346560"/>
                  <a:ext cx="6480" cy="15840"/>
                </a:xfrm>
                <a:custGeom>
                  <a:avLst/>
                  <a:gdLst/>
                  <a:ahLst/>
                  <a:rect l="l" t="t" r="r" b="b"/>
                  <a:pathLst>
                    <a:path w="13" h="31">
                      <a:moveTo>
                        <a:pt x="13" y="0"/>
                      </a:moveTo>
                      <a:lnTo>
                        <a:pt x="0" y="16"/>
                      </a:lnTo>
                      <a:lnTo>
                        <a:pt x="0" y="31"/>
                      </a:lnTo>
                      <a:lnTo>
                        <a:pt x="0" y="16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5294160" y="3346560"/>
                  <a:ext cx="6480" cy="15840"/>
                </a:xfrm>
                <a:custGeom>
                  <a:avLst/>
                  <a:gdLst/>
                  <a:ahLst/>
                  <a:rect l="l" t="t" r="r" b="b"/>
                  <a:pathLst>
                    <a:path w="13" h="31">
                      <a:moveTo>
                        <a:pt x="13" y="0"/>
                      </a:moveTo>
                      <a:lnTo>
                        <a:pt x="0" y="16"/>
                      </a:lnTo>
                      <a:lnTo>
                        <a:pt x="0" y="31"/>
                      </a:lnTo>
                      <a:lnTo>
                        <a:pt x="0" y="16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8234280" y="3346560"/>
                  <a:ext cx="14400" cy="25200"/>
                </a:xfrm>
                <a:custGeom>
                  <a:avLst/>
                  <a:gdLst/>
                  <a:ahLst/>
                  <a:rect l="l" t="t" r="r" b="b"/>
                  <a:pathLst>
                    <a:path w="27" h="48">
                      <a:moveTo>
                        <a:pt x="0" y="0"/>
                      </a:moveTo>
                      <a:lnTo>
                        <a:pt x="13" y="16"/>
                      </a:lnTo>
                      <a:lnTo>
                        <a:pt x="27" y="31"/>
                      </a:lnTo>
                      <a:lnTo>
                        <a:pt x="27" y="48"/>
                      </a:lnTo>
                      <a:lnTo>
                        <a:pt x="0" y="48"/>
                      </a:lnTo>
                      <a:lnTo>
                        <a:pt x="0" y="31"/>
                      </a:lnTo>
                      <a:lnTo>
                        <a:pt x="0" y="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8234280" y="3346560"/>
                  <a:ext cx="14400" cy="25200"/>
                </a:xfrm>
                <a:custGeom>
                  <a:avLst/>
                  <a:gdLst/>
                  <a:ahLst/>
                  <a:rect l="l" t="t" r="r" b="b"/>
                  <a:pathLst>
                    <a:path w="27" h="48">
                      <a:moveTo>
                        <a:pt x="0" y="0"/>
                      </a:moveTo>
                      <a:lnTo>
                        <a:pt x="13" y="16"/>
                      </a:lnTo>
                      <a:lnTo>
                        <a:pt x="27" y="31"/>
                      </a:lnTo>
                      <a:lnTo>
                        <a:pt x="27" y="48"/>
                      </a:lnTo>
                      <a:lnTo>
                        <a:pt x="0" y="48"/>
                      </a:lnTo>
                      <a:lnTo>
                        <a:pt x="0" y="31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6210360" y="3354480"/>
                  <a:ext cx="58680" cy="17280"/>
                </a:xfrm>
                <a:custGeom>
                  <a:avLst/>
                  <a:gdLst/>
                  <a:ahLst/>
                  <a:rect l="l" t="t" r="r" b="b"/>
                  <a:pathLst>
                    <a:path w="111" h="32">
                      <a:moveTo>
                        <a:pt x="42" y="0"/>
                      </a:moveTo>
                      <a:lnTo>
                        <a:pt x="69" y="0"/>
                      </a:lnTo>
                      <a:lnTo>
                        <a:pt x="83" y="15"/>
                      </a:lnTo>
                      <a:lnTo>
                        <a:pt x="111" y="32"/>
                      </a:lnTo>
                      <a:lnTo>
                        <a:pt x="97" y="32"/>
                      </a:lnTo>
                      <a:lnTo>
                        <a:pt x="69" y="32"/>
                      </a:lnTo>
                      <a:lnTo>
                        <a:pt x="42" y="15"/>
                      </a:lnTo>
                      <a:lnTo>
                        <a:pt x="0" y="0"/>
                      </a:lnTo>
                      <a:lnTo>
                        <a:pt x="28" y="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6210360" y="3354480"/>
                  <a:ext cx="58680" cy="17280"/>
                </a:xfrm>
                <a:custGeom>
                  <a:avLst/>
                  <a:gdLst/>
                  <a:ahLst/>
                  <a:rect l="l" t="t" r="r" b="b"/>
                  <a:pathLst>
                    <a:path w="111" h="32">
                      <a:moveTo>
                        <a:pt x="42" y="0"/>
                      </a:moveTo>
                      <a:lnTo>
                        <a:pt x="69" y="0"/>
                      </a:lnTo>
                      <a:lnTo>
                        <a:pt x="83" y="15"/>
                      </a:lnTo>
                      <a:lnTo>
                        <a:pt x="111" y="32"/>
                      </a:lnTo>
                      <a:lnTo>
                        <a:pt x="97" y="32"/>
                      </a:lnTo>
                      <a:lnTo>
                        <a:pt x="69" y="32"/>
                      </a:lnTo>
                      <a:lnTo>
                        <a:pt x="42" y="15"/>
                      </a:lnTo>
                      <a:lnTo>
                        <a:pt x="0" y="0"/>
                      </a:lnTo>
                      <a:lnTo>
                        <a:pt x="28" y="0"/>
                      </a:lnTo>
                      <a:lnTo>
                        <a:pt x="4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8358120" y="3371760"/>
                  <a:ext cx="58680" cy="82800"/>
                </a:xfrm>
                <a:custGeom>
                  <a:avLst/>
                  <a:gdLst/>
                  <a:ahLst/>
                  <a:rect l="l" t="t" r="r" b="b"/>
                  <a:pathLst>
                    <a:path w="110" h="158">
                      <a:moveTo>
                        <a:pt x="41" y="0"/>
                      </a:moveTo>
                      <a:lnTo>
                        <a:pt x="41" y="15"/>
                      </a:lnTo>
                      <a:lnTo>
                        <a:pt x="55" y="31"/>
                      </a:lnTo>
                      <a:lnTo>
                        <a:pt x="41" y="62"/>
                      </a:lnTo>
                      <a:lnTo>
                        <a:pt x="41" y="94"/>
                      </a:lnTo>
                      <a:lnTo>
                        <a:pt x="55" y="126"/>
                      </a:lnTo>
                      <a:lnTo>
                        <a:pt x="69" y="126"/>
                      </a:lnTo>
                      <a:lnTo>
                        <a:pt x="83" y="126"/>
                      </a:lnTo>
                      <a:lnTo>
                        <a:pt x="97" y="126"/>
                      </a:lnTo>
                      <a:lnTo>
                        <a:pt x="97" y="141"/>
                      </a:lnTo>
                      <a:lnTo>
                        <a:pt x="110" y="158"/>
                      </a:lnTo>
                      <a:lnTo>
                        <a:pt x="97" y="158"/>
                      </a:lnTo>
                      <a:lnTo>
                        <a:pt x="83" y="158"/>
                      </a:lnTo>
                      <a:lnTo>
                        <a:pt x="83" y="141"/>
                      </a:lnTo>
                      <a:lnTo>
                        <a:pt x="69" y="126"/>
                      </a:lnTo>
                      <a:lnTo>
                        <a:pt x="69" y="141"/>
                      </a:lnTo>
                      <a:lnTo>
                        <a:pt x="41" y="141"/>
                      </a:lnTo>
                      <a:lnTo>
                        <a:pt x="27" y="126"/>
                      </a:lnTo>
                      <a:lnTo>
                        <a:pt x="27" y="109"/>
                      </a:lnTo>
                      <a:lnTo>
                        <a:pt x="14" y="94"/>
                      </a:lnTo>
                      <a:lnTo>
                        <a:pt x="14" y="79"/>
                      </a:lnTo>
                      <a:lnTo>
                        <a:pt x="0" y="62"/>
                      </a:lnTo>
                      <a:lnTo>
                        <a:pt x="0" y="31"/>
                      </a:lnTo>
                      <a:lnTo>
                        <a:pt x="0" y="15"/>
                      </a:lnTo>
                      <a:lnTo>
                        <a:pt x="14" y="0"/>
                      </a:lnTo>
                      <a:lnTo>
                        <a:pt x="27" y="0"/>
                      </a:lnTo>
                      <a:lnTo>
                        <a:pt x="41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8358120" y="3371760"/>
                  <a:ext cx="58680" cy="82800"/>
                </a:xfrm>
                <a:custGeom>
                  <a:avLst/>
                  <a:gdLst/>
                  <a:ahLst/>
                  <a:rect l="l" t="t" r="r" b="b"/>
                  <a:pathLst>
                    <a:path w="110" h="158">
                      <a:moveTo>
                        <a:pt x="41" y="0"/>
                      </a:moveTo>
                      <a:lnTo>
                        <a:pt x="41" y="15"/>
                      </a:lnTo>
                      <a:lnTo>
                        <a:pt x="55" y="31"/>
                      </a:lnTo>
                      <a:lnTo>
                        <a:pt x="41" y="62"/>
                      </a:lnTo>
                      <a:lnTo>
                        <a:pt x="41" y="94"/>
                      </a:lnTo>
                      <a:lnTo>
                        <a:pt x="55" y="126"/>
                      </a:lnTo>
                      <a:lnTo>
                        <a:pt x="69" y="126"/>
                      </a:lnTo>
                      <a:lnTo>
                        <a:pt x="83" y="126"/>
                      </a:lnTo>
                      <a:lnTo>
                        <a:pt x="97" y="126"/>
                      </a:lnTo>
                      <a:lnTo>
                        <a:pt x="97" y="141"/>
                      </a:lnTo>
                      <a:lnTo>
                        <a:pt x="110" y="158"/>
                      </a:lnTo>
                      <a:lnTo>
                        <a:pt x="97" y="158"/>
                      </a:lnTo>
                      <a:lnTo>
                        <a:pt x="83" y="158"/>
                      </a:lnTo>
                      <a:lnTo>
                        <a:pt x="83" y="141"/>
                      </a:lnTo>
                      <a:lnTo>
                        <a:pt x="69" y="126"/>
                      </a:lnTo>
                      <a:lnTo>
                        <a:pt x="69" y="141"/>
                      </a:lnTo>
                      <a:lnTo>
                        <a:pt x="41" y="141"/>
                      </a:lnTo>
                      <a:lnTo>
                        <a:pt x="27" y="126"/>
                      </a:lnTo>
                      <a:lnTo>
                        <a:pt x="27" y="109"/>
                      </a:lnTo>
                      <a:lnTo>
                        <a:pt x="14" y="94"/>
                      </a:lnTo>
                      <a:lnTo>
                        <a:pt x="14" y="79"/>
                      </a:lnTo>
                      <a:lnTo>
                        <a:pt x="0" y="62"/>
                      </a:lnTo>
                      <a:lnTo>
                        <a:pt x="0" y="31"/>
                      </a:lnTo>
                      <a:lnTo>
                        <a:pt x="0" y="15"/>
                      </a:lnTo>
                      <a:lnTo>
                        <a:pt x="14" y="0"/>
                      </a:lnTo>
                      <a:lnTo>
                        <a:pt x="27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8416800" y="345456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14" h="15">
                      <a:moveTo>
                        <a:pt x="0" y="0"/>
                      </a:moveTo>
                      <a:lnTo>
                        <a:pt x="0" y="15"/>
                      </a:lnTo>
                      <a:lnTo>
                        <a:pt x="14" y="15"/>
                      </a:lnTo>
                      <a:lnTo>
                        <a:pt x="0" y="1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8416800" y="345456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14" h="15">
                      <a:moveTo>
                        <a:pt x="0" y="0"/>
                      </a:moveTo>
                      <a:lnTo>
                        <a:pt x="0" y="15"/>
                      </a:lnTo>
                      <a:lnTo>
                        <a:pt x="14" y="15"/>
                      </a:lnTo>
                      <a:lnTo>
                        <a:pt x="0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8335800" y="3470400"/>
                  <a:ext cx="30240" cy="50760"/>
                </a:xfrm>
                <a:custGeom>
                  <a:avLst/>
                  <a:gdLst/>
                  <a:ahLst/>
                  <a:rect l="l" t="t" r="r" b="b"/>
                  <a:pathLst>
                    <a:path w="56" h="96">
                      <a:moveTo>
                        <a:pt x="56" y="0"/>
                      </a:moveTo>
                      <a:lnTo>
                        <a:pt x="42" y="32"/>
                      </a:lnTo>
                      <a:lnTo>
                        <a:pt x="28" y="64"/>
                      </a:lnTo>
                      <a:lnTo>
                        <a:pt x="14" y="96"/>
                      </a:lnTo>
                      <a:lnTo>
                        <a:pt x="0" y="79"/>
                      </a:lnTo>
                      <a:lnTo>
                        <a:pt x="14" y="79"/>
                      </a:lnTo>
                      <a:lnTo>
                        <a:pt x="14" y="64"/>
                      </a:lnTo>
                      <a:lnTo>
                        <a:pt x="28" y="49"/>
                      </a:lnTo>
                      <a:lnTo>
                        <a:pt x="42" y="49"/>
                      </a:lnTo>
                      <a:lnTo>
                        <a:pt x="42" y="32"/>
                      </a:lnTo>
                      <a:lnTo>
                        <a:pt x="56" y="17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8335800" y="3470400"/>
                  <a:ext cx="30240" cy="50760"/>
                </a:xfrm>
                <a:custGeom>
                  <a:avLst/>
                  <a:gdLst/>
                  <a:ahLst/>
                  <a:rect l="l" t="t" r="r" b="b"/>
                  <a:pathLst>
                    <a:path w="56" h="96">
                      <a:moveTo>
                        <a:pt x="56" y="0"/>
                      </a:moveTo>
                      <a:lnTo>
                        <a:pt x="42" y="32"/>
                      </a:lnTo>
                      <a:lnTo>
                        <a:pt x="28" y="64"/>
                      </a:lnTo>
                      <a:lnTo>
                        <a:pt x="14" y="96"/>
                      </a:lnTo>
                      <a:lnTo>
                        <a:pt x="0" y="79"/>
                      </a:lnTo>
                      <a:lnTo>
                        <a:pt x="14" y="79"/>
                      </a:lnTo>
                      <a:lnTo>
                        <a:pt x="14" y="64"/>
                      </a:lnTo>
                      <a:lnTo>
                        <a:pt x="28" y="49"/>
                      </a:lnTo>
                      <a:lnTo>
                        <a:pt x="42" y="49"/>
                      </a:lnTo>
                      <a:lnTo>
                        <a:pt x="42" y="32"/>
                      </a:lnTo>
                      <a:lnTo>
                        <a:pt x="56" y="17"/>
                      </a:lnTo>
                      <a:lnTo>
                        <a:pt x="56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5484960" y="2619360"/>
                  <a:ext cx="1150920" cy="1785960"/>
                </a:xfrm>
                <a:custGeom>
                  <a:avLst/>
                  <a:gdLst/>
                  <a:ahLst/>
                  <a:rect l="l" t="t" r="r" b="b"/>
                  <a:pathLst>
                    <a:path w="2176" h="3375">
                      <a:moveTo>
                        <a:pt x="1275" y="1687"/>
                      </a:moveTo>
                      <a:lnTo>
                        <a:pt x="1289" y="1687"/>
                      </a:lnTo>
                      <a:lnTo>
                        <a:pt x="1303" y="1672"/>
                      </a:lnTo>
                      <a:lnTo>
                        <a:pt x="1317" y="1657"/>
                      </a:lnTo>
                      <a:lnTo>
                        <a:pt x="1317" y="1640"/>
                      </a:lnTo>
                      <a:lnTo>
                        <a:pt x="1331" y="1625"/>
                      </a:lnTo>
                      <a:lnTo>
                        <a:pt x="1345" y="1625"/>
                      </a:lnTo>
                      <a:lnTo>
                        <a:pt x="1345" y="1608"/>
                      </a:lnTo>
                      <a:lnTo>
                        <a:pt x="1358" y="1608"/>
                      </a:lnTo>
                      <a:lnTo>
                        <a:pt x="1372" y="1625"/>
                      </a:lnTo>
                      <a:lnTo>
                        <a:pt x="1386" y="1625"/>
                      </a:lnTo>
                      <a:lnTo>
                        <a:pt x="1400" y="1625"/>
                      </a:lnTo>
                      <a:lnTo>
                        <a:pt x="1400" y="1657"/>
                      </a:lnTo>
                      <a:lnTo>
                        <a:pt x="1400" y="1672"/>
                      </a:lnTo>
                      <a:lnTo>
                        <a:pt x="1386" y="1657"/>
                      </a:lnTo>
                      <a:lnTo>
                        <a:pt x="1386" y="1640"/>
                      </a:lnTo>
                      <a:lnTo>
                        <a:pt x="1400" y="1625"/>
                      </a:lnTo>
                      <a:lnTo>
                        <a:pt x="1414" y="1625"/>
                      </a:lnTo>
                      <a:lnTo>
                        <a:pt x="1428" y="1625"/>
                      </a:lnTo>
                      <a:lnTo>
                        <a:pt x="1441" y="1608"/>
                      </a:lnTo>
                      <a:lnTo>
                        <a:pt x="1428" y="1593"/>
                      </a:lnTo>
                      <a:lnTo>
                        <a:pt x="1441" y="1608"/>
                      </a:lnTo>
                      <a:lnTo>
                        <a:pt x="1455" y="1625"/>
                      </a:lnTo>
                      <a:lnTo>
                        <a:pt x="1469" y="1625"/>
                      </a:lnTo>
                      <a:lnTo>
                        <a:pt x="1483" y="1640"/>
                      </a:lnTo>
                      <a:lnTo>
                        <a:pt x="1497" y="1640"/>
                      </a:lnTo>
                      <a:lnTo>
                        <a:pt x="1511" y="1640"/>
                      </a:lnTo>
                      <a:lnTo>
                        <a:pt x="1552" y="1640"/>
                      </a:lnTo>
                      <a:lnTo>
                        <a:pt x="1580" y="1657"/>
                      </a:lnTo>
                      <a:lnTo>
                        <a:pt x="1621" y="1672"/>
                      </a:lnTo>
                      <a:lnTo>
                        <a:pt x="1607" y="1687"/>
                      </a:lnTo>
                      <a:lnTo>
                        <a:pt x="1621" y="1687"/>
                      </a:lnTo>
                      <a:lnTo>
                        <a:pt x="1635" y="1687"/>
                      </a:lnTo>
                      <a:lnTo>
                        <a:pt x="1649" y="1704"/>
                      </a:lnTo>
                      <a:lnTo>
                        <a:pt x="1663" y="1704"/>
                      </a:lnTo>
                      <a:lnTo>
                        <a:pt x="1663" y="1719"/>
                      </a:lnTo>
                      <a:lnTo>
                        <a:pt x="1663" y="1736"/>
                      </a:lnTo>
                      <a:lnTo>
                        <a:pt x="1663" y="1751"/>
                      </a:lnTo>
                      <a:lnTo>
                        <a:pt x="1663" y="1766"/>
                      </a:lnTo>
                      <a:lnTo>
                        <a:pt x="1690" y="1766"/>
                      </a:lnTo>
                      <a:lnTo>
                        <a:pt x="1704" y="1766"/>
                      </a:lnTo>
                      <a:lnTo>
                        <a:pt x="1733" y="1783"/>
                      </a:lnTo>
                      <a:lnTo>
                        <a:pt x="1775" y="1798"/>
                      </a:lnTo>
                      <a:lnTo>
                        <a:pt x="1816" y="1814"/>
                      </a:lnTo>
                      <a:lnTo>
                        <a:pt x="1830" y="1845"/>
                      </a:lnTo>
                      <a:lnTo>
                        <a:pt x="1844" y="1861"/>
                      </a:lnTo>
                      <a:lnTo>
                        <a:pt x="1844" y="1893"/>
                      </a:lnTo>
                      <a:lnTo>
                        <a:pt x="1830" y="1909"/>
                      </a:lnTo>
                      <a:lnTo>
                        <a:pt x="1802" y="1940"/>
                      </a:lnTo>
                      <a:lnTo>
                        <a:pt x="1789" y="1972"/>
                      </a:lnTo>
                      <a:lnTo>
                        <a:pt x="1802" y="1972"/>
                      </a:lnTo>
                      <a:lnTo>
                        <a:pt x="1816" y="1956"/>
                      </a:lnTo>
                      <a:lnTo>
                        <a:pt x="1830" y="1956"/>
                      </a:lnTo>
                      <a:lnTo>
                        <a:pt x="1830" y="1972"/>
                      </a:lnTo>
                      <a:lnTo>
                        <a:pt x="1844" y="1972"/>
                      </a:lnTo>
                      <a:lnTo>
                        <a:pt x="1858" y="1972"/>
                      </a:lnTo>
                      <a:lnTo>
                        <a:pt x="1872" y="1956"/>
                      </a:lnTo>
                      <a:lnTo>
                        <a:pt x="1899" y="1956"/>
                      </a:lnTo>
                      <a:lnTo>
                        <a:pt x="1913" y="1940"/>
                      </a:lnTo>
                      <a:lnTo>
                        <a:pt x="1927" y="1940"/>
                      </a:lnTo>
                      <a:lnTo>
                        <a:pt x="1955" y="1956"/>
                      </a:lnTo>
                      <a:lnTo>
                        <a:pt x="1968" y="1972"/>
                      </a:lnTo>
                      <a:lnTo>
                        <a:pt x="1955" y="1987"/>
                      </a:lnTo>
                      <a:lnTo>
                        <a:pt x="1955" y="2004"/>
                      </a:lnTo>
                      <a:lnTo>
                        <a:pt x="1955" y="2019"/>
                      </a:lnTo>
                      <a:lnTo>
                        <a:pt x="1996" y="2019"/>
                      </a:lnTo>
                      <a:lnTo>
                        <a:pt x="2051" y="2019"/>
                      </a:lnTo>
                      <a:lnTo>
                        <a:pt x="2093" y="2019"/>
                      </a:lnTo>
                      <a:lnTo>
                        <a:pt x="2107" y="2034"/>
                      </a:lnTo>
                      <a:lnTo>
                        <a:pt x="2107" y="2051"/>
                      </a:lnTo>
                      <a:lnTo>
                        <a:pt x="2121" y="2066"/>
                      </a:lnTo>
                      <a:lnTo>
                        <a:pt x="2134" y="2066"/>
                      </a:lnTo>
                      <a:lnTo>
                        <a:pt x="2148" y="2066"/>
                      </a:lnTo>
                      <a:lnTo>
                        <a:pt x="2162" y="2066"/>
                      </a:lnTo>
                      <a:lnTo>
                        <a:pt x="2176" y="2098"/>
                      </a:lnTo>
                      <a:lnTo>
                        <a:pt x="2162" y="2145"/>
                      </a:lnTo>
                      <a:lnTo>
                        <a:pt x="2148" y="2177"/>
                      </a:lnTo>
                      <a:lnTo>
                        <a:pt x="2134" y="2209"/>
                      </a:lnTo>
                      <a:lnTo>
                        <a:pt x="2121" y="2224"/>
                      </a:lnTo>
                      <a:lnTo>
                        <a:pt x="2121" y="2241"/>
                      </a:lnTo>
                      <a:lnTo>
                        <a:pt x="2107" y="2256"/>
                      </a:lnTo>
                      <a:lnTo>
                        <a:pt x="2107" y="2271"/>
                      </a:lnTo>
                      <a:lnTo>
                        <a:pt x="2093" y="2271"/>
                      </a:lnTo>
                      <a:lnTo>
                        <a:pt x="2093" y="2303"/>
                      </a:lnTo>
                      <a:lnTo>
                        <a:pt x="2093" y="2335"/>
                      </a:lnTo>
                      <a:lnTo>
                        <a:pt x="2093" y="2350"/>
                      </a:lnTo>
                      <a:lnTo>
                        <a:pt x="2079" y="2414"/>
                      </a:lnTo>
                      <a:lnTo>
                        <a:pt x="2065" y="2445"/>
                      </a:lnTo>
                      <a:lnTo>
                        <a:pt x="2051" y="2508"/>
                      </a:lnTo>
                      <a:lnTo>
                        <a:pt x="2051" y="2524"/>
                      </a:lnTo>
                      <a:lnTo>
                        <a:pt x="2038" y="2539"/>
                      </a:lnTo>
                      <a:lnTo>
                        <a:pt x="1996" y="2556"/>
                      </a:lnTo>
                      <a:lnTo>
                        <a:pt x="1968" y="2571"/>
                      </a:lnTo>
                      <a:lnTo>
                        <a:pt x="1955" y="2571"/>
                      </a:lnTo>
                      <a:lnTo>
                        <a:pt x="1941" y="2587"/>
                      </a:lnTo>
                      <a:lnTo>
                        <a:pt x="1927" y="2603"/>
                      </a:lnTo>
                      <a:lnTo>
                        <a:pt x="1913" y="2603"/>
                      </a:lnTo>
                      <a:lnTo>
                        <a:pt x="1899" y="2618"/>
                      </a:lnTo>
                      <a:lnTo>
                        <a:pt x="1899" y="2650"/>
                      </a:lnTo>
                      <a:lnTo>
                        <a:pt x="1899" y="2682"/>
                      </a:lnTo>
                      <a:lnTo>
                        <a:pt x="1899" y="2729"/>
                      </a:lnTo>
                      <a:lnTo>
                        <a:pt x="1885" y="2744"/>
                      </a:lnTo>
                      <a:lnTo>
                        <a:pt x="1885" y="2761"/>
                      </a:lnTo>
                      <a:lnTo>
                        <a:pt x="1872" y="2776"/>
                      </a:lnTo>
                      <a:lnTo>
                        <a:pt x="1872" y="2793"/>
                      </a:lnTo>
                      <a:lnTo>
                        <a:pt x="1858" y="2808"/>
                      </a:lnTo>
                      <a:lnTo>
                        <a:pt x="1858" y="2793"/>
                      </a:lnTo>
                      <a:lnTo>
                        <a:pt x="1872" y="2776"/>
                      </a:lnTo>
                      <a:lnTo>
                        <a:pt x="1885" y="2761"/>
                      </a:lnTo>
                      <a:lnTo>
                        <a:pt x="1872" y="2744"/>
                      </a:lnTo>
                      <a:lnTo>
                        <a:pt x="1858" y="2744"/>
                      </a:lnTo>
                      <a:lnTo>
                        <a:pt x="1872" y="2761"/>
                      </a:lnTo>
                      <a:lnTo>
                        <a:pt x="1858" y="2793"/>
                      </a:lnTo>
                      <a:lnTo>
                        <a:pt x="1844" y="2823"/>
                      </a:lnTo>
                      <a:lnTo>
                        <a:pt x="1830" y="2840"/>
                      </a:lnTo>
                      <a:lnTo>
                        <a:pt x="1830" y="2855"/>
                      </a:lnTo>
                      <a:lnTo>
                        <a:pt x="1816" y="2872"/>
                      </a:lnTo>
                      <a:lnTo>
                        <a:pt x="1802" y="2872"/>
                      </a:lnTo>
                      <a:lnTo>
                        <a:pt x="1789" y="2855"/>
                      </a:lnTo>
                      <a:lnTo>
                        <a:pt x="1761" y="2823"/>
                      </a:lnTo>
                      <a:lnTo>
                        <a:pt x="1733" y="2808"/>
                      </a:lnTo>
                      <a:lnTo>
                        <a:pt x="1733" y="2823"/>
                      </a:lnTo>
                      <a:lnTo>
                        <a:pt x="1747" y="2872"/>
                      </a:lnTo>
                      <a:lnTo>
                        <a:pt x="1775" y="2902"/>
                      </a:lnTo>
                      <a:lnTo>
                        <a:pt x="1789" y="2934"/>
                      </a:lnTo>
                      <a:lnTo>
                        <a:pt x="1775" y="2950"/>
                      </a:lnTo>
                      <a:lnTo>
                        <a:pt x="1747" y="2966"/>
                      </a:lnTo>
                      <a:lnTo>
                        <a:pt x="1733" y="2981"/>
                      </a:lnTo>
                      <a:lnTo>
                        <a:pt x="1718" y="2981"/>
                      </a:lnTo>
                      <a:lnTo>
                        <a:pt x="1704" y="2981"/>
                      </a:lnTo>
                      <a:lnTo>
                        <a:pt x="1690" y="2997"/>
                      </a:lnTo>
                      <a:lnTo>
                        <a:pt x="1704" y="3029"/>
                      </a:lnTo>
                      <a:lnTo>
                        <a:pt x="1690" y="3045"/>
                      </a:lnTo>
                      <a:lnTo>
                        <a:pt x="1677" y="3045"/>
                      </a:lnTo>
                      <a:lnTo>
                        <a:pt x="1663" y="3029"/>
                      </a:lnTo>
                      <a:lnTo>
                        <a:pt x="1635" y="3045"/>
                      </a:lnTo>
                      <a:lnTo>
                        <a:pt x="1635" y="3060"/>
                      </a:lnTo>
                      <a:lnTo>
                        <a:pt x="1649" y="3076"/>
                      </a:lnTo>
                      <a:lnTo>
                        <a:pt x="1663" y="3076"/>
                      </a:lnTo>
                      <a:lnTo>
                        <a:pt x="1677" y="3076"/>
                      </a:lnTo>
                      <a:lnTo>
                        <a:pt x="1677" y="3092"/>
                      </a:lnTo>
                      <a:lnTo>
                        <a:pt x="1663" y="3092"/>
                      </a:lnTo>
                      <a:lnTo>
                        <a:pt x="1649" y="3092"/>
                      </a:lnTo>
                      <a:lnTo>
                        <a:pt x="1649" y="3108"/>
                      </a:lnTo>
                      <a:lnTo>
                        <a:pt x="1663" y="3123"/>
                      </a:lnTo>
                      <a:lnTo>
                        <a:pt x="1663" y="3155"/>
                      </a:lnTo>
                      <a:lnTo>
                        <a:pt x="1649" y="3155"/>
                      </a:lnTo>
                      <a:lnTo>
                        <a:pt x="1635" y="3170"/>
                      </a:lnTo>
                      <a:lnTo>
                        <a:pt x="1635" y="3187"/>
                      </a:lnTo>
                      <a:lnTo>
                        <a:pt x="1649" y="3202"/>
                      </a:lnTo>
                      <a:lnTo>
                        <a:pt x="1677" y="3217"/>
                      </a:lnTo>
                      <a:lnTo>
                        <a:pt x="1677" y="3234"/>
                      </a:lnTo>
                      <a:lnTo>
                        <a:pt x="1649" y="3266"/>
                      </a:lnTo>
                      <a:lnTo>
                        <a:pt x="1635" y="3281"/>
                      </a:lnTo>
                      <a:lnTo>
                        <a:pt x="1649" y="3281"/>
                      </a:lnTo>
                      <a:lnTo>
                        <a:pt x="1663" y="3313"/>
                      </a:lnTo>
                      <a:lnTo>
                        <a:pt x="1663" y="3328"/>
                      </a:lnTo>
                      <a:lnTo>
                        <a:pt x="1663" y="3345"/>
                      </a:lnTo>
                      <a:lnTo>
                        <a:pt x="1649" y="3360"/>
                      </a:lnTo>
                      <a:lnTo>
                        <a:pt x="1635" y="3360"/>
                      </a:lnTo>
                      <a:lnTo>
                        <a:pt x="1607" y="3375"/>
                      </a:lnTo>
                      <a:lnTo>
                        <a:pt x="1621" y="3360"/>
                      </a:lnTo>
                      <a:lnTo>
                        <a:pt x="1607" y="3360"/>
                      </a:lnTo>
                      <a:lnTo>
                        <a:pt x="1594" y="3360"/>
                      </a:lnTo>
                      <a:lnTo>
                        <a:pt x="1580" y="3360"/>
                      </a:lnTo>
                      <a:lnTo>
                        <a:pt x="1594" y="3345"/>
                      </a:lnTo>
                      <a:lnTo>
                        <a:pt x="1594" y="3328"/>
                      </a:lnTo>
                      <a:lnTo>
                        <a:pt x="1566" y="3313"/>
                      </a:lnTo>
                      <a:lnTo>
                        <a:pt x="1538" y="3296"/>
                      </a:lnTo>
                      <a:lnTo>
                        <a:pt x="1524" y="3266"/>
                      </a:lnTo>
                      <a:lnTo>
                        <a:pt x="1511" y="3234"/>
                      </a:lnTo>
                      <a:lnTo>
                        <a:pt x="1524" y="3234"/>
                      </a:lnTo>
                      <a:lnTo>
                        <a:pt x="1538" y="3234"/>
                      </a:lnTo>
                      <a:lnTo>
                        <a:pt x="1538" y="3217"/>
                      </a:lnTo>
                      <a:lnTo>
                        <a:pt x="1524" y="3202"/>
                      </a:lnTo>
                      <a:lnTo>
                        <a:pt x="1511" y="3202"/>
                      </a:lnTo>
                      <a:lnTo>
                        <a:pt x="1497" y="3202"/>
                      </a:lnTo>
                      <a:lnTo>
                        <a:pt x="1483" y="3202"/>
                      </a:lnTo>
                      <a:lnTo>
                        <a:pt x="1483" y="3187"/>
                      </a:lnTo>
                      <a:lnTo>
                        <a:pt x="1497" y="3170"/>
                      </a:lnTo>
                      <a:lnTo>
                        <a:pt x="1511" y="3155"/>
                      </a:lnTo>
                      <a:lnTo>
                        <a:pt x="1524" y="3139"/>
                      </a:lnTo>
                      <a:lnTo>
                        <a:pt x="1511" y="3123"/>
                      </a:lnTo>
                      <a:lnTo>
                        <a:pt x="1511" y="3108"/>
                      </a:lnTo>
                      <a:lnTo>
                        <a:pt x="1511" y="3076"/>
                      </a:lnTo>
                      <a:lnTo>
                        <a:pt x="1511" y="3060"/>
                      </a:lnTo>
                      <a:lnTo>
                        <a:pt x="1497" y="3060"/>
                      </a:lnTo>
                      <a:lnTo>
                        <a:pt x="1483" y="3060"/>
                      </a:lnTo>
                      <a:lnTo>
                        <a:pt x="1469" y="3045"/>
                      </a:lnTo>
                      <a:lnTo>
                        <a:pt x="1469" y="3029"/>
                      </a:lnTo>
                      <a:lnTo>
                        <a:pt x="1469" y="3013"/>
                      </a:lnTo>
                      <a:lnTo>
                        <a:pt x="1469" y="2997"/>
                      </a:lnTo>
                      <a:lnTo>
                        <a:pt x="1455" y="2966"/>
                      </a:lnTo>
                      <a:lnTo>
                        <a:pt x="1441" y="2950"/>
                      </a:lnTo>
                      <a:lnTo>
                        <a:pt x="1455" y="2934"/>
                      </a:lnTo>
                      <a:lnTo>
                        <a:pt x="1455" y="2919"/>
                      </a:lnTo>
                      <a:lnTo>
                        <a:pt x="1455" y="2902"/>
                      </a:lnTo>
                      <a:lnTo>
                        <a:pt x="1455" y="2855"/>
                      </a:lnTo>
                      <a:lnTo>
                        <a:pt x="1455" y="2808"/>
                      </a:lnTo>
                      <a:lnTo>
                        <a:pt x="1455" y="2761"/>
                      </a:lnTo>
                      <a:lnTo>
                        <a:pt x="1455" y="2744"/>
                      </a:lnTo>
                      <a:lnTo>
                        <a:pt x="1455" y="2729"/>
                      </a:lnTo>
                      <a:lnTo>
                        <a:pt x="1441" y="2714"/>
                      </a:lnTo>
                      <a:lnTo>
                        <a:pt x="1455" y="2697"/>
                      </a:lnTo>
                      <a:lnTo>
                        <a:pt x="1455" y="2682"/>
                      </a:lnTo>
                      <a:lnTo>
                        <a:pt x="1455" y="2650"/>
                      </a:lnTo>
                      <a:lnTo>
                        <a:pt x="1455" y="2618"/>
                      </a:lnTo>
                      <a:lnTo>
                        <a:pt x="1455" y="2571"/>
                      </a:lnTo>
                      <a:lnTo>
                        <a:pt x="1441" y="2524"/>
                      </a:lnTo>
                      <a:lnTo>
                        <a:pt x="1428" y="2477"/>
                      </a:lnTo>
                      <a:lnTo>
                        <a:pt x="1414" y="2429"/>
                      </a:lnTo>
                      <a:lnTo>
                        <a:pt x="1414" y="2414"/>
                      </a:lnTo>
                      <a:lnTo>
                        <a:pt x="1400" y="2382"/>
                      </a:lnTo>
                      <a:lnTo>
                        <a:pt x="1358" y="2367"/>
                      </a:lnTo>
                      <a:lnTo>
                        <a:pt x="1331" y="2335"/>
                      </a:lnTo>
                      <a:lnTo>
                        <a:pt x="1303" y="2303"/>
                      </a:lnTo>
                      <a:lnTo>
                        <a:pt x="1303" y="2288"/>
                      </a:lnTo>
                      <a:lnTo>
                        <a:pt x="1289" y="2271"/>
                      </a:lnTo>
                      <a:lnTo>
                        <a:pt x="1275" y="2256"/>
                      </a:lnTo>
                      <a:lnTo>
                        <a:pt x="1275" y="2241"/>
                      </a:lnTo>
                      <a:lnTo>
                        <a:pt x="1248" y="2192"/>
                      </a:lnTo>
                      <a:lnTo>
                        <a:pt x="1234" y="2145"/>
                      </a:lnTo>
                      <a:lnTo>
                        <a:pt x="1220" y="2113"/>
                      </a:lnTo>
                      <a:lnTo>
                        <a:pt x="1206" y="2098"/>
                      </a:lnTo>
                      <a:lnTo>
                        <a:pt x="1192" y="2098"/>
                      </a:lnTo>
                      <a:lnTo>
                        <a:pt x="1192" y="2083"/>
                      </a:lnTo>
                      <a:lnTo>
                        <a:pt x="1192" y="2051"/>
                      </a:lnTo>
                      <a:lnTo>
                        <a:pt x="1206" y="2034"/>
                      </a:lnTo>
                      <a:lnTo>
                        <a:pt x="1206" y="2019"/>
                      </a:lnTo>
                      <a:lnTo>
                        <a:pt x="1206" y="2004"/>
                      </a:lnTo>
                      <a:lnTo>
                        <a:pt x="1220" y="1987"/>
                      </a:lnTo>
                      <a:lnTo>
                        <a:pt x="1220" y="1972"/>
                      </a:lnTo>
                      <a:lnTo>
                        <a:pt x="1206" y="1972"/>
                      </a:lnTo>
                      <a:lnTo>
                        <a:pt x="1206" y="1987"/>
                      </a:lnTo>
                      <a:lnTo>
                        <a:pt x="1192" y="1987"/>
                      </a:lnTo>
                      <a:lnTo>
                        <a:pt x="1192" y="1972"/>
                      </a:lnTo>
                      <a:lnTo>
                        <a:pt x="1192" y="1956"/>
                      </a:lnTo>
                      <a:lnTo>
                        <a:pt x="1192" y="1940"/>
                      </a:lnTo>
                      <a:lnTo>
                        <a:pt x="1206" y="1940"/>
                      </a:lnTo>
                      <a:lnTo>
                        <a:pt x="1206" y="1909"/>
                      </a:lnTo>
                      <a:lnTo>
                        <a:pt x="1220" y="1909"/>
                      </a:lnTo>
                      <a:lnTo>
                        <a:pt x="1234" y="1893"/>
                      </a:lnTo>
                      <a:lnTo>
                        <a:pt x="1234" y="1877"/>
                      </a:lnTo>
                      <a:lnTo>
                        <a:pt x="1248" y="1861"/>
                      </a:lnTo>
                      <a:lnTo>
                        <a:pt x="1262" y="1845"/>
                      </a:lnTo>
                      <a:lnTo>
                        <a:pt x="1275" y="1814"/>
                      </a:lnTo>
                      <a:lnTo>
                        <a:pt x="1262" y="1814"/>
                      </a:lnTo>
                      <a:lnTo>
                        <a:pt x="1262" y="1766"/>
                      </a:lnTo>
                      <a:lnTo>
                        <a:pt x="1262" y="1736"/>
                      </a:lnTo>
                      <a:lnTo>
                        <a:pt x="1262" y="1687"/>
                      </a:lnTo>
                      <a:lnTo>
                        <a:pt x="1248" y="1687"/>
                      </a:lnTo>
                      <a:lnTo>
                        <a:pt x="1234" y="1687"/>
                      </a:lnTo>
                      <a:lnTo>
                        <a:pt x="1220" y="1687"/>
                      </a:lnTo>
                      <a:lnTo>
                        <a:pt x="1206" y="1687"/>
                      </a:lnTo>
                      <a:lnTo>
                        <a:pt x="1179" y="1704"/>
                      </a:lnTo>
                      <a:lnTo>
                        <a:pt x="1151" y="1704"/>
                      </a:lnTo>
                      <a:lnTo>
                        <a:pt x="1151" y="1687"/>
                      </a:lnTo>
                      <a:lnTo>
                        <a:pt x="1137" y="1687"/>
                      </a:lnTo>
                      <a:lnTo>
                        <a:pt x="1123" y="1672"/>
                      </a:lnTo>
                      <a:lnTo>
                        <a:pt x="1109" y="1672"/>
                      </a:lnTo>
                      <a:lnTo>
                        <a:pt x="1096" y="1657"/>
                      </a:lnTo>
                      <a:lnTo>
                        <a:pt x="1096" y="1640"/>
                      </a:lnTo>
                      <a:lnTo>
                        <a:pt x="1096" y="1625"/>
                      </a:lnTo>
                      <a:lnTo>
                        <a:pt x="1096" y="1608"/>
                      </a:lnTo>
                      <a:lnTo>
                        <a:pt x="1082" y="1593"/>
                      </a:lnTo>
                      <a:lnTo>
                        <a:pt x="1068" y="1578"/>
                      </a:lnTo>
                      <a:lnTo>
                        <a:pt x="1068" y="1561"/>
                      </a:lnTo>
                      <a:lnTo>
                        <a:pt x="1054" y="1561"/>
                      </a:lnTo>
                      <a:lnTo>
                        <a:pt x="1026" y="1546"/>
                      </a:lnTo>
                      <a:lnTo>
                        <a:pt x="999" y="1546"/>
                      </a:lnTo>
                      <a:lnTo>
                        <a:pt x="971" y="1529"/>
                      </a:lnTo>
                      <a:lnTo>
                        <a:pt x="957" y="1499"/>
                      </a:lnTo>
                      <a:lnTo>
                        <a:pt x="944" y="1482"/>
                      </a:lnTo>
                      <a:lnTo>
                        <a:pt x="914" y="1482"/>
                      </a:lnTo>
                      <a:lnTo>
                        <a:pt x="873" y="1467"/>
                      </a:lnTo>
                      <a:lnTo>
                        <a:pt x="845" y="1467"/>
                      </a:lnTo>
                      <a:lnTo>
                        <a:pt x="804" y="1451"/>
                      </a:lnTo>
                      <a:lnTo>
                        <a:pt x="776" y="1451"/>
                      </a:lnTo>
                      <a:lnTo>
                        <a:pt x="748" y="1420"/>
                      </a:lnTo>
                      <a:lnTo>
                        <a:pt x="721" y="1403"/>
                      </a:lnTo>
                      <a:lnTo>
                        <a:pt x="707" y="1372"/>
                      </a:lnTo>
                      <a:lnTo>
                        <a:pt x="707" y="1356"/>
                      </a:lnTo>
                      <a:lnTo>
                        <a:pt x="707" y="1325"/>
                      </a:lnTo>
                      <a:lnTo>
                        <a:pt x="707" y="1293"/>
                      </a:lnTo>
                      <a:lnTo>
                        <a:pt x="693" y="1262"/>
                      </a:lnTo>
                      <a:lnTo>
                        <a:pt x="666" y="1246"/>
                      </a:lnTo>
                      <a:lnTo>
                        <a:pt x="652" y="1231"/>
                      </a:lnTo>
                      <a:lnTo>
                        <a:pt x="652" y="1214"/>
                      </a:lnTo>
                      <a:lnTo>
                        <a:pt x="638" y="1183"/>
                      </a:lnTo>
                      <a:lnTo>
                        <a:pt x="624" y="1167"/>
                      </a:lnTo>
                      <a:lnTo>
                        <a:pt x="610" y="1135"/>
                      </a:lnTo>
                      <a:lnTo>
                        <a:pt x="610" y="1120"/>
                      </a:lnTo>
                      <a:lnTo>
                        <a:pt x="610" y="1088"/>
                      </a:lnTo>
                      <a:lnTo>
                        <a:pt x="610" y="1073"/>
                      </a:lnTo>
                      <a:lnTo>
                        <a:pt x="610" y="1056"/>
                      </a:lnTo>
                      <a:lnTo>
                        <a:pt x="596" y="1056"/>
                      </a:lnTo>
                      <a:lnTo>
                        <a:pt x="583" y="1056"/>
                      </a:lnTo>
                      <a:lnTo>
                        <a:pt x="569" y="1088"/>
                      </a:lnTo>
                      <a:lnTo>
                        <a:pt x="583" y="1120"/>
                      </a:lnTo>
                      <a:lnTo>
                        <a:pt x="596" y="1152"/>
                      </a:lnTo>
                      <a:lnTo>
                        <a:pt x="596" y="1167"/>
                      </a:lnTo>
                      <a:lnTo>
                        <a:pt x="610" y="1214"/>
                      </a:lnTo>
                      <a:lnTo>
                        <a:pt x="624" y="1246"/>
                      </a:lnTo>
                      <a:lnTo>
                        <a:pt x="638" y="1293"/>
                      </a:lnTo>
                      <a:lnTo>
                        <a:pt x="624" y="1293"/>
                      </a:lnTo>
                      <a:lnTo>
                        <a:pt x="610" y="1278"/>
                      </a:lnTo>
                      <a:lnTo>
                        <a:pt x="596" y="1262"/>
                      </a:lnTo>
                      <a:lnTo>
                        <a:pt x="596" y="1246"/>
                      </a:lnTo>
                      <a:lnTo>
                        <a:pt x="596" y="1231"/>
                      </a:lnTo>
                      <a:lnTo>
                        <a:pt x="596" y="1214"/>
                      </a:lnTo>
                      <a:lnTo>
                        <a:pt x="583" y="1199"/>
                      </a:lnTo>
                      <a:lnTo>
                        <a:pt x="555" y="1183"/>
                      </a:lnTo>
                      <a:lnTo>
                        <a:pt x="555" y="1167"/>
                      </a:lnTo>
                      <a:lnTo>
                        <a:pt x="555" y="1152"/>
                      </a:lnTo>
                      <a:lnTo>
                        <a:pt x="569" y="1152"/>
                      </a:lnTo>
                      <a:lnTo>
                        <a:pt x="569" y="1135"/>
                      </a:lnTo>
                      <a:lnTo>
                        <a:pt x="555" y="1120"/>
                      </a:lnTo>
                      <a:lnTo>
                        <a:pt x="555" y="1105"/>
                      </a:lnTo>
                      <a:lnTo>
                        <a:pt x="541" y="1056"/>
                      </a:lnTo>
                      <a:lnTo>
                        <a:pt x="541" y="1026"/>
                      </a:lnTo>
                      <a:lnTo>
                        <a:pt x="527" y="994"/>
                      </a:lnTo>
                      <a:lnTo>
                        <a:pt x="513" y="994"/>
                      </a:lnTo>
                      <a:lnTo>
                        <a:pt x="500" y="994"/>
                      </a:lnTo>
                      <a:lnTo>
                        <a:pt x="486" y="977"/>
                      </a:lnTo>
                      <a:lnTo>
                        <a:pt x="500" y="977"/>
                      </a:lnTo>
                      <a:lnTo>
                        <a:pt x="500" y="962"/>
                      </a:lnTo>
                      <a:lnTo>
                        <a:pt x="500" y="947"/>
                      </a:lnTo>
                      <a:lnTo>
                        <a:pt x="513" y="898"/>
                      </a:lnTo>
                      <a:lnTo>
                        <a:pt x="513" y="868"/>
                      </a:lnTo>
                      <a:lnTo>
                        <a:pt x="500" y="868"/>
                      </a:lnTo>
                      <a:lnTo>
                        <a:pt x="486" y="851"/>
                      </a:lnTo>
                      <a:lnTo>
                        <a:pt x="472" y="851"/>
                      </a:lnTo>
                      <a:lnTo>
                        <a:pt x="472" y="836"/>
                      </a:lnTo>
                      <a:lnTo>
                        <a:pt x="486" y="836"/>
                      </a:lnTo>
                      <a:lnTo>
                        <a:pt x="486" y="820"/>
                      </a:lnTo>
                      <a:lnTo>
                        <a:pt x="486" y="804"/>
                      </a:lnTo>
                      <a:lnTo>
                        <a:pt x="486" y="789"/>
                      </a:lnTo>
                      <a:lnTo>
                        <a:pt x="500" y="773"/>
                      </a:lnTo>
                      <a:lnTo>
                        <a:pt x="500" y="757"/>
                      </a:lnTo>
                      <a:lnTo>
                        <a:pt x="513" y="757"/>
                      </a:lnTo>
                      <a:lnTo>
                        <a:pt x="513" y="741"/>
                      </a:lnTo>
                      <a:lnTo>
                        <a:pt x="513" y="725"/>
                      </a:lnTo>
                      <a:lnTo>
                        <a:pt x="527" y="725"/>
                      </a:lnTo>
                      <a:lnTo>
                        <a:pt x="527" y="710"/>
                      </a:lnTo>
                      <a:lnTo>
                        <a:pt x="555" y="694"/>
                      </a:lnTo>
                      <a:lnTo>
                        <a:pt x="569" y="662"/>
                      </a:lnTo>
                      <a:lnTo>
                        <a:pt x="569" y="647"/>
                      </a:lnTo>
                      <a:lnTo>
                        <a:pt x="569" y="631"/>
                      </a:lnTo>
                      <a:lnTo>
                        <a:pt x="596" y="615"/>
                      </a:lnTo>
                      <a:lnTo>
                        <a:pt x="624" y="600"/>
                      </a:lnTo>
                      <a:lnTo>
                        <a:pt x="610" y="600"/>
                      </a:lnTo>
                      <a:lnTo>
                        <a:pt x="596" y="615"/>
                      </a:lnTo>
                      <a:lnTo>
                        <a:pt x="596" y="631"/>
                      </a:lnTo>
                      <a:lnTo>
                        <a:pt x="624" y="600"/>
                      </a:lnTo>
                      <a:lnTo>
                        <a:pt x="638" y="568"/>
                      </a:lnTo>
                      <a:lnTo>
                        <a:pt x="624" y="521"/>
                      </a:lnTo>
                      <a:lnTo>
                        <a:pt x="610" y="521"/>
                      </a:lnTo>
                      <a:lnTo>
                        <a:pt x="596" y="521"/>
                      </a:lnTo>
                      <a:lnTo>
                        <a:pt x="569" y="521"/>
                      </a:lnTo>
                      <a:lnTo>
                        <a:pt x="583" y="504"/>
                      </a:lnTo>
                      <a:lnTo>
                        <a:pt x="596" y="504"/>
                      </a:lnTo>
                      <a:lnTo>
                        <a:pt x="610" y="489"/>
                      </a:lnTo>
                      <a:lnTo>
                        <a:pt x="610" y="457"/>
                      </a:lnTo>
                      <a:lnTo>
                        <a:pt x="596" y="457"/>
                      </a:lnTo>
                      <a:lnTo>
                        <a:pt x="583" y="442"/>
                      </a:lnTo>
                      <a:lnTo>
                        <a:pt x="596" y="442"/>
                      </a:lnTo>
                      <a:lnTo>
                        <a:pt x="610" y="410"/>
                      </a:lnTo>
                      <a:lnTo>
                        <a:pt x="624" y="395"/>
                      </a:lnTo>
                      <a:lnTo>
                        <a:pt x="610" y="395"/>
                      </a:lnTo>
                      <a:lnTo>
                        <a:pt x="610" y="410"/>
                      </a:lnTo>
                      <a:lnTo>
                        <a:pt x="583" y="425"/>
                      </a:lnTo>
                      <a:lnTo>
                        <a:pt x="583" y="410"/>
                      </a:lnTo>
                      <a:lnTo>
                        <a:pt x="596" y="410"/>
                      </a:lnTo>
                      <a:lnTo>
                        <a:pt x="610" y="395"/>
                      </a:lnTo>
                      <a:lnTo>
                        <a:pt x="596" y="395"/>
                      </a:lnTo>
                      <a:lnTo>
                        <a:pt x="583" y="395"/>
                      </a:lnTo>
                      <a:lnTo>
                        <a:pt x="583" y="378"/>
                      </a:lnTo>
                      <a:lnTo>
                        <a:pt x="596" y="378"/>
                      </a:lnTo>
                      <a:lnTo>
                        <a:pt x="596" y="346"/>
                      </a:lnTo>
                      <a:lnTo>
                        <a:pt x="610" y="331"/>
                      </a:lnTo>
                      <a:lnTo>
                        <a:pt x="610" y="299"/>
                      </a:lnTo>
                      <a:lnTo>
                        <a:pt x="596" y="316"/>
                      </a:lnTo>
                      <a:lnTo>
                        <a:pt x="583" y="331"/>
                      </a:lnTo>
                      <a:lnTo>
                        <a:pt x="569" y="331"/>
                      </a:lnTo>
                      <a:lnTo>
                        <a:pt x="555" y="299"/>
                      </a:lnTo>
                      <a:lnTo>
                        <a:pt x="541" y="284"/>
                      </a:lnTo>
                      <a:lnTo>
                        <a:pt x="527" y="299"/>
                      </a:lnTo>
                      <a:lnTo>
                        <a:pt x="500" y="284"/>
                      </a:lnTo>
                      <a:lnTo>
                        <a:pt x="472" y="267"/>
                      </a:lnTo>
                      <a:lnTo>
                        <a:pt x="430" y="252"/>
                      </a:lnTo>
                      <a:lnTo>
                        <a:pt x="417" y="267"/>
                      </a:lnTo>
                      <a:lnTo>
                        <a:pt x="361" y="299"/>
                      </a:lnTo>
                      <a:lnTo>
                        <a:pt x="320" y="316"/>
                      </a:lnTo>
                      <a:lnTo>
                        <a:pt x="306" y="316"/>
                      </a:lnTo>
                      <a:lnTo>
                        <a:pt x="320" y="284"/>
                      </a:lnTo>
                      <a:lnTo>
                        <a:pt x="375" y="267"/>
                      </a:lnTo>
                      <a:lnTo>
                        <a:pt x="417" y="252"/>
                      </a:lnTo>
                      <a:lnTo>
                        <a:pt x="389" y="252"/>
                      </a:lnTo>
                      <a:lnTo>
                        <a:pt x="389" y="267"/>
                      </a:lnTo>
                      <a:lnTo>
                        <a:pt x="375" y="252"/>
                      </a:lnTo>
                      <a:lnTo>
                        <a:pt x="347" y="267"/>
                      </a:lnTo>
                      <a:lnTo>
                        <a:pt x="320" y="284"/>
                      </a:lnTo>
                      <a:lnTo>
                        <a:pt x="306" y="284"/>
                      </a:lnTo>
                      <a:lnTo>
                        <a:pt x="306" y="299"/>
                      </a:lnTo>
                      <a:lnTo>
                        <a:pt x="292" y="299"/>
                      </a:lnTo>
                      <a:lnTo>
                        <a:pt x="264" y="331"/>
                      </a:lnTo>
                      <a:lnTo>
                        <a:pt x="237" y="346"/>
                      </a:lnTo>
                      <a:lnTo>
                        <a:pt x="209" y="346"/>
                      </a:lnTo>
                      <a:lnTo>
                        <a:pt x="181" y="363"/>
                      </a:lnTo>
                      <a:lnTo>
                        <a:pt x="168" y="363"/>
                      </a:lnTo>
                      <a:lnTo>
                        <a:pt x="140" y="378"/>
                      </a:lnTo>
                      <a:lnTo>
                        <a:pt x="97" y="395"/>
                      </a:lnTo>
                      <a:lnTo>
                        <a:pt x="69" y="410"/>
                      </a:lnTo>
                      <a:lnTo>
                        <a:pt x="28" y="410"/>
                      </a:lnTo>
                      <a:lnTo>
                        <a:pt x="0" y="425"/>
                      </a:lnTo>
                      <a:lnTo>
                        <a:pt x="0" y="410"/>
                      </a:lnTo>
                      <a:lnTo>
                        <a:pt x="14" y="410"/>
                      </a:lnTo>
                      <a:lnTo>
                        <a:pt x="28" y="395"/>
                      </a:lnTo>
                      <a:lnTo>
                        <a:pt x="56" y="395"/>
                      </a:lnTo>
                      <a:lnTo>
                        <a:pt x="69" y="395"/>
                      </a:lnTo>
                      <a:lnTo>
                        <a:pt x="83" y="395"/>
                      </a:lnTo>
                      <a:lnTo>
                        <a:pt x="111" y="378"/>
                      </a:lnTo>
                      <a:lnTo>
                        <a:pt x="125" y="363"/>
                      </a:lnTo>
                      <a:lnTo>
                        <a:pt x="140" y="363"/>
                      </a:lnTo>
                      <a:lnTo>
                        <a:pt x="154" y="363"/>
                      </a:lnTo>
                      <a:lnTo>
                        <a:pt x="168" y="346"/>
                      </a:lnTo>
                      <a:lnTo>
                        <a:pt x="181" y="346"/>
                      </a:lnTo>
                      <a:lnTo>
                        <a:pt x="195" y="331"/>
                      </a:lnTo>
                      <a:lnTo>
                        <a:pt x="209" y="331"/>
                      </a:lnTo>
                      <a:lnTo>
                        <a:pt x="223" y="316"/>
                      </a:lnTo>
                      <a:lnTo>
                        <a:pt x="209" y="316"/>
                      </a:lnTo>
                      <a:lnTo>
                        <a:pt x="195" y="316"/>
                      </a:lnTo>
                      <a:lnTo>
                        <a:pt x="181" y="331"/>
                      </a:lnTo>
                      <a:lnTo>
                        <a:pt x="168" y="331"/>
                      </a:lnTo>
                      <a:lnTo>
                        <a:pt x="168" y="316"/>
                      </a:lnTo>
                      <a:lnTo>
                        <a:pt x="154" y="316"/>
                      </a:lnTo>
                      <a:lnTo>
                        <a:pt x="140" y="316"/>
                      </a:lnTo>
                      <a:lnTo>
                        <a:pt x="140" y="299"/>
                      </a:lnTo>
                      <a:lnTo>
                        <a:pt x="154" y="284"/>
                      </a:lnTo>
                      <a:lnTo>
                        <a:pt x="168" y="267"/>
                      </a:lnTo>
                      <a:lnTo>
                        <a:pt x="154" y="267"/>
                      </a:lnTo>
                      <a:lnTo>
                        <a:pt x="125" y="299"/>
                      </a:lnTo>
                      <a:lnTo>
                        <a:pt x="111" y="299"/>
                      </a:lnTo>
                      <a:lnTo>
                        <a:pt x="125" y="284"/>
                      </a:lnTo>
                      <a:lnTo>
                        <a:pt x="140" y="284"/>
                      </a:lnTo>
                      <a:lnTo>
                        <a:pt x="154" y="267"/>
                      </a:lnTo>
                      <a:lnTo>
                        <a:pt x="140" y="252"/>
                      </a:lnTo>
                      <a:lnTo>
                        <a:pt x="125" y="252"/>
                      </a:lnTo>
                      <a:lnTo>
                        <a:pt x="154" y="237"/>
                      </a:lnTo>
                      <a:lnTo>
                        <a:pt x="168" y="220"/>
                      </a:lnTo>
                      <a:lnTo>
                        <a:pt x="195" y="205"/>
                      </a:lnTo>
                      <a:lnTo>
                        <a:pt x="209" y="205"/>
                      </a:lnTo>
                      <a:lnTo>
                        <a:pt x="237" y="205"/>
                      </a:lnTo>
                      <a:lnTo>
                        <a:pt x="264" y="189"/>
                      </a:lnTo>
                      <a:lnTo>
                        <a:pt x="292" y="173"/>
                      </a:lnTo>
                      <a:lnTo>
                        <a:pt x="278" y="173"/>
                      </a:lnTo>
                      <a:lnTo>
                        <a:pt x="251" y="189"/>
                      </a:lnTo>
                      <a:lnTo>
                        <a:pt x="237" y="173"/>
                      </a:lnTo>
                      <a:lnTo>
                        <a:pt x="223" y="173"/>
                      </a:lnTo>
                      <a:lnTo>
                        <a:pt x="209" y="158"/>
                      </a:lnTo>
                      <a:lnTo>
                        <a:pt x="195" y="142"/>
                      </a:lnTo>
                      <a:lnTo>
                        <a:pt x="223" y="126"/>
                      </a:lnTo>
                      <a:lnTo>
                        <a:pt x="251" y="126"/>
                      </a:lnTo>
                      <a:lnTo>
                        <a:pt x="292" y="126"/>
                      </a:lnTo>
                      <a:lnTo>
                        <a:pt x="334" y="126"/>
                      </a:lnTo>
                      <a:lnTo>
                        <a:pt x="347" y="126"/>
                      </a:lnTo>
                      <a:lnTo>
                        <a:pt x="347" y="142"/>
                      </a:lnTo>
                      <a:lnTo>
                        <a:pt x="361" y="126"/>
                      </a:lnTo>
                      <a:lnTo>
                        <a:pt x="334" y="110"/>
                      </a:lnTo>
                      <a:lnTo>
                        <a:pt x="320" y="110"/>
                      </a:lnTo>
                      <a:lnTo>
                        <a:pt x="306" y="95"/>
                      </a:lnTo>
                      <a:lnTo>
                        <a:pt x="306" y="79"/>
                      </a:lnTo>
                      <a:lnTo>
                        <a:pt x="320" y="79"/>
                      </a:lnTo>
                      <a:lnTo>
                        <a:pt x="334" y="79"/>
                      </a:lnTo>
                      <a:lnTo>
                        <a:pt x="361" y="63"/>
                      </a:lnTo>
                      <a:lnTo>
                        <a:pt x="417" y="63"/>
                      </a:lnTo>
                      <a:lnTo>
                        <a:pt x="444" y="47"/>
                      </a:lnTo>
                      <a:lnTo>
                        <a:pt x="472" y="47"/>
                      </a:lnTo>
                      <a:lnTo>
                        <a:pt x="500" y="31"/>
                      </a:lnTo>
                      <a:lnTo>
                        <a:pt x="527" y="31"/>
                      </a:lnTo>
                      <a:lnTo>
                        <a:pt x="541" y="31"/>
                      </a:lnTo>
                      <a:lnTo>
                        <a:pt x="555" y="16"/>
                      </a:lnTo>
                      <a:lnTo>
                        <a:pt x="569" y="16"/>
                      </a:lnTo>
                      <a:lnTo>
                        <a:pt x="555" y="31"/>
                      </a:lnTo>
                      <a:lnTo>
                        <a:pt x="569" y="31"/>
                      </a:lnTo>
                      <a:lnTo>
                        <a:pt x="583" y="31"/>
                      </a:lnTo>
                      <a:lnTo>
                        <a:pt x="569" y="31"/>
                      </a:lnTo>
                      <a:lnTo>
                        <a:pt x="583" y="31"/>
                      </a:lnTo>
                      <a:lnTo>
                        <a:pt x="596" y="47"/>
                      </a:lnTo>
                      <a:lnTo>
                        <a:pt x="638" y="47"/>
                      </a:lnTo>
                      <a:lnTo>
                        <a:pt x="666" y="47"/>
                      </a:lnTo>
                      <a:lnTo>
                        <a:pt x="707" y="63"/>
                      </a:lnTo>
                      <a:lnTo>
                        <a:pt x="735" y="79"/>
                      </a:lnTo>
                      <a:lnTo>
                        <a:pt x="776" y="79"/>
                      </a:lnTo>
                      <a:lnTo>
                        <a:pt x="818" y="79"/>
                      </a:lnTo>
                      <a:lnTo>
                        <a:pt x="831" y="79"/>
                      </a:lnTo>
                      <a:lnTo>
                        <a:pt x="845" y="79"/>
                      </a:lnTo>
                      <a:lnTo>
                        <a:pt x="859" y="63"/>
                      </a:lnTo>
                      <a:lnTo>
                        <a:pt x="873" y="63"/>
                      </a:lnTo>
                      <a:lnTo>
                        <a:pt x="859" y="63"/>
                      </a:lnTo>
                      <a:lnTo>
                        <a:pt x="845" y="63"/>
                      </a:lnTo>
                      <a:lnTo>
                        <a:pt x="845" y="79"/>
                      </a:lnTo>
                      <a:lnTo>
                        <a:pt x="887" y="79"/>
                      </a:lnTo>
                      <a:lnTo>
                        <a:pt x="914" y="63"/>
                      </a:lnTo>
                      <a:lnTo>
                        <a:pt x="944" y="47"/>
                      </a:lnTo>
                      <a:lnTo>
                        <a:pt x="957" y="63"/>
                      </a:lnTo>
                      <a:lnTo>
                        <a:pt x="971" y="63"/>
                      </a:lnTo>
                      <a:lnTo>
                        <a:pt x="985" y="63"/>
                      </a:lnTo>
                      <a:lnTo>
                        <a:pt x="999" y="47"/>
                      </a:lnTo>
                      <a:lnTo>
                        <a:pt x="1013" y="47"/>
                      </a:lnTo>
                      <a:lnTo>
                        <a:pt x="999" y="63"/>
                      </a:lnTo>
                      <a:lnTo>
                        <a:pt x="1013" y="63"/>
                      </a:lnTo>
                      <a:lnTo>
                        <a:pt x="1026" y="63"/>
                      </a:lnTo>
                      <a:lnTo>
                        <a:pt x="1054" y="63"/>
                      </a:lnTo>
                      <a:lnTo>
                        <a:pt x="1082" y="63"/>
                      </a:lnTo>
                      <a:lnTo>
                        <a:pt x="1096" y="79"/>
                      </a:lnTo>
                      <a:lnTo>
                        <a:pt x="1109" y="79"/>
                      </a:lnTo>
                      <a:lnTo>
                        <a:pt x="1123" y="79"/>
                      </a:lnTo>
                      <a:lnTo>
                        <a:pt x="1137" y="79"/>
                      </a:lnTo>
                      <a:lnTo>
                        <a:pt x="1123" y="95"/>
                      </a:lnTo>
                      <a:lnTo>
                        <a:pt x="1109" y="95"/>
                      </a:lnTo>
                      <a:lnTo>
                        <a:pt x="1109" y="110"/>
                      </a:lnTo>
                      <a:lnTo>
                        <a:pt x="1123" y="110"/>
                      </a:lnTo>
                      <a:lnTo>
                        <a:pt x="1137" y="110"/>
                      </a:lnTo>
                      <a:lnTo>
                        <a:pt x="1165" y="110"/>
                      </a:lnTo>
                      <a:lnTo>
                        <a:pt x="1179" y="126"/>
                      </a:lnTo>
                      <a:lnTo>
                        <a:pt x="1206" y="142"/>
                      </a:lnTo>
                      <a:lnTo>
                        <a:pt x="1206" y="126"/>
                      </a:lnTo>
                      <a:lnTo>
                        <a:pt x="1234" y="110"/>
                      </a:lnTo>
                      <a:lnTo>
                        <a:pt x="1248" y="95"/>
                      </a:lnTo>
                      <a:lnTo>
                        <a:pt x="1275" y="79"/>
                      </a:lnTo>
                      <a:lnTo>
                        <a:pt x="1289" y="95"/>
                      </a:lnTo>
                      <a:lnTo>
                        <a:pt x="1303" y="110"/>
                      </a:lnTo>
                      <a:lnTo>
                        <a:pt x="1331" y="110"/>
                      </a:lnTo>
                      <a:lnTo>
                        <a:pt x="1345" y="110"/>
                      </a:lnTo>
                      <a:lnTo>
                        <a:pt x="1358" y="110"/>
                      </a:lnTo>
                      <a:lnTo>
                        <a:pt x="1372" y="95"/>
                      </a:lnTo>
                      <a:lnTo>
                        <a:pt x="1386" y="95"/>
                      </a:lnTo>
                      <a:lnTo>
                        <a:pt x="1386" y="79"/>
                      </a:lnTo>
                      <a:lnTo>
                        <a:pt x="1400" y="95"/>
                      </a:lnTo>
                      <a:lnTo>
                        <a:pt x="1400" y="110"/>
                      </a:lnTo>
                      <a:lnTo>
                        <a:pt x="1386" y="126"/>
                      </a:lnTo>
                      <a:lnTo>
                        <a:pt x="1400" y="126"/>
                      </a:lnTo>
                      <a:lnTo>
                        <a:pt x="1400" y="110"/>
                      </a:lnTo>
                      <a:lnTo>
                        <a:pt x="1414" y="110"/>
                      </a:lnTo>
                      <a:lnTo>
                        <a:pt x="1428" y="95"/>
                      </a:lnTo>
                      <a:lnTo>
                        <a:pt x="1441" y="95"/>
                      </a:lnTo>
                      <a:lnTo>
                        <a:pt x="1455" y="79"/>
                      </a:lnTo>
                      <a:lnTo>
                        <a:pt x="1441" y="63"/>
                      </a:lnTo>
                      <a:lnTo>
                        <a:pt x="1441" y="47"/>
                      </a:lnTo>
                      <a:lnTo>
                        <a:pt x="1455" y="47"/>
                      </a:lnTo>
                      <a:lnTo>
                        <a:pt x="1469" y="31"/>
                      </a:lnTo>
                      <a:lnTo>
                        <a:pt x="1483" y="16"/>
                      </a:lnTo>
                      <a:lnTo>
                        <a:pt x="1497" y="0"/>
                      </a:lnTo>
                      <a:lnTo>
                        <a:pt x="1497" y="16"/>
                      </a:lnTo>
                      <a:lnTo>
                        <a:pt x="1483" y="47"/>
                      </a:lnTo>
                      <a:lnTo>
                        <a:pt x="1483" y="63"/>
                      </a:lnTo>
                      <a:lnTo>
                        <a:pt x="1497" y="63"/>
                      </a:lnTo>
                      <a:lnTo>
                        <a:pt x="1524" y="63"/>
                      </a:lnTo>
                      <a:lnTo>
                        <a:pt x="1538" y="63"/>
                      </a:lnTo>
                      <a:lnTo>
                        <a:pt x="1538" y="79"/>
                      </a:lnTo>
                      <a:lnTo>
                        <a:pt x="1538" y="110"/>
                      </a:lnTo>
                      <a:lnTo>
                        <a:pt x="1566" y="110"/>
                      </a:lnTo>
                      <a:lnTo>
                        <a:pt x="1580" y="95"/>
                      </a:lnTo>
                      <a:lnTo>
                        <a:pt x="1580" y="79"/>
                      </a:lnTo>
                      <a:lnTo>
                        <a:pt x="1594" y="47"/>
                      </a:lnTo>
                      <a:lnTo>
                        <a:pt x="1621" y="47"/>
                      </a:lnTo>
                      <a:lnTo>
                        <a:pt x="1635" y="63"/>
                      </a:lnTo>
                      <a:lnTo>
                        <a:pt x="1649" y="63"/>
                      </a:lnTo>
                      <a:lnTo>
                        <a:pt x="1649" y="79"/>
                      </a:lnTo>
                      <a:lnTo>
                        <a:pt x="1635" y="79"/>
                      </a:lnTo>
                      <a:lnTo>
                        <a:pt x="1635" y="95"/>
                      </a:lnTo>
                      <a:lnTo>
                        <a:pt x="1635" y="110"/>
                      </a:lnTo>
                      <a:lnTo>
                        <a:pt x="1621" y="126"/>
                      </a:lnTo>
                      <a:lnTo>
                        <a:pt x="1607" y="126"/>
                      </a:lnTo>
                      <a:lnTo>
                        <a:pt x="1594" y="142"/>
                      </a:lnTo>
                      <a:lnTo>
                        <a:pt x="1580" y="142"/>
                      </a:lnTo>
                      <a:lnTo>
                        <a:pt x="1580" y="126"/>
                      </a:lnTo>
                      <a:lnTo>
                        <a:pt x="1566" y="126"/>
                      </a:lnTo>
                      <a:lnTo>
                        <a:pt x="1580" y="142"/>
                      </a:lnTo>
                      <a:lnTo>
                        <a:pt x="1566" y="142"/>
                      </a:lnTo>
                      <a:lnTo>
                        <a:pt x="1538" y="142"/>
                      </a:lnTo>
                      <a:lnTo>
                        <a:pt x="1524" y="158"/>
                      </a:lnTo>
                      <a:lnTo>
                        <a:pt x="1497" y="158"/>
                      </a:lnTo>
                      <a:lnTo>
                        <a:pt x="1483" y="158"/>
                      </a:lnTo>
                      <a:lnTo>
                        <a:pt x="1483" y="142"/>
                      </a:lnTo>
                      <a:lnTo>
                        <a:pt x="1469" y="142"/>
                      </a:lnTo>
                      <a:lnTo>
                        <a:pt x="1455" y="142"/>
                      </a:lnTo>
                      <a:lnTo>
                        <a:pt x="1441" y="142"/>
                      </a:lnTo>
                      <a:lnTo>
                        <a:pt x="1469" y="158"/>
                      </a:lnTo>
                      <a:lnTo>
                        <a:pt x="1497" y="158"/>
                      </a:lnTo>
                      <a:lnTo>
                        <a:pt x="1511" y="158"/>
                      </a:lnTo>
                      <a:lnTo>
                        <a:pt x="1497" y="173"/>
                      </a:lnTo>
                      <a:lnTo>
                        <a:pt x="1483" y="189"/>
                      </a:lnTo>
                      <a:lnTo>
                        <a:pt x="1455" y="189"/>
                      </a:lnTo>
                      <a:lnTo>
                        <a:pt x="1441" y="189"/>
                      </a:lnTo>
                      <a:lnTo>
                        <a:pt x="1441" y="205"/>
                      </a:lnTo>
                      <a:lnTo>
                        <a:pt x="1428" y="205"/>
                      </a:lnTo>
                      <a:lnTo>
                        <a:pt x="1414" y="189"/>
                      </a:lnTo>
                      <a:lnTo>
                        <a:pt x="1400" y="189"/>
                      </a:lnTo>
                      <a:lnTo>
                        <a:pt x="1386" y="189"/>
                      </a:lnTo>
                      <a:lnTo>
                        <a:pt x="1400" y="205"/>
                      </a:lnTo>
                      <a:lnTo>
                        <a:pt x="1414" y="220"/>
                      </a:lnTo>
                      <a:lnTo>
                        <a:pt x="1400" y="220"/>
                      </a:lnTo>
                      <a:lnTo>
                        <a:pt x="1386" y="220"/>
                      </a:lnTo>
                      <a:lnTo>
                        <a:pt x="1372" y="220"/>
                      </a:lnTo>
                      <a:lnTo>
                        <a:pt x="1358" y="237"/>
                      </a:lnTo>
                      <a:lnTo>
                        <a:pt x="1331" y="252"/>
                      </a:lnTo>
                      <a:lnTo>
                        <a:pt x="1303" y="284"/>
                      </a:lnTo>
                      <a:lnTo>
                        <a:pt x="1289" y="331"/>
                      </a:lnTo>
                      <a:lnTo>
                        <a:pt x="1303" y="346"/>
                      </a:lnTo>
                      <a:lnTo>
                        <a:pt x="1317" y="346"/>
                      </a:lnTo>
                      <a:lnTo>
                        <a:pt x="1331" y="363"/>
                      </a:lnTo>
                      <a:lnTo>
                        <a:pt x="1345" y="378"/>
                      </a:lnTo>
                      <a:lnTo>
                        <a:pt x="1372" y="395"/>
                      </a:lnTo>
                      <a:lnTo>
                        <a:pt x="1400" y="425"/>
                      </a:lnTo>
                      <a:lnTo>
                        <a:pt x="1400" y="410"/>
                      </a:lnTo>
                      <a:lnTo>
                        <a:pt x="1428" y="410"/>
                      </a:lnTo>
                      <a:lnTo>
                        <a:pt x="1441" y="410"/>
                      </a:lnTo>
                      <a:lnTo>
                        <a:pt x="1455" y="410"/>
                      </a:lnTo>
                      <a:lnTo>
                        <a:pt x="1455" y="425"/>
                      </a:lnTo>
                      <a:lnTo>
                        <a:pt x="1441" y="442"/>
                      </a:lnTo>
                      <a:lnTo>
                        <a:pt x="1428" y="474"/>
                      </a:lnTo>
                      <a:lnTo>
                        <a:pt x="1428" y="489"/>
                      </a:lnTo>
                      <a:lnTo>
                        <a:pt x="1428" y="504"/>
                      </a:lnTo>
                      <a:lnTo>
                        <a:pt x="1441" y="521"/>
                      </a:lnTo>
                      <a:lnTo>
                        <a:pt x="1455" y="536"/>
                      </a:lnTo>
                      <a:lnTo>
                        <a:pt x="1455" y="521"/>
                      </a:lnTo>
                      <a:lnTo>
                        <a:pt x="1455" y="504"/>
                      </a:lnTo>
                      <a:lnTo>
                        <a:pt x="1469" y="504"/>
                      </a:lnTo>
                      <a:lnTo>
                        <a:pt x="1483" y="504"/>
                      </a:lnTo>
                      <a:lnTo>
                        <a:pt x="1483" y="489"/>
                      </a:lnTo>
                      <a:lnTo>
                        <a:pt x="1483" y="474"/>
                      </a:lnTo>
                      <a:lnTo>
                        <a:pt x="1483" y="442"/>
                      </a:lnTo>
                      <a:lnTo>
                        <a:pt x="1497" y="425"/>
                      </a:lnTo>
                      <a:lnTo>
                        <a:pt x="1511" y="410"/>
                      </a:lnTo>
                      <a:lnTo>
                        <a:pt x="1552" y="395"/>
                      </a:lnTo>
                      <a:lnTo>
                        <a:pt x="1580" y="363"/>
                      </a:lnTo>
                      <a:lnTo>
                        <a:pt x="1580" y="346"/>
                      </a:lnTo>
                      <a:lnTo>
                        <a:pt x="1566" y="331"/>
                      </a:lnTo>
                      <a:lnTo>
                        <a:pt x="1552" y="331"/>
                      </a:lnTo>
                      <a:lnTo>
                        <a:pt x="1566" y="316"/>
                      </a:lnTo>
                      <a:lnTo>
                        <a:pt x="1580" y="316"/>
                      </a:lnTo>
                      <a:lnTo>
                        <a:pt x="1580" y="299"/>
                      </a:lnTo>
                      <a:lnTo>
                        <a:pt x="1594" y="284"/>
                      </a:lnTo>
                      <a:lnTo>
                        <a:pt x="1607" y="252"/>
                      </a:lnTo>
                      <a:lnTo>
                        <a:pt x="1607" y="237"/>
                      </a:lnTo>
                      <a:lnTo>
                        <a:pt x="1621" y="237"/>
                      </a:lnTo>
                      <a:lnTo>
                        <a:pt x="1621" y="220"/>
                      </a:lnTo>
                      <a:lnTo>
                        <a:pt x="1663" y="237"/>
                      </a:lnTo>
                      <a:lnTo>
                        <a:pt x="1704" y="252"/>
                      </a:lnTo>
                      <a:lnTo>
                        <a:pt x="1747" y="267"/>
                      </a:lnTo>
                      <a:lnTo>
                        <a:pt x="1733" y="267"/>
                      </a:lnTo>
                      <a:lnTo>
                        <a:pt x="1718" y="284"/>
                      </a:lnTo>
                      <a:lnTo>
                        <a:pt x="1704" y="284"/>
                      </a:lnTo>
                      <a:lnTo>
                        <a:pt x="1704" y="299"/>
                      </a:lnTo>
                      <a:lnTo>
                        <a:pt x="1733" y="316"/>
                      </a:lnTo>
                      <a:lnTo>
                        <a:pt x="1733" y="331"/>
                      </a:lnTo>
                      <a:lnTo>
                        <a:pt x="1733" y="346"/>
                      </a:lnTo>
                      <a:lnTo>
                        <a:pt x="1704" y="346"/>
                      </a:lnTo>
                      <a:lnTo>
                        <a:pt x="1733" y="346"/>
                      </a:lnTo>
                      <a:lnTo>
                        <a:pt x="1761" y="331"/>
                      </a:lnTo>
                      <a:lnTo>
                        <a:pt x="1775" y="316"/>
                      </a:lnTo>
                      <a:lnTo>
                        <a:pt x="1789" y="299"/>
                      </a:lnTo>
                      <a:lnTo>
                        <a:pt x="1802" y="299"/>
                      </a:lnTo>
                      <a:lnTo>
                        <a:pt x="1816" y="284"/>
                      </a:lnTo>
                      <a:lnTo>
                        <a:pt x="1816" y="299"/>
                      </a:lnTo>
                      <a:lnTo>
                        <a:pt x="1816" y="331"/>
                      </a:lnTo>
                      <a:lnTo>
                        <a:pt x="1830" y="378"/>
                      </a:lnTo>
                      <a:lnTo>
                        <a:pt x="1844" y="410"/>
                      </a:lnTo>
                      <a:lnTo>
                        <a:pt x="1858" y="425"/>
                      </a:lnTo>
                      <a:lnTo>
                        <a:pt x="1872" y="425"/>
                      </a:lnTo>
                      <a:lnTo>
                        <a:pt x="1885" y="425"/>
                      </a:lnTo>
                      <a:lnTo>
                        <a:pt x="1885" y="442"/>
                      </a:lnTo>
                      <a:lnTo>
                        <a:pt x="1872" y="442"/>
                      </a:lnTo>
                      <a:lnTo>
                        <a:pt x="1858" y="442"/>
                      </a:lnTo>
                      <a:lnTo>
                        <a:pt x="1844" y="457"/>
                      </a:lnTo>
                      <a:lnTo>
                        <a:pt x="1816" y="457"/>
                      </a:lnTo>
                      <a:lnTo>
                        <a:pt x="1830" y="457"/>
                      </a:lnTo>
                      <a:lnTo>
                        <a:pt x="1844" y="457"/>
                      </a:lnTo>
                      <a:lnTo>
                        <a:pt x="1858" y="457"/>
                      </a:lnTo>
                      <a:lnTo>
                        <a:pt x="1872" y="442"/>
                      </a:lnTo>
                      <a:lnTo>
                        <a:pt x="1885" y="457"/>
                      </a:lnTo>
                      <a:lnTo>
                        <a:pt x="1899" y="474"/>
                      </a:lnTo>
                      <a:lnTo>
                        <a:pt x="1899" y="489"/>
                      </a:lnTo>
                      <a:lnTo>
                        <a:pt x="1872" y="504"/>
                      </a:lnTo>
                      <a:lnTo>
                        <a:pt x="1858" y="504"/>
                      </a:lnTo>
                      <a:lnTo>
                        <a:pt x="1844" y="521"/>
                      </a:lnTo>
                      <a:lnTo>
                        <a:pt x="1830" y="521"/>
                      </a:lnTo>
                      <a:lnTo>
                        <a:pt x="1816" y="536"/>
                      </a:lnTo>
                      <a:lnTo>
                        <a:pt x="1802" y="536"/>
                      </a:lnTo>
                      <a:lnTo>
                        <a:pt x="1789" y="552"/>
                      </a:lnTo>
                      <a:lnTo>
                        <a:pt x="1775" y="552"/>
                      </a:lnTo>
                      <a:lnTo>
                        <a:pt x="1733" y="552"/>
                      </a:lnTo>
                      <a:lnTo>
                        <a:pt x="1677" y="568"/>
                      </a:lnTo>
                      <a:lnTo>
                        <a:pt x="1635" y="568"/>
                      </a:lnTo>
                      <a:lnTo>
                        <a:pt x="1621" y="583"/>
                      </a:lnTo>
                      <a:lnTo>
                        <a:pt x="1607" y="600"/>
                      </a:lnTo>
                      <a:lnTo>
                        <a:pt x="1594" y="615"/>
                      </a:lnTo>
                      <a:lnTo>
                        <a:pt x="1580" y="615"/>
                      </a:lnTo>
                      <a:lnTo>
                        <a:pt x="1566" y="631"/>
                      </a:lnTo>
                      <a:lnTo>
                        <a:pt x="1580" y="631"/>
                      </a:lnTo>
                      <a:lnTo>
                        <a:pt x="1594" y="615"/>
                      </a:lnTo>
                      <a:lnTo>
                        <a:pt x="1607" y="615"/>
                      </a:lnTo>
                      <a:lnTo>
                        <a:pt x="1607" y="600"/>
                      </a:lnTo>
                      <a:lnTo>
                        <a:pt x="1635" y="583"/>
                      </a:lnTo>
                      <a:lnTo>
                        <a:pt x="1663" y="568"/>
                      </a:lnTo>
                      <a:lnTo>
                        <a:pt x="1690" y="568"/>
                      </a:lnTo>
                      <a:lnTo>
                        <a:pt x="1704" y="568"/>
                      </a:lnTo>
                      <a:lnTo>
                        <a:pt x="1718" y="583"/>
                      </a:lnTo>
                      <a:lnTo>
                        <a:pt x="1690" y="600"/>
                      </a:lnTo>
                      <a:lnTo>
                        <a:pt x="1677" y="600"/>
                      </a:lnTo>
                      <a:lnTo>
                        <a:pt x="1663" y="600"/>
                      </a:lnTo>
                      <a:lnTo>
                        <a:pt x="1677" y="600"/>
                      </a:lnTo>
                      <a:lnTo>
                        <a:pt x="1704" y="615"/>
                      </a:lnTo>
                      <a:lnTo>
                        <a:pt x="1704" y="631"/>
                      </a:lnTo>
                      <a:lnTo>
                        <a:pt x="1704" y="647"/>
                      </a:lnTo>
                      <a:lnTo>
                        <a:pt x="1704" y="662"/>
                      </a:lnTo>
                      <a:lnTo>
                        <a:pt x="1718" y="662"/>
                      </a:lnTo>
                      <a:lnTo>
                        <a:pt x="1733" y="662"/>
                      </a:lnTo>
                      <a:lnTo>
                        <a:pt x="1747" y="662"/>
                      </a:lnTo>
                      <a:lnTo>
                        <a:pt x="1747" y="678"/>
                      </a:lnTo>
                      <a:lnTo>
                        <a:pt x="1733" y="678"/>
                      </a:lnTo>
                      <a:lnTo>
                        <a:pt x="1718" y="678"/>
                      </a:lnTo>
                      <a:lnTo>
                        <a:pt x="1704" y="694"/>
                      </a:lnTo>
                      <a:lnTo>
                        <a:pt x="1690" y="710"/>
                      </a:lnTo>
                      <a:lnTo>
                        <a:pt x="1677" y="710"/>
                      </a:lnTo>
                      <a:lnTo>
                        <a:pt x="1649" y="725"/>
                      </a:lnTo>
                      <a:lnTo>
                        <a:pt x="1649" y="710"/>
                      </a:lnTo>
                      <a:lnTo>
                        <a:pt x="1649" y="694"/>
                      </a:lnTo>
                      <a:lnTo>
                        <a:pt x="1663" y="694"/>
                      </a:lnTo>
                      <a:lnTo>
                        <a:pt x="1690" y="678"/>
                      </a:lnTo>
                      <a:lnTo>
                        <a:pt x="1704" y="678"/>
                      </a:lnTo>
                      <a:lnTo>
                        <a:pt x="1704" y="662"/>
                      </a:lnTo>
                      <a:lnTo>
                        <a:pt x="1690" y="662"/>
                      </a:lnTo>
                      <a:lnTo>
                        <a:pt x="1690" y="647"/>
                      </a:lnTo>
                      <a:lnTo>
                        <a:pt x="1677" y="662"/>
                      </a:lnTo>
                      <a:lnTo>
                        <a:pt x="1663" y="662"/>
                      </a:lnTo>
                      <a:lnTo>
                        <a:pt x="1663" y="678"/>
                      </a:lnTo>
                      <a:lnTo>
                        <a:pt x="1649" y="678"/>
                      </a:lnTo>
                      <a:lnTo>
                        <a:pt x="1635" y="678"/>
                      </a:lnTo>
                      <a:lnTo>
                        <a:pt x="1621" y="678"/>
                      </a:lnTo>
                      <a:lnTo>
                        <a:pt x="1621" y="694"/>
                      </a:lnTo>
                      <a:lnTo>
                        <a:pt x="1607" y="694"/>
                      </a:lnTo>
                      <a:lnTo>
                        <a:pt x="1580" y="710"/>
                      </a:lnTo>
                      <a:lnTo>
                        <a:pt x="1566" y="725"/>
                      </a:lnTo>
                      <a:lnTo>
                        <a:pt x="1552" y="741"/>
                      </a:lnTo>
                      <a:lnTo>
                        <a:pt x="1538" y="741"/>
                      </a:lnTo>
                      <a:lnTo>
                        <a:pt x="1538" y="757"/>
                      </a:lnTo>
                      <a:lnTo>
                        <a:pt x="1524" y="773"/>
                      </a:lnTo>
                      <a:lnTo>
                        <a:pt x="1511" y="789"/>
                      </a:lnTo>
                      <a:lnTo>
                        <a:pt x="1483" y="789"/>
                      </a:lnTo>
                      <a:lnTo>
                        <a:pt x="1455" y="804"/>
                      </a:lnTo>
                      <a:lnTo>
                        <a:pt x="1455" y="820"/>
                      </a:lnTo>
                      <a:lnTo>
                        <a:pt x="1441" y="836"/>
                      </a:lnTo>
                      <a:lnTo>
                        <a:pt x="1441" y="851"/>
                      </a:lnTo>
                      <a:lnTo>
                        <a:pt x="1441" y="836"/>
                      </a:lnTo>
                      <a:lnTo>
                        <a:pt x="1441" y="820"/>
                      </a:lnTo>
                      <a:lnTo>
                        <a:pt x="1428" y="836"/>
                      </a:lnTo>
                      <a:lnTo>
                        <a:pt x="1428" y="851"/>
                      </a:lnTo>
                      <a:lnTo>
                        <a:pt x="1414" y="868"/>
                      </a:lnTo>
                      <a:lnTo>
                        <a:pt x="1414" y="883"/>
                      </a:lnTo>
                      <a:lnTo>
                        <a:pt x="1414" y="898"/>
                      </a:lnTo>
                      <a:lnTo>
                        <a:pt x="1400" y="898"/>
                      </a:lnTo>
                      <a:lnTo>
                        <a:pt x="1400" y="883"/>
                      </a:lnTo>
                      <a:lnTo>
                        <a:pt x="1400" y="868"/>
                      </a:lnTo>
                      <a:lnTo>
                        <a:pt x="1386" y="851"/>
                      </a:lnTo>
                      <a:lnTo>
                        <a:pt x="1400" y="868"/>
                      </a:lnTo>
                      <a:lnTo>
                        <a:pt x="1400" y="883"/>
                      </a:lnTo>
                      <a:lnTo>
                        <a:pt x="1400" y="930"/>
                      </a:lnTo>
                      <a:lnTo>
                        <a:pt x="1400" y="947"/>
                      </a:lnTo>
                      <a:lnTo>
                        <a:pt x="1386" y="947"/>
                      </a:lnTo>
                      <a:lnTo>
                        <a:pt x="1372" y="947"/>
                      </a:lnTo>
                      <a:lnTo>
                        <a:pt x="1386" y="947"/>
                      </a:lnTo>
                      <a:lnTo>
                        <a:pt x="1400" y="947"/>
                      </a:lnTo>
                      <a:lnTo>
                        <a:pt x="1386" y="962"/>
                      </a:lnTo>
                      <a:lnTo>
                        <a:pt x="1358" y="994"/>
                      </a:lnTo>
                      <a:lnTo>
                        <a:pt x="1317" y="1009"/>
                      </a:lnTo>
                      <a:lnTo>
                        <a:pt x="1289" y="1041"/>
                      </a:lnTo>
                      <a:lnTo>
                        <a:pt x="1262" y="1056"/>
                      </a:lnTo>
                      <a:lnTo>
                        <a:pt x="1248" y="1088"/>
                      </a:lnTo>
                      <a:lnTo>
                        <a:pt x="1248" y="1120"/>
                      </a:lnTo>
                      <a:lnTo>
                        <a:pt x="1262" y="1152"/>
                      </a:lnTo>
                      <a:lnTo>
                        <a:pt x="1262" y="1167"/>
                      </a:lnTo>
                      <a:lnTo>
                        <a:pt x="1262" y="1183"/>
                      </a:lnTo>
                      <a:lnTo>
                        <a:pt x="1262" y="1199"/>
                      </a:lnTo>
                      <a:lnTo>
                        <a:pt x="1234" y="1246"/>
                      </a:lnTo>
                      <a:lnTo>
                        <a:pt x="1234" y="1231"/>
                      </a:lnTo>
                      <a:lnTo>
                        <a:pt x="1234" y="1214"/>
                      </a:lnTo>
                      <a:lnTo>
                        <a:pt x="1220" y="1214"/>
                      </a:lnTo>
                      <a:lnTo>
                        <a:pt x="1220" y="1199"/>
                      </a:lnTo>
                      <a:lnTo>
                        <a:pt x="1206" y="1167"/>
                      </a:lnTo>
                      <a:lnTo>
                        <a:pt x="1192" y="1135"/>
                      </a:lnTo>
                      <a:lnTo>
                        <a:pt x="1165" y="1120"/>
                      </a:lnTo>
                      <a:lnTo>
                        <a:pt x="1137" y="1120"/>
                      </a:lnTo>
                      <a:lnTo>
                        <a:pt x="1109" y="1120"/>
                      </a:lnTo>
                      <a:lnTo>
                        <a:pt x="1082" y="1135"/>
                      </a:lnTo>
                      <a:lnTo>
                        <a:pt x="1068" y="1135"/>
                      </a:lnTo>
                      <a:lnTo>
                        <a:pt x="1068" y="1120"/>
                      </a:lnTo>
                      <a:lnTo>
                        <a:pt x="1040" y="1120"/>
                      </a:lnTo>
                      <a:lnTo>
                        <a:pt x="1026" y="1105"/>
                      </a:lnTo>
                      <a:lnTo>
                        <a:pt x="999" y="1105"/>
                      </a:lnTo>
                      <a:lnTo>
                        <a:pt x="985" y="1105"/>
                      </a:lnTo>
                      <a:lnTo>
                        <a:pt x="985" y="1120"/>
                      </a:lnTo>
                      <a:lnTo>
                        <a:pt x="971" y="1120"/>
                      </a:lnTo>
                      <a:lnTo>
                        <a:pt x="985" y="1120"/>
                      </a:lnTo>
                      <a:lnTo>
                        <a:pt x="957" y="1135"/>
                      </a:lnTo>
                      <a:lnTo>
                        <a:pt x="930" y="1152"/>
                      </a:lnTo>
                      <a:lnTo>
                        <a:pt x="914" y="1167"/>
                      </a:lnTo>
                      <a:lnTo>
                        <a:pt x="901" y="1183"/>
                      </a:lnTo>
                      <a:lnTo>
                        <a:pt x="901" y="1199"/>
                      </a:lnTo>
                      <a:lnTo>
                        <a:pt x="901" y="1214"/>
                      </a:lnTo>
                      <a:lnTo>
                        <a:pt x="901" y="1231"/>
                      </a:lnTo>
                      <a:lnTo>
                        <a:pt x="887" y="1246"/>
                      </a:lnTo>
                      <a:lnTo>
                        <a:pt x="887" y="1293"/>
                      </a:lnTo>
                      <a:lnTo>
                        <a:pt x="887" y="1325"/>
                      </a:lnTo>
                      <a:lnTo>
                        <a:pt x="887" y="1356"/>
                      </a:lnTo>
                      <a:lnTo>
                        <a:pt x="901" y="1420"/>
                      </a:lnTo>
                      <a:lnTo>
                        <a:pt x="914" y="1420"/>
                      </a:lnTo>
                      <a:lnTo>
                        <a:pt x="957" y="1403"/>
                      </a:lnTo>
                      <a:lnTo>
                        <a:pt x="985" y="1403"/>
                      </a:lnTo>
                      <a:lnTo>
                        <a:pt x="1013" y="1403"/>
                      </a:lnTo>
                      <a:lnTo>
                        <a:pt x="1026" y="1388"/>
                      </a:lnTo>
                      <a:lnTo>
                        <a:pt x="1026" y="1372"/>
                      </a:lnTo>
                      <a:lnTo>
                        <a:pt x="1026" y="1356"/>
                      </a:lnTo>
                      <a:lnTo>
                        <a:pt x="1040" y="1341"/>
                      </a:lnTo>
                      <a:lnTo>
                        <a:pt x="1082" y="1341"/>
                      </a:lnTo>
                      <a:lnTo>
                        <a:pt x="1096" y="1341"/>
                      </a:lnTo>
                      <a:lnTo>
                        <a:pt x="1109" y="1341"/>
                      </a:lnTo>
                      <a:lnTo>
                        <a:pt x="1096" y="1372"/>
                      </a:lnTo>
                      <a:lnTo>
                        <a:pt x="1082" y="1388"/>
                      </a:lnTo>
                      <a:lnTo>
                        <a:pt x="1068" y="1403"/>
                      </a:lnTo>
                      <a:lnTo>
                        <a:pt x="1068" y="1420"/>
                      </a:lnTo>
                      <a:lnTo>
                        <a:pt x="1054" y="1435"/>
                      </a:lnTo>
                      <a:lnTo>
                        <a:pt x="1068" y="1451"/>
                      </a:lnTo>
                      <a:lnTo>
                        <a:pt x="1054" y="1467"/>
                      </a:lnTo>
                      <a:lnTo>
                        <a:pt x="1040" y="1482"/>
                      </a:lnTo>
                      <a:lnTo>
                        <a:pt x="1054" y="1499"/>
                      </a:lnTo>
                      <a:lnTo>
                        <a:pt x="1068" y="1482"/>
                      </a:lnTo>
                      <a:lnTo>
                        <a:pt x="1096" y="1499"/>
                      </a:lnTo>
                      <a:lnTo>
                        <a:pt x="1137" y="1499"/>
                      </a:lnTo>
                      <a:lnTo>
                        <a:pt x="1165" y="1514"/>
                      </a:lnTo>
                      <a:lnTo>
                        <a:pt x="1151" y="1514"/>
                      </a:lnTo>
                      <a:lnTo>
                        <a:pt x="1151" y="1561"/>
                      </a:lnTo>
                      <a:lnTo>
                        <a:pt x="1137" y="1593"/>
                      </a:lnTo>
                      <a:lnTo>
                        <a:pt x="1137" y="1625"/>
                      </a:lnTo>
                      <a:lnTo>
                        <a:pt x="1151" y="1657"/>
                      </a:lnTo>
                      <a:lnTo>
                        <a:pt x="1192" y="1672"/>
                      </a:lnTo>
                      <a:lnTo>
                        <a:pt x="1220" y="1672"/>
                      </a:lnTo>
                      <a:lnTo>
                        <a:pt x="1234" y="1672"/>
                      </a:lnTo>
                      <a:lnTo>
                        <a:pt x="1248" y="1687"/>
                      </a:lnTo>
                      <a:lnTo>
                        <a:pt x="1275" y="1687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484960" y="2619360"/>
                  <a:ext cx="1150920" cy="1785960"/>
                </a:xfrm>
                <a:custGeom>
                  <a:avLst/>
                  <a:gdLst/>
                  <a:ahLst/>
                  <a:rect l="l" t="t" r="r" b="b"/>
                  <a:pathLst>
                    <a:path w="2176" h="3375">
                      <a:moveTo>
                        <a:pt x="1275" y="1687"/>
                      </a:moveTo>
                      <a:lnTo>
                        <a:pt x="1289" y="1687"/>
                      </a:lnTo>
                      <a:lnTo>
                        <a:pt x="1303" y="1672"/>
                      </a:lnTo>
                      <a:lnTo>
                        <a:pt x="1317" y="1657"/>
                      </a:lnTo>
                      <a:lnTo>
                        <a:pt x="1317" y="1640"/>
                      </a:lnTo>
                      <a:lnTo>
                        <a:pt x="1331" y="1625"/>
                      </a:lnTo>
                      <a:lnTo>
                        <a:pt x="1345" y="1625"/>
                      </a:lnTo>
                      <a:lnTo>
                        <a:pt x="1345" y="1608"/>
                      </a:lnTo>
                      <a:lnTo>
                        <a:pt x="1358" y="1608"/>
                      </a:lnTo>
                      <a:lnTo>
                        <a:pt x="1372" y="1625"/>
                      </a:lnTo>
                      <a:lnTo>
                        <a:pt x="1386" y="1625"/>
                      </a:lnTo>
                      <a:lnTo>
                        <a:pt x="1400" y="1625"/>
                      </a:lnTo>
                      <a:lnTo>
                        <a:pt x="1400" y="1657"/>
                      </a:lnTo>
                      <a:lnTo>
                        <a:pt x="1400" y="1672"/>
                      </a:lnTo>
                      <a:lnTo>
                        <a:pt x="1386" y="1657"/>
                      </a:lnTo>
                      <a:lnTo>
                        <a:pt x="1386" y="1640"/>
                      </a:lnTo>
                      <a:lnTo>
                        <a:pt x="1400" y="1625"/>
                      </a:lnTo>
                      <a:lnTo>
                        <a:pt x="1414" y="1625"/>
                      </a:lnTo>
                      <a:lnTo>
                        <a:pt x="1428" y="1625"/>
                      </a:lnTo>
                      <a:lnTo>
                        <a:pt x="1441" y="1608"/>
                      </a:lnTo>
                      <a:lnTo>
                        <a:pt x="1428" y="1593"/>
                      </a:lnTo>
                      <a:lnTo>
                        <a:pt x="1441" y="1608"/>
                      </a:lnTo>
                      <a:lnTo>
                        <a:pt x="1455" y="1625"/>
                      </a:lnTo>
                      <a:lnTo>
                        <a:pt x="1469" y="1625"/>
                      </a:lnTo>
                      <a:lnTo>
                        <a:pt x="1483" y="1640"/>
                      </a:lnTo>
                      <a:lnTo>
                        <a:pt x="1497" y="1640"/>
                      </a:lnTo>
                      <a:lnTo>
                        <a:pt x="1511" y="1640"/>
                      </a:lnTo>
                      <a:lnTo>
                        <a:pt x="1552" y="1640"/>
                      </a:lnTo>
                      <a:lnTo>
                        <a:pt x="1580" y="1657"/>
                      </a:lnTo>
                      <a:lnTo>
                        <a:pt x="1621" y="1672"/>
                      </a:lnTo>
                      <a:lnTo>
                        <a:pt x="1607" y="1687"/>
                      </a:lnTo>
                      <a:lnTo>
                        <a:pt x="1621" y="1687"/>
                      </a:lnTo>
                      <a:lnTo>
                        <a:pt x="1635" y="1687"/>
                      </a:lnTo>
                      <a:lnTo>
                        <a:pt x="1649" y="1704"/>
                      </a:lnTo>
                      <a:lnTo>
                        <a:pt x="1663" y="1704"/>
                      </a:lnTo>
                      <a:lnTo>
                        <a:pt x="1663" y="1719"/>
                      </a:lnTo>
                      <a:lnTo>
                        <a:pt x="1663" y="1736"/>
                      </a:lnTo>
                      <a:lnTo>
                        <a:pt x="1663" y="1751"/>
                      </a:lnTo>
                      <a:lnTo>
                        <a:pt x="1663" y="1766"/>
                      </a:lnTo>
                      <a:lnTo>
                        <a:pt x="1690" y="1766"/>
                      </a:lnTo>
                      <a:lnTo>
                        <a:pt x="1704" y="1766"/>
                      </a:lnTo>
                      <a:lnTo>
                        <a:pt x="1733" y="1783"/>
                      </a:lnTo>
                      <a:lnTo>
                        <a:pt x="1775" y="1798"/>
                      </a:lnTo>
                      <a:lnTo>
                        <a:pt x="1816" y="1814"/>
                      </a:lnTo>
                      <a:lnTo>
                        <a:pt x="1830" y="1845"/>
                      </a:lnTo>
                      <a:lnTo>
                        <a:pt x="1844" y="1861"/>
                      </a:lnTo>
                      <a:lnTo>
                        <a:pt x="1844" y="1893"/>
                      </a:lnTo>
                      <a:lnTo>
                        <a:pt x="1830" y="1909"/>
                      </a:lnTo>
                      <a:lnTo>
                        <a:pt x="1802" y="1940"/>
                      </a:lnTo>
                      <a:lnTo>
                        <a:pt x="1789" y="1972"/>
                      </a:lnTo>
                      <a:lnTo>
                        <a:pt x="1802" y="1972"/>
                      </a:lnTo>
                      <a:lnTo>
                        <a:pt x="1816" y="1956"/>
                      </a:lnTo>
                      <a:lnTo>
                        <a:pt x="1830" y="1956"/>
                      </a:lnTo>
                      <a:lnTo>
                        <a:pt x="1830" y="1972"/>
                      </a:lnTo>
                      <a:lnTo>
                        <a:pt x="1844" y="1972"/>
                      </a:lnTo>
                      <a:lnTo>
                        <a:pt x="1858" y="1972"/>
                      </a:lnTo>
                      <a:lnTo>
                        <a:pt x="1872" y="1956"/>
                      </a:lnTo>
                      <a:lnTo>
                        <a:pt x="1899" y="1956"/>
                      </a:lnTo>
                      <a:lnTo>
                        <a:pt x="1913" y="1940"/>
                      </a:lnTo>
                      <a:lnTo>
                        <a:pt x="1927" y="1940"/>
                      </a:lnTo>
                      <a:lnTo>
                        <a:pt x="1955" y="1956"/>
                      </a:lnTo>
                      <a:lnTo>
                        <a:pt x="1968" y="1972"/>
                      </a:lnTo>
                      <a:lnTo>
                        <a:pt x="1955" y="1987"/>
                      </a:lnTo>
                      <a:lnTo>
                        <a:pt x="1955" y="2004"/>
                      </a:lnTo>
                      <a:lnTo>
                        <a:pt x="1955" y="2019"/>
                      </a:lnTo>
                      <a:lnTo>
                        <a:pt x="1996" y="2019"/>
                      </a:lnTo>
                      <a:lnTo>
                        <a:pt x="2051" y="2019"/>
                      </a:lnTo>
                      <a:lnTo>
                        <a:pt x="2093" y="2019"/>
                      </a:lnTo>
                      <a:lnTo>
                        <a:pt x="2107" y="2034"/>
                      </a:lnTo>
                      <a:lnTo>
                        <a:pt x="2107" y="2051"/>
                      </a:lnTo>
                      <a:lnTo>
                        <a:pt x="2121" y="2066"/>
                      </a:lnTo>
                      <a:lnTo>
                        <a:pt x="2134" y="2066"/>
                      </a:lnTo>
                      <a:lnTo>
                        <a:pt x="2148" y="2066"/>
                      </a:lnTo>
                      <a:lnTo>
                        <a:pt x="2162" y="2066"/>
                      </a:lnTo>
                      <a:lnTo>
                        <a:pt x="2176" y="2098"/>
                      </a:lnTo>
                      <a:lnTo>
                        <a:pt x="2162" y="2145"/>
                      </a:lnTo>
                      <a:lnTo>
                        <a:pt x="2148" y="2177"/>
                      </a:lnTo>
                      <a:lnTo>
                        <a:pt x="2134" y="2209"/>
                      </a:lnTo>
                      <a:lnTo>
                        <a:pt x="2121" y="2224"/>
                      </a:lnTo>
                      <a:lnTo>
                        <a:pt x="2121" y="2241"/>
                      </a:lnTo>
                      <a:lnTo>
                        <a:pt x="2107" y="2256"/>
                      </a:lnTo>
                      <a:lnTo>
                        <a:pt x="2107" y="2271"/>
                      </a:lnTo>
                      <a:lnTo>
                        <a:pt x="2093" y="2271"/>
                      </a:lnTo>
                      <a:lnTo>
                        <a:pt x="2093" y="2303"/>
                      </a:lnTo>
                      <a:lnTo>
                        <a:pt x="2093" y="2335"/>
                      </a:lnTo>
                      <a:lnTo>
                        <a:pt x="2093" y="2350"/>
                      </a:lnTo>
                      <a:lnTo>
                        <a:pt x="2079" y="2414"/>
                      </a:lnTo>
                      <a:lnTo>
                        <a:pt x="2065" y="2445"/>
                      </a:lnTo>
                      <a:lnTo>
                        <a:pt x="2051" y="2508"/>
                      </a:lnTo>
                      <a:lnTo>
                        <a:pt x="2051" y="2524"/>
                      </a:lnTo>
                      <a:lnTo>
                        <a:pt x="2038" y="2539"/>
                      </a:lnTo>
                      <a:lnTo>
                        <a:pt x="1996" y="2556"/>
                      </a:lnTo>
                      <a:lnTo>
                        <a:pt x="1968" y="2571"/>
                      </a:lnTo>
                      <a:lnTo>
                        <a:pt x="1955" y="2571"/>
                      </a:lnTo>
                      <a:lnTo>
                        <a:pt x="1941" y="2587"/>
                      </a:lnTo>
                      <a:lnTo>
                        <a:pt x="1927" y="2603"/>
                      </a:lnTo>
                      <a:lnTo>
                        <a:pt x="1913" y="2603"/>
                      </a:lnTo>
                      <a:lnTo>
                        <a:pt x="1899" y="2618"/>
                      </a:lnTo>
                      <a:lnTo>
                        <a:pt x="1899" y="2650"/>
                      </a:lnTo>
                      <a:lnTo>
                        <a:pt x="1899" y="2682"/>
                      </a:lnTo>
                      <a:lnTo>
                        <a:pt x="1899" y="2729"/>
                      </a:lnTo>
                      <a:lnTo>
                        <a:pt x="1885" y="2744"/>
                      </a:lnTo>
                      <a:lnTo>
                        <a:pt x="1885" y="2761"/>
                      </a:lnTo>
                      <a:lnTo>
                        <a:pt x="1872" y="2776"/>
                      </a:lnTo>
                      <a:lnTo>
                        <a:pt x="1872" y="2793"/>
                      </a:lnTo>
                      <a:lnTo>
                        <a:pt x="1858" y="2808"/>
                      </a:lnTo>
                      <a:lnTo>
                        <a:pt x="1858" y="2793"/>
                      </a:lnTo>
                      <a:lnTo>
                        <a:pt x="1872" y="2776"/>
                      </a:lnTo>
                      <a:lnTo>
                        <a:pt x="1885" y="2761"/>
                      </a:lnTo>
                      <a:lnTo>
                        <a:pt x="1872" y="2744"/>
                      </a:lnTo>
                      <a:lnTo>
                        <a:pt x="1858" y="2744"/>
                      </a:lnTo>
                      <a:lnTo>
                        <a:pt x="1872" y="2761"/>
                      </a:lnTo>
                      <a:lnTo>
                        <a:pt x="1858" y="2793"/>
                      </a:lnTo>
                      <a:lnTo>
                        <a:pt x="1844" y="2823"/>
                      </a:lnTo>
                      <a:lnTo>
                        <a:pt x="1830" y="2840"/>
                      </a:lnTo>
                      <a:lnTo>
                        <a:pt x="1830" y="2855"/>
                      </a:lnTo>
                      <a:lnTo>
                        <a:pt x="1816" y="2872"/>
                      </a:lnTo>
                      <a:lnTo>
                        <a:pt x="1802" y="2872"/>
                      </a:lnTo>
                      <a:lnTo>
                        <a:pt x="1789" y="2855"/>
                      </a:lnTo>
                      <a:lnTo>
                        <a:pt x="1761" y="2823"/>
                      </a:lnTo>
                      <a:lnTo>
                        <a:pt x="1733" y="2808"/>
                      </a:lnTo>
                      <a:lnTo>
                        <a:pt x="1733" y="2823"/>
                      </a:lnTo>
                      <a:lnTo>
                        <a:pt x="1747" y="2872"/>
                      </a:lnTo>
                      <a:lnTo>
                        <a:pt x="1775" y="2902"/>
                      </a:lnTo>
                      <a:lnTo>
                        <a:pt x="1789" y="2934"/>
                      </a:lnTo>
                      <a:lnTo>
                        <a:pt x="1775" y="2950"/>
                      </a:lnTo>
                      <a:lnTo>
                        <a:pt x="1747" y="2966"/>
                      </a:lnTo>
                      <a:lnTo>
                        <a:pt x="1733" y="2981"/>
                      </a:lnTo>
                      <a:lnTo>
                        <a:pt x="1718" y="2981"/>
                      </a:lnTo>
                      <a:lnTo>
                        <a:pt x="1704" y="2981"/>
                      </a:lnTo>
                      <a:lnTo>
                        <a:pt x="1690" y="2997"/>
                      </a:lnTo>
                      <a:lnTo>
                        <a:pt x="1704" y="3029"/>
                      </a:lnTo>
                      <a:lnTo>
                        <a:pt x="1690" y="3045"/>
                      </a:lnTo>
                      <a:lnTo>
                        <a:pt x="1677" y="3045"/>
                      </a:lnTo>
                      <a:lnTo>
                        <a:pt x="1663" y="3029"/>
                      </a:lnTo>
                      <a:lnTo>
                        <a:pt x="1635" y="3045"/>
                      </a:lnTo>
                      <a:lnTo>
                        <a:pt x="1635" y="3060"/>
                      </a:lnTo>
                      <a:lnTo>
                        <a:pt x="1649" y="3076"/>
                      </a:lnTo>
                      <a:lnTo>
                        <a:pt x="1663" y="3076"/>
                      </a:lnTo>
                      <a:lnTo>
                        <a:pt x="1677" y="3076"/>
                      </a:lnTo>
                      <a:lnTo>
                        <a:pt x="1677" y="3092"/>
                      </a:lnTo>
                      <a:lnTo>
                        <a:pt x="1663" y="3092"/>
                      </a:lnTo>
                      <a:lnTo>
                        <a:pt x="1649" y="3092"/>
                      </a:lnTo>
                      <a:lnTo>
                        <a:pt x="1649" y="3108"/>
                      </a:lnTo>
                      <a:lnTo>
                        <a:pt x="1663" y="3123"/>
                      </a:lnTo>
                      <a:lnTo>
                        <a:pt x="1663" y="3155"/>
                      </a:lnTo>
                      <a:lnTo>
                        <a:pt x="1649" y="3155"/>
                      </a:lnTo>
                      <a:lnTo>
                        <a:pt x="1635" y="3170"/>
                      </a:lnTo>
                      <a:lnTo>
                        <a:pt x="1635" y="3187"/>
                      </a:lnTo>
                      <a:lnTo>
                        <a:pt x="1649" y="3202"/>
                      </a:lnTo>
                      <a:lnTo>
                        <a:pt x="1677" y="3217"/>
                      </a:lnTo>
                      <a:lnTo>
                        <a:pt x="1677" y="3234"/>
                      </a:lnTo>
                      <a:lnTo>
                        <a:pt x="1649" y="3266"/>
                      </a:lnTo>
                      <a:lnTo>
                        <a:pt x="1635" y="3281"/>
                      </a:lnTo>
                      <a:lnTo>
                        <a:pt x="1649" y="3281"/>
                      </a:lnTo>
                      <a:lnTo>
                        <a:pt x="1663" y="3313"/>
                      </a:lnTo>
                      <a:lnTo>
                        <a:pt x="1663" y="3328"/>
                      </a:lnTo>
                      <a:lnTo>
                        <a:pt x="1663" y="3345"/>
                      </a:lnTo>
                      <a:lnTo>
                        <a:pt x="1649" y="3360"/>
                      </a:lnTo>
                      <a:lnTo>
                        <a:pt x="1635" y="3360"/>
                      </a:lnTo>
                      <a:lnTo>
                        <a:pt x="1607" y="3375"/>
                      </a:lnTo>
                      <a:lnTo>
                        <a:pt x="1621" y="3360"/>
                      </a:lnTo>
                      <a:lnTo>
                        <a:pt x="1607" y="3360"/>
                      </a:lnTo>
                      <a:lnTo>
                        <a:pt x="1594" y="3360"/>
                      </a:lnTo>
                      <a:lnTo>
                        <a:pt x="1580" y="3360"/>
                      </a:lnTo>
                      <a:lnTo>
                        <a:pt x="1594" y="3345"/>
                      </a:lnTo>
                      <a:lnTo>
                        <a:pt x="1594" y="3328"/>
                      </a:lnTo>
                      <a:lnTo>
                        <a:pt x="1566" y="3313"/>
                      </a:lnTo>
                      <a:lnTo>
                        <a:pt x="1538" y="3296"/>
                      </a:lnTo>
                      <a:lnTo>
                        <a:pt x="1524" y="3266"/>
                      </a:lnTo>
                      <a:lnTo>
                        <a:pt x="1511" y="3234"/>
                      </a:lnTo>
                      <a:lnTo>
                        <a:pt x="1524" y="3234"/>
                      </a:lnTo>
                      <a:lnTo>
                        <a:pt x="1538" y="3234"/>
                      </a:lnTo>
                      <a:lnTo>
                        <a:pt x="1538" y="3217"/>
                      </a:lnTo>
                      <a:lnTo>
                        <a:pt x="1524" y="3202"/>
                      </a:lnTo>
                      <a:lnTo>
                        <a:pt x="1511" y="3202"/>
                      </a:lnTo>
                      <a:lnTo>
                        <a:pt x="1497" y="3202"/>
                      </a:lnTo>
                      <a:lnTo>
                        <a:pt x="1483" y="3202"/>
                      </a:lnTo>
                      <a:lnTo>
                        <a:pt x="1483" y="3187"/>
                      </a:lnTo>
                      <a:lnTo>
                        <a:pt x="1497" y="3170"/>
                      </a:lnTo>
                      <a:lnTo>
                        <a:pt x="1511" y="3155"/>
                      </a:lnTo>
                      <a:lnTo>
                        <a:pt x="1524" y="3139"/>
                      </a:lnTo>
                      <a:lnTo>
                        <a:pt x="1511" y="3123"/>
                      </a:lnTo>
                      <a:lnTo>
                        <a:pt x="1511" y="3108"/>
                      </a:lnTo>
                      <a:lnTo>
                        <a:pt x="1511" y="3076"/>
                      </a:lnTo>
                      <a:lnTo>
                        <a:pt x="1511" y="3060"/>
                      </a:lnTo>
                      <a:lnTo>
                        <a:pt x="1497" y="3060"/>
                      </a:lnTo>
                      <a:lnTo>
                        <a:pt x="1483" y="3060"/>
                      </a:lnTo>
                      <a:lnTo>
                        <a:pt x="1469" y="3045"/>
                      </a:lnTo>
                      <a:lnTo>
                        <a:pt x="1469" y="3029"/>
                      </a:lnTo>
                      <a:lnTo>
                        <a:pt x="1469" y="3013"/>
                      </a:lnTo>
                      <a:lnTo>
                        <a:pt x="1469" y="2997"/>
                      </a:lnTo>
                      <a:lnTo>
                        <a:pt x="1455" y="2966"/>
                      </a:lnTo>
                      <a:lnTo>
                        <a:pt x="1441" y="2950"/>
                      </a:lnTo>
                      <a:lnTo>
                        <a:pt x="1455" y="2934"/>
                      </a:lnTo>
                      <a:lnTo>
                        <a:pt x="1455" y="2919"/>
                      </a:lnTo>
                      <a:lnTo>
                        <a:pt x="1455" y="2902"/>
                      </a:lnTo>
                      <a:lnTo>
                        <a:pt x="1455" y="2855"/>
                      </a:lnTo>
                      <a:lnTo>
                        <a:pt x="1455" y="2808"/>
                      </a:lnTo>
                      <a:lnTo>
                        <a:pt x="1455" y="2761"/>
                      </a:lnTo>
                      <a:lnTo>
                        <a:pt x="1455" y="2744"/>
                      </a:lnTo>
                      <a:lnTo>
                        <a:pt x="1455" y="2729"/>
                      </a:lnTo>
                      <a:lnTo>
                        <a:pt x="1441" y="2714"/>
                      </a:lnTo>
                      <a:lnTo>
                        <a:pt x="1455" y="2697"/>
                      </a:lnTo>
                      <a:lnTo>
                        <a:pt x="1455" y="2682"/>
                      </a:lnTo>
                      <a:lnTo>
                        <a:pt x="1455" y="2650"/>
                      </a:lnTo>
                      <a:lnTo>
                        <a:pt x="1455" y="2618"/>
                      </a:lnTo>
                      <a:lnTo>
                        <a:pt x="1455" y="2571"/>
                      </a:lnTo>
                      <a:lnTo>
                        <a:pt x="1441" y="2524"/>
                      </a:lnTo>
                      <a:lnTo>
                        <a:pt x="1428" y="2477"/>
                      </a:lnTo>
                      <a:lnTo>
                        <a:pt x="1414" y="2429"/>
                      </a:lnTo>
                      <a:lnTo>
                        <a:pt x="1414" y="2414"/>
                      </a:lnTo>
                      <a:lnTo>
                        <a:pt x="1400" y="2382"/>
                      </a:lnTo>
                      <a:lnTo>
                        <a:pt x="1358" y="2367"/>
                      </a:lnTo>
                      <a:lnTo>
                        <a:pt x="1331" y="2335"/>
                      </a:lnTo>
                      <a:lnTo>
                        <a:pt x="1303" y="2303"/>
                      </a:lnTo>
                      <a:lnTo>
                        <a:pt x="1303" y="2288"/>
                      </a:lnTo>
                      <a:lnTo>
                        <a:pt x="1289" y="2271"/>
                      </a:lnTo>
                      <a:lnTo>
                        <a:pt x="1275" y="2256"/>
                      </a:lnTo>
                      <a:lnTo>
                        <a:pt x="1275" y="2241"/>
                      </a:lnTo>
                      <a:lnTo>
                        <a:pt x="1248" y="2192"/>
                      </a:lnTo>
                      <a:lnTo>
                        <a:pt x="1234" y="2145"/>
                      </a:lnTo>
                      <a:lnTo>
                        <a:pt x="1220" y="2113"/>
                      </a:lnTo>
                      <a:lnTo>
                        <a:pt x="1206" y="2098"/>
                      </a:lnTo>
                      <a:lnTo>
                        <a:pt x="1192" y="2098"/>
                      </a:lnTo>
                      <a:lnTo>
                        <a:pt x="1192" y="2083"/>
                      </a:lnTo>
                      <a:lnTo>
                        <a:pt x="1192" y="2051"/>
                      </a:lnTo>
                      <a:lnTo>
                        <a:pt x="1206" y="2034"/>
                      </a:lnTo>
                      <a:lnTo>
                        <a:pt x="1206" y="2019"/>
                      </a:lnTo>
                      <a:lnTo>
                        <a:pt x="1206" y="2004"/>
                      </a:lnTo>
                      <a:lnTo>
                        <a:pt x="1220" y="1987"/>
                      </a:lnTo>
                      <a:lnTo>
                        <a:pt x="1220" y="1972"/>
                      </a:lnTo>
                      <a:lnTo>
                        <a:pt x="1206" y="1972"/>
                      </a:lnTo>
                      <a:lnTo>
                        <a:pt x="1206" y="1987"/>
                      </a:lnTo>
                      <a:lnTo>
                        <a:pt x="1192" y="1987"/>
                      </a:lnTo>
                      <a:lnTo>
                        <a:pt x="1192" y="1972"/>
                      </a:lnTo>
                      <a:lnTo>
                        <a:pt x="1192" y="1956"/>
                      </a:lnTo>
                      <a:lnTo>
                        <a:pt x="1192" y="1940"/>
                      </a:lnTo>
                      <a:lnTo>
                        <a:pt x="1206" y="1940"/>
                      </a:lnTo>
                      <a:lnTo>
                        <a:pt x="1206" y="1909"/>
                      </a:lnTo>
                      <a:lnTo>
                        <a:pt x="1220" y="1909"/>
                      </a:lnTo>
                      <a:lnTo>
                        <a:pt x="1234" y="1893"/>
                      </a:lnTo>
                      <a:lnTo>
                        <a:pt x="1234" y="1877"/>
                      </a:lnTo>
                      <a:lnTo>
                        <a:pt x="1248" y="1861"/>
                      </a:lnTo>
                      <a:lnTo>
                        <a:pt x="1262" y="1845"/>
                      </a:lnTo>
                      <a:lnTo>
                        <a:pt x="1275" y="1814"/>
                      </a:lnTo>
                      <a:lnTo>
                        <a:pt x="1262" y="1814"/>
                      </a:lnTo>
                      <a:lnTo>
                        <a:pt x="1262" y="1766"/>
                      </a:lnTo>
                      <a:lnTo>
                        <a:pt x="1262" y="1736"/>
                      </a:lnTo>
                      <a:lnTo>
                        <a:pt x="1262" y="1687"/>
                      </a:lnTo>
                      <a:lnTo>
                        <a:pt x="1248" y="1687"/>
                      </a:lnTo>
                      <a:lnTo>
                        <a:pt x="1234" y="1687"/>
                      </a:lnTo>
                      <a:lnTo>
                        <a:pt x="1220" y="1687"/>
                      </a:lnTo>
                      <a:lnTo>
                        <a:pt x="1206" y="1687"/>
                      </a:lnTo>
                      <a:lnTo>
                        <a:pt x="1179" y="1704"/>
                      </a:lnTo>
                      <a:lnTo>
                        <a:pt x="1151" y="1704"/>
                      </a:lnTo>
                      <a:lnTo>
                        <a:pt x="1151" y="1687"/>
                      </a:lnTo>
                      <a:lnTo>
                        <a:pt x="1137" y="1687"/>
                      </a:lnTo>
                      <a:lnTo>
                        <a:pt x="1123" y="1672"/>
                      </a:lnTo>
                      <a:lnTo>
                        <a:pt x="1109" y="1672"/>
                      </a:lnTo>
                      <a:lnTo>
                        <a:pt x="1096" y="1657"/>
                      </a:lnTo>
                      <a:lnTo>
                        <a:pt x="1096" y="1640"/>
                      </a:lnTo>
                      <a:lnTo>
                        <a:pt x="1096" y="1625"/>
                      </a:lnTo>
                      <a:lnTo>
                        <a:pt x="1096" y="1608"/>
                      </a:lnTo>
                      <a:lnTo>
                        <a:pt x="1082" y="1593"/>
                      </a:lnTo>
                      <a:lnTo>
                        <a:pt x="1068" y="1578"/>
                      </a:lnTo>
                      <a:lnTo>
                        <a:pt x="1068" y="1561"/>
                      </a:lnTo>
                      <a:lnTo>
                        <a:pt x="1054" y="1561"/>
                      </a:lnTo>
                      <a:lnTo>
                        <a:pt x="1026" y="1546"/>
                      </a:lnTo>
                      <a:lnTo>
                        <a:pt x="999" y="1546"/>
                      </a:lnTo>
                      <a:lnTo>
                        <a:pt x="971" y="1529"/>
                      </a:lnTo>
                      <a:lnTo>
                        <a:pt x="957" y="1499"/>
                      </a:lnTo>
                      <a:lnTo>
                        <a:pt x="944" y="1482"/>
                      </a:lnTo>
                      <a:lnTo>
                        <a:pt x="914" y="1482"/>
                      </a:lnTo>
                      <a:lnTo>
                        <a:pt x="873" y="1467"/>
                      </a:lnTo>
                      <a:lnTo>
                        <a:pt x="845" y="1467"/>
                      </a:lnTo>
                      <a:lnTo>
                        <a:pt x="804" y="1451"/>
                      </a:lnTo>
                      <a:lnTo>
                        <a:pt x="776" y="1451"/>
                      </a:lnTo>
                      <a:lnTo>
                        <a:pt x="748" y="1420"/>
                      </a:lnTo>
                      <a:lnTo>
                        <a:pt x="721" y="1403"/>
                      </a:lnTo>
                      <a:lnTo>
                        <a:pt x="707" y="1372"/>
                      </a:lnTo>
                      <a:lnTo>
                        <a:pt x="707" y="1356"/>
                      </a:lnTo>
                      <a:lnTo>
                        <a:pt x="707" y="1325"/>
                      </a:lnTo>
                      <a:lnTo>
                        <a:pt x="707" y="1293"/>
                      </a:lnTo>
                      <a:lnTo>
                        <a:pt x="693" y="1262"/>
                      </a:lnTo>
                      <a:lnTo>
                        <a:pt x="666" y="1246"/>
                      </a:lnTo>
                      <a:lnTo>
                        <a:pt x="652" y="1231"/>
                      </a:lnTo>
                      <a:lnTo>
                        <a:pt x="652" y="1214"/>
                      </a:lnTo>
                      <a:lnTo>
                        <a:pt x="638" y="1183"/>
                      </a:lnTo>
                      <a:lnTo>
                        <a:pt x="624" y="1167"/>
                      </a:lnTo>
                      <a:lnTo>
                        <a:pt x="610" y="1135"/>
                      </a:lnTo>
                      <a:lnTo>
                        <a:pt x="610" y="1120"/>
                      </a:lnTo>
                      <a:lnTo>
                        <a:pt x="610" y="1088"/>
                      </a:lnTo>
                      <a:lnTo>
                        <a:pt x="610" y="1073"/>
                      </a:lnTo>
                      <a:lnTo>
                        <a:pt x="610" y="1056"/>
                      </a:lnTo>
                      <a:lnTo>
                        <a:pt x="596" y="1056"/>
                      </a:lnTo>
                      <a:lnTo>
                        <a:pt x="583" y="1056"/>
                      </a:lnTo>
                      <a:lnTo>
                        <a:pt x="569" y="1088"/>
                      </a:lnTo>
                      <a:lnTo>
                        <a:pt x="583" y="1120"/>
                      </a:lnTo>
                      <a:lnTo>
                        <a:pt x="596" y="1152"/>
                      </a:lnTo>
                      <a:lnTo>
                        <a:pt x="596" y="1167"/>
                      </a:lnTo>
                      <a:lnTo>
                        <a:pt x="610" y="1214"/>
                      </a:lnTo>
                      <a:lnTo>
                        <a:pt x="624" y="1246"/>
                      </a:lnTo>
                      <a:lnTo>
                        <a:pt x="638" y="1293"/>
                      </a:lnTo>
                      <a:lnTo>
                        <a:pt x="624" y="1293"/>
                      </a:lnTo>
                      <a:lnTo>
                        <a:pt x="610" y="1278"/>
                      </a:lnTo>
                      <a:lnTo>
                        <a:pt x="596" y="1262"/>
                      </a:lnTo>
                      <a:lnTo>
                        <a:pt x="596" y="1246"/>
                      </a:lnTo>
                      <a:lnTo>
                        <a:pt x="596" y="1231"/>
                      </a:lnTo>
                      <a:lnTo>
                        <a:pt x="596" y="1214"/>
                      </a:lnTo>
                      <a:lnTo>
                        <a:pt x="583" y="1199"/>
                      </a:lnTo>
                      <a:lnTo>
                        <a:pt x="555" y="1183"/>
                      </a:lnTo>
                      <a:lnTo>
                        <a:pt x="555" y="1167"/>
                      </a:lnTo>
                      <a:lnTo>
                        <a:pt x="555" y="1152"/>
                      </a:lnTo>
                      <a:lnTo>
                        <a:pt x="569" y="1152"/>
                      </a:lnTo>
                      <a:lnTo>
                        <a:pt x="569" y="1135"/>
                      </a:lnTo>
                      <a:lnTo>
                        <a:pt x="555" y="1120"/>
                      </a:lnTo>
                      <a:lnTo>
                        <a:pt x="555" y="1105"/>
                      </a:lnTo>
                      <a:lnTo>
                        <a:pt x="541" y="1056"/>
                      </a:lnTo>
                      <a:lnTo>
                        <a:pt x="541" y="1026"/>
                      </a:lnTo>
                      <a:lnTo>
                        <a:pt x="527" y="994"/>
                      </a:lnTo>
                      <a:lnTo>
                        <a:pt x="513" y="994"/>
                      </a:lnTo>
                      <a:lnTo>
                        <a:pt x="500" y="994"/>
                      </a:lnTo>
                      <a:lnTo>
                        <a:pt x="486" y="977"/>
                      </a:lnTo>
                      <a:lnTo>
                        <a:pt x="500" y="977"/>
                      </a:lnTo>
                      <a:lnTo>
                        <a:pt x="500" y="962"/>
                      </a:lnTo>
                      <a:lnTo>
                        <a:pt x="500" y="947"/>
                      </a:lnTo>
                      <a:lnTo>
                        <a:pt x="513" y="898"/>
                      </a:lnTo>
                      <a:lnTo>
                        <a:pt x="513" y="868"/>
                      </a:lnTo>
                      <a:lnTo>
                        <a:pt x="500" y="868"/>
                      </a:lnTo>
                      <a:lnTo>
                        <a:pt x="486" y="851"/>
                      </a:lnTo>
                      <a:lnTo>
                        <a:pt x="472" y="851"/>
                      </a:lnTo>
                      <a:lnTo>
                        <a:pt x="472" y="836"/>
                      </a:lnTo>
                      <a:lnTo>
                        <a:pt x="486" y="836"/>
                      </a:lnTo>
                      <a:lnTo>
                        <a:pt x="486" y="820"/>
                      </a:lnTo>
                      <a:lnTo>
                        <a:pt x="486" y="804"/>
                      </a:lnTo>
                      <a:lnTo>
                        <a:pt x="486" y="789"/>
                      </a:lnTo>
                      <a:lnTo>
                        <a:pt x="500" y="773"/>
                      </a:lnTo>
                      <a:lnTo>
                        <a:pt x="500" y="757"/>
                      </a:lnTo>
                      <a:lnTo>
                        <a:pt x="513" y="757"/>
                      </a:lnTo>
                      <a:lnTo>
                        <a:pt x="513" y="741"/>
                      </a:lnTo>
                      <a:lnTo>
                        <a:pt x="513" y="725"/>
                      </a:lnTo>
                      <a:lnTo>
                        <a:pt x="527" y="725"/>
                      </a:lnTo>
                      <a:lnTo>
                        <a:pt x="527" y="710"/>
                      </a:lnTo>
                      <a:lnTo>
                        <a:pt x="555" y="694"/>
                      </a:lnTo>
                      <a:lnTo>
                        <a:pt x="569" y="662"/>
                      </a:lnTo>
                      <a:lnTo>
                        <a:pt x="569" y="647"/>
                      </a:lnTo>
                      <a:lnTo>
                        <a:pt x="569" y="631"/>
                      </a:lnTo>
                      <a:lnTo>
                        <a:pt x="596" y="615"/>
                      </a:lnTo>
                      <a:lnTo>
                        <a:pt x="624" y="600"/>
                      </a:lnTo>
                      <a:lnTo>
                        <a:pt x="610" y="600"/>
                      </a:lnTo>
                      <a:lnTo>
                        <a:pt x="596" y="615"/>
                      </a:lnTo>
                      <a:lnTo>
                        <a:pt x="596" y="631"/>
                      </a:lnTo>
                      <a:lnTo>
                        <a:pt x="624" y="600"/>
                      </a:lnTo>
                      <a:lnTo>
                        <a:pt x="638" y="568"/>
                      </a:lnTo>
                      <a:lnTo>
                        <a:pt x="624" y="521"/>
                      </a:lnTo>
                      <a:lnTo>
                        <a:pt x="610" y="521"/>
                      </a:lnTo>
                      <a:lnTo>
                        <a:pt x="596" y="521"/>
                      </a:lnTo>
                      <a:lnTo>
                        <a:pt x="569" y="521"/>
                      </a:lnTo>
                      <a:lnTo>
                        <a:pt x="583" y="504"/>
                      </a:lnTo>
                      <a:lnTo>
                        <a:pt x="596" y="504"/>
                      </a:lnTo>
                      <a:lnTo>
                        <a:pt x="610" y="489"/>
                      </a:lnTo>
                      <a:lnTo>
                        <a:pt x="610" y="457"/>
                      </a:lnTo>
                      <a:lnTo>
                        <a:pt x="596" y="457"/>
                      </a:lnTo>
                      <a:lnTo>
                        <a:pt x="583" y="442"/>
                      </a:lnTo>
                      <a:lnTo>
                        <a:pt x="596" y="442"/>
                      </a:lnTo>
                      <a:lnTo>
                        <a:pt x="610" y="410"/>
                      </a:lnTo>
                      <a:lnTo>
                        <a:pt x="624" y="395"/>
                      </a:lnTo>
                      <a:lnTo>
                        <a:pt x="610" y="395"/>
                      </a:lnTo>
                      <a:lnTo>
                        <a:pt x="610" y="410"/>
                      </a:lnTo>
                      <a:lnTo>
                        <a:pt x="583" y="425"/>
                      </a:lnTo>
                      <a:lnTo>
                        <a:pt x="583" y="410"/>
                      </a:lnTo>
                      <a:lnTo>
                        <a:pt x="596" y="410"/>
                      </a:lnTo>
                      <a:lnTo>
                        <a:pt x="610" y="395"/>
                      </a:lnTo>
                      <a:lnTo>
                        <a:pt x="596" y="395"/>
                      </a:lnTo>
                      <a:lnTo>
                        <a:pt x="583" y="395"/>
                      </a:lnTo>
                      <a:lnTo>
                        <a:pt x="583" y="378"/>
                      </a:lnTo>
                      <a:lnTo>
                        <a:pt x="596" y="378"/>
                      </a:lnTo>
                      <a:lnTo>
                        <a:pt x="596" y="346"/>
                      </a:lnTo>
                      <a:lnTo>
                        <a:pt x="610" y="331"/>
                      </a:lnTo>
                      <a:lnTo>
                        <a:pt x="610" y="299"/>
                      </a:lnTo>
                      <a:lnTo>
                        <a:pt x="596" y="316"/>
                      </a:lnTo>
                      <a:lnTo>
                        <a:pt x="583" y="331"/>
                      </a:lnTo>
                      <a:lnTo>
                        <a:pt x="569" y="331"/>
                      </a:lnTo>
                      <a:lnTo>
                        <a:pt x="555" y="299"/>
                      </a:lnTo>
                      <a:lnTo>
                        <a:pt x="541" y="284"/>
                      </a:lnTo>
                      <a:lnTo>
                        <a:pt x="527" y="299"/>
                      </a:lnTo>
                      <a:lnTo>
                        <a:pt x="500" y="284"/>
                      </a:lnTo>
                      <a:lnTo>
                        <a:pt x="472" y="267"/>
                      </a:lnTo>
                      <a:lnTo>
                        <a:pt x="430" y="252"/>
                      </a:lnTo>
                      <a:lnTo>
                        <a:pt x="417" y="267"/>
                      </a:lnTo>
                      <a:lnTo>
                        <a:pt x="361" y="299"/>
                      </a:lnTo>
                      <a:lnTo>
                        <a:pt x="320" y="316"/>
                      </a:lnTo>
                      <a:lnTo>
                        <a:pt x="306" y="316"/>
                      </a:lnTo>
                      <a:lnTo>
                        <a:pt x="320" y="284"/>
                      </a:lnTo>
                      <a:lnTo>
                        <a:pt x="375" y="267"/>
                      </a:lnTo>
                      <a:lnTo>
                        <a:pt x="417" y="252"/>
                      </a:lnTo>
                      <a:lnTo>
                        <a:pt x="389" y="252"/>
                      </a:lnTo>
                      <a:lnTo>
                        <a:pt x="389" y="267"/>
                      </a:lnTo>
                      <a:lnTo>
                        <a:pt x="375" y="252"/>
                      </a:lnTo>
                      <a:lnTo>
                        <a:pt x="347" y="267"/>
                      </a:lnTo>
                      <a:lnTo>
                        <a:pt x="320" y="284"/>
                      </a:lnTo>
                      <a:lnTo>
                        <a:pt x="306" y="284"/>
                      </a:lnTo>
                      <a:lnTo>
                        <a:pt x="306" y="299"/>
                      </a:lnTo>
                      <a:lnTo>
                        <a:pt x="292" y="299"/>
                      </a:lnTo>
                      <a:lnTo>
                        <a:pt x="264" y="331"/>
                      </a:lnTo>
                      <a:lnTo>
                        <a:pt x="237" y="346"/>
                      </a:lnTo>
                      <a:lnTo>
                        <a:pt x="209" y="346"/>
                      </a:lnTo>
                      <a:lnTo>
                        <a:pt x="181" y="363"/>
                      </a:lnTo>
                      <a:lnTo>
                        <a:pt x="168" y="363"/>
                      </a:lnTo>
                      <a:lnTo>
                        <a:pt x="140" y="378"/>
                      </a:lnTo>
                      <a:lnTo>
                        <a:pt x="97" y="395"/>
                      </a:lnTo>
                      <a:lnTo>
                        <a:pt x="69" y="410"/>
                      </a:lnTo>
                      <a:lnTo>
                        <a:pt x="28" y="410"/>
                      </a:lnTo>
                      <a:lnTo>
                        <a:pt x="0" y="425"/>
                      </a:lnTo>
                      <a:lnTo>
                        <a:pt x="0" y="410"/>
                      </a:lnTo>
                      <a:lnTo>
                        <a:pt x="14" y="410"/>
                      </a:lnTo>
                      <a:lnTo>
                        <a:pt x="28" y="395"/>
                      </a:lnTo>
                      <a:lnTo>
                        <a:pt x="56" y="395"/>
                      </a:lnTo>
                      <a:lnTo>
                        <a:pt x="69" y="395"/>
                      </a:lnTo>
                      <a:lnTo>
                        <a:pt x="83" y="395"/>
                      </a:lnTo>
                      <a:lnTo>
                        <a:pt x="111" y="378"/>
                      </a:lnTo>
                      <a:lnTo>
                        <a:pt x="125" y="363"/>
                      </a:lnTo>
                      <a:lnTo>
                        <a:pt x="140" y="363"/>
                      </a:lnTo>
                      <a:lnTo>
                        <a:pt x="154" y="363"/>
                      </a:lnTo>
                      <a:lnTo>
                        <a:pt x="168" y="346"/>
                      </a:lnTo>
                      <a:lnTo>
                        <a:pt x="181" y="346"/>
                      </a:lnTo>
                      <a:lnTo>
                        <a:pt x="195" y="331"/>
                      </a:lnTo>
                      <a:lnTo>
                        <a:pt x="209" y="331"/>
                      </a:lnTo>
                      <a:lnTo>
                        <a:pt x="223" y="316"/>
                      </a:lnTo>
                      <a:lnTo>
                        <a:pt x="209" y="316"/>
                      </a:lnTo>
                      <a:lnTo>
                        <a:pt x="195" y="316"/>
                      </a:lnTo>
                      <a:lnTo>
                        <a:pt x="181" y="331"/>
                      </a:lnTo>
                      <a:lnTo>
                        <a:pt x="168" y="331"/>
                      </a:lnTo>
                      <a:lnTo>
                        <a:pt x="168" y="316"/>
                      </a:lnTo>
                      <a:lnTo>
                        <a:pt x="154" y="316"/>
                      </a:lnTo>
                      <a:lnTo>
                        <a:pt x="140" y="316"/>
                      </a:lnTo>
                      <a:lnTo>
                        <a:pt x="140" y="299"/>
                      </a:lnTo>
                      <a:lnTo>
                        <a:pt x="154" y="284"/>
                      </a:lnTo>
                      <a:lnTo>
                        <a:pt x="168" y="267"/>
                      </a:lnTo>
                      <a:lnTo>
                        <a:pt x="154" y="267"/>
                      </a:lnTo>
                      <a:lnTo>
                        <a:pt x="125" y="299"/>
                      </a:lnTo>
                      <a:lnTo>
                        <a:pt x="111" y="299"/>
                      </a:lnTo>
                      <a:lnTo>
                        <a:pt x="125" y="284"/>
                      </a:lnTo>
                      <a:lnTo>
                        <a:pt x="140" y="284"/>
                      </a:lnTo>
                      <a:lnTo>
                        <a:pt x="154" y="267"/>
                      </a:lnTo>
                      <a:lnTo>
                        <a:pt x="140" y="252"/>
                      </a:lnTo>
                      <a:lnTo>
                        <a:pt x="125" y="252"/>
                      </a:lnTo>
                      <a:lnTo>
                        <a:pt x="154" y="237"/>
                      </a:lnTo>
                      <a:lnTo>
                        <a:pt x="168" y="220"/>
                      </a:lnTo>
                      <a:lnTo>
                        <a:pt x="195" y="205"/>
                      </a:lnTo>
                      <a:lnTo>
                        <a:pt x="209" y="205"/>
                      </a:lnTo>
                      <a:lnTo>
                        <a:pt x="237" y="205"/>
                      </a:lnTo>
                      <a:lnTo>
                        <a:pt x="264" y="189"/>
                      </a:lnTo>
                      <a:lnTo>
                        <a:pt x="292" y="173"/>
                      </a:lnTo>
                      <a:lnTo>
                        <a:pt x="278" y="173"/>
                      </a:lnTo>
                      <a:lnTo>
                        <a:pt x="251" y="189"/>
                      </a:lnTo>
                      <a:lnTo>
                        <a:pt x="237" y="173"/>
                      </a:lnTo>
                      <a:lnTo>
                        <a:pt x="223" y="173"/>
                      </a:lnTo>
                      <a:lnTo>
                        <a:pt x="209" y="158"/>
                      </a:lnTo>
                      <a:lnTo>
                        <a:pt x="195" y="142"/>
                      </a:lnTo>
                      <a:lnTo>
                        <a:pt x="223" y="126"/>
                      </a:lnTo>
                      <a:lnTo>
                        <a:pt x="251" y="126"/>
                      </a:lnTo>
                      <a:lnTo>
                        <a:pt x="292" y="126"/>
                      </a:lnTo>
                      <a:lnTo>
                        <a:pt x="334" y="126"/>
                      </a:lnTo>
                      <a:lnTo>
                        <a:pt x="347" y="126"/>
                      </a:lnTo>
                      <a:lnTo>
                        <a:pt x="347" y="142"/>
                      </a:lnTo>
                      <a:lnTo>
                        <a:pt x="361" y="126"/>
                      </a:lnTo>
                      <a:lnTo>
                        <a:pt x="334" y="110"/>
                      </a:lnTo>
                      <a:lnTo>
                        <a:pt x="320" y="110"/>
                      </a:lnTo>
                      <a:lnTo>
                        <a:pt x="306" y="95"/>
                      </a:lnTo>
                      <a:lnTo>
                        <a:pt x="306" y="79"/>
                      </a:lnTo>
                      <a:lnTo>
                        <a:pt x="320" y="79"/>
                      </a:lnTo>
                      <a:lnTo>
                        <a:pt x="334" y="79"/>
                      </a:lnTo>
                      <a:lnTo>
                        <a:pt x="361" y="63"/>
                      </a:lnTo>
                      <a:lnTo>
                        <a:pt x="417" y="63"/>
                      </a:lnTo>
                      <a:lnTo>
                        <a:pt x="444" y="47"/>
                      </a:lnTo>
                      <a:lnTo>
                        <a:pt x="472" y="47"/>
                      </a:lnTo>
                      <a:lnTo>
                        <a:pt x="500" y="31"/>
                      </a:lnTo>
                      <a:lnTo>
                        <a:pt x="527" y="31"/>
                      </a:lnTo>
                      <a:lnTo>
                        <a:pt x="541" y="31"/>
                      </a:lnTo>
                      <a:lnTo>
                        <a:pt x="555" y="16"/>
                      </a:lnTo>
                      <a:lnTo>
                        <a:pt x="569" y="16"/>
                      </a:lnTo>
                      <a:lnTo>
                        <a:pt x="555" y="31"/>
                      </a:lnTo>
                      <a:lnTo>
                        <a:pt x="569" y="31"/>
                      </a:lnTo>
                      <a:lnTo>
                        <a:pt x="583" y="31"/>
                      </a:lnTo>
                      <a:lnTo>
                        <a:pt x="569" y="31"/>
                      </a:lnTo>
                      <a:lnTo>
                        <a:pt x="583" y="31"/>
                      </a:lnTo>
                      <a:lnTo>
                        <a:pt x="596" y="47"/>
                      </a:lnTo>
                      <a:lnTo>
                        <a:pt x="638" y="47"/>
                      </a:lnTo>
                      <a:lnTo>
                        <a:pt x="666" y="47"/>
                      </a:lnTo>
                      <a:lnTo>
                        <a:pt x="707" y="63"/>
                      </a:lnTo>
                      <a:lnTo>
                        <a:pt x="735" y="79"/>
                      </a:lnTo>
                      <a:lnTo>
                        <a:pt x="776" y="79"/>
                      </a:lnTo>
                      <a:lnTo>
                        <a:pt x="818" y="79"/>
                      </a:lnTo>
                      <a:lnTo>
                        <a:pt x="831" y="79"/>
                      </a:lnTo>
                      <a:lnTo>
                        <a:pt x="845" y="79"/>
                      </a:lnTo>
                      <a:lnTo>
                        <a:pt x="859" y="63"/>
                      </a:lnTo>
                      <a:lnTo>
                        <a:pt x="873" y="63"/>
                      </a:lnTo>
                      <a:lnTo>
                        <a:pt x="859" y="63"/>
                      </a:lnTo>
                      <a:lnTo>
                        <a:pt x="845" y="63"/>
                      </a:lnTo>
                      <a:lnTo>
                        <a:pt x="845" y="79"/>
                      </a:lnTo>
                      <a:lnTo>
                        <a:pt x="887" y="79"/>
                      </a:lnTo>
                      <a:lnTo>
                        <a:pt x="914" y="63"/>
                      </a:lnTo>
                      <a:lnTo>
                        <a:pt x="944" y="47"/>
                      </a:lnTo>
                      <a:lnTo>
                        <a:pt x="957" y="63"/>
                      </a:lnTo>
                      <a:lnTo>
                        <a:pt x="971" y="63"/>
                      </a:lnTo>
                      <a:lnTo>
                        <a:pt x="985" y="63"/>
                      </a:lnTo>
                      <a:lnTo>
                        <a:pt x="999" y="47"/>
                      </a:lnTo>
                      <a:lnTo>
                        <a:pt x="1013" y="47"/>
                      </a:lnTo>
                      <a:lnTo>
                        <a:pt x="999" y="63"/>
                      </a:lnTo>
                      <a:lnTo>
                        <a:pt x="1013" y="63"/>
                      </a:lnTo>
                      <a:lnTo>
                        <a:pt x="1026" y="63"/>
                      </a:lnTo>
                      <a:lnTo>
                        <a:pt x="1054" y="63"/>
                      </a:lnTo>
                      <a:lnTo>
                        <a:pt x="1082" y="63"/>
                      </a:lnTo>
                      <a:lnTo>
                        <a:pt x="1096" y="79"/>
                      </a:lnTo>
                      <a:lnTo>
                        <a:pt x="1109" y="79"/>
                      </a:lnTo>
                      <a:lnTo>
                        <a:pt x="1123" y="79"/>
                      </a:lnTo>
                      <a:lnTo>
                        <a:pt x="1137" y="79"/>
                      </a:lnTo>
                      <a:lnTo>
                        <a:pt x="1123" y="95"/>
                      </a:lnTo>
                      <a:lnTo>
                        <a:pt x="1109" y="95"/>
                      </a:lnTo>
                      <a:lnTo>
                        <a:pt x="1109" y="110"/>
                      </a:lnTo>
                      <a:lnTo>
                        <a:pt x="1123" y="110"/>
                      </a:lnTo>
                      <a:lnTo>
                        <a:pt x="1137" y="110"/>
                      </a:lnTo>
                      <a:lnTo>
                        <a:pt x="1165" y="110"/>
                      </a:lnTo>
                      <a:lnTo>
                        <a:pt x="1179" y="126"/>
                      </a:lnTo>
                      <a:lnTo>
                        <a:pt x="1206" y="142"/>
                      </a:lnTo>
                      <a:lnTo>
                        <a:pt x="1206" y="126"/>
                      </a:lnTo>
                      <a:lnTo>
                        <a:pt x="1234" y="110"/>
                      </a:lnTo>
                      <a:lnTo>
                        <a:pt x="1248" y="95"/>
                      </a:lnTo>
                      <a:lnTo>
                        <a:pt x="1275" y="79"/>
                      </a:lnTo>
                      <a:lnTo>
                        <a:pt x="1289" y="95"/>
                      </a:lnTo>
                      <a:lnTo>
                        <a:pt x="1303" y="110"/>
                      </a:lnTo>
                      <a:lnTo>
                        <a:pt x="1331" y="110"/>
                      </a:lnTo>
                      <a:lnTo>
                        <a:pt x="1345" y="110"/>
                      </a:lnTo>
                      <a:lnTo>
                        <a:pt x="1358" y="110"/>
                      </a:lnTo>
                      <a:lnTo>
                        <a:pt x="1372" y="95"/>
                      </a:lnTo>
                      <a:lnTo>
                        <a:pt x="1386" y="95"/>
                      </a:lnTo>
                      <a:lnTo>
                        <a:pt x="1386" y="79"/>
                      </a:lnTo>
                      <a:lnTo>
                        <a:pt x="1400" y="95"/>
                      </a:lnTo>
                      <a:lnTo>
                        <a:pt x="1400" y="110"/>
                      </a:lnTo>
                      <a:lnTo>
                        <a:pt x="1386" y="126"/>
                      </a:lnTo>
                      <a:lnTo>
                        <a:pt x="1400" y="126"/>
                      </a:lnTo>
                      <a:lnTo>
                        <a:pt x="1400" y="110"/>
                      </a:lnTo>
                      <a:lnTo>
                        <a:pt x="1414" y="110"/>
                      </a:lnTo>
                      <a:lnTo>
                        <a:pt x="1428" y="95"/>
                      </a:lnTo>
                      <a:lnTo>
                        <a:pt x="1441" y="95"/>
                      </a:lnTo>
                      <a:lnTo>
                        <a:pt x="1455" y="79"/>
                      </a:lnTo>
                      <a:lnTo>
                        <a:pt x="1441" y="63"/>
                      </a:lnTo>
                      <a:lnTo>
                        <a:pt x="1441" y="47"/>
                      </a:lnTo>
                      <a:lnTo>
                        <a:pt x="1455" y="47"/>
                      </a:lnTo>
                      <a:lnTo>
                        <a:pt x="1469" y="31"/>
                      </a:lnTo>
                      <a:lnTo>
                        <a:pt x="1483" y="16"/>
                      </a:lnTo>
                      <a:lnTo>
                        <a:pt x="1497" y="0"/>
                      </a:lnTo>
                      <a:lnTo>
                        <a:pt x="1497" y="16"/>
                      </a:lnTo>
                      <a:lnTo>
                        <a:pt x="1483" y="47"/>
                      </a:lnTo>
                      <a:lnTo>
                        <a:pt x="1483" y="63"/>
                      </a:lnTo>
                      <a:lnTo>
                        <a:pt x="1497" y="63"/>
                      </a:lnTo>
                      <a:lnTo>
                        <a:pt x="1524" y="63"/>
                      </a:lnTo>
                      <a:lnTo>
                        <a:pt x="1538" y="63"/>
                      </a:lnTo>
                      <a:lnTo>
                        <a:pt x="1538" y="79"/>
                      </a:lnTo>
                      <a:lnTo>
                        <a:pt x="1538" y="110"/>
                      </a:lnTo>
                      <a:lnTo>
                        <a:pt x="1566" y="110"/>
                      </a:lnTo>
                      <a:lnTo>
                        <a:pt x="1580" y="95"/>
                      </a:lnTo>
                      <a:lnTo>
                        <a:pt x="1580" y="79"/>
                      </a:lnTo>
                      <a:lnTo>
                        <a:pt x="1594" y="47"/>
                      </a:lnTo>
                      <a:lnTo>
                        <a:pt x="1621" y="47"/>
                      </a:lnTo>
                      <a:lnTo>
                        <a:pt x="1635" y="63"/>
                      </a:lnTo>
                      <a:lnTo>
                        <a:pt x="1649" y="63"/>
                      </a:lnTo>
                      <a:lnTo>
                        <a:pt x="1649" y="79"/>
                      </a:lnTo>
                      <a:lnTo>
                        <a:pt x="1635" y="79"/>
                      </a:lnTo>
                      <a:lnTo>
                        <a:pt x="1635" y="95"/>
                      </a:lnTo>
                      <a:lnTo>
                        <a:pt x="1635" y="110"/>
                      </a:lnTo>
                      <a:lnTo>
                        <a:pt x="1621" y="126"/>
                      </a:lnTo>
                      <a:lnTo>
                        <a:pt x="1607" y="126"/>
                      </a:lnTo>
                      <a:lnTo>
                        <a:pt x="1594" y="142"/>
                      </a:lnTo>
                      <a:lnTo>
                        <a:pt x="1580" y="142"/>
                      </a:lnTo>
                      <a:lnTo>
                        <a:pt x="1580" y="126"/>
                      </a:lnTo>
                      <a:lnTo>
                        <a:pt x="1566" y="126"/>
                      </a:lnTo>
                      <a:lnTo>
                        <a:pt x="1580" y="142"/>
                      </a:lnTo>
                      <a:lnTo>
                        <a:pt x="1566" y="142"/>
                      </a:lnTo>
                      <a:lnTo>
                        <a:pt x="1538" y="142"/>
                      </a:lnTo>
                      <a:lnTo>
                        <a:pt x="1524" y="158"/>
                      </a:lnTo>
                      <a:lnTo>
                        <a:pt x="1497" y="158"/>
                      </a:lnTo>
                      <a:lnTo>
                        <a:pt x="1483" y="158"/>
                      </a:lnTo>
                      <a:lnTo>
                        <a:pt x="1483" y="142"/>
                      </a:lnTo>
                      <a:lnTo>
                        <a:pt x="1469" y="142"/>
                      </a:lnTo>
                      <a:lnTo>
                        <a:pt x="1455" y="142"/>
                      </a:lnTo>
                      <a:lnTo>
                        <a:pt x="1441" y="142"/>
                      </a:lnTo>
                      <a:lnTo>
                        <a:pt x="1469" y="158"/>
                      </a:lnTo>
                      <a:lnTo>
                        <a:pt x="1497" y="158"/>
                      </a:lnTo>
                      <a:lnTo>
                        <a:pt x="1511" y="158"/>
                      </a:lnTo>
                      <a:lnTo>
                        <a:pt x="1497" y="173"/>
                      </a:lnTo>
                      <a:lnTo>
                        <a:pt x="1483" y="189"/>
                      </a:lnTo>
                      <a:lnTo>
                        <a:pt x="1455" y="189"/>
                      </a:lnTo>
                      <a:lnTo>
                        <a:pt x="1441" y="189"/>
                      </a:lnTo>
                      <a:lnTo>
                        <a:pt x="1441" y="205"/>
                      </a:lnTo>
                      <a:lnTo>
                        <a:pt x="1428" y="205"/>
                      </a:lnTo>
                      <a:lnTo>
                        <a:pt x="1414" y="189"/>
                      </a:lnTo>
                      <a:lnTo>
                        <a:pt x="1400" y="189"/>
                      </a:lnTo>
                      <a:lnTo>
                        <a:pt x="1386" y="189"/>
                      </a:lnTo>
                      <a:lnTo>
                        <a:pt x="1400" y="205"/>
                      </a:lnTo>
                      <a:lnTo>
                        <a:pt x="1414" y="220"/>
                      </a:lnTo>
                      <a:lnTo>
                        <a:pt x="1400" y="220"/>
                      </a:lnTo>
                      <a:lnTo>
                        <a:pt x="1386" y="220"/>
                      </a:lnTo>
                      <a:lnTo>
                        <a:pt x="1372" y="220"/>
                      </a:lnTo>
                      <a:lnTo>
                        <a:pt x="1358" y="237"/>
                      </a:lnTo>
                      <a:lnTo>
                        <a:pt x="1331" y="252"/>
                      </a:lnTo>
                      <a:lnTo>
                        <a:pt x="1303" y="284"/>
                      </a:lnTo>
                      <a:lnTo>
                        <a:pt x="1289" y="331"/>
                      </a:lnTo>
                      <a:lnTo>
                        <a:pt x="1303" y="346"/>
                      </a:lnTo>
                      <a:lnTo>
                        <a:pt x="1317" y="346"/>
                      </a:lnTo>
                      <a:lnTo>
                        <a:pt x="1331" y="363"/>
                      </a:lnTo>
                      <a:lnTo>
                        <a:pt x="1345" y="378"/>
                      </a:lnTo>
                      <a:lnTo>
                        <a:pt x="1372" y="395"/>
                      </a:lnTo>
                      <a:lnTo>
                        <a:pt x="1400" y="425"/>
                      </a:lnTo>
                      <a:lnTo>
                        <a:pt x="1400" y="410"/>
                      </a:lnTo>
                      <a:lnTo>
                        <a:pt x="1428" y="410"/>
                      </a:lnTo>
                      <a:lnTo>
                        <a:pt x="1441" y="410"/>
                      </a:lnTo>
                      <a:lnTo>
                        <a:pt x="1455" y="410"/>
                      </a:lnTo>
                      <a:lnTo>
                        <a:pt x="1455" y="425"/>
                      </a:lnTo>
                      <a:lnTo>
                        <a:pt x="1441" y="442"/>
                      </a:lnTo>
                      <a:lnTo>
                        <a:pt x="1428" y="474"/>
                      </a:lnTo>
                      <a:lnTo>
                        <a:pt x="1428" y="489"/>
                      </a:lnTo>
                      <a:lnTo>
                        <a:pt x="1428" y="504"/>
                      </a:lnTo>
                      <a:lnTo>
                        <a:pt x="1441" y="521"/>
                      </a:lnTo>
                      <a:lnTo>
                        <a:pt x="1455" y="536"/>
                      </a:lnTo>
                      <a:lnTo>
                        <a:pt x="1455" y="521"/>
                      </a:lnTo>
                      <a:lnTo>
                        <a:pt x="1455" y="504"/>
                      </a:lnTo>
                      <a:lnTo>
                        <a:pt x="1469" y="504"/>
                      </a:lnTo>
                      <a:lnTo>
                        <a:pt x="1483" y="504"/>
                      </a:lnTo>
                      <a:lnTo>
                        <a:pt x="1483" y="489"/>
                      </a:lnTo>
                      <a:lnTo>
                        <a:pt x="1483" y="474"/>
                      </a:lnTo>
                      <a:lnTo>
                        <a:pt x="1483" y="442"/>
                      </a:lnTo>
                      <a:lnTo>
                        <a:pt x="1497" y="425"/>
                      </a:lnTo>
                      <a:lnTo>
                        <a:pt x="1511" y="410"/>
                      </a:lnTo>
                      <a:lnTo>
                        <a:pt x="1552" y="395"/>
                      </a:lnTo>
                      <a:lnTo>
                        <a:pt x="1580" y="363"/>
                      </a:lnTo>
                      <a:lnTo>
                        <a:pt x="1580" y="346"/>
                      </a:lnTo>
                      <a:lnTo>
                        <a:pt x="1566" y="331"/>
                      </a:lnTo>
                      <a:lnTo>
                        <a:pt x="1552" y="331"/>
                      </a:lnTo>
                      <a:lnTo>
                        <a:pt x="1566" y="316"/>
                      </a:lnTo>
                      <a:lnTo>
                        <a:pt x="1580" y="316"/>
                      </a:lnTo>
                      <a:lnTo>
                        <a:pt x="1580" y="299"/>
                      </a:lnTo>
                      <a:lnTo>
                        <a:pt x="1594" y="284"/>
                      </a:lnTo>
                      <a:lnTo>
                        <a:pt x="1607" y="252"/>
                      </a:lnTo>
                      <a:lnTo>
                        <a:pt x="1607" y="237"/>
                      </a:lnTo>
                      <a:lnTo>
                        <a:pt x="1621" y="237"/>
                      </a:lnTo>
                      <a:lnTo>
                        <a:pt x="1621" y="220"/>
                      </a:lnTo>
                      <a:lnTo>
                        <a:pt x="1663" y="237"/>
                      </a:lnTo>
                      <a:lnTo>
                        <a:pt x="1704" y="252"/>
                      </a:lnTo>
                      <a:lnTo>
                        <a:pt x="1747" y="267"/>
                      </a:lnTo>
                      <a:lnTo>
                        <a:pt x="1733" y="267"/>
                      </a:lnTo>
                      <a:lnTo>
                        <a:pt x="1718" y="284"/>
                      </a:lnTo>
                      <a:lnTo>
                        <a:pt x="1704" y="284"/>
                      </a:lnTo>
                      <a:lnTo>
                        <a:pt x="1704" y="299"/>
                      </a:lnTo>
                      <a:lnTo>
                        <a:pt x="1733" y="316"/>
                      </a:lnTo>
                      <a:lnTo>
                        <a:pt x="1733" y="331"/>
                      </a:lnTo>
                      <a:lnTo>
                        <a:pt x="1733" y="346"/>
                      </a:lnTo>
                      <a:lnTo>
                        <a:pt x="1704" y="346"/>
                      </a:lnTo>
                      <a:lnTo>
                        <a:pt x="1733" y="346"/>
                      </a:lnTo>
                      <a:lnTo>
                        <a:pt x="1761" y="331"/>
                      </a:lnTo>
                      <a:lnTo>
                        <a:pt x="1775" y="316"/>
                      </a:lnTo>
                      <a:lnTo>
                        <a:pt x="1789" y="299"/>
                      </a:lnTo>
                      <a:lnTo>
                        <a:pt x="1802" y="299"/>
                      </a:lnTo>
                      <a:lnTo>
                        <a:pt x="1816" y="284"/>
                      </a:lnTo>
                      <a:lnTo>
                        <a:pt x="1816" y="299"/>
                      </a:lnTo>
                      <a:lnTo>
                        <a:pt x="1816" y="331"/>
                      </a:lnTo>
                      <a:lnTo>
                        <a:pt x="1830" y="378"/>
                      </a:lnTo>
                      <a:lnTo>
                        <a:pt x="1844" y="410"/>
                      </a:lnTo>
                      <a:lnTo>
                        <a:pt x="1858" y="425"/>
                      </a:lnTo>
                      <a:lnTo>
                        <a:pt x="1872" y="425"/>
                      </a:lnTo>
                      <a:lnTo>
                        <a:pt x="1885" y="425"/>
                      </a:lnTo>
                      <a:lnTo>
                        <a:pt x="1885" y="442"/>
                      </a:lnTo>
                      <a:lnTo>
                        <a:pt x="1872" y="442"/>
                      </a:lnTo>
                      <a:lnTo>
                        <a:pt x="1858" y="442"/>
                      </a:lnTo>
                      <a:lnTo>
                        <a:pt x="1844" y="457"/>
                      </a:lnTo>
                      <a:lnTo>
                        <a:pt x="1816" y="457"/>
                      </a:lnTo>
                      <a:lnTo>
                        <a:pt x="1830" y="457"/>
                      </a:lnTo>
                      <a:lnTo>
                        <a:pt x="1844" y="457"/>
                      </a:lnTo>
                      <a:lnTo>
                        <a:pt x="1858" y="457"/>
                      </a:lnTo>
                      <a:lnTo>
                        <a:pt x="1872" y="442"/>
                      </a:lnTo>
                      <a:lnTo>
                        <a:pt x="1885" y="457"/>
                      </a:lnTo>
                      <a:lnTo>
                        <a:pt x="1899" y="474"/>
                      </a:lnTo>
                      <a:lnTo>
                        <a:pt x="1899" y="489"/>
                      </a:lnTo>
                      <a:lnTo>
                        <a:pt x="1872" y="504"/>
                      </a:lnTo>
                      <a:lnTo>
                        <a:pt x="1858" y="504"/>
                      </a:lnTo>
                      <a:lnTo>
                        <a:pt x="1844" y="521"/>
                      </a:lnTo>
                      <a:lnTo>
                        <a:pt x="1830" y="521"/>
                      </a:lnTo>
                      <a:lnTo>
                        <a:pt x="1816" y="536"/>
                      </a:lnTo>
                      <a:lnTo>
                        <a:pt x="1802" y="536"/>
                      </a:lnTo>
                      <a:lnTo>
                        <a:pt x="1789" y="552"/>
                      </a:lnTo>
                      <a:lnTo>
                        <a:pt x="1775" y="552"/>
                      </a:lnTo>
                      <a:lnTo>
                        <a:pt x="1733" y="552"/>
                      </a:lnTo>
                      <a:lnTo>
                        <a:pt x="1677" y="568"/>
                      </a:lnTo>
                      <a:lnTo>
                        <a:pt x="1635" y="568"/>
                      </a:lnTo>
                      <a:lnTo>
                        <a:pt x="1621" y="583"/>
                      </a:lnTo>
                      <a:lnTo>
                        <a:pt x="1607" y="600"/>
                      </a:lnTo>
                      <a:lnTo>
                        <a:pt x="1594" y="615"/>
                      </a:lnTo>
                      <a:lnTo>
                        <a:pt x="1580" y="615"/>
                      </a:lnTo>
                      <a:lnTo>
                        <a:pt x="1566" y="631"/>
                      </a:lnTo>
                      <a:lnTo>
                        <a:pt x="1580" y="631"/>
                      </a:lnTo>
                      <a:lnTo>
                        <a:pt x="1594" y="615"/>
                      </a:lnTo>
                      <a:lnTo>
                        <a:pt x="1607" y="615"/>
                      </a:lnTo>
                      <a:lnTo>
                        <a:pt x="1607" y="600"/>
                      </a:lnTo>
                      <a:lnTo>
                        <a:pt x="1635" y="583"/>
                      </a:lnTo>
                      <a:lnTo>
                        <a:pt x="1663" y="568"/>
                      </a:lnTo>
                      <a:lnTo>
                        <a:pt x="1690" y="568"/>
                      </a:lnTo>
                      <a:lnTo>
                        <a:pt x="1704" y="568"/>
                      </a:lnTo>
                      <a:lnTo>
                        <a:pt x="1718" y="583"/>
                      </a:lnTo>
                      <a:lnTo>
                        <a:pt x="1690" y="600"/>
                      </a:lnTo>
                      <a:lnTo>
                        <a:pt x="1677" y="600"/>
                      </a:lnTo>
                      <a:lnTo>
                        <a:pt x="1663" y="600"/>
                      </a:lnTo>
                      <a:lnTo>
                        <a:pt x="1677" y="600"/>
                      </a:lnTo>
                      <a:lnTo>
                        <a:pt x="1704" y="615"/>
                      </a:lnTo>
                      <a:lnTo>
                        <a:pt x="1704" y="631"/>
                      </a:lnTo>
                      <a:lnTo>
                        <a:pt x="1704" y="647"/>
                      </a:lnTo>
                      <a:lnTo>
                        <a:pt x="1704" y="662"/>
                      </a:lnTo>
                      <a:lnTo>
                        <a:pt x="1718" y="662"/>
                      </a:lnTo>
                      <a:lnTo>
                        <a:pt x="1733" y="662"/>
                      </a:lnTo>
                      <a:lnTo>
                        <a:pt x="1747" y="662"/>
                      </a:lnTo>
                      <a:lnTo>
                        <a:pt x="1747" y="678"/>
                      </a:lnTo>
                      <a:lnTo>
                        <a:pt x="1733" y="678"/>
                      </a:lnTo>
                      <a:lnTo>
                        <a:pt x="1718" y="678"/>
                      </a:lnTo>
                      <a:lnTo>
                        <a:pt x="1704" y="694"/>
                      </a:lnTo>
                      <a:lnTo>
                        <a:pt x="1690" y="710"/>
                      </a:lnTo>
                      <a:lnTo>
                        <a:pt x="1677" y="710"/>
                      </a:lnTo>
                      <a:lnTo>
                        <a:pt x="1649" y="725"/>
                      </a:lnTo>
                      <a:lnTo>
                        <a:pt x="1649" y="710"/>
                      </a:lnTo>
                      <a:lnTo>
                        <a:pt x="1649" y="694"/>
                      </a:lnTo>
                      <a:lnTo>
                        <a:pt x="1663" y="694"/>
                      </a:lnTo>
                      <a:lnTo>
                        <a:pt x="1690" y="678"/>
                      </a:lnTo>
                      <a:lnTo>
                        <a:pt x="1704" y="678"/>
                      </a:lnTo>
                      <a:lnTo>
                        <a:pt x="1704" y="662"/>
                      </a:lnTo>
                      <a:lnTo>
                        <a:pt x="1690" y="662"/>
                      </a:lnTo>
                      <a:lnTo>
                        <a:pt x="1690" y="647"/>
                      </a:lnTo>
                      <a:lnTo>
                        <a:pt x="1677" y="662"/>
                      </a:lnTo>
                      <a:lnTo>
                        <a:pt x="1663" y="662"/>
                      </a:lnTo>
                      <a:lnTo>
                        <a:pt x="1663" y="678"/>
                      </a:lnTo>
                      <a:lnTo>
                        <a:pt x="1649" y="678"/>
                      </a:lnTo>
                      <a:lnTo>
                        <a:pt x="1635" y="678"/>
                      </a:lnTo>
                      <a:lnTo>
                        <a:pt x="1621" y="678"/>
                      </a:lnTo>
                      <a:lnTo>
                        <a:pt x="1621" y="694"/>
                      </a:lnTo>
                      <a:lnTo>
                        <a:pt x="1607" y="694"/>
                      </a:lnTo>
                      <a:lnTo>
                        <a:pt x="1580" y="710"/>
                      </a:lnTo>
                      <a:lnTo>
                        <a:pt x="1566" y="725"/>
                      </a:lnTo>
                      <a:lnTo>
                        <a:pt x="1552" y="741"/>
                      </a:lnTo>
                      <a:lnTo>
                        <a:pt x="1538" y="741"/>
                      </a:lnTo>
                      <a:lnTo>
                        <a:pt x="1538" y="757"/>
                      </a:lnTo>
                      <a:lnTo>
                        <a:pt x="1524" y="773"/>
                      </a:lnTo>
                      <a:lnTo>
                        <a:pt x="1511" y="789"/>
                      </a:lnTo>
                      <a:lnTo>
                        <a:pt x="1483" y="789"/>
                      </a:lnTo>
                      <a:lnTo>
                        <a:pt x="1455" y="804"/>
                      </a:lnTo>
                      <a:lnTo>
                        <a:pt x="1455" y="820"/>
                      </a:lnTo>
                      <a:lnTo>
                        <a:pt x="1441" y="836"/>
                      </a:lnTo>
                      <a:lnTo>
                        <a:pt x="1441" y="851"/>
                      </a:lnTo>
                      <a:lnTo>
                        <a:pt x="1441" y="836"/>
                      </a:lnTo>
                      <a:lnTo>
                        <a:pt x="1441" y="820"/>
                      </a:lnTo>
                      <a:lnTo>
                        <a:pt x="1428" y="836"/>
                      </a:lnTo>
                      <a:lnTo>
                        <a:pt x="1428" y="851"/>
                      </a:lnTo>
                      <a:lnTo>
                        <a:pt x="1414" y="868"/>
                      </a:lnTo>
                      <a:lnTo>
                        <a:pt x="1414" y="883"/>
                      </a:lnTo>
                      <a:lnTo>
                        <a:pt x="1414" y="898"/>
                      </a:lnTo>
                      <a:lnTo>
                        <a:pt x="1400" y="898"/>
                      </a:lnTo>
                      <a:lnTo>
                        <a:pt x="1400" y="883"/>
                      </a:lnTo>
                      <a:lnTo>
                        <a:pt x="1400" y="868"/>
                      </a:lnTo>
                      <a:lnTo>
                        <a:pt x="1386" y="851"/>
                      </a:lnTo>
                      <a:lnTo>
                        <a:pt x="1400" y="868"/>
                      </a:lnTo>
                      <a:lnTo>
                        <a:pt x="1400" y="883"/>
                      </a:lnTo>
                      <a:lnTo>
                        <a:pt x="1400" y="930"/>
                      </a:lnTo>
                      <a:lnTo>
                        <a:pt x="1400" y="947"/>
                      </a:lnTo>
                      <a:lnTo>
                        <a:pt x="1386" y="947"/>
                      </a:lnTo>
                      <a:lnTo>
                        <a:pt x="1372" y="947"/>
                      </a:lnTo>
                      <a:lnTo>
                        <a:pt x="1386" y="947"/>
                      </a:lnTo>
                      <a:lnTo>
                        <a:pt x="1400" y="947"/>
                      </a:lnTo>
                      <a:lnTo>
                        <a:pt x="1386" y="962"/>
                      </a:lnTo>
                      <a:lnTo>
                        <a:pt x="1358" y="994"/>
                      </a:lnTo>
                      <a:lnTo>
                        <a:pt x="1317" y="1009"/>
                      </a:lnTo>
                      <a:lnTo>
                        <a:pt x="1289" y="1041"/>
                      </a:lnTo>
                      <a:lnTo>
                        <a:pt x="1262" y="1056"/>
                      </a:lnTo>
                      <a:lnTo>
                        <a:pt x="1248" y="1088"/>
                      </a:lnTo>
                      <a:lnTo>
                        <a:pt x="1248" y="1120"/>
                      </a:lnTo>
                      <a:lnTo>
                        <a:pt x="1262" y="1152"/>
                      </a:lnTo>
                      <a:lnTo>
                        <a:pt x="1262" y="1167"/>
                      </a:lnTo>
                      <a:lnTo>
                        <a:pt x="1262" y="1183"/>
                      </a:lnTo>
                      <a:lnTo>
                        <a:pt x="1262" y="1199"/>
                      </a:lnTo>
                      <a:lnTo>
                        <a:pt x="1234" y="1246"/>
                      </a:lnTo>
                      <a:lnTo>
                        <a:pt x="1234" y="1231"/>
                      </a:lnTo>
                      <a:lnTo>
                        <a:pt x="1234" y="1214"/>
                      </a:lnTo>
                      <a:lnTo>
                        <a:pt x="1220" y="1214"/>
                      </a:lnTo>
                      <a:lnTo>
                        <a:pt x="1220" y="1199"/>
                      </a:lnTo>
                      <a:lnTo>
                        <a:pt x="1206" y="1167"/>
                      </a:lnTo>
                      <a:lnTo>
                        <a:pt x="1192" y="1135"/>
                      </a:lnTo>
                      <a:lnTo>
                        <a:pt x="1165" y="1120"/>
                      </a:lnTo>
                      <a:lnTo>
                        <a:pt x="1137" y="1120"/>
                      </a:lnTo>
                      <a:lnTo>
                        <a:pt x="1109" y="1120"/>
                      </a:lnTo>
                      <a:lnTo>
                        <a:pt x="1082" y="1135"/>
                      </a:lnTo>
                      <a:lnTo>
                        <a:pt x="1068" y="1135"/>
                      </a:lnTo>
                      <a:lnTo>
                        <a:pt x="1068" y="1120"/>
                      </a:lnTo>
                      <a:lnTo>
                        <a:pt x="1040" y="1120"/>
                      </a:lnTo>
                      <a:lnTo>
                        <a:pt x="1026" y="1105"/>
                      </a:lnTo>
                      <a:lnTo>
                        <a:pt x="999" y="1105"/>
                      </a:lnTo>
                      <a:lnTo>
                        <a:pt x="985" y="1105"/>
                      </a:lnTo>
                      <a:lnTo>
                        <a:pt x="985" y="1120"/>
                      </a:lnTo>
                      <a:lnTo>
                        <a:pt x="971" y="1120"/>
                      </a:lnTo>
                      <a:lnTo>
                        <a:pt x="985" y="1120"/>
                      </a:lnTo>
                      <a:lnTo>
                        <a:pt x="957" y="1135"/>
                      </a:lnTo>
                      <a:lnTo>
                        <a:pt x="930" y="1152"/>
                      </a:lnTo>
                      <a:lnTo>
                        <a:pt x="914" y="1167"/>
                      </a:lnTo>
                      <a:lnTo>
                        <a:pt x="901" y="1183"/>
                      </a:lnTo>
                      <a:lnTo>
                        <a:pt x="901" y="1199"/>
                      </a:lnTo>
                      <a:lnTo>
                        <a:pt x="901" y="1214"/>
                      </a:lnTo>
                      <a:lnTo>
                        <a:pt x="901" y="1231"/>
                      </a:lnTo>
                      <a:lnTo>
                        <a:pt x="887" y="1246"/>
                      </a:lnTo>
                      <a:lnTo>
                        <a:pt x="887" y="1293"/>
                      </a:lnTo>
                      <a:lnTo>
                        <a:pt x="887" y="1325"/>
                      </a:lnTo>
                      <a:lnTo>
                        <a:pt x="887" y="1356"/>
                      </a:lnTo>
                      <a:lnTo>
                        <a:pt x="901" y="1420"/>
                      </a:lnTo>
                      <a:lnTo>
                        <a:pt x="914" y="1420"/>
                      </a:lnTo>
                      <a:lnTo>
                        <a:pt x="957" y="1403"/>
                      </a:lnTo>
                      <a:lnTo>
                        <a:pt x="985" y="1403"/>
                      </a:lnTo>
                      <a:lnTo>
                        <a:pt x="1013" y="1403"/>
                      </a:lnTo>
                      <a:lnTo>
                        <a:pt x="1026" y="1388"/>
                      </a:lnTo>
                      <a:lnTo>
                        <a:pt x="1026" y="1372"/>
                      </a:lnTo>
                      <a:lnTo>
                        <a:pt x="1026" y="1356"/>
                      </a:lnTo>
                      <a:lnTo>
                        <a:pt x="1040" y="1341"/>
                      </a:lnTo>
                      <a:lnTo>
                        <a:pt x="1082" y="1341"/>
                      </a:lnTo>
                      <a:lnTo>
                        <a:pt x="1096" y="1341"/>
                      </a:lnTo>
                      <a:lnTo>
                        <a:pt x="1109" y="1341"/>
                      </a:lnTo>
                      <a:lnTo>
                        <a:pt x="1096" y="1372"/>
                      </a:lnTo>
                      <a:lnTo>
                        <a:pt x="1082" y="1388"/>
                      </a:lnTo>
                      <a:lnTo>
                        <a:pt x="1068" y="1403"/>
                      </a:lnTo>
                      <a:lnTo>
                        <a:pt x="1068" y="1420"/>
                      </a:lnTo>
                      <a:lnTo>
                        <a:pt x="1054" y="1435"/>
                      </a:lnTo>
                      <a:lnTo>
                        <a:pt x="1068" y="1451"/>
                      </a:lnTo>
                      <a:lnTo>
                        <a:pt x="1054" y="1467"/>
                      </a:lnTo>
                      <a:lnTo>
                        <a:pt x="1040" y="1482"/>
                      </a:lnTo>
                      <a:lnTo>
                        <a:pt x="1054" y="1499"/>
                      </a:lnTo>
                      <a:lnTo>
                        <a:pt x="1068" y="1482"/>
                      </a:lnTo>
                      <a:lnTo>
                        <a:pt x="1096" y="1499"/>
                      </a:lnTo>
                      <a:lnTo>
                        <a:pt x="1137" y="1499"/>
                      </a:lnTo>
                      <a:lnTo>
                        <a:pt x="1165" y="1514"/>
                      </a:lnTo>
                      <a:lnTo>
                        <a:pt x="1151" y="1514"/>
                      </a:lnTo>
                      <a:lnTo>
                        <a:pt x="1151" y="1561"/>
                      </a:lnTo>
                      <a:lnTo>
                        <a:pt x="1137" y="1593"/>
                      </a:lnTo>
                      <a:lnTo>
                        <a:pt x="1137" y="1625"/>
                      </a:lnTo>
                      <a:lnTo>
                        <a:pt x="1151" y="1657"/>
                      </a:lnTo>
                      <a:lnTo>
                        <a:pt x="1192" y="1672"/>
                      </a:lnTo>
                      <a:lnTo>
                        <a:pt x="1220" y="1672"/>
                      </a:lnTo>
                      <a:lnTo>
                        <a:pt x="1234" y="1672"/>
                      </a:lnTo>
                      <a:lnTo>
                        <a:pt x="1248" y="1687"/>
                      </a:lnTo>
                      <a:lnTo>
                        <a:pt x="1275" y="168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7926480" y="3505320"/>
                  <a:ext cx="21960" cy="48960"/>
                </a:xfrm>
                <a:custGeom>
                  <a:avLst/>
                  <a:gdLst/>
                  <a:ahLst/>
                  <a:rect l="l" t="t" r="r" b="b"/>
                  <a:pathLst>
                    <a:path w="42" h="94">
                      <a:moveTo>
                        <a:pt x="0" y="47"/>
                      </a:moveTo>
                      <a:lnTo>
                        <a:pt x="0" y="32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28" y="15"/>
                      </a:lnTo>
                      <a:lnTo>
                        <a:pt x="42" y="32"/>
                      </a:lnTo>
                      <a:lnTo>
                        <a:pt x="42" y="47"/>
                      </a:lnTo>
                      <a:lnTo>
                        <a:pt x="28" y="64"/>
                      </a:lnTo>
                      <a:lnTo>
                        <a:pt x="28" y="79"/>
                      </a:lnTo>
                      <a:lnTo>
                        <a:pt x="14" y="94"/>
                      </a:lnTo>
                      <a:lnTo>
                        <a:pt x="0" y="79"/>
                      </a:lnTo>
                      <a:lnTo>
                        <a:pt x="0" y="64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7926480" y="3505320"/>
                  <a:ext cx="21960" cy="48960"/>
                </a:xfrm>
                <a:custGeom>
                  <a:avLst/>
                  <a:gdLst/>
                  <a:ahLst/>
                  <a:rect l="l" t="t" r="r" b="b"/>
                  <a:pathLst>
                    <a:path w="42" h="94">
                      <a:moveTo>
                        <a:pt x="0" y="47"/>
                      </a:moveTo>
                      <a:lnTo>
                        <a:pt x="0" y="32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28" y="15"/>
                      </a:lnTo>
                      <a:lnTo>
                        <a:pt x="42" y="32"/>
                      </a:lnTo>
                      <a:lnTo>
                        <a:pt x="42" y="47"/>
                      </a:lnTo>
                      <a:lnTo>
                        <a:pt x="28" y="64"/>
                      </a:lnTo>
                      <a:lnTo>
                        <a:pt x="28" y="79"/>
                      </a:lnTo>
                      <a:lnTo>
                        <a:pt x="14" y="94"/>
                      </a:lnTo>
                      <a:lnTo>
                        <a:pt x="0" y="79"/>
                      </a:lnTo>
                      <a:lnTo>
                        <a:pt x="0" y="64"/>
                      </a:lnTo>
                      <a:lnTo>
                        <a:pt x="0" y="4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8394840" y="3497400"/>
                  <a:ext cx="52200" cy="48960"/>
                </a:xfrm>
                <a:custGeom>
                  <a:avLst/>
                  <a:gdLst/>
                  <a:ahLst/>
                  <a:rect l="l" t="t" r="r" b="b"/>
                  <a:pathLst>
                    <a:path w="97" h="94">
                      <a:moveTo>
                        <a:pt x="69" y="0"/>
                      </a:moveTo>
                      <a:lnTo>
                        <a:pt x="83" y="15"/>
                      </a:lnTo>
                      <a:lnTo>
                        <a:pt x="83" y="47"/>
                      </a:lnTo>
                      <a:lnTo>
                        <a:pt x="97" y="62"/>
                      </a:lnTo>
                      <a:lnTo>
                        <a:pt x="97" y="79"/>
                      </a:lnTo>
                      <a:lnTo>
                        <a:pt x="97" y="94"/>
                      </a:lnTo>
                      <a:lnTo>
                        <a:pt x="83" y="94"/>
                      </a:lnTo>
                      <a:lnTo>
                        <a:pt x="83" y="79"/>
                      </a:lnTo>
                      <a:lnTo>
                        <a:pt x="83" y="62"/>
                      </a:lnTo>
                      <a:lnTo>
                        <a:pt x="69" y="62"/>
                      </a:lnTo>
                      <a:lnTo>
                        <a:pt x="55" y="62"/>
                      </a:lnTo>
                      <a:lnTo>
                        <a:pt x="41" y="47"/>
                      </a:lnTo>
                      <a:lnTo>
                        <a:pt x="14" y="62"/>
                      </a:lnTo>
                      <a:lnTo>
                        <a:pt x="0" y="79"/>
                      </a:lnTo>
                      <a:lnTo>
                        <a:pt x="0" y="62"/>
                      </a:lnTo>
                      <a:lnTo>
                        <a:pt x="14" y="47"/>
                      </a:lnTo>
                      <a:lnTo>
                        <a:pt x="28" y="30"/>
                      </a:lnTo>
                      <a:lnTo>
                        <a:pt x="28" y="47"/>
                      </a:lnTo>
                      <a:lnTo>
                        <a:pt x="41" y="47"/>
                      </a:lnTo>
                      <a:lnTo>
                        <a:pt x="55" y="30"/>
                      </a:lnTo>
                      <a:lnTo>
                        <a:pt x="69" y="15"/>
                      </a:lnTo>
                      <a:lnTo>
                        <a:pt x="69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8394840" y="3497400"/>
                  <a:ext cx="52200" cy="48960"/>
                </a:xfrm>
                <a:custGeom>
                  <a:avLst/>
                  <a:gdLst/>
                  <a:ahLst/>
                  <a:rect l="l" t="t" r="r" b="b"/>
                  <a:pathLst>
                    <a:path w="97" h="94">
                      <a:moveTo>
                        <a:pt x="69" y="0"/>
                      </a:moveTo>
                      <a:lnTo>
                        <a:pt x="83" y="15"/>
                      </a:lnTo>
                      <a:lnTo>
                        <a:pt x="83" y="47"/>
                      </a:lnTo>
                      <a:lnTo>
                        <a:pt x="97" y="62"/>
                      </a:lnTo>
                      <a:lnTo>
                        <a:pt x="97" y="79"/>
                      </a:lnTo>
                      <a:lnTo>
                        <a:pt x="97" y="94"/>
                      </a:lnTo>
                      <a:lnTo>
                        <a:pt x="83" y="94"/>
                      </a:lnTo>
                      <a:lnTo>
                        <a:pt x="83" y="79"/>
                      </a:lnTo>
                      <a:lnTo>
                        <a:pt x="83" y="62"/>
                      </a:lnTo>
                      <a:lnTo>
                        <a:pt x="69" y="62"/>
                      </a:lnTo>
                      <a:lnTo>
                        <a:pt x="55" y="62"/>
                      </a:lnTo>
                      <a:lnTo>
                        <a:pt x="41" y="47"/>
                      </a:lnTo>
                      <a:lnTo>
                        <a:pt x="14" y="62"/>
                      </a:lnTo>
                      <a:lnTo>
                        <a:pt x="0" y="79"/>
                      </a:lnTo>
                      <a:lnTo>
                        <a:pt x="0" y="62"/>
                      </a:lnTo>
                      <a:lnTo>
                        <a:pt x="14" y="47"/>
                      </a:lnTo>
                      <a:lnTo>
                        <a:pt x="28" y="30"/>
                      </a:lnTo>
                      <a:lnTo>
                        <a:pt x="28" y="47"/>
                      </a:lnTo>
                      <a:lnTo>
                        <a:pt x="41" y="47"/>
                      </a:lnTo>
                      <a:lnTo>
                        <a:pt x="55" y="30"/>
                      </a:lnTo>
                      <a:lnTo>
                        <a:pt x="69" y="15"/>
                      </a:lnTo>
                      <a:lnTo>
                        <a:pt x="69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8256600" y="3538440"/>
                  <a:ext cx="109440" cy="157320"/>
                </a:xfrm>
                <a:custGeom>
                  <a:avLst/>
                  <a:gdLst/>
                  <a:ahLst/>
                  <a:rect l="l" t="t" r="r" b="b"/>
                  <a:pathLst>
                    <a:path w="208" h="298">
                      <a:moveTo>
                        <a:pt x="125" y="62"/>
                      </a:moveTo>
                      <a:lnTo>
                        <a:pt x="138" y="30"/>
                      </a:lnTo>
                      <a:lnTo>
                        <a:pt x="138" y="15"/>
                      </a:lnTo>
                      <a:lnTo>
                        <a:pt x="166" y="0"/>
                      </a:lnTo>
                      <a:lnTo>
                        <a:pt x="166" y="15"/>
                      </a:lnTo>
                      <a:lnTo>
                        <a:pt x="166" y="30"/>
                      </a:lnTo>
                      <a:lnTo>
                        <a:pt x="180" y="30"/>
                      </a:lnTo>
                      <a:lnTo>
                        <a:pt x="194" y="30"/>
                      </a:lnTo>
                      <a:lnTo>
                        <a:pt x="208" y="47"/>
                      </a:lnTo>
                      <a:lnTo>
                        <a:pt x="194" y="62"/>
                      </a:lnTo>
                      <a:lnTo>
                        <a:pt x="180" y="78"/>
                      </a:lnTo>
                      <a:lnTo>
                        <a:pt x="166" y="94"/>
                      </a:lnTo>
                      <a:lnTo>
                        <a:pt x="180" y="109"/>
                      </a:lnTo>
                      <a:lnTo>
                        <a:pt x="180" y="125"/>
                      </a:lnTo>
                      <a:lnTo>
                        <a:pt x="194" y="141"/>
                      </a:lnTo>
                      <a:lnTo>
                        <a:pt x="208" y="141"/>
                      </a:lnTo>
                      <a:lnTo>
                        <a:pt x="208" y="157"/>
                      </a:lnTo>
                      <a:lnTo>
                        <a:pt x="194" y="157"/>
                      </a:lnTo>
                      <a:lnTo>
                        <a:pt x="180" y="157"/>
                      </a:lnTo>
                      <a:lnTo>
                        <a:pt x="180" y="173"/>
                      </a:lnTo>
                      <a:lnTo>
                        <a:pt x="180" y="189"/>
                      </a:lnTo>
                      <a:lnTo>
                        <a:pt x="166" y="204"/>
                      </a:lnTo>
                      <a:lnTo>
                        <a:pt x="152" y="220"/>
                      </a:lnTo>
                      <a:lnTo>
                        <a:pt x="152" y="236"/>
                      </a:lnTo>
                      <a:lnTo>
                        <a:pt x="138" y="268"/>
                      </a:lnTo>
                      <a:lnTo>
                        <a:pt x="138" y="298"/>
                      </a:lnTo>
                      <a:lnTo>
                        <a:pt x="111" y="298"/>
                      </a:lnTo>
                      <a:lnTo>
                        <a:pt x="111" y="283"/>
                      </a:lnTo>
                      <a:lnTo>
                        <a:pt x="83" y="268"/>
                      </a:lnTo>
                      <a:lnTo>
                        <a:pt x="55" y="268"/>
                      </a:lnTo>
                      <a:lnTo>
                        <a:pt x="14" y="251"/>
                      </a:lnTo>
                      <a:lnTo>
                        <a:pt x="0" y="220"/>
                      </a:lnTo>
                      <a:lnTo>
                        <a:pt x="0" y="173"/>
                      </a:lnTo>
                      <a:lnTo>
                        <a:pt x="0" y="125"/>
                      </a:lnTo>
                      <a:lnTo>
                        <a:pt x="14" y="141"/>
                      </a:lnTo>
                      <a:lnTo>
                        <a:pt x="28" y="141"/>
                      </a:lnTo>
                      <a:lnTo>
                        <a:pt x="42" y="157"/>
                      </a:lnTo>
                      <a:lnTo>
                        <a:pt x="42" y="141"/>
                      </a:lnTo>
                      <a:lnTo>
                        <a:pt x="42" y="125"/>
                      </a:lnTo>
                      <a:lnTo>
                        <a:pt x="42" y="109"/>
                      </a:lnTo>
                      <a:lnTo>
                        <a:pt x="55" y="109"/>
                      </a:lnTo>
                      <a:lnTo>
                        <a:pt x="69" y="109"/>
                      </a:lnTo>
                      <a:lnTo>
                        <a:pt x="83" y="109"/>
                      </a:lnTo>
                      <a:lnTo>
                        <a:pt x="97" y="78"/>
                      </a:lnTo>
                      <a:lnTo>
                        <a:pt x="97" y="62"/>
                      </a:lnTo>
                      <a:lnTo>
                        <a:pt x="125" y="62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8256600" y="3538440"/>
                  <a:ext cx="109440" cy="157320"/>
                </a:xfrm>
                <a:custGeom>
                  <a:avLst/>
                  <a:gdLst/>
                  <a:ahLst/>
                  <a:rect l="l" t="t" r="r" b="b"/>
                  <a:pathLst>
                    <a:path w="208" h="298">
                      <a:moveTo>
                        <a:pt x="125" y="62"/>
                      </a:moveTo>
                      <a:lnTo>
                        <a:pt x="138" y="30"/>
                      </a:lnTo>
                      <a:lnTo>
                        <a:pt x="138" y="15"/>
                      </a:lnTo>
                      <a:lnTo>
                        <a:pt x="166" y="0"/>
                      </a:lnTo>
                      <a:lnTo>
                        <a:pt x="166" y="15"/>
                      </a:lnTo>
                      <a:lnTo>
                        <a:pt x="166" y="30"/>
                      </a:lnTo>
                      <a:lnTo>
                        <a:pt x="180" y="30"/>
                      </a:lnTo>
                      <a:lnTo>
                        <a:pt x="194" y="30"/>
                      </a:lnTo>
                      <a:lnTo>
                        <a:pt x="208" y="47"/>
                      </a:lnTo>
                      <a:lnTo>
                        <a:pt x="194" y="62"/>
                      </a:lnTo>
                      <a:lnTo>
                        <a:pt x="180" y="78"/>
                      </a:lnTo>
                      <a:lnTo>
                        <a:pt x="166" y="94"/>
                      </a:lnTo>
                      <a:lnTo>
                        <a:pt x="180" y="109"/>
                      </a:lnTo>
                      <a:lnTo>
                        <a:pt x="180" y="125"/>
                      </a:lnTo>
                      <a:lnTo>
                        <a:pt x="194" y="141"/>
                      </a:lnTo>
                      <a:lnTo>
                        <a:pt x="208" y="141"/>
                      </a:lnTo>
                      <a:lnTo>
                        <a:pt x="208" y="157"/>
                      </a:lnTo>
                      <a:lnTo>
                        <a:pt x="194" y="157"/>
                      </a:lnTo>
                      <a:lnTo>
                        <a:pt x="180" y="157"/>
                      </a:lnTo>
                      <a:lnTo>
                        <a:pt x="180" y="173"/>
                      </a:lnTo>
                      <a:lnTo>
                        <a:pt x="180" y="189"/>
                      </a:lnTo>
                      <a:lnTo>
                        <a:pt x="166" y="204"/>
                      </a:lnTo>
                      <a:lnTo>
                        <a:pt x="152" y="220"/>
                      </a:lnTo>
                      <a:lnTo>
                        <a:pt x="152" y="236"/>
                      </a:lnTo>
                      <a:lnTo>
                        <a:pt x="138" y="268"/>
                      </a:lnTo>
                      <a:lnTo>
                        <a:pt x="138" y="298"/>
                      </a:lnTo>
                      <a:lnTo>
                        <a:pt x="111" y="298"/>
                      </a:lnTo>
                      <a:lnTo>
                        <a:pt x="111" y="283"/>
                      </a:lnTo>
                      <a:lnTo>
                        <a:pt x="83" y="268"/>
                      </a:lnTo>
                      <a:lnTo>
                        <a:pt x="55" y="268"/>
                      </a:lnTo>
                      <a:lnTo>
                        <a:pt x="14" y="251"/>
                      </a:lnTo>
                      <a:lnTo>
                        <a:pt x="0" y="220"/>
                      </a:lnTo>
                      <a:lnTo>
                        <a:pt x="0" y="173"/>
                      </a:lnTo>
                      <a:lnTo>
                        <a:pt x="0" y="125"/>
                      </a:lnTo>
                      <a:lnTo>
                        <a:pt x="14" y="141"/>
                      </a:lnTo>
                      <a:lnTo>
                        <a:pt x="28" y="141"/>
                      </a:lnTo>
                      <a:lnTo>
                        <a:pt x="42" y="157"/>
                      </a:lnTo>
                      <a:lnTo>
                        <a:pt x="42" y="141"/>
                      </a:lnTo>
                      <a:lnTo>
                        <a:pt x="42" y="125"/>
                      </a:lnTo>
                      <a:lnTo>
                        <a:pt x="42" y="109"/>
                      </a:lnTo>
                      <a:lnTo>
                        <a:pt x="55" y="109"/>
                      </a:lnTo>
                      <a:lnTo>
                        <a:pt x="69" y="109"/>
                      </a:lnTo>
                      <a:lnTo>
                        <a:pt x="83" y="109"/>
                      </a:lnTo>
                      <a:lnTo>
                        <a:pt x="97" y="78"/>
                      </a:lnTo>
                      <a:lnTo>
                        <a:pt x="97" y="62"/>
                      </a:lnTo>
                      <a:lnTo>
                        <a:pt x="125" y="6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8094600" y="3554280"/>
                  <a:ext cx="125640" cy="168480"/>
                </a:xfrm>
                <a:custGeom>
                  <a:avLst/>
                  <a:gdLst/>
                  <a:ahLst/>
                  <a:rect l="l" t="t" r="r" b="b"/>
                  <a:pathLst>
                    <a:path w="235" h="317">
                      <a:moveTo>
                        <a:pt x="0" y="0"/>
                      </a:moveTo>
                      <a:lnTo>
                        <a:pt x="27" y="17"/>
                      </a:lnTo>
                      <a:lnTo>
                        <a:pt x="41" y="32"/>
                      </a:lnTo>
                      <a:lnTo>
                        <a:pt x="69" y="32"/>
                      </a:lnTo>
                      <a:lnTo>
                        <a:pt x="97" y="64"/>
                      </a:lnTo>
                      <a:lnTo>
                        <a:pt x="110" y="64"/>
                      </a:lnTo>
                      <a:lnTo>
                        <a:pt x="97" y="79"/>
                      </a:lnTo>
                      <a:lnTo>
                        <a:pt x="110" y="79"/>
                      </a:lnTo>
                      <a:lnTo>
                        <a:pt x="110" y="95"/>
                      </a:lnTo>
                      <a:lnTo>
                        <a:pt x="138" y="111"/>
                      </a:lnTo>
                      <a:lnTo>
                        <a:pt x="152" y="127"/>
                      </a:lnTo>
                      <a:lnTo>
                        <a:pt x="166" y="143"/>
                      </a:lnTo>
                      <a:lnTo>
                        <a:pt x="166" y="159"/>
                      </a:lnTo>
                      <a:lnTo>
                        <a:pt x="180" y="143"/>
                      </a:lnTo>
                      <a:lnTo>
                        <a:pt x="193" y="143"/>
                      </a:lnTo>
                      <a:lnTo>
                        <a:pt x="207" y="174"/>
                      </a:lnTo>
                      <a:lnTo>
                        <a:pt x="193" y="206"/>
                      </a:lnTo>
                      <a:lnTo>
                        <a:pt x="207" y="238"/>
                      </a:lnTo>
                      <a:lnTo>
                        <a:pt x="221" y="238"/>
                      </a:lnTo>
                      <a:lnTo>
                        <a:pt x="235" y="253"/>
                      </a:lnTo>
                      <a:lnTo>
                        <a:pt x="221" y="285"/>
                      </a:lnTo>
                      <a:lnTo>
                        <a:pt x="221" y="300"/>
                      </a:lnTo>
                      <a:lnTo>
                        <a:pt x="207" y="317"/>
                      </a:lnTo>
                      <a:lnTo>
                        <a:pt x="193" y="317"/>
                      </a:lnTo>
                      <a:lnTo>
                        <a:pt x="193" y="300"/>
                      </a:lnTo>
                      <a:lnTo>
                        <a:pt x="180" y="300"/>
                      </a:lnTo>
                      <a:lnTo>
                        <a:pt x="166" y="268"/>
                      </a:lnTo>
                      <a:lnTo>
                        <a:pt x="138" y="253"/>
                      </a:lnTo>
                      <a:lnTo>
                        <a:pt x="124" y="221"/>
                      </a:lnTo>
                      <a:lnTo>
                        <a:pt x="124" y="206"/>
                      </a:lnTo>
                      <a:lnTo>
                        <a:pt x="124" y="190"/>
                      </a:lnTo>
                      <a:lnTo>
                        <a:pt x="110" y="174"/>
                      </a:lnTo>
                      <a:lnTo>
                        <a:pt x="110" y="159"/>
                      </a:lnTo>
                      <a:lnTo>
                        <a:pt x="97" y="159"/>
                      </a:lnTo>
                      <a:lnTo>
                        <a:pt x="83" y="159"/>
                      </a:lnTo>
                      <a:lnTo>
                        <a:pt x="83" y="127"/>
                      </a:lnTo>
                      <a:lnTo>
                        <a:pt x="69" y="111"/>
                      </a:lnTo>
                      <a:lnTo>
                        <a:pt x="55" y="95"/>
                      </a:lnTo>
                      <a:lnTo>
                        <a:pt x="55" y="79"/>
                      </a:lnTo>
                      <a:lnTo>
                        <a:pt x="41" y="64"/>
                      </a:lnTo>
                      <a:lnTo>
                        <a:pt x="27" y="64"/>
                      </a:lnTo>
                      <a:lnTo>
                        <a:pt x="27" y="48"/>
                      </a:lnTo>
                      <a:lnTo>
                        <a:pt x="14" y="32"/>
                      </a:lnTo>
                      <a:lnTo>
                        <a:pt x="14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8094600" y="3554280"/>
                  <a:ext cx="125640" cy="168480"/>
                </a:xfrm>
                <a:custGeom>
                  <a:avLst/>
                  <a:gdLst/>
                  <a:ahLst/>
                  <a:rect l="l" t="t" r="r" b="b"/>
                  <a:pathLst>
                    <a:path w="235" h="317">
                      <a:moveTo>
                        <a:pt x="0" y="0"/>
                      </a:moveTo>
                      <a:lnTo>
                        <a:pt x="27" y="17"/>
                      </a:lnTo>
                      <a:lnTo>
                        <a:pt x="41" y="32"/>
                      </a:lnTo>
                      <a:lnTo>
                        <a:pt x="69" y="32"/>
                      </a:lnTo>
                      <a:lnTo>
                        <a:pt x="97" y="64"/>
                      </a:lnTo>
                      <a:lnTo>
                        <a:pt x="110" y="64"/>
                      </a:lnTo>
                      <a:lnTo>
                        <a:pt x="97" y="79"/>
                      </a:lnTo>
                      <a:lnTo>
                        <a:pt x="110" y="79"/>
                      </a:lnTo>
                      <a:lnTo>
                        <a:pt x="110" y="95"/>
                      </a:lnTo>
                      <a:lnTo>
                        <a:pt x="138" y="111"/>
                      </a:lnTo>
                      <a:lnTo>
                        <a:pt x="152" y="127"/>
                      </a:lnTo>
                      <a:lnTo>
                        <a:pt x="166" y="143"/>
                      </a:lnTo>
                      <a:lnTo>
                        <a:pt x="166" y="159"/>
                      </a:lnTo>
                      <a:lnTo>
                        <a:pt x="180" y="143"/>
                      </a:lnTo>
                      <a:lnTo>
                        <a:pt x="193" y="143"/>
                      </a:lnTo>
                      <a:lnTo>
                        <a:pt x="207" y="174"/>
                      </a:lnTo>
                      <a:lnTo>
                        <a:pt x="193" y="206"/>
                      </a:lnTo>
                      <a:lnTo>
                        <a:pt x="207" y="238"/>
                      </a:lnTo>
                      <a:lnTo>
                        <a:pt x="221" y="238"/>
                      </a:lnTo>
                      <a:lnTo>
                        <a:pt x="235" y="253"/>
                      </a:lnTo>
                      <a:lnTo>
                        <a:pt x="221" y="285"/>
                      </a:lnTo>
                      <a:lnTo>
                        <a:pt x="221" y="300"/>
                      </a:lnTo>
                      <a:lnTo>
                        <a:pt x="207" y="317"/>
                      </a:lnTo>
                      <a:lnTo>
                        <a:pt x="193" y="317"/>
                      </a:lnTo>
                      <a:lnTo>
                        <a:pt x="193" y="300"/>
                      </a:lnTo>
                      <a:lnTo>
                        <a:pt x="180" y="300"/>
                      </a:lnTo>
                      <a:lnTo>
                        <a:pt x="166" y="268"/>
                      </a:lnTo>
                      <a:lnTo>
                        <a:pt x="138" y="253"/>
                      </a:lnTo>
                      <a:lnTo>
                        <a:pt x="124" y="221"/>
                      </a:lnTo>
                      <a:lnTo>
                        <a:pt x="124" y="206"/>
                      </a:lnTo>
                      <a:lnTo>
                        <a:pt x="124" y="190"/>
                      </a:lnTo>
                      <a:lnTo>
                        <a:pt x="110" y="174"/>
                      </a:lnTo>
                      <a:lnTo>
                        <a:pt x="110" y="159"/>
                      </a:lnTo>
                      <a:lnTo>
                        <a:pt x="97" y="159"/>
                      </a:lnTo>
                      <a:lnTo>
                        <a:pt x="83" y="159"/>
                      </a:lnTo>
                      <a:lnTo>
                        <a:pt x="83" y="127"/>
                      </a:lnTo>
                      <a:lnTo>
                        <a:pt x="69" y="111"/>
                      </a:lnTo>
                      <a:lnTo>
                        <a:pt x="55" y="95"/>
                      </a:lnTo>
                      <a:lnTo>
                        <a:pt x="55" y="79"/>
                      </a:lnTo>
                      <a:lnTo>
                        <a:pt x="41" y="64"/>
                      </a:lnTo>
                      <a:lnTo>
                        <a:pt x="27" y="64"/>
                      </a:lnTo>
                      <a:lnTo>
                        <a:pt x="27" y="48"/>
                      </a:lnTo>
                      <a:lnTo>
                        <a:pt x="14" y="32"/>
                      </a:lnTo>
                      <a:lnTo>
                        <a:pt x="14" y="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6453360" y="3638520"/>
                  <a:ext cx="28440" cy="25560"/>
                </a:xfrm>
                <a:custGeom>
                  <a:avLst/>
                  <a:gdLst/>
                  <a:ahLst/>
                  <a:rect l="l" t="t" r="r" b="b"/>
                  <a:pathLst>
                    <a:path w="55" h="47">
                      <a:moveTo>
                        <a:pt x="55" y="0"/>
                      </a:moveTo>
                      <a:lnTo>
                        <a:pt x="42" y="31"/>
                      </a:lnTo>
                      <a:lnTo>
                        <a:pt x="28" y="47"/>
                      </a:lnTo>
                      <a:lnTo>
                        <a:pt x="14" y="47"/>
                      </a:lnTo>
                      <a:lnTo>
                        <a:pt x="0" y="47"/>
                      </a:lnTo>
                      <a:lnTo>
                        <a:pt x="0" y="15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28" y="0"/>
                      </a:lnTo>
                      <a:lnTo>
                        <a:pt x="55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6453360" y="3638520"/>
                  <a:ext cx="28440" cy="25560"/>
                </a:xfrm>
                <a:custGeom>
                  <a:avLst/>
                  <a:gdLst/>
                  <a:ahLst/>
                  <a:rect l="l" t="t" r="r" b="b"/>
                  <a:pathLst>
                    <a:path w="55" h="47">
                      <a:moveTo>
                        <a:pt x="55" y="0"/>
                      </a:moveTo>
                      <a:lnTo>
                        <a:pt x="42" y="31"/>
                      </a:lnTo>
                      <a:lnTo>
                        <a:pt x="28" y="47"/>
                      </a:lnTo>
                      <a:lnTo>
                        <a:pt x="14" y="47"/>
                      </a:lnTo>
                      <a:lnTo>
                        <a:pt x="0" y="47"/>
                      </a:lnTo>
                      <a:lnTo>
                        <a:pt x="0" y="15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28" y="0"/>
                      </a:lnTo>
                      <a:lnTo>
                        <a:pt x="5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6437160" y="3654360"/>
                  <a:ext cx="7920" cy="972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14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6437160" y="3654360"/>
                  <a:ext cx="7920" cy="972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14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8372520" y="3621240"/>
                  <a:ext cx="52200" cy="101520"/>
                </a:xfrm>
                <a:custGeom>
                  <a:avLst/>
                  <a:gdLst/>
                  <a:ahLst/>
                  <a:rect l="l" t="t" r="r" b="b"/>
                  <a:pathLst>
                    <a:path w="97" h="190">
                      <a:moveTo>
                        <a:pt x="0" y="190"/>
                      </a:moveTo>
                      <a:lnTo>
                        <a:pt x="0" y="173"/>
                      </a:lnTo>
                      <a:lnTo>
                        <a:pt x="0" y="158"/>
                      </a:lnTo>
                      <a:lnTo>
                        <a:pt x="0" y="141"/>
                      </a:lnTo>
                      <a:lnTo>
                        <a:pt x="0" y="94"/>
                      </a:lnTo>
                      <a:lnTo>
                        <a:pt x="0" y="47"/>
                      </a:lnTo>
                      <a:lnTo>
                        <a:pt x="0" y="16"/>
                      </a:lnTo>
                      <a:lnTo>
                        <a:pt x="14" y="16"/>
                      </a:lnTo>
                      <a:lnTo>
                        <a:pt x="14" y="0"/>
                      </a:lnTo>
                      <a:lnTo>
                        <a:pt x="42" y="16"/>
                      </a:lnTo>
                      <a:lnTo>
                        <a:pt x="70" y="16"/>
                      </a:lnTo>
                      <a:lnTo>
                        <a:pt x="97" y="16"/>
                      </a:lnTo>
                      <a:lnTo>
                        <a:pt x="83" y="16"/>
                      </a:lnTo>
                      <a:lnTo>
                        <a:pt x="83" y="32"/>
                      </a:lnTo>
                      <a:lnTo>
                        <a:pt x="56" y="32"/>
                      </a:lnTo>
                      <a:lnTo>
                        <a:pt x="42" y="47"/>
                      </a:lnTo>
                      <a:lnTo>
                        <a:pt x="14" y="63"/>
                      </a:lnTo>
                      <a:lnTo>
                        <a:pt x="28" y="63"/>
                      </a:lnTo>
                      <a:lnTo>
                        <a:pt x="28" y="79"/>
                      </a:lnTo>
                      <a:lnTo>
                        <a:pt x="42" y="94"/>
                      </a:lnTo>
                      <a:lnTo>
                        <a:pt x="56" y="126"/>
                      </a:lnTo>
                      <a:lnTo>
                        <a:pt x="70" y="158"/>
                      </a:lnTo>
                      <a:lnTo>
                        <a:pt x="56" y="158"/>
                      </a:lnTo>
                      <a:lnTo>
                        <a:pt x="42" y="158"/>
                      </a:lnTo>
                      <a:lnTo>
                        <a:pt x="28" y="126"/>
                      </a:lnTo>
                      <a:lnTo>
                        <a:pt x="28" y="111"/>
                      </a:lnTo>
                      <a:lnTo>
                        <a:pt x="14" y="111"/>
                      </a:lnTo>
                      <a:lnTo>
                        <a:pt x="14" y="126"/>
                      </a:lnTo>
                      <a:lnTo>
                        <a:pt x="14" y="158"/>
                      </a:lnTo>
                      <a:lnTo>
                        <a:pt x="0" y="173"/>
                      </a:lnTo>
                      <a:lnTo>
                        <a:pt x="0" y="19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8372520" y="3621240"/>
                  <a:ext cx="52200" cy="101520"/>
                </a:xfrm>
                <a:custGeom>
                  <a:avLst/>
                  <a:gdLst/>
                  <a:ahLst/>
                  <a:rect l="l" t="t" r="r" b="b"/>
                  <a:pathLst>
                    <a:path w="97" h="190">
                      <a:moveTo>
                        <a:pt x="0" y="190"/>
                      </a:moveTo>
                      <a:lnTo>
                        <a:pt x="0" y="173"/>
                      </a:lnTo>
                      <a:lnTo>
                        <a:pt x="0" y="158"/>
                      </a:lnTo>
                      <a:lnTo>
                        <a:pt x="0" y="141"/>
                      </a:lnTo>
                      <a:lnTo>
                        <a:pt x="0" y="94"/>
                      </a:lnTo>
                      <a:lnTo>
                        <a:pt x="0" y="47"/>
                      </a:lnTo>
                      <a:lnTo>
                        <a:pt x="0" y="16"/>
                      </a:lnTo>
                      <a:lnTo>
                        <a:pt x="14" y="16"/>
                      </a:lnTo>
                      <a:lnTo>
                        <a:pt x="14" y="0"/>
                      </a:lnTo>
                      <a:lnTo>
                        <a:pt x="42" y="16"/>
                      </a:lnTo>
                      <a:lnTo>
                        <a:pt x="70" y="16"/>
                      </a:lnTo>
                      <a:lnTo>
                        <a:pt x="97" y="16"/>
                      </a:lnTo>
                      <a:lnTo>
                        <a:pt x="83" y="16"/>
                      </a:lnTo>
                      <a:lnTo>
                        <a:pt x="83" y="32"/>
                      </a:lnTo>
                      <a:lnTo>
                        <a:pt x="56" y="32"/>
                      </a:lnTo>
                      <a:lnTo>
                        <a:pt x="42" y="47"/>
                      </a:lnTo>
                      <a:lnTo>
                        <a:pt x="14" y="63"/>
                      </a:lnTo>
                      <a:lnTo>
                        <a:pt x="28" y="63"/>
                      </a:lnTo>
                      <a:lnTo>
                        <a:pt x="28" y="79"/>
                      </a:lnTo>
                      <a:lnTo>
                        <a:pt x="42" y="94"/>
                      </a:lnTo>
                      <a:lnTo>
                        <a:pt x="56" y="126"/>
                      </a:lnTo>
                      <a:lnTo>
                        <a:pt x="70" y="158"/>
                      </a:lnTo>
                      <a:lnTo>
                        <a:pt x="56" y="158"/>
                      </a:lnTo>
                      <a:lnTo>
                        <a:pt x="42" y="158"/>
                      </a:lnTo>
                      <a:lnTo>
                        <a:pt x="28" y="126"/>
                      </a:lnTo>
                      <a:lnTo>
                        <a:pt x="28" y="111"/>
                      </a:lnTo>
                      <a:lnTo>
                        <a:pt x="14" y="111"/>
                      </a:lnTo>
                      <a:lnTo>
                        <a:pt x="14" y="126"/>
                      </a:lnTo>
                      <a:lnTo>
                        <a:pt x="14" y="158"/>
                      </a:lnTo>
                      <a:lnTo>
                        <a:pt x="0" y="173"/>
                      </a:lnTo>
                      <a:lnTo>
                        <a:pt x="0" y="19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8211960" y="366408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14" h="15">
                      <a:moveTo>
                        <a:pt x="14" y="0"/>
                      </a:move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0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8211960" y="366408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14" h="15">
                      <a:moveTo>
                        <a:pt x="14" y="0"/>
                      </a:move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0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8724960" y="3672000"/>
                  <a:ext cx="30240" cy="23760"/>
                </a:xfrm>
                <a:custGeom>
                  <a:avLst/>
                  <a:gdLst/>
                  <a:ahLst/>
                  <a:rect l="l" t="t" r="r" b="b"/>
                  <a:pathLst>
                    <a:path w="55" h="47">
                      <a:moveTo>
                        <a:pt x="0" y="0"/>
                      </a:moveTo>
                      <a:lnTo>
                        <a:pt x="27" y="17"/>
                      </a:lnTo>
                      <a:lnTo>
                        <a:pt x="41" y="32"/>
                      </a:lnTo>
                      <a:lnTo>
                        <a:pt x="55" y="47"/>
                      </a:lnTo>
                      <a:lnTo>
                        <a:pt x="27" y="32"/>
                      </a:lnTo>
                      <a:lnTo>
                        <a:pt x="14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8724960" y="3672000"/>
                  <a:ext cx="30240" cy="23760"/>
                </a:xfrm>
                <a:custGeom>
                  <a:avLst/>
                  <a:gdLst/>
                  <a:ahLst/>
                  <a:rect l="l" t="t" r="r" b="b"/>
                  <a:pathLst>
                    <a:path w="55" h="47">
                      <a:moveTo>
                        <a:pt x="0" y="0"/>
                      </a:moveTo>
                      <a:lnTo>
                        <a:pt x="27" y="17"/>
                      </a:lnTo>
                      <a:lnTo>
                        <a:pt x="41" y="32"/>
                      </a:lnTo>
                      <a:lnTo>
                        <a:pt x="55" y="47"/>
                      </a:lnTo>
                      <a:lnTo>
                        <a:pt x="27" y="32"/>
                      </a:lnTo>
                      <a:lnTo>
                        <a:pt x="14" y="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8497800" y="3646440"/>
                  <a:ext cx="227160" cy="142920"/>
                </a:xfrm>
                <a:custGeom>
                  <a:avLst/>
                  <a:gdLst/>
                  <a:ahLst/>
                  <a:rect l="l" t="t" r="r" b="b"/>
                  <a:pathLst>
                    <a:path w="430" h="269">
                      <a:moveTo>
                        <a:pt x="222" y="237"/>
                      </a:moveTo>
                      <a:lnTo>
                        <a:pt x="208" y="222"/>
                      </a:lnTo>
                      <a:lnTo>
                        <a:pt x="181" y="222"/>
                      </a:lnTo>
                      <a:lnTo>
                        <a:pt x="181" y="205"/>
                      </a:lnTo>
                      <a:lnTo>
                        <a:pt x="167" y="190"/>
                      </a:lnTo>
                      <a:lnTo>
                        <a:pt x="167" y="158"/>
                      </a:lnTo>
                      <a:lnTo>
                        <a:pt x="167" y="126"/>
                      </a:lnTo>
                      <a:lnTo>
                        <a:pt x="153" y="126"/>
                      </a:lnTo>
                      <a:lnTo>
                        <a:pt x="125" y="111"/>
                      </a:lnTo>
                      <a:lnTo>
                        <a:pt x="98" y="111"/>
                      </a:lnTo>
                      <a:lnTo>
                        <a:pt x="98" y="94"/>
                      </a:lnTo>
                      <a:lnTo>
                        <a:pt x="84" y="94"/>
                      </a:lnTo>
                      <a:lnTo>
                        <a:pt x="84" y="79"/>
                      </a:lnTo>
                      <a:lnTo>
                        <a:pt x="84" y="64"/>
                      </a:lnTo>
                      <a:lnTo>
                        <a:pt x="70" y="64"/>
                      </a:lnTo>
                      <a:lnTo>
                        <a:pt x="56" y="64"/>
                      </a:lnTo>
                      <a:lnTo>
                        <a:pt x="42" y="64"/>
                      </a:lnTo>
                      <a:lnTo>
                        <a:pt x="56" y="47"/>
                      </a:lnTo>
                      <a:lnTo>
                        <a:pt x="70" y="47"/>
                      </a:lnTo>
                      <a:lnTo>
                        <a:pt x="84" y="47"/>
                      </a:lnTo>
                      <a:lnTo>
                        <a:pt x="56" y="32"/>
                      </a:lnTo>
                      <a:lnTo>
                        <a:pt x="42" y="32"/>
                      </a:lnTo>
                      <a:lnTo>
                        <a:pt x="0" y="16"/>
                      </a:lnTo>
                      <a:lnTo>
                        <a:pt x="15" y="0"/>
                      </a:lnTo>
                      <a:lnTo>
                        <a:pt x="42" y="0"/>
                      </a:lnTo>
                      <a:lnTo>
                        <a:pt x="56" y="0"/>
                      </a:lnTo>
                      <a:lnTo>
                        <a:pt x="70" y="16"/>
                      </a:lnTo>
                      <a:lnTo>
                        <a:pt x="84" y="16"/>
                      </a:lnTo>
                      <a:lnTo>
                        <a:pt x="98" y="47"/>
                      </a:lnTo>
                      <a:lnTo>
                        <a:pt x="98" y="79"/>
                      </a:lnTo>
                      <a:lnTo>
                        <a:pt x="112" y="79"/>
                      </a:lnTo>
                      <a:lnTo>
                        <a:pt x="125" y="47"/>
                      </a:lnTo>
                      <a:lnTo>
                        <a:pt x="139" y="32"/>
                      </a:lnTo>
                      <a:lnTo>
                        <a:pt x="167" y="32"/>
                      </a:lnTo>
                      <a:lnTo>
                        <a:pt x="181" y="32"/>
                      </a:lnTo>
                      <a:lnTo>
                        <a:pt x="195" y="32"/>
                      </a:lnTo>
                      <a:lnTo>
                        <a:pt x="208" y="47"/>
                      </a:lnTo>
                      <a:lnTo>
                        <a:pt x="236" y="64"/>
                      </a:lnTo>
                      <a:lnTo>
                        <a:pt x="264" y="79"/>
                      </a:lnTo>
                      <a:lnTo>
                        <a:pt x="305" y="94"/>
                      </a:lnTo>
                      <a:lnTo>
                        <a:pt x="319" y="111"/>
                      </a:lnTo>
                      <a:lnTo>
                        <a:pt x="333" y="111"/>
                      </a:lnTo>
                      <a:lnTo>
                        <a:pt x="347" y="126"/>
                      </a:lnTo>
                      <a:lnTo>
                        <a:pt x="347" y="143"/>
                      </a:lnTo>
                      <a:lnTo>
                        <a:pt x="361" y="143"/>
                      </a:lnTo>
                      <a:lnTo>
                        <a:pt x="361" y="158"/>
                      </a:lnTo>
                      <a:lnTo>
                        <a:pt x="361" y="173"/>
                      </a:lnTo>
                      <a:lnTo>
                        <a:pt x="347" y="190"/>
                      </a:lnTo>
                      <a:lnTo>
                        <a:pt x="361" y="190"/>
                      </a:lnTo>
                      <a:lnTo>
                        <a:pt x="361" y="205"/>
                      </a:lnTo>
                      <a:lnTo>
                        <a:pt x="374" y="205"/>
                      </a:lnTo>
                      <a:lnTo>
                        <a:pt x="374" y="222"/>
                      </a:lnTo>
                      <a:lnTo>
                        <a:pt x="374" y="237"/>
                      </a:lnTo>
                      <a:lnTo>
                        <a:pt x="388" y="237"/>
                      </a:lnTo>
                      <a:lnTo>
                        <a:pt x="416" y="252"/>
                      </a:lnTo>
                      <a:lnTo>
                        <a:pt x="430" y="269"/>
                      </a:lnTo>
                      <a:lnTo>
                        <a:pt x="416" y="269"/>
                      </a:lnTo>
                      <a:lnTo>
                        <a:pt x="388" y="252"/>
                      </a:lnTo>
                      <a:lnTo>
                        <a:pt x="361" y="252"/>
                      </a:lnTo>
                      <a:lnTo>
                        <a:pt x="347" y="237"/>
                      </a:lnTo>
                      <a:lnTo>
                        <a:pt x="333" y="222"/>
                      </a:lnTo>
                      <a:lnTo>
                        <a:pt x="319" y="205"/>
                      </a:lnTo>
                      <a:lnTo>
                        <a:pt x="291" y="190"/>
                      </a:lnTo>
                      <a:lnTo>
                        <a:pt x="250" y="190"/>
                      </a:lnTo>
                      <a:lnTo>
                        <a:pt x="236" y="190"/>
                      </a:lnTo>
                      <a:lnTo>
                        <a:pt x="222" y="190"/>
                      </a:lnTo>
                      <a:lnTo>
                        <a:pt x="236" y="190"/>
                      </a:lnTo>
                      <a:lnTo>
                        <a:pt x="236" y="205"/>
                      </a:lnTo>
                      <a:lnTo>
                        <a:pt x="250" y="222"/>
                      </a:lnTo>
                      <a:lnTo>
                        <a:pt x="264" y="222"/>
                      </a:lnTo>
                      <a:lnTo>
                        <a:pt x="264" y="237"/>
                      </a:lnTo>
                      <a:lnTo>
                        <a:pt x="250" y="237"/>
                      </a:lnTo>
                      <a:lnTo>
                        <a:pt x="236" y="237"/>
                      </a:lnTo>
                      <a:lnTo>
                        <a:pt x="222" y="237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8497800" y="3646440"/>
                  <a:ext cx="227160" cy="142920"/>
                </a:xfrm>
                <a:custGeom>
                  <a:avLst/>
                  <a:gdLst/>
                  <a:ahLst/>
                  <a:rect l="l" t="t" r="r" b="b"/>
                  <a:pathLst>
                    <a:path w="430" h="269">
                      <a:moveTo>
                        <a:pt x="222" y="237"/>
                      </a:moveTo>
                      <a:lnTo>
                        <a:pt x="208" y="222"/>
                      </a:lnTo>
                      <a:lnTo>
                        <a:pt x="181" y="222"/>
                      </a:lnTo>
                      <a:lnTo>
                        <a:pt x="181" y="205"/>
                      </a:lnTo>
                      <a:lnTo>
                        <a:pt x="167" y="190"/>
                      </a:lnTo>
                      <a:lnTo>
                        <a:pt x="167" y="158"/>
                      </a:lnTo>
                      <a:lnTo>
                        <a:pt x="167" y="126"/>
                      </a:lnTo>
                      <a:lnTo>
                        <a:pt x="153" y="126"/>
                      </a:lnTo>
                      <a:lnTo>
                        <a:pt x="125" y="111"/>
                      </a:lnTo>
                      <a:lnTo>
                        <a:pt x="98" y="111"/>
                      </a:lnTo>
                      <a:lnTo>
                        <a:pt x="98" y="94"/>
                      </a:lnTo>
                      <a:lnTo>
                        <a:pt x="84" y="94"/>
                      </a:lnTo>
                      <a:lnTo>
                        <a:pt x="84" y="79"/>
                      </a:lnTo>
                      <a:lnTo>
                        <a:pt x="84" y="64"/>
                      </a:lnTo>
                      <a:lnTo>
                        <a:pt x="70" y="64"/>
                      </a:lnTo>
                      <a:lnTo>
                        <a:pt x="56" y="64"/>
                      </a:lnTo>
                      <a:lnTo>
                        <a:pt x="42" y="64"/>
                      </a:lnTo>
                      <a:lnTo>
                        <a:pt x="56" y="47"/>
                      </a:lnTo>
                      <a:lnTo>
                        <a:pt x="70" y="47"/>
                      </a:lnTo>
                      <a:lnTo>
                        <a:pt x="84" y="47"/>
                      </a:lnTo>
                      <a:lnTo>
                        <a:pt x="56" y="32"/>
                      </a:lnTo>
                      <a:lnTo>
                        <a:pt x="42" y="32"/>
                      </a:lnTo>
                      <a:lnTo>
                        <a:pt x="0" y="16"/>
                      </a:lnTo>
                      <a:lnTo>
                        <a:pt x="15" y="0"/>
                      </a:lnTo>
                      <a:lnTo>
                        <a:pt x="42" y="0"/>
                      </a:lnTo>
                      <a:lnTo>
                        <a:pt x="56" y="0"/>
                      </a:lnTo>
                      <a:lnTo>
                        <a:pt x="70" y="16"/>
                      </a:lnTo>
                      <a:lnTo>
                        <a:pt x="84" y="16"/>
                      </a:lnTo>
                      <a:lnTo>
                        <a:pt x="98" y="47"/>
                      </a:lnTo>
                      <a:lnTo>
                        <a:pt x="98" y="79"/>
                      </a:lnTo>
                      <a:lnTo>
                        <a:pt x="112" y="79"/>
                      </a:lnTo>
                      <a:lnTo>
                        <a:pt x="125" y="47"/>
                      </a:lnTo>
                      <a:lnTo>
                        <a:pt x="139" y="32"/>
                      </a:lnTo>
                      <a:lnTo>
                        <a:pt x="167" y="32"/>
                      </a:lnTo>
                      <a:lnTo>
                        <a:pt x="181" y="32"/>
                      </a:lnTo>
                      <a:lnTo>
                        <a:pt x="195" y="32"/>
                      </a:lnTo>
                      <a:lnTo>
                        <a:pt x="208" y="47"/>
                      </a:lnTo>
                      <a:lnTo>
                        <a:pt x="236" y="64"/>
                      </a:lnTo>
                      <a:lnTo>
                        <a:pt x="264" y="79"/>
                      </a:lnTo>
                      <a:lnTo>
                        <a:pt x="305" y="94"/>
                      </a:lnTo>
                      <a:lnTo>
                        <a:pt x="319" y="111"/>
                      </a:lnTo>
                      <a:lnTo>
                        <a:pt x="333" y="111"/>
                      </a:lnTo>
                      <a:lnTo>
                        <a:pt x="347" y="126"/>
                      </a:lnTo>
                      <a:lnTo>
                        <a:pt x="347" y="143"/>
                      </a:lnTo>
                      <a:lnTo>
                        <a:pt x="361" y="143"/>
                      </a:lnTo>
                      <a:lnTo>
                        <a:pt x="361" y="158"/>
                      </a:lnTo>
                      <a:lnTo>
                        <a:pt x="361" y="173"/>
                      </a:lnTo>
                      <a:lnTo>
                        <a:pt x="347" y="190"/>
                      </a:lnTo>
                      <a:lnTo>
                        <a:pt x="361" y="190"/>
                      </a:lnTo>
                      <a:lnTo>
                        <a:pt x="361" y="205"/>
                      </a:lnTo>
                      <a:lnTo>
                        <a:pt x="374" y="205"/>
                      </a:lnTo>
                      <a:lnTo>
                        <a:pt x="374" y="222"/>
                      </a:lnTo>
                      <a:lnTo>
                        <a:pt x="374" y="237"/>
                      </a:lnTo>
                      <a:lnTo>
                        <a:pt x="388" y="237"/>
                      </a:lnTo>
                      <a:lnTo>
                        <a:pt x="416" y="252"/>
                      </a:lnTo>
                      <a:lnTo>
                        <a:pt x="430" y="269"/>
                      </a:lnTo>
                      <a:lnTo>
                        <a:pt x="416" y="269"/>
                      </a:lnTo>
                      <a:lnTo>
                        <a:pt x="388" y="252"/>
                      </a:lnTo>
                      <a:lnTo>
                        <a:pt x="361" y="252"/>
                      </a:lnTo>
                      <a:lnTo>
                        <a:pt x="347" y="237"/>
                      </a:lnTo>
                      <a:lnTo>
                        <a:pt x="333" y="222"/>
                      </a:lnTo>
                      <a:lnTo>
                        <a:pt x="319" y="205"/>
                      </a:lnTo>
                      <a:lnTo>
                        <a:pt x="291" y="190"/>
                      </a:lnTo>
                      <a:lnTo>
                        <a:pt x="250" y="190"/>
                      </a:lnTo>
                      <a:lnTo>
                        <a:pt x="236" y="190"/>
                      </a:lnTo>
                      <a:lnTo>
                        <a:pt x="222" y="190"/>
                      </a:lnTo>
                      <a:lnTo>
                        <a:pt x="236" y="190"/>
                      </a:lnTo>
                      <a:lnTo>
                        <a:pt x="236" y="205"/>
                      </a:lnTo>
                      <a:lnTo>
                        <a:pt x="250" y="222"/>
                      </a:lnTo>
                      <a:lnTo>
                        <a:pt x="264" y="222"/>
                      </a:lnTo>
                      <a:lnTo>
                        <a:pt x="264" y="237"/>
                      </a:lnTo>
                      <a:lnTo>
                        <a:pt x="250" y="237"/>
                      </a:lnTo>
                      <a:lnTo>
                        <a:pt x="236" y="237"/>
                      </a:lnTo>
                      <a:lnTo>
                        <a:pt x="222" y="23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8204040" y="3722760"/>
                  <a:ext cx="111240" cy="41040"/>
                </a:xfrm>
                <a:custGeom>
                  <a:avLst/>
                  <a:gdLst/>
                  <a:ahLst/>
                  <a:rect l="l" t="t" r="r" b="b"/>
                  <a:pathLst>
                    <a:path w="208" h="79">
                      <a:moveTo>
                        <a:pt x="97" y="62"/>
                      </a:moveTo>
                      <a:lnTo>
                        <a:pt x="83" y="47"/>
                      </a:lnTo>
                      <a:lnTo>
                        <a:pt x="56" y="47"/>
                      </a:lnTo>
                      <a:lnTo>
                        <a:pt x="28" y="47"/>
                      </a:lnTo>
                      <a:lnTo>
                        <a:pt x="0" y="30"/>
                      </a:lnTo>
                      <a:lnTo>
                        <a:pt x="14" y="15"/>
                      </a:lnTo>
                      <a:lnTo>
                        <a:pt x="42" y="0"/>
                      </a:lnTo>
                      <a:lnTo>
                        <a:pt x="69" y="0"/>
                      </a:lnTo>
                      <a:lnTo>
                        <a:pt x="97" y="0"/>
                      </a:lnTo>
                      <a:lnTo>
                        <a:pt x="83" y="0"/>
                      </a:lnTo>
                      <a:lnTo>
                        <a:pt x="69" y="15"/>
                      </a:lnTo>
                      <a:lnTo>
                        <a:pt x="69" y="30"/>
                      </a:lnTo>
                      <a:lnTo>
                        <a:pt x="83" y="30"/>
                      </a:lnTo>
                      <a:lnTo>
                        <a:pt x="97" y="30"/>
                      </a:lnTo>
                      <a:lnTo>
                        <a:pt x="111" y="15"/>
                      </a:lnTo>
                      <a:lnTo>
                        <a:pt x="125" y="15"/>
                      </a:lnTo>
                      <a:lnTo>
                        <a:pt x="152" y="30"/>
                      </a:lnTo>
                      <a:lnTo>
                        <a:pt x="180" y="30"/>
                      </a:lnTo>
                      <a:lnTo>
                        <a:pt x="194" y="47"/>
                      </a:lnTo>
                      <a:lnTo>
                        <a:pt x="208" y="62"/>
                      </a:lnTo>
                      <a:lnTo>
                        <a:pt x="208" y="79"/>
                      </a:lnTo>
                      <a:lnTo>
                        <a:pt x="194" y="79"/>
                      </a:lnTo>
                      <a:lnTo>
                        <a:pt x="180" y="79"/>
                      </a:lnTo>
                      <a:lnTo>
                        <a:pt x="166" y="62"/>
                      </a:lnTo>
                      <a:lnTo>
                        <a:pt x="166" y="79"/>
                      </a:lnTo>
                      <a:lnTo>
                        <a:pt x="139" y="62"/>
                      </a:lnTo>
                      <a:lnTo>
                        <a:pt x="125" y="62"/>
                      </a:lnTo>
                      <a:lnTo>
                        <a:pt x="97" y="62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8204040" y="3722760"/>
                  <a:ext cx="111240" cy="41040"/>
                </a:xfrm>
                <a:custGeom>
                  <a:avLst/>
                  <a:gdLst/>
                  <a:ahLst/>
                  <a:rect l="l" t="t" r="r" b="b"/>
                  <a:pathLst>
                    <a:path w="208" h="79">
                      <a:moveTo>
                        <a:pt x="97" y="62"/>
                      </a:moveTo>
                      <a:lnTo>
                        <a:pt x="83" y="47"/>
                      </a:lnTo>
                      <a:lnTo>
                        <a:pt x="56" y="47"/>
                      </a:lnTo>
                      <a:lnTo>
                        <a:pt x="28" y="47"/>
                      </a:lnTo>
                      <a:lnTo>
                        <a:pt x="0" y="30"/>
                      </a:lnTo>
                      <a:lnTo>
                        <a:pt x="14" y="15"/>
                      </a:lnTo>
                      <a:lnTo>
                        <a:pt x="42" y="0"/>
                      </a:lnTo>
                      <a:lnTo>
                        <a:pt x="69" y="0"/>
                      </a:lnTo>
                      <a:lnTo>
                        <a:pt x="97" y="0"/>
                      </a:lnTo>
                      <a:lnTo>
                        <a:pt x="83" y="0"/>
                      </a:lnTo>
                      <a:lnTo>
                        <a:pt x="69" y="15"/>
                      </a:lnTo>
                      <a:lnTo>
                        <a:pt x="69" y="30"/>
                      </a:lnTo>
                      <a:lnTo>
                        <a:pt x="83" y="30"/>
                      </a:lnTo>
                      <a:lnTo>
                        <a:pt x="97" y="30"/>
                      </a:lnTo>
                      <a:lnTo>
                        <a:pt x="111" y="15"/>
                      </a:lnTo>
                      <a:lnTo>
                        <a:pt x="125" y="15"/>
                      </a:lnTo>
                      <a:lnTo>
                        <a:pt x="152" y="30"/>
                      </a:lnTo>
                      <a:lnTo>
                        <a:pt x="180" y="30"/>
                      </a:lnTo>
                      <a:lnTo>
                        <a:pt x="194" y="47"/>
                      </a:lnTo>
                      <a:lnTo>
                        <a:pt x="208" y="62"/>
                      </a:lnTo>
                      <a:lnTo>
                        <a:pt x="208" y="79"/>
                      </a:lnTo>
                      <a:lnTo>
                        <a:pt x="194" y="79"/>
                      </a:lnTo>
                      <a:lnTo>
                        <a:pt x="180" y="79"/>
                      </a:lnTo>
                      <a:lnTo>
                        <a:pt x="166" y="62"/>
                      </a:lnTo>
                      <a:lnTo>
                        <a:pt x="166" y="79"/>
                      </a:lnTo>
                      <a:lnTo>
                        <a:pt x="139" y="62"/>
                      </a:lnTo>
                      <a:lnTo>
                        <a:pt x="125" y="62"/>
                      </a:lnTo>
                      <a:lnTo>
                        <a:pt x="97" y="6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8372520" y="3754440"/>
                  <a:ext cx="7920" cy="17640"/>
                </a:xfrm>
                <a:custGeom>
                  <a:avLst/>
                  <a:gdLst/>
                  <a:ahLst/>
                  <a:rect l="l" t="t" r="r" b="b"/>
                  <a:pathLst>
                    <a:path w="14" h="32">
                      <a:moveTo>
                        <a:pt x="0" y="0"/>
                      </a:moveTo>
                      <a:lnTo>
                        <a:pt x="14" y="17"/>
                      </a:lnTo>
                      <a:lnTo>
                        <a:pt x="14" y="32"/>
                      </a:lnTo>
                      <a:lnTo>
                        <a:pt x="0" y="32"/>
                      </a:lnTo>
                      <a:lnTo>
                        <a:pt x="0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8372520" y="3754440"/>
                  <a:ext cx="7920" cy="17640"/>
                </a:xfrm>
                <a:custGeom>
                  <a:avLst/>
                  <a:gdLst/>
                  <a:ahLst/>
                  <a:rect l="l" t="t" r="r" b="b"/>
                  <a:pathLst>
                    <a:path w="14" h="32">
                      <a:moveTo>
                        <a:pt x="0" y="0"/>
                      </a:moveTo>
                      <a:lnTo>
                        <a:pt x="14" y="17"/>
                      </a:lnTo>
                      <a:lnTo>
                        <a:pt x="14" y="32"/>
                      </a:lnTo>
                      <a:lnTo>
                        <a:pt x="0" y="32"/>
                      </a:lnTo>
                      <a:lnTo>
                        <a:pt x="0" y="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8335800" y="3754440"/>
                  <a:ext cx="8280" cy="17640"/>
                </a:xfrm>
                <a:custGeom>
                  <a:avLst/>
                  <a:gdLst/>
                  <a:ahLst/>
                  <a:rect l="l" t="t" r="r" b="b"/>
                  <a:pathLst>
                    <a:path w="14" h="32">
                      <a:moveTo>
                        <a:pt x="14" y="0"/>
                      </a:moveTo>
                      <a:lnTo>
                        <a:pt x="0" y="17"/>
                      </a:lnTo>
                      <a:lnTo>
                        <a:pt x="0" y="32"/>
                      </a:lnTo>
                      <a:lnTo>
                        <a:pt x="0" y="1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8335800" y="3754440"/>
                  <a:ext cx="8280" cy="17640"/>
                </a:xfrm>
                <a:custGeom>
                  <a:avLst/>
                  <a:gdLst/>
                  <a:ahLst/>
                  <a:rect l="l" t="t" r="r" b="b"/>
                  <a:pathLst>
                    <a:path w="14" h="32">
                      <a:moveTo>
                        <a:pt x="14" y="0"/>
                      </a:moveTo>
                      <a:lnTo>
                        <a:pt x="0" y="17"/>
                      </a:lnTo>
                      <a:lnTo>
                        <a:pt x="0" y="32"/>
                      </a:lnTo>
                      <a:lnTo>
                        <a:pt x="0" y="17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8410680" y="3754440"/>
                  <a:ext cx="42840" cy="25560"/>
                </a:xfrm>
                <a:custGeom>
                  <a:avLst/>
                  <a:gdLst/>
                  <a:ahLst/>
                  <a:rect l="l" t="t" r="r" b="b"/>
                  <a:pathLst>
                    <a:path w="83" h="47">
                      <a:moveTo>
                        <a:pt x="27" y="32"/>
                      </a:moveTo>
                      <a:lnTo>
                        <a:pt x="13" y="47"/>
                      </a:lnTo>
                      <a:lnTo>
                        <a:pt x="0" y="47"/>
                      </a:lnTo>
                      <a:lnTo>
                        <a:pt x="13" y="32"/>
                      </a:lnTo>
                      <a:lnTo>
                        <a:pt x="27" y="32"/>
                      </a:lnTo>
                      <a:lnTo>
                        <a:pt x="41" y="17"/>
                      </a:lnTo>
                      <a:lnTo>
                        <a:pt x="55" y="0"/>
                      </a:lnTo>
                      <a:lnTo>
                        <a:pt x="69" y="0"/>
                      </a:lnTo>
                      <a:lnTo>
                        <a:pt x="83" y="0"/>
                      </a:lnTo>
                      <a:lnTo>
                        <a:pt x="83" y="17"/>
                      </a:lnTo>
                      <a:lnTo>
                        <a:pt x="69" y="32"/>
                      </a:lnTo>
                      <a:lnTo>
                        <a:pt x="41" y="32"/>
                      </a:lnTo>
                      <a:lnTo>
                        <a:pt x="27" y="32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8410680" y="3754440"/>
                  <a:ext cx="42840" cy="25560"/>
                </a:xfrm>
                <a:custGeom>
                  <a:avLst/>
                  <a:gdLst/>
                  <a:ahLst/>
                  <a:rect l="l" t="t" r="r" b="b"/>
                  <a:pathLst>
                    <a:path w="83" h="47">
                      <a:moveTo>
                        <a:pt x="27" y="32"/>
                      </a:moveTo>
                      <a:lnTo>
                        <a:pt x="13" y="47"/>
                      </a:lnTo>
                      <a:lnTo>
                        <a:pt x="0" y="47"/>
                      </a:lnTo>
                      <a:lnTo>
                        <a:pt x="13" y="32"/>
                      </a:lnTo>
                      <a:lnTo>
                        <a:pt x="27" y="32"/>
                      </a:lnTo>
                      <a:lnTo>
                        <a:pt x="41" y="17"/>
                      </a:lnTo>
                      <a:lnTo>
                        <a:pt x="55" y="0"/>
                      </a:lnTo>
                      <a:lnTo>
                        <a:pt x="69" y="0"/>
                      </a:lnTo>
                      <a:lnTo>
                        <a:pt x="83" y="0"/>
                      </a:lnTo>
                      <a:lnTo>
                        <a:pt x="83" y="17"/>
                      </a:lnTo>
                      <a:lnTo>
                        <a:pt x="69" y="32"/>
                      </a:lnTo>
                      <a:lnTo>
                        <a:pt x="41" y="32"/>
                      </a:lnTo>
                      <a:lnTo>
                        <a:pt x="27" y="3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7508880" y="3813120"/>
                  <a:ext cx="79200" cy="192240"/>
                </a:xfrm>
                <a:custGeom>
                  <a:avLst/>
                  <a:gdLst/>
                  <a:ahLst/>
                  <a:rect l="l" t="t" r="r" b="b"/>
                  <a:pathLst>
                    <a:path w="152" h="362">
                      <a:moveTo>
                        <a:pt x="0" y="268"/>
                      </a:moveTo>
                      <a:lnTo>
                        <a:pt x="0" y="252"/>
                      </a:lnTo>
                      <a:lnTo>
                        <a:pt x="13" y="221"/>
                      </a:lnTo>
                      <a:lnTo>
                        <a:pt x="27" y="205"/>
                      </a:lnTo>
                      <a:lnTo>
                        <a:pt x="27" y="173"/>
                      </a:lnTo>
                      <a:lnTo>
                        <a:pt x="27" y="142"/>
                      </a:lnTo>
                      <a:lnTo>
                        <a:pt x="27" y="111"/>
                      </a:lnTo>
                      <a:lnTo>
                        <a:pt x="41" y="111"/>
                      </a:lnTo>
                      <a:lnTo>
                        <a:pt x="69" y="94"/>
                      </a:lnTo>
                      <a:lnTo>
                        <a:pt x="83" y="79"/>
                      </a:lnTo>
                      <a:lnTo>
                        <a:pt x="110" y="79"/>
                      </a:lnTo>
                      <a:lnTo>
                        <a:pt x="96" y="63"/>
                      </a:lnTo>
                      <a:lnTo>
                        <a:pt x="110" y="32"/>
                      </a:lnTo>
                      <a:lnTo>
                        <a:pt x="124" y="15"/>
                      </a:lnTo>
                      <a:lnTo>
                        <a:pt x="138" y="0"/>
                      </a:lnTo>
                      <a:lnTo>
                        <a:pt x="138" y="15"/>
                      </a:lnTo>
                      <a:lnTo>
                        <a:pt x="152" y="32"/>
                      </a:lnTo>
                      <a:lnTo>
                        <a:pt x="152" y="63"/>
                      </a:lnTo>
                      <a:lnTo>
                        <a:pt x="138" y="94"/>
                      </a:lnTo>
                      <a:lnTo>
                        <a:pt x="124" y="142"/>
                      </a:lnTo>
                      <a:lnTo>
                        <a:pt x="124" y="158"/>
                      </a:lnTo>
                      <a:lnTo>
                        <a:pt x="124" y="205"/>
                      </a:lnTo>
                      <a:lnTo>
                        <a:pt x="96" y="268"/>
                      </a:lnTo>
                      <a:lnTo>
                        <a:pt x="83" y="315"/>
                      </a:lnTo>
                      <a:lnTo>
                        <a:pt x="69" y="347"/>
                      </a:lnTo>
                      <a:lnTo>
                        <a:pt x="41" y="362"/>
                      </a:lnTo>
                      <a:lnTo>
                        <a:pt x="13" y="362"/>
                      </a:lnTo>
                      <a:lnTo>
                        <a:pt x="0" y="331"/>
                      </a:lnTo>
                      <a:lnTo>
                        <a:pt x="0" y="300"/>
                      </a:lnTo>
                      <a:lnTo>
                        <a:pt x="0" y="283"/>
                      </a:lnTo>
                      <a:lnTo>
                        <a:pt x="0" y="268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7508880" y="3813120"/>
                  <a:ext cx="79200" cy="192240"/>
                </a:xfrm>
                <a:custGeom>
                  <a:avLst/>
                  <a:gdLst/>
                  <a:ahLst/>
                  <a:rect l="l" t="t" r="r" b="b"/>
                  <a:pathLst>
                    <a:path w="152" h="362">
                      <a:moveTo>
                        <a:pt x="0" y="268"/>
                      </a:moveTo>
                      <a:lnTo>
                        <a:pt x="0" y="252"/>
                      </a:lnTo>
                      <a:lnTo>
                        <a:pt x="13" y="221"/>
                      </a:lnTo>
                      <a:lnTo>
                        <a:pt x="27" y="205"/>
                      </a:lnTo>
                      <a:lnTo>
                        <a:pt x="27" y="173"/>
                      </a:lnTo>
                      <a:lnTo>
                        <a:pt x="27" y="142"/>
                      </a:lnTo>
                      <a:lnTo>
                        <a:pt x="27" y="111"/>
                      </a:lnTo>
                      <a:lnTo>
                        <a:pt x="41" y="111"/>
                      </a:lnTo>
                      <a:lnTo>
                        <a:pt x="69" y="94"/>
                      </a:lnTo>
                      <a:lnTo>
                        <a:pt x="83" y="79"/>
                      </a:lnTo>
                      <a:lnTo>
                        <a:pt x="110" y="79"/>
                      </a:lnTo>
                      <a:lnTo>
                        <a:pt x="96" y="63"/>
                      </a:lnTo>
                      <a:lnTo>
                        <a:pt x="110" y="32"/>
                      </a:lnTo>
                      <a:lnTo>
                        <a:pt x="124" y="15"/>
                      </a:lnTo>
                      <a:lnTo>
                        <a:pt x="138" y="0"/>
                      </a:lnTo>
                      <a:lnTo>
                        <a:pt x="138" y="15"/>
                      </a:lnTo>
                      <a:lnTo>
                        <a:pt x="152" y="32"/>
                      </a:lnTo>
                      <a:lnTo>
                        <a:pt x="152" y="63"/>
                      </a:lnTo>
                      <a:lnTo>
                        <a:pt x="138" y="94"/>
                      </a:lnTo>
                      <a:lnTo>
                        <a:pt x="124" y="142"/>
                      </a:lnTo>
                      <a:lnTo>
                        <a:pt x="124" y="158"/>
                      </a:lnTo>
                      <a:lnTo>
                        <a:pt x="124" y="205"/>
                      </a:lnTo>
                      <a:lnTo>
                        <a:pt x="96" y="268"/>
                      </a:lnTo>
                      <a:lnTo>
                        <a:pt x="83" y="315"/>
                      </a:lnTo>
                      <a:lnTo>
                        <a:pt x="69" y="347"/>
                      </a:lnTo>
                      <a:lnTo>
                        <a:pt x="41" y="362"/>
                      </a:lnTo>
                      <a:lnTo>
                        <a:pt x="13" y="362"/>
                      </a:lnTo>
                      <a:lnTo>
                        <a:pt x="0" y="331"/>
                      </a:lnTo>
                      <a:lnTo>
                        <a:pt x="0" y="300"/>
                      </a:lnTo>
                      <a:lnTo>
                        <a:pt x="0" y="283"/>
                      </a:lnTo>
                      <a:lnTo>
                        <a:pt x="0" y="26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8248680" y="3797280"/>
                  <a:ext cx="453960" cy="407880"/>
                </a:xfrm>
                <a:custGeom>
                  <a:avLst/>
                  <a:gdLst/>
                  <a:ahLst/>
                  <a:rect l="l" t="t" r="r" b="b"/>
                  <a:pathLst>
                    <a:path w="859" h="773">
                      <a:moveTo>
                        <a:pt x="555" y="742"/>
                      </a:moveTo>
                      <a:lnTo>
                        <a:pt x="527" y="742"/>
                      </a:lnTo>
                      <a:lnTo>
                        <a:pt x="486" y="742"/>
                      </a:lnTo>
                      <a:lnTo>
                        <a:pt x="471" y="742"/>
                      </a:lnTo>
                      <a:lnTo>
                        <a:pt x="471" y="726"/>
                      </a:lnTo>
                      <a:lnTo>
                        <a:pt x="471" y="695"/>
                      </a:lnTo>
                      <a:lnTo>
                        <a:pt x="471" y="678"/>
                      </a:lnTo>
                      <a:lnTo>
                        <a:pt x="457" y="678"/>
                      </a:lnTo>
                      <a:lnTo>
                        <a:pt x="443" y="663"/>
                      </a:lnTo>
                      <a:lnTo>
                        <a:pt x="429" y="663"/>
                      </a:lnTo>
                      <a:lnTo>
                        <a:pt x="429" y="648"/>
                      </a:lnTo>
                      <a:lnTo>
                        <a:pt x="443" y="631"/>
                      </a:lnTo>
                      <a:lnTo>
                        <a:pt x="457" y="616"/>
                      </a:lnTo>
                      <a:lnTo>
                        <a:pt x="471" y="584"/>
                      </a:lnTo>
                      <a:lnTo>
                        <a:pt x="471" y="599"/>
                      </a:lnTo>
                      <a:lnTo>
                        <a:pt x="457" y="616"/>
                      </a:lnTo>
                      <a:lnTo>
                        <a:pt x="429" y="631"/>
                      </a:lnTo>
                      <a:lnTo>
                        <a:pt x="415" y="648"/>
                      </a:lnTo>
                      <a:lnTo>
                        <a:pt x="401" y="648"/>
                      </a:lnTo>
                      <a:lnTo>
                        <a:pt x="388" y="616"/>
                      </a:lnTo>
                      <a:lnTo>
                        <a:pt x="374" y="584"/>
                      </a:lnTo>
                      <a:lnTo>
                        <a:pt x="360" y="552"/>
                      </a:lnTo>
                      <a:lnTo>
                        <a:pt x="346" y="552"/>
                      </a:lnTo>
                      <a:lnTo>
                        <a:pt x="332" y="552"/>
                      </a:lnTo>
                      <a:lnTo>
                        <a:pt x="305" y="569"/>
                      </a:lnTo>
                      <a:lnTo>
                        <a:pt x="291" y="569"/>
                      </a:lnTo>
                      <a:lnTo>
                        <a:pt x="277" y="584"/>
                      </a:lnTo>
                      <a:lnTo>
                        <a:pt x="263" y="584"/>
                      </a:lnTo>
                      <a:lnTo>
                        <a:pt x="249" y="584"/>
                      </a:lnTo>
                      <a:lnTo>
                        <a:pt x="235" y="584"/>
                      </a:lnTo>
                      <a:lnTo>
                        <a:pt x="222" y="584"/>
                      </a:lnTo>
                      <a:lnTo>
                        <a:pt x="194" y="599"/>
                      </a:lnTo>
                      <a:lnTo>
                        <a:pt x="194" y="616"/>
                      </a:lnTo>
                      <a:lnTo>
                        <a:pt x="180" y="616"/>
                      </a:lnTo>
                      <a:lnTo>
                        <a:pt x="180" y="631"/>
                      </a:lnTo>
                      <a:lnTo>
                        <a:pt x="139" y="631"/>
                      </a:lnTo>
                      <a:lnTo>
                        <a:pt x="111" y="631"/>
                      </a:lnTo>
                      <a:lnTo>
                        <a:pt x="83" y="648"/>
                      </a:lnTo>
                      <a:lnTo>
                        <a:pt x="56" y="648"/>
                      </a:lnTo>
                      <a:lnTo>
                        <a:pt x="42" y="663"/>
                      </a:lnTo>
                      <a:lnTo>
                        <a:pt x="28" y="663"/>
                      </a:lnTo>
                      <a:lnTo>
                        <a:pt x="0" y="616"/>
                      </a:lnTo>
                      <a:lnTo>
                        <a:pt x="14" y="599"/>
                      </a:lnTo>
                      <a:lnTo>
                        <a:pt x="28" y="584"/>
                      </a:lnTo>
                      <a:lnTo>
                        <a:pt x="42" y="569"/>
                      </a:lnTo>
                      <a:lnTo>
                        <a:pt x="42" y="552"/>
                      </a:lnTo>
                      <a:lnTo>
                        <a:pt x="28" y="537"/>
                      </a:lnTo>
                      <a:lnTo>
                        <a:pt x="42" y="520"/>
                      </a:lnTo>
                      <a:lnTo>
                        <a:pt x="42" y="505"/>
                      </a:lnTo>
                      <a:lnTo>
                        <a:pt x="42" y="490"/>
                      </a:lnTo>
                      <a:lnTo>
                        <a:pt x="28" y="473"/>
                      </a:lnTo>
                      <a:lnTo>
                        <a:pt x="28" y="441"/>
                      </a:lnTo>
                      <a:lnTo>
                        <a:pt x="28" y="411"/>
                      </a:lnTo>
                      <a:lnTo>
                        <a:pt x="42" y="411"/>
                      </a:lnTo>
                      <a:lnTo>
                        <a:pt x="42" y="394"/>
                      </a:lnTo>
                      <a:lnTo>
                        <a:pt x="42" y="379"/>
                      </a:lnTo>
                      <a:lnTo>
                        <a:pt x="42" y="363"/>
                      </a:lnTo>
                      <a:lnTo>
                        <a:pt x="56" y="315"/>
                      </a:lnTo>
                      <a:lnTo>
                        <a:pt x="97" y="284"/>
                      </a:lnTo>
                      <a:lnTo>
                        <a:pt x="125" y="253"/>
                      </a:lnTo>
                      <a:lnTo>
                        <a:pt x="125" y="268"/>
                      </a:lnTo>
                      <a:lnTo>
                        <a:pt x="139" y="268"/>
                      </a:lnTo>
                      <a:lnTo>
                        <a:pt x="152" y="253"/>
                      </a:lnTo>
                      <a:lnTo>
                        <a:pt x="166" y="253"/>
                      </a:lnTo>
                      <a:lnTo>
                        <a:pt x="180" y="237"/>
                      </a:lnTo>
                      <a:lnTo>
                        <a:pt x="194" y="237"/>
                      </a:lnTo>
                      <a:lnTo>
                        <a:pt x="208" y="237"/>
                      </a:lnTo>
                      <a:lnTo>
                        <a:pt x="222" y="237"/>
                      </a:lnTo>
                      <a:lnTo>
                        <a:pt x="222" y="221"/>
                      </a:lnTo>
                      <a:lnTo>
                        <a:pt x="235" y="205"/>
                      </a:lnTo>
                      <a:lnTo>
                        <a:pt x="249" y="205"/>
                      </a:lnTo>
                      <a:lnTo>
                        <a:pt x="249" y="190"/>
                      </a:lnTo>
                      <a:lnTo>
                        <a:pt x="263" y="174"/>
                      </a:lnTo>
                      <a:lnTo>
                        <a:pt x="263" y="158"/>
                      </a:lnTo>
                      <a:lnTo>
                        <a:pt x="277" y="143"/>
                      </a:lnTo>
                      <a:lnTo>
                        <a:pt x="277" y="158"/>
                      </a:lnTo>
                      <a:lnTo>
                        <a:pt x="277" y="174"/>
                      </a:lnTo>
                      <a:lnTo>
                        <a:pt x="277" y="190"/>
                      </a:lnTo>
                      <a:lnTo>
                        <a:pt x="291" y="174"/>
                      </a:lnTo>
                      <a:lnTo>
                        <a:pt x="291" y="158"/>
                      </a:lnTo>
                      <a:lnTo>
                        <a:pt x="291" y="143"/>
                      </a:lnTo>
                      <a:lnTo>
                        <a:pt x="305" y="126"/>
                      </a:lnTo>
                      <a:lnTo>
                        <a:pt x="318" y="126"/>
                      </a:lnTo>
                      <a:lnTo>
                        <a:pt x="332" y="111"/>
                      </a:lnTo>
                      <a:lnTo>
                        <a:pt x="332" y="95"/>
                      </a:lnTo>
                      <a:lnTo>
                        <a:pt x="346" y="79"/>
                      </a:lnTo>
                      <a:lnTo>
                        <a:pt x="360" y="79"/>
                      </a:lnTo>
                      <a:lnTo>
                        <a:pt x="374" y="79"/>
                      </a:lnTo>
                      <a:lnTo>
                        <a:pt x="374" y="95"/>
                      </a:lnTo>
                      <a:lnTo>
                        <a:pt x="374" y="111"/>
                      </a:lnTo>
                      <a:lnTo>
                        <a:pt x="374" y="126"/>
                      </a:lnTo>
                      <a:lnTo>
                        <a:pt x="415" y="143"/>
                      </a:lnTo>
                      <a:lnTo>
                        <a:pt x="429" y="143"/>
                      </a:lnTo>
                      <a:lnTo>
                        <a:pt x="429" y="111"/>
                      </a:lnTo>
                      <a:lnTo>
                        <a:pt x="429" y="95"/>
                      </a:lnTo>
                      <a:lnTo>
                        <a:pt x="429" y="79"/>
                      </a:lnTo>
                      <a:lnTo>
                        <a:pt x="429" y="64"/>
                      </a:lnTo>
                      <a:lnTo>
                        <a:pt x="443" y="47"/>
                      </a:lnTo>
                      <a:lnTo>
                        <a:pt x="457" y="32"/>
                      </a:lnTo>
                      <a:lnTo>
                        <a:pt x="471" y="32"/>
                      </a:lnTo>
                      <a:lnTo>
                        <a:pt x="486" y="32"/>
                      </a:lnTo>
                      <a:lnTo>
                        <a:pt x="513" y="32"/>
                      </a:lnTo>
                      <a:lnTo>
                        <a:pt x="486" y="17"/>
                      </a:lnTo>
                      <a:lnTo>
                        <a:pt x="486" y="0"/>
                      </a:lnTo>
                      <a:lnTo>
                        <a:pt x="486" y="17"/>
                      </a:lnTo>
                      <a:lnTo>
                        <a:pt x="527" y="17"/>
                      </a:lnTo>
                      <a:lnTo>
                        <a:pt x="541" y="32"/>
                      </a:lnTo>
                      <a:lnTo>
                        <a:pt x="569" y="32"/>
                      </a:lnTo>
                      <a:lnTo>
                        <a:pt x="583" y="32"/>
                      </a:lnTo>
                      <a:lnTo>
                        <a:pt x="596" y="32"/>
                      </a:lnTo>
                      <a:lnTo>
                        <a:pt x="583" y="64"/>
                      </a:lnTo>
                      <a:lnTo>
                        <a:pt x="569" y="79"/>
                      </a:lnTo>
                      <a:lnTo>
                        <a:pt x="555" y="111"/>
                      </a:lnTo>
                      <a:lnTo>
                        <a:pt x="555" y="126"/>
                      </a:lnTo>
                      <a:lnTo>
                        <a:pt x="569" y="143"/>
                      </a:lnTo>
                      <a:lnTo>
                        <a:pt x="583" y="143"/>
                      </a:lnTo>
                      <a:lnTo>
                        <a:pt x="596" y="143"/>
                      </a:lnTo>
                      <a:lnTo>
                        <a:pt x="610" y="158"/>
                      </a:lnTo>
                      <a:lnTo>
                        <a:pt x="624" y="158"/>
                      </a:lnTo>
                      <a:lnTo>
                        <a:pt x="624" y="174"/>
                      </a:lnTo>
                      <a:lnTo>
                        <a:pt x="638" y="174"/>
                      </a:lnTo>
                      <a:lnTo>
                        <a:pt x="638" y="190"/>
                      </a:lnTo>
                      <a:lnTo>
                        <a:pt x="652" y="174"/>
                      </a:lnTo>
                      <a:lnTo>
                        <a:pt x="679" y="143"/>
                      </a:lnTo>
                      <a:lnTo>
                        <a:pt x="679" y="111"/>
                      </a:lnTo>
                      <a:lnTo>
                        <a:pt x="693" y="95"/>
                      </a:lnTo>
                      <a:lnTo>
                        <a:pt x="693" y="79"/>
                      </a:lnTo>
                      <a:lnTo>
                        <a:pt x="693" y="64"/>
                      </a:lnTo>
                      <a:lnTo>
                        <a:pt x="693" y="47"/>
                      </a:lnTo>
                      <a:lnTo>
                        <a:pt x="707" y="47"/>
                      </a:lnTo>
                      <a:lnTo>
                        <a:pt x="707" y="32"/>
                      </a:lnTo>
                      <a:lnTo>
                        <a:pt x="721" y="32"/>
                      </a:lnTo>
                      <a:lnTo>
                        <a:pt x="735" y="47"/>
                      </a:lnTo>
                      <a:lnTo>
                        <a:pt x="735" y="79"/>
                      </a:lnTo>
                      <a:lnTo>
                        <a:pt x="735" y="95"/>
                      </a:lnTo>
                      <a:lnTo>
                        <a:pt x="749" y="95"/>
                      </a:lnTo>
                      <a:lnTo>
                        <a:pt x="762" y="111"/>
                      </a:lnTo>
                      <a:lnTo>
                        <a:pt x="762" y="126"/>
                      </a:lnTo>
                      <a:lnTo>
                        <a:pt x="762" y="143"/>
                      </a:lnTo>
                      <a:lnTo>
                        <a:pt x="762" y="174"/>
                      </a:lnTo>
                      <a:lnTo>
                        <a:pt x="762" y="205"/>
                      </a:lnTo>
                      <a:lnTo>
                        <a:pt x="776" y="237"/>
                      </a:lnTo>
                      <a:lnTo>
                        <a:pt x="790" y="237"/>
                      </a:lnTo>
                      <a:lnTo>
                        <a:pt x="804" y="253"/>
                      </a:lnTo>
                      <a:lnTo>
                        <a:pt x="804" y="268"/>
                      </a:lnTo>
                      <a:lnTo>
                        <a:pt x="818" y="284"/>
                      </a:lnTo>
                      <a:lnTo>
                        <a:pt x="832" y="300"/>
                      </a:lnTo>
                      <a:lnTo>
                        <a:pt x="832" y="315"/>
                      </a:lnTo>
                      <a:lnTo>
                        <a:pt x="845" y="315"/>
                      </a:lnTo>
                      <a:lnTo>
                        <a:pt x="845" y="332"/>
                      </a:lnTo>
                      <a:lnTo>
                        <a:pt x="859" y="363"/>
                      </a:lnTo>
                      <a:lnTo>
                        <a:pt x="859" y="394"/>
                      </a:lnTo>
                      <a:lnTo>
                        <a:pt x="859" y="411"/>
                      </a:lnTo>
                      <a:lnTo>
                        <a:pt x="859" y="426"/>
                      </a:lnTo>
                      <a:lnTo>
                        <a:pt x="845" y="441"/>
                      </a:lnTo>
                      <a:lnTo>
                        <a:pt x="845" y="458"/>
                      </a:lnTo>
                      <a:lnTo>
                        <a:pt x="845" y="473"/>
                      </a:lnTo>
                      <a:lnTo>
                        <a:pt x="845" y="490"/>
                      </a:lnTo>
                      <a:lnTo>
                        <a:pt x="845" y="505"/>
                      </a:lnTo>
                      <a:lnTo>
                        <a:pt x="832" y="520"/>
                      </a:lnTo>
                      <a:lnTo>
                        <a:pt x="818" y="537"/>
                      </a:lnTo>
                      <a:lnTo>
                        <a:pt x="804" y="552"/>
                      </a:lnTo>
                      <a:lnTo>
                        <a:pt x="804" y="569"/>
                      </a:lnTo>
                      <a:lnTo>
                        <a:pt x="790" y="584"/>
                      </a:lnTo>
                      <a:lnTo>
                        <a:pt x="776" y="584"/>
                      </a:lnTo>
                      <a:lnTo>
                        <a:pt x="776" y="599"/>
                      </a:lnTo>
                      <a:lnTo>
                        <a:pt x="762" y="599"/>
                      </a:lnTo>
                      <a:lnTo>
                        <a:pt x="749" y="616"/>
                      </a:lnTo>
                      <a:lnTo>
                        <a:pt x="721" y="648"/>
                      </a:lnTo>
                      <a:lnTo>
                        <a:pt x="707" y="678"/>
                      </a:lnTo>
                      <a:lnTo>
                        <a:pt x="679" y="726"/>
                      </a:lnTo>
                      <a:lnTo>
                        <a:pt x="666" y="726"/>
                      </a:lnTo>
                      <a:lnTo>
                        <a:pt x="652" y="726"/>
                      </a:lnTo>
                      <a:lnTo>
                        <a:pt x="624" y="726"/>
                      </a:lnTo>
                      <a:lnTo>
                        <a:pt x="610" y="742"/>
                      </a:lnTo>
                      <a:lnTo>
                        <a:pt x="596" y="757"/>
                      </a:lnTo>
                      <a:lnTo>
                        <a:pt x="583" y="773"/>
                      </a:lnTo>
                      <a:lnTo>
                        <a:pt x="569" y="757"/>
                      </a:lnTo>
                      <a:lnTo>
                        <a:pt x="555" y="742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8248680" y="3797280"/>
                  <a:ext cx="453960" cy="407880"/>
                </a:xfrm>
                <a:custGeom>
                  <a:avLst/>
                  <a:gdLst/>
                  <a:ahLst/>
                  <a:rect l="l" t="t" r="r" b="b"/>
                  <a:pathLst>
                    <a:path w="859" h="773">
                      <a:moveTo>
                        <a:pt x="555" y="742"/>
                      </a:moveTo>
                      <a:lnTo>
                        <a:pt x="527" y="742"/>
                      </a:lnTo>
                      <a:lnTo>
                        <a:pt x="486" y="742"/>
                      </a:lnTo>
                      <a:lnTo>
                        <a:pt x="471" y="742"/>
                      </a:lnTo>
                      <a:lnTo>
                        <a:pt x="471" y="726"/>
                      </a:lnTo>
                      <a:lnTo>
                        <a:pt x="471" y="695"/>
                      </a:lnTo>
                      <a:lnTo>
                        <a:pt x="471" y="678"/>
                      </a:lnTo>
                      <a:lnTo>
                        <a:pt x="457" y="678"/>
                      </a:lnTo>
                      <a:lnTo>
                        <a:pt x="443" y="663"/>
                      </a:lnTo>
                      <a:lnTo>
                        <a:pt x="429" y="663"/>
                      </a:lnTo>
                      <a:lnTo>
                        <a:pt x="429" y="648"/>
                      </a:lnTo>
                      <a:lnTo>
                        <a:pt x="443" y="631"/>
                      </a:lnTo>
                      <a:lnTo>
                        <a:pt x="457" y="616"/>
                      </a:lnTo>
                      <a:lnTo>
                        <a:pt x="471" y="584"/>
                      </a:lnTo>
                      <a:lnTo>
                        <a:pt x="471" y="599"/>
                      </a:lnTo>
                      <a:lnTo>
                        <a:pt x="457" y="616"/>
                      </a:lnTo>
                      <a:lnTo>
                        <a:pt x="429" y="631"/>
                      </a:lnTo>
                      <a:lnTo>
                        <a:pt x="415" y="648"/>
                      </a:lnTo>
                      <a:lnTo>
                        <a:pt x="401" y="648"/>
                      </a:lnTo>
                      <a:lnTo>
                        <a:pt x="388" y="616"/>
                      </a:lnTo>
                      <a:lnTo>
                        <a:pt x="374" y="584"/>
                      </a:lnTo>
                      <a:lnTo>
                        <a:pt x="360" y="552"/>
                      </a:lnTo>
                      <a:lnTo>
                        <a:pt x="346" y="552"/>
                      </a:lnTo>
                      <a:lnTo>
                        <a:pt x="332" y="552"/>
                      </a:lnTo>
                      <a:lnTo>
                        <a:pt x="305" y="569"/>
                      </a:lnTo>
                      <a:lnTo>
                        <a:pt x="291" y="569"/>
                      </a:lnTo>
                      <a:lnTo>
                        <a:pt x="277" y="584"/>
                      </a:lnTo>
                      <a:lnTo>
                        <a:pt x="263" y="584"/>
                      </a:lnTo>
                      <a:lnTo>
                        <a:pt x="249" y="584"/>
                      </a:lnTo>
                      <a:lnTo>
                        <a:pt x="235" y="584"/>
                      </a:lnTo>
                      <a:lnTo>
                        <a:pt x="222" y="584"/>
                      </a:lnTo>
                      <a:lnTo>
                        <a:pt x="194" y="599"/>
                      </a:lnTo>
                      <a:lnTo>
                        <a:pt x="194" y="616"/>
                      </a:lnTo>
                      <a:lnTo>
                        <a:pt x="180" y="616"/>
                      </a:lnTo>
                      <a:lnTo>
                        <a:pt x="180" y="631"/>
                      </a:lnTo>
                      <a:lnTo>
                        <a:pt x="139" y="631"/>
                      </a:lnTo>
                      <a:lnTo>
                        <a:pt x="111" y="631"/>
                      </a:lnTo>
                      <a:lnTo>
                        <a:pt x="83" y="648"/>
                      </a:lnTo>
                      <a:lnTo>
                        <a:pt x="56" y="648"/>
                      </a:lnTo>
                      <a:lnTo>
                        <a:pt x="42" y="663"/>
                      </a:lnTo>
                      <a:lnTo>
                        <a:pt x="28" y="663"/>
                      </a:lnTo>
                      <a:lnTo>
                        <a:pt x="0" y="616"/>
                      </a:lnTo>
                      <a:lnTo>
                        <a:pt x="14" y="599"/>
                      </a:lnTo>
                      <a:lnTo>
                        <a:pt x="28" y="584"/>
                      </a:lnTo>
                      <a:lnTo>
                        <a:pt x="42" y="569"/>
                      </a:lnTo>
                      <a:lnTo>
                        <a:pt x="42" y="552"/>
                      </a:lnTo>
                      <a:lnTo>
                        <a:pt x="28" y="537"/>
                      </a:lnTo>
                      <a:lnTo>
                        <a:pt x="42" y="520"/>
                      </a:lnTo>
                      <a:lnTo>
                        <a:pt x="42" y="505"/>
                      </a:lnTo>
                      <a:lnTo>
                        <a:pt x="42" y="490"/>
                      </a:lnTo>
                      <a:lnTo>
                        <a:pt x="28" y="473"/>
                      </a:lnTo>
                      <a:lnTo>
                        <a:pt x="28" y="441"/>
                      </a:lnTo>
                      <a:lnTo>
                        <a:pt x="28" y="411"/>
                      </a:lnTo>
                      <a:lnTo>
                        <a:pt x="42" y="411"/>
                      </a:lnTo>
                      <a:lnTo>
                        <a:pt x="42" y="394"/>
                      </a:lnTo>
                      <a:lnTo>
                        <a:pt x="42" y="379"/>
                      </a:lnTo>
                      <a:lnTo>
                        <a:pt x="42" y="363"/>
                      </a:lnTo>
                      <a:lnTo>
                        <a:pt x="56" y="315"/>
                      </a:lnTo>
                      <a:lnTo>
                        <a:pt x="97" y="284"/>
                      </a:lnTo>
                      <a:lnTo>
                        <a:pt x="125" y="253"/>
                      </a:lnTo>
                      <a:lnTo>
                        <a:pt x="125" y="268"/>
                      </a:lnTo>
                      <a:lnTo>
                        <a:pt x="139" y="268"/>
                      </a:lnTo>
                      <a:lnTo>
                        <a:pt x="152" y="253"/>
                      </a:lnTo>
                      <a:lnTo>
                        <a:pt x="166" y="253"/>
                      </a:lnTo>
                      <a:lnTo>
                        <a:pt x="180" y="237"/>
                      </a:lnTo>
                      <a:lnTo>
                        <a:pt x="194" y="237"/>
                      </a:lnTo>
                      <a:lnTo>
                        <a:pt x="208" y="237"/>
                      </a:lnTo>
                      <a:lnTo>
                        <a:pt x="222" y="237"/>
                      </a:lnTo>
                      <a:lnTo>
                        <a:pt x="222" y="221"/>
                      </a:lnTo>
                      <a:lnTo>
                        <a:pt x="235" y="205"/>
                      </a:lnTo>
                      <a:lnTo>
                        <a:pt x="249" y="205"/>
                      </a:lnTo>
                      <a:lnTo>
                        <a:pt x="249" y="190"/>
                      </a:lnTo>
                      <a:lnTo>
                        <a:pt x="263" y="174"/>
                      </a:lnTo>
                      <a:lnTo>
                        <a:pt x="263" y="158"/>
                      </a:lnTo>
                      <a:lnTo>
                        <a:pt x="277" y="143"/>
                      </a:lnTo>
                      <a:lnTo>
                        <a:pt x="277" y="158"/>
                      </a:lnTo>
                      <a:lnTo>
                        <a:pt x="277" y="174"/>
                      </a:lnTo>
                      <a:lnTo>
                        <a:pt x="277" y="190"/>
                      </a:lnTo>
                      <a:lnTo>
                        <a:pt x="291" y="174"/>
                      </a:lnTo>
                      <a:lnTo>
                        <a:pt x="291" y="158"/>
                      </a:lnTo>
                      <a:lnTo>
                        <a:pt x="291" y="143"/>
                      </a:lnTo>
                      <a:lnTo>
                        <a:pt x="305" y="126"/>
                      </a:lnTo>
                      <a:lnTo>
                        <a:pt x="318" y="126"/>
                      </a:lnTo>
                      <a:lnTo>
                        <a:pt x="332" y="111"/>
                      </a:lnTo>
                      <a:lnTo>
                        <a:pt x="332" y="95"/>
                      </a:lnTo>
                      <a:lnTo>
                        <a:pt x="346" y="79"/>
                      </a:lnTo>
                      <a:lnTo>
                        <a:pt x="360" y="79"/>
                      </a:lnTo>
                      <a:lnTo>
                        <a:pt x="374" y="79"/>
                      </a:lnTo>
                      <a:lnTo>
                        <a:pt x="374" y="95"/>
                      </a:lnTo>
                      <a:lnTo>
                        <a:pt x="374" y="111"/>
                      </a:lnTo>
                      <a:lnTo>
                        <a:pt x="374" y="126"/>
                      </a:lnTo>
                      <a:lnTo>
                        <a:pt x="415" y="143"/>
                      </a:lnTo>
                      <a:lnTo>
                        <a:pt x="429" y="143"/>
                      </a:lnTo>
                      <a:lnTo>
                        <a:pt x="429" y="111"/>
                      </a:lnTo>
                      <a:lnTo>
                        <a:pt x="429" y="95"/>
                      </a:lnTo>
                      <a:lnTo>
                        <a:pt x="429" y="79"/>
                      </a:lnTo>
                      <a:lnTo>
                        <a:pt x="429" y="64"/>
                      </a:lnTo>
                      <a:lnTo>
                        <a:pt x="443" y="47"/>
                      </a:lnTo>
                      <a:lnTo>
                        <a:pt x="457" y="32"/>
                      </a:lnTo>
                      <a:lnTo>
                        <a:pt x="471" y="32"/>
                      </a:lnTo>
                      <a:lnTo>
                        <a:pt x="486" y="32"/>
                      </a:lnTo>
                      <a:lnTo>
                        <a:pt x="513" y="32"/>
                      </a:lnTo>
                      <a:lnTo>
                        <a:pt x="486" y="17"/>
                      </a:lnTo>
                      <a:lnTo>
                        <a:pt x="486" y="0"/>
                      </a:lnTo>
                      <a:lnTo>
                        <a:pt x="486" y="17"/>
                      </a:lnTo>
                      <a:lnTo>
                        <a:pt x="527" y="17"/>
                      </a:lnTo>
                      <a:lnTo>
                        <a:pt x="541" y="32"/>
                      </a:lnTo>
                      <a:lnTo>
                        <a:pt x="569" y="32"/>
                      </a:lnTo>
                      <a:lnTo>
                        <a:pt x="583" y="32"/>
                      </a:lnTo>
                      <a:lnTo>
                        <a:pt x="596" y="32"/>
                      </a:lnTo>
                      <a:lnTo>
                        <a:pt x="583" y="64"/>
                      </a:lnTo>
                      <a:lnTo>
                        <a:pt x="569" y="79"/>
                      </a:lnTo>
                      <a:lnTo>
                        <a:pt x="555" y="111"/>
                      </a:lnTo>
                      <a:lnTo>
                        <a:pt x="555" y="126"/>
                      </a:lnTo>
                      <a:lnTo>
                        <a:pt x="569" y="143"/>
                      </a:lnTo>
                      <a:lnTo>
                        <a:pt x="583" y="143"/>
                      </a:lnTo>
                      <a:lnTo>
                        <a:pt x="596" y="143"/>
                      </a:lnTo>
                      <a:lnTo>
                        <a:pt x="610" y="158"/>
                      </a:lnTo>
                      <a:lnTo>
                        <a:pt x="624" y="158"/>
                      </a:lnTo>
                      <a:lnTo>
                        <a:pt x="624" y="174"/>
                      </a:lnTo>
                      <a:lnTo>
                        <a:pt x="638" y="174"/>
                      </a:lnTo>
                      <a:lnTo>
                        <a:pt x="638" y="190"/>
                      </a:lnTo>
                      <a:lnTo>
                        <a:pt x="652" y="174"/>
                      </a:lnTo>
                      <a:lnTo>
                        <a:pt x="679" y="143"/>
                      </a:lnTo>
                      <a:lnTo>
                        <a:pt x="679" y="111"/>
                      </a:lnTo>
                      <a:lnTo>
                        <a:pt x="693" y="95"/>
                      </a:lnTo>
                      <a:lnTo>
                        <a:pt x="693" y="79"/>
                      </a:lnTo>
                      <a:lnTo>
                        <a:pt x="693" y="64"/>
                      </a:lnTo>
                      <a:lnTo>
                        <a:pt x="693" y="47"/>
                      </a:lnTo>
                      <a:lnTo>
                        <a:pt x="707" y="47"/>
                      </a:lnTo>
                      <a:lnTo>
                        <a:pt x="707" y="32"/>
                      </a:lnTo>
                      <a:lnTo>
                        <a:pt x="721" y="32"/>
                      </a:lnTo>
                      <a:lnTo>
                        <a:pt x="735" y="47"/>
                      </a:lnTo>
                      <a:lnTo>
                        <a:pt x="735" y="79"/>
                      </a:lnTo>
                      <a:lnTo>
                        <a:pt x="735" y="95"/>
                      </a:lnTo>
                      <a:lnTo>
                        <a:pt x="749" y="95"/>
                      </a:lnTo>
                      <a:lnTo>
                        <a:pt x="762" y="111"/>
                      </a:lnTo>
                      <a:lnTo>
                        <a:pt x="762" y="126"/>
                      </a:lnTo>
                      <a:lnTo>
                        <a:pt x="762" y="143"/>
                      </a:lnTo>
                      <a:lnTo>
                        <a:pt x="762" y="174"/>
                      </a:lnTo>
                      <a:lnTo>
                        <a:pt x="762" y="205"/>
                      </a:lnTo>
                      <a:lnTo>
                        <a:pt x="776" y="237"/>
                      </a:lnTo>
                      <a:lnTo>
                        <a:pt x="790" y="237"/>
                      </a:lnTo>
                      <a:lnTo>
                        <a:pt x="804" y="253"/>
                      </a:lnTo>
                      <a:lnTo>
                        <a:pt x="804" y="268"/>
                      </a:lnTo>
                      <a:lnTo>
                        <a:pt x="818" y="284"/>
                      </a:lnTo>
                      <a:lnTo>
                        <a:pt x="832" y="300"/>
                      </a:lnTo>
                      <a:lnTo>
                        <a:pt x="832" y="315"/>
                      </a:lnTo>
                      <a:lnTo>
                        <a:pt x="845" y="315"/>
                      </a:lnTo>
                      <a:lnTo>
                        <a:pt x="845" y="332"/>
                      </a:lnTo>
                      <a:lnTo>
                        <a:pt x="859" y="363"/>
                      </a:lnTo>
                      <a:lnTo>
                        <a:pt x="859" y="394"/>
                      </a:lnTo>
                      <a:lnTo>
                        <a:pt x="859" y="411"/>
                      </a:lnTo>
                      <a:lnTo>
                        <a:pt x="859" y="426"/>
                      </a:lnTo>
                      <a:lnTo>
                        <a:pt x="845" y="441"/>
                      </a:lnTo>
                      <a:lnTo>
                        <a:pt x="845" y="458"/>
                      </a:lnTo>
                      <a:lnTo>
                        <a:pt x="845" y="473"/>
                      </a:lnTo>
                      <a:lnTo>
                        <a:pt x="845" y="490"/>
                      </a:lnTo>
                      <a:lnTo>
                        <a:pt x="845" y="505"/>
                      </a:lnTo>
                      <a:lnTo>
                        <a:pt x="832" y="520"/>
                      </a:lnTo>
                      <a:lnTo>
                        <a:pt x="818" y="537"/>
                      </a:lnTo>
                      <a:lnTo>
                        <a:pt x="804" y="552"/>
                      </a:lnTo>
                      <a:lnTo>
                        <a:pt x="804" y="569"/>
                      </a:lnTo>
                      <a:lnTo>
                        <a:pt x="790" y="584"/>
                      </a:lnTo>
                      <a:lnTo>
                        <a:pt x="776" y="584"/>
                      </a:lnTo>
                      <a:lnTo>
                        <a:pt x="776" y="599"/>
                      </a:lnTo>
                      <a:lnTo>
                        <a:pt x="762" y="599"/>
                      </a:lnTo>
                      <a:lnTo>
                        <a:pt x="749" y="616"/>
                      </a:lnTo>
                      <a:lnTo>
                        <a:pt x="721" y="648"/>
                      </a:lnTo>
                      <a:lnTo>
                        <a:pt x="707" y="678"/>
                      </a:lnTo>
                      <a:lnTo>
                        <a:pt x="679" y="726"/>
                      </a:lnTo>
                      <a:lnTo>
                        <a:pt x="666" y="726"/>
                      </a:lnTo>
                      <a:lnTo>
                        <a:pt x="652" y="726"/>
                      </a:lnTo>
                      <a:lnTo>
                        <a:pt x="624" y="726"/>
                      </a:lnTo>
                      <a:lnTo>
                        <a:pt x="610" y="742"/>
                      </a:lnTo>
                      <a:lnTo>
                        <a:pt x="596" y="757"/>
                      </a:lnTo>
                      <a:lnTo>
                        <a:pt x="583" y="773"/>
                      </a:lnTo>
                      <a:lnTo>
                        <a:pt x="569" y="757"/>
                      </a:lnTo>
                      <a:lnTo>
                        <a:pt x="555" y="74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8834400" y="4172040"/>
                  <a:ext cx="66600" cy="66600"/>
                </a:xfrm>
                <a:custGeom>
                  <a:avLst/>
                  <a:gdLst/>
                  <a:ahLst/>
                  <a:rect l="l" t="t" r="r" b="b"/>
                  <a:pathLst>
                    <a:path w="125" h="126">
                      <a:moveTo>
                        <a:pt x="69" y="79"/>
                      </a:moveTo>
                      <a:lnTo>
                        <a:pt x="55" y="79"/>
                      </a:lnTo>
                      <a:lnTo>
                        <a:pt x="42" y="95"/>
                      </a:lnTo>
                      <a:lnTo>
                        <a:pt x="28" y="111"/>
                      </a:lnTo>
                      <a:lnTo>
                        <a:pt x="14" y="126"/>
                      </a:lnTo>
                      <a:lnTo>
                        <a:pt x="0" y="126"/>
                      </a:lnTo>
                      <a:lnTo>
                        <a:pt x="0" y="111"/>
                      </a:lnTo>
                      <a:lnTo>
                        <a:pt x="14" y="95"/>
                      </a:lnTo>
                      <a:lnTo>
                        <a:pt x="28" y="79"/>
                      </a:lnTo>
                      <a:lnTo>
                        <a:pt x="14" y="79"/>
                      </a:lnTo>
                      <a:lnTo>
                        <a:pt x="14" y="63"/>
                      </a:lnTo>
                      <a:lnTo>
                        <a:pt x="28" y="47"/>
                      </a:lnTo>
                      <a:lnTo>
                        <a:pt x="55" y="16"/>
                      </a:lnTo>
                      <a:lnTo>
                        <a:pt x="69" y="0"/>
                      </a:lnTo>
                      <a:lnTo>
                        <a:pt x="55" y="0"/>
                      </a:lnTo>
                      <a:lnTo>
                        <a:pt x="69" y="0"/>
                      </a:lnTo>
                      <a:lnTo>
                        <a:pt x="69" y="16"/>
                      </a:lnTo>
                      <a:lnTo>
                        <a:pt x="83" y="16"/>
                      </a:lnTo>
                      <a:lnTo>
                        <a:pt x="97" y="16"/>
                      </a:lnTo>
                      <a:lnTo>
                        <a:pt x="125" y="16"/>
                      </a:lnTo>
                      <a:lnTo>
                        <a:pt x="111" y="47"/>
                      </a:lnTo>
                      <a:lnTo>
                        <a:pt x="83" y="63"/>
                      </a:lnTo>
                      <a:lnTo>
                        <a:pt x="69" y="79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8834400" y="4172040"/>
                  <a:ext cx="66600" cy="66600"/>
                </a:xfrm>
                <a:custGeom>
                  <a:avLst/>
                  <a:gdLst/>
                  <a:ahLst/>
                  <a:rect l="l" t="t" r="r" b="b"/>
                  <a:pathLst>
                    <a:path w="125" h="126">
                      <a:moveTo>
                        <a:pt x="69" y="79"/>
                      </a:moveTo>
                      <a:lnTo>
                        <a:pt x="55" y="79"/>
                      </a:lnTo>
                      <a:lnTo>
                        <a:pt x="42" y="95"/>
                      </a:lnTo>
                      <a:lnTo>
                        <a:pt x="28" y="111"/>
                      </a:lnTo>
                      <a:lnTo>
                        <a:pt x="14" y="126"/>
                      </a:lnTo>
                      <a:lnTo>
                        <a:pt x="0" y="126"/>
                      </a:lnTo>
                      <a:lnTo>
                        <a:pt x="0" y="111"/>
                      </a:lnTo>
                      <a:lnTo>
                        <a:pt x="14" y="95"/>
                      </a:lnTo>
                      <a:lnTo>
                        <a:pt x="28" y="79"/>
                      </a:lnTo>
                      <a:lnTo>
                        <a:pt x="14" y="79"/>
                      </a:lnTo>
                      <a:lnTo>
                        <a:pt x="14" y="63"/>
                      </a:lnTo>
                      <a:lnTo>
                        <a:pt x="28" y="47"/>
                      </a:lnTo>
                      <a:lnTo>
                        <a:pt x="55" y="16"/>
                      </a:lnTo>
                      <a:lnTo>
                        <a:pt x="69" y="0"/>
                      </a:lnTo>
                      <a:lnTo>
                        <a:pt x="55" y="0"/>
                      </a:lnTo>
                      <a:lnTo>
                        <a:pt x="69" y="0"/>
                      </a:lnTo>
                      <a:lnTo>
                        <a:pt x="69" y="16"/>
                      </a:lnTo>
                      <a:lnTo>
                        <a:pt x="83" y="16"/>
                      </a:lnTo>
                      <a:lnTo>
                        <a:pt x="97" y="16"/>
                      </a:lnTo>
                      <a:lnTo>
                        <a:pt x="125" y="16"/>
                      </a:lnTo>
                      <a:lnTo>
                        <a:pt x="111" y="47"/>
                      </a:lnTo>
                      <a:lnTo>
                        <a:pt x="83" y="63"/>
                      </a:lnTo>
                      <a:lnTo>
                        <a:pt x="69" y="7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8520120" y="4222800"/>
                  <a:ext cx="44280" cy="41400"/>
                </a:xfrm>
                <a:custGeom>
                  <a:avLst/>
                  <a:gdLst/>
                  <a:ahLst/>
                  <a:rect l="l" t="t" r="r" b="b"/>
                  <a:pathLst>
                    <a:path w="83" h="79">
                      <a:moveTo>
                        <a:pt x="0" y="79"/>
                      </a:moveTo>
                      <a:lnTo>
                        <a:pt x="0" y="47"/>
                      </a:lnTo>
                      <a:lnTo>
                        <a:pt x="0" y="31"/>
                      </a:lnTo>
                      <a:lnTo>
                        <a:pt x="14" y="0"/>
                      </a:lnTo>
                      <a:lnTo>
                        <a:pt x="28" y="0"/>
                      </a:lnTo>
                      <a:lnTo>
                        <a:pt x="28" y="16"/>
                      </a:lnTo>
                      <a:lnTo>
                        <a:pt x="42" y="16"/>
                      </a:lnTo>
                      <a:lnTo>
                        <a:pt x="56" y="16"/>
                      </a:lnTo>
                      <a:lnTo>
                        <a:pt x="70" y="16"/>
                      </a:lnTo>
                      <a:lnTo>
                        <a:pt x="83" y="16"/>
                      </a:lnTo>
                      <a:lnTo>
                        <a:pt x="70" y="31"/>
                      </a:lnTo>
                      <a:lnTo>
                        <a:pt x="70" y="47"/>
                      </a:lnTo>
                      <a:lnTo>
                        <a:pt x="42" y="63"/>
                      </a:lnTo>
                      <a:lnTo>
                        <a:pt x="28" y="79"/>
                      </a:lnTo>
                      <a:lnTo>
                        <a:pt x="0" y="79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8520120" y="4222800"/>
                  <a:ext cx="44280" cy="41400"/>
                </a:xfrm>
                <a:custGeom>
                  <a:avLst/>
                  <a:gdLst/>
                  <a:ahLst/>
                  <a:rect l="l" t="t" r="r" b="b"/>
                  <a:pathLst>
                    <a:path w="83" h="79">
                      <a:moveTo>
                        <a:pt x="0" y="79"/>
                      </a:moveTo>
                      <a:lnTo>
                        <a:pt x="0" y="47"/>
                      </a:lnTo>
                      <a:lnTo>
                        <a:pt x="0" y="31"/>
                      </a:lnTo>
                      <a:lnTo>
                        <a:pt x="14" y="0"/>
                      </a:lnTo>
                      <a:lnTo>
                        <a:pt x="28" y="0"/>
                      </a:lnTo>
                      <a:lnTo>
                        <a:pt x="28" y="16"/>
                      </a:lnTo>
                      <a:lnTo>
                        <a:pt x="42" y="16"/>
                      </a:lnTo>
                      <a:lnTo>
                        <a:pt x="56" y="16"/>
                      </a:lnTo>
                      <a:lnTo>
                        <a:pt x="70" y="16"/>
                      </a:lnTo>
                      <a:lnTo>
                        <a:pt x="83" y="16"/>
                      </a:lnTo>
                      <a:lnTo>
                        <a:pt x="70" y="31"/>
                      </a:lnTo>
                      <a:lnTo>
                        <a:pt x="70" y="47"/>
                      </a:lnTo>
                      <a:lnTo>
                        <a:pt x="42" y="63"/>
                      </a:lnTo>
                      <a:lnTo>
                        <a:pt x="28" y="79"/>
                      </a:lnTo>
                      <a:lnTo>
                        <a:pt x="0" y="7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8710560" y="4222800"/>
                  <a:ext cx="109440" cy="92160"/>
                </a:xfrm>
                <a:custGeom>
                  <a:avLst/>
                  <a:gdLst/>
                  <a:ahLst/>
                  <a:rect l="l" t="t" r="r" b="b"/>
                  <a:pathLst>
                    <a:path w="207" h="173">
                      <a:moveTo>
                        <a:pt x="207" y="31"/>
                      </a:moveTo>
                      <a:lnTo>
                        <a:pt x="194" y="47"/>
                      </a:lnTo>
                      <a:lnTo>
                        <a:pt x="180" y="63"/>
                      </a:lnTo>
                      <a:lnTo>
                        <a:pt x="152" y="79"/>
                      </a:lnTo>
                      <a:lnTo>
                        <a:pt x="138" y="79"/>
                      </a:lnTo>
                      <a:lnTo>
                        <a:pt x="124" y="79"/>
                      </a:lnTo>
                      <a:lnTo>
                        <a:pt x="138" y="94"/>
                      </a:lnTo>
                      <a:lnTo>
                        <a:pt x="111" y="94"/>
                      </a:lnTo>
                      <a:lnTo>
                        <a:pt x="97" y="110"/>
                      </a:lnTo>
                      <a:lnTo>
                        <a:pt x="83" y="110"/>
                      </a:lnTo>
                      <a:lnTo>
                        <a:pt x="83" y="126"/>
                      </a:lnTo>
                      <a:lnTo>
                        <a:pt x="69" y="141"/>
                      </a:lnTo>
                      <a:lnTo>
                        <a:pt x="42" y="158"/>
                      </a:lnTo>
                      <a:lnTo>
                        <a:pt x="14" y="173"/>
                      </a:lnTo>
                      <a:lnTo>
                        <a:pt x="0" y="141"/>
                      </a:lnTo>
                      <a:lnTo>
                        <a:pt x="14" y="126"/>
                      </a:lnTo>
                      <a:lnTo>
                        <a:pt x="28" y="110"/>
                      </a:lnTo>
                      <a:lnTo>
                        <a:pt x="55" y="94"/>
                      </a:lnTo>
                      <a:lnTo>
                        <a:pt x="69" y="94"/>
                      </a:lnTo>
                      <a:lnTo>
                        <a:pt x="111" y="79"/>
                      </a:lnTo>
                      <a:lnTo>
                        <a:pt x="138" y="47"/>
                      </a:lnTo>
                      <a:lnTo>
                        <a:pt x="180" y="16"/>
                      </a:lnTo>
                      <a:lnTo>
                        <a:pt x="207" y="0"/>
                      </a:lnTo>
                      <a:lnTo>
                        <a:pt x="207" y="16"/>
                      </a:lnTo>
                      <a:lnTo>
                        <a:pt x="207" y="31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8710560" y="4222800"/>
                  <a:ext cx="109440" cy="92160"/>
                </a:xfrm>
                <a:custGeom>
                  <a:avLst/>
                  <a:gdLst/>
                  <a:ahLst/>
                  <a:rect l="l" t="t" r="r" b="b"/>
                  <a:pathLst>
                    <a:path w="207" h="173">
                      <a:moveTo>
                        <a:pt x="207" y="31"/>
                      </a:moveTo>
                      <a:lnTo>
                        <a:pt x="194" y="47"/>
                      </a:lnTo>
                      <a:lnTo>
                        <a:pt x="180" y="63"/>
                      </a:lnTo>
                      <a:lnTo>
                        <a:pt x="152" y="79"/>
                      </a:lnTo>
                      <a:lnTo>
                        <a:pt x="138" y="79"/>
                      </a:lnTo>
                      <a:lnTo>
                        <a:pt x="124" y="79"/>
                      </a:lnTo>
                      <a:lnTo>
                        <a:pt x="138" y="94"/>
                      </a:lnTo>
                      <a:lnTo>
                        <a:pt x="111" y="94"/>
                      </a:lnTo>
                      <a:lnTo>
                        <a:pt x="97" y="110"/>
                      </a:lnTo>
                      <a:lnTo>
                        <a:pt x="83" y="110"/>
                      </a:lnTo>
                      <a:lnTo>
                        <a:pt x="83" y="126"/>
                      </a:lnTo>
                      <a:lnTo>
                        <a:pt x="69" y="141"/>
                      </a:lnTo>
                      <a:lnTo>
                        <a:pt x="42" y="158"/>
                      </a:lnTo>
                      <a:lnTo>
                        <a:pt x="14" y="173"/>
                      </a:lnTo>
                      <a:lnTo>
                        <a:pt x="0" y="141"/>
                      </a:lnTo>
                      <a:lnTo>
                        <a:pt x="14" y="126"/>
                      </a:lnTo>
                      <a:lnTo>
                        <a:pt x="28" y="110"/>
                      </a:lnTo>
                      <a:lnTo>
                        <a:pt x="55" y="94"/>
                      </a:lnTo>
                      <a:lnTo>
                        <a:pt x="69" y="94"/>
                      </a:lnTo>
                      <a:lnTo>
                        <a:pt x="111" y="79"/>
                      </a:lnTo>
                      <a:lnTo>
                        <a:pt x="138" y="47"/>
                      </a:lnTo>
                      <a:lnTo>
                        <a:pt x="180" y="16"/>
                      </a:lnTo>
                      <a:lnTo>
                        <a:pt x="207" y="0"/>
                      </a:lnTo>
                      <a:lnTo>
                        <a:pt x="207" y="16"/>
                      </a:lnTo>
                      <a:lnTo>
                        <a:pt x="207" y="3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6276960" y="4330800"/>
                  <a:ext cx="6480" cy="1440"/>
                </a:xfrm>
                <a:custGeom>
                  <a:avLst/>
                  <a:gdLst/>
                  <a:ahLst/>
                  <a:rect l="l" t="t" r="r" b="b"/>
                  <a:pathLst>
                    <a:path w="14" h="0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6276960" y="4330800"/>
                  <a:ext cx="6480" cy="1440"/>
                </a:xfrm>
                <a:custGeom>
                  <a:avLst/>
                  <a:gdLst/>
                  <a:ahLst/>
                  <a:rect l="l" t="t" r="r" b="b"/>
                  <a:pathLst>
                    <a:path w="14" h="0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6350040" y="4397400"/>
                  <a:ext cx="58680" cy="25200"/>
                </a:xfrm>
                <a:custGeom>
                  <a:avLst/>
                  <a:gdLst/>
                  <a:ahLst/>
                  <a:rect l="l" t="t" r="r" b="b"/>
                  <a:pathLst>
                    <a:path w="112" h="47">
                      <a:moveTo>
                        <a:pt x="28" y="0"/>
                      </a:moveTo>
                      <a:lnTo>
                        <a:pt x="42" y="0"/>
                      </a:lnTo>
                      <a:lnTo>
                        <a:pt x="42" y="15"/>
                      </a:lnTo>
                      <a:lnTo>
                        <a:pt x="69" y="15"/>
                      </a:lnTo>
                      <a:lnTo>
                        <a:pt x="83" y="32"/>
                      </a:lnTo>
                      <a:lnTo>
                        <a:pt x="112" y="47"/>
                      </a:lnTo>
                      <a:lnTo>
                        <a:pt x="69" y="32"/>
                      </a:lnTo>
                      <a:lnTo>
                        <a:pt x="42" y="15"/>
                      </a:lnTo>
                      <a:lnTo>
                        <a:pt x="0" y="0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350040" y="4397400"/>
                  <a:ext cx="58680" cy="25200"/>
                </a:xfrm>
                <a:custGeom>
                  <a:avLst/>
                  <a:gdLst/>
                  <a:ahLst/>
                  <a:rect l="l" t="t" r="r" b="b"/>
                  <a:pathLst>
                    <a:path w="112" h="47">
                      <a:moveTo>
                        <a:pt x="28" y="0"/>
                      </a:moveTo>
                      <a:lnTo>
                        <a:pt x="42" y="0"/>
                      </a:lnTo>
                      <a:lnTo>
                        <a:pt x="42" y="15"/>
                      </a:lnTo>
                      <a:lnTo>
                        <a:pt x="69" y="15"/>
                      </a:lnTo>
                      <a:lnTo>
                        <a:pt x="83" y="32"/>
                      </a:lnTo>
                      <a:lnTo>
                        <a:pt x="112" y="47"/>
                      </a:lnTo>
                      <a:lnTo>
                        <a:pt x="69" y="32"/>
                      </a:lnTo>
                      <a:lnTo>
                        <a:pt x="42" y="15"/>
                      </a:lnTo>
                      <a:lnTo>
                        <a:pt x="0" y="0"/>
                      </a:lnTo>
                      <a:lnTo>
                        <a:pt x="2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6672240" y="4414680"/>
                  <a:ext cx="14400" cy="7920"/>
                </a:xfrm>
                <a:custGeom>
                  <a:avLst/>
                  <a:gdLst/>
                  <a:ahLst/>
                  <a:rect l="l" t="t" r="r" b="b"/>
                  <a:pathLst>
                    <a:path w="28" h="15">
                      <a:moveTo>
                        <a:pt x="28" y="15"/>
                      </a:moveTo>
                      <a:lnTo>
                        <a:pt x="14" y="15"/>
                      </a:lnTo>
                      <a:lnTo>
                        <a:pt x="0" y="0"/>
                      </a:lnTo>
                      <a:lnTo>
                        <a:pt x="14" y="15"/>
                      </a:lnTo>
                      <a:lnTo>
                        <a:pt x="28" y="15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6672240" y="4414680"/>
                  <a:ext cx="14400" cy="7920"/>
                </a:xfrm>
                <a:custGeom>
                  <a:avLst/>
                  <a:gdLst/>
                  <a:ahLst/>
                  <a:rect l="l" t="t" r="r" b="b"/>
                  <a:pathLst>
                    <a:path w="28" h="15">
                      <a:moveTo>
                        <a:pt x="28" y="15"/>
                      </a:moveTo>
                      <a:lnTo>
                        <a:pt x="14" y="15"/>
                      </a:lnTo>
                      <a:lnTo>
                        <a:pt x="0" y="0"/>
                      </a:lnTo>
                      <a:lnTo>
                        <a:pt x="14" y="15"/>
                      </a:lnTo>
                      <a:lnTo>
                        <a:pt x="28" y="1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6364440" y="4422600"/>
                  <a:ext cx="14040" cy="9720"/>
                </a:xfrm>
                <a:custGeom>
                  <a:avLst/>
                  <a:gdLst/>
                  <a:ahLst/>
                  <a:rect l="l" t="t" r="r" b="b"/>
                  <a:pathLst>
                    <a:path w="27" h="17">
                      <a:moveTo>
                        <a:pt x="27" y="0"/>
                      </a:moveTo>
                      <a:lnTo>
                        <a:pt x="14" y="17"/>
                      </a:lnTo>
                      <a:lnTo>
                        <a:pt x="0" y="17"/>
                      </a:lnTo>
                      <a:lnTo>
                        <a:pt x="14" y="1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6364440" y="4422600"/>
                  <a:ext cx="14040" cy="9720"/>
                </a:xfrm>
                <a:custGeom>
                  <a:avLst/>
                  <a:gdLst/>
                  <a:ahLst/>
                  <a:rect l="l" t="t" r="r" b="b"/>
                  <a:pathLst>
                    <a:path w="27" h="17">
                      <a:moveTo>
                        <a:pt x="27" y="0"/>
                      </a:moveTo>
                      <a:lnTo>
                        <a:pt x="14" y="17"/>
                      </a:lnTo>
                      <a:lnTo>
                        <a:pt x="0" y="17"/>
                      </a:lnTo>
                      <a:lnTo>
                        <a:pt x="14" y="17"/>
                      </a:lnTo>
                      <a:lnTo>
                        <a:pt x="2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6437160" y="4606920"/>
                  <a:ext cx="44640" cy="41400"/>
                </a:xfrm>
                <a:custGeom>
                  <a:avLst/>
                  <a:gdLst/>
                  <a:ahLst/>
                  <a:rect l="l" t="t" r="r" b="b"/>
                  <a:pathLst>
                    <a:path w="83" h="79">
                      <a:moveTo>
                        <a:pt x="42" y="79"/>
                      </a:moveTo>
                      <a:lnTo>
                        <a:pt x="28" y="79"/>
                      </a:lnTo>
                      <a:lnTo>
                        <a:pt x="28" y="64"/>
                      </a:lnTo>
                      <a:lnTo>
                        <a:pt x="28" y="47"/>
                      </a:lnTo>
                      <a:lnTo>
                        <a:pt x="14" y="32"/>
                      </a:ln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42" y="16"/>
                      </a:lnTo>
                      <a:lnTo>
                        <a:pt x="70" y="47"/>
                      </a:lnTo>
                      <a:lnTo>
                        <a:pt x="83" y="64"/>
                      </a:lnTo>
                      <a:lnTo>
                        <a:pt x="70" y="79"/>
                      </a:lnTo>
                      <a:lnTo>
                        <a:pt x="56" y="79"/>
                      </a:lnTo>
                      <a:lnTo>
                        <a:pt x="42" y="79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6437160" y="4606920"/>
                  <a:ext cx="44640" cy="41400"/>
                </a:xfrm>
                <a:custGeom>
                  <a:avLst/>
                  <a:gdLst/>
                  <a:ahLst/>
                  <a:rect l="l" t="t" r="r" b="b"/>
                  <a:pathLst>
                    <a:path w="83" h="79">
                      <a:moveTo>
                        <a:pt x="42" y="79"/>
                      </a:moveTo>
                      <a:lnTo>
                        <a:pt x="28" y="79"/>
                      </a:lnTo>
                      <a:lnTo>
                        <a:pt x="28" y="64"/>
                      </a:lnTo>
                      <a:lnTo>
                        <a:pt x="28" y="47"/>
                      </a:lnTo>
                      <a:lnTo>
                        <a:pt x="14" y="32"/>
                      </a:ln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42" y="16"/>
                      </a:lnTo>
                      <a:lnTo>
                        <a:pt x="70" y="47"/>
                      </a:lnTo>
                      <a:lnTo>
                        <a:pt x="83" y="64"/>
                      </a:lnTo>
                      <a:lnTo>
                        <a:pt x="70" y="79"/>
                      </a:lnTo>
                      <a:lnTo>
                        <a:pt x="56" y="79"/>
                      </a:lnTo>
                      <a:lnTo>
                        <a:pt x="42" y="7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6218280" y="4640400"/>
                  <a:ext cx="50760" cy="7920"/>
                </a:xfrm>
                <a:custGeom>
                  <a:avLst/>
                  <a:gdLst/>
                  <a:ahLst/>
                  <a:rect l="l" t="t" r="r" b="b"/>
                  <a:pathLst>
                    <a:path w="97" h="15">
                      <a:moveTo>
                        <a:pt x="97" y="15"/>
                      </a:moveTo>
                      <a:lnTo>
                        <a:pt x="69" y="15"/>
                      </a:lnTo>
                      <a:lnTo>
                        <a:pt x="42" y="15"/>
                      </a:lnTo>
                      <a:lnTo>
                        <a:pt x="0" y="15"/>
                      </a:lnTo>
                      <a:lnTo>
                        <a:pt x="0" y="0"/>
                      </a:lnTo>
                      <a:lnTo>
                        <a:pt x="28" y="0"/>
                      </a:lnTo>
                      <a:lnTo>
                        <a:pt x="42" y="0"/>
                      </a:lnTo>
                      <a:lnTo>
                        <a:pt x="69" y="0"/>
                      </a:lnTo>
                      <a:lnTo>
                        <a:pt x="97" y="15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6218280" y="4640400"/>
                  <a:ext cx="50760" cy="7920"/>
                </a:xfrm>
                <a:custGeom>
                  <a:avLst/>
                  <a:gdLst/>
                  <a:ahLst/>
                  <a:rect l="l" t="t" r="r" b="b"/>
                  <a:pathLst>
                    <a:path w="97" h="15">
                      <a:moveTo>
                        <a:pt x="97" y="15"/>
                      </a:moveTo>
                      <a:lnTo>
                        <a:pt x="69" y="15"/>
                      </a:lnTo>
                      <a:lnTo>
                        <a:pt x="42" y="15"/>
                      </a:lnTo>
                      <a:lnTo>
                        <a:pt x="0" y="15"/>
                      </a:lnTo>
                      <a:lnTo>
                        <a:pt x="0" y="0"/>
                      </a:lnTo>
                      <a:lnTo>
                        <a:pt x="28" y="0"/>
                      </a:lnTo>
                      <a:lnTo>
                        <a:pt x="42" y="0"/>
                      </a:lnTo>
                      <a:lnTo>
                        <a:pt x="69" y="0"/>
                      </a:lnTo>
                      <a:lnTo>
                        <a:pt x="97" y="1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5851440" y="4548240"/>
                  <a:ext cx="2529000" cy="258840"/>
                </a:xfrm>
                <a:custGeom>
                  <a:avLst/>
                  <a:gdLst/>
                  <a:ahLst/>
                  <a:rect l="l" t="t" r="r" b="b"/>
                  <a:pathLst>
                    <a:path w="4780" h="489">
                      <a:moveTo>
                        <a:pt x="0" y="426"/>
                      </a:moveTo>
                      <a:lnTo>
                        <a:pt x="42" y="426"/>
                      </a:lnTo>
                      <a:lnTo>
                        <a:pt x="83" y="426"/>
                      </a:lnTo>
                      <a:lnTo>
                        <a:pt x="125" y="426"/>
                      </a:lnTo>
                      <a:lnTo>
                        <a:pt x="166" y="426"/>
                      </a:lnTo>
                      <a:lnTo>
                        <a:pt x="208" y="426"/>
                      </a:lnTo>
                      <a:lnTo>
                        <a:pt x="237" y="411"/>
                      </a:lnTo>
                      <a:lnTo>
                        <a:pt x="264" y="411"/>
                      </a:lnTo>
                      <a:lnTo>
                        <a:pt x="292" y="394"/>
                      </a:lnTo>
                      <a:lnTo>
                        <a:pt x="292" y="379"/>
                      </a:lnTo>
                      <a:lnTo>
                        <a:pt x="264" y="379"/>
                      </a:lnTo>
                      <a:lnTo>
                        <a:pt x="251" y="379"/>
                      </a:lnTo>
                      <a:lnTo>
                        <a:pt x="221" y="379"/>
                      </a:lnTo>
                      <a:lnTo>
                        <a:pt x="208" y="379"/>
                      </a:lnTo>
                      <a:lnTo>
                        <a:pt x="194" y="362"/>
                      </a:lnTo>
                      <a:lnTo>
                        <a:pt x="208" y="362"/>
                      </a:lnTo>
                      <a:lnTo>
                        <a:pt x="221" y="347"/>
                      </a:lnTo>
                      <a:lnTo>
                        <a:pt x="237" y="347"/>
                      </a:lnTo>
                      <a:lnTo>
                        <a:pt x="221" y="332"/>
                      </a:lnTo>
                      <a:lnTo>
                        <a:pt x="208" y="332"/>
                      </a:lnTo>
                      <a:lnTo>
                        <a:pt x="180" y="332"/>
                      </a:lnTo>
                      <a:lnTo>
                        <a:pt x="138" y="315"/>
                      </a:lnTo>
                      <a:lnTo>
                        <a:pt x="111" y="315"/>
                      </a:lnTo>
                      <a:lnTo>
                        <a:pt x="83" y="315"/>
                      </a:lnTo>
                      <a:lnTo>
                        <a:pt x="69" y="315"/>
                      </a:lnTo>
                      <a:lnTo>
                        <a:pt x="55" y="315"/>
                      </a:lnTo>
                      <a:lnTo>
                        <a:pt x="97" y="300"/>
                      </a:lnTo>
                      <a:lnTo>
                        <a:pt x="125" y="283"/>
                      </a:lnTo>
                      <a:lnTo>
                        <a:pt x="166" y="283"/>
                      </a:lnTo>
                      <a:lnTo>
                        <a:pt x="152" y="268"/>
                      </a:lnTo>
                      <a:lnTo>
                        <a:pt x="138" y="268"/>
                      </a:lnTo>
                      <a:lnTo>
                        <a:pt x="125" y="268"/>
                      </a:lnTo>
                      <a:lnTo>
                        <a:pt x="166" y="253"/>
                      </a:lnTo>
                      <a:lnTo>
                        <a:pt x="194" y="253"/>
                      </a:lnTo>
                      <a:lnTo>
                        <a:pt x="221" y="236"/>
                      </a:lnTo>
                      <a:lnTo>
                        <a:pt x="251" y="236"/>
                      </a:lnTo>
                      <a:lnTo>
                        <a:pt x="292" y="236"/>
                      </a:lnTo>
                      <a:lnTo>
                        <a:pt x="320" y="236"/>
                      </a:lnTo>
                      <a:lnTo>
                        <a:pt x="347" y="236"/>
                      </a:lnTo>
                      <a:lnTo>
                        <a:pt x="389" y="236"/>
                      </a:lnTo>
                      <a:lnTo>
                        <a:pt x="416" y="236"/>
                      </a:lnTo>
                      <a:lnTo>
                        <a:pt x="458" y="236"/>
                      </a:lnTo>
                      <a:lnTo>
                        <a:pt x="486" y="236"/>
                      </a:lnTo>
                      <a:lnTo>
                        <a:pt x="513" y="236"/>
                      </a:lnTo>
                      <a:lnTo>
                        <a:pt x="555" y="236"/>
                      </a:lnTo>
                      <a:lnTo>
                        <a:pt x="582" y="236"/>
                      </a:lnTo>
                      <a:lnTo>
                        <a:pt x="610" y="236"/>
                      </a:lnTo>
                      <a:lnTo>
                        <a:pt x="638" y="253"/>
                      </a:lnTo>
                      <a:lnTo>
                        <a:pt x="665" y="253"/>
                      </a:lnTo>
                      <a:lnTo>
                        <a:pt x="693" y="253"/>
                      </a:lnTo>
                      <a:lnTo>
                        <a:pt x="721" y="253"/>
                      </a:lnTo>
                      <a:lnTo>
                        <a:pt x="762" y="253"/>
                      </a:lnTo>
                      <a:lnTo>
                        <a:pt x="790" y="253"/>
                      </a:lnTo>
                      <a:lnTo>
                        <a:pt x="776" y="253"/>
                      </a:lnTo>
                      <a:lnTo>
                        <a:pt x="762" y="253"/>
                      </a:lnTo>
                      <a:lnTo>
                        <a:pt x="735" y="236"/>
                      </a:lnTo>
                      <a:lnTo>
                        <a:pt x="721" y="236"/>
                      </a:lnTo>
                      <a:lnTo>
                        <a:pt x="707" y="221"/>
                      </a:lnTo>
                      <a:lnTo>
                        <a:pt x="721" y="221"/>
                      </a:lnTo>
                      <a:lnTo>
                        <a:pt x="735" y="221"/>
                      </a:lnTo>
                      <a:lnTo>
                        <a:pt x="748" y="221"/>
                      </a:lnTo>
                      <a:lnTo>
                        <a:pt x="762" y="221"/>
                      </a:lnTo>
                      <a:lnTo>
                        <a:pt x="776" y="221"/>
                      </a:lnTo>
                      <a:lnTo>
                        <a:pt x="762" y="204"/>
                      </a:lnTo>
                      <a:lnTo>
                        <a:pt x="748" y="204"/>
                      </a:lnTo>
                      <a:lnTo>
                        <a:pt x="776" y="221"/>
                      </a:lnTo>
                      <a:lnTo>
                        <a:pt x="818" y="221"/>
                      </a:lnTo>
                      <a:lnTo>
                        <a:pt x="845" y="221"/>
                      </a:lnTo>
                      <a:lnTo>
                        <a:pt x="887" y="221"/>
                      </a:lnTo>
                      <a:lnTo>
                        <a:pt x="928" y="221"/>
                      </a:lnTo>
                      <a:lnTo>
                        <a:pt x="956" y="221"/>
                      </a:lnTo>
                      <a:lnTo>
                        <a:pt x="997" y="221"/>
                      </a:lnTo>
                      <a:lnTo>
                        <a:pt x="1025" y="221"/>
                      </a:lnTo>
                      <a:lnTo>
                        <a:pt x="1040" y="204"/>
                      </a:lnTo>
                      <a:lnTo>
                        <a:pt x="1054" y="204"/>
                      </a:lnTo>
                      <a:lnTo>
                        <a:pt x="1068" y="221"/>
                      </a:lnTo>
                      <a:lnTo>
                        <a:pt x="1109" y="221"/>
                      </a:lnTo>
                      <a:lnTo>
                        <a:pt x="1165" y="221"/>
                      </a:lnTo>
                      <a:lnTo>
                        <a:pt x="1192" y="204"/>
                      </a:lnTo>
                      <a:lnTo>
                        <a:pt x="1206" y="174"/>
                      </a:lnTo>
                      <a:lnTo>
                        <a:pt x="1179" y="142"/>
                      </a:lnTo>
                      <a:lnTo>
                        <a:pt x="1165" y="126"/>
                      </a:lnTo>
                      <a:lnTo>
                        <a:pt x="1151" y="79"/>
                      </a:lnTo>
                      <a:lnTo>
                        <a:pt x="1165" y="63"/>
                      </a:lnTo>
                      <a:lnTo>
                        <a:pt x="1192" y="47"/>
                      </a:lnTo>
                      <a:lnTo>
                        <a:pt x="1206" y="16"/>
                      </a:lnTo>
                      <a:lnTo>
                        <a:pt x="1220" y="0"/>
                      </a:lnTo>
                      <a:lnTo>
                        <a:pt x="1248" y="0"/>
                      </a:lnTo>
                      <a:lnTo>
                        <a:pt x="1262" y="0"/>
                      </a:lnTo>
                      <a:lnTo>
                        <a:pt x="1262" y="31"/>
                      </a:lnTo>
                      <a:lnTo>
                        <a:pt x="1248" y="47"/>
                      </a:lnTo>
                      <a:lnTo>
                        <a:pt x="1234" y="47"/>
                      </a:lnTo>
                      <a:lnTo>
                        <a:pt x="1220" y="63"/>
                      </a:lnTo>
                      <a:lnTo>
                        <a:pt x="1192" y="63"/>
                      </a:lnTo>
                      <a:lnTo>
                        <a:pt x="1192" y="79"/>
                      </a:lnTo>
                      <a:lnTo>
                        <a:pt x="1179" y="95"/>
                      </a:lnTo>
                      <a:lnTo>
                        <a:pt x="1206" y="110"/>
                      </a:lnTo>
                      <a:lnTo>
                        <a:pt x="1220" y="95"/>
                      </a:lnTo>
                      <a:lnTo>
                        <a:pt x="1234" y="110"/>
                      </a:lnTo>
                      <a:lnTo>
                        <a:pt x="1248" y="110"/>
                      </a:lnTo>
                      <a:lnTo>
                        <a:pt x="1262" y="126"/>
                      </a:lnTo>
                      <a:lnTo>
                        <a:pt x="1289" y="157"/>
                      </a:lnTo>
                      <a:lnTo>
                        <a:pt x="1317" y="189"/>
                      </a:lnTo>
                      <a:lnTo>
                        <a:pt x="1345" y="236"/>
                      </a:lnTo>
                      <a:lnTo>
                        <a:pt x="1331" y="236"/>
                      </a:lnTo>
                      <a:lnTo>
                        <a:pt x="1317" y="236"/>
                      </a:lnTo>
                      <a:lnTo>
                        <a:pt x="1317" y="253"/>
                      </a:lnTo>
                      <a:lnTo>
                        <a:pt x="1303" y="253"/>
                      </a:lnTo>
                      <a:lnTo>
                        <a:pt x="1262" y="253"/>
                      </a:lnTo>
                      <a:lnTo>
                        <a:pt x="1220" y="268"/>
                      </a:lnTo>
                      <a:lnTo>
                        <a:pt x="1192" y="268"/>
                      </a:lnTo>
                      <a:lnTo>
                        <a:pt x="1151" y="268"/>
                      </a:lnTo>
                      <a:lnTo>
                        <a:pt x="1109" y="268"/>
                      </a:lnTo>
                      <a:lnTo>
                        <a:pt x="1068" y="283"/>
                      </a:lnTo>
                      <a:lnTo>
                        <a:pt x="1040" y="283"/>
                      </a:lnTo>
                      <a:lnTo>
                        <a:pt x="1040" y="300"/>
                      </a:lnTo>
                      <a:lnTo>
                        <a:pt x="1082" y="300"/>
                      </a:lnTo>
                      <a:lnTo>
                        <a:pt x="1123" y="300"/>
                      </a:lnTo>
                      <a:lnTo>
                        <a:pt x="1165" y="315"/>
                      </a:lnTo>
                      <a:lnTo>
                        <a:pt x="1179" y="332"/>
                      </a:lnTo>
                      <a:lnTo>
                        <a:pt x="1192" y="332"/>
                      </a:lnTo>
                      <a:lnTo>
                        <a:pt x="1179" y="332"/>
                      </a:lnTo>
                      <a:lnTo>
                        <a:pt x="1165" y="332"/>
                      </a:lnTo>
                      <a:lnTo>
                        <a:pt x="1151" y="332"/>
                      </a:lnTo>
                      <a:lnTo>
                        <a:pt x="1137" y="332"/>
                      </a:lnTo>
                      <a:lnTo>
                        <a:pt x="1123" y="332"/>
                      </a:lnTo>
                      <a:lnTo>
                        <a:pt x="1109" y="332"/>
                      </a:lnTo>
                      <a:lnTo>
                        <a:pt x="1096" y="332"/>
                      </a:lnTo>
                      <a:lnTo>
                        <a:pt x="1109" y="332"/>
                      </a:lnTo>
                      <a:lnTo>
                        <a:pt x="1137" y="347"/>
                      </a:lnTo>
                      <a:lnTo>
                        <a:pt x="1165" y="347"/>
                      </a:lnTo>
                      <a:lnTo>
                        <a:pt x="1179" y="347"/>
                      </a:lnTo>
                      <a:lnTo>
                        <a:pt x="1192" y="347"/>
                      </a:lnTo>
                      <a:lnTo>
                        <a:pt x="1206" y="347"/>
                      </a:lnTo>
                      <a:lnTo>
                        <a:pt x="1234" y="362"/>
                      </a:lnTo>
                      <a:lnTo>
                        <a:pt x="1275" y="362"/>
                      </a:lnTo>
                      <a:lnTo>
                        <a:pt x="1303" y="362"/>
                      </a:lnTo>
                      <a:lnTo>
                        <a:pt x="1317" y="362"/>
                      </a:lnTo>
                      <a:lnTo>
                        <a:pt x="1345" y="379"/>
                      </a:lnTo>
                      <a:lnTo>
                        <a:pt x="1358" y="379"/>
                      </a:lnTo>
                      <a:lnTo>
                        <a:pt x="1386" y="379"/>
                      </a:lnTo>
                      <a:lnTo>
                        <a:pt x="1400" y="379"/>
                      </a:lnTo>
                      <a:lnTo>
                        <a:pt x="1414" y="379"/>
                      </a:lnTo>
                      <a:lnTo>
                        <a:pt x="1428" y="379"/>
                      </a:lnTo>
                      <a:lnTo>
                        <a:pt x="1441" y="379"/>
                      </a:lnTo>
                      <a:lnTo>
                        <a:pt x="1469" y="379"/>
                      </a:lnTo>
                      <a:lnTo>
                        <a:pt x="1483" y="379"/>
                      </a:lnTo>
                      <a:lnTo>
                        <a:pt x="1511" y="379"/>
                      </a:lnTo>
                      <a:lnTo>
                        <a:pt x="1538" y="379"/>
                      </a:lnTo>
                      <a:lnTo>
                        <a:pt x="1566" y="379"/>
                      </a:lnTo>
                      <a:lnTo>
                        <a:pt x="1594" y="379"/>
                      </a:lnTo>
                      <a:lnTo>
                        <a:pt x="1635" y="379"/>
                      </a:lnTo>
                      <a:lnTo>
                        <a:pt x="1677" y="379"/>
                      </a:lnTo>
                      <a:lnTo>
                        <a:pt x="1718" y="362"/>
                      </a:lnTo>
                      <a:lnTo>
                        <a:pt x="1759" y="347"/>
                      </a:lnTo>
                      <a:lnTo>
                        <a:pt x="1801" y="332"/>
                      </a:lnTo>
                      <a:lnTo>
                        <a:pt x="1815" y="332"/>
                      </a:lnTo>
                      <a:lnTo>
                        <a:pt x="1787" y="332"/>
                      </a:lnTo>
                      <a:lnTo>
                        <a:pt x="1759" y="315"/>
                      </a:lnTo>
                      <a:lnTo>
                        <a:pt x="1732" y="300"/>
                      </a:lnTo>
                      <a:lnTo>
                        <a:pt x="1759" y="300"/>
                      </a:lnTo>
                      <a:lnTo>
                        <a:pt x="1773" y="300"/>
                      </a:lnTo>
                      <a:lnTo>
                        <a:pt x="1787" y="283"/>
                      </a:lnTo>
                      <a:lnTo>
                        <a:pt x="1801" y="283"/>
                      </a:lnTo>
                      <a:lnTo>
                        <a:pt x="1815" y="283"/>
                      </a:lnTo>
                      <a:lnTo>
                        <a:pt x="1815" y="268"/>
                      </a:lnTo>
                      <a:lnTo>
                        <a:pt x="1872" y="253"/>
                      </a:lnTo>
                      <a:lnTo>
                        <a:pt x="1913" y="253"/>
                      </a:lnTo>
                      <a:lnTo>
                        <a:pt x="1955" y="236"/>
                      </a:lnTo>
                      <a:lnTo>
                        <a:pt x="1968" y="236"/>
                      </a:lnTo>
                      <a:lnTo>
                        <a:pt x="1982" y="236"/>
                      </a:lnTo>
                      <a:lnTo>
                        <a:pt x="1982" y="221"/>
                      </a:lnTo>
                      <a:lnTo>
                        <a:pt x="1982" y="204"/>
                      </a:lnTo>
                      <a:lnTo>
                        <a:pt x="1996" y="204"/>
                      </a:lnTo>
                      <a:lnTo>
                        <a:pt x="2010" y="204"/>
                      </a:lnTo>
                      <a:lnTo>
                        <a:pt x="2024" y="189"/>
                      </a:lnTo>
                      <a:lnTo>
                        <a:pt x="2024" y="174"/>
                      </a:lnTo>
                      <a:lnTo>
                        <a:pt x="2038" y="157"/>
                      </a:lnTo>
                      <a:lnTo>
                        <a:pt x="2038" y="174"/>
                      </a:lnTo>
                      <a:lnTo>
                        <a:pt x="2051" y="174"/>
                      </a:lnTo>
                      <a:lnTo>
                        <a:pt x="2079" y="174"/>
                      </a:lnTo>
                      <a:lnTo>
                        <a:pt x="2093" y="157"/>
                      </a:lnTo>
                      <a:lnTo>
                        <a:pt x="2120" y="157"/>
                      </a:lnTo>
                      <a:lnTo>
                        <a:pt x="2120" y="174"/>
                      </a:lnTo>
                      <a:lnTo>
                        <a:pt x="2148" y="174"/>
                      </a:lnTo>
                      <a:lnTo>
                        <a:pt x="2162" y="174"/>
                      </a:lnTo>
                      <a:lnTo>
                        <a:pt x="2176" y="157"/>
                      </a:lnTo>
                      <a:lnTo>
                        <a:pt x="2231" y="157"/>
                      </a:lnTo>
                      <a:lnTo>
                        <a:pt x="2273" y="157"/>
                      </a:lnTo>
                      <a:lnTo>
                        <a:pt x="2314" y="142"/>
                      </a:lnTo>
                      <a:lnTo>
                        <a:pt x="2328" y="142"/>
                      </a:lnTo>
                      <a:lnTo>
                        <a:pt x="2342" y="142"/>
                      </a:lnTo>
                      <a:lnTo>
                        <a:pt x="2397" y="142"/>
                      </a:lnTo>
                      <a:lnTo>
                        <a:pt x="2425" y="142"/>
                      </a:lnTo>
                      <a:lnTo>
                        <a:pt x="2466" y="126"/>
                      </a:lnTo>
                      <a:lnTo>
                        <a:pt x="2494" y="126"/>
                      </a:lnTo>
                      <a:lnTo>
                        <a:pt x="2535" y="126"/>
                      </a:lnTo>
                      <a:lnTo>
                        <a:pt x="2563" y="126"/>
                      </a:lnTo>
                      <a:lnTo>
                        <a:pt x="2591" y="126"/>
                      </a:lnTo>
                      <a:lnTo>
                        <a:pt x="2634" y="126"/>
                      </a:lnTo>
                      <a:lnTo>
                        <a:pt x="2661" y="126"/>
                      </a:lnTo>
                      <a:lnTo>
                        <a:pt x="2703" y="126"/>
                      </a:lnTo>
                      <a:lnTo>
                        <a:pt x="2730" y="126"/>
                      </a:lnTo>
                      <a:lnTo>
                        <a:pt x="2744" y="110"/>
                      </a:lnTo>
                      <a:lnTo>
                        <a:pt x="2758" y="95"/>
                      </a:lnTo>
                      <a:lnTo>
                        <a:pt x="2772" y="110"/>
                      </a:lnTo>
                      <a:lnTo>
                        <a:pt x="2786" y="126"/>
                      </a:lnTo>
                      <a:lnTo>
                        <a:pt x="2786" y="142"/>
                      </a:lnTo>
                      <a:lnTo>
                        <a:pt x="2813" y="142"/>
                      </a:lnTo>
                      <a:lnTo>
                        <a:pt x="2827" y="126"/>
                      </a:lnTo>
                      <a:lnTo>
                        <a:pt x="2855" y="110"/>
                      </a:lnTo>
                      <a:lnTo>
                        <a:pt x="2869" y="95"/>
                      </a:lnTo>
                      <a:lnTo>
                        <a:pt x="2896" y="95"/>
                      </a:lnTo>
                      <a:lnTo>
                        <a:pt x="2924" y="95"/>
                      </a:lnTo>
                      <a:lnTo>
                        <a:pt x="2952" y="79"/>
                      </a:lnTo>
                      <a:lnTo>
                        <a:pt x="2979" y="63"/>
                      </a:lnTo>
                      <a:lnTo>
                        <a:pt x="3021" y="47"/>
                      </a:lnTo>
                      <a:lnTo>
                        <a:pt x="3076" y="47"/>
                      </a:lnTo>
                      <a:lnTo>
                        <a:pt x="3104" y="47"/>
                      </a:lnTo>
                      <a:lnTo>
                        <a:pt x="3118" y="47"/>
                      </a:lnTo>
                      <a:lnTo>
                        <a:pt x="3118" y="63"/>
                      </a:lnTo>
                      <a:lnTo>
                        <a:pt x="3132" y="63"/>
                      </a:lnTo>
                      <a:lnTo>
                        <a:pt x="3145" y="63"/>
                      </a:lnTo>
                      <a:lnTo>
                        <a:pt x="3187" y="79"/>
                      </a:lnTo>
                      <a:lnTo>
                        <a:pt x="3228" y="79"/>
                      </a:lnTo>
                      <a:lnTo>
                        <a:pt x="3270" y="95"/>
                      </a:lnTo>
                      <a:lnTo>
                        <a:pt x="3311" y="110"/>
                      </a:lnTo>
                      <a:lnTo>
                        <a:pt x="3298" y="110"/>
                      </a:lnTo>
                      <a:lnTo>
                        <a:pt x="3284" y="126"/>
                      </a:lnTo>
                      <a:lnTo>
                        <a:pt x="3270" y="126"/>
                      </a:lnTo>
                      <a:lnTo>
                        <a:pt x="3256" y="142"/>
                      </a:lnTo>
                      <a:lnTo>
                        <a:pt x="3270" y="157"/>
                      </a:lnTo>
                      <a:lnTo>
                        <a:pt x="3284" y="157"/>
                      </a:lnTo>
                      <a:lnTo>
                        <a:pt x="3298" y="157"/>
                      </a:lnTo>
                      <a:lnTo>
                        <a:pt x="3311" y="157"/>
                      </a:lnTo>
                      <a:lnTo>
                        <a:pt x="3339" y="142"/>
                      </a:lnTo>
                      <a:lnTo>
                        <a:pt x="3353" y="126"/>
                      </a:lnTo>
                      <a:lnTo>
                        <a:pt x="3381" y="126"/>
                      </a:lnTo>
                      <a:lnTo>
                        <a:pt x="3394" y="126"/>
                      </a:lnTo>
                      <a:lnTo>
                        <a:pt x="3423" y="110"/>
                      </a:lnTo>
                      <a:lnTo>
                        <a:pt x="3437" y="110"/>
                      </a:lnTo>
                      <a:lnTo>
                        <a:pt x="3451" y="95"/>
                      </a:lnTo>
                      <a:lnTo>
                        <a:pt x="3479" y="95"/>
                      </a:lnTo>
                      <a:lnTo>
                        <a:pt x="3493" y="79"/>
                      </a:lnTo>
                      <a:lnTo>
                        <a:pt x="3506" y="79"/>
                      </a:lnTo>
                      <a:lnTo>
                        <a:pt x="3548" y="63"/>
                      </a:lnTo>
                      <a:lnTo>
                        <a:pt x="3589" y="47"/>
                      </a:lnTo>
                      <a:lnTo>
                        <a:pt x="3631" y="47"/>
                      </a:lnTo>
                      <a:lnTo>
                        <a:pt x="3645" y="47"/>
                      </a:lnTo>
                      <a:lnTo>
                        <a:pt x="3645" y="63"/>
                      </a:lnTo>
                      <a:lnTo>
                        <a:pt x="3659" y="63"/>
                      </a:lnTo>
                      <a:lnTo>
                        <a:pt x="3672" y="63"/>
                      </a:lnTo>
                      <a:lnTo>
                        <a:pt x="3686" y="63"/>
                      </a:lnTo>
                      <a:lnTo>
                        <a:pt x="3700" y="63"/>
                      </a:lnTo>
                      <a:lnTo>
                        <a:pt x="3714" y="63"/>
                      </a:lnTo>
                      <a:lnTo>
                        <a:pt x="3755" y="63"/>
                      </a:lnTo>
                      <a:lnTo>
                        <a:pt x="3797" y="63"/>
                      </a:lnTo>
                      <a:lnTo>
                        <a:pt x="3838" y="63"/>
                      </a:lnTo>
                      <a:lnTo>
                        <a:pt x="3866" y="63"/>
                      </a:lnTo>
                      <a:lnTo>
                        <a:pt x="3907" y="63"/>
                      </a:lnTo>
                      <a:lnTo>
                        <a:pt x="3949" y="63"/>
                      </a:lnTo>
                      <a:lnTo>
                        <a:pt x="3963" y="63"/>
                      </a:lnTo>
                      <a:lnTo>
                        <a:pt x="3977" y="63"/>
                      </a:lnTo>
                      <a:lnTo>
                        <a:pt x="3990" y="47"/>
                      </a:lnTo>
                      <a:lnTo>
                        <a:pt x="4018" y="47"/>
                      </a:lnTo>
                      <a:lnTo>
                        <a:pt x="4060" y="63"/>
                      </a:lnTo>
                      <a:lnTo>
                        <a:pt x="4087" y="63"/>
                      </a:lnTo>
                      <a:lnTo>
                        <a:pt x="4101" y="63"/>
                      </a:lnTo>
                      <a:lnTo>
                        <a:pt x="4115" y="63"/>
                      </a:lnTo>
                      <a:lnTo>
                        <a:pt x="4143" y="63"/>
                      </a:lnTo>
                      <a:lnTo>
                        <a:pt x="4156" y="63"/>
                      </a:lnTo>
                      <a:lnTo>
                        <a:pt x="4170" y="63"/>
                      </a:lnTo>
                      <a:lnTo>
                        <a:pt x="4184" y="63"/>
                      </a:lnTo>
                      <a:lnTo>
                        <a:pt x="4198" y="63"/>
                      </a:lnTo>
                      <a:lnTo>
                        <a:pt x="4212" y="63"/>
                      </a:lnTo>
                      <a:lnTo>
                        <a:pt x="4227" y="47"/>
                      </a:lnTo>
                      <a:lnTo>
                        <a:pt x="4241" y="47"/>
                      </a:lnTo>
                      <a:lnTo>
                        <a:pt x="4255" y="63"/>
                      </a:lnTo>
                      <a:lnTo>
                        <a:pt x="4268" y="63"/>
                      </a:lnTo>
                      <a:lnTo>
                        <a:pt x="4282" y="63"/>
                      </a:lnTo>
                      <a:lnTo>
                        <a:pt x="4296" y="47"/>
                      </a:lnTo>
                      <a:lnTo>
                        <a:pt x="4310" y="47"/>
                      </a:lnTo>
                      <a:lnTo>
                        <a:pt x="4351" y="47"/>
                      </a:lnTo>
                      <a:lnTo>
                        <a:pt x="4379" y="47"/>
                      </a:lnTo>
                      <a:lnTo>
                        <a:pt x="4421" y="63"/>
                      </a:lnTo>
                      <a:lnTo>
                        <a:pt x="4462" y="63"/>
                      </a:lnTo>
                      <a:lnTo>
                        <a:pt x="4476" y="63"/>
                      </a:lnTo>
                      <a:lnTo>
                        <a:pt x="4490" y="79"/>
                      </a:lnTo>
                      <a:lnTo>
                        <a:pt x="4531" y="95"/>
                      </a:lnTo>
                      <a:lnTo>
                        <a:pt x="4545" y="95"/>
                      </a:lnTo>
                      <a:lnTo>
                        <a:pt x="4559" y="95"/>
                      </a:lnTo>
                      <a:lnTo>
                        <a:pt x="4573" y="95"/>
                      </a:lnTo>
                      <a:lnTo>
                        <a:pt x="4614" y="110"/>
                      </a:lnTo>
                      <a:lnTo>
                        <a:pt x="4642" y="126"/>
                      </a:lnTo>
                      <a:lnTo>
                        <a:pt x="4670" y="142"/>
                      </a:lnTo>
                      <a:lnTo>
                        <a:pt x="4697" y="142"/>
                      </a:lnTo>
                      <a:lnTo>
                        <a:pt x="4711" y="142"/>
                      </a:lnTo>
                      <a:lnTo>
                        <a:pt x="4725" y="126"/>
                      </a:lnTo>
                      <a:lnTo>
                        <a:pt x="4753" y="142"/>
                      </a:lnTo>
                      <a:lnTo>
                        <a:pt x="4780" y="174"/>
                      </a:lnTo>
                      <a:lnTo>
                        <a:pt x="4780" y="189"/>
                      </a:lnTo>
                      <a:lnTo>
                        <a:pt x="4753" y="189"/>
                      </a:lnTo>
                      <a:lnTo>
                        <a:pt x="4739" y="189"/>
                      </a:lnTo>
                      <a:lnTo>
                        <a:pt x="4711" y="204"/>
                      </a:lnTo>
                      <a:lnTo>
                        <a:pt x="4697" y="204"/>
                      </a:lnTo>
                      <a:lnTo>
                        <a:pt x="4697" y="221"/>
                      </a:lnTo>
                      <a:lnTo>
                        <a:pt x="4683" y="221"/>
                      </a:lnTo>
                      <a:lnTo>
                        <a:pt x="4670" y="221"/>
                      </a:lnTo>
                      <a:lnTo>
                        <a:pt x="4628" y="221"/>
                      </a:lnTo>
                      <a:lnTo>
                        <a:pt x="4600" y="236"/>
                      </a:lnTo>
                      <a:lnTo>
                        <a:pt x="4559" y="253"/>
                      </a:lnTo>
                      <a:lnTo>
                        <a:pt x="4504" y="268"/>
                      </a:lnTo>
                      <a:lnTo>
                        <a:pt x="4476" y="283"/>
                      </a:lnTo>
                      <a:lnTo>
                        <a:pt x="4476" y="300"/>
                      </a:lnTo>
                      <a:lnTo>
                        <a:pt x="4490" y="315"/>
                      </a:lnTo>
                      <a:lnTo>
                        <a:pt x="4476" y="332"/>
                      </a:lnTo>
                      <a:lnTo>
                        <a:pt x="4462" y="315"/>
                      </a:lnTo>
                      <a:lnTo>
                        <a:pt x="4448" y="315"/>
                      </a:lnTo>
                      <a:lnTo>
                        <a:pt x="4407" y="332"/>
                      </a:lnTo>
                      <a:lnTo>
                        <a:pt x="4365" y="332"/>
                      </a:lnTo>
                      <a:lnTo>
                        <a:pt x="4324" y="347"/>
                      </a:lnTo>
                      <a:lnTo>
                        <a:pt x="4338" y="347"/>
                      </a:lnTo>
                      <a:lnTo>
                        <a:pt x="4351" y="347"/>
                      </a:lnTo>
                      <a:lnTo>
                        <a:pt x="4324" y="362"/>
                      </a:lnTo>
                      <a:lnTo>
                        <a:pt x="4310" y="362"/>
                      </a:lnTo>
                      <a:lnTo>
                        <a:pt x="4296" y="379"/>
                      </a:lnTo>
                      <a:lnTo>
                        <a:pt x="4310" y="379"/>
                      </a:lnTo>
                      <a:lnTo>
                        <a:pt x="4351" y="411"/>
                      </a:lnTo>
                      <a:lnTo>
                        <a:pt x="4393" y="411"/>
                      </a:lnTo>
                      <a:lnTo>
                        <a:pt x="4434" y="426"/>
                      </a:lnTo>
                      <a:lnTo>
                        <a:pt x="4421" y="426"/>
                      </a:lnTo>
                      <a:lnTo>
                        <a:pt x="4407" y="426"/>
                      </a:lnTo>
                      <a:lnTo>
                        <a:pt x="4365" y="441"/>
                      </a:lnTo>
                      <a:lnTo>
                        <a:pt x="4324" y="458"/>
                      </a:lnTo>
                      <a:lnTo>
                        <a:pt x="4282" y="473"/>
                      </a:lnTo>
                      <a:lnTo>
                        <a:pt x="4255" y="489"/>
                      </a:lnTo>
                      <a:lnTo>
                        <a:pt x="180" y="473"/>
                      </a:lnTo>
                      <a:lnTo>
                        <a:pt x="152" y="473"/>
                      </a:lnTo>
                      <a:lnTo>
                        <a:pt x="125" y="458"/>
                      </a:lnTo>
                      <a:lnTo>
                        <a:pt x="97" y="458"/>
                      </a:lnTo>
                      <a:lnTo>
                        <a:pt x="69" y="441"/>
                      </a:lnTo>
                      <a:lnTo>
                        <a:pt x="28" y="426"/>
                      </a:lnTo>
                      <a:lnTo>
                        <a:pt x="0" y="426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5851440" y="4548240"/>
                  <a:ext cx="2529000" cy="258840"/>
                </a:xfrm>
                <a:custGeom>
                  <a:avLst/>
                  <a:gdLst/>
                  <a:ahLst/>
                  <a:rect l="l" t="t" r="r" b="b"/>
                  <a:pathLst>
                    <a:path w="4780" h="489">
                      <a:moveTo>
                        <a:pt x="0" y="426"/>
                      </a:moveTo>
                      <a:lnTo>
                        <a:pt x="42" y="426"/>
                      </a:lnTo>
                      <a:lnTo>
                        <a:pt x="83" y="426"/>
                      </a:lnTo>
                      <a:lnTo>
                        <a:pt x="125" y="426"/>
                      </a:lnTo>
                      <a:lnTo>
                        <a:pt x="166" y="426"/>
                      </a:lnTo>
                      <a:lnTo>
                        <a:pt x="208" y="426"/>
                      </a:lnTo>
                      <a:lnTo>
                        <a:pt x="237" y="411"/>
                      </a:lnTo>
                      <a:lnTo>
                        <a:pt x="264" y="411"/>
                      </a:lnTo>
                      <a:lnTo>
                        <a:pt x="292" y="394"/>
                      </a:lnTo>
                      <a:lnTo>
                        <a:pt x="292" y="379"/>
                      </a:lnTo>
                      <a:lnTo>
                        <a:pt x="264" y="379"/>
                      </a:lnTo>
                      <a:lnTo>
                        <a:pt x="251" y="379"/>
                      </a:lnTo>
                      <a:lnTo>
                        <a:pt x="221" y="379"/>
                      </a:lnTo>
                      <a:lnTo>
                        <a:pt x="208" y="379"/>
                      </a:lnTo>
                      <a:lnTo>
                        <a:pt x="194" y="362"/>
                      </a:lnTo>
                      <a:lnTo>
                        <a:pt x="208" y="362"/>
                      </a:lnTo>
                      <a:lnTo>
                        <a:pt x="221" y="347"/>
                      </a:lnTo>
                      <a:lnTo>
                        <a:pt x="237" y="347"/>
                      </a:lnTo>
                      <a:lnTo>
                        <a:pt x="221" y="332"/>
                      </a:lnTo>
                      <a:lnTo>
                        <a:pt x="208" y="332"/>
                      </a:lnTo>
                      <a:lnTo>
                        <a:pt x="180" y="332"/>
                      </a:lnTo>
                      <a:lnTo>
                        <a:pt x="138" y="315"/>
                      </a:lnTo>
                      <a:lnTo>
                        <a:pt x="111" y="315"/>
                      </a:lnTo>
                      <a:lnTo>
                        <a:pt x="83" y="315"/>
                      </a:lnTo>
                      <a:lnTo>
                        <a:pt x="69" y="315"/>
                      </a:lnTo>
                      <a:lnTo>
                        <a:pt x="55" y="315"/>
                      </a:lnTo>
                      <a:lnTo>
                        <a:pt x="97" y="300"/>
                      </a:lnTo>
                      <a:lnTo>
                        <a:pt x="125" y="283"/>
                      </a:lnTo>
                      <a:lnTo>
                        <a:pt x="166" y="283"/>
                      </a:lnTo>
                      <a:lnTo>
                        <a:pt x="152" y="268"/>
                      </a:lnTo>
                      <a:lnTo>
                        <a:pt x="138" y="268"/>
                      </a:lnTo>
                      <a:lnTo>
                        <a:pt x="125" y="268"/>
                      </a:lnTo>
                      <a:lnTo>
                        <a:pt x="166" y="253"/>
                      </a:lnTo>
                      <a:lnTo>
                        <a:pt x="194" y="253"/>
                      </a:lnTo>
                      <a:lnTo>
                        <a:pt x="221" y="236"/>
                      </a:lnTo>
                      <a:lnTo>
                        <a:pt x="251" y="236"/>
                      </a:lnTo>
                      <a:lnTo>
                        <a:pt x="292" y="236"/>
                      </a:lnTo>
                      <a:lnTo>
                        <a:pt x="320" y="236"/>
                      </a:lnTo>
                      <a:lnTo>
                        <a:pt x="347" y="236"/>
                      </a:lnTo>
                      <a:lnTo>
                        <a:pt x="389" y="236"/>
                      </a:lnTo>
                      <a:lnTo>
                        <a:pt x="416" y="236"/>
                      </a:lnTo>
                      <a:lnTo>
                        <a:pt x="458" y="236"/>
                      </a:lnTo>
                      <a:lnTo>
                        <a:pt x="486" y="236"/>
                      </a:lnTo>
                      <a:lnTo>
                        <a:pt x="513" y="236"/>
                      </a:lnTo>
                      <a:lnTo>
                        <a:pt x="555" y="236"/>
                      </a:lnTo>
                      <a:lnTo>
                        <a:pt x="582" y="236"/>
                      </a:lnTo>
                      <a:lnTo>
                        <a:pt x="610" y="236"/>
                      </a:lnTo>
                      <a:lnTo>
                        <a:pt x="638" y="253"/>
                      </a:lnTo>
                      <a:lnTo>
                        <a:pt x="665" y="253"/>
                      </a:lnTo>
                      <a:lnTo>
                        <a:pt x="693" y="253"/>
                      </a:lnTo>
                      <a:lnTo>
                        <a:pt x="721" y="253"/>
                      </a:lnTo>
                      <a:lnTo>
                        <a:pt x="762" y="253"/>
                      </a:lnTo>
                      <a:lnTo>
                        <a:pt x="790" y="253"/>
                      </a:lnTo>
                      <a:lnTo>
                        <a:pt x="776" y="253"/>
                      </a:lnTo>
                      <a:lnTo>
                        <a:pt x="762" y="253"/>
                      </a:lnTo>
                      <a:lnTo>
                        <a:pt x="735" y="236"/>
                      </a:lnTo>
                      <a:lnTo>
                        <a:pt x="721" y="236"/>
                      </a:lnTo>
                      <a:lnTo>
                        <a:pt x="707" y="221"/>
                      </a:lnTo>
                      <a:lnTo>
                        <a:pt x="721" y="221"/>
                      </a:lnTo>
                      <a:lnTo>
                        <a:pt x="735" y="221"/>
                      </a:lnTo>
                      <a:lnTo>
                        <a:pt x="748" y="221"/>
                      </a:lnTo>
                      <a:lnTo>
                        <a:pt x="762" y="221"/>
                      </a:lnTo>
                      <a:lnTo>
                        <a:pt x="776" y="221"/>
                      </a:lnTo>
                      <a:lnTo>
                        <a:pt x="762" y="204"/>
                      </a:lnTo>
                      <a:lnTo>
                        <a:pt x="748" y="204"/>
                      </a:lnTo>
                      <a:lnTo>
                        <a:pt x="776" y="221"/>
                      </a:lnTo>
                      <a:lnTo>
                        <a:pt x="818" y="221"/>
                      </a:lnTo>
                      <a:lnTo>
                        <a:pt x="845" y="221"/>
                      </a:lnTo>
                      <a:lnTo>
                        <a:pt x="887" y="221"/>
                      </a:lnTo>
                      <a:lnTo>
                        <a:pt x="928" y="221"/>
                      </a:lnTo>
                      <a:lnTo>
                        <a:pt x="956" y="221"/>
                      </a:lnTo>
                      <a:lnTo>
                        <a:pt x="997" y="221"/>
                      </a:lnTo>
                      <a:lnTo>
                        <a:pt x="1025" y="221"/>
                      </a:lnTo>
                      <a:lnTo>
                        <a:pt x="1040" y="204"/>
                      </a:lnTo>
                      <a:lnTo>
                        <a:pt x="1054" y="204"/>
                      </a:lnTo>
                      <a:lnTo>
                        <a:pt x="1068" y="221"/>
                      </a:lnTo>
                      <a:lnTo>
                        <a:pt x="1109" y="221"/>
                      </a:lnTo>
                      <a:lnTo>
                        <a:pt x="1165" y="221"/>
                      </a:lnTo>
                      <a:lnTo>
                        <a:pt x="1192" y="204"/>
                      </a:lnTo>
                      <a:lnTo>
                        <a:pt x="1206" y="174"/>
                      </a:lnTo>
                      <a:lnTo>
                        <a:pt x="1179" y="142"/>
                      </a:lnTo>
                      <a:lnTo>
                        <a:pt x="1165" y="126"/>
                      </a:lnTo>
                      <a:lnTo>
                        <a:pt x="1151" y="79"/>
                      </a:lnTo>
                      <a:lnTo>
                        <a:pt x="1165" y="63"/>
                      </a:lnTo>
                      <a:lnTo>
                        <a:pt x="1192" y="47"/>
                      </a:lnTo>
                      <a:lnTo>
                        <a:pt x="1206" y="16"/>
                      </a:lnTo>
                      <a:lnTo>
                        <a:pt x="1220" y="0"/>
                      </a:lnTo>
                      <a:lnTo>
                        <a:pt x="1248" y="0"/>
                      </a:lnTo>
                      <a:lnTo>
                        <a:pt x="1262" y="0"/>
                      </a:lnTo>
                      <a:lnTo>
                        <a:pt x="1262" y="31"/>
                      </a:lnTo>
                      <a:lnTo>
                        <a:pt x="1248" y="47"/>
                      </a:lnTo>
                      <a:lnTo>
                        <a:pt x="1234" y="47"/>
                      </a:lnTo>
                      <a:lnTo>
                        <a:pt x="1220" y="63"/>
                      </a:lnTo>
                      <a:lnTo>
                        <a:pt x="1192" y="63"/>
                      </a:lnTo>
                      <a:lnTo>
                        <a:pt x="1192" y="79"/>
                      </a:lnTo>
                      <a:lnTo>
                        <a:pt x="1179" y="95"/>
                      </a:lnTo>
                      <a:lnTo>
                        <a:pt x="1206" y="110"/>
                      </a:lnTo>
                      <a:lnTo>
                        <a:pt x="1220" y="95"/>
                      </a:lnTo>
                      <a:lnTo>
                        <a:pt x="1234" y="110"/>
                      </a:lnTo>
                      <a:lnTo>
                        <a:pt x="1248" y="110"/>
                      </a:lnTo>
                      <a:lnTo>
                        <a:pt x="1262" y="126"/>
                      </a:lnTo>
                      <a:lnTo>
                        <a:pt x="1289" y="157"/>
                      </a:lnTo>
                      <a:lnTo>
                        <a:pt x="1317" y="189"/>
                      </a:lnTo>
                      <a:lnTo>
                        <a:pt x="1345" y="236"/>
                      </a:lnTo>
                      <a:lnTo>
                        <a:pt x="1331" y="236"/>
                      </a:lnTo>
                      <a:lnTo>
                        <a:pt x="1317" y="236"/>
                      </a:lnTo>
                      <a:lnTo>
                        <a:pt x="1317" y="253"/>
                      </a:lnTo>
                      <a:lnTo>
                        <a:pt x="1303" y="253"/>
                      </a:lnTo>
                      <a:lnTo>
                        <a:pt x="1262" y="253"/>
                      </a:lnTo>
                      <a:lnTo>
                        <a:pt x="1220" y="268"/>
                      </a:lnTo>
                      <a:lnTo>
                        <a:pt x="1192" y="268"/>
                      </a:lnTo>
                      <a:lnTo>
                        <a:pt x="1151" y="268"/>
                      </a:lnTo>
                      <a:lnTo>
                        <a:pt x="1109" y="268"/>
                      </a:lnTo>
                      <a:lnTo>
                        <a:pt x="1068" y="283"/>
                      </a:lnTo>
                      <a:lnTo>
                        <a:pt x="1040" y="283"/>
                      </a:lnTo>
                      <a:lnTo>
                        <a:pt x="1040" y="300"/>
                      </a:lnTo>
                      <a:lnTo>
                        <a:pt x="1082" y="300"/>
                      </a:lnTo>
                      <a:lnTo>
                        <a:pt x="1123" y="300"/>
                      </a:lnTo>
                      <a:lnTo>
                        <a:pt x="1165" y="315"/>
                      </a:lnTo>
                      <a:lnTo>
                        <a:pt x="1179" y="332"/>
                      </a:lnTo>
                      <a:lnTo>
                        <a:pt x="1192" y="332"/>
                      </a:lnTo>
                      <a:lnTo>
                        <a:pt x="1179" y="332"/>
                      </a:lnTo>
                      <a:lnTo>
                        <a:pt x="1165" y="332"/>
                      </a:lnTo>
                      <a:lnTo>
                        <a:pt x="1151" y="332"/>
                      </a:lnTo>
                      <a:lnTo>
                        <a:pt x="1137" y="332"/>
                      </a:lnTo>
                      <a:lnTo>
                        <a:pt x="1123" y="332"/>
                      </a:lnTo>
                      <a:lnTo>
                        <a:pt x="1109" y="332"/>
                      </a:lnTo>
                      <a:lnTo>
                        <a:pt x="1096" y="332"/>
                      </a:lnTo>
                      <a:lnTo>
                        <a:pt x="1109" y="332"/>
                      </a:lnTo>
                      <a:lnTo>
                        <a:pt x="1137" y="347"/>
                      </a:lnTo>
                      <a:lnTo>
                        <a:pt x="1165" y="347"/>
                      </a:lnTo>
                      <a:lnTo>
                        <a:pt x="1179" y="347"/>
                      </a:lnTo>
                      <a:lnTo>
                        <a:pt x="1192" y="347"/>
                      </a:lnTo>
                      <a:lnTo>
                        <a:pt x="1206" y="347"/>
                      </a:lnTo>
                      <a:lnTo>
                        <a:pt x="1234" y="362"/>
                      </a:lnTo>
                      <a:lnTo>
                        <a:pt x="1275" y="362"/>
                      </a:lnTo>
                      <a:lnTo>
                        <a:pt x="1303" y="362"/>
                      </a:lnTo>
                      <a:lnTo>
                        <a:pt x="1317" y="362"/>
                      </a:lnTo>
                      <a:lnTo>
                        <a:pt x="1345" y="379"/>
                      </a:lnTo>
                      <a:lnTo>
                        <a:pt x="1358" y="379"/>
                      </a:lnTo>
                      <a:lnTo>
                        <a:pt x="1386" y="379"/>
                      </a:lnTo>
                      <a:lnTo>
                        <a:pt x="1400" y="379"/>
                      </a:lnTo>
                      <a:lnTo>
                        <a:pt x="1414" y="379"/>
                      </a:lnTo>
                      <a:lnTo>
                        <a:pt x="1428" y="379"/>
                      </a:lnTo>
                      <a:lnTo>
                        <a:pt x="1441" y="379"/>
                      </a:lnTo>
                      <a:lnTo>
                        <a:pt x="1469" y="379"/>
                      </a:lnTo>
                      <a:lnTo>
                        <a:pt x="1483" y="379"/>
                      </a:lnTo>
                      <a:lnTo>
                        <a:pt x="1511" y="379"/>
                      </a:lnTo>
                      <a:lnTo>
                        <a:pt x="1538" y="379"/>
                      </a:lnTo>
                      <a:lnTo>
                        <a:pt x="1566" y="379"/>
                      </a:lnTo>
                      <a:lnTo>
                        <a:pt x="1594" y="379"/>
                      </a:lnTo>
                      <a:lnTo>
                        <a:pt x="1635" y="379"/>
                      </a:lnTo>
                      <a:lnTo>
                        <a:pt x="1677" y="379"/>
                      </a:lnTo>
                      <a:lnTo>
                        <a:pt x="1718" y="362"/>
                      </a:lnTo>
                      <a:lnTo>
                        <a:pt x="1759" y="347"/>
                      </a:lnTo>
                      <a:lnTo>
                        <a:pt x="1801" y="332"/>
                      </a:lnTo>
                      <a:lnTo>
                        <a:pt x="1815" y="332"/>
                      </a:lnTo>
                      <a:lnTo>
                        <a:pt x="1787" y="332"/>
                      </a:lnTo>
                      <a:lnTo>
                        <a:pt x="1759" y="315"/>
                      </a:lnTo>
                      <a:lnTo>
                        <a:pt x="1732" y="300"/>
                      </a:lnTo>
                      <a:lnTo>
                        <a:pt x="1759" y="300"/>
                      </a:lnTo>
                      <a:lnTo>
                        <a:pt x="1773" y="300"/>
                      </a:lnTo>
                      <a:lnTo>
                        <a:pt x="1787" y="283"/>
                      </a:lnTo>
                      <a:lnTo>
                        <a:pt x="1801" y="283"/>
                      </a:lnTo>
                      <a:lnTo>
                        <a:pt x="1815" y="283"/>
                      </a:lnTo>
                      <a:lnTo>
                        <a:pt x="1815" y="268"/>
                      </a:lnTo>
                      <a:lnTo>
                        <a:pt x="1872" y="253"/>
                      </a:lnTo>
                      <a:lnTo>
                        <a:pt x="1913" y="253"/>
                      </a:lnTo>
                      <a:lnTo>
                        <a:pt x="1955" y="236"/>
                      </a:lnTo>
                      <a:lnTo>
                        <a:pt x="1968" y="236"/>
                      </a:lnTo>
                      <a:lnTo>
                        <a:pt x="1982" y="236"/>
                      </a:lnTo>
                      <a:lnTo>
                        <a:pt x="1982" y="221"/>
                      </a:lnTo>
                      <a:lnTo>
                        <a:pt x="1982" y="204"/>
                      </a:lnTo>
                      <a:lnTo>
                        <a:pt x="1996" y="204"/>
                      </a:lnTo>
                      <a:lnTo>
                        <a:pt x="2010" y="204"/>
                      </a:lnTo>
                      <a:lnTo>
                        <a:pt x="2024" y="189"/>
                      </a:lnTo>
                      <a:lnTo>
                        <a:pt x="2024" y="174"/>
                      </a:lnTo>
                      <a:lnTo>
                        <a:pt x="2038" y="157"/>
                      </a:lnTo>
                      <a:lnTo>
                        <a:pt x="2038" y="174"/>
                      </a:lnTo>
                      <a:lnTo>
                        <a:pt x="2051" y="174"/>
                      </a:lnTo>
                      <a:lnTo>
                        <a:pt x="2079" y="174"/>
                      </a:lnTo>
                      <a:lnTo>
                        <a:pt x="2093" y="157"/>
                      </a:lnTo>
                      <a:lnTo>
                        <a:pt x="2120" y="157"/>
                      </a:lnTo>
                      <a:lnTo>
                        <a:pt x="2120" y="174"/>
                      </a:lnTo>
                      <a:lnTo>
                        <a:pt x="2148" y="174"/>
                      </a:lnTo>
                      <a:lnTo>
                        <a:pt x="2162" y="174"/>
                      </a:lnTo>
                      <a:lnTo>
                        <a:pt x="2176" y="157"/>
                      </a:lnTo>
                      <a:lnTo>
                        <a:pt x="2231" y="157"/>
                      </a:lnTo>
                      <a:lnTo>
                        <a:pt x="2273" y="157"/>
                      </a:lnTo>
                      <a:lnTo>
                        <a:pt x="2314" y="142"/>
                      </a:lnTo>
                      <a:lnTo>
                        <a:pt x="2328" y="142"/>
                      </a:lnTo>
                      <a:lnTo>
                        <a:pt x="2342" y="142"/>
                      </a:lnTo>
                      <a:lnTo>
                        <a:pt x="2397" y="142"/>
                      </a:lnTo>
                      <a:lnTo>
                        <a:pt x="2425" y="142"/>
                      </a:lnTo>
                      <a:lnTo>
                        <a:pt x="2466" y="126"/>
                      </a:lnTo>
                      <a:lnTo>
                        <a:pt x="2494" y="126"/>
                      </a:lnTo>
                      <a:lnTo>
                        <a:pt x="2535" y="126"/>
                      </a:lnTo>
                      <a:lnTo>
                        <a:pt x="2563" y="126"/>
                      </a:lnTo>
                      <a:lnTo>
                        <a:pt x="2591" y="126"/>
                      </a:lnTo>
                      <a:lnTo>
                        <a:pt x="2634" y="126"/>
                      </a:lnTo>
                      <a:lnTo>
                        <a:pt x="2661" y="126"/>
                      </a:lnTo>
                      <a:lnTo>
                        <a:pt x="2703" y="126"/>
                      </a:lnTo>
                      <a:lnTo>
                        <a:pt x="2730" y="126"/>
                      </a:lnTo>
                      <a:lnTo>
                        <a:pt x="2744" y="110"/>
                      </a:lnTo>
                      <a:lnTo>
                        <a:pt x="2758" y="95"/>
                      </a:lnTo>
                      <a:lnTo>
                        <a:pt x="2772" y="110"/>
                      </a:lnTo>
                      <a:lnTo>
                        <a:pt x="2786" y="126"/>
                      </a:lnTo>
                      <a:lnTo>
                        <a:pt x="2786" y="142"/>
                      </a:lnTo>
                      <a:lnTo>
                        <a:pt x="2813" y="142"/>
                      </a:lnTo>
                      <a:lnTo>
                        <a:pt x="2827" y="126"/>
                      </a:lnTo>
                      <a:lnTo>
                        <a:pt x="2855" y="110"/>
                      </a:lnTo>
                      <a:lnTo>
                        <a:pt x="2869" y="95"/>
                      </a:lnTo>
                      <a:lnTo>
                        <a:pt x="2896" y="95"/>
                      </a:lnTo>
                      <a:lnTo>
                        <a:pt x="2924" y="95"/>
                      </a:lnTo>
                      <a:lnTo>
                        <a:pt x="2952" y="79"/>
                      </a:lnTo>
                      <a:lnTo>
                        <a:pt x="2979" y="63"/>
                      </a:lnTo>
                      <a:lnTo>
                        <a:pt x="3021" y="47"/>
                      </a:lnTo>
                      <a:lnTo>
                        <a:pt x="3076" y="47"/>
                      </a:lnTo>
                      <a:lnTo>
                        <a:pt x="3104" y="47"/>
                      </a:lnTo>
                      <a:lnTo>
                        <a:pt x="3118" y="47"/>
                      </a:lnTo>
                      <a:lnTo>
                        <a:pt x="3118" y="63"/>
                      </a:lnTo>
                      <a:lnTo>
                        <a:pt x="3132" y="63"/>
                      </a:lnTo>
                      <a:lnTo>
                        <a:pt x="3145" y="63"/>
                      </a:lnTo>
                      <a:lnTo>
                        <a:pt x="3187" y="79"/>
                      </a:lnTo>
                      <a:lnTo>
                        <a:pt x="3228" y="79"/>
                      </a:lnTo>
                      <a:lnTo>
                        <a:pt x="3270" y="95"/>
                      </a:lnTo>
                      <a:lnTo>
                        <a:pt x="3311" y="110"/>
                      </a:lnTo>
                      <a:lnTo>
                        <a:pt x="3298" y="110"/>
                      </a:lnTo>
                      <a:lnTo>
                        <a:pt x="3284" y="126"/>
                      </a:lnTo>
                      <a:lnTo>
                        <a:pt x="3270" y="126"/>
                      </a:lnTo>
                      <a:lnTo>
                        <a:pt x="3256" y="142"/>
                      </a:lnTo>
                      <a:lnTo>
                        <a:pt x="3270" y="157"/>
                      </a:lnTo>
                      <a:lnTo>
                        <a:pt x="3284" y="157"/>
                      </a:lnTo>
                      <a:lnTo>
                        <a:pt x="3298" y="157"/>
                      </a:lnTo>
                      <a:lnTo>
                        <a:pt x="3311" y="157"/>
                      </a:lnTo>
                      <a:lnTo>
                        <a:pt x="3339" y="142"/>
                      </a:lnTo>
                      <a:lnTo>
                        <a:pt x="3353" y="126"/>
                      </a:lnTo>
                      <a:lnTo>
                        <a:pt x="3381" y="126"/>
                      </a:lnTo>
                      <a:lnTo>
                        <a:pt x="3394" y="126"/>
                      </a:lnTo>
                      <a:lnTo>
                        <a:pt x="3423" y="110"/>
                      </a:lnTo>
                      <a:lnTo>
                        <a:pt x="3437" y="110"/>
                      </a:lnTo>
                      <a:lnTo>
                        <a:pt x="3451" y="95"/>
                      </a:lnTo>
                      <a:lnTo>
                        <a:pt x="3479" y="95"/>
                      </a:lnTo>
                      <a:lnTo>
                        <a:pt x="3493" y="79"/>
                      </a:lnTo>
                      <a:lnTo>
                        <a:pt x="3506" y="79"/>
                      </a:lnTo>
                      <a:lnTo>
                        <a:pt x="3548" y="63"/>
                      </a:lnTo>
                      <a:lnTo>
                        <a:pt x="3589" y="47"/>
                      </a:lnTo>
                      <a:lnTo>
                        <a:pt x="3631" y="47"/>
                      </a:lnTo>
                      <a:lnTo>
                        <a:pt x="3645" y="47"/>
                      </a:lnTo>
                      <a:lnTo>
                        <a:pt x="3645" y="63"/>
                      </a:lnTo>
                      <a:lnTo>
                        <a:pt x="3659" y="63"/>
                      </a:lnTo>
                      <a:lnTo>
                        <a:pt x="3672" y="63"/>
                      </a:lnTo>
                      <a:lnTo>
                        <a:pt x="3686" y="63"/>
                      </a:lnTo>
                      <a:lnTo>
                        <a:pt x="3700" y="63"/>
                      </a:lnTo>
                      <a:lnTo>
                        <a:pt x="3714" y="63"/>
                      </a:lnTo>
                      <a:lnTo>
                        <a:pt x="3755" y="63"/>
                      </a:lnTo>
                      <a:lnTo>
                        <a:pt x="3797" y="63"/>
                      </a:lnTo>
                      <a:lnTo>
                        <a:pt x="3838" y="63"/>
                      </a:lnTo>
                      <a:lnTo>
                        <a:pt x="3866" y="63"/>
                      </a:lnTo>
                      <a:lnTo>
                        <a:pt x="3907" y="63"/>
                      </a:lnTo>
                      <a:lnTo>
                        <a:pt x="3949" y="63"/>
                      </a:lnTo>
                      <a:lnTo>
                        <a:pt x="3963" y="63"/>
                      </a:lnTo>
                      <a:lnTo>
                        <a:pt x="3977" y="63"/>
                      </a:lnTo>
                      <a:lnTo>
                        <a:pt x="3990" y="47"/>
                      </a:lnTo>
                      <a:lnTo>
                        <a:pt x="4018" y="47"/>
                      </a:lnTo>
                      <a:lnTo>
                        <a:pt x="4060" y="63"/>
                      </a:lnTo>
                      <a:lnTo>
                        <a:pt x="4087" y="63"/>
                      </a:lnTo>
                      <a:lnTo>
                        <a:pt x="4101" y="63"/>
                      </a:lnTo>
                      <a:lnTo>
                        <a:pt x="4115" y="63"/>
                      </a:lnTo>
                      <a:lnTo>
                        <a:pt x="4143" y="63"/>
                      </a:lnTo>
                      <a:lnTo>
                        <a:pt x="4156" y="63"/>
                      </a:lnTo>
                      <a:lnTo>
                        <a:pt x="4170" y="63"/>
                      </a:lnTo>
                      <a:lnTo>
                        <a:pt x="4184" y="63"/>
                      </a:lnTo>
                      <a:lnTo>
                        <a:pt x="4198" y="63"/>
                      </a:lnTo>
                      <a:lnTo>
                        <a:pt x="4212" y="63"/>
                      </a:lnTo>
                      <a:lnTo>
                        <a:pt x="4227" y="47"/>
                      </a:lnTo>
                      <a:lnTo>
                        <a:pt x="4241" y="47"/>
                      </a:lnTo>
                      <a:lnTo>
                        <a:pt x="4255" y="63"/>
                      </a:lnTo>
                      <a:lnTo>
                        <a:pt x="4268" y="63"/>
                      </a:lnTo>
                      <a:lnTo>
                        <a:pt x="4282" y="63"/>
                      </a:lnTo>
                      <a:lnTo>
                        <a:pt x="4296" y="47"/>
                      </a:lnTo>
                      <a:lnTo>
                        <a:pt x="4310" y="47"/>
                      </a:lnTo>
                      <a:lnTo>
                        <a:pt x="4351" y="47"/>
                      </a:lnTo>
                      <a:lnTo>
                        <a:pt x="4379" y="47"/>
                      </a:lnTo>
                      <a:lnTo>
                        <a:pt x="4421" y="63"/>
                      </a:lnTo>
                      <a:lnTo>
                        <a:pt x="4462" y="63"/>
                      </a:lnTo>
                      <a:lnTo>
                        <a:pt x="4476" y="63"/>
                      </a:lnTo>
                      <a:lnTo>
                        <a:pt x="4490" y="79"/>
                      </a:lnTo>
                      <a:lnTo>
                        <a:pt x="4531" y="95"/>
                      </a:lnTo>
                      <a:lnTo>
                        <a:pt x="4545" y="95"/>
                      </a:lnTo>
                      <a:lnTo>
                        <a:pt x="4559" y="95"/>
                      </a:lnTo>
                      <a:lnTo>
                        <a:pt x="4573" y="95"/>
                      </a:lnTo>
                      <a:lnTo>
                        <a:pt x="4614" y="110"/>
                      </a:lnTo>
                      <a:lnTo>
                        <a:pt x="4642" y="126"/>
                      </a:lnTo>
                      <a:lnTo>
                        <a:pt x="4670" y="142"/>
                      </a:lnTo>
                      <a:lnTo>
                        <a:pt x="4697" y="142"/>
                      </a:lnTo>
                      <a:lnTo>
                        <a:pt x="4711" y="142"/>
                      </a:lnTo>
                      <a:lnTo>
                        <a:pt x="4725" y="126"/>
                      </a:lnTo>
                      <a:lnTo>
                        <a:pt x="4753" y="142"/>
                      </a:lnTo>
                      <a:lnTo>
                        <a:pt x="4780" y="174"/>
                      </a:lnTo>
                      <a:lnTo>
                        <a:pt x="4780" y="189"/>
                      </a:lnTo>
                      <a:lnTo>
                        <a:pt x="4753" y="189"/>
                      </a:lnTo>
                      <a:lnTo>
                        <a:pt x="4739" y="189"/>
                      </a:lnTo>
                      <a:lnTo>
                        <a:pt x="4711" y="204"/>
                      </a:lnTo>
                      <a:lnTo>
                        <a:pt x="4697" y="204"/>
                      </a:lnTo>
                      <a:lnTo>
                        <a:pt x="4697" y="221"/>
                      </a:lnTo>
                      <a:lnTo>
                        <a:pt x="4683" y="221"/>
                      </a:lnTo>
                      <a:lnTo>
                        <a:pt x="4670" y="221"/>
                      </a:lnTo>
                      <a:lnTo>
                        <a:pt x="4628" y="221"/>
                      </a:lnTo>
                      <a:lnTo>
                        <a:pt x="4600" y="236"/>
                      </a:lnTo>
                      <a:lnTo>
                        <a:pt x="4559" y="253"/>
                      </a:lnTo>
                      <a:lnTo>
                        <a:pt x="4504" y="268"/>
                      </a:lnTo>
                      <a:lnTo>
                        <a:pt x="4476" y="283"/>
                      </a:lnTo>
                      <a:lnTo>
                        <a:pt x="4476" y="300"/>
                      </a:lnTo>
                      <a:lnTo>
                        <a:pt x="4490" y="315"/>
                      </a:lnTo>
                      <a:lnTo>
                        <a:pt x="4476" y="332"/>
                      </a:lnTo>
                      <a:lnTo>
                        <a:pt x="4462" y="315"/>
                      </a:lnTo>
                      <a:lnTo>
                        <a:pt x="4448" y="315"/>
                      </a:lnTo>
                      <a:lnTo>
                        <a:pt x="4407" y="332"/>
                      </a:lnTo>
                      <a:lnTo>
                        <a:pt x="4365" y="332"/>
                      </a:lnTo>
                      <a:lnTo>
                        <a:pt x="4324" y="347"/>
                      </a:lnTo>
                      <a:lnTo>
                        <a:pt x="4338" y="347"/>
                      </a:lnTo>
                      <a:lnTo>
                        <a:pt x="4351" y="347"/>
                      </a:lnTo>
                      <a:lnTo>
                        <a:pt x="4324" y="362"/>
                      </a:lnTo>
                      <a:lnTo>
                        <a:pt x="4310" y="362"/>
                      </a:lnTo>
                      <a:lnTo>
                        <a:pt x="4296" y="379"/>
                      </a:lnTo>
                      <a:lnTo>
                        <a:pt x="4310" y="379"/>
                      </a:lnTo>
                      <a:lnTo>
                        <a:pt x="4351" y="411"/>
                      </a:lnTo>
                      <a:lnTo>
                        <a:pt x="4393" y="411"/>
                      </a:lnTo>
                      <a:lnTo>
                        <a:pt x="4434" y="426"/>
                      </a:lnTo>
                      <a:lnTo>
                        <a:pt x="4421" y="426"/>
                      </a:lnTo>
                      <a:lnTo>
                        <a:pt x="4407" y="426"/>
                      </a:lnTo>
                      <a:lnTo>
                        <a:pt x="4365" y="441"/>
                      </a:lnTo>
                      <a:lnTo>
                        <a:pt x="4324" y="458"/>
                      </a:lnTo>
                      <a:lnTo>
                        <a:pt x="4282" y="473"/>
                      </a:lnTo>
                      <a:lnTo>
                        <a:pt x="4255" y="489"/>
                      </a:lnTo>
                      <a:lnTo>
                        <a:pt x="180" y="473"/>
                      </a:lnTo>
                      <a:lnTo>
                        <a:pt x="152" y="473"/>
                      </a:lnTo>
                      <a:lnTo>
                        <a:pt x="125" y="458"/>
                      </a:lnTo>
                      <a:lnTo>
                        <a:pt x="97" y="458"/>
                      </a:lnTo>
                      <a:lnTo>
                        <a:pt x="69" y="441"/>
                      </a:lnTo>
                      <a:lnTo>
                        <a:pt x="28" y="426"/>
                      </a:lnTo>
                      <a:lnTo>
                        <a:pt x="0" y="42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6649920" y="4714920"/>
                  <a:ext cx="66960" cy="25200"/>
                </a:xfrm>
                <a:custGeom>
                  <a:avLst/>
                  <a:gdLst/>
                  <a:ahLst/>
                  <a:rect l="l" t="t" r="r" b="b"/>
                  <a:pathLst>
                    <a:path w="124" h="47">
                      <a:moveTo>
                        <a:pt x="69" y="0"/>
                      </a:moveTo>
                      <a:lnTo>
                        <a:pt x="83" y="0"/>
                      </a:lnTo>
                      <a:lnTo>
                        <a:pt x="110" y="17"/>
                      </a:lnTo>
                      <a:lnTo>
                        <a:pt x="124" y="32"/>
                      </a:lnTo>
                      <a:lnTo>
                        <a:pt x="124" y="47"/>
                      </a:lnTo>
                      <a:lnTo>
                        <a:pt x="110" y="47"/>
                      </a:lnTo>
                      <a:lnTo>
                        <a:pt x="69" y="32"/>
                      </a:lnTo>
                      <a:lnTo>
                        <a:pt x="41" y="32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41" y="0"/>
                      </a:lnTo>
                      <a:lnTo>
                        <a:pt x="69" y="0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6649920" y="4714920"/>
                  <a:ext cx="66960" cy="25200"/>
                </a:xfrm>
                <a:custGeom>
                  <a:avLst/>
                  <a:gdLst/>
                  <a:ahLst/>
                  <a:rect l="l" t="t" r="r" b="b"/>
                  <a:pathLst>
                    <a:path w="124" h="47">
                      <a:moveTo>
                        <a:pt x="69" y="0"/>
                      </a:moveTo>
                      <a:lnTo>
                        <a:pt x="83" y="0"/>
                      </a:lnTo>
                      <a:lnTo>
                        <a:pt x="110" y="17"/>
                      </a:lnTo>
                      <a:lnTo>
                        <a:pt x="124" y="32"/>
                      </a:lnTo>
                      <a:lnTo>
                        <a:pt x="124" y="47"/>
                      </a:lnTo>
                      <a:lnTo>
                        <a:pt x="110" y="47"/>
                      </a:lnTo>
                      <a:lnTo>
                        <a:pt x="69" y="32"/>
                      </a:lnTo>
                      <a:lnTo>
                        <a:pt x="41" y="32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41" y="0"/>
                      </a:lnTo>
                      <a:lnTo>
                        <a:pt x="69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6921360" y="2562120"/>
                  <a:ext cx="1686240" cy="1059120"/>
                </a:xfrm>
                <a:custGeom>
                  <a:avLst/>
                  <a:gdLst/>
                  <a:ahLst/>
                  <a:rect l="l" t="t" r="r" b="b"/>
                  <a:pathLst>
                    <a:path w="3186" h="2003">
                      <a:moveTo>
                        <a:pt x="3117" y="283"/>
                      </a:moveTo>
                      <a:lnTo>
                        <a:pt x="3131" y="299"/>
                      </a:lnTo>
                      <a:lnTo>
                        <a:pt x="3145" y="315"/>
                      </a:lnTo>
                      <a:lnTo>
                        <a:pt x="3159" y="315"/>
                      </a:lnTo>
                      <a:lnTo>
                        <a:pt x="3173" y="330"/>
                      </a:lnTo>
                      <a:lnTo>
                        <a:pt x="3186" y="347"/>
                      </a:lnTo>
                      <a:lnTo>
                        <a:pt x="3173" y="347"/>
                      </a:lnTo>
                      <a:lnTo>
                        <a:pt x="3159" y="347"/>
                      </a:lnTo>
                      <a:lnTo>
                        <a:pt x="3131" y="330"/>
                      </a:lnTo>
                      <a:lnTo>
                        <a:pt x="3145" y="330"/>
                      </a:lnTo>
                      <a:lnTo>
                        <a:pt x="3131" y="347"/>
                      </a:lnTo>
                      <a:lnTo>
                        <a:pt x="3117" y="347"/>
                      </a:lnTo>
                      <a:lnTo>
                        <a:pt x="3103" y="362"/>
                      </a:lnTo>
                      <a:lnTo>
                        <a:pt x="3103" y="377"/>
                      </a:lnTo>
                      <a:lnTo>
                        <a:pt x="3103" y="394"/>
                      </a:lnTo>
                      <a:lnTo>
                        <a:pt x="3103" y="409"/>
                      </a:lnTo>
                      <a:lnTo>
                        <a:pt x="3090" y="409"/>
                      </a:lnTo>
                      <a:lnTo>
                        <a:pt x="3076" y="394"/>
                      </a:lnTo>
                      <a:lnTo>
                        <a:pt x="3062" y="394"/>
                      </a:lnTo>
                      <a:lnTo>
                        <a:pt x="3048" y="394"/>
                      </a:lnTo>
                      <a:lnTo>
                        <a:pt x="3034" y="394"/>
                      </a:lnTo>
                      <a:lnTo>
                        <a:pt x="3020" y="394"/>
                      </a:lnTo>
                      <a:lnTo>
                        <a:pt x="2993" y="394"/>
                      </a:lnTo>
                      <a:lnTo>
                        <a:pt x="2978" y="394"/>
                      </a:lnTo>
                      <a:lnTo>
                        <a:pt x="2978" y="426"/>
                      </a:lnTo>
                      <a:lnTo>
                        <a:pt x="3020" y="456"/>
                      </a:lnTo>
                      <a:lnTo>
                        <a:pt x="3062" y="488"/>
                      </a:lnTo>
                      <a:lnTo>
                        <a:pt x="3076" y="505"/>
                      </a:lnTo>
                      <a:lnTo>
                        <a:pt x="3090" y="505"/>
                      </a:lnTo>
                      <a:lnTo>
                        <a:pt x="3090" y="520"/>
                      </a:lnTo>
                      <a:lnTo>
                        <a:pt x="3090" y="535"/>
                      </a:lnTo>
                      <a:lnTo>
                        <a:pt x="3076" y="535"/>
                      </a:lnTo>
                      <a:lnTo>
                        <a:pt x="3076" y="567"/>
                      </a:lnTo>
                      <a:lnTo>
                        <a:pt x="3090" y="567"/>
                      </a:lnTo>
                      <a:lnTo>
                        <a:pt x="3090" y="584"/>
                      </a:lnTo>
                      <a:lnTo>
                        <a:pt x="3090" y="599"/>
                      </a:lnTo>
                      <a:lnTo>
                        <a:pt x="3090" y="614"/>
                      </a:lnTo>
                      <a:lnTo>
                        <a:pt x="3090" y="631"/>
                      </a:lnTo>
                      <a:lnTo>
                        <a:pt x="3076" y="631"/>
                      </a:lnTo>
                      <a:lnTo>
                        <a:pt x="3062" y="614"/>
                      </a:lnTo>
                      <a:lnTo>
                        <a:pt x="3048" y="599"/>
                      </a:lnTo>
                      <a:lnTo>
                        <a:pt x="3020" y="567"/>
                      </a:lnTo>
                      <a:lnTo>
                        <a:pt x="2978" y="552"/>
                      </a:lnTo>
                      <a:lnTo>
                        <a:pt x="2950" y="520"/>
                      </a:lnTo>
                      <a:lnTo>
                        <a:pt x="2936" y="505"/>
                      </a:lnTo>
                      <a:lnTo>
                        <a:pt x="2922" y="488"/>
                      </a:lnTo>
                      <a:lnTo>
                        <a:pt x="2922" y="473"/>
                      </a:lnTo>
                      <a:lnTo>
                        <a:pt x="2936" y="456"/>
                      </a:lnTo>
                      <a:lnTo>
                        <a:pt x="2936" y="409"/>
                      </a:lnTo>
                      <a:lnTo>
                        <a:pt x="2922" y="377"/>
                      </a:lnTo>
                      <a:lnTo>
                        <a:pt x="2895" y="330"/>
                      </a:lnTo>
                      <a:lnTo>
                        <a:pt x="2895" y="347"/>
                      </a:lnTo>
                      <a:lnTo>
                        <a:pt x="2908" y="362"/>
                      </a:lnTo>
                      <a:lnTo>
                        <a:pt x="2908" y="377"/>
                      </a:lnTo>
                      <a:lnTo>
                        <a:pt x="2895" y="394"/>
                      </a:lnTo>
                      <a:lnTo>
                        <a:pt x="2895" y="377"/>
                      </a:lnTo>
                      <a:lnTo>
                        <a:pt x="2881" y="362"/>
                      </a:lnTo>
                      <a:lnTo>
                        <a:pt x="2867" y="362"/>
                      </a:lnTo>
                      <a:lnTo>
                        <a:pt x="2839" y="347"/>
                      </a:lnTo>
                      <a:lnTo>
                        <a:pt x="2812" y="362"/>
                      </a:lnTo>
                      <a:lnTo>
                        <a:pt x="2812" y="409"/>
                      </a:lnTo>
                      <a:lnTo>
                        <a:pt x="2825" y="409"/>
                      </a:lnTo>
                      <a:lnTo>
                        <a:pt x="2839" y="409"/>
                      </a:lnTo>
                      <a:lnTo>
                        <a:pt x="2853" y="426"/>
                      </a:lnTo>
                      <a:lnTo>
                        <a:pt x="2839" y="426"/>
                      </a:lnTo>
                      <a:lnTo>
                        <a:pt x="2825" y="426"/>
                      </a:lnTo>
                      <a:lnTo>
                        <a:pt x="2812" y="426"/>
                      </a:lnTo>
                      <a:lnTo>
                        <a:pt x="2798" y="426"/>
                      </a:lnTo>
                      <a:lnTo>
                        <a:pt x="2770" y="426"/>
                      </a:lnTo>
                      <a:lnTo>
                        <a:pt x="2756" y="409"/>
                      </a:lnTo>
                      <a:lnTo>
                        <a:pt x="2742" y="409"/>
                      </a:lnTo>
                      <a:lnTo>
                        <a:pt x="2729" y="409"/>
                      </a:lnTo>
                      <a:lnTo>
                        <a:pt x="2701" y="426"/>
                      </a:lnTo>
                      <a:lnTo>
                        <a:pt x="2659" y="441"/>
                      </a:lnTo>
                      <a:lnTo>
                        <a:pt x="2632" y="456"/>
                      </a:lnTo>
                      <a:lnTo>
                        <a:pt x="2632" y="473"/>
                      </a:lnTo>
                      <a:lnTo>
                        <a:pt x="2618" y="473"/>
                      </a:lnTo>
                      <a:lnTo>
                        <a:pt x="2618" y="488"/>
                      </a:lnTo>
                      <a:lnTo>
                        <a:pt x="2604" y="520"/>
                      </a:lnTo>
                      <a:lnTo>
                        <a:pt x="2604" y="535"/>
                      </a:lnTo>
                      <a:lnTo>
                        <a:pt x="2618" y="552"/>
                      </a:lnTo>
                      <a:lnTo>
                        <a:pt x="2659" y="567"/>
                      </a:lnTo>
                      <a:lnTo>
                        <a:pt x="2673" y="567"/>
                      </a:lnTo>
                      <a:lnTo>
                        <a:pt x="2687" y="552"/>
                      </a:lnTo>
                      <a:lnTo>
                        <a:pt x="2701" y="552"/>
                      </a:lnTo>
                      <a:lnTo>
                        <a:pt x="2715" y="552"/>
                      </a:lnTo>
                      <a:lnTo>
                        <a:pt x="2729" y="567"/>
                      </a:lnTo>
                      <a:lnTo>
                        <a:pt x="2742" y="567"/>
                      </a:lnTo>
                      <a:lnTo>
                        <a:pt x="2729" y="584"/>
                      </a:lnTo>
                      <a:lnTo>
                        <a:pt x="2742" y="584"/>
                      </a:lnTo>
                      <a:lnTo>
                        <a:pt x="2756" y="599"/>
                      </a:lnTo>
                      <a:lnTo>
                        <a:pt x="2770" y="599"/>
                      </a:lnTo>
                      <a:lnTo>
                        <a:pt x="2770" y="614"/>
                      </a:lnTo>
                      <a:lnTo>
                        <a:pt x="2770" y="631"/>
                      </a:lnTo>
                      <a:lnTo>
                        <a:pt x="2770" y="646"/>
                      </a:lnTo>
                      <a:lnTo>
                        <a:pt x="2784" y="662"/>
                      </a:lnTo>
                      <a:lnTo>
                        <a:pt x="2798" y="678"/>
                      </a:lnTo>
                      <a:lnTo>
                        <a:pt x="2812" y="693"/>
                      </a:lnTo>
                      <a:lnTo>
                        <a:pt x="2812" y="710"/>
                      </a:lnTo>
                      <a:lnTo>
                        <a:pt x="2798" y="710"/>
                      </a:lnTo>
                      <a:lnTo>
                        <a:pt x="2798" y="757"/>
                      </a:lnTo>
                      <a:lnTo>
                        <a:pt x="2784" y="804"/>
                      </a:lnTo>
                      <a:lnTo>
                        <a:pt x="2770" y="851"/>
                      </a:lnTo>
                      <a:lnTo>
                        <a:pt x="2756" y="851"/>
                      </a:lnTo>
                      <a:lnTo>
                        <a:pt x="2742" y="835"/>
                      </a:lnTo>
                      <a:lnTo>
                        <a:pt x="2729" y="835"/>
                      </a:lnTo>
                      <a:lnTo>
                        <a:pt x="2729" y="851"/>
                      </a:lnTo>
                      <a:lnTo>
                        <a:pt x="2715" y="867"/>
                      </a:lnTo>
                      <a:lnTo>
                        <a:pt x="2715" y="883"/>
                      </a:lnTo>
                      <a:lnTo>
                        <a:pt x="2715" y="899"/>
                      </a:lnTo>
                      <a:lnTo>
                        <a:pt x="2701" y="914"/>
                      </a:lnTo>
                      <a:lnTo>
                        <a:pt x="2701" y="930"/>
                      </a:lnTo>
                      <a:lnTo>
                        <a:pt x="2715" y="961"/>
                      </a:lnTo>
                      <a:lnTo>
                        <a:pt x="2742" y="993"/>
                      </a:lnTo>
                      <a:lnTo>
                        <a:pt x="2784" y="1040"/>
                      </a:lnTo>
                      <a:lnTo>
                        <a:pt x="2784" y="1072"/>
                      </a:lnTo>
                      <a:lnTo>
                        <a:pt x="2770" y="1087"/>
                      </a:lnTo>
                      <a:lnTo>
                        <a:pt x="2756" y="1087"/>
                      </a:lnTo>
                      <a:lnTo>
                        <a:pt x="2742" y="1104"/>
                      </a:lnTo>
                      <a:lnTo>
                        <a:pt x="2729" y="1087"/>
                      </a:lnTo>
                      <a:lnTo>
                        <a:pt x="2729" y="1072"/>
                      </a:lnTo>
                      <a:lnTo>
                        <a:pt x="2729" y="1040"/>
                      </a:lnTo>
                      <a:lnTo>
                        <a:pt x="2715" y="1008"/>
                      </a:lnTo>
                      <a:lnTo>
                        <a:pt x="2715" y="993"/>
                      </a:lnTo>
                      <a:lnTo>
                        <a:pt x="2701" y="993"/>
                      </a:lnTo>
                      <a:lnTo>
                        <a:pt x="2687" y="978"/>
                      </a:lnTo>
                      <a:lnTo>
                        <a:pt x="2673" y="978"/>
                      </a:lnTo>
                      <a:lnTo>
                        <a:pt x="2659" y="978"/>
                      </a:lnTo>
                      <a:lnTo>
                        <a:pt x="2646" y="961"/>
                      </a:lnTo>
                      <a:lnTo>
                        <a:pt x="2646" y="946"/>
                      </a:lnTo>
                      <a:lnTo>
                        <a:pt x="2632" y="930"/>
                      </a:lnTo>
                      <a:lnTo>
                        <a:pt x="2618" y="961"/>
                      </a:lnTo>
                      <a:lnTo>
                        <a:pt x="2590" y="961"/>
                      </a:lnTo>
                      <a:lnTo>
                        <a:pt x="2590" y="946"/>
                      </a:lnTo>
                      <a:lnTo>
                        <a:pt x="2590" y="930"/>
                      </a:lnTo>
                      <a:lnTo>
                        <a:pt x="2576" y="914"/>
                      </a:lnTo>
                      <a:lnTo>
                        <a:pt x="2563" y="914"/>
                      </a:lnTo>
                      <a:lnTo>
                        <a:pt x="2549" y="930"/>
                      </a:lnTo>
                      <a:lnTo>
                        <a:pt x="2521" y="961"/>
                      </a:lnTo>
                      <a:lnTo>
                        <a:pt x="2535" y="993"/>
                      </a:lnTo>
                      <a:lnTo>
                        <a:pt x="2563" y="1008"/>
                      </a:lnTo>
                      <a:lnTo>
                        <a:pt x="2576" y="1008"/>
                      </a:lnTo>
                      <a:lnTo>
                        <a:pt x="2576" y="993"/>
                      </a:lnTo>
                      <a:lnTo>
                        <a:pt x="2590" y="993"/>
                      </a:lnTo>
                      <a:lnTo>
                        <a:pt x="2604" y="993"/>
                      </a:lnTo>
                      <a:lnTo>
                        <a:pt x="2618" y="993"/>
                      </a:lnTo>
                      <a:lnTo>
                        <a:pt x="2632" y="993"/>
                      </a:lnTo>
                      <a:lnTo>
                        <a:pt x="2632" y="1008"/>
                      </a:lnTo>
                      <a:lnTo>
                        <a:pt x="2618" y="1040"/>
                      </a:lnTo>
                      <a:lnTo>
                        <a:pt x="2604" y="1057"/>
                      </a:lnTo>
                      <a:lnTo>
                        <a:pt x="2590" y="1072"/>
                      </a:lnTo>
                      <a:lnTo>
                        <a:pt x="2590" y="1087"/>
                      </a:lnTo>
                      <a:lnTo>
                        <a:pt x="2604" y="1104"/>
                      </a:lnTo>
                      <a:lnTo>
                        <a:pt x="2618" y="1119"/>
                      </a:lnTo>
                      <a:lnTo>
                        <a:pt x="2646" y="1151"/>
                      </a:lnTo>
                      <a:lnTo>
                        <a:pt x="2659" y="1151"/>
                      </a:lnTo>
                      <a:lnTo>
                        <a:pt x="2673" y="1166"/>
                      </a:lnTo>
                      <a:lnTo>
                        <a:pt x="2659" y="1166"/>
                      </a:lnTo>
                      <a:lnTo>
                        <a:pt x="2632" y="1151"/>
                      </a:lnTo>
                      <a:lnTo>
                        <a:pt x="2618" y="1151"/>
                      </a:lnTo>
                      <a:lnTo>
                        <a:pt x="2632" y="1166"/>
                      </a:lnTo>
                      <a:lnTo>
                        <a:pt x="2646" y="1166"/>
                      </a:lnTo>
                      <a:lnTo>
                        <a:pt x="2659" y="1183"/>
                      </a:lnTo>
                      <a:lnTo>
                        <a:pt x="2673" y="1183"/>
                      </a:lnTo>
                      <a:lnTo>
                        <a:pt x="2673" y="1198"/>
                      </a:lnTo>
                      <a:lnTo>
                        <a:pt x="2659" y="1198"/>
                      </a:lnTo>
                      <a:lnTo>
                        <a:pt x="2646" y="1215"/>
                      </a:lnTo>
                      <a:lnTo>
                        <a:pt x="2659" y="1215"/>
                      </a:lnTo>
                      <a:lnTo>
                        <a:pt x="2673" y="1215"/>
                      </a:lnTo>
                      <a:lnTo>
                        <a:pt x="2687" y="1215"/>
                      </a:lnTo>
                      <a:lnTo>
                        <a:pt x="2701" y="1262"/>
                      </a:lnTo>
                      <a:lnTo>
                        <a:pt x="2687" y="1277"/>
                      </a:lnTo>
                      <a:lnTo>
                        <a:pt x="2687" y="1293"/>
                      </a:lnTo>
                      <a:lnTo>
                        <a:pt x="2659" y="1293"/>
                      </a:lnTo>
                      <a:lnTo>
                        <a:pt x="2659" y="1324"/>
                      </a:lnTo>
                      <a:lnTo>
                        <a:pt x="2673" y="1324"/>
                      </a:lnTo>
                      <a:lnTo>
                        <a:pt x="2659" y="1341"/>
                      </a:lnTo>
                      <a:lnTo>
                        <a:pt x="2659" y="1356"/>
                      </a:lnTo>
                      <a:lnTo>
                        <a:pt x="2646" y="1372"/>
                      </a:lnTo>
                      <a:lnTo>
                        <a:pt x="2632" y="1388"/>
                      </a:lnTo>
                      <a:lnTo>
                        <a:pt x="2618" y="1388"/>
                      </a:lnTo>
                      <a:lnTo>
                        <a:pt x="2590" y="1403"/>
                      </a:lnTo>
                      <a:lnTo>
                        <a:pt x="2576" y="1419"/>
                      </a:lnTo>
                      <a:lnTo>
                        <a:pt x="2563" y="1435"/>
                      </a:lnTo>
                      <a:lnTo>
                        <a:pt x="2549" y="1435"/>
                      </a:lnTo>
                      <a:lnTo>
                        <a:pt x="2535" y="1435"/>
                      </a:lnTo>
                      <a:lnTo>
                        <a:pt x="2521" y="1451"/>
                      </a:lnTo>
                      <a:lnTo>
                        <a:pt x="2507" y="1451"/>
                      </a:lnTo>
                      <a:lnTo>
                        <a:pt x="2507" y="1466"/>
                      </a:lnTo>
                      <a:lnTo>
                        <a:pt x="2493" y="1482"/>
                      </a:lnTo>
                      <a:lnTo>
                        <a:pt x="2493" y="1466"/>
                      </a:lnTo>
                      <a:lnTo>
                        <a:pt x="2493" y="1451"/>
                      </a:lnTo>
                      <a:lnTo>
                        <a:pt x="2452" y="1451"/>
                      </a:lnTo>
                      <a:lnTo>
                        <a:pt x="2424" y="1466"/>
                      </a:lnTo>
                      <a:lnTo>
                        <a:pt x="2410" y="1498"/>
                      </a:lnTo>
                      <a:lnTo>
                        <a:pt x="2424" y="1545"/>
                      </a:lnTo>
                      <a:lnTo>
                        <a:pt x="2452" y="1577"/>
                      </a:lnTo>
                      <a:lnTo>
                        <a:pt x="2493" y="1624"/>
                      </a:lnTo>
                      <a:lnTo>
                        <a:pt x="2493" y="1656"/>
                      </a:lnTo>
                      <a:lnTo>
                        <a:pt x="2493" y="1703"/>
                      </a:lnTo>
                      <a:lnTo>
                        <a:pt x="2480" y="1735"/>
                      </a:lnTo>
                      <a:lnTo>
                        <a:pt x="2480" y="1750"/>
                      </a:lnTo>
                      <a:lnTo>
                        <a:pt x="2466" y="1767"/>
                      </a:lnTo>
                      <a:lnTo>
                        <a:pt x="2452" y="1767"/>
                      </a:lnTo>
                      <a:lnTo>
                        <a:pt x="2438" y="1767"/>
                      </a:lnTo>
                      <a:lnTo>
                        <a:pt x="2424" y="1782"/>
                      </a:lnTo>
                      <a:lnTo>
                        <a:pt x="2424" y="1797"/>
                      </a:lnTo>
                      <a:lnTo>
                        <a:pt x="2410" y="1782"/>
                      </a:lnTo>
                      <a:lnTo>
                        <a:pt x="2410" y="1767"/>
                      </a:lnTo>
                      <a:lnTo>
                        <a:pt x="2410" y="1750"/>
                      </a:lnTo>
                      <a:lnTo>
                        <a:pt x="2397" y="1735"/>
                      </a:lnTo>
                      <a:lnTo>
                        <a:pt x="2383" y="1718"/>
                      </a:lnTo>
                      <a:lnTo>
                        <a:pt x="2369" y="1718"/>
                      </a:lnTo>
                      <a:lnTo>
                        <a:pt x="2355" y="1703"/>
                      </a:lnTo>
                      <a:lnTo>
                        <a:pt x="2341" y="1703"/>
                      </a:lnTo>
                      <a:lnTo>
                        <a:pt x="2327" y="1688"/>
                      </a:lnTo>
                      <a:lnTo>
                        <a:pt x="2314" y="1671"/>
                      </a:lnTo>
                      <a:lnTo>
                        <a:pt x="2314" y="1718"/>
                      </a:lnTo>
                      <a:lnTo>
                        <a:pt x="2314" y="1750"/>
                      </a:lnTo>
                      <a:lnTo>
                        <a:pt x="2314" y="1797"/>
                      </a:lnTo>
                      <a:lnTo>
                        <a:pt x="2327" y="1846"/>
                      </a:lnTo>
                      <a:lnTo>
                        <a:pt x="2341" y="1846"/>
                      </a:lnTo>
                      <a:lnTo>
                        <a:pt x="2355" y="1861"/>
                      </a:lnTo>
                      <a:lnTo>
                        <a:pt x="2369" y="1861"/>
                      </a:lnTo>
                      <a:lnTo>
                        <a:pt x="2383" y="1893"/>
                      </a:lnTo>
                      <a:lnTo>
                        <a:pt x="2397" y="1893"/>
                      </a:lnTo>
                      <a:lnTo>
                        <a:pt x="2397" y="1908"/>
                      </a:lnTo>
                      <a:lnTo>
                        <a:pt x="2397" y="1924"/>
                      </a:lnTo>
                      <a:lnTo>
                        <a:pt x="2397" y="1955"/>
                      </a:lnTo>
                      <a:lnTo>
                        <a:pt x="2397" y="1971"/>
                      </a:lnTo>
                      <a:lnTo>
                        <a:pt x="2410" y="1987"/>
                      </a:lnTo>
                      <a:lnTo>
                        <a:pt x="2410" y="2003"/>
                      </a:lnTo>
                      <a:lnTo>
                        <a:pt x="2397" y="2003"/>
                      </a:lnTo>
                      <a:lnTo>
                        <a:pt x="2383" y="1987"/>
                      </a:lnTo>
                      <a:lnTo>
                        <a:pt x="2369" y="1971"/>
                      </a:lnTo>
                      <a:lnTo>
                        <a:pt x="2355" y="1955"/>
                      </a:lnTo>
                      <a:lnTo>
                        <a:pt x="2355" y="1940"/>
                      </a:lnTo>
                      <a:lnTo>
                        <a:pt x="2341" y="1908"/>
                      </a:lnTo>
                      <a:lnTo>
                        <a:pt x="2327" y="1861"/>
                      </a:lnTo>
                      <a:lnTo>
                        <a:pt x="2314" y="1829"/>
                      </a:lnTo>
                      <a:lnTo>
                        <a:pt x="2300" y="1829"/>
                      </a:lnTo>
                      <a:lnTo>
                        <a:pt x="2286" y="1814"/>
                      </a:lnTo>
                      <a:lnTo>
                        <a:pt x="2286" y="1797"/>
                      </a:lnTo>
                      <a:lnTo>
                        <a:pt x="2286" y="1767"/>
                      </a:lnTo>
                      <a:lnTo>
                        <a:pt x="2286" y="1750"/>
                      </a:lnTo>
                      <a:lnTo>
                        <a:pt x="2286" y="1718"/>
                      </a:lnTo>
                      <a:lnTo>
                        <a:pt x="2272" y="1688"/>
                      </a:lnTo>
                      <a:lnTo>
                        <a:pt x="2272" y="1656"/>
                      </a:lnTo>
                      <a:lnTo>
                        <a:pt x="2272" y="1671"/>
                      </a:lnTo>
                      <a:lnTo>
                        <a:pt x="2258" y="1624"/>
                      </a:lnTo>
                      <a:lnTo>
                        <a:pt x="2244" y="1592"/>
                      </a:lnTo>
                      <a:lnTo>
                        <a:pt x="2231" y="1561"/>
                      </a:lnTo>
                      <a:lnTo>
                        <a:pt x="2217" y="1561"/>
                      </a:lnTo>
                      <a:lnTo>
                        <a:pt x="2217" y="1577"/>
                      </a:lnTo>
                      <a:lnTo>
                        <a:pt x="2217" y="1592"/>
                      </a:lnTo>
                      <a:lnTo>
                        <a:pt x="2203" y="1609"/>
                      </a:lnTo>
                      <a:lnTo>
                        <a:pt x="2188" y="1609"/>
                      </a:lnTo>
                      <a:lnTo>
                        <a:pt x="2174" y="1592"/>
                      </a:lnTo>
                      <a:lnTo>
                        <a:pt x="2188" y="1577"/>
                      </a:lnTo>
                      <a:lnTo>
                        <a:pt x="2188" y="1561"/>
                      </a:lnTo>
                      <a:lnTo>
                        <a:pt x="2160" y="1530"/>
                      </a:lnTo>
                      <a:lnTo>
                        <a:pt x="2132" y="1482"/>
                      </a:lnTo>
                      <a:lnTo>
                        <a:pt x="2119" y="1451"/>
                      </a:lnTo>
                      <a:lnTo>
                        <a:pt x="2119" y="1435"/>
                      </a:lnTo>
                      <a:lnTo>
                        <a:pt x="2105" y="1419"/>
                      </a:lnTo>
                      <a:lnTo>
                        <a:pt x="2105" y="1403"/>
                      </a:lnTo>
                      <a:lnTo>
                        <a:pt x="2091" y="1403"/>
                      </a:lnTo>
                      <a:lnTo>
                        <a:pt x="2077" y="1403"/>
                      </a:lnTo>
                      <a:lnTo>
                        <a:pt x="2063" y="1388"/>
                      </a:lnTo>
                      <a:lnTo>
                        <a:pt x="2049" y="1372"/>
                      </a:lnTo>
                      <a:lnTo>
                        <a:pt x="2049" y="1388"/>
                      </a:lnTo>
                      <a:lnTo>
                        <a:pt x="2063" y="1403"/>
                      </a:lnTo>
                      <a:lnTo>
                        <a:pt x="2077" y="1403"/>
                      </a:lnTo>
                      <a:lnTo>
                        <a:pt x="2077" y="1419"/>
                      </a:lnTo>
                      <a:lnTo>
                        <a:pt x="2077" y="1435"/>
                      </a:lnTo>
                      <a:lnTo>
                        <a:pt x="2063" y="1435"/>
                      </a:lnTo>
                      <a:lnTo>
                        <a:pt x="2049" y="1435"/>
                      </a:lnTo>
                      <a:lnTo>
                        <a:pt x="2036" y="1451"/>
                      </a:lnTo>
                      <a:lnTo>
                        <a:pt x="2022" y="1466"/>
                      </a:lnTo>
                      <a:lnTo>
                        <a:pt x="2008" y="1482"/>
                      </a:lnTo>
                      <a:lnTo>
                        <a:pt x="1994" y="1498"/>
                      </a:lnTo>
                      <a:lnTo>
                        <a:pt x="1980" y="1498"/>
                      </a:lnTo>
                      <a:lnTo>
                        <a:pt x="1980" y="1513"/>
                      </a:lnTo>
                      <a:lnTo>
                        <a:pt x="1966" y="1530"/>
                      </a:lnTo>
                      <a:lnTo>
                        <a:pt x="1939" y="1561"/>
                      </a:lnTo>
                      <a:lnTo>
                        <a:pt x="1911" y="1577"/>
                      </a:lnTo>
                      <a:lnTo>
                        <a:pt x="1883" y="1609"/>
                      </a:lnTo>
                      <a:lnTo>
                        <a:pt x="1883" y="1624"/>
                      </a:lnTo>
                      <a:lnTo>
                        <a:pt x="1883" y="1639"/>
                      </a:lnTo>
                      <a:lnTo>
                        <a:pt x="1870" y="1688"/>
                      </a:lnTo>
                      <a:lnTo>
                        <a:pt x="1856" y="1735"/>
                      </a:lnTo>
                      <a:lnTo>
                        <a:pt x="1842" y="1767"/>
                      </a:lnTo>
                      <a:lnTo>
                        <a:pt x="1828" y="1797"/>
                      </a:lnTo>
                      <a:lnTo>
                        <a:pt x="1814" y="1797"/>
                      </a:lnTo>
                      <a:lnTo>
                        <a:pt x="1814" y="1782"/>
                      </a:lnTo>
                      <a:lnTo>
                        <a:pt x="1814" y="1767"/>
                      </a:lnTo>
                      <a:lnTo>
                        <a:pt x="1800" y="1750"/>
                      </a:lnTo>
                      <a:lnTo>
                        <a:pt x="1800" y="1718"/>
                      </a:lnTo>
                      <a:lnTo>
                        <a:pt x="1787" y="1703"/>
                      </a:lnTo>
                      <a:lnTo>
                        <a:pt x="1773" y="1688"/>
                      </a:lnTo>
                      <a:lnTo>
                        <a:pt x="1787" y="1688"/>
                      </a:lnTo>
                      <a:lnTo>
                        <a:pt x="1773" y="1671"/>
                      </a:lnTo>
                      <a:lnTo>
                        <a:pt x="1773" y="1639"/>
                      </a:lnTo>
                      <a:lnTo>
                        <a:pt x="1759" y="1639"/>
                      </a:lnTo>
                      <a:lnTo>
                        <a:pt x="1759" y="1624"/>
                      </a:lnTo>
                      <a:lnTo>
                        <a:pt x="1745" y="1609"/>
                      </a:lnTo>
                      <a:lnTo>
                        <a:pt x="1745" y="1592"/>
                      </a:lnTo>
                      <a:lnTo>
                        <a:pt x="1745" y="1577"/>
                      </a:lnTo>
                      <a:lnTo>
                        <a:pt x="1731" y="1545"/>
                      </a:lnTo>
                      <a:lnTo>
                        <a:pt x="1718" y="1482"/>
                      </a:lnTo>
                      <a:lnTo>
                        <a:pt x="1704" y="1451"/>
                      </a:lnTo>
                      <a:lnTo>
                        <a:pt x="1690" y="1451"/>
                      </a:lnTo>
                      <a:lnTo>
                        <a:pt x="1690" y="1466"/>
                      </a:lnTo>
                      <a:lnTo>
                        <a:pt x="1676" y="1466"/>
                      </a:lnTo>
                      <a:lnTo>
                        <a:pt x="1662" y="1466"/>
                      </a:lnTo>
                      <a:lnTo>
                        <a:pt x="1648" y="1451"/>
                      </a:lnTo>
                      <a:lnTo>
                        <a:pt x="1635" y="1419"/>
                      </a:lnTo>
                      <a:lnTo>
                        <a:pt x="1648" y="1419"/>
                      </a:lnTo>
                      <a:lnTo>
                        <a:pt x="1662" y="1419"/>
                      </a:lnTo>
                      <a:lnTo>
                        <a:pt x="1662" y="1403"/>
                      </a:lnTo>
                      <a:lnTo>
                        <a:pt x="1648" y="1388"/>
                      </a:lnTo>
                      <a:lnTo>
                        <a:pt x="1635" y="1388"/>
                      </a:lnTo>
                      <a:lnTo>
                        <a:pt x="1621" y="1388"/>
                      </a:lnTo>
                      <a:lnTo>
                        <a:pt x="1607" y="1372"/>
                      </a:lnTo>
                      <a:lnTo>
                        <a:pt x="1593" y="1356"/>
                      </a:lnTo>
                      <a:lnTo>
                        <a:pt x="1579" y="1356"/>
                      </a:lnTo>
                      <a:lnTo>
                        <a:pt x="1579" y="1341"/>
                      </a:lnTo>
                      <a:lnTo>
                        <a:pt x="1565" y="1341"/>
                      </a:lnTo>
                      <a:lnTo>
                        <a:pt x="1538" y="1324"/>
                      </a:lnTo>
                      <a:lnTo>
                        <a:pt x="1496" y="1324"/>
                      </a:lnTo>
                      <a:lnTo>
                        <a:pt x="1455" y="1324"/>
                      </a:lnTo>
                      <a:lnTo>
                        <a:pt x="1413" y="1309"/>
                      </a:lnTo>
                      <a:lnTo>
                        <a:pt x="1370" y="1309"/>
                      </a:lnTo>
                      <a:lnTo>
                        <a:pt x="1370" y="1293"/>
                      </a:lnTo>
                      <a:lnTo>
                        <a:pt x="1343" y="1293"/>
                      </a:lnTo>
                      <a:lnTo>
                        <a:pt x="1329" y="1309"/>
                      </a:lnTo>
                      <a:lnTo>
                        <a:pt x="1301" y="1309"/>
                      </a:lnTo>
                      <a:lnTo>
                        <a:pt x="1301" y="1293"/>
                      </a:lnTo>
                      <a:lnTo>
                        <a:pt x="1287" y="1293"/>
                      </a:lnTo>
                      <a:lnTo>
                        <a:pt x="1274" y="1277"/>
                      </a:lnTo>
                      <a:lnTo>
                        <a:pt x="1260" y="1277"/>
                      </a:lnTo>
                      <a:lnTo>
                        <a:pt x="1260" y="1262"/>
                      </a:lnTo>
                      <a:lnTo>
                        <a:pt x="1246" y="1245"/>
                      </a:lnTo>
                      <a:lnTo>
                        <a:pt x="1232" y="1230"/>
                      </a:lnTo>
                      <a:lnTo>
                        <a:pt x="1218" y="1215"/>
                      </a:lnTo>
                      <a:lnTo>
                        <a:pt x="1204" y="1215"/>
                      </a:lnTo>
                      <a:lnTo>
                        <a:pt x="1191" y="1215"/>
                      </a:lnTo>
                      <a:lnTo>
                        <a:pt x="1191" y="1245"/>
                      </a:lnTo>
                      <a:lnTo>
                        <a:pt x="1218" y="1293"/>
                      </a:lnTo>
                      <a:lnTo>
                        <a:pt x="1232" y="1309"/>
                      </a:lnTo>
                      <a:lnTo>
                        <a:pt x="1246" y="1324"/>
                      </a:lnTo>
                      <a:lnTo>
                        <a:pt x="1246" y="1341"/>
                      </a:lnTo>
                      <a:lnTo>
                        <a:pt x="1246" y="1356"/>
                      </a:lnTo>
                      <a:lnTo>
                        <a:pt x="1260" y="1356"/>
                      </a:lnTo>
                      <a:lnTo>
                        <a:pt x="1260" y="1341"/>
                      </a:lnTo>
                      <a:lnTo>
                        <a:pt x="1260" y="1324"/>
                      </a:lnTo>
                      <a:lnTo>
                        <a:pt x="1287" y="1309"/>
                      </a:lnTo>
                      <a:lnTo>
                        <a:pt x="1329" y="1309"/>
                      </a:lnTo>
                      <a:lnTo>
                        <a:pt x="1357" y="1309"/>
                      </a:lnTo>
                      <a:lnTo>
                        <a:pt x="1370" y="1324"/>
                      </a:lnTo>
                      <a:lnTo>
                        <a:pt x="1370" y="1341"/>
                      </a:lnTo>
                      <a:lnTo>
                        <a:pt x="1370" y="1372"/>
                      </a:lnTo>
                      <a:lnTo>
                        <a:pt x="1384" y="1372"/>
                      </a:lnTo>
                      <a:lnTo>
                        <a:pt x="1384" y="1388"/>
                      </a:lnTo>
                      <a:lnTo>
                        <a:pt x="1413" y="1388"/>
                      </a:lnTo>
                      <a:lnTo>
                        <a:pt x="1427" y="1403"/>
                      </a:lnTo>
                      <a:lnTo>
                        <a:pt x="1441" y="1435"/>
                      </a:lnTo>
                      <a:lnTo>
                        <a:pt x="1441" y="1451"/>
                      </a:lnTo>
                      <a:lnTo>
                        <a:pt x="1427" y="1466"/>
                      </a:lnTo>
                      <a:lnTo>
                        <a:pt x="1427" y="1482"/>
                      </a:lnTo>
                      <a:lnTo>
                        <a:pt x="1413" y="1498"/>
                      </a:lnTo>
                      <a:lnTo>
                        <a:pt x="1413" y="1513"/>
                      </a:lnTo>
                      <a:lnTo>
                        <a:pt x="1399" y="1513"/>
                      </a:lnTo>
                      <a:lnTo>
                        <a:pt x="1384" y="1530"/>
                      </a:lnTo>
                      <a:lnTo>
                        <a:pt x="1370" y="1545"/>
                      </a:lnTo>
                      <a:lnTo>
                        <a:pt x="1357" y="1545"/>
                      </a:lnTo>
                      <a:lnTo>
                        <a:pt x="1343" y="1561"/>
                      </a:lnTo>
                      <a:lnTo>
                        <a:pt x="1315" y="1577"/>
                      </a:lnTo>
                      <a:lnTo>
                        <a:pt x="1301" y="1592"/>
                      </a:lnTo>
                      <a:lnTo>
                        <a:pt x="1287" y="1592"/>
                      </a:lnTo>
                      <a:lnTo>
                        <a:pt x="1287" y="1609"/>
                      </a:lnTo>
                      <a:lnTo>
                        <a:pt x="1287" y="1624"/>
                      </a:lnTo>
                      <a:lnTo>
                        <a:pt x="1274" y="1624"/>
                      </a:lnTo>
                      <a:lnTo>
                        <a:pt x="1260" y="1624"/>
                      </a:lnTo>
                      <a:lnTo>
                        <a:pt x="1246" y="1639"/>
                      </a:lnTo>
                      <a:lnTo>
                        <a:pt x="1232" y="1639"/>
                      </a:lnTo>
                      <a:lnTo>
                        <a:pt x="1232" y="1656"/>
                      </a:lnTo>
                      <a:lnTo>
                        <a:pt x="1218" y="1656"/>
                      </a:lnTo>
                      <a:lnTo>
                        <a:pt x="1204" y="1656"/>
                      </a:lnTo>
                      <a:lnTo>
                        <a:pt x="1191" y="1671"/>
                      </a:lnTo>
                      <a:lnTo>
                        <a:pt x="1163" y="1671"/>
                      </a:lnTo>
                      <a:lnTo>
                        <a:pt x="1149" y="1688"/>
                      </a:lnTo>
                      <a:lnTo>
                        <a:pt x="1121" y="1688"/>
                      </a:lnTo>
                      <a:lnTo>
                        <a:pt x="1108" y="1671"/>
                      </a:lnTo>
                      <a:lnTo>
                        <a:pt x="1108" y="1639"/>
                      </a:lnTo>
                      <a:lnTo>
                        <a:pt x="1108" y="1592"/>
                      </a:lnTo>
                      <a:lnTo>
                        <a:pt x="1094" y="1561"/>
                      </a:lnTo>
                      <a:lnTo>
                        <a:pt x="1080" y="1545"/>
                      </a:lnTo>
                      <a:lnTo>
                        <a:pt x="1066" y="1530"/>
                      </a:lnTo>
                      <a:lnTo>
                        <a:pt x="1066" y="1513"/>
                      </a:lnTo>
                      <a:lnTo>
                        <a:pt x="1052" y="1498"/>
                      </a:lnTo>
                      <a:lnTo>
                        <a:pt x="1038" y="1482"/>
                      </a:lnTo>
                      <a:lnTo>
                        <a:pt x="1025" y="1466"/>
                      </a:lnTo>
                      <a:lnTo>
                        <a:pt x="1025" y="1451"/>
                      </a:lnTo>
                      <a:lnTo>
                        <a:pt x="1011" y="1451"/>
                      </a:lnTo>
                      <a:lnTo>
                        <a:pt x="1011" y="1435"/>
                      </a:lnTo>
                      <a:lnTo>
                        <a:pt x="997" y="1419"/>
                      </a:lnTo>
                      <a:lnTo>
                        <a:pt x="983" y="1388"/>
                      </a:lnTo>
                      <a:lnTo>
                        <a:pt x="983" y="1372"/>
                      </a:lnTo>
                      <a:lnTo>
                        <a:pt x="969" y="1356"/>
                      </a:lnTo>
                      <a:lnTo>
                        <a:pt x="969" y="1341"/>
                      </a:lnTo>
                      <a:lnTo>
                        <a:pt x="955" y="1324"/>
                      </a:lnTo>
                      <a:lnTo>
                        <a:pt x="942" y="1293"/>
                      </a:lnTo>
                      <a:lnTo>
                        <a:pt x="928" y="1262"/>
                      </a:lnTo>
                      <a:lnTo>
                        <a:pt x="914" y="1262"/>
                      </a:lnTo>
                      <a:lnTo>
                        <a:pt x="914" y="1277"/>
                      </a:lnTo>
                      <a:lnTo>
                        <a:pt x="900" y="1277"/>
                      </a:lnTo>
                      <a:lnTo>
                        <a:pt x="886" y="1262"/>
                      </a:lnTo>
                      <a:lnTo>
                        <a:pt x="872" y="1245"/>
                      </a:lnTo>
                      <a:lnTo>
                        <a:pt x="859" y="1230"/>
                      </a:lnTo>
                      <a:lnTo>
                        <a:pt x="859" y="1215"/>
                      </a:lnTo>
                      <a:lnTo>
                        <a:pt x="845" y="1183"/>
                      </a:lnTo>
                      <a:lnTo>
                        <a:pt x="845" y="1166"/>
                      </a:lnTo>
                      <a:lnTo>
                        <a:pt x="859" y="1151"/>
                      </a:lnTo>
                      <a:lnTo>
                        <a:pt x="886" y="1151"/>
                      </a:lnTo>
                      <a:lnTo>
                        <a:pt x="914" y="1136"/>
                      </a:lnTo>
                      <a:lnTo>
                        <a:pt x="928" y="1104"/>
                      </a:lnTo>
                      <a:lnTo>
                        <a:pt x="914" y="1057"/>
                      </a:lnTo>
                      <a:lnTo>
                        <a:pt x="900" y="1040"/>
                      </a:lnTo>
                      <a:lnTo>
                        <a:pt x="886" y="1040"/>
                      </a:lnTo>
                      <a:lnTo>
                        <a:pt x="872" y="1040"/>
                      </a:lnTo>
                      <a:lnTo>
                        <a:pt x="859" y="1057"/>
                      </a:lnTo>
                      <a:lnTo>
                        <a:pt x="845" y="1040"/>
                      </a:lnTo>
                      <a:lnTo>
                        <a:pt x="831" y="1040"/>
                      </a:lnTo>
                      <a:lnTo>
                        <a:pt x="817" y="1008"/>
                      </a:lnTo>
                      <a:lnTo>
                        <a:pt x="817" y="1040"/>
                      </a:lnTo>
                      <a:lnTo>
                        <a:pt x="803" y="1040"/>
                      </a:lnTo>
                      <a:lnTo>
                        <a:pt x="789" y="1057"/>
                      </a:lnTo>
                      <a:lnTo>
                        <a:pt x="776" y="1040"/>
                      </a:lnTo>
                      <a:lnTo>
                        <a:pt x="762" y="1040"/>
                      </a:lnTo>
                      <a:lnTo>
                        <a:pt x="748" y="1040"/>
                      </a:lnTo>
                      <a:lnTo>
                        <a:pt x="748" y="1008"/>
                      </a:lnTo>
                      <a:lnTo>
                        <a:pt x="762" y="1008"/>
                      </a:lnTo>
                      <a:lnTo>
                        <a:pt x="748" y="993"/>
                      </a:lnTo>
                      <a:lnTo>
                        <a:pt x="734" y="993"/>
                      </a:lnTo>
                      <a:lnTo>
                        <a:pt x="720" y="978"/>
                      </a:lnTo>
                      <a:lnTo>
                        <a:pt x="734" y="978"/>
                      </a:lnTo>
                      <a:lnTo>
                        <a:pt x="734" y="961"/>
                      </a:lnTo>
                      <a:lnTo>
                        <a:pt x="720" y="946"/>
                      </a:lnTo>
                      <a:lnTo>
                        <a:pt x="720" y="930"/>
                      </a:lnTo>
                      <a:lnTo>
                        <a:pt x="720" y="914"/>
                      </a:lnTo>
                      <a:lnTo>
                        <a:pt x="748" y="899"/>
                      </a:lnTo>
                      <a:lnTo>
                        <a:pt x="776" y="899"/>
                      </a:lnTo>
                      <a:lnTo>
                        <a:pt x="789" y="899"/>
                      </a:lnTo>
                      <a:lnTo>
                        <a:pt x="803" y="899"/>
                      </a:lnTo>
                      <a:lnTo>
                        <a:pt x="817" y="899"/>
                      </a:lnTo>
                      <a:lnTo>
                        <a:pt x="859" y="883"/>
                      </a:lnTo>
                      <a:lnTo>
                        <a:pt x="914" y="883"/>
                      </a:lnTo>
                      <a:lnTo>
                        <a:pt x="955" y="899"/>
                      </a:lnTo>
                      <a:lnTo>
                        <a:pt x="969" y="899"/>
                      </a:lnTo>
                      <a:lnTo>
                        <a:pt x="983" y="899"/>
                      </a:lnTo>
                      <a:lnTo>
                        <a:pt x="997" y="899"/>
                      </a:lnTo>
                      <a:lnTo>
                        <a:pt x="1011" y="883"/>
                      </a:lnTo>
                      <a:lnTo>
                        <a:pt x="997" y="867"/>
                      </a:lnTo>
                      <a:lnTo>
                        <a:pt x="969" y="835"/>
                      </a:lnTo>
                      <a:lnTo>
                        <a:pt x="942" y="820"/>
                      </a:lnTo>
                      <a:lnTo>
                        <a:pt x="928" y="804"/>
                      </a:lnTo>
                      <a:lnTo>
                        <a:pt x="914" y="804"/>
                      </a:lnTo>
                      <a:lnTo>
                        <a:pt x="900" y="788"/>
                      </a:lnTo>
                      <a:lnTo>
                        <a:pt x="900" y="772"/>
                      </a:lnTo>
                      <a:lnTo>
                        <a:pt x="914" y="772"/>
                      </a:lnTo>
                      <a:lnTo>
                        <a:pt x="928" y="772"/>
                      </a:lnTo>
                      <a:lnTo>
                        <a:pt x="928" y="757"/>
                      </a:lnTo>
                      <a:lnTo>
                        <a:pt x="914" y="757"/>
                      </a:lnTo>
                      <a:lnTo>
                        <a:pt x="914" y="741"/>
                      </a:lnTo>
                      <a:lnTo>
                        <a:pt x="928" y="741"/>
                      </a:lnTo>
                      <a:lnTo>
                        <a:pt x="942" y="741"/>
                      </a:lnTo>
                      <a:lnTo>
                        <a:pt x="942" y="725"/>
                      </a:lnTo>
                      <a:lnTo>
                        <a:pt x="928" y="741"/>
                      </a:lnTo>
                      <a:lnTo>
                        <a:pt x="900" y="741"/>
                      </a:lnTo>
                      <a:lnTo>
                        <a:pt x="872" y="741"/>
                      </a:lnTo>
                      <a:lnTo>
                        <a:pt x="859" y="757"/>
                      </a:lnTo>
                      <a:lnTo>
                        <a:pt x="872" y="772"/>
                      </a:lnTo>
                      <a:lnTo>
                        <a:pt x="886" y="772"/>
                      </a:lnTo>
                      <a:lnTo>
                        <a:pt x="900" y="788"/>
                      </a:lnTo>
                      <a:lnTo>
                        <a:pt x="872" y="804"/>
                      </a:lnTo>
                      <a:lnTo>
                        <a:pt x="845" y="804"/>
                      </a:lnTo>
                      <a:lnTo>
                        <a:pt x="817" y="788"/>
                      </a:lnTo>
                      <a:lnTo>
                        <a:pt x="831" y="772"/>
                      </a:lnTo>
                      <a:lnTo>
                        <a:pt x="845" y="772"/>
                      </a:lnTo>
                      <a:lnTo>
                        <a:pt x="817" y="757"/>
                      </a:lnTo>
                      <a:lnTo>
                        <a:pt x="803" y="757"/>
                      </a:lnTo>
                      <a:lnTo>
                        <a:pt x="803" y="725"/>
                      </a:lnTo>
                      <a:lnTo>
                        <a:pt x="803" y="741"/>
                      </a:lnTo>
                      <a:lnTo>
                        <a:pt x="789" y="772"/>
                      </a:lnTo>
                      <a:lnTo>
                        <a:pt x="776" y="772"/>
                      </a:lnTo>
                      <a:lnTo>
                        <a:pt x="762" y="788"/>
                      </a:lnTo>
                      <a:lnTo>
                        <a:pt x="762" y="820"/>
                      </a:lnTo>
                      <a:lnTo>
                        <a:pt x="748" y="867"/>
                      </a:lnTo>
                      <a:lnTo>
                        <a:pt x="734" y="899"/>
                      </a:lnTo>
                      <a:lnTo>
                        <a:pt x="706" y="930"/>
                      </a:lnTo>
                      <a:lnTo>
                        <a:pt x="679" y="930"/>
                      </a:lnTo>
                      <a:lnTo>
                        <a:pt x="651" y="961"/>
                      </a:lnTo>
                      <a:lnTo>
                        <a:pt x="665" y="961"/>
                      </a:lnTo>
                      <a:lnTo>
                        <a:pt x="679" y="978"/>
                      </a:lnTo>
                      <a:lnTo>
                        <a:pt x="665" y="993"/>
                      </a:lnTo>
                      <a:lnTo>
                        <a:pt x="651" y="993"/>
                      </a:lnTo>
                      <a:lnTo>
                        <a:pt x="651" y="1008"/>
                      </a:lnTo>
                      <a:lnTo>
                        <a:pt x="665" y="1008"/>
                      </a:lnTo>
                      <a:lnTo>
                        <a:pt x="665" y="1040"/>
                      </a:lnTo>
                      <a:lnTo>
                        <a:pt x="651" y="1008"/>
                      </a:lnTo>
                      <a:lnTo>
                        <a:pt x="637" y="1008"/>
                      </a:lnTo>
                      <a:lnTo>
                        <a:pt x="623" y="993"/>
                      </a:lnTo>
                      <a:lnTo>
                        <a:pt x="623" y="978"/>
                      </a:lnTo>
                      <a:lnTo>
                        <a:pt x="637" y="978"/>
                      </a:lnTo>
                      <a:lnTo>
                        <a:pt x="623" y="961"/>
                      </a:lnTo>
                      <a:lnTo>
                        <a:pt x="610" y="946"/>
                      </a:lnTo>
                      <a:lnTo>
                        <a:pt x="594" y="930"/>
                      </a:lnTo>
                      <a:lnTo>
                        <a:pt x="581" y="914"/>
                      </a:lnTo>
                      <a:lnTo>
                        <a:pt x="581" y="883"/>
                      </a:lnTo>
                      <a:lnTo>
                        <a:pt x="567" y="867"/>
                      </a:lnTo>
                      <a:lnTo>
                        <a:pt x="553" y="851"/>
                      </a:lnTo>
                      <a:lnTo>
                        <a:pt x="539" y="851"/>
                      </a:lnTo>
                      <a:lnTo>
                        <a:pt x="525" y="851"/>
                      </a:lnTo>
                      <a:lnTo>
                        <a:pt x="525" y="835"/>
                      </a:lnTo>
                      <a:lnTo>
                        <a:pt x="511" y="835"/>
                      </a:lnTo>
                      <a:lnTo>
                        <a:pt x="484" y="804"/>
                      </a:lnTo>
                      <a:lnTo>
                        <a:pt x="470" y="772"/>
                      </a:lnTo>
                      <a:lnTo>
                        <a:pt x="456" y="772"/>
                      </a:lnTo>
                      <a:lnTo>
                        <a:pt x="442" y="804"/>
                      </a:lnTo>
                      <a:lnTo>
                        <a:pt x="442" y="820"/>
                      </a:lnTo>
                      <a:lnTo>
                        <a:pt x="470" y="835"/>
                      </a:lnTo>
                      <a:lnTo>
                        <a:pt x="470" y="851"/>
                      </a:lnTo>
                      <a:lnTo>
                        <a:pt x="470" y="867"/>
                      </a:lnTo>
                      <a:lnTo>
                        <a:pt x="484" y="867"/>
                      </a:lnTo>
                      <a:lnTo>
                        <a:pt x="498" y="867"/>
                      </a:lnTo>
                      <a:lnTo>
                        <a:pt x="511" y="867"/>
                      </a:lnTo>
                      <a:lnTo>
                        <a:pt x="511" y="883"/>
                      </a:lnTo>
                      <a:lnTo>
                        <a:pt x="525" y="883"/>
                      </a:lnTo>
                      <a:lnTo>
                        <a:pt x="539" y="899"/>
                      </a:lnTo>
                      <a:lnTo>
                        <a:pt x="553" y="914"/>
                      </a:lnTo>
                      <a:lnTo>
                        <a:pt x="567" y="930"/>
                      </a:lnTo>
                      <a:lnTo>
                        <a:pt x="567" y="946"/>
                      </a:lnTo>
                      <a:lnTo>
                        <a:pt x="553" y="978"/>
                      </a:lnTo>
                      <a:lnTo>
                        <a:pt x="525" y="978"/>
                      </a:lnTo>
                      <a:lnTo>
                        <a:pt x="511" y="978"/>
                      </a:lnTo>
                      <a:lnTo>
                        <a:pt x="511" y="946"/>
                      </a:lnTo>
                      <a:lnTo>
                        <a:pt x="511" y="930"/>
                      </a:lnTo>
                      <a:lnTo>
                        <a:pt x="498" y="914"/>
                      </a:lnTo>
                      <a:lnTo>
                        <a:pt x="484" y="899"/>
                      </a:lnTo>
                      <a:lnTo>
                        <a:pt x="470" y="899"/>
                      </a:lnTo>
                      <a:lnTo>
                        <a:pt x="456" y="899"/>
                      </a:lnTo>
                      <a:lnTo>
                        <a:pt x="442" y="883"/>
                      </a:lnTo>
                      <a:lnTo>
                        <a:pt x="428" y="867"/>
                      </a:lnTo>
                      <a:lnTo>
                        <a:pt x="415" y="867"/>
                      </a:lnTo>
                      <a:lnTo>
                        <a:pt x="415" y="851"/>
                      </a:lnTo>
                      <a:lnTo>
                        <a:pt x="401" y="835"/>
                      </a:lnTo>
                      <a:lnTo>
                        <a:pt x="401" y="820"/>
                      </a:lnTo>
                      <a:lnTo>
                        <a:pt x="359" y="804"/>
                      </a:lnTo>
                      <a:lnTo>
                        <a:pt x="332" y="820"/>
                      </a:lnTo>
                      <a:lnTo>
                        <a:pt x="332" y="835"/>
                      </a:lnTo>
                      <a:lnTo>
                        <a:pt x="304" y="851"/>
                      </a:lnTo>
                      <a:lnTo>
                        <a:pt x="290" y="835"/>
                      </a:lnTo>
                      <a:lnTo>
                        <a:pt x="276" y="835"/>
                      </a:lnTo>
                      <a:lnTo>
                        <a:pt x="262" y="835"/>
                      </a:lnTo>
                      <a:lnTo>
                        <a:pt x="249" y="851"/>
                      </a:lnTo>
                      <a:lnTo>
                        <a:pt x="249" y="867"/>
                      </a:lnTo>
                      <a:lnTo>
                        <a:pt x="249" y="883"/>
                      </a:lnTo>
                      <a:lnTo>
                        <a:pt x="235" y="883"/>
                      </a:lnTo>
                      <a:lnTo>
                        <a:pt x="235" y="899"/>
                      </a:lnTo>
                      <a:lnTo>
                        <a:pt x="221" y="899"/>
                      </a:lnTo>
                      <a:lnTo>
                        <a:pt x="207" y="914"/>
                      </a:lnTo>
                      <a:lnTo>
                        <a:pt x="193" y="930"/>
                      </a:lnTo>
                      <a:lnTo>
                        <a:pt x="193" y="946"/>
                      </a:lnTo>
                      <a:lnTo>
                        <a:pt x="193" y="961"/>
                      </a:lnTo>
                      <a:lnTo>
                        <a:pt x="179" y="978"/>
                      </a:lnTo>
                      <a:lnTo>
                        <a:pt x="166" y="993"/>
                      </a:lnTo>
                      <a:lnTo>
                        <a:pt x="152" y="1008"/>
                      </a:lnTo>
                      <a:lnTo>
                        <a:pt x="138" y="1040"/>
                      </a:lnTo>
                      <a:lnTo>
                        <a:pt x="124" y="1008"/>
                      </a:lnTo>
                      <a:lnTo>
                        <a:pt x="96" y="1008"/>
                      </a:lnTo>
                      <a:lnTo>
                        <a:pt x="96" y="1040"/>
                      </a:lnTo>
                      <a:lnTo>
                        <a:pt x="83" y="1040"/>
                      </a:lnTo>
                      <a:lnTo>
                        <a:pt x="55" y="1057"/>
                      </a:lnTo>
                      <a:lnTo>
                        <a:pt x="41" y="1040"/>
                      </a:lnTo>
                      <a:lnTo>
                        <a:pt x="14" y="1008"/>
                      </a:lnTo>
                      <a:lnTo>
                        <a:pt x="0" y="993"/>
                      </a:lnTo>
                      <a:lnTo>
                        <a:pt x="0" y="978"/>
                      </a:lnTo>
                      <a:lnTo>
                        <a:pt x="0" y="961"/>
                      </a:lnTo>
                      <a:lnTo>
                        <a:pt x="14" y="946"/>
                      </a:lnTo>
                      <a:lnTo>
                        <a:pt x="14" y="930"/>
                      </a:lnTo>
                      <a:lnTo>
                        <a:pt x="27" y="914"/>
                      </a:lnTo>
                      <a:lnTo>
                        <a:pt x="27" y="883"/>
                      </a:lnTo>
                      <a:lnTo>
                        <a:pt x="14" y="851"/>
                      </a:lnTo>
                      <a:lnTo>
                        <a:pt x="41" y="820"/>
                      </a:lnTo>
                      <a:lnTo>
                        <a:pt x="55" y="835"/>
                      </a:lnTo>
                      <a:lnTo>
                        <a:pt x="96" y="835"/>
                      </a:lnTo>
                      <a:lnTo>
                        <a:pt x="138" y="820"/>
                      </a:lnTo>
                      <a:lnTo>
                        <a:pt x="166" y="804"/>
                      </a:lnTo>
                      <a:lnTo>
                        <a:pt x="179" y="772"/>
                      </a:lnTo>
                      <a:lnTo>
                        <a:pt x="166" y="757"/>
                      </a:lnTo>
                      <a:lnTo>
                        <a:pt x="138" y="725"/>
                      </a:lnTo>
                      <a:lnTo>
                        <a:pt x="110" y="710"/>
                      </a:lnTo>
                      <a:lnTo>
                        <a:pt x="96" y="693"/>
                      </a:lnTo>
                      <a:lnTo>
                        <a:pt x="110" y="693"/>
                      </a:lnTo>
                      <a:lnTo>
                        <a:pt x="124" y="693"/>
                      </a:lnTo>
                      <a:lnTo>
                        <a:pt x="138" y="678"/>
                      </a:lnTo>
                      <a:lnTo>
                        <a:pt x="152" y="678"/>
                      </a:lnTo>
                      <a:lnTo>
                        <a:pt x="152" y="662"/>
                      </a:lnTo>
                      <a:lnTo>
                        <a:pt x="166" y="662"/>
                      </a:lnTo>
                      <a:lnTo>
                        <a:pt x="179" y="678"/>
                      </a:lnTo>
                      <a:lnTo>
                        <a:pt x="193" y="678"/>
                      </a:lnTo>
                      <a:lnTo>
                        <a:pt x="207" y="662"/>
                      </a:lnTo>
                      <a:lnTo>
                        <a:pt x="221" y="646"/>
                      </a:lnTo>
                      <a:lnTo>
                        <a:pt x="235" y="631"/>
                      </a:lnTo>
                      <a:lnTo>
                        <a:pt x="249" y="631"/>
                      </a:lnTo>
                      <a:lnTo>
                        <a:pt x="262" y="614"/>
                      </a:lnTo>
                      <a:lnTo>
                        <a:pt x="262" y="599"/>
                      </a:lnTo>
                      <a:lnTo>
                        <a:pt x="276" y="584"/>
                      </a:lnTo>
                      <a:lnTo>
                        <a:pt x="290" y="584"/>
                      </a:lnTo>
                      <a:lnTo>
                        <a:pt x="304" y="584"/>
                      </a:lnTo>
                      <a:lnTo>
                        <a:pt x="318" y="567"/>
                      </a:lnTo>
                      <a:lnTo>
                        <a:pt x="359" y="552"/>
                      </a:lnTo>
                      <a:lnTo>
                        <a:pt x="359" y="535"/>
                      </a:lnTo>
                      <a:lnTo>
                        <a:pt x="332" y="520"/>
                      </a:lnTo>
                      <a:lnTo>
                        <a:pt x="332" y="505"/>
                      </a:lnTo>
                      <a:lnTo>
                        <a:pt x="332" y="488"/>
                      </a:lnTo>
                      <a:lnTo>
                        <a:pt x="359" y="488"/>
                      </a:lnTo>
                      <a:lnTo>
                        <a:pt x="359" y="473"/>
                      </a:lnTo>
                      <a:lnTo>
                        <a:pt x="373" y="473"/>
                      </a:lnTo>
                      <a:lnTo>
                        <a:pt x="387" y="456"/>
                      </a:lnTo>
                      <a:lnTo>
                        <a:pt x="387" y="473"/>
                      </a:lnTo>
                      <a:lnTo>
                        <a:pt x="373" y="473"/>
                      </a:lnTo>
                      <a:lnTo>
                        <a:pt x="373" y="505"/>
                      </a:lnTo>
                      <a:lnTo>
                        <a:pt x="373" y="535"/>
                      </a:lnTo>
                      <a:lnTo>
                        <a:pt x="401" y="552"/>
                      </a:lnTo>
                      <a:lnTo>
                        <a:pt x="415" y="552"/>
                      </a:lnTo>
                      <a:lnTo>
                        <a:pt x="428" y="552"/>
                      </a:lnTo>
                      <a:lnTo>
                        <a:pt x="442" y="552"/>
                      </a:lnTo>
                      <a:lnTo>
                        <a:pt x="456" y="567"/>
                      </a:lnTo>
                      <a:lnTo>
                        <a:pt x="456" y="552"/>
                      </a:lnTo>
                      <a:lnTo>
                        <a:pt x="470" y="552"/>
                      </a:lnTo>
                      <a:lnTo>
                        <a:pt x="484" y="552"/>
                      </a:lnTo>
                      <a:lnTo>
                        <a:pt x="498" y="552"/>
                      </a:lnTo>
                      <a:lnTo>
                        <a:pt x="511" y="535"/>
                      </a:lnTo>
                      <a:lnTo>
                        <a:pt x="525" y="535"/>
                      </a:lnTo>
                      <a:lnTo>
                        <a:pt x="539" y="520"/>
                      </a:lnTo>
                      <a:lnTo>
                        <a:pt x="553" y="488"/>
                      </a:lnTo>
                      <a:lnTo>
                        <a:pt x="581" y="473"/>
                      </a:lnTo>
                      <a:lnTo>
                        <a:pt x="594" y="473"/>
                      </a:lnTo>
                      <a:lnTo>
                        <a:pt x="610" y="473"/>
                      </a:lnTo>
                      <a:lnTo>
                        <a:pt x="623" y="473"/>
                      </a:lnTo>
                      <a:lnTo>
                        <a:pt x="623" y="456"/>
                      </a:lnTo>
                      <a:lnTo>
                        <a:pt x="610" y="441"/>
                      </a:lnTo>
                      <a:lnTo>
                        <a:pt x="610" y="426"/>
                      </a:lnTo>
                      <a:lnTo>
                        <a:pt x="610" y="409"/>
                      </a:lnTo>
                      <a:lnTo>
                        <a:pt x="623" y="409"/>
                      </a:lnTo>
                      <a:lnTo>
                        <a:pt x="637" y="409"/>
                      </a:lnTo>
                      <a:lnTo>
                        <a:pt x="651" y="409"/>
                      </a:lnTo>
                      <a:lnTo>
                        <a:pt x="665" y="394"/>
                      </a:lnTo>
                      <a:lnTo>
                        <a:pt x="679" y="394"/>
                      </a:lnTo>
                      <a:lnTo>
                        <a:pt x="665" y="377"/>
                      </a:lnTo>
                      <a:lnTo>
                        <a:pt x="665" y="394"/>
                      </a:lnTo>
                      <a:lnTo>
                        <a:pt x="651" y="394"/>
                      </a:lnTo>
                      <a:lnTo>
                        <a:pt x="623" y="394"/>
                      </a:lnTo>
                      <a:lnTo>
                        <a:pt x="594" y="409"/>
                      </a:lnTo>
                      <a:lnTo>
                        <a:pt x="567" y="394"/>
                      </a:lnTo>
                      <a:lnTo>
                        <a:pt x="553" y="362"/>
                      </a:lnTo>
                      <a:lnTo>
                        <a:pt x="553" y="330"/>
                      </a:lnTo>
                      <a:lnTo>
                        <a:pt x="581" y="315"/>
                      </a:lnTo>
                      <a:lnTo>
                        <a:pt x="594" y="299"/>
                      </a:lnTo>
                      <a:lnTo>
                        <a:pt x="610" y="283"/>
                      </a:lnTo>
                      <a:lnTo>
                        <a:pt x="610" y="268"/>
                      </a:lnTo>
                      <a:lnTo>
                        <a:pt x="581" y="252"/>
                      </a:lnTo>
                      <a:lnTo>
                        <a:pt x="567" y="252"/>
                      </a:lnTo>
                      <a:lnTo>
                        <a:pt x="553" y="268"/>
                      </a:lnTo>
                      <a:lnTo>
                        <a:pt x="553" y="283"/>
                      </a:lnTo>
                      <a:lnTo>
                        <a:pt x="539" y="315"/>
                      </a:lnTo>
                      <a:lnTo>
                        <a:pt x="525" y="315"/>
                      </a:lnTo>
                      <a:lnTo>
                        <a:pt x="511" y="330"/>
                      </a:lnTo>
                      <a:lnTo>
                        <a:pt x="498" y="330"/>
                      </a:lnTo>
                      <a:lnTo>
                        <a:pt x="484" y="347"/>
                      </a:lnTo>
                      <a:lnTo>
                        <a:pt x="498" y="362"/>
                      </a:lnTo>
                      <a:lnTo>
                        <a:pt x="511" y="377"/>
                      </a:lnTo>
                      <a:lnTo>
                        <a:pt x="525" y="394"/>
                      </a:lnTo>
                      <a:lnTo>
                        <a:pt x="525" y="409"/>
                      </a:lnTo>
                      <a:lnTo>
                        <a:pt x="511" y="409"/>
                      </a:lnTo>
                      <a:lnTo>
                        <a:pt x="498" y="409"/>
                      </a:lnTo>
                      <a:lnTo>
                        <a:pt x="470" y="409"/>
                      </a:lnTo>
                      <a:lnTo>
                        <a:pt x="470" y="426"/>
                      </a:lnTo>
                      <a:lnTo>
                        <a:pt x="484" y="441"/>
                      </a:lnTo>
                      <a:lnTo>
                        <a:pt x="498" y="441"/>
                      </a:lnTo>
                      <a:lnTo>
                        <a:pt x="484" y="473"/>
                      </a:lnTo>
                      <a:lnTo>
                        <a:pt x="456" y="505"/>
                      </a:lnTo>
                      <a:lnTo>
                        <a:pt x="442" y="520"/>
                      </a:lnTo>
                      <a:lnTo>
                        <a:pt x="428" y="520"/>
                      </a:lnTo>
                      <a:lnTo>
                        <a:pt x="428" y="505"/>
                      </a:lnTo>
                      <a:lnTo>
                        <a:pt x="428" y="488"/>
                      </a:lnTo>
                      <a:lnTo>
                        <a:pt x="415" y="473"/>
                      </a:lnTo>
                      <a:lnTo>
                        <a:pt x="401" y="456"/>
                      </a:lnTo>
                      <a:lnTo>
                        <a:pt x="401" y="441"/>
                      </a:lnTo>
                      <a:lnTo>
                        <a:pt x="401" y="409"/>
                      </a:lnTo>
                      <a:lnTo>
                        <a:pt x="387" y="409"/>
                      </a:lnTo>
                      <a:lnTo>
                        <a:pt x="359" y="426"/>
                      </a:lnTo>
                      <a:lnTo>
                        <a:pt x="332" y="441"/>
                      </a:lnTo>
                      <a:lnTo>
                        <a:pt x="304" y="456"/>
                      </a:lnTo>
                      <a:lnTo>
                        <a:pt x="290" y="441"/>
                      </a:lnTo>
                      <a:lnTo>
                        <a:pt x="276" y="426"/>
                      </a:lnTo>
                      <a:lnTo>
                        <a:pt x="276" y="409"/>
                      </a:lnTo>
                      <a:lnTo>
                        <a:pt x="290" y="409"/>
                      </a:lnTo>
                      <a:lnTo>
                        <a:pt x="304" y="394"/>
                      </a:lnTo>
                      <a:lnTo>
                        <a:pt x="304" y="377"/>
                      </a:lnTo>
                      <a:lnTo>
                        <a:pt x="290" y="394"/>
                      </a:lnTo>
                      <a:lnTo>
                        <a:pt x="276" y="377"/>
                      </a:lnTo>
                      <a:lnTo>
                        <a:pt x="290" y="362"/>
                      </a:lnTo>
                      <a:lnTo>
                        <a:pt x="304" y="362"/>
                      </a:lnTo>
                      <a:lnTo>
                        <a:pt x="290" y="347"/>
                      </a:lnTo>
                      <a:lnTo>
                        <a:pt x="276" y="347"/>
                      </a:lnTo>
                      <a:lnTo>
                        <a:pt x="276" y="330"/>
                      </a:lnTo>
                      <a:lnTo>
                        <a:pt x="290" y="330"/>
                      </a:lnTo>
                      <a:lnTo>
                        <a:pt x="304" y="330"/>
                      </a:lnTo>
                      <a:lnTo>
                        <a:pt x="318" y="330"/>
                      </a:lnTo>
                      <a:lnTo>
                        <a:pt x="332" y="347"/>
                      </a:lnTo>
                      <a:lnTo>
                        <a:pt x="373" y="347"/>
                      </a:lnTo>
                      <a:lnTo>
                        <a:pt x="387" y="315"/>
                      </a:lnTo>
                      <a:lnTo>
                        <a:pt x="387" y="299"/>
                      </a:lnTo>
                      <a:lnTo>
                        <a:pt x="373" y="315"/>
                      </a:lnTo>
                      <a:lnTo>
                        <a:pt x="359" y="315"/>
                      </a:lnTo>
                      <a:lnTo>
                        <a:pt x="359" y="299"/>
                      </a:lnTo>
                      <a:lnTo>
                        <a:pt x="373" y="299"/>
                      </a:lnTo>
                      <a:lnTo>
                        <a:pt x="387" y="283"/>
                      </a:lnTo>
                      <a:lnTo>
                        <a:pt x="401" y="268"/>
                      </a:lnTo>
                      <a:lnTo>
                        <a:pt x="415" y="252"/>
                      </a:lnTo>
                      <a:lnTo>
                        <a:pt x="415" y="236"/>
                      </a:lnTo>
                      <a:lnTo>
                        <a:pt x="428" y="220"/>
                      </a:lnTo>
                      <a:lnTo>
                        <a:pt x="442" y="220"/>
                      </a:lnTo>
                      <a:lnTo>
                        <a:pt x="456" y="205"/>
                      </a:lnTo>
                      <a:lnTo>
                        <a:pt x="470" y="189"/>
                      </a:lnTo>
                      <a:lnTo>
                        <a:pt x="470" y="173"/>
                      </a:lnTo>
                      <a:lnTo>
                        <a:pt x="484" y="173"/>
                      </a:lnTo>
                      <a:lnTo>
                        <a:pt x="498" y="173"/>
                      </a:lnTo>
                      <a:lnTo>
                        <a:pt x="511" y="173"/>
                      </a:lnTo>
                      <a:lnTo>
                        <a:pt x="498" y="173"/>
                      </a:lnTo>
                      <a:lnTo>
                        <a:pt x="511" y="173"/>
                      </a:lnTo>
                      <a:lnTo>
                        <a:pt x="525" y="173"/>
                      </a:lnTo>
                      <a:lnTo>
                        <a:pt x="525" y="157"/>
                      </a:lnTo>
                      <a:lnTo>
                        <a:pt x="553" y="157"/>
                      </a:lnTo>
                      <a:lnTo>
                        <a:pt x="581" y="141"/>
                      </a:lnTo>
                      <a:lnTo>
                        <a:pt x="623" y="141"/>
                      </a:lnTo>
                      <a:lnTo>
                        <a:pt x="637" y="141"/>
                      </a:lnTo>
                      <a:lnTo>
                        <a:pt x="665" y="141"/>
                      </a:lnTo>
                      <a:lnTo>
                        <a:pt x="679" y="157"/>
                      </a:lnTo>
                      <a:lnTo>
                        <a:pt x="679" y="173"/>
                      </a:lnTo>
                      <a:lnTo>
                        <a:pt x="720" y="189"/>
                      </a:lnTo>
                      <a:lnTo>
                        <a:pt x="762" y="189"/>
                      </a:lnTo>
                      <a:lnTo>
                        <a:pt x="817" y="205"/>
                      </a:lnTo>
                      <a:lnTo>
                        <a:pt x="845" y="220"/>
                      </a:lnTo>
                      <a:lnTo>
                        <a:pt x="859" y="220"/>
                      </a:lnTo>
                      <a:lnTo>
                        <a:pt x="831" y="252"/>
                      </a:lnTo>
                      <a:lnTo>
                        <a:pt x="803" y="252"/>
                      </a:lnTo>
                      <a:lnTo>
                        <a:pt x="776" y="252"/>
                      </a:lnTo>
                      <a:lnTo>
                        <a:pt x="748" y="236"/>
                      </a:lnTo>
                      <a:lnTo>
                        <a:pt x="706" y="220"/>
                      </a:lnTo>
                      <a:lnTo>
                        <a:pt x="706" y="236"/>
                      </a:lnTo>
                      <a:lnTo>
                        <a:pt x="734" y="236"/>
                      </a:lnTo>
                      <a:lnTo>
                        <a:pt x="748" y="252"/>
                      </a:lnTo>
                      <a:lnTo>
                        <a:pt x="762" y="268"/>
                      </a:lnTo>
                      <a:lnTo>
                        <a:pt x="789" y="315"/>
                      </a:lnTo>
                      <a:lnTo>
                        <a:pt x="817" y="315"/>
                      </a:lnTo>
                      <a:lnTo>
                        <a:pt x="817" y="299"/>
                      </a:lnTo>
                      <a:lnTo>
                        <a:pt x="803" y="283"/>
                      </a:lnTo>
                      <a:lnTo>
                        <a:pt x="803" y="268"/>
                      </a:lnTo>
                      <a:lnTo>
                        <a:pt x="817" y="283"/>
                      </a:lnTo>
                      <a:lnTo>
                        <a:pt x="831" y="283"/>
                      </a:lnTo>
                      <a:lnTo>
                        <a:pt x="831" y="268"/>
                      </a:lnTo>
                      <a:lnTo>
                        <a:pt x="845" y="268"/>
                      </a:lnTo>
                      <a:lnTo>
                        <a:pt x="859" y="252"/>
                      </a:lnTo>
                      <a:lnTo>
                        <a:pt x="872" y="236"/>
                      </a:lnTo>
                      <a:lnTo>
                        <a:pt x="886" y="236"/>
                      </a:lnTo>
                      <a:lnTo>
                        <a:pt x="886" y="220"/>
                      </a:lnTo>
                      <a:lnTo>
                        <a:pt x="886" y="205"/>
                      </a:lnTo>
                      <a:lnTo>
                        <a:pt x="914" y="189"/>
                      </a:lnTo>
                      <a:lnTo>
                        <a:pt x="914" y="205"/>
                      </a:lnTo>
                      <a:lnTo>
                        <a:pt x="914" y="220"/>
                      </a:lnTo>
                      <a:lnTo>
                        <a:pt x="914" y="236"/>
                      </a:lnTo>
                      <a:lnTo>
                        <a:pt x="928" y="236"/>
                      </a:lnTo>
                      <a:lnTo>
                        <a:pt x="955" y="236"/>
                      </a:lnTo>
                      <a:lnTo>
                        <a:pt x="983" y="220"/>
                      </a:lnTo>
                      <a:lnTo>
                        <a:pt x="997" y="205"/>
                      </a:lnTo>
                      <a:lnTo>
                        <a:pt x="1025" y="189"/>
                      </a:lnTo>
                      <a:lnTo>
                        <a:pt x="1052" y="189"/>
                      </a:lnTo>
                      <a:lnTo>
                        <a:pt x="1094" y="173"/>
                      </a:lnTo>
                      <a:lnTo>
                        <a:pt x="1121" y="173"/>
                      </a:lnTo>
                      <a:lnTo>
                        <a:pt x="1135" y="173"/>
                      </a:lnTo>
                      <a:lnTo>
                        <a:pt x="1135" y="157"/>
                      </a:lnTo>
                      <a:lnTo>
                        <a:pt x="1163" y="173"/>
                      </a:lnTo>
                      <a:lnTo>
                        <a:pt x="1177" y="173"/>
                      </a:lnTo>
                      <a:lnTo>
                        <a:pt x="1204" y="173"/>
                      </a:lnTo>
                      <a:lnTo>
                        <a:pt x="1218" y="189"/>
                      </a:lnTo>
                      <a:lnTo>
                        <a:pt x="1232" y="189"/>
                      </a:lnTo>
                      <a:lnTo>
                        <a:pt x="1246" y="189"/>
                      </a:lnTo>
                      <a:lnTo>
                        <a:pt x="1246" y="173"/>
                      </a:lnTo>
                      <a:lnTo>
                        <a:pt x="1232" y="157"/>
                      </a:lnTo>
                      <a:lnTo>
                        <a:pt x="1204" y="141"/>
                      </a:lnTo>
                      <a:lnTo>
                        <a:pt x="1204" y="126"/>
                      </a:lnTo>
                      <a:lnTo>
                        <a:pt x="1218" y="110"/>
                      </a:lnTo>
                      <a:lnTo>
                        <a:pt x="1218" y="94"/>
                      </a:lnTo>
                      <a:lnTo>
                        <a:pt x="1246" y="110"/>
                      </a:lnTo>
                      <a:lnTo>
                        <a:pt x="1260" y="110"/>
                      </a:lnTo>
                      <a:lnTo>
                        <a:pt x="1274" y="126"/>
                      </a:lnTo>
                      <a:lnTo>
                        <a:pt x="1287" y="126"/>
                      </a:lnTo>
                      <a:lnTo>
                        <a:pt x="1301" y="141"/>
                      </a:lnTo>
                      <a:lnTo>
                        <a:pt x="1315" y="157"/>
                      </a:lnTo>
                      <a:lnTo>
                        <a:pt x="1315" y="173"/>
                      </a:lnTo>
                      <a:lnTo>
                        <a:pt x="1315" y="189"/>
                      </a:lnTo>
                      <a:lnTo>
                        <a:pt x="1329" y="189"/>
                      </a:lnTo>
                      <a:lnTo>
                        <a:pt x="1343" y="205"/>
                      </a:lnTo>
                      <a:lnTo>
                        <a:pt x="1343" y="220"/>
                      </a:lnTo>
                      <a:lnTo>
                        <a:pt x="1329" y="236"/>
                      </a:lnTo>
                      <a:lnTo>
                        <a:pt x="1315" y="236"/>
                      </a:lnTo>
                      <a:lnTo>
                        <a:pt x="1301" y="236"/>
                      </a:lnTo>
                      <a:lnTo>
                        <a:pt x="1343" y="252"/>
                      </a:lnTo>
                      <a:lnTo>
                        <a:pt x="1357" y="236"/>
                      </a:lnTo>
                      <a:lnTo>
                        <a:pt x="1370" y="205"/>
                      </a:lnTo>
                      <a:lnTo>
                        <a:pt x="1384" y="189"/>
                      </a:lnTo>
                      <a:lnTo>
                        <a:pt x="1399" y="205"/>
                      </a:lnTo>
                      <a:lnTo>
                        <a:pt x="1427" y="220"/>
                      </a:lnTo>
                      <a:lnTo>
                        <a:pt x="1441" y="220"/>
                      </a:lnTo>
                      <a:lnTo>
                        <a:pt x="1441" y="205"/>
                      </a:lnTo>
                      <a:lnTo>
                        <a:pt x="1413" y="189"/>
                      </a:lnTo>
                      <a:lnTo>
                        <a:pt x="1399" y="189"/>
                      </a:lnTo>
                      <a:lnTo>
                        <a:pt x="1370" y="173"/>
                      </a:lnTo>
                      <a:lnTo>
                        <a:pt x="1343" y="157"/>
                      </a:lnTo>
                      <a:lnTo>
                        <a:pt x="1315" y="141"/>
                      </a:lnTo>
                      <a:lnTo>
                        <a:pt x="1301" y="94"/>
                      </a:lnTo>
                      <a:lnTo>
                        <a:pt x="1315" y="94"/>
                      </a:lnTo>
                      <a:lnTo>
                        <a:pt x="1315" y="110"/>
                      </a:lnTo>
                      <a:lnTo>
                        <a:pt x="1329" y="126"/>
                      </a:lnTo>
                      <a:lnTo>
                        <a:pt x="1343" y="126"/>
                      </a:lnTo>
                      <a:lnTo>
                        <a:pt x="1357" y="110"/>
                      </a:lnTo>
                      <a:lnTo>
                        <a:pt x="1370" y="110"/>
                      </a:lnTo>
                      <a:lnTo>
                        <a:pt x="1384" y="110"/>
                      </a:lnTo>
                      <a:lnTo>
                        <a:pt x="1399" y="110"/>
                      </a:lnTo>
                      <a:lnTo>
                        <a:pt x="1427" y="126"/>
                      </a:lnTo>
                      <a:lnTo>
                        <a:pt x="1441" y="126"/>
                      </a:lnTo>
                      <a:lnTo>
                        <a:pt x="1455" y="141"/>
                      </a:lnTo>
                      <a:lnTo>
                        <a:pt x="1469" y="141"/>
                      </a:lnTo>
                      <a:lnTo>
                        <a:pt x="1469" y="157"/>
                      </a:lnTo>
                      <a:lnTo>
                        <a:pt x="1455" y="141"/>
                      </a:lnTo>
                      <a:lnTo>
                        <a:pt x="1455" y="126"/>
                      </a:lnTo>
                      <a:lnTo>
                        <a:pt x="1441" y="126"/>
                      </a:lnTo>
                      <a:lnTo>
                        <a:pt x="1427" y="110"/>
                      </a:lnTo>
                      <a:lnTo>
                        <a:pt x="1413" y="110"/>
                      </a:lnTo>
                      <a:lnTo>
                        <a:pt x="1399" y="110"/>
                      </a:lnTo>
                      <a:lnTo>
                        <a:pt x="1384" y="94"/>
                      </a:lnTo>
                      <a:lnTo>
                        <a:pt x="1370" y="94"/>
                      </a:lnTo>
                      <a:lnTo>
                        <a:pt x="1370" y="79"/>
                      </a:lnTo>
                      <a:lnTo>
                        <a:pt x="1399" y="79"/>
                      </a:lnTo>
                      <a:lnTo>
                        <a:pt x="1427" y="79"/>
                      </a:lnTo>
                      <a:lnTo>
                        <a:pt x="1441" y="79"/>
                      </a:lnTo>
                      <a:lnTo>
                        <a:pt x="1455" y="94"/>
                      </a:lnTo>
                      <a:lnTo>
                        <a:pt x="1469" y="94"/>
                      </a:lnTo>
                      <a:lnTo>
                        <a:pt x="1482" y="94"/>
                      </a:lnTo>
                      <a:lnTo>
                        <a:pt x="1469" y="79"/>
                      </a:lnTo>
                      <a:lnTo>
                        <a:pt x="1455" y="62"/>
                      </a:lnTo>
                      <a:lnTo>
                        <a:pt x="1441" y="62"/>
                      </a:lnTo>
                      <a:lnTo>
                        <a:pt x="1455" y="62"/>
                      </a:lnTo>
                      <a:lnTo>
                        <a:pt x="1441" y="47"/>
                      </a:lnTo>
                      <a:lnTo>
                        <a:pt x="1455" y="47"/>
                      </a:lnTo>
                      <a:lnTo>
                        <a:pt x="1469" y="47"/>
                      </a:lnTo>
                      <a:lnTo>
                        <a:pt x="1510" y="32"/>
                      </a:lnTo>
                      <a:lnTo>
                        <a:pt x="1552" y="15"/>
                      </a:lnTo>
                      <a:lnTo>
                        <a:pt x="1579" y="15"/>
                      </a:lnTo>
                      <a:lnTo>
                        <a:pt x="1593" y="0"/>
                      </a:lnTo>
                      <a:lnTo>
                        <a:pt x="1621" y="0"/>
                      </a:lnTo>
                      <a:lnTo>
                        <a:pt x="1635" y="0"/>
                      </a:lnTo>
                      <a:lnTo>
                        <a:pt x="1648" y="0"/>
                      </a:lnTo>
                      <a:lnTo>
                        <a:pt x="1676" y="0"/>
                      </a:lnTo>
                      <a:lnTo>
                        <a:pt x="1704" y="0"/>
                      </a:lnTo>
                      <a:lnTo>
                        <a:pt x="1731" y="15"/>
                      </a:lnTo>
                      <a:lnTo>
                        <a:pt x="1773" y="32"/>
                      </a:lnTo>
                      <a:lnTo>
                        <a:pt x="1787" y="32"/>
                      </a:lnTo>
                      <a:lnTo>
                        <a:pt x="1800" y="32"/>
                      </a:lnTo>
                      <a:lnTo>
                        <a:pt x="1814" y="47"/>
                      </a:lnTo>
                      <a:lnTo>
                        <a:pt x="1814" y="62"/>
                      </a:lnTo>
                      <a:lnTo>
                        <a:pt x="1800" y="62"/>
                      </a:lnTo>
                      <a:lnTo>
                        <a:pt x="1787" y="62"/>
                      </a:lnTo>
                      <a:lnTo>
                        <a:pt x="1773" y="79"/>
                      </a:lnTo>
                      <a:lnTo>
                        <a:pt x="1759" y="94"/>
                      </a:lnTo>
                      <a:lnTo>
                        <a:pt x="1745" y="94"/>
                      </a:lnTo>
                      <a:lnTo>
                        <a:pt x="1759" y="94"/>
                      </a:lnTo>
                      <a:lnTo>
                        <a:pt x="1787" y="79"/>
                      </a:lnTo>
                      <a:lnTo>
                        <a:pt x="1814" y="79"/>
                      </a:lnTo>
                      <a:lnTo>
                        <a:pt x="1842" y="79"/>
                      </a:lnTo>
                      <a:lnTo>
                        <a:pt x="1856" y="79"/>
                      </a:lnTo>
                      <a:lnTo>
                        <a:pt x="1870" y="94"/>
                      </a:lnTo>
                      <a:lnTo>
                        <a:pt x="1883" y="110"/>
                      </a:lnTo>
                      <a:lnTo>
                        <a:pt x="1870" y="94"/>
                      </a:lnTo>
                      <a:lnTo>
                        <a:pt x="1856" y="79"/>
                      </a:lnTo>
                      <a:lnTo>
                        <a:pt x="1870" y="79"/>
                      </a:lnTo>
                      <a:lnTo>
                        <a:pt x="1883" y="79"/>
                      </a:lnTo>
                      <a:lnTo>
                        <a:pt x="1897" y="79"/>
                      </a:lnTo>
                      <a:lnTo>
                        <a:pt x="1911" y="79"/>
                      </a:lnTo>
                      <a:lnTo>
                        <a:pt x="1925" y="79"/>
                      </a:lnTo>
                      <a:lnTo>
                        <a:pt x="1939" y="79"/>
                      </a:lnTo>
                      <a:lnTo>
                        <a:pt x="1939" y="94"/>
                      </a:lnTo>
                      <a:lnTo>
                        <a:pt x="1966" y="94"/>
                      </a:lnTo>
                      <a:lnTo>
                        <a:pt x="2008" y="110"/>
                      </a:lnTo>
                      <a:lnTo>
                        <a:pt x="2036" y="110"/>
                      </a:lnTo>
                      <a:lnTo>
                        <a:pt x="2077" y="126"/>
                      </a:lnTo>
                      <a:lnTo>
                        <a:pt x="2105" y="126"/>
                      </a:lnTo>
                      <a:lnTo>
                        <a:pt x="2091" y="110"/>
                      </a:lnTo>
                      <a:lnTo>
                        <a:pt x="2077" y="110"/>
                      </a:lnTo>
                      <a:lnTo>
                        <a:pt x="2091" y="110"/>
                      </a:lnTo>
                      <a:lnTo>
                        <a:pt x="2119" y="126"/>
                      </a:lnTo>
                      <a:lnTo>
                        <a:pt x="2132" y="126"/>
                      </a:lnTo>
                      <a:lnTo>
                        <a:pt x="2119" y="126"/>
                      </a:lnTo>
                      <a:lnTo>
                        <a:pt x="2119" y="110"/>
                      </a:lnTo>
                      <a:lnTo>
                        <a:pt x="2146" y="126"/>
                      </a:lnTo>
                      <a:lnTo>
                        <a:pt x="2160" y="141"/>
                      </a:lnTo>
                      <a:lnTo>
                        <a:pt x="2188" y="141"/>
                      </a:lnTo>
                      <a:lnTo>
                        <a:pt x="2188" y="126"/>
                      </a:lnTo>
                      <a:lnTo>
                        <a:pt x="2203" y="126"/>
                      </a:lnTo>
                      <a:lnTo>
                        <a:pt x="2217" y="126"/>
                      </a:lnTo>
                      <a:lnTo>
                        <a:pt x="2231" y="126"/>
                      </a:lnTo>
                      <a:lnTo>
                        <a:pt x="2258" y="110"/>
                      </a:lnTo>
                      <a:lnTo>
                        <a:pt x="2272" y="94"/>
                      </a:lnTo>
                      <a:lnTo>
                        <a:pt x="2286" y="94"/>
                      </a:lnTo>
                      <a:lnTo>
                        <a:pt x="2314" y="110"/>
                      </a:lnTo>
                      <a:lnTo>
                        <a:pt x="2341" y="126"/>
                      </a:lnTo>
                      <a:lnTo>
                        <a:pt x="2369" y="126"/>
                      </a:lnTo>
                      <a:lnTo>
                        <a:pt x="2397" y="126"/>
                      </a:lnTo>
                      <a:lnTo>
                        <a:pt x="2397" y="110"/>
                      </a:lnTo>
                      <a:lnTo>
                        <a:pt x="2410" y="110"/>
                      </a:lnTo>
                      <a:lnTo>
                        <a:pt x="2438" y="126"/>
                      </a:lnTo>
                      <a:lnTo>
                        <a:pt x="2424" y="126"/>
                      </a:lnTo>
                      <a:lnTo>
                        <a:pt x="2466" y="141"/>
                      </a:lnTo>
                      <a:lnTo>
                        <a:pt x="2493" y="141"/>
                      </a:lnTo>
                      <a:lnTo>
                        <a:pt x="2521" y="141"/>
                      </a:lnTo>
                      <a:lnTo>
                        <a:pt x="2535" y="141"/>
                      </a:lnTo>
                      <a:lnTo>
                        <a:pt x="2549" y="141"/>
                      </a:lnTo>
                      <a:lnTo>
                        <a:pt x="2576" y="141"/>
                      </a:lnTo>
                      <a:lnTo>
                        <a:pt x="2604" y="141"/>
                      </a:lnTo>
                      <a:lnTo>
                        <a:pt x="2618" y="141"/>
                      </a:lnTo>
                      <a:lnTo>
                        <a:pt x="2632" y="157"/>
                      </a:lnTo>
                      <a:lnTo>
                        <a:pt x="2646" y="157"/>
                      </a:lnTo>
                      <a:lnTo>
                        <a:pt x="2646" y="173"/>
                      </a:lnTo>
                      <a:lnTo>
                        <a:pt x="2632" y="173"/>
                      </a:lnTo>
                      <a:lnTo>
                        <a:pt x="2618" y="189"/>
                      </a:lnTo>
                      <a:lnTo>
                        <a:pt x="2632" y="189"/>
                      </a:lnTo>
                      <a:lnTo>
                        <a:pt x="2646" y="189"/>
                      </a:lnTo>
                      <a:lnTo>
                        <a:pt x="2659" y="189"/>
                      </a:lnTo>
                      <a:lnTo>
                        <a:pt x="2701" y="189"/>
                      </a:lnTo>
                      <a:lnTo>
                        <a:pt x="2687" y="173"/>
                      </a:lnTo>
                      <a:lnTo>
                        <a:pt x="2715" y="173"/>
                      </a:lnTo>
                      <a:lnTo>
                        <a:pt x="2756" y="173"/>
                      </a:lnTo>
                      <a:lnTo>
                        <a:pt x="2798" y="173"/>
                      </a:lnTo>
                      <a:lnTo>
                        <a:pt x="2812" y="189"/>
                      </a:lnTo>
                      <a:lnTo>
                        <a:pt x="2825" y="189"/>
                      </a:lnTo>
                      <a:lnTo>
                        <a:pt x="2839" y="189"/>
                      </a:lnTo>
                      <a:lnTo>
                        <a:pt x="2825" y="173"/>
                      </a:lnTo>
                      <a:lnTo>
                        <a:pt x="2812" y="173"/>
                      </a:lnTo>
                      <a:lnTo>
                        <a:pt x="2798" y="157"/>
                      </a:lnTo>
                      <a:lnTo>
                        <a:pt x="2839" y="157"/>
                      </a:lnTo>
                      <a:lnTo>
                        <a:pt x="2881" y="173"/>
                      </a:lnTo>
                      <a:lnTo>
                        <a:pt x="2908" y="173"/>
                      </a:lnTo>
                      <a:lnTo>
                        <a:pt x="2950" y="173"/>
                      </a:lnTo>
                      <a:lnTo>
                        <a:pt x="2964" y="173"/>
                      </a:lnTo>
                      <a:lnTo>
                        <a:pt x="2964" y="189"/>
                      </a:lnTo>
                      <a:lnTo>
                        <a:pt x="2978" y="189"/>
                      </a:lnTo>
                      <a:lnTo>
                        <a:pt x="2993" y="189"/>
                      </a:lnTo>
                      <a:lnTo>
                        <a:pt x="2993" y="205"/>
                      </a:lnTo>
                      <a:lnTo>
                        <a:pt x="3020" y="205"/>
                      </a:lnTo>
                      <a:lnTo>
                        <a:pt x="3048" y="220"/>
                      </a:lnTo>
                      <a:lnTo>
                        <a:pt x="3062" y="236"/>
                      </a:lnTo>
                      <a:lnTo>
                        <a:pt x="3090" y="252"/>
                      </a:lnTo>
                      <a:lnTo>
                        <a:pt x="3117" y="283"/>
                      </a:lnTo>
                      <a:close/>
                    </a:path>
                  </a:pathLst>
                </a:custGeom>
                <a:solidFill>
                  <a:srgbClr val="0093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6921360" y="2562120"/>
                  <a:ext cx="1686240" cy="1059120"/>
                </a:xfrm>
                <a:custGeom>
                  <a:avLst/>
                  <a:gdLst/>
                  <a:ahLst/>
                  <a:rect l="l" t="t" r="r" b="b"/>
                  <a:pathLst>
                    <a:path w="3186" h="2003">
                      <a:moveTo>
                        <a:pt x="3117" y="283"/>
                      </a:moveTo>
                      <a:lnTo>
                        <a:pt x="3131" y="299"/>
                      </a:lnTo>
                      <a:lnTo>
                        <a:pt x="3145" y="315"/>
                      </a:lnTo>
                      <a:lnTo>
                        <a:pt x="3159" y="315"/>
                      </a:lnTo>
                      <a:lnTo>
                        <a:pt x="3173" y="330"/>
                      </a:lnTo>
                      <a:lnTo>
                        <a:pt x="3186" y="347"/>
                      </a:lnTo>
                      <a:lnTo>
                        <a:pt x="3173" y="347"/>
                      </a:lnTo>
                      <a:lnTo>
                        <a:pt x="3159" y="347"/>
                      </a:lnTo>
                      <a:lnTo>
                        <a:pt x="3131" y="330"/>
                      </a:lnTo>
                      <a:lnTo>
                        <a:pt x="3145" y="330"/>
                      </a:lnTo>
                      <a:lnTo>
                        <a:pt x="3131" y="347"/>
                      </a:lnTo>
                      <a:lnTo>
                        <a:pt x="3117" y="347"/>
                      </a:lnTo>
                      <a:lnTo>
                        <a:pt x="3103" y="362"/>
                      </a:lnTo>
                      <a:lnTo>
                        <a:pt x="3103" y="377"/>
                      </a:lnTo>
                      <a:lnTo>
                        <a:pt x="3103" y="394"/>
                      </a:lnTo>
                      <a:lnTo>
                        <a:pt x="3103" y="409"/>
                      </a:lnTo>
                      <a:lnTo>
                        <a:pt x="3090" y="409"/>
                      </a:lnTo>
                      <a:lnTo>
                        <a:pt x="3076" y="394"/>
                      </a:lnTo>
                      <a:lnTo>
                        <a:pt x="3062" y="394"/>
                      </a:lnTo>
                      <a:lnTo>
                        <a:pt x="3048" y="394"/>
                      </a:lnTo>
                      <a:lnTo>
                        <a:pt x="3034" y="394"/>
                      </a:lnTo>
                      <a:lnTo>
                        <a:pt x="3020" y="394"/>
                      </a:lnTo>
                      <a:lnTo>
                        <a:pt x="2993" y="394"/>
                      </a:lnTo>
                      <a:lnTo>
                        <a:pt x="2978" y="394"/>
                      </a:lnTo>
                      <a:lnTo>
                        <a:pt x="2978" y="426"/>
                      </a:lnTo>
                      <a:lnTo>
                        <a:pt x="3020" y="456"/>
                      </a:lnTo>
                      <a:lnTo>
                        <a:pt x="3062" y="488"/>
                      </a:lnTo>
                      <a:lnTo>
                        <a:pt x="3076" y="505"/>
                      </a:lnTo>
                      <a:lnTo>
                        <a:pt x="3090" y="505"/>
                      </a:lnTo>
                      <a:lnTo>
                        <a:pt x="3090" y="520"/>
                      </a:lnTo>
                      <a:lnTo>
                        <a:pt x="3090" y="535"/>
                      </a:lnTo>
                      <a:lnTo>
                        <a:pt x="3076" y="535"/>
                      </a:lnTo>
                      <a:lnTo>
                        <a:pt x="3076" y="567"/>
                      </a:lnTo>
                      <a:lnTo>
                        <a:pt x="3090" y="567"/>
                      </a:lnTo>
                      <a:lnTo>
                        <a:pt x="3090" y="584"/>
                      </a:lnTo>
                      <a:lnTo>
                        <a:pt x="3090" y="599"/>
                      </a:lnTo>
                      <a:lnTo>
                        <a:pt x="3090" y="614"/>
                      </a:lnTo>
                      <a:lnTo>
                        <a:pt x="3090" y="631"/>
                      </a:lnTo>
                      <a:lnTo>
                        <a:pt x="3076" y="631"/>
                      </a:lnTo>
                      <a:lnTo>
                        <a:pt x="3062" y="614"/>
                      </a:lnTo>
                      <a:lnTo>
                        <a:pt x="3048" y="599"/>
                      </a:lnTo>
                      <a:lnTo>
                        <a:pt x="3020" y="567"/>
                      </a:lnTo>
                      <a:lnTo>
                        <a:pt x="2978" y="552"/>
                      </a:lnTo>
                      <a:lnTo>
                        <a:pt x="2950" y="520"/>
                      </a:lnTo>
                      <a:lnTo>
                        <a:pt x="2936" y="505"/>
                      </a:lnTo>
                      <a:lnTo>
                        <a:pt x="2922" y="488"/>
                      </a:lnTo>
                      <a:lnTo>
                        <a:pt x="2922" y="473"/>
                      </a:lnTo>
                      <a:lnTo>
                        <a:pt x="2936" y="456"/>
                      </a:lnTo>
                      <a:lnTo>
                        <a:pt x="2936" y="409"/>
                      </a:lnTo>
                      <a:lnTo>
                        <a:pt x="2922" y="377"/>
                      </a:lnTo>
                      <a:lnTo>
                        <a:pt x="2895" y="330"/>
                      </a:lnTo>
                      <a:lnTo>
                        <a:pt x="2895" y="347"/>
                      </a:lnTo>
                      <a:lnTo>
                        <a:pt x="2908" y="362"/>
                      </a:lnTo>
                      <a:lnTo>
                        <a:pt x="2908" y="377"/>
                      </a:lnTo>
                      <a:lnTo>
                        <a:pt x="2895" y="394"/>
                      </a:lnTo>
                      <a:lnTo>
                        <a:pt x="2895" y="377"/>
                      </a:lnTo>
                      <a:lnTo>
                        <a:pt x="2881" y="362"/>
                      </a:lnTo>
                      <a:lnTo>
                        <a:pt x="2867" y="362"/>
                      </a:lnTo>
                      <a:lnTo>
                        <a:pt x="2839" y="347"/>
                      </a:lnTo>
                      <a:lnTo>
                        <a:pt x="2812" y="362"/>
                      </a:lnTo>
                      <a:lnTo>
                        <a:pt x="2812" y="409"/>
                      </a:lnTo>
                      <a:lnTo>
                        <a:pt x="2825" y="409"/>
                      </a:lnTo>
                      <a:lnTo>
                        <a:pt x="2839" y="409"/>
                      </a:lnTo>
                      <a:lnTo>
                        <a:pt x="2853" y="426"/>
                      </a:lnTo>
                      <a:lnTo>
                        <a:pt x="2839" y="426"/>
                      </a:lnTo>
                      <a:lnTo>
                        <a:pt x="2825" y="426"/>
                      </a:lnTo>
                      <a:lnTo>
                        <a:pt x="2812" y="426"/>
                      </a:lnTo>
                      <a:lnTo>
                        <a:pt x="2798" y="426"/>
                      </a:lnTo>
                      <a:lnTo>
                        <a:pt x="2770" y="426"/>
                      </a:lnTo>
                      <a:lnTo>
                        <a:pt x="2756" y="409"/>
                      </a:lnTo>
                      <a:lnTo>
                        <a:pt x="2742" y="409"/>
                      </a:lnTo>
                      <a:lnTo>
                        <a:pt x="2729" y="409"/>
                      </a:lnTo>
                      <a:lnTo>
                        <a:pt x="2701" y="426"/>
                      </a:lnTo>
                      <a:lnTo>
                        <a:pt x="2659" y="441"/>
                      </a:lnTo>
                      <a:lnTo>
                        <a:pt x="2632" y="456"/>
                      </a:lnTo>
                      <a:lnTo>
                        <a:pt x="2632" y="473"/>
                      </a:lnTo>
                      <a:lnTo>
                        <a:pt x="2618" y="473"/>
                      </a:lnTo>
                      <a:lnTo>
                        <a:pt x="2618" y="488"/>
                      </a:lnTo>
                      <a:lnTo>
                        <a:pt x="2604" y="520"/>
                      </a:lnTo>
                      <a:lnTo>
                        <a:pt x="2604" y="535"/>
                      </a:lnTo>
                      <a:lnTo>
                        <a:pt x="2618" y="552"/>
                      </a:lnTo>
                      <a:lnTo>
                        <a:pt x="2659" y="567"/>
                      </a:lnTo>
                      <a:lnTo>
                        <a:pt x="2673" y="567"/>
                      </a:lnTo>
                      <a:lnTo>
                        <a:pt x="2687" y="552"/>
                      </a:lnTo>
                      <a:lnTo>
                        <a:pt x="2701" y="552"/>
                      </a:lnTo>
                      <a:lnTo>
                        <a:pt x="2715" y="552"/>
                      </a:lnTo>
                      <a:lnTo>
                        <a:pt x="2729" y="567"/>
                      </a:lnTo>
                      <a:lnTo>
                        <a:pt x="2742" y="567"/>
                      </a:lnTo>
                      <a:lnTo>
                        <a:pt x="2729" y="584"/>
                      </a:lnTo>
                      <a:lnTo>
                        <a:pt x="2742" y="584"/>
                      </a:lnTo>
                      <a:lnTo>
                        <a:pt x="2756" y="599"/>
                      </a:lnTo>
                      <a:lnTo>
                        <a:pt x="2770" y="599"/>
                      </a:lnTo>
                      <a:lnTo>
                        <a:pt x="2770" y="614"/>
                      </a:lnTo>
                      <a:lnTo>
                        <a:pt x="2770" y="631"/>
                      </a:lnTo>
                      <a:lnTo>
                        <a:pt x="2770" y="646"/>
                      </a:lnTo>
                      <a:lnTo>
                        <a:pt x="2784" y="662"/>
                      </a:lnTo>
                      <a:lnTo>
                        <a:pt x="2798" y="678"/>
                      </a:lnTo>
                      <a:lnTo>
                        <a:pt x="2812" y="693"/>
                      </a:lnTo>
                      <a:lnTo>
                        <a:pt x="2812" y="710"/>
                      </a:lnTo>
                      <a:lnTo>
                        <a:pt x="2798" y="710"/>
                      </a:lnTo>
                      <a:lnTo>
                        <a:pt x="2798" y="757"/>
                      </a:lnTo>
                      <a:lnTo>
                        <a:pt x="2784" y="804"/>
                      </a:lnTo>
                      <a:lnTo>
                        <a:pt x="2770" y="851"/>
                      </a:lnTo>
                      <a:lnTo>
                        <a:pt x="2756" y="851"/>
                      </a:lnTo>
                      <a:lnTo>
                        <a:pt x="2742" y="835"/>
                      </a:lnTo>
                      <a:lnTo>
                        <a:pt x="2729" y="835"/>
                      </a:lnTo>
                      <a:lnTo>
                        <a:pt x="2729" y="851"/>
                      </a:lnTo>
                      <a:lnTo>
                        <a:pt x="2715" y="867"/>
                      </a:lnTo>
                      <a:lnTo>
                        <a:pt x="2715" y="883"/>
                      </a:lnTo>
                      <a:lnTo>
                        <a:pt x="2715" y="899"/>
                      </a:lnTo>
                      <a:lnTo>
                        <a:pt x="2701" y="914"/>
                      </a:lnTo>
                      <a:lnTo>
                        <a:pt x="2701" y="930"/>
                      </a:lnTo>
                      <a:lnTo>
                        <a:pt x="2715" y="961"/>
                      </a:lnTo>
                      <a:lnTo>
                        <a:pt x="2742" y="993"/>
                      </a:lnTo>
                      <a:lnTo>
                        <a:pt x="2784" y="1040"/>
                      </a:lnTo>
                      <a:lnTo>
                        <a:pt x="2784" y="1072"/>
                      </a:lnTo>
                      <a:lnTo>
                        <a:pt x="2770" y="1087"/>
                      </a:lnTo>
                      <a:lnTo>
                        <a:pt x="2756" y="1087"/>
                      </a:lnTo>
                      <a:lnTo>
                        <a:pt x="2742" y="1104"/>
                      </a:lnTo>
                      <a:lnTo>
                        <a:pt x="2729" y="1087"/>
                      </a:lnTo>
                      <a:lnTo>
                        <a:pt x="2729" y="1072"/>
                      </a:lnTo>
                      <a:lnTo>
                        <a:pt x="2729" y="1040"/>
                      </a:lnTo>
                      <a:lnTo>
                        <a:pt x="2715" y="1008"/>
                      </a:lnTo>
                      <a:lnTo>
                        <a:pt x="2715" y="993"/>
                      </a:lnTo>
                      <a:lnTo>
                        <a:pt x="2701" y="993"/>
                      </a:lnTo>
                      <a:lnTo>
                        <a:pt x="2687" y="978"/>
                      </a:lnTo>
                      <a:lnTo>
                        <a:pt x="2673" y="978"/>
                      </a:lnTo>
                      <a:lnTo>
                        <a:pt x="2659" y="978"/>
                      </a:lnTo>
                      <a:lnTo>
                        <a:pt x="2646" y="961"/>
                      </a:lnTo>
                      <a:lnTo>
                        <a:pt x="2646" y="946"/>
                      </a:lnTo>
                      <a:lnTo>
                        <a:pt x="2632" y="930"/>
                      </a:lnTo>
                      <a:lnTo>
                        <a:pt x="2618" y="961"/>
                      </a:lnTo>
                      <a:lnTo>
                        <a:pt x="2590" y="961"/>
                      </a:lnTo>
                      <a:lnTo>
                        <a:pt x="2590" y="946"/>
                      </a:lnTo>
                      <a:lnTo>
                        <a:pt x="2590" y="930"/>
                      </a:lnTo>
                      <a:lnTo>
                        <a:pt x="2576" y="914"/>
                      </a:lnTo>
                      <a:lnTo>
                        <a:pt x="2563" y="914"/>
                      </a:lnTo>
                      <a:lnTo>
                        <a:pt x="2549" y="930"/>
                      </a:lnTo>
                      <a:lnTo>
                        <a:pt x="2521" y="961"/>
                      </a:lnTo>
                      <a:lnTo>
                        <a:pt x="2535" y="993"/>
                      </a:lnTo>
                      <a:lnTo>
                        <a:pt x="2563" y="1008"/>
                      </a:lnTo>
                      <a:lnTo>
                        <a:pt x="2576" y="1008"/>
                      </a:lnTo>
                      <a:lnTo>
                        <a:pt x="2576" y="993"/>
                      </a:lnTo>
                      <a:lnTo>
                        <a:pt x="2590" y="993"/>
                      </a:lnTo>
                      <a:lnTo>
                        <a:pt x="2604" y="993"/>
                      </a:lnTo>
                      <a:lnTo>
                        <a:pt x="2618" y="993"/>
                      </a:lnTo>
                      <a:lnTo>
                        <a:pt x="2632" y="993"/>
                      </a:lnTo>
                      <a:lnTo>
                        <a:pt x="2632" y="1008"/>
                      </a:lnTo>
                      <a:lnTo>
                        <a:pt x="2618" y="1040"/>
                      </a:lnTo>
                      <a:lnTo>
                        <a:pt x="2604" y="1057"/>
                      </a:lnTo>
                      <a:lnTo>
                        <a:pt x="2590" y="1072"/>
                      </a:lnTo>
                      <a:lnTo>
                        <a:pt x="2590" y="1087"/>
                      </a:lnTo>
                      <a:lnTo>
                        <a:pt x="2604" y="1104"/>
                      </a:lnTo>
                      <a:lnTo>
                        <a:pt x="2618" y="1119"/>
                      </a:lnTo>
                      <a:lnTo>
                        <a:pt x="2646" y="1151"/>
                      </a:lnTo>
                      <a:lnTo>
                        <a:pt x="2659" y="1151"/>
                      </a:lnTo>
                      <a:lnTo>
                        <a:pt x="2673" y="1166"/>
                      </a:lnTo>
                      <a:lnTo>
                        <a:pt x="2659" y="1166"/>
                      </a:lnTo>
                      <a:lnTo>
                        <a:pt x="2632" y="1151"/>
                      </a:lnTo>
                      <a:lnTo>
                        <a:pt x="2618" y="1151"/>
                      </a:lnTo>
                      <a:lnTo>
                        <a:pt x="2632" y="1166"/>
                      </a:lnTo>
                      <a:lnTo>
                        <a:pt x="2646" y="1166"/>
                      </a:lnTo>
                      <a:lnTo>
                        <a:pt x="2659" y="1183"/>
                      </a:lnTo>
                      <a:lnTo>
                        <a:pt x="2673" y="1183"/>
                      </a:lnTo>
                      <a:lnTo>
                        <a:pt x="2673" y="1198"/>
                      </a:lnTo>
                      <a:lnTo>
                        <a:pt x="2659" y="1198"/>
                      </a:lnTo>
                      <a:lnTo>
                        <a:pt x="2646" y="1215"/>
                      </a:lnTo>
                      <a:lnTo>
                        <a:pt x="2659" y="1215"/>
                      </a:lnTo>
                      <a:lnTo>
                        <a:pt x="2673" y="1215"/>
                      </a:lnTo>
                      <a:lnTo>
                        <a:pt x="2687" y="1215"/>
                      </a:lnTo>
                      <a:lnTo>
                        <a:pt x="2701" y="1262"/>
                      </a:lnTo>
                      <a:lnTo>
                        <a:pt x="2687" y="1277"/>
                      </a:lnTo>
                      <a:lnTo>
                        <a:pt x="2687" y="1293"/>
                      </a:lnTo>
                      <a:lnTo>
                        <a:pt x="2659" y="1293"/>
                      </a:lnTo>
                      <a:lnTo>
                        <a:pt x="2659" y="1324"/>
                      </a:lnTo>
                      <a:lnTo>
                        <a:pt x="2673" y="1324"/>
                      </a:lnTo>
                      <a:lnTo>
                        <a:pt x="2659" y="1341"/>
                      </a:lnTo>
                      <a:lnTo>
                        <a:pt x="2659" y="1356"/>
                      </a:lnTo>
                      <a:lnTo>
                        <a:pt x="2646" y="1372"/>
                      </a:lnTo>
                      <a:lnTo>
                        <a:pt x="2632" y="1388"/>
                      </a:lnTo>
                      <a:lnTo>
                        <a:pt x="2618" y="1388"/>
                      </a:lnTo>
                      <a:lnTo>
                        <a:pt x="2590" y="1403"/>
                      </a:lnTo>
                      <a:lnTo>
                        <a:pt x="2576" y="1419"/>
                      </a:lnTo>
                      <a:lnTo>
                        <a:pt x="2563" y="1435"/>
                      </a:lnTo>
                      <a:lnTo>
                        <a:pt x="2549" y="1435"/>
                      </a:lnTo>
                      <a:lnTo>
                        <a:pt x="2535" y="1435"/>
                      </a:lnTo>
                      <a:lnTo>
                        <a:pt x="2521" y="1451"/>
                      </a:lnTo>
                      <a:lnTo>
                        <a:pt x="2507" y="1451"/>
                      </a:lnTo>
                      <a:lnTo>
                        <a:pt x="2507" y="1466"/>
                      </a:lnTo>
                      <a:lnTo>
                        <a:pt x="2493" y="1482"/>
                      </a:lnTo>
                      <a:lnTo>
                        <a:pt x="2493" y="1466"/>
                      </a:lnTo>
                      <a:lnTo>
                        <a:pt x="2493" y="1451"/>
                      </a:lnTo>
                      <a:lnTo>
                        <a:pt x="2452" y="1451"/>
                      </a:lnTo>
                      <a:lnTo>
                        <a:pt x="2424" y="1466"/>
                      </a:lnTo>
                      <a:lnTo>
                        <a:pt x="2410" y="1498"/>
                      </a:lnTo>
                      <a:lnTo>
                        <a:pt x="2424" y="1545"/>
                      </a:lnTo>
                      <a:lnTo>
                        <a:pt x="2452" y="1577"/>
                      </a:lnTo>
                      <a:lnTo>
                        <a:pt x="2493" y="1624"/>
                      </a:lnTo>
                      <a:lnTo>
                        <a:pt x="2493" y="1656"/>
                      </a:lnTo>
                      <a:lnTo>
                        <a:pt x="2493" y="1703"/>
                      </a:lnTo>
                      <a:lnTo>
                        <a:pt x="2480" y="1735"/>
                      </a:lnTo>
                      <a:lnTo>
                        <a:pt x="2480" y="1750"/>
                      </a:lnTo>
                      <a:lnTo>
                        <a:pt x="2466" y="1767"/>
                      </a:lnTo>
                      <a:lnTo>
                        <a:pt x="2452" y="1767"/>
                      </a:lnTo>
                      <a:lnTo>
                        <a:pt x="2438" y="1767"/>
                      </a:lnTo>
                      <a:lnTo>
                        <a:pt x="2424" y="1782"/>
                      </a:lnTo>
                      <a:lnTo>
                        <a:pt x="2424" y="1797"/>
                      </a:lnTo>
                      <a:lnTo>
                        <a:pt x="2410" y="1782"/>
                      </a:lnTo>
                      <a:lnTo>
                        <a:pt x="2410" y="1767"/>
                      </a:lnTo>
                      <a:lnTo>
                        <a:pt x="2410" y="1750"/>
                      </a:lnTo>
                      <a:lnTo>
                        <a:pt x="2397" y="1735"/>
                      </a:lnTo>
                      <a:lnTo>
                        <a:pt x="2383" y="1718"/>
                      </a:lnTo>
                      <a:lnTo>
                        <a:pt x="2369" y="1718"/>
                      </a:lnTo>
                      <a:lnTo>
                        <a:pt x="2355" y="1703"/>
                      </a:lnTo>
                      <a:lnTo>
                        <a:pt x="2341" y="1703"/>
                      </a:lnTo>
                      <a:lnTo>
                        <a:pt x="2327" y="1688"/>
                      </a:lnTo>
                      <a:lnTo>
                        <a:pt x="2314" y="1671"/>
                      </a:lnTo>
                      <a:lnTo>
                        <a:pt x="2314" y="1718"/>
                      </a:lnTo>
                      <a:lnTo>
                        <a:pt x="2314" y="1750"/>
                      </a:lnTo>
                      <a:lnTo>
                        <a:pt x="2314" y="1797"/>
                      </a:lnTo>
                      <a:lnTo>
                        <a:pt x="2327" y="1846"/>
                      </a:lnTo>
                      <a:lnTo>
                        <a:pt x="2341" y="1846"/>
                      </a:lnTo>
                      <a:lnTo>
                        <a:pt x="2355" y="1861"/>
                      </a:lnTo>
                      <a:lnTo>
                        <a:pt x="2369" y="1861"/>
                      </a:lnTo>
                      <a:lnTo>
                        <a:pt x="2383" y="1893"/>
                      </a:lnTo>
                      <a:lnTo>
                        <a:pt x="2397" y="1893"/>
                      </a:lnTo>
                      <a:lnTo>
                        <a:pt x="2397" y="1908"/>
                      </a:lnTo>
                      <a:lnTo>
                        <a:pt x="2397" y="1924"/>
                      </a:lnTo>
                      <a:lnTo>
                        <a:pt x="2397" y="1955"/>
                      </a:lnTo>
                      <a:lnTo>
                        <a:pt x="2397" y="1971"/>
                      </a:lnTo>
                      <a:lnTo>
                        <a:pt x="2410" y="1987"/>
                      </a:lnTo>
                      <a:lnTo>
                        <a:pt x="2410" y="2003"/>
                      </a:lnTo>
                      <a:lnTo>
                        <a:pt x="2397" y="2003"/>
                      </a:lnTo>
                      <a:lnTo>
                        <a:pt x="2383" y="1987"/>
                      </a:lnTo>
                      <a:lnTo>
                        <a:pt x="2369" y="1971"/>
                      </a:lnTo>
                      <a:lnTo>
                        <a:pt x="2355" y="1955"/>
                      </a:lnTo>
                      <a:lnTo>
                        <a:pt x="2355" y="1940"/>
                      </a:lnTo>
                      <a:lnTo>
                        <a:pt x="2341" y="1908"/>
                      </a:lnTo>
                      <a:lnTo>
                        <a:pt x="2327" y="1861"/>
                      </a:lnTo>
                      <a:lnTo>
                        <a:pt x="2314" y="1829"/>
                      </a:lnTo>
                      <a:lnTo>
                        <a:pt x="2300" y="1829"/>
                      </a:lnTo>
                      <a:lnTo>
                        <a:pt x="2286" y="1814"/>
                      </a:lnTo>
                      <a:lnTo>
                        <a:pt x="2286" y="1797"/>
                      </a:lnTo>
                      <a:lnTo>
                        <a:pt x="2286" y="1767"/>
                      </a:lnTo>
                      <a:lnTo>
                        <a:pt x="2286" y="1750"/>
                      </a:lnTo>
                      <a:lnTo>
                        <a:pt x="2286" y="1718"/>
                      </a:lnTo>
                      <a:lnTo>
                        <a:pt x="2272" y="1688"/>
                      </a:lnTo>
                      <a:lnTo>
                        <a:pt x="2272" y="1656"/>
                      </a:lnTo>
                      <a:lnTo>
                        <a:pt x="2272" y="1671"/>
                      </a:lnTo>
                      <a:lnTo>
                        <a:pt x="2258" y="1624"/>
                      </a:lnTo>
                      <a:lnTo>
                        <a:pt x="2244" y="1592"/>
                      </a:lnTo>
                      <a:lnTo>
                        <a:pt x="2231" y="1561"/>
                      </a:lnTo>
                      <a:lnTo>
                        <a:pt x="2217" y="1561"/>
                      </a:lnTo>
                      <a:lnTo>
                        <a:pt x="2217" y="1577"/>
                      </a:lnTo>
                      <a:lnTo>
                        <a:pt x="2217" y="1592"/>
                      </a:lnTo>
                      <a:lnTo>
                        <a:pt x="2203" y="1609"/>
                      </a:lnTo>
                      <a:lnTo>
                        <a:pt x="2188" y="1609"/>
                      </a:lnTo>
                      <a:lnTo>
                        <a:pt x="2174" y="1592"/>
                      </a:lnTo>
                      <a:lnTo>
                        <a:pt x="2188" y="1577"/>
                      </a:lnTo>
                      <a:lnTo>
                        <a:pt x="2188" y="1561"/>
                      </a:lnTo>
                      <a:lnTo>
                        <a:pt x="2160" y="1530"/>
                      </a:lnTo>
                      <a:lnTo>
                        <a:pt x="2132" y="1482"/>
                      </a:lnTo>
                      <a:lnTo>
                        <a:pt x="2119" y="1451"/>
                      </a:lnTo>
                      <a:lnTo>
                        <a:pt x="2119" y="1435"/>
                      </a:lnTo>
                      <a:lnTo>
                        <a:pt x="2105" y="1419"/>
                      </a:lnTo>
                      <a:lnTo>
                        <a:pt x="2105" y="1403"/>
                      </a:lnTo>
                      <a:lnTo>
                        <a:pt x="2091" y="1403"/>
                      </a:lnTo>
                      <a:lnTo>
                        <a:pt x="2077" y="1403"/>
                      </a:lnTo>
                      <a:lnTo>
                        <a:pt x="2063" y="1388"/>
                      </a:lnTo>
                      <a:lnTo>
                        <a:pt x="2049" y="1372"/>
                      </a:lnTo>
                      <a:lnTo>
                        <a:pt x="2049" y="1388"/>
                      </a:lnTo>
                      <a:lnTo>
                        <a:pt x="2063" y="1403"/>
                      </a:lnTo>
                      <a:lnTo>
                        <a:pt x="2077" y="1403"/>
                      </a:lnTo>
                      <a:lnTo>
                        <a:pt x="2077" y="1419"/>
                      </a:lnTo>
                      <a:lnTo>
                        <a:pt x="2077" y="1435"/>
                      </a:lnTo>
                      <a:lnTo>
                        <a:pt x="2063" y="1435"/>
                      </a:lnTo>
                      <a:lnTo>
                        <a:pt x="2049" y="1435"/>
                      </a:lnTo>
                      <a:lnTo>
                        <a:pt x="2036" y="1451"/>
                      </a:lnTo>
                      <a:lnTo>
                        <a:pt x="2022" y="1466"/>
                      </a:lnTo>
                      <a:lnTo>
                        <a:pt x="2008" y="1482"/>
                      </a:lnTo>
                      <a:lnTo>
                        <a:pt x="1994" y="1498"/>
                      </a:lnTo>
                      <a:lnTo>
                        <a:pt x="1980" y="1498"/>
                      </a:lnTo>
                      <a:lnTo>
                        <a:pt x="1980" y="1513"/>
                      </a:lnTo>
                      <a:lnTo>
                        <a:pt x="1966" y="1530"/>
                      </a:lnTo>
                      <a:lnTo>
                        <a:pt x="1939" y="1561"/>
                      </a:lnTo>
                      <a:lnTo>
                        <a:pt x="1911" y="1577"/>
                      </a:lnTo>
                      <a:lnTo>
                        <a:pt x="1883" y="1609"/>
                      </a:lnTo>
                      <a:lnTo>
                        <a:pt x="1883" y="1624"/>
                      </a:lnTo>
                      <a:lnTo>
                        <a:pt x="1883" y="1639"/>
                      </a:lnTo>
                      <a:lnTo>
                        <a:pt x="1870" y="1688"/>
                      </a:lnTo>
                      <a:lnTo>
                        <a:pt x="1856" y="1735"/>
                      </a:lnTo>
                      <a:lnTo>
                        <a:pt x="1842" y="1767"/>
                      </a:lnTo>
                      <a:lnTo>
                        <a:pt x="1828" y="1797"/>
                      </a:lnTo>
                      <a:lnTo>
                        <a:pt x="1814" y="1797"/>
                      </a:lnTo>
                      <a:lnTo>
                        <a:pt x="1814" y="1782"/>
                      </a:lnTo>
                      <a:lnTo>
                        <a:pt x="1814" y="1767"/>
                      </a:lnTo>
                      <a:lnTo>
                        <a:pt x="1800" y="1750"/>
                      </a:lnTo>
                      <a:lnTo>
                        <a:pt x="1800" y="1718"/>
                      </a:lnTo>
                      <a:lnTo>
                        <a:pt x="1787" y="1703"/>
                      </a:lnTo>
                      <a:lnTo>
                        <a:pt x="1773" y="1688"/>
                      </a:lnTo>
                      <a:lnTo>
                        <a:pt x="1787" y="1688"/>
                      </a:lnTo>
                      <a:lnTo>
                        <a:pt x="1773" y="1671"/>
                      </a:lnTo>
                      <a:lnTo>
                        <a:pt x="1773" y="1639"/>
                      </a:lnTo>
                      <a:lnTo>
                        <a:pt x="1759" y="1639"/>
                      </a:lnTo>
                      <a:lnTo>
                        <a:pt x="1759" y="1624"/>
                      </a:lnTo>
                      <a:lnTo>
                        <a:pt x="1745" y="1609"/>
                      </a:lnTo>
                      <a:lnTo>
                        <a:pt x="1745" y="1592"/>
                      </a:lnTo>
                      <a:lnTo>
                        <a:pt x="1745" y="1577"/>
                      </a:lnTo>
                      <a:lnTo>
                        <a:pt x="1731" y="1545"/>
                      </a:lnTo>
                      <a:lnTo>
                        <a:pt x="1718" y="1482"/>
                      </a:lnTo>
                      <a:lnTo>
                        <a:pt x="1704" y="1451"/>
                      </a:lnTo>
                      <a:lnTo>
                        <a:pt x="1690" y="1451"/>
                      </a:lnTo>
                      <a:lnTo>
                        <a:pt x="1690" y="1466"/>
                      </a:lnTo>
                      <a:lnTo>
                        <a:pt x="1676" y="1466"/>
                      </a:lnTo>
                      <a:lnTo>
                        <a:pt x="1662" y="1466"/>
                      </a:lnTo>
                      <a:lnTo>
                        <a:pt x="1648" y="1451"/>
                      </a:lnTo>
                      <a:lnTo>
                        <a:pt x="1635" y="1419"/>
                      </a:lnTo>
                      <a:lnTo>
                        <a:pt x="1648" y="1419"/>
                      </a:lnTo>
                      <a:lnTo>
                        <a:pt x="1662" y="1419"/>
                      </a:lnTo>
                      <a:lnTo>
                        <a:pt x="1662" y="1403"/>
                      </a:lnTo>
                      <a:lnTo>
                        <a:pt x="1648" y="1388"/>
                      </a:lnTo>
                      <a:lnTo>
                        <a:pt x="1635" y="1388"/>
                      </a:lnTo>
                      <a:lnTo>
                        <a:pt x="1621" y="1388"/>
                      </a:lnTo>
                      <a:lnTo>
                        <a:pt x="1607" y="1372"/>
                      </a:lnTo>
                      <a:lnTo>
                        <a:pt x="1593" y="1356"/>
                      </a:lnTo>
                      <a:lnTo>
                        <a:pt x="1579" y="1356"/>
                      </a:lnTo>
                      <a:lnTo>
                        <a:pt x="1579" y="1341"/>
                      </a:lnTo>
                      <a:lnTo>
                        <a:pt x="1565" y="1341"/>
                      </a:lnTo>
                      <a:lnTo>
                        <a:pt x="1538" y="1324"/>
                      </a:lnTo>
                      <a:lnTo>
                        <a:pt x="1496" y="1324"/>
                      </a:lnTo>
                      <a:lnTo>
                        <a:pt x="1455" y="1324"/>
                      </a:lnTo>
                      <a:lnTo>
                        <a:pt x="1413" y="1309"/>
                      </a:lnTo>
                      <a:lnTo>
                        <a:pt x="1370" y="1309"/>
                      </a:lnTo>
                      <a:lnTo>
                        <a:pt x="1370" y="1293"/>
                      </a:lnTo>
                      <a:lnTo>
                        <a:pt x="1343" y="1293"/>
                      </a:lnTo>
                      <a:lnTo>
                        <a:pt x="1329" y="1309"/>
                      </a:lnTo>
                      <a:lnTo>
                        <a:pt x="1301" y="1309"/>
                      </a:lnTo>
                      <a:lnTo>
                        <a:pt x="1301" y="1293"/>
                      </a:lnTo>
                      <a:lnTo>
                        <a:pt x="1287" y="1293"/>
                      </a:lnTo>
                      <a:lnTo>
                        <a:pt x="1274" y="1277"/>
                      </a:lnTo>
                      <a:lnTo>
                        <a:pt x="1260" y="1277"/>
                      </a:lnTo>
                      <a:lnTo>
                        <a:pt x="1260" y="1262"/>
                      </a:lnTo>
                      <a:lnTo>
                        <a:pt x="1246" y="1245"/>
                      </a:lnTo>
                      <a:lnTo>
                        <a:pt x="1232" y="1230"/>
                      </a:lnTo>
                      <a:lnTo>
                        <a:pt x="1218" y="1215"/>
                      </a:lnTo>
                      <a:lnTo>
                        <a:pt x="1204" y="1215"/>
                      </a:lnTo>
                      <a:lnTo>
                        <a:pt x="1191" y="1215"/>
                      </a:lnTo>
                      <a:lnTo>
                        <a:pt x="1191" y="1245"/>
                      </a:lnTo>
                      <a:lnTo>
                        <a:pt x="1218" y="1293"/>
                      </a:lnTo>
                      <a:lnTo>
                        <a:pt x="1232" y="1309"/>
                      </a:lnTo>
                      <a:lnTo>
                        <a:pt x="1246" y="1324"/>
                      </a:lnTo>
                      <a:lnTo>
                        <a:pt x="1246" y="1341"/>
                      </a:lnTo>
                      <a:lnTo>
                        <a:pt x="1246" y="1356"/>
                      </a:lnTo>
                      <a:lnTo>
                        <a:pt x="1260" y="1356"/>
                      </a:lnTo>
                      <a:lnTo>
                        <a:pt x="1260" y="1341"/>
                      </a:lnTo>
                      <a:lnTo>
                        <a:pt x="1260" y="1324"/>
                      </a:lnTo>
                      <a:lnTo>
                        <a:pt x="1287" y="1309"/>
                      </a:lnTo>
                      <a:lnTo>
                        <a:pt x="1329" y="1309"/>
                      </a:lnTo>
                      <a:lnTo>
                        <a:pt x="1357" y="1309"/>
                      </a:lnTo>
                      <a:lnTo>
                        <a:pt x="1370" y="1324"/>
                      </a:lnTo>
                      <a:lnTo>
                        <a:pt x="1370" y="1341"/>
                      </a:lnTo>
                      <a:lnTo>
                        <a:pt x="1370" y="1372"/>
                      </a:lnTo>
                      <a:lnTo>
                        <a:pt x="1384" y="1372"/>
                      </a:lnTo>
                      <a:lnTo>
                        <a:pt x="1384" y="1388"/>
                      </a:lnTo>
                      <a:lnTo>
                        <a:pt x="1413" y="1388"/>
                      </a:lnTo>
                      <a:lnTo>
                        <a:pt x="1427" y="1403"/>
                      </a:lnTo>
                      <a:lnTo>
                        <a:pt x="1441" y="1435"/>
                      </a:lnTo>
                      <a:lnTo>
                        <a:pt x="1441" y="1451"/>
                      </a:lnTo>
                      <a:lnTo>
                        <a:pt x="1427" y="1466"/>
                      </a:lnTo>
                      <a:lnTo>
                        <a:pt x="1427" y="1482"/>
                      </a:lnTo>
                      <a:lnTo>
                        <a:pt x="1413" y="1498"/>
                      </a:lnTo>
                      <a:lnTo>
                        <a:pt x="1413" y="1513"/>
                      </a:lnTo>
                      <a:lnTo>
                        <a:pt x="1399" y="1513"/>
                      </a:lnTo>
                      <a:lnTo>
                        <a:pt x="1384" y="1530"/>
                      </a:lnTo>
                      <a:lnTo>
                        <a:pt x="1370" y="1545"/>
                      </a:lnTo>
                      <a:lnTo>
                        <a:pt x="1357" y="1545"/>
                      </a:lnTo>
                      <a:lnTo>
                        <a:pt x="1343" y="1561"/>
                      </a:lnTo>
                      <a:lnTo>
                        <a:pt x="1315" y="1577"/>
                      </a:lnTo>
                      <a:lnTo>
                        <a:pt x="1301" y="1592"/>
                      </a:lnTo>
                      <a:lnTo>
                        <a:pt x="1287" y="1592"/>
                      </a:lnTo>
                      <a:lnTo>
                        <a:pt x="1287" y="1609"/>
                      </a:lnTo>
                      <a:lnTo>
                        <a:pt x="1287" y="1624"/>
                      </a:lnTo>
                      <a:lnTo>
                        <a:pt x="1274" y="1624"/>
                      </a:lnTo>
                      <a:lnTo>
                        <a:pt x="1260" y="1624"/>
                      </a:lnTo>
                      <a:lnTo>
                        <a:pt x="1246" y="1639"/>
                      </a:lnTo>
                      <a:lnTo>
                        <a:pt x="1232" y="1639"/>
                      </a:lnTo>
                      <a:lnTo>
                        <a:pt x="1232" y="1656"/>
                      </a:lnTo>
                      <a:lnTo>
                        <a:pt x="1218" y="1656"/>
                      </a:lnTo>
                      <a:lnTo>
                        <a:pt x="1204" y="1656"/>
                      </a:lnTo>
                      <a:lnTo>
                        <a:pt x="1191" y="1671"/>
                      </a:lnTo>
                      <a:lnTo>
                        <a:pt x="1163" y="1671"/>
                      </a:lnTo>
                      <a:lnTo>
                        <a:pt x="1149" y="1688"/>
                      </a:lnTo>
                      <a:lnTo>
                        <a:pt x="1121" y="1688"/>
                      </a:lnTo>
                      <a:lnTo>
                        <a:pt x="1108" y="1671"/>
                      </a:lnTo>
                      <a:lnTo>
                        <a:pt x="1108" y="1639"/>
                      </a:lnTo>
                      <a:lnTo>
                        <a:pt x="1108" y="1592"/>
                      </a:lnTo>
                      <a:lnTo>
                        <a:pt x="1094" y="1561"/>
                      </a:lnTo>
                      <a:lnTo>
                        <a:pt x="1080" y="1545"/>
                      </a:lnTo>
                      <a:lnTo>
                        <a:pt x="1066" y="1530"/>
                      </a:lnTo>
                      <a:lnTo>
                        <a:pt x="1066" y="1513"/>
                      </a:lnTo>
                      <a:lnTo>
                        <a:pt x="1052" y="1498"/>
                      </a:lnTo>
                      <a:lnTo>
                        <a:pt x="1038" y="1482"/>
                      </a:lnTo>
                      <a:lnTo>
                        <a:pt x="1025" y="1466"/>
                      </a:lnTo>
                      <a:lnTo>
                        <a:pt x="1025" y="1451"/>
                      </a:lnTo>
                      <a:lnTo>
                        <a:pt x="1011" y="1451"/>
                      </a:lnTo>
                      <a:lnTo>
                        <a:pt x="1011" y="1435"/>
                      </a:lnTo>
                      <a:lnTo>
                        <a:pt x="997" y="1419"/>
                      </a:lnTo>
                      <a:lnTo>
                        <a:pt x="983" y="1388"/>
                      </a:lnTo>
                      <a:lnTo>
                        <a:pt x="983" y="1372"/>
                      </a:lnTo>
                      <a:lnTo>
                        <a:pt x="969" y="1356"/>
                      </a:lnTo>
                      <a:lnTo>
                        <a:pt x="969" y="1341"/>
                      </a:lnTo>
                      <a:lnTo>
                        <a:pt x="955" y="1324"/>
                      </a:lnTo>
                      <a:lnTo>
                        <a:pt x="942" y="1293"/>
                      </a:lnTo>
                      <a:lnTo>
                        <a:pt x="928" y="1262"/>
                      </a:lnTo>
                      <a:lnTo>
                        <a:pt x="914" y="1262"/>
                      </a:lnTo>
                      <a:lnTo>
                        <a:pt x="914" y="1277"/>
                      </a:lnTo>
                      <a:lnTo>
                        <a:pt x="900" y="1277"/>
                      </a:lnTo>
                      <a:lnTo>
                        <a:pt x="886" y="1262"/>
                      </a:lnTo>
                      <a:lnTo>
                        <a:pt x="872" y="1245"/>
                      </a:lnTo>
                      <a:lnTo>
                        <a:pt x="859" y="1230"/>
                      </a:lnTo>
                      <a:lnTo>
                        <a:pt x="859" y="1215"/>
                      </a:lnTo>
                      <a:lnTo>
                        <a:pt x="845" y="1183"/>
                      </a:lnTo>
                      <a:lnTo>
                        <a:pt x="845" y="1166"/>
                      </a:lnTo>
                      <a:lnTo>
                        <a:pt x="859" y="1151"/>
                      </a:lnTo>
                      <a:lnTo>
                        <a:pt x="886" y="1151"/>
                      </a:lnTo>
                      <a:lnTo>
                        <a:pt x="914" y="1136"/>
                      </a:lnTo>
                      <a:lnTo>
                        <a:pt x="928" y="1104"/>
                      </a:lnTo>
                      <a:lnTo>
                        <a:pt x="914" y="1057"/>
                      </a:lnTo>
                      <a:lnTo>
                        <a:pt x="900" y="1040"/>
                      </a:lnTo>
                      <a:lnTo>
                        <a:pt x="886" y="1040"/>
                      </a:lnTo>
                      <a:lnTo>
                        <a:pt x="872" y="1040"/>
                      </a:lnTo>
                      <a:lnTo>
                        <a:pt x="859" y="1057"/>
                      </a:lnTo>
                      <a:lnTo>
                        <a:pt x="845" y="1040"/>
                      </a:lnTo>
                      <a:lnTo>
                        <a:pt x="831" y="1040"/>
                      </a:lnTo>
                      <a:lnTo>
                        <a:pt x="817" y="1008"/>
                      </a:lnTo>
                      <a:lnTo>
                        <a:pt x="817" y="1040"/>
                      </a:lnTo>
                      <a:lnTo>
                        <a:pt x="803" y="1040"/>
                      </a:lnTo>
                      <a:lnTo>
                        <a:pt x="789" y="1057"/>
                      </a:lnTo>
                      <a:lnTo>
                        <a:pt x="776" y="1040"/>
                      </a:lnTo>
                      <a:lnTo>
                        <a:pt x="762" y="1040"/>
                      </a:lnTo>
                      <a:lnTo>
                        <a:pt x="748" y="1040"/>
                      </a:lnTo>
                      <a:lnTo>
                        <a:pt x="748" y="1008"/>
                      </a:lnTo>
                      <a:lnTo>
                        <a:pt x="762" y="1008"/>
                      </a:lnTo>
                      <a:lnTo>
                        <a:pt x="748" y="993"/>
                      </a:lnTo>
                      <a:lnTo>
                        <a:pt x="734" y="993"/>
                      </a:lnTo>
                      <a:lnTo>
                        <a:pt x="720" y="978"/>
                      </a:lnTo>
                      <a:lnTo>
                        <a:pt x="734" y="978"/>
                      </a:lnTo>
                      <a:lnTo>
                        <a:pt x="734" y="961"/>
                      </a:lnTo>
                      <a:lnTo>
                        <a:pt x="720" y="946"/>
                      </a:lnTo>
                      <a:lnTo>
                        <a:pt x="720" y="930"/>
                      </a:lnTo>
                      <a:lnTo>
                        <a:pt x="720" y="914"/>
                      </a:lnTo>
                      <a:lnTo>
                        <a:pt x="748" y="899"/>
                      </a:lnTo>
                      <a:lnTo>
                        <a:pt x="776" y="899"/>
                      </a:lnTo>
                      <a:lnTo>
                        <a:pt x="789" y="899"/>
                      </a:lnTo>
                      <a:lnTo>
                        <a:pt x="803" y="899"/>
                      </a:lnTo>
                      <a:lnTo>
                        <a:pt x="817" y="899"/>
                      </a:lnTo>
                      <a:lnTo>
                        <a:pt x="859" y="883"/>
                      </a:lnTo>
                      <a:lnTo>
                        <a:pt x="914" y="883"/>
                      </a:lnTo>
                      <a:lnTo>
                        <a:pt x="955" y="899"/>
                      </a:lnTo>
                      <a:lnTo>
                        <a:pt x="969" y="899"/>
                      </a:lnTo>
                      <a:lnTo>
                        <a:pt x="983" y="899"/>
                      </a:lnTo>
                      <a:lnTo>
                        <a:pt x="997" y="899"/>
                      </a:lnTo>
                      <a:lnTo>
                        <a:pt x="1011" y="883"/>
                      </a:lnTo>
                      <a:lnTo>
                        <a:pt x="997" y="867"/>
                      </a:lnTo>
                      <a:lnTo>
                        <a:pt x="969" y="835"/>
                      </a:lnTo>
                      <a:lnTo>
                        <a:pt x="942" y="820"/>
                      </a:lnTo>
                      <a:lnTo>
                        <a:pt x="928" y="804"/>
                      </a:lnTo>
                      <a:lnTo>
                        <a:pt x="914" y="804"/>
                      </a:lnTo>
                      <a:lnTo>
                        <a:pt x="900" y="788"/>
                      </a:lnTo>
                      <a:lnTo>
                        <a:pt x="900" y="772"/>
                      </a:lnTo>
                      <a:lnTo>
                        <a:pt x="914" y="772"/>
                      </a:lnTo>
                      <a:lnTo>
                        <a:pt x="928" y="772"/>
                      </a:lnTo>
                      <a:lnTo>
                        <a:pt x="928" y="757"/>
                      </a:lnTo>
                      <a:lnTo>
                        <a:pt x="914" y="757"/>
                      </a:lnTo>
                      <a:lnTo>
                        <a:pt x="914" y="741"/>
                      </a:lnTo>
                      <a:lnTo>
                        <a:pt x="928" y="741"/>
                      </a:lnTo>
                      <a:lnTo>
                        <a:pt x="942" y="741"/>
                      </a:lnTo>
                      <a:lnTo>
                        <a:pt x="942" y="725"/>
                      </a:lnTo>
                      <a:lnTo>
                        <a:pt x="928" y="741"/>
                      </a:lnTo>
                      <a:lnTo>
                        <a:pt x="900" y="741"/>
                      </a:lnTo>
                      <a:lnTo>
                        <a:pt x="872" y="741"/>
                      </a:lnTo>
                      <a:lnTo>
                        <a:pt x="859" y="757"/>
                      </a:lnTo>
                      <a:lnTo>
                        <a:pt x="872" y="772"/>
                      </a:lnTo>
                      <a:lnTo>
                        <a:pt x="886" y="772"/>
                      </a:lnTo>
                      <a:lnTo>
                        <a:pt x="900" y="788"/>
                      </a:lnTo>
                      <a:lnTo>
                        <a:pt x="872" y="804"/>
                      </a:lnTo>
                      <a:lnTo>
                        <a:pt x="845" y="804"/>
                      </a:lnTo>
                      <a:lnTo>
                        <a:pt x="817" y="788"/>
                      </a:lnTo>
                      <a:lnTo>
                        <a:pt x="831" y="772"/>
                      </a:lnTo>
                      <a:lnTo>
                        <a:pt x="845" y="772"/>
                      </a:lnTo>
                      <a:lnTo>
                        <a:pt x="817" y="757"/>
                      </a:lnTo>
                      <a:lnTo>
                        <a:pt x="803" y="757"/>
                      </a:lnTo>
                      <a:lnTo>
                        <a:pt x="803" y="725"/>
                      </a:lnTo>
                      <a:lnTo>
                        <a:pt x="803" y="741"/>
                      </a:lnTo>
                      <a:lnTo>
                        <a:pt x="789" y="772"/>
                      </a:lnTo>
                      <a:lnTo>
                        <a:pt x="776" y="772"/>
                      </a:lnTo>
                      <a:lnTo>
                        <a:pt x="762" y="788"/>
                      </a:lnTo>
                      <a:lnTo>
                        <a:pt x="762" y="820"/>
                      </a:lnTo>
                      <a:lnTo>
                        <a:pt x="748" y="867"/>
                      </a:lnTo>
                      <a:lnTo>
                        <a:pt x="734" y="899"/>
                      </a:lnTo>
                      <a:lnTo>
                        <a:pt x="706" y="930"/>
                      </a:lnTo>
                      <a:lnTo>
                        <a:pt x="679" y="930"/>
                      </a:lnTo>
                      <a:lnTo>
                        <a:pt x="651" y="961"/>
                      </a:lnTo>
                      <a:lnTo>
                        <a:pt x="665" y="961"/>
                      </a:lnTo>
                      <a:lnTo>
                        <a:pt x="679" y="978"/>
                      </a:lnTo>
                      <a:lnTo>
                        <a:pt x="665" y="993"/>
                      </a:lnTo>
                      <a:lnTo>
                        <a:pt x="651" y="993"/>
                      </a:lnTo>
                      <a:lnTo>
                        <a:pt x="651" y="1008"/>
                      </a:lnTo>
                      <a:lnTo>
                        <a:pt x="665" y="1008"/>
                      </a:lnTo>
                      <a:lnTo>
                        <a:pt x="665" y="1040"/>
                      </a:lnTo>
                      <a:lnTo>
                        <a:pt x="651" y="1008"/>
                      </a:lnTo>
                      <a:lnTo>
                        <a:pt x="637" y="1008"/>
                      </a:lnTo>
                      <a:lnTo>
                        <a:pt x="623" y="993"/>
                      </a:lnTo>
                      <a:lnTo>
                        <a:pt x="623" y="978"/>
                      </a:lnTo>
                      <a:lnTo>
                        <a:pt x="637" y="978"/>
                      </a:lnTo>
                      <a:lnTo>
                        <a:pt x="623" y="961"/>
                      </a:lnTo>
                      <a:lnTo>
                        <a:pt x="610" y="946"/>
                      </a:lnTo>
                      <a:lnTo>
                        <a:pt x="594" y="930"/>
                      </a:lnTo>
                      <a:lnTo>
                        <a:pt x="581" y="914"/>
                      </a:lnTo>
                      <a:lnTo>
                        <a:pt x="581" y="883"/>
                      </a:lnTo>
                      <a:lnTo>
                        <a:pt x="567" y="867"/>
                      </a:lnTo>
                      <a:lnTo>
                        <a:pt x="553" y="851"/>
                      </a:lnTo>
                      <a:lnTo>
                        <a:pt x="539" y="851"/>
                      </a:lnTo>
                      <a:lnTo>
                        <a:pt x="525" y="851"/>
                      </a:lnTo>
                      <a:lnTo>
                        <a:pt x="525" y="835"/>
                      </a:lnTo>
                      <a:lnTo>
                        <a:pt x="511" y="835"/>
                      </a:lnTo>
                      <a:lnTo>
                        <a:pt x="484" y="804"/>
                      </a:lnTo>
                      <a:lnTo>
                        <a:pt x="470" y="772"/>
                      </a:lnTo>
                      <a:lnTo>
                        <a:pt x="456" y="772"/>
                      </a:lnTo>
                      <a:lnTo>
                        <a:pt x="442" y="804"/>
                      </a:lnTo>
                      <a:lnTo>
                        <a:pt x="442" y="820"/>
                      </a:lnTo>
                      <a:lnTo>
                        <a:pt x="470" y="835"/>
                      </a:lnTo>
                      <a:lnTo>
                        <a:pt x="470" y="851"/>
                      </a:lnTo>
                      <a:lnTo>
                        <a:pt x="470" y="867"/>
                      </a:lnTo>
                      <a:lnTo>
                        <a:pt x="484" y="867"/>
                      </a:lnTo>
                      <a:lnTo>
                        <a:pt x="498" y="867"/>
                      </a:lnTo>
                      <a:lnTo>
                        <a:pt x="511" y="867"/>
                      </a:lnTo>
                      <a:lnTo>
                        <a:pt x="511" y="883"/>
                      </a:lnTo>
                      <a:lnTo>
                        <a:pt x="525" y="883"/>
                      </a:lnTo>
                      <a:lnTo>
                        <a:pt x="539" y="899"/>
                      </a:lnTo>
                      <a:lnTo>
                        <a:pt x="553" y="914"/>
                      </a:lnTo>
                      <a:lnTo>
                        <a:pt x="567" y="930"/>
                      </a:lnTo>
                      <a:lnTo>
                        <a:pt x="567" y="946"/>
                      </a:lnTo>
                      <a:lnTo>
                        <a:pt x="553" y="978"/>
                      </a:lnTo>
                      <a:lnTo>
                        <a:pt x="525" y="978"/>
                      </a:lnTo>
                      <a:lnTo>
                        <a:pt x="511" y="978"/>
                      </a:lnTo>
                      <a:lnTo>
                        <a:pt x="511" y="946"/>
                      </a:lnTo>
                      <a:lnTo>
                        <a:pt x="511" y="930"/>
                      </a:lnTo>
                      <a:lnTo>
                        <a:pt x="498" y="914"/>
                      </a:lnTo>
                      <a:lnTo>
                        <a:pt x="484" y="899"/>
                      </a:lnTo>
                      <a:lnTo>
                        <a:pt x="470" y="899"/>
                      </a:lnTo>
                      <a:lnTo>
                        <a:pt x="456" y="899"/>
                      </a:lnTo>
                      <a:lnTo>
                        <a:pt x="442" y="883"/>
                      </a:lnTo>
                      <a:lnTo>
                        <a:pt x="428" y="867"/>
                      </a:lnTo>
                      <a:lnTo>
                        <a:pt x="415" y="867"/>
                      </a:lnTo>
                      <a:lnTo>
                        <a:pt x="415" y="851"/>
                      </a:lnTo>
                      <a:lnTo>
                        <a:pt x="401" y="835"/>
                      </a:lnTo>
                      <a:lnTo>
                        <a:pt x="401" y="820"/>
                      </a:lnTo>
                      <a:lnTo>
                        <a:pt x="359" y="804"/>
                      </a:lnTo>
                      <a:lnTo>
                        <a:pt x="332" y="820"/>
                      </a:lnTo>
                      <a:lnTo>
                        <a:pt x="332" y="835"/>
                      </a:lnTo>
                      <a:lnTo>
                        <a:pt x="304" y="851"/>
                      </a:lnTo>
                      <a:lnTo>
                        <a:pt x="290" y="835"/>
                      </a:lnTo>
                      <a:lnTo>
                        <a:pt x="276" y="835"/>
                      </a:lnTo>
                      <a:lnTo>
                        <a:pt x="262" y="835"/>
                      </a:lnTo>
                      <a:lnTo>
                        <a:pt x="249" y="851"/>
                      </a:lnTo>
                      <a:lnTo>
                        <a:pt x="249" y="867"/>
                      </a:lnTo>
                      <a:lnTo>
                        <a:pt x="249" y="883"/>
                      </a:lnTo>
                      <a:lnTo>
                        <a:pt x="235" y="883"/>
                      </a:lnTo>
                      <a:lnTo>
                        <a:pt x="235" y="899"/>
                      </a:lnTo>
                      <a:lnTo>
                        <a:pt x="221" y="899"/>
                      </a:lnTo>
                      <a:lnTo>
                        <a:pt x="207" y="914"/>
                      </a:lnTo>
                      <a:lnTo>
                        <a:pt x="193" y="930"/>
                      </a:lnTo>
                      <a:lnTo>
                        <a:pt x="193" y="946"/>
                      </a:lnTo>
                      <a:lnTo>
                        <a:pt x="193" y="961"/>
                      </a:lnTo>
                      <a:lnTo>
                        <a:pt x="179" y="978"/>
                      </a:lnTo>
                      <a:lnTo>
                        <a:pt x="166" y="993"/>
                      </a:lnTo>
                      <a:lnTo>
                        <a:pt x="152" y="1008"/>
                      </a:lnTo>
                      <a:lnTo>
                        <a:pt x="138" y="1040"/>
                      </a:lnTo>
                      <a:lnTo>
                        <a:pt x="124" y="1008"/>
                      </a:lnTo>
                      <a:lnTo>
                        <a:pt x="96" y="1008"/>
                      </a:lnTo>
                      <a:lnTo>
                        <a:pt x="96" y="1040"/>
                      </a:lnTo>
                      <a:lnTo>
                        <a:pt x="83" y="1040"/>
                      </a:lnTo>
                      <a:lnTo>
                        <a:pt x="55" y="1057"/>
                      </a:lnTo>
                      <a:lnTo>
                        <a:pt x="41" y="1040"/>
                      </a:lnTo>
                      <a:lnTo>
                        <a:pt x="14" y="1008"/>
                      </a:lnTo>
                      <a:lnTo>
                        <a:pt x="0" y="993"/>
                      </a:lnTo>
                      <a:lnTo>
                        <a:pt x="0" y="978"/>
                      </a:lnTo>
                      <a:lnTo>
                        <a:pt x="0" y="961"/>
                      </a:lnTo>
                      <a:lnTo>
                        <a:pt x="14" y="946"/>
                      </a:lnTo>
                      <a:lnTo>
                        <a:pt x="14" y="930"/>
                      </a:lnTo>
                      <a:lnTo>
                        <a:pt x="27" y="914"/>
                      </a:lnTo>
                      <a:lnTo>
                        <a:pt x="27" y="883"/>
                      </a:lnTo>
                      <a:lnTo>
                        <a:pt x="14" y="851"/>
                      </a:lnTo>
                      <a:lnTo>
                        <a:pt x="41" y="820"/>
                      </a:lnTo>
                      <a:lnTo>
                        <a:pt x="55" y="835"/>
                      </a:lnTo>
                      <a:lnTo>
                        <a:pt x="96" y="835"/>
                      </a:lnTo>
                      <a:lnTo>
                        <a:pt x="138" y="820"/>
                      </a:lnTo>
                      <a:lnTo>
                        <a:pt x="166" y="804"/>
                      </a:lnTo>
                      <a:lnTo>
                        <a:pt x="179" y="772"/>
                      </a:lnTo>
                      <a:lnTo>
                        <a:pt x="166" y="757"/>
                      </a:lnTo>
                      <a:lnTo>
                        <a:pt x="138" y="725"/>
                      </a:lnTo>
                      <a:lnTo>
                        <a:pt x="110" y="710"/>
                      </a:lnTo>
                      <a:lnTo>
                        <a:pt x="96" y="693"/>
                      </a:lnTo>
                      <a:lnTo>
                        <a:pt x="110" y="693"/>
                      </a:lnTo>
                      <a:lnTo>
                        <a:pt x="124" y="693"/>
                      </a:lnTo>
                      <a:lnTo>
                        <a:pt x="138" y="678"/>
                      </a:lnTo>
                      <a:lnTo>
                        <a:pt x="152" y="678"/>
                      </a:lnTo>
                      <a:lnTo>
                        <a:pt x="152" y="662"/>
                      </a:lnTo>
                      <a:lnTo>
                        <a:pt x="166" y="662"/>
                      </a:lnTo>
                      <a:lnTo>
                        <a:pt x="179" y="678"/>
                      </a:lnTo>
                      <a:lnTo>
                        <a:pt x="193" y="678"/>
                      </a:lnTo>
                      <a:lnTo>
                        <a:pt x="207" y="662"/>
                      </a:lnTo>
                      <a:lnTo>
                        <a:pt x="221" y="646"/>
                      </a:lnTo>
                      <a:lnTo>
                        <a:pt x="235" y="631"/>
                      </a:lnTo>
                      <a:lnTo>
                        <a:pt x="249" y="631"/>
                      </a:lnTo>
                      <a:lnTo>
                        <a:pt x="262" y="614"/>
                      </a:lnTo>
                      <a:lnTo>
                        <a:pt x="262" y="599"/>
                      </a:lnTo>
                      <a:lnTo>
                        <a:pt x="276" y="584"/>
                      </a:lnTo>
                      <a:lnTo>
                        <a:pt x="290" y="584"/>
                      </a:lnTo>
                      <a:lnTo>
                        <a:pt x="304" y="584"/>
                      </a:lnTo>
                      <a:lnTo>
                        <a:pt x="318" y="567"/>
                      </a:lnTo>
                      <a:lnTo>
                        <a:pt x="359" y="552"/>
                      </a:lnTo>
                      <a:lnTo>
                        <a:pt x="359" y="535"/>
                      </a:lnTo>
                      <a:lnTo>
                        <a:pt x="332" y="520"/>
                      </a:lnTo>
                      <a:lnTo>
                        <a:pt x="332" y="505"/>
                      </a:lnTo>
                      <a:lnTo>
                        <a:pt x="332" y="488"/>
                      </a:lnTo>
                      <a:lnTo>
                        <a:pt x="359" y="488"/>
                      </a:lnTo>
                      <a:lnTo>
                        <a:pt x="359" y="473"/>
                      </a:lnTo>
                      <a:lnTo>
                        <a:pt x="373" y="473"/>
                      </a:lnTo>
                      <a:lnTo>
                        <a:pt x="387" y="456"/>
                      </a:lnTo>
                      <a:lnTo>
                        <a:pt x="387" y="473"/>
                      </a:lnTo>
                      <a:lnTo>
                        <a:pt x="373" y="473"/>
                      </a:lnTo>
                      <a:lnTo>
                        <a:pt x="373" y="505"/>
                      </a:lnTo>
                      <a:lnTo>
                        <a:pt x="373" y="535"/>
                      </a:lnTo>
                      <a:lnTo>
                        <a:pt x="401" y="552"/>
                      </a:lnTo>
                      <a:lnTo>
                        <a:pt x="415" y="552"/>
                      </a:lnTo>
                      <a:lnTo>
                        <a:pt x="428" y="552"/>
                      </a:lnTo>
                      <a:lnTo>
                        <a:pt x="442" y="552"/>
                      </a:lnTo>
                      <a:lnTo>
                        <a:pt x="456" y="567"/>
                      </a:lnTo>
                      <a:lnTo>
                        <a:pt x="456" y="552"/>
                      </a:lnTo>
                      <a:lnTo>
                        <a:pt x="470" y="552"/>
                      </a:lnTo>
                      <a:lnTo>
                        <a:pt x="484" y="552"/>
                      </a:lnTo>
                      <a:lnTo>
                        <a:pt x="498" y="552"/>
                      </a:lnTo>
                      <a:lnTo>
                        <a:pt x="511" y="535"/>
                      </a:lnTo>
                      <a:lnTo>
                        <a:pt x="525" y="535"/>
                      </a:lnTo>
                      <a:lnTo>
                        <a:pt x="539" y="520"/>
                      </a:lnTo>
                      <a:lnTo>
                        <a:pt x="553" y="488"/>
                      </a:lnTo>
                      <a:lnTo>
                        <a:pt x="581" y="473"/>
                      </a:lnTo>
                      <a:lnTo>
                        <a:pt x="594" y="473"/>
                      </a:lnTo>
                      <a:lnTo>
                        <a:pt x="610" y="473"/>
                      </a:lnTo>
                      <a:lnTo>
                        <a:pt x="623" y="473"/>
                      </a:lnTo>
                      <a:lnTo>
                        <a:pt x="623" y="456"/>
                      </a:lnTo>
                      <a:lnTo>
                        <a:pt x="610" y="441"/>
                      </a:lnTo>
                      <a:lnTo>
                        <a:pt x="610" y="426"/>
                      </a:lnTo>
                      <a:lnTo>
                        <a:pt x="610" y="409"/>
                      </a:lnTo>
                      <a:lnTo>
                        <a:pt x="623" y="409"/>
                      </a:lnTo>
                      <a:lnTo>
                        <a:pt x="637" y="409"/>
                      </a:lnTo>
                      <a:lnTo>
                        <a:pt x="651" y="409"/>
                      </a:lnTo>
                      <a:lnTo>
                        <a:pt x="665" y="394"/>
                      </a:lnTo>
                      <a:lnTo>
                        <a:pt x="679" y="394"/>
                      </a:lnTo>
                      <a:lnTo>
                        <a:pt x="665" y="377"/>
                      </a:lnTo>
                      <a:lnTo>
                        <a:pt x="665" y="394"/>
                      </a:lnTo>
                      <a:lnTo>
                        <a:pt x="651" y="394"/>
                      </a:lnTo>
                      <a:lnTo>
                        <a:pt x="623" y="394"/>
                      </a:lnTo>
                      <a:lnTo>
                        <a:pt x="594" y="409"/>
                      </a:lnTo>
                      <a:lnTo>
                        <a:pt x="567" y="394"/>
                      </a:lnTo>
                      <a:lnTo>
                        <a:pt x="553" y="362"/>
                      </a:lnTo>
                      <a:lnTo>
                        <a:pt x="553" y="330"/>
                      </a:lnTo>
                      <a:lnTo>
                        <a:pt x="581" y="315"/>
                      </a:lnTo>
                      <a:lnTo>
                        <a:pt x="594" y="299"/>
                      </a:lnTo>
                      <a:lnTo>
                        <a:pt x="610" y="283"/>
                      </a:lnTo>
                      <a:lnTo>
                        <a:pt x="610" y="268"/>
                      </a:lnTo>
                      <a:lnTo>
                        <a:pt x="581" y="252"/>
                      </a:lnTo>
                      <a:lnTo>
                        <a:pt x="567" y="252"/>
                      </a:lnTo>
                      <a:lnTo>
                        <a:pt x="553" y="268"/>
                      </a:lnTo>
                      <a:lnTo>
                        <a:pt x="553" y="283"/>
                      </a:lnTo>
                      <a:lnTo>
                        <a:pt x="539" y="315"/>
                      </a:lnTo>
                      <a:lnTo>
                        <a:pt x="525" y="315"/>
                      </a:lnTo>
                      <a:lnTo>
                        <a:pt x="511" y="330"/>
                      </a:lnTo>
                      <a:lnTo>
                        <a:pt x="498" y="330"/>
                      </a:lnTo>
                      <a:lnTo>
                        <a:pt x="484" y="347"/>
                      </a:lnTo>
                      <a:lnTo>
                        <a:pt x="498" y="362"/>
                      </a:lnTo>
                      <a:lnTo>
                        <a:pt x="511" y="377"/>
                      </a:lnTo>
                      <a:lnTo>
                        <a:pt x="525" y="394"/>
                      </a:lnTo>
                      <a:lnTo>
                        <a:pt x="525" y="409"/>
                      </a:lnTo>
                      <a:lnTo>
                        <a:pt x="511" y="409"/>
                      </a:lnTo>
                      <a:lnTo>
                        <a:pt x="498" y="409"/>
                      </a:lnTo>
                      <a:lnTo>
                        <a:pt x="470" y="409"/>
                      </a:lnTo>
                      <a:lnTo>
                        <a:pt x="470" y="426"/>
                      </a:lnTo>
                      <a:lnTo>
                        <a:pt x="484" y="441"/>
                      </a:lnTo>
                      <a:lnTo>
                        <a:pt x="498" y="441"/>
                      </a:lnTo>
                      <a:lnTo>
                        <a:pt x="484" y="473"/>
                      </a:lnTo>
                      <a:lnTo>
                        <a:pt x="456" y="505"/>
                      </a:lnTo>
                      <a:lnTo>
                        <a:pt x="442" y="520"/>
                      </a:lnTo>
                      <a:lnTo>
                        <a:pt x="428" y="520"/>
                      </a:lnTo>
                      <a:lnTo>
                        <a:pt x="428" y="505"/>
                      </a:lnTo>
                      <a:lnTo>
                        <a:pt x="428" y="488"/>
                      </a:lnTo>
                      <a:lnTo>
                        <a:pt x="415" y="473"/>
                      </a:lnTo>
                      <a:lnTo>
                        <a:pt x="401" y="456"/>
                      </a:lnTo>
                      <a:lnTo>
                        <a:pt x="401" y="441"/>
                      </a:lnTo>
                      <a:lnTo>
                        <a:pt x="401" y="409"/>
                      </a:lnTo>
                      <a:lnTo>
                        <a:pt x="387" y="409"/>
                      </a:lnTo>
                      <a:lnTo>
                        <a:pt x="359" y="426"/>
                      </a:lnTo>
                      <a:lnTo>
                        <a:pt x="332" y="441"/>
                      </a:lnTo>
                      <a:lnTo>
                        <a:pt x="304" y="456"/>
                      </a:lnTo>
                      <a:lnTo>
                        <a:pt x="290" y="441"/>
                      </a:lnTo>
                      <a:lnTo>
                        <a:pt x="276" y="426"/>
                      </a:lnTo>
                      <a:lnTo>
                        <a:pt x="276" y="409"/>
                      </a:lnTo>
                      <a:lnTo>
                        <a:pt x="290" y="409"/>
                      </a:lnTo>
                      <a:lnTo>
                        <a:pt x="304" y="394"/>
                      </a:lnTo>
                      <a:lnTo>
                        <a:pt x="304" y="377"/>
                      </a:lnTo>
                      <a:lnTo>
                        <a:pt x="290" y="394"/>
                      </a:lnTo>
                      <a:lnTo>
                        <a:pt x="276" y="377"/>
                      </a:lnTo>
                      <a:lnTo>
                        <a:pt x="290" y="362"/>
                      </a:lnTo>
                      <a:lnTo>
                        <a:pt x="304" y="362"/>
                      </a:lnTo>
                      <a:lnTo>
                        <a:pt x="290" y="347"/>
                      </a:lnTo>
                      <a:lnTo>
                        <a:pt x="276" y="347"/>
                      </a:lnTo>
                      <a:lnTo>
                        <a:pt x="276" y="330"/>
                      </a:lnTo>
                      <a:lnTo>
                        <a:pt x="290" y="330"/>
                      </a:lnTo>
                      <a:lnTo>
                        <a:pt x="304" y="330"/>
                      </a:lnTo>
                      <a:lnTo>
                        <a:pt x="318" y="330"/>
                      </a:lnTo>
                      <a:lnTo>
                        <a:pt x="332" y="347"/>
                      </a:lnTo>
                      <a:lnTo>
                        <a:pt x="373" y="347"/>
                      </a:lnTo>
                      <a:lnTo>
                        <a:pt x="387" y="315"/>
                      </a:lnTo>
                      <a:lnTo>
                        <a:pt x="387" y="299"/>
                      </a:lnTo>
                      <a:lnTo>
                        <a:pt x="373" y="315"/>
                      </a:lnTo>
                      <a:lnTo>
                        <a:pt x="359" y="315"/>
                      </a:lnTo>
                      <a:lnTo>
                        <a:pt x="359" y="299"/>
                      </a:lnTo>
                      <a:lnTo>
                        <a:pt x="373" y="299"/>
                      </a:lnTo>
                      <a:lnTo>
                        <a:pt x="387" y="283"/>
                      </a:lnTo>
                      <a:lnTo>
                        <a:pt x="401" y="268"/>
                      </a:lnTo>
                      <a:lnTo>
                        <a:pt x="415" y="252"/>
                      </a:lnTo>
                      <a:lnTo>
                        <a:pt x="415" y="236"/>
                      </a:lnTo>
                      <a:lnTo>
                        <a:pt x="428" y="220"/>
                      </a:lnTo>
                      <a:lnTo>
                        <a:pt x="442" y="220"/>
                      </a:lnTo>
                      <a:lnTo>
                        <a:pt x="456" y="205"/>
                      </a:lnTo>
                      <a:lnTo>
                        <a:pt x="470" y="189"/>
                      </a:lnTo>
                      <a:lnTo>
                        <a:pt x="470" y="173"/>
                      </a:lnTo>
                      <a:lnTo>
                        <a:pt x="484" y="173"/>
                      </a:lnTo>
                      <a:lnTo>
                        <a:pt x="498" y="173"/>
                      </a:lnTo>
                      <a:lnTo>
                        <a:pt x="511" y="173"/>
                      </a:lnTo>
                      <a:lnTo>
                        <a:pt x="498" y="173"/>
                      </a:lnTo>
                      <a:lnTo>
                        <a:pt x="511" y="173"/>
                      </a:lnTo>
                      <a:lnTo>
                        <a:pt x="525" y="173"/>
                      </a:lnTo>
                      <a:lnTo>
                        <a:pt x="525" y="157"/>
                      </a:lnTo>
                      <a:lnTo>
                        <a:pt x="553" y="157"/>
                      </a:lnTo>
                      <a:lnTo>
                        <a:pt x="581" y="141"/>
                      </a:lnTo>
                      <a:lnTo>
                        <a:pt x="623" y="141"/>
                      </a:lnTo>
                      <a:lnTo>
                        <a:pt x="637" y="141"/>
                      </a:lnTo>
                      <a:lnTo>
                        <a:pt x="665" y="141"/>
                      </a:lnTo>
                      <a:lnTo>
                        <a:pt x="679" y="157"/>
                      </a:lnTo>
                      <a:lnTo>
                        <a:pt x="679" y="173"/>
                      </a:lnTo>
                      <a:lnTo>
                        <a:pt x="720" y="189"/>
                      </a:lnTo>
                      <a:lnTo>
                        <a:pt x="762" y="189"/>
                      </a:lnTo>
                      <a:lnTo>
                        <a:pt x="817" y="205"/>
                      </a:lnTo>
                      <a:lnTo>
                        <a:pt x="845" y="220"/>
                      </a:lnTo>
                      <a:lnTo>
                        <a:pt x="859" y="220"/>
                      </a:lnTo>
                      <a:lnTo>
                        <a:pt x="831" y="252"/>
                      </a:lnTo>
                      <a:lnTo>
                        <a:pt x="803" y="252"/>
                      </a:lnTo>
                      <a:lnTo>
                        <a:pt x="776" y="252"/>
                      </a:lnTo>
                      <a:lnTo>
                        <a:pt x="748" y="236"/>
                      </a:lnTo>
                      <a:lnTo>
                        <a:pt x="706" y="220"/>
                      </a:lnTo>
                      <a:lnTo>
                        <a:pt x="706" y="236"/>
                      </a:lnTo>
                      <a:lnTo>
                        <a:pt x="734" y="236"/>
                      </a:lnTo>
                      <a:lnTo>
                        <a:pt x="748" y="252"/>
                      </a:lnTo>
                      <a:lnTo>
                        <a:pt x="762" y="268"/>
                      </a:lnTo>
                      <a:lnTo>
                        <a:pt x="789" y="315"/>
                      </a:lnTo>
                      <a:lnTo>
                        <a:pt x="817" y="315"/>
                      </a:lnTo>
                      <a:lnTo>
                        <a:pt x="817" y="299"/>
                      </a:lnTo>
                      <a:lnTo>
                        <a:pt x="803" y="283"/>
                      </a:lnTo>
                      <a:lnTo>
                        <a:pt x="803" y="268"/>
                      </a:lnTo>
                      <a:lnTo>
                        <a:pt x="817" y="283"/>
                      </a:lnTo>
                      <a:lnTo>
                        <a:pt x="831" y="283"/>
                      </a:lnTo>
                      <a:lnTo>
                        <a:pt x="831" y="268"/>
                      </a:lnTo>
                      <a:lnTo>
                        <a:pt x="845" y="268"/>
                      </a:lnTo>
                      <a:lnTo>
                        <a:pt x="859" y="252"/>
                      </a:lnTo>
                      <a:lnTo>
                        <a:pt x="872" y="236"/>
                      </a:lnTo>
                      <a:lnTo>
                        <a:pt x="886" y="236"/>
                      </a:lnTo>
                      <a:lnTo>
                        <a:pt x="886" y="220"/>
                      </a:lnTo>
                      <a:lnTo>
                        <a:pt x="886" y="205"/>
                      </a:lnTo>
                      <a:lnTo>
                        <a:pt x="914" y="189"/>
                      </a:lnTo>
                      <a:lnTo>
                        <a:pt x="914" y="205"/>
                      </a:lnTo>
                      <a:lnTo>
                        <a:pt x="914" y="220"/>
                      </a:lnTo>
                      <a:lnTo>
                        <a:pt x="914" y="236"/>
                      </a:lnTo>
                      <a:lnTo>
                        <a:pt x="928" y="236"/>
                      </a:lnTo>
                      <a:lnTo>
                        <a:pt x="955" y="236"/>
                      </a:lnTo>
                      <a:lnTo>
                        <a:pt x="983" y="220"/>
                      </a:lnTo>
                      <a:lnTo>
                        <a:pt x="997" y="205"/>
                      </a:lnTo>
                      <a:lnTo>
                        <a:pt x="1025" y="189"/>
                      </a:lnTo>
                      <a:lnTo>
                        <a:pt x="1052" y="189"/>
                      </a:lnTo>
                      <a:lnTo>
                        <a:pt x="1094" y="173"/>
                      </a:lnTo>
                      <a:lnTo>
                        <a:pt x="1121" y="173"/>
                      </a:lnTo>
                      <a:lnTo>
                        <a:pt x="1135" y="173"/>
                      </a:lnTo>
                      <a:lnTo>
                        <a:pt x="1135" y="157"/>
                      </a:lnTo>
                      <a:lnTo>
                        <a:pt x="1163" y="173"/>
                      </a:lnTo>
                      <a:lnTo>
                        <a:pt x="1177" y="173"/>
                      </a:lnTo>
                      <a:lnTo>
                        <a:pt x="1204" y="173"/>
                      </a:lnTo>
                      <a:lnTo>
                        <a:pt x="1218" y="189"/>
                      </a:lnTo>
                      <a:lnTo>
                        <a:pt x="1232" y="189"/>
                      </a:lnTo>
                      <a:lnTo>
                        <a:pt x="1246" y="189"/>
                      </a:lnTo>
                      <a:lnTo>
                        <a:pt x="1246" y="173"/>
                      </a:lnTo>
                      <a:lnTo>
                        <a:pt x="1232" y="157"/>
                      </a:lnTo>
                      <a:lnTo>
                        <a:pt x="1204" y="141"/>
                      </a:lnTo>
                      <a:lnTo>
                        <a:pt x="1204" y="126"/>
                      </a:lnTo>
                      <a:lnTo>
                        <a:pt x="1218" y="110"/>
                      </a:lnTo>
                      <a:lnTo>
                        <a:pt x="1218" y="94"/>
                      </a:lnTo>
                      <a:lnTo>
                        <a:pt x="1246" y="110"/>
                      </a:lnTo>
                      <a:lnTo>
                        <a:pt x="1260" y="110"/>
                      </a:lnTo>
                      <a:lnTo>
                        <a:pt x="1274" y="126"/>
                      </a:lnTo>
                      <a:lnTo>
                        <a:pt x="1287" y="126"/>
                      </a:lnTo>
                      <a:lnTo>
                        <a:pt x="1301" y="141"/>
                      </a:lnTo>
                      <a:lnTo>
                        <a:pt x="1315" y="157"/>
                      </a:lnTo>
                      <a:lnTo>
                        <a:pt x="1315" y="173"/>
                      </a:lnTo>
                      <a:lnTo>
                        <a:pt x="1315" y="189"/>
                      </a:lnTo>
                      <a:lnTo>
                        <a:pt x="1329" y="189"/>
                      </a:lnTo>
                      <a:lnTo>
                        <a:pt x="1343" y="205"/>
                      </a:lnTo>
                      <a:lnTo>
                        <a:pt x="1343" y="220"/>
                      </a:lnTo>
                      <a:lnTo>
                        <a:pt x="1329" y="236"/>
                      </a:lnTo>
                      <a:lnTo>
                        <a:pt x="1315" y="236"/>
                      </a:lnTo>
                      <a:lnTo>
                        <a:pt x="1301" y="236"/>
                      </a:lnTo>
                      <a:lnTo>
                        <a:pt x="1343" y="252"/>
                      </a:lnTo>
                      <a:lnTo>
                        <a:pt x="1357" y="236"/>
                      </a:lnTo>
                      <a:lnTo>
                        <a:pt x="1370" y="205"/>
                      </a:lnTo>
                      <a:lnTo>
                        <a:pt x="1384" y="189"/>
                      </a:lnTo>
                      <a:lnTo>
                        <a:pt x="1399" y="205"/>
                      </a:lnTo>
                      <a:lnTo>
                        <a:pt x="1427" y="220"/>
                      </a:lnTo>
                      <a:lnTo>
                        <a:pt x="1441" y="220"/>
                      </a:lnTo>
                      <a:lnTo>
                        <a:pt x="1441" y="205"/>
                      </a:lnTo>
                      <a:lnTo>
                        <a:pt x="1413" y="189"/>
                      </a:lnTo>
                      <a:lnTo>
                        <a:pt x="1399" y="189"/>
                      </a:lnTo>
                      <a:lnTo>
                        <a:pt x="1370" y="173"/>
                      </a:lnTo>
                      <a:lnTo>
                        <a:pt x="1343" y="157"/>
                      </a:lnTo>
                      <a:lnTo>
                        <a:pt x="1315" y="141"/>
                      </a:lnTo>
                      <a:lnTo>
                        <a:pt x="1301" y="94"/>
                      </a:lnTo>
                      <a:lnTo>
                        <a:pt x="1315" y="94"/>
                      </a:lnTo>
                      <a:lnTo>
                        <a:pt x="1315" y="110"/>
                      </a:lnTo>
                      <a:lnTo>
                        <a:pt x="1329" y="126"/>
                      </a:lnTo>
                      <a:lnTo>
                        <a:pt x="1343" y="126"/>
                      </a:lnTo>
                      <a:lnTo>
                        <a:pt x="1357" y="110"/>
                      </a:lnTo>
                      <a:lnTo>
                        <a:pt x="1370" y="110"/>
                      </a:lnTo>
                      <a:lnTo>
                        <a:pt x="1384" y="110"/>
                      </a:lnTo>
                      <a:lnTo>
                        <a:pt x="1399" y="110"/>
                      </a:lnTo>
                      <a:lnTo>
                        <a:pt x="1427" y="126"/>
                      </a:lnTo>
                      <a:lnTo>
                        <a:pt x="1441" y="126"/>
                      </a:lnTo>
                      <a:lnTo>
                        <a:pt x="1455" y="141"/>
                      </a:lnTo>
                      <a:lnTo>
                        <a:pt x="1469" y="141"/>
                      </a:lnTo>
                      <a:lnTo>
                        <a:pt x="1469" y="157"/>
                      </a:lnTo>
                      <a:lnTo>
                        <a:pt x="1455" y="141"/>
                      </a:lnTo>
                      <a:lnTo>
                        <a:pt x="1455" y="126"/>
                      </a:lnTo>
                      <a:lnTo>
                        <a:pt x="1441" y="126"/>
                      </a:lnTo>
                      <a:lnTo>
                        <a:pt x="1427" y="110"/>
                      </a:lnTo>
                      <a:lnTo>
                        <a:pt x="1413" y="110"/>
                      </a:lnTo>
                      <a:lnTo>
                        <a:pt x="1399" y="110"/>
                      </a:lnTo>
                      <a:lnTo>
                        <a:pt x="1384" y="94"/>
                      </a:lnTo>
                      <a:lnTo>
                        <a:pt x="1370" y="94"/>
                      </a:lnTo>
                      <a:lnTo>
                        <a:pt x="1370" y="79"/>
                      </a:lnTo>
                      <a:lnTo>
                        <a:pt x="1399" y="79"/>
                      </a:lnTo>
                      <a:lnTo>
                        <a:pt x="1427" y="79"/>
                      </a:lnTo>
                      <a:lnTo>
                        <a:pt x="1441" y="79"/>
                      </a:lnTo>
                      <a:lnTo>
                        <a:pt x="1455" y="94"/>
                      </a:lnTo>
                      <a:lnTo>
                        <a:pt x="1469" y="94"/>
                      </a:lnTo>
                      <a:lnTo>
                        <a:pt x="1482" y="94"/>
                      </a:lnTo>
                      <a:lnTo>
                        <a:pt x="1469" y="79"/>
                      </a:lnTo>
                      <a:lnTo>
                        <a:pt x="1455" y="62"/>
                      </a:lnTo>
                      <a:lnTo>
                        <a:pt x="1441" y="62"/>
                      </a:lnTo>
                      <a:lnTo>
                        <a:pt x="1455" y="62"/>
                      </a:lnTo>
                      <a:lnTo>
                        <a:pt x="1441" y="47"/>
                      </a:lnTo>
                      <a:lnTo>
                        <a:pt x="1455" y="47"/>
                      </a:lnTo>
                      <a:lnTo>
                        <a:pt x="1469" y="47"/>
                      </a:lnTo>
                      <a:lnTo>
                        <a:pt x="1510" y="32"/>
                      </a:lnTo>
                      <a:lnTo>
                        <a:pt x="1552" y="15"/>
                      </a:lnTo>
                      <a:lnTo>
                        <a:pt x="1579" y="15"/>
                      </a:lnTo>
                      <a:lnTo>
                        <a:pt x="1593" y="0"/>
                      </a:lnTo>
                      <a:lnTo>
                        <a:pt x="1621" y="0"/>
                      </a:lnTo>
                      <a:lnTo>
                        <a:pt x="1635" y="0"/>
                      </a:lnTo>
                      <a:lnTo>
                        <a:pt x="1648" y="0"/>
                      </a:lnTo>
                      <a:lnTo>
                        <a:pt x="1676" y="0"/>
                      </a:lnTo>
                      <a:lnTo>
                        <a:pt x="1704" y="0"/>
                      </a:lnTo>
                      <a:lnTo>
                        <a:pt x="1731" y="15"/>
                      </a:lnTo>
                      <a:lnTo>
                        <a:pt x="1773" y="32"/>
                      </a:lnTo>
                      <a:lnTo>
                        <a:pt x="1787" y="32"/>
                      </a:lnTo>
                      <a:lnTo>
                        <a:pt x="1800" y="32"/>
                      </a:lnTo>
                      <a:lnTo>
                        <a:pt x="1814" y="47"/>
                      </a:lnTo>
                      <a:lnTo>
                        <a:pt x="1814" y="62"/>
                      </a:lnTo>
                      <a:lnTo>
                        <a:pt x="1800" y="62"/>
                      </a:lnTo>
                      <a:lnTo>
                        <a:pt x="1787" y="62"/>
                      </a:lnTo>
                      <a:lnTo>
                        <a:pt x="1773" y="79"/>
                      </a:lnTo>
                      <a:lnTo>
                        <a:pt x="1759" y="94"/>
                      </a:lnTo>
                      <a:lnTo>
                        <a:pt x="1745" y="94"/>
                      </a:lnTo>
                      <a:lnTo>
                        <a:pt x="1759" y="94"/>
                      </a:lnTo>
                      <a:lnTo>
                        <a:pt x="1787" y="79"/>
                      </a:lnTo>
                      <a:lnTo>
                        <a:pt x="1814" y="79"/>
                      </a:lnTo>
                      <a:lnTo>
                        <a:pt x="1842" y="79"/>
                      </a:lnTo>
                      <a:lnTo>
                        <a:pt x="1856" y="79"/>
                      </a:lnTo>
                      <a:lnTo>
                        <a:pt x="1870" y="94"/>
                      </a:lnTo>
                      <a:lnTo>
                        <a:pt x="1883" y="110"/>
                      </a:lnTo>
                      <a:lnTo>
                        <a:pt x="1870" y="94"/>
                      </a:lnTo>
                      <a:lnTo>
                        <a:pt x="1856" y="79"/>
                      </a:lnTo>
                      <a:lnTo>
                        <a:pt x="1870" y="79"/>
                      </a:lnTo>
                      <a:lnTo>
                        <a:pt x="1883" y="79"/>
                      </a:lnTo>
                      <a:lnTo>
                        <a:pt x="1897" y="79"/>
                      </a:lnTo>
                      <a:lnTo>
                        <a:pt x="1911" y="79"/>
                      </a:lnTo>
                      <a:lnTo>
                        <a:pt x="1925" y="79"/>
                      </a:lnTo>
                      <a:lnTo>
                        <a:pt x="1939" y="79"/>
                      </a:lnTo>
                      <a:lnTo>
                        <a:pt x="1939" y="94"/>
                      </a:lnTo>
                      <a:lnTo>
                        <a:pt x="1966" y="94"/>
                      </a:lnTo>
                      <a:lnTo>
                        <a:pt x="2008" y="110"/>
                      </a:lnTo>
                      <a:lnTo>
                        <a:pt x="2036" y="110"/>
                      </a:lnTo>
                      <a:lnTo>
                        <a:pt x="2077" y="126"/>
                      </a:lnTo>
                      <a:lnTo>
                        <a:pt x="2105" y="126"/>
                      </a:lnTo>
                      <a:lnTo>
                        <a:pt x="2091" y="110"/>
                      </a:lnTo>
                      <a:lnTo>
                        <a:pt x="2077" y="110"/>
                      </a:lnTo>
                      <a:lnTo>
                        <a:pt x="2091" y="110"/>
                      </a:lnTo>
                      <a:lnTo>
                        <a:pt x="2119" y="126"/>
                      </a:lnTo>
                      <a:lnTo>
                        <a:pt x="2132" y="126"/>
                      </a:lnTo>
                      <a:lnTo>
                        <a:pt x="2119" y="126"/>
                      </a:lnTo>
                      <a:lnTo>
                        <a:pt x="2119" y="110"/>
                      </a:lnTo>
                      <a:lnTo>
                        <a:pt x="2146" y="126"/>
                      </a:lnTo>
                      <a:lnTo>
                        <a:pt x="2160" y="141"/>
                      </a:lnTo>
                      <a:lnTo>
                        <a:pt x="2188" y="141"/>
                      </a:lnTo>
                      <a:lnTo>
                        <a:pt x="2188" y="126"/>
                      </a:lnTo>
                      <a:lnTo>
                        <a:pt x="2203" y="126"/>
                      </a:lnTo>
                      <a:lnTo>
                        <a:pt x="2217" y="126"/>
                      </a:lnTo>
                      <a:lnTo>
                        <a:pt x="2231" y="126"/>
                      </a:lnTo>
                      <a:lnTo>
                        <a:pt x="2258" y="110"/>
                      </a:lnTo>
                      <a:lnTo>
                        <a:pt x="2272" y="94"/>
                      </a:lnTo>
                      <a:lnTo>
                        <a:pt x="2286" y="94"/>
                      </a:lnTo>
                      <a:lnTo>
                        <a:pt x="2314" y="110"/>
                      </a:lnTo>
                      <a:lnTo>
                        <a:pt x="2341" y="126"/>
                      </a:lnTo>
                      <a:lnTo>
                        <a:pt x="2369" y="126"/>
                      </a:lnTo>
                      <a:lnTo>
                        <a:pt x="2397" y="126"/>
                      </a:lnTo>
                      <a:lnTo>
                        <a:pt x="2397" y="110"/>
                      </a:lnTo>
                      <a:lnTo>
                        <a:pt x="2410" y="110"/>
                      </a:lnTo>
                      <a:lnTo>
                        <a:pt x="2438" y="126"/>
                      </a:lnTo>
                      <a:lnTo>
                        <a:pt x="2424" y="126"/>
                      </a:lnTo>
                      <a:lnTo>
                        <a:pt x="2466" y="141"/>
                      </a:lnTo>
                      <a:lnTo>
                        <a:pt x="2493" y="141"/>
                      </a:lnTo>
                      <a:lnTo>
                        <a:pt x="2521" y="141"/>
                      </a:lnTo>
                      <a:lnTo>
                        <a:pt x="2535" y="141"/>
                      </a:lnTo>
                      <a:lnTo>
                        <a:pt x="2549" y="141"/>
                      </a:lnTo>
                      <a:lnTo>
                        <a:pt x="2576" y="141"/>
                      </a:lnTo>
                      <a:lnTo>
                        <a:pt x="2604" y="141"/>
                      </a:lnTo>
                      <a:lnTo>
                        <a:pt x="2618" y="141"/>
                      </a:lnTo>
                      <a:lnTo>
                        <a:pt x="2632" y="157"/>
                      </a:lnTo>
                      <a:lnTo>
                        <a:pt x="2646" y="157"/>
                      </a:lnTo>
                      <a:lnTo>
                        <a:pt x="2646" y="173"/>
                      </a:lnTo>
                      <a:lnTo>
                        <a:pt x="2632" y="173"/>
                      </a:lnTo>
                      <a:lnTo>
                        <a:pt x="2618" y="189"/>
                      </a:lnTo>
                      <a:lnTo>
                        <a:pt x="2632" y="189"/>
                      </a:lnTo>
                      <a:lnTo>
                        <a:pt x="2646" y="189"/>
                      </a:lnTo>
                      <a:lnTo>
                        <a:pt x="2659" y="189"/>
                      </a:lnTo>
                      <a:lnTo>
                        <a:pt x="2701" y="189"/>
                      </a:lnTo>
                      <a:lnTo>
                        <a:pt x="2687" y="173"/>
                      </a:lnTo>
                      <a:lnTo>
                        <a:pt x="2715" y="173"/>
                      </a:lnTo>
                      <a:lnTo>
                        <a:pt x="2756" y="173"/>
                      </a:lnTo>
                      <a:lnTo>
                        <a:pt x="2798" y="173"/>
                      </a:lnTo>
                      <a:lnTo>
                        <a:pt x="2812" y="189"/>
                      </a:lnTo>
                      <a:lnTo>
                        <a:pt x="2825" y="189"/>
                      </a:lnTo>
                      <a:lnTo>
                        <a:pt x="2839" y="189"/>
                      </a:lnTo>
                      <a:lnTo>
                        <a:pt x="2825" y="173"/>
                      </a:lnTo>
                      <a:lnTo>
                        <a:pt x="2812" y="173"/>
                      </a:lnTo>
                      <a:lnTo>
                        <a:pt x="2798" y="157"/>
                      </a:lnTo>
                      <a:lnTo>
                        <a:pt x="2839" y="157"/>
                      </a:lnTo>
                      <a:lnTo>
                        <a:pt x="2881" y="173"/>
                      </a:lnTo>
                      <a:lnTo>
                        <a:pt x="2908" y="173"/>
                      </a:lnTo>
                      <a:lnTo>
                        <a:pt x="2950" y="173"/>
                      </a:lnTo>
                      <a:lnTo>
                        <a:pt x="2964" y="173"/>
                      </a:lnTo>
                      <a:lnTo>
                        <a:pt x="2964" y="189"/>
                      </a:lnTo>
                      <a:lnTo>
                        <a:pt x="2978" y="189"/>
                      </a:lnTo>
                      <a:lnTo>
                        <a:pt x="2993" y="189"/>
                      </a:lnTo>
                      <a:lnTo>
                        <a:pt x="2993" y="205"/>
                      </a:lnTo>
                      <a:lnTo>
                        <a:pt x="3020" y="205"/>
                      </a:lnTo>
                      <a:lnTo>
                        <a:pt x="3048" y="220"/>
                      </a:lnTo>
                      <a:lnTo>
                        <a:pt x="3062" y="236"/>
                      </a:lnTo>
                      <a:lnTo>
                        <a:pt x="3090" y="252"/>
                      </a:lnTo>
                      <a:lnTo>
                        <a:pt x="3117" y="28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7786800" y="2585880"/>
                  <a:ext cx="21960" cy="17640"/>
                </a:xfrm>
                <a:custGeom>
                  <a:avLst/>
                  <a:gdLst/>
                  <a:ahLst/>
                  <a:rect l="l" t="t" r="r" b="b"/>
                  <a:pathLst>
                    <a:path w="41" h="32">
                      <a:moveTo>
                        <a:pt x="41" y="15"/>
                      </a:moveTo>
                      <a:lnTo>
                        <a:pt x="27" y="15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13" y="15"/>
                      </a:lnTo>
                      <a:lnTo>
                        <a:pt x="13" y="32"/>
                      </a:lnTo>
                      <a:lnTo>
                        <a:pt x="27" y="32"/>
                      </a:lnTo>
                      <a:lnTo>
                        <a:pt x="41" y="32"/>
                      </a:lnTo>
                      <a:lnTo>
                        <a:pt x="41" y="15"/>
                      </a:lnTo>
                      <a:close/>
                    </a:path>
                  </a:pathLst>
                </a:custGeom>
                <a:solidFill>
                  <a:srgbClr val="bb74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7786800" y="2585880"/>
                  <a:ext cx="21960" cy="17640"/>
                </a:xfrm>
                <a:custGeom>
                  <a:avLst/>
                  <a:gdLst/>
                  <a:ahLst/>
                  <a:rect l="l" t="t" r="r" b="b"/>
                  <a:pathLst>
                    <a:path w="41" h="32">
                      <a:moveTo>
                        <a:pt x="41" y="15"/>
                      </a:moveTo>
                      <a:lnTo>
                        <a:pt x="27" y="15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13" y="15"/>
                      </a:lnTo>
                      <a:lnTo>
                        <a:pt x="13" y="32"/>
                      </a:lnTo>
                      <a:lnTo>
                        <a:pt x="27" y="32"/>
                      </a:lnTo>
                      <a:lnTo>
                        <a:pt x="41" y="32"/>
                      </a:lnTo>
                      <a:lnTo>
                        <a:pt x="41" y="1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5967360" y="2685960"/>
                  <a:ext cx="60480" cy="17640"/>
                </a:xfrm>
                <a:custGeom>
                  <a:avLst/>
                  <a:gdLst/>
                  <a:ahLst/>
                  <a:rect l="l" t="t" r="r" b="b"/>
                  <a:pathLst>
                    <a:path w="112" h="32">
                      <a:moveTo>
                        <a:pt x="0" y="32"/>
                      </a:moveTo>
                      <a:lnTo>
                        <a:pt x="30" y="32"/>
                      </a:lnTo>
                      <a:lnTo>
                        <a:pt x="43" y="32"/>
                      </a:lnTo>
                      <a:lnTo>
                        <a:pt x="57" y="16"/>
                      </a:lnTo>
                      <a:lnTo>
                        <a:pt x="71" y="16"/>
                      </a:lnTo>
                      <a:lnTo>
                        <a:pt x="85" y="0"/>
                      </a:lnTo>
                      <a:lnTo>
                        <a:pt x="112" y="0"/>
                      </a:lnTo>
                      <a:lnTo>
                        <a:pt x="99" y="0"/>
                      </a:lnTo>
                      <a:lnTo>
                        <a:pt x="99" y="16"/>
                      </a:lnTo>
                      <a:lnTo>
                        <a:pt x="85" y="16"/>
                      </a:lnTo>
                      <a:lnTo>
                        <a:pt x="71" y="32"/>
                      </a:lnTo>
                      <a:lnTo>
                        <a:pt x="57" y="32"/>
                      </a:lnTo>
                      <a:lnTo>
                        <a:pt x="43" y="32"/>
                      </a:lnTo>
                      <a:lnTo>
                        <a:pt x="16" y="32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bb74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5967360" y="2685960"/>
                  <a:ext cx="60480" cy="17640"/>
                </a:xfrm>
                <a:custGeom>
                  <a:avLst/>
                  <a:gdLst/>
                  <a:ahLst/>
                  <a:rect l="l" t="t" r="r" b="b"/>
                  <a:pathLst>
                    <a:path w="112" h="32">
                      <a:moveTo>
                        <a:pt x="0" y="32"/>
                      </a:moveTo>
                      <a:lnTo>
                        <a:pt x="30" y="32"/>
                      </a:lnTo>
                      <a:lnTo>
                        <a:pt x="43" y="32"/>
                      </a:lnTo>
                      <a:lnTo>
                        <a:pt x="57" y="16"/>
                      </a:lnTo>
                      <a:lnTo>
                        <a:pt x="71" y="16"/>
                      </a:lnTo>
                      <a:lnTo>
                        <a:pt x="85" y="0"/>
                      </a:lnTo>
                      <a:lnTo>
                        <a:pt x="112" y="0"/>
                      </a:lnTo>
                      <a:lnTo>
                        <a:pt x="99" y="0"/>
                      </a:lnTo>
                      <a:lnTo>
                        <a:pt x="99" y="16"/>
                      </a:lnTo>
                      <a:lnTo>
                        <a:pt x="85" y="16"/>
                      </a:lnTo>
                      <a:lnTo>
                        <a:pt x="71" y="32"/>
                      </a:lnTo>
                      <a:lnTo>
                        <a:pt x="57" y="32"/>
                      </a:lnTo>
                      <a:lnTo>
                        <a:pt x="43" y="32"/>
                      </a:lnTo>
                      <a:lnTo>
                        <a:pt x="16" y="32"/>
                      </a:lnTo>
                      <a:lnTo>
                        <a:pt x="0" y="3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7273800" y="2736720"/>
                  <a:ext cx="7920" cy="24120"/>
                </a:xfrm>
                <a:custGeom>
                  <a:avLst/>
                  <a:gdLst/>
                  <a:ahLst/>
                  <a:rect l="l" t="t" r="r" b="b"/>
                  <a:pathLst>
                    <a:path w="14" h="47">
                      <a:moveTo>
                        <a:pt x="0" y="47"/>
                      </a:moveTo>
                      <a:lnTo>
                        <a:pt x="14" y="32"/>
                      </a:lnTo>
                      <a:lnTo>
                        <a:pt x="14" y="17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0" y="32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bb74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7273800" y="2736720"/>
                  <a:ext cx="7920" cy="24120"/>
                </a:xfrm>
                <a:custGeom>
                  <a:avLst/>
                  <a:gdLst/>
                  <a:ahLst/>
                  <a:rect l="l" t="t" r="r" b="b"/>
                  <a:pathLst>
                    <a:path w="14" h="47">
                      <a:moveTo>
                        <a:pt x="0" y="47"/>
                      </a:moveTo>
                      <a:lnTo>
                        <a:pt x="14" y="32"/>
                      </a:lnTo>
                      <a:lnTo>
                        <a:pt x="14" y="17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0" y="32"/>
                      </a:lnTo>
                      <a:lnTo>
                        <a:pt x="0" y="4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251840" y="2736720"/>
                  <a:ext cx="7920" cy="24120"/>
                </a:xfrm>
                <a:custGeom>
                  <a:avLst/>
                  <a:gdLst/>
                  <a:ahLst/>
                  <a:rect l="l" t="t" r="r" b="b"/>
                  <a:pathLst>
                    <a:path w="14" h="47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17"/>
                      </a:lnTo>
                      <a:lnTo>
                        <a:pt x="14" y="32"/>
                      </a:lnTo>
                      <a:lnTo>
                        <a:pt x="14" y="47"/>
                      </a:lnTo>
                      <a:lnTo>
                        <a:pt x="14" y="32"/>
                      </a:lnTo>
                      <a:lnTo>
                        <a:pt x="14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b74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7251840" y="2736720"/>
                  <a:ext cx="7920" cy="24120"/>
                </a:xfrm>
                <a:custGeom>
                  <a:avLst/>
                  <a:gdLst/>
                  <a:ahLst/>
                  <a:rect l="l" t="t" r="r" b="b"/>
                  <a:pathLst>
                    <a:path w="14" h="47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17"/>
                      </a:lnTo>
                      <a:lnTo>
                        <a:pt x="14" y="32"/>
                      </a:lnTo>
                      <a:lnTo>
                        <a:pt x="14" y="47"/>
                      </a:lnTo>
                      <a:lnTo>
                        <a:pt x="14" y="32"/>
                      </a:lnTo>
                      <a:lnTo>
                        <a:pt x="14" y="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5997600" y="2736720"/>
                  <a:ext cx="66600" cy="24120"/>
                </a:xfrm>
                <a:custGeom>
                  <a:avLst/>
                  <a:gdLst/>
                  <a:ahLst/>
                  <a:rect l="l" t="t" r="r" b="b"/>
                  <a:pathLst>
                    <a:path w="125" h="47">
                      <a:moveTo>
                        <a:pt x="0" y="47"/>
                      </a:moveTo>
                      <a:lnTo>
                        <a:pt x="14" y="47"/>
                      </a:lnTo>
                      <a:lnTo>
                        <a:pt x="28" y="32"/>
                      </a:lnTo>
                      <a:lnTo>
                        <a:pt x="28" y="17"/>
                      </a:lnTo>
                      <a:lnTo>
                        <a:pt x="55" y="0"/>
                      </a:lnTo>
                      <a:lnTo>
                        <a:pt x="83" y="0"/>
                      </a:lnTo>
                      <a:lnTo>
                        <a:pt x="111" y="0"/>
                      </a:lnTo>
                      <a:lnTo>
                        <a:pt x="125" y="0"/>
                      </a:lnTo>
                      <a:lnTo>
                        <a:pt x="111" y="17"/>
                      </a:lnTo>
                      <a:lnTo>
                        <a:pt x="97" y="17"/>
                      </a:lnTo>
                      <a:lnTo>
                        <a:pt x="83" y="17"/>
                      </a:lnTo>
                      <a:lnTo>
                        <a:pt x="69" y="32"/>
                      </a:lnTo>
                      <a:lnTo>
                        <a:pt x="55" y="32"/>
                      </a:lnTo>
                      <a:lnTo>
                        <a:pt x="28" y="47"/>
                      </a:lnTo>
                      <a:lnTo>
                        <a:pt x="14" y="47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bb74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5997600" y="2736720"/>
                  <a:ext cx="66600" cy="24120"/>
                </a:xfrm>
                <a:custGeom>
                  <a:avLst/>
                  <a:gdLst/>
                  <a:ahLst/>
                  <a:rect l="l" t="t" r="r" b="b"/>
                  <a:pathLst>
                    <a:path w="125" h="47">
                      <a:moveTo>
                        <a:pt x="0" y="47"/>
                      </a:moveTo>
                      <a:lnTo>
                        <a:pt x="14" y="47"/>
                      </a:lnTo>
                      <a:lnTo>
                        <a:pt x="28" y="32"/>
                      </a:lnTo>
                      <a:lnTo>
                        <a:pt x="28" y="17"/>
                      </a:lnTo>
                      <a:lnTo>
                        <a:pt x="55" y="0"/>
                      </a:lnTo>
                      <a:lnTo>
                        <a:pt x="83" y="0"/>
                      </a:lnTo>
                      <a:lnTo>
                        <a:pt x="111" y="0"/>
                      </a:lnTo>
                      <a:lnTo>
                        <a:pt x="125" y="0"/>
                      </a:lnTo>
                      <a:lnTo>
                        <a:pt x="111" y="17"/>
                      </a:lnTo>
                      <a:lnTo>
                        <a:pt x="97" y="17"/>
                      </a:lnTo>
                      <a:lnTo>
                        <a:pt x="83" y="17"/>
                      </a:lnTo>
                      <a:lnTo>
                        <a:pt x="69" y="32"/>
                      </a:lnTo>
                      <a:lnTo>
                        <a:pt x="55" y="32"/>
                      </a:lnTo>
                      <a:lnTo>
                        <a:pt x="28" y="47"/>
                      </a:lnTo>
                      <a:lnTo>
                        <a:pt x="14" y="47"/>
                      </a:lnTo>
                      <a:lnTo>
                        <a:pt x="0" y="4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7332840" y="2736720"/>
                  <a:ext cx="21960" cy="24120"/>
                </a:xfrm>
                <a:custGeom>
                  <a:avLst/>
                  <a:gdLst/>
                  <a:ahLst/>
                  <a:rect l="l" t="t" r="r" b="b"/>
                  <a:pathLst>
                    <a:path w="41" h="47">
                      <a:moveTo>
                        <a:pt x="0" y="0"/>
                      </a:moveTo>
                      <a:lnTo>
                        <a:pt x="13" y="17"/>
                      </a:lnTo>
                      <a:lnTo>
                        <a:pt x="27" y="32"/>
                      </a:lnTo>
                      <a:lnTo>
                        <a:pt x="41" y="47"/>
                      </a:lnTo>
                      <a:lnTo>
                        <a:pt x="27" y="47"/>
                      </a:lnTo>
                      <a:lnTo>
                        <a:pt x="13" y="47"/>
                      </a:lnTo>
                      <a:lnTo>
                        <a:pt x="0" y="17"/>
                      </a:lnTo>
                      <a:lnTo>
                        <a:pt x="13" y="17"/>
                      </a:lnTo>
                      <a:lnTo>
                        <a:pt x="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b74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7332840" y="2736720"/>
                  <a:ext cx="21960" cy="24120"/>
                </a:xfrm>
                <a:custGeom>
                  <a:avLst/>
                  <a:gdLst/>
                  <a:ahLst/>
                  <a:rect l="l" t="t" r="r" b="b"/>
                  <a:pathLst>
                    <a:path w="41" h="47">
                      <a:moveTo>
                        <a:pt x="0" y="0"/>
                      </a:moveTo>
                      <a:lnTo>
                        <a:pt x="13" y="17"/>
                      </a:lnTo>
                      <a:lnTo>
                        <a:pt x="27" y="32"/>
                      </a:lnTo>
                      <a:lnTo>
                        <a:pt x="41" y="47"/>
                      </a:lnTo>
                      <a:lnTo>
                        <a:pt x="27" y="47"/>
                      </a:lnTo>
                      <a:lnTo>
                        <a:pt x="13" y="47"/>
                      </a:lnTo>
                      <a:lnTo>
                        <a:pt x="0" y="17"/>
                      </a:lnTo>
                      <a:lnTo>
                        <a:pt x="13" y="17"/>
                      </a:ln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7296120" y="2752560"/>
                  <a:ext cx="14400" cy="2556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14" y="0"/>
                      </a:moveTo>
                      <a:lnTo>
                        <a:pt x="14" y="15"/>
                      </a:lnTo>
                      <a:lnTo>
                        <a:pt x="28" y="32"/>
                      </a:lnTo>
                      <a:lnTo>
                        <a:pt x="28" y="47"/>
                      </a:lnTo>
                      <a:lnTo>
                        <a:pt x="28" y="32"/>
                      </a:lnTo>
                      <a:lnTo>
                        <a:pt x="14" y="32"/>
                      </a:lnTo>
                      <a:lnTo>
                        <a:pt x="0" y="15"/>
                      </a:lnTo>
                      <a:lnTo>
                        <a:pt x="0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bb74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7296120" y="2752560"/>
                  <a:ext cx="14400" cy="2556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14" y="0"/>
                      </a:moveTo>
                      <a:lnTo>
                        <a:pt x="14" y="15"/>
                      </a:lnTo>
                      <a:lnTo>
                        <a:pt x="28" y="32"/>
                      </a:lnTo>
                      <a:lnTo>
                        <a:pt x="28" y="47"/>
                      </a:lnTo>
                      <a:lnTo>
                        <a:pt x="28" y="32"/>
                      </a:lnTo>
                      <a:lnTo>
                        <a:pt x="14" y="32"/>
                      </a:lnTo>
                      <a:lnTo>
                        <a:pt x="0" y="15"/>
                      </a:lnTo>
                      <a:lnTo>
                        <a:pt x="0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6013440" y="2787480"/>
                  <a:ext cx="50760" cy="8280"/>
                </a:xfrm>
                <a:custGeom>
                  <a:avLst/>
                  <a:gdLst/>
                  <a:ahLst/>
                  <a:rect l="l" t="t" r="r" b="b"/>
                  <a:pathLst>
                    <a:path w="97" h="15">
                      <a:moveTo>
                        <a:pt x="0" y="15"/>
                      </a:moveTo>
                      <a:lnTo>
                        <a:pt x="41" y="0"/>
                      </a:lnTo>
                      <a:lnTo>
                        <a:pt x="69" y="0"/>
                      </a:lnTo>
                      <a:lnTo>
                        <a:pt x="97" y="0"/>
                      </a:lnTo>
                      <a:lnTo>
                        <a:pt x="69" y="0"/>
                      </a:lnTo>
                      <a:lnTo>
                        <a:pt x="41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bb74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6013440" y="2787480"/>
                  <a:ext cx="50760" cy="8280"/>
                </a:xfrm>
                <a:custGeom>
                  <a:avLst/>
                  <a:gdLst/>
                  <a:ahLst/>
                  <a:rect l="l" t="t" r="r" b="b"/>
                  <a:pathLst>
                    <a:path w="97" h="15">
                      <a:moveTo>
                        <a:pt x="0" y="15"/>
                      </a:moveTo>
                      <a:lnTo>
                        <a:pt x="41" y="0"/>
                      </a:lnTo>
                      <a:lnTo>
                        <a:pt x="69" y="0"/>
                      </a:lnTo>
                      <a:lnTo>
                        <a:pt x="97" y="0"/>
                      </a:lnTo>
                      <a:lnTo>
                        <a:pt x="69" y="0"/>
                      </a:lnTo>
                      <a:lnTo>
                        <a:pt x="41" y="0"/>
                      </a:lnTo>
                      <a:lnTo>
                        <a:pt x="0" y="1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7142040" y="2787480"/>
                  <a:ext cx="14400" cy="8280"/>
                </a:xfrm>
                <a:custGeom>
                  <a:avLst/>
                  <a:gdLst/>
                  <a:ahLst/>
                  <a:rect l="l" t="t" r="r" b="b"/>
                  <a:pathLst>
                    <a:path w="27" h="15">
                      <a:moveTo>
                        <a:pt x="27" y="0"/>
                      </a:moveTo>
                      <a:lnTo>
                        <a:pt x="13" y="0"/>
                      </a:lnTo>
                      <a:lnTo>
                        <a:pt x="13" y="15"/>
                      </a:lnTo>
                      <a:lnTo>
                        <a:pt x="0" y="15"/>
                      </a:lnTo>
                      <a:lnTo>
                        <a:pt x="13" y="15"/>
                      </a:lnTo>
                      <a:lnTo>
                        <a:pt x="13" y="0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bb74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7" name=""/>
              <p:cNvGrpSpPr/>
              <p:nvPr/>
            </p:nvGrpSpPr>
            <p:grpSpPr>
              <a:xfrm>
                <a:off x="7142040" y="2787480"/>
                <a:ext cx="14400" cy="8280"/>
                <a:chOff x="7142040" y="2787480"/>
                <a:chExt cx="14400" cy="8280"/>
              </a:xfrm>
            </p:grpSpPr>
            <p:sp>
              <p:nvSpPr>
                <p:cNvPr id="858" name=""/>
                <p:cNvSpPr/>
                <p:nvPr/>
              </p:nvSpPr>
              <p:spPr>
                <a:xfrm>
                  <a:off x="7142040" y="2787480"/>
                  <a:ext cx="14400" cy="8280"/>
                </a:xfrm>
                <a:custGeom>
                  <a:avLst/>
                  <a:gdLst/>
                  <a:ahLst/>
                  <a:rect l="l" t="t" r="r" b="b"/>
                  <a:pathLst>
                    <a:path w="27" h="15">
                      <a:moveTo>
                        <a:pt x="27" y="0"/>
                      </a:moveTo>
                      <a:lnTo>
                        <a:pt x="13" y="0"/>
                      </a:lnTo>
                      <a:lnTo>
                        <a:pt x="13" y="15"/>
                      </a:lnTo>
                      <a:lnTo>
                        <a:pt x="0" y="15"/>
                      </a:lnTo>
                      <a:lnTo>
                        <a:pt x="13" y="15"/>
                      </a:lnTo>
                      <a:lnTo>
                        <a:pt x="13" y="0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179c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7142040" y="2787480"/>
                  <a:ext cx="14400" cy="8280"/>
                </a:xfrm>
                <a:custGeom>
                  <a:avLst/>
                  <a:gdLst/>
                  <a:ahLst/>
                  <a:rect l="l" t="t" r="r" b="b"/>
                  <a:pathLst>
                    <a:path w="27" h="15">
                      <a:moveTo>
                        <a:pt x="27" y="0"/>
                      </a:moveTo>
                      <a:lnTo>
                        <a:pt x="13" y="0"/>
                      </a:lnTo>
                      <a:lnTo>
                        <a:pt x="13" y="15"/>
                      </a:lnTo>
                      <a:lnTo>
                        <a:pt x="0" y="15"/>
                      </a:lnTo>
                      <a:lnTo>
                        <a:pt x="13" y="15"/>
                      </a:lnTo>
                      <a:lnTo>
                        <a:pt x="13" y="0"/>
                      </a:lnTo>
                      <a:lnTo>
                        <a:pt x="2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0" name=""/>
              <p:cNvSpPr/>
              <p:nvPr/>
            </p:nvSpPr>
            <p:spPr>
              <a:xfrm>
                <a:off x="7529400" y="2787480"/>
                <a:ext cx="22320" cy="1620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14" y="0"/>
                    </a:moveTo>
                    <a:lnTo>
                      <a:pt x="28" y="15"/>
                    </a:lnTo>
                    <a:lnTo>
                      <a:pt x="28" y="30"/>
                    </a:lnTo>
                    <a:lnTo>
                      <a:pt x="42" y="30"/>
                    </a:lnTo>
                    <a:lnTo>
                      <a:pt x="28" y="30"/>
                    </a:lnTo>
                    <a:lnTo>
                      <a:pt x="14" y="15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179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1" name=""/>
              <p:cNvGrpSpPr/>
              <p:nvPr/>
            </p:nvGrpSpPr>
            <p:grpSpPr>
              <a:xfrm>
                <a:off x="7529400" y="2787480"/>
                <a:ext cx="22320" cy="16200"/>
                <a:chOff x="7529400" y="2787480"/>
                <a:chExt cx="22320" cy="16200"/>
              </a:xfrm>
            </p:grpSpPr>
            <p:sp>
              <p:nvSpPr>
                <p:cNvPr id="862" name=""/>
                <p:cNvSpPr/>
                <p:nvPr/>
              </p:nvSpPr>
              <p:spPr>
                <a:xfrm>
                  <a:off x="7529400" y="278748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42" h="30">
                      <a:moveTo>
                        <a:pt x="14" y="0"/>
                      </a:moveTo>
                      <a:lnTo>
                        <a:pt x="28" y="15"/>
                      </a:lnTo>
                      <a:lnTo>
                        <a:pt x="28" y="30"/>
                      </a:lnTo>
                      <a:lnTo>
                        <a:pt x="42" y="30"/>
                      </a:lnTo>
                      <a:lnTo>
                        <a:pt x="28" y="30"/>
                      </a:lnTo>
                      <a:lnTo>
                        <a:pt x="14" y="15"/>
                      </a:lnTo>
                      <a:lnTo>
                        <a:pt x="0" y="15"/>
                      </a:lnTo>
                      <a:lnTo>
                        <a:pt x="0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179c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7529400" y="278748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42" h="30">
                      <a:moveTo>
                        <a:pt x="14" y="0"/>
                      </a:moveTo>
                      <a:lnTo>
                        <a:pt x="28" y="15"/>
                      </a:lnTo>
                      <a:lnTo>
                        <a:pt x="28" y="30"/>
                      </a:lnTo>
                      <a:lnTo>
                        <a:pt x="42" y="30"/>
                      </a:lnTo>
                      <a:lnTo>
                        <a:pt x="28" y="30"/>
                      </a:lnTo>
                      <a:lnTo>
                        <a:pt x="14" y="15"/>
                      </a:lnTo>
                      <a:lnTo>
                        <a:pt x="0" y="15"/>
                      </a:lnTo>
                      <a:lnTo>
                        <a:pt x="0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4" name=""/>
              <p:cNvSpPr/>
              <p:nvPr/>
            </p:nvSpPr>
            <p:spPr>
              <a:xfrm>
                <a:off x="7369200" y="278748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179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5" name=""/>
              <p:cNvGrpSpPr/>
              <p:nvPr/>
            </p:nvGrpSpPr>
            <p:grpSpPr>
              <a:xfrm>
                <a:off x="7369200" y="2787480"/>
                <a:ext cx="7920" cy="1800"/>
                <a:chOff x="7369200" y="2787480"/>
                <a:chExt cx="7920" cy="180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7369200" y="2787480"/>
                  <a:ext cx="7920" cy="1800"/>
                </a:xfrm>
                <a:custGeom>
                  <a:avLst/>
                  <a:gdLst/>
                  <a:ahLst/>
                  <a:rect l="l" t="t" r="r" b="b"/>
                  <a:pathLst>
                    <a:path w="14" h="0">
                      <a:moveTo>
                        <a:pt x="14" y="0"/>
                      </a:moveTo>
                      <a:lnTo>
                        <a:pt x="0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179c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7369200" y="2787480"/>
                  <a:ext cx="7920" cy="1800"/>
                </a:xfrm>
                <a:custGeom>
                  <a:avLst/>
                  <a:gdLst/>
                  <a:ahLst/>
                  <a:rect l="l" t="t" r="r" b="b"/>
                  <a:pathLst>
                    <a:path w="14" h="0">
                      <a:moveTo>
                        <a:pt x="14" y="0"/>
                      </a:moveTo>
                      <a:lnTo>
                        <a:pt x="0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8" name=""/>
              <p:cNvSpPr/>
              <p:nvPr/>
            </p:nvSpPr>
            <p:spPr>
              <a:xfrm>
                <a:off x="6064200" y="2795760"/>
                <a:ext cx="28800" cy="23760"/>
              </a:xfrm>
              <a:custGeom>
                <a:avLst/>
                <a:gdLst/>
                <a:ahLst/>
                <a:rect l="l" t="t" r="r" b="b"/>
                <a:pathLst>
                  <a:path w="55" h="47">
                    <a:moveTo>
                      <a:pt x="0" y="47"/>
                    </a:moveTo>
                    <a:lnTo>
                      <a:pt x="13" y="32"/>
                    </a:lnTo>
                    <a:lnTo>
                      <a:pt x="41" y="15"/>
                    </a:lnTo>
                    <a:lnTo>
                      <a:pt x="55" y="0"/>
                    </a:lnTo>
                    <a:lnTo>
                      <a:pt x="55" y="15"/>
                    </a:lnTo>
                    <a:lnTo>
                      <a:pt x="41" y="32"/>
                    </a:lnTo>
                    <a:lnTo>
                      <a:pt x="27" y="47"/>
                    </a:lnTo>
                    <a:lnTo>
                      <a:pt x="13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179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9" name=""/>
              <p:cNvGrpSpPr/>
              <p:nvPr/>
            </p:nvGrpSpPr>
            <p:grpSpPr>
              <a:xfrm>
                <a:off x="6064200" y="2795760"/>
                <a:ext cx="28800" cy="23760"/>
                <a:chOff x="6064200" y="2795760"/>
                <a:chExt cx="28800" cy="23760"/>
              </a:xfrm>
            </p:grpSpPr>
            <p:sp>
              <p:nvSpPr>
                <p:cNvPr id="870" name=""/>
                <p:cNvSpPr/>
                <p:nvPr/>
              </p:nvSpPr>
              <p:spPr>
                <a:xfrm>
                  <a:off x="6064200" y="2795760"/>
                  <a:ext cx="28800" cy="23760"/>
                </a:xfrm>
                <a:custGeom>
                  <a:avLst/>
                  <a:gdLst/>
                  <a:ahLst/>
                  <a:rect l="l" t="t" r="r" b="b"/>
                  <a:pathLst>
                    <a:path w="55" h="47">
                      <a:moveTo>
                        <a:pt x="0" y="47"/>
                      </a:moveTo>
                      <a:lnTo>
                        <a:pt x="13" y="32"/>
                      </a:lnTo>
                      <a:lnTo>
                        <a:pt x="41" y="15"/>
                      </a:lnTo>
                      <a:lnTo>
                        <a:pt x="55" y="0"/>
                      </a:lnTo>
                      <a:lnTo>
                        <a:pt x="55" y="15"/>
                      </a:lnTo>
                      <a:lnTo>
                        <a:pt x="41" y="32"/>
                      </a:lnTo>
                      <a:lnTo>
                        <a:pt x="27" y="47"/>
                      </a:lnTo>
                      <a:lnTo>
                        <a:pt x="13" y="47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179c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6064200" y="2795760"/>
                  <a:ext cx="28800" cy="23760"/>
                </a:xfrm>
                <a:custGeom>
                  <a:avLst/>
                  <a:gdLst/>
                  <a:ahLst/>
                  <a:rect l="l" t="t" r="r" b="b"/>
                  <a:pathLst>
                    <a:path w="55" h="47">
                      <a:moveTo>
                        <a:pt x="0" y="47"/>
                      </a:moveTo>
                      <a:lnTo>
                        <a:pt x="13" y="32"/>
                      </a:lnTo>
                      <a:lnTo>
                        <a:pt x="41" y="15"/>
                      </a:lnTo>
                      <a:lnTo>
                        <a:pt x="55" y="0"/>
                      </a:lnTo>
                      <a:lnTo>
                        <a:pt x="55" y="15"/>
                      </a:lnTo>
                      <a:lnTo>
                        <a:pt x="41" y="32"/>
                      </a:lnTo>
                      <a:lnTo>
                        <a:pt x="27" y="47"/>
                      </a:lnTo>
                      <a:lnTo>
                        <a:pt x="13" y="47"/>
                      </a:lnTo>
                      <a:lnTo>
                        <a:pt x="0" y="4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2" name=""/>
              <p:cNvSpPr/>
              <p:nvPr/>
            </p:nvSpPr>
            <p:spPr>
              <a:xfrm>
                <a:off x="7969320" y="2828880"/>
                <a:ext cx="44280" cy="41400"/>
              </a:xfrm>
              <a:custGeom>
                <a:avLst/>
                <a:gdLst/>
                <a:ahLst/>
                <a:rect l="l" t="t" r="r" b="b"/>
                <a:pathLst>
                  <a:path w="83" h="79">
                    <a:moveTo>
                      <a:pt x="14" y="0"/>
                    </a:moveTo>
                    <a:lnTo>
                      <a:pt x="28" y="15"/>
                    </a:lnTo>
                    <a:lnTo>
                      <a:pt x="56" y="30"/>
                    </a:lnTo>
                    <a:lnTo>
                      <a:pt x="69" y="47"/>
                    </a:lnTo>
                    <a:lnTo>
                      <a:pt x="69" y="62"/>
                    </a:lnTo>
                    <a:lnTo>
                      <a:pt x="83" y="62"/>
                    </a:lnTo>
                    <a:lnTo>
                      <a:pt x="83" y="79"/>
                    </a:lnTo>
                    <a:lnTo>
                      <a:pt x="69" y="47"/>
                    </a:lnTo>
                    <a:lnTo>
                      <a:pt x="56" y="30"/>
                    </a:lnTo>
                    <a:lnTo>
                      <a:pt x="42" y="0"/>
                    </a:lnTo>
                    <a:lnTo>
                      <a:pt x="28" y="0"/>
                    </a:lnTo>
                    <a:lnTo>
                      <a:pt x="14" y="0"/>
                    </a:lnTo>
                    <a:lnTo>
                      <a:pt x="28" y="0"/>
                    </a:lnTo>
                    <a:lnTo>
                      <a:pt x="28" y="15"/>
                    </a:lnTo>
                    <a:lnTo>
                      <a:pt x="14" y="15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179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3" name=""/>
              <p:cNvGrpSpPr/>
              <p:nvPr/>
            </p:nvGrpSpPr>
            <p:grpSpPr>
              <a:xfrm>
                <a:off x="7969320" y="2828880"/>
                <a:ext cx="44280" cy="41400"/>
                <a:chOff x="7969320" y="2828880"/>
                <a:chExt cx="44280" cy="41400"/>
              </a:xfrm>
            </p:grpSpPr>
            <p:sp>
              <p:nvSpPr>
                <p:cNvPr id="874" name=""/>
                <p:cNvSpPr/>
                <p:nvPr/>
              </p:nvSpPr>
              <p:spPr>
                <a:xfrm>
                  <a:off x="7969320" y="2828880"/>
                  <a:ext cx="44280" cy="41400"/>
                </a:xfrm>
                <a:custGeom>
                  <a:avLst/>
                  <a:gdLst/>
                  <a:ahLst/>
                  <a:rect l="l" t="t" r="r" b="b"/>
                  <a:pathLst>
                    <a:path w="83" h="79">
                      <a:moveTo>
                        <a:pt x="14" y="0"/>
                      </a:moveTo>
                      <a:lnTo>
                        <a:pt x="28" y="15"/>
                      </a:lnTo>
                      <a:lnTo>
                        <a:pt x="56" y="30"/>
                      </a:lnTo>
                      <a:lnTo>
                        <a:pt x="69" y="47"/>
                      </a:lnTo>
                      <a:lnTo>
                        <a:pt x="69" y="62"/>
                      </a:lnTo>
                      <a:lnTo>
                        <a:pt x="83" y="62"/>
                      </a:lnTo>
                      <a:lnTo>
                        <a:pt x="83" y="79"/>
                      </a:lnTo>
                      <a:lnTo>
                        <a:pt x="69" y="47"/>
                      </a:lnTo>
                      <a:lnTo>
                        <a:pt x="56" y="30"/>
                      </a:lnTo>
                      <a:lnTo>
                        <a:pt x="42" y="0"/>
                      </a:lnTo>
                      <a:lnTo>
                        <a:pt x="28" y="0"/>
                      </a:lnTo>
                      <a:lnTo>
                        <a:pt x="14" y="0"/>
                      </a:lnTo>
                      <a:lnTo>
                        <a:pt x="28" y="0"/>
                      </a:lnTo>
                      <a:lnTo>
                        <a:pt x="28" y="15"/>
                      </a:lnTo>
                      <a:lnTo>
                        <a:pt x="14" y="15"/>
                      </a:lnTo>
                      <a:lnTo>
                        <a:pt x="0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179c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7969320" y="2828880"/>
                  <a:ext cx="44280" cy="41400"/>
                </a:xfrm>
                <a:custGeom>
                  <a:avLst/>
                  <a:gdLst/>
                  <a:ahLst/>
                  <a:rect l="l" t="t" r="r" b="b"/>
                  <a:pathLst>
                    <a:path w="83" h="79">
                      <a:moveTo>
                        <a:pt x="14" y="0"/>
                      </a:moveTo>
                      <a:lnTo>
                        <a:pt x="28" y="15"/>
                      </a:lnTo>
                      <a:lnTo>
                        <a:pt x="56" y="30"/>
                      </a:lnTo>
                      <a:lnTo>
                        <a:pt x="69" y="47"/>
                      </a:lnTo>
                      <a:lnTo>
                        <a:pt x="69" y="62"/>
                      </a:lnTo>
                      <a:lnTo>
                        <a:pt x="83" y="62"/>
                      </a:lnTo>
                      <a:lnTo>
                        <a:pt x="83" y="79"/>
                      </a:lnTo>
                      <a:lnTo>
                        <a:pt x="69" y="47"/>
                      </a:lnTo>
                      <a:lnTo>
                        <a:pt x="56" y="30"/>
                      </a:lnTo>
                      <a:lnTo>
                        <a:pt x="42" y="0"/>
                      </a:lnTo>
                      <a:lnTo>
                        <a:pt x="28" y="0"/>
                      </a:lnTo>
                      <a:lnTo>
                        <a:pt x="14" y="0"/>
                      </a:lnTo>
                      <a:lnTo>
                        <a:pt x="28" y="0"/>
                      </a:lnTo>
                      <a:lnTo>
                        <a:pt x="28" y="15"/>
                      </a:lnTo>
                      <a:lnTo>
                        <a:pt x="14" y="15"/>
                      </a:lnTo>
                      <a:lnTo>
                        <a:pt x="0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6" name=""/>
              <p:cNvSpPr/>
              <p:nvPr/>
            </p:nvSpPr>
            <p:spPr>
              <a:xfrm>
                <a:off x="7881840" y="284472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28" h="32">
                    <a:moveTo>
                      <a:pt x="0" y="0"/>
                    </a:moveTo>
                    <a:lnTo>
                      <a:pt x="14" y="0"/>
                    </a:lnTo>
                    <a:lnTo>
                      <a:pt x="28" y="17"/>
                    </a:lnTo>
                    <a:lnTo>
                      <a:pt x="28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79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7" name=""/>
              <p:cNvGrpSpPr/>
              <p:nvPr/>
            </p:nvGrpSpPr>
            <p:grpSpPr>
              <a:xfrm>
                <a:off x="7881840" y="2844720"/>
                <a:ext cx="14400" cy="17640"/>
                <a:chOff x="7881840" y="2844720"/>
                <a:chExt cx="14400" cy="1764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7881840" y="284472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28" h="32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28" y="17"/>
                      </a:lnTo>
                      <a:lnTo>
                        <a:pt x="28" y="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179c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7881840" y="284472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28" h="32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28" y="17"/>
                      </a:lnTo>
                      <a:lnTo>
                        <a:pt x="28" y="3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0" name=""/>
              <p:cNvSpPr/>
              <p:nvPr/>
            </p:nvSpPr>
            <p:spPr>
              <a:xfrm>
                <a:off x="7486560" y="2828880"/>
                <a:ext cx="28800" cy="33480"/>
              </a:xfrm>
              <a:custGeom>
                <a:avLst/>
                <a:gdLst/>
                <a:ahLst/>
                <a:rect l="l" t="t" r="r" b="b"/>
                <a:pathLst>
                  <a:path w="55" h="62">
                    <a:moveTo>
                      <a:pt x="14" y="30"/>
                    </a:moveTo>
                    <a:lnTo>
                      <a:pt x="14" y="62"/>
                    </a:lnTo>
                    <a:lnTo>
                      <a:pt x="0" y="30"/>
                    </a:lnTo>
                    <a:lnTo>
                      <a:pt x="0" y="15"/>
                    </a:lnTo>
                    <a:lnTo>
                      <a:pt x="28" y="0"/>
                    </a:lnTo>
                    <a:lnTo>
                      <a:pt x="42" y="0"/>
                    </a:lnTo>
                    <a:lnTo>
                      <a:pt x="55" y="0"/>
                    </a:lnTo>
                    <a:lnTo>
                      <a:pt x="42" y="15"/>
                    </a:lnTo>
                    <a:lnTo>
                      <a:pt x="14" y="30"/>
                    </a:lnTo>
                    <a:close/>
                  </a:path>
                </a:pathLst>
              </a:custGeom>
              <a:solidFill>
                <a:srgbClr val="179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1" name=""/>
              <p:cNvGrpSpPr/>
              <p:nvPr/>
            </p:nvGrpSpPr>
            <p:grpSpPr>
              <a:xfrm>
                <a:off x="7486560" y="2828880"/>
                <a:ext cx="28800" cy="33480"/>
                <a:chOff x="7486560" y="2828880"/>
                <a:chExt cx="28800" cy="33480"/>
              </a:xfrm>
            </p:grpSpPr>
            <p:sp>
              <p:nvSpPr>
                <p:cNvPr id="882" name=""/>
                <p:cNvSpPr/>
                <p:nvPr/>
              </p:nvSpPr>
              <p:spPr>
                <a:xfrm>
                  <a:off x="7486560" y="2828880"/>
                  <a:ext cx="28800" cy="3348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14" y="30"/>
                      </a:moveTo>
                      <a:lnTo>
                        <a:pt x="14" y="62"/>
                      </a:lnTo>
                      <a:lnTo>
                        <a:pt x="0" y="30"/>
                      </a:lnTo>
                      <a:lnTo>
                        <a:pt x="0" y="15"/>
                      </a:lnTo>
                      <a:lnTo>
                        <a:pt x="28" y="0"/>
                      </a:lnTo>
                      <a:lnTo>
                        <a:pt x="42" y="0"/>
                      </a:lnTo>
                      <a:lnTo>
                        <a:pt x="55" y="0"/>
                      </a:lnTo>
                      <a:lnTo>
                        <a:pt x="42" y="15"/>
                      </a:lnTo>
                      <a:lnTo>
                        <a:pt x="14" y="30"/>
                      </a:lnTo>
                      <a:close/>
                    </a:path>
                  </a:pathLst>
                </a:custGeom>
                <a:solidFill>
                  <a:srgbClr val="179c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7486560" y="2828880"/>
                  <a:ext cx="28800" cy="3348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14" y="30"/>
                      </a:moveTo>
                      <a:lnTo>
                        <a:pt x="14" y="62"/>
                      </a:lnTo>
                      <a:lnTo>
                        <a:pt x="0" y="30"/>
                      </a:lnTo>
                      <a:lnTo>
                        <a:pt x="0" y="15"/>
                      </a:lnTo>
                      <a:lnTo>
                        <a:pt x="28" y="0"/>
                      </a:lnTo>
                      <a:lnTo>
                        <a:pt x="42" y="0"/>
                      </a:lnTo>
                      <a:lnTo>
                        <a:pt x="55" y="0"/>
                      </a:lnTo>
                      <a:lnTo>
                        <a:pt x="42" y="15"/>
                      </a:lnTo>
                      <a:lnTo>
                        <a:pt x="14" y="3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4" name=""/>
              <p:cNvSpPr/>
              <p:nvPr/>
            </p:nvSpPr>
            <p:spPr>
              <a:xfrm>
                <a:off x="7794720" y="2844720"/>
                <a:ext cx="14040" cy="972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0" y="17"/>
                    </a:moveTo>
                    <a:lnTo>
                      <a:pt x="14" y="17"/>
                    </a:lnTo>
                    <a:lnTo>
                      <a:pt x="28" y="0"/>
                    </a:lnTo>
                    <a:lnTo>
                      <a:pt x="14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179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5" name=""/>
              <p:cNvGrpSpPr/>
              <p:nvPr/>
            </p:nvGrpSpPr>
            <p:grpSpPr>
              <a:xfrm>
                <a:off x="7794720" y="2844720"/>
                <a:ext cx="14040" cy="9720"/>
                <a:chOff x="7794720" y="2844720"/>
                <a:chExt cx="14040" cy="9720"/>
              </a:xfrm>
            </p:grpSpPr>
            <p:sp>
              <p:nvSpPr>
                <p:cNvPr id="886" name=""/>
                <p:cNvSpPr/>
                <p:nvPr/>
              </p:nvSpPr>
              <p:spPr>
                <a:xfrm>
                  <a:off x="7794720" y="2844720"/>
                  <a:ext cx="14040" cy="9720"/>
                </a:xfrm>
                <a:custGeom>
                  <a:avLst/>
                  <a:gdLst/>
                  <a:ahLst/>
                  <a:rect l="l" t="t" r="r" b="b"/>
                  <a:pathLst>
                    <a:path w="28" h="17">
                      <a:moveTo>
                        <a:pt x="0" y="17"/>
                      </a:moveTo>
                      <a:lnTo>
                        <a:pt x="14" y="17"/>
                      </a:lnTo>
                      <a:lnTo>
                        <a:pt x="28" y="0"/>
                      </a:lnTo>
                      <a:lnTo>
                        <a:pt x="14" y="17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179c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7794720" y="2844720"/>
                  <a:ext cx="14040" cy="9720"/>
                </a:xfrm>
                <a:custGeom>
                  <a:avLst/>
                  <a:gdLst/>
                  <a:ahLst/>
                  <a:rect l="l" t="t" r="r" b="b"/>
                  <a:pathLst>
                    <a:path w="28" h="17">
                      <a:moveTo>
                        <a:pt x="0" y="17"/>
                      </a:moveTo>
                      <a:lnTo>
                        <a:pt x="14" y="17"/>
                      </a:lnTo>
                      <a:lnTo>
                        <a:pt x="28" y="0"/>
                      </a:lnTo>
                      <a:lnTo>
                        <a:pt x="14" y="17"/>
                      </a:lnTo>
                      <a:lnTo>
                        <a:pt x="0" y="1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8" name=""/>
              <p:cNvSpPr/>
              <p:nvPr/>
            </p:nvSpPr>
            <p:spPr>
              <a:xfrm>
                <a:off x="6400800" y="2836800"/>
                <a:ext cx="15840" cy="25560"/>
              </a:xfrm>
              <a:custGeom>
                <a:avLst/>
                <a:gdLst/>
                <a:ahLst/>
                <a:rect l="l" t="t" r="r" b="b"/>
                <a:pathLst>
                  <a:path w="28" h="47">
                    <a:moveTo>
                      <a:pt x="28" y="15"/>
                    </a:moveTo>
                    <a:lnTo>
                      <a:pt x="28" y="32"/>
                    </a:lnTo>
                    <a:lnTo>
                      <a:pt x="14" y="47"/>
                    </a:lnTo>
                    <a:lnTo>
                      <a:pt x="0" y="47"/>
                    </a:lnTo>
                    <a:lnTo>
                      <a:pt x="0" y="32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0" y="32"/>
                    </a:lnTo>
                    <a:lnTo>
                      <a:pt x="14" y="32"/>
                    </a:lnTo>
                    <a:lnTo>
                      <a:pt x="28" y="15"/>
                    </a:lnTo>
                    <a:close/>
                  </a:path>
                </a:pathLst>
              </a:custGeom>
              <a:solidFill>
                <a:srgbClr val="179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9" name=""/>
              <p:cNvGrpSpPr/>
              <p:nvPr/>
            </p:nvGrpSpPr>
            <p:grpSpPr>
              <a:xfrm>
                <a:off x="6400800" y="2836800"/>
                <a:ext cx="15840" cy="25560"/>
                <a:chOff x="6400800" y="2836800"/>
                <a:chExt cx="15840" cy="2556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6400800" y="2836800"/>
                  <a:ext cx="15840" cy="2556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28" y="15"/>
                      </a:moveTo>
                      <a:lnTo>
                        <a:pt x="28" y="32"/>
                      </a:lnTo>
                      <a:lnTo>
                        <a:pt x="14" y="47"/>
                      </a:lnTo>
                      <a:lnTo>
                        <a:pt x="0" y="47"/>
                      </a:lnTo>
                      <a:lnTo>
                        <a:pt x="0" y="32"/>
                      </a:lnTo>
                      <a:lnTo>
                        <a:pt x="0" y="15"/>
                      </a:ln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0" y="32"/>
                      </a:lnTo>
                      <a:lnTo>
                        <a:pt x="14" y="32"/>
                      </a:lnTo>
                      <a:lnTo>
                        <a:pt x="28" y="15"/>
                      </a:lnTo>
                      <a:close/>
                    </a:path>
                  </a:pathLst>
                </a:custGeom>
                <a:solidFill>
                  <a:srgbClr val="179c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6400800" y="2836800"/>
                  <a:ext cx="15840" cy="2556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28" y="15"/>
                      </a:moveTo>
                      <a:lnTo>
                        <a:pt x="28" y="32"/>
                      </a:lnTo>
                      <a:lnTo>
                        <a:pt x="14" y="47"/>
                      </a:lnTo>
                      <a:lnTo>
                        <a:pt x="0" y="47"/>
                      </a:lnTo>
                      <a:lnTo>
                        <a:pt x="0" y="32"/>
                      </a:lnTo>
                      <a:lnTo>
                        <a:pt x="0" y="15"/>
                      </a:ln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0" y="32"/>
                      </a:lnTo>
                      <a:lnTo>
                        <a:pt x="14" y="32"/>
                      </a:lnTo>
                      <a:lnTo>
                        <a:pt x="28" y="1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2" name=""/>
              <p:cNvSpPr/>
              <p:nvPr/>
            </p:nvSpPr>
            <p:spPr>
              <a:xfrm>
                <a:off x="6064200" y="285444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27" h="15">
                    <a:moveTo>
                      <a:pt x="27" y="0"/>
                    </a:moveTo>
                    <a:lnTo>
                      <a:pt x="13" y="0"/>
                    </a:lnTo>
                    <a:lnTo>
                      <a:pt x="13" y="15"/>
                    </a:lnTo>
                    <a:lnTo>
                      <a:pt x="0" y="15"/>
                    </a:lnTo>
                    <a:lnTo>
                      <a:pt x="13" y="15"/>
                    </a:lnTo>
                    <a:lnTo>
                      <a:pt x="13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179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3" name=""/>
              <p:cNvGrpSpPr/>
              <p:nvPr/>
            </p:nvGrpSpPr>
            <p:grpSpPr>
              <a:xfrm>
                <a:off x="6064200" y="2854440"/>
                <a:ext cx="14400" cy="7920"/>
                <a:chOff x="6064200" y="2854440"/>
                <a:chExt cx="14400" cy="7920"/>
              </a:xfrm>
            </p:grpSpPr>
            <p:sp>
              <p:nvSpPr>
                <p:cNvPr id="894" name=""/>
                <p:cNvSpPr/>
                <p:nvPr/>
              </p:nvSpPr>
              <p:spPr>
                <a:xfrm>
                  <a:off x="6064200" y="2854440"/>
                  <a:ext cx="14400" cy="7920"/>
                </a:xfrm>
                <a:custGeom>
                  <a:avLst/>
                  <a:gdLst/>
                  <a:ahLst/>
                  <a:rect l="l" t="t" r="r" b="b"/>
                  <a:pathLst>
                    <a:path w="27" h="15">
                      <a:moveTo>
                        <a:pt x="27" y="0"/>
                      </a:moveTo>
                      <a:lnTo>
                        <a:pt x="13" y="0"/>
                      </a:lnTo>
                      <a:lnTo>
                        <a:pt x="13" y="15"/>
                      </a:lnTo>
                      <a:lnTo>
                        <a:pt x="0" y="15"/>
                      </a:lnTo>
                      <a:lnTo>
                        <a:pt x="13" y="15"/>
                      </a:lnTo>
                      <a:lnTo>
                        <a:pt x="13" y="0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179c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6064200" y="2854440"/>
                  <a:ext cx="14400" cy="7920"/>
                </a:xfrm>
                <a:custGeom>
                  <a:avLst/>
                  <a:gdLst/>
                  <a:ahLst/>
                  <a:rect l="l" t="t" r="r" b="b"/>
                  <a:pathLst>
                    <a:path w="27" h="15">
                      <a:moveTo>
                        <a:pt x="27" y="0"/>
                      </a:moveTo>
                      <a:lnTo>
                        <a:pt x="13" y="0"/>
                      </a:lnTo>
                      <a:lnTo>
                        <a:pt x="13" y="15"/>
                      </a:lnTo>
                      <a:lnTo>
                        <a:pt x="0" y="15"/>
                      </a:lnTo>
                      <a:lnTo>
                        <a:pt x="13" y="15"/>
                      </a:lnTo>
                      <a:lnTo>
                        <a:pt x="13" y="0"/>
                      </a:lnTo>
                      <a:lnTo>
                        <a:pt x="2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6" name=""/>
              <p:cNvSpPr/>
              <p:nvPr/>
            </p:nvSpPr>
            <p:spPr>
              <a:xfrm>
                <a:off x="8028000" y="2828880"/>
                <a:ext cx="36360" cy="57240"/>
              </a:xfrm>
              <a:custGeom>
                <a:avLst/>
                <a:gdLst/>
                <a:ahLst/>
                <a:rect l="l" t="t" r="r" b="b"/>
                <a:pathLst>
                  <a:path w="69" h="109">
                    <a:moveTo>
                      <a:pt x="41" y="0"/>
                    </a:moveTo>
                    <a:lnTo>
                      <a:pt x="55" y="30"/>
                    </a:lnTo>
                    <a:lnTo>
                      <a:pt x="55" y="47"/>
                    </a:lnTo>
                    <a:lnTo>
                      <a:pt x="69" y="62"/>
                    </a:lnTo>
                    <a:lnTo>
                      <a:pt x="55" y="79"/>
                    </a:lnTo>
                    <a:lnTo>
                      <a:pt x="55" y="94"/>
                    </a:lnTo>
                    <a:lnTo>
                      <a:pt x="41" y="109"/>
                    </a:lnTo>
                    <a:lnTo>
                      <a:pt x="28" y="109"/>
                    </a:lnTo>
                    <a:lnTo>
                      <a:pt x="14" y="109"/>
                    </a:lnTo>
                    <a:lnTo>
                      <a:pt x="0" y="109"/>
                    </a:lnTo>
                    <a:lnTo>
                      <a:pt x="14" y="94"/>
                    </a:lnTo>
                    <a:lnTo>
                      <a:pt x="28" y="94"/>
                    </a:lnTo>
                    <a:lnTo>
                      <a:pt x="41" y="94"/>
                    </a:lnTo>
                    <a:lnTo>
                      <a:pt x="41" y="47"/>
                    </a:lnTo>
                    <a:lnTo>
                      <a:pt x="41" y="30"/>
                    </a:lnTo>
                    <a:lnTo>
                      <a:pt x="41" y="15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179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7" name=""/>
              <p:cNvGrpSpPr/>
              <p:nvPr/>
            </p:nvGrpSpPr>
            <p:grpSpPr>
              <a:xfrm>
                <a:off x="8028000" y="2828880"/>
                <a:ext cx="36360" cy="57240"/>
                <a:chOff x="8028000" y="2828880"/>
                <a:chExt cx="36360" cy="57240"/>
              </a:xfrm>
            </p:grpSpPr>
            <p:sp>
              <p:nvSpPr>
                <p:cNvPr id="898" name=""/>
                <p:cNvSpPr/>
                <p:nvPr/>
              </p:nvSpPr>
              <p:spPr>
                <a:xfrm>
                  <a:off x="8028000" y="2828880"/>
                  <a:ext cx="36360" cy="57240"/>
                </a:xfrm>
                <a:custGeom>
                  <a:avLst/>
                  <a:gdLst/>
                  <a:ahLst/>
                  <a:rect l="l" t="t" r="r" b="b"/>
                  <a:pathLst>
                    <a:path w="69" h="109">
                      <a:moveTo>
                        <a:pt x="41" y="0"/>
                      </a:moveTo>
                      <a:lnTo>
                        <a:pt x="55" y="30"/>
                      </a:lnTo>
                      <a:lnTo>
                        <a:pt x="55" y="47"/>
                      </a:lnTo>
                      <a:lnTo>
                        <a:pt x="69" y="62"/>
                      </a:lnTo>
                      <a:lnTo>
                        <a:pt x="55" y="79"/>
                      </a:lnTo>
                      <a:lnTo>
                        <a:pt x="55" y="94"/>
                      </a:lnTo>
                      <a:lnTo>
                        <a:pt x="41" y="109"/>
                      </a:lnTo>
                      <a:lnTo>
                        <a:pt x="28" y="109"/>
                      </a:lnTo>
                      <a:lnTo>
                        <a:pt x="14" y="109"/>
                      </a:lnTo>
                      <a:lnTo>
                        <a:pt x="0" y="109"/>
                      </a:lnTo>
                      <a:lnTo>
                        <a:pt x="14" y="94"/>
                      </a:lnTo>
                      <a:lnTo>
                        <a:pt x="28" y="94"/>
                      </a:lnTo>
                      <a:lnTo>
                        <a:pt x="41" y="94"/>
                      </a:lnTo>
                      <a:lnTo>
                        <a:pt x="41" y="47"/>
                      </a:lnTo>
                      <a:lnTo>
                        <a:pt x="41" y="30"/>
                      </a:lnTo>
                      <a:lnTo>
                        <a:pt x="41" y="15"/>
                      </a:lnTo>
                      <a:lnTo>
                        <a:pt x="41" y="0"/>
                      </a:lnTo>
                      <a:close/>
                    </a:path>
                  </a:pathLst>
                </a:custGeom>
                <a:solidFill>
                  <a:srgbClr val="179c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8028000" y="2828880"/>
                  <a:ext cx="36360" cy="57240"/>
                </a:xfrm>
                <a:custGeom>
                  <a:avLst/>
                  <a:gdLst/>
                  <a:ahLst/>
                  <a:rect l="l" t="t" r="r" b="b"/>
                  <a:pathLst>
                    <a:path w="69" h="109">
                      <a:moveTo>
                        <a:pt x="41" y="0"/>
                      </a:moveTo>
                      <a:lnTo>
                        <a:pt x="55" y="30"/>
                      </a:lnTo>
                      <a:lnTo>
                        <a:pt x="55" y="47"/>
                      </a:lnTo>
                      <a:lnTo>
                        <a:pt x="69" y="62"/>
                      </a:lnTo>
                      <a:lnTo>
                        <a:pt x="55" y="79"/>
                      </a:lnTo>
                      <a:lnTo>
                        <a:pt x="55" y="94"/>
                      </a:lnTo>
                      <a:lnTo>
                        <a:pt x="41" y="109"/>
                      </a:lnTo>
                      <a:lnTo>
                        <a:pt x="28" y="109"/>
                      </a:lnTo>
                      <a:lnTo>
                        <a:pt x="14" y="109"/>
                      </a:lnTo>
                      <a:lnTo>
                        <a:pt x="0" y="109"/>
                      </a:lnTo>
                      <a:lnTo>
                        <a:pt x="14" y="94"/>
                      </a:lnTo>
                      <a:lnTo>
                        <a:pt x="28" y="94"/>
                      </a:lnTo>
                      <a:lnTo>
                        <a:pt x="41" y="94"/>
                      </a:lnTo>
                      <a:lnTo>
                        <a:pt x="41" y="47"/>
                      </a:lnTo>
                      <a:lnTo>
                        <a:pt x="41" y="30"/>
                      </a:lnTo>
                      <a:lnTo>
                        <a:pt x="41" y="15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0" name=""/>
              <p:cNvSpPr/>
              <p:nvPr/>
            </p:nvSpPr>
            <p:spPr>
              <a:xfrm>
                <a:off x="6056280" y="287028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179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1" name=""/>
              <p:cNvGrpSpPr/>
              <p:nvPr/>
            </p:nvGrpSpPr>
            <p:grpSpPr>
              <a:xfrm>
                <a:off x="6056280" y="2870280"/>
                <a:ext cx="7920" cy="1440"/>
                <a:chOff x="6056280" y="2870280"/>
                <a:chExt cx="7920" cy="144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6056280" y="2870280"/>
                  <a:ext cx="7920" cy="1440"/>
                </a:xfrm>
                <a:custGeom>
                  <a:avLst/>
                  <a:gdLst/>
                  <a:ahLst/>
                  <a:rect l="l" t="t" r="r" b="b"/>
                  <a:pathLst>
                    <a:path w="14" h="0">
                      <a:moveTo>
                        <a:pt x="14" y="0"/>
                      </a:moveTo>
                      <a:lnTo>
                        <a:pt x="0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179c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6056280" y="2870280"/>
                  <a:ext cx="7920" cy="1440"/>
                </a:xfrm>
                <a:custGeom>
                  <a:avLst/>
                  <a:gdLst/>
                  <a:ahLst/>
                  <a:rect l="l" t="t" r="r" b="b"/>
                  <a:pathLst>
                    <a:path w="14" h="0">
                      <a:moveTo>
                        <a:pt x="14" y="0"/>
                      </a:moveTo>
                      <a:lnTo>
                        <a:pt x="0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4" name=""/>
              <p:cNvSpPr/>
              <p:nvPr/>
            </p:nvSpPr>
            <p:spPr>
              <a:xfrm>
                <a:off x="6078600" y="2854440"/>
                <a:ext cx="22320" cy="48960"/>
              </a:xfrm>
              <a:custGeom>
                <a:avLst/>
                <a:gdLst/>
                <a:ahLst/>
                <a:rect l="l" t="t" r="r" b="b"/>
                <a:pathLst>
                  <a:path w="42" h="94">
                    <a:moveTo>
                      <a:pt x="14" y="32"/>
                    </a:moveTo>
                    <a:lnTo>
                      <a:pt x="42" y="0"/>
                    </a:lnTo>
                    <a:lnTo>
                      <a:pt x="42" y="32"/>
                    </a:lnTo>
                    <a:lnTo>
                      <a:pt x="14" y="94"/>
                    </a:lnTo>
                    <a:lnTo>
                      <a:pt x="0" y="94"/>
                    </a:lnTo>
                    <a:lnTo>
                      <a:pt x="0" y="62"/>
                    </a:lnTo>
                    <a:lnTo>
                      <a:pt x="14" y="47"/>
                    </a:lnTo>
                    <a:lnTo>
                      <a:pt x="14" y="32"/>
                    </a:lnTo>
                    <a:close/>
                  </a:path>
                </a:pathLst>
              </a:custGeom>
              <a:solidFill>
                <a:srgbClr val="179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5" name=""/>
              <p:cNvGrpSpPr/>
              <p:nvPr/>
            </p:nvGrpSpPr>
            <p:grpSpPr>
              <a:xfrm>
                <a:off x="6078600" y="2854440"/>
                <a:ext cx="22320" cy="48960"/>
                <a:chOff x="6078600" y="2854440"/>
                <a:chExt cx="22320" cy="48960"/>
              </a:xfrm>
            </p:grpSpPr>
            <p:sp>
              <p:nvSpPr>
                <p:cNvPr id="906" name=""/>
                <p:cNvSpPr/>
                <p:nvPr/>
              </p:nvSpPr>
              <p:spPr>
                <a:xfrm>
                  <a:off x="6078600" y="2854440"/>
                  <a:ext cx="22320" cy="48960"/>
                </a:xfrm>
                <a:custGeom>
                  <a:avLst/>
                  <a:gdLst/>
                  <a:ahLst/>
                  <a:rect l="l" t="t" r="r" b="b"/>
                  <a:pathLst>
                    <a:path w="42" h="94">
                      <a:moveTo>
                        <a:pt x="14" y="32"/>
                      </a:moveTo>
                      <a:lnTo>
                        <a:pt x="42" y="0"/>
                      </a:lnTo>
                      <a:lnTo>
                        <a:pt x="42" y="32"/>
                      </a:lnTo>
                      <a:lnTo>
                        <a:pt x="14" y="94"/>
                      </a:lnTo>
                      <a:lnTo>
                        <a:pt x="0" y="94"/>
                      </a:lnTo>
                      <a:lnTo>
                        <a:pt x="0" y="62"/>
                      </a:lnTo>
                      <a:lnTo>
                        <a:pt x="14" y="47"/>
                      </a:lnTo>
                      <a:lnTo>
                        <a:pt x="14" y="32"/>
                      </a:lnTo>
                      <a:close/>
                    </a:path>
                  </a:pathLst>
                </a:custGeom>
                <a:solidFill>
                  <a:srgbClr val="179c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6078600" y="2854440"/>
                  <a:ext cx="22320" cy="48960"/>
                </a:xfrm>
                <a:custGeom>
                  <a:avLst/>
                  <a:gdLst/>
                  <a:ahLst/>
                  <a:rect l="l" t="t" r="r" b="b"/>
                  <a:pathLst>
                    <a:path w="42" h="94">
                      <a:moveTo>
                        <a:pt x="14" y="32"/>
                      </a:moveTo>
                      <a:lnTo>
                        <a:pt x="42" y="0"/>
                      </a:lnTo>
                      <a:lnTo>
                        <a:pt x="42" y="32"/>
                      </a:lnTo>
                      <a:lnTo>
                        <a:pt x="14" y="94"/>
                      </a:lnTo>
                      <a:lnTo>
                        <a:pt x="0" y="94"/>
                      </a:lnTo>
                      <a:lnTo>
                        <a:pt x="0" y="62"/>
                      </a:lnTo>
                      <a:lnTo>
                        <a:pt x="14" y="47"/>
                      </a:lnTo>
                      <a:lnTo>
                        <a:pt x="14" y="3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8" name=""/>
              <p:cNvSpPr/>
              <p:nvPr/>
            </p:nvSpPr>
            <p:spPr>
              <a:xfrm>
                <a:off x="6305400" y="289548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8" y="0"/>
                    </a:moveTo>
                    <a:lnTo>
                      <a:pt x="14" y="0"/>
                    </a:lnTo>
                    <a:lnTo>
                      <a:pt x="0" y="15"/>
                    </a:lnTo>
                    <a:lnTo>
                      <a:pt x="14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179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9" name=""/>
              <p:cNvGrpSpPr/>
              <p:nvPr/>
            </p:nvGrpSpPr>
            <p:grpSpPr>
              <a:xfrm>
                <a:off x="6305400" y="2895480"/>
                <a:ext cx="14400" cy="7920"/>
                <a:chOff x="6305400" y="2895480"/>
                <a:chExt cx="14400" cy="7920"/>
              </a:xfrm>
            </p:grpSpPr>
            <p:sp>
              <p:nvSpPr>
                <p:cNvPr id="910" name=""/>
                <p:cNvSpPr/>
                <p:nvPr/>
              </p:nvSpPr>
              <p:spPr>
                <a:xfrm>
                  <a:off x="6305400" y="2895480"/>
                  <a:ext cx="14400" cy="7920"/>
                </a:xfrm>
                <a:custGeom>
                  <a:avLst/>
                  <a:gdLst/>
                  <a:ahLst/>
                  <a:rect l="l" t="t" r="r" b="b"/>
                  <a:pathLst>
                    <a:path w="28" h="15">
                      <a:moveTo>
                        <a:pt x="28" y="0"/>
                      </a:moveTo>
                      <a:lnTo>
                        <a:pt x="14" y="0"/>
                      </a:lnTo>
                      <a:lnTo>
                        <a:pt x="0" y="15"/>
                      </a:lnTo>
                      <a:lnTo>
                        <a:pt x="14" y="0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179c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6305400" y="2895480"/>
                  <a:ext cx="14400" cy="7920"/>
                </a:xfrm>
                <a:custGeom>
                  <a:avLst/>
                  <a:gdLst/>
                  <a:ahLst/>
                  <a:rect l="l" t="t" r="r" b="b"/>
                  <a:pathLst>
                    <a:path w="28" h="15">
                      <a:moveTo>
                        <a:pt x="28" y="0"/>
                      </a:moveTo>
                      <a:lnTo>
                        <a:pt x="14" y="0"/>
                      </a:lnTo>
                      <a:lnTo>
                        <a:pt x="0" y="15"/>
                      </a:lnTo>
                      <a:lnTo>
                        <a:pt x="14" y="0"/>
                      </a:lnTo>
                      <a:lnTo>
                        <a:pt x="2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2" name=""/>
              <p:cNvSpPr/>
              <p:nvPr/>
            </p:nvSpPr>
            <p:spPr>
              <a:xfrm>
                <a:off x="7932600" y="2903400"/>
                <a:ext cx="1800" cy="7920"/>
              </a:xfrm>
              <a:custGeom>
                <a:avLst/>
                <a:gdLst/>
                <a:ahLst/>
                <a:rect l="l" t="t" r="r" b="b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79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3" name=""/>
              <p:cNvGrpSpPr/>
              <p:nvPr/>
            </p:nvGrpSpPr>
            <p:grpSpPr>
              <a:xfrm>
                <a:off x="7932600" y="2903400"/>
                <a:ext cx="1800" cy="7920"/>
                <a:chOff x="7932600" y="2903400"/>
                <a:chExt cx="1800" cy="792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7932600" y="2903400"/>
                  <a:ext cx="1800" cy="7920"/>
                </a:xfrm>
                <a:custGeom>
                  <a:avLst/>
                  <a:gdLst/>
                  <a:ahLst/>
                  <a:rect l="l" t="t" r="r" b="b"/>
                  <a:pathLst>
                    <a:path w="0" h="16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179c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7932600" y="2903400"/>
                  <a:ext cx="1800" cy="7920"/>
                </a:xfrm>
                <a:custGeom>
                  <a:avLst/>
                  <a:gdLst/>
                  <a:ahLst/>
                  <a:rect l="l" t="t" r="r" b="b"/>
                  <a:pathLst>
                    <a:path w="0" h="16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6" name=""/>
              <p:cNvSpPr/>
              <p:nvPr/>
            </p:nvSpPr>
            <p:spPr>
              <a:xfrm>
                <a:off x="7470720" y="2886120"/>
                <a:ext cx="7920" cy="42840"/>
              </a:xfrm>
              <a:custGeom>
                <a:avLst/>
                <a:gdLst/>
                <a:ahLst/>
                <a:rect l="l" t="t" r="r" b="b"/>
                <a:pathLst>
                  <a:path w="14" h="79">
                    <a:moveTo>
                      <a:pt x="0" y="79"/>
                    </a:moveTo>
                    <a:lnTo>
                      <a:pt x="0" y="48"/>
                    </a:lnTo>
                    <a:lnTo>
                      <a:pt x="14" y="32"/>
                    </a:lnTo>
                    <a:lnTo>
                      <a:pt x="14" y="0"/>
                    </a:lnTo>
                    <a:lnTo>
                      <a:pt x="0" y="17"/>
                    </a:lnTo>
                    <a:lnTo>
                      <a:pt x="14" y="32"/>
                    </a:lnTo>
                    <a:lnTo>
                      <a:pt x="14" y="48"/>
                    </a:lnTo>
                    <a:lnTo>
                      <a:pt x="0" y="48"/>
                    </a:lnTo>
                    <a:lnTo>
                      <a:pt x="0" y="64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179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7" name=""/>
              <p:cNvGrpSpPr/>
              <p:nvPr/>
            </p:nvGrpSpPr>
            <p:grpSpPr>
              <a:xfrm>
                <a:off x="7470720" y="2886120"/>
                <a:ext cx="7920" cy="42840"/>
                <a:chOff x="7470720" y="2886120"/>
                <a:chExt cx="7920" cy="42840"/>
              </a:xfrm>
            </p:grpSpPr>
            <p:sp>
              <p:nvSpPr>
                <p:cNvPr id="918" name=""/>
                <p:cNvSpPr/>
                <p:nvPr/>
              </p:nvSpPr>
              <p:spPr>
                <a:xfrm>
                  <a:off x="7470720" y="2886120"/>
                  <a:ext cx="7920" cy="42840"/>
                </a:xfrm>
                <a:custGeom>
                  <a:avLst/>
                  <a:gdLst/>
                  <a:ahLst/>
                  <a:rect l="l" t="t" r="r" b="b"/>
                  <a:pathLst>
                    <a:path w="14" h="79">
                      <a:moveTo>
                        <a:pt x="0" y="79"/>
                      </a:moveTo>
                      <a:lnTo>
                        <a:pt x="0" y="48"/>
                      </a:lnTo>
                      <a:lnTo>
                        <a:pt x="14" y="32"/>
                      </a:lnTo>
                      <a:lnTo>
                        <a:pt x="14" y="0"/>
                      </a:lnTo>
                      <a:lnTo>
                        <a:pt x="0" y="17"/>
                      </a:lnTo>
                      <a:lnTo>
                        <a:pt x="14" y="32"/>
                      </a:lnTo>
                      <a:lnTo>
                        <a:pt x="14" y="48"/>
                      </a:lnTo>
                      <a:lnTo>
                        <a:pt x="0" y="48"/>
                      </a:lnTo>
                      <a:lnTo>
                        <a:pt x="0" y="64"/>
                      </a:lnTo>
                      <a:lnTo>
                        <a:pt x="0" y="79"/>
                      </a:lnTo>
                      <a:close/>
                    </a:path>
                  </a:pathLst>
                </a:custGeom>
                <a:solidFill>
                  <a:srgbClr val="179c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7470720" y="2886120"/>
                  <a:ext cx="7920" cy="42840"/>
                </a:xfrm>
                <a:custGeom>
                  <a:avLst/>
                  <a:gdLst/>
                  <a:ahLst/>
                  <a:rect l="l" t="t" r="r" b="b"/>
                  <a:pathLst>
                    <a:path w="14" h="79">
                      <a:moveTo>
                        <a:pt x="0" y="79"/>
                      </a:moveTo>
                      <a:lnTo>
                        <a:pt x="0" y="48"/>
                      </a:lnTo>
                      <a:lnTo>
                        <a:pt x="14" y="32"/>
                      </a:lnTo>
                      <a:lnTo>
                        <a:pt x="14" y="0"/>
                      </a:lnTo>
                      <a:lnTo>
                        <a:pt x="0" y="17"/>
                      </a:lnTo>
                      <a:lnTo>
                        <a:pt x="14" y="32"/>
                      </a:lnTo>
                      <a:lnTo>
                        <a:pt x="14" y="48"/>
                      </a:lnTo>
                      <a:lnTo>
                        <a:pt x="0" y="48"/>
                      </a:lnTo>
                      <a:lnTo>
                        <a:pt x="0" y="64"/>
                      </a:lnTo>
                      <a:lnTo>
                        <a:pt x="0" y="7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0" name=""/>
              <p:cNvSpPr/>
              <p:nvPr/>
            </p:nvSpPr>
            <p:spPr>
              <a:xfrm>
                <a:off x="6086520" y="291132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28" h="31">
                    <a:moveTo>
                      <a:pt x="28" y="0"/>
                    </a:moveTo>
                    <a:lnTo>
                      <a:pt x="14" y="16"/>
                    </a:lnTo>
                    <a:lnTo>
                      <a:pt x="0" y="31"/>
                    </a:lnTo>
                    <a:lnTo>
                      <a:pt x="14" y="16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179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1" name=""/>
              <p:cNvGrpSpPr/>
              <p:nvPr/>
            </p:nvGrpSpPr>
            <p:grpSpPr>
              <a:xfrm>
                <a:off x="6086520" y="2911320"/>
                <a:ext cx="14400" cy="17640"/>
                <a:chOff x="6086520" y="2911320"/>
                <a:chExt cx="14400" cy="17640"/>
              </a:xfrm>
            </p:grpSpPr>
            <p:sp>
              <p:nvSpPr>
                <p:cNvPr id="922" name=""/>
                <p:cNvSpPr/>
                <p:nvPr/>
              </p:nvSpPr>
              <p:spPr>
                <a:xfrm>
                  <a:off x="6086520" y="291132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28" h="31">
                      <a:moveTo>
                        <a:pt x="28" y="0"/>
                      </a:moveTo>
                      <a:lnTo>
                        <a:pt x="14" y="16"/>
                      </a:lnTo>
                      <a:lnTo>
                        <a:pt x="0" y="31"/>
                      </a:lnTo>
                      <a:lnTo>
                        <a:pt x="14" y="16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179c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6086520" y="291132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28" h="31">
                      <a:moveTo>
                        <a:pt x="28" y="0"/>
                      </a:moveTo>
                      <a:lnTo>
                        <a:pt x="14" y="16"/>
                      </a:lnTo>
                      <a:lnTo>
                        <a:pt x="0" y="31"/>
                      </a:lnTo>
                      <a:lnTo>
                        <a:pt x="14" y="16"/>
                      </a:lnTo>
                      <a:lnTo>
                        <a:pt x="2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4" name=""/>
              <p:cNvSpPr/>
              <p:nvPr/>
            </p:nvSpPr>
            <p:spPr>
              <a:xfrm>
                <a:off x="7853400" y="2921040"/>
                <a:ext cx="6480" cy="237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47"/>
                    </a:moveTo>
                    <a:lnTo>
                      <a:pt x="14" y="32"/>
                    </a:lnTo>
                    <a:lnTo>
                      <a:pt x="14" y="15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14" y="32"/>
                    </a:lnTo>
                    <a:lnTo>
                      <a:pt x="14" y="47"/>
                    </a:lnTo>
                    <a:close/>
                  </a:path>
                </a:pathLst>
              </a:custGeom>
              <a:solidFill>
                <a:srgbClr val="179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5" name=""/>
              <p:cNvGrpSpPr/>
              <p:nvPr/>
            </p:nvGrpSpPr>
            <p:grpSpPr>
              <a:xfrm>
                <a:off x="7853400" y="2921040"/>
                <a:ext cx="6480" cy="23760"/>
                <a:chOff x="7853400" y="2921040"/>
                <a:chExt cx="6480" cy="2376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7853400" y="2921040"/>
                  <a:ext cx="6480" cy="23760"/>
                </a:xfrm>
                <a:custGeom>
                  <a:avLst/>
                  <a:gdLst/>
                  <a:ahLst/>
                  <a:rect l="l" t="t" r="r" b="b"/>
                  <a:pathLst>
                    <a:path w="14" h="47">
                      <a:moveTo>
                        <a:pt x="14" y="47"/>
                      </a:moveTo>
                      <a:lnTo>
                        <a:pt x="14" y="32"/>
                      </a:lnTo>
                      <a:lnTo>
                        <a:pt x="14" y="15"/>
                      </a:ln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14" y="32"/>
                      </a:lnTo>
                      <a:lnTo>
                        <a:pt x="14" y="47"/>
                      </a:lnTo>
                      <a:close/>
                    </a:path>
                  </a:pathLst>
                </a:custGeom>
                <a:solidFill>
                  <a:srgbClr val="179c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7853400" y="2921040"/>
                  <a:ext cx="6480" cy="23760"/>
                </a:xfrm>
                <a:custGeom>
                  <a:avLst/>
                  <a:gdLst/>
                  <a:ahLst/>
                  <a:rect l="l" t="t" r="r" b="b"/>
                  <a:pathLst>
                    <a:path w="14" h="47">
                      <a:moveTo>
                        <a:pt x="14" y="47"/>
                      </a:moveTo>
                      <a:lnTo>
                        <a:pt x="14" y="32"/>
                      </a:lnTo>
                      <a:lnTo>
                        <a:pt x="14" y="15"/>
                      </a:ln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14" y="32"/>
                      </a:lnTo>
                      <a:lnTo>
                        <a:pt x="14" y="4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8" name=""/>
              <p:cNvSpPr/>
              <p:nvPr/>
            </p:nvSpPr>
            <p:spPr>
              <a:xfrm>
                <a:off x="7450200" y="2921040"/>
                <a:ext cx="6120" cy="237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0"/>
                    </a:moveTo>
                    <a:lnTo>
                      <a:pt x="0" y="15"/>
                    </a:lnTo>
                    <a:lnTo>
                      <a:pt x="0" y="32"/>
                    </a:lnTo>
                    <a:lnTo>
                      <a:pt x="0" y="47"/>
                    </a:lnTo>
                    <a:lnTo>
                      <a:pt x="14" y="3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179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9" name=""/>
              <p:cNvGrpSpPr/>
              <p:nvPr/>
            </p:nvGrpSpPr>
            <p:grpSpPr>
              <a:xfrm>
                <a:off x="7450200" y="2921040"/>
                <a:ext cx="6120" cy="23760"/>
                <a:chOff x="7450200" y="2921040"/>
                <a:chExt cx="6120" cy="23760"/>
              </a:xfrm>
            </p:grpSpPr>
            <p:sp>
              <p:nvSpPr>
                <p:cNvPr id="930" name=""/>
                <p:cNvSpPr/>
                <p:nvPr/>
              </p:nvSpPr>
              <p:spPr>
                <a:xfrm>
                  <a:off x="7450200" y="2921040"/>
                  <a:ext cx="6120" cy="23760"/>
                </a:xfrm>
                <a:custGeom>
                  <a:avLst/>
                  <a:gdLst/>
                  <a:ahLst/>
                  <a:rect l="l" t="t" r="r" b="b"/>
                  <a:pathLst>
                    <a:path w="14" h="47">
                      <a:moveTo>
                        <a:pt x="14" y="0"/>
                      </a:moveTo>
                      <a:lnTo>
                        <a:pt x="0" y="15"/>
                      </a:lnTo>
                      <a:lnTo>
                        <a:pt x="0" y="32"/>
                      </a:lnTo>
                      <a:lnTo>
                        <a:pt x="0" y="47"/>
                      </a:lnTo>
                      <a:lnTo>
                        <a:pt x="14" y="32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179c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7450200" y="2921040"/>
                  <a:ext cx="6120" cy="23760"/>
                </a:xfrm>
                <a:custGeom>
                  <a:avLst/>
                  <a:gdLst/>
                  <a:ahLst/>
                  <a:rect l="l" t="t" r="r" b="b"/>
                  <a:pathLst>
                    <a:path w="14" h="47">
                      <a:moveTo>
                        <a:pt x="14" y="0"/>
                      </a:moveTo>
                      <a:lnTo>
                        <a:pt x="0" y="15"/>
                      </a:lnTo>
                      <a:lnTo>
                        <a:pt x="0" y="32"/>
                      </a:lnTo>
                      <a:lnTo>
                        <a:pt x="0" y="47"/>
                      </a:lnTo>
                      <a:lnTo>
                        <a:pt x="14" y="32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2" name=""/>
              <p:cNvSpPr/>
              <p:nvPr/>
            </p:nvSpPr>
            <p:spPr>
              <a:xfrm>
                <a:off x="7338960" y="2911320"/>
                <a:ext cx="38160" cy="42840"/>
              </a:xfrm>
              <a:custGeom>
                <a:avLst/>
                <a:gdLst/>
                <a:ahLst/>
                <a:rect l="l" t="t" r="r" b="b"/>
                <a:pathLst>
                  <a:path w="70" h="79">
                    <a:moveTo>
                      <a:pt x="0" y="0"/>
                    </a:moveTo>
                    <a:lnTo>
                      <a:pt x="14" y="16"/>
                    </a:lnTo>
                    <a:lnTo>
                      <a:pt x="42" y="31"/>
                    </a:lnTo>
                    <a:lnTo>
                      <a:pt x="56" y="31"/>
                    </a:lnTo>
                    <a:lnTo>
                      <a:pt x="70" y="48"/>
                    </a:lnTo>
                    <a:lnTo>
                      <a:pt x="70" y="63"/>
                    </a:lnTo>
                    <a:lnTo>
                      <a:pt x="56" y="79"/>
                    </a:lnTo>
                    <a:lnTo>
                      <a:pt x="42" y="79"/>
                    </a:lnTo>
                    <a:lnTo>
                      <a:pt x="28" y="79"/>
                    </a:lnTo>
                    <a:lnTo>
                      <a:pt x="56" y="79"/>
                    </a:lnTo>
                    <a:lnTo>
                      <a:pt x="70" y="63"/>
                    </a:lnTo>
                    <a:lnTo>
                      <a:pt x="70" y="48"/>
                    </a:lnTo>
                    <a:lnTo>
                      <a:pt x="56" y="16"/>
                    </a:ln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79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3" name=""/>
              <p:cNvGrpSpPr/>
              <p:nvPr/>
            </p:nvGrpSpPr>
            <p:grpSpPr>
              <a:xfrm>
                <a:off x="7338960" y="2911320"/>
                <a:ext cx="38160" cy="42840"/>
                <a:chOff x="7338960" y="2911320"/>
                <a:chExt cx="38160" cy="42840"/>
              </a:xfrm>
            </p:grpSpPr>
            <p:sp>
              <p:nvSpPr>
                <p:cNvPr id="934" name=""/>
                <p:cNvSpPr/>
                <p:nvPr/>
              </p:nvSpPr>
              <p:spPr>
                <a:xfrm>
                  <a:off x="7338960" y="2911320"/>
                  <a:ext cx="38160" cy="42840"/>
                </a:xfrm>
                <a:custGeom>
                  <a:avLst/>
                  <a:gdLst/>
                  <a:ahLst/>
                  <a:rect l="l" t="t" r="r" b="b"/>
                  <a:pathLst>
                    <a:path w="70" h="79">
                      <a:moveTo>
                        <a:pt x="0" y="0"/>
                      </a:moveTo>
                      <a:lnTo>
                        <a:pt x="14" y="16"/>
                      </a:lnTo>
                      <a:lnTo>
                        <a:pt x="42" y="31"/>
                      </a:lnTo>
                      <a:lnTo>
                        <a:pt x="56" y="31"/>
                      </a:lnTo>
                      <a:lnTo>
                        <a:pt x="70" y="48"/>
                      </a:lnTo>
                      <a:lnTo>
                        <a:pt x="70" y="63"/>
                      </a:lnTo>
                      <a:lnTo>
                        <a:pt x="56" y="79"/>
                      </a:lnTo>
                      <a:lnTo>
                        <a:pt x="42" y="79"/>
                      </a:lnTo>
                      <a:lnTo>
                        <a:pt x="28" y="79"/>
                      </a:lnTo>
                      <a:lnTo>
                        <a:pt x="56" y="79"/>
                      </a:lnTo>
                      <a:lnTo>
                        <a:pt x="70" y="63"/>
                      </a:lnTo>
                      <a:lnTo>
                        <a:pt x="70" y="48"/>
                      </a:lnTo>
                      <a:lnTo>
                        <a:pt x="56" y="16"/>
                      </a:lnTo>
                      <a:lnTo>
                        <a:pt x="1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179c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7338960" y="2911320"/>
                  <a:ext cx="38160" cy="42840"/>
                </a:xfrm>
                <a:custGeom>
                  <a:avLst/>
                  <a:gdLst/>
                  <a:ahLst/>
                  <a:rect l="l" t="t" r="r" b="b"/>
                  <a:pathLst>
                    <a:path w="70" h="79">
                      <a:moveTo>
                        <a:pt x="0" y="0"/>
                      </a:moveTo>
                      <a:lnTo>
                        <a:pt x="14" y="16"/>
                      </a:lnTo>
                      <a:lnTo>
                        <a:pt x="42" y="31"/>
                      </a:lnTo>
                      <a:lnTo>
                        <a:pt x="56" y="31"/>
                      </a:lnTo>
                      <a:lnTo>
                        <a:pt x="70" y="48"/>
                      </a:lnTo>
                      <a:lnTo>
                        <a:pt x="70" y="63"/>
                      </a:lnTo>
                      <a:lnTo>
                        <a:pt x="56" y="79"/>
                      </a:lnTo>
                      <a:lnTo>
                        <a:pt x="42" y="79"/>
                      </a:lnTo>
                      <a:lnTo>
                        <a:pt x="28" y="79"/>
                      </a:lnTo>
                      <a:lnTo>
                        <a:pt x="56" y="79"/>
                      </a:lnTo>
                      <a:lnTo>
                        <a:pt x="70" y="63"/>
                      </a:lnTo>
                      <a:lnTo>
                        <a:pt x="70" y="48"/>
                      </a:lnTo>
                      <a:lnTo>
                        <a:pt x="56" y="16"/>
                      </a:lnTo>
                      <a:lnTo>
                        <a:pt x="14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6" name=""/>
              <p:cNvSpPr/>
              <p:nvPr/>
            </p:nvSpPr>
            <p:spPr>
              <a:xfrm>
                <a:off x="7772400" y="2962440"/>
                <a:ext cx="1440" cy="15840"/>
              </a:xfrm>
              <a:custGeom>
                <a:avLst/>
                <a:gdLst/>
                <a:ahLst/>
                <a:rect l="l" t="t" r="r" b="b"/>
                <a:pathLst>
                  <a:path w="0" h="31">
                    <a:moveTo>
                      <a:pt x="0" y="0"/>
                    </a:moveTo>
                    <a:lnTo>
                      <a:pt x="0" y="15"/>
                    </a:lnTo>
                    <a:lnTo>
                      <a:pt x="0" y="31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79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7" name=""/>
              <p:cNvGrpSpPr/>
              <p:nvPr/>
            </p:nvGrpSpPr>
            <p:grpSpPr>
              <a:xfrm>
                <a:off x="7772400" y="2962440"/>
                <a:ext cx="1440" cy="15840"/>
                <a:chOff x="7772400" y="2962440"/>
                <a:chExt cx="1440" cy="15840"/>
              </a:xfrm>
            </p:grpSpPr>
            <p:sp>
              <p:nvSpPr>
                <p:cNvPr id="938" name=""/>
                <p:cNvSpPr/>
                <p:nvPr/>
              </p:nvSpPr>
              <p:spPr>
                <a:xfrm>
                  <a:off x="7772400" y="2962440"/>
                  <a:ext cx="1440" cy="15840"/>
                </a:xfrm>
                <a:custGeom>
                  <a:avLst/>
                  <a:gdLst/>
                  <a:ahLst/>
                  <a:rect l="l" t="t" r="r" b="b"/>
                  <a:pathLst>
                    <a:path w="0" h="31">
                      <a:moveTo>
                        <a:pt x="0" y="0"/>
                      </a:moveTo>
                      <a:lnTo>
                        <a:pt x="0" y="15"/>
                      </a:lnTo>
                      <a:lnTo>
                        <a:pt x="0" y="31"/>
                      </a:lnTo>
                      <a:lnTo>
                        <a:pt x="0" y="1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179c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7772400" y="2962440"/>
                  <a:ext cx="1440" cy="15840"/>
                </a:xfrm>
                <a:custGeom>
                  <a:avLst/>
                  <a:gdLst/>
                  <a:ahLst/>
                  <a:rect l="l" t="t" r="r" b="b"/>
                  <a:pathLst>
                    <a:path w="0" h="31">
                      <a:moveTo>
                        <a:pt x="0" y="0"/>
                      </a:moveTo>
                      <a:lnTo>
                        <a:pt x="0" y="15"/>
                      </a:lnTo>
                      <a:lnTo>
                        <a:pt x="0" y="31"/>
                      </a:lnTo>
                      <a:lnTo>
                        <a:pt x="0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0" name=""/>
              <p:cNvSpPr/>
              <p:nvPr/>
            </p:nvSpPr>
            <p:spPr>
              <a:xfrm>
                <a:off x="6108840" y="2921040"/>
                <a:ext cx="109440" cy="108000"/>
              </a:xfrm>
              <a:custGeom>
                <a:avLst/>
                <a:gdLst/>
                <a:ahLst/>
                <a:rect l="l" t="t" r="r" b="b"/>
                <a:pathLst>
                  <a:path w="207" h="205">
                    <a:moveTo>
                      <a:pt x="138" y="173"/>
                    </a:moveTo>
                    <a:lnTo>
                      <a:pt x="138" y="157"/>
                    </a:lnTo>
                    <a:lnTo>
                      <a:pt x="124" y="157"/>
                    </a:lnTo>
                    <a:lnTo>
                      <a:pt x="124" y="142"/>
                    </a:lnTo>
                    <a:lnTo>
                      <a:pt x="138" y="126"/>
                    </a:lnTo>
                    <a:lnTo>
                      <a:pt x="138" y="110"/>
                    </a:lnTo>
                    <a:lnTo>
                      <a:pt x="138" y="94"/>
                    </a:lnTo>
                    <a:lnTo>
                      <a:pt x="124" y="94"/>
                    </a:lnTo>
                    <a:lnTo>
                      <a:pt x="96" y="110"/>
                    </a:lnTo>
                    <a:lnTo>
                      <a:pt x="83" y="142"/>
                    </a:lnTo>
                    <a:lnTo>
                      <a:pt x="69" y="173"/>
                    </a:lnTo>
                    <a:lnTo>
                      <a:pt x="55" y="189"/>
                    </a:lnTo>
                    <a:lnTo>
                      <a:pt x="55" y="205"/>
                    </a:lnTo>
                    <a:lnTo>
                      <a:pt x="41" y="205"/>
                    </a:lnTo>
                    <a:lnTo>
                      <a:pt x="41" y="173"/>
                    </a:lnTo>
                    <a:lnTo>
                      <a:pt x="55" y="142"/>
                    </a:lnTo>
                    <a:lnTo>
                      <a:pt x="69" y="126"/>
                    </a:lnTo>
                    <a:lnTo>
                      <a:pt x="55" y="126"/>
                    </a:lnTo>
                    <a:lnTo>
                      <a:pt x="55" y="110"/>
                    </a:lnTo>
                    <a:lnTo>
                      <a:pt x="69" y="94"/>
                    </a:lnTo>
                    <a:lnTo>
                      <a:pt x="83" y="94"/>
                    </a:lnTo>
                    <a:lnTo>
                      <a:pt x="96" y="94"/>
                    </a:lnTo>
                    <a:lnTo>
                      <a:pt x="124" y="94"/>
                    </a:lnTo>
                    <a:lnTo>
                      <a:pt x="124" y="79"/>
                    </a:lnTo>
                    <a:lnTo>
                      <a:pt x="110" y="63"/>
                    </a:lnTo>
                    <a:lnTo>
                      <a:pt x="83" y="47"/>
                    </a:lnTo>
                    <a:lnTo>
                      <a:pt x="55" y="63"/>
                    </a:lnTo>
                    <a:lnTo>
                      <a:pt x="27" y="79"/>
                    </a:lnTo>
                    <a:lnTo>
                      <a:pt x="13" y="79"/>
                    </a:lnTo>
                    <a:lnTo>
                      <a:pt x="0" y="79"/>
                    </a:lnTo>
                    <a:lnTo>
                      <a:pt x="0" y="63"/>
                    </a:lnTo>
                    <a:lnTo>
                      <a:pt x="13" y="47"/>
                    </a:lnTo>
                    <a:lnTo>
                      <a:pt x="41" y="47"/>
                    </a:lnTo>
                    <a:lnTo>
                      <a:pt x="55" y="32"/>
                    </a:lnTo>
                    <a:lnTo>
                      <a:pt x="83" y="15"/>
                    </a:lnTo>
                    <a:lnTo>
                      <a:pt x="110" y="0"/>
                    </a:lnTo>
                    <a:lnTo>
                      <a:pt x="138" y="32"/>
                    </a:lnTo>
                    <a:lnTo>
                      <a:pt x="138" y="47"/>
                    </a:lnTo>
                    <a:lnTo>
                      <a:pt x="138" y="63"/>
                    </a:lnTo>
                    <a:lnTo>
                      <a:pt x="179" y="79"/>
                    </a:lnTo>
                    <a:lnTo>
                      <a:pt x="207" y="94"/>
                    </a:lnTo>
                    <a:lnTo>
                      <a:pt x="207" y="110"/>
                    </a:lnTo>
                    <a:lnTo>
                      <a:pt x="193" y="126"/>
                    </a:lnTo>
                    <a:lnTo>
                      <a:pt x="179" y="126"/>
                    </a:lnTo>
                    <a:lnTo>
                      <a:pt x="179" y="142"/>
                    </a:lnTo>
                    <a:lnTo>
                      <a:pt x="166" y="142"/>
                    </a:lnTo>
                    <a:lnTo>
                      <a:pt x="166" y="157"/>
                    </a:lnTo>
                    <a:lnTo>
                      <a:pt x="152" y="157"/>
                    </a:lnTo>
                    <a:lnTo>
                      <a:pt x="152" y="173"/>
                    </a:lnTo>
                    <a:lnTo>
                      <a:pt x="138" y="173"/>
                    </a:lnTo>
                    <a:close/>
                  </a:path>
                </a:pathLst>
              </a:custGeom>
              <a:solidFill>
                <a:srgbClr val="179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1" name=""/>
              <p:cNvGrpSpPr/>
              <p:nvPr/>
            </p:nvGrpSpPr>
            <p:grpSpPr>
              <a:xfrm>
                <a:off x="6108840" y="2921040"/>
                <a:ext cx="109440" cy="108000"/>
                <a:chOff x="6108840" y="2921040"/>
                <a:chExt cx="109440" cy="108000"/>
              </a:xfrm>
            </p:grpSpPr>
            <p:sp>
              <p:nvSpPr>
                <p:cNvPr id="942" name=""/>
                <p:cNvSpPr/>
                <p:nvPr/>
              </p:nvSpPr>
              <p:spPr>
                <a:xfrm>
                  <a:off x="6108840" y="2921040"/>
                  <a:ext cx="109440" cy="108000"/>
                </a:xfrm>
                <a:custGeom>
                  <a:avLst/>
                  <a:gdLst/>
                  <a:ahLst/>
                  <a:rect l="l" t="t" r="r" b="b"/>
                  <a:pathLst>
                    <a:path w="207" h="205">
                      <a:moveTo>
                        <a:pt x="138" y="173"/>
                      </a:moveTo>
                      <a:lnTo>
                        <a:pt x="138" y="157"/>
                      </a:lnTo>
                      <a:lnTo>
                        <a:pt x="124" y="157"/>
                      </a:lnTo>
                      <a:lnTo>
                        <a:pt x="124" y="142"/>
                      </a:lnTo>
                      <a:lnTo>
                        <a:pt x="138" y="126"/>
                      </a:lnTo>
                      <a:lnTo>
                        <a:pt x="138" y="110"/>
                      </a:lnTo>
                      <a:lnTo>
                        <a:pt x="138" y="94"/>
                      </a:lnTo>
                      <a:lnTo>
                        <a:pt x="124" y="94"/>
                      </a:lnTo>
                      <a:lnTo>
                        <a:pt x="96" y="110"/>
                      </a:lnTo>
                      <a:lnTo>
                        <a:pt x="83" y="142"/>
                      </a:lnTo>
                      <a:lnTo>
                        <a:pt x="69" y="173"/>
                      </a:lnTo>
                      <a:lnTo>
                        <a:pt x="55" y="189"/>
                      </a:lnTo>
                      <a:lnTo>
                        <a:pt x="55" y="205"/>
                      </a:lnTo>
                      <a:lnTo>
                        <a:pt x="41" y="205"/>
                      </a:lnTo>
                      <a:lnTo>
                        <a:pt x="41" y="173"/>
                      </a:lnTo>
                      <a:lnTo>
                        <a:pt x="55" y="142"/>
                      </a:lnTo>
                      <a:lnTo>
                        <a:pt x="69" y="126"/>
                      </a:lnTo>
                      <a:lnTo>
                        <a:pt x="55" y="126"/>
                      </a:lnTo>
                      <a:lnTo>
                        <a:pt x="55" y="110"/>
                      </a:lnTo>
                      <a:lnTo>
                        <a:pt x="69" y="94"/>
                      </a:lnTo>
                      <a:lnTo>
                        <a:pt x="83" y="94"/>
                      </a:lnTo>
                      <a:lnTo>
                        <a:pt x="96" y="94"/>
                      </a:lnTo>
                      <a:lnTo>
                        <a:pt x="124" y="94"/>
                      </a:lnTo>
                      <a:lnTo>
                        <a:pt x="124" y="79"/>
                      </a:lnTo>
                      <a:lnTo>
                        <a:pt x="110" y="63"/>
                      </a:lnTo>
                      <a:lnTo>
                        <a:pt x="83" y="47"/>
                      </a:lnTo>
                      <a:lnTo>
                        <a:pt x="55" y="63"/>
                      </a:lnTo>
                      <a:lnTo>
                        <a:pt x="27" y="79"/>
                      </a:lnTo>
                      <a:lnTo>
                        <a:pt x="13" y="79"/>
                      </a:lnTo>
                      <a:lnTo>
                        <a:pt x="0" y="79"/>
                      </a:lnTo>
                      <a:lnTo>
                        <a:pt x="0" y="63"/>
                      </a:lnTo>
                      <a:lnTo>
                        <a:pt x="13" y="47"/>
                      </a:lnTo>
                      <a:lnTo>
                        <a:pt x="41" y="47"/>
                      </a:lnTo>
                      <a:lnTo>
                        <a:pt x="55" y="32"/>
                      </a:lnTo>
                      <a:lnTo>
                        <a:pt x="83" y="15"/>
                      </a:lnTo>
                      <a:lnTo>
                        <a:pt x="110" y="0"/>
                      </a:lnTo>
                      <a:lnTo>
                        <a:pt x="138" y="32"/>
                      </a:lnTo>
                      <a:lnTo>
                        <a:pt x="138" y="47"/>
                      </a:lnTo>
                      <a:lnTo>
                        <a:pt x="138" y="63"/>
                      </a:lnTo>
                      <a:lnTo>
                        <a:pt x="179" y="79"/>
                      </a:lnTo>
                      <a:lnTo>
                        <a:pt x="207" y="94"/>
                      </a:lnTo>
                      <a:lnTo>
                        <a:pt x="207" y="110"/>
                      </a:lnTo>
                      <a:lnTo>
                        <a:pt x="193" y="126"/>
                      </a:lnTo>
                      <a:lnTo>
                        <a:pt x="179" y="126"/>
                      </a:lnTo>
                      <a:lnTo>
                        <a:pt x="179" y="142"/>
                      </a:lnTo>
                      <a:lnTo>
                        <a:pt x="166" y="142"/>
                      </a:lnTo>
                      <a:lnTo>
                        <a:pt x="166" y="157"/>
                      </a:lnTo>
                      <a:lnTo>
                        <a:pt x="152" y="157"/>
                      </a:lnTo>
                      <a:lnTo>
                        <a:pt x="152" y="173"/>
                      </a:lnTo>
                      <a:lnTo>
                        <a:pt x="138" y="173"/>
                      </a:lnTo>
                      <a:close/>
                    </a:path>
                  </a:pathLst>
                </a:custGeom>
                <a:solidFill>
                  <a:srgbClr val="179c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6108840" y="2921040"/>
                  <a:ext cx="109440" cy="108000"/>
                </a:xfrm>
                <a:custGeom>
                  <a:avLst/>
                  <a:gdLst/>
                  <a:ahLst/>
                  <a:rect l="l" t="t" r="r" b="b"/>
                  <a:pathLst>
                    <a:path w="207" h="205">
                      <a:moveTo>
                        <a:pt x="138" y="173"/>
                      </a:moveTo>
                      <a:lnTo>
                        <a:pt x="138" y="157"/>
                      </a:lnTo>
                      <a:lnTo>
                        <a:pt x="124" y="157"/>
                      </a:lnTo>
                      <a:lnTo>
                        <a:pt x="124" y="142"/>
                      </a:lnTo>
                      <a:lnTo>
                        <a:pt x="138" y="126"/>
                      </a:lnTo>
                      <a:lnTo>
                        <a:pt x="138" y="110"/>
                      </a:lnTo>
                      <a:lnTo>
                        <a:pt x="138" y="94"/>
                      </a:lnTo>
                      <a:lnTo>
                        <a:pt x="124" y="94"/>
                      </a:lnTo>
                      <a:lnTo>
                        <a:pt x="96" y="110"/>
                      </a:lnTo>
                      <a:lnTo>
                        <a:pt x="83" y="142"/>
                      </a:lnTo>
                      <a:lnTo>
                        <a:pt x="69" y="173"/>
                      </a:lnTo>
                      <a:lnTo>
                        <a:pt x="55" y="189"/>
                      </a:lnTo>
                      <a:lnTo>
                        <a:pt x="55" y="205"/>
                      </a:lnTo>
                      <a:lnTo>
                        <a:pt x="41" y="205"/>
                      </a:lnTo>
                      <a:lnTo>
                        <a:pt x="41" y="173"/>
                      </a:lnTo>
                      <a:lnTo>
                        <a:pt x="55" y="142"/>
                      </a:lnTo>
                      <a:lnTo>
                        <a:pt x="69" y="126"/>
                      </a:lnTo>
                      <a:lnTo>
                        <a:pt x="55" y="126"/>
                      </a:lnTo>
                      <a:lnTo>
                        <a:pt x="55" y="110"/>
                      </a:lnTo>
                      <a:lnTo>
                        <a:pt x="69" y="94"/>
                      </a:lnTo>
                      <a:lnTo>
                        <a:pt x="83" y="94"/>
                      </a:lnTo>
                      <a:lnTo>
                        <a:pt x="96" y="94"/>
                      </a:lnTo>
                      <a:lnTo>
                        <a:pt x="124" y="94"/>
                      </a:lnTo>
                      <a:lnTo>
                        <a:pt x="124" y="79"/>
                      </a:lnTo>
                      <a:lnTo>
                        <a:pt x="110" y="63"/>
                      </a:lnTo>
                      <a:lnTo>
                        <a:pt x="83" y="47"/>
                      </a:lnTo>
                      <a:lnTo>
                        <a:pt x="55" y="63"/>
                      </a:lnTo>
                      <a:lnTo>
                        <a:pt x="27" y="79"/>
                      </a:lnTo>
                      <a:lnTo>
                        <a:pt x="13" y="79"/>
                      </a:lnTo>
                      <a:lnTo>
                        <a:pt x="0" y="79"/>
                      </a:lnTo>
                      <a:lnTo>
                        <a:pt x="0" y="63"/>
                      </a:lnTo>
                      <a:lnTo>
                        <a:pt x="13" y="47"/>
                      </a:lnTo>
                      <a:lnTo>
                        <a:pt x="41" y="47"/>
                      </a:lnTo>
                      <a:lnTo>
                        <a:pt x="55" y="32"/>
                      </a:lnTo>
                      <a:lnTo>
                        <a:pt x="83" y="15"/>
                      </a:lnTo>
                      <a:lnTo>
                        <a:pt x="110" y="0"/>
                      </a:lnTo>
                      <a:lnTo>
                        <a:pt x="138" y="32"/>
                      </a:lnTo>
                      <a:lnTo>
                        <a:pt x="138" y="47"/>
                      </a:lnTo>
                      <a:lnTo>
                        <a:pt x="138" y="63"/>
                      </a:lnTo>
                      <a:lnTo>
                        <a:pt x="179" y="79"/>
                      </a:lnTo>
                      <a:lnTo>
                        <a:pt x="207" y="94"/>
                      </a:lnTo>
                      <a:lnTo>
                        <a:pt x="207" y="110"/>
                      </a:lnTo>
                      <a:lnTo>
                        <a:pt x="193" y="126"/>
                      </a:lnTo>
                      <a:lnTo>
                        <a:pt x="179" y="126"/>
                      </a:lnTo>
                      <a:lnTo>
                        <a:pt x="179" y="142"/>
                      </a:lnTo>
                      <a:lnTo>
                        <a:pt x="166" y="142"/>
                      </a:lnTo>
                      <a:lnTo>
                        <a:pt x="166" y="157"/>
                      </a:lnTo>
                      <a:lnTo>
                        <a:pt x="152" y="157"/>
                      </a:lnTo>
                      <a:lnTo>
                        <a:pt x="152" y="173"/>
                      </a:lnTo>
                      <a:lnTo>
                        <a:pt x="138" y="17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4" name=""/>
              <p:cNvSpPr/>
              <p:nvPr/>
            </p:nvSpPr>
            <p:spPr>
              <a:xfrm>
                <a:off x="7618320" y="296244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55" h="63">
                    <a:moveTo>
                      <a:pt x="55" y="47"/>
                    </a:moveTo>
                    <a:lnTo>
                      <a:pt x="42" y="63"/>
                    </a:lnTo>
                    <a:lnTo>
                      <a:pt x="0" y="63"/>
                    </a:lnTo>
                    <a:lnTo>
                      <a:pt x="0" y="31"/>
                    </a:lnTo>
                    <a:lnTo>
                      <a:pt x="0" y="15"/>
                    </a:lnTo>
                    <a:lnTo>
                      <a:pt x="14" y="0"/>
                    </a:lnTo>
                    <a:lnTo>
                      <a:pt x="28" y="15"/>
                    </a:lnTo>
                    <a:lnTo>
                      <a:pt x="55" y="31"/>
                    </a:lnTo>
                    <a:lnTo>
                      <a:pt x="55" y="47"/>
                    </a:lnTo>
                    <a:close/>
                  </a:path>
                </a:pathLst>
              </a:custGeom>
              <a:solidFill>
                <a:srgbClr val="179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5" name=""/>
              <p:cNvGrpSpPr/>
              <p:nvPr/>
            </p:nvGrpSpPr>
            <p:grpSpPr>
              <a:xfrm>
                <a:off x="7618320" y="2962440"/>
                <a:ext cx="28800" cy="33120"/>
                <a:chOff x="7618320" y="2962440"/>
                <a:chExt cx="28800" cy="3312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7618320" y="2962440"/>
                  <a:ext cx="28800" cy="33120"/>
                </a:xfrm>
                <a:custGeom>
                  <a:avLst/>
                  <a:gdLst/>
                  <a:ahLst/>
                  <a:rect l="l" t="t" r="r" b="b"/>
                  <a:pathLst>
                    <a:path w="55" h="63">
                      <a:moveTo>
                        <a:pt x="55" y="47"/>
                      </a:moveTo>
                      <a:lnTo>
                        <a:pt x="42" y="63"/>
                      </a:lnTo>
                      <a:lnTo>
                        <a:pt x="0" y="63"/>
                      </a:lnTo>
                      <a:lnTo>
                        <a:pt x="0" y="31"/>
                      </a:lnTo>
                      <a:lnTo>
                        <a:pt x="0" y="15"/>
                      </a:lnTo>
                      <a:lnTo>
                        <a:pt x="14" y="0"/>
                      </a:lnTo>
                      <a:lnTo>
                        <a:pt x="28" y="15"/>
                      </a:lnTo>
                      <a:lnTo>
                        <a:pt x="55" y="31"/>
                      </a:lnTo>
                      <a:lnTo>
                        <a:pt x="55" y="47"/>
                      </a:lnTo>
                      <a:close/>
                    </a:path>
                  </a:pathLst>
                </a:custGeom>
                <a:solidFill>
                  <a:srgbClr val="179c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7618320" y="2962440"/>
                  <a:ext cx="28800" cy="33120"/>
                </a:xfrm>
                <a:custGeom>
                  <a:avLst/>
                  <a:gdLst/>
                  <a:ahLst/>
                  <a:rect l="l" t="t" r="r" b="b"/>
                  <a:pathLst>
                    <a:path w="55" h="63">
                      <a:moveTo>
                        <a:pt x="55" y="47"/>
                      </a:moveTo>
                      <a:lnTo>
                        <a:pt x="42" y="63"/>
                      </a:lnTo>
                      <a:lnTo>
                        <a:pt x="0" y="63"/>
                      </a:lnTo>
                      <a:lnTo>
                        <a:pt x="0" y="31"/>
                      </a:lnTo>
                      <a:lnTo>
                        <a:pt x="0" y="15"/>
                      </a:lnTo>
                      <a:lnTo>
                        <a:pt x="14" y="0"/>
                      </a:lnTo>
                      <a:lnTo>
                        <a:pt x="28" y="15"/>
                      </a:lnTo>
                      <a:lnTo>
                        <a:pt x="55" y="31"/>
                      </a:lnTo>
                      <a:lnTo>
                        <a:pt x="55" y="4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8" name=""/>
              <p:cNvSpPr/>
              <p:nvPr/>
            </p:nvSpPr>
            <p:spPr>
              <a:xfrm>
                <a:off x="6218280" y="2987640"/>
                <a:ext cx="36360" cy="15840"/>
              </a:xfrm>
              <a:custGeom>
                <a:avLst/>
                <a:gdLst/>
                <a:ahLst/>
                <a:rect l="l" t="t" r="r" b="b"/>
                <a:pathLst>
                  <a:path w="69" h="31">
                    <a:moveTo>
                      <a:pt x="69" y="0"/>
                    </a:moveTo>
                    <a:lnTo>
                      <a:pt x="69" y="16"/>
                    </a:lnTo>
                    <a:lnTo>
                      <a:pt x="55" y="31"/>
                    </a:lnTo>
                    <a:lnTo>
                      <a:pt x="42" y="31"/>
                    </a:lnTo>
                    <a:lnTo>
                      <a:pt x="28" y="31"/>
                    </a:lnTo>
                    <a:lnTo>
                      <a:pt x="14" y="31"/>
                    </a:lnTo>
                    <a:lnTo>
                      <a:pt x="0" y="31"/>
                    </a:lnTo>
                    <a:lnTo>
                      <a:pt x="0" y="16"/>
                    </a:lnTo>
                    <a:lnTo>
                      <a:pt x="14" y="16"/>
                    </a:lnTo>
                    <a:lnTo>
                      <a:pt x="28" y="16"/>
                    </a:lnTo>
                    <a:lnTo>
                      <a:pt x="42" y="16"/>
                    </a:lnTo>
                    <a:lnTo>
                      <a:pt x="55" y="16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179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9" name=""/>
              <p:cNvGrpSpPr/>
              <p:nvPr/>
            </p:nvGrpSpPr>
            <p:grpSpPr>
              <a:xfrm>
                <a:off x="6218280" y="2987640"/>
                <a:ext cx="36360" cy="15840"/>
                <a:chOff x="6218280" y="2987640"/>
                <a:chExt cx="36360" cy="15840"/>
              </a:xfrm>
            </p:grpSpPr>
            <p:sp>
              <p:nvSpPr>
                <p:cNvPr id="950" name=""/>
                <p:cNvSpPr/>
                <p:nvPr/>
              </p:nvSpPr>
              <p:spPr>
                <a:xfrm>
                  <a:off x="6218280" y="2987640"/>
                  <a:ext cx="36360" cy="15840"/>
                </a:xfrm>
                <a:custGeom>
                  <a:avLst/>
                  <a:gdLst/>
                  <a:ahLst/>
                  <a:rect l="l" t="t" r="r" b="b"/>
                  <a:pathLst>
                    <a:path w="69" h="31">
                      <a:moveTo>
                        <a:pt x="69" y="0"/>
                      </a:moveTo>
                      <a:lnTo>
                        <a:pt x="69" y="16"/>
                      </a:lnTo>
                      <a:lnTo>
                        <a:pt x="55" y="31"/>
                      </a:lnTo>
                      <a:lnTo>
                        <a:pt x="42" y="31"/>
                      </a:lnTo>
                      <a:lnTo>
                        <a:pt x="28" y="31"/>
                      </a:lnTo>
                      <a:lnTo>
                        <a:pt x="14" y="31"/>
                      </a:lnTo>
                      <a:lnTo>
                        <a:pt x="0" y="31"/>
                      </a:lnTo>
                      <a:lnTo>
                        <a:pt x="0" y="16"/>
                      </a:lnTo>
                      <a:lnTo>
                        <a:pt x="14" y="16"/>
                      </a:lnTo>
                      <a:lnTo>
                        <a:pt x="28" y="16"/>
                      </a:lnTo>
                      <a:lnTo>
                        <a:pt x="42" y="16"/>
                      </a:lnTo>
                      <a:lnTo>
                        <a:pt x="55" y="16"/>
                      </a:lnTo>
                      <a:lnTo>
                        <a:pt x="69" y="0"/>
                      </a:lnTo>
                      <a:close/>
                    </a:path>
                  </a:pathLst>
                </a:custGeom>
                <a:solidFill>
                  <a:srgbClr val="179c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6218280" y="2987640"/>
                  <a:ext cx="36360" cy="15840"/>
                </a:xfrm>
                <a:custGeom>
                  <a:avLst/>
                  <a:gdLst/>
                  <a:ahLst/>
                  <a:rect l="l" t="t" r="r" b="b"/>
                  <a:pathLst>
                    <a:path w="69" h="31">
                      <a:moveTo>
                        <a:pt x="69" y="0"/>
                      </a:moveTo>
                      <a:lnTo>
                        <a:pt x="69" y="16"/>
                      </a:lnTo>
                      <a:lnTo>
                        <a:pt x="55" y="31"/>
                      </a:lnTo>
                      <a:lnTo>
                        <a:pt x="42" y="31"/>
                      </a:lnTo>
                      <a:lnTo>
                        <a:pt x="28" y="31"/>
                      </a:lnTo>
                      <a:lnTo>
                        <a:pt x="14" y="31"/>
                      </a:lnTo>
                      <a:lnTo>
                        <a:pt x="0" y="31"/>
                      </a:lnTo>
                      <a:lnTo>
                        <a:pt x="0" y="16"/>
                      </a:lnTo>
                      <a:lnTo>
                        <a:pt x="14" y="16"/>
                      </a:lnTo>
                      <a:lnTo>
                        <a:pt x="28" y="16"/>
                      </a:lnTo>
                      <a:lnTo>
                        <a:pt x="42" y="16"/>
                      </a:lnTo>
                      <a:lnTo>
                        <a:pt x="55" y="16"/>
                      </a:lnTo>
                      <a:lnTo>
                        <a:pt x="69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2" name=""/>
              <p:cNvSpPr/>
              <p:nvPr/>
            </p:nvSpPr>
            <p:spPr>
              <a:xfrm>
                <a:off x="6173640" y="3011400"/>
                <a:ext cx="14400" cy="25560"/>
              </a:xfrm>
              <a:custGeom>
                <a:avLst/>
                <a:gdLst/>
                <a:ahLst/>
                <a:rect l="l" t="t" r="r" b="b"/>
                <a:pathLst>
                  <a:path w="28" h="48">
                    <a:moveTo>
                      <a:pt x="28" y="16"/>
                    </a:moveTo>
                    <a:lnTo>
                      <a:pt x="28" y="32"/>
                    </a:lnTo>
                    <a:lnTo>
                      <a:pt x="14" y="32"/>
                    </a:lnTo>
                    <a:lnTo>
                      <a:pt x="0" y="48"/>
                    </a:lnTo>
                    <a:lnTo>
                      <a:pt x="0" y="32"/>
                    </a:lnTo>
                    <a:lnTo>
                      <a:pt x="14" y="16"/>
                    </a:lnTo>
                    <a:lnTo>
                      <a:pt x="14" y="0"/>
                    </a:lnTo>
                    <a:lnTo>
                      <a:pt x="0" y="16"/>
                    </a:lnTo>
                    <a:lnTo>
                      <a:pt x="14" y="16"/>
                    </a:lnTo>
                    <a:lnTo>
                      <a:pt x="28" y="16"/>
                    </a:lnTo>
                    <a:close/>
                  </a:path>
                </a:pathLst>
              </a:custGeom>
              <a:solidFill>
                <a:srgbClr val="179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3" name=""/>
              <p:cNvGrpSpPr/>
              <p:nvPr/>
            </p:nvGrpSpPr>
            <p:grpSpPr>
              <a:xfrm>
                <a:off x="6173640" y="3011400"/>
                <a:ext cx="14400" cy="25560"/>
                <a:chOff x="6173640" y="3011400"/>
                <a:chExt cx="14400" cy="25560"/>
              </a:xfrm>
            </p:grpSpPr>
            <p:sp>
              <p:nvSpPr>
                <p:cNvPr id="954" name=""/>
                <p:cNvSpPr/>
                <p:nvPr/>
              </p:nvSpPr>
              <p:spPr>
                <a:xfrm>
                  <a:off x="6173640" y="3011400"/>
                  <a:ext cx="14400" cy="2556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28" y="16"/>
                      </a:moveTo>
                      <a:lnTo>
                        <a:pt x="28" y="32"/>
                      </a:lnTo>
                      <a:lnTo>
                        <a:pt x="14" y="32"/>
                      </a:lnTo>
                      <a:lnTo>
                        <a:pt x="0" y="48"/>
                      </a:lnTo>
                      <a:lnTo>
                        <a:pt x="0" y="32"/>
                      </a:lnTo>
                      <a:lnTo>
                        <a:pt x="14" y="16"/>
                      </a:lnTo>
                      <a:lnTo>
                        <a:pt x="14" y="0"/>
                      </a:lnTo>
                      <a:lnTo>
                        <a:pt x="0" y="16"/>
                      </a:lnTo>
                      <a:lnTo>
                        <a:pt x="14" y="16"/>
                      </a:lnTo>
                      <a:lnTo>
                        <a:pt x="28" y="16"/>
                      </a:lnTo>
                      <a:close/>
                    </a:path>
                  </a:pathLst>
                </a:custGeom>
                <a:solidFill>
                  <a:srgbClr val="179c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6173640" y="3011400"/>
                  <a:ext cx="14400" cy="2556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28" y="16"/>
                      </a:moveTo>
                      <a:lnTo>
                        <a:pt x="28" y="32"/>
                      </a:lnTo>
                      <a:lnTo>
                        <a:pt x="14" y="32"/>
                      </a:lnTo>
                      <a:lnTo>
                        <a:pt x="0" y="48"/>
                      </a:lnTo>
                      <a:lnTo>
                        <a:pt x="0" y="32"/>
                      </a:lnTo>
                      <a:lnTo>
                        <a:pt x="14" y="16"/>
                      </a:lnTo>
                      <a:lnTo>
                        <a:pt x="14" y="0"/>
                      </a:lnTo>
                      <a:lnTo>
                        <a:pt x="0" y="16"/>
                      </a:lnTo>
                      <a:lnTo>
                        <a:pt x="14" y="16"/>
                      </a:lnTo>
                      <a:lnTo>
                        <a:pt x="28" y="1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6" name=""/>
              <p:cNvSpPr/>
              <p:nvPr/>
            </p:nvSpPr>
            <p:spPr>
              <a:xfrm>
                <a:off x="6027840" y="341316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0" y="0"/>
                    </a:move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79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7" name=""/>
              <p:cNvGrpSpPr/>
              <p:nvPr/>
            </p:nvGrpSpPr>
            <p:grpSpPr>
              <a:xfrm>
                <a:off x="6027840" y="3413160"/>
                <a:ext cx="6120" cy="1440"/>
                <a:chOff x="6027840" y="3413160"/>
                <a:chExt cx="6120" cy="144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6027840" y="3413160"/>
                  <a:ext cx="6120" cy="1440"/>
                </a:xfrm>
                <a:custGeom>
                  <a:avLst/>
                  <a:gdLst/>
                  <a:ahLst/>
                  <a:rect l="l" t="t" r="r" b="b"/>
                  <a:pathLst>
                    <a:path w="14" h="0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179c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6027840" y="3413160"/>
                  <a:ext cx="6120" cy="1440"/>
                </a:xfrm>
                <a:custGeom>
                  <a:avLst/>
                  <a:gdLst/>
                  <a:ahLst/>
                  <a:rect l="l" t="t" r="r" b="b"/>
                  <a:pathLst>
                    <a:path w="14" h="0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0" name=""/>
              <p:cNvSpPr/>
              <p:nvPr/>
            </p:nvSpPr>
            <p:spPr>
              <a:xfrm>
                <a:off x="7010280" y="3505320"/>
                <a:ext cx="14400" cy="33120"/>
              </a:xfrm>
              <a:custGeom>
                <a:avLst/>
                <a:gdLst/>
                <a:ahLst/>
                <a:rect l="l" t="t" r="r" b="b"/>
                <a:pathLst>
                  <a:path w="27" h="64">
                    <a:moveTo>
                      <a:pt x="27" y="0"/>
                    </a:moveTo>
                    <a:lnTo>
                      <a:pt x="27" y="32"/>
                    </a:lnTo>
                    <a:lnTo>
                      <a:pt x="27" y="47"/>
                    </a:lnTo>
                    <a:lnTo>
                      <a:pt x="13" y="64"/>
                    </a:lnTo>
                    <a:lnTo>
                      <a:pt x="0" y="64"/>
                    </a:lnTo>
                    <a:lnTo>
                      <a:pt x="0" y="32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13" y="15"/>
                    </a:lnTo>
                    <a:lnTo>
                      <a:pt x="13" y="32"/>
                    </a:lnTo>
                    <a:lnTo>
                      <a:pt x="27" y="47"/>
                    </a:lnTo>
                    <a:lnTo>
                      <a:pt x="27" y="32"/>
                    </a:lnTo>
                    <a:lnTo>
                      <a:pt x="27" y="1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179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1" name=""/>
              <p:cNvGrpSpPr/>
              <p:nvPr/>
            </p:nvGrpSpPr>
            <p:grpSpPr>
              <a:xfrm>
                <a:off x="7010280" y="3505320"/>
                <a:ext cx="14400" cy="33120"/>
                <a:chOff x="7010280" y="3505320"/>
                <a:chExt cx="14400" cy="33120"/>
              </a:xfrm>
            </p:grpSpPr>
            <p:sp>
              <p:nvSpPr>
                <p:cNvPr id="962" name=""/>
                <p:cNvSpPr/>
                <p:nvPr/>
              </p:nvSpPr>
              <p:spPr>
                <a:xfrm>
                  <a:off x="7010280" y="3505320"/>
                  <a:ext cx="14400" cy="33120"/>
                </a:xfrm>
                <a:custGeom>
                  <a:avLst/>
                  <a:gdLst/>
                  <a:ahLst/>
                  <a:rect l="l" t="t" r="r" b="b"/>
                  <a:pathLst>
                    <a:path w="27" h="64">
                      <a:moveTo>
                        <a:pt x="27" y="0"/>
                      </a:moveTo>
                      <a:lnTo>
                        <a:pt x="27" y="32"/>
                      </a:lnTo>
                      <a:lnTo>
                        <a:pt x="27" y="47"/>
                      </a:lnTo>
                      <a:lnTo>
                        <a:pt x="13" y="64"/>
                      </a:lnTo>
                      <a:lnTo>
                        <a:pt x="0" y="64"/>
                      </a:lnTo>
                      <a:lnTo>
                        <a:pt x="0" y="32"/>
                      </a:lnTo>
                      <a:lnTo>
                        <a:pt x="0" y="15"/>
                      </a:lnTo>
                      <a:lnTo>
                        <a:pt x="0" y="0"/>
                      </a:lnTo>
                      <a:lnTo>
                        <a:pt x="13" y="15"/>
                      </a:lnTo>
                      <a:lnTo>
                        <a:pt x="13" y="32"/>
                      </a:lnTo>
                      <a:lnTo>
                        <a:pt x="27" y="47"/>
                      </a:lnTo>
                      <a:lnTo>
                        <a:pt x="27" y="32"/>
                      </a:lnTo>
                      <a:lnTo>
                        <a:pt x="27" y="15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179c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7010280" y="3505320"/>
                  <a:ext cx="14400" cy="33120"/>
                </a:xfrm>
                <a:custGeom>
                  <a:avLst/>
                  <a:gdLst/>
                  <a:ahLst/>
                  <a:rect l="l" t="t" r="r" b="b"/>
                  <a:pathLst>
                    <a:path w="27" h="64">
                      <a:moveTo>
                        <a:pt x="27" y="0"/>
                      </a:moveTo>
                      <a:lnTo>
                        <a:pt x="27" y="32"/>
                      </a:lnTo>
                      <a:lnTo>
                        <a:pt x="27" y="47"/>
                      </a:lnTo>
                      <a:lnTo>
                        <a:pt x="13" y="64"/>
                      </a:lnTo>
                      <a:lnTo>
                        <a:pt x="0" y="64"/>
                      </a:lnTo>
                      <a:lnTo>
                        <a:pt x="0" y="32"/>
                      </a:lnTo>
                      <a:lnTo>
                        <a:pt x="0" y="15"/>
                      </a:lnTo>
                      <a:lnTo>
                        <a:pt x="0" y="0"/>
                      </a:lnTo>
                      <a:lnTo>
                        <a:pt x="13" y="15"/>
                      </a:lnTo>
                      <a:lnTo>
                        <a:pt x="13" y="32"/>
                      </a:lnTo>
                      <a:lnTo>
                        <a:pt x="27" y="47"/>
                      </a:lnTo>
                      <a:lnTo>
                        <a:pt x="27" y="32"/>
                      </a:lnTo>
                      <a:lnTo>
                        <a:pt x="27" y="15"/>
                      </a:lnTo>
                      <a:lnTo>
                        <a:pt x="2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4" name=""/>
              <p:cNvSpPr/>
              <p:nvPr/>
            </p:nvSpPr>
            <p:spPr>
              <a:xfrm>
                <a:off x="7434360" y="3571920"/>
                <a:ext cx="1440" cy="15840"/>
              </a:xfrm>
              <a:custGeom>
                <a:avLst/>
                <a:gdLst/>
                <a:ahLst/>
                <a:rect l="l" t="t" r="r" b="b"/>
                <a:pathLst>
                  <a:path w="0" h="32">
                    <a:moveTo>
                      <a:pt x="0" y="0"/>
                    </a:moveTo>
                    <a:lnTo>
                      <a:pt x="0" y="16"/>
                    </a:lnTo>
                    <a:lnTo>
                      <a:pt x="0" y="32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79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5" name=""/>
              <p:cNvGrpSpPr/>
              <p:nvPr/>
            </p:nvGrpSpPr>
            <p:grpSpPr>
              <a:xfrm>
                <a:off x="7434360" y="3571920"/>
                <a:ext cx="1440" cy="15840"/>
                <a:chOff x="7434360" y="3571920"/>
                <a:chExt cx="1440" cy="15840"/>
              </a:xfrm>
            </p:grpSpPr>
            <p:sp>
              <p:nvSpPr>
                <p:cNvPr id="966" name=""/>
                <p:cNvSpPr/>
                <p:nvPr/>
              </p:nvSpPr>
              <p:spPr>
                <a:xfrm>
                  <a:off x="7434360" y="3571920"/>
                  <a:ext cx="1440" cy="15840"/>
                </a:xfrm>
                <a:custGeom>
                  <a:avLst/>
                  <a:gdLst/>
                  <a:ahLst/>
                  <a:rect l="l" t="t" r="r" b="b"/>
                  <a:pathLst>
                    <a:path w="0" h="32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32"/>
                      </a:lnTo>
                      <a:lnTo>
                        <a:pt x="0" y="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179c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7434360" y="3571920"/>
                  <a:ext cx="1440" cy="15840"/>
                </a:xfrm>
                <a:custGeom>
                  <a:avLst/>
                  <a:gdLst/>
                  <a:ahLst/>
                  <a:rect l="l" t="t" r="r" b="b"/>
                  <a:pathLst>
                    <a:path w="0" h="32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32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8" name=""/>
              <p:cNvSpPr/>
              <p:nvPr/>
            </p:nvSpPr>
            <p:spPr>
              <a:xfrm>
                <a:off x="7383600" y="3638520"/>
                <a:ext cx="29880" cy="41400"/>
              </a:xfrm>
              <a:custGeom>
                <a:avLst/>
                <a:gdLst/>
                <a:ahLst/>
                <a:rect l="l" t="t" r="r" b="b"/>
                <a:pathLst>
                  <a:path w="56" h="79">
                    <a:moveTo>
                      <a:pt x="0" y="62"/>
                    </a:moveTo>
                    <a:lnTo>
                      <a:pt x="14" y="31"/>
                    </a:lnTo>
                    <a:lnTo>
                      <a:pt x="28" y="15"/>
                    </a:lnTo>
                    <a:lnTo>
                      <a:pt x="56" y="0"/>
                    </a:lnTo>
                    <a:lnTo>
                      <a:pt x="56" y="15"/>
                    </a:lnTo>
                    <a:lnTo>
                      <a:pt x="42" y="31"/>
                    </a:lnTo>
                    <a:lnTo>
                      <a:pt x="42" y="47"/>
                    </a:lnTo>
                    <a:lnTo>
                      <a:pt x="42" y="62"/>
                    </a:lnTo>
                    <a:lnTo>
                      <a:pt x="28" y="79"/>
                    </a:lnTo>
                    <a:lnTo>
                      <a:pt x="28" y="62"/>
                    </a:lnTo>
                    <a:lnTo>
                      <a:pt x="14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179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9" name=""/>
              <p:cNvGrpSpPr/>
              <p:nvPr/>
            </p:nvGrpSpPr>
            <p:grpSpPr>
              <a:xfrm>
                <a:off x="7383600" y="3638520"/>
                <a:ext cx="29880" cy="41400"/>
                <a:chOff x="7383600" y="3638520"/>
                <a:chExt cx="29880" cy="4140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7383600" y="3638520"/>
                  <a:ext cx="29880" cy="41400"/>
                </a:xfrm>
                <a:custGeom>
                  <a:avLst/>
                  <a:gdLst/>
                  <a:ahLst/>
                  <a:rect l="l" t="t" r="r" b="b"/>
                  <a:pathLst>
                    <a:path w="56" h="79">
                      <a:moveTo>
                        <a:pt x="0" y="62"/>
                      </a:moveTo>
                      <a:lnTo>
                        <a:pt x="14" y="31"/>
                      </a:lnTo>
                      <a:lnTo>
                        <a:pt x="28" y="15"/>
                      </a:lnTo>
                      <a:lnTo>
                        <a:pt x="56" y="0"/>
                      </a:lnTo>
                      <a:lnTo>
                        <a:pt x="56" y="15"/>
                      </a:lnTo>
                      <a:lnTo>
                        <a:pt x="42" y="31"/>
                      </a:lnTo>
                      <a:lnTo>
                        <a:pt x="42" y="47"/>
                      </a:lnTo>
                      <a:lnTo>
                        <a:pt x="42" y="62"/>
                      </a:lnTo>
                      <a:lnTo>
                        <a:pt x="28" y="79"/>
                      </a:lnTo>
                      <a:lnTo>
                        <a:pt x="28" y="62"/>
                      </a:lnTo>
                      <a:lnTo>
                        <a:pt x="14" y="62"/>
                      </a:lnTo>
                      <a:lnTo>
                        <a:pt x="0" y="62"/>
                      </a:lnTo>
                      <a:close/>
                    </a:path>
                  </a:pathLst>
                </a:custGeom>
                <a:solidFill>
                  <a:srgbClr val="179c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7383600" y="3638520"/>
                  <a:ext cx="29880" cy="41400"/>
                </a:xfrm>
                <a:custGeom>
                  <a:avLst/>
                  <a:gdLst/>
                  <a:ahLst/>
                  <a:rect l="l" t="t" r="r" b="b"/>
                  <a:pathLst>
                    <a:path w="56" h="79">
                      <a:moveTo>
                        <a:pt x="0" y="62"/>
                      </a:moveTo>
                      <a:lnTo>
                        <a:pt x="14" y="31"/>
                      </a:lnTo>
                      <a:lnTo>
                        <a:pt x="28" y="15"/>
                      </a:lnTo>
                      <a:lnTo>
                        <a:pt x="56" y="0"/>
                      </a:lnTo>
                      <a:lnTo>
                        <a:pt x="56" y="15"/>
                      </a:lnTo>
                      <a:lnTo>
                        <a:pt x="42" y="31"/>
                      </a:lnTo>
                      <a:lnTo>
                        <a:pt x="42" y="47"/>
                      </a:lnTo>
                      <a:lnTo>
                        <a:pt x="42" y="62"/>
                      </a:lnTo>
                      <a:lnTo>
                        <a:pt x="28" y="79"/>
                      </a:lnTo>
                      <a:lnTo>
                        <a:pt x="28" y="62"/>
                      </a:lnTo>
                      <a:lnTo>
                        <a:pt x="14" y="62"/>
                      </a:lnTo>
                      <a:lnTo>
                        <a:pt x="0" y="6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2" name=""/>
              <p:cNvSpPr/>
              <p:nvPr/>
            </p:nvSpPr>
            <p:spPr>
              <a:xfrm>
                <a:off x="7405560" y="3780000"/>
                <a:ext cx="14400" cy="66600"/>
              </a:xfrm>
              <a:custGeom>
                <a:avLst/>
                <a:gdLst/>
                <a:ahLst/>
                <a:rect l="l" t="t" r="r" b="b"/>
                <a:pathLst>
                  <a:path w="28" h="127">
                    <a:moveTo>
                      <a:pt x="0" y="0"/>
                    </a:moveTo>
                    <a:lnTo>
                      <a:pt x="14" y="32"/>
                    </a:lnTo>
                    <a:lnTo>
                      <a:pt x="28" y="79"/>
                    </a:lnTo>
                    <a:lnTo>
                      <a:pt x="28" y="127"/>
                    </a:lnTo>
                    <a:lnTo>
                      <a:pt x="14" y="127"/>
                    </a:lnTo>
                    <a:lnTo>
                      <a:pt x="14" y="111"/>
                    </a:lnTo>
                    <a:lnTo>
                      <a:pt x="14" y="96"/>
                    </a:lnTo>
                    <a:lnTo>
                      <a:pt x="14" y="79"/>
                    </a:lnTo>
                    <a:lnTo>
                      <a:pt x="14" y="49"/>
                    </a:lnTo>
                    <a:lnTo>
                      <a:pt x="14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79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3" name=""/>
              <p:cNvGrpSpPr/>
              <p:nvPr/>
            </p:nvGrpSpPr>
            <p:grpSpPr>
              <a:xfrm>
                <a:off x="7405560" y="3780000"/>
                <a:ext cx="14400" cy="66600"/>
                <a:chOff x="7405560" y="3780000"/>
                <a:chExt cx="14400" cy="66600"/>
              </a:xfrm>
            </p:grpSpPr>
            <p:sp>
              <p:nvSpPr>
                <p:cNvPr id="974" name=""/>
                <p:cNvSpPr/>
                <p:nvPr/>
              </p:nvSpPr>
              <p:spPr>
                <a:xfrm>
                  <a:off x="7405560" y="3780000"/>
                  <a:ext cx="14400" cy="66600"/>
                </a:xfrm>
                <a:custGeom>
                  <a:avLst/>
                  <a:gdLst/>
                  <a:ahLst/>
                  <a:rect l="l" t="t" r="r" b="b"/>
                  <a:pathLst>
                    <a:path w="28" h="127">
                      <a:moveTo>
                        <a:pt x="0" y="0"/>
                      </a:moveTo>
                      <a:lnTo>
                        <a:pt x="14" y="32"/>
                      </a:lnTo>
                      <a:lnTo>
                        <a:pt x="28" y="79"/>
                      </a:lnTo>
                      <a:lnTo>
                        <a:pt x="28" y="127"/>
                      </a:lnTo>
                      <a:lnTo>
                        <a:pt x="14" y="127"/>
                      </a:lnTo>
                      <a:lnTo>
                        <a:pt x="14" y="111"/>
                      </a:lnTo>
                      <a:lnTo>
                        <a:pt x="14" y="96"/>
                      </a:lnTo>
                      <a:lnTo>
                        <a:pt x="14" y="79"/>
                      </a:lnTo>
                      <a:lnTo>
                        <a:pt x="14" y="49"/>
                      </a:lnTo>
                      <a:lnTo>
                        <a:pt x="14" y="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179c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7405560" y="3780000"/>
                  <a:ext cx="14400" cy="66600"/>
                </a:xfrm>
                <a:custGeom>
                  <a:avLst/>
                  <a:gdLst/>
                  <a:ahLst/>
                  <a:rect l="l" t="t" r="r" b="b"/>
                  <a:pathLst>
                    <a:path w="28" h="127">
                      <a:moveTo>
                        <a:pt x="0" y="0"/>
                      </a:moveTo>
                      <a:lnTo>
                        <a:pt x="14" y="32"/>
                      </a:lnTo>
                      <a:lnTo>
                        <a:pt x="28" y="79"/>
                      </a:lnTo>
                      <a:lnTo>
                        <a:pt x="28" y="127"/>
                      </a:lnTo>
                      <a:lnTo>
                        <a:pt x="14" y="127"/>
                      </a:lnTo>
                      <a:lnTo>
                        <a:pt x="14" y="111"/>
                      </a:lnTo>
                      <a:lnTo>
                        <a:pt x="14" y="96"/>
                      </a:lnTo>
                      <a:lnTo>
                        <a:pt x="14" y="79"/>
                      </a:lnTo>
                      <a:lnTo>
                        <a:pt x="14" y="49"/>
                      </a:lnTo>
                      <a:lnTo>
                        <a:pt x="14" y="3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6" name=""/>
              <p:cNvSpPr/>
              <p:nvPr/>
            </p:nvSpPr>
            <p:spPr>
              <a:xfrm>
                <a:off x="7500960" y="2954160"/>
                <a:ext cx="95400" cy="133560"/>
              </a:xfrm>
              <a:custGeom>
                <a:avLst/>
                <a:gdLst/>
                <a:ahLst/>
                <a:rect l="l" t="t" r="r" b="b"/>
                <a:pathLst>
                  <a:path w="180" h="252">
                    <a:moveTo>
                      <a:pt x="180" y="252"/>
                    </a:moveTo>
                    <a:lnTo>
                      <a:pt x="138" y="252"/>
                    </a:lnTo>
                    <a:lnTo>
                      <a:pt x="110" y="252"/>
                    </a:lnTo>
                    <a:lnTo>
                      <a:pt x="69" y="237"/>
                    </a:lnTo>
                    <a:lnTo>
                      <a:pt x="69" y="220"/>
                    </a:lnTo>
                    <a:lnTo>
                      <a:pt x="83" y="205"/>
                    </a:lnTo>
                    <a:lnTo>
                      <a:pt x="97" y="173"/>
                    </a:lnTo>
                    <a:lnTo>
                      <a:pt x="83" y="173"/>
                    </a:lnTo>
                    <a:lnTo>
                      <a:pt x="69" y="173"/>
                    </a:lnTo>
                    <a:lnTo>
                      <a:pt x="55" y="142"/>
                    </a:lnTo>
                    <a:lnTo>
                      <a:pt x="41" y="126"/>
                    </a:lnTo>
                    <a:lnTo>
                      <a:pt x="27" y="110"/>
                    </a:lnTo>
                    <a:lnTo>
                      <a:pt x="0" y="63"/>
                    </a:lnTo>
                    <a:lnTo>
                      <a:pt x="14" y="47"/>
                    </a:lnTo>
                    <a:lnTo>
                      <a:pt x="41" y="16"/>
                    </a:lnTo>
                    <a:lnTo>
                      <a:pt x="41" y="0"/>
                    </a:lnTo>
                    <a:lnTo>
                      <a:pt x="55" y="0"/>
                    </a:lnTo>
                    <a:lnTo>
                      <a:pt x="69" y="0"/>
                    </a:lnTo>
                    <a:lnTo>
                      <a:pt x="83" y="0"/>
                    </a:lnTo>
                    <a:lnTo>
                      <a:pt x="110" y="16"/>
                    </a:lnTo>
                    <a:lnTo>
                      <a:pt x="124" y="47"/>
                    </a:lnTo>
                    <a:lnTo>
                      <a:pt x="110" y="63"/>
                    </a:lnTo>
                    <a:lnTo>
                      <a:pt x="83" y="63"/>
                    </a:lnTo>
                    <a:lnTo>
                      <a:pt x="83" y="79"/>
                    </a:lnTo>
                    <a:lnTo>
                      <a:pt x="97" y="94"/>
                    </a:lnTo>
                    <a:lnTo>
                      <a:pt x="110" y="126"/>
                    </a:lnTo>
                    <a:lnTo>
                      <a:pt x="138" y="142"/>
                    </a:lnTo>
                    <a:lnTo>
                      <a:pt x="152" y="142"/>
                    </a:lnTo>
                    <a:lnTo>
                      <a:pt x="166" y="142"/>
                    </a:lnTo>
                    <a:lnTo>
                      <a:pt x="180" y="158"/>
                    </a:lnTo>
                    <a:lnTo>
                      <a:pt x="166" y="173"/>
                    </a:lnTo>
                    <a:lnTo>
                      <a:pt x="152" y="173"/>
                    </a:lnTo>
                    <a:lnTo>
                      <a:pt x="138" y="173"/>
                    </a:lnTo>
                    <a:lnTo>
                      <a:pt x="138" y="189"/>
                    </a:lnTo>
                    <a:lnTo>
                      <a:pt x="152" y="189"/>
                    </a:lnTo>
                    <a:lnTo>
                      <a:pt x="166" y="220"/>
                    </a:lnTo>
                    <a:lnTo>
                      <a:pt x="166" y="237"/>
                    </a:lnTo>
                    <a:lnTo>
                      <a:pt x="180" y="252"/>
                    </a:lnTo>
                    <a:close/>
                  </a:path>
                </a:pathLst>
              </a:custGeom>
              <a:solidFill>
                <a:srgbClr val="179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7" name=""/>
              <p:cNvGrpSpPr/>
              <p:nvPr/>
            </p:nvGrpSpPr>
            <p:grpSpPr>
              <a:xfrm>
                <a:off x="7500960" y="2954160"/>
                <a:ext cx="95400" cy="133560"/>
                <a:chOff x="7500960" y="2954160"/>
                <a:chExt cx="95400" cy="133560"/>
              </a:xfrm>
            </p:grpSpPr>
            <p:sp>
              <p:nvSpPr>
                <p:cNvPr id="978" name=""/>
                <p:cNvSpPr/>
                <p:nvPr/>
              </p:nvSpPr>
              <p:spPr>
                <a:xfrm>
                  <a:off x="7500960" y="2954160"/>
                  <a:ext cx="95400" cy="133560"/>
                </a:xfrm>
                <a:custGeom>
                  <a:avLst/>
                  <a:gdLst/>
                  <a:ahLst/>
                  <a:rect l="l" t="t" r="r" b="b"/>
                  <a:pathLst>
                    <a:path w="180" h="252">
                      <a:moveTo>
                        <a:pt x="180" y="252"/>
                      </a:moveTo>
                      <a:lnTo>
                        <a:pt x="138" y="252"/>
                      </a:lnTo>
                      <a:lnTo>
                        <a:pt x="110" y="252"/>
                      </a:lnTo>
                      <a:lnTo>
                        <a:pt x="69" y="237"/>
                      </a:lnTo>
                      <a:lnTo>
                        <a:pt x="69" y="220"/>
                      </a:lnTo>
                      <a:lnTo>
                        <a:pt x="83" y="205"/>
                      </a:lnTo>
                      <a:lnTo>
                        <a:pt x="97" y="173"/>
                      </a:lnTo>
                      <a:lnTo>
                        <a:pt x="83" y="173"/>
                      </a:lnTo>
                      <a:lnTo>
                        <a:pt x="69" y="173"/>
                      </a:lnTo>
                      <a:lnTo>
                        <a:pt x="55" y="142"/>
                      </a:lnTo>
                      <a:lnTo>
                        <a:pt x="41" y="126"/>
                      </a:lnTo>
                      <a:lnTo>
                        <a:pt x="27" y="110"/>
                      </a:lnTo>
                      <a:lnTo>
                        <a:pt x="0" y="63"/>
                      </a:lnTo>
                      <a:lnTo>
                        <a:pt x="14" y="47"/>
                      </a:lnTo>
                      <a:lnTo>
                        <a:pt x="41" y="16"/>
                      </a:lnTo>
                      <a:lnTo>
                        <a:pt x="41" y="0"/>
                      </a:lnTo>
                      <a:lnTo>
                        <a:pt x="55" y="0"/>
                      </a:lnTo>
                      <a:lnTo>
                        <a:pt x="69" y="0"/>
                      </a:lnTo>
                      <a:lnTo>
                        <a:pt x="83" y="0"/>
                      </a:lnTo>
                      <a:lnTo>
                        <a:pt x="110" y="16"/>
                      </a:lnTo>
                      <a:lnTo>
                        <a:pt x="124" y="47"/>
                      </a:lnTo>
                      <a:lnTo>
                        <a:pt x="110" y="63"/>
                      </a:lnTo>
                      <a:lnTo>
                        <a:pt x="83" y="63"/>
                      </a:lnTo>
                      <a:lnTo>
                        <a:pt x="83" y="79"/>
                      </a:lnTo>
                      <a:lnTo>
                        <a:pt x="97" y="94"/>
                      </a:lnTo>
                      <a:lnTo>
                        <a:pt x="110" y="126"/>
                      </a:lnTo>
                      <a:lnTo>
                        <a:pt x="138" y="142"/>
                      </a:lnTo>
                      <a:lnTo>
                        <a:pt x="152" y="142"/>
                      </a:lnTo>
                      <a:lnTo>
                        <a:pt x="166" y="142"/>
                      </a:lnTo>
                      <a:lnTo>
                        <a:pt x="180" y="158"/>
                      </a:lnTo>
                      <a:lnTo>
                        <a:pt x="166" y="173"/>
                      </a:lnTo>
                      <a:lnTo>
                        <a:pt x="152" y="173"/>
                      </a:lnTo>
                      <a:lnTo>
                        <a:pt x="138" y="173"/>
                      </a:lnTo>
                      <a:lnTo>
                        <a:pt x="138" y="189"/>
                      </a:lnTo>
                      <a:lnTo>
                        <a:pt x="152" y="189"/>
                      </a:lnTo>
                      <a:lnTo>
                        <a:pt x="166" y="220"/>
                      </a:lnTo>
                      <a:lnTo>
                        <a:pt x="166" y="237"/>
                      </a:lnTo>
                      <a:lnTo>
                        <a:pt x="180" y="252"/>
                      </a:lnTo>
                      <a:close/>
                    </a:path>
                  </a:pathLst>
                </a:custGeom>
                <a:solidFill>
                  <a:srgbClr val="179c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7500960" y="2954160"/>
                  <a:ext cx="95400" cy="133560"/>
                </a:xfrm>
                <a:custGeom>
                  <a:avLst/>
                  <a:gdLst/>
                  <a:ahLst/>
                  <a:rect l="l" t="t" r="r" b="b"/>
                  <a:pathLst>
                    <a:path w="180" h="252">
                      <a:moveTo>
                        <a:pt x="180" y="252"/>
                      </a:moveTo>
                      <a:lnTo>
                        <a:pt x="138" y="252"/>
                      </a:lnTo>
                      <a:lnTo>
                        <a:pt x="110" y="252"/>
                      </a:lnTo>
                      <a:lnTo>
                        <a:pt x="69" y="237"/>
                      </a:lnTo>
                      <a:lnTo>
                        <a:pt x="69" y="220"/>
                      </a:lnTo>
                      <a:lnTo>
                        <a:pt x="83" y="205"/>
                      </a:lnTo>
                      <a:lnTo>
                        <a:pt x="97" y="173"/>
                      </a:lnTo>
                      <a:lnTo>
                        <a:pt x="83" y="173"/>
                      </a:lnTo>
                      <a:lnTo>
                        <a:pt x="69" y="173"/>
                      </a:lnTo>
                      <a:lnTo>
                        <a:pt x="55" y="142"/>
                      </a:lnTo>
                      <a:lnTo>
                        <a:pt x="41" y="126"/>
                      </a:lnTo>
                      <a:lnTo>
                        <a:pt x="27" y="110"/>
                      </a:lnTo>
                      <a:lnTo>
                        <a:pt x="0" y="63"/>
                      </a:lnTo>
                      <a:lnTo>
                        <a:pt x="14" y="47"/>
                      </a:lnTo>
                      <a:lnTo>
                        <a:pt x="41" y="16"/>
                      </a:lnTo>
                      <a:lnTo>
                        <a:pt x="41" y="0"/>
                      </a:lnTo>
                      <a:lnTo>
                        <a:pt x="55" y="0"/>
                      </a:lnTo>
                      <a:lnTo>
                        <a:pt x="69" y="0"/>
                      </a:lnTo>
                      <a:lnTo>
                        <a:pt x="83" y="0"/>
                      </a:lnTo>
                      <a:lnTo>
                        <a:pt x="110" y="16"/>
                      </a:lnTo>
                      <a:lnTo>
                        <a:pt x="124" y="47"/>
                      </a:lnTo>
                      <a:lnTo>
                        <a:pt x="110" y="63"/>
                      </a:lnTo>
                      <a:lnTo>
                        <a:pt x="83" y="63"/>
                      </a:lnTo>
                      <a:lnTo>
                        <a:pt x="83" y="79"/>
                      </a:lnTo>
                      <a:lnTo>
                        <a:pt x="97" y="94"/>
                      </a:lnTo>
                      <a:lnTo>
                        <a:pt x="110" y="126"/>
                      </a:lnTo>
                      <a:lnTo>
                        <a:pt x="138" y="142"/>
                      </a:lnTo>
                      <a:lnTo>
                        <a:pt x="152" y="142"/>
                      </a:lnTo>
                      <a:lnTo>
                        <a:pt x="166" y="142"/>
                      </a:lnTo>
                      <a:lnTo>
                        <a:pt x="180" y="158"/>
                      </a:lnTo>
                      <a:lnTo>
                        <a:pt x="166" y="173"/>
                      </a:lnTo>
                      <a:lnTo>
                        <a:pt x="152" y="173"/>
                      </a:lnTo>
                      <a:lnTo>
                        <a:pt x="138" y="173"/>
                      </a:lnTo>
                      <a:lnTo>
                        <a:pt x="138" y="189"/>
                      </a:lnTo>
                      <a:lnTo>
                        <a:pt x="152" y="189"/>
                      </a:lnTo>
                      <a:lnTo>
                        <a:pt x="166" y="220"/>
                      </a:lnTo>
                      <a:lnTo>
                        <a:pt x="166" y="237"/>
                      </a:lnTo>
                      <a:lnTo>
                        <a:pt x="180" y="25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0" name=""/>
            <p:cNvGrpSpPr/>
            <p:nvPr/>
          </p:nvGrpSpPr>
          <p:grpSpPr>
            <a:xfrm>
              <a:off x="5645160" y="3092400"/>
              <a:ext cx="704880" cy="141480"/>
              <a:chOff x="5645160" y="3092400"/>
              <a:chExt cx="704880" cy="141480"/>
            </a:xfrm>
          </p:grpSpPr>
          <p:sp>
            <p:nvSpPr>
              <p:cNvPr id="981" name=""/>
              <p:cNvSpPr/>
              <p:nvPr/>
            </p:nvSpPr>
            <p:spPr>
              <a:xfrm>
                <a:off x="5645160" y="3092400"/>
                <a:ext cx="703080" cy="141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645160" y="3092400"/>
                <a:ext cx="703080" cy="141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645160" y="3092400"/>
                <a:ext cx="704880" cy="141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645160" y="3092400"/>
                <a:ext cx="703080" cy="141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5" name=""/>
            <p:cNvSpPr/>
            <p:nvPr/>
          </p:nvSpPr>
          <p:spPr>
            <a:xfrm>
              <a:off x="5689080" y="3117960"/>
              <a:ext cx="669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a0f33"/>
                  </a:solidFill>
                  <a:latin typeface="Times New Roman"/>
                </a:rPr>
                <a:t>Get Weather Inf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6" name=""/>
            <p:cNvGrpSpPr/>
            <p:nvPr/>
          </p:nvGrpSpPr>
          <p:grpSpPr>
            <a:xfrm>
              <a:off x="7027920" y="2854440"/>
              <a:ext cx="836640" cy="141120"/>
              <a:chOff x="7027920" y="2854440"/>
              <a:chExt cx="836640" cy="141120"/>
            </a:xfrm>
          </p:grpSpPr>
          <p:sp>
            <p:nvSpPr>
              <p:cNvPr id="987" name=""/>
              <p:cNvSpPr/>
              <p:nvPr/>
            </p:nvSpPr>
            <p:spPr>
              <a:xfrm>
                <a:off x="7027920" y="2854440"/>
                <a:ext cx="836640" cy="14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7027920" y="2854440"/>
                <a:ext cx="836640" cy="1411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7027920" y="2854440"/>
                <a:ext cx="836640" cy="1411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7027920" y="2854440"/>
                <a:ext cx="836640" cy="14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1" name=""/>
            <p:cNvSpPr/>
            <p:nvPr/>
          </p:nvSpPr>
          <p:spPr>
            <a:xfrm>
              <a:off x="7071480" y="2878200"/>
              <a:ext cx="812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a0f33"/>
                  </a:solidFill>
                  <a:latin typeface="Times New Roman"/>
                </a:rPr>
                <a:t>Determine Force Mix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2" name=""/>
            <p:cNvGrpSpPr/>
            <p:nvPr/>
          </p:nvGrpSpPr>
          <p:grpSpPr>
            <a:xfrm>
              <a:off x="7418520" y="3209760"/>
              <a:ext cx="1065240" cy="169920"/>
              <a:chOff x="7418520" y="3209760"/>
              <a:chExt cx="1065240" cy="169920"/>
            </a:xfrm>
          </p:grpSpPr>
          <p:sp>
            <p:nvSpPr>
              <p:cNvPr id="993" name=""/>
              <p:cNvSpPr/>
              <p:nvPr/>
            </p:nvSpPr>
            <p:spPr>
              <a:xfrm>
                <a:off x="7418520" y="3209760"/>
                <a:ext cx="1065240" cy="168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418520" y="3209760"/>
                <a:ext cx="1065240" cy="168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418520" y="3209760"/>
                <a:ext cx="1065240" cy="1699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7418520" y="3209760"/>
                <a:ext cx="1065240" cy="168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7" name=""/>
            <p:cNvSpPr/>
            <p:nvPr/>
          </p:nvSpPr>
          <p:spPr>
            <a:xfrm>
              <a:off x="7462080" y="3255840"/>
              <a:ext cx="294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a0f33"/>
                  </a:solidFill>
                  <a:latin typeface="Times New Roman"/>
                </a:rPr>
                <a:t>Provi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733880" y="323532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a0f33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762680" y="3255840"/>
              <a:ext cx="735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a0f33"/>
                  </a:solidFill>
                  <a:latin typeface="Times New Roman"/>
                </a:rPr>
                <a:t>Intelligence Updat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0" name=""/>
            <p:cNvGrpSpPr/>
            <p:nvPr/>
          </p:nvGrpSpPr>
          <p:grpSpPr>
            <a:xfrm>
              <a:off x="6762600" y="3530520"/>
              <a:ext cx="1040040" cy="141480"/>
              <a:chOff x="6762600" y="3530520"/>
              <a:chExt cx="1040040" cy="141480"/>
            </a:xfrm>
          </p:grpSpPr>
          <p:sp>
            <p:nvSpPr>
              <p:cNvPr id="1001" name=""/>
              <p:cNvSpPr/>
              <p:nvPr/>
            </p:nvSpPr>
            <p:spPr>
              <a:xfrm>
                <a:off x="6762600" y="3530520"/>
                <a:ext cx="1038240" cy="141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762600" y="3530520"/>
                <a:ext cx="1038240" cy="141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762600" y="3530520"/>
                <a:ext cx="1040040" cy="14148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762600" y="3530520"/>
                <a:ext cx="1038240" cy="141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5" name=""/>
            <p:cNvSpPr/>
            <p:nvPr/>
          </p:nvSpPr>
          <p:spPr>
            <a:xfrm>
              <a:off x="6809040" y="3554280"/>
              <a:ext cx="1029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a0f33"/>
                  </a:solidFill>
                  <a:latin typeface="Times New Roman"/>
                </a:rPr>
                <a:t>Coordinate Transport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6" name=""/>
            <p:cNvGrpSpPr/>
            <p:nvPr/>
          </p:nvGrpSpPr>
          <p:grpSpPr>
            <a:xfrm>
              <a:off x="8197920" y="3970440"/>
              <a:ext cx="581040" cy="141120"/>
              <a:chOff x="8197920" y="3970440"/>
              <a:chExt cx="581040" cy="141120"/>
            </a:xfrm>
          </p:grpSpPr>
          <p:sp>
            <p:nvSpPr>
              <p:cNvPr id="1007" name=""/>
              <p:cNvSpPr/>
              <p:nvPr/>
            </p:nvSpPr>
            <p:spPr>
              <a:xfrm>
                <a:off x="8197920" y="3970440"/>
                <a:ext cx="579240" cy="139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8197920" y="3970440"/>
                <a:ext cx="579240" cy="139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8197920" y="3970440"/>
                <a:ext cx="581040" cy="14112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8197920" y="3970440"/>
                <a:ext cx="579240" cy="139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1" name=""/>
            <p:cNvSpPr/>
            <p:nvPr/>
          </p:nvSpPr>
          <p:spPr>
            <a:xfrm>
              <a:off x="8241840" y="3994200"/>
              <a:ext cx="535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a0f33"/>
                  </a:solidFill>
                  <a:latin typeface="Times New Roman"/>
                </a:rPr>
                <a:t>Select Target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2" name=""/>
            <p:cNvGrpSpPr/>
            <p:nvPr/>
          </p:nvGrpSpPr>
          <p:grpSpPr>
            <a:xfrm>
              <a:off x="6146640" y="3790800"/>
              <a:ext cx="619200" cy="141480"/>
              <a:chOff x="6146640" y="3790800"/>
              <a:chExt cx="619200" cy="141480"/>
            </a:xfrm>
          </p:grpSpPr>
          <p:sp>
            <p:nvSpPr>
              <p:cNvPr id="1013" name=""/>
              <p:cNvSpPr/>
              <p:nvPr/>
            </p:nvSpPr>
            <p:spPr>
              <a:xfrm>
                <a:off x="6146640" y="3790800"/>
                <a:ext cx="619200" cy="141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6146640" y="3790800"/>
                <a:ext cx="619200" cy="141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146640" y="3790800"/>
                <a:ext cx="619200" cy="1414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6146640" y="3790800"/>
                <a:ext cx="619200" cy="141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7" name=""/>
            <p:cNvSpPr/>
            <p:nvPr/>
          </p:nvSpPr>
          <p:spPr>
            <a:xfrm>
              <a:off x="6190200" y="3814920"/>
              <a:ext cx="578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a0f33"/>
                  </a:solidFill>
                  <a:latin typeface="Times New Roman"/>
                </a:rPr>
                <a:t>Order Suppli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8" name=""/>
            <p:cNvGrpSpPr/>
            <p:nvPr/>
          </p:nvGrpSpPr>
          <p:grpSpPr>
            <a:xfrm>
              <a:off x="5846760" y="2952720"/>
              <a:ext cx="168120" cy="165240"/>
              <a:chOff x="5846760" y="2952720"/>
              <a:chExt cx="168120" cy="165240"/>
            </a:xfrm>
          </p:grpSpPr>
          <p:sp>
            <p:nvSpPr>
              <p:cNvPr id="1019" name=""/>
              <p:cNvSpPr/>
              <p:nvPr/>
            </p:nvSpPr>
            <p:spPr>
              <a:xfrm>
                <a:off x="5846760" y="2952720"/>
                <a:ext cx="168120" cy="163440"/>
              </a:xfrm>
              <a:prstGeom prst="rect">
                <a:avLst/>
              </a:prstGeom>
              <a:solidFill>
                <a:srgbClr val="216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0" name=""/>
              <p:cNvGrpSpPr/>
              <p:nvPr/>
            </p:nvGrpSpPr>
            <p:grpSpPr>
              <a:xfrm>
                <a:off x="5846760" y="2954160"/>
                <a:ext cx="168120" cy="163800"/>
                <a:chOff x="5846760" y="2954160"/>
                <a:chExt cx="168120" cy="16380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5929200" y="2978280"/>
                  <a:ext cx="44640" cy="34920"/>
                </a:xfrm>
                <a:custGeom>
                  <a:avLst/>
                  <a:gdLst/>
                  <a:ahLst/>
                  <a:rect l="l" t="t" r="r" b="b"/>
                  <a:pathLst>
                    <a:path w="570" h="572">
                      <a:moveTo>
                        <a:pt x="369" y="272"/>
                      </a:moveTo>
                      <a:lnTo>
                        <a:pt x="354" y="167"/>
                      </a:lnTo>
                      <a:lnTo>
                        <a:pt x="325" y="73"/>
                      </a:lnTo>
                      <a:lnTo>
                        <a:pt x="270" y="22"/>
                      </a:lnTo>
                      <a:lnTo>
                        <a:pt x="176" y="0"/>
                      </a:lnTo>
                      <a:lnTo>
                        <a:pt x="95" y="22"/>
                      </a:lnTo>
                      <a:lnTo>
                        <a:pt x="18" y="116"/>
                      </a:lnTo>
                      <a:lnTo>
                        <a:pt x="0" y="228"/>
                      </a:lnTo>
                      <a:lnTo>
                        <a:pt x="18" y="348"/>
                      </a:lnTo>
                      <a:lnTo>
                        <a:pt x="48" y="420"/>
                      </a:lnTo>
                      <a:lnTo>
                        <a:pt x="84" y="496"/>
                      </a:lnTo>
                      <a:lnTo>
                        <a:pt x="124" y="547"/>
                      </a:lnTo>
                      <a:lnTo>
                        <a:pt x="168" y="572"/>
                      </a:lnTo>
                      <a:lnTo>
                        <a:pt x="230" y="550"/>
                      </a:lnTo>
                      <a:lnTo>
                        <a:pt x="292" y="499"/>
                      </a:lnTo>
                      <a:lnTo>
                        <a:pt x="332" y="428"/>
                      </a:lnTo>
                      <a:lnTo>
                        <a:pt x="369" y="366"/>
                      </a:lnTo>
                      <a:lnTo>
                        <a:pt x="380" y="330"/>
                      </a:lnTo>
                      <a:lnTo>
                        <a:pt x="537" y="276"/>
                      </a:lnTo>
                      <a:lnTo>
                        <a:pt x="570" y="254"/>
                      </a:lnTo>
                      <a:lnTo>
                        <a:pt x="551" y="221"/>
                      </a:lnTo>
                      <a:lnTo>
                        <a:pt x="369" y="2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5907240" y="3016080"/>
                  <a:ext cx="45720" cy="65160"/>
                </a:xfrm>
                <a:custGeom>
                  <a:avLst/>
                  <a:gdLst/>
                  <a:ahLst/>
                  <a:rect l="l" t="t" r="r" b="b"/>
                  <a:pathLst>
                    <a:path w="588" h="1022">
                      <a:moveTo>
                        <a:pt x="197" y="152"/>
                      </a:moveTo>
                      <a:lnTo>
                        <a:pt x="270" y="76"/>
                      </a:lnTo>
                      <a:lnTo>
                        <a:pt x="391" y="3"/>
                      </a:lnTo>
                      <a:lnTo>
                        <a:pt x="445" y="0"/>
                      </a:lnTo>
                      <a:lnTo>
                        <a:pt x="544" y="32"/>
                      </a:lnTo>
                      <a:lnTo>
                        <a:pt x="588" y="80"/>
                      </a:lnTo>
                      <a:lnTo>
                        <a:pt x="588" y="152"/>
                      </a:lnTo>
                      <a:lnTo>
                        <a:pt x="514" y="286"/>
                      </a:lnTo>
                      <a:lnTo>
                        <a:pt x="435" y="391"/>
                      </a:lnTo>
                      <a:lnTo>
                        <a:pt x="401" y="479"/>
                      </a:lnTo>
                      <a:lnTo>
                        <a:pt x="379" y="579"/>
                      </a:lnTo>
                      <a:lnTo>
                        <a:pt x="401" y="677"/>
                      </a:lnTo>
                      <a:lnTo>
                        <a:pt x="423" y="772"/>
                      </a:lnTo>
                      <a:lnTo>
                        <a:pt x="423" y="880"/>
                      </a:lnTo>
                      <a:lnTo>
                        <a:pt x="391" y="946"/>
                      </a:lnTo>
                      <a:lnTo>
                        <a:pt x="317" y="982"/>
                      </a:lnTo>
                      <a:lnTo>
                        <a:pt x="230" y="1022"/>
                      </a:lnTo>
                      <a:lnTo>
                        <a:pt x="149" y="1022"/>
                      </a:lnTo>
                      <a:lnTo>
                        <a:pt x="95" y="992"/>
                      </a:lnTo>
                      <a:lnTo>
                        <a:pt x="22" y="873"/>
                      </a:lnTo>
                      <a:lnTo>
                        <a:pt x="0" y="750"/>
                      </a:lnTo>
                      <a:lnTo>
                        <a:pt x="8" y="591"/>
                      </a:lnTo>
                      <a:lnTo>
                        <a:pt x="62" y="391"/>
                      </a:lnTo>
                      <a:lnTo>
                        <a:pt x="117" y="261"/>
                      </a:lnTo>
                      <a:lnTo>
                        <a:pt x="197" y="15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5910120" y="3068640"/>
                  <a:ext cx="59040" cy="49320"/>
                </a:xfrm>
                <a:custGeom>
                  <a:avLst/>
                  <a:gdLst/>
                  <a:ahLst/>
                  <a:rect l="l" t="t" r="r" b="b"/>
                  <a:pathLst>
                    <a:path w="742" h="761">
                      <a:moveTo>
                        <a:pt x="0" y="72"/>
                      </a:moveTo>
                      <a:lnTo>
                        <a:pt x="62" y="0"/>
                      </a:lnTo>
                      <a:lnTo>
                        <a:pt x="154" y="0"/>
                      </a:lnTo>
                      <a:lnTo>
                        <a:pt x="325" y="18"/>
                      </a:lnTo>
                      <a:lnTo>
                        <a:pt x="527" y="28"/>
                      </a:lnTo>
                      <a:lnTo>
                        <a:pt x="604" y="62"/>
                      </a:lnTo>
                      <a:lnTo>
                        <a:pt x="636" y="104"/>
                      </a:lnTo>
                      <a:lnTo>
                        <a:pt x="643" y="170"/>
                      </a:lnTo>
                      <a:lnTo>
                        <a:pt x="621" y="238"/>
                      </a:lnTo>
                      <a:lnTo>
                        <a:pt x="560" y="343"/>
                      </a:lnTo>
                      <a:lnTo>
                        <a:pt x="479" y="431"/>
                      </a:lnTo>
                      <a:lnTo>
                        <a:pt x="417" y="510"/>
                      </a:lnTo>
                      <a:lnTo>
                        <a:pt x="392" y="571"/>
                      </a:lnTo>
                      <a:lnTo>
                        <a:pt x="373" y="615"/>
                      </a:lnTo>
                      <a:lnTo>
                        <a:pt x="380" y="648"/>
                      </a:lnTo>
                      <a:lnTo>
                        <a:pt x="384" y="669"/>
                      </a:lnTo>
                      <a:lnTo>
                        <a:pt x="458" y="669"/>
                      </a:lnTo>
                      <a:lnTo>
                        <a:pt x="571" y="651"/>
                      </a:lnTo>
                      <a:lnTo>
                        <a:pt x="643" y="651"/>
                      </a:lnTo>
                      <a:lnTo>
                        <a:pt x="720" y="681"/>
                      </a:lnTo>
                      <a:lnTo>
                        <a:pt x="742" y="717"/>
                      </a:lnTo>
                      <a:lnTo>
                        <a:pt x="720" y="749"/>
                      </a:lnTo>
                      <a:lnTo>
                        <a:pt x="688" y="761"/>
                      </a:lnTo>
                      <a:lnTo>
                        <a:pt x="636" y="746"/>
                      </a:lnTo>
                      <a:lnTo>
                        <a:pt x="567" y="706"/>
                      </a:lnTo>
                      <a:lnTo>
                        <a:pt x="493" y="713"/>
                      </a:lnTo>
                      <a:lnTo>
                        <a:pt x="373" y="735"/>
                      </a:lnTo>
                      <a:lnTo>
                        <a:pt x="337" y="727"/>
                      </a:lnTo>
                      <a:lnTo>
                        <a:pt x="318" y="702"/>
                      </a:lnTo>
                      <a:lnTo>
                        <a:pt x="318" y="641"/>
                      </a:lnTo>
                      <a:lnTo>
                        <a:pt x="318" y="554"/>
                      </a:lnTo>
                      <a:lnTo>
                        <a:pt x="370" y="488"/>
                      </a:lnTo>
                      <a:lnTo>
                        <a:pt x="446" y="390"/>
                      </a:lnTo>
                      <a:lnTo>
                        <a:pt x="512" y="304"/>
                      </a:lnTo>
                      <a:lnTo>
                        <a:pt x="556" y="238"/>
                      </a:lnTo>
                      <a:lnTo>
                        <a:pt x="578" y="181"/>
                      </a:lnTo>
                      <a:lnTo>
                        <a:pt x="567" y="148"/>
                      </a:lnTo>
                      <a:lnTo>
                        <a:pt x="537" y="108"/>
                      </a:lnTo>
                      <a:lnTo>
                        <a:pt x="493" y="97"/>
                      </a:lnTo>
                      <a:lnTo>
                        <a:pt x="446" y="97"/>
                      </a:lnTo>
                      <a:lnTo>
                        <a:pt x="340" y="97"/>
                      </a:lnTo>
                      <a:lnTo>
                        <a:pt x="183" y="126"/>
                      </a:lnTo>
                      <a:lnTo>
                        <a:pt x="66" y="137"/>
                      </a:lnTo>
                      <a:lnTo>
                        <a:pt x="19" y="126"/>
                      </a:lnTo>
                      <a:lnTo>
                        <a:pt x="0" y="108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5846760" y="305748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942" h="725">
                      <a:moveTo>
                        <a:pt x="767" y="301"/>
                      </a:moveTo>
                      <a:lnTo>
                        <a:pt x="782" y="206"/>
                      </a:lnTo>
                      <a:lnTo>
                        <a:pt x="836" y="171"/>
                      </a:lnTo>
                      <a:lnTo>
                        <a:pt x="902" y="164"/>
                      </a:lnTo>
                      <a:lnTo>
                        <a:pt x="942" y="206"/>
                      </a:lnTo>
                      <a:lnTo>
                        <a:pt x="924" y="290"/>
                      </a:lnTo>
                      <a:lnTo>
                        <a:pt x="888" y="402"/>
                      </a:lnTo>
                      <a:lnTo>
                        <a:pt x="814" y="529"/>
                      </a:lnTo>
                      <a:lnTo>
                        <a:pt x="723" y="637"/>
                      </a:lnTo>
                      <a:lnTo>
                        <a:pt x="646" y="695"/>
                      </a:lnTo>
                      <a:lnTo>
                        <a:pt x="562" y="725"/>
                      </a:lnTo>
                      <a:lnTo>
                        <a:pt x="481" y="714"/>
                      </a:lnTo>
                      <a:lnTo>
                        <a:pt x="420" y="681"/>
                      </a:lnTo>
                      <a:lnTo>
                        <a:pt x="397" y="627"/>
                      </a:lnTo>
                      <a:lnTo>
                        <a:pt x="372" y="533"/>
                      </a:lnTo>
                      <a:lnTo>
                        <a:pt x="343" y="359"/>
                      </a:lnTo>
                      <a:lnTo>
                        <a:pt x="321" y="240"/>
                      </a:lnTo>
                      <a:lnTo>
                        <a:pt x="321" y="98"/>
                      </a:lnTo>
                      <a:lnTo>
                        <a:pt x="306" y="73"/>
                      </a:lnTo>
                      <a:lnTo>
                        <a:pt x="263" y="66"/>
                      </a:lnTo>
                      <a:lnTo>
                        <a:pt x="212" y="105"/>
                      </a:lnTo>
                      <a:lnTo>
                        <a:pt x="164" y="171"/>
                      </a:lnTo>
                      <a:lnTo>
                        <a:pt x="109" y="206"/>
                      </a:lnTo>
                      <a:lnTo>
                        <a:pt x="25" y="206"/>
                      </a:lnTo>
                      <a:lnTo>
                        <a:pt x="0" y="185"/>
                      </a:lnTo>
                      <a:lnTo>
                        <a:pt x="0" y="149"/>
                      </a:lnTo>
                      <a:lnTo>
                        <a:pt x="36" y="116"/>
                      </a:lnTo>
                      <a:lnTo>
                        <a:pt x="76" y="127"/>
                      </a:lnTo>
                      <a:lnTo>
                        <a:pt x="113" y="120"/>
                      </a:lnTo>
                      <a:lnTo>
                        <a:pt x="179" y="73"/>
                      </a:lnTo>
                      <a:lnTo>
                        <a:pt x="244" y="22"/>
                      </a:lnTo>
                      <a:lnTo>
                        <a:pt x="306" y="8"/>
                      </a:lnTo>
                      <a:lnTo>
                        <a:pt x="394" y="0"/>
                      </a:lnTo>
                      <a:lnTo>
                        <a:pt x="397" y="40"/>
                      </a:lnTo>
                      <a:lnTo>
                        <a:pt x="376" y="84"/>
                      </a:lnTo>
                      <a:lnTo>
                        <a:pt x="372" y="196"/>
                      </a:lnTo>
                      <a:lnTo>
                        <a:pt x="397" y="345"/>
                      </a:lnTo>
                      <a:lnTo>
                        <a:pt x="438" y="489"/>
                      </a:lnTo>
                      <a:lnTo>
                        <a:pt x="474" y="576"/>
                      </a:lnTo>
                      <a:lnTo>
                        <a:pt x="530" y="616"/>
                      </a:lnTo>
                      <a:lnTo>
                        <a:pt x="584" y="616"/>
                      </a:lnTo>
                      <a:lnTo>
                        <a:pt x="639" y="576"/>
                      </a:lnTo>
                      <a:lnTo>
                        <a:pt x="712" y="485"/>
                      </a:lnTo>
                      <a:lnTo>
                        <a:pt x="760" y="355"/>
                      </a:lnTo>
                      <a:lnTo>
                        <a:pt x="767" y="30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5883120" y="2954160"/>
                  <a:ext cx="52560" cy="73080"/>
                </a:xfrm>
                <a:custGeom>
                  <a:avLst/>
                  <a:gdLst/>
                  <a:ahLst/>
                  <a:rect l="l" t="t" r="r" b="b"/>
                  <a:pathLst>
                    <a:path w="664" h="1144">
                      <a:moveTo>
                        <a:pt x="423" y="868"/>
                      </a:moveTo>
                      <a:lnTo>
                        <a:pt x="532" y="978"/>
                      </a:lnTo>
                      <a:lnTo>
                        <a:pt x="576" y="978"/>
                      </a:lnTo>
                      <a:lnTo>
                        <a:pt x="649" y="1021"/>
                      </a:lnTo>
                      <a:lnTo>
                        <a:pt x="664" y="1071"/>
                      </a:lnTo>
                      <a:lnTo>
                        <a:pt x="642" y="1137"/>
                      </a:lnTo>
                      <a:lnTo>
                        <a:pt x="583" y="1144"/>
                      </a:lnTo>
                      <a:lnTo>
                        <a:pt x="510" y="1093"/>
                      </a:lnTo>
                      <a:lnTo>
                        <a:pt x="364" y="956"/>
                      </a:lnTo>
                      <a:lnTo>
                        <a:pt x="269" y="826"/>
                      </a:lnTo>
                      <a:lnTo>
                        <a:pt x="225" y="724"/>
                      </a:lnTo>
                      <a:lnTo>
                        <a:pt x="196" y="550"/>
                      </a:lnTo>
                      <a:lnTo>
                        <a:pt x="196" y="325"/>
                      </a:lnTo>
                      <a:lnTo>
                        <a:pt x="189" y="268"/>
                      </a:lnTo>
                      <a:lnTo>
                        <a:pt x="146" y="224"/>
                      </a:lnTo>
                      <a:lnTo>
                        <a:pt x="21" y="232"/>
                      </a:lnTo>
                      <a:lnTo>
                        <a:pt x="0" y="210"/>
                      </a:lnTo>
                      <a:lnTo>
                        <a:pt x="28" y="195"/>
                      </a:lnTo>
                      <a:lnTo>
                        <a:pt x="116" y="188"/>
                      </a:lnTo>
                      <a:lnTo>
                        <a:pt x="131" y="173"/>
                      </a:lnTo>
                      <a:lnTo>
                        <a:pt x="6" y="101"/>
                      </a:lnTo>
                      <a:lnTo>
                        <a:pt x="6" y="73"/>
                      </a:lnTo>
                      <a:lnTo>
                        <a:pt x="28" y="65"/>
                      </a:lnTo>
                      <a:lnTo>
                        <a:pt x="131" y="122"/>
                      </a:lnTo>
                      <a:lnTo>
                        <a:pt x="153" y="115"/>
                      </a:lnTo>
                      <a:lnTo>
                        <a:pt x="131" y="7"/>
                      </a:lnTo>
                      <a:lnTo>
                        <a:pt x="146" y="0"/>
                      </a:lnTo>
                      <a:lnTo>
                        <a:pt x="160" y="7"/>
                      </a:lnTo>
                      <a:lnTo>
                        <a:pt x="189" y="115"/>
                      </a:lnTo>
                      <a:lnTo>
                        <a:pt x="211" y="122"/>
                      </a:lnTo>
                      <a:lnTo>
                        <a:pt x="269" y="7"/>
                      </a:lnTo>
                      <a:lnTo>
                        <a:pt x="284" y="7"/>
                      </a:lnTo>
                      <a:lnTo>
                        <a:pt x="284" y="43"/>
                      </a:lnTo>
                      <a:lnTo>
                        <a:pt x="247" y="137"/>
                      </a:lnTo>
                      <a:lnTo>
                        <a:pt x="247" y="188"/>
                      </a:lnTo>
                      <a:lnTo>
                        <a:pt x="262" y="254"/>
                      </a:lnTo>
                      <a:lnTo>
                        <a:pt x="255" y="340"/>
                      </a:lnTo>
                      <a:lnTo>
                        <a:pt x="262" y="499"/>
                      </a:lnTo>
                      <a:lnTo>
                        <a:pt x="277" y="601"/>
                      </a:lnTo>
                      <a:lnTo>
                        <a:pt x="314" y="717"/>
                      </a:lnTo>
                      <a:lnTo>
                        <a:pt x="364" y="804"/>
                      </a:lnTo>
                      <a:lnTo>
                        <a:pt x="423" y="86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5946840" y="2960640"/>
                  <a:ext cx="68040" cy="68400"/>
                </a:xfrm>
                <a:custGeom>
                  <a:avLst/>
                  <a:gdLst/>
                  <a:ahLst/>
                  <a:rect l="l" t="t" r="r" b="b"/>
                  <a:pathLst>
                    <a:path w="869" h="1071">
                      <a:moveTo>
                        <a:pt x="14" y="948"/>
                      </a:moveTo>
                      <a:lnTo>
                        <a:pt x="0" y="998"/>
                      </a:lnTo>
                      <a:lnTo>
                        <a:pt x="14" y="1071"/>
                      </a:lnTo>
                      <a:lnTo>
                        <a:pt x="66" y="1071"/>
                      </a:lnTo>
                      <a:lnTo>
                        <a:pt x="219" y="1042"/>
                      </a:lnTo>
                      <a:lnTo>
                        <a:pt x="387" y="984"/>
                      </a:lnTo>
                      <a:lnTo>
                        <a:pt x="525" y="890"/>
                      </a:lnTo>
                      <a:lnTo>
                        <a:pt x="606" y="767"/>
                      </a:lnTo>
                      <a:lnTo>
                        <a:pt x="679" y="557"/>
                      </a:lnTo>
                      <a:lnTo>
                        <a:pt x="701" y="362"/>
                      </a:lnTo>
                      <a:lnTo>
                        <a:pt x="701" y="268"/>
                      </a:lnTo>
                      <a:lnTo>
                        <a:pt x="737" y="210"/>
                      </a:lnTo>
                      <a:lnTo>
                        <a:pt x="803" y="188"/>
                      </a:lnTo>
                      <a:lnTo>
                        <a:pt x="861" y="188"/>
                      </a:lnTo>
                      <a:lnTo>
                        <a:pt x="869" y="159"/>
                      </a:lnTo>
                      <a:lnTo>
                        <a:pt x="782" y="166"/>
                      </a:lnTo>
                      <a:lnTo>
                        <a:pt x="767" y="144"/>
                      </a:lnTo>
                      <a:lnTo>
                        <a:pt x="839" y="65"/>
                      </a:lnTo>
                      <a:lnTo>
                        <a:pt x="825" y="43"/>
                      </a:lnTo>
                      <a:lnTo>
                        <a:pt x="810" y="58"/>
                      </a:lnTo>
                      <a:lnTo>
                        <a:pt x="752" y="115"/>
                      </a:lnTo>
                      <a:lnTo>
                        <a:pt x="737" y="115"/>
                      </a:lnTo>
                      <a:lnTo>
                        <a:pt x="737" y="14"/>
                      </a:lnTo>
                      <a:lnTo>
                        <a:pt x="723" y="0"/>
                      </a:lnTo>
                      <a:lnTo>
                        <a:pt x="701" y="7"/>
                      </a:lnTo>
                      <a:lnTo>
                        <a:pt x="708" y="115"/>
                      </a:lnTo>
                      <a:lnTo>
                        <a:pt x="693" y="122"/>
                      </a:lnTo>
                      <a:lnTo>
                        <a:pt x="635" y="65"/>
                      </a:lnTo>
                      <a:lnTo>
                        <a:pt x="592" y="58"/>
                      </a:lnTo>
                      <a:lnTo>
                        <a:pt x="599" y="87"/>
                      </a:lnTo>
                      <a:lnTo>
                        <a:pt x="664" y="152"/>
                      </a:lnTo>
                      <a:lnTo>
                        <a:pt x="664" y="188"/>
                      </a:lnTo>
                      <a:lnTo>
                        <a:pt x="642" y="261"/>
                      </a:lnTo>
                      <a:lnTo>
                        <a:pt x="642" y="325"/>
                      </a:lnTo>
                      <a:lnTo>
                        <a:pt x="642" y="435"/>
                      </a:lnTo>
                      <a:lnTo>
                        <a:pt x="613" y="572"/>
                      </a:lnTo>
                      <a:lnTo>
                        <a:pt x="584" y="658"/>
                      </a:lnTo>
                      <a:lnTo>
                        <a:pt x="533" y="767"/>
                      </a:lnTo>
                      <a:lnTo>
                        <a:pt x="474" y="854"/>
                      </a:lnTo>
                      <a:lnTo>
                        <a:pt x="431" y="897"/>
                      </a:lnTo>
                      <a:lnTo>
                        <a:pt x="313" y="934"/>
                      </a:lnTo>
                      <a:lnTo>
                        <a:pt x="204" y="948"/>
                      </a:lnTo>
                      <a:lnTo>
                        <a:pt x="94" y="963"/>
                      </a:lnTo>
                      <a:lnTo>
                        <a:pt x="14" y="9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7" name=""/>
            <p:cNvGrpSpPr/>
            <p:nvPr/>
          </p:nvGrpSpPr>
          <p:grpSpPr>
            <a:xfrm>
              <a:off x="7126200" y="3395520"/>
              <a:ext cx="169920" cy="165240"/>
              <a:chOff x="7126200" y="3395520"/>
              <a:chExt cx="169920" cy="165240"/>
            </a:xfrm>
          </p:grpSpPr>
          <p:sp>
            <p:nvSpPr>
              <p:cNvPr id="1028" name=""/>
              <p:cNvSpPr/>
              <p:nvPr/>
            </p:nvSpPr>
            <p:spPr>
              <a:xfrm>
                <a:off x="7128000" y="3395520"/>
                <a:ext cx="168120" cy="163800"/>
              </a:xfrm>
              <a:prstGeom prst="rect">
                <a:avLst/>
              </a:prstGeom>
              <a:solidFill>
                <a:srgbClr val="216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9" name=""/>
              <p:cNvGrpSpPr/>
              <p:nvPr/>
            </p:nvGrpSpPr>
            <p:grpSpPr>
              <a:xfrm>
                <a:off x="7126200" y="3397320"/>
                <a:ext cx="168480" cy="163440"/>
                <a:chOff x="7126200" y="3397320"/>
                <a:chExt cx="168480" cy="163440"/>
              </a:xfrm>
            </p:grpSpPr>
            <p:sp>
              <p:nvSpPr>
                <p:cNvPr id="1030" name=""/>
                <p:cNvSpPr/>
                <p:nvPr/>
              </p:nvSpPr>
              <p:spPr>
                <a:xfrm>
                  <a:off x="7209000" y="3421080"/>
                  <a:ext cx="44280" cy="36360"/>
                </a:xfrm>
                <a:custGeom>
                  <a:avLst/>
                  <a:gdLst/>
                  <a:ahLst/>
                  <a:rect l="l" t="t" r="r" b="b"/>
                  <a:pathLst>
                    <a:path w="570" h="573">
                      <a:moveTo>
                        <a:pt x="368" y="272"/>
                      </a:moveTo>
                      <a:lnTo>
                        <a:pt x="353" y="167"/>
                      </a:lnTo>
                      <a:lnTo>
                        <a:pt x="324" y="73"/>
                      </a:lnTo>
                      <a:lnTo>
                        <a:pt x="269" y="22"/>
                      </a:lnTo>
                      <a:lnTo>
                        <a:pt x="175" y="0"/>
                      </a:lnTo>
                      <a:lnTo>
                        <a:pt x="94" y="22"/>
                      </a:lnTo>
                      <a:lnTo>
                        <a:pt x="18" y="116"/>
                      </a:lnTo>
                      <a:lnTo>
                        <a:pt x="0" y="228"/>
                      </a:lnTo>
                      <a:lnTo>
                        <a:pt x="18" y="348"/>
                      </a:lnTo>
                      <a:lnTo>
                        <a:pt x="47" y="421"/>
                      </a:lnTo>
                      <a:lnTo>
                        <a:pt x="84" y="497"/>
                      </a:lnTo>
                      <a:lnTo>
                        <a:pt x="124" y="548"/>
                      </a:lnTo>
                      <a:lnTo>
                        <a:pt x="168" y="573"/>
                      </a:lnTo>
                      <a:lnTo>
                        <a:pt x="230" y="551"/>
                      </a:lnTo>
                      <a:lnTo>
                        <a:pt x="291" y="500"/>
                      </a:lnTo>
                      <a:lnTo>
                        <a:pt x="331" y="428"/>
                      </a:lnTo>
                      <a:lnTo>
                        <a:pt x="368" y="367"/>
                      </a:lnTo>
                      <a:lnTo>
                        <a:pt x="380" y="330"/>
                      </a:lnTo>
                      <a:lnTo>
                        <a:pt x="536" y="276"/>
                      </a:lnTo>
                      <a:lnTo>
                        <a:pt x="570" y="254"/>
                      </a:lnTo>
                      <a:lnTo>
                        <a:pt x="551" y="221"/>
                      </a:lnTo>
                      <a:lnTo>
                        <a:pt x="368" y="2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7186680" y="3460680"/>
                  <a:ext cx="46080" cy="63720"/>
                </a:xfrm>
                <a:custGeom>
                  <a:avLst/>
                  <a:gdLst/>
                  <a:ahLst/>
                  <a:rect l="l" t="t" r="r" b="b"/>
                  <a:pathLst>
                    <a:path w="587" h="1022">
                      <a:moveTo>
                        <a:pt x="197" y="152"/>
                      </a:moveTo>
                      <a:lnTo>
                        <a:pt x="269" y="76"/>
                      </a:lnTo>
                      <a:lnTo>
                        <a:pt x="390" y="3"/>
                      </a:lnTo>
                      <a:lnTo>
                        <a:pt x="445" y="0"/>
                      </a:lnTo>
                      <a:lnTo>
                        <a:pt x="543" y="32"/>
                      </a:lnTo>
                      <a:lnTo>
                        <a:pt x="587" y="80"/>
                      </a:lnTo>
                      <a:lnTo>
                        <a:pt x="587" y="152"/>
                      </a:lnTo>
                      <a:lnTo>
                        <a:pt x="514" y="286"/>
                      </a:lnTo>
                      <a:lnTo>
                        <a:pt x="434" y="391"/>
                      </a:lnTo>
                      <a:lnTo>
                        <a:pt x="400" y="479"/>
                      </a:lnTo>
                      <a:lnTo>
                        <a:pt x="378" y="580"/>
                      </a:lnTo>
                      <a:lnTo>
                        <a:pt x="400" y="678"/>
                      </a:lnTo>
                      <a:lnTo>
                        <a:pt x="423" y="772"/>
                      </a:lnTo>
                      <a:lnTo>
                        <a:pt x="423" y="880"/>
                      </a:lnTo>
                      <a:lnTo>
                        <a:pt x="390" y="946"/>
                      </a:lnTo>
                      <a:lnTo>
                        <a:pt x="317" y="982"/>
                      </a:lnTo>
                      <a:lnTo>
                        <a:pt x="229" y="1022"/>
                      </a:lnTo>
                      <a:lnTo>
                        <a:pt x="149" y="1022"/>
                      </a:lnTo>
                      <a:lnTo>
                        <a:pt x="94" y="993"/>
                      </a:lnTo>
                      <a:lnTo>
                        <a:pt x="22" y="873"/>
                      </a:lnTo>
                      <a:lnTo>
                        <a:pt x="0" y="750"/>
                      </a:lnTo>
                      <a:lnTo>
                        <a:pt x="7" y="591"/>
                      </a:lnTo>
                      <a:lnTo>
                        <a:pt x="61" y="391"/>
                      </a:lnTo>
                      <a:lnTo>
                        <a:pt x="116" y="261"/>
                      </a:lnTo>
                      <a:lnTo>
                        <a:pt x="197" y="15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7189920" y="3513240"/>
                  <a:ext cx="58680" cy="47520"/>
                </a:xfrm>
                <a:custGeom>
                  <a:avLst/>
                  <a:gdLst/>
                  <a:ahLst/>
                  <a:rect l="l" t="t" r="r" b="b"/>
                  <a:pathLst>
                    <a:path w="742" h="761">
                      <a:moveTo>
                        <a:pt x="0" y="72"/>
                      </a:moveTo>
                      <a:lnTo>
                        <a:pt x="61" y="0"/>
                      </a:lnTo>
                      <a:lnTo>
                        <a:pt x="154" y="0"/>
                      </a:lnTo>
                      <a:lnTo>
                        <a:pt x="325" y="18"/>
                      </a:lnTo>
                      <a:lnTo>
                        <a:pt x="526" y="28"/>
                      </a:lnTo>
                      <a:lnTo>
                        <a:pt x="603" y="62"/>
                      </a:lnTo>
                      <a:lnTo>
                        <a:pt x="636" y="104"/>
                      </a:lnTo>
                      <a:lnTo>
                        <a:pt x="643" y="170"/>
                      </a:lnTo>
                      <a:lnTo>
                        <a:pt x="621" y="239"/>
                      </a:lnTo>
                      <a:lnTo>
                        <a:pt x="559" y="344"/>
                      </a:lnTo>
                      <a:lnTo>
                        <a:pt x="478" y="431"/>
                      </a:lnTo>
                      <a:lnTo>
                        <a:pt x="416" y="510"/>
                      </a:lnTo>
                      <a:lnTo>
                        <a:pt x="391" y="572"/>
                      </a:lnTo>
                      <a:lnTo>
                        <a:pt x="372" y="615"/>
                      </a:lnTo>
                      <a:lnTo>
                        <a:pt x="379" y="649"/>
                      </a:lnTo>
                      <a:lnTo>
                        <a:pt x="384" y="669"/>
                      </a:lnTo>
                      <a:lnTo>
                        <a:pt x="457" y="669"/>
                      </a:lnTo>
                      <a:lnTo>
                        <a:pt x="570" y="652"/>
                      </a:lnTo>
                      <a:lnTo>
                        <a:pt x="643" y="652"/>
                      </a:lnTo>
                      <a:lnTo>
                        <a:pt x="719" y="681"/>
                      </a:lnTo>
                      <a:lnTo>
                        <a:pt x="742" y="717"/>
                      </a:lnTo>
                      <a:lnTo>
                        <a:pt x="719" y="749"/>
                      </a:lnTo>
                      <a:lnTo>
                        <a:pt x="687" y="761"/>
                      </a:lnTo>
                      <a:lnTo>
                        <a:pt x="636" y="746"/>
                      </a:lnTo>
                      <a:lnTo>
                        <a:pt x="566" y="706"/>
                      </a:lnTo>
                      <a:lnTo>
                        <a:pt x="493" y="713"/>
                      </a:lnTo>
                      <a:lnTo>
                        <a:pt x="372" y="735"/>
                      </a:lnTo>
                      <a:lnTo>
                        <a:pt x="336" y="728"/>
                      </a:lnTo>
                      <a:lnTo>
                        <a:pt x="318" y="703"/>
                      </a:lnTo>
                      <a:lnTo>
                        <a:pt x="318" y="641"/>
                      </a:lnTo>
                      <a:lnTo>
                        <a:pt x="318" y="554"/>
                      </a:lnTo>
                      <a:lnTo>
                        <a:pt x="369" y="488"/>
                      </a:lnTo>
                      <a:lnTo>
                        <a:pt x="446" y="391"/>
                      </a:lnTo>
                      <a:lnTo>
                        <a:pt x="512" y="304"/>
                      </a:lnTo>
                      <a:lnTo>
                        <a:pt x="556" y="239"/>
                      </a:lnTo>
                      <a:lnTo>
                        <a:pt x="578" y="181"/>
                      </a:lnTo>
                      <a:lnTo>
                        <a:pt x="566" y="148"/>
                      </a:lnTo>
                      <a:lnTo>
                        <a:pt x="537" y="109"/>
                      </a:lnTo>
                      <a:lnTo>
                        <a:pt x="493" y="97"/>
                      </a:lnTo>
                      <a:lnTo>
                        <a:pt x="446" y="97"/>
                      </a:lnTo>
                      <a:lnTo>
                        <a:pt x="340" y="97"/>
                      </a:lnTo>
                      <a:lnTo>
                        <a:pt x="182" y="126"/>
                      </a:lnTo>
                      <a:lnTo>
                        <a:pt x="66" y="138"/>
                      </a:lnTo>
                      <a:lnTo>
                        <a:pt x="18" y="126"/>
                      </a:lnTo>
                      <a:lnTo>
                        <a:pt x="0" y="109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7126200" y="3502080"/>
                  <a:ext cx="74880" cy="46080"/>
                </a:xfrm>
                <a:custGeom>
                  <a:avLst/>
                  <a:gdLst/>
                  <a:ahLst/>
                  <a:rect l="l" t="t" r="r" b="b"/>
                  <a:pathLst>
                    <a:path w="943" h="724">
                      <a:moveTo>
                        <a:pt x="767" y="300"/>
                      </a:moveTo>
                      <a:lnTo>
                        <a:pt x="782" y="206"/>
                      </a:lnTo>
                      <a:lnTo>
                        <a:pt x="837" y="170"/>
                      </a:lnTo>
                      <a:lnTo>
                        <a:pt x="903" y="163"/>
                      </a:lnTo>
                      <a:lnTo>
                        <a:pt x="943" y="206"/>
                      </a:lnTo>
                      <a:lnTo>
                        <a:pt x="925" y="289"/>
                      </a:lnTo>
                      <a:lnTo>
                        <a:pt x="888" y="401"/>
                      </a:lnTo>
                      <a:lnTo>
                        <a:pt x="815" y="528"/>
                      </a:lnTo>
                      <a:lnTo>
                        <a:pt x="723" y="636"/>
                      </a:lnTo>
                      <a:lnTo>
                        <a:pt x="647" y="695"/>
                      </a:lnTo>
                      <a:lnTo>
                        <a:pt x="563" y="724"/>
                      </a:lnTo>
                      <a:lnTo>
                        <a:pt x="482" y="713"/>
                      </a:lnTo>
                      <a:lnTo>
                        <a:pt x="420" y="680"/>
                      </a:lnTo>
                      <a:lnTo>
                        <a:pt x="398" y="626"/>
                      </a:lnTo>
                      <a:lnTo>
                        <a:pt x="373" y="532"/>
                      </a:lnTo>
                      <a:lnTo>
                        <a:pt x="343" y="359"/>
                      </a:lnTo>
                      <a:lnTo>
                        <a:pt x="321" y="239"/>
                      </a:lnTo>
                      <a:lnTo>
                        <a:pt x="321" y="97"/>
                      </a:lnTo>
                      <a:lnTo>
                        <a:pt x="307" y="72"/>
                      </a:lnTo>
                      <a:lnTo>
                        <a:pt x="264" y="65"/>
                      </a:lnTo>
                      <a:lnTo>
                        <a:pt x="212" y="105"/>
                      </a:lnTo>
                      <a:lnTo>
                        <a:pt x="165" y="170"/>
                      </a:lnTo>
                      <a:lnTo>
                        <a:pt x="109" y="206"/>
                      </a:lnTo>
                      <a:lnTo>
                        <a:pt x="25" y="206"/>
                      </a:lnTo>
                      <a:lnTo>
                        <a:pt x="0" y="184"/>
                      </a:lnTo>
                      <a:lnTo>
                        <a:pt x="0" y="148"/>
                      </a:lnTo>
                      <a:lnTo>
                        <a:pt x="37" y="115"/>
                      </a:lnTo>
                      <a:lnTo>
                        <a:pt x="77" y="127"/>
                      </a:lnTo>
                      <a:lnTo>
                        <a:pt x="113" y="119"/>
                      </a:lnTo>
                      <a:lnTo>
                        <a:pt x="180" y="72"/>
                      </a:lnTo>
                      <a:lnTo>
                        <a:pt x="245" y="22"/>
                      </a:lnTo>
                      <a:lnTo>
                        <a:pt x="307" y="7"/>
                      </a:lnTo>
                      <a:lnTo>
                        <a:pt x="395" y="0"/>
                      </a:lnTo>
                      <a:lnTo>
                        <a:pt x="398" y="39"/>
                      </a:lnTo>
                      <a:lnTo>
                        <a:pt x="377" y="83"/>
                      </a:lnTo>
                      <a:lnTo>
                        <a:pt x="373" y="195"/>
                      </a:lnTo>
                      <a:lnTo>
                        <a:pt x="398" y="344"/>
                      </a:lnTo>
                      <a:lnTo>
                        <a:pt x="439" y="489"/>
                      </a:lnTo>
                      <a:lnTo>
                        <a:pt x="474" y="575"/>
                      </a:lnTo>
                      <a:lnTo>
                        <a:pt x="530" y="616"/>
                      </a:lnTo>
                      <a:lnTo>
                        <a:pt x="585" y="616"/>
                      </a:lnTo>
                      <a:lnTo>
                        <a:pt x="639" y="575"/>
                      </a:lnTo>
                      <a:lnTo>
                        <a:pt x="713" y="484"/>
                      </a:lnTo>
                      <a:lnTo>
                        <a:pt x="760" y="354"/>
                      </a:lnTo>
                      <a:lnTo>
                        <a:pt x="767" y="3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7162920" y="3397320"/>
                  <a:ext cx="52200" cy="73080"/>
                </a:xfrm>
                <a:custGeom>
                  <a:avLst/>
                  <a:gdLst/>
                  <a:ahLst/>
                  <a:rect l="l" t="t" r="r" b="b"/>
                  <a:pathLst>
                    <a:path w="664" h="1144">
                      <a:moveTo>
                        <a:pt x="423" y="869"/>
                      </a:moveTo>
                      <a:lnTo>
                        <a:pt x="532" y="978"/>
                      </a:lnTo>
                      <a:lnTo>
                        <a:pt x="576" y="978"/>
                      </a:lnTo>
                      <a:lnTo>
                        <a:pt x="650" y="1022"/>
                      </a:lnTo>
                      <a:lnTo>
                        <a:pt x="664" y="1072"/>
                      </a:lnTo>
                      <a:lnTo>
                        <a:pt x="642" y="1137"/>
                      </a:lnTo>
                      <a:lnTo>
                        <a:pt x="584" y="1144"/>
                      </a:lnTo>
                      <a:lnTo>
                        <a:pt x="510" y="1093"/>
                      </a:lnTo>
                      <a:lnTo>
                        <a:pt x="364" y="956"/>
                      </a:lnTo>
                      <a:lnTo>
                        <a:pt x="270" y="826"/>
                      </a:lnTo>
                      <a:lnTo>
                        <a:pt x="226" y="724"/>
                      </a:lnTo>
                      <a:lnTo>
                        <a:pt x="196" y="550"/>
                      </a:lnTo>
                      <a:lnTo>
                        <a:pt x="196" y="326"/>
                      </a:lnTo>
                      <a:lnTo>
                        <a:pt x="189" y="268"/>
                      </a:lnTo>
                      <a:lnTo>
                        <a:pt x="146" y="225"/>
                      </a:lnTo>
                      <a:lnTo>
                        <a:pt x="21" y="232"/>
                      </a:lnTo>
                      <a:lnTo>
                        <a:pt x="0" y="210"/>
                      </a:lnTo>
                      <a:lnTo>
                        <a:pt x="28" y="196"/>
                      </a:lnTo>
                      <a:lnTo>
                        <a:pt x="117" y="188"/>
                      </a:lnTo>
                      <a:lnTo>
                        <a:pt x="131" y="174"/>
                      </a:lnTo>
                      <a:lnTo>
                        <a:pt x="6" y="101"/>
                      </a:lnTo>
                      <a:lnTo>
                        <a:pt x="6" y="73"/>
                      </a:lnTo>
                      <a:lnTo>
                        <a:pt x="28" y="66"/>
                      </a:lnTo>
                      <a:lnTo>
                        <a:pt x="131" y="123"/>
                      </a:lnTo>
                      <a:lnTo>
                        <a:pt x="153" y="115"/>
                      </a:lnTo>
                      <a:lnTo>
                        <a:pt x="131" y="7"/>
                      </a:lnTo>
                      <a:lnTo>
                        <a:pt x="146" y="0"/>
                      </a:lnTo>
                      <a:lnTo>
                        <a:pt x="161" y="7"/>
                      </a:lnTo>
                      <a:lnTo>
                        <a:pt x="189" y="115"/>
                      </a:lnTo>
                      <a:lnTo>
                        <a:pt x="211" y="123"/>
                      </a:lnTo>
                      <a:lnTo>
                        <a:pt x="270" y="7"/>
                      </a:lnTo>
                      <a:lnTo>
                        <a:pt x="285" y="7"/>
                      </a:lnTo>
                      <a:lnTo>
                        <a:pt x="285" y="44"/>
                      </a:lnTo>
                      <a:lnTo>
                        <a:pt x="248" y="137"/>
                      </a:lnTo>
                      <a:lnTo>
                        <a:pt x="248" y="188"/>
                      </a:lnTo>
                      <a:lnTo>
                        <a:pt x="263" y="254"/>
                      </a:lnTo>
                      <a:lnTo>
                        <a:pt x="255" y="340"/>
                      </a:lnTo>
                      <a:lnTo>
                        <a:pt x="263" y="499"/>
                      </a:lnTo>
                      <a:lnTo>
                        <a:pt x="277" y="601"/>
                      </a:lnTo>
                      <a:lnTo>
                        <a:pt x="314" y="717"/>
                      </a:lnTo>
                      <a:lnTo>
                        <a:pt x="364" y="804"/>
                      </a:lnTo>
                      <a:lnTo>
                        <a:pt x="423" y="8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7226280" y="3403440"/>
                  <a:ext cx="68400" cy="68400"/>
                </a:xfrm>
                <a:custGeom>
                  <a:avLst/>
                  <a:gdLst/>
                  <a:ahLst/>
                  <a:rect l="l" t="t" r="r" b="b"/>
                  <a:pathLst>
                    <a:path w="869" h="1072">
                      <a:moveTo>
                        <a:pt x="15" y="949"/>
                      </a:moveTo>
                      <a:lnTo>
                        <a:pt x="0" y="999"/>
                      </a:lnTo>
                      <a:lnTo>
                        <a:pt x="15" y="1072"/>
                      </a:lnTo>
                      <a:lnTo>
                        <a:pt x="66" y="1072"/>
                      </a:lnTo>
                      <a:lnTo>
                        <a:pt x="219" y="1042"/>
                      </a:lnTo>
                      <a:lnTo>
                        <a:pt x="387" y="984"/>
                      </a:lnTo>
                      <a:lnTo>
                        <a:pt x="526" y="890"/>
                      </a:lnTo>
                      <a:lnTo>
                        <a:pt x="607" y="768"/>
                      </a:lnTo>
                      <a:lnTo>
                        <a:pt x="679" y="558"/>
                      </a:lnTo>
                      <a:lnTo>
                        <a:pt x="701" y="362"/>
                      </a:lnTo>
                      <a:lnTo>
                        <a:pt x="701" y="268"/>
                      </a:lnTo>
                      <a:lnTo>
                        <a:pt x="738" y="210"/>
                      </a:lnTo>
                      <a:lnTo>
                        <a:pt x="803" y="188"/>
                      </a:lnTo>
                      <a:lnTo>
                        <a:pt x="862" y="188"/>
                      </a:lnTo>
                      <a:lnTo>
                        <a:pt x="869" y="159"/>
                      </a:lnTo>
                      <a:lnTo>
                        <a:pt x="782" y="166"/>
                      </a:lnTo>
                      <a:lnTo>
                        <a:pt x="767" y="145"/>
                      </a:lnTo>
                      <a:lnTo>
                        <a:pt x="840" y="65"/>
                      </a:lnTo>
                      <a:lnTo>
                        <a:pt x="825" y="44"/>
                      </a:lnTo>
                      <a:lnTo>
                        <a:pt x="810" y="58"/>
                      </a:lnTo>
                      <a:lnTo>
                        <a:pt x="753" y="115"/>
                      </a:lnTo>
                      <a:lnTo>
                        <a:pt x="738" y="115"/>
                      </a:lnTo>
                      <a:lnTo>
                        <a:pt x="738" y="14"/>
                      </a:lnTo>
                      <a:lnTo>
                        <a:pt x="723" y="0"/>
                      </a:lnTo>
                      <a:lnTo>
                        <a:pt x="701" y="7"/>
                      </a:lnTo>
                      <a:lnTo>
                        <a:pt x="708" y="115"/>
                      </a:lnTo>
                      <a:lnTo>
                        <a:pt x="694" y="123"/>
                      </a:lnTo>
                      <a:lnTo>
                        <a:pt x="635" y="65"/>
                      </a:lnTo>
                      <a:lnTo>
                        <a:pt x="592" y="58"/>
                      </a:lnTo>
                      <a:lnTo>
                        <a:pt x="599" y="87"/>
                      </a:lnTo>
                      <a:lnTo>
                        <a:pt x="664" y="152"/>
                      </a:lnTo>
                      <a:lnTo>
                        <a:pt x="664" y="188"/>
                      </a:lnTo>
                      <a:lnTo>
                        <a:pt x="642" y="261"/>
                      </a:lnTo>
                      <a:lnTo>
                        <a:pt x="642" y="326"/>
                      </a:lnTo>
                      <a:lnTo>
                        <a:pt x="642" y="435"/>
                      </a:lnTo>
                      <a:lnTo>
                        <a:pt x="613" y="572"/>
                      </a:lnTo>
                      <a:lnTo>
                        <a:pt x="585" y="658"/>
                      </a:lnTo>
                      <a:lnTo>
                        <a:pt x="533" y="768"/>
                      </a:lnTo>
                      <a:lnTo>
                        <a:pt x="474" y="854"/>
                      </a:lnTo>
                      <a:lnTo>
                        <a:pt x="431" y="898"/>
                      </a:lnTo>
                      <a:lnTo>
                        <a:pt x="314" y="934"/>
                      </a:lnTo>
                      <a:lnTo>
                        <a:pt x="205" y="949"/>
                      </a:lnTo>
                      <a:lnTo>
                        <a:pt x="95" y="963"/>
                      </a:lnTo>
                      <a:lnTo>
                        <a:pt x="15" y="9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36" name=""/>
            <p:cNvSpPr/>
            <p:nvPr/>
          </p:nvSpPr>
          <p:spPr>
            <a:xfrm>
              <a:off x="8380440" y="3843360"/>
              <a:ext cx="168120" cy="163440"/>
            </a:xfrm>
            <a:prstGeom prst="rect">
              <a:avLst/>
            </a:prstGeom>
            <a:solidFill>
              <a:srgbClr val="2163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7" name=""/>
            <p:cNvGrpSpPr/>
            <p:nvPr/>
          </p:nvGrpSpPr>
          <p:grpSpPr>
            <a:xfrm>
              <a:off x="8375760" y="3854520"/>
              <a:ext cx="167760" cy="163080"/>
              <a:chOff x="8375760" y="3854520"/>
              <a:chExt cx="167760" cy="163080"/>
            </a:xfrm>
          </p:grpSpPr>
          <p:sp>
            <p:nvSpPr>
              <p:cNvPr id="1038" name=""/>
              <p:cNvSpPr/>
              <p:nvPr/>
            </p:nvSpPr>
            <p:spPr>
              <a:xfrm>
                <a:off x="8458200" y="3877920"/>
                <a:ext cx="43920" cy="36360"/>
              </a:xfrm>
              <a:custGeom>
                <a:avLst/>
                <a:gdLst/>
                <a:ahLst/>
                <a:rect l="l" t="t" r="r" b="b"/>
                <a:pathLst>
                  <a:path w="570" h="572">
                    <a:moveTo>
                      <a:pt x="368" y="271"/>
                    </a:moveTo>
                    <a:lnTo>
                      <a:pt x="353" y="166"/>
                    </a:lnTo>
                    <a:lnTo>
                      <a:pt x="324" y="73"/>
                    </a:lnTo>
                    <a:lnTo>
                      <a:pt x="269" y="22"/>
                    </a:lnTo>
                    <a:lnTo>
                      <a:pt x="175" y="0"/>
                    </a:lnTo>
                    <a:lnTo>
                      <a:pt x="94" y="22"/>
                    </a:lnTo>
                    <a:lnTo>
                      <a:pt x="18" y="115"/>
                    </a:lnTo>
                    <a:lnTo>
                      <a:pt x="0" y="228"/>
                    </a:lnTo>
                    <a:lnTo>
                      <a:pt x="18" y="347"/>
                    </a:lnTo>
                    <a:lnTo>
                      <a:pt x="47" y="420"/>
                    </a:lnTo>
                    <a:lnTo>
                      <a:pt x="84" y="496"/>
                    </a:lnTo>
                    <a:lnTo>
                      <a:pt x="124" y="547"/>
                    </a:lnTo>
                    <a:lnTo>
                      <a:pt x="168" y="572"/>
                    </a:lnTo>
                    <a:lnTo>
                      <a:pt x="230" y="550"/>
                    </a:lnTo>
                    <a:lnTo>
                      <a:pt x="291" y="499"/>
                    </a:lnTo>
                    <a:lnTo>
                      <a:pt x="331" y="427"/>
                    </a:lnTo>
                    <a:lnTo>
                      <a:pt x="368" y="366"/>
                    </a:lnTo>
                    <a:lnTo>
                      <a:pt x="380" y="330"/>
                    </a:lnTo>
                    <a:lnTo>
                      <a:pt x="536" y="276"/>
                    </a:lnTo>
                    <a:lnTo>
                      <a:pt x="570" y="254"/>
                    </a:lnTo>
                    <a:lnTo>
                      <a:pt x="551" y="220"/>
                    </a:lnTo>
                    <a:lnTo>
                      <a:pt x="368" y="2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8435880" y="3916080"/>
                <a:ext cx="45720" cy="64800"/>
              </a:xfrm>
              <a:custGeom>
                <a:avLst/>
                <a:gdLst/>
                <a:ahLst/>
                <a:rect l="l" t="t" r="r" b="b"/>
                <a:pathLst>
                  <a:path w="587" h="1021">
                    <a:moveTo>
                      <a:pt x="197" y="152"/>
                    </a:moveTo>
                    <a:lnTo>
                      <a:pt x="269" y="76"/>
                    </a:lnTo>
                    <a:lnTo>
                      <a:pt x="390" y="3"/>
                    </a:lnTo>
                    <a:lnTo>
                      <a:pt x="445" y="0"/>
                    </a:lnTo>
                    <a:lnTo>
                      <a:pt x="543" y="32"/>
                    </a:lnTo>
                    <a:lnTo>
                      <a:pt x="587" y="80"/>
                    </a:lnTo>
                    <a:lnTo>
                      <a:pt x="587" y="152"/>
                    </a:lnTo>
                    <a:lnTo>
                      <a:pt x="514" y="286"/>
                    </a:lnTo>
                    <a:lnTo>
                      <a:pt x="434" y="391"/>
                    </a:lnTo>
                    <a:lnTo>
                      <a:pt x="400" y="478"/>
                    </a:lnTo>
                    <a:lnTo>
                      <a:pt x="378" y="579"/>
                    </a:lnTo>
                    <a:lnTo>
                      <a:pt x="400" y="677"/>
                    </a:lnTo>
                    <a:lnTo>
                      <a:pt x="423" y="772"/>
                    </a:lnTo>
                    <a:lnTo>
                      <a:pt x="423" y="880"/>
                    </a:lnTo>
                    <a:lnTo>
                      <a:pt x="390" y="945"/>
                    </a:lnTo>
                    <a:lnTo>
                      <a:pt x="317" y="982"/>
                    </a:lnTo>
                    <a:lnTo>
                      <a:pt x="229" y="1021"/>
                    </a:lnTo>
                    <a:lnTo>
                      <a:pt x="149" y="1021"/>
                    </a:lnTo>
                    <a:lnTo>
                      <a:pt x="94" y="992"/>
                    </a:lnTo>
                    <a:lnTo>
                      <a:pt x="22" y="873"/>
                    </a:lnTo>
                    <a:lnTo>
                      <a:pt x="0" y="750"/>
                    </a:lnTo>
                    <a:lnTo>
                      <a:pt x="7" y="591"/>
                    </a:lnTo>
                    <a:lnTo>
                      <a:pt x="61" y="391"/>
                    </a:lnTo>
                    <a:lnTo>
                      <a:pt x="116" y="261"/>
                    </a:lnTo>
                    <a:lnTo>
                      <a:pt x="197" y="1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8439120" y="3968640"/>
                <a:ext cx="58320" cy="48960"/>
              </a:xfrm>
              <a:custGeom>
                <a:avLst/>
                <a:gdLst/>
                <a:ahLst/>
                <a:rect l="l" t="t" r="r" b="b"/>
                <a:pathLst>
                  <a:path w="742" h="760">
                    <a:moveTo>
                      <a:pt x="0" y="72"/>
                    </a:moveTo>
                    <a:lnTo>
                      <a:pt x="61" y="0"/>
                    </a:lnTo>
                    <a:lnTo>
                      <a:pt x="154" y="0"/>
                    </a:lnTo>
                    <a:lnTo>
                      <a:pt x="325" y="18"/>
                    </a:lnTo>
                    <a:lnTo>
                      <a:pt x="526" y="28"/>
                    </a:lnTo>
                    <a:lnTo>
                      <a:pt x="603" y="61"/>
                    </a:lnTo>
                    <a:lnTo>
                      <a:pt x="636" y="104"/>
                    </a:lnTo>
                    <a:lnTo>
                      <a:pt x="643" y="170"/>
                    </a:lnTo>
                    <a:lnTo>
                      <a:pt x="621" y="238"/>
                    </a:lnTo>
                    <a:lnTo>
                      <a:pt x="559" y="343"/>
                    </a:lnTo>
                    <a:lnTo>
                      <a:pt x="478" y="431"/>
                    </a:lnTo>
                    <a:lnTo>
                      <a:pt x="416" y="510"/>
                    </a:lnTo>
                    <a:lnTo>
                      <a:pt x="391" y="571"/>
                    </a:lnTo>
                    <a:lnTo>
                      <a:pt x="372" y="615"/>
                    </a:lnTo>
                    <a:lnTo>
                      <a:pt x="379" y="648"/>
                    </a:lnTo>
                    <a:lnTo>
                      <a:pt x="384" y="669"/>
                    </a:lnTo>
                    <a:lnTo>
                      <a:pt x="457" y="669"/>
                    </a:lnTo>
                    <a:lnTo>
                      <a:pt x="570" y="651"/>
                    </a:lnTo>
                    <a:lnTo>
                      <a:pt x="643" y="651"/>
                    </a:lnTo>
                    <a:lnTo>
                      <a:pt x="719" y="680"/>
                    </a:lnTo>
                    <a:lnTo>
                      <a:pt x="742" y="717"/>
                    </a:lnTo>
                    <a:lnTo>
                      <a:pt x="719" y="749"/>
                    </a:lnTo>
                    <a:lnTo>
                      <a:pt x="687" y="760"/>
                    </a:lnTo>
                    <a:lnTo>
                      <a:pt x="636" y="746"/>
                    </a:lnTo>
                    <a:lnTo>
                      <a:pt x="566" y="705"/>
                    </a:lnTo>
                    <a:lnTo>
                      <a:pt x="493" y="713"/>
                    </a:lnTo>
                    <a:lnTo>
                      <a:pt x="372" y="734"/>
                    </a:lnTo>
                    <a:lnTo>
                      <a:pt x="336" y="727"/>
                    </a:lnTo>
                    <a:lnTo>
                      <a:pt x="318" y="702"/>
                    </a:lnTo>
                    <a:lnTo>
                      <a:pt x="318" y="641"/>
                    </a:lnTo>
                    <a:lnTo>
                      <a:pt x="318" y="553"/>
                    </a:lnTo>
                    <a:lnTo>
                      <a:pt x="369" y="488"/>
                    </a:lnTo>
                    <a:lnTo>
                      <a:pt x="446" y="390"/>
                    </a:lnTo>
                    <a:lnTo>
                      <a:pt x="512" y="304"/>
                    </a:lnTo>
                    <a:lnTo>
                      <a:pt x="556" y="238"/>
                    </a:lnTo>
                    <a:lnTo>
                      <a:pt x="578" y="181"/>
                    </a:lnTo>
                    <a:lnTo>
                      <a:pt x="566" y="148"/>
                    </a:lnTo>
                    <a:lnTo>
                      <a:pt x="537" y="108"/>
                    </a:lnTo>
                    <a:lnTo>
                      <a:pt x="493" y="97"/>
                    </a:lnTo>
                    <a:lnTo>
                      <a:pt x="446" y="97"/>
                    </a:lnTo>
                    <a:lnTo>
                      <a:pt x="340" y="97"/>
                    </a:lnTo>
                    <a:lnTo>
                      <a:pt x="182" y="126"/>
                    </a:lnTo>
                    <a:lnTo>
                      <a:pt x="66" y="137"/>
                    </a:lnTo>
                    <a:lnTo>
                      <a:pt x="18" y="126"/>
                    </a:lnTo>
                    <a:lnTo>
                      <a:pt x="0" y="108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8375760" y="3958920"/>
                <a:ext cx="74520" cy="44280"/>
              </a:xfrm>
              <a:custGeom>
                <a:avLst/>
                <a:gdLst/>
                <a:ahLst/>
                <a:rect l="l" t="t" r="r" b="b"/>
                <a:pathLst>
                  <a:path w="943" h="724">
                    <a:moveTo>
                      <a:pt x="767" y="301"/>
                    </a:moveTo>
                    <a:lnTo>
                      <a:pt x="782" y="206"/>
                    </a:lnTo>
                    <a:lnTo>
                      <a:pt x="837" y="171"/>
                    </a:lnTo>
                    <a:lnTo>
                      <a:pt x="903" y="164"/>
                    </a:lnTo>
                    <a:lnTo>
                      <a:pt x="943" y="206"/>
                    </a:lnTo>
                    <a:lnTo>
                      <a:pt x="925" y="289"/>
                    </a:lnTo>
                    <a:lnTo>
                      <a:pt x="888" y="402"/>
                    </a:lnTo>
                    <a:lnTo>
                      <a:pt x="815" y="529"/>
                    </a:lnTo>
                    <a:lnTo>
                      <a:pt x="723" y="637"/>
                    </a:lnTo>
                    <a:lnTo>
                      <a:pt x="647" y="695"/>
                    </a:lnTo>
                    <a:lnTo>
                      <a:pt x="563" y="724"/>
                    </a:lnTo>
                    <a:lnTo>
                      <a:pt x="482" y="714"/>
                    </a:lnTo>
                    <a:lnTo>
                      <a:pt x="420" y="681"/>
                    </a:lnTo>
                    <a:lnTo>
                      <a:pt x="398" y="627"/>
                    </a:lnTo>
                    <a:lnTo>
                      <a:pt x="373" y="533"/>
                    </a:lnTo>
                    <a:lnTo>
                      <a:pt x="343" y="359"/>
                    </a:lnTo>
                    <a:lnTo>
                      <a:pt x="321" y="239"/>
                    </a:lnTo>
                    <a:lnTo>
                      <a:pt x="321" y="98"/>
                    </a:lnTo>
                    <a:lnTo>
                      <a:pt x="307" y="73"/>
                    </a:lnTo>
                    <a:lnTo>
                      <a:pt x="264" y="66"/>
                    </a:lnTo>
                    <a:lnTo>
                      <a:pt x="212" y="105"/>
                    </a:lnTo>
                    <a:lnTo>
                      <a:pt x="165" y="171"/>
                    </a:lnTo>
                    <a:lnTo>
                      <a:pt x="109" y="206"/>
                    </a:lnTo>
                    <a:lnTo>
                      <a:pt x="25" y="206"/>
                    </a:lnTo>
                    <a:lnTo>
                      <a:pt x="0" y="184"/>
                    </a:lnTo>
                    <a:lnTo>
                      <a:pt x="0" y="149"/>
                    </a:lnTo>
                    <a:lnTo>
                      <a:pt x="37" y="116"/>
                    </a:lnTo>
                    <a:lnTo>
                      <a:pt x="77" y="127"/>
                    </a:lnTo>
                    <a:lnTo>
                      <a:pt x="113" y="120"/>
                    </a:lnTo>
                    <a:lnTo>
                      <a:pt x="180" y="73"/>
                    </a:lnTo>
                    <a:lnTo>
                      <a:pt x="245" y="22"/>
                    </a:lnTo>
                    <a:lnTo>
                      <a:pt x="307" y="7"/>
                    </a:lnTo>
                    <a:lnTo>
                      <a:pt x="395" y="0"/>
                    </a:lnTo>
                    <a:lnTo>
                      <a:pt x="398" y="40"/>
                    </a:lnTo>
                    <a:lnTo>
                      <a:pt x="377" y="83"/>
                    </a:lnTo>
                    <a:lnTo>
                      <a:pt x="373" y="196"/>
                    </a:lnTo>
                    <a:lnTo>
                      <a:pt x="398" y="345"/>
                    </a:lnTo>
                    <a:lnTo>
                      <a:pt x="439" y="489"/>
                    </a:lnTo>
                    <a:lnTo>
                      <a:pt x="474" y="576"/>
                    </a:lnTo>
                    <a:lnTo>
                      <a:pt x="530" y="616"/>
                    </a:lnTo>
                    <a:lnTo>
                      <a:pt x="585" y="616"/>
                    </a:lnTo>
                    <a:lnTo>
                      <a:pt x="639" y="576"/>
                    </a:lnTo>
                    <a:lnTo>
                      <a:pt x="713" y="485"/>
                    </a:lnTo>
                    <a:lnTo>
                      <a:pt x="760" y="355"/>
                    </a:lnTo>
                    <a:lnTo>
                      <a:pt x="767" y="30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8412120" y="3854520"/>
                <a:ext cx="51840" cy="72720"/>
              </a:xfrm>
              <a:custGeom>
                <a:avLst/>
                <a:gdLst/>
                <a:ahLst/>
                <a:rect l="l" t="t" r="r" b="b"/>
                <a:pathLst>
                  <a:path w="664" h="1144">
                    <a:moveTo>
                      <a:pt x="423" y="868"/>
                    </a:moveTo>
                    <a:lnTo>
                      <a:pt x="532" y="977"/>
                    </a:lnTo>
                    <a:lnTo>
                      <a:pt x="576" y="977"/>
                    </a:lnTo>
                    <a:lnTo>
                      <a:pt x="650" y="1021"/>
                    </a:lnTo>
                    <a:lnTo>
                      <a:pt x="664" y="1071"/>
                    </a:lnTo>
                    <a:lnTo>
                      <a:pt x="642" y="1137"/>
                    </a:lnTo>
                    <a:lnTo>
                      <a:pt x="584" y="1144"/>
                    </a:lnTo>
                    <a:lnTo>
                      <a:pt x="510" y="1093"/>
                    </a:lnTo>
                    <a:lnTo>
                      <a:pt x="364" y="956"/>
                    </a:lnTo>
                    <a:lnTo>
                      <a:pt x="270" y="826"/>
                    </a:lnTo>
                    <a:lnTo>
                      <a:pt x="226" y="724"/>
                    </a:lnTo>
                    <a:lnTo>
                      <a:pt x="196" y="550"/>
                    </a:lnTo>
                    <a:lnTo>
                      <a:pt x="196" y="325"/>
                    </a:lnTo>
                    <a:lnTo>
                      <a:pt x="189" y="268"/>
                    </a:lnTo>
                    <a:lnTo>
                      <a:pt x="146" y="224"/>
                    </a:lnTo>
                    <a:lnTo>
                      <a:pt x="21" y="232"/>
                    </a:lnTo>
                    <a:lnTo>
                      <a:pt x="0" y="210"/>
                    </a:lnTo>
                    <a:lnTo>
                      <a:pt x="28" y="195"/>
                    </a:lnTo>
                    <a:lnTo>
                      <a:pt x="117" y="188"/>
                    </a:lnTo>
                    <a:lnTo>
                      <a:pt x="131" y="173"/>
                    </a:lnTo>
                    <a:lnTo>
                      <a:pt x="6" y="100"/>
                    </a:lnTo>
                    <a:lnTo>
                      <a:pt x="6" y="72"/>
                    </a:lnTo>
                    <a:lnTo>
                      <a:pt x="28" y="65"/>
                    </a:lnTo>
                    <a:lnTo>
                      <a:pt x="131" y="122"/>
                    </a:lnTo>
                    <a:lnTo>
                      <a:pt x="153" y="115"/>
                    </a:lnTo>
                    <a:lnTo>
                      <a:pt x="131" y="7"/>
                    </a:lnTo>
                    <a:lnTo>
                      <a:pt x="146" y="0"/>
                    </a:lnTo>
                    <a:lnTo>
                      <a:pt x="161" y="7"/>
                    </a:lnTo>
                    <a:lnTo>
                      <a:pt x="189" y="115"/>
                    </a:lnTo>
                    <a:lnTo>
                      <a:pt x="211" y="122"/>
                    </a:lnTo>
                    <a:lnTo>
                      <a:pt x="270" y="7"/>
                    </a:lnTo>
                    <a:lnTo>
                      <a:pt x="285" y="7"/>
                    </a:lnTo>
                    <a:lnTo>
                      <a:pt x="285" y="43"/>
                    </a:lnTo>
                    <a:lnTo>
                      <a:pt x="248" y="137"/>
                    </a:lnTo>
                    <a:lnTo>
                      <a:pt x="248" y="188"/>
                    </a:lnTo>
                    <a:lnTo>
                      <a:pt x="263" y="253"/>
                    </a:lnTo>
                    <a:lnTo>
                      <a:pt x="255" y="340"/>
                    </a:lnTo>
                    <a:lnTo>
                      <a:pt x="263" y="499"/>
                    </a:lnTo>
                    <a:lnTo>
                      <a:pt x="277" y="601"/>
                    </a:lnTo>
                    <a:lnTo>
                      <a:pt x="314" y="716"/>
                    </a:lnTo>
                    <a:lnTo>
                      <a:pt x="364" y="804"/>
                    </a:lnTo>
                    <a:lnTo>
                      <a:pt x="423" y="8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8475480" y="3860640"/>
                <a:ext cx="68040" cy="68040"/>
              </a:xfrm>
              <a:custGeom>
                <a:avLst/>
                <a:gdLst/>
                <a:ahLst/>
                <a:rect l="l" t="t" r="r" b="b"/>
                <a:pathLst>
                  <a:path w="869" h="1072">
                    <a:moveTo>
                      <a:pt x="15" y="949"/>
                    </a:moveTo>
                    <a:lnTo>
                      <a:pt x="0" y="999"/>
                    </a:lnTo>
                    <a:lnTo>
                      <a:pt x="15" y="1072"/>
                    </a:lnTo>
                    <a:lnTo>
                      <a:pt x="66" y="1072"/>
                    </a:lnTo>
                    <a:lnTo>
                      <a:pt x="219" y="1043"/>
                    </a:lnTo>
                    <a:lnTo>
                      <a:pt x="387" y="985"/>
                    </a:lnTo>
                    <a:lnTo>
                      <a:pt x="526" y="891"/>
                    </a:lnTo>
                    <a:lnTo>
                      <a:pt x="607" y="768"/>
                    </a:lnTo>
                    <a:lnTo>
                      <a:pt x="679" y="558"/>
                    </a:lnTo>
                    <a:lnTo>
                      <a:pt x="701" y="362"/>
                    </a:lnTo>
                    <a:lnTo>
                      <a:pt x="701" y="269"/>
                    </a:lnTo>
                    <a:lnTo>
                      <a:pt x="738" y="211"/>
                    </a:lnTo>
                    <a:lnTo>
                      <a:pt x="803" y="189"/>
                    </a:lnTo>
                    <a:lnTo>
                      <a:pt x="862" y="189"/>
                    </a:lnTo>
                    <a:lnTo>
                      <a:pt x="869" y="160"/>
                    </a:lnTo>
                    <a:lnTo>
                      <a:pt x="782" y="167"/>
                    </a:lnTo>
                    <a:lnTo>
                      <a:pt x="767" y="145"/>
                    </a:lnTo>
                    <a:lnTo>
                      <a:pt x="840" y="66"/>
                    </a:lnTo>
                    <a:lnTo>
                      <a:pt x="825" y="44"/>
                    </a:lnTo>
                    <a:lnTo>
                      <a:pt x="810" y="59"/>
                    </a:lnTo>
                    <a:lnTo>
                      <a:pt x="753" y="116"/>
                    </a:lnTo>
                    <a:lnTo>
                      <a:pt x="738" y="116"/>
                    </a:lnTo>
                    <a:lnTo>
                      <a:pt x="738" y="15"/>
                    </a:lnTo>
                    <a:lnTo>
                      <a:pt x="723" y="0"/>
                    </a:lnTo>
                    <a:lnTo>
                      <a:pt x="701" y="8"/>
                    </a:lnTo>
                    <a:lnTo>
                      <a:pt x="708" y="116"/>
                    </a:lnTo>
                    <a:lnTo>
                      <a:pt x="694" y="123"/>
                    </a:lnTo>
                    <a:lnTo>
                      <a:pt x="635" y="66"/>
                    </a:lnTo>
                    <a:lnTo>
                      <a:pt x="592" y="59"/>
                    </a:lnTo>
                    <a:lnTo>
                      <a:pt x="599" y="88"/>
                    </a:lnTo>
                    <a:lnTo>
                      <a:pt x="664" y="152"/>
                    </a:lnTo>
                    <a:lnTo>
                      <a:pt x="664" y="189"/>
                    </a:lnTo>
                    <a:lnTo>
                      <a:pt x="642" y="262"/>
                    </a:lnTo>
                    <a:lnTo>
                      <a:pt x="642" y="326"/>
                    </a:lnTo>
                    <a:lnTo>
                      <a:pt x="642" y="435"/>
                    </a:lnTo>
                    <a:lnTo>
                      <a:pt x="613" y="573"/>
                    </a:lnTo>
                    <a:lnTo>
                      <a:pt x="585" y="659"/>
                    </a:lnTo>
                    <a:lnTo>
                      <a:pt x="533" y="768"/>
                    </a:lnTo>
                    <a:lnTo>
                      <a:pt x="474" y="855"/>
                    </a:lnTo>
                    <a:lnTo>
                      <a:pt x="431" y="898"/>
                    </a:lnTo>
                    <a:lnTo>
                      <a:pt x="314" y="935"/>
                    </a:lnTo>
                    <a:lnTo>
                      <a:pt x="205" y="949"/>
                    </a:lnTo>
                    <a:lnTo>
                      <a:pt x="95" y="964"/>
                    </a:lnTo>
                    <a:lnTo>
                      <a:pt x="15" y="9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4" name=""/>
            <p:cNvSpPr/>
            <p:nvPr/>
          </p:nvSpPr>
          <p:spPr>
            <a:xfrm>
              <a:off x="7856640" y="3089160"/>
              <a:ext cx="168120" cy="163800"/>
            </a:xfrm>
            <a:prstGeom prst="rect">
              <a:avLst/>
            </a:prstGeom>
            <a:solidFill>
              <a:srgbClr val="2163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5" name=""/>
            <p:cNvGrpSpPr/>
            <p:nvPr/>
          </p:nvGrpSpPr>
          <p:grpSpPr>
            <a:xfrm>
              <a:off x="7851600" y="3100320"/>
              <a:ext cx="168480" cy="163440"/>
              <a:chOff x="7851600" y="3100320"/>
              <a:chExt cx="168480" cy="163440"/>
            </a:xfrm>
          </p:grpSpPr>
          <p:sp>
            <p:nvSpPr>
              <p:cNvPr id="1046" name=""/>
              <p:cNvSpPr/>
              <p:nvPr/>
            </p:nvSpPr>
            <p:spPr>
              <a:xfrm>
                <a:off x="7932600" y="3122280"/>
                <a:ext cx="46080" cy="36720"/>
              </a:xfrm>
              <a:custGeom>
                <a:avLst/>
                <a:gdLst/>
                <a:ahLst/>
                <a:rect l="l" t="t" r="r" b="b"/>
                <a:pathLst>
                  <a:path w="570" h="573">
                    <a:moveTo>
                      <a:pt x="368" y="272"/>
                    </a:moveTo>
                    <a:lnTo>
                      <a:pt x="354" y="167"/>
                    </a:lnTo>
                    <a:lnTo>
                      <a:pt x="324" y="73"/>
                    </a:lnTo>
                    <a:lnTo>
                      <a:pt x="270" y="22"/>
                    </a:lnTo>
                    <a:lnTo>
                      <a:pt x="175" y="0"/>
                    </a:lnTo>
                    <a:lnTo>
                      <a:pt x="94" y="22"/>
                    </a:lnTo>
                    <a:lnTo>
                      <a:pt x="18" y="116"/>
                    </a:lnTo>
                    <a:lnTo>
                      <a:pt x="0" y="228"/>
                    </a:lnTo>
                    <a:lnTo>
                      <a:pt x="18" y="348"/>
                    </a:lnTo>
                    <a:lnTo>
                      <a:pt x="47" y="421"/>
                    </a:lnTo>
                    <a:lnTo>
                      <a:pt x="84" y="497"/>
                    </a:lnTo>
                    <a:lnTo>
                      <a:pt x="124" y="548"/>
                    </a:lnTo>
                    <a:lnTo>
                      <a:pt x="168" y="573"/>
                    </a:lnTo>
                    <a:lnTo>
                      <a:pt x="230" y="551"/>
                    </a:lnTo>
                    <a:lnTo>
                      <a:pt x="292" y="500"/>
                    </a:lnTo>
                    <a:lnTo>
                      <a:pt x="332" y="428"/>
                    </a:lnTo>
                    <a:lnTo>
                      <a:pt x="368" y="367"/>
                    </a:lnTo>
                    <a:lnTo>
                      <a:pt x="380" y="330"/>
                    </a:lnTo>
                    <a:lnTo>
                      <a:pt x="536" y="276"/>
                    </a:lnTo>
                    <a:lnTo>
                      <a:pt x="570" y="254"/>
                    </a:lnTo>
                    <a:lnTo>
                      <a:pt x="551" y="221"/>
                    </a:lnTo>
                    <a:lnTo>
                      <a:pt x="368" y="2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7910280" y="3162240"/>
                <a:ext cx="47880" cy="65160"/>
              </a:xfrm>
              <a:custGeom>
                <a:avLst/>
                <a:gdLst/>
                <a:ahLst/>
                <a:rect l="l" t="t" r="r" b="b"/>
                <a:pathLst>
                  <a:path w="588" h="1022">
                    <a:moveTo>
                      <a:pt x="197" y="152"/>
                    </a:moveTo>
                    <a:lnTo>
                      <a:pt x="270" y="76"/>
                    </a:lnTo>
                    <a:lnTo>
                      <a:pt x="390" y="3"/>
                    </a:lnTo>
                    <a:lnTo>
                      <a:pt x="445" y="0"/>
                    </a:lnTo>
                    <a:lnTo>
                      <a:pt x="543" y="33"/>
                    </a:lnTo>
                    <a:lnTo>
                      <a:pt x="588" y="80"/>
                    </a:lnTo>
                    <a:lnTo>
                      <a:pt x="588" y="152"/>
                    </a:lnTo>
                    <a:lnTo>
                      <a:pt x="514" y="286"/>
                    </a:lnTo>
                    <a:lnTo>
                      <a:pt x="434" y="392"/>
                    </a:lnTo>
                    <a:lnTo>
                      <a:pt x="401" y="479"/>
                    </a:lnTo>
                    <a:lnTo>
                      <a:pt x="379" y="580"/>
                    </a:lnTo>
                    <a:lnTo>
                      <a:pt x="401" y="678"/>
                    </a:lnTo>
                    <a:lnTo>
                      <a:pt x="423" y="772"/>
                    </a:lnTo>
                    <a:lnTo>
                      <a:pt x="423" y="881"/>
                    </a:lnTo>
                    <a:lnTo>
                      <a:pt x="390" y="946"/>
                    </a:lnTo>
                    <a:lnTo>
                      <a:pt x="317" y="982"/>
                    </a:lnTo>
                    <a:lnTo>
                      <a:pt x="230" y="1022"/>
                    </a:lnTo>
                    <a:lnTo>
                      <a:pt x="149" y="1022"/>
                    </a:lnTo>
                    <a:lnTo>
                      <a:pt x="94" y="993"/>
                    </a:lnTo>
                    <a:lnTo>
                      <a:pt x="22" y="873"/>
                    </a:lnTo>
                    <a:lnTo>
                      <a:pt x="0" y="750"/>
                    </a:lnTo>
                    <a:lnTo>
                      <a:pt x="7" y="591"/>
                    </a:lnTo>
                    <a:lnTo>
                      <a:pt x="62" y="392"/>
                    </a:lnTo>
                    <a:lnTo>
                      <a:pt x="116" y="261"/>
                    </a:lnTo>
                    <a:lnTo>
                      <a:pt x="197" y="1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913520" y="3214440"/>
                <a:ext cx="60480" cy="49320"/>
              </a:xfrm>
              <a:custGeom>
                <a:avLst/>
                <a:gdLst/>
                <a:ahLst/>
                <a:rect l="l" t="t" r="r" b="b"/>
                <a:pathLst>
                  <a:path w="742" h="760">
                    <a:moveTo>
                      <a:pt x="0" y="71"/>
                    </a:moveTo>
                    <a:lnTo>
                      <a:pt x="62" y="0"/>
                    </a:lnTo>
                    <a:lnTo>
                      <a:pt x="154" y="0"/>
                    </a:lnTo>
                    <a:lnTo>
                      <a:pt x="325" y="17"/>
                    </a:lnTo>
                    <a:lnTo>
                      <a:pt x="527" y="28"/>
                    </a:lnTo>
                    <a:lnTo>
                      <a:pt x="603" y="61"/>
                    </a:lnTo>
                    <a:lnTo>
                      <a:pt x="636" y="104"/>
                    </a:lnTo>
                    <a:lnTo>
                      <a:pt x="643" y="169"/>
                    </a:lnTo>
                    <a:lnTo>
                      <a:pt x="621" y="238"/>
                    </a:lnTo>
                    <a:lnTo>
                      <a:pt x="559" y="343"/>
                    </a:lnTo>
                    <a:lnTo>
                      <a:pt x="478" y="430"/>
                    </a:lnTo>
                    <a:lnTo>
                      <a:pt x="416" y="509"/>
                    </a:lnTo>
                    <a:lnTo>
                      <a:pt x="391" y="571"/>
                    </a:lnTo>
                    <a:lnTo>
                      <a:pt x="372" y="614"/>
                    </a:lnTo>
                    <a:lnTo>
                      <a:pt x="380" y="648"/>
                    </a:lnTo>
                    <a:lnTo>
                      <a:pt x="384" y="669"/>
                    </a:lnTo>
                    <a:lnTo>
                      <a:pt x="457" y="669"/>
                    </a:lnTo>
                    <a:lnTo>
                      <a:pt x="571" y="651"/>
                    </a:lnTo>
                    <a:lnTo>
                      <a:pt x="643" y="651"/>
                    </a:lnTo>
                    <a:lnTo>
                      <a:pt x="720" y="680"/>
                    </a:lnTo>
                    <a:lnTo>
                      <a:pt x="742" y="716"/>
                    </a:lnTo>
                    <a:lnTo>
                      <a:pt x="720" y="749"/>
                    </a:lnTo>
                    <a:lnTo>
                      <a:pt x="687" y="760"/>
                    </a:lnTo>
                    <a:lnTo>
                      <a:pt x="636" y="745"/>
                    </a:lnTo>
                    <a:lnTo>
                      <a:pt x="567" y="705"/>
                    </a:lnTo>
                    <a:lnTo>
                      <a:pt x="493" y="712"/>
                    </a:lnTo>
                    <a:lnTo>
                      <a:pt x="372" y="734"/>
                    </a:lnTo>
                    <a:lnTo>
                      <a:pt x="337" y="727"/>
                    </a:lnTo>
                    <a:lnTo>
                      <a:pt x="318" y="702"/>
                    </a:lnTo>
                    <a:lnTo>
                      <a:pt x="318" y="640"/>
                    </a:lnTo>
                    <a:lnTo>
                      <a:pt x="318" y="553"/>
                    </a:lnTo>
                    <a:lnTo>
                      <a:pt x="369" y="487"/>
                    </a:lnTo>
                    <a:lnTo>
                      <a:pt x="446" y="390"/>
                    </a:lnTo>
                    <a:lnTo>
                      <a:pt x="512" y="303"/>
                    </a:lnTo>
                    <a:lnTo>
                      <a:pt x="556" y="238"/>
                    </a:lnTo>
                    <a:lnTo>
                      <a:pt x="578" y="181"/>
                    </a:lnTo>
                    <a:lnTo>
                      <a:pt x="567" y="147"/>
                    </a:lnTo>
                    <a:lnTo>
                      <a:pt x="537" y="108"/>
                    </a:lnTo>
                    <a:lnTo>
                      <a:pt x="493" y="96"/>
                    </a:lnTo>
                    <a:lnTo>
                      <a:pt x="446" y="96"/>
                    </a:lnTo>
                    <a:lnTo>
                      <a:pt x="340" y="96"/>
                    </a:lnTo>
                    <a:lnTo>
                      <a:pt x="182" y="125"/>
                    </a:lnTo>
                    <a:lnTo>
                      <a:pt x="66" y="137"/>
                    </a:lnTo>
                    <a:lnTo>
                      <a:pt x="19" y="125"/>
                    </a:lnTo>
                    <a:lnTo>
                      <a:pt x="0" y="108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7851600" y="3203280"/>
                <a:ext cx="74880" cy="46080"/>
              </a:xfrm>
              <a:custGeom>
                <a:avLst/>
                <a:gdLst/>
                <a:ahLst/>
                <a:rect l="l" t="t" r="r" b="b"/>
                <a:pathLst>
                  <a:path w="943" h="724">
                    <a:moveTo>
                      <a:pt x="768" y="300"/>
                    </a:moveTo>
                    <a:lnTo>
                      <a:pt x="782" y="206"/>
                    </a:lnTo>
                    <a:lnTo>
                      <a:pt x="837" y="170"/>
                    </a:lnTo>
                    <a:lnTo>
                      <a:pt x="903" y="163"/>
                    </a:lnTo>
                    <a:lnTo>
                      <a:pt x="943" y="206"/>
                    </a:lnTo>
                    <a:lnTo>
                      <a:pt x="925" y="289"/>
                    </a:lnTo>
                    <a:lnTo>
                      <a:pt x="888" y="401"/>
                    </a:lnTo>
                    <a:lnTo>
                      <a:pt x="815" y="528"/>
                    </a:lnTo>
                    <a:lnTo>
                      <a:pt x="723" y="637"/>
                    </a:lnTo>
                    <a:lnTo>
                      <a:pt x="647" y="695"/>
                    </a:lnTo>
                    <a:lnTo>
                      <a:pt x="563" y="724"/>
                    </a:lnTo>
                    <a:lnTo>
                      <a:pt x="482" y="713"/>
                    </a:lnTo>
                    <a:lnTo>
                      <a:pt x="420" y="680"/>
                    </a:lnTo>
                    <a:lnTo>
                      <a:pt x="398" y="626"/>
                    </a:lnTo>
                    <a:lnTo>
                      <a:pt x="373" y="532"/>
                    </a:lnTo>
                    <a:lnTo>
                      <a:pt x="344" y="359"/>
                    </a:lnTo>
                    <a:lnTo>
                      <a:pt x="322" y="239"/>
                    </a:lnTo>
                    <a:lnTo>
                      <a:pt x="322" y="98"/>
                    </a:lnTo>
                    <a:lnTo>
                      <a:pt x="307" y="73"/>
                    </a:lnTo>
                    <a:lnTo>
                      <a:pt x="264" y="65"/>
                    </a:lnTo>
                    <a:lnTo>
                      <a:pt x="212" y="105"/>
                    </a:lnTo>
                    <a:lnTo>
                      <a:pt x="165" y="170"/>
                    </a:lnTo>
                    <a:lnTo>
                      <a:pt x="110" y="206"/>
                    </a:lnTo>
                    <a:lnTo>
                      <a:pt x="26" y="206"/>
                    </a:lnTo>
                    <a:lnTo>
                      <a:pt x="0" y="184"/>
                    </a:lnTo>
                    <a:lnTo>
                      <a:pt x="0" y="149"/>
                    </a:lnTo>
                    <a:lnTo>
                      <a:pt x="37" y="115"/>
                    </a:lnTo>
                    <a:lnTo>
                      <a:pt x="77" y="127"/>
                    </a:lnTo>
                    <a:lnTo>
                      <a:pt x="114" y="119"/>
                    </a:lnTo>
                    <a:lnTo>
                      <a:pt x="180" y="73"/>
                    </a:lnTo>
                    <a:lnTo>
                      <a:pt x="245" y="22"/>
                    </a:lnTo>
                    <a:lnTo>
                      <a:pt x="307" y="7"/>
                    </a:lnTo>
                    <a:lnTo>
                      <a:pt x="395" y="0"/>
                    </a:lnTo>
                    <a:lnTo>
                      <a:pt x="398" y="39"/>
                    </a:lnTo>
                    <a:lnTo>
                      <a:pt x="377" y="83"/>
                    </a:lnTo>
                    <a:lnTo>
                      <a:pt x="373" y="195"/>
                    </a:lnTo>
                    <a:lnTo>
                      <a:pt x="398" y="344"/>
                    </a:lnTo>
                    <a:lnTo>
                      <a:pt x="439" y="489"/>
                    </a:lnTo>
                    <a:lnTo>
                      <a:pt x="475" y="575"/>
                    </a:lnTo>
                    <a:lnTo>
                      <a:pt x="530" y="616"/>
                    </a:lnTo>
                    <a:lnTo>
                      <a:pt x="585" y="616"/>
                    </a:lnTo>
                    <a:lnTo>
                      <a:pt x="640" y="575"/>
                    </a:lnTo>
                    <a:lnTo>
                      <a:pt x="713" y="485"/>
                    </a:lnTo>
                    <a:lnTo>
                      <a:pt x="760" y="355"/>
                    </a:lnTo>
                    <a:lnTo>
                      <a:pt x="768" y="3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7886520" y="3100320"/>
                <a:ext cx="52560" cy="71280"/>
              </a:xfrm>
              <a:custGeom>
                <a:avLst/>
                <a:gdLst/>
                <a:ahLst/>
                <a:rect l="l" t="t" r="r" b="b"/>
                <a:pathLst>
                  <a:path w="665" h="1145">
                    <a:moveTo>
                      <a:pt x="423" y="869"/>
                    </a:moveTo>
                    <a:lnTo>
                      <a:pt x="533" y="978"/>
                    </a:lnTo>
                    <a:lnTo>
                      <a:pt x="577" y="978"/>
                    </a:lnTo>
                    <a:lnTo>
                      <a:pt x="650" y="1022"/>
                    </a:lnTo>
                    <a:lnTo>
                      <a:pt x="665" y="1072"/>
                    </a:lnTo>
                    <a:lnTo>
                      <a:pt x="643" y="1137"/>
                    </a:lnTo>
                    <a:lnTo>
                      <a:pt x="584" y="1145"/>
                    </a:lnTo>
                    <a:lnTo>
                      <a:pt x="510" y="1094"/>
                    </a:lnTo>
                    <a:lnTo>
                      <a:pt x="365" y="956"/>
                    </a:lnTo>
                    <a:lnTo>
                      <a:pt x="270" y="826"/>
                    </a:lnTo>
                    <a:lnTo>
                      <a:pt x="226" y="724"/>
                    </a:lnTo>
                    <a:lnTo>
                      <a:pt x="197" y="550"/>
                    </a:lnTo>
                    <a:lnTo>
                      <a:pt x="197" y="326"/>
                    </a:lnTo>
                    <a:lnTo>
                      <a:pt x="189" y="269"/>
                    </a:lnTo>
                    <a:lnTo>
                      <a:pt x="146" y="225"/>
                    </a:lnTo>
                    <a:lnTo>
                      <a:pt x="21" y="232"/>
                    </a:lnTo>
                    <a:lnTo>
                      <a:pt x="0" y="210"/>
                    </a:lnTo>
                    <a:lnTo>
                      <a:pt x="29" y="196"/>
                    </a:lnTo>
                    <a:lnTo>
                      <a:pt x="117" y="188"/>
                    </a:lnTo>
                    <a:lnTo>
                      <a:pt x="132" y="174"/>
                    </a:lnTo>
                    <a:lnTo>
                      <a:pt x="7" y="101"/>
                    </a:lnTo>
                    <a:lnTo>
                      <a:pt x="7" y="73"/>
                    </a:lnTo>
                    <a:lnTo>
                      <a:pt x="29" y="66"/>
                    </a:lnTo>
                    <a:lnTo>
                      <a:pt x="132" y="123"/>
                    </a:lnTo>
                    <a:lnTo>
                      <a:pt x="154" y="116"/>
                    </a:lnTo>
                    <a:lnTo>
                      <a:pt x="132" y="7"/>
                    </a:lnTo>
                    <a:lnTo>
                      <a:pt x="146" y="0"/>
                    </a:lnTo>
                    <a:lnTo>
                      <a:pt x="161" y="7"/>
                    </a:lnTo>
                    <a:lnTo>
                      <a:pt x="189" y="116"/>
                    </a:lnTo>
                    <a:lnTo>
                      <a:pt x="211" y="123"/>
                    </a:lnTo>
                    <a:lnTo>
                      <a:pt x="270" y="7"/>
                    </a:lnTo>
                    <a:lnTo>
                      <a:pt x="285" y="7"/>
                    </a:lnTo>
                    <a:lnTo>
                      <a:pt x="285" y="44"/>
                    </a:lnTo>
                    <a:lnTo>
                      <a:pt x="248" y="137"/>
                    </a:lnTo>
                    <a:lnTo>
                      <a:pt x="248" y="188"/>
                    </a:lnTo>
                    <a:lnTo>
                      <a:pt x="263" y="254"/>
                    </a:lnTo>
                    <a:lnTo>
                      <a:pt x="255" y="340"/>
                    </a:lnTo>
                    <a:lnTo>
                      <a:pt x="263" y="499"/>
                    </a:lnTo>
                    <a:lnTo>
                      <a:pt x="277" y="601"/>
                    </a:lnTo>
                    <a:lnTo>
                      <a:pt x="314" y="717"/>
                    </a:lnTo>
                    <a:lnTo>
                      <a:pt x="365" y="804"/>
                    </a:lnTo>
                    <a:lnTo>
                      <a:pt x="423" y="8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7950240" y="3106440"/>
                <a:ext cx="69840" cy="68400"/>
              </a:xfrm>
              <a:custGeom>
                <a:avLst/>
                <a:gdLst/>
                <a:ahLst/>
                <a:rect l="l" t="t" r="r" b="b"/>
                <a:pathLst>
                  <a:path w="869" h="1072">
                    <a:moveTo>
                      <a:pt x="15" y="949"/>
                    </a:moveTo>
                    <a:lnTo>
                      <a:pt x="0" y="999"/>
                    </a:lnTo>
                    <a:lnTo>
                      <a:pt x="15" y="1072"/>
                    </a:lnTo>
                    <a:lnTo>
                      <a:pt x="66" y="1072"/>
                    </a:lnTo>
                    <a:lnTo>
                      <a:pt x="220" y="1043"/>
                    </a:lnTo>
                    <a:lnTo>
                      <a:pt x="388" y="984"/>
                    </a:lnTo>
                    <a:lnTo>
                      <a:pt x="526" y="891"/>
                    </a:lnTo>
                    <a:lnTo>
                      <a:pt x="607" y="768"/>
                    </a:lnTo>
                    <a:lnTo>
                      <a:pt x="679" y="558"/>
                    </a:lnTo>
                    <a:lnTo>
                      <a:pt x="701" y="362"/>
                    </a:lnTo>
                    <a:lnTo>
                      <a:pt x="701" y="268"/>
                    </a:lnTo>
                    <a:lnTo>
                      <a:pt x="738" y="210"/>
                    </a:lnTo>
                    <a:lnTo>
                      <a:pt x="803" y="188"/>
                    </a:lnTo>
                    <a:lnTo>
                      <a:pt x="862" y="188"/>
                    </a:lnTo>
                    <a:lnTo>
                      <a:pt x="869" y="159"/>
                    </a:lnTo>
                    <a:lnTo>
                      <a:pt x="782" y="166"/>
                    </a:lnTo>
                    <a:lnTo>
                      <a:pt x="768" y="145"/>
                    </a:lnTo>
                    <a:lnTo>
                      <a:pt x="840" y="66"/>
                    </a:lnTo>
                    <a:lnTo>
                      <a:pt x="825" y="44"/>
                    </a:lnTo>
                    <a:lnTo>
                      <a:pt x="811" y="58"/>
                    </a:lnTo>
                    <a:lnTo>
                      <a:pt x="753" y="116"/>
                    </a:lnTo>
                    <a:lnTo>
                      <a:pt x="738" y="116"/>
                    </a:lnTo>
                    <a:lnTo>
                      <a:pt x="738" y="15"/>
                    </a:lnTo>
                    <a:lnTo>
                      <a:pt x="723" y="0"/>
                    </a:lnTo>
                    <a:lnTo>
                      <a:pt x="701" y="7"/>
                    </a:lnTo>
                    <a:lnTo>
                      <a:pt x="709" y="116"/>
                    </a:lnTo>
                    <a:lnTo>
                      <a:pt x="694" y="123"/>
                    </a:lnTo>
                    <a:lnTo>
                      <a:pt x="635" y="66"/>
                    </a:lnTo>
                    <a:lnTo>
                      <a:pt x="592" y="58"/>
                    </a:lnTo>
                    <a:lnTo>
                      <a:pt x="600" y="87"/>
                    </a:lnTo>
                    <a:lnTo>
                      <a:pt x="665" y="152"/>
                    </a:lnTo>
                    <a:lnTo>
                      <a:pt x="665" y="188"/>
                    </a:lnTo>
                    <a:lnTo>
                      <a:pt x="643" y="261"/>
                    </a:lnTo>
                    <a:lnTo>
                      <a:pt x="643" y="326"/>
                    </a:lnTo>
                    <a:lnTo>
                      <a:pt x="643" y="435"/>
                    </a:lnTo>
                    <a:lnTo>
                      <a:pt x="613" y="572"/>
                    </a:lnTo>
                    <a:lnTo>
                      <a:pt x="585" y="659"/>
                    </a:lnTo>
                    <a:lnTo>
                      <a:pt x="533" y="768"/>
                    </a:lnTo>
                    <a:lnTo>
                      <a:pt x="475" y="854"/>
                    </a:lnTo>
                    <a:lnTo>
                      <a:pt x="432" y="898"/>
                    </a:lnTo>
                    <a:lnTo>
                      <a:pt x="314" y="934"/>
                    </a:lnTo>
                    <a:lnTo>
                      <a:pt x="205" y="949"/>
                    </a:lnTo>
                    <a:lnTo>
                      <a:pt x="95" y="963"/>
                    </a:lnTo>
                    <a:lnTo>
                      <a:pt x="15" y="9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7308720" y="2727360"/>
              <a:ext cx="169920" cy="163440"/>
              <a:chOff x="7308720" y="2727360"/>
              <a:chExt cx="169920" cy="163440"/>
            </a:xfrm>
          </p:grpSpPr>
          <p:sp>
            <p:nvSpPr>
              <p:cNvPr id="1053" name=""/>
              <p:cNvSpPr/>
              <p:nvPr/>
            </p:nvSpPr>
            <p:spPr>
              <a:xfrm>
                <a:off x="7310520" y="2727360"/>
                <a:ext cx="168120" cy="163440"/>
              </a:xfrm>
              <a:prstGeom prst="rect">
                <a:avLst/>
              </a:prstGeom>
              <a:solidFill>
                <a:srgbClr val="216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4" name=""/>
              <p:cNvGrpSpPr/>
              <p:nvPr/>
            </p:nvGrpSpPr>
            <p:grpSpPr>
              <a:xfrm>
                <a:off x="7308720" y="2728800"/>
                <a:ext cx="168480" cy="162000"/>
                <a:chOff x="7308720" y="2728800"/>
                <a:chExt cx="168480" cy="162000"/>
              </a:xfrm>
            </p:grpSpPr>
            <p:sp>
              <p:nvSpPr>
                <p:cNvPr id="1055" name=""/>
                <p:cNvSpPr/>
                <p:nvPr/>
              </p:nvSpPr>
              <p:spPr>
                <a:xfrm>
                  <a:off x="7391520" y="2751120"/>
                  <a:ext cx="44280" cy="36360"/>
                </a:xfrm>
                <a:custGeom>
                  <a:avLst/>
                  <a:gdLst/>
                  <a:ahLst/>
                  <a:rect l="l" t="t" r="r" b="b"/>
                  <a:pathLst>
                    <a:path w="570" h="572">
                      <a:moveTo>
                        <a:pt x="368" y="271"/>
                      </a:moveTo>
                      <a:lnTo>
                        <a:pt x="354" y="166"/>
                      </a:lnTo>
                      <a:lnTo>
                        <a:pt x="324" y="73"/>
                      </a:lnTo>
                      <a:lnTo>
                        <a:pt x="270" y="22"/>
                      </a:lnTo>
                      <a:lnTo>
                        <a:pt x="175" y="0"/>
                      </a:lnTo>
                      <a:lnTo>
                        <a:pt x="94" y="22"/>
                      </a:lnTo>
                      <a:lnTo>
                        <a:pt x="18" y="115"/>
                      </a:lnTo>
                      <a:lnTo>
                        <a:pt x="0" y="228"/>
                      </a:lnTo>
                      <a:lnTo>
                        <a:pt x="18" y="347"/>
                      </a:lnTo>
                      <a:lnTo>
                        <a:pt x="47" y="420"/>
                      </a:lnTo>
                      <a:lnTo>
                        <a:pt x="84" y="496"/>
                      </a:lnTo>
                      <a:lnTo>
                        <a:pt x="124" y="547"/>
                      </a:lnTo>
                      <a:lnTo>
                        <a:pt x="168" y="572"/>
                      </a:lnTo>
                      <a:lnTo>
                        <a:pt x="230" y="550"/>
                      </a:lnTo>
                      <a:lnTo>
                        <a:pt x="292" y="499"/>
                      </a:lnTo>
                      <a:lnTo>
                        <a:pt x="332" y="428"/>
                      </a:lnTo>
                      <a:lnTo>
                        <a:pt x="368" y="366"/>
                      </a:lnTo>
                      <a:lnTo>
                        <a:pt x="380" y="330"/>
                      </a:lnTo>
                      <a:lnTo>
                        <a:pt x="536" y="276"/>
                      </a:lnTo>
                      <a:lnTo>
                        <a:pt x="570" y="254"/>
                      </a:lnTo>
                      <a:lnTo>
                        <a:pt x="551" y="220"/>
                      </a:lnTo>
                      <a:lnTo>
                        <a:pt x="368" y="27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7369200" y="2790720"/>
                  <a:ext cx="46080" cy="65160"/>
                </a:xfrm>
                <a:custGeom>
                  <a:avLst/>
                  <a:gdLst/>
                  <a:ahLst/>
                  <a:rect l="l" t="t" r="r" b="b"/>
                  <a:pathLst>
                    <a:path w="588" h="1021">
                      <a:moveTo>
                        <a:pt x="197" y="152"/>
                      </a:moveTo>
                      <a:lnTo>
                        <a:pt x="270" y="76"/>
                      </a:lnTo>
                      <a:lnTo>
                        <a:pt x="390" y="3"/>
                      </a:lnTo>
                      <a:lnTo>
                        <a:pt x="445" y="0"/>
                      </a:lnTo>
                      <a:lnTo>
                        <a:pt x="543" y="32"/>
                      </a:lnTo>
                      <a:lnTo>
                        <a:pt x="588" y="80"/>
                      </a:lnTo>
                      <a:lnTo>
                        <a:pt x="588" y="152"/>
                      </a:lnTo>
                      <a:lnTo>
                        <a:pt x="514" y="286"/>
                      </a:lnTo>
                      <a:lnTo>
                        <a:pt x="434" y="391"/>
                      </a:lnTo>
                      <a:lnTo>
                        <a:pt x="401" y="478"/>
                      </a:lnTo>
                      <a:lnTo>
                        <a:pt x="379" y="579"/>
                      </a:lnTo>
                      <a:lnTo>
                        <a:pt x="401" y="677"/>
                      </a:lnTo>
                      <a:lnTo>
                        <a:pt x="423" y="772"/>
                      </a:lnTo>
                      <a:lnTo>
                        <a:pt x="423" y="880"/>
                      </a:lnTo>
                      <a:lnTo>
                        <a:pt x="390" y="946"/>
                      </a:lnTo>
                      <a:lnTo>
                        <a:pt x="317" y="982"/>
                      </a:lnTo>
                      <a:lnTo>
                        <a:pt x="230" y="1021"/>
                      </a:lnTo>
                      <a:lnTo>
                        <a:pt x="149" y="1021"/>
                      </a:lnTo>
                      <a:lnTo>
                        <a:pt x="94" y="992"/>
                      </a:lnTo>
                      <a:lnTo>
                        <a:pt x="22" y="873"/>
                      </a:lnTo>
                      <a:lnTo>
                        <a:pt x="0" y="750"/>
                      </a:lnTo>
                      <a:lnTo>
                        <a:pt x="7" y="591"/>
                      </a:lnTo>
                      <a:lnTo>
                        <a:pt x="62" y="391"/>
                      </a:lnTo>
                      <a:lnTo>
                        <a:pt x="116" y="261"/>
                      </a:lnTo>
                      <a:lnTo>
                        <a:pt x="197" y="15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7372440" y="2843280"/>
                  <a:ext cx="58680" cy="47520"/>
                </a:xfrm>
                <a:custGeom>
                  <a:avLst/>
                  <a:gdLst/>
                  <a:ahLst/>
                  <a:rect l="l" t="t" r="r" b="b"/>
                  <a:pathLst>
                    <a:path w="742" h="761">
                      <a:moveTo>
                        <a:pt x="0" y="72"/>
                      </a:moveTo>
                      <a:lnTo>
                        <a:pt x="62" y="0"/>
                      </a:lnTo>
                      <a:lnTo>
                        <a:pt x="154" y="0"/>
                      </a:lnTo>
                      <a:lnTo>
                        <a:pt x="325" y="18"/>
                      </a:lnTo>
                      <a:lnTo>
                        <a:pt x="527" y="28"/>
                      </a:lnTo>
                      <a:lnTo>
                        <a:pt x="603" y="61"/>
                      </a:lnTo>
                      <a:lnTo>
                        <a:pt x="636" y="104"/>
                      </a:lnTo>
                      <a:lnTo>
                        <a:pt x="643" y="170"/>
                      </a:lnTo>
                      <a:lnTo>
                        <a:pt x="621" y="238"/>
                      </a:lnTo>
                      <a:lnTo>
                        <a:pt x="559" y="343"/>
                      </a:lnTo>
                      <a:lnTo>
                        <a:pt x="478" y="431"/>
                      </a:lnTo>
                      <a:lnTo>
                        <a:pt x="416" y="510"/>
                      </a:lnTo>
                      <a:lnTo>
                        <a:pt x="391" y="571"/>
                      </a:lnTo>
                      <a:lnTo>
                        <a:pt x="372" y="615"/>
                      </a:lnTo>
                      <a:lnTo>
                        <a:pt x="380" y="648"/>
                      </a:lnTo>
                      <a:lnTo>
                        <a:pt x="384" y="669"/>
                      </a:lnTo>
                      <a:lnTo>
                        <a:pt x="457" y="669"/>
                      </a:lnTo>
                      <a:lnTo>
                        <a:pt x="571" y="651"/>
                      </a:lnTo>
                      <a:lnTo>
                        <a:pt x="643" y="651"/>
                      </a:lnTo>
                      <a:lnTo>
                        <a:pt x="720" y="680"/>
                      </a:lnTo>
                      <a:lnTo>
                        <a:pt x="742" y="717"/>
                      </a:lnTo>
                      <a:lnTo>
                        <a:pt x="720" y="749"/>
                      </a:lnTo>
                      <a:lnTo>
                        <a:pt x="687" y="761"/>
                      </a:lnTo>
                      <a:lnTo>
                        <a:pt x="636" y="746"/>
                      </a:lnTo>
                      <a:lnTo>
                        <a:pt x="567" y="705"/>
                      </a:lnTo>
                      <a:lnTo>
                        <a:pt x="493" y="713"/>
                      </a:lnTo>
                      <a:lnTo>
                        <a:pt x="372" y="735"/>
                      </a:lnTo>
                      <a:lnTo>
                        <a:pt x="337" y="727"/>
                      </a:lnTo>
                      <a:lnTo>
                        <a:pt x="318" y="702"/>
                      </a:lnTo>
                      <a:lnTo>
                        <a:pt x="318" y="641"/>
                      </a:lnTo>
                      <a:lnTo>
                        <a:pt x="318" y="553"/>
                      </a:lnTo>
                      <a:lnTo>
                        <a:pt x="369" y="488"/>
                      </a:lnTo>
                      <a:lnTo>
                        <a:pt x="446" y="390"/>
                      </a:lnTo>
                      <a:lnTo>
                        <a:pt x="512" y="304"/>
                      </a:lnTo>
                      <a:lnTo>
                        <a:pt x="556" y="238"/>
                      </a:lnTo>
                      <a:lnTo>
                        <a:pt x="578" y="181"/>
                      </a:lnTo>
                      <a:lnTo>
                        <a:pt x="567" y="148"/>
                      </a:lnTo>
                      <a:lnTo>
                        <a:pt x="537" y="108"/>
                      </a:lnTo>
                      <a:lnTo>
                        <a:pt x="493" y="97"/>
                      </a:lnTo>
                      <a:lnTo>
                        <a:pt x="446" y="97"/>
                      </a:lnTo>
                      <a:lnTo>
                        <a:pt x="340" y="97"/>
                      </a:lnTo>
                      <a:lnTo>
                        <a:pt x="182" y="126"/>
                      </a:lnTo>
                      <a:lnTo>
                        <a:pt x="66" y="137"/>
                      </a:lnTo>
                      <a:lnTo>
                        <a:pt x="19" y="126"/>
                      </a:lnTo>
                      <a:lnTo>
                        <a:pt x="0" y="108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7308720" y="2832120"/>
                  <a:ext cx="74880" cy="46080"/>
                </a:xfrm>
                <a:custGeom>
                  <a:avLst/>
                  <a:gdLst/>
                  <a:ahLst/>
                  <a:rect l="l" t="t" r="r" b="b"/>
                  <a:pathLst>
                    <a:path w="943" h="724">
                      <a:moveTo>
                        <a:pt x="768" y="301"/>
                      </a:moveTo>
                      <a:lnTo>
                        <a:pt x="782" y="206"/>
                      </a:lnTo>
                      <a:lnTo>
                        <a:pt x="837" y="171"/>
                      </a:lnTo>
                      <a:lnTo>
                        <a:pt x="903" y="164"/>
                      </a:lnTo>
                      <a:lnTo>
                        <a:pt x="943" y="206"/>
                      </a:lnTo>
                      <a:lnTo>
                        <a:pt x="925" y="289"/>
                      </a:lnTo>
                      <a:lnTo>
                        <a:pt x="888" y="402"/>
                      </a:lnTo>
                      <a:lnTo>
                        <a:pt x="815" y="529"/>
                      </a:lnTo>
                      <a:lnTo>
                        <a:pt x="723" y="637"/>
                      </a:lnTo>
                      <a:lnTo>
                        <a:pt x="647" y="695"/>
                      </a:lnTo>
                      <a:lnTo>
                        <a:pt x="563" y="724"/>
                      </a:lnTo>
                      <a:lnTo>
                        <a:pt x="482" y="714"/>
                      </a:lnTo>
                      <a:lnTo>
                        <a:pt x="420" y="681"/>
                      </a:lnTo>
                      <a:lnTo>
                        <a:pt x="398" y="627"/>
                      </a:lnTo>
                      <a:lnTo>
                        <a:pt x="373" y="533"/>
                      </a:lnTo>
                      <a:lnTo>
                        <a:pt x="344" y="359"/>
                      </a:lnTo>
                      <a:lnTo>
                        <a:pt x="322" y="240"/>
                      </a:lnTo>
                      <a:lnTo>
                        <a:pt x="322" y="98"/>
                      </a:lnTo>
                      <a:lnTo>
                        <a:pt x="307" y="73"/>
                      </a:lnTo>
                      <a:lnTo>
                        <a:pt x="264" y="66"/>
                      </a:lnTo>
                      <a:lnTo>
                        <a:pt x="212" y="105"/>
                      </a:lnTo>
                      <a:lnTo>
                        <a:pt x="165" y="171"/>
                      </a:lnTo>
                      <a:lnTo>
                        <a:pt x="110" y="206"/>
                      </a:lnTo>
                      <a:lnTo>
                        <a:pt x="26" y="206"/>
                      </a:lnTo>
                      <a:lnTo>
                        <a:pt x="0" y="184"/>
                      </a:lnTo>
                      <a:lnTo>
                        <a:pt x="0" y="149"/>
                      </a:lnTo>
                      <a:lnTo>
                        <a:pt x="37" y="116"/>
                      </a:lnTo>
                      <a:lnTo>
                        <a:pt x="77" y="127"/>
                      </a:lnTo>
                      <a:lnTo>
                        <a:pt x="114" y="120"/>
                      </a:lnTo>
                      <a:lnTo>
                        <a:pt x="180" y="73"/>
                      </a:lnTo>
                      <a:lnTo>
                        <a:pt x="245" y="22"/>
                      </a:lnTo>
                      <a:lnTo>
                        <a:pt x="307" y="8"/>
                      </a:lnTo>
                      <a:lnTo>
                        <a:pt x="395" y="0"/>
                      </a:lnTo>
                      <a:lnTo>
                        <a:pt x="398" y="40"/>
                      </a:lnTo>
                      <a:lnTo>
                        <a:pt x="377" y="83"/>
                      </a:lnTo>
                      <a:lnTo>
                        <a:pt x="373" y="196"/>
                      </a:lnTo>
                      <a:lnTo>
                        <a:pt x="398" y="345"/>
                      </a:lnTo>
                      <a:lnTo>
                        <a:pt x="439" y="489"/>
                      </a:lnTo>
                      <a:lnTo>
                        <a:pt x="475" y="576"/>
                      </a:lnTo>
                      <a:lnTo>
                        <a:pt x="530" y="616"/>
                      </a:lnTo>
                      <a:lnTo>
                        <a:pt x="585" y="616"/>
                      </a:lnTo>
                      <a:lnTo>
                        <a:pt x="640" y="576"/>
                      </a:lnTo>
                      <a:lnTo>
                        <a:pt x="713" y="485"/>
                      </a:lnTo>
                      <a:lnTo>
                        <a:pt x="760" y="355"/>
                      </a:lnTo>
                      <a:lnTo>
                        <a:pt x="768" y="30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7343640" y="2728800"/>
                  <a:ext cx="54000" cy="71640"/>
                </a:xfrm>
                <a:custGeom>
                  <a:avLst/>
                  <a:gdLst/>
                  <a:ahLst/>
                  <a:rect l="l" t="t" r="r" b="b"/>
                  <a:pathLst>
                    <a:path w="665" h="1144">
                      <a:moveTo>
                        <a:pt x="423" y="868"/>
                      </a:moveTo>
                      <a:lnTo>
                        <a:pt x="533" y="978"/>
                      </a:lnTo>
                      <a:lnTo>
                        <a:pt x="577" y="978"/>
                      </a:lnTo>
                      <a:lnTo>
                        <a:pt x="650" y="1021"/>
                      </a:lnTo>
                      <a:lnTo>
                        <a:pt x="665" y="1071"/>
                      </a:lnTo>
                      <a:lnTo>
                        <a:pt x="643" y="1137"/>
                      </a:lnTo>
                      <a:lnTo>
                        <a:pt x="584" y="1144"/>
                      </a:lnTo>
                      <a:lnTo>
                        <a:pt x="510" y="1093"/>
                      </a:lnTo>
                      <a:lnTo>
                        <a:pt x="365" y="956"/>
                      </a:lnTo>
                      <a:lnTo>
                        <a:pt x="270" y="826"/>
                      </a:lnTo>
                      <a:lnTo>
                        <a:pt x="226" y="724"/>
                      </a:lnTo>
                      <a:lnTo>
                        <a:pt x="197" y="550"/>
                      </a:lnTo>
                      <a:lnTo>
                        <a:pt x="197" y="325"/>
                      </a:lnTo>
                      <a:lnTo>
                        <a:pt x="189" y="268"/>
                      </a:lnTo>
                      <a:lnTo>
                        <a:pt x="146" y="224"/>
                      </a:lnTo>
                      <a:lnTo>
                        <a:pt x="21" y="232"/>
                      </a:lnTo>
                      <a:lnTo>
                        <a:pt x="0" y="210"/>
                      </a:lnTo>
                      <a:lnTo>
                        <a:pt x="29" y="195"/>
                      </a:lnTo>
                      <a:lnTo>
                        <a:pt x="117" y="188"/>
                      </a:lnTo>
                      <a:lnTo>
                        <a:pt x="132" y="173"/>
                      </a:lnTo>
                      <a:lnTo>
                        <a:pt x="7" y="100"/>
                      </a:lnTo>
                      <a:lnTo>
                        <a:pt x="7" y="72"/>
                      </a:lnTo>
                      <a:lnTo>
                        <a:pt x="29" y="65"/>
                      </a:lnTo>
                      <a:lnTo>
                        <a:pt x="132" y="122"/>
                      </a:lnTo>
                      <a:lnTo>
                        <a:pt x="154" y="115"/>
                      </a:lnTo>
                      <a:lnTo>
                        <a:pt x="132" y="7"/>
                      </a:lnTo>
                      <a:lnTo>
                        <a:pt x="146" y="0"/>
                      </a:lnTo>
                      <a:lnTo>
                        <a:pt x="161" y="7"/>
                      </a:lnTo>
                      <a:lnTo>
                        <a:pt x="189" y="115"/>
                      </a:lnTo>
                      <a:lnTo>
                        <a:pt x="211" y="122"/>
                      </a:lnTo>
                      <a:lnTo>
                        <a:pt x="270" y="7"/>
                      </a:lnTo>
                      <a:lnTo>
                        <a:pt x="285" y="7"/>
                      </a:lnTo>
                      <a:lnTo>
                        <a:pt x="285" y="43"/>
                      </a:lnTo>
                      <a:lnTo>
                        <a:pt x="248" y="137"/>
                      </a:lnTo>
                      <a:lnTo>
                        <a:pt x="248" y="188"/>
                      </a:lnTo>
                      <a:lnTo>
                        <a:pt x="263" y="253"/>
                      </a:lnTo>
                      <a:lnTo>
                        <a:pt x="255" y="340"/>
                      </a:lnTo>
                      <a:lnTo>
                        <a:pt x="263" y="499"/>
                      </a:lnTo>
                      <a:lnTo>
                        <a:pt x="277" y="601"/>
                      </a:lnTo>
                      <a:lnTo>
                        <a:pt x="314" y="716"/>
                      </a:lnTo>
                      <a:lnTo>
                        <a:pt x="365" y="804"/>
                      </a:lnTo>
                      <a:lnTo>
                        <a:pt x="423" y="86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7408800" y="2735280"/>
                  <a:ext cx="68400" cy="66600"/>
                </a:xfrm>
                <a:custGeom>
                  <a:avLst/>
                  <a:gdLst/>
                  <a:ahLst/>
                  <a:rect l="l" t="t" r="r" b="b"/>
                  <a:pathLst>
                    <a:path w="869" h="1072">
                      <a:moveTo>
                        <a:pt x="15" y="949"/>
                      </a:moveTo>
                      <a:lnTo>
                        <a:pt x="0" y="999"/>
                      </a:lnTo>
                      <a:lnTo>
                        <a:pt x="15" y="1072"/>
                      </a:lnTo>
                      <a:lnTo>
                        <a:pt x="66" y="1072"/>
                      </a:lnTo>
                      <a:lnTo>
                        <a:pt x="220" y="1043"/>
                      </a:lnTo>
                      <a:lnTo>
                        <a:pt x="388" y="985"/>
                      </a:lnTo>
                      <a:lnTo>
                        <a:pt x="526" y="891"/>
                      </a:lnTo>
                      <a:lnTo>
                        <a:pt x="607" y="768"/>
                      </a:lnTo>
                      <a:lnTo>
                        <a:pt x="679" y="558"/>
                      </a:lnTo>
                      <a:lnTo>
                        <a:pt x="701" y="363"/>
                      </a:lnTo>
                      <a:lnTo>
                        <a:pt x="701" y="269"/>
                      </a:lnTo>
                      <a:lnTo>
                        <a:pt x="738" y="211"/>
                      </a:lnTo>
                      <a:lnTo>
                        <a:pt x="803" y="189"/>
                      </a:lnTo>
                      <a:lnTo>
                        <a:pt x="862" y="189"/>
                      </a:lnTo>
                      <a:lnTo>
                        <a:pt x="869" y="160"/>
                      </a:lnTo>
                      <a:lnTo>
                        <a:pt x="782" y="167"/>
                      </a:lnTo>
                      <a:lnTo>
                        <a:pt x="768" y="145"/>
                      </a:lnTo>
                      <a:lnTo>
                        <a:pt x="840" y="66"/>
                      </a:lnTo>
                      <a:lnTo>
                        <a:pt x="825" y="44"/>
                      </a:lnTo>
                      <a:lnTo>
                        <a:pt x="811" y="59"/>
                      </a:lnTo>
                      <a:lnTo>
                        <a:pt x="753" y="116"/>
                      </a:lnTo>
                      <a:lnTo>
                        <a:pt x="738" y="116"/>
                      </a:lnTo>
                      <a:lnTo>
                        <a:pt x="738" y="15"/>
                      </a:lnTo>
                      <a:lnTo>
                        <a:pt x="723" y="0"/>
                      </a:lnTo>
                      <a:lnTo>
                        <a:pt x="701" y="8"/>
                      </a:lnTo>
                      <a:lnTo>
                        <a:pt x="709" y="116"/>
                      </a:lnTo>
                      <a:lnTo>
                        <a:pt x="694" y="123"/>
                      </a:lnTo>
                      <a:lnTo>
                        <a:pt x="635" y="66"/>
                      </a:lnTo>
                      <a:lnTo>
                        <a:pt x="592" y="59"/>
                      </a:lnTo>
                      <a:lnTo>
                        <a:pt x="600" y="88"/>
                      </a:lnTo>
                      <a:lnTo>
                        <a:pt x="665" y="152"/>
                      </a:lnTo>
                      <a:lnTo>
                        <a:pt x="665" y="189"/>
                      </a:lnTo>
                      <a:lnTo>
                        <a:pt x="643" y="262"/>
                      </a:lnTo>
                      <a:lnTo>
                        <a:pt x="643" y="326"/>
                      </a:lnTo>
                      <a:lnTo>
                        <a:pt x="643" y="435"/>
                      </a:lnTo>
                      <a:lnTo>
                        <a:pt x="613" y="573"/>
                      </a:lnTo>
                      <a:lnTo>
                        <a:pt x="585" y="659"/>
                      </a:lnTo>
                      <a:lnTo>
                        <a:pt x="533" y="768"/>
                      </a:lnTo>
                      <a:lnTo>
                        <a:pt x="475" y="855"/>
                      </a:lnTo>
                      <a:lnTo>
                        <a:pt x="432" y="898"/>
                      </a:lnTo>
                      <a:lnTo>
                        <a:pt x="314" y="935"/>
                      </a:lnTo>
                      <a:lnTo>
                        <a:pt x="205" y="949"/>
                      </a:lnTo>
                      <a:lnTo>
                        <a:pt x="95" y="964"/>
                      </a:lnTo>
                      <a:lnTo>
                        <a:pt x="15" y="9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61" name=""/>
            <p:cNvGrpSpPr/>
            <p:nvPr/>
          </p:nvGrpSpPr>
          <p:grpSpPr>
            <a:xfrm>
              <a:off x="6227640" y="3659040"/>
              <a:ext cx="168480" cy="165240"/>
              <a:chOff x="6227640" y="3659040"/>
              <a:chExt cx="168480" cy="165240"/>
            </a:xfrm>
          </p:grpSpPr>
          <p:sp>
            <p:nvSpPr>
              <p:cNvPr id="1062" name=""/>
              <p:cNvSpPr/>
              <p:nvPr/>
            </p:nvSpPr>
            <p:spPr>
              <a:xfrm>
                <a:off x="6227640" y="3659040"/>
                <a:ext cx="168480" cy="163800"/>
              </a:xfrm>
              <a:prstGeom prst="rect">
                <a:avLst/>
              </a:prstGeom>
              <a:solidFill>
                <a:srgbClr val="216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3" name=""/>
              <p:cNvGrpSpPr/>
              <p:nvPr/>
            </p:nvGrpSpPr>
            <p:grpSpPr>
              <a:xfrm>
                <a:off x="6227640" y="3660840"/>
                <a:ext cx="168480" cy="163440"/>
                <a:chOff x="6227640" y="3660840"/>
                <a:chExt cx="168480" cy="163440"/>
              </a:xfrm>
            </p:grpSpPr>
            <p:sp>
              <p:nvSpPr>
                <p:cNvPr id="1064" name=""/>
                <p:cNvSpPr/>
                <p:nvPr/>
              </p:nvSpPr>
              <p:spPr>
                <a:xfrm>
                  <a:off x="6308640" y="3684600"/>
                  <a:ext cx="46080" cy="36360"/>
                </a:xfrm>
                <a:custGeom>
                  <a:avLst/>
                  <a:gdLst/>
                  <a:ahLst/>
                  <a:rect l="l" t="t" r="r" b="b"/>
                  <a:pathLst>
                    <a:path w="570" h="572">
                      <a:moveTo>
                        <a:pt x="369" y="271"/>
                      </a:moveTo>
                      <a:lnTo>
                        <a:pt x="354" y="166"/>
                      </a:lnTo>
                      <a:lnTo>
                        <a:pt x="325" y="73"/>
                      </a:lnTo>
                      <a:lnTo>
                        <a:pt x="270" y="22"/>
                      </a:lnTo>
                      <a:lnTo>
                        <a:pt x="176" y="0"/>
                      </a:lnTo>
                      <a:lnTo>
                        <a:pt x="95" y="22"/>
                      </a:lnTo>
                      <a:lnTo>
                        <a:pt x="18" y="115"/>
                      </a:lnTo>
                      <a:lnTo>
                        <a:pt x="0" y="228"/>
                      </a:lnTo>
                      <a:lnTo>
                        <a:pt x="18" y="347"/>
                      </a:lnTo>
                      <a:lnTo>
                        <a:pt x="48" y="420"/>
                      </a:lnTo>
                      <a:lnTo>
                        <a:pt x="84" y="496"/>
                      </a:lnTo>
                      <a:lnTo>
                        <a:pt x="124" y="547"/>
                      </a:lnTo>
                      <a:lnTo>
                        <a:pt x="168" y="572"/>
                      </a:lnTo>
                      <a:lnTo>
                        <a:pt x="230" y="550"/>
                      </a:lnTo>
                      <a:lnTo>
                        <a:pt x="292" y="499"/>
                      </a:lnTo>
                      <a:lnTo>
                        <a:pt x="332" y="427"/>
                      </a:lnTo>
                      <a:lnTo>
                        <a:pt x="369" y="366"/>
                      </a:lnTo>
                      <a:lnTo>
                        <a:pt x="380" y="330"/>
                      </a:lnTo>
                      <a:lnTo>
                        <a:pt x="537" y="275"/>
                      </a:lnTo>
                      <a:lnTo>
                        <a:pt x="570" y="254"/>
                      </a:lnTo>
                      <a:lnTo>
                        <a:pt x="551" y="220"/>
                      </a:lnTo>
                      <a:lnTo>
                        <a:pt x="369" y="27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6286680" y="3724200"/>
                  <a:ext cx="47520" cy="65160"/>
                </a:xfrm>
                <a:custGeom>
                  <a:avLst/>
                  <a:gdLst/>
                  <a:ahLst/>
                  <a:rect l="l" t="t" r="r" b="b"/>
                  <a:pathLst>
                    <a:path w="588" h="1021">
                      <a:moveTo>
                        <a:pt x="198" y="152"/>
                      </a:moveTo>
                      <a:lnTo>
                        <a:pt x="270" y="76"/>
                      </a:lnTo>
                      <a:lnTo>
                        <a:pt x="391" y="3"/>
                      </a:lnTo>
                      <a:lnTo>
                        <a:pt x="445" y="0"/>
                      </a:lnTo>
                      <a:lnTo>
                        <a:pt x="544" y="32"/>
                      </a:lnTo>
                      <a:lnTo>
                        <a:pt x="588" y="80"/>
                      </a:lnTo>
                      <a:lnTo>
                        <a:pt x="588" y="152"/>
                      </a:lnTo>
                      <a:lnTo>
                        <a:pt x="515" y="286"/>
                      </a:lnTo>
                      <a:lnTo>
                        <a:pt x="435" y="391"/>
                      </a:lnTo>
                      <a:lnTo>
                        <a:pt x="401" y="478"/>
                      </a:lnTo>
                      <a:lnTo>
                        <a:pt x="379" y="579"/>
                      </a:lnTo>
                      <a:lnTo>
                        <a:pt x="401" y="677"/>
                      </a:lnTo>
                      <a:lnTo>
                        <a:pt x="423" y="772"/>
                      </a:lnTo>
                      <a:lnTo>
                        <a:pt x="423" y="880"/>
                      </a:lnTo>
                      <a:lnTo>
                        <a:pt x="391" y="945"/>
                      </a:lnTo>
                      <a:lnTo>
                        <a:pt x="317" y="982"/>
                      </a:lnTo>
                      <a:lnTo>
                        <a:pt x="230" y="1021"/>
                      </a:lnTo>
                      <a:lnTo>
                        <a:pt x="149" y="1021"/>
                      </a:lnTo>
                      <a:lnTo>
                        <a:pt x="95" y="992"/>
                      </a:lnTo>
                      <a:lnTo>
                        <a:pt x="22" y="873"/>
                      </a:lnTo>
                      <a:lnTo>
                        <a:pt x="0" y="750"/>
                      </a:lnTo>
                      <a:lnTo>
                        <a:pt x="8" y="591"/>
                      </a:lnTo>
                      <a:lnTo>
                        <a:pt x="62" y="391"/>
                      </a:lnTo>
                      <a:lnTo>
                        <a:pt x="117" y="261"/>
                      </a:lnTo>
                      <a:lnTo>
                        <a:pt x="198" y="15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6291360" y="3776760"/>
                  <a:ext cx="58680" cy="47520"/>
                </a:xfrm>
                <a:custGeom>
                  <a:avLst/>
                  <a:gdLst/>
                  <a:ahLst/>
                  <a:rect l="l" t="t" r="r" b="b"/>
                  <a:pathLst>
                    <a:path w="742" h="760">
                      <a:moveTo>
                        <a:pt x="0" y="72"/>
                      </a:moveTo>
                      <a:lnTo>
                        <a:pt x="62" y="0"/>
                      </a:lnTo>
                      <a:lnTo>
                        <a:pt x="155" y="0"/>
                      </a:lnTo>
                      <a:lnTo>
                        <a:pt x="326" y="18"/>
                      </a:lnTo>
                      <a:lnTo>
                        <a:pt x="527" y="28"/>
                      </a:lnTo>
                      <a:lnTo>
                        <a:pt x="604" y="61"/>
                      </a:lnTo>
                      <a:lnTo>
                        <a:pt x="636" y="104"/>
                      </a:lnTo>
                      <a:lnTo>
                        <a:pt x="644" y="169"/>
                      </a:lnTo>
                      <a:lnTo>
                        <a:pt x="622" y="238"/>
                      </a:lnTo>
                      <a:lnTo>
                        <a:pt x="560" y="343"/>
                      </a:lnTo>
                      <a:lnTo>
                        <a:pt x="479" y="431"/>
                      </a:lnTo>
                      <a:lnTo>
                        <a:pt x="417" y="510"/>
                      </a:lnTo>
                      <a:lnTo>
                        <a:pt x="392" y="571"/>
                      </a:lnTo>
                      <a:lnTo>
                        <a:pt x="373" y="615"/>
                      </a:lnTo>
                      <a:lnTo>
                        <a:pt x="380" y="648"/>
                      </a:lnTo>
                      <a:lnTo>
                        <a:pt x="384" y="669"/>
                      </a:lnTo>
                      <a:lnTo>
                        <a:pt x="458" y="669"/>
                      </a:lnTo>
                      <a:lnTo>
                        <a:pt x="571" y="651"/>
                      </a:lnTo>
                      <a:lnTo>
                        <a:pt x="644" y="651"/>
                      </a:lnTo>
                      <a:lnTo>
                        <a:pt x="720" y="680"/>
                      </a:lnTo>
                      <a:lnTo>
                        <a:pt x="742" y="717"/>
                      </a:lnTo>
                      <a:lnTo>
                        <a:pt x="720" y="749"/>
                      </a:lnTo>
                      <a:lnTo>
                        <a:pt x="688" y="760"/>
                      </a:lnTo>
                      <a:lnTo>
                        <a:pt x="636" y="746"/>
                      </a:lnTo>
                      <a:lnTo>
                        <a:pt x="567" y="705"/>
                      </a:lnTo>
                      <a:lnTo>
                        <a:pt x="493" y="713"/>
                      </a:lnTo>
                      <a:lnTo>
                        <a:pt x="373" y="734"/>
                      </a:lnTo>
                      <a:lnTo>
                        <a:pt x="337" y="727"/>
                      </a:lnTo>
                      <a:lnTo>
                        <a:pt x="318" y="702"/>
                      </a:lnTo>
                      <a:lnTo>
                        <a:pt x="318" y="641"/>
                      </a:lnTo>
                      <a:lnTo>
                        <a:pt x="318" y="553"/>
                      </a:lnTo>
                      <a:lnTo>
                        <a:pt x="370" y="488"/>
                      </a:lnTo>
                      <a:lnTo>
                        <a:pt x="446" y="390"/>
                      </a:lnTo>
                      <a:lnTo>
                        <a:pt x="512" y="304"/>
                      </a:lnTo>
                      <a:lnTo>
                        <a:pt x="556" y="238"/>
                      </a:lnTo>
                      <a:lnTo>
                        <a:pt x="579" y="181"/>
                      </a:lnTo>
                      <a:lnTo>
                        <a:pt x="567" y="148"/>
                      </a:lnTo>
                      <a:lnTo>
                        <a:pt x="538" y="108"/>
                      </a:lnTo>
                      <a:lnTo>
                        <a:pt x="493" y="97"/>
                      </a:lnTo>
                      <a:lnTo>
                        <a:pt x="446" y="97"/>
                      </a:lnTo>
                      <a:lnTo>
                        <a:pt x="340" y="97"/>
                      </a:lnTo>
                      <a:lnTo>
                        <a:pt x="183" y="126"/>
                      </a:lnTo>
                      <a:lnTo>
                        <a:pt x="66" y="137"/>
                      </a:lnTo>
                      <a:lnTo>
                        <a:pt x="19" y="126"/>
                      </a:lnTo>
                      <a:lnTo>
                        <a:pt x="0" y="108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6227640" y="3765600"/>
                  <a:ext cx="74880" cy="46080"/>
                </a:xfrm>
                <a:custGeom>
                  <a:avLst/>
                  <a:gdLst/>
                  <a:ahLst/>
                  <a:rect l="l" t="t" r="r" b="b"/>
                  <a:pathLst>
                    <a:path w="942" h="724">
                      <a:moveTo>
                        <a:pt x="767" y="301"/>
                      </a:moveTo>
                      <a:lnTo>
                        <a:pt x="782" y="206"/>
                      </a:lnTo>
                      <a:lnTo>
                        <a:pt x="836" y="171"/>
                      </a:lnTo>
                      <a:lnTo>
                        <a:pt x="902" y="163"/>
                      </a:lnTo>
                      <a:lnTo>
                        <a:pt x="942" y="206"/>
                      </a:lnTo>
                      <a:lnTo>
                        <a:pt x="924" y="289"/>
                      </a:lnTo>
                      <a:lnTo>
                        <a:pt x="888" y="402"/>
                      </a:lnTo>
                      <a:lnTo>
                        <a:pt x="814" y="529"/>
                      </a:lnTo>
                      <a:lnTo>
                        <a:pt x="723" y="637"/>
                      </a:lnTo>
                      <a:lnTo>
                        <a:pt x="646" y="695"/>
                      </a:lnTo>
                      <a:lnTo>
                        <a:pt x="562" y="724"/>
                      </a:lnTo>
                      <a:lnTo>
                        <a:pt x="482" y="714"/>
                      </a:lnTo>
                      <a:lnTo>
                        <a:pt x="420" y="681"/>
                      </a:lnTo>
                      <a:lnTo>
                        <a:pt x="398" y="626"/>
                      </a:lnTo>
                      <a:lnTo>
                        <a:pt x="372" y="533"/>
                      </a:lnTo>
                      <a:lnTo>
                        <a:pt x="343" y="359"/>
                      </a:lnTo>
                      <a:lnTo>
                        <a:pt x="321" y="239"/>
                      </a:lnTo>
                      <a:lnTo>
                        <a:pt x="321" y="98"/>
                      </a:lnTo>
                      <a:lnTo>
                        <a:pt x="306" y="73"/>
                      </a:lnTo>
                      <a:lnTo>
                        <a:pt x="263" y="66"/>
                      </a:lnTo>
                      <a:lnTo>
                        <a:pt x="212" y="105"/>
                      </a:lnTo>
                      <a:lnTo>
                        <a:pt x="165" y="171"/>
                      </a:lnTo>
                      <a:lnTo>
                        <a:pt x="109" y="206"/>
                      </a:lnTo>
                      <a:lnTo>
                        <a:pt x="25" y="206"/>
                      </a:lnTo>
                      <a:lnTo>
                        <a:pt x="0" y="184"/>
                      </a:lnTo>
                      <a:lnTo>
                        <a:pt x="0" y="149"/>
                      </a:lnTo>
                      <a:lnTo>
                        <a:pt x="37" y="116"/>
                      </a:lnTo>
                      <a:lnTo>
                        <a:pt x="76" y="127"/>
                      </a:lnTo>
                      <a:lnTo>
                        <a:pt x="113" y="120"/>
                      </a:lnTo>
                      <a:lnTo>
                        <a:pt x="179" y="73"/>
                      </a:lnTo>
                      <a:lnTo>
                        <a:pt x="244" y="22"/>
                      </a:lnTo>
                      <a:lnTo>
                        <a:pt x="306" y="7"/>
                      </a:lnTo>
                      <a:lnTo>
                        <a:pt x="394" y="0"/>
                      </a:lnTo>
                      <a:lnTo>
                        <a:pt x="398" y="40"/>
                      </a:lnTo>
                      <a:lnTo>
                        <a:pt x="377" y="83"/>
                      </a:lnTo>
                      <a:lnTo>
                        <a:pt x="372" y="196"/>
                      </a:lnTo>
                      <a:lnTo>
                        <a:pt x="398" y="344"/>
                      </a:lnTo>
                      <a:lnTo>
                        <a:pt x="438" y="489"/>
                      </a:lnTo>
                      <a:lnTo>
                        <a:pt x="474" y="575"/>
                      </a:lnTo>
                      <a:lnTo>
                        <a:pt x="530" y="616"/>
                      </a:lnTo>
                      <a:lnTo>
                        <a:pt x="584" y="616"/>
                      </a:lnTo>
                      <a:lnTo>
                        <a:pt x="639" y="575"/>
                      </a:lnTo>
                      <a:lnTo>
                        <a:pt x="712" y="485"/>
                      </a:lnTo>
                      <a:lnTo>
                        <a:pt x="760" y="355"/>
                      </a:lnTo>
                      <a:lnTo>
                        <a:pt x="767" y="30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6262560" y="3660840"/>
                  <a:ext cx="52560" cy="73080"/>
                </a:xfrm>
                <a:custGeom>
                  <a:avLst/>
                  <a:gdLst/>
                  <a:ahLst/>
                  <a:rect l="l" t="t" r="r" b="b"/>
                  <a:pathLst>
                    <a:path w="664" h="1145">
                      <a:moveTo>
                        <a:pt x="423" y="869"/>
                      </a:moveTo>
                      <a:lnTo>
                        <a:pt x="532" y="978"/>
                      </a:lnTo>
                      <a:lnTo>
                        <a:pt x="576" y="978"/>
                      </a:lnTo>
                      <a:lnTo>
                        <a:pt x="649" y="1022"/>
                      </a:lnTo>
                      <a:lnTo>
                        <a:pt x="664" y="1072"/>
                      </a:lnTo>
                      <a:lnTo>
                        <a:pt x="642" y="1138"/>
                      </a:lnTo>
                      <a:lnTo>
                        <a:pt x="583" y="1145"/>
                      </a:lnTo>
                      <a:lnTo>
                        <a:pt x="510" y="1094"/>
                      </a:lnTo>
                      <a:lnTo>
                        <a:pt x="364" y="957"/>
                      </a:lnTo>
                      <a:lnTo>
                        <a:pt x="270" y="827"/>
                      </a:lnTo>
                      <a:lnTo>
                        <a:pt x="225" y="725"/>
                      </a:lnTo>
                      <a:lnTo>
                        <a:pt x="196" y="551"/>
                      </a:lnTo>
                      <a:lnTo>
                        <a:pt x="196" y="326"/>
                      </a:lnTo>
                      <a:lnTo>
                        <a:pt x="189" y="269"/>
                      </a:lnTo>
                      <a:lnTo>
                        <a:pt x="146" y="225"/>
                      </a:lnTo>
                      <a:lnTo>
                        <a:pt x="21" y="232"/>
                      </a:lnTo>
                      <a:lnTo>
                        <a:pt x="0" y="211"/>
                      </a:lnTo>
                      <a:lnTo>
                        <a:pt x="28" y="196"/>
                      </a:lnTo>
                      <a:lnTo>
                        <a:pt x="116" y="189"/>
                      </a:lnTo>
                      <a:lnTo>
                        <a:pt x="131" y="174"/>
                      </a:lnTo>
                      <a:lnTo>
                        <a:pt x="6" y="101"/>
                      </a:lnTo>
                      <a:lnTo>
                        <a:pt x="6" y="73"/>
                      </a:lnTo>
                      <a:lnTo>
                        <a:pt x="28" y="66"/>
                      </a:lnTo>
                      <a:lnTo>
                        <a:pt x="131" y="123"/>
                      </a:lnTo>
                      <a:lnTo>
                        <a:pt x="153" y="116"/>
                      </a:lnTo>
                      <a:lnTo>
                        <a:pt x="131" y="8"/>
                      </a:lnTo>
                      <a:lnTo>
                        <a:pt x="146" y="0"/>
                      </a:lnTo>
                      <a:lnTo>
                        <a:pt x="160" y="8"/>
                      </a:lnTo>
                      <a:lnTo>
                        <a:pt x="189" y="116"/>
                      </a:lnTo>
                      <a:lnTo>
                        <a:pt x="211" y="123"/>
                      </a:lnTo>
                      <a:lnTo>
                        <a:pt x="270" y="8"/>
                      </a:lnTo>
                      <a:lnTo>
                        <a:pt x="284" y="8"/>
                      </a:lnTo>
                      <a:lnTo>
                        <a:pt x="284" y="44"/>
                      </a:lnTo>
                      <a:lnTo>
                        <a:pt x="248" y="138"/>
                      </a:lnTo>
                      <a:lnTo>
                        <a:pt x="248" y="189"/>
                      </a:lnTo>
                      <a:lnTo>
                        <a:pt x="262" y="254"/>
                      </a:lnTo>
                      <a:lnTo>
                        <a:pt x="255" y="341"/>
                      </a:lnTo>
                      <a:lnTo>
                        <a:pt x="262" y="500"/>
                      </a:lnTo>
                      <a:lnTo>
                        <a:pt x="277" y="602"/>
                      </a:lnTo>
                      <a:lnTo>
                        <a:pt x="314" y="717"/>
                      </a:lnTo>
                      <a:lnTo>
                        <a:pt x="364" y="805"/>
                      </a:lnTo>
                      <a:lnTo>
                        <a:pt x="423" y="8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6326280" y="3668760"/>
                  <a:ext cx="69840" cy="66600"/>
                </a:xfrm>
                <a:custGeom>
                  <a:avLst/>
                  <a:gdLst/>
                  <a:ahLst/>
                  <a:rect l="l" t="t" r="r" b="b"/>
                  <a:pathLst>
                    <a:path w="869" h="1072">
                      <a:moveTo>
                        <a:pt x="14" y="949"/>
                      </a:moveTo>
                      <a:lnTo>
                        <a:pt x="0" y="999"/>
                      </a:lnTo>
                      <a:lnTo>
                        <a:pt x="14" y="1072"/>
                      </a:lnTo>
                      <a:lnTo>
                        <a:pt x="66" y="1072"/>
                      </a:lnTo>
                      <a:lnTo>
                        <a:pt x="219" y="1043"/>
                      </a:lnTo>
                      <a:lnTo>
                        <a:pt x="387" y="985"/>
                      </a:lnTo>
                      <a:lnTo>
                        <a:pt x="526" y="891"/>
                      </a:lnTo>
                      <a:lnTo>
                        <a:pt x="606" y="768"/>
                      </a:lnTo>
                      <a:lnTo>
                        <a:pt x="679" y="558"/>
                      </a:lnTo>
                      <a:lnTo>
                        <a:pt x="701" y="362"/>
                      </a:lnTo>
                      <a:lnTo>
                        <a:pt x="701" y="269"/>
                      </a:lnTo>
                      <a:lnTo>
                        <a:pt x="738" y="211"/>
                      </a:lnTo>
                      <a:lnTo>
                        <a:pt x="803" y="189"/>
                      </a:lnTo>
                      <a:lnTo>
                        <a:pt x="861" y="189"/>
                      </a:lnTo>
                      <a:lnTo>
                        <a:pt x="869" y="160"/>
                      </a:lnTo>
                      <a:lnTo>
                        <a:pt x="782" y="167"/>
                      </a:lnTo>
                      <a:lnTo>
                        <a:pt x="767" y="145"/>
                      </a:lnTo>
                      <a:lnTo>
                        <a:pt x="839" y="66"/>
                      </a:lnTo>
                      <a:lnTo>
                        <a:pt x="825" y="44"/>
                      </a:lnTo>
                      <a:lnTo>
                        <a:pt x="810" y="59"/>
                      </a:lnTo>
                      <a:lnTo>
                        <a:pt x="752" y="116"/>
                      </a:lnTo>
                      <a:lnTo>
                        <a:pt x="738" y="116"/>
                      </a:lnTo>
                      <a:lnTo>
                        <a:pt x="738" y="15"/>
                      </a:lnTo>
                      <a:lnTo>
                        <a:pt x="723" y="0"/>
                      </a:lnTo>
                      <a:lnTo>
                        <a:pt x="701" y="8"/>
                      </a:lnTo>
                      <a:lnTo>
                        <a:pt x="708" y="116"/>
                      </a:lnTo>
                      <a:lnTo>
                        <a:pt x="693" y="123"/>
                      </a:lnTo>
                      <a:lnTo>
                        <a:pt x="635" y="66"/>
                      </a:lnTo>
                      <a:lnTo>
                        <a:pt x="592" y="59"/>
                      </a:lnTo>
                      <a:lnTo>
                        <a:pt x="599" y="88"/>
                      </a:lnTo>
                      <a:lnTo>
                        <a:pt x="664" y="152"/>
                      </a:lnTo>
                      <a:lnTo>
                        <a:pt x="664" y="189"/>
                      </a:lnTo>
                      <a:lnTo>
                        <a:pt x="642" y="261"/>
                      </a:lnTo>
                      <a:lnTo>
                        <a:pt x="642" y="326"/>
                      </a:lnTo>
                      <a:lnTo>
                        <a:pt x="642" y="435"/>
                      </a:lnTo>
                      <a:lnTo>
                        <a:pt x="613" y="573"/>
                      </a:lnTo>
                      <a:lnTo>
                        <a:pt x="584" y="659"/>
                      </a:lnTo>
                      <a:lnTo>
                        <a:pt x="533" y="768"/>
                      </a:lnTo>
                      <a:lnTo>
                        <a:pt x="474" y="855"/>
                      </a:lnTo>
                      <a:lnTo>
                        <a:pt x="431" y="898"/>
                      </a:lnTo>
                      <a:lnTo>
                        <a:pt x="314" y="935"/>
                      </a:lnTo>
                      <a:lnTo>
                        <a:pt x="204" y="949"/>
                      </a:lnTo>
                      <a:lnTo>
                        <a:pt x="94" y="964"/>
                      </a:lnTo>
                      <a:lnTo>
                        <a:pt x="14" y="9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85840" y="193320"/>
            <a:ext cx="66974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ML Concep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151920" y="1104480"/>
            <a:ext cx="4343400" cy="524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53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2I is Moving to Web Technolog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Web Technology Not Machine Processa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ed the Semantic Web - Machine readability with very rich semantics to support agents for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66760">
              <a:lnSpc>
                <a:spcPct val="85000"/>
              </a:lnSpc>
              <a:spcBef>
                <a:spcPts val="601"/>
              </a:spcBef>
              <a:buClr>
                <a:srgbClr val="0033cc"/>
              </a:buClr>
              <a:buSzPct val="8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lligence Analysis and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66760">
              <a:lnSpc>
                <a:spcPct val="85000"/>
              </a:lnSpc>
              <a:spcBef>
                <a:spcPts val="601"/>
              </a:spcBef>
              <a:buClr>
                <a:srgbClr val="0033cc"/>
              </a:buClr>
              <a:buSzPct val="8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litary Planning and Oper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66760">
              <a:lnSpc>
                <a:spcPct val="85000"/>
              </a:lnSpc>
              <a:spcBef>
                <a:spcPts val="601"/>
              </a:spcBef>
              <a:buClr>
                <a:srgbClr val="0033cc"/>
              </a:buClr>
              <a:buSzPct val="8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ftware C4ISR Ag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66760">
              <a:lnSpc>
                <a:spcPct val="85000"/>
              </a:lnSpc>
              <a:spcBef>
                <a:spcPts val="601"/>
              </a:spcBef>
              <a:buClr>
                <a:srgbClr val="0033cc"/>
              </a:buClr>
              <a:buSzPct val="8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s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AML is building the language and tools to realize the bold vision of the Semantic We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66760">
              <a:lnSpc>
                <a:spcPct val="85000"/>
              </a:lnSpc>
              <a:spcBef>
                <a:spcPts val="601"/>
              </a:spcBef>
              <a:buClr>
                <a:srgbClr val="008000"/>
              </a:buClr>
              <a:buSzPct val="8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Language to describe in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66760">
              <a:lnSpc>
                <a:spcPct val="85000"/>
              </a:lnSpc>
              <a:spcBef>
                <a:spcPts val="601"/>
              </a:spcBef>
              <a:buClr>
                <a:srgbClr val="008000"/>
              </a:buClr>
              <a:buSzPct val="8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Tools for users and develop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66760">
              <a:lnSpc>
                <a:spcPct val="85000"/>
              </a:lnSpc>
              <a:spcBef>
                <a:spcPts val="601"/>
              </a:spcBef>
              <a:buClr>
                <a:srgbClr val="008000"/>
              </a:buClr>
              <a:buSzPct val="8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Transition activit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66760">
              <a:lnSpc>
                <a:spcPct val="85000"/>
              </a:lnSpc>
              <a:spcBef>
                <a:spcPts val="601"/>
              </a:spcBef>
              <a:buClr>
                <a:srgbClr val="008000"/>
              </a:buClr>
              <a:buSzPct val="8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Experimentation/Metric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2" name="" descr=""/>
          <p:cNvPicPr/>
          <p:nvPr/>
        </p:nvPicPr>
        <p:blipFill>
          <a:blip r:embed="rId2"/>
          <a:stretch/>
        </p:blipFill>
        <p:spPr>
          <a:xfrm>
            <a:off x="4772160" y="1087560"/>
            <a:ext cx="3035160" cy="2262240"/>
          </a:xfrm>
          <a:prstGeom prst="rect">
            <a:avLst/>
          </a:prstGeom>
          <a:ln w="0">
            <a:noFill/>
          </a:ln>
        </p:spPr>
      </p:pic>
      <p:grpSp>
        <p:nvGrpSpPr>
          <p:cNvPr id="1073" name=""/>
          <p:cNvGrpSpPr/>
          <p:nvPr/>
        </p:nvGrpSpPr>
        <p:grpSpPr>
          <a:xfrm>
            <a:off x="5119560" y="3884760"/>
            <a:ext cx="3784320" cy="2436480"/>
            <a:chOff x="5119560" y="3884760"/>
            <a:chExt cx="3784320" cy="2436480"/>
          </a:xfrm>
        </p:grpSpPr>
        <p:sp>
          <p:nvSpPr>
            <p:cNvPr id="1074" name=""/>
            <p:cNvSpPr/>
            <p:nvPr/>
          </p:nvSpPr>
          <p:spPr>
            <a:xfrm>
              <a:off x="5119560" y="3884760"/>
              <a:ext cx="3784320" cy="2436480"/>
            </a:xfrm>
            <a:prstGeom prst="roundRect">
              <a:avLst>
                <a:gd name="adj" fmla="val 16667"/>
              </a:avLst>
            </a:prstGeom>
            <a:solidFill>
              <a:srgbClr val="b1cf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408280" y="4237200"/>
              <a:ext cx="3279960" cy="1927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44956" dir="2270252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253840" y="3926160"/>
              <a:ext cx="152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hat is Al Qaeda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608800" y="4903560"/>
              <a:ext cx="247572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25360" indent="-225360">
                <a:lnSpc>
                  <a:spcPct val="100000"/>
                </a:lnSpc>
                <a:buClr>
                  <a:srgbClr val="ffffff"/>
                </a:buClr>
                <a:buSzPct val="65000"/>
                <a:buFont typeface="Monotype Sort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mbersh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5360" indent="-225360">
                <a:lnSpc>
                  <a:spcPct val="100000"/>
                </a:lnSpc>
                <a:buClr>
                  <a:srgbClr val="ffffff"/>
                </a:buClr>
                <a:buSzPct val="65000"/>
                <a:buFont typeface="Monotype Sort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ca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5360" indent="-225360">
                <a:lnSpc>
                  <a:spcPct val="100000"/>
                </a:lnSpc>
                <a:buClr>
                  <a:srgbClr val="ffffff"/>
                </a:buClr>
                <a:buSzPct val="65000"/>
                <a:buFont typeface="Monotype Sort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ructu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5360" indent="-225360">
                <a:lnSpc>
                  <a:spcPct val="100000"/>
                </a:lnSpc>
                <a:buClr>
                  <a:srgbClr val="ffffff"/>
                </a:buClr>
                <a:buSzPct val="65000"/>
                <a:buFont typeface="Monotype Sort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nan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5360" indent="-225360">
                <a:lnSpc>
                  <a:spcPct val="100000"/>
                </a:lnSpc>
                <a:buClr>
                  <a:srgbClr val="ffffff"/>
                </a:buClr>
                <a:buSzPct val="65000"/>
                <a:buFont typeface="Monotype Sort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ac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5360" indent="-225360">
                <a:lnSpc>
                  <a:spcPct val="100000"/>
                </a:lnSpc>
                <a:buClr>
                  <a:srgbClr val="ffffff"/>
                </a:buClr>
                <a:buSzPct val="65000"/>
                <a:buFont typeface="Monotype Sort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ther terrorist organiza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448600" y="4358520"/>
              <a:ext cx="3224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 terrorist organiz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ould you like additional information on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9" name=""/>
          <p:cNvSpPr/>
          <p:nvPr/>
        </p:nvSpPr>
        <p:spPr>
          <a:xfrm>
            <a:off x="5691240" y="3018600"/>
            <a:ext cx="1940040" cy="64332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39,800 Matches on 6 March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0" name=""/>
          <p:cNvGrpSpPr/>
          <p:nvPr/>
        </p:nvGrpSpPr>
        <p:grpSpPr>
          <a:xfrm>
            <a:off x="6688080" y="2237040"/>
            <a:ext cx="1873440" cy="2125440"/>
            <a:chOff x="6688080" y="2237040"/>
            <a:chExt cx="1873440" cy="2125440"/>
          </a:xfrm>
        </p:grpSpPr>
        <p:sp>
          <p:nvSpPr>
            <p:cNvPr id="1081" name=""/>
            <p:cNvSpPr/>
            <p:nvPr/>
          </p:nvSpPr>
          <p:spPr>
            <a:xfrm flipV="1" rot="8977200">
              <a:off x="7071480" y="2394000"/>
              <a:ext cx="1099080" cy="1814760"/>
            </a:xfrm>
            <a:custGeom>
              <a:avLst/>
              <a:gdLst/>
              <a:ahLst/>
              <a:rect l="l" t="t" r="r" b="b"/>
              <a:pathLst>
                <a:path w="2618" h="3812">
                  <a:moveTo>
                    <a:pt x="2618" y="0"/>
                  </a:moveTo>
                  <a:lnTo>
                    <a:pt x="2450" y="0"/>
                  </a:lnTo>
                  <a:lnTo>
                    <a:pt x="2324" y="66"/>
                  </a:lnTo>
                  <a:lnTo>
                    <a:pt x="2223" y="120"/>
                  </a:lnTo>
                  <a:lnTo>
                    <a:pt x="2097" y="197"/>
                  </a:lnTo>
                  <a:lnTo>
                    <a:pt x="1959" y="293"/>
                  </a:lnTo>
                  <a:lnTo>
                    <a:pt x="1866" y="383"/>
                  </a:lnTo>
                  <a:lnTo>
                    <a:pt x="1726" y="500"/>
                  </a:lnTo>
                  <a:lnTo>
                    <a:pt x="1592" y="620"/>
                  </a:lnTo>
                  <a:lnTo>
                    <a:pt x="1470" y="740"/>
                  </a:lnTo>
                  <a:lnTo>
                    <a:pt x="1323" y="895"/>
                  </a:lnTo>
                  <a:lnTo>
                    <a:pt x="1223" y="1017"/>
                  </a:lnTo>
                  <a:lnTo>
                    <a:pt x="1101" y="1184"/>
                  </a:lnTo>
                  <a:lnTo>
                    <a:pt x="968" y="1370"/>
                  </a:lnTo>
                  <a:lnTo>
                    <a:pt x="846" y="1555"/>
                  </a:lnTo>
                  <a:lnTo>
                    <a:pt x="760" y="1699"/>
                  </a:lnTo>
                  <a:lnTo>
                    <a:pt x="674" y="1902"/>
                  </a:lnTo>
                  <a:lnTo>
                    <a:pt x="612" y="2072"/>
                  </a:lnTo>
                  <a:lnTo>
                    <a:pt x="565" y="2251"/>
                  </a:lnTo>
                  <a:lnTo>
                    <a:pt x="529" y="2443"/>
                  </a:lnTo>
                  <a:lnTo>
                    <a:pt x="523" y="2554"/>
                  </a:lnTo>
                  <a:lnTo>
                    <a:pt x="529" y="2688"/>
                  </a:lnTo>
                  <a:lnTo>
                    <a:pt x="541" y="2789"/>
                  </a:lnTo>
                  <a:lnTo>
                    <a:pt x="553" y="2889"/>
                  </a:lnTo>
                  <a:lnTo>
                    <a:pt x="577" y="2971"/>
                  </a:lnTo>
                  <a:lnTo>
                    <a:pt x="0" y="2971"/>
                  </a:lnTo>
                  <a:lnTo>
                    <a:pt x="146" y="3071"/>
                  </a:lnTo>
                  <a:lnTo>
                    <a:pt x="313" y="3196"/>
                  </a:lnTo>
                  <a:lnTo>
                    <a:pt x="481" y="3328"/>
                  </a:lnTo>
                  <a:lnTo>
                    <a:pt x="636" y="3483"/>
                  </a:lnTo>
                  <a:lnTo>
                    <a:pt x="726" y="3603"/>
                  </a:lnTo>
                  <a:lnTo>
                    <a:pt x="816" y="3812"/>
                  </a:lnTo>
                  <a:lnTo>
                    <a:pt x="944" y="3810"/>
                  </a:lnTo>
                  <a:lnTo>
                    <a:pt x="1028" y="3641"/>
                  </a:lnTo>
                  <a:lnTo>
                    <a:pt x="1123" y="3461"/>
                  </a:lnTo>
                  <a:lnTo>
                    <a:pt x="1263" y="3282"/>
                  </a:lnTo>
                  <a:lnTo>
                    <a:pt x="1397" y="3138"/>
                  </a:lnTo>
                  <a:lnTo>
                    <a:pt x="1482" y="3055"/>
                  </a:lnTo>
                  <a:lnTo>
                    <a:pt x="1622" y="2965"/>
                  </a:lnTo>
                  <a:lnTo>
                    <a:pt x="1131" y="2965"/>
                  </a:lnTo>
                  <a:lnTo>
                    <a:pt x="1101" y="2789"/>
                  </a:lnTo>
                  <a:lnTo>
                    <a:pt x="1089" y="2634"/>
                  </a:lnTo>
                  <a:lnTo>
                    <a:pt x="1101" y="2454"/>
                  </a:lnTo>
                  <a:lnTo>
                    <a:pt x="1125" y="2275"/>
                  </a:lnTo>
                  <a:lnTo>
                    <a:pt x="1175" y="2072"/>
                  </a:lnTo>
                  <a:lnTo>
                    <a:pt x="1223" y="1890"/>
                  </a:lnTo>
                  <a:lnTo>
                    <a:pt x="1317" y="1633"/>
                  </a:lnTo>
                  <a:lnTo>
                    <a:pt x="1409" y="1424"/>
                  </a:lnTo>
                  <a:lnTo>
                    <a:pt x="1506" y="1238"/>
                  </a:lnTo>
                  <a:lnTo>
                    <a:pt x="1628" y="1041"/>
                  </a:lnTo>
                  <a:lnTo>
                    <a:pt x="1686" y="945"/>
                  </a:lnTo>
                  <a:lnTo>
                    <a:pt x="1738" y="859"/>
                  </a:lnTo>
                  <a:lnTo>
                    <a:pt x="1792" y="786"/>
                  </a:lnTo>
                  <a:lnTo>
                    <a:pt x="1848" y="716"/>
                  </a:lnTo>
                  <a:lnTo>
                    <a:pt x="1945" y="584"/>
                  </a:lnTo>
                  <a:lnTo>
                    <a:pt x="2027" y="496"/>
                  </a:lnTo>
                  <a:lnTo>
                    <a:pt x="2091" y="429"/>
                  </a:lnTo>
                  <a:lnTo>
                    <a:pt x="2159" y="361"/>
                  </a:lnTo>
                  <a:lnTo>
                    <a:pt x="2229" y="295"/>
                  </a:lnTo>
                  <a:lnTo>
                    <a:pt x="2289" y="241"/>
                  </a:lnTo>
                  <a:lnTo>
                    <a:pt x="2360" y="177"/>
                  </a:lnTo>
                  <a:lnTo>
                    <a:pt x="2448" y="114"/>
                  </a:lnTo>
                  <a:lnTo>
                    <a:pt x="2532" y="52"/>
                  </a:lnTo>
                  <a:lnTo>
                    <a:pt x="2618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 rot="8977200">
              <a:off x="7133400" y="2375280"/>
              <a:ext cx="1040760" cy="1813680"/>
            </a:xfrm>
            <a:custGeom>
              <a:avLst/>
              <a:gdLst/>
              <a:ahLst/>
              <a:rect l="l" t="t" r="r" b="b"/>
              <a:pathLst>
                <a:path w="2480" h="3810">
                  <a:moveTo>
                    <a:pt x="2480" y="0"/>
                  </a:moveTo>
                  <a:lnTo>
                    <a:pt x="2340" y="50"/>
                  </a:lnTo>
                  <a:lnTo>
                    <a:pt x="2229" y="96"/>
                  </a:lnTo>
                  <a:lnTo>
                    <a:pt x="2135" y="144"/>
                  </a:lnTo>
                  <a:lnTo>
                    <a:pt x="2025" y="203"/>
                  </a:lnTo>
                  <a:lnTo>
                    <a:pt x="1878" y="289"/>
                  </a:lnTo>
                  <a:lnTo>
                    <a:pt x="1744" y="385"/>
                  </a:lnTo>
                  <a:lnTo>
                    <a:pt x="1606" y="502"/>
                  </a:lnTo>
                  <a:lnTo>
                    <a:pt x="1475" y="622"/>
                  </a:lnTo>
                  <a:lnTo>
                    <a:pt x="1355" y="742"/>
                  </a:lnTo>
                  <a:lnTo>
                    <a:pt x="1209" y="897"/>
                  </a:lnTo>
                  <a:lnTo>
                    <a:pt x="1113" y="1019"/>
                  </a:lnTo>
                  <a:lnTo>
                    <a:pt x="994" y="1186"/>
                  </a:lnTo>
                  <a:lnTo>
                    <a:pt x="862" y="1372"/>
                  </a:lnTo>
                  <a:lnTo>
                    <a:pt x="742" y="1557"/>
                  </a:lnTo>
                  <a:lnTo>
                    <a:pt x="658" y="1701"/>
                  </a:lnTo>
                  <a:lnTo>
                    <a:pt x="575" y="1904"/>
                  </a:lnTo>
                  <a:lnTo>
                    <a:pt x="515" y="2074"/>
                  </a:lnTo>
                  <a:lnTo>
                    <a:pt x="467" y="2253"/>
                  </a:lnTo>
                  <a:lnTo>
                    <a:pt x="431" y="2445"/>
                  </a:lnTo>
                  <a:lnTo>
                    <a:pt x="425" y="2556"/>
                  </a:lnTo>
                  <a:lnTo>
                    <a:pt x="431" y="2690"/>
                  </a:lnTo>
                  <a:lnTo>
                    <a:pt x="443" y="2791"/>
                  </a:lnTo>
                  <a:lnTo>
                    <a:pt x="455" y="2891"/>
                  </a:lnTo>
                  <a:lnTo>
                    <a:pt x="479" y="2973"/>
                  </a:lnTo>
                  <a:lnTo>
                    <a:pt x="0" y="2973"/>
                  </a:lnTo>
                  <a:lnTo>
                    <a:pt x="150" y="3081"/>
                  </a:lnTo>
                  <a:lnTo>
                    <a:pt x="287" y="3188"/>
                  </a:lnTo>
                  <a:lnTo>
                    <a:pt x="467" y="3332"/>
                  </a:lnTo>
                  <a:lnTo>
                    <a:pt x="611" y="3487"/>
                  </a:lnTo>
                  <a:lnTo>
                    <a:pt x="730" y="3631"/>
                  </a:lnTo>
                  <a:lnTo>
                    <a:pt x="838" y="3810"/>
                  </a:lnTo>
                  <a:lnTo>
                    <a:pt x="922" y="3643"/>
                  </a:lnTo>
                  <a:lnTo>
                    <a:pt x="1020" y="3465"/>
                  </a:lnTo>
                  <a:lnTo>
                    <a:pt x="1149" y="3284"/>
                  </a:lnTo>
                  <a:lnTo>
                    <a:pt x="1283" y="3140"/>
                  </a:lnTo>
                  <a:lnTo>
                    <a:pt x="1367" y="3057"/>
                  </a:lnTo>
                  <a:lnTo>
                    <a:pt x="1504" y="2967"/>
                  </a:lnTo>
                  <a:lnTo>
                    <a:pt x="1024" y="2967"/>
                  </a:lnTo>
                  <a:lnTo>
                    <a:pt x="994" y="2791"/>
                  </a:lnTo>
                  <a:lnTo>
                    <a:pt x="982" y="2636"/>
                  </a:lnTo>
                  <a:lnTo>
                    <a:pt x="994" y="2456"/>
                  </a:lnTo>
                  <a:lnTo>
                    <a:pt x="1018" y="2277"/>
                  </a:lnTo>
                  <a:lnTo>
                    <a:pt x="1065" y="2074"/>
                  </a:lnTo>
                  <a:lnTo>
                    <a:pt x="1113" y="1892"/>
                  </a:lnTo>
                  <a:lnTo>
                    <a:pt x="1203" y="1635"/>
                  </a:lnTo>
                  <a:lnTo>
                    <a:pt x="1295" y="1426"/>
                  </a:lnTo>
                  <a:lnTo>
                    <a:pt x="1391" y="1240"/>
                  </a:lnTo>
                  <a:lnTo>
                    <a:pt x="1510" y="1043"/>
                  </a:lnTo>
                  <a:lnTo>
                    <a:pt x="1566" y="947"/>
                  </a:lnTo>
                  <a:lnTo>
                    <a:pt x="1618" y="861"/>
                  </a:lnTo>
                  <a:lnTo>
                    <a:pt x="1670" y="788"/>
                  </a:lnTo>
                  <a:lnTo>
                    <a:pt x="1726" y="718"/>
                  </a:lnTo>
                  <a:lnTo>
                    <a:pt x="1822" y="586"/>
                  </a:lnTo>
                  <a:lnTo>
                    <a:pt x="1902" y="498"/>
                  </a:lnTo>
                  <a:lnTo>
                    <a:pt x="1965" y="431"/>
                  </a:lnTo>
                  <a:lnTo>
                    <a:pt x="2031" y="363"/>
                  </a:lnTo>
                  <a:lnTo>
                    <a:pt x="2099" y="297"/>
                  </a:lnTo>
                  <a:lnTo>
                    <a:pt x="2159" y="243"/>
                  </a:lnTo>
                  <a:lnTo>
                    <a:pt x="2229" y="179"/>
                  </a:lnTo>
                  <a:lnTo>
                    <a:pt x="2315" y="116"/>
                  </a:lnTo>
                  <a:lnTo>
                    <a:pt x="2394" y="54"/>
                  </a:lnTo>
                  <a:lnTo>
                    <a:pt x="248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3" name=""/>
          <p:cNvSpPr/>
          <p:nvPr/>
        </p:nvSpPr>
        <p:spPr>
          <a:xfrm>
            <a:off x="5607000" y="1153080"/>
            <a:ext cx="2792520" cy="476280"/>
          </a:xfrm>
          <a:prstGeom prst="leftArrow">
            <a:avLst>
              <a:gd name="adj1" fmla="val 64417"/>
              <a:gd name="adj2" fmla="val 146661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hat is Al Qaeda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85840" y="193320"/>
            <a:ext cx="66974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M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ationship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282920" y="2629080"/>
            <a:ext cx="2643480" cy="26478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124080" y="3110040"/>
            <a:ext cx="2689200" cy="3362040"/>
          </a:xfrm>
          <a:custGeom>
            <a:avLst/>
            <a:gdLst/>
            <a:ahLst/>
            <a:rect l="l" t="t" r="r" b="b"/>
            <a:pathLst>
              <a:path w="1311" h="1622">
                <a:moveTo>
                  <a:pt x="0" y="751"/>
                </a:moveTo>
                <a:lnTo>
                  <a:pt x="1" y="721"/>
                </a:lnTo>
                <a:lnTo>
                  <a:pt x="2" y="692"/>
                </a:lnTo>
                <a:lnTo>
                  <a:pt x="5" y="662"/>
                </a:lnTo>
                <a:lnTo>
                  <a:pt x="8" y="633"/>
                </a:lnTo>
                <a:lnTo>
                  <a:pt x="10" y="619"/>
                </a:lnTo>
                <a:lnTo>
                  <a:pt x="13" y="604"/>
                </a:lnTo>
                <a:lnTo>
                  <a:pt x="18" y="576"/>
                </a:lnTo>
                <a:lnTo>
                  <a:pt x="24" y="548"/>
                </a:lnTo>
                <a:lnTo>
                  <a:pt x="31" y="520"/>
                </a:lnTo>
                <a:lnTo>
                  <a:pt x="39" y="492"/>
                </a:lnTo>
                <a:lnTo>
                  <a:pt x="48" y="465"/>
                </a:lnTo>
                <a:lnTo>
                  <a:pt x="58" y="439"/>
                </a:lnTo>
                <a:lnTo>
                  <a:pt x="69" y="412"/>
                </a:lnTo>
                <a:lnTo>
                  <a:pt x="80" y="386"/>
                </a:lnTo>
                <a:lnTo>
                  <a:pt x="92" y="361"/>
                </a:lnTo>
                <a:lnTo>
                  <a:pt x="105" y="336"/>
                </a:lnTo>
                <a:lnTo>
                  <a:pt x="119" y="312"/>
                </a:lnTo>
                <a:lnTo>
                  <a:pt x="134" y="288"/>
                </a:lnTo>
                <a:lnTo>
                  <a:pt x="149" y="264"/>
                </a:lnTo>
                <a:lnTo>
                  <a:pt x="165" y="241"/>
                </a:lnTo>
                <a:lnTo>
                  <a:pt x="182" y="219"/>
                </a:lnTo>
                <a:lnTo>
                  <a:pt x="199" y="197"/>
                </a:lnTo>
                <a:lnTo>
                  <a:pt x="217" y="176"/>
                </a:lnTo>
                <a:lnTo>
                  <a:pt x="236" y="156"/>
                </a:lnTo>
                <a:lnTo>
                  <a:pt x="246" y="145"/>
                </a:lnTo>
                <a:lnTo>
                  <a:pt x="256" y="136"/>
                </a:lnTo>
                <a:lnTo>
                  <a:pt x="276" y="116"/>
                </a:lnTo>
                <a:lnTo>
                  <a:pt x="296" y="97"/>
                </a:lnTo>
                <a:lnTo>
                  <a:pt x="307" y="88"/>
                </a:lnTo>
                <a:lnTo>
                  <a:pt x="318" y="79"/>
                </a:lnTo>
                <a:lnTo>
                  <a:pt x="339" y="62"/>
                </a:lnTo>
                <a:lnTo>
                  <a:pt x="351" y="54"/>
                </a:lnTo>
                <a:lnTo>
                  <a:pt x="362" y="45"/>
                </a:lnTo>
                <a:lnTo>
                  <a:pt x="385" y="29"/>
                </a:lnTo>
                <a:lnTo>
                  <a:pt x="408" y="14"/>
                </a:lnTo>
                <a:lnTo>
                  <a:pt x="432" y="0"/>
                </a:lnTo>
                <a:lnTo>
                  <a:pt x="432" y="3"/>
                </a:lnTo>
                <a:lnTo>
                  <a:pt x="433" y="33"/>
                </a:lnTo>
                <a:lnTo>
                  <a:pt x="433" y="49"/>
                </a:lnTo>
                <a:lnTo>
                  <a:pt x="434" y="64"/>
                </a:lnTo>
                <a:lnTo>
                  <a:pt x="437" y="94"/>
                </a:lnTo>
                <a:lnTo>
                  <a:pt x="440" y="123"/>
                </a:lnTo>
                <a:lnTo>
                  <a:pt x="445" y="153"/>
                </a:lnTo>
                <a:lnTo>
                  <a:pt x="451" y="182"/>
                </a:lnTo>
                <a:lnTo>
                  <a:pt x="457" y="211"/>
                </a:lnTo>
                <a:lnTo>
                  <a:pt x="461" y="225"/>
                </a:lnTo>
                <a:lnTo>
                  <a:pt x="464" y="239"/>
                </a:lnTo>
                <a:lnTo>
                  <a:pt x="473" y="267"/>
                </a:lnTo>
                <a:lnTo>
                  <a:pt x="482" y="294"/>
                </a:lnTo>
                <a:lnTo>
                  <a:pt x="487" y="308"/>
                </a:lnTo>
                <a:lnTo>
                  <a:pt x="492" y="321"/>
                </a:lnTo>
                <a:lnTo>
                  <a:pt x="503" y="348"/>
                </a:lnTo>
                <a:lnTo>
                  <a:pt x="515" y="374"/>
                </a:lnTo>
                <a:lnTo>
                  <a:pt x="521" y="387"/>
                </a:lnTo>
                <a:lnTo>
                  <a:pt x="528" y="400"/>
                </a:lnTo>
                <a:lnTo>
                  <a:pt x="541" y="425"/>
                </a:lnTo>
                <a:lnTo>
                  <a:pt x="556" y="450"/>
                </a:lnTo>
                <a:lnTo>
                  <a:pt x="571" y="474"/>
                </a:lnTo>
                <a:lnTo>
                  <a:pt x="587" y="498"/>
                </a:lnTo>
                <a:lnTo>
                  <a:pt x="603" y="521"/>
                </a:lnTo>
                <a:lnTo>
                  <a:pt x="621" y="544"/>
                </a:lnTo>
                <a:lnTo>
                  <a:pt x="639" y="566"/>
                </a:lnTo>
                <a:lnTo>
                  <a:pt x="658" y="587"/>
                </a:lnTo>
                <a:lnTo>
                  <a:pt x="668" y="598"/>
                </a:lnTo>
                <a:lnTo>
                  <a:pt x="678" y="608"/>
                </a:lnTo>
                <a:lnTo>
                  <a:pt x="698" y="628"/>
                </a:lnTo>
                <a:lnTo>
                  <a:pt x="719" y="647"/>
                </a:lnTo>
                <a:lnTo>
                  <a:pt x="740" y="666"/>
                </a:lnTo>
                <a:lnTo>
                  <a:pt x="751" y="675"/>
                </a:lnTo>
                <a:lnTo>
                  <a:pt x="762" y="684"/>
                </a:lnTo>
                <a:lnTo>
                  <a:pt x="785" y="702"/>
                </a:lnTo>
                <a:lnTo>
                  <a:pt x="796" y="710"/>
                </a:lnTo>
                <a:lnTo>
                  <a:pt x="808" y="718"/>
                </a:lnTo>
                <a:lnTo>
                  <a:pt x="820" y="726"/>
                </a:lnTo>
                <a:lnTo>
                  <a:pt x="831" y="734"/>
                </a:lnTo>
                <a:lnTo>
                  <a:pt x="844" y="742"/>
                </a:lnTo>
                <a:lnTo>
                  <a:pt x="856" y="749"/>
                </a:lnTo>
                <a:lnTo>
                  <a:pt x="880" y="763"/>
                </a:lnTo>
                <a:lnTo>
                  <a:pt x="881" y="793"/>
                </a:lnTo>
                <a:lnTo>
                  <a:pt x="883" y="822"/>
                </a:lnTo>
                <a:lnTo>
                  <a:pt x="886" y="851"/>
                </a:lnTo>
                <a:lnTo>
                  <a:pt x="890" y="879"/>
                </a:lnTo>
                <a:lnTo>
                  <a:pt x="894" y="908"/>
                </a:lnTo>
                <a:lnTo>
                  <a:pt x="900" y="936"/>
                </a:lnTo>
                <a:lnTo>
                  <a:pt x="906" y="963"/>
                </a:lnTo>
                <a:lnTo>
                  <a:pt x="914" y="991"/>
                </a:lnTo>
                <a:lnTo>
                  <a:pt x="922" y="1019"/>
                </a:lnTo>
                <a:lnTo>
                  <a:pt x="926" y="1032"/>
                </a:lnTo>
                <a:lnTo>
                  <a:pt x="931" y="1045"/>
                </a:lnTo>
                <a:lnTo>
                  <a:pt x="941" y="1071"/>
                </a:lnTo>
                <a:lnTo>
                  <a:pt x="951" y="1097"/>
                </a:lnTo>
                <a:lnTo>
                  <a:pt x="963" y="1123"/>
                </a:lnTo>
                <a:lnTo>
                  <a:pt x="975" y="1147"/>
                </a:lnTo>
                <a:lnTo>
                  <a:pt x="988" y="1172"/>
                </a:lnTo>
                <a:lnTo>
                  <a:pt x="1002" y="1196"/>
                </a:lnTo>
                <a:lnTo>
                  <a:pt x="1016" y="1219"/>
                </a:lnTo>
                <a:lnTo>
                  <a:pt x="1032" y="1242"/>
                </a:lnTo>
                <a:lnTo>
                  <a:pt x="1047" y="1265"/>
                </a:lnTo>
                <a:lnTo>
                  <a:pt x="1064" y="1287"/>
                </a:lnTo>
                <a:lnTo>
                  <a:pt x="1081" y="1308"/>
                </a:lnTo>
                <a:lnTo>
                  <a:pt x="1090" y="1319"/>
                </a:lnTo>
                <a:lnTo>
                  <a:pt x="1099" y="1329"/>
                </a:lnTo>
                <a:lnTo>
                  <a:pt x="1118" y="1349"/>
                </a:lnTo>
                <a:lnTo>
                  <a:pt x="1137" y="1369"/>
                </a:lnTo>
                <a:lnTo>
                  <a:pt x="1157" y="1388"/>
                </a:lnTo>
                <a:lnTo>
                  <a:pt x="1177" y="1406"/>
                </a:lnTo>
                <a:lnTo>
                  <a:pt x="1187" y="1415"/>
                </a:lnTo>
                <a:lnTo>
                  <a:pt x="1198" y="1424"/>
                </a:lnTo>
                <a:lnTo>
                  <a:pt x="1219" y="1441"/>
                </a:lnTo>
                <a:lnTo>
                  <a:pt x="1241" y="1458"/>
                </a:lnTo>
                <a:lnTo>
                  <a:pt x="1264" y="1474"/>
                </a:lnTo>
                <a:lnTo>
                  <a:pt x="1275" y="1481"/>
                </a:lnTo>
                <a:lnTo>
                  <a:pt x="1287" y="1489"/>
                </a:lnTo>
                <a:lnTo>
                  <a:pt x="1311" y="1503"/>
                </a:lnTo>
                <a:lnTo>
                  <a:pt x="1286" y="1517"/>
                </a:lnTo>
                <a:lnTo>
                  <a:pt x="1261" y="1530"/>
                </a:lnTo>
                <a:lnTo>
                  <a:pt x="1236" y="1542"/>
                </a:lnTo>
                <a:lnTo>
                  <a:pt x="1210" y="1554"/>
                </a:lnTo>
                <a:lnTo>
                  <a:pt x="1184" y="1564"/>
                </a:lnTo>
                <a:lnTo>
                  <a:pt x="1170" y="1569"/>
                </a:lnTo>
                <a:lnTo>
                  <a:pt x="1157" y="1574"/>
                </a:lnTo>
                <a:lnTo>
                  <a:pt x="1130" y="1583"/>
                </a:lnTo>
                <a:lnTo>
                  <a:pt x="1103" y="1591"/>
                </a:lnTo>
                <a:lnTo>
                  <a:pt x="1075" y="1598"/>
                </a:lnTo>
                <a:lnTo>
                  <a:pt x="1047" y="1604"/>
                </a:lnTo>
                <a:lnTo>
                  <a:pt x="1018" y="1610"/>
                </a:lnTo>
                <a:lnTo>
                  <a:pt x="989" y="1614"/>
                </a:lnTo>
                <a:lnTo>
                  <a:pt x="960" y="1618"/>
                </a:lnTo>
                <a:lnTo>
                  <a:pt x="931" y="1620"/>
                </a:lnTo>
                <a:lnTo>
                  <a:pt x="916" y="1621"/>
                </a:lnTo>
                <a:lnTo>
                  <a:pt x="901" y="1622"/>
                </a:lnTo>
                <a:lnTo>
                  <a:pt x="871" y="1622"/>
                </a:lnTo>
                <a:lnTo>
                  <a:pt x="848" y="1622"/>
                </a:lnTo>
                <a:lnTo>
                  <a:pt x="826" y="1621"/>
                </a:lnTo>
                <a:lnTo>
                  <a:pt x="804" y="1620"/>
                </a:lnTo>
                <a:lnTo>
                  <a:pt x="782" y="1618"/>
                </a:lnTo>
                <a:lnTo>
                  <a:pt x="760" y="1615"/>
                </a:lnTo>
                <a:lnTo>
                  <a:pt x="738" y="1612"/>
                </a:lnTo>
                <a:lnTo>
                  <a:pt x="717" y="1609"/>
                </a:lnTo>
                <a:lnTo>
                  <a:pt x="696" y="1604"/>
                </a:lnTo>
                <a:lnTo>
                  <a:pt x="675" y="1600"/>
                </a:lnTo>
                <a:lnTo>
                  <a:pt x="654" y="1595"/>
                </a:lnTo>
                <a:lnTo>
                  <a:pt x="632" y="1589"/>
                </a:lnTo>
                <a:lnTo>
                  <a:pt x="611" y="1583"/>
                </a:lnTo>
                <a:lnTo>
                  <a:pt x="591" y="1576"/>
                </a:lnTo>
                <a:lnTo>
                  <a:pt x="571" y="1569"/>
                </a:lnTo>
                <a:lnTo>
                  <a:pt x="551" y="1562"/>
                </a:lnTo>
                <a:lnTo>
                  <a:pt x="531" y="1554"/>
                </a:lnTo>
                <a:lnTo>
                  <a:pt x="512" y="1545"/>
                </a:lnTo>
                <a:lnTo>
                  <a:pt x="493" y="1536"/>
                </a:lnTo>
                <a:lnTo>
                  <a:pt x="474" y="1527"/>
                </a:lnTo>
                <a:lnTo>
                  <a:pt x="455" y="1517"/>
                </a:lnTo>
                <a:lnTo>
                  <a:pt x="437" y="1507"/>
                </a:lnTo>
                <a:lnTo>
                  <a:pt x="419" y="1496"/>
                </a:lnTo>
                <a:lnTo>
                  <a:pt x="401" y="1485"/>
                </a:lnTo>
                <a:lnTo>
                  <a:pt x="384" y="1474"/>
                </a:lnTo>
                <a:lnTo>
                  <a:pt x="366" y="1462"/>
                </a:lnTo>
                <a:lnTo>
                  <a:pt x="350" y="1449"/>
                </a:lnTo>
                <a:lnTo>
                  <a:pt x="333" y="1437"/>
                </a:lnTo>
                <a:lnTo>
                  <a:pt x="317" y="1424"/>
                </a:lnTo>
                <a:lnTo>
                  <a:pt x="301" y="1410"/>
                </a:lnTo>
                <a:lnTo>
                  <a:pt x="285" y="1396"/>
                </a:lnTo>
                <a:lnTo>
                  <a:pt x="270" y="1382"/>
                </a:lnTo>
                <a:lnTo>
                  <a:pt x="255" y="1367"/>
                </a:lnTo>
                <a:lnTo>
                  <a:pt x="240" y="1352"/>
                </a:lnTo>
                <a:lnTo>
                  <a:pt x="226" y="1337"/>
                </a:lnTo>
                <a:lnTo>
                  <a:pt x="212" y="1322"/>
                </a:lnTo>
                <a:lnTo>
                  <a:pt x="199" y="1306"/>
                </a:lnTo>
                <a:lnTo>
                  <a:pt x="186" y="1289"/>
                </a:lnTo>
                <a:lnTo>
                  <a:pt x="173" y="1273"/>
                </a:lnTo>
                <a:lnTo>
                  <a:pt x="161" y="1256"/>
                </a:lnTo>
                <a:lnTo>
                  <a:pt x="149" y="1239"/>
                </a:lnTo>
                <a:lnTo>
                  <a:pt x="137" y="1221"/>
                </a:lnTo>
                <a:lnTo>
                  <a:pt x="126" y="1203"/>
                </a:lnTo>
                <a:lnTo>
                  <a:pt x="115" y="1185"/>
                </a:lnTo>
                <a:lnTo>
                  <a:pt x="105" y="1167"/>
                </a:lnTo>
                <a:lnTo>
                  <a:pt x="95" y="1148"/>
                </a:lnTo>
                <a:lnTo>
                  <a:pt x="86" y="1129"/>
                </a:lnTo>
                <a:lnTo>
                  <a:pt x="77" y="1110"/>
                </a:lnTo>
                <a:lnTo>
                  <a:pt x="68" y="1091"/>
                </a:lnTo>
                <a:lnTo>
                  <a:pt x="60" y="1071"/>
                </a:lnTo>
                <a:lnTo>
                  <a:pt x="53" y="1051"/>
                </a:lnTo>
                <a:lnTo>
                  <a:pt x="46" y="1031"/>
                </a:lnTo>
                <a:lnTo>
                  <a:pt x="39" y="1011"/>
                </a:lnTo>
                <a:lnTo>
                  <a:pt x="33" y="989"/>
                </a:lnTo>
                <a:lnTo>
                  <a:pt x="28" y="969"/>
                </a:lnTo>
                <a:lnTo>
                  <a:pt x="18" y="927"/>
                </a:lnTo>
                <a:lnTo>
                  <a:pt x="14" y="905"/>
                </a:lnTo>
                <a:lnTo>
                  <a:pt x="10" y="884"/>
                </a:lnTo>
                <a:lnTo>
                  <a:pt x="7" y="862"/>
                </a:lnTo>
                <a:lnTo>
                  <a:pt x="5" y="840"/>
                </a:lnTo>
                <a:lnTo>
                  <a:pt x="3" y="818"/>
                </a:lnTo>
                <a:lnTo>
                  <a:pt x="1" y="796"/>
                </a:lnTo>
                <a:lnTo>
                  <a:pt x="0" y="774"/>
                </a:lnTo>
                <a:lnTo>
                  <a:pt x="0" y="751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000680" y="1319040"/>
            <a:ext cx="3574800" cy="1798920"/>
          </a:xfrm>
          <a:custGeom>
            <a:avLst/>
            <a:gdLst/>
            <a:ahLst/>
            <a:rect l="l" t="t" r="r" b="b"/>
            <a:pathLst>
              <a:path w="1742" h="869">
                <a:moveTo>
                  <a:pt x="0" y="868"/>
                </a:moveTo>
                <a:lnTo>
                  <a:pt x="0" y="845"/>
                </a:lnTo>
                <a:lnTo>
                  <a:pt x="1" y="823"/>
                </a:lnTo>
                <a:lnTo>
                  <a:pt x="3" y="801"/>
                </a:lnTo>
                <a:lnTo>
                  <a:pt x="5" y="779"/>
                </a:lnTo>
                <a:lnTo>
                  <a:pt x="8" y="757"/>
                </a:lnTo>
                <a:lnTo>
                  <a:pt x="11" y="736"/>
                </a:lnTo>
                <a:lnTo>
                  <a:pt x="14" y="714"/>
                </a:lnTo>
                <a:lnTo>
                  <a:pt x="18" y="693"/>
                </a:lnTo>
                <a:lnTo>
                  <a:pt x="28" y="651"/>
                </a:lnTo>
                <a:lnTo>
                  <a:pt x="34" y="630"/>
                </a:lnTo>
                <a:lnTo>
                  <a:pt x="40" y="609"/>
                </a:lnTo>
                <a:lnTo>
                  <a:pt x="47" y="589"/>
                </a:lnTo>
                <a:lnTo>
                  <a:pt x="54" y="569"/>
                </a:lnTo>
                <a:lnTo>
                  <a:pt x="61" y="549"/>
                </a:lnTo>
                <a:lnTo>
                  <a:pt x="69" y="529"/>
                </a:lnTo>
                <a:lnTo>
                  <a:pt x="78" y="510"/>
                </a:lnTo>
                <a:lnTo>
                  <a:pt x="87" y="491"/>
                </a:lnTo>
                <a:lnTo>
                  <a:pt x="96" y="472"/>
                </a:lnTo>
                <a:lnTo>
                  <a:pt x="106" y="453"/>
                </a:lnTo>
                <a:lnTo>
                  <a:pt x="116" y="435"/>
                </a:lnTo>
                <a:lnTo>
                  <a:pt x="127" y="417"/>
                </a:lnTo>
                <a:lnTo>
                  <a:pt x="138" y="399"/>
                </a:lnTo>
                <a:lnTo>
                  <a:pt x="150" y="382"/>
                </a:lnTo>
                <a:lnTo>
                  <a:pt x="162" y="365"/>
                </a:lnTo>
                <a:lnTo>
                  <a:pt x="174" y="348"/>
                </a:lnTo>
                <a:lnTo>
                  <a:pt x="187" y="331"/>
                </a:lnTo>
                <a:lnTo>
                  <a:pt x="200" y="315"/>
                </a:lnTo>
                <a:lnTo>
                  <a:pt x="213" y="299"/>
                </a:lnTo>
                <a:lnTo>
                  <a:pt x="228" y="284"/>
                </a:lnTo>
                <a:lnTo>
                  <a:pt x="242" y="269"/>
                </a:lnTo>
                <a:lnTo>
                  <a:pt x="257" y="254"/>
                </a:lnTo>
                <a:lnTo>
                  <a:pt x="272" y="239"/>
                </a:lnTo>
                <a:lnTo>
                  <a:pt x="287" y="225"/>
                </a:lnTo>
                <a:lnTo>
                  <a:pt x="303" y="211"/>
                </a:lnTo>
                <a:lnTo>
                  <a:pt x="319" y="198"/>
                </a:lnTo>
                <a:lnTo>
                  <a:pt x="335" y="185"/>
                </a:lnTo>
                <a:lnTo>
                  <a:pt x="352" y="172"/>
                </a:lnTo>
                <a:lnTo>
                  <a:pt x="386" y="148"/>
                </a:lnTo>
                <a:lnTo>
                  <a:pt x="403" y="137"/>
                </a:lnTo>
                <a:lnTo>
                  <a:pt x="421" y="125"/>
                </a:lnTo>
                <a:lnTo>
                  <a:pt x="439" y="115"/>
                </a:lnTo>
                <a:lnTo>
                  <a:pt x="457" y="105"/>
                </a:lnTo>
                <a:lnTo>
                  <a:pt x="476" y="95"/>
                </a:lnTo>
                <a:lnTo>
                  <a:pt x="495" y="86"/>
                </a:lnTo>
                <a:lnTo>
                  <a:pt x="514" y="77"/>
                </a:lnTo>
                <a:lnTo>
                  <a:pt x="533" y="68"/>
                </a:lnTo>
                <a:lnTo>
                  <a:pt x="553" y="60"/>
                </a:lnTo>
                <a:lnTo>
                  <a:pt x="573" y="53"/>
                </a:lnTo>
                <a:lnTo>
                  <a:pt x="593" y="46"/>
                </a:lnTo>
                <a:lnTo>
                  <a:pt x="613" y="39"/>
                </a:lnTo>
                <a:lnTo>
                  <a:pt x="633" y="33"/>
                </a:lnTo>
                <a:lnTo>
                  <a:pt x="654" y="27"/>
                </a:lnTo>
                <a:lnTo>
                  <a:pt x="675" y="22"/>
                </a:lnTo>
                <a:lnTo>
                  <a:pt x="696" y="18"/>
                </a:lnTo>
                <a:lnTo>
                  <a:pt x="717" y="14"/>
                </a:lnTo>
                <a:lnTo>
                  <a:pt x="739" y="10"/>
                </a:lnTo>
                <a:lnTo>
                  <a:pt x="760" y="7"/>
                </a:lnTo>
                <a:lnTo>
                  <a:pt x="782" y="5"/>
                </a:lnTo>
                <a:lnTo>
                  <a:pt x="804" y="3"/>
                </a:lnTo>
                <a:lnTo>
                  <a:pt x="826" y="1"/>
                </a:lnTo>
                <a:lnTo>
                  <a:pt x="849" y="0"/>
                </a:lnTo>
                <a:lnTo>
                  <a:pt x="871" y="0"/>
                </a:lnTo>
                <a:lnTo>
                  <a:pt x="893" y="0"/>
                </a:lnTo>
                <a:lnTo>
                  <a:pt x="915" y="1"/>
                </a:lnTo>
                <a:lnTo>
                  <a:pt x="937" y="3"/>
                </a:lnTo>
                <a:lnTo>
                  <a:pt x="959" y="5"/>
                </a:lnTo>
                <a:lnTo>
                  <a:pt x="981" y="7"/>
                </a:lnTo>
                <a:lnTo>
                  <a:pt x="1002" y="10"/>
                </a:lnTo>
                <a:lnTo>
                  <a:pt x="1024" y="13"/>
                </a:lnTo>
                <a:lnTo>
                  <a:pt x="1045" y="18"/>
                </a:lnTo>
                <a:lnTo>
                  <a:pt x="1066" y="22"/>
                </a:lnTo>
                <a:lnTo>
                  <a:pt x="1087" y="27"/>
                </a:lnTo>
                <a:lnTo>
                  <a:pt x="1107" y="33"/>
                </a:lnTo>
                <a:lnTo>
                  <a:pt x="1128" y="39"/>
                </a:lnTo>
                <a:lnTo>
                  <a:pt x="1148" y="45"/>
                </a:lnTo>
                <a:lnTo>
                  <a:pt x="1168" y="52"/>
                </a:lnTo>
                <a:lnTo>
                  <a:pt x="1187" y="59"/>
                </a:lnTo>
                <a:lnTo>
                  <a:pt x="1207" y="67"/>
                </a:lnTo>
                <a:lnTo>
                  <a:pt x="1226" y="76"/>
                </a:lnTo>
                <a:lnTo>
                  <a:pt x="1245" y="85"/>
                </a:lnTo>
                <a:lnTo>
                  <a:pt x="1264" y="94"/>
                </a:lnTo>
                <a:lnTo>
                  <a:pt x="1282" y="103"/>
                </a:lnTo>
                <a:lnTo>
                  <a:pt x="1301" y="114"/>
                </a:lnTo>
                <a:lnTo>
                  <a:pt x="1319" y="124"/>
                </a:lnTo>
                <a:lnTo>
                  <a:pt x="1336" y="135"/>
                </a:lnTo>
                <a:lnTo>
                  <a:pt x="1354" y="146"/>
                </a:lnTo>
                <a:lnTo>
                  <a:pt x="1371" y="158"/>
                </a:lnTo>
                <a:lnTo>
                  <a:pt x="1388" y="170"/>
                </a:lnTo>
                <a:lnTo>
                  <a:pt x="1404" y="183"/>
                </a:lnTo>
                <a:lnTo>
                  <a:pt x="1420" y="196"/>
                </a:lnTo>
                <a:lnTo>
                  <a:pt x="1436" y="209"/>
                </a:lnTo>
                <a:lnTo>
                  <a:pt x="1452" y="223"/>
                </a:lnTo>
                <a:lnTo>
                  <a:pt x="1482" y="251"/>
                </a:lnTo>
                <a:lnTo>
                  <a:pt x="1497" y="266"/>
                </a:lnTo>
                <a:lnTo>
                  <a:pt x="1511" y="281"/>
                </a:lnTo>
                <a:lnTo>
                  <a:pt x="1525" y="296"/>
                </a:lnTo>
                <a:lnTo>
                  <a:pt x="1539" y="312"/>
                </a:lnTo>
                <a:lnTo>
                  <a:pt x="1552" y="328"/>
                </a:lnTo>
                <a:lnTo>
                  <a:pt x="1565" y="344"/>
                </a:lnTo>
                <a:lnTo>
                  <a:pt x="1577" y="361"/>
                </a:lnTo>
                <a:lnTo>
                  <a:pt x="1589" y="378"/>
                </a:lnTo>
                <a:lnTo>
                  <a:pt x="1601" y="395"/>
                </a:lnTo>
                <a:lnTo>
                  <a:pt x="1612" y="413"/>
                </a:lnTo>
                <a:lnTo>
                  <a:pt x="1623" y="430"/>
                </a:lnTo>
                <a:lnTo>
                  <a:pt x="1633" y="448"/>
                </a:lnTo>
                <a:lnTo>
                  <a:pt x="1643" y="467"/>
                </a:lnTo>
                <a:lnTo>
                  <a:pt x="1652" y="485"/>
                </a:lnTo>
                <a:lnTo>
                  <a:pt x="1661" y="504"/>
                </a:lnTo>
                <a:lnTo>
                  <a:pt x="1670" y="523"/>
                </a:lnTo>
                <a:lnTo>
                  <a:pt x="1678" y="543"/>
                </a:lnTo>
                <a:lnTo>
                  <a:pt x="1686" y="562"/>
                </a:lnTo>
                <a:lnTo>
                  <a:pt x="1693" y="582"/>
                </a:lnTo>
                <a:lnTo>
                  <a:pt x="1700" y="602"/>
                </a:lnTo>
                <a:lnTo>
                  <a:pt x="1706" y="624"/>
                </a:lnTo>
                <a:lnTo>
                  <a:pt x="1712" y="644"/>
                </a:lnTo>
                <a:lnTo>
                  <a:pt x="1717" y="665"/>
                </a:lnTo>
                <a:lnTo>
                  <a:pt x="1722" y="686"/>
                </a:lnTo>
                <a:lnTo>
                  <a:pt x="1726" y="707"/>
                </a:lnTo>
                <a:lnTo>
                  <a:pt x="1730" y="728"/>
                </a:lnTo>
                <a:lnTo>
                  <a:pt x="1733" y="749"/>
                </a:lnTo>
                <a:lnTo>
                  <a:pt x="1736" y="771"/>
                </a:lnTo>
                <a:lnTo>
                  <a:pt x="1738" y="793"/>
                </a:lnTo>
                <a:lnTo>
                  <a:pt x="1740" y="815"/>
                </a:lnTo>
                <a:lnTo>
                  <a:pt x="1741" y="837"/>
                </a:lnTo>
                <a:lnTo>
                  <a:pt x="1742" y="859"/>
                </a:lnTo>
                <a:lnTo>
                  <a:pt x="1718" y="846"/>
                </a:lnTo>
                <a:lnTo>
                  <a:pt x="1694" y="834"/>
                </a:lnTo>
                <a:lnTo>
                  <a:pt x="1669" y="823"/>
                </a:lnTo>
                <a:lnTo>
                  <a:pt x="1657" y="817"/>
                </a:lnTo>
                <a:lnTo>
                  <a:pt x="1644" y="812"/>
                </a:lnTo>
                <a:lnTo>
                  <a:pt x="1632" y="807"/>
                </a:lnTo>
                <a:lnTo>
                  <a:pt x="1619" y="803"/>
                </a:lnTo>
                <a:lnTo>
                  <a:pt x="1593" y="794"/>
                </a:lnTo>
                <a:lnTo>
                  <a:pt x="1567" y="785"/>
                </a:lnTo>
                <a:lnTo>
                  <a:pt x="1541" y="778"/>
                </a:lnTo>
                <a:lnTo>
                  <a:pt x="1513" y="771"/>
                </a:lnTo>
                <a:lnTo>
                  <a:pt x="1486" y="766"/>
                </a:lnTo>
                <a:lnTo>
                  <a:pt x="1459" y="761"/>
                </a:lnTo>
                <a:lnTo>
                  <a:pt x="1431" y="757"/>
                </a:lnTo>
                <a:lnTo>
                  <a:pt x="1403" y="754"/>
                </a:lnTo>
                <a:lnTo>
                  <a:pt x="1389" y="752"/>
                </a:lnTo>
                <a:lnTo>
                  <a:pt x="1375" y="751"/>
                </a:lnTo>
                <a:lnTo>
                  <a:pt x="1347" y="750"/>
                </a:lnTo>
                <a:lnTo>
                  <a:pt x="1318" y="749"/>
                </a:lnTo>
                <a:lnTo>
                  <a:pt x="1288" y="750"/>
                </a:lnTo>
                <a:lnTo>
                  <a:pt x="1259" y="752"/>
                </a:lnTo>
                <a:lnTo>
                  <a:pt x="1229" y="754"/>
                </a:lnTo>
                <a:lnTo>
                  <a:pt x="1200" y="757"/>
                </a:lnTo>
                <a:lnTo>
                  <a:pt x="1186" y="760"/>
                </a:lnTo>
                <a:lnTo>
                  <a:pt x="1171" y="762"/>
                </a:lnTo>
                <a:lnTo>
                  <a:pt x="1143" y="767"/>
                </a:lnTo>
                <a:lnTo>
                  <a:pt x="1114" y="773"/>
                </a:lnTo>
                <a:lnTo>
                  <a:pt x="1087" y="781"/>
                </a:lnTo>
                <a:lnTo>
                  <a:pt x="1059" y="789"/>
                </a:lnTo>
                <a:lnTo>
                  <a:pt x="1032" y="798"/>
                </a:lnTo>
                <a:lnTo>
                  <a:pt x="1005" y="807"/>
                </a:lnTo>
                <a:lnTo>
                  <a:pt x="979" y="818"/>
                </a:lnTo>
                <a:lnTo>
                  <a:pt x="953" y="830"/>
                </a:lnTo>
                <a:lnTo>
                  <a:pt x="928" y="842"/>
                </a:lnTo>
                <a:lnTo>
                  <a:pt x="903" y="855"/>
                </a:lnTo>
                <a:lnTo>
                  <a:pt x="879" y="869"/>
                </a:lnTo>
                <a:lnTo>
                  <a:pt x="854" y="855"/>
                </a:lnTo>
                <a:lnTo>
                  <a:pt x="829" y="842"/>
                </a:lnTo>
                <a:lnTo>
                  <a:pt x="804" y="830"/>
                </a:lnTo>
                <a:lnTo>
                  <a:pt x="778" y="818"/>
                </a:lnTo>
                <a:lnTo>
                  <a:pt x="752" y="807"/>
                </a:lnTo>
                <a:lnTo>
                  <a:pt x="738" y="802"/>
                </a:lnTo>
                <a:lnTo>
                  <a:pt x="725" y="798"/>
                </a:lnTo>
                <a:lnTo>
                  <a:pt x="698" y="789"/>
                </a:lnTo>
                <a:lnTo>
                  <a:pt x="671" y="781"/>
                </a:lnTo>
                <a:lnTo>
                  <a:pt x="643" y="773"/>
                </a:lnTo>
                <a:lnTo>
                  <a:pt x="615" y="767"/>
                </a:lnTo>
                <a:lnTo>
                  <a:pt x="586" y="762"/>
                </a:lnTo>
                <a:lnTo>
                  <a:pt x="557" y="757"/>
                </a:lnTo>
                <a:lnTo>
                  <a:pt x="528" y="754"/>
                </a:lnTo>
                <a:lnTo>
                  <a:pt x="499" y="752"/>
                </a:lnTo>
                <a:lnTo>
                  <a:pt x="484" y="751"/>
                </a:lnTo>
                <a:lnTo>
                  <a:pt x="469" y="750"/>
                </a:lnTo>
                <a:lnTo>
                  <a:pt x="439" y="749"/>
                </a:lnTo>
                <a:lnTo>
                  <a:pt x="409" y="750"/>
                </a:lnTo>
                <a:lnTo>
                  <a:pt x="394" y="751"/>
                </a:lnTo>
                <a:lnTo>
                  <a:pt x="380" y="751"/>
                </a:lnTo>
                <a:lnTo>
                  <a:pt x="350" y="754"/>
                </a:lnTo>
                <a:lnTo>
                  <a:pt x="321" y="757"/>
                </a:lnTo>
                <a:lnTo>
                  <a:pt x="293" y="762"/>
                </a:lnTo>
                <a:lnTo>
                  <a:pt x="264" y="767"/>
                </a:lnTo>
                <a:lnTo>
                  <a:pt x="236" y="773"/>
                </a:lnTo>
                <a:lnTo>
                  <a:pt x="207" y="780"/>
                </a:lnTo>
                <a:lnTo>
                  <a:pt x="180" y="788"/>
                </a:lnTo>
                <a:lnTo>
                  <a:pt x="153" y="797"/>
                </a:lnTo>
                <a:lnTo>
                  <a:pt x="140" y="802"/>
                </a:lnTo>
                <a:lnTo>
                  <a:pt x="127" y="807"/>
                </a:lnTo>
                <a:lnTo>
                  <a:pt x="100" y="817"/>
                </a:lnTo>
                <a:lnTo>
                  <a:pt x="75" y="829"/>
                </a:lnTo>
                <a:lnTo>
                  <a:pt x="49" y="841"/>
                </a:lnTo>
                <a:lnTo>
                  <a:pt x="24" y="854"/>
                </a:lnTo>
                <a:lnTo>
                  <a:pt x="0" y="868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792760" y="3079800"/>
            <a:ext cx="2679840" cy="3392280"/>
          </a:xfrm>
          <a:custGeom>
            <a:avLst/>
            <a:gdLst/>
            <a:ahLst/>
            <a:rect l="l" t="t" r="r" b="b"/>
            <a:pathLst>
              <a:path w="1310" h="1631">
                <a:moveTo>
                  <a:pt x="863" y="0"/>
                </a:moveTo>
                <a:lnTo>
                  <a:pt x="887" y="14"/>
                </a:lnTo>
                <a:lnTo>
                  <a:pt x="912" y="29"/>
                </a:lnTo>
                <a:lnTo>
                  <a:pt x="935" y="45"/>
                </a:lnTo>
                <a:lnTo>
                  <a:pt x="959" y="62"/>
                </a:lnTo>
                <a:lnTo>
                  <a:pt x="981" y="79"/>
                </a:lnTo>
                <a:lnTo>
                  <a:pt x="1003" y="97"/>
                </a:lnTo>
                <a:lnTo>
                  <a:pt x="1024" y="116"/>
                </a:lnTo>
                <a:lnTo>
                  <a:pt x="1035" y="125"/>
                </a:lnTo>
                <a:lnTo>
                  <a:pt x="1045" y="135"/>
                </a:lnTo>
                <a:lnTo>
                  <a:pt x="1065" y="155"/>
                </a:lnTo>
                <a:lnTo>
                  <a:pt x="1085" y="176"/>
                </a:lnTo>
                <a:lnTo>
                  <a:pt x="1103" y="197"/>
                </a:lnTo>
                <a:lnTo>
                  <a:pt x="1113" y="208"/>
                </a:lnTo>
                <a:lnTo>
                  <a:pt x="1121" y="219"/>
                </a:lnTo>
                <a:lnTo>
                  <a:pt x="1139" y="242"/>
                </a:lnTo>
                <a:lnTo>
                  <a:pt x="1147" y="254"/>
                </a:lnTo>
                <a:lnTo>
                  <a:pt x="1155" y="265"/>
                </a:lnTo>
                <a:lnTo>
                  <a:pt x="1163" y="277"/>
                </a:lnTo>
                <a:lnTo>
                  <a:pt x="1171" y="289"/>
                </a:lnTo>
                <a:lnTo>
                  <a:pt x="1179" y="301"/>
                </a:lnTo>
                <a:lnTo>
                  <a:pt x="1186" y="313"/>
                </a:lnTo>
                <a:lnTo>
                  <a:pt x="1201" y="338"/>
                </a:lnTo>
                <a:lnTo>
                  <a:pt x="1208" y="350"/>
                </a:lnTo>
                <a:lnTo>
                  <a:pt x="1214" y="363"/>
                </a:lnTo>
                <a:lnTo>
                  <a:pt x="1227" y="389"/>
                </a:lnTo>
                <a:lnTo>
                  <a:pt x="1239" y="415"/>
                </a:lnTo>
                <a:lnTo>
                  <a:pt x="1250" y="442"/>
                </a:lnTo>
                <a:lnTo>
                  <a:pt x="1260" y="469"/>
                </a:lnTo>
                <a:lnTo>
                  <a:pt x="1269" y="496"/>
                </a:lnTo>
                <a:lnTo>
                  <a:pt x="1274" y="510"/>
                </a:lnTo>
                <a:lnTo>
                  <a:pt x="1278" y="524"/>
                </a:lnTo>
                <a:lnTo>
                  <a:pt x="1285" y="553"/>
                </a:lnTo>
                <a:lnTo>
                  <a:pt x="1292" y="581"/>
                </a:lnTo>
                <a:lnTo>
                  <a:pt x="1297" y="610"/>
                </a:lnTo>
                <a:lnTo>
                  <a:pt x="1300" y="625"/>
                </a:lnTo>
                <a:lnTo>
                  <a:pt x="1302" y="640"/>
                </a:lnTo>
                <a:lnTo>
                  <a:pt x="1305" y="670"/>
                </a:lnTo>
                <a:lnTo>
                  <a:pt x="1307" y="684"/>
                </a:lnTo>
                <a:lnTo>
                  <a:pt x="1308" y="699"/>
                </a:lnTo>
                <a:lnTo>
                  <a:pt x="1310" y="730"/>
                </a:lnTo>
                <a:lnTo>
                  <a:pt x="1310" y="760"/>
                </a:lnTo>
                <a:lnTo>
                  <a:pt x="1310" y="783"/>
                </a:lnTo>
                <a:lnTo>
                  <a:pt x="1309" y="805"/>
                </a:lnTo>
                <a:lnTo>
                  <a:pt x="1307" y="827"/>
                </a:lnTo>
                <a:lnTo>
                  <a:pt x="1306" y="849"/>
                </a:lnTo>
                <a:lnTo>
                  <a:pt x="1303" y="871"/>
                </a:lnTo>
                <a:lnTo>
                  <a:pt x="1300" y="893"/>
                </a:lnTo>
                <a:lnTo>
                  <a:pt x="1296" y="914"/>
                </a:lnTo>
                <a:lnTo>
                  <a:pt x="1292" y="936"/>
                </a:lnTo>
                <a:lnTo>
                  <a:pt x="1288" y="957"/>
                </a:lnTo>
                <a:lnTo>
                  <a:pt x="1283" y="978"/>
                </a:lnTo>
                <a:lnTo>
                  <a:pt x="1277" y="998"/>
                </a:lnTo>
                <a:lnTo>
                  <a:pt x="1271" y="1020"/>
                </a:lnTo>
                <a:lnTo>
                  <a:pt x="1264" y="1040"/>
                </a:lnTo>
                <a:lnTo>
                  <a:pt x="1257" y="1060"/>
                </a:lnTo>
                <a:lnTo>
                  <a:pt x="1250" y="1080"/>
                </a:lnTo>
                <a:lnTo>
                  <a:pt x="1242" y="1100"/>
                </a:lnTo>
                <a:lnTo>
                  <a:pt x="1233" y="1119"/>
                </a:lnTo>
                <a:lnTo>
                  <a:pt x="1224" y="1138"/>
                </a:lnTo>
                <a:lnTo>
                  <a:pt x="1215" y="1157"/>
                </a:lnTo>
                <a:lnTo>
                  <a:pt x="1205" y="1176"/>
                </a:lnTo>
                <a:lnTo>
                  <a:pt x="1195" y="1194"/>
                </a:lnTo>
                <a:lnTo>
                  <a:pt x="1184" y="1212"/>
                </a:lnTo>
                <a:lnTo>
                  <a:pt x="1173" y="1230"/>
                </a:lnTo>
                <a:lnTo>
                  <a:pt x="1161" y="1248"/>
                </a:lnTo>
                <a:lnTo>
                  <a:pt x="1150" y="1265"/>
                </a:lnTo>
                <a:lnTo>
                  <a:pt x="1137" y="1282"/>
                </a:lnTo>
                <a:lnTo>
                  <a:pt x="1125" y="1298"/>
                </a:lnTo>
                <a:lnTo>
                  <a:pt x="1111" y="1315"/>
                </a:lnTo>
                <a:lnTo>
                  <a:pt x="1098" y="1331"/>
                </a:lnTo>
                <a:lnTo>
                  <a:pt x="1084" y="1346"/>
                </a:lnTo>
                <a:lnTo>
                  <a:pt x="1070" y="1361"/>
                </a:lnTo>
                <a:lnTo>
                  <a:pt x="1055" y="1376"/>
                </a:lnTo>
                <a:lnTo>
                  <a:pt x="1040" y="1391"/>
                </a:lnTo>
                <a:lnTo>
                  <a:pt x="1025" y="1405"/>
                </a:lnTo>
                <a:lnTo>
                  <a:pt x="1009" y="1419"/>
                </a:lnTo>
                <a:lnTo>
                  <a:pt x="993" y="1433"/>
                </a:lnTo>
                <a:lnTo>
                  <a:pt x="977" y="1446"/>
                </a:lnTo>
                <a:lnTo>
                  <a:pt x="961" y="1458"/>
                </a:lnTo>
                <a:lnTo>
                  <a:pt x="944" y="1471"/>
                </a:lnTo>
                <a:lnTo>
                  <a:pt x="927" y="1483"/>
                </a:lnTo>
                <a:lnTo>
                  <a:pt x="909" y="1494"/>
                </a:lnTo>
                <a:lnTo>
                  <a:pt x="891" y="1505"/>
                </a:lnTo>
                <a:lnTo>
                  <a:pt x="873" y="1516"/>
                </a:lnTo>
                <a:lnTo>
                  <a:pt x="855" y="1526"/>
                </a:lnTo>
                <a:lnTo>
                  <a:pt x="836" y="1536"/>
                </a:lnTo>
                <a:lnTo>
                  <a:pt x="817" y="1545"/>
                </a:lnTo>
                <a:lnTo>
                  <a:pt x="798" y="1554"/>
                </a:lnTo>
                <a:lnTo>
                  <a:pt x="779" y="1563"/>
                </a:lnTo>
                <a:lnTo>
                  <a:pt x="759" y="1571"/>
                </a:lnTo>
                <a:lnTo>
                  <a:pt x="739" y="1578"/>
                </a:lnTo>
                <a:lnTo>
                  <a:pt x="719" y="1585"/>
                </a:lnTo>
                <a:lnTo>
                  <a:pt x="699" y="1592"/>
                </a:lnTo>
                <a:lnTo>
                  <a:pt x="678" y="1598"/>
                </a:lnTo>
                <a:lnTo>
                  <a:pt x="658" y="1604"/>
                </a:lnTo>
                <a:lnTo>
                  <a:pt x="615" y="1613"/>
                </a:lnTo>
                <a:lnTo>
                  <a:pt x="593" y="1618"/>
                </a:lnTo>
                <a:lnTo>
                  <a:pt x="572" y="1621"/>
                </a:lnTo>
                <a:lnTo>
                  <a:pt x="550" y="1624"/>
                </a:lnTo>
                <a:lnTo>
                  <a:pt x="528" y="1627"/>
                </a:lnTo>
                <a:lnTo>
                  <a:pt x="506" y="1629"/>
                </a:lnTo>
                <a:lnTo>
                  <a:pt x="484" y="1630"/>
                </a:lnTo>
                <a:lnTo>
                  <a:pt x="462" y="1631"/>
                </a:lnTo>
                <a:lnTo>
                  <a:pt x="439" y="1631"/>
                </a:lnTo>
                <a:lnTo>
                  <a:pt x="409" y="1631"/>
                </a:lnTo>
                <a:lnTo>
                  <a:pt x="380" y="1629"/>
                </a:lnTo>
                <a:lnTo>
                  <a:pt x="350" y="1627"/>
                </a:lnTo>
                <a:lnTo>
                  <a:pt x="321" y="1623"/>
                </a:lnTo>
                <a:lnTo>
                  <a:pt x="307" y="1621"/>
                </a:lnTo>
                <a:lnTo>
                  <a:pt x="292" y="1619"/>
                </a:lnTo>
                <a:lnTo>
                  <a:pt x="264" y="1613"/>
                </a:lnTo>
                <a:lnTo>
                  <a:pt x="235" y="1607"/>
                </a:lnTo>
                <a:lnTo>
                  <a:pt x="208" y="1600"/>
                </a:lnTo>
                <a:lnTo>
                  <a:pt x="180" y="1592"/>
                </a:lnTo>
                <a:lnTo>
                  <a:pt x="153" y="1583"/>
                </a:lnTo>
                <a:lnTo>
                  <a:pt x="126" y="1573"/>
                </a:lnTo>
                <a:lnTo>
                  <a:pt x="100" y="1563"/>
                </a:lnTo>
                <a:lnTo>
                  <a:pt x="74" y="1551"/>
                </a:lnTo>
                <a:lnTo>
                  <a:pt x="49" y="1539"/>
                </a:lnTo>
                <a:lnTo>
                  <a:pt x="24" y="1526"/>
                </a:lnTo>
                <a:lnTo>
                  <a:pt x="0" y="1512"/>
                </a:lnTo>
                <a:lnTo>
                  <a:pt x="23" y="1498"/>
                </a:lnTo>
                <a:lnTo>
                  <a:pt x="47" y="1482"/>
                </a:lnTo>
                <a:lnTo>
                  <a:pt x="69" y="1466"/>
                </a:lnTo>
                <a:lnTo>
                  <a:pt x="92" y="1450"/>
                </a:lnTo>
                <a:lnTo>
                  <a:pt x="113" y="1432"/>
                </a:lnTo>
                <a:lnTo>
                  <a:pt x="134" y="1414"/>
                </a:lnTo>
                <a:lnTo>
                  <a:pt x="145" y="1405"/>
                </a:lnTo>
                <a:lnTo>
                  <a:pt x="155" y="1396"/>
                </a:lnTo>
                <a:lnTo>
                  <a:pt x="175" y="1377"/>
                </a:lnTo>
                <a:lnTo>
                  <a:pt x="194" y="1357"/>
                </a:lnTo>
                <a:lnTo>
                  <a:pt x="213" y="1336"/>
                </a:lnTo>
                <a:lnTo>
                  <a:pt x="231" y="1315"/>
                </a:lnTo>
                <a:lnTo>
                  <a:pt x="239" y="1304"/>
                </a:lnTo>
                <a:lnTo>
                  <a:pt x="248" y="1293"/>
                </a:lnTo>
                <a:lnTo>
                  <a:pt x="265" y="1271"/>
                </a:lnTo>
                <a:lnTo>
                  <a:pt x="281" y="1248"/>
                </a:lnTo>
                <a:lnTo>
                  <a:pt x="296" y="1225"/>
                </a:lnTo>
                <a:lnTo>
                  <a:pt x="310" y="1201"/>
                </a:lnTo>
                <a:lnTo>
                  <a:pt x="324" y="1177"/>
                </a:lnTo>
                <a:lnTo>
                  <a:pt x="337" y="1152"/>
                </a:lnTo>
                <a:lnTo>
                  <a:pt x="349" y="1127"/>
                </a:lnTo>
                <a:lnTo>
                  <a:pt x="361" y="1101"/>
                </a:lnTo>
                <a:lnTo>
                  <a:pt x="371" y="1075"/>
                </a:lnTo>
                <a:lnTo>
                  <a:pt x="376" y="1062"/>
                </a:lnTo>
                <a:lnTo>
                  <a:pt x="381" y="1049"/>
                </a:lnTo>
                <a:lnTo>
                  <a:pt x="390" y="1022"/>
                </a:lnTo>
                <a:lnTo>
                  <a:pt x="398" y="994"/>
                </a:lnTo>
                <a:lnTo>
                  <a:pt x="405" y="966"/>
                </a:lnTo>
                <a:lnTo>
                  <a:pt x="412" y="938"/>
                </a:lnTo>
                <a:lnTo>
                  <a:pt x="417" y="910"/>
                </a:lnTo>
                <a:lnTo>
                  <a:pt x="419" y="895"/>
                </a:lnTo>
                <a:lnTo>
                  <a:pt x="421" y="881"/>
                </a:lnTo>
                <a:lnTo>
                  <a:pt x="425" y="852"/>
                </a:lnTo>
                <a:lnTo>
                  <a:pt x="426" y="838"/>
                </a:lnTo>
                <a:lnTo>
                  <a:pt x="428" y="823"/>
                </a:lnTo>
                <a:lnTo>
                  <a:pt x="428" y="808"/>
                </a:lnTo>
                <a:lnTo>
                  <a:pt x="429" y="793"/>
                </a:lnTo>
                <a:lnTo>
                  <a:pt x="430" y="764"/>
                </a:lnTo>
                <a:lnTo>
                  <a:pt x="454" y="749"/>
                </a:lnTo>
                <a:lnTo>
                  <a:pt x="477" y="734"/>
                </a:lnTo>
                <a:lnTo>
                  <a:pt x="500" y="718"/>
                </a:lnTo>
                <a:lnTo>
                  <a:pt x="523" y="701"/>
                </a:lnTo>
                <a:lnTo>
                  <a:pt x="533" y="693"/>
                </a:lnTo>
                <a:lnTo>
                  <a:pt x="544" y="684"/>
                </a:lnTo>
                <a:lnTo>
                  <a:pt x="566" y="666"/>
                </a:lnTo>
                <a:lnTo>
                  <a:pt x="586" y="647"/>
                </a:lnTo>
                <a:lnTo>
                  <a:pt x="606" y="628"/>
                </a:lnTo>
                <a:lnTo>
                  <a:pt x="626" y="608"/>
                </a:lnTo>
                <a:lnTo>
                  <a:pt x="644" y="587"/>
                </a:lnTo>
                <a:lnTo>
                  <a:pt x="655" y="577"/>
                </a:lnTo>
                <a:lnTo>
                  <a:pt x="664" y="566"/>
                </a:lnTo>
                <a:lnTo>
                  <a:pt x="681" y="544"/>
                </a:lnTo>
                <a:lnTo>
                  <a:pt x="698" y="522"/>
                </a:lnTo>
                <a:lnTo>
                  <a:pt x="714" y="499"/>
                </a:lnTo>
                <a:lnTo>
                  <a:pt x="729" y="475"/>
                </a:lnTo>
                <a:lnTo>
                  <a:pt x="744" y="452"/>
                </a:lnTo>
                <a:lnTo>
                  <a:pt x="757" y="427"/>
                </a:lnTo>
                <a:lnTo>
                  <a:pt x="771" y="402"/>
                </a:lnTo>
                <a:lnTo>
                  <a:pt x="783" y="377"/>
                </a:lnTo>
                <a:lnTo>
                  <a:pt x="794" y="351"/>
                </a:lnTo>
                <a:lnTo>
                  <a:pt x="805" y="325"/>
                </a:lnTo>
                <a:lnTo>
                  <a:pt x="810" y="311"/>
                </a:lnTo>
                <a:lnTo>
                  <a:pt x="815" y="298"/>
                </a:lnTo>
                <a:lnTo>
                  <a:pt x="824" y="271"/>
                </a:lnTo>
                <a:lnTo>
                  <a:pt x="832" y="244"/>
                </a:lnTo>
                <a:lnTo>
                  <a:pt x="839" y="216"/>
                </a:lnTo>
                <a:lnTo>
                  <a:pt x="845" y="188"/>
                </a:lnTo>
                <a:lnTo>
                  <a:pt x="850" y="159"/>
                </a:lnTo>
                <a:lnTo>
                  <a:pt x="855" y="130"/>
                </a:lnTo>
                <a:lnTo>
                  <a:pt x="858" y="101"/>
                </a:lnTo>
                <a:lnTo>
                  <a:pt x="861" y="72"/>
                </a:lnTo>
                <a:lnTo>
                  <a:pt x="862" y="57"/>
                </a:lnTo>
                <a:lnTo>
                  <a:pt x="862" y="42"/>
                </a:lnTo>
                <a:lnTo>
                  <a:pt x="863" y="12"/>
                </a:lnTo>
                <a:lnTo>
                  <a:pt x="863" y="0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913280" y="4667400"/>
            <a:ext cx="1774800" cy="1562040"/>
          </a:xfrm>
          <a:custGeom>
            <a:avLst/>
            <a:gdLst/>
            <a:ahLst/>
            <a:rect l="l" t="t" r="r" b="b"/>
            <a:pathLst>
              <a:path w="861" h="748">
                <a:moveTo>
                  <a:pt x="861" y="0"/>
                </a:moveTo>
                <a:lnTo>
                  <a:pt x="860" y="29"/>
                </a:lnTo>
                <a:lnTo>
                  <a:pt x="859" y="59"/>
                </a:lnTo>
                <a:lnTo>
                  <a:pt x="856" y="88"/>
                </a:lnTo>
                <a:lnTo>
                  <a:pt x="852" y="117"/>
                </a:lnTo>
                <a:lnTo>
                  <a:pt x="848" y="146"/>
                </a:lnTo>
                <a:lnTo>
                  <a:pt x="843" y="174"/>
                </a:lnTo>
                <a:lnTo>
                  <a:pt x="836" y="202"/>
                </a:lnTo>
                <a:lnTo>
                  <a:pt x="829" y="230"/>
                </a:lnTo>
                <a:lnTo>
                  <a:pt x="821" y="258"/>
                </a:lnTo>
                <a:lnTo>
                  <a:pt x="812" y="285"/>
                </a:lnTo>
                <a:lnTo>
                  <a:pt x="807" y="298"/>
                </a:lnTo>
                <a:lnTo>
                  <a:pt x="802" y="311"/>
                </a:lnTo>
                <a:lnTo>
                  <a:pt x="792" y="337"/>
                </a:lnTo>
                <a:lnTo>
                  <a:pt x="780" y="363"/>
                </a:lnTo>
                <a:lnTo>
                  <a:pt x="768" y="388"/>
                </a:lnTo>
                <a:lnTo>
                  <a:pt x="755" y="413"/>
                </a:lnTo>
                <a:lnTo>
                  <a:pt x="741" y="437"/>
                </a:lnTo>
                <a:lnTo>
                  <a:pt x="727" y="461"/>
                </a:lnTo>
                <a:lnTo>
                  <a:pt x="712" y="484"/>
                </a:lnTo>
                <a:lnTo>
                  <a:pt x="696" y="507"/>
                </a:lnTo>
                <a:lnTo>
                  <a:pt x="679" y="529"/>
                </a:lnTo>
                <a:lnTo>
                  <a:pt x="662" y="551"/>
                </a:lnTo>
                <a:lnTo>
                  <a:pt x="644" y="572"/>
                </a:lnTo>
                <a:lnTo>
                  <a:pt x="635" y="582"/>
                </a:lnTo>
                <a:lnTo>
                  <a:pt x="625" y="593"/>
                </a:lnTo>
                <a:lnTo>
                  <a:pt x="606" y="613"/>
                </a:lnTo>
                <a:lnTo>
                  <a:pt x="586" y="632"/>
                </a:lnTo>
                <a:lnTo>
                  <a:pt x="565" y="650"/>
                </a:lnTo>
                <a:lnTo>
                  <a:pt x="544" y="668"/>
                </a:lnTo>
                <a:lnTo>
                  <a:pt x="534" y="677"/>
                </a:lnTo>
                <a:lnTo>
                  <a:pt x="523" y="686"/>
                </a:lnTo>
                <a:lnTo>
                  <a:pt x="500" y="702"/>
                </a:lnTo>
                <a:lnTo>
                  <a:pt x="478" y="718"/>
                </a:lnTo>
                <a:lnTo>
                  <a:pt x="454" y="734"/>
                </a:lnTo>
                <a:lnTo>
                  <a:pt x="431" y="748"/>
                </a:lnTo>
                <a:lnTo>
                  <a:pt x="407" y="734"/>
                </a:lnTo>
                <a:lnTo>
                  <a:pt x="384" y="719"/>
                </a:lnTo>
                <a:lnTo>
                  <a:pt x="361" y="703"/>
                </a:lnTo>
                <a:lnTo>
                  <a:pt x="350" y="695"/>
                </a:lnTo>
                <a:lnTo>
                  <a:pt x="339" y="686"/>
                </a:lnTo>
                <a:lnTo>
                  <a:pt x="328" y="678"/>
                </a:lnTo>
                <a:lnTo>
                  <a:pt x="318" y="669"/>
                </a:lnTo>
                <a:lnTo>
                  <a:pt x="297" y="651"/>
                </a:lnTo>
                <a:lnTo>
                  <a:pt x="287" y="642"/>
                </a:lnTo>
                <a:lnTo>
                  <a:pt x="277" y="633"/>
                </a:lnTo>
                <a:lnTo>
                  <a:pt x="257" y="614"/>
                </a:lnTo>
                <a:lnTo>
                  <a:pt x="238" y="594"/>
                </a:lnTo>
                <a:lnTo>
                  <a:pt x="219" y="574"/>
                </a:lnTo>
                <a:lnTo>
                  <a:pt x="201" y="553"/>
                </a:lnTo>
                <a:lnTo>
                  <a:pt x="184" y="532"/>
                </a:lnTo>
                <a:lnTo>
                  <a:pt x="176" y="521"/>
                </a:lnTo>
                <a:lnTo>
                  <a:pt x="167" y="510"/>
                </a:lnTo>
                <a:lnTo>
                  <a:pt x="152" y="487"/>
                </a:lnTo>
                <a:lnTo>
                  <a:pt x="136" y="464"/>
                </a:lnTo>
                <a:lnTo>
                  <a:pt x="122" y="441"/>
                </a:lnTo>
                <a:lnTo>
                  <a:pt x="108" y="417"/>
                </a:lnTo>
                <a:lnTo>
                  <a:pt x="95" y="392"/>
                </a:lnTo>
                <a:lnTo>
                  <a:pt x="83" y="368"/>
                </a:lnTo>
                <a:lnTo>
                  <a:pt x="71" y="342"/>
                </a:lnTo>
                <a:lnTo>
                  <a:pt x="61" y="316"/>
                </a:lnTo>
                <a:lnTo>
                  <a:pt x="51" y="290"/>
                </a:lnTo>
                <a:lnTo>
                  <a:pt x="42" y="264"/>
                </a:lnTo>
                <a:lnTo>
                  <a:pt x="34" y="236"/>
                </a:lnTo>
                <a:lnTo>
                  <a:pt x="26" y="208"/>
                </a:lnTo>
                <a:lnTo>
                  <a:pt x="20" y="181"/>
                </a:lnTo>
                <a:lnTo>
                  <a:pt x="14" y="153"/>
                </a:lnTo>
                <a:lnTo>
                  <a:pt x="10" y="124"/>
                </a:lnTo>
                <a:lnTo>
                  <a:pt x="6" y="96"/>
                </a:lnTo>
                <a:lnTo>
                  <a:pt x="3" y="67"/>
                </a:lnTo>
                <a:lnTo>
                  <a:pt x="2" y="52"/>
                </a:lnTo>
                <a:lnTo>
                  <a:pt x="1" y="38"/>
                </a:lnTo>
                <a:lnTo>
                  <a:pt x="0" y="8"/>
                </a:lnTo>
                <a:lnTo>
                  <a:pt x="24" y="21"/>
                </a:lnTo>
                <a:lnTo>
                  <a:pt x="48" y="33"/>
                </a:lnTo>
                <a:lnTo>
                  <a:pt x="73" y="44"/>
                </a:lnTo>
                <a:lnTo>
                  <a:pt x="85" y="50"/>
                </a:lnTo>
                <a:lnTo>
                  <a:pt x="98" y="55"/>
                </a:lnTo>
                <a:lnTo>
                  <a:pt x="110" y="60"/>
                </a:lnTo>
                <a:lnTo>
                  <a:pt x="123" y="65"/>
                </a:lnTo>
                <a:lnTo>
                  <a:pt x="149" y="74"/>
                </a:lnTo>
                <a:lnTo>
                  <a:pt x="175" y="82"/>
                </a:lnTo>
                <a:lnTo>
                  <a:pt x="201" y="89"/>
                </a:lnTo>
                <a:lnTo>
                  <a:pt x="228" y="96"/>
                </a:lnTo>
                <a:lnTo>
                  <a:pt x="255" y="102"/>
                </a:lnTo>
                <a:lnTo>
                  <a:pt x="282" y="106"/>
                </a:lnTo>
                <a:lnTo>
                  <a:pt x="310" y="110"/>
                </a:lnTo>
                <a:lnTo>
                  <a:pt x="338" y="114"/>
                </a:lnTo>
                <a:lnTo>
                  <a:pt x="352" y="115"/>
                </a:lnTo>
                <a:lnTo>
                  <a:pt x="366" y="116"/>
                </a:lnTo>
                <a:lnTo>
                  <a:pt x="394" y="117"/>
                </a:lnTo>
                <a:lnTo>
                  <a:pt x="423" y="118"/>
                </a:lnTo>
                <a:lnTo>
                  <a:pt x="453" y="117"/>
                </a:lnTo>
                <a:lnTo>
                  <a:pt x="468" y="117"/>
                </a:lnTo>
                <a:lnTo>
                  <a:pt x="482" y="116"/>
                </a:lnTo>
                <a:lnTo>
                  <a:pt x="512" y="113"/>
                </a:lnTo>
                <a:lnTo>
                  <a:pt x="541" y="110"/>
                </a:lnTo>
                <a:lnTo>
                  <a:pt x="569" y="105"/>
                </a:lnTo>
                <a:lnTo>
                  <a:pt x="598" y="100"/>
                </a:lnTo>
                <a:lnTo>
                  <a:pt x="626" y="94"/>
                </a:lnTo>
                <a:lnTo>
                  <a:pt x="653" y="87"/>
                </a:lnTo>
                <a:lnTo>
                  <a:pt x="681" y="79"/>
                </a:lnTo>
                <a:lnTo>
                  <a:pt x="708" y="70"/>
                </a:lnTo>
                <a:lnTo>
                  <a:pt x="721" y="65"/>
                </a:lnTo>
                <a:lnTo>
                  <a:pt x="734" y="60"/>
                </a:lnTo>
                <a:lnTo>
                  <a:pt x="761" y="50"/>
                </a:lnTo>
                <a:lnTo>
                  <a:pt x="786" y="38"/>
                </a:lnTo>
                <a:lnTo>
                  <a:pt x="812" y="26"/>
                </a:lnTo>
                <a:lnTo>
                  <a:pt x="836" y="13"/>
                </a:lnTo>
                <a:lnTo>
                  <a:pt x="86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00680" y="2863800"/>
            <a:ext cx="1803240" cy="1824120"/>
          </a:xfrm>
          <a:custGeom>
            <a:avLst/>
            <a:gdLst/>
            <a:ahLst/>
            <a:rect l="l" t="t" r="r" b="b"/>
            <a:pathLst>
              <a:path w="879" h="882">
                <a:moveTo>
                  <a:pt x="879" y="120"/>
                </a:moveTo>
                <a:lnTo>
                  <a:pt x="855" y="134"/>
                </a:lnTo>
                <a:lnTo>
                  <a:pt x="831" y="149"/>
                </a:lnTo>
                <a:lnTo>
                  <a:pt x="808" y="165"/>
                </a:lnTo>
                <a:lnTo>
                  <a:pt x="786" y="182"/>
                </a:lnTo>
                <a:lnTo>
                  <a:pt x="764" y="199"/>
                </a:lnTo>
                <a:lnTo>
                  <a:pt x="743" y="218"/>
                </a:lnTo>
                <a:lnTo>
                  <a:pt x="723" y="236"/>
                </a:lnTo>
                <a:lnTo>
                  <a:pt x="703" y="256"/>
                </a:lnTo>
                <a:lnTo>
                  <a:pt x="683" y="276"/>
                </a:lnTo>
                <a:lnTo>
                  <a:pt x="665" y="296"/>
                </a:lnTo>
                <a:lnTo>
                  <a:pt x="656" y="307"/>
                </a:lnTo>
                <a:lnTo>
                  <a:pt x="647" y="317"/>
                </a:lnTo>
                <a:lnTo>
                  <a:pt x="629" y="339"/>
                </a:lnTo>
                <a:lnTo>
                  <a:pt x="613" y="361"/>
                </a:lnTo>
                <a:lnTo>
                  <a:pt x="597" y="384"/>
                </a:lnTo>
                <a:lnTo>
                  <a:pt x="581" y="408"/>
                </a:lnTo>
                <a:lnTo>
                  <a:pt x="567" y="432"/>
                </a:lnTo>
                <a:lnTo>
                  <a:pt x="553" y="456"/>
                </a:lnTo>
                <a:lnTo>
                  <a:pt x="540" y="481"/>
                </a:lnTo>
                <a:lnTo>
                  <a:pt x="528" y="506"/>
                </a:lnTo>
                <a:lnTo>
                  <a:pt x="517" y="532"/>
                </a:lnTo>
                <a:lnTo>
                  <a:pt x="506" y="558"/>
                </a:lnTo>
                <a:lnTo>
                  <a:pt x="501" y="571"/>
                </a:lnTo>
                <a:lnTo>
                  <a:pt x="496" y="585"/>
                </a:lnTo>
                <a:lnTo>
                  <a:pt x="487" y="612"/>
                </a:lnTo>
                <a:lnTo>
                  <a:pt x="479" y="639"/>
                </a:lnTo>
                <a:lnTo>
                  <a:pt x="472" y="667"/>
                </a:lnTo>
                <a:lnTo>
                  <a:pt x="466" y="695"/>
                </a:lnTo>
                <a:lnTo>
                  <a:pt x="461" y="724"/>
                </a:lnTo>
                <a:lnTo>
                  <a:pt x="456" y="752"/>
                </a:lnTo>
                <a:lnTo>
                  <a:pt x="453" y="781"/>
                </a:lnTo>
                <a:lnTo>
                  <a:pt x="450" y="811"/>
                </a:lnTo>
                <a:lnTo>
                  <a:pt x="450" y="826"/>
                </a:lnTo>
                <a:lnTo>
                  <a:pt x="449" y="840"/>
                </a:lnTo>
                <a:lnTo>
                  <a:pt x="448" y="870"/>
                </a:lnTo>
                <a:lnTo>
                  <a:pt x="448" y="882"/>
                </a:lnTo>
                <a:lnTo>
                  <a:pt x="421" y="869"/>
                </a:lnTo>
                <a:lnTo>
                  <a:pt x="399" y="853"/>
                </a:lnTo>
                <a:lnTo>
                  <a:pt x="376" y="837"/>
                </a:lnTo>
                <a:lnTo>
                  <a:pt x="353" y="821"/>
                </a:lnTo>
                <a:lnTo>
                  <a:pt x="330" y="803"/>
                </a:lnTo>
                <a:lnTo>
                  <a:pt x="308" y="785"/>
                </a:lnTo>
                <a:lnTo>
                  <a:pt x="287" y="766"/>
                </a:lnTo>
                <a:lnTo>
                  <a:pt x="276" y="757"/>
                </a:lnTo>
                <a:lnTo>
                  <a:pt x="266" y="747"/>
                </a:lnTo>
                <a:lnTo>
                  <a:pt x="246" y="727"/>
                </a:lnTo>
                <a:lnTo>
                  <a:pt x="226" y="706"/>
                </a:lnTo>
                <a:lnTo>
                  <a:pt x="207" y="685"/>
                </a:lnTo>
                <a:lnTo>
                  <a:pt x="198" y="674"/>
                </a:lnTo>
                <a:lnTo>
                  <a:pt x="189" y="663"/>
                </a:lnTo>
                <a:lnTo>
                  <a:pt x="171" y="640"/>
                </a:lnTo>
                <a:lnTo>
                  <a:pt x="163" y="629"/>
                </a:lnTo>
                <a:lnTo>
                  <a:pt x="155" y="617"/>
                </a:lnTo>
                <a:lnTo>
                  <a:pt x="147" y="605"/>
                </a:lnTo>
                <a:lnTo>
                  <a:pt x="139" y="593"/>
                </a:lnTo>
                <a:lnTo>
                  <a:pt x="131" y="581"/>
                </a:lnTo>
                <a:lnTo>
                  <a:pt x="124" y="569"/>
                </a:lnTo>
                <a:lnTo>
                  <a:pt x="109" y="544"/>
                </a:lnTo>
                <a:lnTo>
                  <a:pt x="103" y="532"/>
                </a:lnTo>
                <a:lnTo>
                  <a:pt x="96" y="519"/>
                </a:lnTo>
                <a:lnTo>
                  <a:pt x="83" y="493"/>
                </a:lnTo>
                <a:lnTo>
                  <a:pt x="71" y="467"/>
                </a:lnTo>
                <a:lnTo>
                  <a:pt x="60" y="440"/>
                </a:lnTo>
                <a:lnTo>
                  <a:pt x="50" y="413"/>
                </a:lnTo>
                <a:lnTo>
                  <a:pt x="41" y="386"/>
                </a:lnTo>
                <a:lnTo>
                  <a:pt x="37" y="372"/>
                </a:lnTo>
                <a:lnTo>
                  <a:pt x="32" y="358"/>
                </a:lnTo>
                <a:lnTo>
                  <a:pt x="25" y="330"/>
                </a:lnTo>
                <a:lnTo>
                  <a:pt x="19" y="301"/>
                </a:lnTo>
                <a:lnTo>
                  <a:pt x="13" y="272"/>
                </a:lnTo>
                <a:lnTo>
                  <a:pt x="11" y="257"/>
                </a:lnTo>
                <a:lnTo>
                  <a:pt x="8" y="242"/>
                </a:lnTo>
                <a:lnTo>
                  <a:pt x="5" y="213"/>
                </a:lnTo>
                <a:lnTo>
                  <a:pt x="3" y="198"/>
                </a:lnTo>
                <a:lnTo>
                  <a:pt x="2" y="183"/>
                </a:lnTo>
                <a:lnTo>
                  <a:pt x="1" y="152"/>
                </a:lnTo>
                <a:lnTo>
                  <a:pt x="0" y="122"/>
                </a:lnTo>
                <a:lnTo>
                  <a:pt x="0" y="119"/>
                </a:lnTo>
                <a:lnTo>
                  <a:pt x="24" y="105"/>
                </a:lnTo>
                <a:lnTo>
                  <a:pt x="49" y="92"/>
                </a:lnTo>
                <a:lnTo>
                  <a:pt x="75" y="80"/>
                </a:lnTo>
                <a:lnTo>
                  <a:pt x="87" y="74"/>
                </a:lnTo>
                <a:lnTo>
                  <a:pt x="100" y="68"/>
                </a:lnTo>
                <a:lnTo>
                  <a:pt x="113" y="63"/>
                </a:lnTo>
                <a:lnTo>
                  <a:pt x="127" y="58"/>
                </a:lnTo>
                <a:lnTo>
                  <a:pt x="153" y="48"/>
                </a:lnTo>
                <a:lnTo>
                  <a:pt x="180" y="39"/>
                </a:lnTo>
                <a:lnTo>
                  <a:pt x="207" y="31"/>
                </a:lnTo>
                <a:lnTo>
                  <a:pt x="222" y="28"/>
                </a:lnTo>
                <a:lnTo>
                  <a:pt x="236" y="24"/>
                </a:lnTo>
                <a:lnTo>
                  <a:pt x="264" y="18"/>
                </a:lnTo>
                <a:lnTo>
                  <a:pt x="293" y="13"/>
                </a:lnTo>
                <a:lnTo>
                  <a:pt x="321" y="8"/>
                </a:lnTo>
                <a:lnTo>
                  <a:pt x="350" y="5"/>
                </a:lnTo>
                <a:lnTo>
                  <a:pt x="380" y="2"/>
                </a:lnTo>
                <a:lnTo>
                  <a:pt x="409" y="1"/>
                </a:lnTo>
                <a:lnTo>
                  <a:pt x="439" y="0"/>
                </a:lnTo>
                <a:lnTo>
                  <a:pt x="469" y="1"/>
                </a:lnTo>
                <a:lnTo>
                  <a:pt x="499" y="3"/>
                </a:lnTo>
                <a:lnTo>
                  <a:pt x="528" y="5"/>
                </a:lnTo>
                <a:lnTo>
                  <a:pt x="557" y="8"/>
                </a:lnTo>
                <a:lnTo>
                  <a:pt x="572" y="11"/>
                </a:lnTo>
                <a:lnTo>
                  <a:pt x="586" y="13"/>
                </a:lnTo>
                <a:lnTo>
                  <a:pt x="615" y="18"/>
                </a:lnTo>
                <a:lnTo>
                  <a:pt x="643" y="24"/>
                </a:lnTo>
                <a:lnTo>
                  <a:pt x="671" y="32"/>
                </a:lnTo>
                <a:lnTo>
                  <a:pt x="698" y="40"/>
                </a:lnTo>
                <a:lnTo>
                  <a:pt x="725" y="49"/>
                </a:lnTo>
                <a:lnTo>
                  <a:pt x="752" y="58"/>
                </a:lnTo>
                <a:lnTo>
                  <a:pt x="778" y="69"/>
                </a:lnTo>
                <a:lnTo>
                  <a:pt x="804" y="81"/>
                </a:lnTo>
                <a:lnTo>
                  <a:pt x="829" y="93"/>
                </a:lnTo>
                <a:lnTo>
                  <a:pt x="854" y="106"/>
                </a:lnTo>
                <a:lnTo>
                  <a:pt x="879" y="12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799240" y="2860560"/>
            <a:ext cx="1776240" cy="1812960"/>
          </a:xfrm>
          <a:custGeom>
            <a:avLst/>
            <a:gdLst/>
            <a:ahLst/>
            <a:rect l="l" t="t" r="r" b="b"/>
            <a:pathLst>
              <a:path w="863" h="874">
                <a:moveTo>
                  <a:pt x="0" y="120"/>
                </a:moveTo>
                <a:lnTo>
                  <a:pt x="24" y="106"/>
                </a:lnTo>
                <a:lnTo>
                  <a:pt x="49" y="93"/>
                </a:lnTo>
                <a:lnTo>
                  <a:pt x="74" y="81"/>
                </a:lnTo>
                <a:lnTo>
                  <a:pt x="100" y="69"/>
                </a:lnTo>
                <a:lnTo>
                  <a:pt x="126" y="58"/>
                </a:lnTo>
                <a:lnTo>
                  <a:pt x="140" y="53"/>
                </a:lnTo>
                <a:lnTo>
                  <a:pt x="153" y="49"/>
                </a:lnTo>
                <a:lnTo>
                  <a:pt x="180" y="40"/>
                </a:lnTo>
                <a:lnTo>
                  <a:pt x="208" y="32"/>
                </a:lnTo>
                <a:lnTo>
                  <a:pt x="235" y="24"/>
                </a:lnTo>
                <a:lnTo>
                  <a:pt x="264" y="18"/>
                </a:lnTo>
                <a:lnTo>
                  <a:pt x="292" y="13"/>
                </a:lnTo>
                <a:lnTo>
                  <a:pt x="321" y="8"/>
                </a:lnTo>
                <a:lnTo>
                  <a:pt x="350" y="5"/>
                </a:lnTo>
                <a:lnTo>
                  <a:pt x="380" y="3"/>
                </a:lnTo>
                <a:lnTo>
                  <a:pt x="394" y="2"/>
                </a:lnTo>
                <a:lnTo>
                  <a:pt x="409" y="1"/>
                </a:lnTo>
                <a:lnTo>
                  <a:pt x="439" y="0"/>
                </a:lnTo>
                <a:lnTo>
                  <a:pt x="468" y="1"/>
                </a:lnTo>
                <a:lnTo>
                  <a:pt x="496" y="2"/>
                </a:lnTo>
                <a:lnTo>
                  <a:pt x="524" y="5"/>
                </a:lnTo>
                <a:lnTo>
                  <a:pt x="552" y="8"/>
                </a:lnTo>
                <a:lnTo>
                  <a:pt x="580" y="12"/>
                </a:lnTo>
                <a:lnTo>
                  <a:pt x="594" y="14"/>
                </a:lnTo>
                <a:lnTo>
                  <a:pt x="607" y="17"/>
                </a:lnTo>
                <a:lnTo>
                  <a:pt x="634" y="22"/>
                </a:lnTo>
                <a:lnTo>
                  <a:pt x="662" y="29"/>
                </a:lnTo>
                <a:lnTo>
                  <a:pt x="688" y="36"/>
                </a:lnTo>
                <a:lnTo>
                  <a:pt x="701" y="40"/>
                </a:lnTo>
                <a:lnTo>
                  <a:pt x="714" y="45"/>
                </a:lnTo>
                <a:lnTo>
                  <a:pt x="740" y="54"/>
                </a:lnTo>
                <a:lnTo>
                  <a:pt x="753" y="58"/>
                </a:lnTo>
                <a:lnTo>
                  <a:pt x="765" y="63"/>
                </a:lnTo>
                <a:lnTo>
                  <a:pt x="790" y="74"/>
                </a:lnTo>
                <a:lnTo>
                  <a:pt x="815" y="85"/>
                </a:lnTo>
                <a:lnTo>
                  <a:pt x="827" y="91"/>
                </a:lnTo>
                <a:lnTo>
                  <a:pt x="839" y="97"/>
                </a:lnTo>
                <a:lnTo>
                  <a:pt x="863" y="110"/>
                </a:lnTo>
                <a:lnTo>
                  <a:pt x="863" y="122"/>
                </a:lnTo>
                <a:lnTo>
                  <a:pt x="862" y="152"/>
                </a:lnTo>
                <a:lnTo>
                  <a:pt x="861" y="182"/>
                </a:lnTo>
                <a:lnTo>
                  <a:pt x="858" y="211"/>
                </a:lnTo>
                <a:lnTo>
                  <a:pt x="855" y="240"/>
                </a:lnTo>
                <a:lnTo>
                  <a:pt x="853" y="255"/>
                </a:lnTo>
                <a:lnTo>
                  <a:pt x="850" y="269"/>
                </a:lnTo>
                <a:lnTo>
                  <a:pt x="845" y="298"/>
                </a:lnTo>
                <a:lnTo>
                  <a:pt x="839" y="326"/>
                </a:lnTo>
                <a:lnTo>
                  <a:pt x="832" y="354"/>
                </a:lnTo>
                <a:lnTo>
                  <a:pt x="824" y="381"/>
                </a:lnTo>
                <a:lnTo>
                  <a:pt x="815" y="408"/>
                </a:lnTo>
                <a:lnTo>
                  <a:pt x="805" y="435"/>
                </a:lnTo>
                <a:lnTo>
                  <a:pt x="794" y="461"/>
                </a:lnTo>
                <a:lnTo>
                  <a:pt x="783" y="487"/>
                </a:lnTo>
                <a:lnTo>
                  <a:pt x="771" y="512"/>
                </a:lnTo>
                <a:lnTo>
                  <a:pt x="757" y="537"/>
                </a:lnTo>
                <a:lnTo>
                  <a:pt x="744" y="562"/>
                </a:lnTo>
                <a:lnTo>
                  <a:pt x="729" y="585"/>
                </a:lnTo>
                <a:lnTo>
                  <a:pt x="714" y="609"/>
                </a:lnTo>
                <a:lnTo>
                  <a:pt x="698" y="632"/>
                </a:lnTo>
                <a:lnTo>
                  <a:pt x="681" y="654"/>
                </a:lnTo>
                <a:lnTo>
                  <a:pt x="664" y="676"/>
                </a:lnTo>
                <a:lnTo>
                  <a:pt x="644" y="697"/>
                </a:lnTo>
                <a:lnTo>
                  <a:pt x="626" y="718"/>
                </a:lnTo>
                <a:lnTo>
                  <a:pt x="616" y="728"/>
                </a:lnTo>
                <a:lnTo>
                  <a:pt x="606" y="738"/>
                </a:lnTo>
                <a:lnTo>
                  <a:pt x="586" y="757"/>
                </a:lnTo>
                <a:lnTo>
                  <a:pt x="566" y="776"/>
                </a:lnTo>
                <a:lnTo>
                  <a:pt x="555" y="785"/>
                </a:lnTo>
                <a:lnTo>
                  <a:pt x="544" y="794"/>
                </a:lnTo>
                <a:lnTo>
                  <a:pt x="523" y="811"/>
                </a:lnTo>
                <a:lnTo>
                  <a:pt x="511" y="820"/>
                </a:lnTo>
                <a:lnTo>
                  <a:pt x="500" y="828"/>
                </a:lnTo>
                <a:lnTo>
                  <a:pt x="477" y="844"/>
                </a:lnTo>
                <a:lnTo>
                  <a:pt x="454" y="859"/>
                </a:lnTo>
                <a:lnTo>
                  <a:pt x="430" y="874"/>
                </a:lnTo>
                <a:lnTo>
                  <a:pt x="430" y="870"/>
                </a:lnTo>
                <a:lnTo>
                  <a:pt x="429" y="840"/>
                </a:lnTo>
                <a:lnTo>
                  <a:pt x="428" y="811"/>
                </a:lnTo>
                <a:lnTo>
                  <a:pt x="425" y="781"/>
                </a:lnTo>
                <a:lnTo>
                  <a:pt x="422" y="752"/>
                </a:lnTo>
                <a:lnTo>
                  <a:pt x="420" y="738"/>
                </a:lnTo>
                <a:lnTo>
                  <a:pt x="417" y="724"/>
                </a:lnTo>
                <a:lnTo>
                  <a:pt x="412" y="695"/>
                </a:lnTo>
                <a:lnTo>
                  <a:pt x="406" y="667"/>
                </a:lnTo>
                <a:lnTo>
                  <a:pt x="402" y="653"/>
                </a:lnTo>
                <a:lnTo>
                  <a:pt x="399" y="639"/>
                </a:lnTo>
                <a:lnTo>
                  <a:pt x="391" y="612"/>
                </a:lnTo>
                <a:lnTo>
                  <a:pt x="382" y="585"/>
                </a:lnTo>
                <a:lnTo>
                  <a:pt x="372" y="558"/>
                </a:lnTo>
                <a:lnTo>
                  <a:pt x="362" y="532"/>
                </a:lnTo>
                <a:lnTo>
                  <a:pt x="350" y="506"/>
                </a:lnTo>
                <a:lnTo>
                  <a:pt x="338" y="481"/>
                </a:lnTo>
                <a:lnTo>
                  <a:pt x="325" y="456"/>
                </a:lnTo>
                <a:lnTo>
                  <a:pt x="311" y="432"/>
                </a:lnTo>
                <a:lnTo>
                  <a:pt x="297" y="408"/>
                </a:lnTo>
                <a:lnTo>
                  <a:pt x="281" y="384"/>
                </a:lnTo>
                <a:lnTo>
                  <a:pt x="265" y="361"/>
                </a:lnTo>
                <a:lnTo>
                  <a:pt x="249" y="339"/>
                </a:lnTo>
                <a:lnTo>
                  <a:pt x="231" y="317"/>
                </a:lnTo>
                <a:lnTo>
                  <a:pt x="213" y="296"/>
                </a:lnTo>
                <a:lnTo>
                  <a:pt x="204" y="286"/>
                </a:lnTo>
                <a:lnTo>
                  <a:pt x="195" y="276"/>
                </a:lnTo>
                <a:lnTo>
                  <a:pt x="175" y="256"/>
                </a:lnTo>
                <a:lnTo>
                  <a:pt x="155" y="236"/>
                </a:lnTo>
                <a:lnTo>
                  <a:pt x="135" y="218"/>
                </a:lnTo>
                <a:lnTo>
                  <a:pt x="124" y="208"/>
                </a:lnTo>
                <a:lnTo>
                  <a:pt x="114" y="199"/>
                </a:lnTo>
                <a:lnTo>
                  <a:pt x="92" y="182"/>
                </a:lnTo>
                <a:lnTo>
                  <a:pt x="70" y="165"/>
                </a:lnTo>
                <a:lnTo>
                  <a:pt x="47" y="149"/>
                </a:lnTo>
                <a:lnTo>
                  <a:pt x="23" y="134"/>
                </a:lnTo>
                <a:lnTo>
                  <a:pt x="0" y="12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496200" y="1295280"/>
            <a:ext cx="221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emantic Web Res. (E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135600" y="5896080"/>
            <a:ext cx="6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3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7650720" y="6157800"/>
            <a:ext cx="7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A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883040" y="1488960"/>
            <a:ext cx="175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ww.semanticweb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218640" y="5959440"/>
            <a:ext cx="118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 Narrow"/>
              </a:rPr>
              <a:t>www.daml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810600" y="5791320"/>
            <a:ext cx="141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ww.w3.org/RDF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456720" y="4002120"/>
            <a:ext cx="4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D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565080" y="5037120"/>
            <a:ext cx="48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X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845520" y="464976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DF-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338800" y="4950000"/>
            <a:ext cx="9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DAML-O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261760" y="524016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DAML-LOG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480000" y="2957400"/>
            <a:ext cx="92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US/EU Joint Eff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(S. Decker, Coor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404840" y="3809880"/>
            <a:ext cx="7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Ho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948560" y="1735200"/>
            <a:ext cx="163008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esearch effor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DAML-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 Onto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5143680" y="251784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ntl Worksh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550120" y="3602160"/>
            <a:ext cx="5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378400" y="39736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Lang Sp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5505480" y="4343400"/>
            <a:ext cx="6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De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999120" y="431784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tr for Arm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Lessons Lear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983040" y="2917800"/>
            <a:ext cx="144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U W3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Members/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(Dan Brickley, coor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477120" y="4938840"/>
            <a:ext cx="190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Foreign Cleara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uid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7226280" y="5486400"/>
            <a:ext cx="89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NOT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400800" y="54864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JBI/EB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26360" y="1606680"/>
            <a:ext cx="4056120" cy="20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RPA/DoD Develo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-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 -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–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antic Web -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6477120" y="3063960"/>
            <a:ext cx="3045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285840" y="193320"/>
            <a:ext cx="66974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ML Functional Represent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1828800" y="5286240"/>
            <a:ext cx="525600" cy="676440"/>
          </a:xfrm>
          <a:prstGeom prst="flowChartMagneticDisk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295280" y="5248440"/>
            <a:ext cx="525600" cy="676080"/>
          </a:xfrm>
          <a:prstGeom prst="flowChartMagneticDisk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033560" y="4538520"/>
            <a:ext cx="677880" cy="41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1447920" y="5400720"/>
            <a:ext cx="525240" cy="676080"/>
          </a:xfrm>
          <a:prstGeom prst="flowChartMagneticDisk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770280" y="5286240"/>
            <a:ext cx="525600" cy="676440"/>
          </a:xfrm>
          <a:prstGeom prst="flowChartMagneticDisk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236760" y="5248440"/>
            <a:ext cx="525600" cy="676080"/>
          </a:xfrm>
          <a:prstGeom prst="flowChartMagneticDisk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389400" y="5400720"/>
            <a:ext cx="525240" cy="676080"/>
          </a:xfrm>
          <a:prstGeom prst="flowChartMagneticDisk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711760" y="5286240"/>
            <a:ext cx="525600" cy="6764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178600" y="5248440"/>
            <a:ext cx="525240" cy="676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330880" y="5400720"/>
            <a:ext cx="525240" cy="676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7655040" y="5286240"/>
            <a:ext cx="525240" cy="676440"/>
          </a:xfrm>
          <a:prstGeom prst="flowChartMagneticDisk">
            <a:avLst/>
          </a:prstGeom>
          <a:gradFill rotWithShape="0">
            <a:gsLst>
              <a:gs pos="0">
                <a:srgbClr val="461775"/>
              </a:gs>
              <a:gs pos="100000">
                <a:srgbClr val="9933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121520" y="5248440"/>
            <a:ext cx="525600" cy="676080"/>
          </a:xfrm>
          <a:prstGeom prst="flowChartMagneticDisk">
            <a:avLst/>
          </a:prstGeom>
          <a:gradFill rotWithShape="0">
            <a:gsLst>
              <a:gs pos="0">
                <a:srgbClr val="461775"/>
              </a:gs>
              <a:gs pos="100000">
                <a:srgbClr val="9933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273800" y="5400720"/>
            <a:ext cx="525600" cy="676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461775"/>
              </a:gs>
              <a:gs pos="100000">
                <a:srgbClr val="9933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976480" y="4538520"/>
            <a:ext cx="677880" cy="41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919760" y="4538520"/>
            <a:ext cx="677880" cy="41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862680" y="4538520"/>
            <a:ext cx="677880" cy="41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461775"/>
              </a:gs>
              <a:gs pos="100000">
                <a:srgbClr val="9933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4" name=""/>
          <p:cNvCxnSpPr>
            <a:stCxn id="1120" idx="5"/>
            <a:endCxn id="1131" idx="2"/>
          </p:cNvCxnSpPr>
          <p:nvPr/>
        </p:nvCxnSpPr>
        <p:spPr>
          <a:xfrm>
            <a:off x="1711440" y="4694400"/>
            <a:ext cx="1265760" cy="103680"/>
          </a:xfrm>
          <a:prstGeom prst="bentConnector3">
            <a:avLst>
              <a:gd name="adj1" fmla="val 49928"/>
            </a:avLst>
          </a:prstGeom>
          <a:ln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135" name=""/>
          <p:cNvCxnSpPr>
            <a:stCxn id="1131" idx="5"/>
            <a:endCxn id="1132" idx="2"/>
          </p:cNvCxnSpPr>
          <p:nvPr/>
        </p:nvCxnSpPr>
        <p:spPr>
          <a:xfrm>
            <a:off x="3654000" y="4694400"/>
            <a:ext cx="1266120" cy="103680"/>
          </a:xfrm>
          <a:prstGeom prst="bentConnector3">
            <a:avLst>
              <a:gd name="adj1" fmla="val 49914"/>
            </a:avLst>
          </a:prstGeom>
          <a:ln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136" name=""/>
          <p:cNvCxnSpPr>
            <a:stCxn id="1132" idx="5"/>
            <a:endCxn id="1133" idx="2"/>
          </p:cNvCxnSpPr>
          <p:nvPr/>
        </p:nvCxnSpPr>
        <p:spPr>
          <a:xfrm>
            <a:off x="5597640" y="4694400"/>
            <a:ext cx="1265760" cy="103680"/>
          </a:xfrm>
          <a:prstGeom prst="bentConnector3">
            <a:avLst>
              <a:gd name="adj1" fmla="val 49928"/>
            </a:avLst>
          </a:prstGeom>
          <a:ln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137" name=""/>
          <p:cNvCxnSpPr>
            <a:stCxn id="1119" idx="1"/>
            <a:endCxn id="1120" idx="3"/>
          </p:cNvCxnSpPr>
          <p:nvPr/>
        </p:nvCxnSpPr>
        <p:spPr>
          <a:xfrm flipV="1" rot="16200000">
            <a:off x="1290600" y="4980240"/>
            <a:ext cx="297720" cy="238680"/>
          </a:xfrm>
          <a:prstGeom prst="bentConnector3">
            <a:avLst>
              <a:gd name="adj1" fmla="val 49636"/>
            </a:avLst>
          </a:prstGeom>
          <a:ln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138" name=""/>
          <p:cNvCxnSpPr>
            <a:stCxn id="1123" idx="1"/>
            <a:endCxn id="1131" idx="3"/>
          </p:cNvCxnSpPr>
          <p:nvPr/>
        </p:nvCxnSpPr>
        <p:spPr>
          <a:xfrm flipV="1" rot="16200000">
            <a:off x="3232800" y="4980960"/>
            <a:ext cx="297720" cy="237240"/>
          </a:xfrm>
          <a:prstGeom prst="bentConnector3">
            <a:avLst>
              <a:gd name="adj1" fmla="val 49636"/>
            </a:avLst>
          </a:prstGeom>
          <a:ln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139" name=""/>
          <p:cNvCxnSpPr>
            <a:stCxn id="1126" idx="0"/>
            <a:endCxn id="1132" idx="3"/>
          </p:cNvCxnSpPr>
          <p:nvPr/>
        </p:nvCxnSpPr>
        <p:spPr>
          <a:xfrm flipV="1" rot="16200000">
            <a:off x="5207760" y="4949280"/>
            <a:ext cx="297720" cy="300600"/>
          </a:xfrm>
          <a:prstGeom prst="bentConnector3">
            <a:avLst>
              <a:gd name="adj1" fmla="val 49636"/>
            </a:avLst>
          </a:prstGeom>
          <a:ln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140" name=""/>
          <p:cNvCxnSpPr>
            <a:stCxn id="1129" idx="1"/>
            <a:endCxn id="1133" idx="3"/>
          </p:cNvCxnSpPr>
          <p:nvPr/>
        </p:nvCxnSpPr>
        <p:spPr>
          <a:xfrm flipV="1" rot="16200000">
            <a:off x="7118280" y="4981680"/>
            <a:ext cx="297720" cy="235800"/>
          </a:xfrm>
          <a:prstGeom prst="bentConnector3">
            <a:avLst>
              <a:gd name="adj1" fmla="val 49636"/>
            </a:avLst>
          </a:prstGeom>
          <a:ln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</p:cxnSp>
      <p:sp>
        <p:nvSpPr>
          <p:cNvPr id="1141" name=""/>
          <p:cNvSpPr/>
          <p:nvPr/>
        </p:nvSpPr>
        <p:spPr>
          <a:xfrm>
            <a:off x="3124080" y="2835360"/>
            <a:ext cx="609840" cy="7617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2" name=""/>
          <p:cNvCxnSpPr>
            <a:stCxn id="1141" idx="2"/>
            <a:endCxn id="1132" idx="1"/>
          </p:cNvCxnSpPr>
          <p:nvPr/>
        </p:nvCxnSpPr>
        <p:spPr>
          <a:xfrm flipH="1" rot="16200000">
            <a:off x="3794760" y="3230280"/>
            <a:ext cx="1045440" cy="1778760"/>
          </a:xfrm>
          <a:prstGeom prst="bentConnector3">
            <a:avLst>
              <a:gd name="adj1" fmla="val 449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3" name=""/>
          <p:cNvCxnSpPr>
            <a:stCxn id="1144" idx="1"/>
            <a:endCxn id="1120" idx="0"/>
          </p:cNvCxnSpPr>
          <p:nvPr/>
        </p:nvCxnSpPr>
        <p:spPr>
          <a:xfrm flipV="1" rot="10800000">
            <a:off x="1423440" y="3101760"/>
            <a:ext cx="1700640" cy="143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5" name=""/>
          <p:cNvSpPr/>
          <p:nvPr/>
        </p:nvSpPr>
        <p:spPr>
          <a:xfrm>
            <a:off x="6477120" y="3063960"/>
            <a:ext cx="609480" cy="7617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6" name=""/>
          <p:cNvCxnSpPr>
            <a:stCxn id="1145" idx="1"/>
            <a:endCxn id="1132" idx="0"/>
          </p:cNvCxnSpPr>
          <p:nvPr/>
        </p:nvCxnSpPr>
        <p:spPr>
          <a:xfrm flipV="1" rot="10800000">
            <a:off x="5309640" y="3444480"/>
            <a:ext cx="1167480" cy="1094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7" name=""/>
          <p:cNvCxnSpPr>
            <a:stCxn id="1145" idx="2"/>
            <a:endCxn id="1133" idx="0"/>
          </p:cNvCxnSpPr>
          <p:nvPr/>
        </p:nvCxnSpPr>
        <p:spPr>
          <a:xfrm flipH="1" rot="16200000">
            <a:off x="6661080" y="3945960"/>
            <a:ext cx="713520" cy="472320"/>
          </a:xfrm>
          <a:prstGeom prst="bentConnector3">
            <a:avLst>
              <a:gd name="adj1" fmla="val 498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8" name=""/>
          <p:cNvSpPr/>
          <p:nvPr/>
        </p:nvSpPr>
        <p:spPr>
          <a:xfrm>
            <a:off x="1676520" y="1920960"/>
            <a:ext cx="1066680" cy="83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9" name=""/>
          <p:cNvGrpSpPr/>
          <p:nvPr/>
        </p:nvGrpSpPr>
        <p:grpSpPr>
          <a:xfrm>
            <a:off x="1981080" y="1996920"/>
            <a:ext cx="493560" cy="685800"/>
            <a:chOff x="1981080" y="1996920"/>
            <a:chExt cx="493560" cy="685800"/>
          </a:xfrm>
        </p:grpSpPr>
        <p:sp>
          <p:nvSpPr>
            <p:cNvPr id="1150" name=""/>
            <p:cNvSpPr/>
            <p:nvPr/>
          </p:nvSpPr>
          <p:spPr>
            <a:xfrm>
              <a:off x="2133360" y="1996920"/>
              <a:ext cx="112680" cy="114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057040" y="2225520"/>
              <a:ext cx="114480" cy="114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981080" y="2454120"/>
              <a:ext cx="114120" cy="114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3" name=""/>
            <p:cNvCxnSpPr>
              <a:stCxn id="1150" idx="3"/>
              <a:endCxn id="1151" idx="0"/>
            </p:cNvCxnSpPr>
            <p:nvPr/>
          </p:nvCxnSpPr>
          <p:spPr>
            <a:xfrm flipH="1">
              <a:off x="2113560" y="2095200"/>
              <a:ext cx="35640" cy="130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54" name=""/>
            <p:cNvCxnSpPr>
              <a:stCxn id="1151" idx="4"/>
              <a:endCxn id="1152" idx="0"/>
            </p:cNvCxnSpPr>
            <p:nvPr/>
          </p:nvCxnSpPr>
          <p:spPr>
            <a:xfrm flipH="1">
              <a:off x="2037960" y="2339640"/>
              <a:ext cx="76680" cy="11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5" name=""/>
            <p:cNvSpPr/>
            <p:nvPr/>
          </p:nvSpPr>
          <p:spPr>
            <a:xfrm>
              <a:off x="2246040" y="2340000"/>
              <a:ext cx="114480" cy="1141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171520" y="2568600"/>
              <a:ext cx="112680" cy="1141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360520" y="2568600"/>
              <a:ext cx="114120" cy="1141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8" name=""/>
            <p:cNvCxnSpPr>
              <a:stCxn id="1155" idx="4"/>
              <a:endCxn id="1156" idx="0"/>
            </p:cNvCxnSpPr>
            <p:nvPr/>
          </p:nvCxnSpPr>
          <p:spPr>
            <a:xfrm flipH="1">
              <a:off x="2228040" y="2454120"/>
              <a:ext cx="75240" cy="115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59" name=""/>
            <p:cNvCxnSpPr>
              <a:stCxn id="1155" idx="4"/>
              <a:endCxn id="1157" idx="1"/>
            </p:cNvCxnSpPr>
            <p:nvPr/>
          </p:nvCxnSpPr>
          <p:spPr>
            <a:xfrm>
              <a:off x="2302920" y="2454120"/>
              <a:ext cx="75240" cy="13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60" name=""/>
            <p:cNvCxnSpPr>
              <a:stCxn id="1150" idx="6"/>
              <a:endCxn id="1155" idx="0"/>
            </p:cNvCxnSpPr>
            <p:nvPr/>
          </p:nvCxnSpPr>
          <p:spPr>
            <a:xfrm>
              <a:off x="2245680" y="2054160"/>
              <a:ext cx="57960" cy="286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161" name=""/>
          <p:cNvSpPr/>
          <p:nvPr/>
        </p:nvSpPr>
        <p:spPr>
          <a:xfrm>
            <a:off x="5715000" y="1844640"/>
            <a:ext cx="1066680" cy="83808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ecec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6019560" y="1920960"/>
            <a:ext cx="493560" cy="685800"/>
            <a:chOff x="6019560" y="1920960"/>
            <a:chExt cx="493560" cy="685800"/>
          </a:xfrm>
        </p:grpSpPr>
        <p:sp>
          <p:nvSpPr>
            <p:cNvPr id="1163" name=""/>
            <p:cNvSpPr/>
            <p:nvPr/>
          </p:nvSpPr>
          <p:spPr>
            <a:xfrm flipH="1">
              <a:off x="6247800" y="1920960"/>
              <a:ext cx="112680" cy="1144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6322680" y="2149560"/>
              <a:ext cx="114480" cy="1144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6398640" y="2378160"/>
              <a:ext cx="114120" cy="1144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66" name=""/>
            <p:cNvCxnSpPr>
              <a:stCxn id="1163" idx="3"/>
              <a:endCxn id="1164" idx="0"/>
            </p:cNvCxnSpPr>
            <p:nvPr/>
          </p:nvCxnSpPr>
          <p:spPr>
            <a:xfrm>
              <a:off x="6345360" y="2019240"/>
              <a:ext cx="35640" cy="130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67" name=""/>
            <p:cNvCxnSpPr>
              <a:stCxn id="1164" idx="4"/>
              <a:endCxn id="1165" idx="0"/>
            </p:cNvCxnSpPr>
            <p:nvPr/>
          </p:nvCxnSpPr>
          <p:spPr>
            <a:xfrm>
              <a:off x="6379920" y="2263680"/>
              <a:ext cx="76680" cy="11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68" name=""/>
            <p:cNvSpPr/>
            <p:nvPr/>
          </p:nvSpPr>
          <p:spPr>
            <a:xfrm flipH="1">
              <a:off x="6133680" y="2264040"/>
              <a:ext cx="114480" cy="1141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6209640" y="2492640"/>
              <a:ext cx="112680" cy="1141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6019200" y="2492640"/>
              <a:ext cx="114120" cy="1141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71" name=""/>
            <p:cNvCxnSpPr>
              <a:stCxn id="1168" idx="4"/>
              <a:endCxn id="1169" idx="0"/>
            </p:cNvCxnSpPr>
            <p:nvPr/>
          </p:nvCxnSpPr>
          <p:spPr>
            <a:xfrm>
              <a:off x="6191280" y="2378160"/>
              <a:ext cx="75240" cy="115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72" name=""/>
            <p:cNvCxnSpPr>
              <a:stCxn id="1168" idx="4"/>
              <a:endCxn id="1170" idx="1"/>
            </p:cNvCxnSpPr>
            <p:nvPr/>
          </p:nvCxnSpPr>
          <p:spPr>
            <a:xfrm flipH="1">
              <a:off x="6116400" y="2378160"/>
              <a:ext cx="75240" cy="13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73" name=""/>
            <p:cNvCxnSpPr>
              <a:stCxn id="1163" idx="6"/>
              <a:endCxn id="1168" idx="0"/>
            </p:cNvCxnSpPr>
            <p:nvPr/>
          </p:nvCxnSpPr>
          <p:spPr>
            <a:xfrm flipH="1">
              <a:off x="6190920" y="1978200"/>
              <a:ext cx="57960" cy="286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174" name=""/>
          <p:cNvSpPr/>
          <p:nvPr/>
        </p:nvSpPr>
        <p:spPr>
          <a:xfrm>
            <a:off x="7391520" y="1463760"/>
            <a:ext cx="1066680" cy="761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a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5" name=""/>
          <p:cNvGrpSpPr/>
          <p:nvPr/>
        </p:nvGrpSpPr>
        <p:grpSpPr>
          <a:xfrm>
            <a:off x="7696440" y="1463760"/>
            <a:ext cx="493560" cy="685800"/>
            <a:chOff x="7696440" y="1463760"/>
            <a:chExt cx="493560" cy="685800"/>
          </a:xfrm>
        </p:grpSpPr>
        <p:sp>
          <p:nvSpPr>
            <p:cNvPr id="1176" name=""/>
            <p:cNvSpPr/>
            <p:nvPr/>
          </p:nvSpPr>
          <p:spPr>
            <a:xfrm flipH="1">
              <a:off x="7924680" y="1463760"/>
              <a:ext cx="112680" cy="11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7999560" y="1692360"/>
              <a:ext cx="114480" cy="11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8075520" y="1920960"/>
              <a:ext cx="114120" cy="11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79" name=""/>
            <p:cNvCxnSpPr>
              <a:stCxn id="1176" idx="3"/>
              <a:endCxn id="1177" idx="0"/>
            </p:cNvCxnSpPr>
            <p:nvPr/>
          </p:nvCxnSpPr>
          <p:spPr>
            <a:xfrm>
              <a:off x="8022240" y="1562040"/>
              <a:ext cx="35640" cy="130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80" name=""/>
            <p:cNvCxnSpPr>
              <a:stCxn id="1177" idx="4"/>
              <a:endCxn id="1178" idx="0"/>
            </p:cNvCxnSpPr>
            <p:nvPr/>
          </p:nvCxnSpPr>
          <p:spPr>
            <a:xfrm>
              <a:off x="8056800" y="1806480"/>
              <a:ext cx="76680" cy="11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81" name=""/>
            <p:cNvSpPr/>
            <p:nvPr/>
          </p:nvSpPr>
          <p:spPr>
            <a:xfrm flipH="1">
              <a:off x="7810560" y="1806840"/>
              <a:ext cx="114480" cy="114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H="1">
              <a:off x="7886520" y="2035440"/>
              <a:ext cx="112680" cy="114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H="1">
              <a:off x="7696080" y="2035440"/>
              <a:ext cx="114120" cy="114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84" name=""/>
            <p:cNvCxnSpPr>
              <a:stCxn id="1181" idx="4"/>
              <a:endCxn id="1182" idx="0"/>
            </p:cNvCxnSpPr>
            <p:nvPr/>
          </p:nvCxnSpPr>
          <p:spPr>
            <a:xfrm>
              <a:off x="7868160" y="1920960"/>
              <a:ext cx="75240" cy="115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85" name=""/>
            <p:cNvCxnSpPr>
              <a:stCxn id="1181" idx="4"/>
              <a:endCxn id="1183" idx="1"/>
            </p:cNvCxnSpPr>
            <p:nvPr/>
          </p:nvCxnSpPr>
          <p:spPr>
            <a:xfrm flipH="1">
              <a:off x="7793280" y="1920960"/>
              <a:ext cx="75240" cy="13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86" name=""/>
            <p:cNvCxnSpPr>
              <a:stCxn id="1176" idx="6"/>
              <a:endCxn id="1181" idx="0"/>
            </p:cNvCxnSpPr>
            <p:nvPr/>
          </p:nvCxnSpPr>
          <p:spPr>
            <a:xfrm flipH="1">
              <a:off x="7867800" y="1521000"/>
              <a:ext cx="57960" cy="286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187" name=""/>
          <p:cNvSpPr/>
          <p:nvPr/>
        </p:nvSpPr>
        <p:spPr>
          <a:xfrm>
            <a:off x="3124080" y="2682720"/>
            <a:ext cx="60984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477120" y="2911320"/>
            <a:ext cx="60948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581280" y="1463760"/>
            <a:ext cx="1067040" cy="8380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cfcfa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3886200" y="1539720"/>
            <a:ext cx="493560" cy="685800"/>
            <a:chOff x="3886200" y="1539720"/>
            <a:chExt cx="493560" cy="685800"/>
          </a:xfrm>
        </p:grpSpPr>
        <p:sp>
          <p:nvSpPr>
            <p:cNvPr id="1191" name=""/>
            <p:cNvSpPr/>
            <p:nvPr/>
          </p:nvSpPr>
          <p:spPr>
            <a:xfrm>
              <a:off x="4038480" y="1539720"/>
              <a:ext cx="112680" cy="114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962160" y="1768320"/>
              <a:ext cx="114480" cy="114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886200" y="1996920"/>
              <a:ext cx="114120" cy="114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94" name=""/>
            <p:cNvCxnSpPr>
              <a:stCxn id="1191" idx="3"/>
              <a:endCxn id="1192" idx="0"/>
            </p:cNvCxnSpPr>
            <p:nvPr/>
          </p:nvCxnSpPr>
          <p:spPr>
            <a:xfrm flipH="1">
              <a:off x="4018680" y="1638000"/>
              <a:ext cx="35640" cy="130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95" name=""/>
            <p:cNvCxnSpPr>
              <a:stCxn id="1192" idx="4"/>
              <a:endCxn id="1193" idx="0"/>
            </p:cNvCxnSpPr>
            <p:nvPr/>
          </p:nvCxnSpPr>
          <p:spPr>
            <a:xfrm flipH="1">
              <a:off x="3943080" y="1882440"/>
              <a:ext cx="76680" cy="11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96" name=""/>
            <p:cNvSpPr/>
            <p:nvPr/>
          </p:nvSpPr>
          <p:spPr>
            <a:xfrm>
              <a:off x="4151160" y="1882800"/>
              <a:ext cx="114480" cy="1141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076640" y="2111400"/>
              <a:ext cx="112680" cy="1141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265640" y="2111400"/>
              <a:ext cx="114120" cy="1141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99" name=""/>
            <p:cNvCxnSpPr>
              <a:stCxn id="1196" idx="4"/>
              <a:endCxn id="1197" idx="0"/>
            </p:cNvCxnSpPr>
            <p:nvPr/>
          </p:nvCxnSpPr>
          <p:spPr>
            <a:xfrm flipH="1">
              <a:off x="4133160" y="1996920"/>
              <a:ext cx="75240" cy="115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00" name=""/>
            <p:cNvCxnSpPr>
              <a:stCxn id="1196" idx="4"/>
              <a:endCxn id="1198" idx="1"/>
            </p:cNvCxnSpPr>
            <p:nvPr/>
          </p:nvCxnSpPr>
          <p:spPr>
            <a:xfrm>
              <a:off x="4208040" y="1996920"/>
              <a:ext cx="75240" cy="13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01" name=""/>
            <p:cNvCxnSpPr>
              <a:stCxn id="1191" idx="6"/>
              <a:endCxn id="1196" idx="0"/>
            </p:cNvCxnSpPr>
            <p:nvPr/>
          </p:nvCxnSpPr>
          <p:spPr>
            <a:xfrm>
              <a:off x="4150800" y="1596960"/>
              <a:ext cx="57960" cy="286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02" name=""/>
          <p:cNvSpPr/>
          <p:nvPr/>
        </p:nvSpPr>
        <p:spPr>
          <a:xfrm>
            <a:off x="3124080" y="3368520"/>
            <a:ext cx="609840" cy="228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477120" y="3597120"/>
            <a:ext cx="609480" cy="228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4" name=""/>
          <p:cNvCxnSpPr>
            <a:stCxn id="1187" idx="1"/>
            <a:endCxn id="1148" idx="3"/>
          </p:cNvCxnSpPr>
          <p:nvPr/>
        </p:nvCxnSpPr>
        <p:spPr>
          <a:xfrm rot="10800000">
            <a:off x="2742480" y="2339280"/>
            <a:ext cx="381600" cy="4197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5" name=""/>
          <p:cNvCxnSpPr>
            <a:stCxn id="1187" idx="0"/>
            <a:endCxn id="1189" idx="1"/>
          </p:cNvCxnSpPr>
          <p:nvPr/>
        </p:nvCxnSpPr>
        <p:spPr>
          <a:xfrm flipH="1" flipV="1" rot="5400000">
            <a:off x="3104640" y="2206080"/>
            <a:ext cx="80064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6" name=""/>
          <p:cNvCxnSpPr>
            <a:stCxn id="1189" idx="3"/>
            <a:endCxn id="1161" idx="1"/>
          </p:cNvCxnSpPr>
          <p:nvPr/>
        </p:nvCxnSpPr>
        <p:spPr>
          <a:xfrm>
            <a:off x="4647960" y="1882800"/>
            <a:ext cx="1067400" cy="381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07" name=""/>
          <p:cNvCxnSpPr>
            <a:stCxn id="1188" idx="3"/>
            <a:endCxn id="1174" idx="2"/>
          </p:cNvCxnSpPr>
          <p:nvPr/>
        </p:nvCxnSpPr>
        <p:spPr>
          <a:xfrm flipV="1">
            <a:off x="7086600" y="2224800"/>
            <a:ext cx="83880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8" name=""/>
          <p:cNvCxnSpPr>
            <a:stCxn id="1174" idx="1"/>
            <a:endCxn id="1161" idx="3"/>
          </p:cNvCxnSpPr>
          <p:nvPr/>
        </p:nvCxnSpPr>
        <p:spPr>
          <a:xfrm flipV="1" rot="10800000">
            <a:off x="6780960" y="1844280"/>
            <a:ext cx="610560" cy="4197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09" name=""/>
          <p:cNvCxnSpPr>
            <a:stCxn id="1202" idx="1"/>
            <a:endCxn id="1131" idx="0"/>
          </p:cNvCxnSpPr>
          <p:nvPr/>
        </p:nvCxnSpPr>
        <p:spPr>
          <a:xfrm flipH="1" flipV="1" rot="10800000">
            <a:off x="3123000" y="3482640"/>
            <a:ext cx="243720" cy="1056240"/>
          </a:xfrm>
          <a:prstGeom prst="bentConnector4">
            <a:avLst>
              <a:gd name="adj1" fmla="val -94082"/>
              <a:gd name="adj2" fmla="val 554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4" name=""/>
          <p:cNvSpPr/>
          <p:nvPr/>
        </p:nvSpPr>
        <p:spPr>
          <a:xfrm>
            <a:off x="3124080" y="2987640"/>
            <a:ext cx="609840" cy="2286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0" name="" descr=""/>
          <p:cNvPicPr/>
          <p:nvPr/>
        </p:nvPicPr>
        <p:blipFill>
          <a:blip r:embed="rId7"/>
          <a:stretch/>
        </p:blipFill>
        <p:spPr>
          <a:xfrm>
            <a:off x="3468600" y="2911320"/>
            <a:ext cx="569880" cy="9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11" name="" descr=""/>
          <p:cNvPicPr/>
          <p:nvPr/>
        </p:nvPicPr>
        <p:blipFill>
          <a:blip r:embed="rId8"/>
          <a:stretch/>
        </p:blipFill>
        <p:spPr>
          <a:xfrm>
            <a:off x="6858000" y="3139920"/>
            <a:ext cx="569880" cy="9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12" name=""/>
          <p:cNvSpPr/>
          <p:nvPr/>
        </p:nvSpPr>
        <p:spPr>
          <a:xfrm>
            <a:off x="2424600" y="286848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2653200" y="316404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310800" y="381960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496680" y="3851280"/>
            <a:ext cx="60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641200" y="3209760"/>
            <a:ext cx="60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7088760" y="2752560"/>
            <a:ext cx="61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886480" y="2398680"/>
            <a:ext cx="61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783840" y="1030320"/>
            <a:ext cx="61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802760" y="1258920"/>
            <a:ext cx="61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1" name=""/>
          <p:cNvCxnSpPr>
            <a:stCxn id="1210" idx="3"/>
            <a:endCxn id="1116" idx="1"/>
          </p:cNvCxnSpPr>
          <p:nvPr/>
        </p:nvCxnSpPr>
        <p:spPr>
          <a:xfrm flipV="1">
            <a:off x="4038480" y="3139200"/>
            <a:ext cx="2439000" cy="229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2" name=""/>
          <p:cNvSpPr/>
          <p:nvPr/>
        </p:nvSpPr>
        <p:spPr>
          <a:xfrm>
            <a:off x="3965040" y="3133800"/>
            <a:ext cx="60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875880" y="1692360"/>
            <a:ext cx="8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t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881080" y="1463760"/>
            <a:ext cx="8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r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t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750920" y="2301840"/>
            <a:ext cx="10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o-Spa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t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990720" y="4572000"/>
            <a:ext cx="6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971800" y="4572000"/>
            <a:ext cx="6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876920" y="4572000"/>
            <a:ext cx="6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6858000" y="4572000"/>
            <a:ext cx="6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448280" y="565308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3505680" y="565308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5311800" y="5562720"/>
            <a:ext cx="63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315200" y="5423040"/>
            <a:ext cx="631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143360" y="6248520"/>
            <a:ext cx="17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s (Installat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108960" y="624852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reat Or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029560" y="6248520"/>
            <a:ext cx="148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lligence Re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6704640" y="6248520"/>
            <a:ext cx="192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t a map/Get an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8" name=""/>
          <p:cNvCxnSpPr>
            <a:stCxn id="1191" idx="0"/>
            <a:endCxn id="1148" idx="0"/>
          </p:cNvCxnSpPr>
          <p:nvPr/>
        </p:nvCxnSpPr>
        <p:spPr>
          <a:xfrm rot="5400000">
            <a:off x="2961360" y="786240"/>
            <a:ext cx="381960" cy="1886760"/>
          </a:xfrm>
          <a:prstGeom prst="bentConnector3">
            <a:avLst>
              <a:gd name="adj1" fmla="val -6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39" name=""/>
          <p:cNvSpPr/>
          <p:nvPr/>
        </p:nvSpPr>
        <p:spPr>
          <a:xfrm>
            <a:off x="2669040" y="1081080"/>
            <a:ext cx="61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702320" y="1539720"/>
            <a:ext cx="86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8080200" y="2225520"/>
            <a:ext cx="8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t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2" name="" descr=""/>
          <p:cNvPicPr/>
          <p:nvPr/>
        </p:nvPicPr>
        <p:blipFill>
          <a:blip r:embed="rId2"/>
          <a:stretch/>
        </p:blipFill>
        <p:spPr>
          <a:xfrm>
            <a:off x="3657600" y="2271600"/>
            <a:ext cx="5384880" cy="2470320"/>
          </a:xfrm>
          <a:prstGeom prst="rect">
            <a:avLst/>
          </a:prstGeom>
          <a:ln w="0">
            <a:noFill/>
          </a:ln>
        </p:spPr>
      </p:pic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285840" y="193320"/>
            <a:ext cx="66974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ML  Achieve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202680" y="1455480"/>
            <a:ext cx="3326040" cy="408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we have done so f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66760">
              <a:lnSpc>
                <a:spcPct val="85000"/>
              </a:lnSpc>
              <a:spcBef>
                <a:spcPts val="601"/>
              </a:spcBef>
              <a:buClr>
                <a:srgbClr val="0033cc"/>
              </a:buClr>
              <a:buSzPct val="8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3C in final stages of ontology language approval (OW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66760">
              <a:lnSpc>
                <a:spcPct val="85000"/>
              </a:lnSpc>
              <a:spcBef>
                <a:spcPts val="601"/>
              </a:spcBef>
              <a:buClr>
                <a:srgbClr val="0033cc"/>
              </a:buClr>
              <a:buSzPct val="8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ery and Rules languages under revie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66760">
              <a:lnSpc>
                <a:spcPct val="85000"/>
              </a:lnSpc>
              <a:spcBef>
                <a:spcPts val="601"/>
              </a:spcBef>
              <a:buClr>
                <a:srgbClr val="0033cc"/>
              </a:buClr>
              <a:buSzPct val="8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oint DARPA-EU Language Committee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66760">
              <a:lnSpc>
                <a:spcPct val="85000"/>
              </a:lnSpc>
              <a:spcBef>
                <a:spcPts val="601"/>
              </a:spcBef>
              <a:buClr>
                <a:srgbClr val="0033cc"/>
              </a:buClr>
              <a:buSzPct val="8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RPA-EU Web Services Initi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66760">
              <a:lnSpc>
                <a:spcPct val="85000"/>
              </a:lnSpc>
              <a:spcBef>
                <a:spcPts val="601"/>
              </a:spcBef>
              <a:buClr>
                <a:srgbClr val="0033cc"/>
              </a:buClr>
              <a:buSzPct val="8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zens of DAML ontologies and tools creat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66760">
              <a:lnSpc>
                <a:spcPct val="85000"/>
              </a:lnSpc>
              <a:spcBef>
                <a:spcPts val="601"/>
              </a:spcBef>
              <a:buClr>
                <a:srgbClr val="0033cc"/>
              </a:buClr>
              <a:buSzPct val="8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gnificant military and INTEL applications being explored (Horus and SONA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3479760" y="1803240"/>
            <a:ext cx="3035520" cy="914400"/>
          </a:xfrm>
          <a:prstGeom prst="ellipse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ML Web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&gt; 10 Million Hit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/>
          <p:nvPr/>
        </p:nvSpPr>
        <p:spPr>
          <a:xfrm>
            <a:off x="4311720" y="1206360"/>
            <a:ext cx="3165480" cy="571680"/>
          </a:xfrm>
          <a:custGeom>
            <a:avLst/>
            <a:gdLst>
              <a:gd name="textAreaLeft" fmla="*/ 494640 w 3165480"/>
              <a:gd name="textAreaRight" fmla="*/ 2938320 w 3165480"/>
              <a:gd name="textAreaTop" fmla="*/ 152280 h 571680"/>
              <a:gd name="textAreaBottom" fmla="*/ 419400 h 571680"/>
            </a:gdLst>
            <a:ahLst/>
            <a:rect l="textAreaLeft" t="textAreaTop" r="textAreaRight" b="textAreaBottom"/>
            <a:pathLst>
              <a:path w="21600" h="21600">
                <a:moveTo>
                  <a:pt x="3375" y="5760"/>
                </a:moveTo>
                <a:lnTo>
                  <a:pt x="18274" y="5760"/>
                </a:lnTo>
                <a:lnTo>
                  <a:pt x="18274" y="0"/>
                </a:lnTo>
                <a:lnTo>
                  <a:pt x="21600" y="10800"/>
                </a:lnTo>
                <a:lnTo>
                  <a:pt x="18274" y="21600"/>
                </a:lnTo>
                <a:lnTo>
                  <a:pt x="18274" y="15840"/>
                </a:lnTo>
                <a:lnTo>
                  <a:pt x="3375" y="15840"/>
                </a:lnTo>
                <a:close/>
              </a:path>
              <a:path w="21600" h="21600">
                <a:moveTo>
                  <a:pt x="0" y="5760"/>
                </a:moveTo>
                <a:lnTo>
                  <a:pt x="675" y="5760"/>
                </a:lnTo>
                <a:lnTo>
                  <a:pt x="675" y="15840"/>
                </a:lnTo>
                <a:lnTo>
                  <a:pt x="0" y="15840"/>
                </a:lnTo>
                <a:close/>
              </a:path>
              <a:path w="21600" h="21600">
                <a:moveTo>
                  <a:pt x="1350" y="5760"/>
                </a:moveTo>
                <a:lnTo>
                  <a:pt x="2700" y="5760"/>
                </a:lnTo>
                <a:lnTo>
                  <a:pt x="2700" y="15840"/>
                </a:lnTo>
                <a:lnTo>
                  <a:pt x="1350" y="1584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099040" y="2639880"/>
            <a:ext cx="2378160" cy="571680"/>
          </a:xfrm>
          <a:custGeom>
            <a:avLst/>
            <a:gdLst>
              <a:gd name="textAreaLeft" fmla="*/ 371520 w 2378160"/>
              <a:gd name="textAreaRight" fmla="*/ 2122920 w 2378160"/>
              <a:gd name="textAreaTop" fmla="*/ 135000 h 571680"/>
              <a:gd name="textAreaBottom" fmla="*/ 436680 h 571680"/>
            </a:gdLst>
            <a:ahLst/>
            <a:rect l="textAreaLeft" t="textAreaTop" r="textAreaRight" b="textAreaBottom"/>
            <a:pathLst>
              <a:path w="21600" h="21600">
                <a:moveTo>
                  <a:pt x="3375" y="5100"/>
                </a:moveTo>
                <a:lnTo>
                  <a:pt x="17202" y="5100"/>
                </a:lnTo>
                <a:lnTo>
                  <a:pt x="17202" y="0"/>
                </a:lnTo>
                <a:lnTo>
                  <a:pt x="21600" y="10800"/>
                </a:lnTo>
                <a:lnTo>
                  <a:pt x="17202" y="21600"/>
                </a:lnTo>
                <a:lnTo>
                  <a:pt x="17202" y="16500"/>
                </a:lnTo>
                <a:lnTo>
                  <a:pt x="3375" y="16500"/>
                </a:lnTo>
                <a:close/>
              </a:path>
              <a:path w="21600" h="21600">
                <a:moveTo>
                  <a:pt x="0" y="5100"/>
                </a:moveTo>
                <a:lnTo>
                  <a:pt x="675" y="5100"/>
                </a:lnTo>
                <a:lnTo>
                  <a:pt x="675" y="16500"/>
                </a:lnTo>
                <a:lnTo>
                  <a:pt x="0" y="16500"/>
                </a:lnTo>
                <a:close/>
              </a:path>
              <a:path w="21600" h="21600">
                <a:moveTo>
                  <a:pt x="1350" y="5100"/>
                </a:moveTo>
                <a:lnTo>
                  <a:pt x="2700" y="5100"/>
                </a:lnTo>
                <a:lnTo>
                  <a:pt x="2700" y="16500"/>
                </a:lnTo>
                <a:lnTo>
                  <a:pt x="1350" y="165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870520" y="4040280"/>
            <a:ext cx="1606680" cy="571320"/>
          </a:xfrm>
          <a:custGeom>
            <a:avLst/>
            <a:gdLst>
              <a:gd name="textAreaLeft" fmla="*/ 250920 w 1606680"/>
              <a:gd name="textAreaRight" fmla="*/ 1375200 w 1606680"/>
              <a:gd name="textAreaTop" fmla="*/ 142920 h 571320"/>
              <a:gd name="textAreaBottom" fmla="*/ 428760 h 571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5375" y="5400"/>
                </a:lnTo>
                <a:lnTo>
                  <a:pt x="15375" y="0"/>
                </a:lnTo>
                <a:lnTo>
                  <a:pt x="21600" y="10800"/>
                </a:lnTo>
                <a:lnTo>
                  <a:pt x="15375" y="21600"/>
                </a:lnTo>
                <a:lnTo>
                  <a:pt x="15375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667560" y="5381640"/>
            <a:ext cx="809640" cy="571320"/>
          </a:xfrm>
          <a:custGeom>
            <a:avLst/>
            <a:gdLst>
              <a:gd name="textAreaLeft" fmla="*/ 126360 w 809640"/>
              <a:gd name="textAreaRight" fmla="*/ 577440 w 809640"/>
              <a:gd name="textAreaTop" fmla="*/ 150840 h 571320"/>
              <a:gd name="textAreaBottom" fmla="*/ 420480 h 571320"/>
            </a:gdLst>
            <a:ahLst/>
            <a:rect l="textAreaLeft" t="textAreaTop" r="textAreaRight" b="textAreaBottom"/>
            <a:pathLst>
              <a:path w="21600" h="21600">
                <a:moveTo>
                  <a:pt x="3375" y="5700"/>
                </a:moveTo>
                <a:lnTo>
                  <a:pt x="8471" y="5700"/>
                </a:lnTo>
                <a:lnTo>
                  <a:pt x="8471" y="0"/>
                </a:lnTo>
                <a:lnTo>
                  <a:pt x="21600" y="10800"/>
                </a:lnTo>
                <a:lnTo>
                  <a:pt x="8471" y="21600"/>
                </a:lnTo>
                <a:lnTo>
                  <a:pt x="8471" y="15900"/>
                </a:lnTo>
                <a:lnTo>
                  <a:pt x="3375" y="15900"/>
                </a:lnTo>
                <a:close/>
              </a:path>
              <a:path w="21600" h="21600">
                <a:moveTo>
                  <a:pt x="0" y="5700"/>
                </a:moveTo>
                <a:lnTo>
                  <a:pt x="675" y="5700"/>
                </a:lnTo>
                <a:lnTo>
                  <a:pt x="675" y="15900"/>
                </a:lnTo>
                <a:lnTo>
                  <a:pt x="0" y="15900"/>
                </a:lnTo>
                <a:close/>
              </a:path>
              <a:path w="21600" h="21600">
                <a:moveTo>
                  <a:pt x="1350" y="5700"/>
                </a:moveTo>
                <a:lnTo>
                  <a:pt x="2700" y="5700"/>
                </a:lnTo>
                <a:lnTo>
                  <a:pt x="2700" y="15900"/>
                </a:lnTo>
                <a:lnTo>
                  <a:pt x="1350" y="159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rot="5400000">
            <a:off x="5268960" y="4685400"/>
            <a:ext cx="532080" cy="873000"/>
          </a:xfrm>
          <a:prstGeom prst="rightArrow">
            <a:avLst>
              <a:gd name="adj1" fmla="val 49926"/>
              <a:gd name="adj2" fmla="val 30500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rot="5400000">
            <a:off x="3736080" y="1938960"/>
            <a:ext cx="531720" cy="873360"/>
          </a:xfrm>
          <a:prstGeom prst="rightArrow">
            <a:avLst>
              <a:gd name="adj1" fmla="val 49926"/>
              <a:gd name="adj2" fmla="val 30500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rot="5400000">
            <a:off x="4536000" y="3326760"/>
            <a:ext cx="531720" cy="873000"/>
          </a:xfrm>
          <a:prstGeom prst="rightArrow">
            <a:avLst>
              <a:gd name="adj1" fmla="val 49926"/>
              <a:gd name="adj2" fmla="val 30500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941560" y="1252440"/>
            <a:ext cx="1389240" cy="88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nt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701880" y="2651040"/>
            <a:ext cx="1411560" cy="87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464000" y="4027320"/>
            <a:ext cx="1408320" cy="87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ro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259240" y="5408640"/>
            <a:ext cx="1409760" cy="87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r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499520" y="1252440"/>
            <a:ext cx="996840" cy="50245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285840" y="193320"/>
            <a:ext cx="66974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RPA Agent Markup Langua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310760"/>
            <a:ext cx="2489040" cy="127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l Semantic Underpinn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5080">
              <a:lnSpc>
                <a:spcPts val="1800"/>
              </a:lnSpc>
              <a:spcBef>
                <a:spcPts val="675"/>
              </a:spcBef>
              <a:spcAft>
                <a:spcPts val="300"/>
              </a:spcAft>
              <a:buClr>
                <a:srgbClr val="008000"/>
              </a:buClr>
              <a:buSzPct val="8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-Ba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5080">
              <a:lnSpc>
                <a:spcPts val="1800"/>
              </a:lnSpc>
              <a:spcBef>
                <a:spcPts val="675"/>
              </a:spcBef>
              <a:spcAft>
                <a:spcPts val="300"/>
              </a:spcAft>
              <a:buClr>
                <a:srgbClr val="008000"/>
              </a:buClr>
              <a:buSzPct val="8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iom-Ba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925560" y="3041280"/>
            <a:ext cx="2403360" cy="3017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36147" dir="2700000" blurRad="0" rotWithShape="0">
              <a:srgbClr val="919191"/>
            </a:outerShdw>
          </a:effectLst>
        </p:spPr>
        <p:txBody>
          <a:bodyPr lIns="90360" rIns="90360" tIns="44280" bIns="44280" anchor="t">
            <a:normAutofit/>
          </a:bodyPr>
          <a:p>
            <a:pPr indent="0">
              <a:lnSpc>
                <a:spcPts val="1998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t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04760">
              <a:lnSpc>
                <a:spcPct val="85000"/>
              </a:lnSpc>
              <a:spcBef>
                <a:spcPts val="400"/>
              </a:spcBef>
              <a:spcAft>
                <a:spcPts val="400"/>
              </a:spcAft>
              <a:buClr>
                <a:srgbClr val="008000"/>
              </a:buClr>
              <a:buSzPct val="8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ery Languag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04760">
              <a:lnSpc>
                <a:spcPct val="85000"/>
              </a:lnSpc>
              <a:spcBef>
                <a:spcPts val="400"/>
              </a:spcBef>
              <a:spcAft>
                <a:spcPts val="400"/>
              </a:spcAft>
              <a:buClr>
                <a:srgbClr val="008000"/>
              </a:buClr>
              <a:buSzPct val="8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atial-Tempor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04760">
              <a:lnSpc>
                <a:spcPct val="85000"/>
              </a:lnSpc>
              <a:spcBef>
                <a:spcPts val="400"/>
              </a:spcBef>
              <a:spcAft>
                <a:spcPts val="400"/>
              </a:spcAft>
              <a:buClr>
                <a:srgbClr val="008000"/>
              </a:buClr>
              <a:buSzPct val="8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main Ontolog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998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04760">
              <a:lnSpc>
                <a:spcPct val="85000"/>
              </a:lnSpc>
              <a:spcBef>
                <a:spcPts val="400"/>
              </a:spcBef>
              <a:spcAft>
                <a:spcPts val="400"/>
              </a:spcAft>
              <a:buClr>
                <a:srgbClr val="008000"/>
              </a:buClr>
              <a:buSzPct val="8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04760">
              <a:lnSpc>
                <a:spcPct val="85000"/>
              </a:lnSpc>
              <a:spcBef>
                <a:spcPts val="400"/>
              </a:spcBef>
              <a:spcAft>
                <a:spcPts val="400"/>
              </a:spcAft>
              <a:buClr>
                <a:srgbClr val="008000"/>
              </a:buClr>
              <a:buSzPct val="8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998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o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998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 rot="5400000">
            <a:off x="6170400" y="350820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3C Standard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403160" y="861840"/>
            <a:ext cx="23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ML Language 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285840" y="53640"/>
            <a:ext cx="66974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mantic Web for the Military User (SWMU) Meeting 2003,  May 7 &amp; 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34680" y="939960"/>
            <a:ext cx="7899480" cy="558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4192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me: “Prepare the military for the revolution of the Semantic Web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3240">
              <a:lnSpc>
                <a:spcPct val="85000"/>
              </a:lnSpc>
              <a:spcBef>
                <a:spcPts val="751"/>
              </a:spcBef>
              <a:buClr>
                <a:srgbClr val="008000"/>
              </a:buClr>
              <a:buSzPct val="8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ition of the DARPA Agent Markup Language (DAML)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3240">
              <a:lnSpc>
                <a:spcPct val="85000"/>
              </a:lnSpc>
              <a:spcBef>
                <a:spcPts val="751"/>
              </a:spcBef>
              <a:buClr>
                <a:srgbClr val="008000"/>
              </a:buClr>
              <a:buSzPct val="8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phasis on tools and technologies ready to use in Pilot or Acquisition progra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192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3240">
              <a:lnSpc>
                <a:spcPct val="85000"/>
              </a:lnSpc>
              <a:spcBef>
                <a:spcPts val="751"/>
              </a:spcBef>
              <a:buClr>
                <a:srgbClr val="008000"/>
              </a:buClr>
              <a:buSzPct val="8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lish pilot program using Semantic Web technologies or to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17136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17136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owledge 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17136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base integ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192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rget Audience(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3240">
              <a:lnSpc>
                <a:spcPct val="85000"/>
              </a:lnSpc>
              <a:spcBef>
                <a:spcPts val="751"/>
              </a:spcBef>
              <a:buClr>
                <a:srgbClr val="008000"/>
              </a:buClr>
              <a:buSzPct val="8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litary technical managers, with influence over the intro of technology into the military services. 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3240">
              <a:lnSpc>
                <a:spcPct val="85000"/>
              </a:lnSpc>
              <a:spcBef>
                <a:spcPts val="751"/>
              </a:spcBef>
              <a:buClr>
                <a:srgbClr val="008000"/>
              </a:buClr>
              <a:buSzPct val="8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ior level and more detailed technical level managers or implemente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2T13:54:34Z</dcterms:created>
  <dc:creator>Bruce Deal</dc:creator>
  <dc:description/>
  <dc:language>en-US</dc:language>
  <cp:lastModifiedBy>Thomas J. Martin</cp:lastModifiedBy>
  <cp:lastPrinted>2002-10-14T14:10:36Z</cp:lastPrinted>
  <dcterms:modified xsi:type="dcterms:W3CDTF">2003-05-09T20:53:39Z</dcterms:modified>
  <cp:revision>434</cp:revision>
  <dc:subject/>
  <dc:title>IXO over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30913355</vt:r8>
  </property>
  <property fmtid="{D5CDD505-2E9C-101B-9397-08002B2CF9AE}" pid="3" name="_AuthorEmail">
    <vt:lpwstr>mburke@darpa.mil</vt:lpwstr>
  </property>
  <property fmtid="{D5CDD505-2E9C-101B-9397-08002B2CF9AE}" pid="4" name="_AuthorEmailDisplayName">
    <vt:lpwstr>mburke</vt:lpwstr>
  </property>
  <property fmtid="{D5CDD505-2E9C-101B-9397-08002B2CF9AE}" pid="5" name="_EmailSubject">
    <vt:lpwstr>SWMU Overview - MB 20030506.ppt</vt:lpwstr>
  </property>
  <property fmtid="{D5CDD505-2E9C-101B-9397-08002B2CF9AE}" pid="6" name="_PreviousAdHocReviewCycleID">
    <vt:r8>-1444246665</vt:r8>
  </property>
</Properties>
</file>