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69A6-6B3C-4D66-8AE3-1BC7EF613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831B-16AB-4AE9-9AAC-76AE930D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D171-679D-43FD-8594-6188C10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A953-24F5-4445-A0FE-CA57E6FDB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1E788-36D4-4676-929C-82299B3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80F3F-E9F3-4857-916F-89BC243B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DCF4-C792-443D-85C8-AEFCD97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E8200-A312-4FA2-930F-802E8A73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2CD8-ED10-44C8-B518-2ECF993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9A680-6155-499D-9834-6653DADC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2B30E-FD0B-456D-BA92-9679AA3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DF9C-626C-478C-B236-0015DA24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1247-9E7F-468D-9B29-82DEAD3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7F65E-CC5D-4A27-9F4F-9A282D2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79B8-38AC-4D45-8C4A-99B48E9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D401D-8450-41B4-A5FF-62D052D9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5EA0-DCDD-4F83-BC90-E8DF1146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F5D8-7520-46F8-9EF0-41D21D4F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6CB8-9769-4AF9-B0E8-6B7D23A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899B-5FE2-490E-B81F-DA1B499E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37D3-FC48-4549-A9D0-C9BEBBB3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2BFF-770F-40D7-8650-76EEDCF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E0DF-13D7-400B-9C9B-DA2C455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096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FF5C-AA10-40E9-8E42-34427487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9414-AF18-45D0-9756-9D2B145A2F6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4FE-1A91-4D5E-9AB0-F038121E2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0520" y="6388200"/>
            <a:ext cx="511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/31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3360" y="685800"/>
            <a:ext cx="855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6172200"/>
            <a:ext cx="847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3960" y="3200400"/>
            <a:ext cx="42681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ofessor Richard F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990360"/>
            <a:ext cx="8375400" cy="2520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ame Representat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f Electronic Circuit Exam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1680" y="5178600"/>
            <a:ext cx="4041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r Science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nfor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2400" y="3962520"/>
            <a:ext cx="1939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S2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22287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nt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CD3F-3CCA-43C2-BF76-2FDE8ECC32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 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Not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=&gt; (Signal (Input ?g) Off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Output ?g) On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Signal (Input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Output ?g) Off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4505-688A-4003-95C9-3E04DD44C4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1447920"/>
          <a:ext cx="8305920" cy="371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305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gital Circuit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5409720"/>
            <a:ext cx="4724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ell and Norvig, Figure 8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5909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148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76320" y="2666880"/>
            <a:ext cx="129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76320" y="35812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B2FD-4080-4BFE-B1FF-DEBEFE974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ame Representation of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Circu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 C1-Addend1   C1-Addend2   C1-Carry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C1-Sum   C1-Carry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:  X1   X2   A1   A2   O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Xor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1:  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2:  X1-Input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X1-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3448-9CE4-4320-984E-0709C2550B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ame Language Inferen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Circu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  C1-Addend1   C1-Addend2   C1-Carry-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  C1-Sum   C1-Carry-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e:  X1   X2   A1   A2   O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-Addend1   C1-Addend2   C1-Carry-In   C1-Su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-Carry-Out   X1   X2   A1   A2   O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Xor-G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1:  X1-Input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2:  X1-Inpu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:  X1-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-Input1   X1-Input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-Input1   X1-Input2   X1-Out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-Input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-Of:  Term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ed-To:  C1-Addend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E37B-4F26-4598-8A13-81A21A51FE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Bit Adder as a C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Bit-Ad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lass-Of:  Circu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Addend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Adden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u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S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Out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X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Type:  One-Bit-Adder-X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et-Of-Values:  G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Ga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-Cardinality:  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F0CC-AE07-4A47-8B14-A4D19F625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-Bit-Adder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Addend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-Values:  (listof Component-Of X1 Inpu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Xor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put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One-Bit-Adder-X1-Input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Bit-Adder-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-Values:  (listof Component-Of Component-Of Addend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704F-7B1B-4472-B291-BA2F4B1727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s An Instance Of One-Bit-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86080"/>
            <a:ext cx="91440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One-Bit-Ad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nd1:  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:  C1-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1:  C1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 … C1-Sum … C1-X1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   C1-Addend2   C1-Carry-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Sum   C1-Carry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D63-D34D-4359-9F5D-ADAA4F78BE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erred 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760" y="1257480"/>
            <a:ext cx="746748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Addend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1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1-X1-Inpu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e-Bit-Adder-X1-Input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-Of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X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-To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1-Adden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1E40-3842-4088-9CAC-E0AE6F4B13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 and Cl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: “The class of all object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-Of: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tance-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Documen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: “The class of all class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Subclass-Of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-Type: 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ing ?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9A71-B08D-49F1-B7AB-76A033B1F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ectrical Compon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-Compon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-Of:  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Component-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-Slot-Cardinality: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Compon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-Type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e:  Component-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37AC-D9AE-4FEF-B1D6-B8BB219DD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656D-8B6F-43D5-A6B5-CFC9545AD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ign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(listof On 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-Values: (listof Connected-To Sig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nnected-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e:  Connected-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6683-A953-4E80-A945-FE660E137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-Of: 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Electrical-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(listof And Or Xor No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-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46A1-0F4B-4F30-B38F-96735816A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wo-To-One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06632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-To-One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ut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put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t-Cardinality: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Type:  Term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-Of-Values:  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CE9F-E947-455B-BCFE-54C92BBCF5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5120" y="106668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Type: 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Type: 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And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Or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2DDD-9620-4CE0-A731-F5AA320D0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or G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or-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-Of:  Two-To-One-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ype:  X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=&gt; (Xor-Gate ?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&lt;=&gt; (Signal (Output ?g)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(and (Signal (Input1 ?g) 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ff)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d (Signal (Input1 ?g) 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gnal (Input2 ?g) On)))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D83C-EFED-482E-B7CA-6E6D25231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/>
  <dc:description/>
  <dc:language>en-US</dc:language>
  <cp:lastModifiedBy>Richard Fikes</cp:lastModifiedBy>
  <cp:lastPrinted>2001-02-05T19:42:11Z</cp:lastPrinted>
  <dcterms:modified xsi:type="dcterms:W3CDTF">2001-02-07T23:36:10Z</dcterms:modified>
  <cp:revision>290</cp:revision>
  <dc:subject/>
  <dc:title>Large-Scale Repositories of Highly Expressive Reusable Knowledge</dc:title>
</cp:coreProperties>
</file>