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DA5A4-FF9A-4C66-8AA0-D907D8F8CB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5737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89968-B5CF-4C22-A192-8A302A5B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491A1-630F-4D8B-B1C2-BD2483EE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07E66-8C03-4C07-A6E1-7083ABA20B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09B60-F360-4226-942C-5A9DA91B7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F2088-F588-44CF-82D0-F946F33E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CFFA0-6131-43E8-AFF9-225A0FBB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8FBD9-D122-4524-B1E9-4219AE79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1A14C-8CDB-4A61-8B2B-7BFF831C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B9BDB-80F1-424F-A598-DDE29CB0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7CAE9-BAE5-4B90-BEA4-99971219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79AA4-64A9-4E1B-849A-7CC1B8EA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76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D336B-21E4-4C29-A4A9-B92E925C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AFFA3-D10E-4FFC-BE30-97FADF29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0" y="35737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0AB6E-9067-4B15-8D4B-DDAC28EC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76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CBCA5-5D6A-4580-8E5A-06DDC17B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168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336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168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336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CBFF2-51FE-4C7B-B2F5-83DFFA66E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D2F16-2B70-42BD-8233-EB2532BE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D1556-2BE1-4396-9951-0148D00E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751AD-D907-46CF-B078-FAAD7CFB0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54417-E2DD-4D9F-94FD-54BCAE69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C461F-E6D8-4980-ADE2-B7D739BF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D18CB-3097-495D-979C-3AB6677D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737CE-2686-4D1E-8065-E4CF6AA5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762120"/>
            <a:ext cx="9144000" cy="3045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457600" y="6552720"/>
            <a:ext cx="32763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owledge Systems Laboratory, Stanford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42720" y="6552720"/>
            <a:ext cx="2286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50A0-8356-4759-94EF-AD29F80EF99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172200"/>
            <a:ext cx="9144000" cy="3049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AB2E-BE96-4B91-927A-BBFE618A0B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90520" y="6388200"/>
            <a:ext cx="5115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/12/0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3360" y="685800"/>
            <a:ext cx="8553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3360" y="6172200"/>
            <a:ext cx="847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33960" y="3200400"/>
            <a:ext cx="426816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222876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Professor Richard Fik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17360" y="1523880"/>
            <a:ext cx="5365800" cy="16974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presenting Tim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51680" y="5178600"/>
            <a:ext cx="40410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222876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Computer Science Depart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222876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Stanford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32400" y="3962520"/>
            <a:ext cx="19393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222876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S2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222876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Winter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owledge Systems Laboratory, Stanford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67B05-B40C-4132-BD28-A3E16CE2BC2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s on Time-Interv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tarting-Po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nding-Poi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=&gt; (and (Time-Point ?s) (Time-Interval ?i)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&lt;=&gt; (Starting-Point ?i ?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nd (not (exists ?j (and (Time-Point ?j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efore ?j ?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Point-In-Interval ?j ?i)))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=&gt; (Time-Point ?p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ot (exists ?k (and (Time-Point ?k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efore ?k ?p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Point-In-Interval ?k ?i)))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or (Equal-Point ?p ?s) (Before ?p ?s))))))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u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vex time interv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quantity whose magnitude is the difference between the location of the interval’s ending point and starting poi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-convex time interv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 of durations of all convex time intervals contained in i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84F67-63AA-4B8E-A28B-CEC3AEB793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 on Time-Interv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3483000"/>
                <a:tab algn="l" pos="3994200"/>
                <a:tab algn="l" pos="429264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mes Allen defined a “complete” set of relations on time interv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3483000"/>
                <a:tab algn="l" pos="3994200"/>
                <a:tab algn="l" pos="429264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cedes:  |————|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-1 &lt; Start-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83000"/>
                <a:tab algn="l" pos="3994200"/>
                <a:tab algn="l" pos="429264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——————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3483000"/>
                <a:tab algn="l" pos="3994200"/>
                <a:tab algn="l" pos="429264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ets:            |————|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-1 = Start-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83000"/>
                <a:tab algn="l" pos="3994200"/>
                <a:tab algn="l" pos="429264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——————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3483000"/>
                <a:tab algn="l" pos="3994200"/>
                <a:tab algn="l" pos="429264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laps:             |————|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-1 &lt; Start-2 &lt; End-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83000"/>
                <a:tab algn="l" pos="3994200"/>
                <a:tab algn="l" pos="429264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——————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3483000"/>
                <a:tab algn="l" pos="3994200"/>
                <a:tab algn="l" pos="429264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art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————|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-1 = Start-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83000"/>
                <a:tab algn="l" pos="3994200"/>
                <a:tab algn="l" pos="429264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——————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3483000"/>
                <a:tab algn="l" pos="3994200"/>
                <a:tab algn="l" pos="429264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|————|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-2 &lt; Start-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83000"/>
                <a:tab algn="l" pos="3994200"/>
                <a:tab algn="l" pos="429264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——————|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-1 &lt; End-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3483000"/>
                <a:tab algn="l" pos="3994200"/>
                <a:tab algn="l" pos="429264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finishe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————|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-1 = End-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83000"/>
                <a:tab algn="l" pos="3994200"/>
                <a:tab algn="l" pos="429264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——————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3483000"/>
                <a:tab algn="l" pos="3994200"/>
                <a:tab algn="l" pos="429264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18E21-A827-48CA-A410-469AE0FF25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sing the Interval Rel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ign of George VI preceded that of Elizabeth II.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recedes (ReignOf GeorgeVI) (ReignOf ElizabethII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ign of Elvis overlapped with the 1950’s.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tarting-Point Fifties (Starting-Point AD1950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Ending-Point Fifties (Ending-Point AD1959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Overlaps Fifties (ReignOf Elvis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0D66F-3AC7-4D72-A25B-EB6C0C4AED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Week in January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nd (Subclass-Of Week-In-January Convex-Time-Interva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=&gt; (Week-In-January ?w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nd (Duration ?w (The-Quantity Day 7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exists ?j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nd (Calendar-January ?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r (During ?w ?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ostarts ?w ?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ofinishes ?w ?j)))))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D1683-A83D-435C-B89F-FE22033B76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ass Hierarchy of Time Ontolog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6320" y="1143000"/>
            <a:ext cx="8915400" cy="4952880"/>
            <a:chOff x="76320" y="1143000"/>
            <a:chExt cx="8915400" cy="4952880"/>
          </a:xfrm>
        </p:grpSpPr>
        <p:sp>
          <p:nvSpPr>
            <p:cNvPr id="168" name=""/>
            <p:cNvSpPr/>
            <p:nvPr/>
          </p:nvSpPr>
          <p:spPr>
            <a:xfrm>
              <a:off x="5888160" y="3438360"/>
              <a:ext cx="1736640" cy="86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56480" y="3438360"/>
              <a:ext cx="1736640" cy="86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427560" y="1546200"/>
              <a:ext cx="148896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32520" y="1546200"/>
              <a:ext cx="248292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10120" y="1546200"/>
              <a:ext cx="161460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784840" y="1546200"/>
              <a:ext cx="99396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62440" y="1546200"/>
              <a:ext cx="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41800" y="1546200"/>
              <a:ext cx="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47120" y="3438360"/>
              <a:ext cx="0" cy="86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515440" y="3438360"/>
              <a:ext cx="0" cy="86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778800" y="3438360"/>
              <a:ext cx="1736640" cy="86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909760" y="3438360"/>
              <a:ext cx="1862280" cy="86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10120" y="3438360"/>
              <a:ext cx="0" cy="86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320" y="5334120"/>
              <a:ext cx="868320" cy="69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alendar-Januar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03240" y="3956040"/>
              <a:ext cx="62064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. . 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494160" y="4262400"/>
              <a:ext cx="62064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. . 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62320" y="4186080"/>
              <a:ext cx="620640" cy="6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. . 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54240" y="1203480"/>
              <a:ext cx="1116000" cy="41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ime-Poin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91240" y="1203480"/>
              <a:ext cx="1366560" cy="41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ime-Interval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60640" y="2233440"/>
              <a:ext cx="1739880" cy="51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onvex-Time-Interval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70240" y="3438360"/>
              <a:ext cx="1241640" cy="86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egular- Non-Convex -Time-Interval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37160" y="2233440"/>
              <a:ext cx="746280" cy="127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ime-Interval-Left-Ope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73800" y="2233440"/>
              <a:ext cx="746280" cy="127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ime-Interval-Right-Ope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45360" y="2233440"/>
              <a:ext cx="846360" cy="127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ime-Interval-Right-Close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537160" y="4299120"/>
              <a:ext cx="746280" cy="172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ime-Interval-Left-Open-Right-Ope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05480" y="4299120"/>
              <a:ext cx="746280" cy="172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ime-Interval-Left-Closed-Right-Close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73800" y="4299120"/>
              <a:ext cx="746280" cy="172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ime-Interval-Left-Open-Right-Ope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145360" y="4299120"/>
              <a:ext cx="846360" cy="172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ime-Interval-Left-Closed-Right-Close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78800" y="3438360"/>
              <a:ext cx="0" cy="86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1680" y="3268800"/>
              <a:ext cx="1366560" cy="51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alendar-Month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33600" y="3268800"/>
              <a:ext cx="1241640" cy="51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alendar-Da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1440000" y="2751120"/>
              <a:ext cx="868320" cy="5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170240" y="2233440"/>
              <a:ext cx="1241640" cy="69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on-Convex-Time-Interval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91240" y="2924280"/>
              <a:ext cx="0" cy="51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54240" y="2751120"/>
              <a:ext cx="0" cy="5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27560" y="5160960"/>
              <a:ext cx="868320" cy="76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alendar-Sunda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70240" y="4646520"/>
              <a:ext cx="8715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alendar-Saturda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12960" y="5334120"/>
              <a:ext cx="86832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alendar-Day-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33600" y="4816440"/>
              <a:ext cx="86832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alendar-Day-3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49600" y="3786120"/>
              <a:ext cx="620640" cy="95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301920" y="3786120"/>
              <a:ext cx="247680" cy="137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2060640" y="3786120"/>
              <a:ext cx="498240" cy="15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06560" y="3786120"/>
              <a:ext cx="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324000" y="3786120"/>
              <a:ext cx="620640" cy="15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40000" y="3786120"/>
              <a:ext cx="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6960" y="4816440"/>
              <a:ext cx="990720" cy="69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alendar-December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7120" y="1143000"/>
              <a:ext cx="1241280" cy="51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ime-Quantity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05480" y="2233440"/>
              <a:ext cx="746280" cy="127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ime-Interval-Left-Close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122B2-DC35-4A6D-AC8B-8715F202CE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finity and Dens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6320" y="18284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nfinite-Pa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nfinite-Fut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e time poi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nd (Time-Point Infinite-Past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=&gt; (Time-Point ?p) (not (Before ?p Infinite-Past))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ime line is considered to be d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=&gt; (and (Time-Point ?i) (Time-Point ?j) (Before ?i ?j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exists ?k (and (Before ?i ?k) (Before ?k ?j))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3D77C-CC34-46C3-8B63-0BEE3ED2A8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ass Frame Time-Poi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334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-Poi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class-Of: Thin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Location-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-Cardinality: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-Type: Time-Quant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Year-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-Cardinality: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-Type: Inte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Month-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-Cardinality: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-Type: Calendar-Month-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Day-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-Cardinality: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-Type: Calendar-Day-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Week-Day-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-Cardinality: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-Type: Calendar-Week-Day-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0600" y="1599840"/>
            <a:ext cx="4495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Hour-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-Cardinality: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-Type: Inte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Minute-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-Cardinality: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-Type: Inte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Second-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-Cardinality: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-Type: Inte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Granularity-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t-Cardinality: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-Type: Time-Granular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CEFC2-6D32-4049-82EA-A7C5921B49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ime Granular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 cannot be measured with infinite accura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a notion of “abstracted” time poi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, 1984, May-1927, 12:50 p.m. February 14,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intervals are not suffic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fy a granularity for a time poi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for uncertainty that a point occurs somewhere in a certain time interv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, The time point 1984 at granularity “year” occurs somewhere during the convex interval 198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F8EDB-A3F4-41D4-BB5A-74490F15D9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ime Granular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13372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-Granula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class-Of: T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Time-Unit-O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-Type: Time-Un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-Cardinality: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ar-Granula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nce-Of: Time-Granula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-Unit-Of: Y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initely-Fine-Granula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nce-Of: Time-Granula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-Unit-Of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ot-Cardinality: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5EF3F-7F5F-42C6-B955-E8157086A9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qual-Poi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&lt;=&gt; (Equal-Point ?i ?j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or (and (Granularity-Of ?i Infinitely-Fine-Granularit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Granularity-Of ?j Infinitely-Fine-Granularity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= (Location-Of ?i) (Location-Of ?j)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nd (Granularity-Of ?i ?gra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Granularity-Of ?j ?gran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= (LINLT (Quantity-Magnitude (Location-Of ?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ime-Unit-Of ?gran)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LINLT (Quantity-Magnitude (Location-Of ?j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ime-Unit-Of ?gran)))))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time points on two different levels of granularity cannot be said to be equal to each o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3B1D8-77ED-4CB3-BB4B-9BFA235DD8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bout Ti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hysical dimension (the Time-Dimens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plen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rge temporal space in which all events are loc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“time line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mporally possible world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time is continuous and line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line analogous to continuous number 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u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amount of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“a century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 minute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long as it takes for the kettle to boil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4FF03-8EE3-40E2-ADA3-64B49137772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ull Definition of Befo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=&gt; (and (Time-Point ?i) (Time-Point ?j)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&lt;=&gt; (Before ?i ?j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or (and (Granularity-Of ?i Infinitely-Fine-Granularity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Granularity-Of ?j Infinitely-Fine-Granularity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&lt; (Location-Of ?i) (Location-Of ?j))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nd (Granularity-Of ?i Infinitely-Fine-Granularity) (Granularity-Of ?j ?gran-j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&lt; (Location-Of ?i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The-Quantity (LINLT (Quantity-Magnitude (Location-Of ?j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Time-Unit-Of ?gran-j))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Time-Unit-Of ?gran-j)))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nd (Granularity-Of ?i ?gran-i) (Granularity-Of ?j ?gran-j)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&lt; (The-Quantity (SINLT (Quantity-Magnitude (Location-Of ?i)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Time-Unit-Of ?gran-i))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Time-Unit-Of ?gran-i)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The-Quantity (LINLT (Quantity-Magnitude (Location-Of ?j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Time-Unit-Of ?gran-j))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Time-Unit-Of ?gran-j))))))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4F606-EA93-4205-AEBE-A5B21373A6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yles of Temporal Represent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less Quant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s and relations have a time argu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(Married Joe Anne 1993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uation calcul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s have time intervals associated with th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(contains (time-of (Marriage Joe Anne)) 1993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tences “hold true” at ti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(holds (Married Joe Anne) 1993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nse log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(F (Married Joe Anne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F (and (not (Married Joe Anne)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 (Married Joe Anne))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7358C-BD25-43C1-8CA8-54BAE9DED6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oints and Interva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Time poi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on on a temporal coordinate 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, “2:22 p.m., February 2, 2000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itive ob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ogous to a real numb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so represented at varying granular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, “March 14, 1994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Time interv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of two or more time po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“the 16th century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:50 to 11:00 a.m. on May 30, 1993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on to 1:00 p.m. every Tuesday in 2000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itive ob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Convex interv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alogous to interval on number 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 two distinguished points: Start-Point and End-Poi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Left-Open, Left-Closed, Right-Open, and/or Right-Clo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1793A-B6E9-476F-BB53-1E99CA6CA2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ass Hierarchy of Time Ontolog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6320" y="1143000"/>
            <a:ext cx="8915400" cy="4952880"/>
            <a:chOff x="76320" y="1143000"/>
            <a:chExt cx="8915400" cy="4952880"/>
          </a:xfrm>
        </p:grpSpPr>
        <p:sp>
          <p:nvSpPr>
            <p:cNvPr id="99" name=""/>
            <p:cNvSpPr/>
            <p:nvPr/>
          </p:nvSpPr>
          <p:spPr>
            <a:xfrm>
              <a:off x="5888160" y="3438360"/>
              <a:ext cx="1736640" cy="86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56480" y="3438360"/>
              <a:ext cx="1736640" cy="86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3427560" y="1546200"/>
              <a:ext cx="148896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32520" y="1546200"/>
              <a:ext cx="248292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10120" y="1546200"/>
              <a:ext cx="161460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84840" y="1546200"/>
              <a:ext cx="99396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62440" y="1546200"/>
              <a:ext cx="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41800" y="1546200"/>
              <a:ext cx="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47120" y="3438360"/>
              <a:ext cx="0" cy="86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515440" y="3438360"/>
              <a:ext cx="0" cy="86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6778800" y="3438360"/>
              <a:ext cx="1736640" cy="86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5909760" y="3438360"/>
              <a:ext cx="1862280" cy="86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10120" y="3438360"/>
              <a:ext cx="0" cy="86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320" y="5334120"/>
              <a:ext cx="868320" cy="69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alendar-Januar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03240" y="3956040"/>
              <a:ext cx="62064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. . 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94160" y="4262400"/>
              <a:ext cx="62064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. . 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62320" y="4186080"/>
              <a:ext cx="620640" cy="6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. . 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4240" y="1203480"/>
              <a:ext cx="1116000" cy="41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ime-Poin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91240" y="1203480"/>
              <a:ext cx="1366560" cy="41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ime-Interval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60640" y="2233440"/>
              <a:ext cx="1739880" cy="51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onvex-Time-Interval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70240" y="3438360"/>
              <a:ext cx="1241640" cy="86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egular- Non-Convex -Time-Interval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37160" y="2233440"/>
              <a:ext cx="746280" cy="127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ime-Interval-Left-Ope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73800" y="2233440"/>
              <a:ext cx="746280" cy="127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ime-Interval-Right-Ope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145360" y="2233440"/>
              <a:ext cx="846360" cy="127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ime-Interval-Right-Close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37160" y="4299120"/>
              <a:ext cx="746280" cy="172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ime-Interval-Left-Open-Right-Ope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05480" y="4299120"/>
              <a:ext cx="746280" cy="172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ime-Interval-Left-Closed-Right-Close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273800" y="4299120"/>
              <a:ext cx="746280" cy="172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ime-Interval-Left-Open-Right-Ope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145360" y="4299120"/>
              <a:ext cx="846360" cy="172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ime-Interval-Left-Closed-Right-Close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78800" y="3438360"/>
              <a:ext cx="0" cy="86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1680" y="3268800"/>
              <a:ext cx="1366560" cy="51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alendar-Month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33600" y="3268800"/>
              <a:ext cx="1241640" cy="51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alendar-Da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1440000" y="2751120"/>
              <a:ext cx="868320" cy="5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70240" y="2233440"/>
              <a:ext cx="1241640" cy="69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on-Convex-Time-Interval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91240" y="2924280"/>
              <a:ext cx="0" cy="51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54240" y="2751120"/>
              <a:ext cx="0" cy="5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27560" y="5160960"/>
              <a:ext cx="868320" cy="76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alendar-Sunda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70240" y="4646520"/>
              <a:ext cx="8715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alendar-Saturda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12960" y="5334120"/>
              <a:ext cx="86832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alendar-Day-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33600" y="4816440"/>
              <a:ext cx="86832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alendar-Day-3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49600" y="3786120"/>
              <a:ext cx="620640" cy="95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01920" y="3786120"/>
              <a:ext cx="247680" cy="137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060640" y="3786120"/>
              <a:ext cx="498240" cy="15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06560" y="3786120"/>
              <a:ext cx="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24000" y="3786120"/>
              <a:ext cx="620640" cy="15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440000" y="3786120"/>
              <a:ext cx="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6960" y="4816440"/>
              <a:ext cx="990720" cy="69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alendar-December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47120" y="1143000"/>
              <a:ext cx="1241280" cy="51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ime-Quantity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05480" y="2233440"/>
              <a:ext cx="746280" cy="127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ime-Interval-Left-Close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E185B-3E41-407C-9F9C-000F262974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ass Frame Time-Poi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334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-Poi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class-Of: Thin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Location-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-Cardinality: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-Type: Time-Quant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Year-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-Cardinality: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-Type: Inte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Month-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-Cardinality: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-Type: Calendar-Month-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Day-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-Cardinality: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-Type: Calendar-Day-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Week-Day-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-Cardinality: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-Type: Calendar-Week-Day-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00600" y="1599840"/>
            <a:ext cx="4495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Hour-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-Cardinality: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-Type: Inte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Minute-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-Cardinality: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-Type: Inte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Second-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-Cardinality: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-Type: Inte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Granularity-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t-Cardinality: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-Type: Time-Granular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F8814-21B6-47B9-8E19-B4E0F4598E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cation of Time Poi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Location-O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unt of time from “point zero” to the time-poi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is a time quantity (i.e., a dura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nt zero assumed to be midnight Jan 1, 19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dnight-January-1-19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ce-Of: Time-Poi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tion-Of: Time-Inst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-Inst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ce-Of: Time-Quant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=&gt; (Time-Unit ?u) (Quantity-Magnitude Time-Instant ?u 0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2CBFF-E40B-4EFC-B944-6AAE861A8A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ar-Of, Month-Of, Day-Of,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rivable from Location-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of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Year-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our-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inute-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&amp;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econd-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n inte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=&gt; (Time-Point ?p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= (Year-Of ?p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+ (LINLT (Quantity-Magnitude (Location-Of ?p) Year-Unit)) 1900))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=&gt; (Time-Point ?p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= (Hour-Of ?p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Mod (LINLT (Quantity-Magnitude (Location-Of ?p) Hour-Unit)) 24))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Note: LINLT means “Largest Integer Less Than”.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of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onth-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Calendar-Month-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endar-Month-Type is a class whose instances are the 12 subclasses of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endar-Month (e.g., Calendar-January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of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ay-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Calendar-Day-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endar-Day-Type is a class whose 31 instances are classes Calendar-Day-1 through Calendar-Day-3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of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Week-Day-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Calendar-Week-Day-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2C304-07F8-4487-A3B2-E458593632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inary Relations on Time-Poi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Befo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f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Equal-Poi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ed in terms of Location-O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=&gt; (and (Time-Point ?i) (Time-Point ?j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&lt;=&gt; (Before ?i ?j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 (&lt; (Location-Of ?i) (Location-Of ?j)) ...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=&gt; (Physical-Quantity ?q1) (Physical-Dimension ?q1 ?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hysical-Quantity ?q2) (Physical-Dimension ?q2 ?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Unit-Of-Measure ?u) (Unit-Dimension ?u ?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&lt;=&gt; (&lt; ?q1 ?q2) (&lt; (Quantity-Magnitude ?q1 ?u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Quantity-Magnitude ?q2 ?u))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oint-In-Interv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itive re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2E385-40FE-4473-93E5-5E71AC0716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ass Frame Time-Interv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-Interv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ce-Of: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Starting-Poin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Type: Time-Poi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ot-Cardinality: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Ending-Poin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Type: Time-Poi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ot-Cardinality: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=&gt; (Time-Interval ?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nd (Before (Starting-Point ?i) (Ending-Point ?i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=&gt; (Time-Point ?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nd (=&gt; (Before ?p (Starting-Point ?i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not (Point-In-Interval ?p ?i)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=&gt; (Before (Ending-Point ?i) ?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not (Point-In-Interval ?p ?i)))))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01A6D-F474-458D-96CC-DCEEFCA038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6T21:55:36Z</dcterms:created>
  <dc:creator/>
  <dc:description/>
  <dc:language>en-US</dc:language>
  <cp:lastModifiedBy>fikes</cp:lastModifiedBy>
  <cp:lastPrinted>2000-02-09T19:45:43Z</cp:lastPrinted>
  <dcterms:modified xsi:type="dcterms:W3CDTF">2001-02-23T22:58:39Z</dcterms:modified>
  <cp:revision>372</cp:revision>
  <dc:subject/>
  <dc:title>Large-Scale Repositories of Highly Expressive Reusable Knowledge</dc:title>
</cp:coreProperties>
</file>