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02832-4D97-4E21-8E75-997FE21E19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776D7-101B-4DB3-9593-5E9ED05D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54BF3-3B0C-4C74-9F21-7D02945F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73D31-E852-4A7C-AF9D-CDD1CE8FD0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991AB-4517-4F00-851A-DB270888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222D5-4AA7-4ED3-93D6-9B7CB82D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3074B-4F6E-405B-9009-CFB95C99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A8159-A852-4783-B013-B94F980C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BE04B-BAC9-488A-A7EF-32798274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A4C70-C420-4F81-B4E3-B8A5DE58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C27A8-16E6-4E0E-9D18-F812AEED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1921A-1843-4C3E-9EA2-B0AD4DA1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4500A-852C-4D18-9EB5-C53D1BF3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70476-8B7D-45CD-A374-178F77F6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22043-08F1-4D77-ADEA-C6A1FB93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94A37-6D5B-4902-830B-3A7FFF2B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68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336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68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336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8A2DF-11B1-4CBD-A747-3384F4DA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508CB-70B2-4EED-AE8A-5A950BEF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418B4-DFBB-4676-AD05-DD8C5FAB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59E33-77BF-4638-BE93-9BA8FDA2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BA3DC-1201-4293-9EF2-281A8813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5D3FA-D39C-4B5F-BB12-E1A3621E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CF09E-E6B0-40DD-9E9F-B41C409D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3E371-9B3A-433F-A91C-340A2118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762120"/>
            <a:ext cx="9144000" cy="304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457600" y="6552720"/>
            <a:ext cx="32763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owledge Systems Laboratory, Stanford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42720" y="6552720"/>
            <a:ext cx="228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CBF7-5701-4830-8D12-081F8E67BA1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172200"/>
            <a:ext cx="9144000" cy="3049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E855-7268-4D12-A488-730DF7AE12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0520" y="6388200"/>
            <a:ext cx="44748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/7/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3360" y="685800"/>
            <a:ext cx="8553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360" y="6172200"/>
            <a:ext cx="847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3960" y="3200400"/>
            <a:ext cx="426816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Professor Richard Fi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971280"/>
            <a:ext cx="9144000" cy="1697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xample of Multi-Use Ontology: Units and Measu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51680" y="5178600"/>
            <a:ext cx="4041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mputer Science Depart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tanford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32400" y="3962520"/>
            <a:ext cx="19393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S2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Wint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owledge Systems Laboratory, Stanford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D5D7E-E7BD-4B34-8A42-3B2A5C247EF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its and Measu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hematical models of engineered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-Quant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3 meters, 80 kilometers/ho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-Dimen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length, velocity, weight,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s-Of-Mea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meters, kilometers/ho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nitu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scalars, vectors, tensors, and functions thereo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FEDB-049E-4181-A0B3-5EAB16FDDF8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gnitude of a Quantity in a Un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cal-Dim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-Of: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Standard-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t-Cardinality: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-Type: Unit-Of-Meas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-Of-Meas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-Of: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Unit-Dimen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t-Cardinality: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-Type: Physical-Dimen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23920" y="159984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cal-Quant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-Of: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Quantity-Dimen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t-Cardinality: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-Type: Physical-Dimen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-Of: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0D27E-0C15-4338-B778-B01FAB4EB7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it*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effunction Unit*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* is an associative commutative mapping of all pai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units to unit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nd (=&gt; (Instance-Of ?u1 Unit-Of-Meas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stance-Of ?u2 Unit-Of-Meas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nit-Of-Measure (Unit* ?u1 ?u2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 (Unit* ?u1 ?u2) (Unit* ?u2 ?u1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 (Unit* ?u1 (Unit* ?u2 ?u3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nit* (Unit* ?u1 ?u2) ?u3)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9D849-1180-442C-AF5F-9471070595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it^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effunction Unit^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^ is a mapping of reals to units that has the algebraic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erties of exponentiation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nd (=&gt; (Instance-Of ?u Unit-Of-Meas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stance-Of ?r Real-Numb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nit-Of-Measure (Unit^ ?u ?r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 (Unit^ ?u 1) ?u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 (Unit* (Unit^ ?u ?r1) (Unit^ ?u ?r2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nit^ ?u  (+ ?r1 ?r2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 (Unit^ (Unit* ?u1 ?u2) ?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nit* (Unit^ ?u1 ?r) (Unit^ ?u2 ?r))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efobject Meter/Second (Unit* Meter (Unit^ Second –1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81908-7BDA-4D58-B4D2-A7EF2DA47B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gnitude of Physical Quantit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2962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effunction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Quantity-Magnitu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magnitude of a physical quantity in a given unit of measur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&gt; (and (Quantity-Magnitude ?q ?u ?m) (/= ?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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nd (Instance-Of ?q Physical-Quantity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stance-Of ?u Unit-Of-Measure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stance-Of ?m Magnitud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 (Quantity-Dimension ?q) (Unit-Dimension ?u)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effunction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The-Quant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hysical quantity with a given magnitude in a given unit of measur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&lt;=&gt; (The-Quantity ?m ?u ?q) (Quantity-Magnitude ?q ?u ?m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, (Debobject Real-Fast (The-Quantity 10000 Meter/Second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&gt; (Instance-Of ?q1 Physical-Quantity) (Instance-Of ?q2 Physical-Quanti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&lt;=&gt;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(= ?q1 ?q2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nd (Quantity-Dimension ?q1 (Quantity-Dimension ?q2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&gt; (Instance-Of ?u Unit-Of-Measure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Unit-Dimension ?u (Quantity-Dimension ?q1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Quantity-Magnitude ?q1 ?u (Quantity-Magnitude ?q2 ?u)))))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D1287-ECFB-47AF-9047-C65B4EEB2E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ample Defini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ngth-Dim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-of: Physical-Dimen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-Unit: Me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ngth-Unit-Of-Meas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class-Of: Unit-Of-Meas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Unit-Dimension: Length-Dimen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-Of: Length-Unit-Of-Meas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lome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-Of: Length-Unit-Of-Meas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===========================================================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&gt; (and (Instance-Of ?q1 Physical-Quantit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Quantity-Dimension ?q1 Length-Dimension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 (Quantity-Magnitude ?q1 Kilome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/ (Quantity-Magnitude ?q1 Meter) 1000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CCA97-CE7C-474E-9561-C4D50C43E9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6T21:55:36Z</dcterms:created>
  <dc:creator/>
  <dc:description/>
  <dc:language>en-US</dc:language>
  <cp:lastModifiedBy>Richard Fikes</cp:lastModifiedBy>
  <cp:lastPrinted>1998-02-13T00:04:31Z</cp:lastPrinted>
  <dcterms:modified xsi:type="dcterms:W3CDTF">2001-02-07T22:51:33Z</dcterms:modified>
  <cp:revision>297</cp:revision>
  <dc:subject/>
  <dc:title>Large-Scale Repositories of Highly Expressive Reusable Knowledge</dc:title>
</cp:coreProperties>
</file>