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454-6716-4B39-9E2A-04BA68F6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91C-8091-4C68-BE28-81672AE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621-A048-48A3-B709-CC86F8C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5A2-6652-42C8-9036-3E389AC8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98F3-F47D-4F29-AA5A-CEBD4FBE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35E-076E-4902-A855-69A1390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F54D-D6C2-4660-9462-2C51C5E5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81BF-DE4E-4D2B-9B6D-7BFE7B8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75A4-7594-4D55-87BD-D78C4792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058-4599-4E6F-85B2-C496EF4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8C9-076E-4809-A4CD-6F6B7B3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AB2-097A-4012-9CEA-C9ECC14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C8BE-53F4-4A9C-A2E1-7EAC4E0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6EFD-B2E5-44A3-9E00-DCA9EC9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EF2F-EC8D-4C30-B7E3-01837E1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92F1-4802-4F5E-89D1-0F5DA18B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874-F6E2-4FFD-95D5-C0931510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4EE-743D-4CF1-9DD0-163C185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0FE-CE4A-4090-9788-DAF57E0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4EC-B9CF-4129-A8CC-9159CED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901-D60F-45B3-BA2C-6B1F817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CB3-7FB3-45B8-A250-5A67DB5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046-4483-464A-BA5E-D9D76D9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B8A-E028-4DA7-991C-C51F2830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43C4-34FC-4C25-B98E-E03B7D0F4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A30-6360-4D97-B516-B87C44DA80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Working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vs.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133720"/>
            <a:ext cx="63244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5960" y="4267080"/>
            <a:ext cx="1326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6200" y="4267080"/>
            <a:ext cx="2292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2200" y="4267080"/>
            <a:ext cx="2292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7360" y="3048120"/>
            <a:ext cx="1200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1240" y="57913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666520" y="47242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956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47239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ing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rage, Optimization,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of Web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for more expos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u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of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 trust (proofs, log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ymbolic (ebay, epinions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ctic transformations (structu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antic transformations (ontolog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 services (medi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 of transformations (shared reposit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and arti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ization and Iden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ty of objects (on the we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stablish object identity? (different URI for same obj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icious use of the same URI different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to other naming models (e.g., TopicMa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3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 Open Source development of high quality components (aka Apache) (Technology Transition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ologies (mayb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commercial organization for development software development (aka Apache.or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56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w Approach to Technology Transfer for Funding Organiz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09:39:10Z</dcterms:created>
  <dc:creator>Stefan Decker</dc:creator>
  <dc:description/>
  <dc:language>en-US</dc:language>
  <cp:lastModifiedBy>Stefan Decker</cp:lastModifiedBy>
  <dcterms:modified xsi:type="dcterms:W3CDTF">2001-10-05T11:20:33Z</dcterms:modified>
  <cp:revision>5</cp:revision>
  <dc:subject/>
  <dc:title>Infrastructure Working Group</dc:title>
</cp:coreProperties>
</file>