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1410-F563-468E-8687-FF521BB168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1F863-2E3D-4F8B-B042-80105AF3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CA9C5-11A5-4C2F-BDF8-6FACCD14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9E89B-2BC0-453B-836B-481F8B70E5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5CE43-52A2-48B3-8A14-64BF554D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C2E84-3B4C-41B4-951F-F9D0E5A4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F5C10-B7CF-45D7-BAFF-04374686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EEACA-6B6E-4A71-A516-9F628940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BBFC9-EEDA-4209-90D9-F123FD97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D341A-8DEE-44DB-A40C-8E6D513F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8C5E1-1CB2-4C98-A180-D2472FDE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914B2-CEDA-49F4-8B3A-E569D03A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0DF23-314A-4F91-85BE-931C63B0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DD39B-B2EA-4396-9136-E6FAC697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81767-715D-4B9F-B574-5BC9579A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784F4-F15B-48AF-A12D-CF95CE92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33A55-D976-4358-B049-5F7C9F8A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2B95E-5B71-4A33-9DB0-B0990FEA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7120-A965-40F5-9644-809F5D0C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0960-21C6-4650-AEF0-70D17A07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C4525-E875-4D31-9E10-6A40C16F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D6E82-2CE9-4302-B63F-47363C91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9C417-DC79-4702-A9BD-24E98ADE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8B49-AF71-4200-8A06-FF6D6A3D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2120"/>
            <a:ext cx="9144000" cy="304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457600" y="6552720"/>
            <a:ext cx="32763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ledge Systems Laboratory, Stanford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2720" y="655272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A159-3475-41CF-91B6-41F14837AB0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A30E-274F-47AA-8409-57BDB271A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0520" y="6388200"/>
            <a:ext cx="511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/31/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3360" y="685800"/>
            <a:ext cx="8553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360" y="6172200"/>
            <a:ext cx="847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3960" y="3200400"/>
            <a:ext cx="426816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rofessor Richard F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2560" y="990360"/>
            <a:ext cx="8375400" cy="2520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ame Representatio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f Electronic Circuit Examp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51680" y="5178600"/>
            <a:ext cx="4041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mputer Science Depar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tanford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32400" y="3962520"/>
            <a:ext cx="1939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S2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int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ledge Systems Laboratory, Stanford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FB66F-56EB-40A0-99CD-E4EDF803EDA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G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1066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-G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-Of:  G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Type: 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n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Out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---------------------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Not-Gate ?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d (=&gt; (Signal (Input ?g) Off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gnal (Output ?g) On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Signal (Input ?g) On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gnal (Output ?g) Off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3AA8-CB5A-491D-95A8-F44F77E9AA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80880" y="1447920"/>
          <a:ext cx="8305920" cy="371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447920"/>
                    <a:ext cx="830592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gital Circuit 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61960" y="5409720"/>
            <a:ext cx="47242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ssell and Norvig, Figure 8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259092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 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411480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ry 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76320" y="2666880"/>
            <a:ext cx="129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e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76320" y="3581280"/>
            <a:ext cx="129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ry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ACA1-A37E-4C7A-99F5-80D7DF656A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ame Representation of 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240" y="11430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 Circu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:  C1-Addend1   C1-Addend2   C1-Carry-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  C1-Sum   C1-Carry-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:  X1   X2   A1   A2   O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 Xor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1:  X1-Input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2:  X1-Input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  X1-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1-Input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ed-To:  C1-Addend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40E1-AAE6-4503-9363-15F6E1AE6F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ame Language Inferen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nce-Of:  Circu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:  C1-Addend1   C1-Addend2   C1-Carry-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:  C1-Sum   C1-Carry-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te:  X1   X2   A1   A2   O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: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1-Addend1   C1-Addend2   C1-Carry-In   C1-Su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1-Carry-Out   X1   X2   A1   A2   O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nce-Of:  Xor-G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1:  X1-Input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2:  X1-Input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:  X1-Out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: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1-Input1   X1-Input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: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1-Input1   X1-Input2   X1-Out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-Of: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-Input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nce-Of:  Termi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ed-To:  C1-Addend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-Of: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"/>
              </a:lnSpc>
              <a:spcBef>
                <a:spcPts val="45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DB074-0FBE-4069-8228-A365F1E8F1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Bit Adder as a Cla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09680" y="114264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-Bit-Ad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class-Of:  Circu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Addend1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ue-Type:  One-Bit-Adder-Addend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et-Of-Values:  Inpu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Inpu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t-Cardinality: 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Sum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ue-Type:  One-Bit-Adder-S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et-Of-Values:  Outpu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Outpu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t-Cardinality:  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X1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ue-Type:  One-Bit-Adder-X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et-Of-Values:  Ga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Gat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t-Cardinality:  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7CFD-6586-4A47-89ED-515297ACCC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-Bit-Adder Compon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Bit-Adder-Addend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class-Of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Connected-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-Values:  (listof Component-Of X1 Inpu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Bit-Adder-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class-Of:  Xor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nput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 One-Bit-Adder-X1-Input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Bit-Adder-X1-Input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class-Of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Connected-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-Values:  (listof Component-Of Component-Of Addend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E0B6-D920-4866-B471-BEA9E3762C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s An Instance Of One-Bit-Ad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486080"/>
            <a:ext cx="914400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3000"/>
          </a:bodyPr>
          <a:p>
            <a:pPr marL="18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 One-Bit-Ad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end1:  C1-Addend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:  C1-S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1:  C1-X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-Addend1 … C1-Sum … C1-X1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-Addend1   C1-Addend2   C1-Carry-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-Sum   C1-Carry-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EBB9-9031-48EE-8CEA-E5E42E4BC0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ferred 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mpon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4760" y="1257480"/>
            <a:ext cx="746748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1-Addend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e-Bit-Adder-Addend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-Of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ed-To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-X1-Input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1-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e-Bit-Adder-X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-Of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1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-X1-Input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1-X1-Input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e-Bit-Adder-X1-Input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-Of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-X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ed-To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-Addend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51CDA-DAFD-4EBA-968B-011BA16487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g and Cla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ation: “The class of all object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class-Of: T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alue-Type: 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nstance-O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-Slot-Cardinality: 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Document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ation: “The class of all classe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class-Of: T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Subclass-Of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-Slot-Cardinality: 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----------------------------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ing ?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90535-AA8F-4504-99FA-2BDFA8E66A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lectrical Compon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ical-Compon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class-Of:  Th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nce-Of: 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Component-Of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um-Slot-Cardinality: 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-Type:  Electrical-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Componen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-Type:  Electrical-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se:  Component-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27A7-2366-494D-9D56-456CFB0891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rcu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-Of: 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-Of:  Electrical-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n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-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t-Of-Values:  Com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Out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-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t-Of-Values:  Com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G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t-Of-Values:  Com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3C62-835B-4097-8AEB-55E4FDA468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-Of: 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-Of:  Electrical-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Signa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(listof On Of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-Values: (listof Connected-To Sign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Connected-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rse:  Connected-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E3DBC-6744-475D-8721-4003D502EF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2193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-Of: 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-Of:  Electrical-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Ty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(listof And Or Xor No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n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-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t-Of-Values:  Com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Out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-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t-Of-Values:  Com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9C7E-FF36-4B6F-84DF-7DE3452BA5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wo-To-One G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400" y="1066320"/>
            <a:ext cx="5029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-To-One-G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-Of:  G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n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Out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nput1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t-Of-Values:  In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nput2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t-Of-Values:  In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B574-C615-4056-A51F-402E75095B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5120" y="106668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-G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class-Of:  Two-To-One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Type:  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-G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class-Of:  Two-To-One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Type:  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---------------------------------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And-Gate ?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&lt;=&gt; (Signal (Output ?g) 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d (Signal (Input1 ?g) On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gnal (Input2 ?g) On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Or-Gate ?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&lt;=&gt; (Signal (Output ?g) 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 (Signal (Input1 ?g) On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gnal (Input2 ?g) On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B37EB-BE39-4090-B3A0-72D963D081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Xor G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or-G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-Of:  Two-To-One-G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Type:  X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-------------------------------------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Xor-Gate ?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&lt;=&gt; (Signal (Output ?g) 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 (and (Signal (Input1 ?g) On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gnal (Input2 ?g) Off)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d (Signal (Input1 ?g) Of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gnal (Input2 ?g) On)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0027-298C-4815-A154-61E252B8D4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6T21:55:36Z</dcterms:created>
  <dc:creator/>
  <dc:description/>
  <dc:language>en-US</dc:language>
  <cp:lastModifiedBy>Richard Fikes</cp:lastModifiedBy>
  <cp:lastPrinted>2001-02-05T19:42:11Z</cp:lastPrinted>
  <dcterms:modified xsi:type="dcterms:W3CDTF">2001-02-07T23:36:10Z</dcterms:modified>
  <cp:revision>290</cp:revision>
  <dc:subject/>
  <dc:title>Large-Scale Repositories of Highly Expressive Reusable Knowledge</dc:title>
</cp:coreProperties>
</file>