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D3779-FA71-443A-A922-5120AED540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3573720"/>
            <a:ext cx="9144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97BCA-7ECF-4B79-BED6-5119D9B62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35737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35737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89B0E-0BFE-49EB-87B6-6C101C37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06632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06632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357372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357372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357372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35FF9-DEA1-48E0-A092-E2C691BA6F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0BE8B9-50B7-46C6-9ADD-9E8FA3493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0" y="10663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0CF826-FFC5-4468-B14A-3BD2C3570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9E9B9F-4654-4FD1-A58F-5F3853421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FE723B-A807-41D0-966B-E2CDAB896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0FEE18-DD43-45C5-9559-94456A403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57EC23-79FE-402A-A8EB-341A382E9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0" y="35737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2071B9-8FF3-4E61-8636-F77039CD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0663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37D34-02CC-4F0C-9A2C-633E6B94B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5760" y="35737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65EE0D-2687-4EBA-BC14-8176F663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0" y="3573720"/>
            <a:ext cx="9144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B861CB-27EF-41F6-8FF1-E5269C66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0" y="3573720"/>
            <a:ext cx="9144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798DE2-39A1-4BC8-AC8A-DA21A511F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0" y="35737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5760" y="35737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43C04F-2D1E-487A-8F14-76C7EAC73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1680" y="106632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83360" y="106632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0" y="357372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1680" y="357372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83360" y="357372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80FA2F-5956-444F-A81F-CDA31E744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7AFD3-2441-4271-9C9D-3B6D363A3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EF2DF-F78C-4D0B-8C02-153D4CA8F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1ADE9-98C4-42F2-B310-86CDE690C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4A317-DE55-423C-9AA7-7A348708E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35737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8FF69-164A-4CCF-AA90-0147B1676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35737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466E7-16F3-442E-9C88-ED1631B3A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3573720"/>
            <a:ext cx="9144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43945-277A-4410-B9B8-ADA041C14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0" y="10663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762120"/>
            <a:ext cx="9144000" cy="30456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457600" y="6552720"/>
            <a:ext cx="327636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owledge Systems Laboratory, Stanford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42720" y="6552720"/>
            <a:ext cx="2286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36D50-7A62-4DDE-B635-259492968F38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172200"/>
            <a:ext cx="9144000" cy="3049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DEF81-CA9D-4122-A478-85A4385108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90520" y="6388200"/>
            <a:ext cx="51156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2/12/01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3360" y="685800"/>
            <a:ext cx="8553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3360" y="6172200"/>
            <a:ext cx="8477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433960" y="3200400"/>
            <a:ext cx="426816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222876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Professor Richard Fik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17360" y="1523880"/>
            <a:ext cx="5365800" cy="16974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epresenting Tim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51680" y="5178600"/>
            <a:ext cx="404100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222876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Computer Science Depart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2000"/>
              </a:lnSpc>
              <a:tabLst>
                <a:tab algn="l" pos="0"/>
                <a:tab algn="l" pos="222876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Stanford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32400" y="3962520"/>
            <a:ext cx="193932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222876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CS22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2000"/>
              </a:lnSpc>
              <a:tabLst>
                <a:tab algn="l" pos="0"/>
                <a:tab algn="l" pos="222876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Winter 2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64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owledge Systems Laboratory, Stanford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9DC3C-C897-45CC-A5AE-B97F481A198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s on Time-Interv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Starting-Poi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Ending-Poi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=&gt; (and (Time-Point ?s) (Time-Interval ?i)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&lt;=&gt; (Starting-Point ?i ?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nd (not (exists ?j (and (Time-Point ?j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Before ?j ?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Point-In-Interval ?j ?i)))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=&gt; (Time-Point ?p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ot (exists ?k (and (Time-Point ?k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Before ?k ?p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Point-In-Interval ?k ?i)))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or (Equal-Point ?p ?s) (Before ?p ?s))))))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u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vex time interv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quantity whose magnitude is the difference between the location of the interval’s ending point and starting poin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n-convex time interv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m of durations of all convex time intervals contained in i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F459A-24AB-40E0-9F15-3A9FC80CD1D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s on Time-Interv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3483000"/>
                <a:tab algn="l" pos="3994200"/>
                <a:tab algn="l" pos="429264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mes Allen defined a “complete” set of relations on time interva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 3" charset="2"/>
              <a:buChar char=""/>
              <a:tabLst>
                <a:tab algn="l" pos="3483000"/>
                <a:tab algn="l" pos="3994200"/>
                <a:tab algn="l" pos="429264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cedes:  |————|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-1 &lt; Start-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83000"/>
                <a:tab algn="l" pos="3994200"/>
                <a:tab algn="l" pos="429264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|——————|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 3" charset="2"/>
              <a:buChar char=""/>
              <a:tabLst>
                <a:tab algn="l" pos="3483000"/>
                <a:tab algn="l" pos="3994200"/>
                <a:tab algn="l" pos="429264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ets:            |————|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-1 = Start-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83000"/>
                <a:tab algn="l" pos="3994200"/>
                <a:tab algn="l" pos="429264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|——————|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 3" charset="2"/>
              <a:buChar char=""/>
              <a:tabLst>
                <a:tab algn="l" pos="3483000"/>
                <a:tab algn="l" pos="3994200"/>
                <a:tab algn="l" pos="429264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laps:             |————|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-1 &lt; Start-2 &lt; End-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83000"/>
                <a:tab algn="l" pos="3994200"/>
                <a:tab algn="l" pos="429264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|——————|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 3" charset="2"/>
              <a:buChar char=""/>
              <a:tabLst>
                <a:tab algn="l" pos="3483000"/>
                <a:tab algn="l" pos="3994200"/>
                <a:tab algn="l" pos="429264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tart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|————|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-1 = Start-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83000"/>
                <a:tab algn="l" pos="3994200"/>
                <a:tab algn="l" pos="429264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|——————|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 3" charset="2"/>
              <a:buChar char=""/>
              <a:tabLst>
                <a:tab algn="l" pos="3483000"/>
                <a:tab algn="l" pos="3994200"/>
                <a:tab algn="l" pos="429264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|————|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-2 &lt; Start-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83000"/>
                <a:tab algn="l" pos="3994200"/>
                <a:tab algn="l" pos="429264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|——————|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-1 &lt; End-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Wingdings 3" charset="2"/>
              <a:buChar char=""/>
              <a:tabLst>
                <a:tab algn="l" pos="3483000"/>
                <a:tab algn="l" pos="3994200"/>
                <a:tab algn="l" pos="429264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finishe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|————|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-1 = End-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83000"/>
                <a:tab algn="l" pos="3994200"/>
                <a:tab algn="l" pos="429264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|——————|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3" charset="2"/>
              <a:buChar char=""/>
              <a:tabLst>
                <a:tab algn="l" pos="3483000"/>
                <a:tab algn="l" pos="3994200"/>
                <a:tab algn="l" pos="429264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qu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E49A8-3EDC-49F0-9528-EE773752C0D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sing the Interval Rela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ign of George VI preceded that of Elizabeth II.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Precedes (ReignOf GeorgeVI) (ReignOf ElizabethII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ign of Elvis overlapped with the 1950’s.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Starting-Point Fifties (Starting-Point AD1950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Ending-Point Fifties (Ending-Point AD1959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Overlaps Fifties (ReignOf Elvis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9916D-8138-4C86-82E1-845EB9E2785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Week in January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nd (Subclass-Of Week-In-January Convex-Time-Interval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=&gt; (Week-In-January ?w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nd (Duration ?w (The-Quantity Day 7)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exists ?j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nd (Calendar-January ?j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or (During ?w ?j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Costarts ?w ?j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Cofinishes ?w ?j))))))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E6D0E-6A05-4E89-973C-7083D018840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ass Hierarchy of Time Ontolog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6320" y="1143000"/>
            <a:ext cx="8915400" cy="4952880"/>
            <a:chOff x="76320" y="1143000"/>
            <a:chExt cx="8915400" cy="4952880"/>
          </a:xfrm>
        </p:grpSpPr>
        <p:sp>
          <p:nvSpPr>
            <p:cNvPr id="168" name=""/>
            <p:cNvSpPr/>
            <p:nvPr/>
          </p:nvSpPr>
          <p:spPr>
            <a:xfrm>
              <a:off x="5888160" y="3438360"/>
              <a:ext cx="1736640" cy="86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756480" y="3438360"/>
              <a:ext cx="1736640" cy="86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3427560" y="1546200"/>
              <a:ext cx="1488960" cy="68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032520" y="1546200"/>
              <a:ext cx="2482920" cy="68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910120" y="1546200"/>
              <a:ext cx="1614600" cy="68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784840" y="1546200"/>
              <a:ext cx="993960" cy="68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662440" y="1546200"/>
              <a:ext cx="0" cy="68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41800" y="1546200"/>
              <a:ext cx="0" cy="68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647120" y="3438360"/>
              <a:ext cx="0" cy="86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515440" y="3438360"/>
              <a:ext cx="0" cy="86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6778800" y="3438360"/>
              <a:ext cx="1736640" cy="86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5909760" y="3438360"/>
              <a:ext cx="1862280" cy="86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910120" y="3438360"/>
              <a:ext cx="0" cy="86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6320" y="5334120"/>
              <a:ext cx="868320" cy="693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alendar-January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903240" y="3956040"/>
              <a:ext cx="620640" cy="69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. . 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494160" y="4262400"/>
              <a:ext cx="620640" cy="69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. . 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62320" y="4186080"/>
              <a:ext cx="620640" cy="69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. . 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054240" y="1203480"/>
              <a:ext cx="1116000" cy="41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Time-Point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91240" y="1203480"/>
              <a:ext cx="1366560" cy="41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Time-Interval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060640" y="2233440"/>
              <a:ext cx="1739880" cy="51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onvex-Time-Interval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170240" y="3438360"/>
              <a:ext cx="1241640" cy="86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egular- Non-Convex -Time-Interval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37160" y="2233440"/>
              <a:ext cx="746280" cy="127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Time-Interval-Left-Open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273800" y="2233440"/>
              <a:ext cx="746280" cy="127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Time-Interval-Right-Open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45360" y="2233440"/>
              <a:ext cx="846360" cy="127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Time-Interval-Right-Closed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537160" y="4299120"/>
              <a:ext cx="746280" cy="172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Time-Interval-Left-Open-Right-Open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405480" y="4299120"/>
              <a:ext cx="746280" cy="172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Time-Interval-Left-Closed-Right-Closed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273800" y="4299120"/>
              <a:ext cx="746280" cy="172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Time-Interval-Left-Open-Right-Open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145360" y="4299120"/>
              <a:ext cx="846360" cy="172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Time-Interval-Left-Closed-Right-Closed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778800" y="3438360"/>
              <a:ext cx="0" cy="86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71680" y="3268800"/>
              <a:ext cx="1366560" cy="51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alendar-Month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433600" y="3268800"/>
              <a:ext cx="1241640" cy="51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alendar-Day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1440000" y="2751120"/>
              <a:ext cx="868320" cy="51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170240" y="2233440"/>
              <a:ext cx="1241640" cy="690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Non-Convex-Time-Interval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791240" y="2924280"/>
              <a:ext cx="0" cy="51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54240" y="2751120"/>
              <a:ext cx="0" cy="51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427560" y="5160960"/>
              <a:ext cx="868320" cy="76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alendar-Sunday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170240" y="4646520"/>
              <a:ext cx="87156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alendar-Saturday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812960" y="5334120"/>
              <a:ext cx="86832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alendar-Day-1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433600" y="4816440"/>
              <a:ext cx="86832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alendar-Day-31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49600" y="3786120"/>
              <a:ext cx="620640" cy="95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301920" y="3786120"/>
              <a:ext cx="247680" cy="137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2060640" y="3786120"/>
              <a:ext cx="498240" cy="15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806560" y="3786120"/>
              <a:ext cx="0" cy="103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324000" y="3786120"/>
              <a:ext cx="620640" cy="15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440000" y="3786120"/>
              <a:ext cx="0" cy="103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96960" y="4816440"/>
              <a:ext cx="990720" cy="693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alendar-December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47120" y="1143000"/>
              <a:ext cx="1241280" cy="514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Time-Quantity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05480" y="2233440"/>
              <a:ext cx="746280" cy="127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Time-Interval-Left-Closed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11307-0C62-43D7-903B-846BFADA828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finity and Densi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6320" y="18284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Infinite-Pa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Infinite-Fut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re time poi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nd (Time-Point Infinite-Past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=&gt; (Time-Point ?p) (not (Before ?p Infinite-Past)))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ime line is considered to be d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=&gt; (and (Time-Point ?i) (Time-Point ?j) (Before ?i ?j)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exists ?k (and (Before ?i ?k) (Before ?k ?j)))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DB27E-CE07-438B-A5AD-34997CCC55E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ass Frame Time-Poi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53341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-Poi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class-Of: Thing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Location-O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imum-Cardinality: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-Type: Time-Quant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Year-O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imum-Cardinality: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-Type: Integ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Month-O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imum-Cardinality: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-Type: Calendar-Month-Typ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Day-O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imum-Cardinality: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-Type: Calendar-Day-Typ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Week-Day-O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imum-Cardinality: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-Type: Calendar-Week-Day-Typ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00600" y="1599840"/>
            <a:ext cx="4495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Hour-O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imum-Cardinality: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-Type: Integ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Minute-O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imum-Cardinality: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-Type: Integ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Second-O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imum-Cardinality: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-Type: Integ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Granularity-O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ot-Cardinality: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-Type: Time-Granular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7F7EF-BB93-478B-8632-FEC03F99A94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ime Granulari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me cannot be measured with infinite accurac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ed a notion of “abstracted” time poi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.g., 1984, May-1927, 12:50 p.m. February 14, 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intervals are not suffic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cify a granularity for a time poi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s for uncertainty that a point occurs somewhere in a certain time interv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.g., The time point 1984 at granularity “year” occurs somewhere during the convex interval 198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57C95-B6B3-423E-BA08-7B15586499B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ime Granulari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133720" y="10663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me-Granular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class-Of: Th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Time-Unit-O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-Type: Time-Un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x-Cardinality: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ear-Granular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ance-Of: Time-Granular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-Unit-Of: Ye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initely-Fine-Granular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ance-Of: Time-Granular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-Unit-Of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ot-Cardinality: 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3AF50-F50B-4B3C-ADE4-C8E3C6762AB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qual-Poi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&lt;=&gt; (Equal-Point ?i ?j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or (and (Granularity-Of ?i Infinitely-Fine-Granularit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Granularity-Of ?j Infinitely-Fine-Granularity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= (Location-Of ?i) (Location-Of ?j)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nd (Granularity-Of ?i ?gra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Granularity-Of ?j ?gran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= (LINLT (Quantity-Magnitude (Location-Of ?i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Time-Unit-Of ?gran)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LINLT (Quantity-Magnitude (Location-Of ?j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Time-Unit-Of ?gran)))))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time points on two different levels of granularity cannot be said to be equal to each oth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9C883-3408-4D4F-936D-24CC86641CF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bout Ti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hysical dimension (the Time-Dimensio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plenu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rge temporal space in which all events are loca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g., “time line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mporally possible world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me time is continuous and line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 line analogous to continuous number l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u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amount of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g., “a century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 minute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long as it takes for the kettle to boil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F47B1-D190-47D2-8A16-637BC10D0AC0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ull Definition of Befo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6320" y="10663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=&gt; (and (Time-Point ?i) (Time-Point ?j)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&lt;=&gt; (Before ?i ?j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or (and (Granularity-Of ?i Infinitely-Fine-Granularity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Granularity-Of ?j Infinitely-Fine-Granularity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&lt; (Location-Of ?i) (Location-Of ?j))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nd (Granularity-Of ?i Infinitely-Fine-Granularity) (Granularity-Of ?j ?gran-j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&lt; (Location-Of ?i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The-Quantity (LINLT (Quantity-Magnitude (Location-Of ?j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Time-Unit-Of ?gran-j))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Time-Unit-Of ?gran-j)))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nd (Granularity-Of ?i ?gran-i) (Granularity-Of ?j ?gran-j)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&lt; (The-Quantity (SINLT (Quantity-Magnitude (Location-Of ?i)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Time-Unit-Of ?gran-i))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Time-Unit-Of ?gran-i)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The-Quantity (LINLT (Quantity-Magnitude (Location-Of ?j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Time-Unit-Of ?gran-j))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Time-Unit-Of ?gran-j))))))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71B58-ED9E-4F2A-9634-28003F71EDD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tyles of Temporal Representa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less Quantif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ctions and relations have a time argu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(Married Joe Anne 1993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tuation calcul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s have time intervals associated with th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(contains (time-of (Marriage Joe Anne)) 1993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tences “hold true” at tim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g., (holds (Married Joe Anne) 1993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nse log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g., (F (Married Joe Anne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F (and (not (Married Joe Anne)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P (Married Joe Anne))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E2551-505F-440E-A4B5-3AABDFEC25D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oints and Interval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Time poi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ition on a temporal coordinate syst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, “2:22 p.m., February 2, 2000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mitive obje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logous to a real numb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so represented at varying granularit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, “March 14, 1994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Time interv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 of two or more time poi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“the 16th century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:50 to 11:00 a.m. on May 30, 1993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on to 1:00 p.m. every Tuesday in 2000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mitive obje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Convex interv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alogous to interval on number l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s two distinguished points: Start-Point and End-Poi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be Left-Open, Left-Closed, Right-Open, and/or Right-Clos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9C686-A1FB-4561-8B21-8A9411C091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ass Hierarchy of Time Ontolog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76320" y="1143000"/>
            <a:ext cx="8915400" cy="4952880"/>
            <a:chOff x="76320" y="1143000"/>
            <a:chExt cx="8915400" cy="4952880"/>
          </a:xfrm>
        </p:grpSpPr>
        <p:sp>
          <p:nvSpPr>
            <p:cNvPr id="99" name=""/>
            <p:cNvSpPr/>
            <p:nvPr/>
          </p:nvSpPr>
          <p:spPr>
            <a:xfrm>
              <a:off x="5888160" y="3438360"/>
              <a:ext cx="1736640" cy="86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756480" y="3438360"/>
              <a:ext cx="1736640" cy="86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3427560" y="1546200"/>
              <a:ext cx="1488960" cy="68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032520" y="1546200"/>
              <a:ext cx="2482920" cy="68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10120" y="1546200"/>
              <a:ext cx="1614600" cy="68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784840" y="1546200"/>
              <a:ext cx="993960" cy="68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662440" y="1546200"/>
              <a:ext cx="0" cy="68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41800" y="1546200"/>
              <a:ext cx="0" cy="68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47120" y="3438360"/>
              <a:ext cx="0" cy="86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515440" y="3438360"/>
              <a:ext cx="0" cy="86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6778800" y="3438360"/>
              <a:ext cx="1736640" cy="86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5909760" y="3438360"/>
              <a:ext cx="1862280" cy="86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910120" y="3438360"/>
              <a:ext cx="0" cy="86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6320" y="5334120"/>
              <a:ext cx="868320" cy="693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alendar-January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903240" y="3956040"/>
              <a:ext cx="620640" cy="69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. . 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94160" y="4262400"/>
              <a:ext cx="620640" cy="69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. . 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362320" y="4186080"/>
              <a:ext cx="620640" cy="69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. . 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4240" y="1203480"/>
              <a:ext cx="1116000" cy="41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Time-Point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791240" y="1203480"/>
              <a:ext cx="1366560" cy="41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Time-Interval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60640" y="2233440"/>
              <a:ext cx="1739880" cy="51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onvex-Time-Interval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170240" y="3438360"/>
              <a:ext cx="1241640" cy="86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egular- Non-Convex -Time-Interval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37160" y="2233440"/>
              <a:ext cx="746280" cy="127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Time-Interval-Left-Open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73800" y="2233440"/>
              <a:ext cx="746280" cy="127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Time-Interval-Right-Open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145360" y="2233440"/>
              <a:ext cx="846360" cy="127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Time-Interval-Right-Closed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537160" y="4299120"/>
              <a:ext cx="746280" cy="172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Time-Interval-Left-Open-Right-Open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405480" y="4299120"/>
              <a:ext cx="746280" cy="172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Time-Interval-Left-Closed-Right-Closed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273800" y="4299120"/>
              <a:ext cx="746280" cy="172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Time-Interval-Left-Open-Right-Open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145360" y="4299120"/>
              <a:ext cx="846360" cy="172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Time-Interval-Left-Closed-Right-Closed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78800" y="3438360"/>
              <a:ext cx="0" cy="86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71680" y="3268800"/>
              <a:ext cx="1366560" cy="51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alendar-Month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433600" y="3268800"/>
              <a:ext cx="1241640" cy="51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alendar-Day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1440000" y="2751120"/>
              <a:ext cx="868320" cy="51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170240" y="2233440"/>
              <a:ext cx="1241640" cy="690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Non-Convex-Time-Interval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791240" y="2924280"/>
              <a:ext cx="0" cy="51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054240" y="2751120"/>
              <a:ext cx="0" cy="51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427560" y="5160960"/>
              <a:ext cx="868320" cy="76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alendar-Sunday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170240" y="4646520"/>
              <a:ext cx="87156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alendar-Saturday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12960" y="5334120"/>
              <a:ext cx="86832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alendar-Day-1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433600" y="4816440"/>
              <a:ext cx="86832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alendar-Day-31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549600" y="3786120"/>
              <a:ext cx="620640" cy="95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01920" y="3786120"/>
              <a:ext cx="247680" cy="137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2060640" y="3786120"/>
              <a:ext cx="498240" cy="15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806560" y="3786120"/>
              <a:ext cx="0" cy="103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324000" y="3786120"/>
              <a:ext cx="620640" cy="15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440000" y="3786120"/>
              <a:ext cx="0" cy="103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6960" y="4816440"/>
              <a:ext cx="990720" cy="693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alendar-December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47120" y="1143000"/>
              <a:ext cx="1241280" cy="514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Time-Quantity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05480" y="2233440"/>
              <a:ext cx="746280" cy="127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Time-Interval-Left-Closed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1CC5C-FE36-4A4E-B96A-28BDCFFC5D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ass Frame Time-Poi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53341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-Poi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class-Of: Thing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Location-O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imum-Cardinality: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-Type: Time-Quant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Year-O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imum-Cardinality: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-Type: Integ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Month-O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imum-Cardinality: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-Type: Calendar-Month-Typ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Day-O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imum-Cardinality: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-Type: Calendar-Day-Typ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Week-Day-O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imum-Cardinality: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-Type: Calendar-Week-Day-Typ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00600" y="1599840"/>
            <a:ext cx="4495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Hour-O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imum-Cardinality: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-Type: Integ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Minute-O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imum-Cardinality: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-Type: Integ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Second-O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imum-Cardinality: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-Type: Integ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Granularity-O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ot-Cardinality: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-Type: Time-Granular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FAE16-148B-4AD9-A070-0A9691ECFB3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cation of Time Poin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nction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Location-O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unt of time from “point zero” to the time-poi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 is a time quantity (i.e., a duratio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int zero assumed to be midnight Jan 1, 19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dnight-January-1-19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ance-Of: Time-Poi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cation-Of: Time-Insta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-Insta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ance-Of: Time-Quant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=&gt; (Time-Unit ?u) (Quantity-Magnitude Time-Instant ?u 0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2A9C5-811C-4896-895A-84CB6D40EA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ear-Of, Month-Of, Day-Of, et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rivable from Location-O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 of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Year-O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Hour-O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Minute-O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&amp;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Second-O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n integ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=&gt; (Time-Point ?p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= (Year-Of ?p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+ (LINLT (Quantity-Magnitude (Location-Of ?p) Year-Unit)) 1900))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=&gt; (Time-Point ?p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= (Hour-Of ?p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Mod (LINLT (Quantity-Magnitude (Location-Of ?p) Hour-Unit)) 24))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[Note: LINLT means “Largest Integer Less Than”.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 of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Month-O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 Calendar-Month-Typ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endar-Month-Type is a class whose instances are the 12 subclasses of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endar-Month (e.g., Calendar-January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 of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ay-O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 Calendar-Day-Typ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endar-Day-Type is a class whose 31 instances are classes Calendar-Day-1 through Calendar-Day-3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 of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Week-Day-O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 Calendar-Week-Day-Typ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BA13C-DC3F-46A0-AA4B-61FE72B585B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inary Relations on Time-Poin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0663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Befo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Af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Equal-Poi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ed in terms of Location-O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=&gt; (and (Time-Point ?i) (Time-Point ?j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&lt;=&gt; (Before ?i ?j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. (&lt; (Location-Of ?i) (Location-Of ?j)) ... 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=&gt; (Physical-Quantity ?q1) (Physical-Dimension ?q1 ?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Physical-Quantity ?q2) (Physical-Dimension ?q2 ?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Unit-Of-Measure ?u) (Unit-Dimension ?u ?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&lt;=&gt; (&lt; ?q1 ?q2) (&lt; (Quantity-Magnitude ?q1 ?u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Quantity-Magnitude ?q2 ?u))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Point-In-Interv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mitive re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D6A80-FB41-49C9-AE1E-32A22A55F68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ass Frame Time-Interv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0663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-Interv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ance-Of: Cla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Starting-Poin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Type: Time-Poi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ot-Cardinality: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Ending-Poin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Type: Time-Poi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ot-Cardinality: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=&gt; (Time-Interval ?i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nd (Before (Starting-Point ?i) (Ending-Point ?i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=&gt; (Time-Point ?p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nd (=&gt; (Before ?p (Starting-Point ?i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not (Point-In-Interval ?p ?i)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=&gt; (Before (Ending-Point ?i) ?p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not (Point-In-Interval ?p ?i)))))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CB7BB-D023-42F6-969A-C180626CD31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6T21:55:36Z</dcterms:created>
  <dc:creator/>
  <dc:description/>
  <dc:language>en-US</dc:language>
  <cp:lastModifiedBy>fikes</cp:lastModifiedBy>
  <cp:lastPrinted>2000-02-09T19:45:43Z</cp:lastPrinted>
  <dcterms:modified xsi:type="dcterms:W3CDTF">2001-02-23T22:58:39Z</dcterms:modified>
  <cp:revision>372</cp:revision>
  <dc:subject/>
  <dc:title>Large-Scale Repositories of Highly Expressive Reusable Knowledge</dc:title>
</cp:coreProperties>
</file>