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E76F-B6F2-4E9F-9140-69E500EBE9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2751-312D-4DCE-9D0C-08354A60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5A79-F15F-4D55-946F-E89F313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1EAF-C4B7-4392-99F3-D704D0393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5CDDB-3E27-47E7-9144-B6BE9B5C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C931B-B1AD-4567-8595-7FD5343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E59F5-952B-465A-8F8E-51514C06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E112E-6C21-447A-B75A-AD5A4315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D48C3-5CAB-44EB-8488-DF65A852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CD7E3-696E-4807-A32D-FD76FD23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EEC40-6D2A-49DD-BB99-FA10A84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73DB-142C-4515-B9FF-5DA9F303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BC187-597C-440B-9232-F6ACD469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BC677-B22F-4198-A66D-821EF09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9F577-B319-4635-B02F-AFC237EC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C763D-73E8-4AFE-BFD9-57202CA9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C3F82-8070-4F82-996A-E51E3828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C6E6-ED33-4C62-938F-149A3F90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BF75-AE19-43A7-9E04-EE0E758B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9BF3-383F-4C76-92C6-D26FD677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24BF-0B5B-42F6-9A93-FD1099BF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8CDC-DCBE-42A1-9E6F-B85F6BBD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1BB3-AAFC-4F5B-A730-FE22195C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BBA4-589F-4130-9FCD-399F4ADF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304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57600" y="6552720"/>
            <a:ext cx="3276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272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D360-B622-4413-A273-8051C345EE9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BA71-1325-4D64-8765-DFADC60DE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520" y="6388200"/>
            <a:ext cx="4474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/7/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3360" y="685800"/>
            <a:ext cx="855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6172200"/>
            <a:ext cx="847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3960" y="3200400"/>
            <a:ext cx="42681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rofessor Richard F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71280"/>
            <a:ext cx="9144000" cy="169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xample of Multi-Use Ontology: Units and Meas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1680" y="5178600"/>
            <a:ext cx="4041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uter Science 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anford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2400" y="3962520"/>
            <a:ext cx="1939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2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nt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3A28-B49D-4752-A89D-4C251AAAAF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s and Meas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ematical models of engineered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-Qua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3 meters, 80 kilometers/h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-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length, velocity, weight,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-Of-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meters, kilometers/h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itu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calars, vectors, tensors, and functions there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9154-9689-45CF-AD4C-E9FC5B7B6C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gnitude of a Quantity in a Un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-Dim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tandard-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-Type: Unit-Of-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-Of-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Unit-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-Type: Physical-Dimen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3920" y="15998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-Qua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Quantity-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-Type: Physical-Dimen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08E7-CD33-4688-AE3B-5CE4F89BA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effunction Unit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* is an associative commutative mapping of all pai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units to unit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=&gt; (Instance-Of ?u1 Unit-Of-Meas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stance-Of ?u2 Unit-Of-Meas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-Of-Measure (Unit* ?u1 ?u2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* ?u1 ?u2) (Unit* ?u2 ?u1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* ?u1 (Unit* ?u2 ?u3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* (Unit* ?u1 ?u2) ?u3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858E-EF1B-4490-AFD0-02E48E7C6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^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effunction Unit^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^ is a mapping of reals to units that has the algebrai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exponentiatio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=&gt; (Instance-Of ?u Unit-Of-Meas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stance-Of ?r Real-Numb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-Of-Measure (Unit^ ?u ?r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^ ?u 1) ?u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* (Unit^ ?u ?r1) (Unit^ ?u ?r2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^ ?u  (+ ?r1 ?r2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^ (Unit* ?u1 ?u2) ?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* (Unit^ ?u1 ?r) (Unit^ ?u2 ?r)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efobject Meter/Second (Unit* Meter (Unit^ Second –1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E648-EC67-42AF-BAED-D271C54B0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gnitude of Physical Quant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effunction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Quantity-Magnitu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gnitude of a physical quantity in a given unit of measur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and (Quantity-Magnitude ?q ?u ?m) (/= ?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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nd (Instance-Of ?q Physical-Quantit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stance-Of ?u Unit-Of-Measur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stance-Of ?m Magnitud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(Quantity-Dimension ?q) (Unit-Dimension ?u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effunction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The-Quant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hysical quantity with a given magnitude in a given unit of measur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=&gt; (The-Quantity ?m ?u ?q) (Quantity-Magnitude ?q ?u ?m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(Debobject Real-Fast (The-Quantity 10000 Meter/Second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Instance-Of ?q1 Physical-Quantity) (Instance-Of ?q2 Physical-Quant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=&gt;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= ?q1 ?q2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d (Quantity-Dimension ?q1 (Quantity-Dimension ?q2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Instance-Of ?u Unit-Of-Measur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nit-Dimension ?u (Quantity-Dimension ?q1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Quantity-Magnitude ?q1 ?u (Quantity-Magnitude ?q2 ?u))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09DE-4F75-4144-8DC3-400BAE4A2D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ample Defini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-Dim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Physical-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Unit: Me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-Unit-Of-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-Of: Unit-Of-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Unit-Dimension: Length-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Length-Unit-Of-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lo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Length-Unit-Of-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======================================================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and (Instance-Of ?q1 Physical-Quant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uantity-Dimension ?q1 Length-Dimension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Quantity-Magnitude ?q1 Kilome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/ (Quantity-Magnitude ?q1 Meter) 1000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9C52-FFB8-4812-A5F4-70F10374D7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21:55:36Z</dcterms:created>
  <dc:creator/>
  <dc:description/>
  <dc:language>en-US</dc:language>
  <cp:lastModifiedBy>Richard Fikes</cp:lastModifiedBy>
  <cp:lastPrinted>1998-02-13T00:04:31Z</cp:lastPrinted>
  <dcterms:modified xsi:type="dcterms:W3CDTF">2001-02-07T22:51:33Z</dcterms:modified>
  <cp:revision>297</cp:revision>
  <dc:subject/>
  <dc:title>Large-Scale Repositories of Highly Expressive Reusable Knowledge</dc:title>
</cp:coreProperties>
</file>