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5D4-7D98-40E8-941B-7D4CD217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742-4E91-4834-A74D-0B150E7D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9BC-6CA2-4A30-8328-D0BDCA4E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725-92C3-415B-A1D5-F336A4E8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241-22C4-4B7A-B21A-C0B47DF2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6A8D-FC33-4FD9-BDAE-AA997A31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75AB-739E-46FC-B691-373F3BD3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B5A-D7DE-4E96-9A33-F90C187C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367-63A5-48F6-AC9E-045AD63C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47C0-F073-4DF1-9734-F3C5350F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BE7-7F4B-4C1C-B66A-FF82ACE4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98A-65F9-45AB-8371-71ABAD31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D8E6-B3D2-461B-858D-8C6F949C6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65360" y="6540480"/>
            <a:ext cx="5762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NOVATIVE SOLUTIONS THROUGH PEOPLE, PROCESSES, AND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3480" y="6540480"/>
            <a:ext cx="9059400" cy="245880"/>
            <a:chOff x="33480" y="6540480"/>
            <a:chExt cx="9059400" cy="245880"/>
          </a:xfrm>
        </p:grpSpPr>
        <p:sp>
          <p:nvSpPr>
            <p:cNvPr id="8" name=""/>
            <p:cNvSpPr/>
            <p:nvPr/>
          </p:nvSpPr>
          <p:spPr>
            <a:xfrm>
              <a:off x="33480" y="6540480"/>
              <a:ext cx="905940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69560" y="6663600"/>
              <a:ext cx="15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0680" y="6786360"/>
              <a:ext cx="840924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331400" y="666360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112680" y="133200"/>
            <a:ext cx="696960" cy="82260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5048280" y="888840"/>
            <a:ext cx="2946600" cy="3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f9967"/>
                </a:solidFill>
                <a:latin typeface="Arial"/>
              </a:rPr>
              <a:t>Dynamics Research 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43400" y="3306600"/>
            <a:ext cx="1066680" cy="6858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t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1173240"/>
            <a:ext cx="1066680" cy="6858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t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/>
          <p:nvPr/>
        </p:nvCxnSpPr>
        <p:spPr>
          <a:xfrm>
            <a:off x="456840" y="3733920"/>
            <a:ext cx="3886920" cy="3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1" idx="3"/>
            <a:endCxn id="54" idx="1"/>
          </p:cNvCxnSpPr>
          <p:nvPr/>
        </p:nvCxnSpPr>
        <p:spPr>
          <a:xfrm>
            <a:off x="2514600" y="1516320"/>
            <a:ext cx="381240" cy="1067040"/>
          </a:xfrm>
          <a:prstGeom prst="bentConnector5">
            <a:avLst>
              <a:gd name="adj1" fmla="val 441020"/>
              <a:gd name="adj2" fmla="val 153830"/>
              <a:gd name="adj3" fmla="val 392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0" idx="3"/>
            <a:endCxn id="56" idx="1"/>
          </p:cNvCxnSpPr>
          <p:nvPr/>
        </p:nvCxnSpPr>
        <p:spPr>
          <a:xfrm>
            <a:off x="5410080" y="3649680"/>
            <a:ext cx="381600" cy="1067400"/>
          </a:xfrm>
          <a:prstGeom prst="bentConnector5">
            <a:avLst>
              <a:gd name="adj1" fmla="val 60717"/>
              <a:gd name="adj2" fmla="val -53879"/>
              <a:gd name="adj3" fmla="val -3406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91320" y="4373640"/>
            <a:ext cx="1066680" cy="6858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2239920"/>
            <a:ext cx="1067040" cy="6858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k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4" idx="3"/>
            <a:endCxn id="56" idx="1"/>
          </p:cNvCxnSpPr>
          <p:nvPr/>
        </p:nvCxnSpPr>
        <p:spPr>
          <a:xfrm>
            <a:off x="3962520" y="2583000"/>
            <a:ext cx="1829160" cy="2134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1" idx="3"/>
            <a:endCxn id="56" idx="1"/>
          </p:cNvCxnSpPr>
          <p:nvPr/>
        </p:nvCxnSpPr>
        <p:spPr>
          <a:xfrm>
            <a:off x="2514600" y="1516320"/>
            <a:ext cx="3277080" cy="320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7238880" y="5440320"/>
            <a:ext cx="1067040" cy="6858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/>
          <p:nvPr/>
        </p:nvCxnSpPr>
        <p:spPr>
          <a:xfrm>
            <a:off x="914400" y="1553760"/>
            <a:ext cx="534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380880" y="11430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cy domain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endCxn id="51" idx="2"/>
          </p:cNvCxnSpPr>
          <p:nvPr/>
        </p:nvCxnSpPr>
        <p:spPr>
          <a:xfrm flipH="1" flipV="1" rot="5400000">
            <a:off x="167400" y="3672360"/>
            <a:ext cx="3627720" cy="1080"/>
          </a:xfrm>
          <a:prstGeom prst="bentConnector3">
            <a:avLst>
              <a:gd name="adj1" fmla="val 468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1523880" y="556272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tology development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37339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endCxn id="54" idx="2"/>
          </p:cNvCxnSpPr>
          <p:nvPr/>
        </p:nvCxnSpPr>
        <p:spPr>
          <a:xfrm flipH="1" flipV="1" rot="5400000">
            <a:off x="2110320" y="4244040"/>
            <a:ext cx="2637000" cy="720"/>
          </a:xfrm>
          <a:prstGeom prst="bentConnector3">
            <a:avLst>
              <a:gd name="adj1" fmla="val 456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2971800" y="55627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up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528804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/>
          <p:nvPr/>
        </p:nvCxnSpPr>
        <p:spPr>
          <a:xfrm>
            <a:off x="6858000" y="4754160"/>
            <a:ext cx="381600" cy="10674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/>
          <p:nvPr/>
        </p:nvCxnSpPr>
        <p:spPr>
          <a:xfrm flipV="1">
            <a:off x="6324120" y="5059080"/>
            <a:ext cx="1080" cy="13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5486400" y="528804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and inference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/>
          <p:nvPr/>
        </p:nvCxnSpPr>
        <p:spPr>
          <a:xfrm flipV="1">
            <a:off x="4876560" y="3992040"/>
            <a:ext cx="1080" cy="13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4038480" y="4754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endCxn id="59" idx="2"/>
          </p:cNvCxnSpPr>
          <p:nvPr/>
        </p:nvCxnSpPr>
        <p:spPr>
          <a:xfrm flipH="1" flipV="1" rot="5400000">
            <a:off x="7581600" y="6316560"/>
            <a:ext cx="381240" cy="720"/>
          </a:xfrm>
          <a:prstGeom prst="bentConnector3">
            <a:avLst>
              <a:gd name="adj1" fmla="val 195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6858000" y="62784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/>
          <p:nvPr/>
        </p:nvCxnSpPr>
        <p:spPr>
          <a:xfrm>
            <a:off x="8305560" y="582084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ML Finder Life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228600" y="2819160"/>
            <a:ext cx="2667240" cy="5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380880" y="25448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20:39:26Z</dcterms:created>
  <dc:creator>LLacy</dc:creator>
  <dc:description/>
  <dc:language>en-US</dc:language>
  <cp:lastModifiedBy>LLacy</cp:lastModifiedBy>
  <dcterms:modified xsi:type="dcterms:W3CDTF">2001-07-31T16:07:00Z</dcterms:modified>
  <cp:revision>17</cp:revision>
  <dc:subject/>
  <dc:title>PowerPoint Presentation</dc:title>
</cp:coreProperties>
</file>