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39BC-5084-4F70-9CA2-12136204E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13CF-46C7-4F73-8E08-877B07FC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DFEE-9948-43EC-AE63-02D1C6254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59EF-9ADD-4D17-B99D-15DA4F3CE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BE0C-0E34-4587-A25B-D633C0CA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4AF0-D6FB-4BDC-B0C3-8B653F3E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5014-6C28-4E9C-A698-E49456E9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EA68-A9CA-41C9-AD0E-6259180B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BE74-39CC-4DDC-888A-533D4530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7C82-2132-43DE-993D-BEFEB79B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5B95-0F79-4210-BAE2-4338656D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7D0C-9AB1-4158-9CA5-9C367870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6813-8FDF-4AAE-88C6-A8A7B6AA9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4867200" cy="3456000"/>
          </a:xfrm>
          <a:prstGeom prst="rect">
            <a:avLst/>
          </a:prstGeom>
          <a:ln w="0">
            <a:noFill/>
          </a:ln>
        </p:spPr>
      </p:pic>
      <p:pic>
        <p:nvPicPr>
          <p:cNvPr id="42" name="yellow_button_72%20copy" descr=""/>
          <p:cNvPicPr/>
          <p:nvPr/>
        </p:nvPicPr>
        <p:blipFill>
          <a:blip r:embed="rId2"/>
          <a:stretch/>
        </p:blipFill>
        <p:spPr>
          <a:xfrm>
            <a:off x="4533840" y="4648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362240" y="4336920"/>
            <a:ext cx="2058840" cy="1538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72000" y="5354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31040" y="5159520"/>
            <a:ext cx="34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½ 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3T20:12:13Z</dcterms:created>
  <dc:creator>Schafercorp</dc:creator>
  <dc:description/>
  <dc:language>en-US</dc:language>
  <cp:lastModifiedBy>TMartin</cp:lastModifiedBy>
  <dcterms:modified xsi:type="dcterms:W3CDTF">2001-03-06T17:30:34Z</dcterms:modified>
  <cp:revision>3</cp:revision>
  <dc:subject/>
  <dc:title>Hot DAML</dc:title>
</cp:coreProperties>
</file>