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677CD-60AE-4B79-825C-5C59DF4DEE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4CE2-F81F-488B-98B6-0A07AAD8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1AAE-7823-48BD-810F-6A538AF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022E-EAA4-486E-88C2-0EF314479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48FB8-39BC-4230-8FBD-BD35EBBF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4488B-0748-4B43-82B3-7C33FB69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53DF5-0DD3-4E1A-921C-90AD75E1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1F4DD-24B8-4563-8E4C-877A0696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37E6-5FF2-4F7E-8DFC-AD58CABE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5F32E-2E45-43F2-B201-67824550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E2A5E-4BE1-463E-91F8-67D2DC30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FA1E-B86A-4668-B9C4-0236C15B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889A0-7E35-4B31-80E9-8C26EED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46032-FDED-4FBB-A0EF-94CE3177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DCF24-3575-4711-876F-AEC15EBE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E4F45-8788-4D05-A104-05399881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6B052-8918-4493-A23F-245F3356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AA90-7660-453D-9746-2B935C09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83FB-0DDA-4E0F-ADCB-80068664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6190-6FAF-4E13-8094-C6B0599E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FD1D-5BDF-4FB3-BEC0-4B119166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9801-4F23-4167-B9E8-9212BE86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ED7D-A8A2-496F-B3BF-88447E46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B97D-A6E0-45F6-B46F-B9C7EB66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304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57600" y="6552720"/>
            <a:ext cx="3276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272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EA1C-6EA6-4289-9C68-E67E8AC96E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912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C064-4E9E-458A-9589-FD3D7419141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61B-1ED3-468E-A309-C6402F701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3.org/2001/01/ct24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ML Language Breakou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borah L. McGuinn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2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Knowledge Systems Laboratory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anford University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ww.ksl.stanford.edu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440" y="6248520"/>
            <a:ext cx="63936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/15/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BEE8-25EC-4EF5-B6CF-63A7E487681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B9A59-E45B-4280-82A3-16CFED127C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p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ification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aults/Non-Monotonic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roof Checking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rete vs. abstract domain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(pre-defined types vs. user-defined types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(datatypes  vs. classes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0176-28FE-4256-9DE1-F5B42CC652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BF98B-4A15-4F27-8275-6733EA2F14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from dictionary:  To regard or treat (an abstraction) as if it had concrete or material existence.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ment:  Need to make statements about statemen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tensive discussion concerning potential pitfalls, usage in rdf, relationship to RDF, requirem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clusion – if we include reification, we will expect problem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6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eculation – we may not be able to avoid modalities as long as we might have though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36A1-DEE8-45AA-91B5-8C86912BD9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0C859-4A30-4709-935C-FBAFDD9A9E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aults/Ru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urrently no default/rule/negation as failure capability in DAML+OI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greement that some solution is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sider some mechanism on top of the core langu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servation that negation as failure in rule systems has long history of usage, tractability, etc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on Items – form rule mailing list (Ben Grosof will seed the list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 group followup meeting on topi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4BA8-38C9-440D-BF76-E089905A13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D01D1-92C5-43EC-A7E0-820939D3AF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of Che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cussion on non-monotonicity led to a discussion of possibly checking non-monotonic proof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cussion followed on proof checks of (possibly partial) dedu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n either trust reasoners  or just check their proof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of checking requires tractable proof checking sys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llowup among interested par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09CB-D83E-4045-A1AE-1FB770009E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6C7D2-3934-4189-8296-7673359A43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rete Data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sensus that concrete data type (numbers, strings, etc) are nece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sensus around basic proposal initiated by Horrocks and Patel-Schnei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ical discussion about rdf syntax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ter (and Ian and Frank) will provide a modified proposal taking into account Connolly’s document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w3.org/2001/01/ct2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ectation is that this will be included in the language prior to semantic web activity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7D63-CD2D-4C1B-A19C-815156F349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C3908-3C72-43D3-929D-C843FC4D91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issue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nd email to rdf-logic mailing li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(or dlm@ksl.stanford.edu)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EE9C-0F7C-4D36-BD8D-187D09C3AB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9750F-269C-408A-84CB-CDB52EDFE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tended by most of ad-hoc committee (physically or virtually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icited feedback on current language and wishes for modifications/extens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 feedback on current language other than extens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B740-67DC-4202-93BC-CF42052EC7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B14B5-BBBA-4600-B4BC-2E7D700C51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21:55:36Z</dcterms:created>
  <dc:creator>Deborah McGuinness</dc:creator>
  <dc:description/>
  <dc:language>en-US</dc:language>
  <cp:lastModifiedBy>Deborah L. McGuinness</cp:lastModifiedBy>
  <cp:lastPrinted>1998-02-13T00:04:31Z</cp:lastPrinted>
  <dcterms:modified xsi:type="dcterms:W3CDTF">2001-02-20T19:48:09Z</dcterms:modified>
  <cp:revision>483</cp:revision>
  <dc:subject>DAML PI Meeting Briefing 2/15/01</dc:subject>
  <dc:title>Language Breakout</dc:title>
</cp:coreProperties>
</file>