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4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4680" y="114264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22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4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4680" y="3849120"/>
            <a:ext cx="26722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1920" y="228240"/>
            <a:ext cx="827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4912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142640"/>
            <a:ext cx="40500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2280" y="3849120"/>
            <a:ext cx="829944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74080" y="6124680"/>
            <a:ext cx="1591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0960" y="6583320"/>
            <a:ext cx="512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B58F369-9DE7-4BA3-98D8-96F46B2AB71B}" type="slidenum">
              <a:rPr b="0" lang="en-US" sz="8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       ©</a:t>
            </a:r>
            <a:r>
              <a:rPr b="0" i="1" lang="en-US" sz="8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NOKIA         </a:t>
            </a:r>
            <a:fld id="{13009063-94F4-402D-BB6C-FDD5BAEB5A1A}" type="datetime">
              <a:rPr b="0" lang="en-US" sz="800" spc="-1" strike="noStrike">
                <a:solidFill>
                  <a:srgbClr val="919191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919191"/>
                </a:solidFill>
                <a:latin typeface="Arial"/>
              </a:rPr>
              <a:t>   -   Ora Lassi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1199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spcBef>
                <a:spcPts val="1199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05040" indent="-277920"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81160"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81160"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81160"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n1_CMYK" descr=""/>
          <p:cNvPicPr/>
          <p:nvPr/>
        </p:nvPicPr>
        <p:blipFill>
          <a:blip r:embed="rId2"/>
          <a:stretch/>
        </p:blipFill>
        <p:spPr>
          <a:xfrm>
            <a:off x="7723080" y="6502320"/>
            <a:ext cx="113976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s There…” – Memoirs of 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DF Working Group Member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s about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DF Design Ration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a Lassi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Fellow, Nokia Research C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2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to:ora.lassila@nok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to:daml@lassila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5257800" cy="3273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69400" y="5715000"/>
            <a:ext cx="45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uren Lassila (age 3 months) finds the RDF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ionale a perfect bedtime st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7720" y="245268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yaw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81680" y="2819520"/>
            <a:ext cx="533520" cy="304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 Time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1997 Sp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WG work (e.g., PICS-NG), “authors’ meeting” @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997 Sum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+S Working Group chartered, M+S first draft (for group revi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997 Octob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+S first public dr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997 Novemb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S Working Group chart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998 Apr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S first draft (for group revi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998 Octob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+S goes to “last cal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999 Janu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+S goes to proposed recommen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999 Febru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+S goes to recommendatio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999 Mar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S goes to proposed recommen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1999 Augu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 Interest Group form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1999 Octob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Cambridge Communiqué” publis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5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000 Mar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S goes to candidate recommen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84800" y="1142640"/>
            <a:ext cx="475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metadata (Dublin C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rating (PI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m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ther application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a (from PICS-NG): frame-like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ha: understanding which statements have been asserted, and which ones hav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charter included mandatory PICS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tain features, which cannot really be implemented in the model itself, crept in (“aboutEachPrefix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ance &amp; deployment w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r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simple enough” for the WWW community at large to accept and depl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too offensive” for the KR community so it could be used as a starting point for something be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challenge: managing expec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ing (e.g., “Pumpkin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expressions vs. 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ome sense, the choice of XML was an unfortunate one, because it leads to a lot of confu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paces were deemed necessary, and consequently an XML NS spec which supports RDF needs was “rammed through” at W3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 with the namespace of attributes like “abou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lite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Schema was supposed to provide “primitive” data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, Details, Details,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DF is supported by a number of other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(caching semantic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important to understand that RDF takes care of a lot of “dirty details” which we now no longer have to worry ab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System &amp; Ontology - RDF Sch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definition of “Clas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d as a prototype rather than a class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class issues proved to be h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I X3J13 as an inspiration, but simplif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Class and “class Metaclass” are the same 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jointWith” and cardinalities: discussed but eventually rej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&amp; range proved to be hard (for the W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PropertyOf” vs. “subClassOf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teries” of Domain &amp; R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2440" y="5562720"/>
            <a:ext cx="5562720" cy="457200"/>
            <a:chOff x="1522440" y="5562720"/>
            <a:chExt cx="5562720" cy="457200"/>
          </a:xfrm>
        </p:grpSpPr>
        <p:sp>
          <p:nvSpPr>
            <p:cNvPr id="58" name=""/>
            <p:cNvSpPr/>
            <p:nvPr/>
          </p:nvSpPr>
          <p:spPr>
            <a:xfrm>
              <a:off x="2589120" y="57913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440" y="5562720"/>
              <a:ext cx="108252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2280" y="5562720"/>
              <a:ext cx="10828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970360" y="3276720"/>
            <a:ext cx="4342680" cy="2514600"/>
            <a:chOff x="2970360" y="3276720"/>
            <a:chExt cx="4342680" cy="2514600"/>
          </a:xfrm>
        </p:grpSpPr>
        <p:sp>
          <p:nvSpPr>
            <p:cNvPr id="62" name=""/>
            <p:cNvSpPr/>
            <p:nvPr/>
          </p:nvSpPr>
          <p:spPr>
            <a:xfrm>
              <a:off x="2970360" y="4419720"/>
              <a:ext cx="108252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503520" y="4876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7040" y="46483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8120" y="4419720"/>
              <a:ext cx="10828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551640" y="487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83680" y="50101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41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32120" y="3276720"/>
              <a:ext cx="13716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417920" y="2819520"/>
            <a:ext cx="1447920" cy="685800"/>
            <a:chOff x="4417920" y="2819520"/>
            <a:chExt cx="1447920" cy="685800"/>
          </a:xfrm>
        </p:grpSpPr>
        <p:sp>
          <p:nvSpPr>
            <p:cNvPr id="71" name=""/>
            <p:cNvSpPr/>
            <p:nvPr/>
          </p:nvSpPr>
          <p:spPr>
            <a:xfrm>
              <a:off x="5103720" y="350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7920" y="28195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7920" y="28195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6360" y="2819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865840" y="3276720"/>
            <a:ext cx="1447920" cy="1142640"/>
            <a:chOff x="5865840" y="3276720"/>
            <a:chExt cx="1447920" cy="1142640"/>
          </a:xfrm>
        </p:grpSpPr>
        <p:sp>
          <p:nvSpPr>
            <p:cNvPr id="76" name=""/>
            <p:cNvSpPr/>
            <p:nvPr/>
          </p:nvSpPr>
          <p:spPr>
            <a:xfrm>
              <a:off x="5865840" y="3276720"/>
              <a:ext cx="144792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551640" y="3733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83680" y="3882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856560" y="2435400"/>
            <a:ext cx="761760" cy="1069920"/>
            <a:chOff x="6856560" y="2435400"/>
            <a:chExt cx="761760" cy="1069920"/>
          </a:xfrm>
        </p:grpSpPr>
        <p:sp>
          <p:nvSpPr>
            <p:cNvPr id="80" name=""/>
            <p:cNvSpPr/>
            <p:nvPr/>
          </p:nvSpPr>
          <p:spPr>
            <a:xfrm flipH="1">
              <a:off x="7313760" y="35053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6560" y="281952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6560" y="28195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18320" y="2819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88600" y="2435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817720" y="1295280"/>
            <a:ext cx="1371600" cy="3124080"/>
            <a:chOff x="2817720" y="1295280"/>
            <a:chExt cx="1371600" cy="3124080"/>
          </a:xfrm>
        </p:grpSpPr>
        <p:sp>
          <p:nvSpPr>
            <p:cNvPr id="86" name=""/>
            <p:cNvSpPr/>
            <p:nvPr/>
          </p:nvSpPr>
          <p:spPr>
            <a:xfrm>
              <a:off x="2817720" y="1295280"/>
              <a:ext cx="13716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03520" y="175212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8080" y="3900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89320" y="1523880"/>
            <a:ext cx="2133720" cy="1752840"/>
            <a:chOff x="4189320" y="1523880"/>
            <a:chExt cx="2133720" cy="1752840"/>
          </a:xfrm>
        </p:grpSpPr>
        <p:sp>
          <p:nvSpPr>
            <p:cNvPr id="90" name=""/>
            <p:cNvSpPr/>
            <p:nvPr/>
          </p:nvSpPr>
          <p:spPr>
            <a:xfrm>
              <a:off x="4189320" y="1523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3040" y="152388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1800" y="1523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962520" y="1752480"/>
            <a:ext cx="729720" cy="1524240"/>
            <a:chOff x="3962520" y="1752480"/>
            <a:chExt cx="729720" cy="1524240"/>
          </a:xfrm>
        </p:grpSpPr>
        <p:sp>
          <p:nvSpPr>
            <p:cNvPr id="94" name=""/>
            <p:cNvSpPr/>
            <p:nvPr/>
          </p:nvSpPr>
          <p:spPr>
            <a:xfrm flipV="1">
              <a:off x="3962520" y="1752480"/>
              <a:ext cx="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880" y="2133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ling press releas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scape’s love for RDF vs. Microsoft’s marketing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ot of the RDF M+S work happened at the height of the so-called “browser war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member trou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ll/experience vs. technical complexity mism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DFS vs. XML Sch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. the “Cambridge Communiqué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spcBef>
                <a:spcPts val="451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FS still not a recommendation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7:10:30Z</dcterms:created>
  <dc:creator>Ora Lassila</dc:creator>
  <dc:description/>
  <dc:language>en-US</dc:language>
  <cp:lastModifiedBy>Ora Lassila</cp:lastModifiedBy>
  <dcterms:modified xsi:type="dcterms:W3CDTF">2000-12-07T16:06:00Z</dcterms:modified>
  <cp:revision>12</cp:revision>
  <dc:subject/>
  <dc:title>No Slide Title</dc:title>
</cp:coreProperties>
</file>