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21.wmf" ContentType="image/x-wmf"/>
  <Override PartName="/ppt/media/image11.png" ContentType="image/png"/>
  <Override PartName="/ppt/media/image19.jpeg" ContentType="image/jpeg"/>
  <Override PartName="/ppt/media/image20.gif" ContentType="image/gif"/>
  <Override PartName="/ppt/media/image17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8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Click to move the slide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57F48F-64A2-48CC-A4B9-BF0D93C4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ed out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ignificant accomplishments to date (5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activity in 2002 (5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plan to deliver in 2002 (technical not administrative – 3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etrics for measuring progress (2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questions while next speaker is setting up (3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8309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9520" y="2974680"/>
            <a:ext cx="8309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952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724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8960" y="11764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8040" y="11764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9520" y="29746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8960" y="29746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8040" y="29746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9520" y="1176480"/>
            <a:ext cx="8309160" cy="34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83091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22200" y="330120"/>
            <a:ext cx="825984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9952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9520" y="1176480"/>
            <a:ext cx="8309160" cy="34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24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9520" y="2974680"/>
            <a:ext cx="8309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8309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9520" y="2974680"/>
            <a:ext cx="8309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9952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5724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08960" y="11764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8040" y="11764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99520" y="29746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08960" y="29746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8040" y="2974680"/>
            <a:ext cx="2675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83091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2200" y="330120"/>
            <a:ext cx="825984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952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240" y="29746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952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7240" y="1176480"/>
            <a:ext cx="4054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9520" y="2974680"/>
            <a:ext cx="83091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9520" y="1176480"/>
            <a:ext cx="83091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221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2221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08000" y="169920"/>
            <a:ext cx="100476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883640" y="395280"/>
            <a:ext cx="865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791480" y="189000"/>
            <a:ext cx="118908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63ab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2163a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hyperlink" Target="http://ittalks.org/" TargetMode="External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umbc.edu/~finin/profile.daml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umbc.edu/~finin/profile.daml" TargetMode="External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aml.umbc.edu/dmldemo/Profile1.da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DAML PI Meeting Status Briefing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9720" y="5319720"/>
            <a:ext cx="3684600" cy="884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1190520"/>
            <a:ext cx="795024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BC, JHU APL, MIT Slo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 Fini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m Mayfiel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jamin Gros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bruary 12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00720" y="4340160"/>
            <a:ext cx="920520" cy="1925640"/>
            <a:chOff x="4500720" y="4340160"/>
            <a:chExt cx="920520" cy="1925640"/>
          </a:xfrm>
        </p:grpSpPr>
        <p:sp>
          <p:nvSpPr>
            <p:cNvPr id="89" name=""/>
            <p:cNvSpPr/>
            <p:nvPr/>
          </p:nvSpPr>
          <p:spPr>
            <a:xfrm flipH="1">
              <a:off x="4500720" y="5037120"/>
              <a:ext cx="736560" cy="73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930200" y="6019560"/>
              <a:ext cx="244440" cy="24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561920" y="6019560"/>
              <a:ext cx="244440" cy="24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500720" y="5405400"/>
              <a:ext cx="736560" cy="738000"/>
            </a:xfrm>
            <a:prstGeom prst="rect">
              <a:avLst/>
            </a:prstGeom>
            <a:solidFill>
              <a:srgbClr val="0000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14880" y="466884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070600" y="4668840"/>
              <a:ext cx="6192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948200" y="5529240"/>
              <a:ext cx="184320" cy="30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626720" y="5889600"/>
              <a:ext cx="103320" cy="103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649760" y="5919840"/>
              <a:ext cx="30240" cy="23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86360" y="5889600"/>
              <a:ext cx="103320" cy="103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37120" y="5919840"/>
              <a:ext cx="30240" cy="23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846680" y="5259240"/>
              <a:ext cx="84240" cy="85680"/>
            </a:xfrm>
            <a:prstGeom prst="ellipse">
              <a:avLst/>
            </a:prstGeom>
            <a:solidFill>
              <a:srgbClr val="179c8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073120" y="6045120"/>
              <a:ext cx="5868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014800" y="6045120"/>
              <a:ext cx="5904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955400" y="6045120"/>
              <a:ext cx="5868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892040" y="6045120"/>
              <a:ext cx="5868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32280" y="6045120"/>
              <a:ext cx="6048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772880" y="6045120"/>
              <a:ext cx="5868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709520" y="6045120"/>
              <a:ext cx="5868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650840" y="6045120"/>
              <a:ext cx="5868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592520" y="6045120"/>
              <a:ext cx="59040" cy="58680"/>
            </a:xfrm>
            <a:prstGeom prst="flowChartSummingJunction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592520" y="5529240"/>
              <a:ext cx="184320" cy="30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630680" y="55911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630680" y="565128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630680" y="571320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630680" y="577368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976280" y="5594400"/>
              <a:ext cx="6012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46600" y="4360680"/>
              <a:ext cx="674640" cy="67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69000" y="4483080"/>
              <a:ext cx="430200" cy="43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91040" y="4606920"/>
              <a:ext cx="184320" cy="18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87200" y="43401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5e"/>
                  </a:solidFill>
                  <a:latin typeface="Times New Roman"/>
                </a:rPr>
                <a:t>t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6000" y="464796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5e"/>
                  </a:solidFill>
                  <a:latin typeface="Times New Roman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56480" y="4678200"/>
            <a:ext cx="1323720" cy="155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610680" y="609120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HU APL Hairc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rieval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80320" y="627696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6276960"/>
            <a:ext cx="27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Talks Application test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2002 Planned Activity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9520" y="1176120"/>
            <a:ext cx="8309160" cy="4028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talks 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configured Personal Agents accept recommendations from XTalks agents and other agents about events of intere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 ontology mapper beyond topic ontolo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rporate pre-indexing, pre-query and post-query in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trieval ranking to limit post-query in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ss reasoner for integrated DAML+OIL and RuleML based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to security/trust policy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68280" y="65214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XTalks Personal Agent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3440" y="5619600"/>
            <a:ext cx="5578560" cy="1006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PA is a configurable “personal agent” which accepts FIPA messages from XTalks and other instances of XPAs as well as applications, e.g.Outl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97440" y="5630760"/>
            <a:ext cx="3346560" cy="80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09760" y="4626000"/>
            <a:ext cx="4803840" cy="539640"/>
          </a:xfrm>
          <a:prstGeom prst="rect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AD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09760" y="3681360"/>
            <a:ext cx="4803840" cy="944640"/>
          </a:xfrm>
          <a:prstGeom prst="rect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22640" y="3754440"/>
            <a:ext cx="146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23040" y="3816360"/>
            <a:ext cx="744480" cy="674640"/>
          </a:xfrm>
          <a:prstGeom prst="rect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Plu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44760" y="3816360"/>
            <a:ext cx="744480" cy="674640"/>
          </a:xfrm>
          <a:prstGeom prst="rect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25680" y="3816360"/>
            <a:ext cx="743040" cy="674640"/>
          </a:xfrm>
          <a:prstGeom prst="rect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60640" y="5234040"/>
            <a:ext cx="1014120" cy="388800"/>
          </a:xfrm>
          <a:prstGeom prst="rect">
            <a:avLst/>
          </a:prstGeom>
          <a:ln w="0">
            <a:noFill/>
          </a:ln>
        </p:spPr>
      </p:pic>
      <p:cxnSp>
        <p:nvCxnSpPr>
          <p:cNvPr id="240" name=""/>
          <p:cNvCxnSpPr>
            <a:stCxn id="237" idx="1"/>
            <a:endCxn id="239" idx="0"/>
          </p:cNvCxnSpPr>
          <p:nvPr/>
        </p:nvCxnSpPr>
        <p:spPr>
          <a:xfrm flipV="1" rot="10800000">
            <a:off x="1666080" y="4153320"/>
            <a:ext cx="778680" cy="108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81360" y="410544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02520" y="3816360"/>
            <a:ext cx="744480" cy="674640"/>
          </a:xfrm>
          <a:prstGeom prst="rect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R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196120" y="3614760"/>
            <a:ext cx="947880" cy="606240"/>
          </a:xfrm>
          <a:prstGeom prst="ellipse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93080" y="4491000"/>
            <a:ext cx="947880" cy="608040"/>
          </a:xfrm>
          <a:prstGeom prst="ellipse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2" idx="3"/>
            <a:endCxn id="243" idx="2"/>
          </p:cNvCxnSpPr>
          <p:nvPr/>
        </p:nvCxnSpPr>
        <p:spPr>
          <a:xfrm flipV="1">
            <a:off x="7047000" y="3917160"/>
            <a:ext cx="114984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2" idx="3"/>
            <a:endCxn id="244" idx="2"/>
          </p:cNvCxnSpPr>
          <p:nvPr/>
        </p:nvCxnSpPr>
        <p:spPr>
          <a:xfrm>
            <a:off x="7047000" y="4154040"/>
            <a:ext cx="94680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7288200" y="3693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jx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84600" y="2452680"/>
            <a:ext cx="812520" cy="809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tal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72120" y="2452680"/>
            <a:ext cx="879480" cy="809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92680" y="2452680"/>
            <a:ext cx="812880" cy="809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d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59560" y="248904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44760" y="1305000"/>
            <a:ext cx="4737240" cy="674640"/>
          </a:xfrm>
          <a:prstGeom prst="cloudCallout">
            <a:avLst>
              <a:gd name="adj1" fmla="val -41787"/>
              <a:gd name="adj2" fmla="val 6604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47800" y="1946160"/>
            <a:ext cx="115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392640" y="1979640"/>
            <a:ext cx="474480" cy="338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78200" y="2048040"/>
            <a:ext cx="0" cy="33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61080" y="1979640"/>
            <a:ext cx="473040" cy="40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6600" y="32623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89240" y="32623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9120" y="32623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68280" y="65214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Xtalks agent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74680" y="5850000"/>
            <a:ext cx="2381400" cy="571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71440" y="2859120"/>
            <a:ext cx="914400" cy="1452600"/>
          </a:xfrm>
          <a:prstGeom prst="flowChartMagneticDisk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tal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39960" y="141588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talk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763720" y="2863800"/>
            <a:ext cx="766800" cy="1068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516560" y="4387680"/>
            <a:ext cx="766800" cy="1068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160880" y="882720"/>
            <a:ext cx="766800" cy="1068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466000" y="38545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talks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61280" y="187308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pquest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36160" y="530208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s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5" idx="0"/>
            <a:endCxn id="267" idx="1"/>
          </p:cNvCxnSpPr>
          <p:nvPr/>
        </p:nvCxnSpPr>
        <p:spPr>
          <a:xfrm flipV="1">
            <a:off x="3147840" y="1416960"/>
            <a:ext cx="1013760" cy="144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"/>
          <p:cNvCxnSpPr>
            <a:stCxn id="268" idx="2"/>
            <a:endCxn id="270" idx="0"/>
          </p:cNvCxnSpPr>
          <p:nvPr/>
        </p:nvCxnSpPr>
        <p:spPr>
          <a:xfrm>
            <a:off x="3193560" y="4220640"/>
            <a:ext cx="118836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1244520" y="3549600"/>
            <a:ext cx="15192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08680" y="1889280"/>
            <a:ext cx="15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PA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5880" y="4616280"/>
            <a:ext cx="15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PA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e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08200" y="3267000"/>
            <a:ext cx="81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r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5760" y="210168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69" idx="2"/>
            <a:endCxn id="266" idx="0"/>
          </p:cNvCxnSpPr>
          <p:nvPr/>
        </p:nvCxnSpPr>
        <p:spPr>
          <a:xfrm>
            <a:off x="4660920" y="2239920"/>
            <a:ext cx="240480" cy="21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453840" y="29894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319800" y="2743200"/>
            <a:ext cx="766800" cy="10684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639400" y="365760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s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7843680" y="4159080"/>
            <a:ext cx="766800" cy="1068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163640" y="507348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s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6" idx="3"/>
            <a:endCxn id="281" idx="2"/>
          </p:cNvCxnSpPr>
          <p:nvPr/>
        </p:nvCxnSpPr>
        <p:spPr>
          <a:xfrm flipV="1">
            <a:off x="5283360" y="4298400"/>
            <a:ext cx="902160" cy="624600"/>
          </a:xfrm>
          <a:prstGeom prst="straightConnector1">
            <a:avLst/>
          </a:prstGeom>
          <a:ln w="25560">
            <a:solidFill>
              <a:srgbClr val="00008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70" idx="3"/>
            <a:endCxn id="283" idx="2"/>
          </p:cNvCxnSpPr>
          <p:nvPr/>
        </p:nvCxnSpPr>
        <p:spPr>
          <a:xfrm>
            <a:off x="4927680" y="5622840"/>
            <a:ext cx="2782080" cy="92880"/>
          </a:xfrm>
          <a:prstGeom prst="straightConnector1">
            <a:avLst/>
          </a:prstGeom>
          <a:ln w="25560">
            <a:solidFill>
              <a:srgbClr val="00008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81" idx="3"/>
            <a:endCxn id="282" idx="1"/>
          </p:cNvCxnSpPr>
          <p:nvPr/>
        </p:nvCxnSpPr>
        <p:spPr>
          <a:xfrm>
            <a:off x="6730560" y="3978000"/>
            <a:ext cx="1113120" cy="716760"/>
          </a:xfrm>
          <a:prstGeom prst="straightConnector1">
            <a:avLst/>
          </a:prstGeom>
          <a:ln w="25560">
            <a:solidFill>
              <a:srgbClr val="00008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5992200" y="463248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14800" y="974880"/>
            <a:ext cx="29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– Xtalks Annou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– User Agent Solic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0000" y="158436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 – Buddy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 – Trave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68280" y="65214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86720" y="2597040"/>
            <a:ext cx="380880" cy="789120"/>
          </a:xfrm>
          <a:prstGeom prst="flowChartMagneticDisk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tal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027920" y="3030120"/>
            <a:ext cx="560160" cy="327240"/>
          </a:xfrm>
          <a:prstGeom prst="line">
            <a:avLst/>
          </a:prstGeom>
          <a:ln w="12600">
            <a:solidFill>
              <a:srgbClr val="00005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63920" y="3722760"/>
            <a:ext cx="314280" cy="596880"/>
          </a:xfrm>
          <a:prstGeom prst="rect">
            <a:avLst/>
          </a:prstGeom>
          <a:solidFill>
            <a:srgbClr val="e358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&lt;daml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9c82"/>
                </a:solidFill>
                <a:latin typeface="Arial Black"/>
              </a:rPr>
              <a:t>Integrating Retrieval and Inference</a:t>
            </a:r>
            <a:endParaRPr b="1" lang="en-US" sz="24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1600200"/>
            <a:ext cx="533160" cy="762120"/>
          </a:xfrm>
          <a:prstGeom prst="rect">
            <a:avLst/>
          </a:prstGeom>
          <a:solidFill>
            <a:srgbClr val="e358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1752480"/>
            <a:ext cx="533520" cy="762120"/>
          </a:xfrm>
          <a:prstGeom prst="rect">
            <a:avLst/>
          </a:prstGeom>
          <a:solidFill>
            <a:srgbClr val="e358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905120"/>
            <a:ext cx="533520" cy="761760"/>
          </a:xfrm>
          <a:prstGeom prst="rect">
            <a:avLst/>
          </a:prstGeom>
          <a:solidFill>
            <a:srgbClr val="e358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1371600"/>
            <a:ext cx="1295280" cy="1523880"/>
          </a:xfrm>
          <a:prstGeom prst="rect">
            <a:avLst/>
          </a:prstGeom>
          <a:solidFill>
            <a:srgbClr val="e358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705040" y="1982880"/>
            <a:ext cx="3581640" cy="408240"/>
            <a:chOff x="2705040" y="1982880"/>
            <a:chExt cx="3581640" cy="408240"/>
          </a:xfrm>
        </p:grpSpPr>
        <p:sp>
          <p:nvSpPr>
            <p:cNvPr id="300" name=""/>
            <p:cNvSpPr/>
            <p:nvPr/>
          </p:nvSpPr>
          <p:spPr>
            <a:xfrm>
              <a:off x="3820680" y="1992240"/>
              <a:ext cx="132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FrenchScript"/>
                </a:rPr>
                <a:t>In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19640" y="19828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2163a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5040" y="19828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2163a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391520" y="30481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2163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371600" y="4572000"/>
            <a:ext cx="6419520" cy="1905120"/>
            <a:chOff x="1371600" y="4572000"/>
            <a:chExt cx="6419520" cy="1905120"/>
          </a:xfrm>
        </p:grpSpPr>
        <p:sp>
          <p:nvSpPr>
            <p:cNvPr id="305" name=""/>
            <p:cNvSpPr/>
            <p:nvPr/>
          </p:nvSpPr>
          <p:spPr>
            <a:xfrm>
              <a:off x="5440320" y="4572000"/>
              <a:ext cx="1219320" cy="1905120"/>
            </a:xfrm>
            <a:prstGeom prst="rect">
              <a:avLst/>
            </a:prstGeom>
            <a:solidFill>
              <a:srgbClr val="e358b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trip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17480" y="5634000"/>
              <a:ext cx="132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FrenchScript"/>
                </a:rPr>
                <a:t>In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800000">
              <a:off x="6933960" y="5151600"/>
              <a:ext cx="857160" cy="9144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2163a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400040" y="5180040"/>
              <a:ext cx="857520" cy="914400"/>
            </a:xfrm>
            <a:custGeom>
              <a:avLst/>
              <a:gdLst>
                <a:gd name="textAreaLeft" fmla="*/ 0 w 857520"/>
                <a:gd name="textAreaRight" fmla="*/ 857880 w 8575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2163a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098960" y="57610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2163ab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812960" cy="14986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934320" y="3530520"/>
            <a:ext cx="1447560" cy="1143000"/>
          </a:xfrm>
          <a:prstGeom prst="rect">
            <a:avLst/>
          </a:prstGeom>
          <a:solidFill>
            <a:srgbClr val="ff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41360" y="395928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FrenchScript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40320" y="394956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2163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25720" y="394956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2163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8280" y="65214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82600" y="14619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tri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39480" y="229716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70320" y="17254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daml ta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95880" y="25448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rdf cl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DAML Rule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1280" y="5068440"/>
            <a:ext cx="8308800" cy="131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demonstrated by supporting the reasoning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enario for establishing an agent’s  permissions and obligations from descriptions (in DAML+OIL) of their properties and of the security and trust policy in for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11280" y="1189080"/>
            <a:ext cx="7888320" cy="3542760"/>
            <a:chOff x="611280" y="1189080"/>
            <a:chExt cx="7888320" cy="3542760"/>
          </a:xfrm>
        </p:grpSpPr>
        <p:sp>
          <p:nvSpPr>
            <p:cNvPr id="323" name=""/>
            <p:cNvSpPr/>
            <p:nvPr/>
          </p:nvSpPr>
          <p:spPr>
            <a:xfrm>
              <a:off x="611280" y="2728800"/>
              <a:ext cx="1139760" cy="729720"/>
            </a:xfrm>
            <a:prstGeom prst="rect">
              <a:avLst/>
            </a:prstGeom>
            <a:solidFill>
              <a:srgbClr val="00005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MLR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16280" y="1189080"/>
              <a:ext cx="1519200" cy="1028520"/>
            </a:xfrm>
            <a:prstGeom prst="rect">
              <a:avLst/>
            </a:prstGeom>
            <a:solidFill>
              <a:srgbClr val="e5f5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ML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Facts + Rules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resented in DA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0840" y="1189080"/>
              <a:ext cx="1646280" cy="1028520"/>
            </a:xfrm>
            <a:prstGeom prst="rect">
              <a:avLst/>
            </a:prstGeom>
            <a:solidFill>
              <a:srgbClr val="e5f5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ss representation of facts &amp; r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14920" y="1189080"/>
              <a:ext cx="1266840" cy="1028520"/>
            </a:xfrm>
            <a:prstGeom prst="rect">
              <a:avLst/>
            </a:prstGeom>
            <a:solidFill>
              <a:srgbClr val="e5f5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MLRules to Jess Conver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07120" y="2798640"/>
              <a:ext cx="1392480" cy="570960"/>
            </a:xfrm>
            <a:prstGeom prst="rect">
              <a:avLst/>
            </a:prstGeom>
            <a:solidFill>
              <a:srgbClr val="fa0f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ss Eng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87920" y="3931920"/>
              <a:ext cx="1519200" cy="799920"/>
            </a:xfrm>
            <a:prstGeom prst="rect">
              <a:avLst/>
            </a:prstGeom>
            <a:solidFill>
              <a:srgbClr val="e5f5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rived Fa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16280" y="3931920"/>
              <a:ext cx="1519200" cy="799920"/>
            </a:xfrm>
            <a:prstGeom prst="rect">
              <a:avLst/>
            </a:prstGeom>
            <a:solidFill>
              <a:srgbClr val="e5f5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rived Facts represented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14920" y="3931920"/>
              <a:ext cx="1266840" cy="799920"/>
            </a:xfrm>
            <a:prstGeom prst="rect">
              <a:avLst/>
            </a:prstGeom>
            <a:solidFill>
              <a:srgbClr val="e5f5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ss 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MLRule  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35480" y="176040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81760" y="176040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07120" y="164592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6000" y="164592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66000" y="3360600"/>
              <a:ext cx="0" cy="102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107120" y="438912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081760" y="438912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435480" y="438912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3560" y="29034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549520" y="22176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63560" y="31320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49520" y="3132000"/>
              <a:ext cx="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468280" y="65214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2002 Planned Deliverable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40920" y="1339920"/>
            <a:ext cx="8309160" cy="479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talks 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alks 2.0 available on CD and down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ble personal agent works with XTalks agents and other personal 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PA platform with distributed trust modu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retrieval over text and markup with inferen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on of retrieval-ranked inference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on of integrated reasoning with DAML+OIL and RuleML rules for security/trust policy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736040" y="6521400"/>
            <a:ext cx="14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Metrics for measuring progres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99520" y="1176120"/>
            <a:ext cx="8309160" cy="2987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tal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teracting/cooperating XTalks personal 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trie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duction in inferences when using retrieval rank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L+Oil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ness of DAML+OIL reas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S (DAML Inferences per second) on standard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736040" y="6521400"/>
            <a:ext cx="14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metr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Summary and Question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92120" y="1802880"/>
            <a:ext cx="6794640" cy="2847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are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 mediated applications and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al using both text and semantic web mar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ing and exploiting rules in DAML+O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Talks as a fielded application testb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736040" y="6521400"/>
            <a:ext cx="14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Paper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301680" y="1038240"/>
            <a:ext cx="8200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sikanth Avancha, Anupam Joshi, and Tim Finin, Enhancing the Bluetooth Service Discovery Protocol, submitted IEEE Wireless Computing and Networking Conference, Orlando, March 17-21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lana Kagal, Jeffrey Undercoffer, Anupam Joshi, and Tim Finin, Vigil: Providing Trust for Enhanced Security in Pervasive Systems, October 2001. http://umbc.edu/~finin/papers/vigi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. Scott Cost et.al., 'ITTALKS: A Case Study in DAML and the Semantic Web', IEEE Intelligent Systems Special Issu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lana Kagal, Jeffrey Undercoffer, Filip Perich, Anupam Joshi, Tim Finin, 'Vigil: Enforcing Security in Ubiquitous Environments', Grace Hopper Celebration of Women in Computing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lana Kagal, Vladimir Korolev, Sasikanth Avancha, Anupam Joshi, Timothy Finin, 'A SmartSpaces Approach to Service Management for Pervasive Computing', Grace Hopper Celebration of Women in Computing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Finin et. al., Information Agents for Mobile and Embedded Devices, Fifth International Workshop Cooperative Information Agents, September 6-8, 2001 Modena, Italy.  http://umbc.edu/~finin/papers/cia01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lana Kagal, Tim Finin and Anupam Joshi, Moving from Security to Distributed Trust in Ubiquitous Computing Environments, IEEE Computer, December 2001.  http://umbc.edu/~finin/papers/ieee01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upam Joshi, Timothy Finin, and Yelena Yesha, Agents, Mobility, and M-Services: Creating the next generation applications and infrastructure on mobile ad-hoc networks, Workshop on an Infrastructure for Mobile and Wireless Systems, Scottsdale, Arizona, October 15, 2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36040" y="6521400"/>
            <a:ext cx="14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ppend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Paper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1193760"/>
            <a:ext cx="82008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ga Ratsimore, Vladimir Korolev, Anupam Joshi and Tim Finin, Agents2Go: an infrastructure for location-Dependent Service Discovery in the mobile electronic commerce environment, First ACM Mobile Commerce Workshop, July 21, 2001, Rome. http://umbc.edu/~finin/papers/amcw0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 Scott Cost et. al., ITTALKS: A Case Student in how the Semantic Web Helps, International Semantic Web Workshop -- Infrastructure and Applications for the Semantic Web, July, 2001, Stanford. http://umbc.edu/~finin/papers/swws0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ip Perich et. al., ITTALKS: An Application of Agents in the Semantic Web, Workshop on Engineering Societies in the Agents' World, 7 July 2001, Prague. http://umbc.edu/~finin/papers/esaw0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lana Kagal et. al., A Highly Adaptable Infrastructure for Service Discovery and Management in Ubiquitous Computing, May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lana Kagal, Timothy Finin, and Yun Peng, A Framework for Distributed Trust, Workshop on Autonomy, Delegation, and Control: Interacting with Autonomous Agents, IJCAI-2001, Seattle, August, 2001. http://umbc.edu/~finin/papers/jicai0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lana Kagal et. al., An Infrastructure for Distributed Trust Management, Workshop on Norms and Institutions in Multiagent Systems, Autonomous Agents 2001, Montreal, May 29, 2001.  http://umbc.edu/~finin/papers/nimas0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lana Kagal et. al., Centaurus: A Framework for Intelligent Services in a Mobile Environment, International Workshop on Smart Appliances and Wearable Computing (IWSAWC), Scottsdale, Arizona, USA, April 16, 2001. http://umbc.edu/~finin/papers/centauru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y Chen, Anumpam Joshi, Tim Finin, and Dipanjan Chakraborty, "Dynamic Service Discovery for Mobile Computing: Intelligent Agents meet Jini in the Aether", Baltzer Science Journal on Cluster Computing, Special Issue on Advances in Distributed and Mobile Systems and Communications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36040" y="6521400"/>
            <a:ext cx="14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ppend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Accomplishment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9520" y="1176120"/>
            <a:ext cx="8309160" cy="5260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TALKS =&gt; XTalks as integrated applications using agent mediated services to disseminate event announc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L+OIL as an agent communication language allows intelligent agents accept DAML+OIL event notifications and enter on user’s calendar if they match interests, location &amp; schedu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L+OIL ontology to represent distributed trust and belie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l using text, DAML+OIL, and RDF tri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retrieval-based ontology mapping (not yet enough  DAML/text for general applic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SOAP-based retrieval and term relationship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iminary representation of RuleML in 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DAMLATOR Apache module as an efficient, convenient translation engine for DAML+O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30320" y="651816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ccomplish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32680" y="5645160"/>
            <a:ext cx="1150920" cy="10494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9840" y="341280"/>
            <a:ext cx="37274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63ab"/>
                </a:solidFill>
                <a:latin typeface="Arial Black"/>
              </a:rPr>
              <a:t>XTalks </a:t>
            </a:r>
            <a:endParaRPr b="1" lang="en-US" sz="36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9880" y="1176480"/>
            <a:ext cx="8623440" cy="5519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Tal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database driven we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e of talks and related.  The datab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s information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6992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6992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(speakers, hosts, users,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6992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(rooms, institutions,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6992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s (defined by DAML+OIL ont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6992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’s interests, schedules and l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atabase is used to dynamically generate web pages and DAML+OIL descriptions for the talks and related even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fications are sent to registered users and/or their agents via email, SMS, WAP, and/or an ACL (e.g., KQML, FIPA) for events matching their interests, location and schedu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Talks 1.0 available by CD 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daml.umbc.edu/download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78400" y="1557360"/>
            <a:ext cx="238140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65800" y="173160"/>
            <a:ext cx="3592440" cy="2727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05520" y="274644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a0f33"/>
                </a:solidFill>
                <a:uFillTx/>
                <a:latin typeface="Times New Roman"/>
                <a:hlinkClick r:id="rId4"/>
              </a:rPr>
              <a:t>http://ittalks.org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30320" y="651816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ccomplish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54600" y="6100920"/>
            <a:ext cx="10476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0f33"/>
                </a:solidFill>
                <a:latin typeface="Arial Black"/>
              </a:rPr>
              <a:t>Dem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a0f33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330320" y="651816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ccomplish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5486400"/>
            <a:ext cx="1371600" cy="990720"/>
          </a:xfrm>
          <a:prstGeom prst="rect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ML+OI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so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5508720"/>
            <a:ext cx="693720" cy="581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76720" y="5410080"/>
            <a:ext cx="2590560" cy="914400"/>
          </a:xfrm>
          <a:prstGeom prst="rect">
            <a:avLst/>
          </a:prstGeom>
          <a:solidFill>
            <a:srgbClr val="e5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15200" y="5486400"/>
            <a:ext cx="1376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315200" y="104760"/>
            <a:ext cx="1644480" cy="120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73160" y="96840"/>
            <a:ext cx="1655640" cy="121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167652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TAL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67652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11480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11480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5909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571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505320" y="4495680"/>
            <a:ext cx="1895400" cy="152280"/>
            <a:chOff x="3505320" y="4495680"/>
            <a:chExt cx="1895400" cy="152280"/>
          </a:xfrm>
        </p:grpSpPr>
        <p:sp>
          <p:nvSpPr>
            <p:cNvPr id="150" name=""/>
            <p:cNvSpPr/>
            <p:nvPr/>
          </p:nvSpPr>
          <p:spPr>
            <a:xfrm>
              <a:off x="3581280" y="4647960"/>
              <a:ext cx="181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5320" y="4495680"/>
              <a:ext cx="181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390840" y="2438280"/>
            <a:ext cx="224784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43480" y="2590920"/>
            <a:ext cx="2247840" cy="1676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781680" y="1219320"/>
            <a:ext cx="952560" cy="685800"/>
          </a:xfrm>
          <a:prstGeom prst="line">
            <a:avLst/>
          </a:prstGeom>
          <a:ln w="38160">
            <a:solidFill>
              <a:srgbClr val="2163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53080" y="1066680"/>
            <a:ext cx="952560" cy="685800"/>
          </a:xfrm>
          <a:prstGeom prst="line">
            <a:avLst/>
          </a:prstGeom>
          <a:ln w="38160">
            <a:solidFill>
              <a:srgbClr val="2163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400800" y="4952520"/>
            <a:ext cx="914400" cy="685800"/>
          </a:xfrm>
          <a:prstGeom prst="line">
            <a:avLst/>
          </a:prstGeom>
          <a:ln w="38160">
            <a:solidFill>
              <a:srgbClr val="2163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629400" y="4800240"/>
            <a:ext cx="914400" cy="609480"/>
          </a:xfrm>
          <a:prstGeom prst="line">
            <a:avLst/>
          </a:prstGeom>
          <a:ln w="38160">
            <a:solidFill>
              <a:srgbClr val="2163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676520" y="4800600"/>
            <a:ext cx="761760" cy="609480"/>
          </a:xfrm>
          <a:prstGeom prst="line">
            <a:avLst/>
          </a:prstGeom>
          <a:ln w="38160">
            <a:solidFill>
              <a:srgbClr val="2163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905120" y="5029200"/>
            <a:ext cx="761760" cy="609480"/>
          </a:xfrm>
          <a:prstGeom prst="line">
            <a:avLst/>
          </a:prstGeom>
          <a:ln w="38160">
            <a:solidFill>
              <a:srgbClr val="2163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048120"/>
            <a:ext cx="1295640" cy="974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H="1" flipV="1">
            <a:off x="1828440" y="1066680"/>
            <a:ext cx="762120" cy="609840"/>
          </a:xfrm>
          <a:prstGeom prst="line">
            <a:avLst/>
          </a:prstGeom>
          <a:ln w="38160">
            <a:solidFill>
              <a:srgbClr val="2163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523520" y="1295280"/>
            <a:ext cx="762120" cy="609840"/>
          </a:xfrm>
          <a:prstGeom prst="line">
            <a:avLst/>
          </a:prstGeom>
          <a:ln w="38160">
            <a:solidFill>
              <a:srgbClr val="2163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038480"/>
            <a:ext cx="0" cy="1447920"/>
          </a:xfrm>
          <a:prstGeom prst="line">
            <a:avLst/>
          </a:prstGeom>
          <a:ln w="38160">
            <a:solidFill>
              <a:srgbClr val="2163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4038480"/>
            <a:ext cx="0" cy="1447920"/>
          </a:xfrm>
          <a:prstGeom prst="line">
            <a:avLst/>
          </a:prstGeom>
          <a:ln w="38160">
            <a:solidFill>
              <a:srgbClr val="2163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5562720"/>
            <a:ext cx="914400" cy="609480"/>
          </a:xfrm>
          <a:prstGeom prst="ellipse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5562720"/>
            <a:ext cx="914400" cy="609480"/>
          </a:xfrm>
          <a:prstGeom prst="ellipse">
            <a:avLst/>
          </a:prstGeom>
          <a:solidFill>
            <a:srgbClr val="216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480" y="281952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a0f33"/>
                </a:solidFill>
                <a:uFillTx/>
                <a:latin typeface="Times New Roman"/>
                <a:hlinkClick r:id="rId7"/>
              </a:rPr>
              <a:t>user’s daml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12952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77120" y="6072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S Outl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2952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TALKS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 reas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3244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gen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2286000"/>
            <a:ext cx="144792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19760" y="2590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619760" y="3048120"/>
            <a:ext cx="990360" cy="0"/>
          </a:xfrm>
          <a:prstGeom prst="line">
            <a:avLst/>
          </a:prstGeom>
          <a:ln w="38160">
            <a:solidFill>
              <a:srgbClr val="2163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PA A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3048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828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5680" y="1905120"/>
            <a:ext cx="141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267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1066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1600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3429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2743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4267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4800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447920"/>
            <a:ext cx="0" cy="1447560"/>
          </a:xfrm>
          <a:prstGeom prst="line">
            <a:avLst/>
          </a:prstGeom>
          <a:ln w="38160">
            <a:solidFill>
              <a:srgbClr val="2163a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543800" y="388620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9246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908600" y="1176480"/>
            <a:ext cx="3822480" cy="2344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3ab"/>
                </a:solidFill>
                <a:latin typeface="Arial Black"/>
              </a:rPr>
              <a:t>Distributed Trust</a:t>
            </a:r>
            <a:endParaRPr b="1" lang="en-US" sz="24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6520" y="874440"/>
            <a:ext cx="8255160" cy="5622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gation based model for distribu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ation and trust for use in bo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d and wireless scenari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trust from security persp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on concepts like authenticatio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, role-based access contro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infrastructure, digital signa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tative sources of informa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s make speech acts abou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ason over these properti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l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ed in an ontology represented in DAML+O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st/security policies defined in DAML+OI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by rules (in Rule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for actions made by and to agents evalu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asoning using trust and security pol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security to FIPA frame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5240" y="3406680"/>
            <a:ext cx="480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343080" indent="-34308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daml.umbc.edu/ontologies/trust-ont.da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656400" y="4021200"/>
            <a:ext cx="2184480" cy="1363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43800" y="4559400"/>
            <a:ext cx="1066680" cy="1998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700760" y="5381640"/>
            <a:ext cx="114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XTal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amp; mobi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30320" y="651816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ccomplish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Interactive ontology mapper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4480" y="1082520"/>
            <a:ext cx="2536920" cy="5375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to create mappings between two ontologies which have URIs to text associated with classes and proper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s mapping process, taking into account hierarchical relationships and user-specifi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ndmar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text classification to compute similarities between pairs of classes or proper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608200" y="803160"/>
            <a:ext cx="6307200" cy="4908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706840" y="5638680"/>
            <a:ext cx="624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XTalks to enable mapping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topic ontologies in DAML+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30320" y="651816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ccomplish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720720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DAML and Text Retrieval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9840" y="1580760"/>
            <a:ext cx="8308800" cy="4786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IRCUT retrieval engine augmented to u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, DAML, and RDF triples as indexing/query te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d retrieval-based ontology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ext that characterizes DAML tag, then find other DAML tags with similar character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yet enough DAML/text available for general applicability of this techn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P query services over DAML crawler data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daml.org:2020/soap/servlet/rpcrouter/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ff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ind related terms)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earch for docum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39200" y="0"/>
            <a:ext cx="15048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Damlator translation engine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0440" y="875880"/>
            <a:ext cx="8282160" cy="566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ble engine for DAML-encod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Web pages translation and ca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supported output forma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umans: GIF and P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gents: DAML, NTriples, Prolog te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ing supports scalability and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ted as an Apache-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, application/user independent and system-wide 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ed via http://host/@SeeAs@/original/path/to/file.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W3C RD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ion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Jena RDF/XML Parser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 Xerces, AT&amp;T GraphV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fro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ittalks.org/download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416640" y="1104840"/>
          <a:ext cx="219708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6640" y="1104840"/>
                    <a:ext cx="219708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807080" y="4357800"/>
          <a:ext cx="4078080" cy="21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7080" y="4357800"/>
                    <a:ext cx="40780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7330320" y="651816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Comic Sans MS"/>
              </a:rPr>
              <a:t>accomplish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2200" y="33012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63ab"/>
                </a:solidFill>
                <a:latin typeface="Arial Black"/>
              </a:rPr>
              <a:t>DAMLator examples</a:t>
            </a:r>
            <a:endParaRPr b="1" lang="en-US" sz="2800" spc="-1" strike="noStrike">
              <a:solidFill>
                <a:srgbClr val="2163ab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9520" y="1176120"/>
            <a:ext cx="8309160" cy="529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a0f33"/>
                </a:solidFill>
                <a:uFillTx/>
                <a:latin typeface="Arial"/>
                <a:hlinkClick r:id="rId1"/>
              </a:rPr>
              <a:t>http://daml.umbc.edu/dmldemo/Profile1.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daml.umbc.edu/@daml@/dmldemo/Profile1.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the DAML mar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daml.umbc.edu/@xsb@/dmldemo/Profile1.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SB/Prolog terms for tri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daml.umbc.edu/@gif@/dmldemo/Profile1.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 of rdf graph, generated with GraphVi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daml.umbc.edu/@png@/dmldemo/Profile1.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 of rdf graph, generated with GraphVi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daml.umbc.edu/@ntriples@/dmldemo/Profile1.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 in ntriple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3:53:08Z</dcterms:created>
  <dc:creator>jflynn@bbn.com</dc:creator>
  <dc:description/>
  <dc:language>en-US</dc:language>
  <cp:lastModifiedBy>bbn</cp:lastModifiedBy>
  <cp:lastPrinted>2001-11-07T16:26:02Z</cp:lastPrinted>
  <dcterms:modified xsi:type="dcterms:W3CDTF">2002-02-12T23:07:03Z</dcterms:modified>
  <cp:revision>252</cp:revision>
  <dc:subject/>
  <dc:title>Objective</dc:title>
</cp:coreProperties>
</file>