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B28-0130-425F-B9BE-7C3D62E5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DB9-12BF-47D7-89EC-DE2D0E54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B0F-ED64-465E-8848-8EAD9714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035-805E-46DE-82CD-3BCE7D8D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E6F-9C2A-47AC-AB1F-7FDA19C7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4CC-0019-423C-9DAE-4A1B3591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F03-27EA-4E8E-983F-0A2DAE0E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E5E-DE7D-4FC5-92F7-DE07B33C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BDA-DBD7-4BF9-9B98-0AD2A08F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6F6-D9F1-43A9-8470-65B2E485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30F-B0BC-40E7-9093-5AD0DCFA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44B-BD6A-4D87-8FD7-1F7BDE08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DF29-A845-4F48-8F36-AD6EB1379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JTL Ontology Effo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CM Nel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 H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rk's%20New%20JOED%20Logo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956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825640" y="542880"/>
          <a:ext cx="3487680" cy="57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5640" y="542880"/>
                    <a:ext cx="34876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85800" y="1467000"/>
          <a:ext cx="6019920" cy="33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467000"/>
                    <a:ext cx="601992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44560" y="1047600"/>
          <a:ext cx="7605720" cy="526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047600"/>
                    <a:ext cx="7605720" cy="52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935000" y="1052640"/>
          <a:ext cx="542160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5000" y="1052640"/>
                    <a:ext cx="542160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457280" y="2143080"/>
          <a:ext cx="637560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2143080"/>
                    <a:ext cx="637560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ation – Create once use many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8027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OD DSS Demon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7086600" cy="4646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57400" y="11430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e move more towards multi-mission platforms, awareness of how these missions interact and commonality is critical to the decision proces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2860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2133720"/>
            <a:ext cx="190512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the IED mission is selec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EOD platforms will have up to eight miss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look for commonality among those miss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106668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allows us to find common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523880"/>
            <a:ext cx="20574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ssions are divided into phases that are common throughout the majority of EOD miss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 Planning for example is common to every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xt step is to put processes to the struct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Charting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 Essential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701028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1447920"/>
            <a:ext cx="198144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we use a simple flow chart to map the Mission Planning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block has steps or tasks that are preformed as part of the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xt step is to identify the language associated with each ta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2286000"/>
            <a:ext cx="1676520" cy="2286000"/>
          </a:xfrm>
          <a:prstGeom prst="wedgeRoundRectCallout">
            <a:avLst>
              <a:gd name="adj1" fmla="val 86740"/>
              <a:gd name="adj2" fmla="val 67569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use this example to show how the mapping relates to structure and commonality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4267080"/>
            <a:ext cx="1752840" cy="838440"/>
          </a:xfrm>
          <a:prstGeom prst="wedgeRectCallout">
            <a:avLst>
              <a:gd name="adj1" fmla="val -71467"/>
              <a:gd name="adj2" fmla="val 83712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block is a hot link to the procedural ste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Language, Conditions, and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5748" b="3450"/>
          <a:stretch/>
        </p:blipFill>
        <p:spPr>
          <a:xfrm>
            <a:off x="2895480" y="1600200"/>
            <a:ext cx="6248520" cy="5257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086600" y="1752480"/>
            <a:ext cx="2057400" cy="1447920"/>
          </a:xfrm>
          <a:prstGeom prst="wedgeRectCallout">
            <a:avLst>
              <a:gd name="adj1" fmla="val 5476"/>
              <a:gd name="adj2" fmla="val 12927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TA 2.2.4  Assess Tactical Environmen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To utilize organic sensors to detect  combat threats, environmental conditions, geographic constraints, and background shipping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3880"/>
            <a:ext cx="28954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te survey can be associated with Navy Tactical Task (NTA) 2.2.4 and is based upon the Conditions of Physical, Military, and Civil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s Measured by time (minutes, hours, or days), percentage, simple yes/no, incident, distance, number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this language allows us to determine MOE and MOP.  It is the key to integrating doctrine and TTP into our everyday operation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952880"/>
            <a:ext cx="2590560" cy="838440"/>
          </a:xfrm>
          <a:prstGeom prst="wedgeRoundRectCallout">
            <a:avLst>
              <a:gd name="adj1" fmla="val 124939"/>
              <a:gd name="adj2" fmla="val -9791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 2.4.2 Intelligence Data Ba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availability of intelligence to support a mission or task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6095880"/>
            <a:ext cx="3505320" cy="533520"/>
          </a:xfrm>
          <a:prstGeom prst="wedgeRoundRectCallout">
            <a:avLst>
              <a:gd name="adj1" fmla="val 27810"/>
              <a:gd name="adj2" fmla="val -344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TA 2.2.4  M5  Perc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f threats found prior to engagement by collection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 for the UJTL and MET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POA&amp;M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AS_CRAB" descr=""/>
          <p:cNvPicPr/>
          <p:nvPr/>
        </p:nvPicPr>
        <p:blipFill>
          <a:blip r:embed="rId1"/>
          <a:stretch/>
        </p:blipFill>
        <p:spPr>
          <a:xfrm>
            <a:off x="3505320" y="304920"/>
            <a:ext cx="20574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yered Approa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6629400" cy="4800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14600" y="99072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 Execution is a complex environment.  Commanders and Warfighters require a tool to assist them in the execution of their assigned ta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981080"/>
            <a:ext cx="23623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eam member requires different content in order to execute their tasks, making up the first lay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task is executed, Commander Critical Information is updated, new tasks assigne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ic is a concept view of how that communication takes plac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lists represent a hierarchy but not necessarily an ontology (keywords, categories, classes, and properti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list contains information not valid by definition of purpose (who vice wh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E intensive - lacks Auto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tagging essential to allow for inference and to include “blobby” tex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POA&amp;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Down and Bottom Up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DR, Defense Secretary, Services determine military capabilities and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trine developed to support operational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P developed to 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JTL DAMLized to tasks supporting capabilities and 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tools for tasks, methodology, an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modeling force for initia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current effort to identify efficiencies and finding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Joint Task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common language - required by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CA, CINC, JTF, to the Warfigh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and How the task will be performed are determined by Conditions/Measures, Doctrine, and CON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– Readiness, Training, Acquisition, C4ISR (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– Doctrine and TTP without boundaries, mission planning, PMA, and resourc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3340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4582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and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and Mine Warfare as test case for UJTL DAML solution to doctrine and T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CA objective is to retake oil fields from invading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NC objective is to marshal forces, prepare, and str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tacles to Maneu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TF Commander and Component Commanders determine CO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ke points are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igence has mines in the SLOC and in valley leading to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on is to land forces on hostile shore, maneuver and tak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Mine Countermeasure Forces and tactics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tica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asks must be preformed to accomplish higher level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-service effort (described in mission f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Army and Navy/MC EOD as the tactical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asset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81200" y="1279440"/>
          <a:ext cx="568944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1279440"/>
                    <a:ext cx="568944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352680" y="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572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pping Eff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85960" y="582480"/>
          <a:ext cx="5419800" cy="555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582480"/>
                    <a:ext cx="5419800" cy="555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6:23:09Z</dcterms:created>
  <dc:creator>Administrator</dc:creator>
  <dc:description/>
  <dc:language>en-US</dc:language>
  <cp:lastModifiedBy>bbn</cp:lastModifiedBy>
  <dcterms:modified xsi:type="dcterms:W3CDTF">2001-12-04T01:05:04Z</dcterms:modified>
  <cp:revision>4</cp:revision>
  <dc:subject/>
  <dc:title>UJTL Ontology Effort </dc:title>
</cp:coreProperties>
</file>