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191B-E26B-451E-85DA-F6BF9B214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4920" y="0"/>
            <a:ext cx="6324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292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3CC4-3B82-44E3-A34A-4F26E866E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94920" y="0"/>
            <a:ext cx="6324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292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292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6C72-19FC-4664-B994-ADABC4B50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94920" y="0"/>
            <a:ext cx="6324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143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143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292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292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292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8C40-CEBD-4224-B084-B2D8A2AF9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94920" y="0"/>
            <a:ext cx="6324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2A84-8107-43A0-84CC-27CCFD121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94920" y="0"/>
            <a:ext cx="6324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211F-B95E-451F-8EE1-C5CEE1BBF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94920" y="0"/>
            <a:ext cx="6324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3EEF-C97A-4A16-8AA6-6B8AC9DE3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4920" y="0"/>
            <a:ext cx="6324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51E2-2B9E-47BB-AD1E-6F79243FB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294920" y="0"/>
            <a:ext cx="632484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CA99-D338-47B2-A3EA-549FF24AA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94920" y="0"/>
            <a:ext cx="6324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292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D5DF-3798-4118-9D55-3EAEEECAB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94920" y="0"/>
            <a:ext cx="6324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292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FBB3-B759-493B-96A4-183A91FF1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94920" y="0"/>
            <a:ext cx="6324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292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487F-E1D9-4FCC-ADBB-747C75A7B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94920" y="0"/>
            <a:ext cx="6324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D6DD3-BFDD-478E-81DB-E77C458638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daml_2_3d%20copy" descr=""/>
          <p:cNvPicPr/>
          <p:nvPr/>
        </p:nvPicPr>
        <p:blipFill>
          <a:blip r:embed="rId2"/>
          <a:stretch/>
        </p:blipFill>
        <p:spPr>
          <a:xfrm>
            <a:off x="0" y="152280"/>
            <a:ext cx="1371600" cy="731880"/>
          </a:xfrm>
          <a:prstGeom prst="rect">
            <a:avLst/>
          </a:prstGeom>
          <a:ln w="0">
            <a:noFill/>
          </a:ln>
        </p:spPr>
      </p:pic>
      <p:pic>
        <p:nvPicPr>
          <p:cNvPr id="6" name="darpa" descr=""/>
          <p:cNvPicPr/>
          <p:nvPr/>
        </p:nvPicPr>
        <p:blipFill>
          <a:blip r:embed="rId3"/>
          <a:stretch/>
        </p:blipFill>
        <p:spPr>
          <a:xfrm>
            <a:off x="7648560" y="228600"/>
            <a:ext cx="1419120" cy="642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94920" y="0"/>
            <a:ext cx="6324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octrine/Lessons Learned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eakout Session Out-Brief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219320" y="2819520"/>
            <a:ext cx="6400800" cy="167616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ing Group Name: Doctrine/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rpo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Iss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mmendations/Plan of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657600" y="2087640"/>
            <a:ext cx="158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03920" y="1295280"/>
            <a:ext cx="465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cilitat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Alice Mulvehill (BB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4920" y="0"/>
            <a:ext cx="6324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Common Goa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34040" y="1038240"/>
            <a:ext cx="7577640" cy="4271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DAML to support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ser group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2392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rations: Decision suppor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2392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i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2392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ctrine: Both producers and consum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Process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2392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tion (doctrine/lessons) ac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2392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-generation of valid/reliable structured in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2392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st-in-time information delivery (post approval/verifica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00240" indent="-2872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ross all levels (strategic, operational, tactic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00240" indent="-2872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ilored granularity (concept, task, miss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00240" indent="-2872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ble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trai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2392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rtable: Does not require net conn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2392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ols must be easy to use, inexpensive to acqu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94920" y="0"/>
            <a:ext cx="6324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gnificant Issues/Need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838080"/>
            <a:ext cx="8610480" cy="416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roces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5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ols for searching and inferencing with DAML ontolog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95240" indent="-2761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context-sensitive search for given docu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95240" indent="-2761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document revision and change track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95240" indent="-2761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speeding up the markup 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5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-tag gene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5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ing user’s granularity need (e.g., paragraph vs. tas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5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roval of DAML links in doctrine gen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5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ndwidth of existing info infrastructure systems, &amp; search im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5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formance Task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95240" indent="-2761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resentations for situation collec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2440" indent="-287280">
              <a:lnSpc>
                <a:spcPct val="95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ification and edit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95240" indent="-2761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end analysis (e.g., from lessons, commonalities among METL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95240" indent="-2761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rative evaluations (e.g., search using DAML markup vs. no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0600" y="5219640"/>
            <a:ext cx="7782480" cy="1251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roduc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5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 portable/local search (e.g., not connected to SIPRN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5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ent-based tools for exploiting DAMLized LL/doctrin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5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-tag 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94920" y="0"/>
            <a:ext cx="6324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4640" y="1371600"/>
            <a:ext cx="8263440" cy="38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7280" indent="-287280">
              <a:lnSpc>
                <a:spcPct val="95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PDF files (or their indices) be DAMLized (i.e., is HTML needed)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-65160" y="2057400"/>
            <a:ext cx="8510760" cy="67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7280" indent="-2872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Any existing dataspace visualization tools for viewing DAML link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239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so, what are their existing capabiliti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533520" y="685800"/>
            <a:ext cx="8153280" cy="5329800"/>
            <a:chOff x="533520" y="685800"/>
            <a:chExt cx="8153280" cy="5329800"/>
          </a:xfrm>
        </p:grpSpPr>
        <p:sp>
          <p:nvSpPr>
            <p:cNvPr id="56" name=""/>
            <p:cNvSpPr/>
            <p:nvPr/>
          </p:nvSpPr>
          <p:spPr>
            <a:xfrm flipH="1">
              <a:off x="1066320" y="685800"/>
              <a:ext cx="4419720" cy="25909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33520" y="3270240"/>
              <a:ext cx="8153280" cy="2745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39840" indent="-339840">
                <a:lnSpc>
                  <a:spcPct val="10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Build ontologies for METLs (DR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840" indent="-339840">
                <a:lnSpc>
                  <a:spcPct val="10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emonstrate the utility of DAML for applying doctrine/LL in decision support systems (Several group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840" indent="-339840">
                <a:lnSpc>
                  <a:spcPct val="95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rovide PDF mission folder examples (with indices) for experimentation re: just-in-time index generation (C. McGrath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840" indent="-339840">
                <a:lnSpc>
                  <a:spcPct val="95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est ontology creation &amp; markup tools (M. Dietvorst w/ D. Rager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840" indent="-339840">
                <a:lnSpc>
                  <a:spcPct val="95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rovide intro descriptions &amp; system requirements of available DAML tools (A. Mulvehill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840" indent="-339840">
                <a:lnSpc>
                  <a:spcPct val="95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rovide feedback/assessments to Alice on DAML tools (all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952880" y="685800"/>
              <a:ext cx="251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94920" y="0"/>
            <a:ext cx="6324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commendations/Plan of Ac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527040" y="685800"/>
            <a:ext cx="7612560" cy="2047320"/>
            <a:chOff x="527040" y="685800"/>
            <a:chExt cx="7612560" cy="2047320"/>
          </a:xfrm>
        </p:grpSpPr>
        <p:sp>
          <p:nvSpPr>
            <p:cNvPr id="61" name=""/>
            <p:cNvSpPr/>
            <p:nvPr/>
          </p:nvSpPr>
          <p:spPr>
            <a:xfrm>
              <a:off x="527040" y="1114560"/>
              <a:ext cx="7612560" cy="1618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7280" indent="-287280">
                <a:lnSpc>
                  <a:spcPct val="10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ake requested DAML tools availab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627120" indent="-22248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.g., Ontology generators, auto-markup tools, DAML editors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7280" indent="-287280">
                <a:lnSpc>
                  <a:spcPct val="10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reate inferencing tools for use with DAML marku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7280" indent="-287280">
                <a:lnSpc>
                  <a:spcPct val="10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dvertise DAML tutorial (i.e., the walk-thru example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7280" indent="-287280">
                <a:lnSpc>
                  <a:spcPct val="10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equest DAML tool summary at next meet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523880" y="685800"/>
              <a:ext cx="3200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1371240" y="685800"/>
              <a:ext cx="10666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94920" y="0"/>
            <a:ext cx="6324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ssion Attende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W. Ah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d Ba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illip Bo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lly DeGozzal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ke Dietvor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lyan Gup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ti H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ke Jacobowit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b Lu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7960" y="11430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ck McGr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ck A. Me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ice Mulveh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uce Peo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ke Prat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R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nnis Toom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 Wer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4T15:30:26Z</dcterms:created>
  <dc:creator>David W. Aha</dc:creator>
  <dc:description/>
  <dc:language>en-US</dc:language>
  <cp:lastModifiedBy>bbn</cp:lastModifiedBy>
  <dcterms:modified xsi:type="dcterms:W3CDTF">2001-11-27T16:14:55Z</dcterms:modified>
  <cp:revision>8</cp:revision>
  <dc:subject/>
  <dc:title>Doctrine/Lessons Learned: Breakout Session Out-Brief</dc:title>
</cp:coreProperties>
</file>