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8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daml_2_3d%20copy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darpa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Web for the Military U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ce Breakout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. Joe Rockmore/Cyladian Technology Consul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collection, processing, productio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markup language will enhance collection, thus optimizing use of inte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 and consumers have different ways of looking at the world; there is not necessarily a mapping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sumers provide tasking to producers, via markup, of requirements on colle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data needs from UJTL tasks or other statement of data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AML markup allow semantic understanding of information enough to affect releasability proc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do our collection and analysis at SCI and report at lower levels (including collateral , coalition, and unclas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[other issu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and intelligence users that particularly should hear about semantic we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D elements: DIA (esp JIVA), 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cies: NRO, NIMA, 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intel agencies: ISCOM, AFIA, ONI, M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ed commands: JIC’s and JAC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setting and interoperability or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organizations understand what DAML products and approaches could help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ed TIE’s with appropriate producers and consumers around specific value pro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715000"/>
            <a:ext cx="6357960" cy="825480"/>
          </a:xfrm>
          <a:prstGeom prst="rect">
            <a:avLst/>
          </a:prstGeom>
          <a:solidFill>
            <a:srgbClr val="dca2a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straightforward explanation of 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is and its value added (over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ine Marsh/N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 Muller/B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Kogut/Lockheed-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Rockmore/Cyla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idea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cally apply to intelligence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unique problems does the intelligence community have with respect to using semantic web techn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leverage the work being done in DAML, and specifically the applications to intelligence, to other effo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Pro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 = custom products; producers = get credit for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automation of analysis tasks (helps info over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ion of data (structu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structu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collaboration across orgs by common understanding (via ontologies and inference ma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once, derive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extraction of information &amp; “query mi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on missing information, including to colle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Web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438280"/>
            <a:ext cx="3049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30456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743200"/>
            <a:ext cx="3049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343400"/>
            <a:ext cx="38088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160" y="17175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3400" y="3733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49568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648320"/>
            <a:ext cx="38124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47920" y="2479680"/>
            <a:ext cx="1595520" cy="459720"/>
            <a:chOff x="1447920" y="2479680"/>
            <a:chExt cx="1595520" cy="459720"/>
          </a:xfrm>
        </p:grpSpPr>
        <p:sp>
          <p:nvSpPr>
            <p:cNvPr id="59" name=""/>
            <p:cNvSpPr/>
            <p:nvPr/>
          </p:nvSpPr>
          <p:spPr>
            <a:xfrm>
              <a:off x="1896480" y="2479680"/>
              <a:ext cx="11469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47920" y="2666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600200" y="2631960"/>
            <a:ext cx="1595520" cy="459720"/>
            <a:chOff x="1600200" y="2631960"/>
            <a:chExt cx="1595520" cy="459720"/>
          </a:xfrm>
        </p:grpSpPr>
        <p:sp>
          <p:nvSpPr>
            <p:cNvPr id="62" name=""/>
            <p:cNvSpPr/>
            <p:nvPr/>
          </p:nvSpPr>
          <p:spPr>
            <a:xfrm>
              <a:off x="2048760" y="2631960"/>
              <a:ext cx="11469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00200" y="2819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752480" y="2784600"/>
            <a:ext cx="1595520" cy="459720"/>
            <a:chOff x="1752480" y="2784600"/>
            <a:chExt cx="1595520" cy="459720"/>
          </a:xfrm>
        </p:grpSpPr>
        <p:sp>
          <p:nvSpPr>
            <p:cNvPr id="65" name=""/>
            <p:cNvSpPr/>
            <p:nvPr/>
          </p:nvSpPr>
          <p:spPr>
            <a:xfrm>
              <a:off x="2201040" y="2784600"/>
              <a:ext cx="11469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2480" y="29718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3880" y="4267080"/>
            <a:ext cx="1189080" cy="459720"/>
            <a:chOff x="1523880" y="4267080"/>
            <a:chExt cx="1189080" cy="459720"/>
          </a:xfrm>
        </p:grpSpPr>
        <p:sp>
          <p:nvSpPr>
            <p:cNvPr id="68" name=""/>
            <p:cNvSpPr/>
            <p:nvPr/>
          </p:nvSpPr>
          <p:spPr>
            <a:xfrm>
              <a:off x="1972800" y="4267080"/>
              <a:ext cx="740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3880" y="4454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76520" y="4419720"/>
            <a:ext cx="1189080" cy="459720"/>
            <a:chOff x="1676520" y="4419720"/>
            <a:chExt cx="1189080" cy="459720"/>
          </a:xfrm>
        </p:grpSpPr>
        <p:sp>
          <p:nvSpPr>
            <p:cNvPr id="71" name=""/>
            <p:cNvSpPr/>
            <p:nvPr/>
          </p:nvSpPr>
          <p:spPr>
            <a:xfrm>
              <a:off x="2125440" y="4419720"/>
              <a:ext cx="740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46069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828800" y="4572000"/>
            <a:ext cx="1189080" cy="459720"/>
            <a:chOff x="1828800" y="4572000"/>
            <a:chExt cx="1189080" cy="459720"/>
          </a:xfrm>
        </p:grpSpPr>
        <p:sp>
          <p:nvSpPr>
            <p:cNvPr id="74" name=""/>
            <p:cNvSpPr/>
            <p:nvPr/>
          </p:nvSpPr>
          <p:spPr>
            <a:xfrm>
              <a:off x="2277720" y="4572000"/>
              <a:ext cx="740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47592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632040" y="36241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 DAML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0481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00400" y="411444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71360" y="3657600"/>
            <a:ext cx="60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5360" y="4952880"/>
            <a:ext cx="1299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5800" y="1981080"/>
            <a:ext cx="16070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819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4114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93000" y="1641600"/>
            <a:ext cx="199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4200" y="6083280"/>
            <a:ext cx="11545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 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86000" y="5737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0574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1945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5029200"/>
            <a:ext cx="38124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14479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909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4320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34120" y="281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6728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63868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86000" y="571500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133360" y="571500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ligence Ontologi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ice C2, logistics, or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Intelligence needs to talk about what was, is, and might be (with uncertainty), while C2 plans what to do with resources available, logistics makes resources availab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ies need to reflect differences in data and 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interest to intelligence (prim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laundering, geopolitical issues, financial transactions, non-military organizations, drugs, counter-terrorism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ry, signals, open source, &amp; analysis of th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higher levels of abstraction than C2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info and confidence in sourc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and spatial reasoning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 Geolocation &amp; Temporal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documents enough to know locations in a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name, lat/lon, BE num, UTM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mbig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ar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documents enough to know temporal aspects in a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time in different granularity (date &amp; time to milliseconds vs. season) and representations (Julian date, DT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mbig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time (before, after, within, overlapping, close to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ference problems in geolocations a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up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r-based and producer-based markup tool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automated and manual markup intellig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up as part of autho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is analysts (producers) are too busy to do any additional work, such as markup, u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s very easy 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clear value to producers (not just consum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measures them on the quality/quantity of mark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d term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 initiative, where authoring and knowledge object creation are done in parallel and with either driving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long term 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uthor knowledge objects from the outset; form products from these objects, including English text docu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lingu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ess to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ored push; also pull (“My Intelink”), including changes of sufficien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criptions and data descriptions for matching against subscriptions may be best done using hierarchical ontologies (vice database schemata, which are not sufficiently expre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wlers of value, but may have access control issues (open source an exce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of data (both by source and about 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-based retrieval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igree critical to maintain (but often raises the security lev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ing of markup important for speed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lines for intelligenc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long, if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short, if t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7:27:52Z</dcterms:created>
  <dc:creator>John Flynn</dc:creator>
  <dc:description/>
  <dc:language>en-US</dc:language>
  <cp:lastModifiedBy>bbn</cp:lastModifiedBy>
  <cp:lastPrinted>2000-09-29T16:21:19Z</cp:lastPrinted>
  <dcterms:modified xsi:type="dcterms:W3CDTF">2001-11-27T17:57:12Z</dcterms:modified>
  <cp:revision>77</cp:revision>
  <dc:subject>Master for General Gray's brief</dc:subject>
  <dc:title>PowerPoint Presentation</dc:title>
</cp:coreProperties>
</file>