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607-59A2-4169-9079-BE8A05C0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7AC-AF36-4537-B39D-2CD5C2AE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033-6E9C-4A98-9150-E9BCC525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3F4-1854-473F-8F71-88B32B61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856-8661-4276-B6F4-1206926C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41B-EAE6-49A0-B1F9-51EBE26A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917-29D2-4737-9920-1B262EB8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095-13EF-4F69-9485-F9D00226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E9B-31DC-403A-8232-7388475E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B7A-F65C-4F15-8F89-1511023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067-E946-44F6-AA97-B8FF27E4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646-882F-4009-8302-D57FB8E3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4770-4AAA-41B4-B2A9-93FCBC089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SL Dynamic C2 Proto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62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600" y="1447920"/>
            <a:ext cx="90234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developed in three days at Cambri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eam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WDC, TFW, CINC21, NPS, MITRE, La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oday’s ”Demo” is unclass single ops thread on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is extensible, adaptable, changeab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able, scaleabl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pports rapid coevolution of prototype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tional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y A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provides solid first step in coevolution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into HLS concept development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into HSL C2 wargame 29-31 Oct at NWC and NPS Monterey game 6-8 Nov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-on wargames plan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on/visits with ONI, USCG, Fleet, Customs, others under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 path through TFW (Dec 01 pilot portal) /CINC21 planned and promi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 of C2 capabilities to HLS nodes May 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4:46:12Z</dcterms:created>
  <dc:creator>Naval War College</dc:creator>
  <dc:description/>
  <dc:language>en-US</dc:language>
  <cp:lastModifiedBy>bbn</cp:lastModifiedBy>
  <dcterms:modified xsi:type="dcterms:W3CDTF">2001-11-27T17:48:01Z</dcterms:modified>
  <cp:revision>5</cp:revision>
  <dc:subject/>
  <dc:title>HLS C2 Prototype</dc:title>
</cp:coreProperties>
</file>