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3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50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Lacy@DRC.com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fbi.gov/mostwant/terrorists/terubl.htm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fbi.gov/mostwant/terrorists/teralnasser.htm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fbi.gov/mostwant/terrorists/terelhoorie.htm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www.fbi.gov/mostwant/terrorists/terkmohammed.htm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66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s Research Corpo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Web Military Application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3-14, 20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9400" y="241200"/>
            <a:ext cx="1150920" cy="13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9760" y="5537160"/>
            <a:ext cx="6400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e L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Lacy@DR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07) 380-1200 x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3794040"/>
            <a:ext cx="40086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OD Scenario/Vigne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specific task list for scenario of providing EOD support to clear mines from Straits of Hormuz and open lanes from Saudi Arabia to the oil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tasks from UJTL instan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applications include support for doctrine development, training, and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889280" y="5129280"/>
            <a:ext cx="5371560" cy="1309680"/>
            <a:chOff x="1889280" y="5129280"/>
            <a:chExt cx="5371560" cy="130968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6138000" y="5226840"/>
              <a:ext cx="112284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MAS_CRAB" descr=""/>
            <p:cNvPicPr/>
            <p:nvPr/>
          </p:nvPicPr>
          <p:blipFill>
            <a:blip r:embed="rId2"/>
            <a:stretch/>
          </p:blipFill>
          <p:spPr>
            <a:xfrm>
              <a:off x="3891240" y="5324400"/>
              <a:ext cx="1318320" cy="9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Logo" descr=""/>
            <p:cNvPicPr/>
            <p:nvPr/>
          </p:nvPicPr>
          <p:blipFill>
            <a:blip r:embed="rId3"/>
            <a:srcRect l="0" t="0" r="57898" b="46200"/>
            <a:stretch/>
          </p:blipFill>
          <p:spPr>
            <a:xfrm>
              <a:off x="1889280" y="5129280"/>
              <a:ext cx="1367280" cy="13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eign Clearance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L conducting research to reduce cost and time required to obtain clearances from foreign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ing on lead times associated with diplomatic (DIP) clea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ed IDEF1X data model to DAML+OIL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with DRC personnel at Scott AFB and BB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afrllogo-sss2" descr=""/>
          <p:cNvPicPr/>
          <p:nvPr/>
        </p:nvPicPr>
        <p:blipFill>
          <a:blip r:embed="rId1"/>
          <a:stretch/>
        </p:blipFill>
        <p:spPr>
          <a:xfrm>
            <a:off x="3849840" y="5106960"/>
            <a:ext cx="1450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C has been developing DAML Military Application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land platform taxonomy/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chronolog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gitive/Terrorist description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Task List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C is focusing continued research to sup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OD (Naval Warfare Doctrin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Clearance Guide (AF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namics Research Cor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DoD information technology services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 in developing XML standards for U.S. Arm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C DAML team focused on militar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Adopters” of DAML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ing DAML solutions to satisfy warfighter and other users’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rc" descr=""/>
          <p:cNvPicPr/>
          <p:nvPr/>
        </p:nvPicPr>
        <p:blipFill>
          <a:blip r:embed="rId1"/>
          <a:stretch/>
        </p:blipFill>
        <p:spPr>
          <a:xfrm>
            <a:off x="735120" y="4251240"/>
            <a:ext cx="7758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tology Development Philoso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ed on developing small, reusable, inter-connectable ontologies (e.g., bibliographic references, military 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uilder" descr=""/>
          <p:cNvPicPr/>
          <p:nvPr/>
        </p:nvPicPr>
        <p:blipFill>
          <a:blip r:embed="rId1"/>
          <a:stretch/>
        </p:blipFill>
        <p:spPr>
          <a:xfrm>
            <a:off x="3508200" y="3951360"/>
            <a:ext cx="213372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Military Ont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land platform taxonomy/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Characteristics and Performance (C&amp;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chronology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gitive/terrorist description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task list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sive Ordnance Disposal (EOD) scenario/vign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9080" y="5295960"/>
            <a:ext cx="6750000" cy="1136520"/>
            <a:chOff x="1189080" y="5295960"/>
            <a:chExt cx="6750000" cy="1136520"/>
          </a:xfrm>
        </p:grpSpPr>
        <p:pic>
          <p:nvPicPr>
            <p:cNvPr id="107" name="f2209" descr=""/>
            <p:cNvPicPr/>
            <p:nvPr/>
          </p:nvPicPr>
          <p:blipFill>
            <a:blip r:embed="rId1"/>
            <a:stretch/>
          </p:blipFill>
          <p:spPr>
            <a:xfrm>
              <a:off x="6443640" y="5295960"/>
              <a:ext cx="149544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ssn24atksub" descr=""/>
            <p:cNvPicPr/>
            <p:nvPr/>
          </p:nvPicPr>
          <p:blipFill>
            <a:blip r:embed="rId2"/>
            <a:stretch/>
          </p:blipFill>
          <p:spPr>
            <a:xfrm>
              <a:off x="3720960" y="5307120"/>
              <a:ext cx="186552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SOLDS15" descr=""/>
            <p:cNvPicPr/>
            <p:nvPr/>
          </p:nvPicPr>
          <p:blipFill>
            <a:blip r:embed="rId3"/>
            <a:stretch/>
          </p:blipFill>
          <p:spPr>
            <a:xfrm>
              <a:off x="1189080" y="5324400"/>
              <a:ext cx="1668240" cy="110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itary Land Platform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y Military Equipment Characteristic &amp; Performance (C&amp;P)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focused on a taxonomy of equipmen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is modeled after Distributed Interactive Simulation (DIS) Entity Enumerations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n_MRLS_JPG" descr=""/>
          <p:cNvPicPr/>
          <p:nvPr/>
        </p:nvPicPr>
        <p:blipFill>
          <a:blip r:embed="rId1"/>
          <a:stretch/>
        </p:blipFill>
        <p:spPr>
          <a:xfrm>
            <a:off x="3341520" y="4552920"/>
            <a:ext cx="24670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Characteristics an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descriptions used by simulation applications for accurately representing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d DRC work for Army Modeling and Simulation Office (AM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artifact developed based on Universal Threat System for Simulators (UTSS) sample data for AH-64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AH64DLongbow2" descr=""/>
          <p:cNvPicPr/>
          <p:nvPr/>
        </p:nvPicPr>
        <p:blipFill>
          <a:blip r:embed="rId1"/>
          <a:stretch/>
        </p:blipFill>
        <p:spPr>
          <a:xfrm>
            <a:off x="3543480" y="4471920"/>
            <a:ext cx="2063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ronology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application for intelligence report representation (event-centri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ed sample file with events from 9/11based on CNN chro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ed another sample with FBI chronology of Atta activities prior to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03320" y="4622760"/>
            <a:ext cx="7102440" cy="1143000"/>
            <a:chOff x="1003320" y="4622760"/>
            <a:chExt cx="7102440" cy="1143000"/>
          </a:xfrm>
        </p:grpSpPr>
        <p:pic>
          <p:nvPicPr>
            <p:cNvPr id="119" name="custom.2nd" descr=""/>
            <p:cNvPicPr/>
            <p:nvPr/>
          </p:nvPicPr>
          <p:blipFill>
            <a:blip r:embed="rId1"/>
            <a:stretch/>
          </p:blipFill>
          <p:spPr>
            <a:xfrm>
              <a:off x="1003320" y="4622760"/>
              <a:ext cx="15242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customsouthsidepentagon" descr=""/>
            <p:cNvPicPr/>
            <p:nvPr/>
          </p:nvPicPr>
          <p:blipFill>
            <a:blip r:embed="rId2"/>
            <a:stretch/>
          </p:blipFill>
          <p:spPr>
            <a:xfrm>
              <a:off x="2413080" y="4622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custombushpool" descr=""/>
            <p:cNvPicPr/>
            <p:nvPr/>
          </p:nvPicPr>
          <p:blipFill>
            <a:blip r:embed="rId3"/>
            <a:stretch/>
          </p:blipFill>
          <p:spPr>
            <a:xfrm>
              <a:off x="3721320" y="4622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customlpennsylvaniacrash" descr=""/>
            <p:cNvPicPr/>
            <p:nvPr/>
          </p:nvPicPr>
          <p:blipFill>
            <a:blip r:embed="rId4"/>
            <a:stretch/>
          </p:blipFill>
          <p:spPr>
            <a:xfrm>
              <a:off x="5245200" y="4622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customguiliani" descr=""/>
            <p:cNvPicPr/>
            <p:nvPr/>
          </p:nvPicPr>
          <p:blipFill>
            <a:blip r:embed="rId5"/>
            <a:stretch/>
          </p:blipFill>
          <p:spPr>
            <a:xfrm>
              <a:off x="6581880" y="4622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gitive / Terrorist Description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FBI websi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applications for “watch list”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properti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I ca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00240" y="4900680"/>
            <a:ext cx="4948200" cy="861840"/>
            <a:chOff x="2100240" y="4900680"/>
            <a:chExt cx="4948200" cy="861840"/>
          </a:xfrm>
        </p:grpSpPr>
        <p:pic>
          <p:nvPicPr>
            <p:cNvPr id="127" name="septcastillo1t" descr=""/>
            <p:cNvPicPr/>
            <p:nvPr/>
          </p:nvPicPr>
          <p:blipFill>
            <a:blip r:embed="rId1"/>
            <a:stretch/>
          </p:blipFill>
          <p:spPr>
            <a:xfrm>
              <a:off x="2100240" y="4900680"/>
              <a:ext cx="642960" cy="86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8" name="septchafe1" descr=""/>
            <p:cNvPicPr/>
            <p:nvPr/>
          </p:nvPicPr>
          <p:blipFill>
            <a:blip r:embed="rId2"/>
            <a:stretch/>
          </p:blipFill>
          <p:spPr>
            <a:xfrm>
              <a:off x="2963880" y="4900680"/>
              <a:ext cx="646200" cy="86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9" name="ladent" descr="Photograph of  and link to Usama Bin Laden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33640" y="4900680"/>
              <a:ext cx="640080" cy="856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0" name="nassert" descr="Photograph of and link to Abdelkarim Hussein Mohamed Al-Nasser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691160" y="4900680"/>
              <a:ext cx="639720" cy="856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1" name="horriet" descr="Photograph of and link to  Ali Saed Bin Ali El-Hoorie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557680" y="4900680"/>
              <a:ext cx="642960" cy="86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2" name="khalid2t" descr="Photograph of and link to Khalid Shaikh Mohammed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408720" y="4900680"/>
              <a:ext cx="639720" cy="856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itary Task List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representation of military task lists (e.g., UJTL, UNTL, AUT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ng sample instance file with Universal Joint Task List (UJT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654280" y="3233880"/>
          <a:ext cx="386100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3233880"/>
                    <a:ext cx="386100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7T20:42:24Z</dcterms:created>
  <dc:creator>Lacy</dc:creator>
  <dc:description/>
  <dc:language>en-US</dc:language>
  <cp:lastModifiedBy>bbn</cp:lastModifiedBy>
  <cp:lastPrinted>2000-02-25T18:38:31Z</cp:lastPrinted>
  <dcterms:modified xsi:type="dcterms:W3CDTF">2001-11-27T15:55:35Z</dcterms:modified>
  <cp:revision>259</cp:revision>
  <dc:subject>DAML</dc:subject>
  <dc:title>CALL UAN Ritter Meeting</dc:title>
</cp:coreProperties>
</file>